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769-BA37-45CA-820F-6D602DB7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ED4-33A2-49F6-9F74-6BA6350C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ABE-E9C4-437D-8478-56BDD9E9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34B-D374-4290-A3B4-3606E443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804-52D3-4D6E-9034-C1E541B8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30C-316B-42BE-8799-DDBEADA4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39A-FAC1-46A9-9136-A9F6F984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BA5-A1AE-4C4E-BEEB-3192AF91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E66-8B70-48C8-8BCF-3AB3D86F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96A-79A5-47CD-BD8A-59F434FB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11E-8D5A-48F1-AF4B-2879C0DE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F5E8-EAAE-46D6-A360-8945608E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7CE0-F38B-46CF-9D9A-FE68908A11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1337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幼圆"/>
              </a:rPr>
              <a:t>学问和智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80000" y="40766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罗家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773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3336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品读课文——咀嚼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了解论证方法及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0200" y="2492280"/>
            <a:ext cx="871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常用论证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举例论证           对比论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比喻论证           道理论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举例论证：列举确凿、充分、有代表性的事实，能够增强论述的力量和说服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比论证法的作用：可以使正确与错误对比分明，是非曲直更加明确，给人以鲜明深刻的印象。使论述全面、周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道理论证：引经据典，具有权威性，论证有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990720"/>
            <a:ext cx="533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43700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1989000"/>
            <a:ext cx="75438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若把学问比作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起锚的航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智慧便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91440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读一读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,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说一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实生活中，有些同学对于写作文甚是头疼，觉得无话可写，甚至不知道怎么写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了课文，请你用本课的一些道理来解说原因，并对这些同学提出建议。（最好用比喻来说理哦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91440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读一读</a:t>
            </a: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,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议一议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809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学以致用，融会贯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事洞明皆学问，人情练达即文章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出自《红楼梦》第五回中的一副对联。其大意是： 明白世事，掌握其规律，这些都是学问；恰当地处理事情，懂得道理，总结出来的经验就是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与大家共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智慧胜于知识。——【法】帕斯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识可以言传，但智慧则不然。人们可以去发现它，用它生活，以它自强，凭借它去创造奇迹，但却无法把它交流和传授。——【德】海  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 rot="21473400">
            <a:off x="1981080" y="3505320"/>
            <a:ext cx="54468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华文行楷"/>
              </a:rPr>
              <a:t>谢 谢大家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华文行楷"/>
              <a:ea typeface="华文行楷"/>
            </a:endParaRPr>
          </a:p>
        </p:txBody>
      </p:sp>
      <p:sp>
        <p:nvSpPr>
          <p:cNvPr id="100" name=""/>
          <p:cNvSpPr txBox="1"/>
          <p:nvPr/>
        </p:nvSpPr>
        <p:spPr>
          <a:xfrm rot="21473400">
            <a:off x="1676520" y="1447920"/>
            <a:ext cx="5446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华文行楷"/>
              </a:rPr>
              <a:t>敬请指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华文行楷"/>
              <a:ea typeface="华文行楷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62280" y="476280"/>
            <a:ext cx="638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"/>
              </a:rPr>
              <a:t>我对名家的了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1916280"/>
            <a:ext cx="482436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罗家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现代著名教育家和思想家。他曾先后担任清华大学和中央大学校长等职。著有《新人生观》、 《新民族观》等著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罗家伦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680400"/>
            <a:ext cx="828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下列划线字注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锐                  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晦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　　       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　　          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探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得珠                    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穷年　　　　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鞭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里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旨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寸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累                    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代谢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天择                    字字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720" y="131112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p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63520" y="1413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x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66320" y="1413000"/>
            <a:ext cx="14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0360" y="21337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sè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17080" y="2060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sà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15360" y="206064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sāi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0800" y="2852640"/>
            <a:ext cx="13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k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000" y="27813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lí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68760" y="350028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7800" y="350028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ó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4760" y="429264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4221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ché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68040" y="5013360"/>
            <a:ext cx="15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ì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4797360"/>
            <a:ext cx="131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7200" y="831240"/>
            <a:ext cx="23396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下列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探骊得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无关宏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鞭辟入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浮光掠影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融会贯通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读破五车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寸积铢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75720" y="134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喻做文章能抓住关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6920" y="206064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涉主旨。指意义不大或关系不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07520" y="270828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深入剖析，进入最里层。形容能透彻说明问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切中要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000" y="3573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喻印象不深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54520" y="4292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参合多方面的道理而得到全面的透彻的领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37280" y="56610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点一滴地积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440" y="5013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容读书很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692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速读课文——咀嚼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找每一节的中心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133720"/>
            <a:ext cx="8964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学习指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阅读议论文要抓住中心句。中心句就是能表达一个文段观点的句子。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找中心句要从理解内容入手，分析句与句之间的内在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中心句可能在文段中的位置有三种：段首、段尾、中间，还有可能需自己概括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907920"/>
            <a:ext cx="828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各小节中心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：学问与智慧有显然的区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：其实有学问的人，何曾都有智慧？有智慧的人也不见得都有很好的学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；学问是不能离开智慧的；没有智慧的学问，便是死的学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：著书、读书都要智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：智慧也不能离开学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段：学问与智慧是相辅为用，缺一不可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30200" y="1628640"/>
            <a:ext cx="87138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中心论点在文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不但需要学问，而且更需要智慧——需要以智慧去笼罩学问、透视学问、运用学问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0464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咀嚼内容 ——找中心论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41360"/>
            <a:ext cx="88200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◆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学习指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中心论点是对所议论的问题（论题）所指的见解和主张，是议论文的灵魂。论点不同于论题。论题是所论述的话题，而论点：①是作者看法的完整陈述；②是明确的判断；③在形式上是完整的句子。论点不能是疑问句或是一个短语，不能使用比喻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中心论点在文中的位置有三种：开头、结尾、中间，还有可能需自己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篇文章中的中心论点只有一个，要分清中心论点与分论点，分论点是中心论点的一个方面，是为中心论点服务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700280"/>
            <a:ext cx="92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有智慧的书，是每字每句，都如珠玉似的晶莹，斧凿般的犀锐，可以启发人的心灵，开辟人的思想，有时可以引申成一篇论文，或成一本专书。这就是英文中所谓“灿烂的书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brilliant book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无智慧的书，往往材料堆积得和蚁丘一样，议论虽多，见解毫无。纵然可以从他得报导，却不可以从他得启示，在著者是“博而寡约”，在读者是“劳而无功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学问是知识的聚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accumulation of knowledge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是一种滋养人生的原料，而智慧却是陶冶原料的熔炉。学问好比是铁，而智慧是炼钢的电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譬如孟德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Mendel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究豆子的交配，居然悟出遗传的定律，奠下了遗传学和优生学的基础，就是一个例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57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对比论证、比喻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465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比喻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5373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举例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336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细读课文——咀嚼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   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了解论证方法及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1:09:56Z</dcterms:created>
  <dc:creator>微软用户</dc:creator>
  <dc:description/>
  <dc:language>en-US</dc:language>
  <cp:lastModifiedBy>USER</cp:lastModifiedBy>
  <dcterms:modified xsi:type="dcterms:W3CDTF">2010-11-03T02:53:04Z</dcterms:modified>
  <cp:revision>16</cp:revision>
  <dc:subject/>
  <dc:title>幻灯片 1</dc:title>
</cp:coreProperties>
</file>