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type.wav" ContentType="audio/x-wav"/>
  <Override PartName="/ppt/media/image7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projctor.wav" ContentType="audio/x-wav"/>
  <Override PartName="/ppt/media/image5.gif" ContentType="image/gif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9E3-C967-4AD9-9BF5-110435A3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235-8541-451F-9CD2-95E2C8EA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59E-FC61-47D1-8D97-4414337F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894-6065-451A-82B2-23AAB515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C963-7F84-4FC3-82EA-FA550368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7C0A-C7F0-48A5-9006-D0B33CDF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03EC-B857-4A2E-8DA3-D4F7DAC0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F55E-BE4B-446E-8FDE-CFEBE9A6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8E16-B5D1-42DC-8982-03F3F632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6DAF-CEC4-4833-9DC5-64B83D70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F101-D060-44EC-B4F2-B9D8B360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A06-CFD1-4F76-8678-B6CCB393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26FA-51B2-49B8-AFC3-9D8CE709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FF05-1E82-4AB1-9192-DAB8F130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30E5-CC75-457F-A76B-E619ED14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3D34-314A-47C9-9078-F90E8E17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BE4A-EB2E-4452-8406-9344F4D9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80B-F53A-4381-8FEA-BA6D2BFF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777-1EF0-4C24-874E-967FAC5D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030-C661-4E16-B01F-C32782BD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1D6-60A8-4066-AF45-A1D566B4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785-129A-48C9-B4F8-A49761C5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5A4-3A77-46C8-B55A-ABAD89B0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378-0FC5-4630-A65B-655F1173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7E8C-4CE3-41CA-86C1-18C8969AD688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4EEC-01E5-4917-A71C-EFEB8D4E79C7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5.jpeg"/><Relationship Id="rId5" Type="http://schemas.openxmlformats.org/officeDocument/2006/relationships/image" Target="../media/image10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95280" y="1295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</a:t>
            </a:r>
            <a:r>
              <a:rPr b="1" lang="zh-CN" sz="7200" spc="-1" strike="noStrike">
                <a:solidFill>
                  <a:srgbClr val="2a3d7a"/>
                </a:solidFill>
                <a:latin typeface="Times New Roman"/>
                <a:ea typeface="方正舒体"/>
              </a:rPr>
              <a:t>学问和智慧</a:t>
            </a:r>
            <a:endParaRPr b="0" lang="en-US" sz="72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91" name="彩色线条2" descr=""/>
          <p:cNvPicPr/>
          <p:nvPr/>
        </p:nvPicPr>
        <p:blipFill>
          <a:blip r:embed="rId2"/>
          <a:stretch/>
        </p:blipFill>
        <p:spPr>
          <a:xfrm flipH="1" rot="10800000">
            <a:off x="1295280" y="3809520"/>
            <a:ext cx="6477120" cy="76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62720" y="2743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罗家伦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41148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执教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:  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板桥初级中学 鲁剑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0773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87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9244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9244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685800"/>
            <a:ext cx="2971440" cy="3880080"/>
            <a:chOff x="0" y="685800"/>
            <a:chExt cx="2971440" cy="388008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330120" y="685800"/>
              <a:ext cx="2343600" cy="37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0" y="3984480"/>
              <a:ext cx="2971440" cy="581400"/>
            </a:xfrm>
            <a:prstGeom prst="rect">
              <a:avLst/>
            </a:prstGeom>
            <a:solidFill>
              <a:srgbClr val="687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cc"/>
                  </a:solidFill>
                  <a:latin typeface="Arial"/>
                </a:rPr>
                <a:t>             </a:t>
              </a:r>
              <a:r>
                <a:rPr b="0" lang="zh-CN" sz="3200" spc="-1" strike="noStrike">
                  <a:solidFill>
                    <a:srgbClr val="ffffcc"/>
                  </a:solidFill>
                  <a:latin typeface="Arial"/>
                  <a:ea typeface="楷体_GB2312"/>
                </a:rPr>
                <a:t>孟德尔</a:t>
              </a:r>
              <a:endParaRPr b="0" lang="en-US" sz="32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971800" y="685800"/>
            <a:ext cx="3123720" cy="3932280"/>
            <a:chOff x="2971800" y="685800"/>
            <a:chExt cx="3123720" cy="3932280"/>
          </a:xfrm>
        </p:grpSpPr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3264480" y="685800"/>
              <a:ext cx="2304000" cy="37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2971800" y="4036680"/>
              <a:ext cx="3123720" cy="581400"/>
            </a:xfrm>
            <a:prstGeom prst="rect">
              <a:avLst/>
            </a:prstGeom>
            <a:solidFill>
              <a:srgbClr val="687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cc"/>
                  </a:solidFill>
                  <a:latin typeface="Arial"/>
                </a:rPr>
                <a:t>             </a:t>
              </a:r>
              <a:r>
                <a:rPr b="0" lang="zh-CN" sz="3200" spc="-1" strike="noStrike">
                  <a:solidFill>
                    <a:srgbClr val="ffffcc"/>
                  </a:solidFill>
                  <a:latin typeface="Arial"/>
                  <a:ea typeface="楷体_GB2312"/>
                </a:rPr>
                <a:t>达尔文</a:t>
              </a:r>
              <a:endParaRPr b="0" lang="en-US" sz="32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248520" y="685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019920" y="228600"/>
            <a:ext cx="3123720" cy="4381200"/>
            <a:chOff x="6019920" y="228600"/>
            <a:chExt cx="3123720" cy="4381200"/>
          </a:xfrm>
        </p:grpSpPr>
        <p:grpSp>
          <p:nvGrpSpPr>
            <p:cNvPr id="134" name=""/>
            <p:cNvGrpSpPr/>
            <p:nvPr/>
          </p:nvGrpSpPr>
          <p:grpSpPr>
            <a:xfrm>
              <a:off x="6095880" y="487800"/>
              <a:ext cx="3047760" cy="4122000"/>
              <a:chOff x="6095880" y="487800"/>
              <a:chExt cx="3047760" cy="4122000"/>
            </a:xfrm>
          </p:grpSpPr>
          <p:pic>
            <p:nvPicPr>
              <p:cNvPr id="1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095880" y="487800"/>
                <a:ext cx="2517480" cy="404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6095880" y="4028400"/>
                <a:ext cx="3047760" cy="581400"/>
              </a:xfrm>
              <a:prstGeom prst="rect">
                <a:avLst/>
              </a:prstGeom>
              <a:solidFill>
                <a:srgbClr val="687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cc"/>
                    </a:solidFill>
                    <a:latin typeface="Arial"/>
                    <a:ea typeface="楷体_GB2312"/>
                  </a:rPr>
                  <a:t>    </a:t>
                </a:r>
                <a:r>
                  <a:rPr b="0" lang="zh-CN" sz="3200" spc="-1" strike="noStrike">
                    <a:solidFill>
                      <a:srgbClr val="ffffcc"/>
                    </a:solidFill>
                    <a:latin typeface="Arial"/>
                    <a:ea typeface="楷体_GB2312"/>
                  </a:rPr>
                  <a:t>爱因斯坦</a:t>
                </a:r>
                <a:endParaRPr b="0" lang="en-US" sz="32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6019920" y="228600"/>
              <a:ext cx="2666880" cy="457200"/>
            </a:xfrm>
            <a:prstGeom prst="rect">
              <a:avLst/>
            </a:prstGeom>
            <a:solidFill>
              <a:srgbClr val="687f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914400" y="52578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　</a:t>
            </a:r>
            <a:r>
              <a:rPr b="1" lang="zh-CN" sz="1200" spc="-1" strike="noStrike">
                <a:solidFill>
                  <a:srgbClr val="ffffcc"/>
                </a:solidFill>
                <a:latin typeface="Times New Roman"/>
              </a:rPr>
              <a:t>●</a:t>
            </a:r>
            <a:r>
              <a:rPr b="1" lang="zh-CN" sz="1400" spc="-1" strike="noStrike">
                <a:solidFill>
                  <a:srgbClr val="ffffcc"/>
                </a:solidFill>
                <a:latin typeface="Times New Roman"/>
              </a:rPr>
              <a:t>　</a:t>
            </a: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学问是不能离开智慧的</a:t>
            </a:r>
            <a:endParaRPr b="0" lang="en-US" sz="4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未标题-17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699080" cy="586728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334120" y="1600200"/>
            <a:ext cx="3429000" cy="2029320"/>
            <a:chOff x="5334120" y="1600200"/>
            <a:chExt cx="3429000" cy="2029320"/>
          </a:xfrm>
        </p:grpSpPr>
        <p:sp>
          <p:nvSpPr>
            <p:cNvPr id="141" name=""/>
            <p:cNvSpPr/>
            <p:nvPr/>
          </p:nvSpPr>
          <p:spPr>
            <a:xfrm>
              <a:off x="5562720" y="1600200"/>
              <a:ext cx="320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祖冲之</a:t>
              </a:r>
              <a:endParaRPr b="0" lang="en-US" sz="4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34120" y="3048120"/>
              <a:ext cx="33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(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圆周率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)</a:t>
              </a:r>
              <a:endParaRPr b="0" lang="en-US" sz="32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60199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304920"/>
            <a:ext cx="5562720" cy="6730920"/>
            <a:chOff x="0" y="304920"/>
            <a:chExt cx="5562720" cy="6730920"/>
          </a:xfrm>
        </p:grpSpPr>
        <p:pic>
          <p:nvPicPr>
            <p:cNvPr id="146" name="未标题-8" descr=""/>
            <p:cNvPicPr/>
            <p:nvPr/>
          </p:nvPicPr>
          <p:blipFill>
            <a:blip r:embed="rId1"/>
            <a:stretch/>
          </p:blipFill>
          <p:spPr>
            <a:xfrm>
              <a:off x="380880" y="304920"/>
              <a:ext cx="482760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0" y="6019920"/>
              <a:ext cx="5562720" cy="10159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867280" y="1447920"/>
            <a:ext cx="2971800" cy="1800360"/>
            <a:chOff x="5867280" y="1447920"/>
            <a:chExt cx="2971800" cy="1800360"/>
          </a:xfrm>
        </p:grpSpPr>
        <p:sp>
          <p:nvSpPr>
            <p:cNvPr id="149" name=""/>
            <p:cNvSpPr/>
            <p:nvPr/>
          </p:nvSpPr>
          <p:spPr>
            <a:xfrm>
              <a:off x="5943600" y="1447920"/>
              <a:ext cx="2895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阿基米德</a:t>
              </a:r>
              <a:endParaRPr b="0" lang="en-US" sz="4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67280" y="266688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浮力定律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未标题-1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29080" cy="6095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715000" y="10666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2743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791320" y="1447920"/>
            <a:ext cx="2971800" cy="1953000"/>
            <a:chOff x="5791320" y="1447920"/>
            <a:chExt cx="2971800" cy="1953000"/>
          </a:xfrm>
        </p:grpSpPr>
        <p:sp>
          <p:nvSpPr>
            <p:cNvPr id="155" name=""/>
            <p:cNvSpPr/>
            <p:nvPr/>
          </p:nvSpPr>
          <p:spPr>
            <a:xfrm>
              <a:off x="5791320" y="1447920"/>
              <a:ext cx="2895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牛顿</a:t>
              </a:r>
              <a:endParaRPr b="0" lang="en-US" sz="4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8195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(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万有引力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)</a:t>
              </a:r>
              <a:endParaRPr b="0" lang="en-US" sz="32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未标题-10" descr=""/>
          <p:cNvPicPr/>
          <p:nvPr/>
        </p:nvPicPr>
        <p:blipFill>
          <a:blip r:embed="rId1"/>
          <a:stretch/>
        </p:blipFill>
        <p:spPr>
          <a:xfrm>
            <a:off x="353880" y="304920"/>
            <a:ext cx="5051520" cy="601956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5943600" y="1371600"/>
            <a:ext cx="2819520" cy="1800720"/>
            <a:chOff x="5943600" y="1371600"/>
            <a:chExt cx="2819520" cy="1800720"/>
          </a:xfrm>
        </p:grpSpPr>
        <p:sp>
          <p:nvSpPr>
            <p:cNvPr id="159" name=""/>
            <p:cNvSpPr/>
            <p:nvPr/>
          </p:nvSpPr>
          <p:spPr>
            <a:xfrm>
              <a:off x="6095880" y="1371600"/>
              <a:ext cx="2667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华文中宋"/>
                </a:rPr>
                <a:t>      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瑞利</a:t>
              </a:r>
              <a:endParaRPr b="0" lang="en-US" sz="4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259092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Times New Roman"/>
                  <a:ea typeface="华文中宋"/>
                </a:rPr>
                <a:t>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(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氩气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)</a:t>
              </a:r>
              <a:endParaRPr b="0" lang="en-US" sz="32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未标题-1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695840" cy="609588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5638680" y="1143000"/>
            <a:ext cx="3124440" cy="1876680"/>
            <a:chOff x="5638680" y="1143000"/>
            <a:chExt cx="3124440" cy="1876680"/>
          </a:xfrm>
        </p:grpSpPr>
        <p:sp>
          <p:nvSpPr>
            <p:cNvPr id="163" name=""/>
            <p:cNvSpPr/>
            <p:nvPr/>
          </p:nvSpPr>
          <p:spPr>
            <a:xfrm>
              <a:off x="5943600" y="1143000"/>
              <a:ext cx="2819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门捷列夫</a:t>
              </a:r>
              <a:endParaRPr b="0" lang="en-US" sz="4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38680" y="243828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(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元素周期表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)</a:t>
              </a:r>
              <a:endParaRPr b="0" lang="en-US" sz="32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未标题-18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4861080" cy="563904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867280" y="1295280"/>
            <a:ext cx="3124440" cy="2029320"/>
            <a:chOff x="5867280" y="1295280"/>
            <a:chExt cx="3124440" cy="2029320"/>
          </a:xfrm>
        </p:grpSpPr>
        <p:sp>
          <p:nvSpPr>
            <p:cNvPr id="167" name=""/>
            <p:cNvSpPr/>
            <p:nvPr/>
          </p:nvSpPr>
          <p:spPr>
            <a:xfrm>
              <a:off x="5867280" y="1295280"/>
              <a:ext cx="3048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  </a:t>
              </a: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弗莱明</a:t>
              </a:r>
              <a:endParaRPr b="0" lang="en-US" sz="4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7280" y="2743200"/>
              <a:ext cx="31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(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青霉素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华文中宋"/>
                </a:rPr>
                <a:t>)</a:t>
              </a:r>
              <a:endParaRPr b="0" lang="en-US" sz="32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6477120" y="152280"/>
            <a:ext cx="2361960" cy="3126960"/>
            <a:chOff x="6477120" y="152280"/>
            <a:chExt cx="2361960" cy="3126960"/>
          </a:xfrm>
        </p:grpSpPr>
        <p:pic>
          <p:nvPicPr>
            <p:cNvPr id="170" name="未标题-12" descr=""/>
            <p:cNvPicPr/>
            <p:nvPr/>
          </p:nvPicPr>
          <p:blipFill>
            <a:blip r:embed="rId1"/>
            <a:stretch/>
          </p:blipFill>
          <p:spPr>
            <a:xfrm>
              <a:off x="6629040" y="152280"/>
              <a:ext cx="204768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477120" y="281952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牛顿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万有引力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590920" y="3505320"/>
            <a:ext cx="3276360" cy="3050280"/>
            <a:chOff x="2590920" y="3505320"/>
            <a:chExt cx="3276360" cy="3050280"/>
          </a:xfrm>
        </p:grpSpPr>
        <p:pic>
          <p:nvPicPr>
            <p:cNvPr id="173" name="未标题-14" descr=""/>
            <p:cNvPicPr/>
            <p:nvPr/>
          </p:nvPicPr>
          <p:blipFill>
            <a:blip r:embed="rId2"/>
            <a:stretch/>
          </p:blipFill>
          <p:spPr>
            <a:xfrm>
              <a:off x="3352680" y="3505320"/>
              <a:ext cx="213480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590920" y="609588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门捷列夫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元素周期表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71800" y="152280"/>
            <a:ext cx="2895480" cy="3050640"/>
            <a:chOff x="2971800" y="152280"/>
            <a:chExt cx="2895480" cy="3050640"/>
          </a:xfrm>
        </p:grpSpPr>
        <p:pic>
          <p:nvPicPr>
            <p:cNvPr id="176" name="未标题-8" descr=""/>
            <p:cNvPicPr/>
            <p:nvPr/>
          </p:nvPicPr>
          <p:blipFill>
            <a:blip r:embed="rId3"/>
            <a:stretch/>
          </p:blipFill>
          <p:spPr>
            <a:xfrm>
              <a:off x="3429000" y="152280"/>
              <a:ext cx="213372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2971800" y="2743200"/>
              <a:ext cx="2895480" cy="4597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阿基米德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浮力定律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553080" y="3581280"/>
            <a:ext cx="2361960" cy="2898360"/>
            <a:chOff x="6553080" y="3581280"/>
            <a:chExt cx="2361960" cy="2898360"/>
          </a:xfrm>
        </p:grpSpPr>
        <p:pic>
          <p:nvPicPr>
            <p:cNvPr id="179" name="未标题-18" descr=""/>
            <p:cNvPicPr/>
            <p:nvPr/>
          </p:nvPicPr>
          <p:blipFill>
            <a:blip r:embed="rId4"/>
            <a:stretch/>
          </p:blipFill>
          <p:spPr>
            <a:xfrm>
              <a:off x="6705360" y="3581280"/>
              <a:ext cx="1981080" cy="24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553080" y="601992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弗莱明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青霉素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-304920" y="152280"/>
            <a:ext cx="2895480" cy="2974320"/>
            <a:chOff x="-304920" y="152280"/>
            <a:chExt cx="2895480" cy="2974320"/>
          </a:xfrm>
        </p:grpSpPr>
        <p:pic>
          <p:nvPicPr>
            <p:cNvPr id="182" name="未标题-17" descr=""/>
            <p:cNvPicPr/>
            <p:nvPr/>
          </p:nvPicPr>
          <p:blipFill>
            <a:blip r:embed="rId5"/>
            <a:stretch/>
          </p:blipFill>
          <p:spPr>
            <a:xfrm>
              <a:off x="212400" y="152280"/>
              <a:ext cx="201132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-304920" y="266688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祖冲之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圆周率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04920" y="3581280"/>
            <a:ext cx="2819160" cy="2974320"/>
            <a:chOff x="304920" y="3581280"/>
            <a:chExt cx="2819160" cy="2974320"/>
          </a:xfrm>
        </p:grpSpPr>
        <p:pic>
          <p:nvPicPr>
            <p:cNvPr id="185" name="未标题-19" descr=""/>
            <p:cNvPicPr/>
            <p:nvPr/>
          </p:nvPicPr>
          <p:blipFill>
            <a:blip r:embed="rId6"/>
            <a:stretch/>
          </p:blipFill>
          <p:spPr>
            <a:xfrm>
              <a:off x="304920" y="3581280"/>
              <a:ext cx="2139840" cy="24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04920" y="60958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瑞利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氩气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14400" y="2286000"/>
            <a:ext cx="82296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读了课文，你认为我们今</a:t>
            </a:r>
            <a:endParaRPr b="0" lang="en-US" sz="4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后应该怎样运用智慧去读书、</a:t>
            </a:r>
            <a:endParaRPr b="0" lang="en-US" sz="4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学习呢？</a:t>
            </a:r>
            <a:endParaRPr b="0" lang="en-US" sz="4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91440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读一读</a:t>
            </a: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, </a:t>
            </a: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议一议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xywpqqa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 rot="21473400">
            <a:off x="1981080" y="3505320"/>
            <a:ext cx="54468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华文行楷"/>
              </a:rPr>
              <a:t>谢 谢大家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华文行楷"/>
              <a:ea typeface="华文行楷"/>
            </a:endParaRPr>
          </a:p>
        </p:txBody>
      </p:sp>
      <p:sp>
        <p:nvSpPr>
          <p:cNvPr id="191" name=""/>
          <p:cNvSpPr txBox="1"/>
          <p:nvPr/>
        </p:nvSpPr>
        <p:spPr>
          <a:xfrm rot="21473400">
            <a:off x="1676520" y="1447920"/>
            <a:ext cx="54464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华文行楷"/>
              </a:rPr>
              <a:t>敬请指教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华文行楷"/>
              <a:ea typeface="华文行楷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95280" y="1295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</a:t>
            </a:r>
            <a:r>
              <a:rPr b="1" lang="zh-CN" sz="7200" spc="-1" strike="noStrike">
                <a:solidFill>
                  <a:srgbClr val="2a3d7a"/>
                </a:solidFill>
                <a:latin typeface="Times New Roman"/>
                <a:ea typeface="方正舒体"/>
              </a:rPr>
              <a:t>学问和智慧</a:t>
            </a:r>
            <a:endParaRPr b="0" lang="en-US" sz="72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96" name="彩色线条2" descr=""/>
          <p:cNvPicPr/>
          <p:nvPr/>
        </p:nvPicPr>
        <p:blipFill>
          <a:blip r:embed="rId2"/>
          <a:stretch/>
        </p:blipFill>
        <p:spPr>
          <a:xfrm flipH="1" rot="10800000">
            <a:off x="1295280" y="3809520"/>
            <a:ext cx="6477120" cy="76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562720" y="2743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罗家伦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1148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执教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:  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板桥初级中学 鲁剑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2514600"/>
            <a:ext cx="8991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b5249"/>
                </a:solidFill>
                <a:latin typeface="Arial"/>
              </a:rPr>
              <a:t>               </a:t>
            </a:r>
            <a:r>
              <a:rPr b="1" lang="zh-CN" sz="4800" spc="-1" strike="noStrike">
                <a:solidFill>
                  <a:srgbClr val="5b5249"/>
                </a:solidFill>
                <a:latin typeface="幼圆"/>
                <a:ea typeface="幼圆"/>
              </a:rPr>
              <a:t>用自己喜爱的方式读课文，</a:t>
            </a:r>
            <a:endParaRPr b="0" lang="en-US" sz="4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5249"/>
                </a:solidFill>
                <a:latin typeface="幼圆"/>
                <a:ea typeface="幼圆"/>
              </a:rPr>
              <a:t>找出表明学问和智慧之间关系</a:t>
            </a:r>
            <a:endParaRPr b="0" lang="en-US" sz="4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5249"/>
                </a:solidFill>
                <a:latin typeface="幼圆"/>
                <a:ea typeface="幼圆"/>
              </a:rPr>
              <a:t>的句子．</a:t>
            </a:r>
            <a:endParaRPr b="0" lang="en-US" sz="4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91440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读一读</a:t>
            </a: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, </a:t>
            </a: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找一找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762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●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学问和智慧有显然的区别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371600"/>
            <a:ext cx="922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有人认为学问就是智慧，其实有学问的人何曾都有智慧？有智慧的人也不见得都有很好的学问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5146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● 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学问是不能离开智慧的，没有智慧的学问，便是死的学问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6576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● 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学问固然不能离开智慧，同时智慧也不能离开学问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56272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● 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我们不但需要学问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而且更需要智慧——需要以智慧去笼罩学问，透视学问，运用学问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769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学问和智慧是相辅为用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缺一不可的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7621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●</a:t>
            </a:r>
            <a:r>
              <a:rPr b="1" lang="zh-CN" sz="28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学问和智慧有显然的区别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71600"/>
            <a:ext cx="922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有人认为学问就是智慧，其实有学问的人何曾都有智慧？有智慧的人也不见得都有很好的学问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5146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● 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学问是不能离开智慧的，没有智慧的学问，便是死的学问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6576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● 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学问固然不能离开智慧，同时智慧也不能离开学问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56272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● </a:t>
            </a:r>
            <a:r>
              <a:rPr b="1" lang="zh-CN" sz="3200" spc="-1" strike="noStrike" u="sng">
                <a:solidFill>
                  <a:srgbClr val="5b5249"/>
                </a:solidFill>
                <a:uFillTx/>
                <a:latin typeface="楷体_GB2312"/>
                <a:ea typeface="楷体_GB2312"/>
              </a:rPr>
              <a:t>我们不但需要学问</a:t>
            </a:r>
            <a:r>
              <a:rPr b="1" lang="zh-CN" sz="3200" spc="-1" strike="noStrike" u="sng">
                <a:solidFill>
                  <a:srgbClr val="5b5249"/>
                </a:solidFill>
                <a:uFillTx/>
                <a:latin typeface="楷体_GB2312"/>
                <a:ea typeface="楷体_GB2312"/>
              </a:rPr>
              <a:t>,</a:t>
            </a:r>
            <a:r>
              <a:rPr b="1" lang="zh-CN" sz="3200" spc="-1" strike="noStrike" u="sng">
                <a:solidFill>
                  <a:srgbClr val="5b5249"/>
                </a:solidFill>
                <a:uFillTx/>
                <a:latin typeface="楷体_GB2312"/>
                <a:ea typeface="楷体_GB2312"/>
              </a:rPr>
              <a:t>而且更需要智慧——需要以智慧去笼罩学问，透视学问，运用学问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87692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学问和智慧是相辅为用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缺一不可的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2590920"/>
            <a:ext cx="90676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5b5249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5b5249"/>
                </a:solidFill>
                <a:latin typeface="Arial"/>
                <a:ea typeface="幼圆"/>
              </a:rPr>
              <a:t>请从文章中找出运用比喻论证的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Arial"/>
                <a:ea typeface="幼圆"/>
              </a:rPr>
              <a:t>句子，品读这些句子，体会这些句子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Arial"/>
                <a:ea typeface="幼圆"/>
              </a:rPr>
              <a:t>的论证目的．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1440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读一读</a:t>
            </a: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, </a:t>
            </a: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想一想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685800"/>
            <a:ext cx="8305920" cy="41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  <a:ea typeface="楷体_GB2312"/>
              </a:rPr>
              <a:t>学问是知识的聚集，是一种滋养人生的原料，而智慧却是陶冶原料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华文彩云"/>
              </a:rPr>
              <a:t>熔炉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Arial"/>
                <a:ea typeface="楷体_GB2312"/>
              </a:rPr>
              <a:t>　学问好比是铁，而智慧是炼钢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华文彩云"/>
              </a:rPr>
              <a:t>电火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Arial"/>
                <a:ea typeface="楷体_GB2312"/>
              </a:rPr>
              <a:t>　惟有从学问中产生的智慧，才不是浮光，而是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华文彩云"/>
              </a:rPr>
              <a:t>探照灯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  <a:ea typeface="楷体_GB2312"/>
              </a:rPr>
              <a:t>，可以透过云层，照射到青空的境地。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Arial"/>
                <a:ea typeface="楷体_GB2312"/>
              </a:rPr>
              <a:t>　他永远像珍珠泉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华文彩云"/>
              </a:rPr>
              <a:t>泉水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  <a:ea typeface="楷体_GB2312"/>
              </a:rPr>
              <a:t>一般，一串串不断从水底上涌。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5b52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Arial"/>
                <a:ea typeface="楷体_GB2312"/>
              </a:rPr>
              <a:t>　若把学问譬作建筑材料，那智慧便是建筑师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华文彩云"/>
              </a:rPr>
              <a:t>匠心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564000" y="299736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19958" y="7301"/>
                </a:moveTo>
                <a:lnTo>
                  <a:pt x="20872" y="7301"/>
                </a:lnTo>
                <a:lnTo>
                  <a:pt x="21255" y="7667"/>
                </a:lnTo>
                <a:lnTo>
                  <a:pt x="30464" y="7667"/>
                </a:lnTo>
                <a:lnTo>
                  <a:pt x="31021" y="8224"/>
                </a:lnTo>
                <a:lnTo>
                  <a:pt x="31021" y="8772"/>
                </a:lnTo>
                <a:lnTo>
                  <a:pt x="32866" y="8772"/>
                </a:lnTo>
                <a:lnTo>
                  <a:pt x="33232" y="8224"/>
                </a:lnTo>
                <a:lnTo>
                  <a:pt x="33971" y="8224"/>
                </a:lnTo>
                <a:lnTo>
                  <a:pt x="33971" y="13376"/>
                </a:lnTo>
                <a:lnTo>
                  <a:pt x="33232" y="13376"/>
                </a:lnTo>
                <a:lnTo>
                  <a:pt x="32866" y="12828"/>
                </a:lnTo>
                <a:lnTo>
                  <a:pt x="31021" y="12828"/>
                </a:lnTo>
                <a:lnTo>
                  <a:pt x="31021" y="14107"/>
                </a:lnTo>
                <a:lnTo>
                  <a:pt x="21438" y="14107"/>
                </a:lnTo>
                <a:lnTo>
                  <a:pt x="21438" y="9877"/>
                </a:lnTo>
                <a:lnTo>
                  <a:pt x="21255" y="9877"/>
                </a:lnTo>
                <a:lnTo>
                  <a:pt x="20872" y="10243"/>
                </a:lnTo>
                <a:lnTo>
                  <a:pt x="19958" y="10243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990720"/>
            <a:ext cx="533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3886200"/>
            <a:ext cx="8305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5b5249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２．</a:t>
            </a:r>
            <a:r>
              <a:rPr b="1" lang="zh-CN" sz="4000" spc="-1" strike="noStrike">
                <a:solidFill>
                  <a:srgbClr val="5b5249"/>
                </a:solidFill>
                <a:latin typeface="Arial"/>
              </a:rPr>
              <a:t>若把学问比作</a:t>
            </a:r>
            <a:r>
              <a:rPr b="1" lang="zh-CN" sz="4000" spc="-1" strike="noStrike" u="sng">
                <a:solidFill>
                  <a:srgbClr val="5b5249"/>
                </a:solidFill>
                <a:uFillTx/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5b5249"/>
                </a:solidFill>
                <a:latin typeface="Arial"/>
              </a:rPr>
              <a:t> ，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Arial"/>
              </a:rPr>
              <a:t>那智慧便是</a:t>
            </a:r>
            <a:r>
              <a:rPr b="1" lang="zh-CN" sz="4000" spc="-1" strike="noStrike" u="sng">
                <a:solidFill>
                  <a:srgbClr val="5b5249"/>
                </a:solidFill>
                <a:uFillTx/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5b5249"/>
                </a:solidFill>
                <a:latin typeface="Arial"/>
              </a:rPr>
              <a:t> 。</a:t>
            </a:r>
            <a:r>
              <a:rPr b="1" lang="zh-CN" sz="4000" spc="-1" strike="noStrike" u="sng">
                <a:solidFill>
                  <a:srgbClr val="5b5249"/>
                </a:solidFill>
                <a:uFillTx/>
                <a:latin typeface="Arial"/>
              </a:rPr>
              <a:t>    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209680"/>
            <a:ext cx="75438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  <a:ea typeface="宋体"/>
              </a:rPr>
              <a:t>１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宋体"/>
              </a:rPr>
              <a:t>．若把学问比作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起锚的航船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宋体"/>
              </a:rPr>
              <a:t>，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那智慧便是</a:t>
            </a:r>
            <a:r>
              <a:rPr b="1" lang="zh-CN" sz="4000" spc="-1" strike="noStrike" u="sng">
                <a:solidFill>
                  <a:srgbClr val="5b5249"/>
                </a:solidFill>
                <a:uFillTx/>
                <a:latin typeface="Times New Roman"/>
              </a:rPr>
              <a:t>　　　　　　 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1440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读一读</a:t>
            </a: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, </a:t>
            </a: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说一说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00:51:56Z</dcterms:created>
  <dc:creator>tech</dc:creator>
  <dc:description/>
  <dc:language>en-US</dc:language>
  <cp:lastModifiedBy>zxx</cp:lastModifiedBy>
  <dcterms:modified xsi:type="dcterms:W3CDTF">2005-10-21T11:03:51Z</dcterms:modified>
  <cp:revision>85</cp:revision>
  <dc:subject/>
  <dc:title>幻灯片 1</dc:title>
</cp:coreProperties>
</file>