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68C-6F78-45BF-B7E8-73D98707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082-8995-4333-9A78-6E014EE1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FF7-CDDA-4B2B-94E9-EE54DB78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110-5957-4300-868A-07ED5261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A73-1931-4247-93B5-E13B0322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3C9-F752-48D7-86C8-49381A4A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1D6-F1A2-42B4-8E14-7B9C7430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14B-F219-4070-A34A-00B37A95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F65-41BE-48A2-8630-043BD958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511F-1831-490F-B510-E0A81648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A623-8F4D-4394-96FD-D1C83DBA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F85-48A5-46F8-B21C-5A4BEAB5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8D73-669F-4814-A238-0F89402FF4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6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52388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762120"/>
            <a:ext cx="533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幼圆"/>
              </a:rPr>
              <a:t>学问和智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62720" y="518148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罗加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28600" y="-12600"/>
            <a:ext cx="9677520" cy="6870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学目标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理解学问与智慧的区别与联系；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继续学习对比论证与举例论证的方法；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体会隽美的语言并注意语言积累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检查预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读准字音，看清笔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陶冶　 寸积铢累　 大窾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矻矻穷年　探骊得珠　犀锐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129528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阅读课文，理清文章的脉络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全文共六段，可以分为两个部分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：论述学问与智慧的区别；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-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：论述学问与智慧的联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找出文章的中心论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心论点在文末：“我们不但需要学问，而且需要智慧——需要以智慧去笼罩学问、透视学问、运用学问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研读文章的第一部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文章的第一节，理解文章是怎样来阐明学问与智慧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同一个人的身上，如果只有学问而没有智慧，会怎么样？相反如果没有智慧只有学问又是怎么样？如果同时具备学问与智慧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论述第二个方面的问题时作者采用了什么样的论证方法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研读第二部分：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206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38680" y="4343400"/>
            <a:ext cx="2590920" cy="1943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学生快速地阅读第二部分的内容，明确每段文字所讲述的主要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第三节与第五节，比较这两段的论证方法有何不同之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四节重在说明了一个什么样的问题？运用了什么样的论证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六节在文中的作用是什么？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第三节：论述学问不能离开智慧。_x000b_第四节：论述世间不仅有缺乏智慧的人，而且有缺乏智慧的书。_x000b_第五节：论述智慧也离不开学问。_x000b_第六节：论述学问和智慧相辅为用、缺一不可的关系。_x000b__x000b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归纳全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文章分析了学问与智慧的区别与联系，指出 学问固然离不开智慧，同时智慧也不能离开学问，学问与智慧相辅为用，缺一不可，进而提出我们不但需要学问，而且更需要智慧，需要量以智慧去笼罩学问、透视学问、运用学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enwei</cp:lastModifiedBy>
  <dcterms:modified xsi:type="dcterms:W3CDTF">2005-09-19T02:22:1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