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7FC-8054-4EB3-988D-684FAB0A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DE2-D1D9-45B3-B9F0-1F0442CB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C2CD-413F-4EF3-9396-BB81B661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F4B4-93A9-4FD6-924D-E73B07EF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153F-AD50-42E2-95A6-60D8ACFD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D6A6-0951-4B12-9CA8-1B8E9B1F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01EB-DE6A-45BF-B273-A4D36109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C217-B1DB-4321-A7A3-E7D91607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CEC-E904-4875-8812-477B060D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F2CA-99F5-4E4C-B946-F7ACE1FA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DD50-2CEB-43B9-AC34-9ED2A4E6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7925-994B-4AB9-A5D7-84BE9724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2542-F1DD-4033-A3E0-5CEBF39A35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>
            <a:lum contras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43160" y="380880"/>
            <a:ext cx="47055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西塞山怀古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                          </a:t>
            </a:r>
            <a:r>
              <a:rPr b="0" lang="zh-CN" sz="44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刘禹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“王濬楼船下益州，金陵王气黯然收”  </a:t>
            </a:r>
            <a:br>
              <a:rPr sz="36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这一联中哪两个字用得好？ 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下”和“收”字用得好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565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下”：一有符合地理形式，由上游向下游进军，符合历史事实的意思；又有西晋攻下了东吴的意思； “收”字，写出了东吴的望风披靡。  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    益州金陵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相距遥遥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“下”即“收”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何其速也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两字对举就渲染出一方是声势赫赫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方是闻风丧胆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颔联将晋吴之战的形势从哪些方面  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作了形象地描绘？什么手法？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①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形象上看，一横一竖，一下沉一高扬；从色彩上看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边是晋军烧毁铁锁的冲天火光，一边是投降的白旗；从气氛上，晋军得胜趾高气扬，东吴兵败无限凄惨。   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  ②对比的手法。        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     在对比中写出了战争双方的强弱，更写出了胜利者那种摧枯拉朽、咄咄逼人，而失败者黯然失色，仓皇逃窜的神态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尾联含蓄地表达了怎样的深意？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里有赞颂，有庆幸但更深层次的是提醒，是警诫。安史之乱使唐朝岌岌可危；乱后，河北，山东藩镇割据局面愈演愈烈，时刻威胁着唐王朝的安全。眼前的升平景象不知道哪天会被烽火打乱；如今长满芦苇的故垒，不知道哪天又会变成战争的前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曾经的“金陵王气”，曾经的“西晋楼船”，今天都成为了一片荒凉之地；曾经雄踞一方，不可一世的割据势利，今天也只是人们“伤”的陈年往事。诗人在纵横开阖，酣畅流利的叙事描写当中，对重新抬头的割据势力做了迎头痛击——历史的大流永远是“大一统”，民心所向，不以割据者的意志为转移，想要分裂国家，发动战争，最终也不过就是徒让后人“伤往事”而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刘禹锡所处的中唐是藩镇割据的时代，其间虽然在唐宪宗时期出现过短暂的统一，但至刘禹锡写作此诗时的唐穆宗长庆四年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824)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河北三镇又恢复到了割据状态。金陵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今南京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虽是六朝古都，但都是割据一方的政权。  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   诗人在诗中将批判的锋芒指向地方割据势力，因此诗人的怀古其实是在慨今；四海为家，江山一统是诗人所极力赞扬的。同时，六朝灭亡的历史教训，也是对当朝统治者的忠告，有一箭双雕的效果。 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作者简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刘禹锡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7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4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字梦得 ，晚年自号庐山人，彭城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今江苏徐州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，是汉中山靖王后裔。唐代中晚期诗人、哲学家。他的家庭是一个世代以儒学相传的书香门第。政治上主张革新，是王叔文派政治革新活动的中心人物之一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      刘禹锡天资聪颖，敏而好学，从小就才学过人，气度非凡。他十九岁游学长安，上书朝廷。二十一岁，与柳宗元同榜考中进士。同年又考中了博学宏词科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后来永贞革新失败被贬为朗州司马。他没有自甘沉沦，而是以积极乐观的精神进行创作，积极向民歌学习，创作了《采菱行》等仿民歌体诗歌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度奉诏还京后，刘禹锡又因诗句“玄都观里桃千树，尽是刘郎去后栽”触怒新贵被贬为连州刺史。后被任命为江州刺史，在那里创作了大量的《竹枝词》。名句很多，广为传诵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82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夏，他写了著名的《西塞山怀古》：“王濬楼船下益州，金陵王气黯然收。千寻铁锁沉江底，一片降幡出石头。人世几回伤往事，山形依旧枕寒流。今逢四海为家日，故垒萧萧芦荻秋。”这首诗为后世的文学评论家所激赏，认为是含蕴无穷的唐诗杰作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　　后来，几经多次调动，刘禹锡被派往苏州担任刺史。当时苏州发生水灾，饥鸿遍野。他上任以后开仓赈饥，免赋减役，很快使人民从灾害中走出，过上了安居乐业的生活。苏州人民爱戴他，感激他，就把曾在苏州担任过刺史的韦应物、白居易和他合称为“三杰”，建立了三贤堂。唐文宗也对他的政绩予以褒奖，赐给他紫金鱼袋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刘禹锡晚年回到洛阳，任太子宾客，与朋友交游赋诗，生活闲适。死后被追赠为户部尚书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       其诗现存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0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余首。其学习民歌，反映民众生活和风土人情的诗，题材广阔，风格上汲取巴蜀民歌含蓄宛转、朴素优美的特色，清新自然，健康活泼，充满生活情趣。其讽刺诗往往以寓言托物手法，抨击镇压永贞革新的权贵，涉及较广的社会现象。晚年所作，风格渐趋含蓄，讽刺而不露痕迹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解题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13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西塞山，在今湖北大冶东面的长江边，形势险峻，是六朝有名的军事要塞。长庆四年（八二四年）刘禹锡由夔州刺史调任和州刺史，沿江东下，途经西塞山，即景抒怀，写下此诗。 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5" descr="西塞山1.jpg"/>
          <p:cNvPicPr/>
          <p:nvPr/>
        </p:nvPicPr>
        <p:blipFill>
          <a:blip r:embed="rId2"/>
          <a:stretch/>
        </p:blipFill>
        <p:spPr>
          <a:xfrm>
            <a:off x="0" y="0"/>
            <a:ext cx="3492360" cy="26193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6" descr="西塞山2.jpg"/>
          <p:cNvPicPr/>
          <p:nvPr/>
        </p:nvPicPr>
        <p:blipFill>
          <a:blip r:embed="rId3"/>
          <a:stretch/>
        </p:blipFill>
        <p:spPr>
          <a:xfrm>
            <a:off x="5580000" y="0"/>
            <a:ext cx="3564000" cy="26733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9" descr="西塞山4.jpg"/>
          <p:cNvPicPr/>
          <p:nvPr/>
        </p:nvPicPr>
        <p:blipFill>
          <a:blip r:embed="rId4"/>
          <a:stretch/>
        </p:blipFill>
        <p:spPr>
          <a:xfrm>
            <a:off x="0" y="4181400"/>
            <a:ext cx="3564000" cy="26766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8" descr="西塞山3.jpg"/>
          <p:cNvPicPr/>
          <p:nvPr/>
        </p:nvPicPr>
        <p:blipFill>
          <a:blip r:embed="rId5"/>
          <a:stretch/>
        </p:blipFill>
        <p:spPr>
          <a:xfrm>
            <a:off x="5580000" y="4208400"/>
            <a:ext cx="3564000" cy="2649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484800" y="1197000"/>
            <a:ext cx="16426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西塞山风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2" descr="桂花.jpg"/>
          <p:cNvPicPr/>
          <p:nvPr/>
        </p:nvPicPr>
        <p:blipFill>
          <a:blip r:embed="rId2"/>
          <a:stretch/>
        </p:blipFill>
        <p:spPr>
          <a:xfrm>
            <a:off x="0" y="0"/>
            <a:ext cx="2987640" cy="3284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2987640" cy="33577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" descr="仙境.jpg"/>
          <p:cNvPicPr/>
          <p:nvPr/>
        </p:nvPicPr>
        <p:blipFill>
          <a:blip r:embed="rId4"/>
          <a:stretch/>
        </p:blipFill>
        <p:spPr>
          <a:xfrm>
            <a:off x="6084720" y="0"/>
            <a:ext cx="3059280" cy="32846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" descr="仙境2.jpg"/>
          <p:cNvPicPr/>
          <p:nvPr/>
        </p:nvPicPr>
        <p:blipFill>
          <a:blip r:embed="rId5"/>
          <a:stretch/>
        </p:blipFill>
        <p:spPr>
          <a:xfrm>
            <a:off x="6084720" y="3500280"/>
            <a:ext cx="3059280" cy="3357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3132000" y="0"/>
            <a:ext cx="2808360" cy="3284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3132000" y="3510000"/>
            <a:ext cx="280836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81280" y="2857680"/>
            <a:ext cx="5581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960" y="228600"/>
            <a:ext cx="910404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西塞山怀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33"/>
                </a:solidFill>
                <a:latin typeface="Times New Roman"/>
                <a:ea typeface="华文新魏"/>
              </a:rPr>
              <a:t>刘禹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王濬楼船下益州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金陵王气黯然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千寻铁锁沉江底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一片降幡出石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人世几回伤往事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山形依旧枕寒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从今四海为家日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故垒萧萧芦荻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419720" y="914400"/>
            <a:ext cx="3047760" cy="838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[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诗文解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]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84464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王濬率领高大的战船，顺江而下，讨伐东吴，金陵城中的士气黯然消失。千丈的铁链沉入江底，一片投降的旗子挂在石头城上。人生中有几回伤感往事，山形依然没有改变，枕靠在长江上。从今以后天下统一，旧日的堡垒在一片芦荻草中显得凄凉萧瑟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07:38:37Z</dcterms:created>
  <dc:creator>gjb-teacher-001</dc:creator>
  <dc:description/>
  <dc:language>en-US</dc:language>
  <cp:lastModifiedBy>zhuangyuqi</cp:lastModifiedBy>
  <dcterms:modified xsi:type="dcterms:W3CDTF">2008-05-04T09:16:12Z</dcterms:modified>
  <cp:revision>5</cp:revision>
  <dc:subject/>
  <dc:title>PowerPoint 演示文稿</dc:title>
</cp:coreProperties>
</file>