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B25-0885-4914-8DC3-83FCCAF3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9F5-B50C-4544-BBAF-84D2999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BB6-0C15-466C-ACF3-703AC747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A84-DF9E-40FB-AF4F-20A61B62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EF9-9367-4ECE-AB57-38943DF5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F1A-B4BB-46FA-8CB2-52BCDF98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DBD-7234-4C77-85DB-3BC3773E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903-A66E-4AB4-BD1C-F4E36CCE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ACE-7DEE-4F45-9886-E6D2AF1E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120-7BB8-455C-B6B6-15ABB504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1C3-CD38-4768-B444-9524F3D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12E-35BE-4312-BFDE-74534DC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F451-07EE-4016-B4C0-5C92D1849B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hoto.cts2008.com/Photo/3772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hi.baidu.com/10755921/album/item/790994b146e795490823028c.html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e1bf8725f9741c7334a80ffd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src.baidu.com/baike/pic/item/bd704260ec45f1c78cb10d23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69sky.net/User/2006/09/21/20060921001522987f221f20274f989e5add087d0de42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0ef21124e2e3ea20c89559fc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9200" y="476280"/>
            <a:ext cx="200916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西 塞 山 怀 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84720" y="2924280"/>
            <a:ext cx="10098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刘禹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赏析课文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．怀古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首联写出了什么气势？那两个字用得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首联“王濬楼船下益州，金陵王气黯然收”两句，诗人不从眼前的具体景物落笔，而是用简练的笔墨描写了发生在西塞山一带的一场惊心动魄的鏖战，展示出一幅气势磅礴的历史风云画卷。公元二八○年，晋武帝司马炎命益州刺史王濬率领精锐水军从长江上游顺流而下，直取金陵（吴国都城），以完成统一大业。“下益州”是指自益州而下，一个“下”字置于“益州”之前，渲染出一种浩浩荡荡、居高临下的进军气势，给人以势如破竹、摧枯拉朽之感；同时也为下文写吴国的败亡埋下了伏笔。“黯然收”中一个“收”字，既表明吴国军队闻风丧胆的情态，又预示吴国走向失败的必然命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颔联：思考此联把晋吴之战的形势从哪些方面作了形象地描绘？什么手法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 从形象上看，一横一竖，一下沉一高扬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从色彩上看一边是晋军烧毁铁锁的冲天火光，一边是投降的白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从气氛上，晋军得胜趾高气扬，东吴兵败无限凄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、手法：对比的手法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3860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颔联写吴国垂死挣扎的徒劳和被迫出降的丑态。“千寻铁锁”形容吴军防御工事非常坚固，几乎封锁了整个江面。然而由于王濬的足智多谋，很快就攻破了吴军的防守。一个“沉”字，看似平常，实则奇警，它形象的说明吴国政权也随铁链的沉没，而在历史的长河中永远的消失了。“一片降幡出石头”写吴国国君投降时候的丑态。“一片”极言其渺小，“降幡”含有讽刺嘲弄的意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总之，诗的前四句，交代了这场战争的指挥者、进军路线、作战方式、突破江防的经过及吴主出降的情形，在怀古的内容中寓有深意：</a:t>
            </a:r>
            <a:r>
              <a:rPr b="1" lang="zh-CN" sz="36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一个政权的巩固，靠的不是地形的险要，而是人心；失去人心，任何其它防御工事都形同虚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4508640"/>
            <a:ext cx="7772400" cy="164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人世几回伤往事</a:t>
            </a:r>
            <a:br>
              <a:rPr sz="6000"/>
            </a:b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山形依旧枕寒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．感今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颈联“人世几回伤往事”或许并不仅仅指上文西晋王濬进攻东吴的事，金陵经历了若干的朝代的兴亡，这样的兴亡交替都让后人感叹，升起伤怀之感，但金陵古城却“山形依旧枕寒流”，那么一个国家兴衰的决定因素是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一个国家的兴衰起决定作用的不是地势的险要而是人事的治乱。“江山不管兴亡恨，一任斜阳伴客愁”，包佶（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J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í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）的《再过金陵》正是这句诗的最好注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结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颈联“人世几回伤往事”句，承上启下，把读者的思想从历史的悲哀中挣扎出来，回到现实，概括了整个南朝三百余年政权频繁更替的历史，具体说明失去人心，不与民为善的必然后果。“山形依旧枕寒流”句，诗人用拟人的手法写出了西塞山超然世外的精神。“依旧”是说三百年前如此，三百年后的今天仍然如此，但人间的英雄霸主们并不识相，他们偏要凭借山川险峻，称王图霸，因此难免要一一受到西塞山的嘲讽。“山形依旧”同英雄们的霸业荡然无存形成鲜明对比，这就更突出了他们的可悲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9866520" cy="746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189000"/>
            <a:ext cx="590364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今逢四海为家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故垒萧萧芦荻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尾联含蓄地表达了怎样的深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3789000"/>
            <a:ext cx="8893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里有赞颂，有庆幸但更深层次的是提醒，是警诫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安史之乱使唐朝岌岌可危；乱后，河北，山东藩镇割据局面愈演愈烈，时刻威胁着唐王朝的安全。眼前的升平景象不知道哪天会被烽火打乱；如今长满芦苇的故垒，不知道哪天又会变成战争的前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90080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尾联是诗人的感慨和对唐朝统治者的婉言规劝。“今逢四海为家日”句宕开一笔，以褒奖的口吻赞美当世。通过古今对比，诗人深感大唐二百余年统一基业的弥足珍贵。另外，诗人歌颂“四海为家”，表现了他维护国家统一的坚定立场。“故垒萧萧芦荻秋”句是说：往日的军事堡垒，如今已荒芜在一片秋风芦荻之中。这残破荒凉的遗迹，便是六朝覆亡的见证，分裂失败的象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1890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前四句语言雄壮豪迈，气势磅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黑体"/>
              </a:rPr>
              <a:t>后四句语言含蓄厚重，苍凉慷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借古讽今：古代封建社会中许多有识之士，大都博古通今，对现实有较多深刻的体察，而他们大多数又仕途坎坷，怀才不遇，感到生不逢时。心中郁积不满，但又不可明说，特别是揭露时弊，指斥朝政更是不便明说，于是他们往往从历史人物和事件中去寻求载体，以便委婉曲折地表达自己的心曲。借古讽今之诗，乃是借鉴历史人物或历史事件方面的经验教训，作为现实社会某些方面的鉴戒。借古是为了讽今，鉴古观今，两相对照，或颂古非今，或贬古刺今，以表达诗的题旨。理解鉴赏这类诗词，必须时刻结合诗人写作的时代背景和创作时的心境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8366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诵读，体会《西塞山怀古》的语言风格，鉴赏文学作品的形象和表达技巧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②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评价文学作品的思想内容和作者的观点态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03640" y="1143000"/>
            <a:ext cx="370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阅读刘禹锡的《乌衣 巷》 和《石头城》诗，回答后面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38149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乌衣巷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朱雀桥边野草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乌衣巷口夕阳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旧时王谢堂前燕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飞入寻常百姓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石头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山围故国周遭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潮打空城寂寞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淮水东边旧时月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夜深还过女墙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1640" y="2637000"/>
            <a:ext cx="434340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这两首诗在表现手法上的相同之处是什么？在主题表达上分别起到了什么作用？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5364000" cy="1942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石头城风景图"/>
          <p:cNvPicPr/>
          <p:nvPr/>
        </p:nvPicPr>
        <p:blipFill>
          <a:blip r:embed="rId2">
            <a:grayscl/>
          </a:blip>
          <a:stretch/>
        </p:blipFill>
        <p:spPr>
          <a:xfrm>
            <a:off x="3780000" y="4379760"/>
            <a:ext cx="5364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3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3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3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3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5640" y="333360"/>
            <a:ext cx="7777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这两首诗在表现手法上的相同之处是什么？在主题表达上分别起到了什么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答：这两首诗都运用了</a:t>
            </a:r>
            <a:r>
              <a:rPr b="1" lang="zh-CN" sz="3600" spc="-1" strike="noStrike">
                <a:solidFill>
                  <a:srgbClr val="006666"/>
                </a:solidFill>
                <a:latin typeface="华文新魏"/>
                <a:ea typeface="华文新魏"/>
              </a:rPr>
              <a:t>借景抒情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手法。诗人感慨藏而不露，寄寓在景物描写之中，具有含蓄蕴藉之美。 《乌衣巷》通过对丛生野草和野花及斜阳残照景象的描写，说明了豪门世家不能永享富贵，表明了社会总在发展变化的深刻哲理。《石头城》通过描写山、水、明月和城墙等荒凉景色，寄寓了诗人对六朝兴亡和人事变迁的慨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0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阅读下面两首同题唐诗，然后回答问题。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3960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cc"/>
                </a:solidFill>
                <a:latin typeface="宋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台城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韦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江雨霏霏江草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六朝如梦鸟空啼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无情最是台城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依旧烟笼十里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台城 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刘禹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台城六代竞豪华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绮临春事最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万户千门成野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只缘一曲后庭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【注释】①台城：六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帝王起居临政的地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结绮临春：陈后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营造的两座楼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3280" y="836280"/>
            <a:ext cx="35942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（１）这两首怀古诗寄托了作者怎样的感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（２）这两首诗所用的主要艺术手法各有特色，请结合具体诗句加以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5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5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5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3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3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3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3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3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0492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楷体_GB2312"/>
              </a:rPr>
              <a:t>）这两首怀古诗寄托了作者怎样的感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吊古伤今。（昔盛今衰，物是人非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）这两首诗所用的主要艺术手法各有特色，请结合具体诗句加以分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500280"/>
            <a:ext cx="813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韦庄诗：借景抒情，寓情于景。通过阴雨、江草、鸟鸣、柳阴等景物，渲染出一幅凄清而令人伤感的画面。 或：通篇侧面烘托，以自然景物的“无情”反衬人的无限伤痛与感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禹锡诗：重在对比，前两句回忆昔日的繁华，后两句写今日的荒凉及缘由。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  <a:lum bright="16000"/>
          </a:blip>
          <a:stretch/>
        </p:blipFill>
        <p:spPr>
          <a:xfrm>
            <a:off x="-7570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-86" b="0"/>
          <a:stretch/>
        </p:blipFill>
        <p:spPr>
          <a:xfrm>
            <a:off x="-396720" y="3284640"/>
            <a:ext cx="1258560" cy="3573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8200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总结归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由本诗看出，怀古诗一般是先写————，后抒发作者的——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怀古诗是以————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————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————为题材，借登高望远、咏叹史实、怀念古迹来达到感慨兴衰、寄托哀思、托古讽今等目的。这类诗的特点是多写————，且多用—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1413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历史史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1413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情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206064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历史事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37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历史人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27082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文物古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292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古人往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501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典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0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课堂总结与板书设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34136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573360"/>
            <a:ext cx="43560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怀古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点：王濬灭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面：人世几回伤往事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4720" y="3470400"/>
            <a:ext cx="4174920" cy="340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感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兴亡的决定因素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人事而非地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渴望四海统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反对藩镇割据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2520" y="765000"/>
            <a:ext cx="257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西 塞 山 怀 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155736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禹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91280" y="0"/>
            <a:ext cx="38527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80000" y="22766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6068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000" y="3068640"/>
            <a:ext cx="76676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隶书"/>
              </a:rPr>
              <a:t>谢谢大家合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5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刘禹锡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(772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～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842)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，字梦得，中唐文学家、哲学家。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805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年，参加“永贞革新”。因为宦官、藩镇的强烈反对，革新失败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刘禹锡初贬为连州（今广东连县）刺史，行至江陵，再贬朗州（今湖南常德）司马。同时被贬为司马的共八人，史称“八司马”。他被贬谪长达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22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年， 但却始终不屈。在诗歌创作方面，刘禹锡生前与白居易齐名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世称“刘白”。白居易则称他为“诗豪”。他的诗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风格雄豪苍劲，传诵之作极多。他的怀古诗语言平易，寄寓深远，被奉为“咏史大家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49920" y="0"/>
            <a:ext cx="2494080" cy="386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860640"/>
            <a:ext cx="2484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、 太康元年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28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）晋武帝命王濬率领高大战船组成的水军，顺江而下，讨伐东吴。东吴的亡国之君孙皓，凭借长江天险，并在江中暗置铁锥，再加以千寻铁链横锁江面，自以为是万全之计，谁知王濬用大筏数十，冲走铁锥，以火炬烧毁铁链，结果顺流鼓棹，径造（直往）三山，直取金陵。</a:t>
            </a:r>
            <a:r>
              <a:rPr b="0" lang="zh-CN" sz="11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背景链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197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唐宪宗时期，唐王朝取得了几次平定藩镇割据战争的胜利，国家又出现了比较统一的局面。但这种景象只是昙花一现，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821——822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年河北三镇又恢复了割据局面。总的来看，诗人所处的时代是一个朝廷昏暗、权贵荒淫、宦官专权、藩镇割据、危机四伏的时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68120" y="259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西塞山怀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9800" y="47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刘禹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03640" y="1125000"/>
            <a:ext cx="1183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王濬楼船下益州，金陵王气黯然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千寻铁锁沉江底，一片降幡出石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人世几回伤往事，山形依旧枕寒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今逢四海为家日，故垒萧萧芦荻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6068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3673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解题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西塞山，在今湖北大冶东面的长江边，形势险峻，是六朝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六朝古都、十朝都会指南京。六朝古都，是指东吴、东晋、南朝的宋、齐、梁、陈六个政权曾在南京建都；十朝都会，则是除了前述六个政权外，还有南唐、明初、太平天国、民国时期把南京作为首都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名的军事要塞。唐穆宗长庆四年（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824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），刘禹锡自夔州调往和州（今安徽和县）任刺史。他在赴任途中，经过西塞山时写了这首诗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how_im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221000"/>
            <a:ext cx="5076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268280"/>
            <a:ext cx="558000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晋代王濬乘楼船自成都东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金陵帝王瑞气全都黯然收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吴国千寻铁链也被烧沉江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一片投降白旗金陵城头悬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人间有几回兴亡的伤心往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高山依旧枕着寒流没有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从此四海一家过着太平日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故垒萧条长满芦荻秋风飒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260280"/>
            <a:ext cx="292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华文新魏"/>
              </a:rPr>
              <a:t>诗歌大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80000" y="1371600"/>
            <a:ext cx="356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>
            <a:grayscl/>
          </a:blip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40120" y="258840"/>
            <a:ext cx="314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王濬楼船下益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金陵王气黯然收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1:28:01Z</dcterms:created>
  <dc:creator>xzc</dc:creator>
  <dc:description/>
  <dc:language>en-US</dc:language>
  <cp:lastModifiedBy>zmj</cp:lastModifiedBy>
  <dcterms:modified xsi:type="dcterms:W3CDTF">2009-03-13T06:46:23Z</dcterms:modified>
  <cp:revision>34</cp:revision>
  <dc:subject/>
  <dc:title>PowerPoint 演示文稿</dc:title>
</cp:coreProperties>
</file>