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8.jpeg" ContentType="image/jpe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gif" ContentType="image/gif"/>
  <Override PartName="/ppt/media/image32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37.gif" ContentType="image/gif"/>
  <Override PartName="/ppt/media/image42.png" ContentType="image/png"/>
  <Override PartName="/ppt/media/image41.png" ContentType="image/pn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3.png" ContentType="image/png"/>
  <Override PartName="/ppt/media/image20.png" ContentType="image/png"/>
  <Override PartName="/ppt/media/image36.jpeg" ContentType="image/jpeg"/>
  <Override PartName="/ppt/media/image11.png" ContentType="image/png"/>
  <Override PartName="/ppt/media/image48.png" ContentType="image/png"/>
  <Override PartName="/ppt/media/image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26.png"/><Relationship Id="rId4" Type="http://schemas.openxmlformats.org/officeDocument/2006/relationships/hyperlink" Target="file:///&#23567;&#27611;&#34411;.wmv" TargetMode="External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gif"/><Relationship Id="rId17" Type="http://schemas.openxmlformats.org/officeDocument/2006/relationships/image" Target="../media/image24.gif"/><Relationship Id="rId18" Type="http://schemas.openxmlformats.org/officeDocument/2006/relationships/image" Target="../media/image24.gif"/><Relationship Id="rId19" Type="http://schemas.openxmlformats.org/officeDocument/2006/relationships/image" Target="../media/image23.gif"/><Relationship Id="rId20" Type="http://schemas.openxmlformats.org/officeDocument/2006/relationships/image" Target="../media/image24.gif"/><Relationship Id="rId21" Type="http://schemas.openxmlformats.org/officeDocument/2006/relationships/image" Target="../media/image23.gif"/><Relationship Id="rId22" Type="http://schemas.openxmlformats.org/officeDocument/2006/relationships/image" Target="../media/image24.gif"/><Relationship Id="rId23" Type="http://schemas.openxmlformats.org/officeDocument/2006/relationships/image" Target="../media/image24.gif"/><Relationship Id="rId24" Type="http://schemas.openxmlformats.org/officeDocument/2006/relationships/image" Target="../media/image23.gif"/><Relationship Id="rId25" Type="http://schemas.openxmlformats.org/officeDocument/2006/relationships/image" Target="../media/image24.gif"/><Relationship Id="rId26" Type="http://schemas.openxmlformats.org/officeDocument/2006/relationships/image" Target="../media/image23.gif"/><Relationship Id="rId27" Type="http://schemas.openxmlformats.org/officeDocument/2006/relationships/image" Target="../media/image23.gif"/><Relationship Id="rId28" Type="http://schemas.openxmlformats.org/officeDocument/2006/relationships/image" Target="../media/image23.gif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3"/>
          <p:cNvGrpSpPr/>
          <p:nvPr/>
        </p:nvGrpSpPr>
        <p:grpSpPr>
          <a:xfrm>
            <a:off x="826920" y="1276200"/>
            <a:ext cx="7239240" cy="2857680"/>
            <a:chOff x="826920" y="1276200"/>
            <a:chExt cx="7239240" cy="2857680"/>
          </a:xfrm>
        </p:grpSpPr>
        <p:sp>
          <p:nvSpPr>
            <p:cNvPr id="73" name="任意多边形: 形状 2"/>
            <p:cNvSpPr/>
            <p:nvPr/>
          </p:nvSpPr>
          <p:spPr>
            <a:xfrm>
              <a:off x="1115640" y="1276200"/>
              <a:ext cx="6950520" cy="2857680"/>
            </a:xfrm>
            <a:custGeom>
              <a:avLst/>
              <a:gdLst/>
              <a:ahLst/>
              <a:rect l="l" t="t" r="r" b="b"/>
              <a:pathLst>
                <a:path w="6950665" h="2857939">
                  <a:moveTo>
                    <a:pt x="315918" y="518777"/>
                  </a:moveTo>
                  <a:lnTo>
                    <a:pt x="315918" y="518777"/>
                  </a:lnTo>
                  <a:cubicBezTo>
                    <a:pt x="325369" y="495149"/>
                    <a:pt x="331040" y="469631"/>
                    <a:pt x="344272" y="447893"/>
                  </a:cubicBezTo>
                  <a:cubicBezTo>
                    <a:pt x="352804" y="433876"/>
                    <a:pt x="412068" y="352543"/>
                    <a:pt x="443509" y="327391"/>
                  </a:cubicBezTo>
                  <a:cubicBezTo>
                    <a:pt x="464094" y="310923"/>
                    <a:pt x="503482" y="287421"/>
                    <a:pt x="528569" y="277772"/>
                  </a:cubicBezTo>
                  <a:cubicBezTo>
                    <a:pt x="544624" y="271597"/>
                    <a:pt x="561747" y="268654"/>
                    <a:pt x="578188" y="263595"/>
                  </a:cubicBezTo>
                  <a:cubicBezTo>
                    <a:pt x="592471" y="259200"/>
                    <a:pt x="606279" y="253269"/>
                    <a:pt x="620718" y="249419"/>
                  </a:cubicBezTo>
                  <a:cubicBezTo>
                    <a:pt x="641767" y="243806"/>
                    <a:pt x="663741" y="241802"/>
                    <a:pt x="684514" y="235242"/>
                  </a:cubicBezTo>
                  <a:cubicBezTo>
                    <a:pt x="708781" y="227579"/>
                    <a:pt x="730601" y="212610"/>
                    <a:pt x="755397" y="206888"/>
                  </a:cubicBezTo>
                  <a:cubicBezTo>
                    <a:pt x="789341" y="199055"/>
                    <a:pt x="903045" y="189600"/>
                    <a:pt x="946783" y="185623"/>
                  </a:cubicBezTo>
                  <a:cubicBezTo>
                    <a:pt x="968048" y="180897"/>
                    <a:pt x="988796" y="171625"/>
                    <a:pt x="1010579" y="171446"/>
                  </a:cubicBezTo>
                  <a:cubicBezTo>
                    <a:pt x="1725659" y="165585"/>
                    <a:pt x="1554109" y="146355"/>
                    <a:pt x="1868272" y="185623"/>
                  </a:cubicBezTo>
                  <a:cubicBezTo>
                    <a:pt x="1877723" y="190349"/>
                    <a:pt x="1886504" y="196764"/>
                    <a:pt x="1896625" y="199800"/>
                  </a:cubicBezTo>
                  <a:cubicBezTo>
                    <a:pt x="1923866" y="207972"/>
                    <a:pt x="1937301" y="202418"/>
                    <a:pt x="1960420" y="213977"/>
                  </a:cubicBezTo>
                  <a:cubicBezTo>
                    <a:pt x="1968040" y="217787"/>
                    <a:pt x="1974066" y="224343"/>
                    <a:pt x="1981686" y="228153"/>
                  </a:cubicBezTo>
                  <a:cubicBezTo>
                    <a:pt x="2061191" y="267905"/>
                    <a:pt x="1928081" y="190435"/>
                    <a:pt x="2031304" y="249419"/>
                  </a:cubicBezTo>
                  <a:cubicBezTo>
                    <a:pt x="2038701" y="253646"/>
                    <a:pt x="2044592" y="260604"/>
                    <a:pt x="2052569" y="263595"/>
                  </a:cubicBezTo>
                  <a:cubicBezTo>
                    <a:pt x="2060500" y="266569"/>
                    <a:pt x="2125757" y="276975"/>
                    <a:pt x="2130541" y="277772"/>
                  </a:cubicBezTo>
                  <a:cubicBezTo>
                    <a:pt x="2175434" y="275409"/>
                    <a:pt x="2220449" y="274754"/>
                    <a:pt x="2265220" y="270684"/>
                  </a:cubicBezTo>
                  <a:cubicBezTo>
                    <a:pt x="2272661" y="270007"/>
                    <a:pt x="2279490" y="266219"/>
                    <a:pt x="2286486" y="263595"/>
                  </a:cubicBezTo>
                  <a:cubicBezTo>
                    <a:pt x="2339929" y="243554"/>
                    <a:pt x="2303744" y="256721"/>
                    <a:pt x="2350281" y="235242"/>
                  </a:cubicBezTo>
                  <a:cubicBezTo>
                    <a:pt x="2425104" y="200708"/>
                    <a:pt x="2394083" y="209744"/>
                    <a:pt x="2463695" y="199800"/>
                  </a:cubicBezTo>
                  <a:cubicBezTo>
                    <a:pt x="2480235" y="192712"/>
                    <a:pt x="2496932" y="185981"/>
                    <a:pt x="2513314" y="178535"/>
                  </a:cubicBezTo>
                  <a:cubicBezTo>
                    <a:pt x="2552965" y="160512"/>
                    <a:pt x="2540124" y="161365"/>
                    <a:pt x="2591286" y="143093"/>
                  </a:cubicBezTo>
                  <a:cubicBezTo>
                    <a:pt x="2607485" y="137308"/>
                    <a:pt x="2624658" y="134567"/>
                    <a:pt x="2640904" y="128916"/>
                  </a:cubicBezTo>
                  <a:cubicBezTo>
                    <a:pt x="2787069" y="78076"/>
                    <a:pt x="2707269" y="93107"/>
                    <a:pt x="2803937" y="79298"/>
                  </a:cubicBezTo>
                  <a:cubicBezTo>
                    <a:pt x="2818114" y="72209"/>
                    <a:pt x="2831038" y="61662"/>
                    <a:pt x="2846467" y="58032"/>
                  </a:cubicBezTo>
                  <a:cubicBezTo>
                    <a:pt x="2871871" y="52054"/>
                    <a:pt x="2898485" y="53676"/>
                    <a:pt x="2924439" y="50944"/>
                  </a:cubicBezTo>
                  <a:cubicBezTo>
                    <a:pt x="2943384" y="48950"/>
                    <a:pt x="2962244" y="46219"/>
                    <a:pt x="2981146" y="43856"/>
                  </a:cubicBezTo>
                  <a:cubicBezTo>
                    <a:pt x="3192748" y="-40786"/>
                    <a:pt x="3027190" y="20192"/>
                    <a:pt x="3590746" y="36767"/>
                  </a:cubicBezTo>
                  <a:cubicBezTo>
                    <a:pt x="3640568" y="38232"/>
                    <a:pt x="3739602" y="50944"/>
                    <a:pt x="3739602" y="50944"/>
                  </a:cubicBezTo>
                  <a:cubicBezTo>
                    <a:pt x="3753779" y="55670"/>
                    <a:pt x="3767763" y="61016"/>
                    <a:pt x="3782132" y="65121"/>
                  </a:cubicBezTo>
                  <a:cubicBezTo>
                    <a:pt x="3800866" y="70474"/>
                    <a:pt x="3820242" y="73486"/>
                    <a:pt x="3838839" y="79298"/>
                  </a:cubicBezTo>
                  <a:cubicBezTo>
                    <a:pt x="3858108" y="85320"/>
                    <a:pt x="3876277" y="94542"/>
                    <a:pt x="3895546" y="100563"/>
                  </a:cubicBezTo>
                  <a:cubicBezTo>
                    <a:pt x="3914143" y="106374"/>
                    <a:pt x="3933656" y="108927"/>
                    <a:pt x="3952253" y="114739"/>
                  </a:cubicBezTo>
                  <a:cubicBezTo>
                    <a:pt x="4083906" y="155881"/>
                    <a:pt x="3957610" y="123168"/>
                    <a:pt x="4037314" y="143093"/>
                  </a:cubicBezTo>
                  <a:cubicBezTo>
                    <a:pt x="4044402" y="150181"/>
                    <a:pt x="4050422" y="158531"/>
                    <a:pt x="4058579" y="164358"/>
                  </a:cubicBezTo>
                  <a:cubicBezTo>
                    <a:pt x="4067177" y="170500"/>
                    <a:pt x="4077758" y="173292"/>
                    <a:pt x="4086932" y="178535"/>
                  </a:cubicBezTo>
                  <a:cubicBezTo>
                    <a:pt x="4125405" y="200520"/>
                    <a:pt x="4090475" y="186805"/>
                    <a:pt x="4129462" y="199800"/>
                  </a:cubicBezTo>
                  <a:cubicBezTo>
                    <a:pt x="4138913" y="213977"/>
                    <a:pt x="4152428" y="226166"/>
                    <a:pt x="4157816" y="242330"/>
                  </a:cubicBezTo>
                  <a:cubicBezTo>
                    <a:pt x="4160179" y="249418"/>
                    <a:pt x="4160237" y="257761"/>
                    <a:pt x="4164904" y="263595"/>
                  </a:cubicBezTo>
                  <a:cubicBezTo>
                    <a:pt x="4177142" y="278893"/>
                    <a:pt x="4197496" y="280604"/>
                    <a:pt x="4214523" y="284860"/>
                  </a:cubicBezTo>
                  <a:cubicBezTo>
                    <a:pt x="4226359" y="284452"/>
                    <a:pt x="4419072" y="283028"/>
                    <a:pt x="4483881" y="270684"/>
                  </a:cubicBezTo>
                  <a:cubicBezTo>
                    <a:pt x="4512591" y="265216"/>
                    <a:pt x="4540231" y="254888"/>
                    <a:pt x="4568941" y="249419"/>
                  </a:cubicBezTo>
                  <a:cubicBezTo>
                    <a:pt x="4607481" y="242078"/>
                    <a:pt x="4722741" y="236705"/>
                    <a:pt x="4746151" y="235242"/>
                  </a:cubicBezTo>
                  <a:lnTo>
                    <a:pt x="5554225" y="249419"/>
                  </a:lnTo>
                  <a:cubicBezTo>
                    <a:pt x="5563964" y="249667"/>
                    <a:pt x="5573180" y="253944"/>
                    <a:pt x="5582579" y="256507"/>
                  </a:cubicBezTo>
                  <a:cubicBezTo>
                    <a:pt x="5675170" y="281759"/>
                    <a:pt x="5593488" y="258689"/>
                    <a:pt x="5667639" y="284860"/>
                  </a:cubicBezTo>
                  <a:cubicBezTo>
                    <a:pt x="5695823" y="294807"/>
                    <a:pt x="5724346" y="303763"/>
                    <a:pt x="5752700" y="313214"/>
                  </a:cubicBezTo>
                  <a:lnTo>
                    <a:pt x="5773965" y="320302"/>
                  </a:lnTo>
                  <a:lnTo>
                    <a:pt x="5816495" y="334479"/>
                  </a:lnTo>
                  <a:cubicBezTo>
                    <a:pt x="5894986" y="397272"/>
                    <a:pt x="5858024" y="383847"/>
                    <a:pt x="5915732" y="398274"/>
                  </a:cubicBezTo>
                  <a:cubicBezTo>
                    <a:pt x="5941292" y="500522"/>
                    <a:pt x="5894894" y="316254"/>
                    <a:pt x="5936997" y="476246"/>
                  </a:cubicBezTo>
                  <a:cubicBezTo>
                    <a:pt x="5944435" y="504510"/>
                    <a:pt x="5946749" y="534444"/>
                    <a:pt x="5958262" y="561307"/>
                  </a:cubicBezTo>
                  <a:cubicBezTo>
                    <a:pt x="5961787" y="569532"/>
                    <a:pt x="5992457" y="581646"/>
                    <a:pt x="6000793" y="582572"/>
                  </a:cubicBezTo>
                  <a:cubicBezTo>
                    <a:pt x="6036096" y="586494"/>
                    <a:pt x="6071676" y="587297"/>
                    <a:pt x="6107118" y="589660"/>
                  </a:cubicBezTo>
                  <a:cubicBezTo>
                    <a:pt x="6121295" y="594386"/>
                    <a:pt x="6135335" y="599543"/>
                    <a:pt x="6149648" y="603837"/>
                  </a:cubicBezTo>
                  <a:cubicBezTo>
                    <a:pt x="6158979" y="606637"/>
                    <a:pt x="6168760" y="607845"/>
                    <a:pt x="6178002" y="610926"/>
                  </a:cubicBezTo>
                  <a:cubicBezTo>
                    <a:pt x="6215070" y="623282"/>
                    <a:pt x="6218370" y="629012"/>
                    <a:pt x="6255974" y="646367"/>
                  </a:cubicBezTo>
                  <a:cubicBezTo>
                    <a:pt x="6274772" y="655043"/>
                    <a:pt x="6313300" y="669421"/>
                    <a:pt x="6333946" y="681809"/>
                  </a:cubicBezTo>
                  <a:cubicBezTo>
                    <a:pt x="6348556" y="690575"/>
                    <a:pt x="6361518" y="702004"/>
                    <a:pt x="6376476" y="710163"/>
                  </a:cubicBezTo>
                  <a:cubicBezTo>
                    <a:pt x="6387646" y="716256"/>
                    <a:pt x="6400795" y="718160"/>
                    <a:pt x="6411918" y="724339"/>
                  </a:cubicBezTo>
                  <a:cubicBezTo>
                    <a:pt x="6471070" y="757201"/>
                    <a:pt x="6409841" y="737997"/>
                    <a:pt x="6468625" y="752693"/>
                  </a:cubicBezTo>
                  <a:cubicBezTo>
                    <a:pt x="6505568" y="774858"/>
                    <a:pt x="6505907" y="772910"/>
                    <a:pt x="6539509" y="802312"/>
                  </a:cubicBezTo>
                  <a:cubicBezTo>
                    <a:pt x="6547053" y="808913"/>
                    <a:pt x="6553163" y="817053"/>
                    <a:pt x="6560774" y="823577"/>
                  </a:cubicBezTo>
                  <a:cubicBezTo>
                    <a:pt x="6569744" y="831265"/>
                    <a:pt x="6580346" y="836939"/>
                    <a:pt x="6589127" y="844842"/>
                  </a:cubicBezTo>
                  <a:cubicBezTo>
                    <a:pt x="6695588" y="940656"/>
                    <a:pt x="6575833" y="842711"/>
                    <a:pt x="6667100" y="915726"/>
                  </a:cubicBezTo>
                  <a:cubicBezTo>
                    <a:pt x="6672616" y="932274"/>
                    <a:pt x="6685305" y="966722"/>
                    <a:pt x="6688365" y="986609"/>
                  </a:cubicBezTo>
                  <a:cubicBezTo>
                    <a:pt x="6691618" y="1007756"/>
                    <a:pt x="6692279" y="1029246"/>
                    <a:pt x="6695453" y="1050405"/>
                  </a:cubicBezTo>
                  <a:cubicBezTo>
                    <a:pt x="6699372" y="1076530"/>
                    <a:pt x="6704449" y="1102473"/>
                    <a:pt x="6709630" y="1128377"/>
                  </a:cubicBezTo>
                  <a:cubicBezTo>
                    <a:pt x="6711541" y="1137930"/>
                    <a:pt x="6715116" y="1147121"/>
                    <a:pt x="6716718" y="1156730"/>
                  </a:cubicBezTo>
                  <a:cubicBezTo>
                    <a:pt x="6719850" y="1175520"/>
                    <a:pt x="6721444" y="1194535"/>
                    <a:pt x="6723807" y="1213437"/>
                  </a:cubicBezTo>
                  <a:cubicBezTo>
                    <a:pt x="6721444" y="1265418"/>
                    <a:pt x="6722683" y="1317689"/>
                    <a:pt x="6716718" y="1369381"/>
                  </a:cubicBezTo>
                  <a:cubicBezTo>
                    <a:pt x="6715507" y="1379878"/>
                    <a:pt x="6705883" y="1387710"/>
                    <a:pt x="6702541" y="1397735"/>
                  </a:cubicBezTo>
                  <a:cubicBezTo>
                    <a:pt x="6698731" y="1409165"/>
                    <a:pt x="6698623" y="1421554"/>
                    <a:pt x="6695453" y="1433177"/>
                  </a:cubicBezTo>
                  <a:cubicBezTo>
                    <a:pt x="6683774" y="1476001"/>
                    <a:pt x="6686605" y="1467713"/>
                    <a:pt x="6667100" y="1496972"/>
                  </a:cubicBezTo>
                  <a:cubicBezTo>
                    <a:pt x="6654795" y="1558491"/>
                    <a:pt x="6650367" y="1565067"/>
                    <a:pt x="6667100" y="1652916"/>
                  </a:cubicBezTo>
                  <a:cubicBezTo>
                    <a:pt x="6669311" y="1664521"/>
                    <a:pt x="6679395" y="1673581"/>
                    <a:pt x="6688365" y="1681270"/>
                  </a:cubicBezTo>
                  <a:cubicBezTo>
                    <a:pt x="6699510" y="1690823"/>
                    <a:pt x="6723588" y="1697736"/>
                    <a:pt x="6737983" y="1702535"/>
                  </a:cubicBezTo>
                  <a:cubicBezTo>
                    <a:pt x="6749797" y="1711986"/>
                    <a:pt x="6762117" y="1720837"/>
                    <a:pt x="6773425" y="1730888"/>
                  </a:cubicBezTo>
                  <a:cubicBezTo>
                    <a:pt x="6824995" y="1776728"/>
                    <a:pt x="6779700" y="1744522"/>
                    <a:pt x="6823044" y="1773419"/>
                  </a:cubicBezTo>
                  <a:cubicBezTo>
                    <a:pt x="6845076" y="1839517"/>
                    <a:pt x="6806766" y="1729708"/>
                    <a:pt x="6851397" y="1830126"/>
                  </a:cubicBezTo>
                  <a:cubicBezTo>
                    <a:pt x="6855354" y="1839028"/>
                    <a:pt x="6854868" y="1849434"/>
                    <a:pt x="6858486" y="1858479"/>
                  </a:cubicBezTo>
                  <a:cubicBezTo>
                    <a:pt x="6864373" y="1873195"/>
                    <a:pt x="6873655" y="1886378"/>
                    <a:pt x="6879751" y="1901009"/>
                  </a:cubicBezTo>
                  <a:cubicBezTo>
                    <a:pt x="6913447" y="1981881"/>
                    <a:pt x="6872258" y="1907426"/>
                    <a:pt x="6915193" y="1978981"/>
                  </a:cubicBezTo>
                  <a:cubicBezTo>
                    <a:pt x="6917556" y="1990795"/>
                    <a:pt x="6920126" y="2002569"/>
                    <a:pt x="6922281" y="2014423"/>
                  </a:cubicBezTo>
                  <a:cubicBezTo>
                    <a:pt x="6924852" y="2028563"/>
                    <a:pt x="6926251" y="2042923"/>
                    <a:pt x="6929369" y="2056953"/>
                  </a:cubicBezTo>
                  <a:cubicBezTo>
                    <a:pt x="6930990" y="2064247"/>
                    <a:pt x="6934095" y="2071130"/>
                    <a:pt x="6936458" y="2078219"/>
                  </a:cubicBezTo>
                  <a:cubicBezTo>
                    <a:pt x="6938821" y="2104210"/>
                    <a:pt x="6940309" y="2130295"/>
                    <a:pt x="6943546" y="2156191"/>
                  </a:cubicBezTo>
                  <a:cubicBezTo>
                    <a:pt x="6945040" y="2168146"/>
                    <a:pt x="6951157" y="2179596"/>
                    <a:pt x="6950634" y="2191632"/>
                  </a:cubicBezTo>
                  <a:cubicBezTo>
                    <a:pt x="6948353" y="2244092"/>
                    <a:pt x="6945260" y="2310050"/>
                    <a:pt x="6922281" y="2361753"/>
                  </a:cubicBezTo>
                  <a:cubicBezTo>
                    <a:pt x="6918821" y="2369538"/>
                    <a:pt x="6912619" y="2375795"/>
                    <a:pt x="6908104" y="2383019"/>
                  </a:cubicBezTo>
                  <a:cubicBezTo>
                    <a:pt x="6886159" y="2418130"/>
                    <a:pt x="6882558" y="2434216"/>
                    <a:pt x="6844309" y="2460991"/>
                  </a:cubicBezTo>
                  <a:cubicBezTo>
                    <a:pt x="6836328" y="2466578"/>
                    <a:pt x="6825406" y="2465716"/>
                    <a:pt x="6815955" y="2468079"/>
                  </a:cubicBezTo>
                  <a:cubicBezTo>
                    <a:pt x="6794690" y="2479893"/>
                    <a:pt x="6774247" y="2493327"/>
                    <a:pt x="6752160" y="2503521"/>
                  </a:cubicBezTo>
                  <a:cubicBezTo>
                    <a:pt x="6743315" y="2507603"/>
                    <a:pt x="6732929" y="2507188"/>
                    <a:pt x="6723807" y="2510609"/>
                  </a:cubicBezTo>
                  <a:cubicBezTo>
                    <a:pt x="6713913" y="2514319"/>
                    <a:pt x="6705384" y="2521175"/>
                    <a:pt x="6695453" y="2524786"/>
                  </a:cubicBezTo>
                  <a:cubicBezTo>
                    <a:pt x="6657324" y="2538651"/>
                    <a:pt x="6614153" y="2545299"/>
                    <a:pt x="6574951" y="2553139"/>
                  </a:cubicBezTo>
                  <a:cubicBezTo>
                    <a:pt x="6544725" y="2568252"/>
                    <a:pt x="6525571" y="2579066"/>
                    <a:pt x="6489890" y="2588581"/>
                  </a:cubicBezTo>
                  <a:cubicBezTo>
                    <a:pt x="6473747" y="2592886"/>
                    <a:pt x="6456710" y="2592681"/>
                    <a:pt x="6440272" y="2595670"/>
                  </a:cubicBezTo>
                  <a:cubicBezTo>
                    <a:pt x="6399003" y="2603174"/>
                    <a:pt x="6418734" y="2604599"/>
                    <a:pt x="6369388" y="2616935"/>
                  </a:cubicBezTo>
                  <a:cubicBezTo>
                    <a:pt x="6346847" y="2622570"/>
                    <a:pt x="6289719" y="2628316"/>
                    <a:pt x="6270151" y="2631112"/>
                  </a:cubicBezTo>
                  <a:cubicBezTo>
                    <a:pt x="6255923" y="2633145"/>
                    <a:pt x="6241797" y="2635837"/>
                    <a:pt x="6227620" y="2638200"/>
                  </a:cubicBezTo>
                  <a:cubicBezTo>
                    <a:pt x="6218169" y="2642926"/>
                    <a:pt x="6209673" y="2650541"/>
                    <a:pt x="6199267" y="2652377"/>
                  </a:cubicBezTo>
                  <a:cubicBezTo>
                    <a:pt x="6130613" y="2664492"/>
                    <a:pt x="6126504" y="2650640"/>
                    <a:pt x="6078765" y="2666553"/>
                  </a:cubicBezTo>
                  <a:cubicBezTo>
                    <a:pt x="6066694" y="2670577"/>
                    <a:pt x="6055394" y="2676706"/>
                    <a:pt x="6043323" y="2680730"/>
                  </a:cubicBezTo>
                  <a:cubicBezTo>
                    <a:pt x="6034081" y="2683811"/>
                    <a:pt x="6024336" y="2685143"/>
                    <a:pt x="6014969" y="2687819"/>
                  </a:cubicBezTo>
                  <a:cubicBezTo>
                    <a:pt x="6007785" y="2689872"/>
                    <a:pt x="6000912" y="2692941"/>
                    <a:pt x="5993704" y="2694907"/>
                  </a:cubicBezTo>
                  <a:cubicBezTo>
                    <a:pt x="5974906" y="2700034"/>
                    <a:pt x="5955088" y="2701848"/>
                    <a:pt x="5936997" y="2709084"/>
                  </a:cubicBezTo>
                  <a:cubicBezTo>
                    <a:pt x="5925183" y="2713809"/>
                    <a:pt x="5913716" y="2719518"/>
                    <a:pt x="5901555" y="2723260"/>
                  </a:cubicBezTo>
                  <a:cubicBezTo>
                    <a:pt x="5882932" y="2728990"/>
                    <a:pt x="5863445" y="2731625"/>
                    <a:pt x="5844848" y="2737437"/>
                  </a:cubicBezTo>
                  <a:cubicBezTo>
                    <a:pt x="5711012" y="2779261"/>
                    <a:pt x="5770799" y="2768505"/>
                    <a:pt x="5667639" y="2779967"/>
                  </a:cubicBezTo>
                  <a:cubicBezTo>
                    <a:pt x="5648737" y="2787055"/>
                    <a:pt x="5630845" y="2797913"/>
                    <a:pt x="5610932" y="2801232"/>
                  </a:cubicBezTo>
                  <a:cubicBezTo>
                    <a:pt x="5573569" y="2807459"/>
                    <a:pt x="5535266" y="2805175"/>
                    <a:pt x="5497518" y="2808321"/>
                  </a:cubicBezTo>
                  <a:cubicBezTo>
                    <a:pt x="5478534" y="2809903"/>
                    <a:pt x="5459693" y="2812891"/>
                    <a:pt x="5440811" y="2815409"/>
                  </a:cubicBezTo>
                  <a:cubicBezTo>
                    <a:pt x="5424250" y="2817617"/>
                    <a:pt x="5407519" y="2818949"/>
                    <a:pt x="5391193" y="2822498"/>
                  </a:cubicBezTo>
                  <a:cubicBezTo>
                    <a:pt x="5353114" y="2830776"/>
                    <a:pt x="5316661" y="2848259"/>
                    <a:pt x="5277779" y="2850851"/>
                  </a:cubicBezTo>
                  <a:lnTo>
                    <a:pt x="5171453" y="2857939"/>
                  </a:lnTo>
                  <a:lnTo>
                    <a:pt x="4136551" y="2836674"/>
                  </a:lnTo>
                  <a:cubicBezTo>
                    <a:pt x="4101734" y="2833009"/>
                    <a:pt x="4064962" y="2827460"/>
                    <a:pt x="4030225" y="2822498"/>
                  </a:cubicBezTo>
                  <a:cubicBezTo>
                    <a:pt x="4006597" y="2813047"/>
                    <a:pt x="3983307" y="2802703"/>
                    <a:pt x="3959341" y="2794144"/>
                  </a:cubicBezTo>
                  <a:cubicBezTo>
                    <a:pt x="3950167" y="2790867"/>
                    <a:pt x="3940143" y="2790385"/>
                    <a:pt x="3930988" y="2787056"/>
                  </a:cubicBezTo>
                  <a:cubicBezTo>
                    <a:pt x="3914077" y="2780907"/>
                    <a:pt x="3898544" y="2771158"/>
                    <a:pt x="3881369" y="2765791"/>
                  </a:cubicBezTo>
                  <a:cubicBezTo>
                    <a:pt x="3860577" y="2759293"/>
                    <a:pt x="3838622" y="2757227"/>
                    <a:pt x="3817574" y="2751614"/>
                  </a:cubicBezTo>
                  <a:cubicBezTo>
                    <a:pt x="3803135" y="2747764"/>
                    <a:pt x="3789784" y="2739894"/>
                    <a:pt x="3775044" y="2737437"/>
                  </a:cubicBezTo>
                  <a:cubicBezTo>
                    <a:pt x="3716034" y="2727602"/>
                    <a:pt x="3746742" y="2732382"/>
                    <a:pt x="3682895" y="2723260"/>
                  </a:cubicBezTo>
                  <a:lnTo>
                    <a:pt x="3463155" y="2737437"/>
                  </a:lnTo>
                  <a:cubicBezTo>
                    <a:pt x="3452732" y="2739174"/>
                    <a:pt x="3444962" y="2748711"/>
                    <a:pt x="3434802" y="2751614"/>
                  </a:cubicBezTo>
                  <a:cubicBezTo>
                    <a:pt x="3411633" y="2758234"/>
                    <a:pt x="3387397" y="2760373"/>
                    <a:pt x="3363918" y="2765791"/>
                  </a:cubicBezTo>
                  <a:cubicBezTo>
                    <a:pt x="3241751" y="2793983"/>
                    <a:pt x="3303200" y="2784638"/>
                    <a:pt x="3179620" y="2794144"/>
                  </a:cubicBezTo>
                  <a:lnTo>
                    <a:pt x="2754318" y="2787056"/>
                  </a:lnTo>
                  <a:cubicBezTo>
                    <a:pt x="2697451" y="2785025"/>
                    <a:pt x="2640867" y="2778031"/>
                    <a:pt x="2584197" y="2772879"/>
                  </a:cubicBezTo>
                  <a:cubicBezTo>
                    <a:pt x="2562889" y="2770942"/>
                    <a:pt x="2541536" y="2769128"/>
                    <a:pt x="2520402" y="2765791"/>
                  </a:cubicBezTo>
                  <a:cubicBezTo>
                    <a:pt x="2496601" y="2762033"/>
                    <a:pt x="2473347" y="2755188"/>
                    <a:pt x="2449518" y="2751614"/>
                  </a:cubicBezTo>
                  <a:cubicBezTo>
                    <a:pt x="2426035" y="2748092"/>
                    <a:pt x="2402235" y="2747148"/>
                    <a:pt x="2378634" y="2744526"/>
                  </a:cubicBezTo>
                  <a:cubicBezTo>
                    <a:pt x="2255909" y="2730890"/>
                    <a:pt x="2294889" y="2737701"/>
                    <a:pt x="2222690" y="2723260"/>
                  </a:cubicBezTo>
                  <a:cubicBezTo>
                    <a:pt x="2213239" y="2718535"/>
                    <a:pt x="2204361" y="2712425"/>
                    <a:pt x="2194337" y="2709084"/>
                  </a:cubicBezTo>
                  <a:cubicBezTo>
                    <a:pt x="2175853" y="2702923"/>
                    <a:pt x="2137630" y="2694907"/>
                    <a:pt x="2137630" y="2694907"/>
                  </a:cubicBezTo>
                  <a:cubicBezTo>
                    <a:pt x="2110564" y="2674608"/>
                    <a:pt x="2101103" y="2664871"/>
                    <a:pt x="2066746" y="2652377"/>
                  </a:cubicBezTo>
                  <a:cubicBezTo>
                    <a:pt x="2055423" y="2648260"/>
                    <a:pt x="2042779" y="2648960"/>
                    <a:pt x="2031304" y="2645288"/>
                  </a:cubicBezTo>
                  <a:cubicBezTo>
                    <a:pt x="1983620" y="2630029"/>
                    <a:pt x="1937221" y="2610929"/>
                    <a:pt x="1889537" y="2595670"/>
                  </a:cubicBezTo>
                  <a:cubicBezTo>
                    <a:pt x="1878062" y="2591998"/>
                    <a:pt x="1865635" y="2592043"/>
                    <a:pt x="1854095" y="2588581"/>
                  </a:cubicBezTo>
                  <a:cubicBezTo>
                    <a:pt x="1759176" y="2560106"/>
                    <a:pt x="1896230" y="2590810"/>
                    <a:pt x="1761946" y="2546051"/>
                  </a:cubicBezTo>
                  <a:cubicBezTo>
                    <a:pt x="1754858" y="2543688"/>
                    <a:pt x="1747483" y="2542055"/>
                    <a:pt x="1740681" y="2538963"/>
                  </a:cubicBezTo>
                  <a:cubicBezTo>
                    <a:pt x="1709078" y="2524598"/>
                    <a:pt x="1676821" y="2502675"/>
                    <a:pt x="1641444" y="2496432"/>
                  </a:cubicBezTo>
                  <a:cubicBezTo>
                    <a:pt x="1615743" y="2491897"/>
                    <a:pt x="1589463" y="2491707"/>
                    <a:pt x="1563472" y="2489344"/>
                  </a:cubicBezTo>
                  <a:cubicBezTo>
                    <a:pt x="1487863" y="2491707"/>
                    <a:pt x="1412137" y="2491613"/>
                    <a:pt x="1336644" y="2496432"/>
                  </a:cubicBezTo>
                  <a:cubicBezTo>
                    <a:pt x="1280757" y="2499999"/>
                    <a:pt x="1144259" y="2526154"/>
                    <a:pt x="1095639" y="2531874"/>
                  </a:cubicBezTo>
                  <a:cubicBezTo>
                    <a:pt x="1060362" y="2536024"/>
                    <a:pt x="1024721" y="2536130"/>
                    <a:pt x="989314" y="2538963"/>
                  </a:cubicBezTo>
                  <a:cubicBezTo>
                    <a:pt x="965644" y="2540857"/>
                    <a:pt x="942058" y="2543688"/>
                    <a:pt x="918430" y="2546051"/>
                  </a:cubicBezTo>
                  <a:cubicBezTo>
                    <a:pt x="169769" y="2536201"/>
                    <a:pt x="560430" y="2605845"/>
                    <a:pt x="344272" y="2524786"/>
                  </a:cubicBezTo>
                  <a:cubicBezTo>
                    <a:pt x="337276" y="2522163"/>
                    <a:pt x="330003" y="2520321"/>
                    <a:pt x="323007" y="2517698"/>
                  </a:cubicBezTo>
                  <a:cubicBezTo>
                    <a:pt x="311308" y="2513311"/>
                    <a:pt x="271080" y="2497822"/>
                    <a:pt x="259211" y="2489344"/>
                  </a:cubicBezTo>
                  <a:cubicBezTo>
                    <a:pt x="251054" y="2483517"/>
                    <a:pt x="245557" y="2474603"/>
                    <a:pt x="237946" y="2468079"/>
                  </a:cubicBezTo>
                  <a:cubicBezTo>
                    <a:pt x="188965" y="2426095"/>
                    <a:pt x="226238" y="2471781"/>
                    <a:pt x="181239" y="2404284"/>
                  </a:cubicBezTo>
                  <a:cubicBezTo>
                    <a:pt x="158350" y="2335615"/>
                    <a:pt x="169260" y="2376826"/>
                    <a:pt x="181239" y="2227074"/>
                  </a:cubicBezTo>
                  <a:cubicBezTo>
                    <a:pt x="181835" y="2219626"/>
                    <a:pt x="184182" y="2212026"/>
                    <a:pt x="188327" y="2205809"/>
                  </a:cubicBezTo>
                  <a:cubicBezTo>
                    <a:pt x="219684" y="2158775"/>
                    <a:pt x="200576" y="2209665"/>
                    <a:pt x="223769" y="2163279"/>
                  </a:cubicBezTo>
                  <a:cubicBezTo>
                    <a:pt x="258446" y="2093924"/>
                    <a:pt x="219281" y="2155834"/>
                    <a:pt x="252123" y="2106572"/>
                  </a:cubicBezTo>
                  <a:cubicBezTo>
                    <a:pt x="276585" y="2033182"/>
                    <a:pt x="263875" y="2079713"/>
                    <a:pt x="252123" y="1915186"/>
                  </a:cubicBezTo>
                  <a:cubicBezTo>
                    <a:pt x="250898" y="1898032"/>
                    <a:pt x="236963" y="1865128"/>
                    <a:pt x="230858" y="1851391"/>
                  </a:cubicBezTo>
                  <a:cubicBezTo>
                    <a:pt x="226566" y="1841735"/>
                    <a:pt x="220606" y="1832848"/>
                    <a:pt x="216681" y="1823037"/>
                  </a:cubicBezTo>
                  <a:cubicBezTo>
                    <a:pt x="211131" y="1809162"/>
                    <a:pt x="209187" y="1793873"/>
                    <a:pt x="202504" y="1780507"/>
                  </a:cubicBezTo>
                  <a:cubicBezTo>
                    <a:pt x="194884" y="1765268"/>
                    <a:pt x="174151" y="1737977"/>
                    <a:pt x="174151" y="1737977"/>
                  </a:cubicBezTo>
                  <a:cubicBezTo>
                    <a:pt x="169425" y="1716712"/>
                    <a:pt x="164963" y="1695386"/>
                    <a:pt x="159974" y="1674181"/>
                  </a:cubicBezTo>
                  <a:cubicBezTo>
                    <a:pt x="155511" y="1655215"/>
                    <a:pt x="149183" y="1636662"/>
                    <a:pt x="145797" y="1617474"/>
                  </a:cubicBezTo>
                  <a:cubicBezTo>
                    <a:pt x="130037" y="1528167"/>
                    <a:pt x="151984" y="1580229"/>
                    <a:pt x="124532" y="1525326"/>
                  </a:cubicBezTo>
                  <a:cubicBezTo>
                    <a:pt x="122169" y="1513512"/>
                    <a:pt x="120754" y="1501468"/>
                    <a:pt x="117444" y="1489884"/>
                  </a:cubicBezTo>
                  <a:cubicBezTo>
                    <a:pt x="111286" y="1468331"/>
                    <a:pt x="103268" y="1447353"/>
                    <a:pt x="96179" y="1426088"/>
                  </a:cubicBezTo>
                  <a:cubicBezTo>
                    <a:pt x="93816" y="1419000"/>
                    <a:pt x="90902" y="1412072"/>
                    <a:pt x="89090" y="1404823"/>
                  </a:cubicBezTo>
                  <a:cubicBezTo>
                    <a:pt x="81734" y="1375397"/>
                    <a:pt x="77766" y="1353358"/>
                    <a:pt x="67825" y="1326851"/>
                  </a:cubicBezTo>
                  <a:cubicBezTo>
                    <a:pt x="63357" y="1314937"/>
                    <a:pt x="58816" y="1303036"/>
                    <a:pt x="53648" y="1291409"/>
                  </a:cubicBezTo>
                  <a:cubicBezTo>
                    <a:pt x="49357" y="1281753"/>
                    <a:pt x="43396" y="1272867"/>
                    <a:pt x="39472" y="1263056"/>
                  </a:cubicBezTo>
                  <a:cubicBezTo>
                    <a:pt x="14167" y="1199792"/>
                    <a:pt x="38392" y="1240173"/>
                    <a:pt x="11118" y="1199260"/>
                  </a:cubicBezTo>
                  <a:cubicBezTo>
                    <a:pt x="-1824" y="1134550"/>
                    <a:pt x="-5477" y="1131652"/>
                    <a:pt x="11118" y="1036228"/>
                  </a:cubicBezTo>
                  <a:cubicBezTo>
                    <a:pt x="16100" y="1007581"/>
                    <a:pt x="38241" y="999330"/>
                    <a:pt x="53648" y="979521"/>
                  </a:cubicBezTo>
                  <a:cubicBezTo>
                    <a:pt x="64109" y="966072"/>
                    <a:pt x="82002" y="936991"/>
                    <a:pt x="82002" y="936991"/>
                  </a:cubicBezTo>
                  <a:cubicBezTo>
                    <a:pt x="97206" y="891377"/>
                    <a:pt x="77171" y="940918"/>
                    <a:pt x="110355" y="894460"/>
                  </a:cubicBezTo>
                  <a:cubicBezTo>
                    <a:pt x="134943" y="860037"/>
                    <a:pt x="116192" y="875698"/>
                    <a:pt x="131620" y="844842"/>
                  </a:cubicBezTo>
                  <a:cubicBezTo>
                    <a:pt x="135430" y="837222"/>
                    <a:pt x="142337" y="831362"/>
                    <a:pt x="145797" y="823577"/>
                  </a:cubicBezTo>
                  <a:cubicBezTo>
                    <a:pt x="145802" y="823565"/>
                    <a:pt x="163516" y="770420"/>
                    <a:pt x="167062" y="759781"/>
                  </a:cubicBezTo>
                  <a:cubicBezTo>
                    <a:pt x="169425" y="752693"/>
                    <a:pt x="170007" y="744733"/>
                    <a:pt x="174151" y="738516"/>
                  </a:cubicBezTo>
                  <a:cubicBezTo>
                    <a:pt x="214783" y="677565"/>
                    <a:pt x="166064" y="754688"/>
                    <a:pt x="195416" y="695986"/>
                  </a:cubicBezTo>
                  <a:cubicBezTo>
                    <a:pt x="199226" y="688366"/>
                    <a:pt x="204867" y="681809"/>
                    <a:pt x="209593" y="674721"/>
                  </a:cubicBezTo>
                  <a:cubicBezTo>
                    <a:pt x="211956" y="667633"/>
                    <a:pt x="214628" y="660640"/>
                    <a:pt x="216681" y="653456"/>
                  </a:cubicBezTo>
                  <a:cubicBezTo>
                    <a:pt x="219357" y="644089"/>
                    <a:pt x="219931" y="634056"/>
                    <a:pt x="223769" y="625102"/>
                  </a:cubicBezTo>
                  <a:cubicBezTo>
                    <a:pt x="227125" y="617272"/>
                    <a:pt x="233220" y="610925"/>
                    <a:pt x="237946" y="603837"/>
                  </a:cubicBezTo>
                  <a:lnTo>
                    <a:pt x="259211" y="540042"/>
                  </a:lnTo>
                  <a:cubicBezTo>
                    <a:pt x="261574" y="532954"/>
                    <a:pt x="259617" y="522119"/>
                    <a:pt x="266300" y="518777"/>
                  </a:cubicBezTo>
                  <a:lnTo>
                    <a:pt x="315918" y="518777"/>
                  </a:lnTo>
                  <a:close/>
                </a:path>
              </a:pathLst>
            </a:cu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15"/>
            <p:cNvSpPr/>
            <p:nvPr/>
          </p:nvSpPr>
          <p:spPr>
            <a:xfrm>
              <a:off x="826920" y="1636200"/>
              <a:ext cx="7057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长相俊俏，爱舞爱跳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春花一开，它就来到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（打一昆虫名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组合 3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76" name="图片 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标题 1"/>
            <p:cNvSpPr/>
            <p:nvPr/>
          </p:nvSpPr>
          <p:spPr>
            <a:xfrm>
              <a:off x="6804360" y="456120"/>
              <a:ext cx="187128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蝴 蝶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979560" y="843120"/>
            <a:ext cx="462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半包围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右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下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64"/>
          <p:cNvSpPr/>
          <p:nvPr/>
        </p:nvSpPr>
        <p:spPr>
          <a:xfrm>
            <a:off x="3932280" y="110340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文本框 64"/>
          <p:cNvSpPr/>
          <p:nvPr/>
        </p:nvSpPr>
        <p:spPr>
          <a:xfrm>
            <a:off x="3421080" y="2048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64"/>
          <p:cNvSpPr/>
          <p:nvPr/>
        </p:nvSpPr>
        <p:spPr>
          <a:xfrm>
            <a:off x="4437000" y="2048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64"/>
          <p:cNvSpPr/>
          <p:nvPr/>
        </p:nvSpPr>
        <p:spPr>
          <a:xfrm>
            <a:off x="5452920" y="20480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64"/>
          <p:cNvSpPr/>
          <p:nvPr/>
        </p:nvSpPr>
        <p:spPr>
          <a:xfrm>
            <a:off x="6469200" y="204948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77"/>
          <p:cNvSpPr/>
          <p:nvPr/>
        </p:nvSpPr>
        <p:spPr>
          <a:xfrm>
            <a:off x="7485120" y="204804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64"/>
          <p:cNvSpPr/>
          <p:nvPr/>
        </p:nvSpPr>
        <p:spPr>
          <a:xfrm>
            <a:off x="3421080" y="300348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文本框 64"/>
          <p:cNvSpPr/>
          <p:nvPr/>
        </p:nvSpPr>
        <p:spPr>
          <a:xfrm>
            <a:off x="4437000" y="300348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楷体"/>
                <a:ea typeface="楷体"/>
              </a:rPr>
              <a:t>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2" descr=""/>
          <p:cNvPicPr/>
          <p:nvPr/>
        </p:nvPicPr>
        <p:blipFill>
          <a:blip r:embed="rId2"/>
          <a:stretch/>
        </p:blipFill>
        <p:spPr>
          <a:xfrm>
            <a:off x="2411280" y="1946160"/>
            <a:ext cx="3719520" cy="264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59520" y="2901960"/>
            <a:ext cx="1828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小毛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矩形 4"/>
          <p:cNvSpPr/>
          <p:nvPr/>
        </p:nvSpPr>
        <p:spPr>
          <a:xfrm>
            <a:off x="826920" y="120348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说课文的主人公是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: 圆角 15"/>
          <p:cNvSpPr/>
          <p:nvPr/>
        </p:nvSpPr>
        <p:spPr>
          <a:xfrm>
            <a:off x="4114800" y="2844720"/>
            <a:ext cx="1800360" cy="846360"/>
          </a:xfrm>
          <a:custGeom>
            <a:avLst/>
            <a:gdLst/>
            <a:ahLst/>
            <a:rect l="l" t="t" r="r" b="b"/>
            <a:pathLst>
              <a:path w="1800226" h="845416">
                <a:moveTo>
                  <a:pt x="83129" y="165150"/>
                </a:moveTo>
                <a:cubicBezTo>
                  <a:pt x="83129" y="119851"/>
                  <a:pt x="369232" y="6927"/>
                  <a:pt x="414531" y="6927"/>
                </a:cubicBezTo>
                <a:lnTo>
                  <a:pt x="1053185" y="0"/>
                </a:lnTo>
                <a:cubicBezTo>
                  <a:pt x="1185627" y="6247"/>
                  <a:pt x="1117002" y="5342"/>
                  <a:pt x="1229963" y="30558"/>
                </a:cubicBezTo>
                <a:cubicBezTo>
                  <a:pt x="1474543" y="48847"/>
                  <a:pt x="1635909" y="74183"/>
                  <a:pt x="1730953" y="151295"/>
                </a:cubicBezTo>
                <a:lnTo>
                  <a:pt x="1800226" y="493231"/>
                </a:lnTo>
                <a:cubicBezTo>
                  <a:pt x="1800226" y="538530"/>
                  <a:pt x="1521048" y="845416"/>
                  <a:pt x="1475749" y="845416"/>
                </a:cubicBezTo>
                <a:lnTo>
                  <a:pt x="407604" y="769216"/>
                </a:lnTo>
                <a:cubicBezTo>
                  <a:pt x="362305" y="769216"/>
                  <a:pt x="0" y="524675"/>
                  <a:pt x="0" y="479376"/>
                </a:cubicBezTo>
                <a:lnTo>
                  <a:pt x="83129" y="165150"/>
                </a:lnTo>
                <a:close/>
              </a:path>
            </a:pathLst>
          </a:cu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组合 20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422" name="Text Box 15" descr=""/>
            <p:cNvPicPr/>
            <p:nvPr/>
          </p:nvPicPr>
          <p:blipFill>
            <a:blip r:embed="rId3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图片 24" descr=""/>
            <p:cNvPicPr/>
            <p:nvPr/>
          </p:nvPicPr>
          <p:blipFill>
            <a:blip r:embed="rId4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4"/>
          <p:cNvSpPr/>
          <p:nvPr/>
        </p:nvSpPr>
        <p:spPr>
          <a:xfrm>
            <a:off x="395280" y="50976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毛虫经历了哪些变化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组合 9"/>
          <p:cNvGrpSpPr/>
          <p:nvPr/>
        </p:nvGrpSpPr>
        <p:grpSpPr>
          <a:xfrm>
            <a:off x="826920" y="2371680"/>
            <a:ext cx="2411640" cy="1712880"/>
            <a:chOff x="826920" y="2371680"/>
            <a:chExt cx="2411640" cy="1712880"/>
          </a:xfrm>
        </p:grpSpPr>
        <p:pic>
          <p:nvPicPr>
            <p:cNvPr id="426" name="图片 2" descr=""/>
            <p:cNvPicPr/>
            <p:nvPr/>
          </p:nvPicPr>
          <p:blipFill>
            <a:blip r:embed="rId2"/>
            <a:stretch/>
          </p:blipFill>
          <p:spPr>
            <a:xfrm>
              <a:off x="826920" y="2371680"/>
              <a:ext cx="241164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文本框 8"/>
            <p:cNvSpPr/>
            <p:nvPr/>
          </p:nvSpPr>
          <p:spPr>
            <a:xfrm>
              <a:off x="864000" y="2409120"/>
              <a:ext cx="682560" cy="1556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合 13"/>
          <p:cNvGrpSpPr/>
          <p:nvPr/>
        </p:nvGrpSpPr>
        <p:grpSpPr>
          <a:xfrm>
            <a:off x="3516480" y="2011320"/>
            <a:ext cx="2290680" cy="1711440"/>
            <a:chOff x="3516480" y="2011320"/>
            <a:chExt cx="2290680" cy="1711440"/>
          </a:xfrm>
        </p:grpSpPr>
        <p:pic>
          <p:nvPicPr>
            <p:cNvPr id="429" name="图片 4" descr=""/>
            <p:cNvPicPr/>
            <p:nvPr/>
          </p:nvPicPr>
          <p:blipFill>
            <a:blip r:embed="rId3"/>
            <a:stretch/>
          </p:blipFill>
          <p:spPr>
            <a:xfrm>
              <a:off x="3516480" y="2011320"/>
              <a:ext cx="2290680" cy="17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文本框 10"/>
            <p:cNvSpPr/>
            <p:nvPr/>
          </p:nvSpPr>
          <p:spPr>
            <a:xfrm>
              <a:off x="4733640" y="2100600"/>
              <a:ext cx="107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1" name="组合 12"/>
          <p:cNvGrpSpPr/>
          <p:nvPr/>
        </p:nvGrpSpPr>
        <p:grpSpPr>
          <a:xfrm>
            <a:off x="6084720" y="2409840"/>
            <a:ext cx="2374920" cy="1685880"/>
            <a:chOff x="6084720" y="2409840"/>
            <a:chExt cx="2374920" cy="1685880"/>
          </a:xfrm>
        </p:grpSpPr>
        <p:pic>
          <p:nvPicPr>
            <p:cNvPr id="432" name="图片 3" descr=""/>
            <p:cNvPicPr/>
            <p:nvPr/>
          </p:nvPicPr>
          <p:blipFill>
            <a:blip r:embed="rId4"/>
            <a:stretch/>
          </p:blipFill>
          <p:spPr>
            <a:xfrm>
              <a:off x="6084720" y="2409840"/>
              <a:ext cx="237492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文本框 11"/>
            <p:cNvSpPr/>
            <p:nvPr/>
          </p:nvSpPr>
          <p:spPr>
            <a:xfrm>
              <a:off x="6263640" y="2444040"/>
              <a:ext cx="688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蝴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楷体"/>
                  <a:ea typeface="楷体"/>
                </a:rPr>
                <a:t>蝶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空心弧 14"/>
          <p:cNvSpPr/>
          <p:nvPr/>
        </p:nvSpPr>
        <p:spPr>
          <a:xfrm>
            <a:off x="1584360" y="1438200"/>
            <a:ext cx="5740200" cy="1575000"/>
          </a:xfrm>
          <a:custGeom>
            <a:avLst/>
            <a:gdLst/>
            <a:ahLst/>
            <a:rect l="l" t="t" r="r" b="b"/>
            <a:pathLst>
              <a:path w="5740400" h="1574800">
                <a:moveTo>
                  <a:pt x="0" y="787400"/>
                </a:moveTo>
                <a:cubicBezTo>
                  <a:pt x="0" y="352531"/>
                  <a:pt x="1285032" y="0"/>
                  <a:pt x="2870200" y="0"/>
                </a:cubicBezTo>
                <a:cubicBezTo>
                  <a:pt x="4455368" y="0"/>
                  <a:pt x="5740400" y="352531"/>
                  <a:pt x="5740400" y="787400"/>
                </a:cubicBezTo>
                <a:cubicBezTo>
                  <a:pt x="5740400" y="796986"/>
                  <a:pt x="5739776" y="806531"/>
                  <a:pt x="5738554" y="815910"/>
                </a:cubicBezTo>
                <a:lnTo>
                  <a:pt x="5663602" y="815153"/>
                </a:lnTo>
                <a:cubicBezTo>
                  <a:pt x="5665024" y="805954"/>
                  <a:pt x="5665722" y="796698"/>
                  <a:pt x="5665722" y="787400"/>
                </a:cubicBezTo>
                <a:cubicBezTo>
                  <a:pt x="5665722" y="393775"/>
                  <a:pt x="4414124" y="74678"/>
                  <a:pt x="2870200" y="74678"/>
                </a:cubicBezTo>
                <a:cubicBezTo>
                  <a:pt x="1326276" y="74678"/>
                  <a:pt x="74678" y="393775"/>
                  <a:pt x="74678" y="787400"/>
                </a:cubicBez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图片 10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36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500040" y="1227240"/>
            <a:ext cx="8032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课文，说说这是一只怎样的小毛虫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组合 20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439" name="Text Box 15" descr=""/>
            <p:cNvPicPr/>
            <p:nvPr/>
          </p:nvPicPr>
          <p:blipFill>
            <a:blip r:embed="rId3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图片 24" descr=""/>
            <p:cNvPicPr/>
            <p:nvPr/>
          </p:nvPicPr>
          <p:blipFill>
            <a:blip r:embed="rId4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6"/>
          <p:cNvSpPr/>
          <p:nvPr/>
        </p:nvSpPr>
        <p:spPr>
          <a:xfrm>
            <a:off x="611280" y="700200"/>
            <a:ext cx="806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条小毛虫趴在一片叶子上，用新奇的目光打量着周围的一切：大大小小的昆虫又是唱，又是跳，跑的跑，飞的飞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到处生机勃勃。只有它，这个可怜的小毛虫，既不会唱，也不会跑，更不会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文本框 4"/>
          <p:cNvSpPr/>
          <p:nvPr/>
        </p:nvSpPr>
        <p:spPr>
          <a:xfrm>
            <a:off x="1763640" y="39974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生机勃勃：充满活力的样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: 圆角 7"/>
          <p:cNvSpPr/>
          <p:nvPr/>
        </p:nvSpPr>
        <p:spPr>
          <a:xfrm>
            <a:off x="4800600" y="2717640"/>
            <a:ext cx="241308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文本框 28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文本框 33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34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45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46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47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51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文本框 68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文本框 69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0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4"/>
          <p:cNvGrpSpPr/>
          <p:nvPr/>
        </p:nvGrpSpPr>
        <p:grpSpPr>
          <a:xfrm>
            <a:off x="844560" y="819000"/>
            <a:ext cx="2108160" cy="1188000"/>
            <a:chOff x="844560" y="819000"/>
            <a:chExt cx="2108160" cy="1188000"/>
          </a:xfrm>
        </p:grpSpPr>
        <p:sp>
          <p:nvSpPr>
            <p:cNvPr id="545" name="椭圆 7"/>
            <p:cNvSpPr/>
            <p:nvPr/>
          </p:nvSpPr>
          <p:spPr>
            <a:xfrm>
              <a:off x="844560" y="819000"/>
              <a:ext cx="2108160" cy="118800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892800" y="894600"/>
              <a:ext cx="201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大大小小的昆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组合 17"/>
          <p:cNvGrpSpPr/>
          <p:nvPr/>
        </p:nvGrpSpPr>
        <p:grpSpPr>
          <a:xfrm>
            <a:off x="685800" y="2155680"/>
            <a:ext cx="2678040" cy="2173320"/>
            <a:chOff x="685800" y="2155680"/>
            <a:chExt cx="2678040" cy="2173320"/>
          </a:xfrm>
        </p:grpSpPr>
        <p:sp>
          <p:nvSpPr>
            <p:cNvPr id="548" name="矩形: 圆角 8"/>
            <p:cNvSpPr/>
            <p:nvPr/>
          </p:nvSpPr>
          <p:spPr>
            <a:xfrm>
              <a:off x="685800" y="2155680"/>
              <a:ext cx="2424240" cy="2173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 Box 6"/>
            <p:cNvSpPr/>
            <p:nvPr/>
          </p:nvSpPr>
          <p:spPr>
            <a:xfrm>
              <a:off x="795960" y="2260800"/>
              <a:ext cx="256788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又是唱，又是跳，跑的跑，飞的飞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组合 15"/>
          <p:cNvGrpSpPr/>
          <p:nvPr/>
        </p:nvGrpSpPr>
        <p:grpSpPr>
          <a:xfrm>
            <a:off x="6249960" y="819000"/>
            <a:ext cx="2058840" cy="1187640"/>
            <a:chOff x="6249960" y="819000"/>
            <a:chExt cx="2058840" cy="1187640"/>
          </a:xfrm>
        </p:grpSpPr>
        <p:sp>
          <p:nvSpPr>
            <p:cNvPr id="551" name="椭圆 9"/>
            <p:cNvSpPr/>
            <p:nvPr/>
          </p:nvSpPr>
          <p:spPr>
            <a:xfrm>
              <a:off x="6249960" y="819000"/>
              <a:ext cx="2058840" cy="1187640"/>
            </a:xfrm>
            <a:prstGeom prst="ellips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 Box 6"/>
            <p:cNvSpPr/>
            <p:nvPr/>
          </p:nvSpPr>
          <p:spPr>
            <a:xfrm>
              <a:off x="6383880" y="1017000"/>
              <a:ext cx="165996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小毛虫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组合 16"/>
          <p:cNvGrpSpPr/>
          <p:nvPr/>
        </p:nvGrpSpPr>
        <p:grpSpPr>
          <a:xfrm>
            <a:off x="6084720" y="2211480"/>
            <a:ext cx="2632320" cy="2117520"/>
            <a:chOff x="6084720" y="2211480"/>
            <a:chExt cx="2632320" cy="2117520"/>
          </a:xfrm>
        </p:grpSpPr>
        <p:sp>
          <p:nvSpPr>
            <p:cNvPr id="554" name="矩形: 圆角 10"/>
            <p:cNvSpPr/>
            <p:nvPr/>
          </p:nvSpPr>
          <p:spPr>
            <a:xfrm>
              <a:off x="6084720" y="2211480"/>
              <a:ext cx="2397600" cy="211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Text Box 6"/>
            <p:cNvSpPr/>
            <p:nvPr/>
          </p:nvSpPr>
          <p:spPr>
            <a:xfrm>
              <a:off x="6319800" y="2269440"/>
              <a:ext cx="2397240" cy="13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既不会唱，也不会跑，更不会飞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6" name="文本框 20"/>
          <p:cNvSpPr/>
          <p:nvPr/>
        </p:nvSpPr>
        <p:spPr>
          <a:xfrm>
            <a:off x="3949560" y="57312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7" name="直接箭头连接符 22"/>
          <p:cNvCxnSpPr/>
          <p:nvPr/>
        </p:nvCxnSpPr>
        <p:spPr>
          <a:xfrm>
            <a:off x="3034800" y="1347480"/>
            <a:ext cx="3133080" cy="1080"/>
          </a:xfrm>
          <a:prstGeom prst="straightConnector1">
            <a:avLst/>
          </a:prstGeom>
          <a:ln w="38160">
            <a:solidFill>
              <a:srgbClr val="f692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8" name="Text Box 6"/>
          <p:cNvSpPr/>
          <p:nvPr/>
        </p:nvSpPr>
        <p:spPr>
          <a:xfrm>
            <a:off x="3249720" y="1779480"/>
            <a:ext cx="2695320" cy="7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突出了小毛虫的可怜，为下文它不悲观失望作铺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16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21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2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3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34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35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文本框 39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56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57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58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826920" y="1131840"/>
            <a:ext cx="7417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毛虫费了九牛二虎之力，才挪动了一点点。当它笨拙地从一片叶子爬到另一片叶子上时，它觉得自己仿佛周游了整个世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: 圆角 2"/>
          <p:cNvSpPr/>
          <p:nvPr/>
        </p:nvSpPr>
        <p:spPr>
          <a:xfrm>
            <a:off x="3732120" y="1881360"/>
            <a:ext cx="9111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1"/>
          <p:cNvSpPr/>
          <p:nvPr/>
        </p:nvSpPr>
        <p:spPr>
          <a:xfrm>
            <a:off x="3732120" y="1225440"/>
            <a:ext cx="2568600" cy="5698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7"/>
          <p:cNvSpPr/>
          <p:nvPr/>
        </p:nvSpPr>
        <p:spPr>
          <a:xfrm>
            <a:off x="3133800" y="547560"/>
            <a:ext cx="42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形容很大的力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900000" y="3940200"/>
            <a:ext cx="7704360" cy="7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小毛虫动作笨拙，更突出了它的可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6" descr=""/>
          <p:cNvPicPr/>
          <p:nvPr/>
        </p:nvPicPr>
        <p:blipFill>
          <a:blip r:embed="rId3"/>
          <a:stretch/>
        </p:blipFill>
        <p:spPr>
          <a:xfrm>
            <a:off x="0" y="612720"/>
            <a:ext cx="9144000" cy="20163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6"/>
          <p:cNvSpPr/>
          <p:nvPr/>
        </p:nvSpPr>
        <p:spPr>
          <a:xfrm>
            <a:off x="826920" y="915840"/>
            <a:ext cx="6913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尽管如此，它并不悲观失望，也不羡慕任何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: 圆角 2"/>
          <p:cNvSpPr/>
          <p:nvPr/>
        </p:nvSpPr>
        <p:spPr>
          <a:xfrm>
            <a:off x="4586400" y="1038240"/>
            <a:ext cx="20397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: 圆角 3"/>
          <p:cNvSpPr/>
          <p:nvPr/>
        </p:nvSpPr>
        <p:spPr>
          <a:xfrm>
            <a:off x="920880" y="1673280"/>
            <a:ext cx="242712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3635280" y="1658880"/>
            <a:ext cx="4392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乐观自信、积极向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矩形 4"/>
          <p:cNvSpPr/>
          <p:nvPr/>
        </p:nvSpPr>
        <p:spPr>
          <a:xfrm>
            <a:off x="250920" y="762120"/>
            <a:ext cx="8497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读课文，说说小毛虫觉得自己最要紧的事情是什么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684360" y="221472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它懂得：每个人都有自己该做的事情。它，一条小小的毛虫，眼前最要紧的是学会抽丝纺织，为自己编织一间牢固的茧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684360" y="221472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它懂得：每个人都有自己该做的事情。它，一条小小的毛虫，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眼前最要紧的是学会抽丝纺织，为自己编织一间牢固的茧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4"/>
          <p:cNvSpPr/>
          <p:nvPr/>
        </p:nvSpPr>
        <p:spPr>
          <a:xfrm>
            <a:off x="250920" y="627120"/>
            <a:ext cx="8497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毛虫是如何做自己觉得最要紧的事情呢？你觉得它还是一只怎样的小毛虫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200016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毛虫一刻也没有迟疑，尽心竭力地工作着。它织啊，织啊，最后把自己从头到脚裹进了温暖的茧屋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1193760" y="4003560"/>
            <a:ext cx="7004160" cy="7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不怕困难，为了实现目标不懈努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: 圆角 5"/>
          <p:cNvSpPr/>
          <p:nvPr/>
        </p:nvSpPr>
        <p:spPr>
          <a:xfrm>
            <a:off x="2793960" y="2111400"/>
            <a:ext cx="293040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: 圆角 6"/>
          <p:cNvSpPr/>
          <p:nvPr/>
        </p:nvSpPr>
        <p:spPr>
          <a:xfrm>
            <a:off x="5940360" y="2109960"/>
            <a:ext cx="180036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6"/>
          <p:cNvSpPr/>
          <p:nvPr/>
        </p:nvSpPr>
        <p:spPr>
          <a:xfrm>
            <a:off x="728640" y="981000"/>
            <a:ext cx="7848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蝴蝶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全世界大约有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4000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。蝴蝶一般色彩鲜艳，翅膀和身体有各种花斑，头部有一对棍棒状或锤状触角。蝴蝶一生具有四个明显不同的发育阶段：卵期；幼虫期（毛毛虫）；蛹期；成虫期（蝴蝶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: 圆角 3"/>
          <p:cNvSpPr/>
          <p:nvPr/>
        </p:nvSpPr>
        <p:spPr>
          <a:xfrm>
            <a:off x="539640" y="981000"/>
            <a:ext cx="8136000" cy="3246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d5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4" descr=""/>
          <p:cNvPicPr/>
          <p:nvPr/>
        </p:nvPicPr>
        <p:blipFill>
          <a:blip r:embed="rId2"/>
          <a:stretch/>
        </p:blipFill>
        <p:spPr>
          <a:xfrm rot="20952000">
            <a:off x="339480" y="417600"/>
            <a:ext cx="93492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4"/>
          <p:cNvSpPr/>
          <p:nvPr/>
        </p:nvSpPr>
        <p:spPr>
          <a:xfrm>
            <a:off x="542880" y="62712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毛虫在茧屋里学到了什么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539640" y="1603440"/>
            <a:ext cx="7993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万事万物都有自己的规律！”小毛虫听到一个声音在回答，“你要耐心等待，以后会明白的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: 圆角 11"/>
          <p:cNvSpPr/>
          <p:nvPr/>
        </p:nvSpPr>
        <p:spPr>
          <a:xfrm>
            <a:off x="1835280" y="1698480"/>
            <a:ext cx="452592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: 圆角 4"/>
          <p:cNvSpPr/>
          <p:nvPr/>
        </p:nvSpPr>
        <p:spPr>
          <a:xfrm>
            <a:off x="5508720" y="2363760"/>
            <a:ext cx="208764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4"/>
          <p:cNvSpPr/>
          <p:nvPr/>
        </p:nvSpPr>
        <p:spPr>
          <a:xfrm>
            <a:off x="1217520" y="3728880"/>
            <a:ext cx="6426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是怎样理解这段话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5952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4427640" y="915840"/>
            <a:ext cx="4392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我懂得了万事万物都有自己的规律，要想成功，还必须有耐心，学会等待时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4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文本框 19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文本框 20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31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文本框 32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3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37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54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55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56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5" name="图片 5" descr=""/>
          <p:cNvPicPr/>
          <p:nvPr/>
        </p:nvPicPr>
        <p:blipFill>
          <a:blip r:embed="rId2"/>
          <a:stretch/>
        </p:blipFill>
        <p:spPr>
          <a:xfrm>
            <a:off x="6372360" y="746280"/>
            <a:ext cx="1655640" cy="771480"/>
          </a:xfrm>
          <a:prstGeom prst="rect">
            <a:avLst/>
          </a:prstGeom>
          <a:ln w="0">
            <a:noFill/>
          </a:ln>
        </p:spPr>
      </p:pic>
      <p:sp>
        <p:nvSpPr>
          <p:cNvPr id="786" name="矩形 4"/>
          <p:cNvSpPr/>
          <p:nvPr/>
        </p:nvSpPr>
        <p:spPr>
          <a:xfrm>
            <a:off x="539640" y="70020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毛虫是怎样变成蝴蝶的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539640" y="1603440"/>
            <a:ext cx="8136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时辰到了，它清醒了过来，再也不是以前那条笨手笨脚的小毛虫。它灵巧地从茧子里挣脱出来，惊奇地发现自己身上生出了一对轻盈的翅膀，上面布满色彩斑斓的花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: 圆角 4"/>
          <p:cNvSpPr/>
          <p:nvPr/>
        </p:nvSpPr>
        <p:spPr>
          <a:xfrm>
            <a:off x="1030320" y="2976480"/>
            <a:ext cx="863640" cy="49212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图片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1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791" name="矩形 4"/>
          <p:cNvSpPr/>
          <p:nvPr/>
        </p:nvSpPr>
        <p:spPr>
          <a:xfrm>
            <a:off x="1403280" y="2284560"/>
            <a:ext cx="6626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了这篇课文，你明白了什么道理呢？跟大家说一说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3" descr="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5191200"/>
          </a:xfrm>
          <a:prstGeom prst="rect">
            <a:avLst/>
          </a:prstGeom>
          <a:ln w="0">
            <a:noFill/>
          </a:ln>
        </p:spPr>
      </p:pic>
      <p:sp>
        <p:nvSpPr>
          <p:cNvPr id="793" name="矩形 4"/>
          <p:cNvSpPr/>
          <p:nvPr/>
        </p:nvSpPr>
        <p:spPr>
          <a:xfrm>
            <a:off x="2195640" y="484200"/>
            <a:ext cx="648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小毛虫的故事让我明白，我们千万不要因为自己暂时不如别人而自卑，要明白自己该干什么，并为心中的目标去努力，这样才会成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6"/>
          <p:cNvSpPr/>
          <p:nvPr/>
        </p:nvSpPr>
        <p:spPr>
          <a:xfrm>
            <a:off x="430200" y="652320"/>
            <a:ext cx="71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有的毛毛虫都能变成蝴蝶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430200" y="2727360"/>
            <a:ext cx="2448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鳞翅目昆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3076560" y="1893960"/>
            <a:ext cx="165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蛾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左大括号 1"/>
          <p:cNvSpPr/>
          <p:nvPr/>
        </p:nvSpPr>
        <p:spPr>
          <a:xfrm>
            <a:off x="2662200" y="2066760"/>
            <a:ext cx="287280" cy="204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0960 h 2043360"/>
              <a:gd name="textAreaBottom" fmla="*/ 2012400 h 204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8"/>
                  <a:pt x="10800" y="1056"/>
                </a:cubicBezTo>
                <a:lnTo>
                  <a:pt x="10800" y="9744"/>
                </a:lnTo>
                <a:cubicBezTo>
                  <a:pt x="10800" y="10272"/>
                  <a:pt x="5400" y="10800"/>
                  <a:pt x="0" y="10800"/>
                </a:cubicBezTo>
                <a:cubicBezTo>
                  <a:pt x="5400" y="10800"/>
                  <a:pt x="10800" y="11328"/>
                  <a:pt x="10800" y="11856"/>
                </a:cubicBezTo>
                <a:lnTo>
                  <a:pt x="10800" y="20544"/>
                </a:lnTo>
                <a:cubicBezTo>
                  <a:pt x="10800" y="2107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 Box 6"/>
          <p:cNvSpPr/>
          <p:nvPr/>
        </p:nvSpPr>
        <p:spPr>
          <a:xfrm>
            <a:off x="3071880" y="3589200"/>
            <a:ext cx="1512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蝴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4246560" y="1352520"/>
            <a:ext cx="4535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浑身上下都是毛的毛毛虫，有可能是灯蛾、枯叶蛾或毒蛾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4273560" y="3298680"/>
            <a:ext cx="45086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菜青虫，可以变成蝴蝶，叶菜粉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6"/>
          <p:cNvSpPr/>
          <p:nvPr/>
        </p:nvSpPr>
        <p:spPr>
          <a:xfrm>
            <a:off x="2417760" y="105876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小毛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23960" y="1889280"/>
            <a:ext cx="63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小毛虫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可怜  笨拙  不悲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左大括号 3"/>
          <p:cNvSpPr/>
          <p:nvPr/>
        </p:nvSpPr>
        <p:spPr>
          <a:xfrm>
            <a:off x="539640" y="2021040"/>
            <a:ext cx="274680" cy="2109600"/>
          </a:xfrm>
          <a:custGeom>
            <a:avLst/>
            <a:gdLst>
              <a:gd name="textAreaLeft" fmla="*/ 175680 w 274680"/>
              <a:gd name="textAreaRight" fmla="*/ 275040 w 274680"/>
              <a:gd name="textAreaTop" fmla="*/ 39960 h 2109600"/>
              <a:gd name="textAreaBottom" fmla="*/ 2069640 h 21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58"/>
                  <a:pt x="10800" y="1316"/>
                </a:cubicBezTo>
                <a:lnTo>
                  <a:pt x="10800" y="9484"/>
                </a:lnTo>
                <a:cubicBezTo>
                  <a:pt x="10800" y="10142"/>
                  <a:pt x="5400" y="10800"/>
                  <a:pt x="0" y="10800"/>
                </a:cubicBezTo>
                <a:cubicBezTo>
                  <a:pt x="5400" y="10800"/>
                  <a:pt x="10800" y="11458"/>
                  <a:pt x="10800" y="12116"/>
                </a:cubicBezTo>
                <a:lnTo>
                  <a:pt x="10800" y="20284"/>
                </a:lnTo>
                <a:cubicBezTo>
                  <a:pt x="10800" y="209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左大括号 4"/>
          <p:cNvSpPr/>
          <p:nvPr/>
        </p:nvSpPr>
        <p:spPr>
          <a:xfrm flipH="1">
            <a:off x="6186600" y="2021040"/>
            <a:ext cx="311040" cy="2165040"/>
          </a:xfrm>
          <a:custGeom>
            <a:avLst/>
            <a:gdLst>
              <a:gd name="textAreaLeft" fmla="*/ 199080 w 311040"/>
              <a:gd name="textAreaRight" fmla="*/ 311760 w 311040"/>
              <a:gd name="textAreaTop" fmla="*/ 45360 h 2165040"/>
              <a:gd name="textAreaBottom" fmla="*/ 2119680 h 216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27"/>
                  <a:pt x="10800" y="1453"/>
                </a:cubicBezTo>
                <a:lnTo>
                  <a:pt x="10800" y="9347"/>
                </a:lnTo>
                <a:cubicBezTo>
                  <a:pt x="10800" y="10074"/>
                  <a:pt x="5400" y="10800"/>
                  <a:pt x="0" y="10800"/>
                </a:cubicBezTo>
                <a:cubicBezTo>
                  <a:pt x="5400" y="10800"/>
                  <a:pt x="10800" y="11527"/>
                  <a:pt x="10800" y="12253"/>
                </a:cubicBezTo>
                <a:lnTo>
                  <a:pt x="10800" y="20147"/>
                </a:lnTo>
                <a:cubicBezTo>
                  <a:pt x="10800" y="2087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5"/>
          <p:cNvGrpSpPr/>
          <p:nvPr/>
        </p:nvGrpSpPr>
        <p:grpSpPr>
          <a:xfrm>
            <a:off x="6591240" y="2282760"/>
            <a:ext cx="2265480" cy="1585800"/>
            <a:chOff x="6591240" y="2282760"/>
            <a:chExt cx="2265480" cy="1585800"/>
          </a:xfrm>
        </p:grpSpPr>
        <p:sp>
          <p:nvSpPr>
            <p:cNvPr id="806" name="心形 6"/>
            <p:cNvSpPr/>
            <p:nvPr/>
          </p:nvSpPr>
          <p:spPr>
            <a:xfrm>
              <a:off x="6591240" y="2282760"/>
              <a:ext cx="2265480" cy="1585800"/>
            </a:xfrm>
            <a:custGeom>
              <a:avLst/>
              <a:gdLst/>
              <a:ahLst/>
              <a:rect l="l" t="t" r="r" b="b"/>
              <a:pathLst>
                <a:path w="2265371" h="1584176">
                  <a:moveTo>
                    <a:pt x="1132685" y="396044"/>
                  </a:moveTo>
                  <a:cubicBezTo>
                    <a:pt x="1604637" y="-528058"/>
                    <a:pt x="3445251" y="396044"/>
                    <a:pt x="1132685" y="1584176"/>
                  </a:cubicBezTo>
                  <a:cubicBezTo>
                    <a:pt x="-1179880" y="396044"/>
                    <a:pt x="660733" y="-528058"/>
                    <a:pt x="1132685" y="396044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Text Box 6"/>
            <p:cNvSpPr/>
            <p:nvPr/>
          </p:nvSpPr>
          <p:spPr>
            <a:xfrm>
              <a:off x="6787800" y="2395800"/>
              <a:ext cx="195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乐观向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收获成功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Text Box 6"/>
          <p:cNvSpPr/>
          <p:nvPr/>
        </p:nvSpPr>
        <p:spPr>
          <a:xfrm>
            <a:off x="1528920" y="270360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抽丝织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932040" y="3662280"/>
            <a:ext cx="57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蝴蝶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灵巧  轻盈  色彩斑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0" name="直接箭头连接符 10"/>
          <p:cNvCxnSpPr/>
          <p:nvPr/>
        </p:nvCxnSpPr>
        <p:spPr>
          <a:xfrm>
            <a:off x="1336320" y="2491920"/>
            <a:ext cx="1080" cy="10735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grpSp>
        <p:nvGrpSpPr>
          <p:cNvPr id="811" name="组合 11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812" name="Text Box 15" descr=""/>
            <p:cNvPicPr/>
            <p:nvPr/>
          </p:nvPicPr>
          <p:blipFill>
            <a:blip r:embed="rId2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13" descr=""/>
            <p:cNvPicPr/>
            <p:nvPr/>
          </p:nvPicPr>
          <p:blipFill>
            <a:blip r:embed="rId3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3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组合 15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815" name="Text Box 15" descr=""/>
            <p:cNvPicPr/>
            <p:nvPr/>
          </p:nvPicPr>
          <p:blipFill>
            <a:blip r:embed="rId2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17" descr=""/>
            <p:cNvPicPr/>
            <p:nvPr/>
          </p:nvPicPr>
          <p:blipFill>
            <a:blip r:embed="rId3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7" name="Text Box 6"/>
          <p:cNvSpPr/>
          <p:nvPr/>
        </p:nvSpPr>
        <p:spPr>
          <a:xfrm>
            <a:off x="1738440" y="1276200"/>
            <a:ext cx="5922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4"/>
              </a:rPr>
              <a:t>听故事，讲故事：小毛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图片 7" descr=""/>
          <p:cNvPicPr/>
          <p:nvPr/>
        </p:nvPicPr>
        <p:blipFill>
          <a:blip r:embed="rId5"/>
          <a:stretch/>
        </p:blipFill>
        <p:spPr>
          <a:xfrm>
            <a:off x="538200" y="2108160"/>
            <a:ext cx="3949560" cy="2859120"/>
          </a:xfrm>
          <a:prstGeom prst="rect">
            <a:avLst/>
          </a:prstGeom>
          <a:ln w="0">
            <a:noFill/>
          </a:ln>
        </p:spPr>
      </p:pic>
      <p:pic>
        <p:nvPicPr>
          <p:cNvPr id="819" name="小毛虫" descr=""/>
          <p:cNvPicPr/>
          <p:nvPr/>
        </p:nvPicPr>
        <p:blipFill>
          <a:blip r:embed="rId6"/>
          <a:stretch/>
        </p:blipFill>
        <p:spPr>
          <a:xfrm>
            <a:off x="4935600" y="2182680"/>
            <a:ext cx="36766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3" dur="1" fill="hold"/>
                                        <p:tgtEl>
                                          <p:spTgt spid="8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组合 2"/>
          <p:cNvGrpSpPr/>
          <p:nvPr/>
        </p:nvGrpSpPr>
        <p:grpSpPr>
          <a:xfrm>
            <a:off x="611280" y="1201680"/>
            <a:ext cx="8415360" cy="3494160"/>
            <a:chOff x="611280" y="1201680"/>
            <a:chExt cx="8415360" cy="3494160"/>
          </a:xfrm>
        </p:grpSpPr>
        <p:sp>
          <p:nvSpPr>
            <p:cNvPr id="821" name="文本框 14"/>
            <p:cNvSpPr/>
            <p:nvPr/>
          </p:nvSpPr>
          <p:spPr>
            <a:xfrm>
              <a:off x="611280" y="1201680"/>
              <a:ext cx="720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给下列多音字组词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Text Box 3"/>
            <p:cNvSpPr/>
            <p:nvPr/>
          </p:nvSpPr>
          <p:spPr>
            <a:xfrm>
              <a:off x="1220040" y="2394360"/>
              <a:ext cx="619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左大括号 32"/>
            <p:cNvSpPr/>
            <p:nvPr/>
          </p:nvSpPr>
          <p:spPr>
            <a:xfrm>
              <a:off x="1825560" y="2212920"/>
              <a:ext cx="215640" cy="9745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974520"/>
                <a:gd name="textAreaBottom" fmla="*/ 945360 h 9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43"/>
                    <a:pt x="10800" y="2086"/>
                  </a:cubicBezTo>
                  <a:lnTo>
                    <a:pt x="10800" y="8714"/>
                  </a:lnTo>
                  <a:cubicBezTo>
                    <a:pt x="10800" y="9757"/>
                    <a:pt x="5400" y="10800"/>
                    <a:pt x="0" y="10800"/>
                  </a:cubicBezTo>
                  <a:cubicBezTo>
                    <a:pt x="5400" y="10800"/>
                    <a:pt x="10800" y="11843"/>
                    <a:pt x="10800" y="12886"/>
                  </a:cubicBezTo>
                  <a:lnTo>
                    <a:pt x="10800" y="19514"/>
                  </a:lnTo>
                  <a:cubicBezTo>
                    <a:pt x="10800" y="2055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3"/>
            <p:cNvSpPr/>
            <p:nvPr/>
          </p:nvSpPr>
          <p:spPr>
            <a:xfrm>
              <a:off x="2067480" y="198360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fú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Text Box 3"/>
            <p:cNvSpPr/>
            <p:nvPr/>
          </p:nvSpPr>
          <p:spPr>
            <a:xfrm>
              <a:off x="2067480" y="266472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fó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Text Box 3"/>
            <p:cNvSpPr/>
            <p:nvPr/>
          </p:nvSpPr>
          <p:spPr>
            <a:xfrm>
              <a:off x="5234040" y="2383560"/>
              <a:ext cx="619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左大括号 18"/>
            <p:cNvSpPr/>
            <p:nvPr/>
          </p:nvSpPr>
          <p:spPr>
            <a:xfrm>
              <a:off x="5838840" y="2201760"/>
              <a:ext cx="215640" cy="9745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974520"/>
                <a:gd name="textAreaBottom" fmla="*/ 945360 h 9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43"/>
                    <a:pt x="10800" y="2086"/>
                  </a:cubicBezTo>
                  <a:lnTo>
                    <a:pt x="10800" y="8714"/>
                  </a:lnTo>
                  <a:cubicBezTo>
                    <a:pt x="10800" y="9757"/>
                    <a:pt x="5400" y="10800"/>
                    <a:pt x="0" y="10800"/>
                  </a:cubicBezTo>
                  <a:cubicBezTo>
                    <a:pt x="5400" y="10800"/>
                    <a:pt x="10800" y="11843"/>
                    <a:pt x="10800" y="12886"/>
                  </a:cubicBezTo>
                  <a:lnTo>
                    <a:pt x="10800" y="19514"/>
                  </a:lnTo>
                  <a:cubicBezTo>
                    <a:pt x="10800" y="20557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Text Box 3"/>
            <p:cNvSpPr/>
            <p:nvPr/>
          </p:nvSpPr>
          <p:spPr>
            <a:xfrm>
              <a:off x="6083640" y="195120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jǐn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Text Box 3"/>
            <p:cNvSpPr/>
            <p:nvPr/>
          </p:nvSpPr>
          <p:spPr>
            <a:xfrm>
              <a:off x="6087240" y="264672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jìn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"/>
            <p:cNvSpPr/>
            <p:nvPr/>
          </p:nvSpPr>
          <p:spPr>
            <a:xfrm>
              <a:off x="1195200" y="3769920"/>
              <a:ext cx="619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挣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左大括号 23"/>
            <p:cNvSpPr/>
            <p:nvPr/>
          </p:nvSpPr>
          <p:spPr>
            <a:xfrm>
              <a:off x="1800360" y="3632040"/>
              <a:ext cx="215640" cy="8856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9160 h 885600"/>
                <a:gd name="textAreaBottom" fmla="*/ 856440 h 8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148"/>
                    <a:pt x="10800" y="2295"/>
                  </a:cubicBezTo>
                  <a:lnTo>
                    <a:pt x="10800" y="8505"/>
                  </a:lnTo>
                  <a:cubicBezTo>
                    <a:pt x="10800" y="9653"/>
                    <a:pt x="5400" y="10800"/>
                    <a:pt x="0" y="10800"/>
                  </a:cubicBezTo>
                  <a:cubicBezTo>
                    <a:pt x="5400" y="10800"/>
                    <a:pt x="10800" y="11948"/>
                    <a:pt x="10800" y="13095"/>
                  </a:cubicBezTo>
                  <a:lnTo>
                    <a:pt x="10800" y="19305"/>
                  </a:lnTo>
                  <a:cubicBezTo>
                    <a:pt x="10800" y="2045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69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Text Box 3"/>
            <p:cNvSpPr/>
            <p:nvPr/>
          </p:nvSpPr>
          <p:spPr>
            <a:xfrm>
              <a:off x="2027160" y="338904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zhènɡ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"/>
            <p:cNvSpPr/>
            <p:nvPr/>
          </p:nvSpPr>
          <p:spPr>
            <a:xfrm>
              <a:off x="2044440" y="4017240"/>
              <a:ext cx="2939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zhēnɡ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     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文本框 38"/>
          <p:cNvSpPr/>
          <p:nvPr/>
        </p:nvSpPr>
        <p:spPr>
          <a:xfrm>
            <a:off x="2917800" y="1959120"/>
            <a:ext cx="1093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仿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5" name="组合 20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836" name="Text Box 15" descr=""/>
            <p:cNvPicPr/>
            <p:nvPr/>
          </p:nvPicPr>
          <p:blipFill>
            <a:blip r:embed="rId2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图片 22" descr=""/>
            <p:cNvPicPr/>
            <p:nvPr/>
          </p:nvPicPr>
          <p:blipFill>
            <a:blip r:embed="rId3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8" name="文本框 26"/>
          <p:cNvSpPr/>
          <p:nvPr/>
        </p:nvSpPr>
        <p:spPr>
          <a:xfrm>
            <a:off x="2922480" y="2631960"/>
            <a:ext cx="109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佛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文本框 27"/>
          <p:cNvSpPr/>
          <p:nvPr/>
        </p:nvSpPr>
        <p:spPr>
          <a:xfrm>
            <a:off x="7148520" y="1962000"/>
            <a:ext cx="1093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尽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28"/>
          <p:cNvSpPr/>
          <p:nvPr/>
        </p:nvSpPr>
        <p:spPr>
          <a:xfrm>
            <a:off x="7153200" y="2635200"/>
            <a:ext cx="109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尽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29"/>
          <p:cNvSpPr/>
          <p:nvPr/>
        </p:nvSpPr>
        <p:spPr>
          <a:xfrm>
            <a:off x="3492360" y="3348000"/>
            <a:ext cx="109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挣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30"/>
          <p:cNvSpPr/>
          <p:nvPr/>
        </p:nvSpPr>
        <p:spPr>
          <a:xfrm>
            <a:off x="3495600" y="4021200"/>
            <a:ext cx="109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挣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755640" y="915840"/>
            <a:ext cx="7848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破茧成蝶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指肉虫或者毛虫通过痛苦的挣扎和不懈地努力，化为蝴蝶的过程。现在用来指重获新生，走出困境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文本框 14"/>
          <p:cNvSpPr/>
          <p:nvPr/>
        </p:nvSpPr>
        <p:spPr>
          <a:xfrm>
            <a:off x="468360" y="484200"/>
            <a:ext cx="8064360" cy="25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按课文内容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毛毛虫用（     ）的目光（     ）着周围的一切。虽然毛毛虫动作（     ），但还是（        ）地抽丝织茧。因为它知道：不用（     ）别人，每个人都有自己该做的事情。过了些日子，毛毛虫从茧中挣脱出来，成了一只（        ）的蝴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 Box 3"/>
          <p:cNvSpPr/>
          <p:nvPr/>
        </p:nvSpPr>
        <p:spPr>
          <a:xfrm>
            <a:off x="3249720" y="12366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新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 Box 3"/>
          <p:cNvSpPr/>
          <p:nvPr/>
        </p:nvSpPr>
        <p:spPr>
          <a:xfrm>
            <a:off x="6300720" y="12366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打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 Box 3"/>
          <p:cNvSpPr/>
          <p:nvPr/>
        </p:nvSpPr>
        <p:spPr>
          <a:xfrm>
            <a:off x="6084720" y="180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笨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 Box 3"/>
          <p:cNvSpPr/>
          <p:nvPr/>
        </p:nvSpPr>
        <p:spPr>
          <a:xfrm>
            <a:off x="2031840" y="23893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尽心竭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3"/>
          <p:cNvSpPr/>
          <p:nvPr/>
        </p:nvSpPr>
        <p:spPr>
          <a:xfrm>
            <a:off x="2411280" y="2957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羡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4084560" y="41562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色彩斑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文本框 14"/>
          <p:cNvSpPr/>
          <p:nvPr/>
        </p:nvSpPr>
        <p:spPr>
          <a:xfrm>
            <a:off x="395280" y="5619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读一读，记一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14"/>
          <p:cNvSpPr/>
          <p:nvPr/>
        </p:nvSpPr>
        <p:spPr>
          <a:xfrm>
            <a:off x="1187280" y="115092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六字成语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九牛二虎之力   五十步笑百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过五关斩六将   百思不得其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可望而不可及   化干戈为玉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牛头不对马嘴   万变不离其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文本框 14"/>
          <p:cNvSpPr/>
          <p:nvPr/>
        </p:nvSpPr>
        <p:spPr>
          <a:xfrm>
            <a:off x="611280" y="555480"/>
            <a:ext cx="7993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词语搭配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新奇的目光    新奇的世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新奇的玩意</a:t>
            </a:r>
            <a:r>
              <a:rPr b="1" lang="en-US" sz="32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新奇的主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轻盈的翅膀    轻盈的舞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温暖的茧屋    温暖的春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温暖的双手    温暖的目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Text Box 15" descr=""/>
          <p:cNvPicPr/>
          <p:nvPr/>
        </p:nvPicPr>
        <p:blipFill>
          <a:blip r:embed="rId2"/>
          <a:stretch/>
        </p:blipFill>
        <p:spPr>
          <a:xfrm>
            <a:off x="2322360" y="393840"/>
            <a:ext cx="4011840" cy="84132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3"/>
          <p:cNvSpPr/>
          <p:nvPr/>
        </p:nvSpPr>
        <p:spPr>
          <a:xfrm>
            <a:off x="681120" y="1779480"/>
            <a:ext cx="81374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朗读指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本文是一篇语言优美的童话故事，在朗读时，用坚定、自信的语气来读小毛虫的心理活动和行动。用惊喜的语气来读最后一段小毛虫破茧成蝶的过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5" name="组合 1"/>
          <p:cNvGrpSpPr/>
          <p:nvPr/>
        </p:nvGrpSpPr>
        <p:grpSpPr>
          <a:xfrm>
            <a:off x="324000" y="1135080"/>
            <a:ext cx="7970760" cy="678600"/>
            <a:chOff x="324000" y="1135080"/>
            <a:chExt cx="7970760" cy="678600"/>
          </a:xfrm>
        </p:grpSpPr>
        <p:sp>
          <p:nvSpPr>
            <p:cNvPr id="856" name="TextBox 1"/>
            <p:cNvSpPr/>
            <p:nvPr/>
          </p:nvSpPr>
          <p:spPr>
            <a:xfrm>
              <a:off x="680400" y="1135080"/>
              <a:ext cx="76143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朗读课文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7" name="图片 5" descr=""/>
            <p:cNvPicPr/>
            <p:nvPr/>
          </p:nvPicPr>
          <p:blipFill>
            <a:blip r:embed="rId3"/>
            <a:stretch/>
          </p:blipFill>
          <p:spPr>
            <a:xfrm>
              <a:off x="324000" y="1272600"/>
              <a:ext cx="385200" cy="38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组合 4"/>
          <p:cNvGrpSpPr/>
          <p:nvPr/>
        </p:nvGrpSpPr>
        <p:grpSpPr>
          <a:xfrm>
            <a:off x="611280" y="484200"/>
            <a:ext cx="8039160" cy="678600"/>
            <a:chOff x="611280" y="484200"/>
            <a:chExt cx="8039160" cy="678600"/>
          </a:xfrm>
        </p:grpSpPr>
        <p:sp>
          <p:nvSpPr>
            <p:cNvPr id="859" name="TextBox 1"/>
            <p:cNvSpPr/>
            <p:nvPr/>
          </p:nvSpPr>
          <p:spPr>
            <a:xfrm>
              <a:off x="987120" y="484200"/>
              <a:ext cx="7663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小毛虫经历了哪些变化？画出相关词句，借助提示讲讲这个故事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0" name="图片 3" descr=""/>
            <p:cNvPicPr/>
            <p:nvPr/>
          </p:nvPicPr>
          <p:blipFill>
            <a:blip r:embed="rId2"/>
            <a:stretch/>
          </p:blipFill>
          <p:spPr>
            <a:xfrm>
              <a:off x="611280" y="609120"/>
              <a:ext cx="385560" cy="38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组合 20"/>
          <p:cNvGrpSpPr/>
          <p:nvPr/>
        </p:nvGrpSpPr>
        <p:grpSpPr>
          <a:xfrm>
            <a:off x="1488960" y="1924200"/>
            <a:ext cx="5891040" cy="2614320"/>
            <a:chOff x="1488960" y="1924200"/>
            <a:chExt cx="5891040" cy="2614320"/>
          </a:xfrm>
        </p:grpSpPr>
        <p:grpSp>
          <p:nvGrpSpPr>
            <p:cNvPr id="862" name="组合 4"/>
            <p:cNvGrpSpPr/>
            <p:nvPr/>
          </p:nvGrpSpPr>
          <p:grpSpPr>
            <a:xfrm>
              <a:off x="1573200" y="1924200"/>
              <a:ext cx="4870800" cy="797760"/>
              <a:chOff x="1573200" y="1924200"/>
              <a:chExt cx="4870800" cy="797760"/>
            </a:xfrm>
          </p:grpSpPr>
          <p:sp>
            <p:nvSpPr>
              <p:cNvPr id="863" name="对话气泡: 圆角矩形 2"/>
              <p:cNvSpPr/>
              <p:nvPr/>
            </p:nvSpPr>
            <p:spPr>
              <a:xfrm>
                <a:off x="1573200" y="1924200"/>
                <a:ext cx="4870800" cy="797760"/>
              </a:xfrm>
              <a:custGeom>
                <a:avLst/>
                <a:gdLst/>
                <a:ahLst/>
                <a:rect l="l" t="t" r="r" b="b"/>
                <a:pathLst>
                  <a:path w="4224954" h="1062033">
                    <a:moveTo>
                      <a:pt x="103909" y="198391"/>
                    </a:moveTo>
                    <a:cubicBezTo>
                      <a:pt x="103909" y="119429"/>
                      <a:pt x="188702" y="20782"/>
                      <a:pt x="267664" y="20782"/>
                    </a:cubicBezTo>
                    <a:lnTo>
                      <a:pt x="696077" y="0"/>
                    </a:lnTo>
                    <a:lnTo>
                      <a:pt x="696077" y="0"/>
                    </a:lnTo>
                    <a:lnTo>
                      <a:pt x="1740193" y="0"/>
                    </a:lnTo>
                    <a:lnTo>
                      <a:pt x="3839528" y="13854"/>
                    </a:lnTo>
                    <a:cubicBezTo>
                      <a:pt x="3918490" y="13854"/>
                      <a:pt x="4141828" y="84793"/>
                      <a:pt x="4141828" y="163755"/>
                    </a:cubicBezTo>
                    <a:lnTo>
                      <a:pt x="4218027" y="431122"/>
                    </a:lnTo>
                    <a:lnTo>
                      <a:pt x="4224954" y="479613"/>
                    </a:lnTo>
                    <a:lnTo>
                      <a:pt x="4211101" y="707923"/>
                    </a:lnTo>
                    <a:lnTo>
                      <a:pt x="4065627" y="818756"/>
                    </a:lnTo>
                    <a:cubicBezTo>
                      <a:pt x="4065627" y="897718"/>
                      <a:pt x="3710671" y="878602"/>
                      <a:pt x="3631709" y="878602"/>
                    </a:cubicBezTo>
                    <a:lnTo>
                      <a:pt x="1629526" y="838951"/>
                    </a:lnTo>
                    <a:lnTo>
                      <a:pt x="1592235" y="1062033"/>
                    </a:lnTo>
                    <a:lnTo>
                      <a:pt x="1390821" y="857821"/>
                    </a:lnTo>
                    <a:lnTo>
                      <a:pt x="142973" y="857820"/>
                    </a:lnTo>
                    <a:cubicBezTo>
                      <a:pt x="64011" y="857820"/>
                      <a:pt x="0" y="793809"/>
                      <a:pt x="0" y="714847"/>
                    </a:cubicBezTo>
                    <a:lnTo>
                      <a:pt x="0" y="714850"/>
                    </a:lnTo>
                    <a:lnTo>
                      <a:pt x="0" y="500395"/>
                    </a:lnTo>
                    <a:lnTo>
                      <a:pt x="0" y="500395"/>
                    </a:lnTo>
                    <a:lnTo>
                      <a:pt x="103909" y="198391"/>
                    </a:lnTo>
                    <a:close/>
                  </a:path>
                </a:pathLst>
              </a:custGeom>
              <a:solidFill>
                <a:srgbClr val="b1d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文本框 3"/>
              <p:cNvSpPr/>
              <p:nvPr/>
            </p:nvSpPr>
            <p:spPr>
              <a:xfrm>
                <a:off x="3894120" y="19735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每个人都有自己该做的事情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5" name="组合 9"/>
            <p:cNvGrpSpPr/>
            <p:nvPr/>
          </p:nvGrpSpPr>
          <p:grpSpPr>
            <a:xfrm>
              <a:off x="2508840" y="3740760"/>
              <a:ext cx="4871160" cy="797760"/>
              <a:chOff x="2508840" y="3740760"/>
              <a:chExt cx="4871160" cy="797760"/>
            </a:xfrm>
          </p:grpSpPr>
          <p:sp>
            <p:nvSpPr>
              <p:cNvPr id="866" name="对话气泡: 圆角矩形 2"/>
              <p:cNvSpPr/>
              <p:nvPr/>
            </p:nvSpPr>
            <p:spPr>
              <a:xfrm rot="10800000">
                <a:off x="2508840" y="3740760"/>
                <a:ext cx="4871160" cy="797760"/>
              </a:xfrm>
              <a:custGeom>
                <a:avLst/>
                <a:gdLst/>
                <a:ahLst/>
                <a:rect l="l" t="t" r="r" b="b"/>
                <a:pathLst>
                  <a:path w="4224954" h="1062033">
                    <a:moveTo>
                      <a:pt x="103909" y="198391"/>
                    </a:moveTo>
                    <a:cubicBezTo>
                      <a:pt x="103909" y="119429"/>
                      <a:pt x="188702" y="20782"/>
                      <a:pt x="267664" y="20782"/>
                    </a:cubicBezTo>
                    <a:lnTo>
                      <a:pt x="696077" y="0"/>
                    </a:lnTo>
                    <a:lnTo>
                      <a:pt x="696077" y="0"/>
                    </a:lnTo>
                    <a:lnTo>
                      <a:pt x="1740193" y="0"/>
                    </a:lnTo>
                    <a:lnTo>
                      <a:pt x="3839528" y="13854"/>
                    </a:lnTo>
                    <a:cubicBezTo>
                      <a:pt x="3918490" y="13854"/>
                      <a:pt x="4141828" y="84793"/>
                      <a:pt x="4141828" y="163755"/>
                    </a:cubicBezTo>
                    <a:lnTo>
                      <a:pt x="4218027" y="431122"/>
                    </a:lnTo>
                    <a:lnTo>
                      <a:pt x="4224954" y="479613"/>
                    </a:lnTo>
                    <a:lnTo>
                      <a:pt x="4211101" y="707923"/>
                    </a:lnTo>
                    <a:lnTo>
                      <a:pt x="4065627" y="818756"/>
                    </a:lnTo>
                    <a:cubicBezTo>
                      <a:pt x="4065627" y="897718"/>
                      <a:pt x="3710671" y="878602"/>
                      <a:pt x="3631709" y="878602"/>
                    </a:cubicBezTo>
                    <a:lnTo>
                      <a:pt x="1629526" y="838951"/>
                    </a:lnTo>
                    <a:lnTo>
                      <a:pt x="1592235" y="1062033"/>
                    </a:lnTo>
                    <a:lnTo>
                      <a:pt x="1390821" y="857821"/>
                    </a:lnTo>
                    <a:lnTo>
                      <a:pt x="142973" y="857820"/>
                    </a:lnTo>
                    <a:cubicBezTo>
                      <a:pt x="64011" y="857820"/>
                      <a:pt x="0" y="793809"/>
                      <a:pt x="0" y="714847"/>
                    </a:cubicBezTo>
                    <a:lnTo>
                      <a:pt x="0" y="714850"/>
                    </a:lnTo>
                    <a:lnTo>
                      <a:pt x="0" y="500395"/>
                    </a:lnTo>
                    <a:lnTo>
                      <a:pt x="0" y="500395"/>
                    </a:lnTo>
                    <a:lnTo>
                      <a:pt x="103909" y="198391"/>
                    </a:lnTo>
                    <a:close/>
                  </a:path>
                </a:pathLst>
              </a:custGeom>
              <a:solidFill>
                <a:srgbClr val="b1d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文本框 11"/>
              <p:cNvSpPr/>
              <p:nvPr/>
            </p:nvSpPr>
            <p:spPr>
              <a:xfrm>
                <a:off x="4946400" y="39348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万事万物都有自己的规律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68" name="组合 12"/>
            <p:cNvGrpSpPr/>
            <p:nvPr/>
          </p:nvGrpSpPr>
          <p:grpSpPr>
            <a:xfrm>
              <a:off x="1488960" y="2901600"/>
              <a:ext cx="1415520" cy="608400"/>
              <a:chOff x="1488960" y="2901600"/>
              <a:chExt cx="1415520" cy="608400"/>
            </a:xfrm>
          </p:grpSpPr>
          <p:sp>
            <p:nvSpPr>
              <p:cNvPr id="869" name="矩形: 圆角 5"/>
              <p:cNvSpPr/>
              <p:nvPr/>
            </p:nvSpPr>
            <p:spPr>
              <a:xfrm>
                <a:off x="1488960" y="2901600"/>
                <a:ext cx="1415520" cy="608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文本框 15"/>
              <p:cNvSpPr/>
              <p:nvPr/>
            </p:nvSpPr>
            <p:spPr>
              <a:xfrm>
                <a:off x="1730160" y="292284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小毛虫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1" name="组合 8"/>
            <p:cNvGrpSpPr/>
            <p:nvPr/>
          </p:nvGrpSpPr>
          <p:grpSpPr>
            <a:xfrm>
              <a:off x="4067280" y="2648880"/>
              <a:ext cx="877320" cy="1008000"/>
              <a:chOff x="4067280" y="2648880"/>
              <a:chExt cx="877320" cy="1008000"/>
            </a:xfrm>
          </p:grpSpPr>
          <p:sp>
            <p:nvSpPr>
              <p:cNvPr id="872" name="矩形: 圆角 13"/>
              <p:cNvSpPr/>
              <p:nvPr/>
            </p:nvSpPr>
            <p:spPr>
              <a:xfrm>
                <a:off x="4073400" y="2707560"/>
                <a:ext cx="871200" cy="915480"/>
              </a:xfrm>
              <a:custGeom>
                <a:avLst/>
                <a:gdLst>
                  <a:gd name="textAreaLeft" fmla="*/ 42480 w 871200"/>
                  <a:gd name="textAreaRight" fmla="*/ 828720 w 871200"/>
                  <a:gd name="textAreaTop" fmla="*/ 42480 h 915480"/>
                  <a:gd name="textAreaBottom" fmla="*/ 873000 h 915480"/>
                </a:gdLst>
                <a:ahLst/>
                <a:rect l="textAreaLeft" t="textAreaTop" r="textAreaRight" b="textAreaBottom"/>
                <a:pathLst>
                  <a:path w="21600" h="22697">
                    <a:moveTo>
                      <a:pt x="3600" y="0"/>
                    </a:moveTo>
                    <a:arcTo wR="3600" hR="3600" stAng="16200000" swAng="-5400000"/>
                    <a:lnTo>
                      <a:pt x="0" y="19097"/>
                    </a:lnTo>
                    <a:arcTo wR="3600" hR="3600" stAng="10800000" swAng="-5400000"/>
                    <a:lnTo>
                      <a:pt x="18000" y="2269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文本框 16"/>
              <p:cNvSpPr/>
              <p:nvPr/>
            </p:nvSpPr>
            <p:spPr>
              <a:xfrm>
                <a:off x="4067280" y="2648880"/>
                <a:ext cx="8452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jiǎn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茧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4" name="组合 7"/>
            <p:cNvGrpSpPr/>
            <p:nvPr/>
          </p:nvGrpSpPr>
          <p:grpSpPr>
            <a:xfrm>
              <a:off x="6089400" y="2890440"/>
              <a:ext cx="1058400" cy="608400"/>
              <a:chOff x="6089400" y="2890440"/>
              <a:chExt cx="1058400" cy="608400"/>
            </a:xfrm>
          </p:grpSpPr>
          <p:sp>
            <p:nvSpPr>
              <p:cNvPr id="875" name="矩形: 圆角 14"/>
              <p:cNvSpPr/>
              <p:nvPr/>
            </p:nvSpPr>
            <p:spPr>
              <a:xfrm>
                <a:off x="6089400" y="2890440"/>
                <a:ext cx="1058400" cy="608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dafda7"/>
                  </a:gs>
                  <a:gs pos="100000">
                    <a:srgbClr val="f5ffe6"/>
                  </a:gs>
                </a:gsLst>
                <a:lin ang="16200000"/>
              </a:gradFill>
              <a:ln w="9360">
                <a:solidFill>
                  <a:srgbClr val="98b95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文本框 17"/>
              <p:cNvSpPr/>
              <p:nvPr/>
            </p:nvSpPr>
            <p:spPr>
              <a:xfrm>
                <a:off x="6253200" y="29019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蝴蝶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877" name="直接箭头连接符 19"/>
            <p:cNvCxnSpPr/>
            <p:nvPr/>
          </p:nvCxnSpPr>
          <p:spPr>
            <a:xfrm flipV="1">
              <a:off x="2987280" y="3193200"/>
              <a:ext cx="1021320" cy="13320"/>
            </a:xfrm>
            <a:prstGeom prst="straightConnector1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878" name="直接箭头连接符 23"/>
            <p:cNvCxnSpPr/>
            <p:nvPr/>
          </p:nvCxnSpPr>
          <p:spPr>
            <a:xfrm flipV="1">
              <a:off x="5009760" y="3187440"/>
              <a:ext cx="1021320" cy="11520"/>
            </a:xfrm>
            <a:prstGeom prst="straightConnector1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文本框 3"/>
          <p:cNvSpPr/>
          <p:nvPr/>
        </p:nvSpPr>
        <p:spPr>
          <a:xfrm>
            <a:off x="515880" y="411120"/>
            <a:ext cx="828036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毛虫非常笨拙，既不会唱，也不会跑，更不会飞，但它懂得：每个人都有自己该做的事情。所以它并不悲观失望，也不羡慕任何人，它知道自己眼前最要紧的工作是抽丝纺织。它尽心竭力地织啊织，终于织成一个既坚固又温暖的茧屋，把自己裹了进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文本框 2"/>
          <p:cNvSpPr/>
          <p:nvPr/>
        </p:nvSpPr>
        <p:spPr>
          <a:xfrm>
            <a:off x="611280" y="843120"/>
            <a:ext cx="8138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它在茧屋里知道了：万事万物都有自己的规律，要学会耐心等待。时辰到了，它灵巧地从茧子里挣脱出来，再也不是以前那只笨手笨脚的小毛虫，而是有一对轻盈的翅膀，并且上面布满色彩斑斓的花纹的美丽的蝴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组合 2"/>
          <p:cNvGrpSpPr/>
          <p:nvPr/>
        </p:nvGrpSpPr>
        <p:grpSpPr>
          <a:xfrm>
            <a:off x="468360" y="1031760"/>
            <a:ext cx="8331120" cy="2760840"/>
            <a:chOff x="468360" y="1031760"/>
            <a:chExt cx="8331120" cy="2760840"/>
          </a:xfrm>
        </p:grpSpPr>
        <p:sp>
          <p:nvSpPr>
            <p:cNvPr id="882" name="文本框 1"/>
            <p:cNvSpPr/>
            <p:nvPr/>
          </p:nvSpPr>
          <p:spPr>
            <a:xfrm>
              <a:off x="853560" y="1748880"/>
              <a:ext cx="7945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机勃勃    尽心竭力    与世隔绝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色彩斑斓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笨手笨脚    九牛二虎之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3" name="组合 2"/>
            <p:cNvGrpSpPr/>
            <p:nvPr/>
          </p:nvGrpSpPr>
          <p:grpSpPr>
            <a:xfrm>
              <a:off x="468360" y="1031760"/>
              <a:ext cx="7970400" cy="678600"/>
              <a:chOff x="468360" y="1031760"/>
              <a:chExt cx="7970400" cy="678600"/>
            </a:xfrm>
          </p:grpSpPr>
          <p:sp>
            <p:nvSpPr>
              <p:cNvPr id="884" name="TextBox 1"/>
              <p:cNvSpPr/>
              <p:nvPr/>
            </p:nvSpPr>
            <p:spPr>
              <a:xfrm>
                <a:off x="824760" y="1031760"/>
                <a:ext cx="76140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读一读，记一记。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85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175760"/>
                <a:ext cx="385200" cy="38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6" name="文本框 5"/>
            <p:cNvSpPr/>
            <p:nvPr/>
          </p:nvSpPr>
          <p:spPr>
            <a:xfrm>
              <a:off x="1547640" y="264492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bā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文本框 6"/>
            <p:cNvSpPr/>
            <p:nvPr/>
          </p:nvSpPr>
          <p:spPr>
            <a:xfrm>
              <a:off x="2152440" y="264168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lá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Box 1"/>
          <p:cNvSpPr/>
          <p:nvPr/>
        </p:nvSpPr>
        <p:spPr>
          <a:xfrm>
            <a:off x="900000" y="192420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课文，默写今天学习的生字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说你从这个故事中学到了什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9" name="组合 27"/>
          <p:cNvGrpSpPr/>
          <p:nvPr/>
        </p:nvGrpSpPr>
        <p:grpSpPr>
          <a:xfrm>
            <a:off x="3012840" y="866520"/>
            <a:ext cx="2597040" cy="646560"/>
            <a:chOff x="3012840" y="866520"/>
            <a:chExt cx="2597040" cy="646560"/>
          </a:xfrm>
        </p:grpSpPr>
        <p:sp>
          <p:nvSpPr>
            <p:cNvPr id="890" name="矩形: 圆角 28"/>
            <p:cNvSpPr/>
            <p:nvPr/>
          </p:nvSpPr>
          <p:spPr>
            <a:xfrm rot="671400">
              <a:off x="3058920" y="91872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矩形: 圆角 29"/>
            <p:cNvSpPr/>
            <p:nvPr/>
          </p:nvSpPr>
          <p:spPr>
            <a:xfrm rot="21203400">
              <a:off x="3713040" y="915480"/>
              <a:ext cx="5904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后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矩形: 圆角 30"/>
            <p:cNvSpPr/>
            <p:nvPr/>
          </p:nvSpPr>
          <p:spPr>
            <a:xfrm rot="497400">
              <a:off x="4351320" y="937440"/>
              <a:ext cx="592200" cy="535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矩形: 圆角 30"/>
            <p:cNvSpPr/>
            <p:nvPr/>
          </p:nvSpPr>
          <p:spPr>
            <a:xfrm rot="21330600">
              <a:off x="4997520" y="939600"/>
              <a:ext cx="592200" cy="532080"/>
            </a:xfrm>
            <a:prstGeom prst="roundRect">
              <a:avLst>
                <a:gd name="adj" fmla="val 16667"/>
              </a:avLst>
            </a:prstGeom>
            <a:solidFill>
              <a:srgbClr val="ccff66">
                <a:alpha val="70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矩形 1" descr=""/>
          <p:cNvPicPr/>
          <p:nvPr/>
        </p:nvPicPr>
        <p:blipFill>
          <a:blip r:embed="rId2"/>
          <a:stretch/>
        </p:blipFill>
        <p:spPr>
          <a:xfrm>
            <a:off x="3562200" y="1971720"/>
            <a:ext cx="2152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副标题 2"/>
          <p:cNvSpPr/>
          <p:nvPr/>
        </p:nvSpPr>
        <p:spPr>
          <a:xfrm>
            <a:off x="2411280" y="2919240"/>
            <a:ext cx="46832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统编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年级语文下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标题 1"/>
          <p:cNvSpPr/>
          <p:nvPr/>
        </p:nvSpPr>
        <p:spPr>
          <a:xfrm>
            <a:off x="2627280" y="2066760"/>
            <a:ext cx="4043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2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小毛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6"/>
          <p:cNvSpPr/>
          <p:nvPr/>
        </p:nvSpPr>
        <p:spPr>
          <a:xfrm>
            <a:off x="2381400" y="2905200"/>
            <a:ext cx="47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9" descr=""/>
          <p:cNvPicPr/>
          <p:nvPr/>
        </p:nvPicPr>
        <p:blipFill>
          <a:blip r:embed="rId2"/>
          <a:stretch/>
        </p:blipFill>
        <p:spPr>
          <a:xfrm>
            <a:off x="6012000" y="1812960"/>
            <a:ext cx="108252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41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"/>
          <p:cNvPicPr/>
          <p:nvPr/>
        </p:nvPicPr>
        <p:blipFill>
          <a:blip r:embed="rId3"/>
          <a:stretch/>
        </p:blipFill>
        <p:spPr>
          <a:xfrm>
            <a:off x="0" y="7920"/>
            <a:ext cx="5219640" cy="35002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8"/>
          <p:cNvSpPr/>
          <p:nvPr/>
        </p:nvSpPr>
        <p:spPr>
          <a:xfrm>
            <a:off x="309600" y="368280"/>
            <a:ext cx="4478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听朗读，自由读课文。借助拼音，读准字音，读通句子，不熟悉的生字词多读几遍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39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7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8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59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60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61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65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82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83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84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539640" y="1179360"/>
            <a:ext cx="79930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昆虫   可怜   挪动   仿佛   整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尽管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任何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抽丝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纺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编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竭力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怎样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规律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等待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挣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布满     愉快     绒毛     消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27"/>
          <p:cNvGrpSpPr/>
          <p:nvPr/>
        </p:nvGrpSpPr>
        <p:grpSpPr>
          <a:xfrm>
            <a:off x="3438000" y="305640"/>
            <a:ext cx="1962360" cy="627840"/>
            <a:chOff x="3438000" y="305640"/>
            <a:chExt cx="1962360" cy="627840"/>
          </a:xfrm>
        </p:grpSpPr>
        <p:sp>
          <p:nvSpPr>
            <p:cNvPr id="191" name="矩形: 圆角 28"/>
            <p:cNvSpPr/>
            <p:nvPr/>
          </p:nvSpPr>
          <p:spPr>
            <a:xfrm rot="21177000">
              <a:off x="346824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: 圆角 29"/>
            <p:cNvSpPr/>
            <p:nvPr/>
          </p:nvSpPr>
          <p:spPr>
            <a:xfrm rot="432000">
              <a:off x="4125600" y="350640"/>
              <a:ext cx="592200" cy="533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: 圆角 30"/>
            <p:cNvSpPr/>
            <p:nvPr/>
          </p:nvSpPr>
          <p:spPr>
            <a:xfrm rot="21187800">
              <a:off x="4777920" y="3650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TextBox 7"/>
          <p:cNvSpPr/>
          <p:nvPr/>
        </p:nvSpPr>
        <p:spPr>
          <a:xfrm>
            <a:off x="539640" y="1184400"/>
            <a:ext cx="79930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虫   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挪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动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仿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整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管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任何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抽丝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纺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织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编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竭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力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怎样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规律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待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挣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布满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快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毛     消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6"/>
          <p:cNvSpPr/>
          <p:nvPr/>
        </p:nvSpPr>
        <p:spPr>
          <a:xfrm>
            <a:off x="603360" y="9399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kū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6"/>
          <p:cNvSpPr/>
          <p:nvPr/>
        </p:nvSpPr>
        <p:spPr>
          <a:xfrm>
            <a:off x="2608200" y="93996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li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6"/>
          <p:cNvSpPr/>
          <p:nvPr/>
        </p:nvSpPr>
        <p:spPr>
          <a:xfrm>
            <a:off x="3792600" y="915840"/>
            <a:ext cx="10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nu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6"/>
          <p:cNvSpPr/>
          <p:nvPr/>
        </p:nvSpPr>
        <p:spPr>
          <a:xfrm>
            <a:off x="5292720" y="93672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ǎ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6"/>
          <p:cNvSpPr/>
          <p:nvPr/>
        </p:nvSpPr>
        <p:spPr>
          <a:xfrm>
            <a:off x="603360" y="187020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ǐ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6"/>
          <p:cNvSpPr/>
          <p:nvPr/>
        </p:nvSpPr>
        <p:spPr>
          <a:xfrm>
            <a:off x="2100240" y="1870200"/>
            <a:ext cx="10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rè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752560" y="188748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5372280" y="1908000"/>
            <a:ext cx="10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ǎ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6"/>
          <p:cNvSpPr/>
          <p:nvPr/>
        </p:nvSpPr>
        <p:spPr>
          <a:xfrm>
            <a:off x="611280" y="28684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6"/>
          <p:cNvSpPr/>
          <p:nvPr/>
        </p:nvSpPr>
        <p:spPr>
          <a:xfrm>
            <a:off x="5987880" y="287028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dà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6084720" y="939960"/>
            <a:ext cx="102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3780000" y="28684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ɡu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6"/>
          <p:cNvSpPr/>
          <p:nvPr/>
        </p:nvSpPr>
        <p:spPr>
          <a:xfrm>
            <a:off x="4500720" y="285264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l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6"/>
          <p:cNvSpPr/>
          <p:nvPr/>
        </p:nvSpPr>
        <p:spPr>
          <a:xfrm>
            <a:off x="6875640" y="2868480"/>
            <a:ext cx="137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zhè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6"/>
          <p:cNvSpPr/>
          <p:nvPr/>
        </p:nvSpPr>
        <p:spPr>
          <a:xfrm>
            <a:off x="2576520" y="3854520"/>
            <a:ext cx="13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y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6"/>
          <p:cNvSpPr/>
          <p:nvPr/>
        </p:nvSpPr>
        <p:spPr>
          <a:xfrm>
            <a:off x="4643280" y="3849840"/>
            <a:ext cx="13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rón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2" name="文本框 64" descr=""/>
          <p:cNvPicPr/>
          <p:nvPr/>
        </p:nvPicPr>
        <p:blipFill>
          <a:blip r:embed="rId3"/>
          <a:stretch/>
        </p:blipFill>
        <p:spPr>
          <a:xfrm>
            <a:off x="2266920" y="2550960"/>
            <a:ext cx="811080" cy="830520"/>
          </a:xfrm>
          <a:prstGeom prst="rect">
            <a:avLst/>
          </a:prstGeom>
          <a:ln w="0">
            <a:noFill/>
          </a:ln>
        </p:spPr>
      </p:pic>
      <p:pic>
        <p:nvPicPr>
          <p:cNvPr id="213" name="文本框 64" descr=""/>
          <p:cNvPicPr/>
          <p:nvPr/>
        </p:nvPicPr>
        <p:blipFill>
          <a:blip r:embed="rId4"/>
          <a:stretch/>
        </p:blipFill>
        <p:spPr>
          <a:xfrm>
            <a:off x="1028880" y="74520"/>
            <a:ext cx="809280" cy="830520"/>
          </a:xfrm>
          <a:prstGeom prst="rect">
            <a:avLst/>
          </a:prstGeom>
          <a:ln w="0">
            <a:noFill/>
          </a:ln>
        </p:spPr>
      </p:pic>
      <p:pic>
        <p:nvPicPr>
          <p:cNvPr id="214" name="文本框 64" descr=""/>
          <p:cNvPicPr/>
          <p:nvPr/>
        </p:nvPicPr>
        <p:blipFill>
          <a:blip r:embed="rId5"/>
          <a:stretch/>
        </p:blipFill>
        <p:spPr>
          <a:xfrm>
            <a:off x="247680" y="2476440"/>
            <a:ext cx="811080" cy="830160"/>
          </a:xfrm>
          <a:prstGeom prst="rect">
            <a:avLst/>
          </a:prstGeom>
          <a:ln w="0">
            <a:noFill/>
          </a:ln>
        </p:spPr>
      </p:pic>
      <p:pic>
        <p:nvPicPr>
          <p:cNvPr id="215" name="文本框 64" descr=""/>
          <p:cNvPicPr/>
          <p:nvPr/>
        </p:nvPicPr>
        <p:blipFill>
          <a:blip r:embed="rId6"/>
          <a:stretch/>
        </p:blipFill>
        <p:spPr>
          <a:xfrm>
            <a:off x="2987640" y="471600"/>
            <a:ext cx="1440000" cy="831600"/>
          </a:xfrm>
          <a:prstGeom prst="rect">
            <a:avLst/>
          </a:prstGeom>
          <a:ln w="0">
            <a:noFill/>
          </a:ln>
        </p:spPr>
      </p:pic>
      <p:pic>
        <p:nvPicPr>
          <p:cNvPr id="216" name="文本框 64" descr=""/>
          <p:cNvPicPr/>
          <p:nvPr/>
        </p:nvPicPr>
        <p:blipFill>
          <a:blip r:embed="rId7"/>
          <a:stretch/>
        </p:blipFill>
        <p:spPr>
          <a:xfrm>
            <a:off x="6443640" y="698400"/>
            <a:ext cx="1440000" cy="831960"/>
          </a:xfrm>
          <a:prstGeom prst="rect">
            <a:avLst/>
          </a:prstGeom>
          <a:ln w="0">
            <a:noFill/>
          </a:ln>
        </p:spPr>
      </p:pic>
      <p:pic>
        <p:nvPicPr>
          <p:cNvPr id="217" name="文本框 64" descr=""/>
          <p:cNvPicPr/>
          <p:nvPr/>
        </p:nvPicPr>
        <p:blipFill>
          <a:blip r:embed="rId8"/>
          <a:stretch/>
        </p:blipFill>
        <p:spPr>
          <a:xfrm>
            <a:off x="1092240" y="1387440"/>
            <a:ext cx="1584360" cy="830160"/>
          </a:xfrm>
          <a:prstGeom prst="rect">
            <a:avLst/>
          </a:prstGeom>
          <a:ln w="0">
            <a:noFill/>
          </a:ln>
        </p:spPr>
      </p:pic>
      <p:pic>
        <p:nvPicPr>
          <p:cNvPr id="218" name="文本框 64" descr=""/>
          <p:cNvPicPr/>
          <p:nvPr/>
        </p:nvPicPr>
        <p:blipFill>
          <a:blip r:embed="rId9"/>
          <a:stretch/>
        </p:blipFill>
        <p:spPr>
          <a:xfrm>
            <a:off x="3203640" y="182412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219" name="文本框 64" descr=""/>
          <p:cNvPicPr/>
          <p:nvPr/>
        </p:nvPicPr>
        <p:blipFill>
          <a:blip r:embed="rId10"/>
          <a:stretch/>
        </p:blipFill>
        <p:spPr>
          <a:xfrm>
            <a:off x="5175360" y="1806480"/>
            <a:ext cx="936360" cy="830520"/>
          </a:xfrm>
          <a:prstGeom prst="rect">
            <a:avLst/>
          </a:prstGeom>
          <a:ln w="0">
            <a:noFill/>
          </a:ln>
        </p:spPr>
      </p:pic>
      <p:pic>
        <p:nvPicPr>
          <p:cNvPr id="220" name="文本框 64" descr=""/>
          <p:cNvPicPr/>
          <p:nvPr/>
        </p:nvPicPr>
        <p:blipFill>
          <a:blip r:embed="rId11"/>
          <a:stretch/>
        </p:blipFill>
        <p:spPr>
          <a:xfrm>
            <a:off x="3959280" y="3270240"/>
            <a:ext cx="936720" cy="831960"/>
          </a:xfrm>
          <a:prstGeom prst="rect">
            <a:avLst/>
          </a:prstGeom>
          <a:ln w="0">
            <a:noFill/>
          </a:ln>
        </p:spPr>
      </p:pic>
      <p:pic>
        <p:nvPicPr>
          <p:cNvPr id="221" name="文本框 64" descr=""/>
          <p:cNvPicPr/>
          <p:nvPr/>
        </p:nvPicPr>
        <p:blipFill>
          <a:blip r:embed="rId12"/>
          <a:stretch/>
        </p:blipFill>
        <p:spPr>
          <a:xfrm>
            <a:off x="6181560" y="3075120"/>
            <a:ext cx="936720" cy="83160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64" descr=""/>
          <p:cNvPicPr/>
          <p:nvPr/>
        </p:nvPicPr>
        <p:blipFill>
          <a:blip r:embed="rId13"/>
          <a:stretch/>
        </p:blipFill>
        <p:spPr>
          <a:xfrm>
            <a:off x="7770960" y="1819440"/>
            <a:ext cx="934920" cy="830160"/>
          </a:xfrm>
          <a:prstGeom prst="rect">
            <a:avLst/>
          </a:prstGeom>
          <a:ln w="0">
            <a:noFill/>
          </a:ln>
        </p:spPr>
      </p:pic>
      <p:pic>
        <p:nvPicPr>
          <p:cNvPr id="223" name="文本框 64" descr=""/>
          <p:cNvPicPr/>
          <p:nvPr/>
        </p:nvPicPr>
        <p:blipFill>
          <a:blip r:embed="rId14"/>
          <a:stretch/>
        </p:blipFill>
        <p:spPr>
          <a:xfrm>
            <a:off x="8099280" y="627120"/>
            <a:ext cx="936720" cy="830160"/>
          </a:xfrm>
          <a:prstGeom prst="rect">
            <a:avLst/>
          </a:prstGeom>
          <a:ln w="0">
            <a:noFill/>
          </a:ln>
        </p:spPr>
      </p:pic>
      <p:pic>
        <p:nvPicPr>
          <p:cNvPr id="224" name="文本框 64" descr=""/>
          <p:cNvPicPr/>
          <p:nvPr/>
        </p:nvPicPr>
        <p:blipFill>
          <a:blip r:embed="rId15"/>
          <a:stretch/>
        </p:blipFill>
        <p:spPr>
          <a:xfrm>
            <a:off x="1263600" y="2552760"/>
            <a:ext cx="936720" cy="83196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9" descr=""/>
          <p:cNvPicPr/>
          <p:nvPr/>
        </p:nvPicPr>
        <p:blipFill>
          <a:blip r:embed="rId16"/>
          <a:stretch/>
        </p:blipFill>
        <p:spPr>
          <a:xfrm rot="19737600">
            <a:off x="6767640" y="339480"/>
            <a:ext cx="947520" cy="847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1" descr=""/>
          <p:cNvPicPr/>
          <p:nvPr/>
        </p:nvPicPr>
        <p:blipFill>
          <a:blip r:embed="rId17"/>
          <a:stretch/>
        </p:blipFill>
        <p:spPr>
          <a:xfrm>
            <a:off x="3341520" y="1764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22" descr=""/>
          <p:cNvPicPr/>
          <p:nvPr/>
        </p:nvPicPr>
        <p:blipFill>
          <a:blip r:embed="rId18"/>
          <a:stretch/>
        </p:blipFill>
        <p:spPr>
          <a:xfrm>
            <a:off x="3651120" y="3559320"/>
            <a:ext cx="730440" cy="7315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3" descr=""/>
          <p:cNvPicPr/>
          <p:nvPr/>
        </p:nvPicPr>
        <p:blipFill>
          <a:blip r:embed="rId19"/>
          <a:stretch/>
        </p:blipFill>
        <p:spPr>
          <a:xfrm rot="19645200">
            <a:off x="2901600" y="1482840"/>
            <a:ext cx="947880" cy="846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24" descr=""/>
          <p:cNvPicPr/>
          <p:nvPr/>
        </p:nvPicPr>
        <p:blipFill>
          <a:blip r:embed="rId20"/>
          <a:stretch/>
        </p:blipFill>
        <p:spPr>
          <a:xfrm rot="20055000">
            <a:off x="536040" y="2084040"/>
            <a:ext cx="730440" cy="7318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25" descr=""/>
          <p:cNvPicPr/>
          <p:nvPr/>
        </p:nvPicPr>
        <p:blipFill>
          <a:blip r:embed="rId21"/>
          <a:stretch/>
        </p:blipFill>
        <p:spPr>
          <a:xfrm rot="19645200">
            <a:off x="1426680" y="995040"/>
            <a:ext cx="947880" cy="84780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26" descr=""/>
          <p:cNvPicPr/>
          <p:nvPr/>
        </p:nvPicPr>
        <p:blipFill>
          <a:blip r:embed="rId22"/>
          <a:stretch/>
        </p:blipFill>
        <p:spPr>
          <a:xfrm>
            <a:off x="743040" y="385920"/>
            <a:ext cx="731880" cy="7300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7" descr=""/>
          <p:cNvPicPr/>
          <p:nvPr/>
        </p:nvPicPr>
        <p:blipFill>
          <a:blip r:embed="rId23"/>
          <a:stretch/>
        </p:blipFill>
        <p:spPr>
          <a:xfrm>
            <a:off x="5638680" y="1503360"/>
            <a:ext cx="730440" cy="7318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28" descr=""/>
          <p:cNvPicPr/>
          <p:nvPr/>
        </p:nvPicPr>
        <p:blipFill>
          <a:blip r:embed="rId24"/>
          <a:stretch/>
        </p:blipFill>
        <p:spPr>
          <a:xfrm rot="654000">
            <a:off x="6156360" y="2684520"/>
            <a:ext cx="946080" cy="8460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29" descr=""/>
          <p:cNvPicPr/>
          <p:nvPr/>
        </p:nvPicPr>
        <p:blipFill>
          <a:blip r:embed="rId25"/>
          <a:stretch/>
        </p:blipFill>
        <p:spPr>
          <a:xfrm>
            <a:off x="7491240" y="2111400"/>
            <a:ext cx="730440" cy="7300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0" descr=""/>
          <p:cNvPicPr/>
          <p:nvPr/>
        </p:nvPicPr>
        <p:blipFill>
          <a:blip r:embed="rId26"/>
          <a:stretch/>
        </p:blipFill>
        <p:spPr>
          <a:xfrm rot="19645200">
            <a:off x="8358120" y="1198080"/>
            <a:ext cx="782640" cy="7002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2" descr=""/>
          <p:cNvPicPr/>
          <p:nvPr/>
        </p:nvPicPr>
        <p:blipFill>
          <a:blip r:embed="rId27"/>
          <a:stretch/>
        </p:blipFill>
        <p:spPr>
          <a:xfrm rot="19645200">
            <a:off x="2570040" y="3131640"/>
            <a:ext cx="782640" cy="7002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3" descr=""/>
          <p:cNvPicPr/>
          <p:nvPr/>
        </p:nvPicPr>
        <p:blipFill>
          <a:blip r:embed="rId28"/>
          <a:stretch/>
        </p:blipFill>
        <p:spPr>
          <a:xfrm rot="330000">
            <a:off x="1179000" y="3169800"/>
            <a:ext cx="78264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32"/>
          <p:cNvSpPr/>
          <p:nvPr/>
        </p:nvSpPr>
        <p:spPr>
          <a:xfrm>
            <a:off x="4475160" y="292572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文本框 34"/>
          <p:cNvSpPr/>
          <p:nvPr/>
        </p:nvSpPr>
        <p:spPr>
          <a:xfrm rot="21319800">
            <a:off x="8065800" y="162576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36"/>
          <p:cNvSpPr/>
          <p:nvPr/>
        </p:nvSpPr>
        <p:spPr>
          <a:xfrm rot="16248600">
            <a:off x="5928480" y="131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37"/>
          <p:cNvSpPr/>
          <p:nvPr/>
        </p:nvSpPr>
        <p:spPr>
          <a:xfrm rot="17448600">
            <a:off x="5320800" y="17092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45"/>
          <p:cNvSpPr/>
          <p:nvPr/>
        </p:nvSpPr>
        <p:spPr>
          <a:xfrm rot="16248600">
            <a:off x="6489000" y="13374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46"/>
          <p:cNvSpPr/>
          <p:nvPr/>
        </p:nvSpPr>
        <p:spPr>
          <a:xfrm rot="21174600">
            <a:off x="7067520" y="15685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47"/>
          <p:cNvSpPr/>
          <p:nvPr/>
        </p:nvSpPr>
        <p:spPr>
          <a:xfrm rot="17448600">
            <a:off x="7644600" y="248364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63"/>
          <p:cNvSpPr/>
          <p:nvPr/>
        </p:nvSpPr>
        <p:spPr>
          <a:xfrm rot="657000">
            <a:off x="8235000" y="11826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50"/>
          <p:cNvSpPr/>
          <p:nvPr/>
        </p:nvSpPr>
        <p:spPr>
          <a:xfrm rot="1480200">
            <a:off x="7458480" y="1244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51"/>
          <p:cNvSpPr/>
          <p:nvPr/>
        </p:nvSpPr>
        <p:spPr>
          <a:xfrm rot="16248600">
            <a:off x="8433720" y="2712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文本框 32"/>
          <p:cNvSpPr/>
          <p:nvPr/>
        </p:nvSpPr>
        <p:spPr>
          <a:xfrm>
            <a:off x="3262320" y="3560760"/>
            <a:ext cx="5349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34"/>
          <p:cNvSpPr/>
          <p:nvPr/>
        </p:nvSpPr>
        <p:spPr>
          <a:xfrm rot="4150200">
            <a:off x="4528440" y="3497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68"/>
          <p:cNvSpPr/>
          <p:nvPr/>
        </p:nvSpPr>
        <p:spPr>
          <a:xfrm rot="20220000">
            <a:off x="3898800" y="1294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文本框 69"/>
          <p:cNvSpPr/>
          <p:nvPr/>
        </p:nvSpPr>
        <p:spPr>
          <a:xfrm rot="21420000">
            <a:off x="4130640" y="2052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45"/>
          <p:cNvSpPr/>
          <p:nvPr/>
        </p:nvSpPr>
        <p:spPr>
          <a:xfrm rot="20220000">
            <a:off x="4459320" y="13172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文本框 46"/>
          <p:cNvSpPr/>
          <p:nvPr/>
        </p:nvSpPr>
        <p:spPr>
          <a:xfrm rot="20220000">
            <a:off x="482904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47"/>
          <p:cNvSpPr/>
          <p:nvPr/>
        </p:nvSpPr>
        <p:spPr>
          <a:xfrm rot="21420000">
            <a:off x="5064120" y="22330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文本框 49"/>
          <p:cNvSpPr/>
          <p:nvPr/>
        </p:nvSpPr>
        <p:spPr>
          <a:xfrm rot="16248600">
            <a:off x="6377760" y="21088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50"/>
          <p:cNvSpPr/>
          <p:nvPr/>
        </p:nvSpPr>
        <p:spPr>
          <a:xfrm rot="21429600">
            <a:off x="5589360" y="25905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51"/>
          <p:cNvSpPr/>
          <p:nvPr/>
        </p:nvSpPr>
        <p:spPr>
          <a:xfrm rot="16248600">
            <a:off x="5912640" y="3431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32"/>
          <p:cNvSpPr/>
          <p:nvPr/>
        </p:nvSpPr>
        <p:spPr>
          <a:xfrm rot="1209600">
            <a:off x="1203840" y="3875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34"/>
          <p:cNvSpPr/>
          <p:nvPr/>
        </p:nvSpPr>
        <p:spPr>
          <a:xfrm rot="4150200">
            <a:off x="2207520" y="3454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36"/>
          <p:cNvSpPr/>
          <p:nvPr/>
        </p:nvSpPr>
        <p:spPr>
          <a:xfrm rot="20220000">
            <a:off x="1603440" y="32223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37"/>
          <p:cNvSpPr/>
          <p:nvPr/>
        </p:nvSpPr>
        <p:spPr>
          <a:xfrm rot="1029600">
            <a:off x="2553120" y="2754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80"/>
          <p:cNvSpPr/>
          <p:nvPr/>
        </p:nvSpPr>
        <p:spPr>
          <a:xfrm rot="20220000">
            <a:off x="3160800" y="31395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81"/>
          <p:cNvSpPr/>
          <p:nvPr/>
        </p:nvSpPr>
        <p:spPr>
          <a:xfrm rot="21429600">
            <a:off x="786960" y="15300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82"/>
          <p:cNvSpPr/>
          <p:nvPr/>
        </p:nvSpPr>
        <p:spPr>
          <a:xfrm rot="1029600">
            <a:off x="896040" y="3400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49"/>
          <p:cNvSpPr/>
          <p:nvPr/>
        </p:nvSpPr>
        <p:spPr>
          <a:xfrm rot="21429600">
            <a:off x="3009600" y="383652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50"/>
          <p:cNvSpPr/>
          <p:nvPr/>
        </p:nvSpPr>
        <p:spPr>
          <a:xfrm rot="21429600">
            <a:off x="4157280" y="31698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51"/>
          <p:cNvSpPr/>
          <p:nvPr/>
        </p:nvSpPr>
        <p:spPr>
          <a:xfrm rot="21429600">
            <a:off x="4323960" y="3928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86"/>
          <p:cNvSpPr/>
          <p:nvPr/>
        </p:nvSpPr>
        <p:spPr>
          <a:xfrm rot="16528800">
            <a:off x="310320" y="20260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34"/>
          <p:cNvSpPr/>
          <p:nvPr/>
        </p:nvSpPr>
        <p:spPr>
          <a:xfrm rot="4150200">
            <a:off x="1403640" y="21582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36"/>
          <p:cNvSpPr/>
          <p:nvPr/>
        </p:nvSpPr>
        <p:spPr>
          <a:xfrm rot="21429600">
            <a:off x="321840" y="13363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37"/>
          <p:cNvSpPr/>
          <p:nvPr/>
        </p:nvSpPr>
        <p:spPr>
          <a:xfrm rot="1029600">
            <a:off x="1405440" y="16840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45"/>
          <p:cNvSpPr/>
          <p:nvPr/>
        </p:nvSpPr>
        <p:spPr>
          <a:xfrm rot="20220000">
            <a:off x="2116080" y="113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46"/>
          <p:cNvSpPr/>
          <p:nvPr/>
        </p:nvSpPr>
        <p:spPr>
          <a:xfrm rot="20220000">
            <a:off x="2685960" y="13093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47"/>
          <p:cNvSpPr/>
          <p:nvPr/>
        </p:nvSpPr>
        <p:spPr>
          <a:xfrm rot="21420000">
            <a:off x="2416320" y="187776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49"/>
          <p:cNvSpPr/>
          <p:nvPr/>
        </p:nvSpPr>
        <p:spPr>
          <a:xfrm rot="20220000">
            <a:off x="3274920" y="1531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50"/>
          <p:cNvSpPr/>
          <p:nvPr/>
        </p:nvSpPr>
        <p:spPr>
          <a:xfrm rot="20220000">
            <a:off x="2847960" y="21124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51"/>
          <p:cNvSpPr/>
          <p:nvPr/>
        </p:nvSpPr>
        <p:spPr>
          <a:xfrm rot="20220000">
            <a:off x="3483000" y="22492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32"/>
          <p:cNvSpPr/>
          <p:nvPr/>
        </p:nvSpPr>
        <p:spPr>
          <a:xfrm rot="1209600">
            <a:off x="5182200" y="3538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34"/>
          <p:cNvSpPr/>
          <p:nvPr/>
        </p:nvSpPr>
        <p:spPr>
          <a:xfrm rot="20568600">
            <a:off x="6313320" y="3889440"/>
            <a:ext cx="532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36"/>
          <p:cNvSpPr/>
          <p:nvPr/>
        </p:nvSpPr>
        <p:spPr>
          <a:xfrm rot="368400">
            <a:off x="5841000" y="28587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文本框 37"/>
          <p:cNvSpPr/>
          <p:nvPr/>
        </p:nvSpPr>
        <p:spPr>
          <a:xfrm rot="829200">
            <a:off x="5352120" y="3973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文本框 45"/>
          <p:cNvSpPr/>
          <p:nvPr/>
        </p:nvSpPr>
        <p:spPr>
          <a:xfrm rot="17097000">
            <a:off x="6768000" y="248472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文本框 46"/>
          <p:cNvSpPr/>
          <p:nvPr/>
        </p:nvSpPr>
        <p:spPr>
          <a:xfrm rot="2701800">
            <a:off x="7633080" y="3061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文本框 47"/>
          <p:cNvSpPr/>
          <p:nvPr/>
        </p:nvSpPr>
        <p:spPr>
          <a:xfrm rot="18142800">
            <a:off x="6735600" y="33894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文本框 103"/>
          <p:cNvSpPr/>
          <p:nvPr/>
        </p:nvSpPr>
        <p:spPr>
          <a:xfrm rot="18419400">
            <a:off x="8103240" y="3253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04"/>
          <p:cNvSpPr/>
          <p:nvPr/>
        </p:nvSpPr>
        <p:spPr>
          <a:xfrm rot="17959200">
            <a:off x="7233120" y="357768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05"/>
          <p:cNvSpPr/>
          <p:nvPr/>
        </p:nvSpPr>
        <p:spPr>
          <a:xfrm rot="1549200">
            <a:off x="8096400" y="24015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32"/>
          <p:cNvSpPr/>
          <p:nvPr/>
        </p:nvSpPr>
        <p:spPr>
          <a:xfrm rot="4189800">
            <a:off x="4353840" y="25059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34"/>
          <p:cNvSpPr/>
          <p:nvPr/>
        </p:nvSpPr>
        <p:spPr>
          <a:xfrm rot="8340000">
            <a:off x="4918680" y="31273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36"/>
          <p:cNvSpPr/>
          <p:nvPr/>
        </p:nvSpPr>
        <p:spPr>
          <a:xfrm rot="20439000">
            <a:off x="5772240" y="174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37"/>
          <p:cNvSpPr/>
          <p:nvPr/>
        </p:nvSpPr>
        <p:spPr>
          <a:xfrm rot="39000">
            <a:off x="5649840" y="227340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45"/>
          <p:cNvSpPr/>
          <p:nvPr/>
        </p:nvSpPr>
        <p:spPr>
          <a:xfrm rot="20439000">
            <a:off x="6332400" y="176796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46"/>
          <p:cNvSpPr/>
          <p:nvPr/>
        </p:nvSpPr>
        <p:spPr>
          <a:xfrm rot="20439000">
            <a:off x="6702480" y="1982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47"/>
          <p:cNvSpPr/>
          <p:nvPr/>
        </p:nvSpPr>
        <p:spPr>
          <a:xfrm rot="39000">
            <a:off x="7184880" y="245736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49"/>
          <p:cNvSpPr/>
          <p:nvPr/>
        </p:nvSpPr>
        <p:spPr>
          <a:xfrm rot="20439000">
            <a:off x="8020080" y="2061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50"/>
          <p:cNvSpPr/>
          <p:nvPr/>
        </p:nvSpPr>
        <p:spPr>
          <a:xfrm rot="20439000">
            <a:off x="7486560" y="19285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文本框 51"/>
          <p:cNvSpPr/>
          <p:nvPr/>
        </p:nvSpPr>
        <p:spPr>
          <a:xfrm rot="20439000">
            <a:off x="7962840" y="27889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文本框 32"/>
          <p:cNvSpPr/>
          <p:nvPr/>
        </p:nvSpPr>
        <p:spPr>
          <a:xfrm rot="4189800">
            <a:off x="2831400" y="3338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34"/>
          <p:cNvSpPr/>
          <p:nvPr/>
        </p:nvSpPr>
        <p:spPr>
          <a:xfrm rot="8340000">
            <a:off x="3920040" y="280512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36"/>
          <p:cNvSpPr/>
          <p:nvPr/>
        </p:nvSpPr>
        <p:spPr>
          <a:xfrm rot="2809800">
            <a:off x="3879360" y="17341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37"/>
          <p:cNvSpPr/>
          <p:nvPr/>
        </p:nvSpPr>
        <p:spPr>
          <a:xfrm rot="4009800">
            <a:off x="3879000" y="2276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文本框 45"/>
          <p:cNvSpPr/>
          <p:nvPr/>
        </p:nvSpPr>
        <p:spPr>
          <a:xfrm rot="2809800">
            <a:off x="4439880" y="17568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46"/>
          <p:cNvSpPr/>
          <p:nvPr/>
        </p:nvSpPr>
        <p:spPr>
          <a:xfrm rot="2809800">
            <a:off x="4809600" y="1970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文本框 47"/>
          <p:cNvSpPr/>
          <p:nvPr/>
        </p:nvSpPr>
        <p:spPr>
          <a:xfrm rot="4009800">
            <a:off x="4809240" y="2513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49"/>
          <p:cNvSpPr/>
          <p:nvPr/>
        </p:nvSpPr>
        <p:spPr>
          <a:xfrm rot="20439000">
            <a:off x="6222960" y="25398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50"/>
          <p:cNvSpPr/>
          <p:nvPr/>
        </p:nvSpPr>
        <p:spPr>
          <a:xfrm rot="4020000">
            <a:off x="5284080" y="2629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51"/>
          <p:cNvSpPr/>
          <p:nvPr/>
        </p:nvSpPr>
        <p:spPr>
          <a:xfrm rot="20439000">
            <a:off x="5597640" y="321444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文本框 32"/>
          <p:cNvSpPr/>
          <p:nvPr/>
        </p:nvSpPr>
        <p:spPr>
          <a:xfrm rot="5400000">
            <a:off x="1206720" y="32270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34"/>
          <p:cNvSpPr/>
          <p:nvPr/>
        </p:nvSpPr>
        <p:spPr>
          <a:xfrm rot="8340000">
            <a:off x="1877040" y="354168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文本框 36"/>
          <p:cNvSpPr/>
          <p:nvPr/>
        </p:nvSpPr>
        <p:spPr>
          <a:xfrm rot="2809800">
            <a:off x="1927800" y="27316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37"/>
          <p:cNvSpPr/>
          <p:nvPr/>
        </p:nvSpPr>
        <p:spPr>
          <a:xfrm rot="5220000">
            <a:off x="2363040" y="3013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文本框 45"/>
          <p:cNvSpPr/>
          <p:nvPr/>
        </p:nvSpPr>
        <p:spPr>
          <a:xfrm rot="2809800">
            <a:off x="2876040" y="27453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文本框 46"/>
          <p:cNvSpPr/>
          <p:nvPr/>
        </p:nvSpPr>
        <p:spPr>
          <a:xfrm rot="4020000">
            <a:off x="766080" y="196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文本框 47"/>
          <p:cNvSpPr/>
          <p:nvPr/>
        </p:nvSpPr>
        <p:spPr>
          <a:xfrm rot="5220000">
            <a:off x="767160" y="28958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文本框 49"/>
          <p:cNvSpPr/>
          <p:nvPr/>
        </p:nvSpPr>
        <p:spPr>
          <a:xfrm rot="4020000">
            <a:off x="2529720" y="37382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文本框 50"/>
          <p:cNvSpPr/>
          <p:nvPr/>
        </p:nvSpPr>
        <p:spPr>
          <a:xfrm rot="4020000">
            <a:off x="3767400" y="33656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51"/>
          <p:cNvSpPr/>
          <p:nvPr/>
        </p:nvSpPr>
        <p:spPr>
          <a:xfrm rot="4020000">
            <a:off x="4137840" y="357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32"/>
          <p:cNvSpPr/>
          <p:nvPr/>
        </p:nvSpPr>
        <p:spPr>
          <a:xfrm rot="20719200">
            <a:off x="514440" y="25110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34"/>
          <p:cNvSpPr/>
          <p:nvPr/>
        </p:nvSpPr>
        <p:spPr>
          <a:xfrm rot="8340000">
            <a:off x="1249920" y="2581200"/>
            <a:ext cx="531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36"/>
          <p:cNvSpPr/>
          <p:nvPr/>
        </p:nvSpPr>
        <p:spPr>
          <a:xfrm rot="4020000">
            <a:off x="1735920" y="15094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37"/>
          <p:cNvSpPr/>
          <p:nvPr/>
        </p:nvSpPr>
        <p:spPr>
          <a:xfrm rot="5220000">
            <a:off x="1735920" y="2052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5"/>
          <p:cNvSpPr/>
          <p:nvPr/>
        </p:nvSpPr>
        <p:spPr>
          <a:xfrm rot="2809800">
            <a:off x="2297160" y="153216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46"/>
          <p:cNvSpPr/>
          <p:nvPr/>
        </p:nvSpPr>
        <p:spPr>
          <a:xfrm rot="2809800">
            <a:off x="2666520" y="1746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47"/>
          <p:cNvSpPr/>
          <p:nvPr/>
        </p:nvSpPr>
        <p:spPr>
          <a:xfrm rot="4009800">
            <a:off x="2394720" y="23119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文本框 49"/>
          <p:cNvSpPr/>
          <p:nvPr/>
        </p:nvSpPr>
        <p:spPr>
          <a:xfrm rot="2809800">
            <a:off x="3254400" y="197028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50"/>
          <p:cNvSpPr/>
          <p:nvPr/>
        </p:nvSpPr>
        <p:spPr>
          <a:xfrm rot="2809800">
            <a:off x="3141000" y="24055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51"/>
          <p:cNvSpPr/>
          <p:nvPr/>
        </p:nvSpPr>
        <p:spPr>
          <a:xfrm rot="2809800">
            <a:off x="3510720" y="261972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32"/>
          <p:cNvSpPr/>
          <p:nvPr/>
        </p:nvSpPr>
        <p:spPr>
          <a:xfrm rot="5400000">
            <a:off x="4816800" y="368100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34"/>
          <p:cNvSpPr/>
          <p:nvPr/>
        </p:nvSpPr>
        <p:spPr>
          <a:xfrm rot="3159000">
            <a:off x="5883480" y="4006440"/>
            <a:ext cx="3711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36"/>
          <p:cNvSpPr/>
          <p:nvPr/>
        </p:nvSpPr>
        <p:spPr>
          <a:xfrm rot="20439000">
            <a:off x="6235560" y="292068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文本框 37"/>
          <p:cNvSpPr/>
          <p:nvPr/>
        </p:nvSpPr>
        <p:spPr>
          <a:xfrm rot="39000">
            <a:off x="6237360" y="3468600"/>
            <a:ext cx="536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文本框 45"/>
          <p:cNvSpPr/>
          <p:nvPr/>
        </p:nvSpPr>
        <p:spPr>
          <a:xfrm rot="20439000">
            <a:off x="6796080" y="2943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6"/>
          <p:cNvSpPr/>
          <p:nvPr/>
        </p:nvSpPr>
        <p:spPr>
          <a:xfrm rot="20439000">
            <a:off x="7165800" y="31572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47"/>
          <p:cNvSpPr/>
          <p:nvPr/>
        </p:nvSpPr>
        <p:spPr>
          <a:xfrm rot="39000">
            <a:off x="6854760" y="3730680"/>
            <a:ext cx="536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49"/>
          <p:cNvSpPr/>
          <p:nvPr/>
        </p:nvSpPr>
        <p:spPr>
          <a:xfrm rot="20439000">
            <a:off x="7686720" y="344772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50"/>
          <p:cNvSpPr/>
          <p:nvPr/>
        </p:nvSpPr>
        <p:spPr>
          <a:xfrm rot="20439000">
            <a:off x="7640640" y="3816000"/>
            <a:ext cx="538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51"/>
          <p:cNvSpPr/>
          <p:nvPr/>
        </p:nvSpPr>
        <p:spPr>
          <a:xfrm rot="20439000">
            <a:off x="6778800" y="1141560"/>
            <a:ext cx="537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c8f6f3"/>
                </a:solidFill>
                <a:latin typeface="Arial"/>
              </a:rPr>
              <a:t>状元成才路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7"/>
          <p:cNvGrpSpPr/>
          <p:nvPr/>
        </p:nvGrpSpPr>
        <p:grpSpPr>
          <a:xfrm>
            <a:off x="369720" y="1427040"/>
            <a:ext cx="836640" cy="882720"/>
            <a:chOff x="369720" y="1427040"/>
            <a:chExt cx="836640" cy="882720"/>
          </a:xfrm>
        </p:grpSpPr>
        <p:grpSp>
          <p:nvGrpSpPr>
            <p:cNvPr id="339" name="组合 7"/>
            <p:cNvGrpSpPr/>
            <p:nvPr/>
          </p:nvGrpSpPr>
          <p:grpSpPr>
            <a:xfrm>
              <a:off x="369720" y="1458720"/>
              <a:ext cx="836640" cy="851040"/>
              <a:chOff x="369720" y="1458720"/>
              <a:chExt cx="836640" cy="851040"/>
            </a:xfrm>
          </p:grpSpPr>
          <p:sp>
            <p:nvSpPr>
              <p:cNvPr id="340" name="矩形 1"/>
              <p:cNvSpPr/>
              <p:nvPr/>
            </p:nvSpPr>
            <p:spPr>
              <a:xfrm>
                <a:off x="369720" y="1458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直接连接符 4"/>
              <p:cNvSpPr/>
              <p:nvPr/>
            </p:nvSpPr>
            <p:spPr>
              <a:xfrm>
                <a:off x="369720" y="187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直接连接符 6"/>
              <p:cNvSpPr/>
              <p:nvPr/>
            </p:nvSpPr>
            <p:spPr>
              <a:xfrm>
                <a:off x="78840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3" name="文本框 64"/>
            <p:cNvSpPr/>
            <p:nvPr/>
          </p:nvSpPr>
          <p:spPr>
            <a:xfrm>
              <a:off x="394920" y="142704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整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10"/>
          <p:cNvGrpSpPr/>
          <p:nvPr/>
        </p:nvGrpSpPr>
        <p:grpSpPr>
          <a:xfrm>
            <a:off x="1465200" y="1425600"/>
            <a:ext cx="836640" cy="884160"/>
            <a:chOff x="1465200" y="1425600"/>
            <a:chExt cx="836640" cy="884160"/>
          </a:xfrm>
        </p:grpSpPr>
        <p:grpSp>
          <p:nvGrpSpPr>
            <p:cNvPr id="345" name="组合 7"/>
            <p:cNvGrpSpPr/>
            <p:nvPr/>
          </p:nvGrpSpPr>
          <p:grpSpPr>
            <a:xfrm>
              <a:off x="1465200" y="1458720"/>
              <a:ext cx="836640" cy="851040"/>
              <a:chOff x="1465200" y="1458720"/>
              <a:chExt cx="836640" cy="851040"/>
            </a:xfrm>
          </p:grpSpPr>
          <p:sp>
            <p:nvSpPr>
              <p:cNvPr id="346" name="矩形 1"/>
              <p:cNvSpPr/>
              <p:nvPr/>
            </p:nvSpPr>
            <p:spPr>
              <a:xfrm>
                <a:off x="1465200" y="1458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直接连接符 4"/>
              <p:cNvSpPr/>
              <p:nvPr/>
            </p:nvSpPr>
            <p:spPr>
              <a:xfrm>
                <a:off x="1465200" y="187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直接连接符 6"/>
              <p:cNvSpPr/>
              <p:nvPr/>
            </p:nvSpPr>
            <p:spPr>
              <a:xfrm>
                <a:off x="188388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9" name="文本框 64"/>
            <p:cNvSpPr/>
            <p:nvPr/>
          </p:nvSpPr>
          <p:spPr>
            <a:xfrm>
              <a:off x="1490400" y="142560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抽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组合 11"/>
          <p:cNvGrpSpPr/>
          <p:nvPr/>
        </p:nvGrpSpPr>
        <p:grpSpPr>
          <a:xfrm>
            <a:off x="2544840" y="1427040"/>
            <a:ext cx="836640" cy="882720"/>
            <a:chOff x="2544840" y="1427040"/>
            <a:chExt cx="836640" cy="882720"/>
          </a:xfrm>
        </p:grpSpPr>
        <p:grpSp>
          <p:nvGrpSpPr>
            <p:cNvPr id="351" name="组合 7"/>
            <p:cNvGrpSpPr/>
            <p:nvPr/>
          </p:nvGrpSpPr>
          <p:grpSpPr>
            <a:xfrm>
              <a:off x="2544840" y="1458720"/>
              <a:ext cx="836640" cy="851040"/>
              <a:chOff x="2544840" y="1458720"/>
              <a:chExt cx="836640" cy="851040"/>
            </a:xfrm>
          </p:grpSpPr>
          <p:sp>
            <p:nvSpPr>
              <p:cNvPr id="352" name="矩形 1"/>
              <p:cNvSpPr/>
              <p:nvPr/>
            </p:nvSpPr>
            <p:spPr>
              <a:xfrm>
                <a:off x="2544840" y="1458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直接连接符 4"/>
              <p:cNvSpPr/>
              <p:nvPr/>
            </p:nvSpPr>
            <p:spPr>
              <a:xfrm>
                <a:off x="2544840" y="187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直接连接符 6"/>
              <p:cNvSpPr/>
              <p:nvPr/>
            </p:nvSpPr>
            <p:spPr>
              <a:xfrm>
                <a:off x="296352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文本框 64"/>
            <p:cNvSpPr/>
            <p:nvPr/>
          </p:nvSpPr>
          <p:spPr>
            <a:xfrm>
              <a:off x="2570040" y="142704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纺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12"/>
          <p:cNvGrpSpPr/>
          <p:nvPr/>
        </p:nvGrpSpPr>
        <p:grpSpPr>
          <a:xfrm>
            <a:off x="3625920" y="1419120"/>
            <a:ext cx="836640" cy="890640"/>
            <a:chOff x="3625920" y="1419120"/>
            <a:chExt cx="836640" cy="890640"/>
          </a:xfrm>
        </p:grpSpPr>
        <p:grpSp>
          <p:nvGrpSpPr>
            <p:cNvPr id="357" name="组合 7"/>
            <p:cNvGrpSpPr/>
            <p:nvPr/>
          </p:nvGrpSpPr>
          <p:grpSpPr>
            <a:xfrm>
              <a:off x="3625920" y="1458720"/>
              <a:ext cx="836640" cy="851040"/>
              <a:chOff x="3625920" y="1458720"/>
              <a:chExt cx="836640" cy="851040"/>
            </a:xfrm>
          </p:grpSpPr>
          <p:sp>
            <p:nvSpPr>
              <p:cNvPr id="358" name="矩形 1"/>
              <p:cNvSpPr/>
              <p:nvPr/>
            </p:nvSpPr>
            <p:spPr>
              <a:xfrm>
                <a:off x="3625920" y="1458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直接连接符 4"/>
              <p:cNvSpPr/>
              <p:nvPr/>
            </p:nvSpPr>
            <p:spPr>
              <a:xfrm>
                <a:off x="3625920" y="187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直接连接符 6"/>
              <p:cNvSpPr/>
              <p:nvPr/>
            </p:nvSpPr>
            <p:spPr>
              <a:xfrm>
                <a:off x="404460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1" name="文本框 64"/>
            <p:cNvSpPr/>
            <p:nvPr/>
          </p:nvSpPr>
          <p:spPr>
            <a:xfrm>
              <a:off x="3643200" y="141912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织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2" name="组合 15"/>
          <p:cNvGrpSpPr/>
          <p:nvPr/>
        </p:nvGrpSpPr>
        <p:grpSpPr>
          <a:xfrm>
            <a:off x="4686480" y="1427040"/>
            <a:ext cx="836280" cy="882720"/>
            <a:chOff x="4686480" y="1427040"/>
            <a:chExt cx="836280" cy="882720"/>
          </a:xfrm>
        </p:grpSpPr>
        <p:grpSp>
          <p:nvGrpSpPr>
            <p:cNvPr id="363" name="组合 7"/>
            <p:cNvGrpSpPr/>
            <p:nvPr/>
          </p:nvGrpSpPr>
          <p:grpSpPr>
            <a:xfrm>
              <a:off x="4686480" y="1458720"/>
              <a:ext cx="836280" cy="851040"/>
              <a:chOff x="4686480" y="1458720"/>
              <a:chExt cx="836280" cy="851040"/>
            </a:xfrm>
          </p:grpSpPr>
          <p:sp>
            <p:nvSpPr>
              <p:cNvPr id="364" name="矩形 1"/>
              <p:cNvSpPr/>
              <p:nvPr/>
            </p:nvSpPr>
            <p:spPr>
              <a:xfrm>
                <a:off x="4686480" y="145872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直接连接符 4"/>
              <p:cNvSpPr/>
              <p:nvPr/>
            </p:nvSpPr>
            <p:spPr>
              <a:xfrm>
                <a:off x="4686480" y="187092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直接连接符 6"/>
              <p:cNvSpPr/>
              <p:nvPr/>
            </p:nvSpPr>
            <p:spPr>
              <a:xfrm>
                <a:off x="510480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7" name="文本框 64"/>
            <p:cNvSpPr/>
            <p:nvPr/>
          </p:nvSpPr>
          <p:spPr>
            <a:xfrm>
              <a:off x="4711680" y="142704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编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组合 16"/>
          <p:cNvGrpSpPr/>
          <p:nvPr/>
        </p:nvGrpSpPr>
        <p:grpSpPr>
          <a:xfrm>
            <a:off x="5767560" y="1425600"/>
            <a:ext cx="836280" cy="884160"/>
            <a:chOff x="5767560" y="1425600"/>
            <a:chExt cx="836280" cy="884160"/>
          </a:xfrm>
        </p:grpSpPr>
        <p:grpSp>
          <p:nvGrpSpPr>
            <p:cNvPr id="369" name="组合 7"/>
            <p:cNvGrpSpPr/>
            <p:nvPr/>
          </p:nvGrpSpPr>
          <p:grpSpPr>
            <a:xfrm>
              <a:off x="5767560" y="1458720"/>
              <a:ext cx="836280" cy="851040"/>
              <a:chOff x="5767560" y="1458720"/>
              <a:chExt cx="836280" cy="851040"/>
            </a:xfrm>
          </p:grpSpPr>
          <p:sp>
            <p:nvSpPr>
              <p:cNvPr id="370" name="矩形 1"/>
              <p:cNvSpPr/>
              <p:nvPr/>
            </p:nvSpPr>
            <p:spPr>
              <a:xfrm>
                <a:off x="5767560" y="1458720"/>
                <a:ext cx="8362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直接连接符 4"/>
              <p:cNvSpPr/>
              <p:nvPr/>
            </p:nvSpPr>
            <p:spPr>
              <a:xfrm>
                <a:off x="5767560" y="1870920"/>
                <a:ext cx="83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直接连接符 6"/>
              <p:cNvSpPr/>
              <p:nvPr/>
            </p:nvSpPr>
            <p:spPr>
              <a:xfrm>
                <a:off x="618588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文本框 64"/>
            <p:cNvSpPr/>
            <p:nvPr/>
          </p:nvSpPr>
          <p:spPr>
            <a:xfrm>
              <a:off x="5792760" y="1425600"/>
              <a:ext cx="81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17"/>
          <p:cNvGrpSpPr/>
          <p:nvPr/>
        </p:nvGrpSpPr>
        <p:grpSpPr>
          <a:xfrm>
            <a:off x="6856560" y="1427040"/>
            <a:ext cx="836640" cy="882720"/>
            <a:chOff x="6856560" y="1427040"/>
            <a:chExt cx="836640" cy="882720"/>
          </a:xfrm>
        </p:grpSpPr>
        <p:grpSp>
          <p:nvGrpSpPr>
            <p:cNvPr id="375" name="组合 7"/>
            <p:cNvGrpSpPr/>
            <p:nvPr/>
          </p:nvGrpSpPr>
          <p:grpSpPr>
            <a:xfrm>
              <a:off x="6856560" y="1458720"/>
              <a:ext cx="836640" cy="851040"/>
              <a:chOff x="6856560" y="1458720"/>
              <a:chExt cx="836640" cy="851040"/>
            </a:xfrm>
          </p:grpSpPr>
          <p:sp>
            <p:nvSpPr>
              <p:cNvPr id="376" name="矩形 1"/>
              <p:cNvSpPr/>
              <p:nvPr/>
            </p:nvSpPr>
            <p:spPr>
              <a:xfrm>
                <a:off x="6856560" y="1458720"/>
                <a:ext cx="83664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直接连接符 4"/>
              <p:cNvSpPr/>
              <p:nvPr/>
            </p:nvSpPr>
            <p:spPr>
              <a:xfrm>
                <a:off x="6856560" y="1870920"/>
                <a:ext cx="8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直接连接符 6"/>
              <p:cNvSpPr/>
              <p:nvPr/>
            </p:nvSpPr>
            <p:spPr>
              <a:xfrm>
                <a:off x="7275240" y="147204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文本框 64"/>
            <p:cNvSpPr/>
            <p:nvPr/>
          </p:nvSpPr>
          <p:spPr>
            <a:xfrm>
              <a:off x="6881760" y="1427040"/>
              <a:ext cx="811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布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组合 53"/>
          <p:cNvGrpSpPr/>
          <p:nvPr/>
        </p:nvGrpSpPr>
        <p:grpSpPr>
          <a:xfrm>
            <a:off x="7942320" y="1419120"/>
            <a:ext cx="838080" cy="882720"/>
            <a:chOff x="7942320" y="1419120"/>
            <a:chExt cx="838080" cy="882720"/>
          </a:xfrm>
        </p:grpSpPr>
        <p:grpSp>
          <p:nvGrpSpPr>
            <p:cNvPr id="381" name="组合 7"/>
            <p:cNvGrpSpPr/>
            <p:nvPr/>
          </p:nvGrpSpPr>
          <p:grpSpPr>
            <a:xfrm>
              <a:off x="7942320" y="1450800"/>
              <a:ext cx="838080" cy="851040"/>
              <a:chOff x="7942320" y="1450800"/>
              <a:chExt cx="838080" cy="851040"/>
            </a:xfrm>
          </p:grpSpPr>
          <p:sp>
            <p:nvSpPr>
              <p:cNvPr id="382" name="矩形 1"/>
              <p:cNvSpPr/>
              <p:nvPr/>
            </p:nvSpPr>
            <p:spPr>
              <a:xfrm>
                <a:off x="7942320" y="1450800"/>
                <a:ext cx="838080" cy="837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直接连接符 4"/>
              <p:cNvSpPr/>
              <p:nvPr/>
            </p:nvSpPr>
            <p:spPr>
              <a:xfrm>
                <a:off x="7942320" y="186300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直接连接符 6"/>
              <p:cNvSpPr/>
              <p:nvPr/>
            </p:nvSpPr>
            <p:spPr>
              <a:xfrm>
                <a:off x="8361720" y="1464120"/>
                <a:ext cx="0" cy="83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5" name="文本框 64"/>
            <p:cNvSpPr/>
            <p:nvPr/>
          </p:nvSpPr>
          <p:spPr>
            <a:xfrm>
              <a:off x="7967520" y="1419120"/>
              <a:ext cx="812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消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矩形 4"/>
          <p:cNvSpPr/>
          <p:nvPr/>
        </p:nvSpPr>
        <p:spPr>
          <a:xfrm>
            <a:off x="752400" y="272268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仔细观察田字格中的生字，找一找有相同特点的生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组合 56"/>
          <p:cNvGrpSpPr/>
          <p:nvPr/>
        </p:nvGrpSpPr>
        <p:grpSpPr>
          <a:xfrm>
            <a:off x="119160" y="380880"/>
            <a:ext cx="3012840" cy="755640"/>
            <a:chOff x="119160" y="380880"/>
            <a:chExt cx="3012840" cy="755640"/>
          </a:xfrm>
        </p:grpSpPr>
        <p:pic>
          <p:nvPicPr>
            <p:cNvPr id="388" name="Text Box 15" descr=""/>
            <p:cNvPicPr/>
            <p:nvPr/>
          </p:nvPicPr>
          <p:blipFill>
            <a:blip r:embed="rId2"/>
            <a:stretch/>
          </p:blipFill>
          <p:spPr>
            <a:xfrm>
              <a:off x="576720" y="380880"/>
              <a:ext cx="255528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图片 58" descr=""/>
            <p:cNvPicPr/>
            <p:nvPr/>
          </p:nvPicPr>
          <p:blipFill>
            <a:blip r:embed="rId3"/>
            <a:stretch/>
          </p:blipFill>
          <p:spPr>
            <a:xfrm rot="20952000">
              <a:off x="159840" y="502200"/>
              <a:ext cx="658080" cy="4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矩形: 圆角 1"/>
          <p:cNvSpPr/>
          <p:nvPr/>
        </p:nvSpPr>
        <p:spPr>
          <a:xfrm>
            <a:off x="2411280" y="1365120"/>
            <a:ext cx="3240360" cy="103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本框 64"/>
          <p:cNvSpPr/>
          <p:nvPr/>
        </p:nvSpPr>
        <p:spPr>
          <a:xfrm>
            <a:off x="971640" y="1787400"/>
            <a:ext cx="129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纟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左大括号 20"/>
          <p:cNvSpPr/>
          <p:nvPr/>
        </p:nvSpPr>
        <p:spPr>
          <a:xfrm>
            <a:off x="2700360" y="853920"/>
            <a:ext cx="358920" cy="3446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43560 h 3446640"/>
              <a:gd name="textAreaBottom" fmla="*/ 3403080 h 344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0"/>
                  <a:pt x="10800" y="879"/>
                </a:cubicBezTo>
                <a:lnTo>
                  <a:pt x="10800" y="9921"/>
                </a:lnTo>
                <a:cubicBezTo>
                  <a:pt x="10800" y="10361"/>
                  <a:pt x="5400" y="10800"/>
                  <a:pt x="0" y="10800"/>
                </a:cubicBezTo>
                <a:cubicBezTo>
                  <a:pt x="5400" y="10800"/>
                  <a:pt x="10800" y="11240"/>
                  <a:pt x="10800" y="11679"/>
                </a:cubicBezTo>
                <a:lnTo>
                  <a:pt x="10800" y="20721"/>
                </a:lnTo>
                <a:cubicBezTo>
                  <a:pt x="10800" y="2116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文本框 64"/>
          <p:cNvSpPr/>
          <p:nvPr/>
        </p:nvSpPr>
        <p:spPr>
          <a:xfrm>
            <a:off x="3132000" y="422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文本框 64"/>
          <p:cNvSpPr/>
          <p:nvPr/>
        </p:nvSpPr>
        <p:spPr>
          <a:xfrm>
            <a:off x="1476360" y="17762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楷体"/>
                <a:ea typeface="楷体"/>
              </a:rPr>
              <a:t>+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64"/>
          <p:cNvSpPr/>
          <p:nvPr/>
        </p:nvSpPr>
        <p:spPr>
          <a:xfrm>
            <a:off x="3132000" y="14349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64"/>
          <p:cNvSpPr/>
          <p:nvPr/>
        </p:nvSpPr>
        <p:spPr>
          <a:xfrm>
            <a:off x="3132000" y="24462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7" name="直接箭头连接符 26"/>
          <p:cNvCxnSpPr/>
          <p:nvPr/>
        </p:nvCxnSpPr>
        <p:spPr>
          <a:xfrm>
            <a:off x="4355640" y="966600"/>
            <a:ext cx="1369080" cy="1080"/>
          </a:xfrm>
          <a:prstGeom prst="straightConnector1">
            <a:avLst/>
          </a:prstGeom>
          <a:ln w="38160">
            <a:solidFill>
              <a:srgbClr val="f69240"/>
            </a:solidFill>
            <a:miter/>
            <a:tailEnd len="med" type="triangle" w="med"/>
          </a:ln>
        </p:spPr>
      </p:cxnSp>
      <p:cxnSp>
        <p:nvCxnSpPr>
          <p:cNvPr id="398" name="直接箭头连接符 27"/>
          <p:cNvCxnSpPr/>
          <p:nvPr/>
        </p:nvCxnSpPr>
        <p:spPr>
          <a:xfrm>
            <a:off x="4355640" y="1977840"/>
            <a:ext cx="1369080" cy="1080"/>
          </a:xfrm>
          <a:prstGeom prst="straightConnector1">
            <a:avLst/>
          </a:prstGeom>
          <a:ln w="38160">
            <a:solidFill>
              <a:srgbClr val="f69240"/>
            </a:solidFill>
            <a:miter/>
            <a:tailEnd len="med" type="triangle" w="med"/>
          </a:ln>
        </p:spPr>
      </p:cxnSp>
      <p:cxnSp>
        <p:nvCxnSpPr>
          <p:cNvPr id="399" name="直接箭头连接符 28"/>
          <p:cNvCxnSpPr/>
          <p:nvPr/>
        </p:nvCxnSpPr>
        <p:spPr>
          <a:xfrm>
            <a:off x="4355640" y="3024000"/>
            <a:ext cx="1369080" cy="1080"/>
          </a:xfrm>
          <a:prstGeom prst="straightConnector1">
            <a:avLst/>
          </a:prstGeom>
          <a:ln w="38160">
            <a:solidFill>
              <a:srgbClr val="f69240"/>
            </a:solidFill>
            <a:miter/>
            <a:tailEnd len="med" type="triangle" w="med"/>
          </a:ln>
        </p:spPr>
      </p:cxnSp>
      <p:sp>
        <p:nvSpPr>
          <p:cNvPr id="400" name="文本框 64"/>
          <p:cNvSpPr/>
          <p:nvPr/>
        </p:nvSpPr>
        <p:spPr>
          <a:xfrm>
            <a:off x="5948280" y="4111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64"/>
          <p:cNvSpPr/>
          <p:nvPr/>
        </p:nvSpPr>
        <p:spPr>
          <a:xfrm>
            <a:off x="5948280" y="14241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64"/>
          <p:cNvSpPr/>
          <p:nvPr/>
        </p:nvSpPr>
        <p:spPr>
          <a:xfrm>
            <a:off x="5948280" y="24354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楷体"/>
                <a:ea typeface="楷体"/>
              </a:rPr>
              <a:t>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文本框 64"/>
          <p:cNvSpPr/>
          <p:nvPr/>
        </p:nvSpPr>
        <p:spPr>
          <a:xfrm>
            <a:off x="2879640" y="33955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直接箭头连接符 33"/>
          <p:cNvCxnSpPr/>
          <p:nvPr/>
        </p:nvCxnSpPr>
        <p:spPr>
          <a:xfrm>
            <a:off x="4392360" y="4084200"/>
            <a:ext cx="1369080" cy="1080"/>
          </a:xfrm>
          <a:prstGeom prst="straightConnector1">
            <a:avLst/>
          </a:prstGeom>
          <a:ln w="38160">
            <a:solidFill>
              <a:srgbClr val="f69240"/>
            </a:solidFill>
            <a:miter/>
            <a:tailEnd len="med" type="triangle" w="med"/>
          </a:ln>
        </p:spPr>
      </p:cxnSp>
      <p:sp>
        <p:nvSpPr>
          <p:cNvPr id="405" name="文本框 64"/>
          <p:cNvSpPr/>
          <p:nvPr/>
        </p:nvSpPr>
        <p:spPr>
          <a:xfrm>
            <a:off x="5630760" y="33955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文本框 64"/>
          <p:cNvSpPr/>
          <p:nvPr/>
        </p:nvSpPr>
        <p:spPr>
          <a:xfrm>
            <a:off x="3132000" y="33591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楷体"/>
                <a:ea typeface="楷体"/>
              </a:rPr>
              <a:t>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文本框 64"/>
          <p:cNvSpPr/>
          <p:nvPr/>
        </p:nvSpPr>
        <p:spPr>
          <a:xfrm>
            <a:off x="5951520" y="334800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楷体"/>
                <a:ea typeface="楷体"/>
              </a:rPr>
              <a:t>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Administrator</dc:creator>
  <dc:description>添加备注</dc:description>
  <cp:keywords>添加标记</cp:keywords>
  <dc:language>en-US</dc:language>
  <cp:lastModifiedBy>微软用户</cp:lastModifiedBy>
  <dcterms:modified xsi:type="dcterms:W3CDTF">2019-03-21T05:04:43Z</dcterms:modified>
  <cp:revision>965</cp:revision>
  <dc:subject>1</dc:subject>
  <dc:title>幻灯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来源">
    <vt:lpwstr>状元成才路系列</vt:lpwstr>
  </property>
</Properties>
</file>