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20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81AC-DF63-48F3-AB1B-C0548C8C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4BAB-5EA1-4FC5-A552-58AAB748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6A8-1CE1-4B30-AD6C-D58B4A1B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AA9-1C19-4D69-9D88-020EE823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2A49-1F0D-49F9-A4BD-44936306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0CCE-DC91-4D8B-A556-718C877D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A4AE-10D9-47F1-9EFB-E6600417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E5CD-7472-4FDA-84D8-3E010D55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5EC-FDC2-41BE-BCE2-37BA2615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5A21-0790-48A3-9AB1-24EA53D5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8CF2-5812-4A9A-AC61-E10FDF11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DC8-95F0-4AC5-91F9-BAD042F6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42E9-D700-42EC-BA6A-0AFB2C1EC7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20840" y="321300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小毛虫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4427640" y="1031760"/>
            <a:ext cx="403704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280" y="1197000"/>
            <a:ext cx="84250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与世隔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释义：与社会上的人们隔离，断绝来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形容隐居或人迹不到的极偏僻地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例句：这个小山村太偏僻了，村民们几乎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着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与世隔绝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的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755640" y="26028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词语学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2" descr=""/>
          <p:cNvPicPr/>
          <p:nvPr/>
        </p:nvPicPr>
        <p:blipFill>
          <a:blip r:embed="rId1"/>
          <a:stretch/>
        </p:blipFill>
        <p:spPr>
          <a:xfrm>
            <a:off x="5940360" y="4869000"/>
            <a:ext cx="208908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755640" y="1341360"/>
            <a:ext cx="7416720" cy="460872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52120" y="1483920"/>
            <a:ext cx="775188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Calibri"/>
                <a:ea typeface="楷体_GB2312"/>
              </a:rPr>
              <a:t>朗读课文二，理解课文内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Calibri"/>
                <a:ea typeface="楷体_GB2312"/>
              </a:rPr>
              <a:t>边读边思考下面的问题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Calibri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Calibri"/>
                <a:ea typeface="楷体_GB2312"/>
              </a:rPr>
              <a:t>小毛虫跟其他昆虫一样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Calibri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Calibri"/>
                <a:ea typeface="楷体_GB2312"/>
              </a:rPr>
              <a:t>小毛虫羡慕别人吗？它又是怎样做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Calibri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Calibri"/>
                <a:ea typeface="楷体_GB2312"/>
              </a:rPr>
              <a:t>小毛虫最后变成了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755640" y="260280"/>
            <a:ext cx="295272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学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2" descr=""/>
          <p:cNvPicPr/>
          <p:nvPr/>
        </p:nvPicPr>
        <p:blipFill>
          <a:blip r:embed="rId1"/>
          <a:stretch/>
        </p:blipFill>
        <p:spPr>
          <a:xfrm>
            <a:off x="6743880" y="576360"/>
            <a:ext cx="14284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26920" y="1341000"/>
            <a:ext cx="757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6c0a"/>
                </a:solidFill>
                <a:latin typeface="楷体_GB2312"/>
                <a:ea typeface="楷体_GB2312"/>
              </a:rPr>
              <a:t>小毛虫的发展变化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755640" y="260280"/>
            <a:ext cx="302436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梳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03160" y="2352600"/>
          <a:ext cx="7586640" cy="3514680"/>
        </p:xfrm>
        <a:graphic>
          <a:graphicData uri="http://schemas.openxmlformats.org/drawingml/2006/table">
            <a:tbl>
              <a:tblPr/>
              <a:tblGrid>
                <a:gridCol w="2849760"/>
                <a:gridCol w="4736880"/>
              </a:tblGrid>
              <a:tr h="106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一阶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自然段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笨拙的小毛虫，既不会跑，也不会飞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>
                        <a:alpha val="50000"/>
                      </a:srgbClr>
                    </a:solidFill>
                  </a:tcPr>
                </a:tc>
              </a:tr>
              <a:tr h="13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二阶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自然段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小毛虫不失望，也不羡慕别人，按自己的计划努力地吐丝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>
                        <a:alpha val="50000"/>
                      </a:srgbClr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三阶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（第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自然段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3d69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小毛虫终于破茧成蝶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3d69b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74360" y="1557360"/>
            <a:ext cx="754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6c0a"/>
                </a:solidFill>
                <a:latin typeface="Calibri"/>
                <a:ea typeface="楷体_GB2312"/>
              </a:rPr>
              <a:t>小毛虫懂得：每个人都有自己该做的事情。你是怎样理解这句话的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人与人之间是存在差异的，我们不能一味地与别人攀比，而是要做好自己的事情。只要做好自己该做的事，就是成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755640" y="260280"/>
            <a:ext cx="302436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梳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5" descr=""/>
          <p:cNvPicPr/>
          <p:nvPr/>
        </p:nvPicPr>
        <p:blipFill>
          <a:blip r:embed="rId1"/>
          <a:stretch/>
        </p:blipFill>
        <p:spPr>
          <a:xfrm>
            <a:off x="5724360" y="5157720"/>
            <a:ext cx="216072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泪滴形 3"/>
          <p:cNvSpPr/>
          <p:nvPr/>
        </p:nvSpPr>
        <p:spPr>
          <a:xfrm>
            <a:off x="758880" y="1628640"/>
            <a:ext cx="7700760" cy="3456000"/>
          </a:xfrm>
          <a:custGeom>
            <a:avLst/>
            <a:gdLst/>
            <a:ahLst/>
            <a:rect l="l" t="t" r="r" b="b"/>
            <a:pathLst>
              <a:path w="7700963" h="3455988">
                <a:moveTo>
                  <a:pt x="0" y="1727994"/>
                </a:moveTo>
                <a:cubicBezTo>
                  <a:pt x="0" y="773649"/>
                  <a:pt x="1723920" y="0"/>
                  <a:pt x="3850482" y="0"/>
                </a:cubicBezTo>
                <a:lnTo>
                  <a:pt x="7700963" y="0"/>
                </a:lnTo>
                <a:lnTo>
                  <a:pt x="7700963" y="1727994"/>
                </a:lnTo>
                <a:cubicBezTo>
                  <a:pt x="7700963" y="2682339"/>
                  <a:pt x="5977043" y="3455988"/>
                  <a:pt x="3850481" y="3455988"/>
                </a:cubicBezTo>
                <a:cubicBezTo>
                  <a:pt x="1723919" y="3455988"/>
                  <a:pt x="-1" y="2682339"/>
                  <a:pt x="-1" y="1727994"/>
                </a:cubicBezTo>
                <a:lnTo>
                  <a:pt x="0" y="1727994"/>
                </a:lnTo>
                <a:close/>
              </a:path>
            </a:pathLst>
          </a:custGeom>
          <a:solidFill>
            <a:srgbClr val="86fb11">
              <a:alpha val="66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258560" y="1844280"/>
            <a:ext cx="71038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Calibri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7030a0"/>
                </a:solidFill>
                <a:latin typeface="Calibri"/>
                <a:ea typeface="楷体_GB2312"/>
              </a:rPr>
              <a:t>分小组表演小毛虫的故事，并说说这个故事告诉我们什么道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755640" y="260280"/>
            <a:ext cx="295272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角色扮演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4" descr=""/>
          <p:cNvPicPr/>
          <p:nvPr/>
        </p:nvPicPr>
        <p:blipFill>
          <a:blip r:embed="rId1"/>
          <a:stretch/>
        </p:blipFill>
        <p:spPr>
          <a:xfrm>
            <a:off x="698400" y="4822920"/>
            <a:ext cx="15336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640" y="1181160"/>
            <a:ext cx="77169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Calibri"/>
                <a:ea typeface="楷体_GB2312"/>
              </a:rPr>
              <a:t>照样子，扩写句子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例如：它是小毛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它以前是一只笨拙的小毛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小毛虫编织茧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小毛虫长出翅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55640" y="260280"/>
            <a:ext cx="309564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后练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2"/>
          <p:cNvSpPr/>
          <p:nvPr/>
        </p:nvSpPr>
        <p:spPr>
          <a:xfrm>
            <a:off x="1042920" y="4672080"/>
            <a:ext cx="7309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7"/>
          <p:cNvSpPr/>
          <p:nvPr/>
        </p:nvSpPr>
        <p:spPr>
          <a:xfrm>
            <a:off x="1116000" y="5994360"/>
            <a:ext cx="7056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1060560" y="551664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毛虫惊奇地发现自己身上长出了一双轻巧的翅膀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9"/>
          <p:cNvSpPr/>
          <p:nvPr/>
        </p:nvSpPr>
        <p:spPr>
          <a:xfrm>
            <a:off x="1116000" y="6470640"/>
            <a:ext cx="7056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934920" y="41497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毛虫学会吐丝，为自己编织一个牢固的茧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5" descr=""/>
          <p:cNvPicPr/>
          <p:nvPr/>
        </p:nvPicPr>
        <p:blipFill>
          <a:blip r:embed="rId1"/>
          <a:stretch/>
        </p:blipFill>
        <p:spPr>
          <a:xfrm>
            <a:off x="6315120" y="765000"/>
            <a:ext cx="171144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4"/>
          <p:cNvSpPr/>
          <p:nvPr/>
        </p:nvSpPr>
        <p:spPr>
          <a:xfrm>
            <a:off x="755640" y="260280"/>
            <a:ext cx="309564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布置作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44360" y="2206800"/>
            <a:ext cx="748980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ea71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718a"/>
                </a:solidFill>
                <a:latin typeface="Calibri"/>
                <a:ea typeface="楷体_GB2312"/>
              </a:rPr>
              <a:t>抄写生字词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ea71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718a"/>
                </a:solidFill>
                <a:latin typeface="Calibri"/>
                <a:ea typeface="楷体_GB2312"/>
              </a:rPr>
              <a:t>完成课后练习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ea71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718a"/>
                </a:solidFill>
                <a:latin typeface="Calibri"/>
                <a:ea typeface="楷体_GB2312"/>
              </a:rPr>
              <a:t>把小毛虫的故事说给爸爸妈妈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图片 4" descr=""/>
          <p:cNvPicPr/>
          <p:nvPr/>
        </p:nvPicPr>
        <p:blipFill>
          <a:blip r:embed="rId1"/>
          <a:stretch/>
        </p:blipFill>
        <p:spPr>
          <a:xfrm>
            <a:off x="5986440" y="1268280"/>
            <a:ext cx="2190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矩形 3" descr=""/>
          <p:cNvPicPr/>
          <p:nvPr/>
        </p:nvPicPr>
        <p:blipFill>
          <a:blip r:embed="rId2"/>
          <a:stretch/>
        </p:blipFill>
        <p:spPr>
          <a:xfrm>
            <a:off x="2414520" y="676440"/>
            <a:ext cx="517536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"/>
          <p:cNvSpPr/>
          <p:nvPr/>
        </p:nvSpPr>
        <p:spPr>
          <a:xfrm>
            <a:off x="755640" y="260280"/>
            <a:ext cx="302436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导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矩形 1" descr=""/>
          <p:cNvPicPr/>
          <p:nvPr/>
        </p:nvPicPr>
        <p:blipFill>
          <a:blip r:embed="rId1"/>
          <a:stretch/>
        </p:blipFill>
        <p:spPr>
          <a:xfrm>
            <a:off x="2176560" y="1054080"/>
            <a:ext cx="4711680" cy="19144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2"/>
          <a:stretch/>
        </p:blipFill>
        <p:spPr>
          <a:xfrm>
            <a:off x="1258920" y="2637000"/>
            <a:ext cx="702144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云形 4"/>
          <p:cNvSpPr/>
          <p:nvPr/>
        </p:nvSpPr>
        <p:spPr>
          <a:xfrm>
            <a:off x="539640" y="1197000"/>
            <a:ext cx="7920000" cy="4896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ddd9c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2"/>
          <p:cNvSpPr/>
          <p:nvPr/>
        </p:nvSpPr>
        <p:spPr>
          <a:xfrm>
            <a:off x="755640" y="260280"/>
            <a:ext cx="302436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导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1187280" y="2014560"/>
            <a:ext cx="69850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除了丑小鸭变天鹅的故事，我们今天还有一个小毛虫变蝴蝶的故事。你们想知道这个故事吗？快打开课本吧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5"/>
          <p:cNvSpPr/>
          <p:nvPr/>
        </p:nvSpPr>
        <p:spPr>
          <a:xfrm>
            <a:off x="755640" y="26028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字学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8"/>
          <p:cNvSpPr/>
          <p:nvPr/>
        </p:nvSpPr>
        <p:spPr>
          <a:xfrm>
            <a:off x="1058760" y="4308480"/>
            <a:ext cx="1368360" cy="936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拙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9"/>
          <p:cNvSpPr/>
          <p:nvPr/>
        </p:nvSpPr>
        <p:spPr>
          <a:xfrm>
            <a:off x="1058760" y="2117880"/>
            <a:ext cx="1368360" cy="93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挪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3163320" y="3792600"/>
            <a:ext cx="14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zhuō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3303000" y="156672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nuó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3348000" y="2852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挪动   挪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3355920" y="51134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笨拙   拙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左大括号 1"/>
          <p:cNvSpPr/>
          <p:nvPr/>
        </p:nvSpPr>
        <p:spPr>
          <a:xfrm>
            <a:off x="2700360" y="1887480"/>
            <a:ext cx="473040" cy="1397160"/>
          </a:xfrm>
          <a:custGeom>
            <a:avLst/>
            <a:gdLst>
              <a:gd name="textAreaLeft" fmla="*/ 302400 w 473040"/>
              <a:gd name="textAreaRight" fmla="*/ 473400 w 473040"/>
              <a:gd name="textAreaTop" fmla="*/ 12240 h 1397160"/>
              <a:gd name="textAreaBottom" fmla="*/ 1384920 h 139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5"/>
                  <a:pt x="10800" y="610"/>
                </a:cubicBezTo>
                <a:lnTo>
                  <a:pt x="10800" y="10190"/>
                </a:lnTo>
                <a:cubicBezTo>
                  <a:pt x="10800" y="10495"/>
                  <a:pt x="5400" y="10800"/>
                  <a:pt x="0" y="10800"/>
                </a:cubicBezTo>
                <a:cubicBezTo>
                  <a:pt x="5400" y="10800"/>
                  <a:pt x="10800" y="11105"/>
                  <a:pt x="10800" y="11410"/>
                </a:cubicBezTo>
                <a:lnTo>
                  <a:pt x="10800" y="20990"/>
                </a:lnTo>
                <a:cubicBezTo>
                  <a:pt x="10800" y="2129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左大括号 15"/>
          <p:cNvSpPr/>
          <p:nvPr/>
        </p:nvSpPr>
        <p:spPr>
          <a:xfrm>
            <a:off x="2763720" y="4149720"/>
            <a:ext cx="344520" cy="1252440"/>
          </a:xfrm>
          <a:custGeom>
            <a:avLst/>
            <a:gdLst>
              <a:gd name="textAreaLeft" fmla="*/ 220320 w 344520"/>
              <a:gd name="textAreaRight" fmla="*/ 344880 w 344520"/>
              <a:gd name="textAreaTop" fmla="*/ 8640 h 1252440"/>
              <a:gd name="textAreaBottom" fmla="*/ 1243800 h 125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8"/>
                  <a:pt x="10800" y="495"/>
                </a:cubicBezTo>
                <a:lnTo>
                  <a:pt x="10800" y="10305"/>
                </a:lnTo>
                <a:cubicBezTo>
                  <a:pt x="10800" y="10553"/>
                  <a:pt x="5400" y="10800"/>
                  <a:pt x="0" y="10800"/>
                </a:cubicBezTo>
                <a:cubicBezTo>
                  <a:pt x="5400" y="10800"/>
                  <a:pt x="10800" y="11048"/>
                  <a:pt x="10800" y="11295"/>
                </a:cubicBezTo>
                <a:lnTo>
                  <a:pt x="10800" y="21105"/>
                </a:lnTo>
                <a:cubicBezTo>
                  <a:pt x="10800" y="2135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2" descr=""/>
          <p:cNvPicPr/>
          <p:nvPr/>
        </p:nvPicPr>
        <p:blipFill>
          <a:blip r:embed="rId1"/>
          <a:stretch/>
        </p:blipFill>
        <p:spPr>
          <a:xfrm>
            <a:off x="6516720" y="1851120"/>
            <a:ext cx="1419120" cy="16970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" descr=""/>
          <p:cNvPicPr/>
          <p:nvPr/>
        </p:nvPicPr>
        <p:blipFill>
          <a:blip r:embed="rId2"/>
          <a:stretch/>
        </p:blipFill>
        <p:spPr>
          <a:xfrm>
            <a:off x="6146640" y="4308480"/>
            <a:ext cx="215928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5"/>
          <p:cNvSpPr/>
          <p:nvPr/>
        </p:nvSpPr>
        <p:spPr>
          <a:xfrm>
            <a:off x="755640" y="26028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字学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1058760" y="4308480"/>
            <a:ext cx="1368360" cy="936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3348000" y="3825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jié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3355920" y="51134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捷   敏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左大括号 1"/>
          <p:cNvSpPr/>
          <p:nvPr/>
        </p:nvSpPr>
        <p:spPr>
          <a:xfrm>
            <a:off x="2700360" y="1887480"/>
            <a:ext cx="473040" cy="1397160"/>
          </a:xfrm>
          <a:custGeom>
            <a:avLst/>
            <a:gdLst>
              <a:gd name="textAreaLeft" fmla="*/ 302400 w 473040"/>
              <a:gd name="textAreaRight" fmla="*/ 473400 w 473040"/>
              <a:gd name="textAreaTop" fmla="*/ 12240 h 1397160"/>
              <a:gd name="textAreaBottom" fmla="*/ 1384920 h 139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5"/>
                  <a:pt x="10800" y="610"/>
                </a:cubicBezTo>
                <a:lnTo>
                  <a:pt x="10800" y="10190"/>
                </a:lnTo>
                <a:cubicBezTo>
                  <a:pt x="10800" y="10495"/>
                  <a:pt x="5400" y="10800"/>
                  <a:pt x="0" y="10800"/>
                </a:cubicBezTo>
                <a:cubicBezTo>
                  <a:pt x="5400" y="10800"/>
                  <a:pt x="10800" y="11105"/>
                  <a:pt x="10800" y="11410"/>
                </a:cubicBezTo>
                <a:lnTo>
                  <a:pt x="10800" y="20990"/>
                </a:lnTo>
                <a:cubicBezTo>
                  <a:pt x="10800" y="2129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左大括号 15"/>
          <p:cNvSpPr/>
          <p:nvPr/>
        </p:nvSpPr>
        <p:spPr>
          <a:xfrm>
            <a:off x="2763720" y="4149720"/>
            <a:ext cx="344520" cy="1252440"/>
          </a:xfrm>
          <a:custGeom>
            <a:avLst/>
            <a:gdLst>
              <a:gd name="textAreaLeft" fmla="*/ 220320 w 344520"/>
              <a:gd name="textAreaRight" fmla="*/ 344880 w 344520"/>
              <a:gd name="textAreaTop" fmla="*/ 8640 h 1252440"/>
              <a:gd name="textAreaBottom" fmla="*/ 1243800 h 125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8"/>
                  <a:pt x="10800" y="495"/>
                </a:cubicBezTo>
                <a:lnTo>
                  <a:pt x="10800" y="10305"/>
                </a:lnTo>
                <a:cubicBezTo>
                  <a:pt x="10800" y="10553"/>
                  <a:pt x="5400" y="10800"/>
                  <a:pt x="0" y="10800"/>
                </a:cubicBezTo>
                <a:cubicBezTo>
                  <a:pt x="5400" y="10800"/>
                  <a:pt x="10800" y="11048"/>
                  <a:pt x="10800" y="11295"/>
                </a:cubicBezTo>
                <a:lnTo>
                  <a:pt x="10800" y="21105"/>
                </a:lnTo>
                <a:cubicBezTo>
                  <a:pt x="10800" y="2135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5"/>
          <p:cNvSpPr/>
          <p:nvPr/>
        </p:nvSpPr>
        <p:spPr>
          <a:xfrm>
            <a:off x="1058760" y="2117880"/>
            <a:ext cx="1368360" cy="93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252600" y="153036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gu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3348000" y="29829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裹   裹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2" descr=""/>
          <p:cNvPicPr/>
          <p:nvPr/>
        </p:nvPicPr>
        <p:blipFill>
          <a:blip r:embed="rId1"/>
          <a:stretch/>
        </p:blipFill>
        <p:spPr>
          <a:xfrm>
            <a:off x="6156360" y="1809720"/>
            <a:ext cx="2020680" cy="14335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" descr=""/>
          <p:cNvPicPr/>
          <p:nvPr/>
        </p:nvPicPr>
        <p:blipFill>
          <a:blip r:embed="rId2"/>
          <a:stretch/>
        </p:blipFill>
        <p:spPr>
          <a:xfrm>
            <a:off x="6243480" y="4440240"/>
            <a:ext cx="18464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5"/>
          <p:cNvSpPr/>
          <p:nvPr/>
        </p:nvSpPr>
        <p:spPr>
          <a:xfrm>
            <a:off x="755640" y="26028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多音字学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左大括号 1"/>
          <p:cNvSpPr/>
          <p:nvPr/>
        </p:nvSpPr>
        <p:spPr>
          <a:xfrm>
            <a:off x="2678040" y="2176560"/>
            <a:ext cx="473040" cy="2765160"/>
          </a:xfrm>
          <a:custGeom>
            <a:avLst/>
            <a:gdLst>
              <a:gd name="textAreaLeft" fmla="*/ 302400 w 473040"/>
              <a:gd name="textAreaRight" fmla="*/ 473400 w 473040"/>
              <a:gd name="textAreaTop" fmla="*/ 12240 h 2765160"/>
              <a:gd name="textAreaBottom" fmla="*/ 2752920 h 276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4"/>
                  <a:pt x="10800" y="308"/>
                </a:cubicBezTo>
                <a:lnTo>
                  <a:pt x="10800" y="10492"/>
                </a:lnTo>
                <a:cubicBezTo>
                  <a:pt x="10800" y="10646"/>
                  <a:pt x="5400" y="10800"/>
                  <a:pt x="0" y="10800"/>
                </a:cubicBezTo>
                <a:cubicBezTo>
                  <a:pt x="5400" y="10800"/>
                  <a:pt x="10800" y="10954"/>
                  <a:pt x="10800" y="11108"/>
                </a:cubicBezTo>
                <a:lnTo>
                  <a:pt x="10800" y="21292"/>
                </a:lnTo>
                <a:cubicBezTo>
                  <a:pt x="10800" y="2144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990720" y="3009960"/>
            <a:ext cx="1368360" cy="936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3976200" y="140184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shān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4016520" y="239076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扇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左中括号 2"/>
          <p:cNvSpPr/>
          <p:nvPr/>
        </p:nvSpPr>
        <p:spPr>
          <a:xfrm>
            <a:off x="3611520" y="1585800"/>
            <a:ext cx="312840" cy="1179720"/>
          </a:xfrm>
          <a:custGeom>
            <a:avLst/>
            <a:gdLst>
              <a:gd name="textAreaLeft" fmla="*/ 91800 w 312840"/>
              <a:gd name="textAreaRight" fmla="*/ 313200 w 312840"/>
              <a:gd name="textAreaTop" fmla="*/ 12960 h 1179720"/>
              <a:gd name="textAreaBottom" fmla="*/ 1166760 h 117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39"/>
                  <a:pt x="0" y="477"/>
                </a:cubicBezTo>
                <a:lnTo>
                  <a:pt x="0" y="21123"/>
                </a:lnTo>
                <a:cubicBezTo>
                  <a:pt x="0" y="21362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左中括号 13"/>
          <p:cNvSpPr/>
          <p:nvPr/>
        </p:nvSpPr>
        <p:spPr>
          <a:xfrm>
            <a:off x="3611520" y="4273560"/>
            <a:ext cx="312840" cy="1179360"/>
          </a:xfrm>
          <a:custGeom>
            <a:avLst/>
            <a:gdLst>
              <a:gd name="textAreaLeft" fmla="*/ 91800 w 312840"/>
              <a:gd name="textAreaRight" fmla="*/ 313200 w 312840"/>
              <a:gd name="textAreaTop" fmla="*/ 12960 h 1179360"/>
              <a:gd name="textAreaBottom" fmla="*/ 1166400 h 117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39"/>
                  <a:pt x="0" y="477"/>
                </a:cubicBezTo>
                <a:lnTo>
                  <a:pt x="0" y="21123"/>
                </a:lnTo>
                <a:cubicBezTo>
                  <a:pt x="0" y="21362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4087440" y="3921120"/>
            <a:ext cx="14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B Pinyinok-C"/>
                <a:ea typeface="GB Pinyinok-C"/>
              </a:rPr>
              <a:t>shàn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4127400" y="51624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扇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5351400" y="20480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动词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7"/>
          <p:cNvSpPr/>
          <p:nvPr/>
        </p:nvSpPr>
        <p:spPr>
          <a:xfrm>
            <a:off x="5584680" y="456732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名词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4" descr=""/>
          <p:cNvPicPr/>
          <p:nvPr/>
        </p:nvPicPr>
        <p:blipFill>
          <a:blip r:embed="rId1"/>
          <a:stretch/>
        </p:blipFill>
        <p:spPr>
          <a:xfrm>
            <a:off x="6659640" y="681120"/>
            <a:ext cx="178416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765000" y="1483920"/>
            <a:ext cx="77774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抛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释义：丢弃；扔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例句：我们要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抛弃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旧的思想观念，与时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俱进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755640" y="26028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词语学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3" descr=""/>
          <p:cNvPicPr/>
          <p:nvPr/>
        </p:nvPicPr>
        <p:blipFill>
          <a:blip r:embed="rId1"/>
          <a:stretch/>
        </p:blipFill>
        <p:spPr>
          <a:xfrm>
            <a:off x="5830920" y="4005360"/>
            <a:ext cx="160020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5000" y="1483920"/>
            <a:ext cx="77774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新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释义：新鲜奇特，不常遇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例句：我要告诉你们一件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新奇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的事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755640" y="26028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词语学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5219640" y="4138560"/>
            <a:ext cx="22557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777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牢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释义：结实；坚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例句：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楷体_GB2312"/>
              </a:rPr>
              <a:t>牢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的大坝挡住了洪水，下游的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楷体_GB2312"/>
              </a:rPr>
              <a:t>村庄安全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755640" y="260280"/>
            <a:ext cx="316872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词语学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" descr=""/>
          <p:cNvPicPr/>
          <p:nvPr/>
        </p:nvPicPr>
        <p:blipFill>
          <a:blip r:embed="rId1"/>
          <a:stretch/>
        </p:blipFill>
        <p:spPr>
          <a:xfrm>
            <a:off x="5219640" y="4292640"/>
            <a:ext cx="266544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cp:keywords/>
  <dc:language>en-US</dc:language>
  <cp:lastModifiedBy>王康华</cp:lastModifiedBy>
  <dcterms:modified xsi:type="dcterms:W3CDTF">2014-11-18T07:20:05Z</dcterms:modified>
  <cp:revision>7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