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5.gif" ContentType="image/gif"/>
  <Override PartName="/ppt/media/image16.gif" ContentType="image/gif"/>
  <Override PartName="/ppt/media/image15.gif" ContentType="image/gif"/>
  <Override PartName="/ppt/media/image14.png" ContentType="image/png"/>
  <Override PartName="/ppt/media/image9.png" ContentType="image/png"/>
  <Override PartName="/ppt/media/image13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7A9C-7557-4B2B-9FA0-965B9B42A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0084-8CF4-4B1D-B95E-DB4BF3641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CE44-3723-4FDC-9C61-ACD9F31AD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11BB-CBF0-433C-AE3D-CFF2E6C4B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D94-5627-4BF2-8404-AE5BCF67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714-5D98-4CA7-89CC-9E5B1620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DB4-F6E1-481A-A12D-C4B6617F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1A6-1126-4DD1-AAFF-7AFF2DBE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22B-BACE-4192-AF3D-EEE07075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FF6-8CB8-4110-A333-45D26D5C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468-4A84-44D7-BADF-F11ECC88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909-4D79-4E04-B831-4175E9C7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7F6-A775-4A2E-B48F-1FE9E468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EC3-43E6-443F-BDFE-68EC80B1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43E-C03C-4A99-9AFC-11ECEC8A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66D-7587-4F1B-973B-4CE924B3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3E20-AFFF-4AD8-9A8D-3ECF55B8A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y.henanews.org.cn/images/mingren/ximenbao.JP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P3204338"/>
          <p:cNvPicPr/>
          <p:nvPr/>
        </p:nvPicPr>
        <p:blipFill>
          <a:blip r:embed="rId1"/>
          <a:stretch/>
        </p:blipFill>
        <p:spPr>
          <a:xfrm>
            <a:off x="-228600" y="-304920"/>
            <a:ext cx="9753480" cy="77724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771640" y="1557360"/>
            <a:ext cx="41529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宋体"/>
              </a:rPr>
              <a:t>西门豹治邺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西门豹治邺连环画8"/>
          <p:cNvPicPr/>
          <p:nvPr/>
        </p:nvPicPr>
        <p:blipFill>
          <a:blip r:embed="rId1"/>
          <a:srcRect l="2460" t="4839" r="30856" b="16734"/>
          <a:stretch/>
        </p:blipFill>
        <p:spPr>
          <a:xfrm>
            <a:off x="8675640" y="6716880"/>
            <a:ext cx="468360" cy="14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西门豹治邺连环画5"/>
          <p:cNvPicPr/>
          <p:nvPr/>
        </p:nvPicPr>
        <p:blipFill>
          <a:blip r:embed="rId2"/>
          <a:srcRect l="2063" t="2377" r="2063" b="16978"/>
          <a:stretch/>
        </p:blipFill>
        <p:spPr>
          <a:xfrm>
            <a:off x="0" y="0"/>
            <a:ext cx="250920" cy="171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684360" y="18900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西门豹到邺首先做了什么事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9640" y="1052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长老，问之民所疾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55640" y="1916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从长老的回答中，西门豹了解到哪些情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11280" y="335772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河伯娶媳妇是造成“田地荒芜，人烟稀少”的主要原因。②巫婆和官绅是首恶分子。③巫婆和官绅骗钱害人，使家里有女孩子的纷纷逃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西门豹治邺连环画8"/>
          <p:cNvPicPr/>
          <p:nvPr/>
        </p:nvPicPr>
        <p:blipFill>
          <a:blip r:embed="rId1"/>
          <a:srcRect l="2476" t="4805" r="30828" b="16704"/>
          <a:stretch/>
        </p:blipFill>
        <p:spPr>
          <a:xfrm>
            <a:off x="6012000" y="4941720"/>
            <a:ext cx="2736720" cy="172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西门豹治邺连环画5"/>
          <p:cNvPicPr/>
          <p:nvPr/>
        </p:nvPicPr>
        <p:blipFill>
          <a:blip r:embed="rId2"/>
          <a:srcRect l="2026" t="2418" r="2026" b="16864"/>
          <a:stretch/>
        </p:blipFill>
        <p:spPr>
          <a:xfrm>
            <a:off x="0" y="0"/>
            <a:ext cx="4932360" cy="4670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4932360" y="18900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门豹到邺县以后为什么要先了解民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076720" y="414972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是破除迷信的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19640" y="2492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体现了西门豹关心民众疾苦，注重调查研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755640" y="476568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了解民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179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第二段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了为河伯娶媳妇的日子，西门豹到河边与长老相会。三老、官员、有钱有势的人、地方上的父老也都会集在此，看热闹来的老百姓也有二三千人。那个女巫是个老婆子，已经七十岁。跟着来的女弟子有十来个人，都身穿丝绸做的禅衣（祭祀时的礼服），站在老巫婆的后面。西门豹说：“叫河伯的媳妇过来，我看看她长得漂亮不漂亮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们马上扶着这个女子出了帷帐，走到西门豹面前。西门豹看了看这个女子，回头对三老、巫祝、父老们说：“这个女子不漂亮，麻烦大巫婆为我到河里去禀报河伯，需要重新找过一个漂亮的女子，过几天再送去。”就叫差役们一齐抱起大巫婆，把她抛到河中。过了一会儿，说：“巫婆为什么去这么久？叫她弟子去催催她！”又把她的一个弟子抛到河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10800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89000"/>
            <a:ext cx="914400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过了一会儿，说：“这个弟子为什么也这么久？再派一个人去催催她们！”又抛一个弟子到河中。总共抛了三个弟子。西门豹说：“巫婆、弟子，这些都是女人，不能把事情说清楚。请三老替我去说明情况。”又把三老抛到河中。西门豹官帽上插着笔，弯着腰，恭恭敬敬，面对着河站着等了很久。长老、廷掾等在旁边看着的人都惊慌害怕。西门豹说：“巫婆、三老都不回来，怎么办？”想再派一个廷掾或者豪长到河里去催他们。这些人都吓得在地上叩头，而且把头都叩破了，额头上的血流了一地，脸色象死灰一样。西门豹说：“好了，暂且留下来再等他们一会儿。”过了一会儿，西门豹说：“廷掾可以起来了，看样子河伯留客要留很久，你们都散了吧，离开这儿回家去吧。”邺县的官吏和老百姓都非常惊恐，从此以后，不敢再提起为河伯娶媳妇的事了。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第二段重点文言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门豹往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巫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烦大巫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入报河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子不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者皆惊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留待之须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284720" y="1557360"/>
            <a:ext cx="4535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词，长老；动词“会”后省略介词“于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”后省略介词“于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词“为”后省略宾语“吾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词，这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“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暂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西门豹治邺连环画3"/>
          <p:cNvPicPr/>
          <p:nvPr/>
        </p:nvPicPr>
        <p:blipFill>
          <a:blip r:embed="rId1"/>
          <a:srcRect l="2476" t="3563" r="1828" b="17977"/>
          <a:stretch/>
        </p:blipFill>
        <p:spPr>
          <a:xfrm>
            <a:off x="0" y="2108160"/>
            <a:ext cx="9109080" cy="4757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6836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门豹为什么不直接告诉大家河伯是不存在的，希望大家不要相信河伯娶亲的假话？为什么不直接把主张为河伯娶亲的三老、廷掾、祝巫等人杀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87280" y="3357720"/>
            <a:ext cx="69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让事实说话，更具有说服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580000" y="522936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破除迷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nirin1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grpSp>
        <p:nvGrpSpPr>
          <p:cNvPr id="105" name="Group 3"/>
          <p:cNvGrpSpPr/>
          <p:nvPr/>
        </p:nvGrpSpPr>
        <p:grpSpPr>
          <a:xfrm>
            <a:off x="152280" y="0"/>
            <a:ext cx="3505320" cy="1676520"/>
            <a:chOff x="152280" y="0"/>
            <a:chExt cx="3505320" cy="1676520"/>
          </a:xfrm>
        </p:grpSpPr>
        <p:sp>
          <p:nvSpPr>
            <p:cNvPr id="106" name="AutoShape 4"/>
            <p:cNvSpPr/>
            <p:nvPr/>
          </p:nvSpPr>
          <p:spPr>
            <a:xfrm>
              <a:off x="152280" y="0"/>
              <a:ext cx="3505320" cy="1676520"/>
            </a:xfrm>
            <a:prstGeom prst="cloudCallout">
              <a:avLst>
                <a:gd name="adj1" fmla="val 89129"/>
                <a:gd name="adj2" fmla="val 11098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5"/>
            <p:cNvSpPr/>
            <p:nvPr/>
          </p:nvSpPr>
          <p:spPr>
            <a:xfrm>
              <a:off x="1225440" y="304920"/>
              <a:ext cx="1552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我来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6"/>
          <p:cNvSpPr/>
          <p:nvPr/>
        </p:nvSpPr>
        <p:spPr>
          <a:xfrm>
            <a:off x="1523880" y="1916280"/>
            <a:ext cx="6365880" cy="9169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你觉得西门豹的做法巧妙在哪里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1547640" y="407664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60093"/>
                  </a:solidFill>
                  <a:prstDash val="lgDash"/>
                  <a:miter/>
                </a:ln>
                <a:solidFill>
                  <a:srgbClr val="000000"/>
                </a:solidFill>
                <a:latin typeface="宋体"/>
              </a:rPr>
              <a:t>以其人之道，还治其人之身</a:t>
            </a:r>
            <a:endParaRPr b="1" lang="en-US" sz="1800" spc="1" strike="noStrike">
              <a:ln w="9360">
                <a:solidFill>
                  <a:srgbClr val="d60093"/>
                </a:solidFill>
                <a:prstDash val="lgDash"/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68360" y="5661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在三十六计中叫什么计？（将计就计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3733560" cy="1371240"/>
            <a:chOff x="0" y="0"/>
            <a:chExt cx="3733560" cy="1371240"/>
          </a:xfrm>
        </p:grpSpPr>
        <p:sp>
          <p:nvSpPr>
            <p:cNvPr id="112" name="AutoShape 3"/>
            <p:cNvSpPr/>
            <p:nvPr/>
          </p:nvSpPr>
          <p:spPr>
            <a:xfrm>
              <a:off x="0" y="0"/>
              <a:ext cx="3733560" cy="1371240"/>
            </a:xfrm>
            <a:prstGeom prst="cloudCallout">
              <a:avLst>
                <a:gd name="adj1" fmla="val 97967"/>
                <a:gd name="adj2" fmla="val 573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4"/>
            <p:cNvSpPr/>
            <p:nvPr/>
          </p:nvSpPr>
          <p:spPr>
            <a:xfrm>
              <a:off x="1113840" y="248760"/>
              <a:ext cx="1552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我来写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5"/>
          <p:cNvSpPr/>
          <p:nvPr/>
        </p:nvSpPr>
        <p:spPr>
          <a:xfrm>
            <a:off x="304920" y="1371600"/>
            <a:ext cx="8076960" cy="94716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想一下，岸上的老百姓看到了事情的经过会说些什么。请选择一个你感兴趣的对象写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官绅、乡里的书生、农夫、小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5638680" y="2819520"/>
            <a:ext cx="3505320" cy="1676160"/>
          </a:xfrm>
          <a:prstGeom prst="cloudCallout">
            <a:avLst>
              <a:gd name="adj1" fmla="val -56250"/>
              <a:gd name="adj2" fmla="val -60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呀，原来巫婆说的是假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0948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0" y="2971800"/>
            <a:ext cx="3505320" cy="1676520"/>
          </a:xfrm>
          <a:prstGeom prst="cloudCallout">
            <a:avLst>
              <a:gd name="adj1" fmla="val 29074"/>
              <a:gd name="adj2" fmla="val -70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门豹有胆有识，高明，高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066680" y="4648320"/>
            <a:ext cx="6858000" cy="1981080"/>
          </a:xfrm>
          <a:prstGeom prst="cloudCallout">
            <a:avLst>
              <a:gd name="adj1" fmla="val -2500"/>
              <a:gd name="adj2" fmla="val -152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哎，以前我们怎么会相信巫婆的鬼话呢，多亏西门大人，以后我们有好日子过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Arial"/>
                <a:ea typeface="华文隶书"/>
              </a:rPr>
              <a:t>梳理第三段内容</a:t>
            </a:r>
            <a:br>
              <a:rPr sz="7200"/>
            </a:br>
            <a:r>
              <a:rPr b="1" lang="zh-CN" sz="7200" spc="-1" strike="noStrike">
                <a:solidFill>
                  <a:srgbClr val="800000"/>
                </a:solidFill>
                <a:latin typeface="Arial"/>
                <a:ea typeface="华文隶书"/>
              </a:rPr>
              <a:t>突破文字障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10800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第三段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西门豹接着就征发老百姓开挖了十二条渠道，把河水引来灌溉农田，田地都得到灌溉。在那时，老百姓开渠稍微感到有些厌烦劳累，就不大愿意。西门豹说：“老百姓可以和他们共同为成功而快乐，不可以和他们一起考虑事情的开始。现在父老子弟虽然认为因我而受害受苦，但可以预期百年以后父老子孙会想起我今天说过的话。”直到现在邺县都能得到水的便利，老百姓因此而家给户足，生活富裕。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SSA51947.WAV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华文隶书"/>
              </a:rPr>
              <a:t>第三段重点文言知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民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足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796000" y="1628640"/>
            <a:ext cx="3348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48b50413e72f114df919b871"/>
          <p:cNvPicPr/>
          <p:nvPr/>
        </p:nvPicPr>
        <p:blipFill>
          <a:blip r:embed="rId1"/>
          <a:stretch/>
        </p:blipFill>
        <p:spPr>
          <a:xfrm>
            <a:off x="0" y="0"/>
            <a:ext cx="9036000" cy="6762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门豹破除迷信后又做了些什么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11"/>
          <p:cNvPicPr/>
          <p:nvPr/>
        </p:nvPicPr>
        <p:blipFill>
          <a:blip r:embed="rId2"/>
          <a:stretch/>
        </p:blipFill>
        <p:spPr>
          <a:xfrm>
            <a:off x="304920" y="228600"/>
            <a:ext cx="1901880" cy="1771560"/>
          </a:xfrm>
          <a:prstGeom prst="rect">
            <a:avLst/>
          </a:prstGeom>
          <a:ln w="0">
            <a:noFill/>
          </a:ln>
        </p:spPr>
      </p:pic>
      <p:sp>
        <p:nvSpPr>
          <p:cNvPr id="130" name="Oval 5">
            <a:hlinkClick r:id="rId3"/>
          </p:cNvPr>
          <p:cNvSpPr/>
          <p:nvPr/>
        </p:nvSpPr>
        <p:spPr>
          <a:xfrm>
            <a:off x="2268360" y="404640"/>
            <a:ext cx="17528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 Black"/>
                <a:ea typeface="隶书"/>
              </a:rPr>
              <a:t>思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981080" y="762120"/>
            <a:ext cx="7632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2286000" y="762120"/>
            <a:ext cx="7632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30.mp3" descr=""/>
          <p:cNvPicPr/>
          <p:nvPr/>
        </p:nvPicPr>
        <p:blipFill>
          <a:blip r:embed="rId4"/>
          <a:stretch/>
        </p:blipFill>
        <p:spPr>
          <a:xfrm>
            <a:off x="6948360" y="546264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1619280" y="2924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兴修水利引水灌溉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5111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56520" y="4361040"/>
            <a:ext cx="1887480" cy="24969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476280"/>
            <a:ext cx="8675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作者在叙述西门豹治邺时，用的笔墨不一样。破除迷信为什么详写，而修建水渠为什么略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68360" y="1484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因为兴修水利易，移风易俗难。破除迷信、打击好强权贵是治邺的关键。同时通过这件事也反映出西门豹卓越的才能和鲜明的个性，因此应当作重点细致的描写。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698472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认为西门豹是一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44"/>
          <p:cNvPicPr/>
          <p:nvPr/>
        </p:nvPicPr>
        <p:blipFill>
          <a:blip r:embed="rId1"/>
          <a:stretch/>
        </p:blipFill>
        <p:spPr>
          <a:xfrm>
            <a:off x="1066680" y="5715000"/>
            <a:ext cx="754380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3"/>
          <p:cNvPicPr/>
          <p:nvPr/>
        </p:nvPicPr>
        <p:blipFill>
          <a:blip r:embed="rId2"/>
          <a:stretch/>
        </p:blipFill>
        <p:spPr>
          <a:xfrm>
            <a:off x="6478560" y="3716280"/>
            <a:ext cx="2665440" cy="2586240"/>
          </a:xfrm>
          <a:prstGeom prst="rect">
            <a:avLst/>
          </a:prstGeom>
          <a:ln w="0">
            <a:noFill/>
          </a:ln>
        </p:spPr>
      </p:pic>
      <p:sp>
        <p:nvSpPr>
          <p:cNvPr id="141" name="Line 6"/>
          <p:cNvSpPr/>
          <p:nvPr/>
        </p:nvSpPr>
        <p:spPr>
          <a:xfrm flipH="1">
            <a:off x="7696080" y="380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5334120" y="228600"/>
            <a:ext cx="225108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7010280" y="990720"/>
            <a:ext cx="3049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867280" y="380880"/>
            <a:ext cx="129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想一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755640" y="314172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敢作敢为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11280" y="39337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勇于破除迷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55640" y="2421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关心百姓生活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39640" y="479736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远见卓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W020071210343788112410"/>
          <p:cNvPicPr/>
          <p:nvPr/>
        </p:nvPicPr>
        <p:blipFill>
          <a:blip r:embed="rId1"/>
          <a:stretch/>
        </p:blipFill>
        <p:spPr>
          <a:xfrm>
            <a:off x="179280" y="0"/>
            <a:ext cx="45133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268360" y="333360"/>
            <a:ext cx="69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曹操遗言：死后葬于西门豹祠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859280" y="1413000"/>
            <a:ext cx="4105440" cy="4968720"/>
          </a:xfrm>
          <a:prstGeom prst="cloudCallout">
            <a:avLst>
              <a:gd name="adj1" fmla="val -91532"/>
              <a:gd name="adj2" fmla="val -26643"/>
            </a:avLst>
          </a:prstGeom>
          <a:solidFill>
            <a:srgbClr val="e7e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等我死后，你们要把我埋葬在西门豹祠西边的高地之上，地面上不准堆起高高的坟头，也不能做任何记号。</a:t>
            </a: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反馈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找出下面各句中的通假字并解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即娉取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复使一人趣之 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长老、吏、傍观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皆惊恐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人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往观之者三二千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皆衣缯单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6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弟子女十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5003640" y="765000"/>
            <a:ext cx="414036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娉：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聘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取：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趣：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促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傍：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单衣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禅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许，表示约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8920" y="836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红体字解释不正确的一项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巫妪何久也？弟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？         催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从弟子女十人所，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缯单       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烦三老为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。               告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民、治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烦苦                 缺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020000" y="1125360"/>
            <a:ext cx="122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403280" y="4221000"/>
            <a:ext cx="36734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隶书"/>
              </a:rPr>
              <a:t>D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（稍微、略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619280" y="1413000"/>
            <a:ext cx="7129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魏文侯时，西门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邺令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外人道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家有好女者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真无马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弟子一人投河中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师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贻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皆罢去归矣。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更若役，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赋，则何如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854280" y="162864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47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列虚词意义用法相同的一项是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1476360" y="1557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1476360" y="2781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1476360" y="4005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1547640" y="5300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920160" y="2852640"/>
            <a:ext cx="65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39600" y="407664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985320" y="537372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8604360" y="476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539640" y="33336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面全部表现西门豹巧于斗争的一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幸来告语之，吾亦往送女   ②西门豹往会之河上    ③即将女出帷中，来至前。  ④是女子不好，烦大巫妪为入报河伯     ⑤巫妪何久也？弟子趣之   ⑥簪笔磬折，向河立待良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①②④⑤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②④⑤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①④⑤⑥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②③④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473120" y="4653000"/>
            <a:ext cx="153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选项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44"/>
          <p:cNvPicPr/>
          <p:nvPr/>
        </p:nvPicPr>
        <p:blipFill>
          <a:blip r:embed="rId1"/>
          <a:stretch/>
        </p:blipFill>
        <p:spPr>
          <a:xfrm>
            <a:off x="1066680" y="5715000"/>
            <a:ext cx="754380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Oval 4"/>
          <p:cNvSpPr/>
          <p:nvPr/>
        </p:nvSpPr>
        <p:spPr>
          <a:xfrm>
            <a:off x="900000" y="1916280"/>
            <a:ext cx="693432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1905120" y="2514600"/>
            <a:ext cx="3808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6324480" y="2362320"/>
            <a:ext cx="6098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63280" y="2124000"/>
            <a:ext cx="5567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谢  谢！再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2514600" y="220968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6095880" y="21337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西门豹治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83664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距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年的战国时期，有一位地方官名叫西门豹，是战国时期魏国人。他是历史上著名的政治家、军事家，曾立下赫赫战功，同时，他又是一个无神论者。在他为官期间，为老百姓做了许多好事，虽然他官职很小，却一直被人称颂。这到底是为什么呢？让我们通过课文学习来寻找答案吧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48b50413e72f114df919b871"/>
          <p:cNvPicPr/>
          <p:nvPr/>
        </p:nvPicPr>
        <p:blipFill>
          <a:blip r:embed="rId1"/>
          <a:stretch/>
        </p:blipFill>
        <p:spPr>
          <a:xfrm>
            <a:off x="0" y="0"/>
            <a:ext cx="9036000" cy="6762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Arial"/>
                <a:ea typeface="楷体_GB2312"/>
              </a:rPr>
              <a:t>西门豹到了邺以后做了哪几件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1"/>
          <p:cNvPicPr/>
          <p:nvPr/>
        </p:nvPicPr>
        <p:blipFill>
          <a:blip r:embed="rId2"/>
          <a:stretch/>
        </p:blipFill>
        <p:spPr>
          <a:xfrm>
            <a:off x="304920" y="228600"/>
            <a:ext cx="1901880" cy="1771560"/>
          </a:xfrm>
          <a:prstGeom prst="rect">
            <a:avLst/>
          </a:prstGeom>
          <a:ln w="0">
            <a:noFill/>
          </a:ln>
        </p:spPr>
      </p:pic>
      <p:sp>
        <p:nvSpPr>
          <p:cNvPr id="59" name="Oval 5">
            <a:hlinkClick r:id="rId3"/>
          </p:cNvPr>
          <p:cNvSpPr/>
          <p:nvPr/>
        </p:nvSpPr>
        <p:spPr>
          <a:xfrm>
            <a:off x="2268360" y="404640"/>
            <a:ext cx="17528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 Black"/>
                <a:ea typeface="隶书"/>
              </a:rPr>
              <a:t>思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1981080" y="762120"/>
            <a:ext cx="7632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2286000" y="762120"/>
            <a:ext cx="7632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0.mp3" descr=""/>
          <p:cNvPicPr/>
          <p:nvPr/>
        </p:nvPicPr>
        <p:blipFill>
          <a:blip r:embed="rId4"/>
          <a:stretch/>
        </p:blipFill>
        <p:spPr>
          <a:xfrm>
            <a:off x="6948360" y="546264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5111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026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268360" y="26028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弄清西门豹是怎样治理邺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2200" y="333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课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68360" y="126828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了解民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132000" y="256536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破除迷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356000" y="382896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修建水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华文隶书"/>
              </a:rPr>
              <a:t>梳理一二两段内容</a:t>
            </a:r>
            <a:br>
              <a:rPr sz="6000"/>
            </a:b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华文隶书"/>
              </a:rPr>
              <a:t>突破文字障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8964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译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47628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第一段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魏文侯时，西门豹任邺县令。他到邺县，会集当地年长而且有威望的人，问他们有关老百姓疾苦的事情。这些人说：“百姓苦于给河神娶媳妇，因为这个缘故，本地民穷财尽。”西门豹问这是怎么回事，这些人回答说：“邺县的三老、廷掾每年都要向老百姓征收赋税搜刮钱财，收取几百万钱财，他们只用其中的二三十万为河伯娶媳妇，而和祝巫一同分掉剩余的钱拿回家去。到了为河伯娶媳妇的时候，女巫到处巡查，看到小户人家的漂亮女子，便说‘这女子应当作河伯的媳妇’。马上就下聘礼娶去。给她洗澡洗头，给她做新的丝绸花衣，让她独自居住并沐浴斋戒；并为此在河边上给她做好供斋戒用的房子，张挂起赤黄色和大红色的绸帐，这个女子就住在那里面，给她备办牛肉酒食。这样经过十几天，大家又一起装饰点缀好那个像嫁女儿一样的床铺枕席，让这个女子坐在上面，然后把它浮到河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179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0" y="189000"/>
            <a:ext cx="9144000" cy="28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初在水面上漂浮着，漂了几十里便沉没了。那些有漂亮女子的人家，担心大巫祝替河伯娶她们去，因此大多带着自己的女儿远远地逃跑。也因为这个缘故，城里越来越空荡无人，以致更加贫困，这种情况从开始以来已经很长久了。老百姓中间流传的俗语说‘假如不给河伯娶媳妇，就会大水泛滥，把这里老百姓都淹死’ ”西门豹说：“到了给河伯娶媳妇的时候，希望三老、巫祝、父老都到河边去送新娘，有幸也请你们来告诉我这件事，我也要去送送这个女子。”这些人都说：“好。”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华文隶书"/>
              </a:rPr>
              <a:t>第一段重点文言知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民所疾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伯娶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常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赋敛百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伯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治新缯绮縠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酒饭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995640" y="1628640"/>
            <a:ext cx="5148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词，长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介词，替，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介词，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词，这；动词，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略介词“为”的宾语“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略介词“为”宾语“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2:55:53Z</dcterms:created>
  <dc:creator>a</dc:creator>
  <dc:description/>
  <dc:language>en-US</dc:language>
  <cp:lastModifiedBy>lenovo</cp:lastModifiedBy>
  <dcterms:modified xsi:type="dcterms:W3CDTF">2017-05-16T08:39:36Z</dcterms:modified>
  <cp:revision>8</cp:revision>
  <dc:subject/>
  <dc:title>幻灯片 1</dc:title>
</cp:coreProperties>
</file>