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6C2-5689-4CAD-B3AA-CA37C6E3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9BC-97AA-438F-B444-C2CD6F87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200-4F32-49F0-91A3-B8C0313F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2C4-D4B1-456B-A964-C52D58FC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520-7527-4508-AE60-93D645DD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BD7-03B3-4149-A56D-F1AC159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D7E-1711-4A22-A675-89702E6C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6A6-E1B9-4C58-9E9B-D6C98E6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95C-41DB-4DF9-BC46-6A8B838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2D2-3060-47B0-A604-8225EBF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6BE-6753-45F6-9BEC-B097E5C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866-15E0-444A-ACB8-67B12F4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BB2D-4C8C-4DF3-8A37-F063C254B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800000"/>
                </a:solidFill>
                <a:latin typeface="Arial"/>
                <a:ea typeface="华文隶书"/>
              </a:rPr>
              <a:t>西门豹治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3357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褚少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70600" y="48690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祁阳二中高二语文备课组  王艳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052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漳十二渠位于今河南省安阳市北、河北省临漳县西南，以漳河为水源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始建于战国前期，比李冰所筑的“都江堰”还早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多年，是我国见诸文字记载历史上最早的大型引水渠系统工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 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引漳十二渠又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西门渠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战国初年第一个大型引水渠系统。十二渠的建成不仅使当地因灌溉而致富，并且减轻了漳河洪水的威胁，从而使西汉到隋代几百年间，邺城一带成为政治经济的重要地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8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4876920" cy="1052640"/>
          </a:xfrm>
          <a:prstGeom prst="cloudCallout">
            <a:avLst>
              <a:gd name="adj1" fmla="val 80046"/>
              <a:gd name="adj2" fmla="val 71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522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资料助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8763120" cy="58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692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史记》称赞他：“故西门令为邺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闻天下，泽流后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无绝已时，几可谓非贤大夫哉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门豹死后，邺地百姓在他治水的地方兴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门豹大夫庙和投巫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宋、明、清三朝还为他树立了碑碣。直到现在，河北临漳地区还有一条渠，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门子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它也是一个纪念碑，记载着两千四百多年前这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神论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治邺功绩和人民群众对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崇敬与感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2379600"/>
            <a:ext cx="87138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被联合国教科文组织列入“世界文化遗产名录”的重庆大足石刻吸引了众多中外游人。然而石刻附近成群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相大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却使饱览精美石刻的游人大倒胃口。这些“大师”打着“佛教圣地”的幌子，对游人纠缠不止，一有机会就 “痛宰”游客一刀，每次看相索价竟高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为了取信游人，这些看相“大师”都煞有介事地自制了工作证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396720" y="189000"/>
            <a:ext cx="6516000" cy="1295280"/>
            <a:chOff x="-396720" y="189000"/>
            <a:chExt cx="6516000" cy="1295280"/>
          </a:xfrm>
        </p:grpSpPr>
        <p:sp>
          <p:nvSpPr>
            <p:cNvPr id="84" name=""/>
            <p:cNvSpPr/>
            <p:nvPr/>
          </p:nvSpPr>
          <p:spPr>
            <a:xfrm>
              <a:off x="-396720" y="189000"/>
              <a:ext cx="6516000" cy="1295280"/>
            </a:xfrm>
            <a:prstGeom prst="cloudCallout">
              <a:avLst>
                <a:gd name="adj1" fmla="val 45870"/>
                <a:gd name="adj2" fmla="val 10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9360" y="383040"/>
              <a:ext cx="4203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课后延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116000" y="1700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算命竟然也有“工作证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8915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228600"/>
            <a:ext cx="4267080" cy="1523880"/>
            <a:chOff x="0" y="228600"/>
            <a:chExt cx="4267080" cy="1523880"/>
          </a:xfrm>
        </p:grpSpPr>
        <p:sp>
          <p:nvSpPr>
            <p:cNvPr id="90" name=""/>
            <p:cNvSpPr/>
            <p:nvPr/>
          </p:nvSpPr>
          <p:spPr>
            <a:xfrm>
              <a:off x="0" y="228600"/>
              <a:ext cx="4267080" cy="1523880"/>
            </a:xfrm>
            <a:prstGeom prst="cloudCallout">
              <a:avLst>
                <a:gd name="adj1" fmla="val 45870"/>
                <a:gd name="adj2" fmla="val 10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080" y="45720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我来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724400" y="2637000"/>
            <a:ext cx="575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假如你是当代的西门豹你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么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5147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破旧必须立新，人民最终能享受胜利的成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反馈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出下面各句中的通假字并解释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①即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娉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使一人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之 　　　　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③长老、吏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者皆惊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呼河伯妇来，视其好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醜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下列红体字解释不正确的一项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巫妪何久也？弟子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趣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催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从弟子女十人所，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缯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衣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烦三老为入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。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告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民、治渠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烦苦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少：缺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197000"/>
            <a:ext cx="10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9280" y="1413000"/>
            <a:ext cx="712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魏文侯时，西门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邺令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人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家有好女者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无马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弟子一人投河中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《师说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贻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罢去归矣。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若役，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赋，则何如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4280" y="16286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76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列虚词意义用法相同的一项是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557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2781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400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30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0160" y="2852640"/>
            <a:ext cx="6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9600" y="40766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5320" y="53737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98760" y="4762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333360"/>
            <a:ext cx="8353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全部表现西门豹巧于斗争的一项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幸来告语之，吾亦往送女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门豹往会之河上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即将女出帷中，来至前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女子不好，烦大巫妪为入报河伯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巫妪何久也？弟子趣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簪笔磬折，向河立待良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①②④⑤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②④⑤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①④⑤⑥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②③④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836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33336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豹往到邺，会长老，问之民所疾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即使吏卒共抱大巫妪投之河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状河伯留客之久，若皆罢去归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至今皆得水利，民人以给足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1280" y="0"/>
            <a:ext cx="4876560" cy="1752480"/>
            <a:chOff x="611280" y="0"/>
            <a:chExt cx="4876560" cy="1752480"/>
          </a:xfrm>
        </p:grpSpPr>
        <p:sp>
          <p:nvSpPr>
            <p:cNvPr id="47" name=""/>
            <p:cNvSpPr/>
            <p:nvPr/>
          </p:nvSpPr>
          <p:spPr>
            <a:xfrm>
              <a:off x="611280" y="0"/>
              <a:ext cx="4876560" cy="1752480"/>
            </a:xfrm>
            <a:prstGeom prst="cloudCallout">
              <a:avLst>
                <a:gd name="adj1" fmla="val 38152"/>
                <a:gd name="adj2" fmla="val 871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3040" y="304920"/>
              <a:ext cx="3465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学习目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50920" y="2708280"/>
            <a:ext cx="741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熟读课文，掌握文言实词、虚词的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505320"/>
            <a:ext cx="748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了解西门豹为民除害的故事，懂得解决问题必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调查研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摸清情况才能有的放矢地办好事情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029200"/>
            <a:ext cx="750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分析人物语言，体会生动、丰满的人物形象，学习这一写作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问题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阅读第一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哪一句话提出了本文的重点问题？着重指出“小家女”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2420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14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第一段哪一句留下了悬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520" y="2771640"/>
            <a:ext cx="8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苦为河伯娶妇，以故贫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3480" y="3429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侮贫穷人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93236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至为河伯娶妇时，愿三老、巫祝、父老送女河上，幸来告语之，吾亦往送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404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14172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一系列的叙述描写都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渲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河伯娶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隆重气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因而也就更深刻的揭露了三老、廷掾和巫祝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故弄玄虚、愚弄民众的狡诈嘴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由“洗沐之”往下，“为治新缯绮縠衣 ”“为治斋宫河上 ”“为具牛酒饭食”“共粉饰之 ”等这一系列的叙述描写的作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3505320" cy="1676520"/>
            <a:chOff x="0" y="0"/>
            <a:chExt cx="3505320" cy="167652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3505320" cy="1676520"/>
            </a:xfrm>
            <a:prstGeom prst="cloudCallout">
              <a:avLst>
                <a:gd name="adj1" fmla="val 89129"/>
                <a:gd name="adj2" fmla="val 1109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3160" y="30492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我来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95280" y="1916280"/>
            <a:ext cx="8280360" cy="11912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门豹破除“河伯娶媳妇”的迷信、惩治巫婆官绅的办法巧妙在哪里？联系现实，谈谈这个故事给了你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43657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60093"/>
                  </a:solidFill>
                  <a:prstDash val="lgDash"/>
                  <a:miter/>
                </a:ln>
                <a:solidFill>
                  <a:srgbClr val="000000"/>
                </a:solidFill>
                <a:latin typeface="宋体"/>
              </a:rPr>
              <a:t>以其人之道，还治其人之身。</a:t>
            </a:r>
            <a:endParaRPr b="1" lang="en-US" sz="1800" spc="1" strike="noStrike">
              <a:ln w="9360">
                <a:solidFill>
                  <a:srgbClr val="d60093"/>
                </a:solidFill>
                <a:prstDash val="lgDash"/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5895000" y="476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阅读第二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333360"/>
            <a:ext cx="80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巧妙之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西门豹先装出对神的虔敬，提出“得更求好女”，让大巫报河伯，惩治了大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接连投下三个小巫后，又假借“巫妪、弟子皆女子也，不能白事”，将三老投入河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然后，西门豹“簪笔磬折，向河立待良久”，装出对河伯无限敬畏、等待河伯吩咐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90792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门豹完全用尊敬河伯、拥护为河伯娶妇的姿态，惩治了以为河伯娶妇为名残害百姓的官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西门豹表示“巫妪、三老不来还，奈之何”时，这些人被吓得狼狈不堪。骗局被揭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西门豹于是借口“状河伯留客之久，若皆罢去归矣” 顺势结束了这场闹剧。“邺吏民大惊恐，从是以后，不敢复言为河伯娶妇”说明西门豹惩治三老、巫祝的目的已经达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765000"/>
            <a:ext cx="7991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启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可从斗争的目的性和策略的灵活性相统一来思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50400" y="260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阅读第三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27476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门豹开渠引水，老百姓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始而怨之，久而敬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说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个好官也不容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信息发达的今天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何才能才能迅速赢得老百姓的理解和支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4005360"/>
            <a:ext cx="56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走访基层，听取心声，多加宣传，达成共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0:25:23Z</dcterms:created>
  <dc:creator>王艳秋</dc:creator>
  <dc:description/>
  <dc:language>en-US</dc:language>
  <cp:lastModifiedBy>User</cp:lastModifiedBy>
  <dcterms:modified xsi:type="dcterms:W3CDTF">2009-12-13T12:26:02Z</dcterms:modified>
  <cp:revision>12</cp:revision>
  <dc:subject/>
  <dc:title>西门豹治邺</dc:title>
</cp:coreProperties>
</file>