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245-618C-4E0D-9806-1E4E9794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AC5-9952-41D9-BD97-192AD2E9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128-26B7-4B3D-94BC-284F7557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8F4-E385-4D27-BE7C-FEF35C38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0C6-056F-4AD1-BE4B-8DF8F9FA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7C1-F248-475F-A0AB-9ACF7C15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FAB-7447-49CA-8841-D7FA27F3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94E-698E-4EFE-97EE-9FE0D4C8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95E-2DD1-4759-A9B8-CD8E8AAD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608-1CC7-4FCA-B7E0-05EFF91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1AB-48D7-432B-A7F2-95B786CD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FAE-41DE-43F9-B6F8-5F0A010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D90D-75C4-4DBE-9A4C-9AE8883591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14130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华文新魏"/>
              </a:rPr>
              <a:t>小蓝裙的故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4516560"/>
            <a:ext cx="51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四年级教学实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98320" y="1773720"/>
            <a:ext cx="140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初读课文，感知文章大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圈画生字，读准字、词、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掌握方法，分类识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借助词典，理解重点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及时标记，提出质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955800"/>
            <a:ext cx="374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关于预习的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198320" y="1773720"/>
            <a:ext cx="140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初读课文，感知文章大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圈画生字，读准字、词、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掌握方法，分类识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借助词典，理解重点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及时标记，提出质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55800"/>
            <a:ext cx="374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关于预习的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98320" y="1773720"/>
            <a:ext cx="140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初读课文，感知文章大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圈画生字，读准字、词、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掌握方法，分类识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借助词典，理解重点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及时标记，提出质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955800"/>
            <a:ext cx="374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关于预习的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112536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2349360"/>
            <a:ext cx="61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、交待主题，启发谈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二、检查读文，学习生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、再读课文，理清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四、书写生字，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052640"/>
            <a:ext cx="578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教学设计：（第一课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63640" y="213372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自由读文，读准字音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检查读文，学习生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汇报交流，夯实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多种方式，检查反馈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907920"/>
            <a:ext cx="61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二、初读课文，学习生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46440" y="2420280"/>
            <a:ext cx="537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形声字：镇   贡   协   梳   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41120" y="909000"/>
            <a:ext cx="204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用重物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抑制、震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用强力压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安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守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行政区划单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7333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48751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镇压   镇定   乡镇   镇痛   镇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1052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第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原来小女孩浑身脏兮兮的，与小蓝裙不很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第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原来家里也脏兮兮的一团糟，与穿着小蓝裙的漂亮女儿不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第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第二天爸爸上班时，看到家里的庭院杂草丛生，与屋里的环境很不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628640"/>
            <a:ext cx="788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形声字：镇   贡   协   梳   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独体字：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03320" y="1092240"/>
            <a:ext cx="716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脏、禁、调、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2622600"/>
            <a:ext cx="8928000" cy="1528560"/>
            <a:chOff x="324000" y="2622600"/>
            <a:chExt cx="8928000" cy="1528560"/>
          </a:xfrm>
        </p:grpSpPr>
        <p:sp>
          <p:nvSpPr>
            <p:cNvPr id="77" name=""/>
            <p:cNvSpPr/>
            <p:nvPr/>
          </p:nvSpPr>
          <p:spPr>
            <a:xfrm>
              <a:off x="324000" y="2892600"/>
              <a:ext cx="86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58920" y="269388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zang(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脏乱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87280" y="3557520"/>
              <a:ext cx="22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zang(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心脏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47640" y="285264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74920" y="3646440"/>
              <a:ext cx="14436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42560" y="3068640"/>
              <a:ext cx="28908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42920" y="3502080"/>
              <a:ext cx="21600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13080" y="262260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j  n (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不禁）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41800" y="3630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j  n (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禁止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75640" y="263700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diao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调查）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73840" y="3587760"/>
              <a:ext cx="237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tiao(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协调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32000" y="2892600"/>
              <a:ext cx="72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924360" y="3068640"/>
              <a:ext cx="28872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24360" y="3502080"/>
              <a:ext cx="21600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2000" y="2852640"/>
              <a:ext cx="86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32720" y="3084480"/>
              <a:ext cx="28872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2720" y="3517920"/>
              <a:ext cx="21564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27640" y="27813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56000" y="3716280"/>
              <a:ext cx="14472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64360" y="2708280"/>
              <a:ext cx="14436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236000" y="3644640"/>
              <a:ext cx="14436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27640" y="38606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00720" y="28526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907920"/>
            <a:ext cx="69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板块设计意图：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2492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培养学生热爱生活的情感，使学生能积极地面对人生，对生活充满美好的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8240" y="1844640"/>
            <a:ext cx="7620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148428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、再读课文，理清层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</a:t>
            </a: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检查读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</a:t>
            </a: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理清层次地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2200" y="1197000"/>
            <a:ext cx="84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起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谁最努力，对班级贡献最多，老师会亲手做一件“礼物”送给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经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小姑娘得到了一件小蓝裙，引发了几次“不协调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邻居们也动手把整条街道清扫得整齐干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2920" y="134136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1628640"/>
            <a:ext cx="626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教学设计：（第一课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、交待主题，启发谈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二、初读课文，学习生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、再读课文，理清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四、书写生字，布置作业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19280" y="184464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教学设计：（第二课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、复习导入，理清思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二、阅读感悟，深入体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、联系实际，读写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1890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一处：小女孩浑身脏兮兮的，与小蓝裙不很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二处：家里也脏兮兮的一团糟，与穿着小蓝裙的漂亮女儿不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三处：家里的庭院杂草丛生，与屋里的环境很不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四处：邻居们看到了这样的房子，不禁对自己住的地方也感到不对劲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60280"/>
            <a:ext cx="504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四处“不协调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44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漂亮的房屋——“不对劲儿”的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12536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脏兮兮的小女孩——小蓝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205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脏兮兮的家里 ——漂亮女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1240" y="3357720"/>
            <a:ext cx="70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杂草丛生的庭院——整洁的家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1890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一处：小女孩浑身脏兮兮的，与小蓝裙不很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二处：家里也脏兮兮的一团糟，与穿着小蓝裙的漂亮女儿不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三处：家里的庭院杂草丛生，与屋里的环境很不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四处：邻居们看到了这样的房子，不禁对自己住的地方也感到不对劲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60280"/>
            <a:ext cx="504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四处“不协调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5969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5969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15969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628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26049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49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6049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3581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0560" y="3581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2560" y="3581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4200" y="36133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4518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4518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518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4549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4549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4549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549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59680" y="30031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小女孩        家里        庭院         街道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29000" y="342900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29000" y="342900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45360" y="342900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11890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一处：小女孩浑身脏兮兮的，与小蓝裙不很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二处：家里也脏兮兮的一团糟，与穿着小蓝裙的漂亮女儿不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三处：家里的庭院杂草丛生，与屋里的环境很不协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第四处：邻居们看到了这样的房子，不禁对自己住的地方也感到不对劲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60280"/>
            <a:ext cx="504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四处“不协调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5969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5969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15969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1628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26049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049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6049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581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0560" y="3581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2560" y="3581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4200" y="36133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08360" y="4518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4518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518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4549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4549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4549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27640" y="4549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4428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教学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773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认识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个生字，会写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个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能够正确、流利、有感情地朗读课文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学习人们对美好生活的向往和追求完美的生活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98560" y="18604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教学设计：（第二课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、复习导入，理清思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二、阅读感悟，深入体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、联系实际，读写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6049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概括课文主要内容                      复述课文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068720" y="2282760"/>
            <a:ext cx="2808360" cy="642600"/>
            <a:chOff x="4068720" y="2282760"/>
            <a:chExt cx="2808360" cy="642600"/>
          </a:xfrm>
        </p:grpSpPr>
        <p:sp>
          <p:nvSpPr>
            <p:cNvPr id="159" name=""/>
            <p:cNvSpPr/>
            <p:nvPr/>
          </p:nvSpPr>
          <p:spPr>
            <a:xfrm>
              <a:off x="4213080" y="228276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复杂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8720" y="292428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026960" y="2924280"/>
            <a:ext cx="2489760" cy="642600"/>
            <a:chOff x="4026960" y="2924280"/>
            <a:chExt cx="2489760" cy="642600"/>
          </a:xfrm>
        </p:grpSpPr>
        <p:sp>
          <p:nvSpPr>
            <p:cNvPr id="162" name=""/>
            <p:cNvSpPr/>
            <p:nvPr/>
          </p:nvSpPr>
          <p:spPr>
            <a:xfrm>
              <a:off x="4211640" y="292428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简单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026960" y="3060720"/>
              <a:ext cx="1984680" cy="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835280" y="155736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围绕主题，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按叙述顺序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熟读内容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以讲故事的方式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90792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复述课文的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8920" y="27432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协（  ）  梳（  ）  栋（  ）  脏（  ）  调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胁（   ） 流（  ）  冻（  ）  桩（  ）  凋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290600"/>
            <a:ext cx="525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一、形近字组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47640" y="20098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禁，（  ）结构，部首（  ）。按音序查字法应查（    ），禁是多音字，在表示“抑制不住”的意思时读（  ），可以组词（  ），我能用它说一句话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(                             )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549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二、查字典完成下面填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1628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、老师亲自把一件礼物送给了小女孩。（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改为“被”字句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、家里被我和妈妈收拾得焕然一新。（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改为“把”字句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、没有你们的帮助，我无法度过这个难关。（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改为反问句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、这难道不是一个伟大的奇观吗？（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改为陈述句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549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三、改写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1844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根据课文的描述，引导学生正确把握课文的主要内容，并且能用自己的语言复述课文，体会课文表达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42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教学重点：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28407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引导学生在品读课文的过程中体会四处“不协调”的不同，进而使学生感悟到：美好的向往小到对一个人，大到对一个村镇，一个国家都会产生巨大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6360" y="4428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教学难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206568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教学重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根据课文的描述，引导学生正确把握课文的主要内容，并且能用自己的语言复述课文，体会课文表达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教学难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引导学生在品读课文的过程中体会四处“不协调”的不同，进而使学生感悟到：美好的向往小到对一个人，大到对一个村镇，一个国家都会产生巨大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0760" y="1938600"/>
            <a:ext cx="8715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第一课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初读课文，识记生字。理清层次，初步把握文章的主要内容，为第二课时深入理解课文奠定基础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第二课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在正确、流利朗读课文的基础上品读课文，重点处理书后“找一找，说一说”中的三个问题，为下节课复述课文做好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第三课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能正确、流利地复述课文，并从中体会课文要表达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198320" y="1773720"/>
            <a:ext cx="140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初读课文，感知文章大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圈画生字，读准字、词、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掌握方法，分类识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借助词典，理解重点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及时标记，提出质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955800"/>
            <a:ext cx="374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关于预习的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44080" y="27507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很多年以前，一个小镇上来了一位新老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9080" y="26002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2708280"/>
            <a:ext cx="1008000" cy="1081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5:47:42Z</dcterms:created>
  <dc:creator>微软用户</dc:creator>
  <dc:description/>
  <dc:language>en-US</dc:language>
  <cp:lastModifiedBy>lcx0127</cp:lastModifiedBy>
  <dcterms:modified xsi:type="dcterms:W3CDTF">2001-12-31T16:37:12Z</dcterms:modified>
  <cp:revision>60</cp:revision>
  <dc:subject/>
  <dc:title>扎实开展校本教研 有效促进教学质量提高</dc:title>
</cp:coreProperties>
</file>