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E29F-2E78-47F7-BB3F-D6995703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B281-108F-4C0F-ADB6-C1E699D5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189-52B4-46F1-9568-653AA83C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EC78-1577-435E-8C95-19D59EF1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11E9-1DA6-4194-9ADC-4F92A2F1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B012-BB13-4981-9C98-C6DD7856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FE66-5A3C-4D18-B6A8-5D8DD92D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61DD-BE0D-4BD0-8ABE-EDCFF34E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327B-CEE2-4587-8443-0511546F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D2F6-9B35-4C0D-9151-39CBE949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4B3E-E812-4AA7-B5C9-D1D0E9AE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C549-54FD-4078-A29D-6DC75D5F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9A91-06CE-40B7-81AD-EBA1A3E0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3F1F-6337-4F4B-A237-740F4F7B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3AB1-F511-401A-9545-74026A38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7B4F-017C-4BF8-982D-6BC7B128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E250-AF2B-4A1B-8FDB-FA2F62E1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08C00-B19A-4045-9CB5-D34195A1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125CB-64A3-415D-9297-F532DDCA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C5ED0-E64B-4F2D-8A2B-317F28C4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36BA0-9E3F-4730-AC5B-F4C696E3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5C630-3450-43E5-BF7F-D8ECBE30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F0B0-D11F-48A3-B587-41D9153E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284BD-49C2-4339-B318-51B702B5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89D44-B5BF-41E0-844E-DE11B759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D8520-38E2-4FC7-BC1B-EE606993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9B459-CBD2-4F76-AACA-623861DB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BAA54-2043-45F5-841F-1982DAC3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F397A-34E0-40AA-8C4F-2C30FD82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86AFC-3C6A-46CB-BF42-F0F40029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78AE-FE7F-4356-B222-0FDEAC2E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C30B-E827-44E1-BB28-BE9B888C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8939-3690-47CB-9F59-7E2271BE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7D4F-D243-4A7A-8E79-951EA5E4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DC4-671F-438E-A241-890E3D90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EBDD-7BA3-440D-85D2-68269590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16F9-AF72-40D7-BB27-0F17D1E43A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10FC-1FFD-495A-829E-41E5984ADE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58F8-0F5B-4360-88CD-39501DCCB37D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image.baidu.com/i?ct=503316480&amp;z=146590352&amp;tn=baiduimagedetail&amp;word=&#28165;&#37202;&amp;in=134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image.baidu.com/i?ct=503316480&amp;z=242315051&amp;tn=baiduimagedetail&amp;word=&#28165;&#37202;&amp;in=21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image.baidu.com/i?ct=503316480&amp;z=242315051&amp;tn=baiduimagedetail&amp;word=&#28165;&#37202;&amp;in=21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image.baidu.com/i?ct=503316480&amp;z=146590352&amp;tn=baiduimagedetail&amp;word=&#28165;&#37202;&amp;in=134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666880" y="148428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4e00"/>
                </a:solidFill>
                <a:latin typeface="Arial"/>
              </a:rPr>
              <a:t>              </a:t>
            </a:r>
            <a:r>
              <a:rPr b="0" lang="zh-CN" sz="9600" spc="-1" strike="noStrike">
                <a:solidFill>
                  <a:srgbClr val="c04e00"/>
                </a:solidFill>
                <a:latin typeface="Arial"/>
                <a:ea typeface="方正隶书简体"/>
              </a:rPr>
              <a:t>行路难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932360" y="371628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a5800"/>
                </a:solidFill>
                <a:latin typeface="方正隶书简体"/>
                <a:ea typeface="方正隶书简体"/>
              </a:rPr>
              <a:t>（唐）李  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5" name="Picture 4" descr="李白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312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6011640" cy="6858000"/>
            <a:chOff x="0" y="0"/>
            <a:chExt cx="6011640" cy="6858000"/>
          </a:xfrm>
        </p:grpSpPr>
        <p:pic>
          <p:nvPicPr>
            <p:cNvPr id="161" name="Picture 6" descr="D:\Documents and Settings\谢海榕\桌面\图片\21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011640" cy="352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7" descr="D:\Documents and Settings\谢海榕\桌面\图片\42.JPG"/>
            <p:cNvPicPr/>
            <p:nvPr/>
          </p:nvPicPr>
          <p:blipFill>
            <a:blip r:embed="rId2"/>
            <a:stretch/>
          </p:blipFill>
          <p:spPr>
            <a:xfrm>
              <a:off x="0" y="3362400"/>
              <a:ext cx="6011640" cy="349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Text Box 5"/>
          <p:cNvSpPr/>
          <p:nvPr/>
        </p:nvSpPr>
        <p:spPr>
          <a:xfrm>
            <a:off x="6953400" y="260280"/>
            <a:ext cx="127764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闲来垂钓碧溪上，      忽复乘舟梦日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7062120" y="3429000"/>
            <a:ext cx="1399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c0099"/>
                </a:solidFill>
                <a:latin typeface="Arial"/>
              </a:rPr>
              <a:t>｝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7982640" y="4076640"/>
            <a:ext cx="66780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从古人那里得到安慰，对自己重回朝廷还抱有希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tu4"/>
          <p:cNvPicPr/>
          <p:nvPr/>
        </p:nvPicPr>
        <p:blipFill>
          <a:blip r:embed="rId1"/>
          <a:stretch/>
        </p:blipFill>
        <p:spPr>
          <a:xfrm>
            <a:off x="2268360" y="0"/>
            <a:ext cx="687564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-681120" y="333360"/>
            <a:ext cx="26607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行路难，行路难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多歧路，今安在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102320" y="4365720"/>
            <a:ext cx="6678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忧虑、焦灼不安、迷惘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543960" y="3860640"/>
            <a:ext cx="1399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6600cc"/>
                </a:solidFill>
                <a:latin typeface="Arial"/>
              </a:rPr>
              <a:t>｝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hsj07"/>
          <p:cNvPicPr/>
          <p:nvPr/>
        </p:nvPicPr>
        <p:blipFill>
          <a:blip r:embed="rId1"/>
          <a:stretch/>
        </p:blipFill>
        <p:spPr>
          <a:xfrm>
            <a:off x="0" y="0"/>
            <a:ext cx="572436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6607440" y="44280"/>
            <a:ext cx="12776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长风破浪会有时，         直挂云帆济沧海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628680" y="3357720"/>
            <a:ext cx="1399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6600cc"/>
                </a:solidFill>
                <a:latin typeface="Arial"/>
              </a:rPr>
              <a:t>｝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7592760" y="3933720"/>
            <a:ext cx="72900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乐观、自信、倔强、对理想的执著追求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993366"/>
                </a:solidFill>
                <a:latin typeface="Arial"/>
                <a:ea typeface="楷体_GB2312"/>
              </a:rPr>
              <a:t>这首诗</a:t>
            </a: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楷体_GB2312"/>
              </a:rPr>
              <a:t>表现诗人远大抱负和坚定自信的千古名句是哪两句？请赏析这两句。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确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a162c"/>
                </a:solidFill>
                <a:latin typeface="楷体_GB2312"/>
                <a:ea typeface="楷体_GB2312"/>
              </a:rPr>
              <a:t>千古名句：</a:t>
            </a:r>
            <a:r>
              <a:rPr b="1" lang="zh-CN" sz="2800" spc="-1" strike="noStrike">
                <a:solidFill>
                  <a:srgbClr val="fa162c"/>
                </a:solidFill>
                <a:latin typeface="Arial"/>
                <a:ea typeface="楷体_GB2312"/>
              </a:rPr>
              <a:t>长风破浪会有时，直挂云帆济沧海</a:t>
            </a:r>
            <a:r>
              <a:rPr b="1" lang="zh-CN" sz="2800" spc="-1" strike="noStrike">
                <a:solidFill>
                  <a:srgbClr val="fa162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f009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a162c"/>
                </a:solidFill>
                <a:latin typeface="楷体_GB2312"/>
                <a:ea typeface="楷体_GB2312"/>
              </a:rPr>
              <a:t>赏析：</a:t>
            </a:r>
            <a:r>
              <a:rPr b="1" lang="en-US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尽管前路障碍重重，但诗人相信自己总会有一天高挂云帆，乘风破浪，横渡沧海，到达理想的彼岸，这是一种积极的追求，乐观的自信。展示了诗人力图从苦闷中挣脱出来的强大精神力量。现在常用这两句诗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达自己有宏大的理想抱负和实现理想抱负的坚定的信念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4"/>
          <p:cNvSpPr/>
          <p:nvPr/>
        </p:nvSpPr>
        <p:spPr>
          <a:xfrm>
            <a:off x="395280" y="1700280"/>
            <a:ext cx="198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 Narrow"/>
              </a:rPr>
              <a:t>清酒，珍馐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380880" y="3048120"/>
            <a:ext cx="2362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 Narrow"/>
              </a:rPr>
              <a:t>停、投、拔、顾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Rectangle 16"/>
          <p:cNvSpPr/>
          <p:nvPr/>
        </p:nvSpPr>
        <p:spPr>
          <a:xfrm>
            <a:off x="1981080" y="4495680"/>
            <a:ext cx="1447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 Narrow"/>
              </a:rPr>
              <a:t>冰塞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 Narrow"/>
              </a:rPr>
              <a:t>雪满山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2987640" y="3048120"/>
            <a:ext cx="3240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 Narrow"/>
              </a:rPr>
              <a:t>垂钓碧溪、乘舟梦日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Rectangle 18"/>
          <p:cNvSpPr/>
          <p:nvPr/>
        </p:nvSpPr>
        <p:spPr>
          <a:xfrm>
            <a:off x="5029200" y="4800600"/>
            <a:ext cx="1295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 Narrow"/>
              </a:rPr>
              <a:t>多歧路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 Narrow"/>
              </a:rPr>
              <a:t>今安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Rectangle 19"/>
          <p:cNvSpPr/>
          <p:nvPr/>
        </p:nvSpPr>
        <p:spPr>
          <a:xfrm>
            <a:off x="6858000" y="1125360"/>
            <a:ext cx="1981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 Narrow"/>
              </a:rPr>
              <a:t>长风破浪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 Narrow"/>
              </a:rPr>
              <a:t>直挂云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Rectangle 21"/>
          <p:cNvSpPr/>
          <p:nvPr/>
        </p:nvSpPr>
        <p:spPr>
          <a:xfrm>
            <a:off x="324000" y="3657600"/>
            <a:ext cx="16556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 Narrow"/>
              </a:rPr>
              <a:t>(</a:t>
            </a:r>
            <a:r>
              <a:rPr b="1" lang="zh-CN" sz="2400" spc="-1" strike="noStrike">
                <a:solidFill>
                  <a:srgbClr val="cc0066"/>
                </a:solidFill>
                <a:latin typeface="Arial Narrow"/>
              </a:rPr>
              <a:t>苦闷、抑郁、悲愤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Rectangle 22"/>
          <p:cNvSpPr/>
          <p:nvPr/>
        </p:nvSpPr>
        <p:spPr>
          <a:xfrm>
            <a:off x="1332000" y="5516640"/>
            <a:ext cx="2592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 Narrow"/>
              </a:rPr>
              <a:t>（痛苦、失望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Rectangle 23"/>
          <p:cNvSpPr/>
          <p:nvPr/>
        </p:nvSpPr>
        <p:spPr>
          <a:xfrm>
            <a:off x="3505320" y="3733920"/>
            <a:ext cx="1571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 Narrow"/>
              </a:rPr>
              <a:t>（希望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Rectangle 24"/>
          <p:cNvSpPr/>
          <p:nvPr/>
        </p:nvSpPr>
        <p:spPr>
          <a:xfrm>
            <a:off x="4140360" y="5715000"/>
            <a:ext cx="424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 Narrow"/>
              </a:rPr>
              <a:t>（忧虑、焦灼不安、迷惘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7020000" y="2133720"/>
            <a:ext cx="172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 Narrow"/>
              </a:rPr>
              <a:t>（自信、执着、乐观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Line 27"/>
          <p:cNvSpPr/>
          <p:nvPr/>
        </p:nvSpPr>
        <p:spPr>
          <a:xfrm>
            <a:off x="1403280" y="2421000"/>
            <a:ext cx="457200" cy="76176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1979640" y="3573360"/>
            <a:ext cx="533520" cy="9144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Line 29"/>
          <p:cNvSpPr/>
          <p:nvPr/>
        </p:nvSpPr>
        <p:spPr>
          <a:xfrm flipV="1">
            <a:off x="2819520" y="3581280"/>
            <a:ext cx="1066680" cy="9144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Line 30"/>
          <p:cNvSpPr/>
          <p:nvPr/>
        </p:nvSpPr>
        <p:spPr>
          <a:xfrm>
            <a:off x="4724280" y="3657600"/>
            <a:ext cx="762120" cy="11430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Line 31"/>
          <p:cNvSpPr/>
          <p:nvPr/>
        </p:nvSpPr>
        <p:spPr>
          <a:xfrm flipV="1">
            <a:off x="5796000" y="2060640"/>
            <a:ext cx="1143000" cy="27432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Line 32"/>
          <p:cNvSpPr/>
          <p:nvPr/>
        </p:nvSpPr>
        <p:spPr>
          <a:xfrm>
            <a:off x="1187280" y="4292640"/>
            <a:ext cx="914400" cy="13716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2771640" y="4436640"/>
            <a:ext cx="1295640" cy="12193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Line 34"/>
          <p:cNvSpPr/>
          <p:nvPr/>
        </p:nvSpPr>
        <p:spPr>
          <a:xfrm>
            <a:off x="4343400" y="4419720"/>
            <a:ext cx="990720" cy="144756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019920" y="2895480"/>
            <a:ext cx="1218960" cy="28958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324000" y="333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五、课堂小结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-250920" y="2060640"/>
            <a:ext cx="47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（欢乐场面，以乐景写哀情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5256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六、课堂练习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88640"/>
            <a:ext cx="8820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生活中难免经历痛苦与挫折，请你用本诗中的句子对身处逆境的朋友进行激励或劝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                   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本诗使用典故古人能有此机遇，自己也不见得没有的句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诗人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路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喻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诗中具体体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路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照应题目 ）的诗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-898560" y="1773360"/>
            <a:ext cx="964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长风破浪会有时     直挂云帆济沧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900000" y="285264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闲来垂钓碧溪上                       忽复乘舟梦日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716360" y="4005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世路艰难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684360" y="5084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欲渡黄河冰塞川    将登太行雪满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0" y="620640"/>
            <a:ext cx="91440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09e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4f009e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4f009e"/>
                </a:solidFill>
                <a:latin typeface="楷体_GB2312"/>
                <a:ea typeface="楷体_GB2312"/>
              </a:rPr>
              <a:t>、以下对诗歌的理解有误的一项是（   </a:t>
            </a:r>
            <a:r>
              <a:rPr b="1" lang="en-US" sz="3200" spc="-1" strike="noStrike">
                <a:solidFill>
                  <a:srgbClr val="4f009e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4f009e"/>
                </a:solidFill>
                <a:latin typeface="楷体_GB2312"/>
                <a:ea typeface="楷体_GB2312"/>
              </a:rPr>
              <a:t>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09e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4f009e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4f009e"/>
                </a:solidFill>
                <a:latin typeface="楷体_GB2312"/>
                <a:ea typeface="楷体_GB2312"/>
              </a:rPr>
              <a:t>、诗的开头两句以夸张的笔法，营造了欢乐的</a:t>
            </a:r>
            <a:r>
              <a:rPr b="1" lang="en-US" sz="3200" spc="-1" strike="noStrike">
                <a:solidFill>
                  <a:srgbClr val="4f009e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4f009e"/>
                </a:solidFill>
                <a:latin typeface="楷体_GB2312"/>
                <a:ea typeface="楷体_GB2312"/>
              </a:rPr>
              <a:t>宴饮气氛，体现了诗人愉悦的心情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009e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4f009e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4f009e"/>
                </a:solidFill>
                <a:latin typeface="楷体_GB2312"/>
                <a:ea typeface="楷体_GB2312"/>
              </a:rPr>
              <a:t>、诗中以</a:t>
            </a:r>
            <a:r>
              <a:rPr b="1" lang="zh-CN" sz="3200" spc="-1" strike="noStrike">
                <a:solidFill>
                  <a:srgbClr val="4f009e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4f009e"/>
                </a:solidFill>
                <a:latin typeface="楷体_GB2312"/>
                <a:ea typeface="楷体_GB2312"/>
              </a:rPr>
              <a:t>欲渡黄河冰塞川，将登太行雪满山</a:t>
            </a:r>
            <a:r>
              <a:rPr b="1" lang="zh-CN" sz="3200" spc="-1" strike="noStrike">
                <a:solidFill>
                  <a:srgbClr val="4f009e"/>
                </a:solidFill>
                <a:latin typeface="Arial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4f009e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4f009e"/>
                </a:solidFill>
                <a:latin typeface="楷体_GB2312"/>
                <a:ea typeface="楷体_GB2312"/>
              </a:rPr>
              <a:t>来比喻人生道路中的艰难险阻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09e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4f009e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4f009e"/>
                </a:solidFill>
                <a:latin typeface="楷体_GB2312"/>
                <a:ea typeface="楷体_GB2312"/>
              </a:rPr>
              <a:t>、诗中运用典故，含蓄地表达了诗人盼望得到朝廷重用的心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09e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4f009e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4f009e"/>
                </a:solidFill>
                <a:latin typeface="楷体_GB2312"/>
                <a:ea typeface="楷体_GB2312"/>
              </a:rPr>
              <a:t>、诗的最后两句写出了诗人坚信远大的抱负必能实现的豪迈气概</a:t>
            </a:r>
            <a:r>
              <a:rPr b="1" lang="en-US" sz="3200" spc="-1" strike="noStrike">
                <a:solidFill>
                  <a:srgbClr val="4f009e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、收集古诗词中表雄心壮志的句子</a:t>
            </a:r>
            <a:r>
              <a:rPr b="1" lang="en-US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7380360" y="620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179280" y="404640"/>
            <a:ext cx="7920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古诗词中表雄心壮志的句子：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）会当凌绝顶，一览众山小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）不畏浮云遮望眼，自缘身在最高层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）人生自古谁无死，留取丹心照汗青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）我自横刀向天笑，去留肝胆两昆仑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）长风破浪会有时，直挂云帆济沧海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）老骥伏枥，志在千里；烈士暮年，壮心    不已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无标题"/>
          <p:cNvPicPr/>
          <p:nvPr/>
        </p:nvPicPr>
        <p:blipFill>
          <a:blip r:embed="rId1"/>
          <a:stretch/>
        </p:blipFill>
        <p:spPr>
          <a:xfrm>
            <a:off x="0" y="1413000"/>
            <a:ext cx="1655640" cy="2663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u=870779769,571415823&amp;gp=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92360" y="1413000"/>
            <a:ext cx="2303640" cy="26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u=1098140810,1776625721&amp;gp=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92360" y="1413000"/>
            <a:ext cx="1801800" cy="26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6"/>
          <a:stretch/>
        </p:blipFill>
        <p:spPr>
          <a:xfrm>
            <a:off x="5819760" y="1413000"/>
            <a:ext cx="3324240" cy="2663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200611610224727752"/>
          <p:cNvPicPr/>
          <p:nvPr/>
        </p:nvPicPr>
        <p:blipFill>
          <a:blip r:embed="rId7"/>
          <a:stretch/>
        </p:blipFill>
        <p:spPr>
          <a:xfrm>
            <a:off x="0" y="4076640"/>
            <a:ext cx="2195640" cy="278136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2195640" y="4076640"/>
            <a:ext cx="2376360" cy="2781360"/>
            <a:chOff x="2195640" y="4076640"/>
            <a:chExt cx="2376360" cy="2781360"/>
          </a:xfrm>
        </p:grpSpPr>
        <p:pic>
          <p:nvPicPr>
            <p:cNvPr id="214" name="Picture 6" descr="D:\Documents and Settings\谢海榕\桌面\图片\21.JPG"/>
            <p:cNvPicPr/>
            <p:nvPr/>
          </p:nvPicPr>
          <p:blipFill>
            <a:blip r:embed="rId8"/>
            <a:stretch/>
          </p:blipFill>
          <p:spPr>
            <a:xfrm>
              <a:off x="2195640" y="4076640"/>
              <a:ext cx="2376360" cy="142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7" descr="D:\Documents and Settings\谢海榕\桌面\图片\42.JPG"/>
            <p:cNvPicPr/>
            <p:nvPr/>
          </p:nvPicPr>
          <p:blipFill>
            <a:blip r:embed="rId9"/>
            <a:stretch/>
          </p:blipFill>
          <p:spPr>
            <a:xfrm>
              <a:off x="2195640" y="5440320"/>
              <a:ext cx="2376360" cy="141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" name="Picture 2" descr="tu4"/>
          <p:cNvPicPr/>
          <p:nvPr/>
        </p:nvPicPr>
        <p:blipFill>
          <a:blip r:embed="rId10"/>
          <a:stretch/>
        </p:blipFill>
        <p:spPr>
          <a:xfrm>
            <a:off x="4572000" y="4076640"/>
            <a:ext cx="2158920" cy="2781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hsj07"/>
          <p:cNvPicPr/>
          <p:nvPr/>
        </p:nvPicPr>
        <p:blipFill>
          <a:blip r:embed="rId11"/>
          <a:stretch/>
        </p:blipFill>
        <p:spPr>
          <a:xfrm>
            <a:off x="6732720" y="4076640"/>
            <a:ext cx="2411280" cy="2781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189000"/>
            <a:ext cx="756144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七、看图背诗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540072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八、作业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2276640"/>
            <a:ext cx="7342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79280" y="1773360"/>
            <a:ext cx="89647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正确默写古诗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小作文（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00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字）：如果在生活或学习中遇到困难或挫折，我们将以怎样的心态来面对</a:t>
            </a:r>
            <a:r>
              <a:rPr b="1" lang="en-US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周日晚上交）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f009e"/>
                </a:solidFill>
                <a:latin typeface="Arial"/>
                <a:ea typeface="楷体_GB2312"/>
              </a:rPr>
              <a:t>教学目标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00082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b00082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b00082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b00082"/>
                </a:solidFill>
                <a:latin typeface="Arial"/>
                <a:ea typeface="楷体_GB2312"/>
              </a:rPr>
              <a:t>体会诗人复杂变化、激荡起伏的情感及乐观自信、积极追求理想的顽强精神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b00082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b00082"/>
                </a:solidFill>
                <a:latin typeface="楷体_GB2312"/>
                <a:ea typeface="楷体_GB2312"/>
              </a:rPr>
              <a:t>、体会诗人失意中仍怀希望的思想境界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00082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b00082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b00082"/>
                </a:solidFill>
                <a:latin typeface="楷体_GB2312"/>
                <a:ea typeface="楷体_GB2312"/>
              </a:rPr>
              <a:t>、背诵这首诗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山顶寺院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WordArt 3"/>
          <p:cNvSpPr txBox="1"/>
          <p:nvPr/>
        </p:nvSpPr>
        <p:spPr>
          <a:xfrm>
            <a:off x="1403280" y="1989000"/>
            <a:ext cx="5761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华文行楷"/>
              </a:rPr>
              <a:t>谢谢指导！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00720" y="691920"/>
            <a:ext cx="464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Arial"/>
                <a:ea typeface="楷体_GB2312"/>
              </a:rPr>
              <a:t>一、检查预习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64000" y="1844280"/>
            <a:ext cx="5580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李白（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701-762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），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字</a:t>
            </a:r>
            <a:r>
              <a:rPr b="1" lang="zh-CN" sz="2400" spc="-1" strike="noStrike" u="sng">
                <a:solidFill>
                  <a:srgbClr val="6600cc"/>
                </a:solidFill>
                <a:uFillTx/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，号 </a:t>
            </a:r>
            <a:r>
              <a:rPr b="1" lang="zh-CN" sz="2400" spc="-1" strike="noStrike" u="sng">
                <a:solidFill>
                  <a:srgbClr val="6600cc"/>
                </a:solidFill>
                <a:uFillTx/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，人称</a:t>
            </a:r>
            <a:r>
              <a:rPr b="1" lang="zh-CN" sz="2400" spc="-1" strike="noStrike" u="sng">
                <a:solidFill>
                  <a:srgbClr val="6600cc"/>
                </a:solidFill>
                <a:uFillTx/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，与杜甫并称</a:t>
            </a:r>
            <a:r>
              <a:rPr b="1" lang="zh-CN" sz="2400" spc="-1" strike="noStrike" u="sng">
                <a:solidFill>
                  <a:srgbClr val="6600cc"/>
                </a:solidFill>
                <a:uFillTx/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。年轻时即漫游全国各地，曾经至长安，供奉翰林，但不久遭谗去职。晚年漂泊东南一带，最后病死于当涂。是中国文学史上继屈原之后伟大的</a:t>
            </a:r>
            <a:r>
              <a:rPr b="1" lang="zh-CN" sz="2400" spc="-1" strike="noStrike" u="sng">
                <a:solidFill>
                  <a:srgbClr val="6600cc"/>
                </a:solidFill>
                <a:uFillTx/>
                <a:latin typeface="Arial"/>
              </a:rPr>
              <a:t>　　　　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诗人。</a:t>
            </a:r>
            <a:br>
              <a:rPr sz="2400"/>
            </a:b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 flipH="1">
            <a:off x="7595640" y="184464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Arial"/>
              </a:rPr>
              <a:t>太白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4284720" y="2205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Arial"/>
              </a:rPr>
              <a:t>青莲居士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516720" y="2205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Arial"/>
              </a:rPr>
              <a:t>诗仙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284720" y="256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Arial"/>
              </a:rPr>
              <a:t>李杜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4859280" y="407664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Arial"/>
              </a:rPr>
              <a:t>浪漫主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6" name="Picture 5" descr="李白1"/>
          <p:cNvPicPr/>
          <p:nvPr/>
        </p:nvPicPr>
        <p:blipFill>
          <a:blip r:embed="rId2"/>
          <a:stretch/>
        </p:blipFill>
        <p:spPr>
          <a:xfrm>
            <a:off x="0" y="0"/>
            <a:ext cx="385128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A819-37B6-4B9A-B9A2-808F69C9B994}" type="slidenum">
              <a:rPr b="0" lang="en-US" sz="1400" spc="-1" strike="noStrike">
                <a:solidFill>
                  <a:srgbClr val="0033c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763640" y="549360"/>
            <a:ext cx="46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22b00"/>
                </a:solidFill>
                <a:latin typeface="楷体_GB2312"/>
                <a:ea typeface="楷体_GB2312"/>
              </a:rPr>
              <a:t>二、写作背景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971640" y="1916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   </a:t>
            </a:r>
            <a:r>
              <a:rPr b="1" lang="en-US" sz="36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行路难</a:t>
            </a:r>
            <a:r>
              <a:rPr b="1" lang="en-US" sz="36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作于天宝三年（</a:t>
            </a:r>
            <a:r>
              <a:rPr b="1" lang="en-US" sz="36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744</a:t>
            </a:r>
            <a:r>
              <a:rPr b="1" lang="zh-CN" sz="36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年）共三首，这是第一首。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行路难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是乐府</a:t>
            </a:r>
            <a:r>
              <a:rPr b="1" lang="en-US" sz="36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杂曲歌辞</a:t>
            </a:r>
            <a:r>
              <a:rPr b="1" lang="en-US" sz="36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旧题。是李白遭受谗毁初离长安南下时写的一组诗。诗中写世路艰难，充满着政治上遭遇挫折后的抑郁不平之感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三、先听朗读，注意断句</a:t>
            </a:r>
            <a:r>
              <a:rPr b="1" lang="zh-CN" sz="3800" spc="-1" strike="noStrike">
                <a:solidFill>
                  <a:srgbClr val="6600cc"/>
                </a:solidFill>
                <a:latin typeface="Arial"/>
                <a:ea typeface="楷体_GB2312"/>
              </a:rPr>
              <a:t>及</a:t>
            </a:r>
            <a:r>
              <a:rPr b="1" lang="zh-CN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作者情感变化，再</a:t>
            </a:r>
            <a:r>
              <a:rPr b="1" lang="zh-CN" sz="3800" spc="-1" strike="noStrike">
                <a:solidFill>
                  <a:srgbClr val="6600cc"/>
                </a:solidFill>
                <a:latin typeface="Arial"/>
                <a:ea typeface="楷体_GB2312"/>
              </a:rPr>
              <a:t>自由读两分钟；学生跟录音读</a:t>
            </a:r>
            <a:r>
              <a:rPr b="1" lang="zh-CN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</a:t>
            </a:r>
            <a:r>
              <a:rPr b="1" lang="zh-CN" sz="3800" spc="-1" strike="noStrike">
                <a:solidFill>
                  <a:srgbClr val="6600cc"/>
                </a:solidFill>
                <a:latin typeface="Arial"/>
                <a:ea typeface="楷体_GB2312"/>
              </a:rPr>
              <a:t>然后请两位同学上台朗诵</a:t>
            </a:r>
            <a:r>
              <a:rPr b="1" lang="zh-CN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843280" y="1916280"/>
            <a:ext cx="415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行路难（其一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李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2" name="行路难.mp3" descr=""/>
          <p:cNvPicPr/>
          <p:nvPr/>
        </p:nvPicPr>
        <p:blipFill>
          <a:blip r:embed="rId2"/>
          <a:stretch/>
        </p:blipFill>
        <p:spPr>
          <a:xfrm>
            <a:off x="8172360" y="59500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79280" y="2997360"/>
            <a:ext cx="8964720" cy="3385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金樽清酒</a:t>
            </a:r>
            <a:r>
              <a:rPr b="1" lang="en-US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斗十千，玉盘珍羞</a:t>
            </a:r>
            <a:r>
              <a:rPr b="1" lang="en-US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直</a:t>
            </a:r>
            <a:r>
              <a:rPr b="1" lang="en-US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万钱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停杯投箸</a:t>
            </a:r>
            <a:r>
              <a:rPr b="1" lang="en-US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不能食，拔剑四顾</a:t>
            </a:r>
            <a:r>
              <a:rPr b="1" lang="en-US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心茫然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欲渡黄河</a:t>
            </a:r>
            <a:r>
              <a:rPr b="1" lang="en-US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冰塞川，将登太行</a:t>
            </a:r>
            <a:r>
              <a:rPr b="1" lang="en-US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雪满山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闲来垂钓</a:t>
            </a:r>
            <a:r>
              <a:rPr b="1" lang="en-US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碧溪上，忽复乘舟</a:t>
            </a:r>
            <a:r>
              <a:rPr b="1" lang="en-US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梦日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行路难，</a:t>
            </a:r>
            <a:r>
              <a:rPr b="1" lang="en-US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行路难！多歧路，今安在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长风破浪</a:t>
            </a:r>
            <a:r>
              <a:rPr b="1" lang="en-US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会有时，直挂云帆</a:t>
            </a:r>
            <a:r>
              <a:rPr b="1" lang="en-US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济沧海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将进酒1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35640" y="907920"/>
            <a:ext cx="43574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四</a:t>
            </a:r>
            <a:r>
              <a:rPr b="1" lang="en-US" sz="40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赏析古诗</a:t>
            </a:r>
            <a:r>
              <a:rPr b="1" lang="en-US" sz="4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、读诗赏图，体会作者情感是如何变化的？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19640" y="-360"/>
            <a:ext cx="1584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zh-CN" sz="7200" spc="-1" strike="noStrike">
                <a:solidFill>
                  <a:srgbClr val="6600cc"/>
                </a:solidFill>
                <a:latin typeface="Arial"/>
              </a:rPr>
              <a:t>｝</a:t>
            </a:r>
            <a:endParaRPr b="0" lang="en-US" sz="7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3959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f009e"/>
                </a:solidFill>
                <a:latin typeface="Arial"/>
                <a:ea typeface="楷体_GB2312"/>
              </a:rPr>
              <a:t>金樽清酒斗十千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f009e"/>
                </a:solidFill>
                <a:latin typeface="Arial"/>
                <a:ea typeface="楷体_GB2312"/>
              </a:rPr>
              <a:t>玉盘珍羞直万钱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8" name="Picture 5" descr="无标题"/>
          <p:cNvPicPr/>
          <p:nvPr/>
        </p:nvPicPr>
        <p:blipFill>
          <a:blip r:embed="rId1"/>
          <a:stretch/>
        </p:blipFill>
        <p:spPr>
          <a:xfrm>
            <a:off x="3348000" y="3141720"/>
            <a:ext cx="2884680" cy="2951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u=1098140810,1776625721&amp;gp=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3141720"/>
            <a:ext cx="3097440" cy="2952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u=870779769,571415823&amp;gp=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72360" y="3141720"/>
            <a:ext cx="2592360" cy="2951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9"/>
          <p:cNvSpPr/>
          <p:nvPr/>
        </p:nvSpPr>
        <p:spPr>
          <a:xfrm>
            <a:off x="4500720" y="620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写出宴会的欢乐场景，以乐景写哀情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6422400" y="260280"/>
            <a:ext cx="23263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停杯投箸不能食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拔剑四顾心茫然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-385920" y="0"/>
            <a:ext cx="697392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 flipH="1">
            <a:off x="7298280" y="3862440"/>
            <a:ext cx="1521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c0099"/>
                </a:solidFill>
                <a:latin typeface="Arial"/>
              </a:rPr>
              <a:t>｝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7946640" y="4437000"/>
            <a:ext cx="729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苦闷、抑郁、悲愤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2006116102247277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468360" y="3284640"/>
            <a:ext cx="417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欲渡黄河冰塞川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将登太行雪满山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4211640" y="3357720"/>
            <a:ext cx="6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c0099"/>
                </a:solidFill>
                <a:latin typeface="Arial"/>
              </a:rPr>
              <a:t>｝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003640" y="342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事与愿违的痛苦、失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04:31:53Z</dcterms:created>
  <dc:creator/>
  <dc:description/>
  <cp:keywords/>
  <dc:language>en-US</dc:language>
  <cp:lastModifiedBy>zmj</cp:lastModifiedBy>
  <dcterms:modified xsi:type="dcterms:W3CDTF">2012-11-28T13:35:32Z</dcterms:modified>
  <cp:revision>6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