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8.png" ContentType="image/png"/>
  <Override PartName="/ppt/media/image11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82B-F3CE-4FC6-9621-95FE36B3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3B5-5F45-4CF7-A369-CAB735E1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97D-9FA3-4F2C-B609-87C87507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F59-7481-440E-9BC3-04A2EFFF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D8EA-80A8-4412-90DE-FB53BB51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1618-66EC-4464-857B-DD7318DF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1F9-D178-4DF8-84EE-24D02D21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9AAF-EA93-48AF-B64E-B73B8C0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5B15-87B7-4E32-96FD-7FC5D68E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E39-53D5-4282-A33A-CE5CF04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6795-6100-46A6-8DAB-9F5614F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73A-6AC0-4ED7-B18C-79DCB648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7E62-E18C-4671-B57B-FACF722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915A-1633-45E9-A127-1868805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C0E-307F-4047-B319-240C33F4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1993-D505-4D11-92F7-639DDB70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D47-1CC3-420C-BE18-660679E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00C-09C4-4391-8CB7-D6614F9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395-8139-475F-AC5F-A8D54EA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3A8-2977-477D-95B2-73EC03CD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F08-4E34-4A93-8ABF-0DA4252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BCF-9528-4D6E-BFDA-A49A8784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1A2-AF48-471D-B3B9-995D43B1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5B6-8A90-4F43-B0A0-CFCAD57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FABD-C80B-4238-BF20-C5DE92110F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DDBF-B2B8-4A48-990E-070FE93FF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走进唐诗</a:t>
            </a:r>
            <a:br>
              <a:rPr sz="4400"/>
            </a:b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感受诗人遇挫不馁的伟大人格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2540160"/>
            <a:ext cx="9144000" cy="43178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88390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39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诗人的感情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3344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欢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2084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苦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8764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6084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希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345200" y="50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失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00840" y="32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奋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6000" y="4005360"/>
            <a:ext cx="57456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692360" y="4508640"/>
            <a:ext cx="136836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59280" y="4508640"/>
            <a:ext cx="172872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716360" y="3933360"/>
            <a:ext cx="1584360" cy="136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724360" y="4292640"/>
            <a:ext cx="28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杂的心理历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情感的起伏变化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1" name=""/>
          <p:cNvSpPr/>
          <p:nvPr/>
        </p:nvSpPr>
        <p:spPr>
          <a:xfrm>
            <a:off x="44784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1240" y="365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5640" y="5334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12400" y="3900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99720" y="5486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125480" y="325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3888000" cy="32194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7672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7848720" y="5791320"/>
            <a:ext cx="1295280" cy="8636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38088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cc"/>
                </a:solidFill>
                <a:latin typeface="Arial"/>
                <a:ea typeface="方正隶书简体"/>
              </a:rPr>
              <a:t>多种艺术表现手法的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0880" y="16765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细节描写——“停杯投箸”、“拔剑四顾”，写出诗人内心的苦闷、抑郁、悲愤难奈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29718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象征手法——诗人用“冰塞川”、“雪满山”象征人生道路上的艰难险阻。仕途的艰难，用“欲渡黄河”、“将登太行”象征对某种理想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472428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用典——暗示古人能有的机遇，自己也不见得没有，表达了自己对重回朝廷任抱有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拓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打开自己的“电”脑搜索仕途和人格与李白相似的古代诗人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禹锡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天祥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苏轼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龚自珍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甫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集体诵读结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69329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533520" y="609480"/>
            <a:ext cx="4789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谢谢大家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666880" y="10666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0" lang="zh-CN" sz="9600" spc="-1" strike="noStrike">
                <a:solidFill>
                  <a:srgbClr val="0066cc"/>
                </a:solidFill>
                <a:latin typeface="Arial"/>
                <a:ea typeface="方正隶书简体"/>
              </a:rPr>
              <a:t>行路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30481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（</a:t>
            </a:r>
            <a:r>
              <a:rPr b="0" lang="zh-CN" sz="60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唐</a:t>
            </a:r>
            <a:r>
              <a:rPr b="0" lang="zh-CN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）</a:t>
            </a:r>
            <a:r>
              <a:rPr b="0" lang="zh-CN" sz="60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李  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7315200" y="5594400"/>
            <a:ext cx="1828800" cy="12636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517400" y="8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李白醉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5181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Arial"/>
                <a:ea typeface="方正隶书简体"/>
              </a:rPr>
              <a:t>执教人：蒙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朗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5720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9329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8166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153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字句品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七嘴八舌与同桌交流你会理解的诗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99"/>
                </a:solidFill>
                <a:latin typeface="Arial"/>
                <a:ea typeface="华文彩云"/>
              </a:rPr>
              <a:t>行   路  难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      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Arial"/>
              </a:rPr>
              <a:t>金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清酒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斗十千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Arial"/>
              </a:rPr>
              <a:t>玉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珍羞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值万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写餐具贵重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酒菜佳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斗十千”、“值万钱”极言宴饮的丰富、奢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言友人送别的隆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2276640"/>
            <a:ext cx="719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123640" y="2205000"/>
            <a:ext cx="259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40000" y="2276640"/>
            <a:ext cx="252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076360" y="220500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99"/>
                </a:solidFill>
                <a:latin typeface="Arial"/>
                <a:ea typeface="华文彩云"/>
              </a:rPr>
              <a:t>行   路  难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7072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660033"/>
                </a:solidFill>
                <a:latin typeface="Arial"/>
              </a:rPr>
              <a:t>停杯投箸不能食，拔剑四顾心茫然</a:t>
            </a:r>
            <a:r>
              <a:rPr b="1" lang="zh-CN" sz="2000" spc="-1" strike="noStrike">
                <a:solidFill>
                  <a:srgbClr val="660033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找出诗句中已经做出动作的四个动词，并谈谈表现了诗人怎样的内心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816600" y="4867200"/>
            <a:ext cx="1513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297440" y="1052640"/>
            <a:ext cx="286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欲渡黄河冰塞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将登太行雪满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闲来垂钓碧溪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忽复乘舟梦日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12748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行路受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1184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7640" y="228600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姜太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溪边垂钓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周文王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一展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52320" y="338940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伊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见自己乘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日月旁经过后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商汤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重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2808360" cy="4791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2808360" cy="4791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2195640" y="4005360"/>
            <a:ext cx="214308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典故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2057400"/>
            <a:ext cx="450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诗人用“冰塞川”、“雪满山”象征人生道路上的艰难险阻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仕途的艰难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用“欲渡黄河”、“将登太行”象征对某种理想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0"/>
            <a:ext cx="2664000" cy="1771560"/>
          </a:xfrm>
          <a:prstGeom prst="cloudCallout">
            <a:avLst>
              <a:gd name="adj1" fmla="val -25208"/>
              <a:gd name="adj2" fmla="val 56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304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是不是行路受阻让诗人感到苦闷茫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4312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5029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用两则典故借着历史人物忽受重用的事实，暗示古人能有的机遇，自己也不见得没有，表达了自己对重回朝廷任抱有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6761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0" y="914400"/>
            <a:ext cx="937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行路难，行路难</a:t>
            </a: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!</a:t>
            </a: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多歧路，今安在</a:t>
            </a: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隶书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1905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运用反复的修辞手法，从语气和感情上强调行路难，并且好像有很气愤的意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352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运用反问的修辞手法，语气更强烈 ，强调不知道哪一条路才是我李白可以走的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44956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标点符号，前面是强烈的感叹，感叹行路之难，后面有强烈的质问和诘责的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长风破浪会有时，直挂云帆济沧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结句却又使诗境豁然开朗，诗人的心飞向未来，他坚信，总有一天会高挂云帆，乘风破浪穿越广阔的海面，向远方驶去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6-08T10:50:10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