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amera.wav" ContentType="audio/x-wav"/>
  <Override PartName="/ppt/media/image10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BC4-BF43-4F73-AF07-69799E69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586-CCD4-47A4-B64C-5CF2E531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A60-F54C-45BB-9F19-EB75A483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CB7-7BD0-4EF2-84AA-3AEAE8B9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EF39-2F15-4558-BE53-4704426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ED76-8C55-4E5D-B967-4D073CC9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3E8D-C5ED-446B-95BD-4CA3790F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D2BA-CF22-4AF7-9ABB-40B10464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1544-033C-4DB9-8EBF-AB723209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607-FE90-4486-BBFF-8BE179C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7C58-634D-4D48-8C2D-761FD4F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D2A-155A-4914-A500-3E2CE85F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2B72-516F-466F-A4E0-4DAE4507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710-4D21-433D-9131-FAD6019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EB1C-9A84-4B19-A09C-537E09BF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5DB3-414D-45C4-B956-7C0A05F2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2D4-AC25-48DA-90A8-617B5B6D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3B5-2E46-4FE6-AD5A-359CF886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F74-6A79-4E6C-8E57-F0C2CBD9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32F-121D-4F2D-9E1D-309BFCB8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2EC-4B1E-4DF5-B620-E064793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ADF-7326-4872-880B-A2497668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81F-82C5-40D1-B958-A3C1532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63F-20C4-4794-8F56-FDFE8F71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5807-989D-4CB3-9F6C-B6FBBD321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ADA5-55B2-4FB3-98CC-A4BE96F5F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666880" y="10666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0" lang="zh-CN" sz="9600" spc="-1" strike="noStrike">
                <a:solidFill>
                  <a:srgbClr val="0066cc"/>
                </a:solidFill>
                <a:latin typeface="Arial"/>
                <a:ea typeface="方正隶书简体"/>
              </a:rPr>
              <a:t>行路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30481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（</a:t>
            </a:r>
            <a:r>
              <a:rPr b="0" lang="zh-CN" sz="60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唐</a:t>
            </a:r>
            <a:r>
              <a:rPr b="0" lang="zh-CN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）</a:t>
            </a:r>
            <a:r>
              <a:rPr b="0" lang="zh-CN" sz="60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李  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7315200" y="5594400"/>
            <a:ext cx="1828800" cy="1263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517400" y="8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李白醉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410080" y="5181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Arial"/>
                <a:ea typeface="方正隶书简体"/>
              </a:rPr>
              <a:t>执教人：陈光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533520" y="609480"/>
            <a:ext cx="4789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谢谢大家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22860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73528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362320" y="5335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cc"/>
                </a:solidFill>
                <a:latin typeface="方正隶书简体"/>
                <a:ea typeface="方正隶书简体"/>
              </a:rPr>
              <a:t>饮中八仙歌</a:t>
            </a:r>
            <a:r>
              <a:rPr b="0" lang="zh-CN" sz="60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52480" y="2133720"/>
            <a:ext cx="3733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7400" y="205740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李白斗酒诗百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长安市上酒家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子呼来不上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称臣是酒家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5880" y="1523880"/>
            <a:ext cx="2667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447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28600" y="5410080"/>
            <a:ext cx="18288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5772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行路难（其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金樽清酒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斗十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玉盘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珍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直万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停杯投箸不能食，拔剑四顾心茫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欲渡黄河冰塞川，将登太行雪满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闲来垂钓碧溪上，忽复乘舟梦日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行路难，行路难，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歧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今安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长风破浪会有时，直挂云帆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057400"/>
            <a:ext cx="152640" cy="1522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2057400"/>
            <a:ext cx="152640" cy="1522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295280"/>
            <a:ext cx="304920" cy="91440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00600" y="1295280"/>
            <a:ext cx="380880" cy="83844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2057400"/>
            <a:ext cx="380880" cy="83808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76920" y="2057400"/>
            <a:ext cx="380880" cy="83808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2819520"/>
            <a:ext cx="380880" cy="83808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2819520"/>
            <a:ext cx="380880" cy="83808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00200" y="3581280"/>
            <a:ext cx="380880" cy="83844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3505320"/>
            <a:ext cx="304560" cy="91440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00200" y="5029200"/>
            <a:ext cx="380880" cy="83808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4952880"/>
            <a:ext cx="304560" cy="914400"/>
          </a:xfrm>
          <a:prstGeom prst="line">
            <a:avLst/>
          </a:prstGeom>
          <a:ln w="572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467480" y="5803920"/>
            <a:ext cx="15242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4400" spc="-1" strike="noStrike">
                <a:solidFill>
                  <a:srgbClr val="339966"/>
                </a:solidFill>
                <a:latin typeface="Comic Sans MS"/>
                <a:ea typeface="方正隶书简体"/>
              </a:rPr>
              <a:t>前四句运用了什么描写方法，说明其对表达诗人的内心情感有何作用。</a:t>
            </a:r>
            <a:br>
              <a:rPr sz="48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33526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运用了细节描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33526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写出诗人内心的苦闷、抑郁、悲愤难奈之情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297440" y="1052640"/>
            <a:ext cx="286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欲渡黄河冰塞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将登太行雪满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闲来垂钓碧溪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忽复乘舟梦日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2748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行路受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1184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47640" y="228600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姜太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溪边垂钓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周文王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一展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52320" y="338940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伊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见自己乘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日月旁经过后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商汤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重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2808360" cy="4791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2808360" cy="479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2195640" y="4005360"/>
            <a:ext cx="214308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典故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"/>
          <p:cNvSpPr/>
          <p:nvPr/>
        </p:nvSpPr>
        <p:spPr>
          <a:xfrm>
            <a:off x="4800600" y="2057400"/>
            <a:ext cx="450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诗人用“冰塞川”、“雪满山”象征人生道路上的艰难险阻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仕途的艰难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339966"/>
                </a:solidFill>
                <a:latin typeface="Arial"/>
              </a:rPr>
              <a:t>用“欲渡黄河”、“将登太行”象征对某种理想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00720" y="0"/>
            <a:ext cx="2664000" cy="1771560"/>
          </a:xfrm>
          <a:prstGeom prst="cloudCallout">
            <a:avLst>
              <a:gd name="adj1" fmla="val -25208"/>
              <a:gd name="adj2" fmla="val 56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04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是不是行路受阻让诗人感到苦闷茫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4312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5029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用两则典故借着历史人物忽受重用的事实，暗示古人能有的机遇，自己也不见得没有，表达了自己对重回朝廷任抱有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676160" cy="11588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0" y="914400"/>
            <a:ext cx="937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行路难，行路难</a:t>
            </a: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!</a:t>
            </a: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多歧路，今安在</a:t>
            </a:r>
            <a:r>
              <a:rPr b="0" lang="zh-CN" sz="4800" spc="-1" strike="noStrike">
                <a:solidFill>
                  <a:srgbClr val="339966"/>
                </a:solidFill>
                <a:latin typeface="方正隶书简体"/>
                <a:ea typeface="方正隶书简体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隶书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905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运用反复的修辞手法，从语气和感情上强调行路难，并且好像有很气愤的意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352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运用反问的修辞手法，语气更强烈 ，强调不知道哪一条路才是我李白可以走的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2280" y="44956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标点符号，前面是强烈的感叹，感叹行路之难，后面有强烈的质问和诘责的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短句的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609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66cc"/>
                </a:solidFill>
                <a:latin typeface="Arial"/>
                <a:ea typeface="方正隶书简体"/>
              </a:rPr>
              <a:t>最后两句诗，诗人的感情陡起，请说说诗人表达了什么感情，应该如何理解这种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00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表现了诗人的倔强、自信和对理想的执著追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3809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展示了诗人力图从苦闷中挣脱出来的强大精神力量。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诗人的感情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欢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2084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苦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98764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6084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希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45200" y="50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失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00840" y="32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奋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4005360"/>
            <a:ext cx="57456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692360" y="4508640"/>
            <a:ext cx="136836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59280" y="4508640"/>
            <a:ext cx="172872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716360" y="3933360"/>
            <a:ext cx="1584360" cy="136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724360" y="4292640"/>
            <a:ext cx="28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杂的心理历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情感的起伏变化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9" name=""/>
          <p:cNvSpPr/>
          <p:nvPr/>
        </p:nvSpPr>
        <p:spPr>
          <a:xfrm>
            <a:off x="44784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1240" y="365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5640" y="5334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12400" y="3900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99720" y="5486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25480" y="325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3888000" cy="32194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7672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848720" y="5791320"/>
            <a:ext cx="1295280" cy="8636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8088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cc"/>
                </a:solidFill>
                <a:latin typeface="Arial"/>
                <a:ea typeface="方正隶书简体"/>
              </a:rPr>
              <a:t>多种艺术表现手法的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16765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细节描写——“停杯投箸”、“拔剑四顾”，写出诗人内心的苦闷、抑郁、悲愤难奈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29718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象征手法——诗人用“冰塞川”、“雪满山”象征人生道路上的艰难险阻。仕途的艰难，用“欲渡黄河”、“将登太行”象征对某种理想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72428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339966"/>
                </a:solidFill>
                <a:latin typeface="Comic Sans MS"/>
              </a:rPr>
              <a:t>用典——暗示古人能有的机遇，自己也不见得没有，表达了自己对重回朝廷任抱有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8-06-04T04:35:33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