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131-0331-4E60-A374-F6FF7855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56C-22AE-42F9-82FD-56242D9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99E-A685-4254-8F53-D8AEF5FC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708-6FC7-4989-BF58-72332942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2A7-CF3F-445B-85C3-31F15E5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7A3-9FBE-4997-91A1-AD367D3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F36-5373-4BDA-9CFA-5B3B3E9D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40B-613B-4842-BE66-18C9CFA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491-7027-48B5-9FA3-92FC8A9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06B-0909-485F-AFBE-6317745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0C1-33BD-48B3-A5DB-E111061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78E-003D-40DE-B3C3-F9D2A8C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D482-222C-4EAD-844A-681441DA4D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行军九日思长安故园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岑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岑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cén shēn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（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唐代边塞诗人，世称岑嘉州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籍南阳（今属河南），迁居江陵（今属湖北）。曾祖岑文本、伯祖岑长倩、伯父岑羲都以文墨致位宰相。父岑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仕至晋州刺史。岑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左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亲去世，家境日趋困顿。他刻苦学习，遍读经史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至长安，献书求仕无成，奔走京洛，漫游河朔。天宝三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744)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进士第，授右内率府兵曹参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52760" cy="29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62720" y="2886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宋体"/>
              </a:rPr>
              <a:t>岑参工诗，长于七言歌行，代表作是《白雪歌送武判官归京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存诗三百六十首。对边塞风光，军旅生活，以及少数民族的文化风俗有亲切的感受，故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</a:rPr>
              <a:t>其边塞诗尤多佳作。风格与高适相近，后人多并称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</a:rPr>
              <a:t>高岑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</a:rPr>
              <a:t>"</a:t>
            </a:r>
            <a:r>
              <a:rPr b="0" lang="zh-CN" sz="2400" spc="-1" strike="noStrike">
                <a:solidFill>
                  <a:srgbClr val="cc33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军九日思长安故园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岑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强欲登高去， 无人送酒来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遥怜故园菊， 应傍战场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写作背景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这首诗的原注说：“时未收长安。”唐天宝十四载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75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安禄山起兵叛乱，次年长安被攻陷。至德二载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75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二月肃宗由彭原行军至凤翔，岑参随行。九月唐军收复长安，诗可能是该年重阳节在凤翔写的。岑参是南阳人，但久居长安，故称长安为“故园”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720" y="759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1295280"/>
            <a:ext cx="891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cc3300"/>
                </a:solidFill>
                <a:latin typeface="宋体"/>
              </a:rPr>
              <a:t>首句“登高”二字就紧扣题目中的“九日”。 “强”字，则表现了诗人在战乱中的凄清景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   “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独在异乡为异客，每逢佳节倍思亲”。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---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王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895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cc3300"/>
                </a:solidFill>
                <a:latin typeface="宋体"/>
              </a:rPr>
              <a:t>第二句化用陶渊明的典故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据《南史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隐逸传》记载：陶渊明有一次过重阳节，没有酒喝，就在宅边的菊花丛中独自闷坐了很久。后来正好王弘送酒来了，才醉饮而归。这里反用其意，是说自己虽然也想勉强地按照习俗去登高饮酒，可是在战乱中，没有象王弘那样的人来送酒助兴。</a:t>
            </a:r>
            <a:r>
              <a:rPr b="0" lang="zh-CN" sz="3200" spc="-1" strike="noStrike">
                <a:solidFill>
                  <a:srgbClr val="cc3300"/>
                </a:solidFill>
                <a:latin typeface="宋体"/>
              </a:rPr>
              <a:t>这里暗寓着题中“行军”的特定环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600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cc3300"/>
                </a:solidFill>
                <a:latin typeface="宋体"/>
              </a:rPr>
              <a:t>第三句开头一个“遥”字，是渲染自己和故园长安相隔之远，而更见思乡之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720" y="759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2116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cc3300"/>
                </a:solidFill>
                <a:latin typeface="宋体"/>
              </a:rPr>
              <a:t>扣住诗题中的“行军”二字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结合安史之乱和长安被陷的时代特点，突破了单纯的惜花和思乡，而</a:t>
            </a:r>
            <a:r>
              <a:rPr b="0" lang="zh-CN" sz="3200" spc="-1" strike="noStrike">
                <a:solidFill>
                  <a:srgbClr val="cc3300"/>
                </a:solidFill>
                <a:latin typeface="宋体"/>
              </a:rPr>
              <a:t>寄托着诗人饱经战争忧患的人民的同情，对早日平定安史之乱的渴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这首叙写重阳节是诗人的所遇所感，表达了诗人的思乡之情，寄托了诗人对国事的忧虑和对早日平定安史之乱的渴望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10-26T11:21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