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388-0AF4-463E-B850-3D2C7E12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F74-DF6B-4A0B-95DF-ADBEBF91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09B-8428-4446-A153-F16E48EA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A45-CF05-48E9-AB77-C30B02D7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C8D-BFDA-4A57-8E40-5B9E5C25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30C-F76D-45D9-A5EB-9D3A4FCF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D06-0762-4EBE-9F4D-D2104C0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E27-563A-4534-8764-E727B484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9A5-22DF-442F-B5C6-7B3A669B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34E-FA1D-41F2-AF69-FCA0A20C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EA9-9C04-4DDB-83CE-653747A0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1DD-6717-4E57-9C39-D40A8CEB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D75-0443-460B-84D5-30ABFD3ED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行军九日思长安故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文本占位符 3075" descr="图片6"/>
          <p:cNvPicPr/>
          <p:nvPr/>
        </p:nvPicPr>
        <p:blipFill>
          <a:blip r:embed="rId1"/>
          <a:stretch/>
        </p:blipFill>
        <p:spPr>
          <a:xfrm>
            <a:off x="0" y="1138320"/>
            <a:ext cx="7812000" cy="48020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3076"/>
          <p:cNvSpPr/>
          <p:nvPr/>
        </p:nvSpPr>
        <p:spPr>
          <a:xfrm>
            <a:off x="7885080" y="2637000"/>
            <a:ext cx="12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岑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170160" y="6184800"/>
            <a:ext cx="56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禄丰县彩云中学何春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首诗写了哪一中国的传统节日？从本诗中的哪些词语可以看出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重阳节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“九日”、“登高”、“饮酒”、“菊” 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此诗“以小见大”的地方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以“故园菊”代表整个故园长安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“遥怜故园菊，应傍战场开”两句表达了诗人怎样的思想感情？是用什么方法表现的？请简要分析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】两句诗表达了诗人的思乡之情，寄托了诗人对国事的忧虑和对早日平定安史之乱的渴望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4340" descr="t0183a1a934c8607b46"/>
          <p:cNvPicPr/>
          <p:nvPr/>
        </p:nvPicPr>
        <p:blipFill>
          <a:blip r:embed="rId1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诗人一是直接抒情，“遥怜”一词将诗人对故园的思念和担忧直接表现出来；二是以想像的手法描绘了长故园纷飞的战火，断垣残壁间丛丛寂寞开放的菊花，以写故园菊来写故园长安，让读者掩卷深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5364" descr="t012a9de77d7c02de59"/>
          <p:cNvPicPr/>
          <p:nvPr/>
        </p:nvPicPr>
        <p:blipFill>
          <a:blip r:embed="rId1"/>
          <a:stretch/>
        </p:blipFill>
        <p:spPr>
          <a:xfrm>
            <a:off x="2700360" y="4572000"/>
            <a:ext cx="644364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分析本诗所用的典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据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南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隐逸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记载：陶渊明有一次过重阳节，没有酒喝，就在宅边的菊花丛中独自闷坐了很久。后来正好王弘送酒来了，才醉饮而归。这里反用其意，是说自己虽然也想勉强地按照习俗去登高饮酒，可是在战乱中，没有象王弘那样的人来送酒助兴。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6388" descr="t01b81f3baaf3aa5f48"/>
          <p:cNvPicPr/>
          <p:nvPr/>
        </p:nvPicPr>
        <p:blipFill>
          <a:blip r:embed="rId1"/>
          <a:stretch/>
        </p:blipFill>
        <p:spPr>
          <a:xfrm>
            <a:off x="1979640" y="5661000"/>
            <a:ext cx="716436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唐代以九月九日重阳节登高为题材的好诗不少，并且各有特点。岑参的这首五绝，表现的不是一般的节日思乡，而是对国事的忧虑和对战乱中人民疾苦的关切。表面看来写得平直朴素，实际构思精巧，情韵无限，是一首言简意深、耐人寻味的抒情佳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9460" descr="t0148fd895a870db19d"/>
          <p:cNvPicPr/>
          <p:nvPr/>
        </p:nvPicPr>
        <p:blipFill>
          <a:blip r:embed="rId1"/>
          <a:stretch/>
        </p:blipFill>
        <p:spPr>
          <a:xfrm>
            <a:off x="6095880" y="5516640"/>
            <a:ext cx="304812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岑参写的这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行军九日思长安故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语言朴实无华，又寓巧于朴，余意深长。表现的不是一般的节日思乡，而是对国事的忧虑和对战乱中人民疾苦的关切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寄托着对诗人饱经战争忧患的人民的同情，对早日平定安史之乱的渴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8436" descr="t011a86e97b5c2efc25"/>
          <p:cNvPicPr/>
          <p:nvPr/>
        </p:nvPicPr>
        <p:blipFill>
          <a:blip r:embed="rId1"/>
          <a:stretch/>
        </p:blipFill>
        <p:spPr>
          <a:xfrm>
            <a:off x="5486400" y="4941720"/>
            <a:ext cx="365760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能正确、流利、有感情地朗读诗歌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能结合写作背景，正确领会诗歌的思想内容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能结合诗句的涵义领悟诗歌的意境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背诵诗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4100" descr="t01b0a1a0aefe9c4f57"/>
          <p:cNvPicPr/>
          <p:nvPr/>
        </p:nvPicPr>
        <p:blipFill>
          <a:blip r:embed="rId1"/>
          <a:stretch/>
        </p:blipFill>
        <p:spPr>
          <a:xfrm>
            <a:off x="4140360" y="4797360"/>
            <a:ext cx="500364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岑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715-770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南阳（今属河南）人。天宝进士，曾随高仙芝到安西、威武，后又往来于北庭、轮台间。官至嘉州刺史，卒于成都。长于七言歌行。所作善于描绘塞上风光和战争景象；气势豪迈，情辞慷慨，语言变化自如。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岑嘉州诗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5124" descr="t0173f058b0df1eece2"/>
          <p:cNvPicPr/>
          <p:nvPr/>
        </p:nvPicPr>
        <p:blipFill>
          <a:blip r:embed="rId1"/>
          <a:stretch/>
        </p:blipFill>
        <p:spPr>
          <a:xfrm>
            <a:off x="6095880" y="4941720"/>
            <a:ext cx="304812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962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的原注说：“时未收长安。”唐天宝十四载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5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安禄山起兵叛乱，次年长安被攻陷。至德二载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5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二月肃宗由彭原行军至凤翔，岑参随行。九月唐军收复长安，诗可能是该年重阳节在凤翔写的。岑参是南阳人，但久居长安，故称长安为“故园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0246" descr="t012fded9d1ac546e00"/>
          <p:cNvPicPr/>
          <p:nvPr/>
        </p:nvPicPr>
        <p:blipFill>
          <a:blip r:embed="rId1"/>
          <a:stretch/>
        </p:blipFill>
        <p:spPr>
          <a:xfrm>
            <a:off x="3924360" y="5516640"/>
            <a:ext cx="521964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行军九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长安故园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岑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强欲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无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酒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遥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园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应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战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白云出岫 - 3五绝_33行军九日思长安故园_岑参.mp3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792360" cy="17287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9221" descr="t01ebfaf8fded630008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1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九日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指九月九日重阳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iǎng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勉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登高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阳节有登高赏菊饮酒以避灾祸的风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8196" descr="t01f32e5155e5ef4fe8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无人送酒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南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隐逸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记载，陶渊明有一次过重阳节，没有酒喝，就在宅边的菊花丛中独自闷坐，这时正好王弘送酒来了，于是醉饮而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怜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án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傍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靠近、接近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7172" descr="t01422109d498269a90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勉强地想要按照习俗去登高饮酒，却没有像王弘那样的人把酒送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在远方想念长安故园中的菊花，这时应正寂寞地在战场旁边盛开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1268" descr="t019ad93265779f3f73"/>
          <p:cNvPicPr/>
          <p:nvPr/>
        </p:nvPicPr>
        <p:blipFill>
          <a:blip r:embed="rId1"/>
          <a:stretch/>
        </p:blipFill>
        <p:spPr>
          <a:xfrm>
            <a:off x="1908000" y="4869000"/>
            <a:ext cx="723600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前两句：（叙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战火连绵，景况凄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后两句：   （抒情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惜花思乡，眷恋故园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2292" descr="t011cb7e7da55ab9b46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11:54Z</dcterms:created>
  <dc:creator>未知用户</dc:creator>
  <dc:description/>
  <dc:language>en-US</dc:language>
  <cp:lastModifiedBy>Administrator</cp:lastModifiedBy>
  <dcterms:modified xsi:type="dcterms:W3CDTF">2018-10-05T01:50:12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