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7DA-51DF-457B-B164-B34E59DF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0DA-464F-4904-960C-1F869465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748-594C-4A90-BED3-782F2AB1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E6A-BBF1-4B9C-B30E-AD19F840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7202-6DEF-4531-9124-3E1CF56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9044-C158-41ED-9267-995E4BD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C229-987C-46F5-AABF-B8E68CC1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FF6C-6891-4AFC-91CF-134A97DD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38C-4AD0-499D-A020-C6F53CB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A97C-7767-45CC-8DA9-A2BD8AF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012-04FD-448A-B417-821EFBE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532-F83F-4465-BB17-EA72050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2494-ECE7-4E11-B666-3FFB294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AE70-CA1D-43A7-A5F0-66F8251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047-E773-4FBE-83BB-252A2F59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07C1-1B55-4578-B4D0-1194AC19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699-BC47-4454-B239-B887F139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28A8-FD5E-48F7-956B-F48AF508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31E1-48C6-468C-A379-4070A99C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7A9C-6A78-4E49-A06A-1D2577A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EFEF-09E6-4CEF-80B8-18C26A1E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710F-435D-4E83-BCE9-B0669D8F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560-04D5-4737-B8BC-0F1C054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D1F0-CC45-4255-A78A-54EF8C9F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A911-CA9B-4897-BFD6-E17F06A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415F-21B2-407F-A280-1E1F4B4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2124-D4E0-4887-9D36-150007B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72AE-4E3A-4DD7-8769-652A72E8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A503-88D7-422B-97CA-22359EF6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67A0-0265-43F4-8924-1787382D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EFC5-4E43-47C1-944C-B2DFA3D6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F505-792F-40F1-A1C3-115D3D21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1DCC-E4BE-49D1-8184-3627CCF1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16A-7848-4338-ACE8-8D0E3BEC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99DB-A825-40DA-8565-1607886D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51104-C72B-4EB3-98B1-2C8A6A98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3905-AEB9-4EB7-862E-1BAD5E4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566EE-357C-417F-9E91-879A6D9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124D-121E-45FD-8230-6E7B51F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2C78-550B-4BD8-8B08-F95EF08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8B9C-2EA1-4B66-AA8A-DC67BA8B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8065-3A6F-45F5-8562-F1123D06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7D6A-DEBE-4E84-A248-A0AC0B39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98ED-8624-49A7-9102-AD96D668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484-6657-4652-B11F-E8301931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252DE-C987-4A9C-A369-1A658C7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6643D-322D-4758-A355-A91E4B1D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27A5-6C38-4191-986A-1B1CD93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9670-4857-4A3F-9FFB-72BEA7C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0968-EB1D-47A7-AE85-43A0E8B2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EF31-E5CB-42FF-9940-59AEE71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97F3-7B2F-435A-8BDD-A7F34D4C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2D1B-505E-42F4-A49F-9F24379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E23F0-515F-487D-9753-3F359C3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2F7D-32FA-4D32-AACD-16C18879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E61-4DB1-4D7D-BEBA-C22A2165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DE53-E03D-403A-B199-B1116723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23BA-74C9-4173-9AD9-44472958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924C-DCCA-4C65-A77B-1A31E0C8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9E3E5-35E8-49B0-86CA-3D0E83E1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239D-99C7-4BA2-822D-354E593E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08A4-2DBD-4515-9EFC-2BDB2A3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933B-C5F3-4616-9A38-7D0503F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076E6-D23A-40CA-9991-258D614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1D90-AEF2-46C2-A402-4ACF958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E980-D9FB-4A3A-94C5-703041A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EE4-3ACC-4854-A5CA-3CA3F3E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8591-3F51-41BB-B660-25777967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67BE-EE07-4210-8884-227A7F32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B61C3-53F5-4891-B788-CAE388EF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FAD26-8CE3-46F5-9FE4-0F71583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1DDE-D462-45C4-9CDC-B094E31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81BBE-6B5C-4324-81E1-ABA6D96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B93A-AA03-4F69-B9A9-ABD4C295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8DD9-9684-4B9C-AF35-C32B9469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52EA-0F3C-4A6D-84F4-83D58E3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E5B5-3A8E-446B-8D3C-A722720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8DB-0416-4156-AF22-753D9297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C800-F023-4668-A2FB-2D2E615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B3611-FBA7-4505-A044-D5953DFD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2B8F-5A67-49F4-8763-A14F708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44C5-BE91-4E05-85A9-37BDF6D3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46B21-5CB4-463D-BDCC-C38C2C3C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6FC-E90F-489E-B778-6E114CF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CBA2-4A68-449D-9489-B37849CD45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0E80-EB6F-4ED9-922F-EBA213FB1D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F2D8-5120-40FE-B333-FABE34C646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E15-8540-4245-A731-50615D4A4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58F-488C-43B0-ABA2-212CE5B52C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906-23E9-473D-8EDC-9E2A3C8B09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7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16D5-41E1-4E8E-94B7-1626642AFD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3" descr=""/>
          <p:cNvPicPr/>
          <p:nvPr/>
        </p:nvPicPr>
        <p:blipFill>
          <a:blip r:embed="rId1"/>
          <a:stretch/>
        </p:blipFill>
        <p:spPr>
          <a:xfrm>
            <a:off x="-109440" y="-450720"/>
            <a:ext cx="11021760" cy="7759440"/>
          </a:xfrm>
          <a:prstGeom prst="rect">
            <a:avLst/>
          </a:prstGeom>
          <a:ln w="0">
            <a:noFill/>
          </a:ln>
        </p:spPr>
      </p:pic>
      <p:pic>
        <p:nvPicPr>
          <p:cNvPr id="322" name="标题 1" descr=""/>
          <p:cNvPicPr/>
          <p:nvPr/>
        </p:nvPicPr>
        <p:blipFill>
          <a:blip r:embed="rId2"/>
          <a:stretch/>
        </p:blipFill>
        <p:spPr>
          <a:xfrm>
            <a:off x="-30240" y="1116000"/>
            <a:ext cx="8661600" cy="2401920"/>
          </a:xfrm>
          <a:prstGeom prst="rect">
            <a:avLst/>
          </a:prstGeom>
          <a:ln w="0">
            <a:noFill/>
          </a:ln>
        </p:spPr>
      </p:pic>
      <p:pic>
        <p:nvPicPr>
          <p:cNvPr id="323" name="副标题 2" descr=""/>
          <p:cNvPicPr/>
          <p:nvPr/>
        </p:nvPicPr>
        <p:blipFill>
          <a:blip r:embed="rId3"/>
          <a:stretch/>
        </p:blipFill>
        <p:spPr>
          <a:xfrm>
            <a:off x="1116000" y="3357720"/>
            <a:ext cx="7029360" cy="215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       </a:t>
            </a: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岑参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5" name="内容占位符 3" descr=""/>
          <p:cNvPicPr/>
          <p:nvPr/>
        </p:nvPicPr>
        <p:blipFill>
          <a:blip r:embed="rId1"/>
          <a:stretch/>
        </p:blipFill>
        <p:spPr>
          <a:xfrm>
            <a:off x="309600" y="380880"/>
            <a:ext cx="3827520" cy="486108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6"/>
          <p:cNvSpPr/>
          <p:nvPr/>
        </p:nvSpPr>
        <p:spPr>
          <a:xfrm>
            <a:off x="4286160" y="549360"/>
            <a:ext cx="4400640" cy="106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唐代边塞诗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岑参工诗，长于七言歌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代表作是《白雪歌送武判官归京》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存诗三百六十首。对边塞风光，军旅生活，以及少数民族的文化风俗有亲切的感受，故其边塞诗尤多佳作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风格与高适相近，后人多并称“高岑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创作背景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造字工房刻宋（非商用）常规体"/>
              </a:rPr>
              <a:t>唐玄宗天宝十四载（</a:t>
            </a:r>
            <a:r>
              <a:rPr b="0" lang="zh-CN" sz="3600" spc="-1" strike="noStrike">
                <a:solidFill>
                  <a:srgbClr val="000000"/>
                </a:solidFill>
                <a:latin typeface="造字工房刻宋（非商用）常规体"/>
              </a:rPr>
              <a:t>755</a:t>
            </a:r>
            <a:r>
              <a:rPr b="0" lang="zh-CN" sz="3600" spc="-1" strike="noStrike">
                <a:solidFill>
                  <a:srgbClr val="000000"/>
                </a:solidFill>
                <a:latin typeface="造字工房刻宋（非商用）常规体"/>
              </a:rPr>
              <a:t>年），安禄山起兵叛乱，次年长安被攻陷。唐肃宗至德二载（</a:t>
            </a:r>
            <a:r>
              <a:rPr b="0" lang="zh-CN" sz="3600" spc="-1" strike="noStrike">
                <a:solidFill>
                  <a:srgbClr val="000000"/>
                </a:solidFill>
                <a:latin typeface="造字工房刻宋（非商用）常规体"/>
              </a:rPr>
              <a:t>757</a:t>
            </a:r>
            <a:r>
              <a:rPr b="0" lang="zh-CN" sz="3600" spc="-1" strike="noStrike">
                <a:solidFill>
                  <a:srgbClr val="000000"/>
                </a:solidFill>
                <a:latin typeface="造字工房刻宋（非商用）常规体"/>
              </a:rPr>
              <a:t>年）二月肃宗由彭原行军至凤翔，岑参随行。这首诗原有小注说：“时未收长安”。九月唐军收复长安，此诗可能是当年重阳节在凤翔写的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岑参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强欲</a:t>
            </a:r>
            <a:r>
              <a:rPr b="1" lang="en-US" sz="4500" spc="-1" strike="noStrike">
                <a:solidFill>
                  <a:srgbClr val="000000"/>
                </a:solidFill>
                <a:latin typeface="造字工房刻宋（非商用）常规体"/>
              </a:rPr>
              <a:t>/</a:t>
            </a: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登高去，无人</a:t>
            </a:r>
            <a:r>
              <a:rPr b="1" lang="en-US" sz="4500" spc="-1" strike="noStrike">
                <a:solidFill>
                  <a:srgbClr val="000000"/>
                </a:solidFill>
                <a:latin typeface="造字工房刻宋（非商用）常规体"/>
              </a:rPr>
              <a:t>/</a:t>
            </a: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送酒来。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遥怜</a:t>
            </a:r>
            <a:r>
              <a:rPr b="1" lang="en-US" sz="4500" spc="-1" strike="noStrike">
                <a:solidFill>
                  <a:srgbClr val="000000"/>
                </a:solidFill>
                <a:latin typeface="造字工房刻宋（非商用）常规体"/>
              </a:rPr>
              <a:t>/</a:t>
            </a: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故园菊，应傍</a:t>
            </a:r>
            <a:r>
              <a:rPr b="1" lang="en-US" sz="4500" spc="-1" strike="noStrike">
                <a:solidFill>
                  <a:srgbClr val="000000"/>
                </a:solidFill>
                <a:latin typeface="造字工房刻宋（非商用）常规体"/>
              </a:rPr>
              <a:t>/</a:t>
            </a:r>
            <a:r>
              <a:rPr b="1" lang="zh-CN" sz="4500" spc="-1" strike="noStrike">
                <a:solidFill>
                  <a:srgbClr val="000000"/>
                </a:solidFill>
                <a:latin typeface="造字工房刻宋（非商用）常规体"/>
              </a:rPr>
              <a:t>战场开。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造字工房刻宋（非商用）常规体"/>
              </a:rPr>
              <a:t>   </a:t>
            </a:r>
            <a:r>
              <a:rPr b="1" lang="zh-CN" sz="4100" spc="-1" strike="noStrike">
                <a:solidFill>
                  <a:srgbClr val="000000"/>
                </a:solidFill>
                <a:latin typeface="造字工房刻宋（非商用）常规体"/>
              </a:rPr>
              <a:t>行军九日思长安故园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"/>
          <p:cNvSpPr/>
          <p:nvPr/>
        </p:nvSpPr>
        <p:spPr>
          <a:xfrm>
            <a:off x="179280" y="692280"/>
            <a:ext cx="432144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行军九日思长安故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岑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强欲登高去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无人送酒来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遥怜故园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应傍战场开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1268280"/>
            <a:ext cx="4098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九月九日重阳佳节，我勉强登上高处远眺，然而在这战乱的行军途中，没有谁能送酒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心情沉重地遥望我的故乡长安，那菊花大概傍在这战场零星的开放了。  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468360" y="3645000"/>
            <a:ext cx="4321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九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九月九日重阳节。故园：故乡。 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勉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登高：重阳节有登高赏菊饮酒以避灾祸的风俗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怜。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靠近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10920" y="764640"/>
            <a:ext cx="7777080" cy="554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首诗写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一中国传统节日，从本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  __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等词语中可以看出。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重阳节   “九日”“登高”。（农历九月九日为重阳节，重阳节有登高饮菊花酒的习俗。 ）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重阳节大家都喜欢登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首句为何要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强欲？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强欲”二字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表现出强烈的无可奈何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情绪。结合题目“思长安故园”来看，诗人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流露出浓郁的思乡情绪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280" y="333360"/>
            <a:ext cx="8209080" cy="452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第二句用了什么手法，效果如何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第二句化用陶渊明的典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“登高”，诗人自然联想到饮酒、赏菊。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南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隐逸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记载：陶渊明有一次过重阳节，没有酒喝，就在宅边的菊花丛中独自闷坐了很久。后来正好王弘送酒来了，才醉饮而归。此句承前句而来，衔接自然，写得明白如话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读者的联想和猜测：不知造成“无人送酒来”的原因是什么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其实这里反用其意，是说自己虽然也想勉强地按照习俗去登高饮酒，可是在战乱中，没有像王弘那样的人来送酒助兴，共度佳节。所以，“无人送酒来”句，实际上是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写旅况的凄凉萧瑟，无酒可饮，更无菊可赏，暗寓着题中“行军”的特定环境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10920" y="620280"/>
            <a:ext cx="8064360" cy="547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遥怜故园菊，应傍战场开”两句表达了诗人怎样的思想感情？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“遥怜”二字别有韵味，请从艺术表现手法以及表达思想情感这两方面加以简析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作者运用想象，描绘了在战场中开放的故园菊花，表达了对故园的思念，以及对饱经战乱的人民的同情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对平定战乱的渴望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（ “遥”渲染自己和故园长安相隔之远，烘托了诗人深切的思乡之情。 ）（ “怜”不仅写出诗人对故乡之菊的眷恋，更写出诗人对故园之菊开在战场上的长长叹息。）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诗人抒发了对故园的思念之情，表达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饱经战乱的人民的深切同情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国事的忧虑之心和对平定战乱的渴望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3:04:10Z</dcterms:created>
  <dc:creator/>
  <dc:description/>
  <dc:language>en-US</dc:language>
  <cp:lastModifiedBy>user</cp:lastModifiedBy>
  <dcterms:modified xsi:type="dcterms:W3CDTF">2016-10-08T02:15:12Z</dcterms:modified>
  <cp:revision>3</cp:revision>
  <dc:subject/>
  <dc:title>幻灯片 1</dc:title>
</cp:coreProperties>
</file>