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54C-48E0-4445-B98F-72F7D6B3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F5F-C484-4C32-9158-CFD14973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017-9E81-4D8A-8927-54F111E9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B75-8F8A-4098-AC48-355AFD29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62C-2B06-4D4E-9521-FB229296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FB0-B91C-41D8-8AAB-A60B4518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310-45F7-43D4-B3E7-3D91AB8C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725-18DD-46F3-8DE7-DF3863B0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988-1766-400E-A290-893B915B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71A-BFD0-4C71-B679-81A71889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9A6-303E-4A65-B0E0-8272529D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664-BFE8-4B43-A405-2E2579E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B533-73E9-4FE4-9F75-568DEB2AD0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baike.baidu.com/view/5521.htm" TargetMode="External"/><Relationship Id="rId3" Type="http://schemas.openxmlformats.org/officeDocument/2006/relationships/hyperlink" Target="http://baike.baidu.com/view/26085.htm" TargetMode="External"/><Relationship Id="rId4" Type="http://schemas.openxmlformats.org/officeDocument/2006/relationships/hyperlink" Target="http://baike.baidu.com/view/39622.htm" TargetMode="External"/><Relationship Id="rId5" Type="http://schemas.openxmlformats.org/officeDocument/2006/relationships/hyperlink" Target="http://baike.baidu.com/view/5073.ht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2590920"/>
            <a:ext cx="5029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赏画忆诗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401760"/>
            <a:ext cx="7467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华文新魏"/>
              </a:rPr>
              <a:t>亡国前耽于享乐、亡国后溺于悲哀，这就是李后主的一生。南唐亡国降宋后，李煜被幽禁在汴京的一座深院小楼中，过着终日以泪洗面的凄凉日子，《相见欢》写的就是这种囚禁生活的愁苦滋味。《相见欢》为词牌名。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88040" y="990720"/>
            <a:ext cx="219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写作背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感受音乐之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选择自己喜欢的方式朗读这首词，读的过程中揣摩该词所饱含的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聆听范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仿齐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欣赏歌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438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4099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3"/>
          <p:cNvSpPr/>
          <p:nvPr/>
        </p:nvSpPr>
        <p:spPr>
          <a:xfrm>
            <a:off x="785880" y="1571760"/>
            <a:ext cx="78246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国维说过：“主观之词人，不必多阅世，阅世愈浅，则性情愈真，李后主是也。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8288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品读语言之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真性情的李后主在这首词中表现了怎样的真心情？哪一句给我们具体展现了出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剪不断，理还乱，是离愁。别是一般滋味在心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李煜的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剪不断，理还乱，是离愁。 ——《相见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君能有几多愁，恰似一江春水向东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虞美人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离恨恰似春草，更行更远还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清平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是人生长恨水长东 。        ——《乌夜啼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根据李煜的经历以及李煜的词句，说说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愁都是由哪些原因引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国梦重归，觉来双泪垂。  ——《子夜歌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得玉楼瑶殿影，空照秦淮！ ——《浪淘沙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自莫凭栏，无限江山，别时容易见时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浪淘沙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8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首词的上阕是写景，都写了哪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景物？和下阕抒发的离愁有关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落乌啼霜满天，江枫渔火对愁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继《枫桥夜泊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烟笼寒水月笼沙，夜泊秦淮近酒家。商女不知亡国恨，隔江犹唱《后庭花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杜牧《泊秦淮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醉不成欢惨将别，别时茫茫江浸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居易《琵琶行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举杯邀明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影成三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白《月下独酌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声梧叶一声秋，一点芭蕉一点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再思《水仙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夜雨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碧纱秋月，梧桐夜雨，几回无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晏殊《撼庭秋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缺月挂疏桐，漏断人初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苏轼《卜算子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梧桐更兼细雨，到黄昏， 点点滴滴。这次第，怎一个愁字了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清照《声声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468000" cy="74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缺月、梧桐、深院、清秋，这一切无不渲染出一份凄凉的意境，反映出词人内心的孤寂之情，为下阕抒情做好铺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借景抒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觉得上阕中哪个词语用得最好？说说你的理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810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品味画面之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试用自己的语言再现词中的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可用上“月、梧桐、庭院、秋”等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447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品味画面之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词人默默无言，孤孤单单，独自一人缓缓登上空空的西楼。抬头望天，只有一弯如钩的冷月相伴。低头望去，只见梧桐树寂寞地孤立院中，幽深的庭院被笼罩在清冷凄凉的秋色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那剪也剪不断，理也理不清，让人心乱如麻的，正是亡国之苦。那悠悠愁思缠绕在心头，却又是另一种无可名状的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小练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将《相见欢》改写成记叙文，充分发挥自己的想象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左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50920" y="1341360"/>
            <a:ext cx="47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相见欢</a:t>
            </a:r>
            <a:endParaRPr b="1" lang="en-US" sz="72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29000" y="3886200"/>
            <a:ext cx="1752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李煜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41760" y="-465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836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一生璀璨若流星，也迅乎若流星。他丰神隽逸，心如赤子，魂系诗书，仙品一般的人物，却被命运之掌推上乱世闹哄的前台。富贵云烟，一梦黄梁，原只是红尘的一段误会，种种旖旎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ǐnǐ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不过虚假幻象。陷入这滚滚红尘，不过了结一段债；情债，文字债，家国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580000" y="5661000"/>
            <a:ext cx="2057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南唐 李煜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304920"/>
            <a:ext cx="800100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李煜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名从嘉，字重光，号钟隐。史称南唐后主。即位后对宋称臣纳贡，以求偏安一方。生活上则穷奢极欲。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7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宋军破金陵，虽被封为违命侯，实已沦为阶下囚。他虽不通政治，但其艺术才华却非凡。精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书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善绘画，通音律，诗和文均有一定造诣，尤以词的成就最高。千古杰作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hlinkClick r:id="rId3"/>
              </a:rPr>
              <a:t>虞美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》、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hlinkClick r:id="rId4"/>
              </a:rPr>
              <a:t>浪淘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》等词。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hlinkClick r:id="rId5"/>
              </a:rPr>
              <a:t>政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失败的李煜，却在词坛上留下了不朽的篇章，被称为“千古词帝”。他可谓是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失败的皇帝，成功的文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。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000800" y="914400"/>
            <a:ext cx="219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走近李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11-07T03:02:0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