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BCE7-DD36-4472-BC01-9F41D63D5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0D62-1101-4EFA-B9D9-C3ECEE1AB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7A82-B7B4-4379-9C77-9AA489F60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70D0-4CC5-41B6-B664-D1D4C4F90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6B28E-439A-46DE-A56F-B586A4DAB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22C1F-17BA-4BCA-8218-F1234E1EA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38B7B-1490-41CF-B6DF-E6C0832CE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EF069-9293-45FD-BF87-791D88B05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14743-D0EB-4E2F-8C6B-20A3D3ABB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551FA-7425-4FCC-9E14-343D6CEF7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0E377-8917-483E-B994-247C7CF1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3FAC-EF52-45FB-A6A8-AB19FA92D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5F1BF-46AF-4E2C-BDEC-725B02B9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88150-4B73-457C-B3EB-4AB2BDE8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DD571-6FC3-4E65-A498-0FBE2DD4B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03D97-4434-4066-ADCC-712C669EB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22A15-BF0C-4884-A927-904204599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2330-AF23-4FD2-AAFC-9B836F93E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D687-ECD4-40CE-83ED-0418A7CCF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0FF2-12FD-4B53-8234-ACE7715AF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0A48-9406-47F7-96BC-3A7CAE0EC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2153-3C59-484E-9A1B-FC36FA86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7746-BA83-4F04-A39B-47DB40B2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9E51-D631-4319-BD87-C1BB41B3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D334-1685-4459-B5FE-78C1B8072E60}" type="slidenum">
              <a:rPr b="0" lang="zh-CN" sz="1400" spc="-1" strike="noStrike">
                <a:solidFill>
                  <a:srgbClr val="0033cc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A1A98-2ABE-4E47-9F54-FA59F1DA3C4C}" type="slidenum">
              <a:rPr b="0" lang="zh-CN" sz="1400" spc="-1" strike="noStrike">
                <a:solidFill>
                  <a:srgbClr val="0033cc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rcRect l="2500" t="0" r="8855" b="0"/>
          <a:stretch/>
        </p:blipFill>
        <p:spPr>
          <a:xfrm>
            <a:off x="0" y="0"/>
            <a:ext cx="9524880" cy="69580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067160" y="260280"/>
            <a:ext cx="261828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00"/>
                </a:solidFill>
                <a:latin typeface="Times New Roman"/>
                <a:ea typeface="黑体"/>
              </a:rPr>
              <a:t>做个才子真绝代，       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00"/>
                </a:solidFill>
                <a:latin typeface="Times New Roman"/>
                <a:ea typeface="黑体"/>
              </a:rPr>
              <a:t>可怜薄命做君王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9144000" cy="68864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04000" y="6021360"/>
            <a:ext cx="205740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南唐 李煜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10" name=""/>
          <p:cNvSpPr/>
          <p:nvPr/>
        </p:nvSpPr>
        <p:spPr>
          <a:xfrm>
            <a:off x="3851280" y="47628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一生璀璨若流星，也迅乎若流星。他丰神隽逸，心如赤子，魂系诗书，仙品一般的人物，却被命运之掌推上乱世闹哄的前台。富贵云烟，一梦黄梁，原只是红尘的一段误会，种种旖旎不过虚假幻象。陷入这滚滚红尘，不过了结一段债；情债，文字债，家国债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28600" y="685800"/>
            <a:ext cx="74674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Times New Roman"/>
                <a:ea typeface="华文新魏"/>
              </a:rPr>
              <a:t>亡国前耿于享乐、亡国后溺于悲哀，这就是李后主的一生。南唐亡国降宋后，李煜被幽禁在汴京的一座深院小楼中，过着终日以泪洗面的凄凉日子，《相见欢》写的就是这种囚禁生活的愁苦滋味。《相见欢》为词牌名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25720" y="685800"/>
            <a:ext cx="2618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7d7da9"/>
                </a:solidFill>
                <a:latin typeface="Arial Narrow"/>
                <a:ea typeface="隶书"/>
              </a:rPr>
              <a:t>写作背景</a:t>
            </a:r>
            <a:endParaRPr b="0" lang="en-US" sz="8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169400" y="0"/>
            <a:ext cx="1642680" cy="18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ff"/>
                </a:solidFill>
                <a:latin typeface="Times New Roman"/>
                <a:ea typeface="华文新魏"/>
              </a:rPr>
              <a:t>词句赏析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41760" y="-4651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2286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无言独上西楼，月如钩，寂寞梧桐深院锁清秋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19320" y="21337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413000"/>
            <a:ext cx="87631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无言”不愿说，无人说，说了也无人理解，说又何用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月如钩”残月象征着亲人的离散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寂寞梧桐深院锁清秋”，“寂寞者”和“被锁者”非“梧桐”和“清秋”，而是词人自己。这几句词情景交融，生动形象地表达了词人被幽囚，亡国之后失去自由的寂寞愁苦之情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-174600"/>
            <a:ext cx="9468000" cy="74628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0" y="3357720"/>
            <a:ext cx="91440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9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>
                        <a:alpha val="90196"/>
                      </a:srgbClr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宋体"/>
              </a:rPr>
              <a:t>是思、是苦、是悔、还是恨……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>
                      <a:alpha val="90196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62064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人生中最高的位置，他坐上了，最大的权力，他拥有过，最美的回忆，他拥有过，然而，人生中最深的痛，他承受过，最大的屈辱，他体味过。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80880" y="0"/>
            <a:ext cx="4077000" cy="159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33cc"/>
                </a:solidFill>
                <a:latin typeface="华文新魏"/>
              </a:rPr>
              <a:t>开拓延伸</a:t>
            </a:r>
            <a:endParaRPr b="1" lang="en-US" sz="8000" spc="1" strike="noStrike">
              <a:ln w="9360">
                <a:solidFill>
                  <a:srgbClr val="00ff00"/>
                </a:solidFill>
                <a:miter/>
              </a:ln>
              <a:solidFill>
                <a:srgbClr val="0033cc"/>
              </a:solidFill>
              <a:latin typeface="华文新魏"/>
              <a:ea typeface="华文新魏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119700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ff"/>
                </a:solidFill>
                <a:latin typeface="Times New Roman"/>
                <a:ea typeface="宋体"/>
              </a:rPr>
              <a:t>说出你所积累的写愁的古诗词名句，看谁说多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628640"/>
            <a:ext cx="8915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问君能有几多愁？恰似一江春水向东流。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宋体"/>
              </a:rPr>
              <a:t>——李煜《虞美人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抽刀断水水更流，举杯销愁愁更愁。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宋体"/>
              </a:rPr>
              <a:t>——李白《宣州谢眺楼饯别校书叔云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梧桐更兼细雨，到黄昏、点点滴滴。这次第，怎一个愁字了得！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宋体"/>
              </a:rPr>
              <a:t>——李清照《声声慢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闻说双溪春尚好，也拟泛轻舟，只恐双溪蚱蜢舟，载不动、许多愁。（愁有了重量）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宋体"/>
              </a:rPr>
              <a:t>——李清照《武陵春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白发三千丈，缘愁似个长。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(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愁有了长度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宋体"/>
              </a:rPr>
              <a:t>李白《秋浦歌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457200"/>
            <a:ext cx="8763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少年不识愁滋味，爱上层楼，爱上层楼，为赋新诗强说愁。而今识尽愁滋味，欲说还休，欲说还休，却道天凉好个秋！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宋体"/>
              </a:rPr>
              <a:t>——辛弃疾《丑奴儿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花自飘零水自流，一种相思，两处闲愁。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宋体"/>
              </a:rPr>
              <a:t>——李清照《一剪梅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此情无计可消除，才下眉头，却上心头。（愁可以游走）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宋体"/>
              </a:rPr>
              <a:t>——李清照《一剪梅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试问闲愁有几许？一川烟草，满城风絮，梅子黄时雨。（愁多而可视）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宋体"/>
              </a:rPr>
              <a:t>——贺铸《青玉案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前不见古人，后不见来者。念天地之悠悠，独怆然而涕下。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宋体"/>
              </a:rPr>
              <a:t>——陈子昂《登幽州台歌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6440" y="220680"/>
            <a:ext cx="8626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57200"/>
            <a:ext cx="8686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衣带渐宽终不悔，为伊消得人憔悴。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宋体"/>
              </a:rPr>
              <a:t>——晏殊《蝶恋花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日暮乡关何处是？烟波江上使人愁。 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宋体"/>
              </a:rPr>
              <a:t>——崔颢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明月高楼休独倚。酒入愁肠，化作相思泪。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宋体"/>
              </a:rPr>
              <a:t>——范仲淹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独自莫凭栏，无限江山。别时容易见时难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宋体"/>
              </a:rPr>
              <a:t>。——李煜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不忍登高临远，望故乡渺邈，归思难收。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宋体"/>
              </a:rPr>
              <a:t>——柳咏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莫道不消魂，帘卷西风，人比黄花瘦。 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宋体"/>
              </a:rPr>
              <a:t>――《醉花阴》 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宋体"/>
              </a:rPr>
              <a:t>	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1152360"/>
            <a:ext cx="8893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李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37——97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五代时南唐国主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重光，初名从嘉，号钟隐，世称李后主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人把他及其父李璟（李中主）的作品合为《南唐二主词》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精于书画，谙于音律，工于诗文，尤以词著名，词尤为五代之冠，世称李后主。其词大体以南唐灭亡为界，分为前后两期。其前期词多表现宫廷男女和离愁别绪。后期词则多追忆往事，伤怀故国，风格沉郁苍凉。语言自然精练，境界开阔，词风疏朗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84360" y="706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0" y="0"/>
            <a:ext cx="468144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-14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走近李煜</a:t>
            </a:r>
            <a:endParaRPr b="1" i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87" name=""/>
          <p:cNvSpPr/>
          <p:nvPr/>
        </p:nvSpPr>
        <p:spPr>
          <a:xfrm>
            <a:off x="5241960" y="8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776720" y="1295280"/>
            <a:ext cx="9115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ff"/>
                </a:solidFill>
                <a:latin typeface="Times New Roman"/>
                <a:ea typeface="宋体"/>
              </a:rPr>
              <a:t>小结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990720"/>
            <a:ext cx="6781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词的上片主要通过写词人的眼中之景，渲染了一种孤寂凄凉 的环境气氛，表现出词人幽囚生活的寂寞和愁苦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词的下片词人直抒胸臆，形象生动地写出了自己对愁的深刻体验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861960" y="1219320"/>
            <a:ext cx="20091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99ff"/>
                </a:solidFill>
                <a:latin typeface="Times New Roman"/>
                <a:ea typeface="宋体"/>
              </a:rPr>
              <a:t>主题探究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495288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本首词从渲染孤寂凄凉的环境气氛入手，形象生动地展现了词人心头无法解脱的愁苦之情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09480" y="228600"/>
            <a:ext cx="6248520" cy="44146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-28440"/>
            <a:ext cx="9144000" cy="69148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-44280"/>
            <a:ext cx="9144000" cy="69022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0" y="-270000"/>
            <a:ext cx="9144000" cy="739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0" y="62784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宋体"/>
              </a:rPr>
              <a:t>《独上西楼》音乐欣赏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732720" y="6200640"/>
            <a:ext cx="657000" cy="657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075920" y="620640"/>
            <a:ext cx="456948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宋体"/>
              </a:rPr>
              <a:t>无言独上西楼</a:t>
            </a:r>
            <a:br>
              <a:rPr sz="3600"/>
            </a:b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宋体"/>
              </a:rPr>
              <a:t>月如钩</a:t>
            </a:r>
            <a:br>
              <a:rPr sz="3600"/>
            </a:b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宋体"/>
              </a:rPr>
              <a:t>寂寞梧桐</a:t>
            </a:r>
            <a:br>
              <a:rPr sz="3600"/>
            </a:b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宋体"/>
              </a:rPr>
              <a:t>深院锁清秋</a:t>
            </a:r>
            <a:br>
              <a:rPr sz="3600"/>
            </a:b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宋体"/>
              </a:rPr>
              <a:t>剪不断 理还乱</a:t>
            </a:r>
            <a:br>
              <a:rPr sz="3600"/>
            </a:b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宋体"/>
              </a:rPr>
              <a:t>是离愁</a:t>
            </a:r>
            <a:br>
              <a:rPr sz="3600"/>
            </a:b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宋体"/>
              </a:rPr>
              <a:t>别有一番滋味在心头</a:t>
            </a:r>
            <a:br>
              <a:rPr sz="3600"/>
            </a:b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3" dur="164178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28600" y="2133720"/>
            <a:ext cx="8915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7d7da9"/>
                </a:solidFill>
                <a:latin typeface="华文行楷"/>
                <a:ea typeface="华文行楷"/>
              </a:rPr>
              <a:t>无言独上西楼，月如钩。寂寞梧桐深院锁清秋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7d7da9"/>
                </a:solidFill>
                <a:latin typeface="华文行楷"/>
                <a:ea typeface="华文行楷"/>
              </a:rPr>
              <a:t>剪不断，理还乱，是离愁。别是一番滋味在心头。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0" y="5589720"/>
            <a:ext cx="1008000" cy="100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0">
                                  <p:stCondLst>
                                    <p:cond delay="500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29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3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40992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228600"/>
            <a:ext cx="830592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66"/>
                </a:solidFill>
                <a:latin typeface="Times New Roman"/>
                <a:ea typeface="宋体"/>
              </a:rPr>
              <a:t>默默无言，孤孤单单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66"/>
                </a:solidFill>
                <a:latin typeface="Times New Roman"/>
                <a:ea typeface="宋体"/>
              </a:rPr>
              <a:t>独自一人缓缓登上空空的西楼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66"/>
                </a:solidFill>
                <a:latin typeface="Times New Roman"/>
                <a:ea typeface="宋体"/>
              </a:rPr>
              <a:t>抬头望天，只有一弯如钩冷月相伴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66"/>
                </a:solidFill>
                <a:latin typeface="Times New Roman"/>
                <a:ea typeface="宋体"/>
              </a:rPr>
              <a:t>低头望去只见梧桐寂寞地孤立院中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66"/>
                </a:solidFill>
                <a:latin typeface="Times New Roman"/>
                <a:ea typeface="宋体"/>
              </a:rPr>
              <a:t> </a:t>
            </a:r>
            <a:r>
              <a:rPr b="0" lang="zh-CN" sz="3200" spc="-1" strike="noStrike">
                <a:solidFill>
                  <a:srgbClr val="cc0066"/>
                </a:solidFill>
                <a:latin typeface="Times New Roman"/>
                <a:ea typeface="宋体"/>
              </a:rPr>
              <a:t>幽深的庭院被笼罩在清冷凄凉的秋色之中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66"/>
                </a:solidFill>
                <a:latin typeface="Times New Roman"/>
                <a:ea typeface="宋体"/>
              </a:rPr>
              <a:t>那剪也剪不断</a:t>
            </a:r>
            <a:r>
              <a:rPr b="0" lang="zh-CN" sz="3200" spc="-1" strike="noStrike">
                <a:solidFill>
                  <a:srgbClr val="cc0066"/>
                </a:solidFill>
                <a:latin typeface="Times New Roman"/>
                <a:ea typeface="宋体"/>
              </a:rPr>
              <a:t>,</a:t>
            </a:r>
            <a:r>
              <a:rPr b="0" lang="zh-CN" sz="3200" spc="-1" strike="noStrike">
                <a:solidFill>
                  <a:srgbClr val="cc0066"/>
                </a:solidFill>
                <a:latin typeface="Times New Roman"/>
                <a:ea typeface="宋体"/>
              </a:rPr>
              <a:t>理也理不清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66"/>
                </a:solidFill>
                <a:latin typeface="Times New Roman"/>
                <a:ea typeface="宋体"/>
              </a:rPr>
              <a:t>让人心乱如麻的，正是离别之苦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66"/>
                </a:solidFill>
                <a:latin typeface="Times New Roman"/>
                <a:ea typeface="宋体"/>
              </a:rPr>
              <a:t>那悠悠愁思（丝）缠绕在心头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66"/>
                </a:solidFill>
                <a:latin typeface="Times New Roman"/>
                <a:ea typeface="宋体"/>
              </a:rPr>
              <a:t>却又是另一种无可名状的痛苦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695640" y="1143000"/>
            <a:ext cx="21913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疏通大意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26920" y="0"/>
            <a:ext cx="78487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上阙：描写孤独身影，凄清的景色。（叙事写景）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无言——愁绪极重，重到无法言表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独上——尽显孤独之感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月如钩——仰望新月，使人愁上添愁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寂寞梧桐深院锁清秋——进一步写孤独寂寞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96000" y="1268280"/>
            <a:ext cx="287280" cy="792360"/>
          </a:xfrm>
          <a:custGeom>
            <a:avLst/>
            <a:gdLst>
              <a:gd name="textAreaLeft" fmla="*/ 0 w 287280"/>
              <a:gd name="textAreaRight" fmla="*/ 103680 w 28728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12000" y="765000"/>
            <a:ext cx="3348000" cy="1015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孑然一人，内心孤寂，心境萧索，为全词染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上一层凄清暗淡的底色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7163640" y="2781360"/>
            <a:ext cx="71640" cy="863640"/>
          </a:xfrm>
          <a:custGeom>
            <a:avLst/>
            <a:gdLst>
              <a:gd name="textAreaLeft" fmla="*/ 45720 w 71640"/>
              <a:gd name="textAreaRight" fmla="*/ 72000 w 7164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2781360"/>
            <a:ext cx="216000" cy="1008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51640" y="2708280"/>
            <a:ext cx="505080" cy="101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宋体"/>
              </a:rPr>
              <a:t>天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宋体"/>
              </a:rPr>
              <a:t>地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244000" y="2492280"/>
            <a:ext cx="504720" cy="155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宋体"/>
              </a:rPr>
              <a:t>楼外之景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1125360"/>
            <a:ext cx="215640" cy="1008360"/>
          </a:xfrm>
          <a:custGeom>
            <a:avLst/>
            <a:gdLst>
              <a:gd name="textAreaLeft" fmla="*/ 137880 w 215640"/>
              <a:gd name="textAreaRight" fmla="*/ 216000 w 21564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26920" y="4437000"/>
            <a:ext cx="7417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宋体"/>
              </a:rPr>
              <a:t>寂寞者，非梧桐深院，乃人也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宋体"/>
              </a:rPr>
              <a:t>被锁者，非清秋，亦人也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宋体"/>
              </a:rPr>
              <a:t>人间秋色，无所不在，如何能锁？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宋体"/>
              </a:rPr>
              <a:t>“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宋体"/>
              </a:rPr>
              <a:t>以我观物，故物皆着我色”（王国维《人间词话》）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52280" y="762120"/>
            <a:ext cx="899172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剪不断，理还乱，是离愁。别是一般滋味在头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Arial"/>
                <a:ea typeface="宋体"/>
              </a:rPr>
              <a:t>下阕：点破题旨，抒写离愁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9280" y="2133720"/>
            <a:ext cx="830592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剪不断，理还乱，是离愁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运用了比喻的修辞手法，把抽象的离愁比作剪不断、理还乱的丝缕、乱麻，形象生动地写出了愁思的纷繁难解，突出离愁的深重，萦绕心头，无法忘却，越想越乱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主题：抒写亡国哀思（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词人被幽囚北地，亡国之后失去自由的寂寞愁苦之情）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457200"/>
            <a:ext cx="8763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少年不识愁滋味，爱上层楼，爱上层楼，为赋新诗强说愁。而今识尽愁滋味，欲说还休，欲说还休，却道天凉好个秋！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宋体"/>
              </a:rPr>
              <a:t>——辛弃疾《丑奴儿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花自飘零水自流，一种相思，两处闲愁。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宋体"/>
              </a:rPr>
              <a:t>——李清照《一剪梅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此情无计可消除，才下眉头，却上心头。（愁可以游走）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宋体"/>
              </a:rPr>
              <a:t>——李清照《一剪梅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试问闲愁有几许？一川烟草，满城风絮，梅子黄时雨。（愁多而可视）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宋体"/>
              </a:rPr>
              <a:t>——贺铸《青玉案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前不见古人，后不见来者。念天地之悠悠，独怆然而涕下。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宋体"/>
              </a:rPr>
              <a:t>——陈子昂《登幽州台歌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9640" y="907920"/>
            <a:ext cx="8136000" cy="27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宋体"/>
              </a:rPr>
              <a:t>成语：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、剪不断，理还乱——形容人内心的烦乱或形容某些事难以处理解决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、别有滋味  或  别有一番滋味——形容只有自己内心知晓的那种难以言说的滋味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787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9T12:58:26Z</dcterms:created>
  <dc:creator/>
  <dc:description/>
  <dc:language>en-US</dc:language>
  <cp:lastModifiedBy>lenovo</cp:lastModifiedBy>
  <dcterms:modified xsi:type="dcterms:W3CDTF">2013-12-19T09:36:08Z</dcterms:modified>
  <cp:revision>9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