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CHIMES.WAV" ContentType="audio/x-wav"/>
  <Override PartName="/ppt/media/image6.jpeg" ContentType="image/jpe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93CC-CD04-4478-B60A-58F62582E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ACFD-44A8-4A54-9E5A-1EDFD0E1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BBF1-34B4-4F37-86C4-07B214203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FA9B-06D8-4F66-BF4F-22A0154DF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C00F-F335-4881-A1CF-722EE67D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98B5-90E1-4657-A5BB-6297A16A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BF95-89F6-4574-AF01-1B593AC9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22D9-5548-4135-A592-E24BC41F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DF2A-51F0-4BAD-894A-D4AC9F91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0BF0-8465-4D92-A370-F6F8FE90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F885-7A3A-429C-8CCE-A39BB403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08D7-6673-4237-9015-43D2F542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453E-932B-4067-861E-E720EA0A62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6230520" y="821160"/>
            <a:ext cx="164340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小猴子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C:\Users\Administrator\Desktop\67x58PICY5a.jpg"/>
          <p:cNvPicPr/>
          <p:nvPr/>
        </p:nvPicPr>
        <p:blipFill>
          <a:blip r:embed="rId1"/>
          <a:stretch/>
        </p:blipFill>
        <p:spPr>
          <a:xfrm>
            <a:off x="0" y="142920"/>
            <a:ext cx="619128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0" y="4086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有一天，小猴子下山来，走到一块玉米地里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他看见玉米结得又大又多，非常高兴，就掰了一个，扛着往前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5075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我来回答：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39640" y="184464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、它来到了哪里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68360" y="24922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、看到了什么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539640" y="3213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、心情怎么样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539640" y="400536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、是怎么做的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40863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有一天，小猴子下山来，走到一块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玉米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里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他看见玉米结得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又大又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非常高兴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就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掰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了一个，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扛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着往前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47640" y="5816160"/>
            <a:ext cx="7283520" cy="10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掰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(bāi)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玉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玉米地"/>
          <p:cNvPicPr/>
          <p:nvPr/>
        </p:nvPicPr>
        <p:blipFill>
          <a:blip r:embed="rId1"/>
          <a:stretch/>
        </p:blipFill>
        <p:spPr>
          <a:xfrm>
            <a:off x="0" y="0"/>
            <a:ext cx="914400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84360" y="602136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káng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着往前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39640" y="980640"/>
            <a:ext cx="611964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四个问题： 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、它来到了哪里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看到了什么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、心情怎么样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、又是怎么做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2268360" y="3573360"/>
            <a:ext cx="7129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四个重点词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用横线画出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又大又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非常高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两个重点动词：掰、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1116000" y="47628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cc33"/>
                </a:solidFill>
                <a:latin typeface="Arial"/>
              </a:rPr>
              <a:t>第一段的学习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003"/>
          <p:cNvPicPr/>
          <p:nvPr/>
        </p:nvPicPr>
        <p:blipFill>
          <a:blip r:embed="rId1"/>
          <a:stretch/>
        </p:blipFill>
        <p:spPr>
          <a:xfrm>
            <a:off x="0" y="0"/>
            <a:ext cx="4572000" cy="47242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1571760" y="4643280"/>
            <a:ext cx="72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猴子扛着玉米，走到一棵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桃树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他看见满树的桃子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又大又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非常高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就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了玉米，去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桃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猴子捧着几个桃子，走到一片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瓜地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他看见满地的西瓜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</a:rPr>
              <a:t>又大又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</a:rPr>
              <a:t>非常高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就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</a:rPr>
              <a:t>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了桃子，去</a:t>
            </a:r>
            <a:r>
              <a:rPr b="1" lang="zh-CN" sz="3200" spc="-1" strike="noStrike" u="sng">
                <a:solidFill>
                  <a:srgbClr val="c00000"/>
                </a:solidFill>
                <a:uFillTx/>
                <a:latin typeface="宋体"/>
              </a:rPr>
              <a:t>摘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西瓜。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彩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3"/>
          <p:cNvSpPr/>
          <p:nvPr/>
        </p:nvSpPr>
        <p:spPr>
          <a:xfrm>
            <a:off x="4038480" y="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猴子抱着一个大西瓜往回走。走着走着，他看见一只小兔儿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</a:rPr>
              <a:t>蹦蹦跳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</a:rPr>
              <a:t>真可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就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</a:rPr>
              <a:t>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了西瓜，去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</a:rPr>
              <a:t>追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兔子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1830240" y="2071800"/>
            <a:ext cx="478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又大又多      又大又红     又大又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蹦蹦跳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3"/>
          <p:cNvSpPr/>
          <p:nvPr/>
        </p:nvSpPr>
        <p:spPr>
          <a:xfrm>
            <a:off x="785880" y="378612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AB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3143160" y="3286080"/>
            <a:ext cx="4643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              ）        （               ）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6000840" y="3286080"/>
            <a:ext cx="2000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上下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3725280" y="3286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高兴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18.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小</a:t>
            </a:r>
            <a:r>
              <a:rPr b="1" lang="zh-CN" sz="7200" spc="-1" strike="noStrike">
                <a:solidFill>
                  <a:srgbClr val="0066ff"/>
                </a:solidFill>
                <a:latin typeface="Arial"/>
                <a:ea typeface="楷体_GB2312"/>
              </a:rPr>
              <a:t>猴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子下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429000" y="3357720"/>
            <a:ext cx="9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6215040" y="342900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4929120" y="3429000"/>
            <a:ext cx="78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4786200" y="4500720"/>
            <a:ext cx="121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姓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6143760" y="4500720"/>
            <a:ext cx="121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时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357720" y="4500720"/>
            <a:ext cx="121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猴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1"/>
          <p:cNvSpPr/>
          <p:nvPr/>
        </p:nvSpPr>
        <p:spPr>
          <a:xfrm>
            <a:off x="357120" y="1143000"/>
            <a:ext cx="7858080" cy="43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有一天，小猴子下山来，走到一块玉米地里。他看见玉米结得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又大又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非常高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就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一个，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着往前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猴子扛着玉米，走到一棵桃树下。他看见满树的桃子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又大又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非常高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就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玉米，去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桃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猴子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捧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几个桃子，走到一片瓜地里。他看见满地的西瓜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又大又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非常高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就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桃子，去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西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猴子抱着一个大西瓜往回走。走着走着，他看见一只小兔儿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蹦蹦跳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，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真可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就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西瓜，去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追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兔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5"/>
          <p:cNvSpPr/>
          <p:nvPr/>
        </p:nvSpPr>
        <p:spPr>
          <a:xfrm>
            <a:off x="717120" y="114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6"/>
          <p:cNvSpPr/>
          <p:nvPr/>
        </p:nvSpPr>
        <p:spPr>
          <a:xfrm>
            <a:off x="717120" y="2000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7"/>
          <p:cNvSpPr/>
          <p:nvPr/>
        </p:nvSpPr>
        <p:spPr>
          <a:xfrm>
            <a:off x="717120" y="2928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8"/>
          <p:cNvSpPr/>
          <p:nvPr/>
        </p:nvSpPr>
        <p:spPr>
          <a:xfrm>
            <a:off x="717120" y="3786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0" y="5589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9900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兔子跑进树林里，不见了。小猴子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只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空着手回家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8"/>
          <p:cNvSpPr/>
          <p:nvPr/>
        </p:nvSpPr>
        <p:spPr>
          <a:xfrm>
            <a:off x="503640" y="55008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40000" y="1483920"/>
            <a:ext cx="353844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66"/>
                </a:solidFill>
                <a:latin typeface="Arial"/>
                <a:ea typeface="华文彩云"/>
              </a:rPr>
              <a:t>？</a:t>
            </a:r>
            <a:br>
              <a:rPr sz="8800"/>
            </a:b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黑体"/>
              </a:rPr>
              <a:t>空手回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580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580000" y="765000"/>
            <a:ext cx="3394080" cy="33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玉米</a:t>
            </a:r>
            <a:br>
              <a:rPr sz="4400"/>
            </a:b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桃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03280" y="1483920"/>
            <a:ext cx="4140360" cy="32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宋体"/>
              </a:rPr>
              <a:t>扔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桃子</a:t>
            </a:r>
            <a:br>
              <a:rPr sz="4400"/>
            </a:br>
            <a:r>
              <a:rPr b="1" lang="zh-CN" sz="4800" spc="-1" strike="noStrike">
                <a:solidFill>
                  <a:srgbClr val="cc0000"/>
                </a:solidFill>
                <a:latin typeface="宋体"/>
              </a:rPr>
              <a:t>摘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西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36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716000" y="2923920"/>
            <a:ext cx="40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宋体"/>
              </a:rPr>
              <a:t>扔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西瓜</a:t>
            </a:r>
            <a:br>
              <a:rPr sz="4400"/>
            </a:br>
            <a:r>
              <a:rPr b="1" lang="zh-CN" sz="4800" spc="-1" strike="noStrike">
                <a:solidFill>
                  <a:srgbClr val="cc0000"/>
                </a:solidFill>
                <a:latin typeface="宋体"/>
              </a:rPr>
              <a:t>追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兔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4573800" y="141300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79280" y="107172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楷体"/>
                <a:ea typeface="楷体"/>
              </a:rPr>
              <a:t>同学们，从小猴子的故事中，我们可以得到什么启迪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3387960" y="321480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做事要专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042920" y="2637000"/>
            <a:ext cx="61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990033"/>
                </a:solidFill>
                <a:latin typeface="Times New Roman"/>
                <a:ea typeface="黑体"/>
              </a:rPr>
              <a:t>小猴子第二次下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矩形 4" descr=""/>
          <p:cNvPicPr/>
          <p:nvPr/>
        </p:nvPicPr>
        <p:blipFill>
          <a:blip r:embed="rId1"/>
          <a:stretch/>
        </p:blipFill>
        <p:spPr>
          <a:xfrm>
            <a:off x="2292480" y="993600"/>
            <a:ext cx="3614760" cy="11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1"/>
          <p:cNvSpPr/>
          <p:nvPr/>
        </p:nvSpPr>
        <p:spPr>
          <a:xfrm>
            <a:off x="357120" y="1143000"/>
            <a:ext cx="7858080" cy="43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有一天，小猴子下山来，走到一块玉米地里。他看见玉米结得又大又多，非常高兴，就掰了一个，扛着往前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猴子扛着玉米，走到一棵桃树下。他看见满树的桃子又大又红，非常高兴，就扔了玉米，去摘桃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猴子捧着几个桃子，走到一片瓜地里。他看见满地的西瓜又大又圆，非常高兴，就扔了桃子，去摘西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猴子抱着一个大西瓜往回走。走着走着，他看见一只小兔儿蹦蹦跳跳的，真可爱，就扔了西瓜，去追小兔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兔儿跑进树林里，不见了。小猴子只好空着手回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785880" y="285840"/>
            <a:ext cx="7772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8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小猴子下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读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71680" y="221472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标出自然段，遇到不认识的字、词请拼音或同桌帮忙，把字读准确，句子读通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000" y="1844280"/>
            <a:ext cx="849636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猴  结  掰  扛   满  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摘  捧  瓜  抱   蹦  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826920" y="836640"/>
            <a:ext cx="32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我会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8000" y="1844280"/>
            <a:ext cx="849636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猴子  结果  掰开  扛着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地  扔下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摘下  捧着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西瓜  抱着  蹦跳  追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826920" y="836640"/>
            <a:ext cx="32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我会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W020070709405027066546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635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iecool"/>
          <p:cNvPicPr/>
          <p:nvPr/>
        </p:nvPicPr>
        <p:blipFill>
          <a:blip r:embed="rId2"/>
          <a:stretch/>
        </p:blipFill>
        <p:spPr>
          <a:xfrm>
            <a:off x="-36360" y="0"/>
            <a:ext cx="9432720" cy="767700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30"/>
          <p:cNvGrpSpPr/>
          <p:nvPr/>
        </p:nvGrpSpPr>
        <p:grpSpPr>
          <a:xfrm>
            <a:off x="2629080" y="404640"/>
            <a:ext cx="1222200" cy="1465560"/>
            <a:chOff x="2629080" y="404640"/>
            <a:chExt cx="1222200" cy="1465560"/>
          </a:xfrm>
        </p:grpSpPr>
        <p:pic>
          <p:nvPicPr>
            <p:cNvPr id="61" name="Picture 5" descr="未标题-1 拷贝"/>
            <p:cNvPicPr/>
            <p:nvPr/>
          </p:nvPicPr>
          <p:blipFill>
            <a:blip r:embed="rId3"/>
            <a:stretch/>
          </p:blipFill>
          <p:spPr>
            <a:xfrm>
              <a:off x="2637720" y="404640"/>
              <a:ext cx="1213560" cy="138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Rectangle 6"/>
            <p:cNvSpPr/>
            <p:nvPr/>
          </p:nvSpPr>
          <p:spPr>
            <a:xfrm>
              <a:off x="2629080" y="404640"/>
              <a:ext cx="11628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抱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31"/>
          <p:cNvGrpSpPr/>
          <p:nvPr/>
        </p:nvGrpSpPr>
        <p:grpSpPr>
          <a:xfrm>
            <a:off x="3995640" y="333360"/>
            <a:ext cx="1361880" cy="1465560"/>
            <a:chOff x="3995640" y="333360"/>
            <a:chExt cx="1361880" cy="1465560"/>
          </a:xfrm>
        </p:grpSpPr>
        <p:pic>
          <p:nvPicPr>
            <p:cNvPr id="64" name="Picture 32" descr="未标题-1 拷贝"/>
            <p:cNvPicPr/>
            <p:nvPr/>
          </p:nvPicPr>
          <p:blipFill>
            <a:blip r:embed="rId4"/>
            <a:stretch/>
          </p:blipFill>
          <p:spPr>
            <a:xfrm>
              <a:off x="4005000" y="333360"/>
              <a:ext cx="1352520" cy="141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Rectangle 33"/>
            <p:cNvSpPr/>
            <p:nvPr/>
          </p:nvSpPr>
          <p:spPr>
            <a:xfrm>
              <a:off x="3995640" y="333360"/>
              <a:ext cx="12978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瓜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34"/>
          <p:cNvGrpSpPr/>
          <p:nvPr/>
        </p:nvGrpSpPr>
        <p:grpSpPr>
          <a:xfrm>
            <a:off x="5508720" y="476280"/>
            <a:ext cx="1371600" cy="1465560"/>
            <a:chOff x="5508720" y="476280"/>
            <a:chExt cx="1371600" cy="1465560"/>
          </a:xfrm>
        </p:grpSpPr>
        <p:pic>
          <p:nvPicPr>
            <p:cNvPr id="67" name="Picture 35" descr="未标题-1 拷贝"/>
            <p:cNvPicPr/>
            <p:nvPr/>
          </p:nvPicPr>
          <p:blipFill>
            <a:blip r:embed="rId5"/>
            <a:stretch/>
          </p:blipFill>
          <p:spPr>
            <a:xfrm>
              <a:off x="5518440" y="476280"/>
              <a:ext cx="1361880" cy="13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Rectangle 36"/>
            <p:cNvSpPr/>
            <p:nvPr/>
          </p:nvSpPr>
          <p:spPr>
            <a:xfrm>
              <a:off x="5508720" y="476280"/>
              <a:ext cx="13068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掰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37"/>
          <p:cNvGrpSpPr/>
          <p:nvPr/>
        </p:nvGrpSpPr>
        <p:grpSpPr>
          <a:xfrm>
            <a:off x="1187280" y="1700280"/>
            <a:ext cx="1312560" cy="1465560"/>
            <a:chOff x="1187280" y="1700280"/>
            <a:chExt cx="1312560" cy="1465560"/>
          </a:xfrm>
        </p:grpSpPr>
        <p:pic>
          <p:nvPicPr>
            <p:cNvPr id="70" name="Picture 38" descr="未标题-1 拷贝"/>
            <p:cNvPicPr/>
            <p:nvPr/>
          </p:nvPicPr>
          <p:blipFill>
            <a:blip r:embed="rId6"/>
            <a:stretch/>
          </p:blipFill>
          <p:spPr>
            <a:xfrm>
              <a:off x="1196280" y="1700280"/>
              <a:ext cx="1303560" cy="130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39"/>
            <p:cNvSpPr/>
            <p:nvPr/>
          </p:nvSpPr>
          <p:spPr>
            <a:xfrm>
              <a:off x="1187280" y="1700280"/>
              <a:ext cx="12506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蹦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40"/>
          <p:cNvGrpSpPr/>
          <p:nvPr/>
        </p:nvGrpSpPr>
        <p:grpSpPr>
          <a:xfrm>
            <a:off x="2916360" y="1844640"/>
            <a:ext cx="1296360" cy="1465560"/>
            <a:chOff x="2916360" y="1844640"/>
            <a:chExt cx="1296360" cy="1465560"/>
          </a:xfrm>
        </p:grpSpPr>
        <p:pic>
          <p:nvPicPr>
            <p:cNvPr id="73" name="Picture 41" descr="未标题-1 拷贝"/>
            <p:cNvPicPr/>
            <p:nvPr/>
          </p:nvPicPr>
          <p:blipFill>
            <a:blip r:embed="rId7"/>
            <a:stretch/>
          </p:blipFill>
          <p:spPr>
            <a:xfrm>
              <a:off x="2925360" y="1844640"/>
              <a:ext cx="1287360" cy="136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Rectangle 42"/>
            <p:cNvSpPr/>
            <p:nvPr/>
          </p:nvSpPr>
          <p:spPr>
            <a:xfrm>
              <a:off x="2916360" y="1844640"/>
              <a:ext cx="12351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捧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43"/>
          <p:cNvGrpSpPr/>
          <p:nvPr/>
        </p:nvGrpSpPr>
        <p:grpSpPr>
          <a:xfrm>
            <a:off x="4500720" y="1773360"/>
            <a:ext cx="1287000" cy="1465560"/>
            <a:chOff x="4500720" y="1773360"/>
            <a:chExt cx="1287000" cy="1465560"/>
          </a:xfrm>
        </p:grpSpPr>
        <p:pic>
          <p:nvPicPr>
            <p:cNvPr id="76" name="Picture 44" descr="未标题-1 拷贝"/>
            <p:cNvPicPr/>
            <p:nvPr/>
          </p:nvPicPr>
          <p:blipFill>
            <a:blip r:embed="rId8"/>
            <a:stretch/>
          </p:blipFill>
          <p:spPr>
            <a:xfrm>
              <a:off x="4509720" y="1773360"/>
              <a:ext cx="1278000" cy="130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Rectangle 45"/>
            <p:cNvSpPr/>
            <p:nvPr/>
          </p:nvSpPr>
          <p:spPr>
            <a:xfrm>
              <a:off x="4500720" y="1773360"/>
              <a:ext cx="12265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满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46"/>
          <p:cNvGrpSpPr/>
          <p:nvPr/>
        </p:nvGrpSpPr>
        <p:grpSpPr>
          <a:xfrm>
            <a:off x="6588000" y="1700280"/>
            <a:ext cx="1299960" cy="1465560"/>
            <a:chOff x="6588000" y="1700280"/>
            <a:chExt cx="1299960" cy="1465560"/>
          </a:xfrm>
        </p:grpSpPr>
        <p:pic>
          <p:nvPicPr>
            <p:cNvPr id="79" name="Picture 47" descr="未标题-1 拷贝"/>
            <p:cNvPicPr/>
            <p:nvPr/>
          </p:nvPicPr>
          <p:blipFill>
            <a:blip r:embed="rId9"/>
            <a:stretch/>
          </p:blipFill>
          <p:spPr>
            <a:xfrm>
              <a:off x="6597000" y="1700280"/>
              <a:ext cx="1290960" cy="143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Rectangle 48"/>
            <p:cNvSpPr/>
            <p:nvPr/>
          </p:nvSpPr>
          <p:spPr>
            <a:xfrm>
              <a:off x="6588000" y="1700280"/>
              <a:ext cx="1238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结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9"/>
          <p:cNvGrpSpPr/>
          <p:nvPr/>
        </p:nvGrpSpPr>
        <p:grpSpPr>
          <a:xfrm>
            <a:off x="539640" y="3068640"/>
            <a:ext cx="1224000" cy="1465560"/>
            <a:chOff x="539640" y="3068640"/>
            <a:chExt cx="1224000" cy="1465560"/>
          </a:xfrm>
        </p:grpSpPr>
        <p:pic>
          <p:nvPicPr>
            <p:cNvPr id="82" name="Picture 50" descr="未标题-1 拷贝"/>
            <p:cNvPicPr/>
            <p:nvPr/>
          </p:nvPicPr>
          <p:blipFill>
            <a:blip r:embed="rId10"/>
            <a:stretch/>
          </p:blipFill>
          <p:spPr>
            <a:xfrm>
              <a:off x="548280" y="3068640"/>
              <a:ext cx="1215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51"/>
            <p:cNvSpPr/>
            <p:nvPr/>
          </p:nvSpPr>
          <p:spPr>
            <a:xfrm>
              <a:off x="539640" y="3068640"/>
              <a:ext cx="11660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追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52"/>
          <p:cNvGrpSpPr/>
          <p:nvPr/>
        </p:nvGrpSpPr>
        <p:grpSpPr>
          <a:xfrm>
            <a:off x="2050920" y="3141720"/>
            <a:ext cx="1295280" cy="1465560"/>
            <a:chOff x="2050920" y="3141720"/>
            <a:chExt cx="1295280" cy="1465560"/>
          </a:xfrm>
        </p:grpSpPr>
        <p:pic>
          <p:nvPicPr>
            <p:cNvPr id="85" name="Picture 53" descr="未标题-1 拷贝"/>
            <p:cNvPicPr/>
            <p:nvPr/>
          </p:nvPicPr>
          <p:blipFill>
            <a:blip r:embed="rId11"/>
            <a:stretch/>
          </p:blipFill>
          <p:spPr>
            <a:xfrm>
              <a:off x="2059920" y="3141720"/>
              <a:ext cx="1286280" cy="132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54"/>
            <p:cNvSpPr/>
            <p:nvPr/>
          </p:nvSpPr>
          <p:spPr>
            <a:xfrm>
              <a:off x="2050920" y="3141720"/>
              <a:ext cx="1234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摘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55"/>
          <p:cNvGrpSpPr/>
          <p:nvPr/>
        </p:nvGrpSpPr>
        <p:grpSpPr>
          <a:xfrm>
            <a:off x="3635280" y="3141720"/>
            <a:ext cx="1368000" cy="1465560"/>
            <a:chOff x="3635280" y="3141720"/>
            <a:chExt cx="1368000" cy="1465560"/>
          </a:xfrm>
        </p:grpSpPr>
        <p:pic>
          <p:nvPicPr>
            <p:cNvPr id="88" name="Picture 56" descr="未标题-1 拷贝"/>
            <p:cNvPicPr/>
            <p:nvPr/>
          </p:nvPicPr>
          <p:blipFill>
            <a:blip r:embed="rId12"/>
            <a:stretch/>
          </p:blipFill>
          <p:spPr>
            <a:xfrm>
              <a:off x="3644640" y="3141720"/>
              <a:ext cx="1358640" cy="130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Rectangle 57"/>
            <p:cNvSpPr/>
            <p:nvPr/>
          </p:nvSpPr>
          <p:spPr>
            <a:xfrm>
              <a:off x="3635280" y="3141720"/>
              <a:ext cx="13035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扔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61"/>
          <p:cNvGrpSpPr/>
          <p:nvPr/>
        </p:nvGrpSpPr>
        <p:grpSpPr>
          <a:xfrm>
            <a:off x="5435640" y="2924280"/>
            <a:ext cx="1228320" cy="1465560"/>
            <a:chOff x="5435640" y="2924280"/>
            <a:chExt cx="1228320" cy="1465560"/>
          </a:xfrm>
        </p:grpSpPr>
        <p:pic>
          <p:nvPicPr>
            <p:cNvPr id="91" name="Picture 62" descr="未标题-1 拷贝"/>
            <p:cNvPicPr/>
            <p:nvPr/>
          </p:nvPicPr>
          <p:blipFill>
            <a:blip r:embed="rId13"/>
            <a:stretch/>
          </p:blipFill>
          <p:spPr>
            <a:xfrm>
              <a:off x="5444280" y="2924280"/>
              <a:ext cx="1219680" cy="136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63"/>
            <p:cNvSpPr/>
            <p:nvPr/>
          </p:nvSpPr>
          <p:spPr>
            <a:xfrm>
              <a:off x="5435640" y="2924280"/>
              <a:ext cx="1170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扛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4"/>
          <p:cNvGrpSpPr/>
          <p:nvPr/>
        </p:nvGrpSpPr>
        <p:grpSpPr>
          <a:xfrm>
            <a:off x="6877080" y="3213000"/>
            <a:ext cx="1352160" cy="1465560"/>
            <a:chOff x="6877080" y="3213000"/>
            <a:chExt cx="1352160" cy="1465560"/>
          </a:xfrm>
        </p:grpSpPr>
        <p:pic>
          <p:nvPicPr>
            <p:cNvPr id="94" name="Picture 65" descr="未标题-1 拷贝"/>
            <p:cNvPicPr/>
            <p:nvPr/>
          </p:nvPicPr>
          <p:blipFill>
            <a:blip r:embed="rId14"/>
            <a:stretch/>
          </p:blipFill>
          <p:spPr>
            <a:xfrm>
              <a:off x="6886440" y="3213000"/>
              <a:ext cx="1342800" cy="143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66"/>
            <p:cNvSpPr/>
            <p:nvPr/>
          </p:nvSpPr>
          <p:spPr>
            <a:xfrm>
              <a:off x="6877080" y="3213000"/>
              <a:ext cx="1288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猴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animMotion origin="layout" path="M -2.77778E-007 2.58094E-006 L -0.00399 0.75347 E">
                                      <p:cBhvr>
                                        <p:cTn id="45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animMotion origin="layout" path="M 1.66667E-006 -3.88529E-007 L -0.00365 0.74306 E">
                                      <p:cBhvr>
                                        <p:cTn id="50" dur="1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animMotion origin="layout" path="M -5.55556E-007 -1.04046E-006 L 0.00365 0.70821 E">
                                      <p:cBhvr>
                                        <p:cTn id="55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animMotion origin="layout" path="M 2.77556E-017 -2.02312E-006 L -0.01198 0.54035 E">
                                      <p:cBhvr>
                                        <p:cTn id="60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animMotion origin="layout" path="M 3.61111E-006 3.3526E-006 L -0.01198 0.47768 E">
                                      <p:cBhvr>
                                        <p:cTn id="65" dur="1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animMotion origin="layout" path="M -4.16667E-006 -2.89017E-007 L -0.01163 0.46636 E">
                                      <p:cBhvr>
                                        <p:cTn id="70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animMotion origin="layout" path="M 3.61111E-006 -2.48555E-006 L -0.004 0.46705 E">
                                      <p:cBhvr>
                                        <p:cTn id="75" dur="1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animMotion origin="layout" path="M 0 0 L 0 0.33295 E">
                                      <p:cBhvr>
                                        <p:cTn id="80" dur="1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animMotion origin="layout" path="M 0 0 L 0 0.33295 E">
                                      <p:cBhvr>
                                        <p:cTn id="85" dur="1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animMotion origin="layout" path="M 0 0 L 0 0.33295 E">
                                      <p:cBhvr>
                                        <p:cTn id="90" dur="1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animMotion origin="layout" path="M 0 0 L 0 0.33295 E">
                                      <p:cBhvr>
                                        <p:cTn id="95" dur="1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animMotion origin="layout" path="M 0 0 L 0 0.33295 E">
                                      <p:cBhvr>
                                        <p:cTn id="100" dur="1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1"/>
          <p:cNvSpPr/>
          <p:nvPr/>
        </p:nvSpPr>
        <p:spPr>
          <a:xfrm>
            <a:off x="357120" y="1143000"/>
            <a:ext cx="7858080" cy="43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有一天，小猴子下山来，走到一块玉米地里。他看见玉米结得又大又多，非常高兴，就掰了一个，扛着往前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猴子扛着玉米，走到一棵桃树下。他看见满树的桃子又大又红，非常高兴，就扔了玉米，去摘桃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猴子捧着几个桃子，走到一片瓜地里。他看见满地的西瓜又大又圆，非常高兴，就扔了桃子，去摘西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猴子抱着一个大西瓜往回走。走着走着，他看见一只小兔儿蹦蹦跳跳的，真可爱，就扔了西瓜，去追小兔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兔儿跑进树林里，不见了。小猴子只好空着手回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785880" y="285840"/>
            <a:ext cx="7772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8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小猴子下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11"/>
          <p:cNvSpPr/>
          <p:nvPr/>
        </p:nvSpPr>
        <p:spPr>
          <a:xfrm>
            <a:off x="5715000" y="1214280"/>
            <a:ext cx="928800" cy="428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12"/>
          <p:cNvSpPr/>
          <p:nvPr/>
        </p:nvSpPr>
        <p:spPr>
          <a:xfrm>
            <a:off x="4786200" y="2071800"/>
            <a:ext cx="928800" cy="428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13"/>
          <p:cNvSpPr/>
          <p:nvPr/>
        </p:nvSpPr>
        <p:spPr>
          <a:xfrm>
            <a:off x="5357880" y="2928960"/>
            <a:ext cx="928800" cy="428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14"/>
          <p:cNvSpPr/>
          <p:nvPr/>
        </p:nvSpPr>
        <p:spPr>
          <a:xfrm>
            <a:off x="2643120" y="4714920"/>
            <a:ext cx="928800" cy="428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5"/>
          <p:cNvSpPr/>
          <p:nvPr/>
        </p:nvSpPr>
        <p:spPr>
          <a:xfrm>
            <a:off x="717120" y="114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6"/>
          <p:cNvSpPr/>
          <p:nvPr/>
        </p:nvSpPr>
        <p:spPr>
          <a:xfrm>
            <a:off x="717120" y="2000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7"/>
          <p:cNvSpPr/>
          <p:nvPr/>
        </p:nvSpPr>
        <p:spPr>
          <a:xfrm>
            <a:off x="717120" y="2928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8"/>
          <p:cNvSpPr/>
          <p:nvPr/>
        </p:nvSpPr>
        <p:spPr>
          <a:xfrm>
            <a:off x="717120" y="3786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9"/>
          <p:cNvSpPr/>
          <p:nvPr/>
        </p:nvSpPr>
        <p:spPr>
          <a:xfrm>
            <a:off x="717120" y="4714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20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猴子下山的路线图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get?name=T1JyZUBmV_1RCvBVdK"/>
          <p:cNvPicPr/>
          <p:nvPr/>
        </p:nvPicPr>
        <p:blipFill>
          <a:blip r:embed="rId1"/>
          <a:stretch/>
        </p:blipFill>
        <p:spPr>
          <a:xfrm>
            <a:off x="684360" y="1197000"/>
            <a:ext cx="5832360" cy="3456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-252360" y="5013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（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)----(            )----(           )----(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08000" y="4653000"/>
            <a:ext cx="180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黑体"/>
              </a:rPr>
              <a:t>玉米地</a:t>
            </a:r>
            <a:r>
              <a:rPr b="0" i="1" lang="zh-CN" sz="72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786400" y="4724280"/>
            <a:ext cx="13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黑体"/>
              </a:rPr>
              <a:t>桃树下</a:t>
            </a:r>
            <a:r>
              <a:rPr b="0" i="1" lang="zh-CN" sz="72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4716360" y="472428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黑体"/>
              </a:rPr>
              <a:t>西瓜地</a:t>
            </a:r>
            <a:r>
              <a:rPr b="0" i="1" lang="zh-CN" sz="72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7550280" y="5013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小树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12:11:28Z</dcterms:created>
  <dc:creator/>
  <dc:description/>
  <cp:keywords/>
  <dc:language>en-US</dc:language>
  <cp:lastModifiedBy>微软用户</cp:lastModifiedBy>
  <cp:lastPrinted>1899-12-30T00:00:00Z</cp:lastPrinted>
  <dcterms:modified xsi:type="dcterms:W3CDTF">2019-06-06T05:41:04Z</dcterms:modified>
  <cp:revision>6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