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0B8-0B84-49B6-93C5-787ABA26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864-6CA0-4C82-BEF4-23867B9F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80A-97EB-498E-86D6-E90B731D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064-CF1F-4861-9585-400F06D4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800-568F-4831-8339-666D53F1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2E8-3DAA-4F01-BB36-F3363479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DEE-2FCC-4A2B-B676-B73BDCBE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28E-C3DB-4A2E-B398-7B4BF37C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F83-90BC-4671-91DD-076E55C8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2D3-BA18-4B92-891D-66294084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CEF-4793-4EAE-82B9-83C61FAD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E01-C092-45B5-807F-17233D2F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81A0-F7EE-4ED1-A91B-DFA5373E64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19272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58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又大大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58294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5084280"/>
            <a:ext cx="728352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掰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(bāi)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玉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káng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往前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50403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1780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看见玉米结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360" y="1557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又大又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15638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非常高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4922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2421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就掰了一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2421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扛着往前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9280" y="4221000"/>
            <a:ext cx="8147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猴子下山来，走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他看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非常高兴，就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545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8353440" cy="259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37450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3745080" cy="3327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猴子捧着几个桃子，走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他看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非常高兴，就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2486160" cy="221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猴子扛着玉米，走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他看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非常高兴，就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000" y="314136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追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(zhuī)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兔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46195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8000" y="2781360"/>
            <a:ext cx="3538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Arial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6911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2024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582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494136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掰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(bāi)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玉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92720" y="1700280"/>
            <a:ext cx="339408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zhāi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桃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75776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3280" y="1483920"/>
            <a:ext cx="414036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摘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(zhāi)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西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6908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2000" y="314136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追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(zhuī)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兔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46195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8000" y="2781360"/>
            <a:ext cx="3538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Arial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6911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229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4:29:59Z</dcterms:created>
  <dc:creator>China</dc:creator>
  <dc:description/>
  <dc:language>en-US</dc:language>
  <cp:lastModifiedBy>dadi</cp:lastModifiedBy>
  <dcterms:modified xsi:type="dcterms:W3CDTF">2014-06-02T07:06:02Z</dcterms:modified>
  <cp:revision>5</cp:revision>
  <dc:subject/>
  <dc:title>幻灯片 1</dc:title>
</cp:coreProperties>
</file>