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66B-4BB7-41D0-9BF2-5C47AEE5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B4A-4D93-471E-9EC9-A296D9E7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765-64D5-423A-9D46-194F948B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6B9-6060-4A51-9EAD-1FB00E3F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D77-5174-4FA4-A885-1A6BB74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32F-D870-4F18-AEFF-BA162B8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D5C-4821-4F93-8C9D-84476A6F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A20-64AC-4226-A067-8973139B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524-7487-4D4C-857F-78144A1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52E-31ED-4A80-9D13-83BAFD0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E99-BF72-4E86-8A1C-5FCE4FF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0EC-C9B9-40D5-A773-118807D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0390-4A60-4E69-ACE9-5705689D7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雪 花 的 快 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： 徐志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雪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我是一朵雪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翩翩的在半空里潇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定认清我的方向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飞扬，飞扬，飞扬，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地面上有我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去那冷寞的幽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000"/>
                </a:solidFill>
                <a:latin typeface="Arial"/>
                <a:ea typeface="楷体_GB2312"/>
              </a:rPr>
              <a:t>雪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0720" y="1676160"/>
            <a:ext cx="6172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去那凄清的山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上荒街去惆怅——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扬，飞扬，飞扬，——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，我有我的方向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雪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360" y="16761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半空里娟娟的飞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明了那清幽的住处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着她来花园里探望—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扬，飞扬，飞扬，—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她身上有朱砂梅的清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000"/>
                </a:solidFill>
                <a:latin typeface="Arial"/>
                <a:ea typeface="楷体_GB2312"/>
              </a:rPr>
              <a:t>雪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时我凭借我的身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盈盈的，沾住了她的衣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贴近她柔波似的心胸—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溶，消溶，消溶—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入了她柔波似的心胸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李亚玲</cp:lastModifiedBy>
  <dcterms:modified xsi:type="dcterms:W3CDTF">2012-09-18T08:59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