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6.gif" ContentType="image/gif"/>
  <Override PartName="/ppt/media/image13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2.gif" ContentType="image/gif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5D1-F18F-4001-9988-69B3FC03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F5D-9F26-4A2B-9944-650DCD34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B8A-2D49-436C-BD1E-D39B6571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E0E-1757-48DC-BA91-0D96F15C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9D7-5A6E-47D2-B8E2-1594642B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391-C899-4B6D-92D0-C132647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E85-CE98-4521-9F74-B2832E16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9D8-1F06-4F69-B06B-0317FC18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12B-F46E-457F-83E7-B7FCC99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761-D635-4CC9-9AB8-285312A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6E5-13A3-4E98-AE77-0438E1E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AE6-E0EE-454D-8E0E-13A3EE1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35E-37CB-4FA3-9A8D-90570BD9F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gif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gif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gif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image" Target="../media/image24.png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96360" y="6019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96360" y="59436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96360" y="59436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496360" y="59436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49636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9680" y="259092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505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20040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8600" y="609480"/>
            <a:ext cx="89154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172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走进草地里。小公鸡找到了许多虫子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吃得很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小鸭子捉不到虫子，急得直哭。小公鸡看见了，捉到虫子就给小鸭子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107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24000" y="-198360"/>
            <a:ext cx="9156600" cy="7056360"/>
            <a:chOff x="324000" y="-198360"/>
            <a:chExt cx="9156600" cy="7056360"/>
          </a:xfrm>
        </p:grpSpPr>
        <p:grpSp>
          <p:nvGrpSpPr>
            <p:cNvPr id="114" name=""/>
            <p:cNvGrpSpPr/>
            <p:nvPr/>
          </p:nvGrpSpPr>
          <p:grpSpPr>
            <a:xfrm>
              <a:off x="324000" y="6399360"/>
              <a:ext cx="6935760" cy="48960"/>
              <a:chOff x="324000" y="6399360"/>
              <a:chExt cx="6935760" cy="48960"/>
            </a:xfrm>
          </p:grpSpPr>
          <p:sp>
            <p:nvSpPr>
              <p:cNvPr id="115" name=""/>
              <p:cNvSpPr/>
              <p:nvPr/>
            </p:nvSpPr>
            <p:spPr>
              <a:xfrm>
                <a:off x="324000" y="639936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5680" y="644832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7042320" y="-198360"/>
              <a:ext cx="1879560" cy="772920"/>
              <a:chOff x="7042320" y="-198360"/>
              <a:chExt cx="1879560" cy="772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042320" y="133200"/>
                <a:ext cx="1879560" cy="441360"/>
              </a:xfrm>
              <a:prstGeom prst="roundRect">
                <a:avLst>
                  <a:gd name="adj" fmla="val 34412"/>
                </a:avLst>
              </a:prstGeom>
              <a:solidFill>
                <a:srgbClr val="ffcc66"/>
              </a:solidFill>
              <a:ln w="25560">
                <a:solidFill>
                  <a:srgbClr val="0099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547040" y="-198360"/>
                <a:ext cx="79560" cy="439560"/>
                <a:chOff x="7547040" y="-198360"/>
                <a:chExt cx="79560" cy="439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547040" y="162000"/>
                  <a:ext cx="7956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758664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8366400" y="-198360"/>
                <a:ext cx="79200" cy="439560"/>
                <a:chOff x="8366400" y="-198360"/>
                <a:chExt cx="79200" cy="4395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366400" y="162000"/>
                  <a:ext cx="7920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40600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24000" y="361800"/>
              <a:ext cx="91566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488360" y="2825640"/>
              <a:ext cx="828720" cy="4032360"/>
            </a:xfrm>
            <a:custGeom>
              <a:avLst/>
              <a:gdLst/>
              <a:ahLst/>
              <a:rect l="l" t="t" r="r" b="b"/>
              <a:pathLst>
                <a:path w="522" h="2540">
                  <a:moveTo>
                    <a:pt x="522" y="0"/>
                  </a:moveTo>
                  <a:cubicBezTo>
                    <a:pt x="329" y="64"/>
                    <a:pt x="136" y="129"/>
                    <a:pt x="68" y="318"/>
                  </a:cubicBezTo>
                  <a:cubicBezTo>
                    <a:pt x="0" y="507"/>
                    <a:pt x="121" y="870"/>
                    <a:pt x="114" y="1134"/>
                  </a:cubicBezTo>
                  <a:cubicBezTo>
                    <a:pt x="107" y="1398"/>
                    <a:pt x="23" y="1671"/>
                    <a:pt x="23" y="1905"/>
                  </a:cubicBezTo>
                  <a:cubicBezTo>
                    <a:pt x="23" y="2139"/>
                    <a:pt x="99" y="2434"/>
                    <a:pt x="114" y="254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7" name=""/>
          <p:cNvGraphicFramePr/>
          <p:nvPr/>
        </p:nvGraphicFramePr>
        <p:xfrm>
          <a:off x="8064360" y="2133720"/>
          <a:ext cx="1079640" cy="101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64360" y="21337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086600" y="228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876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775480" y="2971800"/>
            <a:ext cx="33685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91320" y="2971800"/>
            <a:ext cx="1066680" cy="368280"/>
          </a:xfrm>
          <a:prstGeom prst="rect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14400"/>
            <a:ext cx="6172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走进草地里。小公鸡找到了许多虫子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吃得很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小鸭子捉不到虫子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急得直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小公鸡看见了，捉到虫子就给小鸭子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137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-198360"/>
            <a:ext cx="9156600" cy="7056360"/>
            <a:chOff x="324000" y="-198360"/>
            <a:chExt cx="9156600" cy="7056360"/>
          </a:xfrm>
        </p:grpSpPr>
        <p:grpSp>
          <p:nvGrpSpPr>
            <p:cNvPr id="144" name=""/>
            <p:cNvGrpSpPr/>
            <p:nvPr/>
          </p:nvGrpSpPr>
          <p:grpSpPr>
            <a:xfrm>
              <a:off x="324000" y="6399360"/>
              <a:ext cx="6935760" cy="48960"/>
              <a:chOff x="324000" y="6399360"/>
              <a:chExt cx="6935760" cy="48960"/>
            </a:xfrm>
          </p:grpSpPr>
          <p:sp>
            <p:nvSpPr>
              <p:cNvPr id="145" name=""/>
              <p:cNvSpPr/>
              <p:nvPr/>
            </p:nvSpPr>
            <p:spPr>
              <a:xfrm>
                <a:off x="324000" y="639936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5680" y="644832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042320" y="-198360"/>
              <a:ext cx="1879560" cy="772920"/>
              <a:chOff x="7042320" y="-198360"/>
              <a:chExt cx="1879560" cy="772920"/>
            </a:xfrm>
          </p:grpSpPr>
          <p:sp>
            <p:nvSpPr>
              <p:cNvPr id="148" name=""/>
              <p:cNvSpPr/>
              <p:nvPr/>
            </p:nvSpPr>
            <p:spPr>
              <a:xfrm>
                <a:off x="7042320" y="133200"/>
                <a:ext cx="1879560" cy="441360"/>
              </a:xfrm>
              <a:prstGeom prst="roundRect">
                <a:avLst>
                  <a:gd name="adj" fmla="val 34412"/>
                </a:avLst>
              </a:prstGeom>
              <a:solidFill>
                <a:srgbClr val="ffcc66"/>
              </a:solidFill>
              <a:ln w="25560">
                <a:solidFill>
                  <a:srgbClr val="0099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547040" y="-198360"/>
                <a:ext cx="79560" cy="439560"/>
                <a:chOff x="7547040" y="-198360"/>
                <a:chExt cx="79560" cy="439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547040" y="162000"/>
                  <a:ext cx="7956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758664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8366400" y="-198360"/>
                <a:ext cx="79200" cy="439560"/>
                <a:chOff x="8366400" y="-198360"/>
                <a:chExt cx="79200" cy="439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8366400" y="162000"/>
                  <a:ext cx="7920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840600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324000" y="361800"/>
              <a:ext cx="91566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488360" y="2825640"/>
              <a:ext cx="828720" cy="4032360"/>
            </a:xfrm>
            <a:custGeom>
              <a:avLst/>
              <a:gdLst/>
              <a:ahLst/>
              <a:rect l="l" t="t" r="r" b="b"/>
              <a:pathLst>
                <a:path w="522" h="2540">
                  <a:moveTo>
                    <a:pt x="522" y="0"/>
                  </a:moveTo>
                  <a:cubicBezTo>
                    <a:pt x="329" y="64"/>
                    <a:pt x="136" y="129"/>
                    <a:pt x="68" y="318"/>
                  </a:cubicBezTo>
                  <a:cubicBezTo>
                    <a:pt x="0" y="507"/>
                    <a:pt x="121" y="870"/>
                    <a:pt x="114" y="1134"/>
                  </a:cubicBezTo>
                  <a:cubicBezTo>
                    <a:pt x="107" y="1398"/>
                    <a:pt x="23" y="1671"/>
                    <a:pt x="23" y="1905"/>
                  </a:cubicBezTo>
                  <a:cubicBezTo>
                    <a:pt x="23" y="2139"/>
                    <a:pt x="99" y="2434"/>
                    <a:pt x="114" y="254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8064360" y="2133720"/>
          <a:ext cx="1079640" cy="101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64360" y="21337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086600" y="228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876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775480" y="2971800"/>
            <a:ext cx="3368520" cy="3886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91320" y="2971800"/>
            <a:ext cx="1066680" cy="368280"/>
          </a:xfrm>
          <a:prstGeom prst="rect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914400"/>
            <a:ext cx="61722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走进草地里。小公鸡找到了许多虫子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吃得很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小鸭子捉不到虫子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急得直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小公鸡看见了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捉到虫子就给小鸭子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167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4000" y="-198360"/>
            <a:ext cx="9156600" cy="7056360"/>
            <a:chOff x="324000" y="-198360"/>
            <a:chExt cx="9156600" cy="7056360"/>
          </a:xfrm>
        </p:grpSpPr>
        <p:grpSp>
          <p:nvGrpSpPr>
            <p:cNvPr id="174" name=""/>
            <p:cNvGrpSpPr/>
            <p:nvPr/>
          </p:nvGrpSpPr>
          <p:grpSpPr>
            <a:xfrm>
              <a:off x="324000" y="6399360"/>
              <a:ext cx="6935760" cy="48960"/>
              <a:chOff x="324000" y="6399360"/>
              <a:chExt cx="6935760" cy="48960"/>
            </a:xfrm>
          </p:grpSpPr>
          <p:sp>
            <p:nvSpPr>
              <p:cNvPr id="175" name=""/>
              <p:cNvSpPr/>
              <p:nvPr/>
            </p:nvSpPr>
            <p:spPr>
              <a:xfrm>
                <a:off x="324000" y="639936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5680" y="6448320"/>
                <a:ext cx="6634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7042320" y="-198360"/>
              <a:ext cx="1879560" cy="772920"/>
              <a:chOff x="7042320" y="-198360"/>
              <a:chExt cx="1879560" cy="772920"/>
            </a:xfrm>
          </p:grpSpPr>
          <p:sp>
            <p:nvSpPr>
              <p:cNvPr id="178" name=""/>
              <p:cNvSpPr/>
              <p:nvPr/>
            </p:nvSpPr>
            <p:spPr>
              <a:xfrm>
                <a:off x="7042320" y="133200"/>
                <a:ext cx="1879560" cy="441360"/>
              </a:xfrm>
              <a:prstGeom prst="roundRect">
                <a:avLst>
                  <a:gd name="adj" fmla="val 34412"/>
                </a:avLst>
              </a:prstGeom>
              <a:solidFill>
                <a:srgbClr val="ffcc66"/>
              </a:solidFill>
              <a:ln w="25560">
                <a:solidFill>
                  <a:srgbClr val="0099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7547040" y="-198360"/>
                <a:ext cx="79560" cy="439560"/>
                <a:chOff x="7547040" y="-198360"/>
                <a:chExt cx="79560" cy="439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547040" y="162000"/>
                  <a:ext cx="7956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758664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8366400" y="-198360"/>
                <a:ext cx="79200" cy="439560"/>
                <a:chOff x="8366400" y="-198360"/>
                <a:chExt cx="79200" cy="439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8366400" y="162000"/>
                  <a:ext cx="79200" cy="79200"/>
                </a:xfrm>
                <a:prstGeom prst="ellipse">
                  <a:avLst/>
                </a:prstGeom>
                <a:solidFill>
                  <a:srgbClr val="ffcc66"/>
                </a:solidFill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8406000" y="-198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24000" y="361800"/>
              <a:ext cx="91566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488360" y="2825640"/>
              <a:ext cx="828720" cy="4032360"/>
            </a:xfrm>
            <a:custGeom>
              <a:avLst/>
              <a:gdLst/>
              <a:ahLst/>
              <a:rect l="l" t="t" r="r" b="b"/>
              <a:pathLst>
                <a:path w="522" h="2540">
                  <a:moveTo>
                    <a:pt x="522" y="0"/>
                  </a:moveTo>
                  <a:cubicBezTo>
                    <a:pt x="329" y="64"/>
                    <a:pt x="136" y="129"/>
                    <a:pt x="68" y="318"/>
                  </a:cubicBezTo>
                  <a:cubicBezTo>
                    <a:pt x="0" y="507"/>
                    <a:pt x="121" y="870"/>
                    <a:pt x="114" y="1134"/>
                  </a:cubicBezTo>
                  <a:cubicBezTo>
                    <a:pt x="107" y="1398"/>
                    <a:pt x="23" y="1671"/>
                    <a:pt x="23" y="1905"/>
                  </a:cubicBezTo>
                  <a:cubicBezTo>
                    <a:pt x="23" y="2139"/>
                    <a:pt x="99" y="2434"/>
                    <a:pt x="114" y="254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8064360" y="2133720"/>
          <a:ext cx="1079640" cy="101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64360" y="21337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7086600" y="228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4876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775480" y="2971800"/>
            <a:ext cx="336852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91320" y="2971800"/>
            <a:ext cx="1066680" cy="368280"/>
          </a:xfrm>
          <a:prstGeom prst="rect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5120" y="32767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1828800" y="685800"/>
            <a:ext cx="45720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99"/>
                </a:solidFill>
                <a:latin typeface="Arial"/>
              </a:rPr>
              <a:t>学习方法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2840" y="1905120"/>
            <a:ext cx="35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一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仔细观察图，图上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514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一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说说他们来到了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276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找一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哪些词、句讲说明了小鸭子帮助小公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419112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一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边读边想象，看谁读得最生动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648320" cy="4038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4191120" cy="360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4572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782880" cy="3675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733920" y="304920"/>
            <a:ext cx="54100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走到小河边。小鸭子说：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公鸡弟弟，我到河里捉鱼给你吃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小公鸡说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也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小鸭子说：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行，不行，你下水会淹死的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小公鸡不信，偷偷地跟在小鸭子后面也下了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209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6629400"/>
            <a:ext cx="6935760" cy="48960"/>
            <a:chOff x="1066680" y="6629400"/>
            <a:chExt cx="6935760" cy="48960"/>
          </a:xfrm>
        </p:grpSpPr>
        <p:sp>
          <p:nvSpPr>
            <p:cNvPr id="216" name=""/>
            <p:cNvSpPr/>
            <p:nvPr/>
          </p:nvSpPr>
          <p:spPr>
            <a:xfrm>
              <a:off x="1066680" y="662940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667836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56600" cy="327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066680"/>
            <a:ext cx="828720" cy="403236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228600"/>
          <a:ext cx="1079280" cy="10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1079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782880" cy="3675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29000" y="0"/>
            <a:ext cx="6019920" cy="58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鸭子说：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公鸡弟弟，我到河里捉鱼给你吃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公鸡说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也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鸭子说：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行，不行，你不会游泳，会淹死的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226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066680" y="6629400"/>
            <a:ext cx="6935760" cy="48960"/>
            <a:chOff x="1066680" y="6629400"/>
            <a:chExt cx="6935760" cy="48960"/>
          </a:xfrm>
        </p:grpSpPr>
        <p:sp>
          <p:nvSpPr>
            <p:cNvPr id="233" name=""/>
            <p:cNvSpPr/>
            <p:nvPr/>
          </p:nvSpPr>
          <p:spPr>
            <a:xfrm>
              <a:off x="1066680" y="662940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68360" y="667836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56600" cy="327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1066680"/>
            <a:ext cx="828720" cy="403236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33520" y="228600"/>
          <a:ext cx="1079280" cy="10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1079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30492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鸭子正在水里捉鱼，忽然听见小公鸡喊救命。他飞快地游到小公鸡身边，让小公鸡爬到自己的背上。小鸭子把小公鸡送上了岸。小公鸡笑着对小鸭子说：“鸭子哥哥，谢谢你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623736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796000" y="6308640"/>
            <a:ext cx="2971800" cy="304920"/>
            <a:chOff x="5796000" y="6308640"/>
            <a:chExt cx="2971800" cy="304920"/>
          </a:xfrm>
        </p:grpSpPr>
        <p:sp>
          <p:nvSpPr>
            <p:cNvPr id="242" name=""/>
            <p:cNvSpPr/>
            <p:nvPr/>
          </p:nvSpPr>
          <p:spPr>
            <a:xfrm>
              <a:off x="5796000" y="653724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96000" y="638496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752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8656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7280" y="630864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05680" y="630864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24000" y="6399360"/>
            <a:ext cx="6935760" cy="48960"/>
            <a:chOff x="324000" y="6399360"/>
            <a:chExt cx="6935760" cy="48960"/>
          </a:xfrm>
        </p:grpSpPr>
        <p:sp>
          <p:nvSpPr>
            <p:cNvPr id="249" name=""/>
            <p:cNvSpPr/>
            <p:nvPr/>
          </p:nvSpPr>
          <p:spPr>
            <a:xfrm>
              <a:off x="324000" y="639936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5680" y="644832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566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228600" y="0"/>
          <a:ext cx="1079640" cy="10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10796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62520" y="449568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画出小鸭子救小公鸡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600200" y="6019920"/>
            <a:ext cx="6935760" cy="48960"/>
            <a:chOff x="1600200" y="6019920"/>
            <a:chExt cx="6935760" cy="48960"/>
          </a:xfrm>
        </p:grpSpPr>
        <p:sp>
          <p:nvSpPr>
            <p:cNvPr id="257" name=""/>
            <p:cNvSpPr/>
            <p:nvPr/>
          </p:nvSpPr>
          <p:spPr>
            <a:xfrm>
              <a:off x="1600200" y="601992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1880" y="606888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80880" y="2057400"/>
            <a:ext cx="828720" cy="403236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8080" y="1219320"/>
          <a:ext cx="107964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523880" y="838080"/>
            <a:ext cx="655344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会说       我会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公鸡说：“鸭子哥哥，谢谢你。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鸭子说：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350532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对小公鸡说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对小鸭子说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53341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172200" y="3524400"/>
            <a:ext cx="2971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55640" y="2421000"/>
            <a:ext cx="92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、小公鸡的嘴（   ），会（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不会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2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小鸭子的嘴（   ），会（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不会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441440" cy="1295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944160" y="2382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尖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6160" y="2382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捉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6160" y="3390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44160" y="3390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扁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0160" y="2887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20160" y="38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捉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492360" y="5734080"/>
            <a:ext cx="1584360" cy="936720"/>
            <a:chOff x="3492360" y="5734080"/>
            <a:chExt cx="1584360" cy="93672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3492360" y="5734080"/>
              <a:ext cx="158436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>
              <a:hlinkClick r:id="rId4" action="ppaction://hlinksldjump"/>
            </p:cNvPr>
            <p:cNvSpPr/>
            <p:nvPr/>
          </p:nvSpPr>
          <p:spPr>
            <a:xfrm>
              <a:off x="3913200" y="5805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隶书"/>
                </a:rPr>
                <a:t>继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467240" cy="5715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2867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441440" cy="1295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2276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讲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故事，说明小伙伴之间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51280" y="5805360"/>
            <a:ext cx="1387440" cy="863640"/>
            <a:chOff x="3851280" y="5805360"/>
            <a:chExt cx="1387440" cy="86364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3851280" y="5805360"/>
              <a:ext cx="1332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>
              <a:hlinkClick r:id="rId4" action="ppaction://hlinksldjump"/>
            </p:cNvPr>
            <p:cNvSpPr/>
            <p:nvPr/>
          </p:nvSpPr>
          <p:spPr>
            <a:xfrm>
              <a:off x="4067280" y="5949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441440" cy="1295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2276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讲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故事，说明小伙伴之间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08120" y="25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79760" y="25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31520" y="3527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团结友爱、互相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51280" y="5805360"/>
            <a:ext cx="1387440" cy="863640"/>
            <a:chOff x="3851280" y="5805360"/>
            <a:chExt cx="1387440" cy="863640"/>
          </a:xfrm>
        </p:grpSpPr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3851280" y="5805360"/>
              <a:ext cx="1332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>
              <a:hlinkClick r:id="rId4" action="ppaction://hlinksldjump"/>
            </p:cNvPr>
            <p:cNvSpPr/>
            <p:nvPr/>
          </p:nvSpPr>
          <p:spPr>
            <a:xfrm>
              <a:off x="4067280" y="5949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600200" y="6019920"/>
            <a:ext cx="6935760" cy="48960"/>
            <a:chOff x="1600200" y="6019920"/>
            <a:chExt cx="6935760" cy="48960"/>
          </a:xfrm>
        </p:grpSpPr>
        <p:sp>
          <p:nvSpPr>
            <p:cNvPr id="294" name=""/>
            <p:cNvSpPr/>
            <p:nvPr/>
          </p:nvSpPr>
          <p:spPr>
            <a:xfrm>
              <a:off x="1600200" y="601992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1880" y="606888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80880" y="2057400"/>
            <a:ext cx="828720" cy="403236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38080" y="1219320"/>
          <a:ext cx="107964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523880" y="8380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谈一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2286000"/>
            <a:ext cx="6782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公鸡给你留下什么印象？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鸭子给你留下什么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1258920" y="3141720"/>
            <a:ext cx="6624720" cy="14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讲一讲你还知道的其它小动物的故事呢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8132760" y="646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尾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00720" y="6281640"/>
            <a:ext cx="2087280" cy="576360"/>
            <a:chOff x="6300720" y="6281640"/>
            <a:chExt cx="2087280" cy="576360"/>
          </a:xfrm>
        </p:grpSpPr>
        <p:pic>
          <p:nvPicPr>
            <p:cNvPr id="305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300720" y="6281640"/>
              <a:ext cx="2087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>
              <a:hlinkClick r:id="rId5" action="ppaction://hlinksldjump"/>
            </p:cNvPr>
            <p:cNvSpPr/>
            <p:nvPr/>
          </p:nvSpPr>
          <p:spPr>
            <a:xfrm>
              <a:off x="6820920" y="6353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Arial"/>
                </a:rPr>
                <a:t>返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 rot="17997000">
            <a:off x="1115640" y="4293720"/>
            <a:ext cx="2016360" cy="1295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666880" y="167652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57200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2695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219320"/>
            <a:ext cx="769644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说说小公鸡和小鸭子的样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62720" y="266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公鸡：嘴是尖尖的，脚是分叉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1280" y="3762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鸭子：嘴是扁扁的，脚像扇子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315200" y="5994360"/>
            <a:ext cx="1387440" cy="863640"/>
            <a:chOff x="7315200" y="5994360"/>
            <a:chExt cx="1387440" cy="8636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315200" y="5994360"/>
              <a:ext cx="1332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>
              <a:hlinkClick r:id="rId3" action="ppaction://hlinksldjump"/>
            </p:cNvPr>
            <p:cNvSpPr/>
            <p:nvPr/>
          </p:nvSpPr>
          <p:spPr>
            <a:xfrm>
              <a:off x="7531200" y="6138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1219320"/>
            <a:ext cx="828720" cy="403200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457200"/>
          <a:ext cx="107964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10796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514600" y="2438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447920"/>
            <a:ext cx="71629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一块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虫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着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忽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然      小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河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行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信      一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着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边     淹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1219320"/>
            <a:ext cx="828720" cy="403200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457200"/>
          <a:ext cx="107964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10796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28800" y="1752480"/>
            <a:ext cx="6629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公鸡和小鸭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块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去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块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06668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一块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43020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公鸡和小鸭子一块儿出去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走进草地里。小公鸡找到了许多虫子，吃得很欢。小鸭子捉不到虫子，急得直哭。小公鸡看见了，捉到虫子就给小鸭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走到小河边。小鸭子说：“公鸡弟弟，我到河里捉鱼给你吃。”小公鸡说：“我也去。”小鸭子说：“不行，不行，你不会游泳，会淹死的！”小公鸡不信，偷偷地跟在小鸭子后面，也下了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鸭子正在水里捉鱼，忽然，听见小公鸡喊救命。它飞快地游到小公鸡身边，让小公鸡坐在自己的背上。小鸭子上了岸，笑着对小鸭子说：“鸭子哥哥，谢谢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647712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1320" y="6553080"/>
            <a:ext cx="2971800" cy="304920"/>
            <a:chOff x="5791320" y="6553080"/>
            <a:chExt cx="2971800" cy="304920"/>
          </a:xfrm>
        </p:grpSpPr>
        <p:sp>
          <p:nvSpPr>
            <p:cNvPr id="78" name=""/>
            <p:cNvSpPr/>
            <p:nvPr/>
          </p:nvSpPr>
          <p:spPr>
            <a:xfrm>
              <a:off x="5791320" y="678168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1320" y="662940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6284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8188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7260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01000" y="655308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304920" y="304920"/>
          <a:ext cx="107928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07928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公鸡和小鸭子一块儿出去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走进草地里。小公鸡找到了许多虫子，吃得很欢。小鸭子捉不到虫子，急得直哭。小公鸡看见了，捉到虫子就给小鸭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走到小河边。小鸭子说：“公鸡弟弟，我到河里捉鱼给你吃。”小公鸡说：“我也去。”小鸭子说：“不行，不行，你不会游泳，会淹死的！”小公鸡不信，偷偷地跟在小鸭子后面，也下了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鸭子正在水里捉鱼，忽然，听见小公鸡喊救命。它飞快地游到小公鸡身边，让小公鸡坐在自己的背上。小鸭子上了岸，笑着对小鸭子说：“鸭子哥哥，谢谢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6705720"/>
            <a:ext cx="29718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6553080"/>
            <a:ext cx="2971800" cy="304920"/>
            <a:chOff x="0" y="6553080"/>
            <a:chExt cx="2971800" cy="304920"/>
          </a:xfrm>
        </p:grpSpPr>
        <p:sp>
          <p:nvSpPr>
            <p:cNvPr id="89" name=""/>
            <p:cNvSpPr/>
            <p:nvPr/>
          </p:nvSpPr>
          <p:spPr>
            <a:xfrm>
              <a:off x="0" y="678168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629400"/>
              <a:ext cx="2971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152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056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1280" y="6553080"/>
              <a:ext cx="3808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9680" y="6553080"/>
              <a:ext cx="3812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380880" y="0"/>
          <a:ext cx="107964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107964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144144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81480" y="27957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公鸡为什么捉到虫子就给小鸭子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014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笔画出小公鸡帮助小鸭子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96360" y="5878440"/>
            <a:ext cx="1547640" cy="979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5257800" cy="617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29000" y="5791320"/>
            <a:ext cx="1828800" cy="785520"/>
          </a:xfrm>
          <a:prstGeom prst="rect">
            <a:avLst/>
          </a:prstGeom>
          <a:solidFill>
            <a:srgbClr val="336600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03T01:55:53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