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6.png" ContentType="image/png"/>
  <Override PartName="/ppt/media/image31.png" ContentType="image/png"/>
  <Override PartName="/ppt/media/image3.gif" ContentType="image/gif"/>
  <Override PartName="/ppt/media/image12.jpeg" ContentType="image/jpeg"/>
  <Override PartName="/ppt/media/image5.gif" ContentType="image/gif"/>
  <Override PartName="/ppt/media/image8.png" ContentType="image/png"/>
  <Override PartName="/ppt/media/image14.jpeg" ContentType="image/jpeg"/>
  <Override PartName="/ppt/media/image33.png" ContentType="image/png"/>
  <Override PartName="/ppt/media/image10.jpeg" ContentType="image/jpeg"/>
  <Override PartName="/ppt/media/image29.jpeg" ContentType="image/jpeg"/>
  <Override PartName="/ppt/media/image30.png" ContentType="image/png"/>
  <Override PartName="/ppt/media/image9.jpeg" ContentType="image/jpeg"/>
  <Override PartName="/ppt/media/image16.jpeg" ContentType="image/jpeg"/>
  <Override PartName="/ppt/media/image21.jpeg" ContentType="image/jpeg"/>
  <Override PartName="/ppt/media/chimes.wav" ContentType="audio/x-wav"/>
  <Override PartName="/ppt/media/image32.jpeg" ContentType="image/jpeg"/>
  <Override PartName="/ppt/media/image4.jpeg" ContentType="image/jpeg"/>
  <Override PartName="/ppt/media/image25.jpeg" ContentType="image/jpeg"/>
  <Override PartName="/ppt/media/image7.png" ContentType="image/png"/>
  <Override PartName="/ppt/media/image22.jpeg" ContentType="image/jpeg"/>
  <Override PartName="/ppt/media/image2.jpeg" ContentType="image/jpeg"/>
  <Override PartName="/ppt/media/image23.jpeg" ContentType="image/jpeg"/>
  <Override PartName="/ppt/media/image11.jpeg" ContentType="image/jpeg"/>
  <Override PartName="/ppt/media/image1.gif" ContentType="image/gif"/>
  <Override PartName="/ppt/media/image13.jpeg" ContentType="image/jpeg"/>
  <Override PartName="/ppt/media/image15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9E44-7344-4397-B606-A487E5CF9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630A-DC84-4D6F-9125-52B53326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67F4-9177-431D-805C-7E546D0B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55B5-907E-434C-B068-9C5ED72E2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512D-744E-4D4C-A95C-0F88BD73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7B26-F048-49F4-857D-0E69E8AE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E64E-5B79-4C8F-AF4B-A09FF659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55DB-C1EF-4B57-8391-59CB2BB2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E464-D977-4D87-B59F-293F5734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27C7-410A-48BC-A746-F0258E43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622E-B99F-41F8-BB8D-DD8BF22B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FFE9-2466-4849-A35F-2E701EC9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814F-45AD-4CC2-80D3-FAC50FA474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image" Target="../media/image23.jpeg"/><Relationship Id="rId7" Type="http://schemas.openxmlformats.org/officeDocument/2006/relationships/image" Target="../media/image23.jpeg"/><Relationship Id="rId8" Type="http://schemas.openxmlformats.org/officeDocument/2006/relationships/image" Target="../media/image23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4.jpeg"/><Relationship Id="rId12" Type="http://schemas.openxmlformats.org/officeDocument/2006/relationships/image" Target="../media/image24.jpeg"/><Relationship Id="rId13" Type="http://schemas.openxmlformats.org/officeDocument/2006/relationships/image" Target="../media/image24.jpeg"/><Relationship Id="rId14" Type="http://schemas.openxmlformats.org/officeDocument/2006/relationships/image" Target="../media/image24.jpeg"/><Relationship Id="rId15" Type="http://schemas.openxmlformats.org/officeDocument/2006/relationships/image" Target="../media/image24.jpeg"/><Relationship Id="rId16" Type="http://schemas.openxmlformats.org/officeDocument/2006/relationships/image" Target="../media/image24.jpeg"/><Relationship Id="rId17" Type="http://schemas.openxmlformats.org/officeDocument/2006/relationships/image" Target="../media/image24.jpeg"/><Relationship Id="rId18" Type="http://schemas.openxmlformats.org/officeDocument/2006/relationships/image" Target="../media/image24.jpeg"/><Relationship Id="rId19" Type="http://schemas.openxmlformats.org/officeDocument/2006/relationships/image" Target="../media/image24.jpeg"/><Relationship Id="rId20" Type="http://schemas.openxmlformats.org/officeDocument/2006/relationships/image" Target="../media/image24.jpeg"/><Relationship Id="rId21" Type="http://schemas.openxmlformats.org/officeDocument/2006/relationships/image" Target="../media/image24.jpeg"/><Relationship Id="rId22" Type="http://schemas.openxmlformats.org/officeDocument/2006/relationships/image" Target="../media/image25.jpeg"/><Relationship Id="rId23" Type="http://schemas.openxmlformats.org/officeDocument/2006/relationships/image" Target="../media/image25.jpeg"/><Relationship Id="rId24" Type="http://schemas.openxmlformats.org/officeDocument/2006/relationships/image" Target="../media/image25.jpeg"/><Relationship Id="rId25" Type="http://schemas.openxmlformats.org/officeDocument/2006/relationships/image" Target="../media/image25.jpeg"/><Relationship Id="rId26" Type="http://schemas.openxmlformats.org/officeDocument/2006/relationships/image" Target="../media/image25.jpeg"/><Relationship Id="rId27" Type="http://schemas.openxmlformats.org/officeDocument/2006/relationships/image" Target="../media/image25.jpeg"/><Relationship Id="rId28" Type="http://schemas.openxmlformats.org/officeDocument/2006/relationships/image" Target="../media/image25.jpeg"/><Relationship Id="rId29" Type="http://schemas.openxmlformats.org/officeDocument/2006/relationships/image" Target="../media/image25.jpeg"/><Relationship Id="rId30" Type="http://schemas.openxmlformats.org/officeDocument/2006/relationships/image" Target="../media/image25.jpeg"/><Relationship Id="rId31" Type="http://schemas.openxmlformats.org/officeDocument/2006/relationships/image" Target="../media/image25.jpeg"/><Relationship Id="rId32" Type="http://schemas.openxmlformats.org/officeDocument/2006/relationships/image" Target="../media/image26.jpeg"/><Relationship Id="rId33" Type="http://schemas.openxmlformats.org/officeDocument/2006/relationships/image" Target="../media/image26.jpeg"/><Relationship Id="rId34" Type="http://schemas.openxmlformats.org/officeDocument/2006/relationships/image" Target="../media/image26.jpeg"/><Relationship Id="rId35" Type="http://schemas.openxmlformats.org/officeDocument/2006/relationships/image" Target="../media/image26.jpeg"/><Relationship Id="rId36" Type="http://schemas.openxmlformats.org/officeDocument/2006/relationships/image" Target="../media/image26.jpeg"/><Relationship Id="rId37" Type="http://schemas.openxmlformats.org/officeDocument/2006/relationships/image" Target="../media/image26.jpeg"/><Relationship Id="rId38" Type="http://schemas.openxmlformats.org/officeDocument/2006/relationships/image" Target="../media/image26.jpeg"/><Relationship Id="rId39" Type="http://schemas.openxmlformats.org/officeDocument/2006/relationships/image" Target="../media/image26.jpeg"/><Relationship Id="rId40" Type="http://schemas.openxmlformats.org/officeDocument/2006/relationships/image" Target="../media/image26.jpeg"/><Relationship Id="rId41" Type="http://schemas.openxmlformats.org/officeDocument/2006/relationships/image" Target="../media/image26.jpeg"/><Relationship Id="rId42" Type="http://schemas.openxmlformats.org/officeDocument/2006/relationships/image" Target="../media/image23.jpeg"/><Relationship Id="rId43" Type="http://schemas.openxmlformats.org/officeDocument/2006/relationships/image" Target="../media/image23.jpeg"/><Relationship Id="rId44" Type="http://schemas.openxmlformats.org/officeDocument/2006/relationships/image" Target="../media/image23.jpeg"/><Relationship Id="rId45" Type="http://schemas.openxmlformats.org/officeDocument/2006/relationships/image" Target="../media/image23.jpeg"/><Relationship Id="rId46" Type="http://schemas.openxmlformats.org/officeDocument/2006/relationships/image" Target="../media/image23.jpeg"/><Relationship Id="rId47" Type="http://schemas.openxmlformats.org/officeDocument/2006/relationships/image" Target="../media/image23.jpeg"/><Relationship Id="rId48" Type="http://schemas.openxmlformats.org/officeDocument/2006/relationships/image" Target="../media/image23.jpeg"/><Relationship Id="rId49" Type="http://schemas.openxmlformats.org/officeDocument/2006/relationships/image" Target="../media/image23.jpeg"/><Relationship Id="rId5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slide" Target="slide20.xml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24000" y="3284640"/>
            <a:ext cx="4362480" cy="3200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191120" y="609480"/>
            <a:ext cx="3886200" cy="3505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" y="38088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小狗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0"/>
            <a:ext cx="27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Times New Roman"/>
              </a:rPr>
              <a:t>梅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9907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105520" y="2819520"/>
            <a:ext cx="3676680" cy="3276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3703680" cy="3146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80880" y="4876920"/>
            <a:ext cx="472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小鸭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4495680"/>
            <a:ext cx="250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Times New Roman"/>
              </a:rPr>
              <a:t>枫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55627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267080" y="228600"/>
            <a:ext cx="3886200" cy="3646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62120" y="3048120"/>
            <a:ext cx="4190760" cy="30477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38088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小马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152280"/>
            <a:ext cx="265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Times New Roman"/>
              </a:rPr>
              <a:t>月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11430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213372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Times New Roman"/>
              </a:rPr>
              <a:t>         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雪地里还会来些什么小画家呢？它们的脚印又像什么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808200" cy="914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990720" y="0"/>
            <a:ext cx="2971800" cy="7642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imes New Roman"/>
                <a:ea typeface="楷体_GB2312"/>
              </a:rPr>
              <a:t>拓展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4500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26480" y="2583720"/>
            <a:ext cx="2435400" cy="1338480"/>
            <a:chOff x="2526480" y="2583720"/>
            <a:chExt cx="2435400" cy="133848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rcRect l="0" t="0" r="50042" b="46433"/>
            <a:stretch/>
          </p:blipFill>
          <p:spPr>
            <a:xfrm rot="3388200">
              <a:off x="2548080" y="2635920"/>
              <a:ext cx="215640" cy="16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3"/>
            <a:srcRect l="0" t="0" r="50042" b="46433"/>
            <a:stretch/>
          </p:blipFill>
          <p:spPr>
            <a:xfrm rot="3388200">
              <a:off x="2946240" y="2977920"/>
              <a:ext cx="216000" cy="16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4"/>
            <a:srcRect l="0" t="0" r="50042" b="46433"/>
            <a:stretch/>
          </p:blipFill>
          <p:spPr>
            <a:xfrm rot="3388200">
              <a:off x="3325320" y="2898000"/>
              <a:ext cx="216000" cy="16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5"/>
            <a:srcRect l="0" t="0" r="50042" b="46433"/>
            <a:stretch/>
          </p:blipFill>
          <p:spPr>
            <a:xfrm rot="3388200">
              <a:off x="3604320" y="3318840"/>
              <a:ext cx="216000" cy="16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6"/>
            <a:srcRect l="0" t="0" r="50042" b="46433"/>
            <a:stretch/>
          </p:blipFill>
          <p:spPr>
            <a:xfrm rot="3388200">
              <a:off x="3956760" y="3093480"/>
              <a:ext cx="144360" cy="11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7"/>
            <a:srcRect l="0" t="0" r="50042" b="46433"/>
            <a:stretch/>
          </p:blipFill>
          <p:spPr>
            <a:xfrm rot="3388200">
              <a:off x="4241880" y="3499560"/>
              <a:ext cx="216000" cy="1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8"/>
            <a:srcRect l="0" t="0" r="50042" b="46433"/>
            <a:stretch/>
          </p:blipFill>
          <p:spPr>
            <a:xfrm rot="3388200">
              <a:off x="4564080" y="3201120"/>
              <a:ext cx="215640" cy="16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9"/>
            <a:srcRect l="0" t="0" r="50042" b="46433"/>
            <a:stretch/>
          </p:blipFill>
          <p:spPr>
            <a:xfrm rot="3388200">
              <a:off x="4722120" y="3699720"/>
              <a:ext cx="217440" cy="16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"/>
          <p:cNvGrpSpPr/>
          <p:nvPr/>
        </p:nvGrpSpPr>
        <p:grpSpPr>
          <a:xfrm>
            <a:off x="4742280" y="1941840"/>
            <a:ext cx="3693240" cy="1540080"/>
            <a:chOff x="4742280" y="1941840"/>
            <a:chExt cx="3693240" cy="1540080"/>
          </a:xfrm>
        </p:grpSpPr>
        <p:pic>
          <p:nvPicPr>
            <p:cNvPr id="149" name="" descr=""/>
            <p:cNvPicPr/>
            <p:nvPr/>
          </p:nvPicPr>
          <p:blipFill>
            <a:blip r:embed="rId10"/>
            <a:srcRect l="0" t="0" r="53356" b="31228"/>
            <a:stretch/>
          </p:blipFill>
          <p:spPr>
            <a:xfrm rot="17963400">
              <a:off x="7627680" y="1985400"/>
              <a:ext cx="2682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11"/>
            <a:srcRect l="0" t="0" r="53356" b="31228"/>
            <a:stretch/>
          </p:blipFill>
          <p:spPr>
            <a:xfrm rot="17963400">
              <a:off x="7535160" y="2358720"/>
              <a:ext cx="26856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12"/>
            <a:srcRect l="0" t="0" r="53356" b="31228"/>
            <a:stretch/>
          </p:blipFill>
          <p:spPr>
            <a:xfrm rot="17963400">
              <a:off x="7246800" y="2142360"/>
              <a:ext cx="26820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13"/>
            <a:srcRect l="0" t="0" r="53356" b="31228"/>
            <a:stretch/>
          </p:blipFill>
          <p:spPr>
            <a:xfrm rot="17963400">
              <a:off x="7030800" y="2574360"/>
              <a:ext cx="2682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14"/>
            <a:srcRect l="0" t="0" r="53356" b="31228"/>
            <a:stretch/>
          </p:blipFill>
          <p:spPr>
            <a:xfrm rot="17963400">
              <a:off x="6598440" y="2358720"/>
              <a:ext cx="26856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15"/>
            <a:srcRect l="0" t="0" r="53356" b="31228"/>
            <a:stretch/>
          </p:blipFill>
          <p:spPr>
            <a:xfrm rot="17963400">
              <a:off x="6598440" y="2719080"/>
              <a:ext cx="26856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16"/>
            <a:srcRect l="0" t="0" r="53356" b="31228"/>
            <a:stretch/>
          </p:blipFill>
          <p:spPr>
            <a:xfrm rot="17963400">
              <a:off x="6095520" y="2503080"/>
              <a:ext cx="2682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17"/>
            <a:srcRect l="0" t="0" r="53356" b="31228"/>
            <a:stretch/>
          </p:blipFill>
          <p:spPr>
            <a:xfrm rot="17963400">
              <a:off x="8110080" y="2071080"/>
              <a:ext cx="2682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18"/>
            <a:srcRect l="0" t="0" r="53356" b="31228"/>
            <a:stretch/>
          </p:blipFill>
          <p:spPr>
            <a:xfrm rot="17963400">
              <a:off x="5877720" y="2955600"/>
              <a:ext cx="26856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19"/>
            <a:srcRect l="0" t="0" r="53356" b="31228"/>
            <a:stretch/>
          </p:blipFill>
          <p:spPr>
            <a:xfrm rot="17963400">
              <a:off x="5374800" y="2647440"/>
              <a:ext cx="2682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20"/>
            <a:srcRect l="0" t="0" r="53356" b="31228"/>
            <a:stretch/>
          </p:blipFill>
          <p:spPr>
            <a:xfrm rot="17963400">
              <a:off x="4798800" y="2810880"/>
              <a:ext cx="2682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21"/>
            <a:srcRect l="0" t="0" r="53356" b="31228"/>
            <a:stretch/>
          </p:blipFill>
          <p:spPr>
            <a:xfrm rot="17963400">
              <a:off x="5230440" y="3150720"/>
              <a:ext cx="26820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" name=""/>
          <p:cNvGrpSpPr/>
          <p:nvPr/>
        </p:nvGrpSpPr>
        <p:grpSpPr>
          <a:xfrm>
            <a:off x="3851280" y="4616280"/>
            <a:ext cx="2232000" cy="2052720"/>
            <a:chOff x="3851280" y="4616280"/>
            <a:chExt cx="2232000" cy="2052720"/>
          </a:xfrm>
        </p:grpSpPr>
        <p:pic>
          <p:nvPicPr>
            <p:cNvPr id="162" name="" descr=""/>
            <p:cNvPicPr/>
            <p:nvPr/>
          </p:nvPicPr>
          <p:blipFill>
            <a:blip r:embed="rId22"/>
            <a:srcRect l="0" t="0" r="52082" b="44912"/>
            <a:stretch/>
          </p:blipFill>
          <p:spPr>
            <a:xfrm>
              <a:off x="4356000" y="6057720"/>
              <a:ext cx="21600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23"/>
            <a:srcRect l="0" t="0" r="52082" b="44912"/>
            <a:stretch/>
          </p:blipFill>
          <p:spPr>
            <a:xfrm>
              <a:off x="4284720" y="5697360"/>
              <a:ext cx="2156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24"/>
            <a:srcRect l="0" t="0" r="52082" b="44912"/>
            <a:stretch/>
          </p:blipFill>
          <p:spPr>
            <a:xfrm>
              <a:off x="4643280" y="5540040"/>
              <a:ext cx="21600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5"/>
            <a:srcRect l="0" t="0" r="52082" b="44912"/>
            <a:stretch/>
          </p:blipFill>
          <p:spPr>
            <a:xfrm>
              <a:off x="3851280" y="6189480"/>
              <a:ext cx="21600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26"/>
            <a:srcRect l="0" t="0" r="52082" b="44912"/>
            <a:stretch/>
          </p:blipFill>
          <p:spPr>
            <a:xfrm>
              <a:off x="5148360" y="5481360"/>
              <a:ext cx="2156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27"/>
            <a:srcRect l="0" t="0" r="52082" b="44912"/>
            <a:stretch/>
          </p:blipFill>
          <p:spPr>
            <a:xfrm>
              <a:off x="5003640" y="5181480"/>
              <a:ext cx="21600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28"/>
            <a:srcRect l="0" t="0" r="52082" b="44912"/>
            <a:stretch/>
          </p:blipFill>
          <p:spPr>
            <a:xfrm>
              <a:off x="3924360" y="6489360"/>
              <a:ext cx="215640" cy="1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9"/>
            <a:srcRect l="0" t="0" r="52082" b="44912"/>
            <a:stretch/>
          </p:blipFill>
          <p:spPr>
            <a:xfrm>
              <a:off x="5508720" y="5047920"/>
              <a:ext cx="215640" cy="1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30"/>
            <a:srcRect l="0" t="0" r="52082" b="44912"/>
            <a:stretch/>
          </p:blipFill>
          <p:spPr>
            <a:xfrm>
              <a:off x="5435640" y="4689360"/>
              <a:ext cx="2156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31"/>
            <a:srcRect l="0" t="0" r="52082" b="44912"/>
            <a:stretch/>
          </p:blipFill>
          <p:spPr>
            <a:xfrm>
              <a:off x="5867280" y="4616280"/>
              <a:ext cx="216000" cy="1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" name=""/>
          <p:cNvGrpSpPr/>
          <p:nvPr/>
        </p:nvGrpSpPr>
        <p:grpSpPr>
          <a:xfrm>
            <a:off x="6384960" y="4177800"/>
            <a:ext cx="2286000" cy="2248200"/>
            <a:chOff x="6384960" y="4177800"/>
            <a:chExt cx="2286000" cy="2248200"/>
          </a:xfrm>
        </p:grpSpPr>
        <p:pic>
          <p:nvPicPr>
            <p:cNvPr id="173" name="" descr=""/>
            <p:cNvPicPr/>
            <p:nvPr/>
          </p:nvPicPr>
          <p:blipFill>
            <a:blip r:embed="rId32"/>
            <a:srcRect l="0" t="0" r="47664" b="41053"/>
            <a:stretch/>
          </p:blipFill>
          <p:spPr>
            <a:xfrm rot="4030200">
              <a:off x="8138880" y="5622840"/>
              <a:ext cx="36180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33"/>
            <a:srcRect l="0" t="0" r="47664" b="41053"/>
            <a:stretch/>
          </p:blipFill>
          <p:spPr>
            <a:xfrm rot="4030200">
              <a:off x="7707240" y="5694120"/>
              <a:ext cx="36180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34"/>
            <a:srcRect l="0" t="0" r="47664" b="41053"/>
            <a:stretch/>
          </p:blipFill>
          <p:spPr>
            <a:xfrm rot="4030200">
              <a:off x="8283600" y="6054480"/>
              <a:ext cx="36180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35"/>
            <a:srcRect l="0" t="0" r="47664" b="41053"/>
            <a:stretch/>
          </p:blipFill>
          <p:spPr>
            <a:xfrm rot="4030200">
              <a:off x="7851600" y="5262480"/>
              <a:ext cx="36180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36"/>
            <a:srcRect l="0" t="0" r="47664" b="41053"/>
            <a:stretch/>
          </p:blipFill>
          <p:spPr>
            <a:xfrm rot="4030200">
              <a:off x="7130880" y="5262480"/>
              <a:ext cx="36180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37"/>
            <a:srcRect l="0" t="0" r="47664" b="41053"/>
            <a:stretch/>
          </p:blipFill>
          <p:spPr>
            <a:xfrm rot="4030200">
              <a:off x="7346880" y="4830480"/>
              <a:ext cx="36216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38"/>
            <a:srcRect l="0" t="0" r="47664" b="41053"/>
            <a:stretch/>
          </p:blipFill>
          <p:spPr>
            <a:xfrm rot="4030200">
              <a:off x="6699240" y="4902120"/>
              <a:ext cx="36180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39"/>
            <a:srcRect l="0" t="0" r="47664" b="41053"/>
            <a:stretch/>
          </p:blipFill>
          <p:spPr>
            <a:xfrm rot="4030200">
              <a:off x="6986520" y="4686120"/>
              <a:ext cx="36180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40"/>
            <a:srcRect l="0" t="0" r="47664" b="41053"/>
            <a:stretch/>
          </p:blipFill>
          <p:spPr>
            <a:xfrm rot="4030200">
              <a:off x="6699240" y="4254120"/>
              <a:ext cx="36216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41"/>
            <a:srcRect l="0" t="0" r="47664" b="41053"/>
            <a:stretch/>
          </p:blipFill>
          <p:spPr>
            <a:xfrm rot="4030200">
              <a:off x="6410160" y="4541760"/>
              <a:ext cx="361800" cy="29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"/>
          <p:cNvGrpSpPr/>
          <p:nvPr/>
        </p:nvGrpSpPr>
        <p:grpSpPr>
          <a:xfrm>
            <a:off x="726480" y="1863000"/>
            <a:ext cx="2435400" cy="1338480"/>
            <a:chOff x="726480" y="1863000"/>
            <a:chExt cx="2435400" cy="1338480"/>
          </a:xfrm>
        </p:grpSpPr>
        <p:pic>
          <p:nvPicPr>
            <p:cNvPr id="184" name="" descr=""/>
            <p:cNvPicPr/>
            <p:nvPr/>
          </p:nvPicPr>
          <p:blipFill>
            <a:blip r:embed="rId42"/>
            <a:srcRect l="0" t="0" r="50042" b="46433"/>
            <a:stretch/>
          </p:blipFill>
          <p:spPr>
            <a:xfrm rot="3388200">
              <a:off x="748080" y="1915200"/>
              <a:ext cx="215640" cy="16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43"/>
            <a:srcRect l="0" t="0" r="50042" b="46433"/>
            <a:stretch/>
          </p:blipFill>
          <p:spPr>
            <a:xfrm rot="3388200">
              <a:off x="1146240" y="2257200"/>
              <a:ext cx="216000" cy="16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44"/>
            <a:srcRect l="0" t="0" r="50042" b="46433"/>
            <a:stretch/>
          </p:blipFill>
          <p:spPr>
            <a:xfrm rot="3388200">
              <a:off x="1525320" y="2177280"/>
              <a:ext cx="216000" cy="16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45"/>
            <a:srcRect l="0" t="0" r="50042" b="46433"/>
            <a:stretch/>
          </p:blipFill>
          <p:spPr>
            <a:xfrm rot="3388200">
              <a:off x="1804320" y="2598120"/>
              <a:ext cx="216000" cy="16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46"/>
            <a:srcRect l="0" t="0" r="50042" b="46433"/>
            <a:stretch/>
          </p:blipFill>
          <p:spPr>
            <a:xfrm rot="3388200">
              <a:off x="2156760" y="2372760"/>
              <a:ext cx="144360" cy="11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47"/>
            <a:srcRect l="0" t="0" r="50042" b="46433"/>
            <a:stretch/>
          </p:blipFill>
          <p:spPr>
            <a:xfrm rot="3388200">
              <a:off x="2441880" y="2778840"/>
              <a:ext cx="216000" cy="1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48"/>
            <a:srcRect l="0" t="0" r="50042" b="46433"/>
            <a:stretch/>
          </p:blipFill>
          <p:spPr>
            <a:xfrm rot="3388200">
              <a:off x="2764080" y="2480400"/>
              <a:ext cx="215640" cy="16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49"/>
            <a:srcRect l="0" t="0" r="50042" b="46433"/>
            <a:stretch/>
          </p:blipFill>
          <p:spPr>
            <a:xfrm rot="3388200">
              <a:off x="2922120" y="2979000"/>
              <a:ext cx="217440" cy="16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"/>
          <p:cNvGrpSpPr/>
          <p:nvPr/>
        </p:nvGrpSpPr>
        <p:grpSpPr>
          <a:xfrm>
            <a:off x="179280" y="3463920"/>
            <a:ext cx="5184720" cy="2188800"/>
            <a:chOff x="179280" y="3463920"/>
            <a:chExt cx="5184720" cy="2188800"/>
          </a:xfrm>
        </p:grpSpPr>
        <p:grpSp>
          <p:nvGrpSpPr>
            <p:cNvPr id="193" name=""/>
            <p:cNvGrpSpPr/>
            <p:nvPr/>
          </p:nvGrpSpPr>
          <p:grpSpPr>
            <a:xfrm>
              <a:off x="179280" y="3463920"/>
              <a:ext cx="4824360" cy="1036440"/>
              <a:chOff x="179280" y="3463920"/>
              <a:chExt cx="4824360" cy="1036440"/>
            </a:xfrm>
          </p:grpSpPr>
          <p:sp>
            <p:nvSpPr>
              <p:cNvPr id="194" name=""/>
              <p:cNvSpPr/>
              <p:nvPr/>
            </p:nvSpPr>
            <p:spPr>
              <a:xfrm>
                <a:off x="179280" y="3857760"/>
                <a:ext cx="4824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3300"/>
                    </a:solidFill>
                    <a:latin typeface="Arial"/>
                  </a:rPr>
                  <a:t>不 用 颜 料 不 用 笔，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50920" y="3463920"/>
                <a:ext cx="475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366ff"/>
                    </a:solidFill>
                    <a:latin typeface="Arial"/>
                  </a:rPr>
                  <a:t>bù  yòng  yán   liào   bù   yòng  b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179280" y="4581360"/>
              <a:ext cx="5184720" cy="1071360"/>
              <a:chOff x="179280" y="4581360"/>
              <a:chExt cx="5184720" cy="1071360"/>
            </a:xfrm>
          </p:grpSpPr>
          <p:sp>
            <p:nvSpPr>
              <p:cNvPr id="197" name=""/>
              <p:cNvSpPr/>
              <p:nvPr/>
            </p:nvSpPr>
            <p:spPr>
              <a:xfrm>
                <a:off x="179280" y="5010120"/>
                <a:ext cx="4969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3300"/>
                    </a:solidFill>
                    <a:latin typeface="Arial"/>
                  </a:rPr>
                  <a:t>几 步 就 成 一 幅 画。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24000" y="4581360"/>
                <a:ext cx="504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366ff"/>
                    </a:solidFill>
                    <a:latin typeface="Arial"/>
                  </a:rPr>
                  <a:t>jǐ    bù     jiù  chéng  yì     fú    hu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3382920" y="3860640"/>
            <a:ext cx="6084720" cy="1066320"/>
            <a:chOff x="3382920" y="3860640"/>
            <a:chExt cx="6084720" cy="1066320"/>
          </a:xfrm>
        </p:grpSpPr>
        <p:sp>
          <p:nvSpPr>
            <p:cNvPr id="201" name=""/>
            <p:cNvSpPr/>
            <p:nvPr/>
          </p:nvSpPr>
          <p:spPr>
            <a:xfrm>
              <a:off x="3457440" y="4284360"/>
              <a:ext cx="601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青 蛙 为 什 么 没 参 加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382920" y="3860640"/>
              <a:ext cx="60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ī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ng w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ā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wèi shén me méi  c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ā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n  ji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ā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489480" y="5164200"/>
            <a:ext cx="5690520" cy="1074600"/>
            <a:chOff x="3489480" y="5164200"/>
            <a:chExt cx="5690520" cy="1074600"/>
          </a:xfrm>
        </p:grpSpPr>
        <p:sp>
          <p:nvSpPr>
            <p:cNvPr id="204" name=""/>
            <p:cNvSpPr/>
            <p:nvPr/>
          </p:nvSpPr>
          <p:spPr>
            <a:xfrm>
              <a:off x="3489480" y="5596200"/>
              <a:ext cx="536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他 在 洞  里  睡  着 啦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33840" y="5164200"/>
              <a:ext cx="554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ā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  zài  dòng   l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ǐ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  shuì  zháo l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7086600" y="4876920"/>
            <a:ext cx="1676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66ff"/>
                </a:solidFill>
                <a:latin typeface="Arial"/>
              </a:rPr>
              <a:t>●      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28600" y="1143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你 还 知 道 什 么 动 物 也 要 冬 眠 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1066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读读连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057400" y="4190760"/>
            <a:ext cx="1143000" cy="53316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24480" y="4267080"/>
            <a:ext cx="838440" cy="53352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095880" y="4267080"/>
            <a:ext cx="1067040" cy="45720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067680" cy="5732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727280" cy="19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02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1557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17 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雪地里的小画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221000" y="476280"/>
            <a:ext cx="128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17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、雪地里的小画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47640" y="1557360"/>
            <a:ext cx="6678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下雪啦，下雪啦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雪地里来了一群小画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鸡画竹叶，小狗画梅花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鸭画枫叶，小马画月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不用颜料不用笔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几步就成一幅画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青蛙为什么没参加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他在洞睡着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7164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35873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35280" y="189000"/>
            <a:ext cx="5905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17 </a:t>
            </a: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雪地里的小画家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38160" y="1413000"/>
            <a:ext cx="94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下雪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下雪 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!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雪地里来 了一 群 小 画 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79736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不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颜 料 不 用 笔，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几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步 就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成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一 幅 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492280"/>
            <a:ext cx="67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小 鸡 画 竹 叶，小 狗 画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梅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花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36360" y="371628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小 鸭 画 枫 叶，小 马 画 月 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81080" y="6021360"/>
            <a:ext cx="9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青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蛙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什 么 没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参 加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？他 在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里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睡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着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5040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757080" y="907920"/>
            <a:ext cx="50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x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x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48000" y="98100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x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dì  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e  yì  qú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  h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j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396720" y="206064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  j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ī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z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16360" y="206064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x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o  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ǒ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u  h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mé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h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32120" y="3141720"/>
            <a:ext cx="32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  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h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ē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g  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16360" y="321300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x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o  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h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yu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è  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469800" y="436572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ú 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yòng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 l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o bú yòng  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27640" y="43401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j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ǐ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ù  jiù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 chén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yì   fú  h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36360" y="566100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g 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w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wè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shén me méi 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ā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n  ji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88000" y="5661000"/>
            <a:ext cx="42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ā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i  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dòn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ǐ 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shu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z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o 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1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00000" y="2565360"/>
            <a:ext cx="73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下雪啦  梅花   不用   几步   青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32000" y="481500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为什么   参 加    洞里    睡 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79640" y="1844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méi         yòng    j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w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32000" y="4149720"/>
            <a:ext cx="78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èi           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 j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ā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dòng      shuìzh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33336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读一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12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79960" y="83664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9640" y="836640"/>
            <a:ext cx="109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2680" y="2492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93040" y="7650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48680" y="7650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蛙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149720"/>
            <a:ext cx="122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0920" y="4149720"/>
            <a:ext cx="11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3708360" y="4221000"/>
            <a:ext cx="102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35600" y="24210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08360" y="2492280"/>
            <a:ext cx="11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189000"/>
            <a:ext cx="6337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26028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l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ɑ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méi      chéng    w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844640"/>
            <a:ext cx="68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yòng   dòng   shu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wè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16280"/>
            <a:ext cx="49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j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ǐ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j i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2708280"/>
            <a:ext cx="129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19640" y="2421000"/>
            <a:ext cx="12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932360" y="4869000"/>
            <a:ext cx="1227240" cy="151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1474920" y="-314280"/>
            <a:ext cx="11725560" cy="8372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4648320"/>
            <a:ext cx="1981080" cy="1295280"/>
          </a:xfrm>
          <a:prstGeom prst="cloudCallout">
            <a:avLst>
              <a:gd name="adj1" fmla="val 76282"/>
              <a:gd name="adj2" fmla="val 34435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会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rcRect l="25000" t="29637" r="27784" b="25000"/>
          <a:stretch/>
        </p:blipFill>
        <p:spPr>
          <a:xfrm>
            <a:off x="4861080" y="2997360"/>
            <a:ext cx="1371600" cy="1317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rcRect l="25000" t="29637" r="27784" b="25000"/>
          <a:stretch/>
        </p:blipFill>
        <p:spPr>
          <a:xfrm>
            <a:off x="5638680" y="1752480"/>
            <a:ext cx="1219320" cy="1171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rcRect l="25000" t="29637" r="27784" b="25000"/>
          <a:stretch/>
        </p:blipFill>
        <p:spPr>
          <a:xfrm>
            <a:off x="6858000" y="2819520"/>
            <a:ext cx="1219320" cy="1171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rcRect l="25000" t="29637" r="27784" b="25000"/>
          <a:stretch/>
        </p:blipFill>
        <p:spPr>
          <a:xfrm>
            <a:off x="1447920" y="1981080"/>
            <a:ext cx="1218960" cy="1171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rcRect l="25000" t="29637" r="27784" b="25000"/>
          <a:stretch/>
        </p:blipFill>
        <p:spPr>
          <a:xfrm>
            <a:off x="6858000" y="1295280"/>
            <a:ext cx="1219320" cy="1171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164360" y="1052640"/>
            <a:ext cx="792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7"/>
          <a:srcRect l="25000" t="29637" r="27784" b="25000"/>
          <a:stretch/>
        </p:blipFill>
        <p:spPr>
          <a:xfrm>
            <a:off x="1905120" y="3213000"/>
            <a:ext cx="12189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948360" y="2637000"/>
            <a:ext cx="1143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19920" y="19162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35640" y="3213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8"/>
          <a:srcRect l="25000" t="29637" r="27784" b="25000"/>
          <a:stretch/>
        </p:blipFill>
        <p:spPr>
          <a:xfrm>
            <a:off x="4267080" y="1905120"/>
            <a:ext cx="1219320" cy="1171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9"/>
          <a:srcRect l="25000" t="29637" r="27784" b="25000"/>
          <a:stretch/>
        </p:blipFill>
        <p:spPr>
          <a:xfrm>
            <a:off x="0" y="2286000"/>
            <a:ext cx="1219320" cy="1171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0"/>
          <a:srcRect l="25000" t="29637" r="27784" b="25000"/>
          <a:stretch/>
        </p:blipFill>
        <p:spPr>
          <a:xfrm>
            <a:off x="3995640" y="333360"/>
            <a:ext cx="1219320" cy="1171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1"/>
          <a:srcRect l="25000" t="29637" r="27784" b="25000"/>
          <a:stretch/>
        </p:blipFill>
        <p:spPr>
          <a:xfrm>
            <a:off x="2438280" y="838080"/>
            <a:ext cx="1219320" cy="1171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2"/>
          <a:srcRect l="25000" t="29637" r="27784" b="25000"/>
          <a:stretch/>
        </p:blipFill>
        <p:spPr>
          <a:xfrm>
            <a:off x="3048120" y="2286000"/>
            <a:ext cx="1218960" cy="1171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72000" y="20606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92360" y="2276640"/>
            <a:ext cx="574920" cy="19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16360" y="105264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27640" y="260280"/>
            <a:ext cx="576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2492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2205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40000" y="335772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447840" y="0"/>
            <a:ext cx="959184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11280" y="62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雪地里来了        小画家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73600" y="54936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一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643280" y="189000"/>
            <a:ext cx="419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小鸡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914400"/>
            <a:ext cx="14479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59640" y="0"/>
            <a:ext cx="24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ff"/>
                </a:solidFill>
                <a:latin typeface="Times New Roman"/>
              </a:rPr>
              <a:t>竹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67360" y="4229280"/>
            <a:ext cx="305748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9T07:26:22Z</dcterms:created>
  <dc:creator>番茄花园</dc:creator>
  <dc:description/>
  <dc:language>en-US</dc:language>
  <cp:lastModifiedBy>zmj</cp:lastModifiedBy>
  <dcterms:modified xsi:type="dcterms:W3CDTF">2012-09-10T15:06:47Z</dcterms:modified>
  <cp:revision>94</cp:revision>
  <dc:subject/>
  <dc:title>幻灯片 1</dc:title>
</cp:coreProperties>
</file>