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BELL1.WAV" ContentType="audio/x-wav"/>
  <Override PartName="/ppt/media/image20.jpeg" ContentType="image/jpeg"/>
  <Override PartName="/ppt/media/image12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FF8-62FF-48B4-9AE2-4CB2FFEA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05C-6DC7-4F61-BAA9-EE20DD8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1A0-BC6F-4042-818D-B160F3F4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15B-F808-4889-99A8-8B833725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5EB-DA53-44DF-9B8D-7F00597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EC2-6E64-415A-801E-EE78070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6D7-E27F-4008-9ED4-F4CAC7D6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982-E91B-457E-9013-AE7A6C93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00F-7FAF-4FF6-A1C5-4699F88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9B5-022A-454F-9454-97AFBED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AAB-3938-4FCE-9984-A61A340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339-CFAB-4436-9DDF-A03C2C8F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C6C-4A2C-4466-8373-94F9CC92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2.wmf"/><Relationship Id="rId33" Type="http://schemas.openxmlformats.org/officeDocument/2006/relationships/image" Target="../media/image3.png"/><Relationship Id="rId34" Type="http://schemas.openxmlformats.org/officeDocument/2006/relationships/audio" Target="../media/chimes.wav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ELL1.WAV"/><Relationship Id="rId3" Type="http://schemas.openxmlformats.org/officeDocument/2006/relationships/audio" Target="../media/BELL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8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image" Target="../media/image16.wmf"/><Relationship Id="rId34" Type="http://schemas.openxmlformats.org/officeDocument/2006/relationships/image" Target="../media/image16.wmf"/><Relationship Id="rId35" Type="http://schemas.openxmlformats.org/officeDocument/2006/relationships/image" Target="../media/image16.wmf"/><Relationship Id="rId36" Type="http://schemas.openxmlformats.org/officeDocument/2006/relationships/image" Target="../media/image16.wmf"/><Relationship Id="rId37" Type="http://schemas.openxmlformats.org/officeDocument/2006/relationships/image" Target="../media/image16.wmf"/><Relationship Id="rId38" Type="http://schemas.openxmlformats.org/officeDocument/2006/relationships/image" Target="../media/image16.wmf"/><Relationship Id="rId39" Type="http://schemas.openxmlformats.org/officeDocument/2006/relationships/image" Target="../media/image16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audio" Target="../media/chimes.wav"/><Relationship Id="rId5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15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ELL1.WAV"/><Relationship Id="rId3" Type="http://schemas.openxmlformats.org/officeDocument/2006/relationships/audio" Target="../media/BELL1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0" descr="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图形1"/>
          <p:cNvPicPr/>
          <p:nvPr/>
        </p:nvPicPr>
        <p:blipFill>
          <a:blip r:embed="rId2"/>
          <a:stretch/>
        </p:blipFill>
        <p:spPr>
          <a:xfrm>
            <a:off x="2057400" y="19810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图形1"/>
          <p:cNvPicPr/>
          <p:nvPr/>
        </p:nvPicPr>
        <p:blipFill>
          <a:blip r:embed="rId3"/>
          <a:stretch/>
        </p:blipFill>
        <p:spPr>
          <a:xfrm>
            <a:off x="304920" y="914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图形1"/>
          <p:cNvPicPr/>
          <p:nvPr/>
        </p:nvPicPr>
        <p:blipFill>
          <a:blip r:embed="rId4"/>
          <a:stretch/>
        </p:blipFill>
        <p:spPr>
          <a:xfrm>
            <a:off x="8596440" y="5486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图形1"/>
          <p:cNvPicPr/>
          <p:nvPr/>
        </p:nvPicPr>
        <p:blipFill>
          <a:blip r:embed="rId5"/>
          <a:stretch/>
        </p:blipFill>
        <p:spPr>
          <a:xfrm>
            <a:off x="8001000" y="57150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图形1"/>
          <p:cNvPicPr/>
          <p:nvPr/>
        </p:nvPicPr>
        <p:blipFill>
          <a:blip r:embed="rId6"/>
          <a:stretch/>
        </p:blipFill>
        <p:spPr>
          <a:xfrm>
            <a:off x="4343400" y="4572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图形1"/>
          <p:cNvPicPr/>
          <p:nvPr/>
        </p:nvPicPr>
        <p:blipFill>
          <a:blip r:embed="rId7"/>
          <a:stretch/>
        </p:blipFill>
        <p:spPr>
          <a:xfrm>
            <a:off x="693432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图形1"/>
          <p:cNvPicPr/>
          <p:nvPr/>
        </p:nvPicPr>
        <p:blipFill>
          <a:blip r:embed="rId8"/>
          <a:stretch/>
        </p:blipFill>
        <p:spPr>
          <a:xfrm>
            <a:off x="3352680" y="12193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图形1"/>
          <p:cNvPicPr/>
          <p:nvPr/>
        </p:nvPicPr>
        <p:blipFill>
          <a:blip r:embed="rId9"/>
          <a:stretch/>
        </p:blipFill>
        <p:spPr>
          <a:xfrm>
            <a:off x="1981080" y="3049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图形1"/>
          <p:cNvPicPr/>
          <p:nvPr/>
        </p:nvPicPr>
        <p:blipFill>
          <a:blip r:embed="rId10"/>
          <a:stretch/>
        </p:blipFill>
        <p:spPr>
          <a:xfrm>
            <a:off x="5791320" y="12952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图形1"/>
          <p:cNvPicPr/>
          <p:nvPr/>
        </p:nvPicPr>
        <p:blipFill>
          <a:blip r:embed="rId11"/>
          <a:stretch/>
        </p:blipFill>
        <p:spPr>
          <a:xfrm>
            <a:off x="2438280" y="55627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图形1"/>
          <p:cNvPicPr/>
          <p:nvPr/>
        </p:nvPicPr>
        <p:blipFill>
          <a:blip r:embed="rId12"/>
          <a:stretch/>
        </p:blipFill>
        <p:spPr>
          <a:xfrm>
            <a:off x="5029200" y="5943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图形1"/>
          <p:cNvPicPr/>
          <p:nvPr/>
        </p:nvPicPr>
        <p:blipFill>
          <a:blip r:embed="rId13"/>
          <a:stretch/>
        </p:blipFill>
        <p:spPr>
          <a:xfrm>
            <a:off x="7848720" y="4343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图形1"/>
          <p:cNvPicPr/>
          <p:nvPr/>
        </p:nvPicPr>
        <p:blipFill>
          <a:blip r:embed="rId14"/>
          <a:stretch/>
        </p:blipFill>
        <p:spPr>
          <a:xfrm>
            <a:off x="3733920" y="44956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图形1"/>
          <p:cNvPicPr/>
          <p:nvPr/>
        </p:nvPicPr>
        <p:blipFill>
          <a:blip r:embed="rId15"/>
          <a:stretch/>
        </p:blipFill>
        <p:spPr>
          <a:xfrm>
            <a:off x="6934320" y="5715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7"/>
          <p:cNvGrpSpPr/>
          <p:nvPr/>
        </p:nvGrpSpPr>
        <p:grpSpPr>
          <a:xfrm>
            <a:off x="2133720" y="5638680"/>
            <a:ext cx="6033960" cy="4800600"/>
            <a:chOff x="2133720" y="5638680"/>
            <a:chExt cx="6033960" cy="4800600"/>
          </a:xfrm>
        </p:grpSpPr>
        <p:pic>
          <p:nvPicPr>
            <p:cNvPr id="57" name="Picture 18" descr="图形1"/>
            <p:cNvPicPr/>
            <p:nvPr/>
          </p:nvPicPr>
          <p:blipFill>
            <a:blip r:embed="rId16"/>
            <a:stretch/>
          </p:blipFill>
          <p:spPr>
            <a:xfrm>
              <a:off x="2133720" y="563868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图形1"/>
            <p:cNvPicPr/>
            <p:nvPr/>
          </p:nvPicPr>
          <p:blipFill>
            <a:blip r:embed="rId17"/>
            <a:stretch/>
          </p:blipFill>
          <p:spPr>
            <a:xfrm>
              <a:off x="7620120" y="9905760"/>
              <a:ext cx="5475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0" descr="图形1"/>
          <p:cNvPicPr/>
          <p:nvPr/>
        </p:nvPicPr>
        <p:blipFill>
          <a:blip r:embed="rId18"/>
          <a:stretch/>
        </p:blipFill>
        <p:spPr>
          <a:xfrm>
            <a:off x="5562720" y="5791320"/>
            <a:ext cx="54756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图形1"/>
          <p:cNvPicPr/>
          <p:nvPr/>
        </p:nvPicPr>
        <p:blipFill>
          <a:blip r:embed="rId19"/>
          <a:stretch/>
        </p:blipFill>
        <p:spPr>
          <a:xfrm>
            <a:off x="6172200" y="40384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图形1"/>
          <p:cNvPicPr/>
          <p:nvPr/>
        </p:nvPicPr>
        <p:blipFill>
          <a:blip r:embed="rId20"/>
          <a:stretch/>
        </p:blipFill>
        <p:spPr>
          <a:xfrm>
            <a:off x="304920" y="52578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3"/>
          <p:cNvGrpSpPr/>
          <p:nvPr/>
        </p:nvGrpSpPr>
        <p:grpSpPr>
          <a:xfrm>
            <a:off x="4572000" y="990720"/>
            <a:ext cx="3672000" cy="5181480"/>
            <a:chOff x="4572000" y="990720"/>
            <a:chExt cx="3672000" cy="5181480"/>
          </a:xfrm>
        </p:grpSpPr>
        <p:pic>
          <p:nvPicPr>
            <p:cNvPr id="63" name="Picture 24" descr="图形1"/>
            <p:cNvPicPr/>
            <p:nvPr/>
          </p:nvPicPr>
          <p:blipFill>
            <a:blip r:embed="rId21"/>
            <a:stretch/>
          </p:blipFill>
          <p:spPr>
            <a:xfrm>
              <a:off x="7696440" y="990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5" descr="图形1"/>
            <p:cNvPicPr/>
            <p:nvPr/>
          </p:nvPicPr>
          <p:blipFill>
            <a:blip r:embed="rId22"/>
            <a:stretch/>
          </p:blipFill>
          <p:spPr>
            <a:xfrm>
              <a:off x="4572000" y="54100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26" descr="图形1"/>
          <p:cNvPicPr/>
          <p:nvPr/>
        </p:nvPicPr>
        <p:blipFill>
          <a:blip r:embed="rId23"/>
          <a:stretch/>
        </p:blipFill>
        <p:spPr>
          <a:xfrm>
            <a:off x="4876920" y="4648320"/>
            <a:ext cx="547560" cy="53316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7"/>
          <p:cNvGrpSpPr/>
          <p:nvPr/>
        </p:nvGrpSpPr>
        <p:grpSpPr>
          <a:xfrm>
            <a:off x="1523880" y="838080"/>
            <a:ext cx="6186600" cy="4267080"/>
            <a:chOff x="1523880" y="838080"/>
            <a:chExt cx="6186600" cy="4267080"/>
          </a:xfrm>
        </p:grpSpPr>
        <p:pic>
          <p:nvPicPr>
            <p:cNvPr id="67" name="Picture 28" descr="图形1"/>
            <p:cNvPicPr/>
            <p:nvPr/>
          </p:nvPicPr>
          <p:blipFill>
            <a:blip r:embed="rId24"/>
            <a:stretch/>
          </p:blipFill>
          <p:spPr>
            <a:xfrm>
              <a:off x="7162560" y="335268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9" descr="图形1"/>
            <p:cNvPicPr/>
            <p:nvPr/>
          </p:nvPicPr>
          <p:blipFill>
            <a:blip r:embed="rId25"/>
            <a:stretch/>
          </p:blipFill>
          <p:spPr>
            <a:xfrm>
              <a:off x="5029200" y="457200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30" descr="图形1"/>
            <p:cNvPicPr/>
            <p:nvPr/>
          </p:nvPicPr>
          <p:blipFill>
            <a:blip r:embed="rId26"/>
            <a:stretch/>
          </p:blipFill>
          <p:spPr>
            <a:xfrm>
              <a:off x="1523880" y="83808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31"/>
          <p:cNvGrpSpPr/>
          <p:nvPr/>
        </p:nvGrpSpPr>
        <p:grpSpPr>
          <a:xfrm>
            <a:off x="1600200" y="2514600"/>
            <a:ext cx="6186600" cy="3505320"/>
            <a:chOff x="1600200" y="2514600"/>
            <a:chExt cx="6186600" cy="3505320"/>
          </a:xfrm>
        </p:grpSpPr>
        <p:pic>
          <p:nvPicPr>
            <p:cNvPr id="71" name="Picture 32" descr="图形1"/>
            <p:cNvPicPr/>
            <p:nvPr/>
          </p:nvPicPr>
          <p:blipFill>
            <a:blip r:embed="rId27"/>
            <a:stretch/>
          </p:blipFill>
          <p:spPr>
            <a:xfrm>
              <a:off x="7239240" y="548640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3" descr="图形1"/>
            <p:cNvPicPr/>
            <p:nvPr/>
          </p:nvPicPr>
          <p:blipFill>
            <a:blip r:embed="rId28"/>
            <a:stretch/>
          </p:blipFill>
          <p:spPr>
            <a:xfrm>
              <a:off x="1600200" y="41148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Group 34"/>
            <p:cNvGrpSpPr/>
            <p:nvPr/>
          </p:nvGrpSpPr>
          <p:grpSpPr>
            <a:xfrm>
              <a:off x="4953240" y="2514600"/>
              <a:ext cx="1538280" cy="914400"/>
              <a:chOff x="4953240" y="2514600"/>
              <a:chExt cx="1538280" cy="914400"/>
            </a:xfrm>
          </p:grpSpPr>
          <p:pic>
            <p:nvPicPr>
              <p:cNvPr id="74" name="Picture 35" descr="图形1"/>
              <p:cNvPicPr/>
              <p:nvPr/>
            </p:nvPicPr>
            <p:blipFill>
              <a:blip r:embed="rId29"/>
              <a:stretch/>
            </p:blipFill>
            <p:spPr>
              <a:xfrm>
                <a:off x="5943600" y="2514600"/>
                <a:ext cx="5479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36" descr="图形1"/>
              <p:cNvPicPr/>
              <p:nvPr/>
            </p:nvPicPr>
            <p:blipFill>
              <a:blip r:embed="rId30"/>
              <a:stretch/>
            </p:blipFill>
            <p:spPr>
              <a:xfrm>
                <a:off x="4953240" y="2895480"/>
                <a:ext cx="54756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Group 37"/>
          <p:cNvGrpSpPr/>
          <p:nvPr/>
        </p:nvGrpSpPr>
        <p:grpSpPr>
          <a:xfrm>
            <a:off x="3276720" y="4038480"/>
            <a:ext cx="4128480" cy="1600200"/>
            <a:chOff x="3276720" y="4038480"/>
            <a:chExt cx="4128480" cy="1600200"/>
          </a:xfrm>
        </p:grpSpPr>
        <p:pic>
          <p:nvPicPr>
            <p:cNvPr id="77" name="Picture 38" descr="图形1"/>
            <p:cNvPicPr/>
            <p:nvPr/>
          </p:nvPicPr>
          <p:blipFill>
            <a:blip r:embed="rId31"/>
            <a:stretch/>
          </p:blipFill>
          <p:spPr>
            <a:xfrm>
              <a:off x="6858000" y="4038480"/>
              <a:ext cx="547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9" descr="图形1"/>
            <p:cNvPicPr/>
            <p:nvPr/>
          </p:nvPicPr>
          <p:blipFill>
            <a:blip r:embed="rId32"/>
            <a:stretch/>
          </p:blipFill>
          <p:spPr>
            <a:xfrm>
              <a:off x="3276720" y="5105520"/>
              <a:ext cx="5475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 Box 48"/>
          <p:cNvSpPr/>
          <p:nvPr/>
        </p:nvSpPr>
        <p:spPr>
          <a:xfrm>
            <a:off x="2050920" y="2168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下雪啦，下雪啦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kanhe.mp3" descr=""/>
          <p:cNvPicPr/>
          <p:nvPr/>
        </p:nvPicPr>
        <p:blipFill>
          <a:blip r:embed="rId33"/>
          <a:stretch/>
        </p:blipFill>
        <p:spPr>
          <a:xfrm>
            <a:off x="2340000" y="64245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248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参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洞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加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19280" y="154296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睡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66920" y="57340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目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mù  zì  pánɡ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啦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07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0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3164" descr="图形1"/>
          <p:cNvPicPr/>
          <p:nvPr/>
        </p:nvPicPr>
        <p:blipFill>
          <a:blip r:embed="rId3"/>
          <a:stretch/>
        </p:blipFill>
        <p:spPr>
          <a:xfrm>
            <a:off x="2057400" y="19810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79" descr="图形1"/>
          <p:cNvPicPr/>
          <p:nvPr/>
        </p:nvPicPr>
        <p:blipFill>
          <a:blip r:embed="rId4"/>
          <a:stretch/>
        </p:blipFill>
        <p:spPr>
          <a:xfrm>
            <a:off x="304920" y="914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80" descr="图形1"/>
          <p:cNvPicPr/>
          <p:nvPr/>
        </p:nvPicPr>
        <p:blipFill>
          <a:blip r:embed="rId5"/>
          <a:stretch/>
        </p:blipFill>
        <p:spPr>
          <a:xfrm>
            <a:off x="8596440" y="5486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81" descr="图形1"/>
          <p:cNvPicPr/>
          <p:nvPr/>
        </p:nvPicPr>
        <p:blipFill>
          <a:blip r:embed="rId6"/>
          <a:stretch/>
        </p:blipFill>
        <p:spPr>
          <a:xfrm>
            <a:off x="8001000" y="57150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83" descr="图形1"/>
          <p:cNvPicPr/>
          <p:nvPr/>
        </p:nvPicPr>
        <p:blipFill>
          <a:blip r:embed="rId7"/>
          <a:stretch/>
        </p:blipFill>
        <p:spPr>
          <a:xfrm>
            <a:off x="4343400" y="4572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85" descr="图形1"/>
          <p:cNvPicPr/>
          <p:nvPr/>
        </p:nvPicPr>
        <p:blipFill>
          <a:blip r:embed="rId8"/>
          <a:stretch/>
        </p:blipFill>
        <p:spPr>
          <a:xfrm>
            <a:off x="693432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86" descr="图形1"/>
          <p:cNvPicPr/>
          <p:nvPr/>
        </p:nvPicPr>
        <p:blipFill>
          <a:blip r:embed="rId9"/>
          <a:stretch/>
        </p:blipFill>
        <p:spPr>
          <a:xfrm>
            <a:off x="3352680" y="12193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89" descr="图形1"/>
          <p:cNvPicPr/>
          <p:nvPr/>
        </p:nvPicPr>
        <p:blipFill>
          <a:blip r:embed="rId10"/>
          <a:stretch/>
        </p:blipFill>
        <p:spPr>
          <a:xfrm>
            <a:off x="1981080" y="3049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190" descr="图形1"/>
          <p:cNvPicPr/>
          <p:nvPr/>
        </p:nvPicPr>
        <p:blipFill>
          <a:blip r:embed="rId11"/>
          <a:stretch/>
        </p:blipFill>
        <p:spPr>
          <a:xfrm>
            <a:off x="5791320" y="12952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193" descr="图形1"/>
          <p:cNvPicPr/>
          <p:nvPr/>
        </p:nvPicPr>
        <p:blipFill>
          <a:blip r:embed="rId12"/>
          <a:stretch/>
        </p:blipFill>
        <p:spPr>
          <a:xfrm>
            <a:off x="2438280" y="55627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94" descr="图形1"/>
          <p:cNvPicPr/>
          <p:nvPr/>
        </p:nvPicPr>
        <p:blipFill>
          <a:blip r:embed="rId13"/>
          <a:stretch/>
        </p:blipFill>
        <p:spPr>
          <a:xfrm>
            <a:off x="5029200" y="5943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95" descr="图形1"/>
          <p:cNvPicPr/>
          <p:nvPr/>
        </p:nvPicPr>
        <p:blipFill>
          <a:blip r:embed="rId14"/>
          <a:stretch/>
        </p:blipFill>
        <p:spPr>
          <a:xfrm>
            <a:off x="7848720" y="4343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200" descr="图形1"/>
          <p:cNvPicPr/>
          <p:nvPr/>
        </p:nvPicPr>
        <p:blipFill>
          <a:blip r:embed="rId15"/>
          <a:stretch/>
        </p:blipFill>
        <p:spPr>
          <a:xfrm>
            <a:off x="3733920" y="44956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03" descr="图形1"/>
          <p:cNvPicPr/>
          <p:nvPr/>
        </p:nvPicPr>
        <p:blipFill>
          <a:blip r:embed="rId16"/>
          <a:stretch/>
        </p:blipFill>
        <p:spPr>
          <a:xfrm>
            <a:off x="6934320" y="5715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258"/>
          <p:cNvGrpSpPr/>
          <p:nvPr/>
        </p:nvGrpSpPr>
        <p:grpSpPr>
          <a:xfrm>
            <a:off x="2195640" y="5661000"/>
            <a:ext cx="6033960" cy="4800600"/>
            <a:chOff x="2195640" y="5661000"/>
            <a:chExt cx="6033960" cy="4800600"/>
          </a:xfrm>
        </p:grpSpPr>
        <p:pic>
          <p:nvPicPr>
            <p:cNvPr id="126" name="Picture 3196" descr="图形1"/>
            <p:cNvPicPr/>
            <p:nvPr/>
          </p:nvPicPr>
          <p:blipFill>
            <a:blip r:embed="rId17"/>
            <a:stretch/>
          </p:blipFill>
          <p:spPr>
            <a:xfrm>
              <a:off x="2195640" y="566100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205" descr="图形1"/>
            <p:cNvPicPr/>
            <p:nvPr/>
          </p:nvPicPr>
          <p:blipFill>
            <a:blip r:embed="rId18"/>
            <a:stretch/>
          </p:blipFill>
          <p:spPr>
            <a:xfrm>
              <a:off x="7682040" y="9928080"/>
              <a:ext cx="5475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3206" descr="图形1"/>
          <p:cNvPicPr/>
          <p:nvPr/>
        </p:nvPicPr>
        <p:blipFill>
          <a:blip r:embed="rId19"/>
          <a:stretch/>
        </p:blipFill>
        <p:spPr>
          <a:xfrm>
            <a:off x="5562720" y="5791320"/>
            <a:ext cx="547560" cy="533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19" descr="图形1"/>
          <p:cNvPicPr/>
          <p:nvPr/>
        </p:nvPicPr>
        <p:blipFill>
          <a:blip r:embed="rId20"/>
          <a:stretch/>
        </p:blipFill>
        <p:spPr>
          <a:xfrm>
            <a:off x="6172200" y="40384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23" descr="图形1"/>
          <p:cNvPicPr/>
          <p:nvPr/>
        </p:nvPicPr>
        <p:blipFill>
          <a:blip r:embed="rId21"/>
          <a:stretch/>
        </p:blipFill>
        <p:spPr>
          <a:xfrm>
            <a:off x="304920" y="52578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257"/>
          <p:cNvGrpSpPr/>
          <p:nvPr/>
        </p:nvGrpSpPr>
        <p:grpSpPr>
          <a:xfrm>
            <a:off x="4572000" y="990720"/>
            <a:ext cx="3672000" cy="5181480"/>
            <a:chOff x="4572000" y="990720"/>
            <a:chExt cx="3672000" cy="5181480"/>
          </a:xfrm>
        </p:grpSpPr>
        <p:pic>
          <p:nvPicPr>
            <p:cNvPr id="132" name="Picture 3184" descr="图形1"/>
            <p:cNvPicPr/>
            <p:nvPr/>
          </p:nvPicPr>
          <p:blipFill>
            <a:blip r:embed="rId22"/>
            <a:stretch/>
          </p:blipFill>
          <p:spPr>
            <a:xfrm>
              <a:off x="7696440" y="990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224" descr="图形1"/>
            <p:cNvPicPr/>
            <p:nvPr/>
          </p:nvPicPr>
          <p:blipFill>
            <a:blip r:embed="rId23"/>
            <a:stretch/>
          </p:blipFill>
          <p:spPr>
            <a:xfrm>
              <a:off x="4572000" y="54100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3225" descr="图形1"/>
          <p:cNvPicPr/>
          <p:nvPr/>
        </p:nvPicPr>
        <p:blipFill>
          <a:blip r:embed="rId24"/>
          <a:stretch/>
        </p:blipFill>
        <p:spPr>
          <a:xfrm>
            <a:off x="4876920" y="4648320"/>
            <a:ext cx="547560" cy="5331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260"/>
          <p:cNvGrpSpPr/>
          <p:nvPr/>
        </p:nvGrpSpPr>
        <p:grpSpPr>
          <a:xfrm>
            <a:off x="1523880" y="838080"/>
            <a:ext cx="6186600" cy="4267080"/>
            <a:chOff x="1523880" y="838080"/>
            <a:chExt cx="6186600" cy="4267080"/>
          </a:xfrm>
        </p:grpSpPr>
        <p:pic>
          <p:nvPicPr>
            <p:cNvPr id="136" name="Picture 3182" descr="图形1"/>
            <p:cNvPicPr/>
            <p:nvPr/>
          </p:nvPicPr>
          <p:blipFill>
            <a:blip r:embed="rId25"/>
            <a:stretch/>
          </p:blipFill>
          <p:spPr>
            <a:xfrm>
              <a:off x="7162560" y="335268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207" descr="图形1"/>
            <p:cNvPicPr/>
            <p:nvPr/>
          </p:nvPicPr>
          <p:blipFill>
            <a:blip r:embed="rId26"/>
            <a:stretch/>
          </p:blipFill>
          <p:spPr>
            <a:xfrm>
              <a:off x="5029200" y="457200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248" descr="图形1"/>
            <p:cNvPicPr/>
            <p:nvPr/>
          </p:nvPicPr>
          <p:blipFill>
            <a:blip r:embed="rId27"/>
            <a:stretch/>
          </p:blipFill>
          <p:spPr>
            <a:xfrm>
              <a:off x="1523880" y="83808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3259"/>
          <p:cNvGrpSpPr/>
          <p:nvPr/>
        </p:nvGrpSpPr>
        <p:grpSpPr>
          <a:xfrm>
            <a:off x="1600200" y="2514600"/>
            <a:ext cx="6186600" cy="3505320"/>
            <a:chOff x="1600200" y="2514600"/>
            <a:chExt cx="6186600" cy="3505320"/>
          </a:xfrm>
        </p:grpSpPr>
        <p:pic>
          <p:nvPicPr>
            <p:cNvPr id="140" name="Picture 3202" descr="图形1"/>
            <p:cNvPicPr/>
            <p:nvPr/>
          </p:nvPicPr>
          <p:blipFill>
            <a:blip r:embed="rId28"/>
            <a:stretch/>
          </p:blipFill>
          <p:spPr>
            <a:xfrm>
              <a:off x="7239240" y="548640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21" descr="图形1"/>
            <p:cNvPicPr/>
            <p:nvPr/>
          </p:nvPicPr>
          <p:blipFill>
            <a:blip r:embed="rId29"/>
            <a:stretch/>
          </p:blipFill>
          <p:spPr>
            <a:xfrm>
              <a:off x="1600200" y="41148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Group 3250"/>
            <p:cNvGrpSpPr/>
            <p:nvPr/>
          </p:nvGrpSpPr>
          <p:grpSpPr>
            <a:xfrm>
              <a:off x="4953240" y="2514600"/>
              <a:ext cx="1538280" cy="914400"/>
              <a:chOff x="4953240" y="2514600"/>
              <a:chExt cx="1538280" cy="914400"/>
            </a:xfrm>
          </p:grpSpPr>
          <p:pic>
            <p:nvPicPr>
              <p:cNvPr id="143" name="Picture 3178" descr="图形1"/>
              <p:cNvPicPr/>
              <p:nvPr/>
            </p:nvPicPr>
            <p:blipFill>
              <a:blip r:embed="rId30"/>
              <a:stretch/>
            </p:blipFill>
            <p:spPr>
              <a:xfrm>
                <a:off x="5943600" y="2514600"/>
                <a:ext cx="5479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3249" descr="图形1"/>
              <p:cNvPicPr/>
              <p:nvPr/>
            </p:nvPicPr>
            <p:blipFill>
              <a:blip r:embed="rId31"/>
              <a:stretch/>
            </p:blipFill>
            <p:spPr>
              <a:xfrm>
                <a:off x="4953240" y="2895480"/>
                <a:ext cx="54756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" name="Group 3261"/>
          <p:cNvGrpSpPr/>
          <p:nvPr/>
        </p:nvGrpSpPr>
        <p:grpSpPr>
          <a:xfrm>
            <a:off x="3276720" y="4038480"/>
            <a:ext cx="4128480" cy="1600200"/>
            <a:chOff x="3276720" y="4038480"/>
            <a:chExt cx="4128480" cy="1600200"/>
          </a:xfrm>
        </p:grpSpPr>
        <p:pic>
          <p:nvPicPr>
            <p:cNvPr id="146" name="Picture 3252" descr="图形1"/>
            <p:cNvPicPr/>
            <p:nvPr/>
          </p:nvPicPr>
          <p:blipFill>
            <a:blip r:embed="rId32"/>
            <a:stretch/>
          </p:blipFill>
          <p:spPr>
            <a:xfrm>
              <a:off x="6858000" y="4038480"/>
              <a:ext cx="547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253" descr="图形1"/>
            <p:cNvPicPr/>
            <p:nvPr/>
          </p:nvPicPr>
          <p:blipFill>
            <a:blip r:embed="rId33"/>
            <a:stretch/>
          </p:blipFill>
          <p:spPr>
            <a:xfrm>
              <a:off x="3276720" y="5105520"/>
              <a:ext cx="5475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3281"/>
          <p:cNvGrpSpPr/>
          <p:nvPr/>
        </p:nvGrpSpPr>
        <p:grpSpPr>
          <a:xfrm>
            <a:off x="2627280" y="3860640"/>
            <a:ext cx="6192720" cy="1981440"/>
            <a:chOff x="2627280" y="3860640"/>
            <a:chExt cx="6192720" cy="1981440"/>
          </a:xfrm>
        </p:grpSpPr>
        <p:pic>
          <p:nvPicPr>
            <p:cNvPr id="149" name="Picture 3275" descr="鸡"/>
            <p:cNvPicPr/>
            <p:nvPr/>
          </p:nvPicPr>
          <p:blipFill>
            <a:blip r:embed="rId34"/>
            <a:stretch/>
          </p:blipFill>
          <p:spPr>
            <a:xfrm>
              <a:off x="2627280" y="4653000"/>
              <a:ext cx="144000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276" descr="狗"/>
            <p:cNvPicPr/>
            <p:nvPr/>
          </p:nvPicPr>
          <p:blipFill>
            <a:blip r:embed="rId35"/>
            <a:stretch/>
          </p:blipFill>
          <p:spPr>
            <a:xfrm>
              <a:off x="3780000" y="3860640"/>
              <a:ext cx="180000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277" descr="马"/>
            <p:cNvPicPr/>
            <p:nvPr/>
          </p:nvPicPr>
          <p:blipFill>
            <a:blip r:embed="rId36"/>
            <a:stretch/>
          </p:blipFill>
          <p:spPr>
            <a:xfrm>
              <a:off x="6732720" y="3933720"/>
              <a:ext cx="2087280" cy="179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278" descr="20060102093154702"/>
            <p:cNvPicPr/>
            <p:nvPr/>
          </p:nvPicPr>
          <p:blipFill>
            <a:blip r:embed="rId37"/>
            <a:stretch/>
          </p:blipFill>
          <p:spPr>
            <a:xfrm>
              <a:off x="5219640" y="4437000"/>
              <a:ext cx="1513080" cy="13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3279"/>
          <p:cNvSpPr/>
          <p:nvPr/>
        </p:nvSpPr>
        <p:spPr>
          <a:xfrm>
            <a:off x="71280" y="573408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地里的小画家是（ ）、（ ）、（ ）和（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280"/>
          <p:cNvSpPr/>
          <p:nvPr/>
        </p:nvSpPr>
        <p:spPr>
          <a:xfrm>
            <a:off x="3419640" y="1773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下雪啦，下雪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雪地里来了一群小画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1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2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3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evt="end">
                                        <p:tn val="341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7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0" y="0"/>
            <a:ext cx="9144000" cy="2744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744640"/>
              <a:gd name="textAreaBottom" fmla="*/ 2744640 h 2744640"/>
            </a:gdLst>
            <a:ahLst/>
            <a:rect l="textAreaLeft" t="textAreaTop" r="textAreaRight" b="textAreaBottom"/>
            <a:pathLst>
              <a:path w="5760" h="1729">
                <a:moveTo>
                  <a:pt x="5760" y="1729"/>
                </a:moveTo>
                <a:lnTo>
                  <a:pt x="5760" y="1475"/>
                </a:lnTo>
                <a:lnTo>
                  <a:pt x="5760" y="1176"/>
                </a:lnTo>
                <a:lnTo>
                  <a:pt x="5760" y="0"/>
                </a:lnTo>
                <a:lnTo>
                  <a:pt x="0" y="0"/>
                </a:lnTo>
                <a:lnTo>
                  <a:pt x="0" y="1126"/>
                </a:lnTo>
                <a:lnTo>
                  <a:pt x="0" y="1724"/>
                </a:lnTo>
                <a:lnTo>
                  <a:pt x="5760" y="1729"/>
                </a:lnTo>
                <a:close/>
              </a:path>
            </a:pathLst>
          </a:custGeom>
          <a:solidFill>
            <a:srgbClr val="66b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0" y="380880"/>
            <a:ext cx="9144000" cy="3988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988080"/>
              <a:gd name="textAreaBottom" fmla="*/ 3988440 h 3988080"/>
            </a:gdLst>
            <a:ahLst/>
            <a:rect l="textAreaLeft" t="textAreaTop" r="textAreaRight" b="textAreaBottom"/>
            <a:pathLst>
              <a:path w="5760" h="2512">
                <a:moveTo>
                  <a:pt x="0" y="982"/>
                </a:moveTo>
                <a:lnTo>
                  <a:pt x="0" y="1121"/>
                </a:lnTo>
                <a:lnTo>
                  <a:pt x="0" y="1934"/>
                </a:lnTo>
                <a:lnTo>
                  <a:pt x="47" y="1884"/>
                </a:lnTo>
                <a:lnTo>
                  <a:pt x="100" y="1819"/>
                </a:lnTo>
                <a:lnTo>
                  <a:pt x="157" y="1749"/>
                </a:lnTo>
                <a:lnTo>
                  <a:pt x="219" y="1679"/>
                </a:lnTo>
                <a:lnTo>
                  <a:pt x="279" y="1620"/>
                </a:lnTo>
                <a:lnTo>
                  <a:pt x="338" y="1580"/>
                </a:lnTo>
                <a:lnTo>
                  <a:pt x="395" y="1565"/>
                </a:lnTo>
                <a:lnTo>
                  <a:pt x="448" y="1580"/>
                </a:lnTo>
                <a:lnTo>
                  <a:pt x="473" y="1595"/>
                </a:lnTo>
                <a:lnTo>
                  <a:pt x="504" y="1615"/>
                </a:lnTo>
                <a:lnTo>
                  <a:pt x="536" y="1630"/>
                </a:lnTo>
                <a:lnTo>
                  <a:pt x="570" y="1645"/>
                </a:lnTo>
                <a:lnTo>
                  <a:pt x="605" y="1660"/>
                </a:lnTo>
                <a:lnTo>
                  <a:pt x="642" y="1670"/>
                </a:lnTo>
                <a:lnTo>
                  <a:pt x="680" y="1684"/>
                </a:lnTo>
                <a:lnTo>
                  <a:pt x="717" y="1694"/>
                </a:lnTo>
                <a:lnTo>
                  <a:pt x="755" y="1704"/>
                </a:lnTo>
                <a:lnTo>
                  <a:pt x="796" y="1714"/>
                </a:lnTo>
                <a:lnTo>
                  <a:pt x="830" y="1719"/>
                </a:lnTo>
                <a:lnTo>
                  <a:pt x="868" y="1729"/>
                </a:lnTo>
                <a:lnTo>
                  <a:pt x="899" y="1734"/>
                </a:lnTo>
                <a:lnTo>
                  <a:pt x="930" y="1734"/>
                </a:lnTo>
                <a:lnTo>
                  <a:pt x="958" y="1739"/>
                </a:lnTo>
                <a:lnTo>
                  <a:pt x="983" y="1739"/>
                </a:lnTo>
                <a:lnTo>
                  <a:pt x="1034" y="1739"/>
                </a:lnTo>
                <a:lnTo>
                  <a:pt x="1087" y="1734"/>
                </a:lnTo>
                <a:lnTo>
                  <a:pt x="1146" y="1724"/>
                </a:lnTo>
                <a:lnTo>
                  <a:pt x="1203" y="1719"/>
                </a:lnTo>
                <a:lnTo>
                  <a:pt x="1253" y="1714"/>
                </a:lnTo>
                <a:lnTo>
                  <a:pt x="1297" y="1714"/>
                </a:lnTo>
                <a:lnTo>
                  <a:pt x="1331" y="1714"/>
                </a:lnTo>
                <a:lnTo>
                  <a:pt x="1353" y="1719"/>
                </a:lnTo>
                <a:lnTo>
                  <a:pt x="1372" y="1729"/>
                </a:lnTo>
                <a:lnTo>
                  <a:pt x="1397" y="1749"/>
                </a:lnTo>
                <a:lnTo>
                  <a:pt x="1431" y="1769"/>
                </a:lnTo>
                <a:lnTo>
                  <a:pt x="1472" y="1789"/>
                </a:lnTo>
                <a:lnTo>
                  <a:pt x="1513" y="1809"/>
                </a:lnTo>
                <a:lnTo>
                  <a:pt x="1557" y="1829"/>
                </a:lnTo>
                <a:lnTo>
                  <a:pt x="1597" y="1849"/>
                </a:lnTo>
                <a:lnTo>
                  <a:pt x="1635" y="1864"/>
                </a:lnTo>
                <a:lnTo>
                  <a:pt x="1676" y="1874"/>
                </a:lnTo>
                <a:lnTo>
                  <a:pt x="1726" y="1884"/>
                </a:lnTo>
                <a:lnTo>
                  <a:pt x="1779" y="1894"/>
                </a:lnTo>
                <a:lnTo>
                  <a:pt x="1835" y="1899"/>
                </a:lnTo>
                <a:lnTo>
                  <a:pt x="1892" y="1909"/>
                </a:lnTo>
                <a:lnTo>
                  <a:pt x="1942" y="1919"/>
                </a:lnTo>
                <a:lnTo>
                  <a:pt x="1986" y="1924"/>
                </a:lnTo>
                <a:lnTo>
                  <a:pt x="2020" y="1934"/>
                </a:lnTo>
                <a:lnTo>
                  <a:pt x="2052" y="1944"/>
                </a:lnTo>
                <a:lnTo>
                  <a:pt x="2089" y="1959"/>
                </a:lnTo>
                <a:lnTo>
                  <a:pt x="2130" y="1978"/>
                </a:lnTo>
                <a:lnTo>
                  <a:pt x="2177" y="1998"/>
                </a:lnTo>
                <a:lnTo>
                  <a:pt x="2221" y="2023"/>
                </a:lnTo>
                <a:lnTo>
                  <a:pt x="2265" y="2048"/>
                </a:lnTo>
                <a:lnTo>
                  <a:pt x="2305" y="2078"/>
                </a:lnTo>
                <a:lnTo>
                  <a:pt x="2340" y="2108"/>
                </a:lnTo>
                <a:lnTo>
                  <a:pt x="2358" y="2128"/>
                </a:lnTo>
                <a:lnTo>
                  <a:pt x="2380" y="2148"/>
                </a:lnTo>
                <a:lnTo>
                  <a:pt x="2405" y="2173"/>
                </a:lnTo>
                <a:lnTo>
                  <a:pt x="2437" y="2203"/>
                </a:lnTo>
                <a:lnTo>
                  <a:pt x="2468" y="2233"/>
                </a:lnTo>
                <a:lnTo>
                  <a:pt x="2499" y="2262"/>
                </a:lnTo>
                <a:lnTo>
                  <a:pt x="2537" y="2297"/>
                </a:lnTo>
                <a:lnTo>
                  <a:pt x="2575" y="2327"/>
                </a:lnTo>
                <a:lnTo>
                  <a:pt x="2609" y="2357"/>
                </a:lnTo>
                <a:lnTo>
                  <a:pt x="2647" y="2387"/>
                </a:lnTo>
                <a:lnTo>
                  <a:pt x="2684" y="2412"/>
                </a:lnTo>
                <a:lnTo>
                  <a:pt x="2722" y="2432"/>
                </a:lnTo>
                <a:lnTo>
                  <a:pt x="2753" y="2447"/>
                </a:lnTo>
                <a:lnTo>
                  <a:pt x="2788" y="2462"/>
                </a:lnTo>
                <a:lnTo>
                  <a:pt x="2816" y="2467"/>
                </a:lnTo>
                <a:lnTo>
                  <a:pt x="2844" y="2462"/>
                </a:lnTo>
                <a:lnTo>
                  <a:pt x="2897" y="2447"/>
                </a:lnTo>
                <a:lnTo>
                  <a:pt x="2947" y="2427"/>
                </a:lnTo>
                <a:lnTo>
                  <a:pt x="2997" y="2407"/>
                </a:lnTo>
                <a:lnTo>
                  <a:pt x="3048" y="2392"/>
                </a:lnTo>
                <a:lnTo>
                  <a:pt x="3091" y="2377"/>
                </a:lnTo>
                <a:lnTo>
                  <a:pt x="3135" y="2367"/>
                </a:lnTo>
                <a:lnTo>
                  <a:pt x="3173" y="2372"/>
                </a:lnTo>
                <a:lnTo>
                  <a:pt x="3204" y="2387"/>
                </a:lnTo>
                <a:lnTo>
                  <a:pt x="3232" y="2412"/>
                </a:lnTo>
                <a:lnTo>
                  <a:pt x="3257" y="2432"/>
                </a:lnTo>
                <a:lnTo>
                  <a:pt x="3279" y="2447"/>
                </a:lnTo>
                <a:lnTo>
                  <a:pt x="3301" y="2462"/>
                </a:lnTo>
                <a:lnTo>
                  <a:pt x="3320" y="2472"/>
                </a:lnTo>
                <a:lnTo>
                  <a:pt x="3336" y="2487"/>
                </a:lnTo>
                <a:lnTo>
                  <a:pt x="3351" y="2492"/>
                </a:lnTo>
                <a:lnTo>
                  <a:pt x="3367" y="2502"/>
                </a:lnTo>
                <a:lnTo>
                  <a:pt x="3386" y="2507"/>
                </a:lnTo>
                <a:lnTo>
                  <a:pt x="3408" y="2512"/>
                </a:lnTo>
                <a:lnTo>
                  <a:pt x="3433" y="2507"/>
                </a:lnTo>
                <a:lnTo>
                  <a:pt x="3461" y="2502"/>
                </a:lnTo>
                <a:lnTo>
                  <a:pt x="3492" y="2492"/>
                </a:lnTo>
                <a:lnTo>
                  <a:pt x="3524" y="2482"/>
                </a:lnTo>
                <a:lnTo>
                  <a:pt x="3558" y="2467"/>
                </a:lnTo>
                <a:lnTo>
                  <a:pt x="3596" y="2447"/>
                </a:lnTo>
                <a:lnTo>
                  <a:pt x="3621" y="2432"/>
                </a:lnTo>
                <a:lnTo>
                  <a:pt x="3652" y="2412"/>
                </a:lnTo>
                <a:lnTo>
                  <a:pt x="3693" y="2392"/>
                </a:lnTo>
                <a:lnTo>
                  <a:pt x="3737" y="2367"/>
                </a:lnTo>
                <a:lnTo>
                  <a:pt x="3790" y="2337"/>
                </a:lnTo>
                <a:lnTo>
                  <a:pt x="3843" y="2307"/>
                </a:lnTo>
                <a:lnTo>
                  <a:pt x="3903" y="2277"/>
                </a:lnTo>
                <a:lnTo>
                  <a:pt x="3962" y="2248"/>
                </a:lnTo>
                <a:lnTo>
                  <a:pt x="4025" y="2223"/>
                </a:lnTo>
                <a:lnTo>
                  <a:pt x="4084" y="2193"/>
                </a:lnTo>
                <a:lnTo>
                  <a:pt x="4141" y="2173"/>
                </a:lnTo>
                <a:lnTo>
                  <a:pt x="4197" y="2153"/>
                </a:lnTo>
                <a:lnTo>
                  <a:pt x="4247" y="2133"/>
                </a:lnTo>
                <a:lnTo>
                  <a:pt x="4294" y="2123"/>
                </a:lnTo>
                <a:lnTo>
                  <a:pt x="4332" y="2118"/>
                </a:lnTo>
                <a:lnTo>
                  <a:pt x="4363" y="2123"/>
                </a:lnTo>
                <a:lnTo>
                  <a:pt x="4382" y="2128"/>
                </a:lnTo>
                <a:lnTo>
                  <a:pt x="4404" y="2133"/>
                </a:lnTo>
                <a:lnTo>
                  <a:pt x="4423" y="2143"/>
                </a:lnTo>
                <a:lnTo>
                  <a:pt x="4441" y="2148"/>
                </a:lnTo>
                <a:lnTo>
                  <a:pt x="4463" y="2158"/>
                </a:lnTo>
                <a:lnTo>
                  <a:pt x="4482" y="2163"/>
                </a:lnTo>
                <a:lnTo>
                  <a:pt x="4501" y="2173"/>
                </a:lnTo>
                <a:lnTo>
                  <a:pt x="4520" y="2183"/>
                </a:lnTo>
                <a:lnTo>
                  <a:pt x="4548" y="2198"/>
                </a:lnTo>
                <a:lnTo>
                  <a:pt x="4576" y="2213"/>
                </a:lnTo>
                <a:lnTo>
                  <a:pt x="4601" y="2228"/>
                </a:lnTo>
                <a:lnTo>
                  <a:pt x="4626" y="2248"/>
                </a:lnTo>
                <a:lnTo>
                  <a:pt x="4648" y="2262"/>
                </a:lnTo>
                <a:lnTo>
                  <a:pt x="4667" y="2277"/>
                </a:lnTo>
                <a:lnTo>
                  <a:pt x="4683" y="2297"/>
                </a:lnTo>
                <a:lnTo>
                  <a:pt x="4698" y="2312"/>
                </a:lnTo>
                <a:lnTo>
                  <a:pt x="4723" y="2337"/>
                </a:lnTo>
                <a:lnTo>
                  <a:pt x="4751" y="2357"/>
                </a:lnTo>
                <a:lnTo>
                  <a:pt x="4780" y="2367"/>
                </a:lnTo>
                <a:lnTo>
                  <a:pt x="4811" y="2377"/>
                </a:lnTo>
                <a:lnTo>
                  <a:pt x="4845" y="2372"/>
                </a:lnTo>
                <a:lnTo>
                  <a:pt x="4877" y="2362"/>
                </a:lnTo>
                <a:lnTo>
                  <a:pt x="4908" y="2342"/>
                </a:lnTo>
                <a:lnTo>
                  <a:pt x="4939" y="2312"/>
                </a:lnTo>
                <a:lnTo>
                  <a:pt x="4971" y="2272"/>
                </a:lnTo>
                <a:lnTo>
                  <a:pt x="5002" y="2233"/>
                </a:lnTo>
                <a:lnTo>
                  <a:pt x="5036" y="2188"/>
                </a:lnTo>
                <a:lnTo>
                  <a:pt x="5071" y="2143"/>
                </a:lnTo>
                <a:lnTo>
                  <a:pt x="5105" y="2108"/>
                </a:lnTo>
                <a:lnTo>
                  <a:pt x="5140" y="2078"/>
                </a:lnTo>
                <a:lnTo>
                  <a:pt x="5174" y="2063"/>
                </a:lnTo>
                <a:lnTo>
                  <a:pt x="5202" y="2058"/>
                </a:lnTo>
                <a:lnTo>
                  <a:pt x="5237" y="2063"/>
                </a:lnTo>
                <a:lnTo>
                  <a:pt x="5281" y="2078"/>
                </a:lnTo>
                <a:lnTo>
                  <a:pt x="5334" y="2093"/>
                </a:lnTo>
                <a:lnTo>
                  <a:pt x="5387" y="2108"/>
                </a:lnTo>
                <a:lnTo>
                  <a:pt x="5441" y="2118"/>
                </a:lnTo>
                <a:lnTo>
                  <a:pt x="5491" y="2123"/>
                </a:lnTo>
                <a:lnTo>
                  <a:pt x="5531" y="2113"/>
                </a:lnTo>
                <a:lnTo>
                  <a:pt x="5560" y="2098"/>
                </a:lnTo>
                <a:lnTo>
                  <a:pt x="5585" y="2073"/>
                </a:lnTo>
                <a:lnTo>
                  <a:pt x="5610" y="2048"/>
                </a:lnTo>
                <a:lnTo>
                  <a:pt x="5635" y="2023"/>
                </a:lnTo>
                <a:lnTo>
                  <a:pt x="5663" y="1993"/>
                </a:lnTo>
                <a:lnTo>
                  <a:pt x="5691" y="1973"/>
                </a:lnTo>
                <a:lnTo>
                  <a:pt x="5716" y="1954"/>
                </a:lnTo>
                <a:lnTo>
                  <a:pt x="5738" y="1939"/>
                </a:lnTo>
                <a:lnTo>
                  <a:pt x="5760" y="1934"/>
                </a:lnTo>
                <a:lnTo>
                  <a:pt x="5760" y="1281"/>
                </a:lnTo>
                <a:lnTo>
                  <a:pt x="5760" y="982"/>
                </a:lnTo>
                <a:lnTo>
                  <a:pt x="5738" y="1012"/>
                </a:lnTo>
                <a:lnTo>
                  <a:pt x="5713" y="1042"/>
                </a:lnTo>
                <a:lnTo>
                  <a:pt x="5685" y="1077"/>
                </a:lnTo>
                <a:lnTo>
                  <a:pt x="5660" y="1106"/>
                </a:lnTo>
                <a:lnTo>
                  <a:pt x="5635" y="1136"/>
                </a:lnTo>
                <a:lnTo>
                  <a:pt x="5616" y="1156"/>
                </a:lnTo>
                <a:lnTo>
                  <a:pt x="5597" y="1171"/>
                </a:lnTo>
                <a:lnTo>
                  <a:pt x="5588" y="1176"/>
                </a:lnTo>
                <a:lnTo>
                  <a:pt x="5575" y="1171"/>
                </a:lnTo>
                <a:lnTo>
                  <a:pt x="5553" y="1161"/>
                </a:lnTo>
                <a:lnTo>
                  <a:pt x="5525" y="1146"/>
                </a:lnTo>
                <a:lnTo>
                  <a:pt x="5497" y="1126"/>
                </a:lnTo>
                <a:lnTo>
                  <a:pt x="5472" y="1111"/>
                </a:lnTo>
                <a:lnTo>
                  <a:pt x="5447" y="1097"/>
                </a:lnTo>
                <a:lnTo>
                  <a:pt x="5428" y="1092"/>
                </a:lnTo>
                <a:lnTo>
                  <a:pt x="5415" y="1087"/>
                </a:lnTo>
                <a:lnTo>
                  <a:pt x="5384" y="1126"/>
                </a:lnTo>
                <a:lnTo>
                  <a:pt x="5347" y="1171"/>
                </a:lnTo>
                <a:lnTo>
                  <a:pt x="5309" y="1226"/>
                </a:lnTo>
                <a:lnTo>
                  <a:pt x="5268" y="1281"/>
                </a:lnTo>
                <a:lnTo>
                  <a:pt x="5228" y="1331"/>
                </a:lnTo>
                <a:lnTo>
                  <a:pt x="5193" y="1371"/>
                </a:lnTo>
                <a:lnTo>
                  <a:pt x="5162" y="1400"/>
                </a:lnTo>
                <a:lnTo>
                  <a:pt x="5140" y="1410"/>
                </a:lnTo>
                <a:lnTo>
                  <a:pt x="5121" y="1390"/>
                </a:lnTo>
                <a:lnTo>
                  <a:pt x="5102" y="1351"/>
                </a:lnTo>
                <a:lnTo>
                  <a:pt x="5087" y="1301"/>
                </a:lnTo>
                <a:lnTo>
                  <a:pt x="5074" y="1241"/>
                </a:lnTo>
                <a:lnTo>
                  <a:pt x="5065" y="1186"/>
                </a:lnTo>
                <a:lnTo>
                  <a:pt x="5055" y="1131"/>
                </a:lnTo>
                <a:lnTo>
                  <a:pt x="5046" y="1097"/>
                </a:lnTo>
                <a:lnTo>
                  <a:pt x="5040" y="1077"/>
                </a:lnTo>
                <a:lnTo>
                  <a:pt x="5033" y="1072"/>
                </a:lnTo>
                <a:lnTo>
                  <a:pt x="5024" y="1062"/>
                </a:lnTo>
                <a:lnTo>
                  <a:pt x="5011" y="1057"/>
                </a:lnTo>
                <a:lnTo>
                  <a:pt x="5002" y="1052"/>
                </a:lnTo>
                <a:lnTo>
                  <a:pt x="4986" y="1047"/>
                </a:lnTo>
                <a:lnTo>
                  <a:pt x="4974" y="1047"/>
                </a:lnTo>
                <a:lnTo>
                  <a:pt x="4961" y="1047"/>
                </a:lnTo>
                <a:lnTo>
                  <a:pt x="4946" y="1052"/>
                </a:lnTo>
                <a:lnTo>
                  <a:pt x="4936" y="972"/>
                </a:lnTo>
                <a:lnTo>
                  <a:pt x="4924" y="902"/>
                </a:lnTo>
                <a:lnTo>
                  <a:pt x="4911" y="847"/>
                </a:lnTo>
                <a:lnTo>
                  <a:pt x="4889" y="817"/>
                </a:lnTo>
                <a:lnTo>
                  <a:pt x="4874" y="813"/>
                </a:lnTo>
                <a:lnTo>
                  <a:pt x="4855" y="808"/>
                </a:lnTo>
                <a:lnTo>
                  <a:pt x="4836" y="798"/>
                </a:lnTo>
                <a:lnTo>
                  <a:pt x="4817" y="793"/>
                </a:lnTo>
                <a:lnTo>
                  <a:pt x="4798" y="788"/>
                </a:lnTo>
                <a:lnTo>
                  <a:pt x="4780" y="778"/>
                </a:lnTo>
                <a:lnTo>
                  <a:pt x="4767" y="768"/>
                </a:lnTo>
                <a:lnTo>
                  <a:pt x="4758" y="758"/>
                </a:lnTo>
                <a:lnTo>
                  <a:pt x="4748" y="743"/>
                </a:lnTo>
                <a:lnTo>
                  <a:pt x="4730" y="713"/>
                </a:lnTo>
                <a:lnTo>
                  <a:pt x="4708" y="678"/>
                </a:lnTo>
                <a:lnTo>
                  <a:pt x="4683" y="643"/>
                </a:lnTo>
                <a:lnTo>
                  <a:pt x="4657" y="608"/>
                </a:lnTo>
                <a:lnTo>
                  <a:pt x="4632" y="583"/>
                </a:lnTo>
                <a:lnTo>
                  <a:pt x="4607" y="563"/>
                </a:lnTo>
                <a:lnTo>
                  <a:pt x="4589" y="553"/>
                </a:lnTo>
                <a:lnTo>
                  <a:pt x="4573" y="563"/>
                </a:lnTo>
                <a:lnTo>
                  <a:pt x="4557" y="573"/>
                </a:lnTo>
                <a:lnTo>
                  <a:pt x="4535" y="588"/>
                </a:lnTo>
                <a:lnTo>
                  <a:pt x="4513" y="608"/>
                </a:lnTo>
                <a:lnTo>
                  <a:pt x="4476" y="638"/>
                </a:lnTo>
                <a:lnTo>
                  <a:pt x="4435" y="673"/>
                </a:lnTo>
                <a:lnTo>
                  <a:pt x="4388" y="708"/>
                </a:lnTo>
                <a:lnTo>
                  <a:pt x="4341" y="748"/>
                </a:lnTo>
                <a:lnTo>
                  <a:pt x="4291" y="788"/>
                </a:lnTo>
                <a:lnTo>
                  <a:pt x="4241" y="822"/>
                </a:lnTo>
                <a:lnTo>
                  <a:pt x="4191" y="862"/>
                </a:lnTo>
                <a:lnTo>
                  <a:pt x="4138" y="902"/>
                </a:lnTo>
                <a:lnTo>
                  <a:pt x="4087" y="942"/>
                </a:lnTo>
                <a:lnTo>
                  <a:pt x="4037" y="977"/>
                </a:lnTo>
                <a:lnTo>
                  <a:pt x="3990" y="1007"/>
                </a:lnTo>
                <a:lnTo>
                  <a:pt x="3946" y="1037"/>
                </a:lnTo>
                <a:lnTo>
                  <a:pt x="3903" y="1062"/>
                </a:lnTo>
                <a:lnTo>
                  <a:pt x="3865" y="1087"/>
                </a:lnTo>
                <a:lnTo>
                  <a:pt x="3834" y="1102"/>
                </a:lnTo>
                <a:lnTo>
                  <a:pt x="3806" y="1111"/>
                </a:lnTo>
                <a:lnTo>
                  <a:pt x="3787" y="1106"/>
                </a:lnTo>
                <a:lnTo>
                  <a:pt x="3765" y="1102"/>
                </a:lnTo>
                <a:lnTo>
                  <a:pt x="3740" y="1092"/>
                </a:lnTo>
                <a:lnTo>
                  <a:pt x="3718" y="1082"/>
                </a:lnTo>
                <a:lnTo>
                  <a:pt x="3696" y="1072"/>
                </a:lnTo>
                <a:lnTo>
                  <a:pt x="3677" y="1062"/>
                </a:lnTo>
                <a:lnTo>
                  <a:pt x="3665" y="1047"/>
                </a:lnTo>
                <a:lnTo>
                  <a:pt x="3661" y="1032"/>
                </a:lnTo>
                <a:lnTo>
                  <a:pt x="3661" y="1012"/>
                </a:lnTo>
                <a:lnTo>
                  <a:pt x="3661" y="987"/>
                </a:lnTo>
                <a:lnTo>
                  <a:pt x="3655" y="957"/>
                </a:lnTo>
                <a:lnTo>
                  <a:pt x="3646" y="932"/>
                </a:lnTo>
                <a:lnTo>
                  <a:pt x="3630" y="907"/>
                </a:lnTo>
                <a:lnTo>
                  <a:pt x="3605" y="887"/>
                </a:lnTo>
                <a:lnTo>
                  <a:pt x="3568" y="882"/>
                </a:lnTo>
                <a:lnTo>
                  <a:pt x="3521" y="892"/>
                </a:lnTo>
                <a:lnTo>
                  <a:pt x="3508" y="882"/>
                </a:lnTo>
                <a:lnTo>
                  <a:pt x="3495" y="872"/>
                </a:lnTo>
                <a:lnTo>
                  <a:pt x="3480" y="862"/>
                </a:lnTo>
                <a:lnTo>
                  <a:pt x="3467" y="847"/>
                </a:lnTo>
                <a:lnTo>
                  <a:pt x="3445" y="827"/>
                </a:lnTo>
                <a:lnTo>
                  <a:pt x="3427" y="813"/>
                </a:lnTo>
                <a:lnTo>
                  <a:pt x="3411" y="798"/>
                </a:lnTo>
                <a:lnTo>
                  <a:pt x="3398" y="793"/>
                </a:lnTo>
                <a:lnTo>
                  <a:pt x="3383" y="788"/>
                </a:lnTo>
                <a:lnTo>
                  <a:pt x="3358" y="783"/>
                </a:lnTo>
                <a:lnTo>
                  <a:pt x="3339" y="773"/>
                </a:lnTo>
                <a:lnTo>
                  <a:pt x="3326" y="758"/>
                </a:lnTo>
                <a:lnTo>
                  <a:pt x="3304" y="783"/>
                </a:lnTo>
                <a:lnTo>
                  <a:pt x="3282" y="813"/>
                </a:lnTo>
                <a:lnTo>
                  <a:pt x="3257" y="837"/>
                </a:lnTo>
                <a:lnTo>
                  <a:pt x="3235" y="857"/>
                </a:lnTo>
                <a:lnTo>
                  <a:pt x="3220" y="872"/>
                </a:lnTo>
                <a:lnTo>
                  <a:pt x="3204" y="887"/>
                </a:lnTo>
                <a:lnTo>
                  <a:pt x="3192" y="897"/>
                </a:lnTo>
                <a:lnTo>
                  <a:pt x="3179" y="902"/>
                </a:lnTo>
                <a:lnTo>
                  <a:pt x="3167" y="907"/>
                </a:lnTo>
                <a:lnTo>
                  <a:pt x="3148" y="922"/>
                </a:lnTo>
                <a:lnTo>
                  <a:pt x="3126" y="937"/>
                </a:lnTo>
                <a:lnTo>
                  <a:pt x="3104" y="952"/>
                </a:lnTo>
                <a:lnTo>
                  <a:pt x="3079" y="967"/>
                </a:lnTo>
                <a:lnTo>
                  <a:pt x="3057" y="987"/>
                </a:lnTo>
                <a:lnTo>
                  <a:pt x="3038" y="1002"/>
                </a:lnTo>
                <a:lnTo>
                  <a:pt x="3026" y="1012"/>
                </a:lnTo>
                <a:lnTo>
                  <a:pt x="3013" y="1017"/>
                </a:lnTo>
                <a:lnTo>
                  <a:pt x="2994" y="1022"/>
                </a:lnTo>
                <a:lnTo>
                  <a:pt x="2976" y="1017"/>
                </a:lnTo>
                <a:lnTo>
                  <a:pt x="2954" y="1012"/>
                </a:lnTo>
                <a:lnTo>
                  <a:pt x="2932" y="1002"/>
                </a:lnTo>
                <a:lnTo>
                  <a:pt x="2910" y="992"/>
                </a:lnTo>
                <a:lnTo>
                  <a:pt x="2894" y="977"/>
                </a:lnTo>
                <a:lnTo>
                  <a:pt x="2885" y="967"/>
                </a:lnTo>
                <a:lnTo>
                  <a:pt x="2850" y="977"/>
                </a:lnTo>
                <a:lnTo>
                  <a:pt x="2813" y="1002"/>
                </a:lnTo>
                <a:lnTo>
                  <a:pt x="2772" y="1027"/>
                </a:lnTo>
                <a:lnTo>
                  <a:pt x="2728" y="1057"/>
                </a:lnTo>
                <a:lnTo>
                  <a:pt x="2687" y="1087"/>
                </a:lnTo>
                <a:lnTo>
                  <a:pt x="2653" y="1116"/>
                </a:lnTo>
                <a:lnTo>
                  <a:pt x="2622" y="1141"/>
                </a:lnTo>
                <a:lnTo>
                  <a:pt x="2603" y="1156"/>
                </a:lnTo>
                <a:lnTo>
                  <a:pt x="2584" y="1171"/>
                </a:lnTo>
                <a:lnTo>
                  <a:pt x="2562" y="1191"/>
                </a:lnTo>
                <a:lnTo>
                  <a:pt x="2540" y="1206"/>
                </a:lnTo>
                <a:lnTo>
                  <a:pt x="2512" y="1221"/>
                </a:lnTo>
                <a:lnTo>
                  <a:pt x="2484" y="1241"/>
                </a:lnTo>
                <a:lnTo>
                  <a:pt x="2456" y="1256"/>
                </a:lnTo>
                <a:lnTo>
                  <a:pt x="2427" y="1266"/>
                </a:lnTo>
                <a:lnTo>
                  <a:pt x="2402" y="1276"/>
                </a:lnTo>
                <a:lnTo>
                  <a:pt x="2377" y="1286"/>
                </a:lnTo>
                <a:lnTo>
                  <a:pt x="2355" y="1301"/>
                </a:lnTo>
                <a:lnTo>
                  <a:pt x="2333" y="1316"/>
                </a:lnTo>
                <a:lnTo>
                  <a:pt x="2312" y="1336"/>
                </a:lnTo>
                <a:lnTo>
                  <a:pt x="2293" y="1351"/>
                </a:lnTo>
                <a:lnTo>
                  <a:pt x="2277" y="1366"/>
                </a:lnTo>
                <a:lnTo>
                  <a:pt x="2261" y="1381"/>
                </a:lnTo>
                <a:lnTo>
                  <a:pt x="2252" y="1386"/>
                </a:lnTo>
                <a:lnTo>
                  <a:pt x="2211" y="1326"/>
                </a:lnTo>
                <a:lnTo>
                  <a:pt x="2164" y="1256"/>
                </a:lnTo>
                <a:lnTo>
                  <a:pt x="2117" y="1176"/>
                </a:lnTo>
                <a:lnTo>
                  <a:pt x="2067" y="1092"/>
                </a:lnTo>
                <a:lnTo>
                  <a:pt x="2017" y="1012"/>
                </a:lnTo>
                <a:lnTo>
                  <a:pt x="1973" y="937"/>
                </a:lnTo>
                <a:lnTo>
                  <a:pt x="1939" y="867"/>
                </a:lnTo>
                <a:lnTo>
                  <a:pt x="1911" y="817"/>
                </a:lnTo>
                <a:lnTo>
                  <a:pt x="1889" y="768"/>
                </a:lnTo>
                <a:lnTo>
                  <a:pt x="1857" y="713"/>
                </a:lnTo>
                <a:lnTo>
                  <a:pt x="1826" y="648"/>
                </a:lnTo>
                <a:lnTo>
                  <a:pt x="1792" y="583"/>
                </a:lnTo>
                <a:lnTo>
                  <a:pt x="1754" y="519"/>
                </a:lnTo>
                <a:lnTo>
                  <a:pt x="1720" y="464"/>
                </a:lnTo>
                <a:lnTo>
                  <a:pt x="1688" y="414"/>
                </a:lnTo>
                <a:lnTo>
                  <a:pt x="1663" y="384"/>
                </a:lnTo>
                <a:lnTo>
                  <a:pt x="1641" y="359"/>
                </a:lnTo>
                <a:lnTo>
                  <a:pt x="1622" y="344"/>
                </a:lnTo>
                <a:lnTo>
                  <a:pt x="1604" y="324"/>
                </a:lnTo>
                <a:lnTo>
                  <a:pt x="1588" y="309"/>
                </a:lnTo>
                <a:lnTo>
                  <a:pt x="1575" y="294"/>
                </a:lnTo>
                <a:lnTo>
                  <a:pt x="1563" y="279"/>
                </a:lnTo>
                <a:lnTo>
                  <a:pt x="1550" y="264"/>
                </a:lnTo>
                <a:lnTo>
                  <a:pt x="1541" y="249"/>
                </a:lnTo>
                <a:lnTo>
                  <a:pt x="1528" y="230"/>
                </a:lnTo>
                <a:lnTo>
                  <a:pt x="1513" y="195"/>
                </a:lnTo>
                <a:lnTo>
                  <a:pt x="1491" y="160"/>
                </a:lnTo>
                <a:lnTo>
                  <a:pt x="1469" y="120"/>
                </a:lnTo>
                <a:lnTo>
                  <a:pt x="1444" y="80"/>
                </a:lnTo>
                <a:lnTo>
                  <a:pt x="1422" y="45"/>
                </a:lnTo>
                <a:lnTo>
                  <a:pt x="1406" y="20"/>
                </a:lnTo>
                <a:lnTo>
                  <a:pt x="1394" y="5"/>
                </a:lnTo>
                <a:lnTo>
                  <a:pt x="1378" y="10"/>
                </a:lnTo>
                <a:lnTo>
                  <a:pt x="1362" y="20"/>
                </a:lnTo>
                <a:lnTo>
                  <a:pt x="1347" y="40"/>
                </a:lnTo>
                <a:lnTo>
                  <a:pt x="1331" y="60"/>
                </a:lnTo>
                <a:lnTo>
                  <a:pt x="1315" y="80"/>
                </a:lnTo>
                <a:lnTo>
                  <a:pt x="1297" y="100"/>
                </a:lnTo>
                <a:lnTo>
                  <a:pt x="1278" y="120"/>
                </a:lnTo>
                <a:lnTo>
                  <a:pt x="1259" y="135"/>
                </a:lnTo>
                <a:lnTo>
                  <a:pt x="1247" y="135"/>
                </a:lnTo>
                <a:lnTo>
                  <a:pt x="1234" y="135"/>
                </a:lnTo>
                <a:lnTo>
                  <a:pt x="1222" y="125"/>
                </a:lnTo>
                <a:lnTo>
                  <a:pt x="1209" y="115"/>
                </a:lnTo>
                <a:lnTo>
                  <a:pt x="1196" y="95"/>
                </a:lnTo>
                <a:lnTo>
                  <a:pt x="1184" y="70"/>
                </a:lnTo>
                <a:lnTo>
                  <a:pt x="1171" y="40"/>
                </a:lnTo>
                <a:lnTo>
                  <a:pt x="1162" y="0"/>
                </a:lnTo>
                <a:lnTo>
                  <a:pt x="1153" y="0"/>
                </a:lnTo>
                <a:lnTo>
                  <a:pt x="1146" y="5"/>
                </a:lnTo>
                <a:lnTo>
                  <a:pt x="1134" y="15"/>
                </a:lnTo>
                <a:lnTo>
                  <a:pt x="1121" y="25"/>
                </a:lnTo>
                <a:lnTo>
                  <a:pt x="1106" y="45"/>
                </a:lnTo>
                <a:lnTo>
                  <a:pt x="1084" y="65"/>
                </a:lnTo>
                <a:lnTo>
                  <a:pt x="1056" y="90"/>
                </a:lnTo>
                <a:lnTo>
                  <a:pt x="1021" y="125"/>
                </a:lnTo>
                <a:lnTo>
                  <a:pt x="974" y="165"/>
                </a:lnTo>
                <a:lnTo>
                  <a:pt x="918" y="205"/>
                </a:lnTo>
                <a:lnTo>
                  <a:pt x="852" y="244"/>
                </a:lnTo>
                <a:lnTo>
                  <a:pt x="789" y="284"/>
                </a:lnTo>
                <a:lnTo>
                  <a:pt x="730" y="319"/>
                </a:lnTo>
                <a:lnTo>
                  <a:pt x="680" y="344"/>
                </a:lnTo>
                <a:lnTo>
                  <a:pt x="642" y="364"/>
                </a:lnTo>
                <a:lnTo>
                  <a:pt x="623" y="369"/>
                </a:lnTo>
                <a:lnTo>
                  <a:pt x="614" y="364"/>
                </a:lnTo>
                <a:lnTo>
                  <a:pt x="598" y="354"/>
                </a:lnTo>
                <a:lnTo>
                  <a:pt x="579" y="339"/>
                </a:lnTo>
                <a:lnTo>
                  <a:pt x="558" y="319"/>
                </a:lnTo>
                <a:lnTo>
                  <a:pt x="539" y="304"/>
                </a:lnTo>
                <a:lnTo>
                  <a:pt x="517" y="289"/>
                </a:lnTo>
                <a:lnTo>
                  <a:pt x="501" y="279"/>
                </a:lnTo>
                <a:lnTo>
                  <a:pt x="489" y="274"/>
                </a:lnTo>
                <a:lnTo>
                  <a:pt x="454" y="299"/>
                </a:lnTo>
                <a:lnTo>
                  <a:pt x="407" y="354"/>
                </a:lnTo>
                <a:lnTo>
                  <a:pt x="345" y="439"/>
                </a:lnTo>
                <a:lnTo>
                  <a:pt x="276" y="543"/>
                </a:lnTo>
                <a:lnTo>
                  <a:pt x="204" y="658"/>
                </a:lnTo>
                <a:lnTo>
                  <a:pt x="128" y="773"/>
                </a:lnTo>
                <a:lnTo>
                  <a:pt x="60" y="882"/>
                </a:lnTo>
                <a:lnTo>
                  <a:pt x="0" y="982"/>
                </a:lnTo>
                <a:close/>
              </a:path>
            </a:pathLst>
          </a:custGeom>
          <a:solidFill>
            <a:srgbClr val="d8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8712360" y="1866960"/>
            <a:ext cx="431640" cy="9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72" h="613">
                <a:moveTo>
                  <a:pt x="212" y="399"/>
                </a:moveTo>
                <a:lnTo>
                  <a:pt x="187" y="408"/>
                </a:lnTo>
                <a:lnTo>
                  <a:pt x="162" y="423"/>
                </a:lnTo>
                <a:lnTo>
                  <a:pt x="137" y="448"/>
                </a:lnTo>
                <a:lnTo>
                  <a:pt x="112" y="473"/>
                </a:lnTo>
                <a:lnTo>
                  <a:pt x="90" y="503"/>
                </a:lnTo>
                <a:lnTo>
                  <a:pt x="72" y="538"/>
                </a:lnTo>
                <a:lnTo>
                  <a:pt x="56" y="578"/>
                </a:lnTo>
                <a:lnTo>
                  <a:pt x="46" y="613"/>
                </a:lnTo>
                <a:lnTo>
                  <a:pt x="0" y="573"/>
                </a:lnTo>
                <a:lnTo>
                  <a:pt x="0" y="563"/>
                </a:lnTo>
                <a:lnTo>
                  <a:pt x="3" y="543"/>
                </a:lnTo>
                <a:lnTo>
                  <a:pt x="9" y="513"/>
                </a:lnTo>
                <a:lnTo>
                  <a:pt x="15" y="483"/>
                </a:lnTo>
                <a:lnTo>
                  <a:pt x="21" y="448"/>
                </a:lnTo>
                <a:lnTo>
                  <a:pt x="21" y="408"/>
                </a:lnTo>
                <a:lnTo>
                  <a:pt x="15" y="364"/>
                </a:lnTo>
                <a:lnTo>
                  <a:pt x="0" y="319"/>
                </a:lnTo>
                <a:lnTo>
                  <a:pt x="56" y="239"/>
                </a:lnTo>
                <a:lnTo>
                  <a:pt x="9" y="144"/>
                </a:lnTo>
                <a:lnTo>
                  <a:pt x="37" y="164"/>
                </a:lnTo>
                <a:lnTo>
                  <a:pt x="65" y="179"/>
                </a:lnTo>
                <a:lnTo>
                  <a:pt x="87" y="189"/>
                </a:lnTo>
                <a:lnTo>
                  <a:pt x="100" y="194"/>
                </a:lnTo>
                <a:lnTo>
                  <a:pt x="109" y="189"/>
                </a:lnTo>
                <a:lnTo>
                  <a:pt x="128" y="174"/>
                </a:lnTo>
                <a:lnTo>
                  <a:pt x="147" y="154"/>
                </a:lnTo>
                <a:lnTo>
                  <a:pt x="172" y="124"/>
                </a:lnTo>
                <a:lnTo>
                  <a:pt x="197" y="95"/>
                </a:lnTo>
                <a:lnTo>
                  <a:pt x="225" y="60"/>
                </a:lnTo>
                <a:lnTo>
                  <a:pt x="250" y="30"/>
                </a:lnTo>
                <a:lnTo>
                  <a:pt x="272" y="0"/>
                </a:lnTo>
                <a:lnTo>
                  <a:pt x="272" y="299"/>
                </a:lnTo>
                <a:lnTo>
                  <a:pt x="250" y="314"/>
                </a:lnTo>
                <a:lnTo>
                  <a:pt x="231" y="339"/>
                </a:lnTo>
                <a:lnTo>
                  <a:pt x="216" y="364"/>
                </a:lnTo>
                <a:lnTo>
                  <a:pt x="212" y="3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315200" y="1295280"/>
            <a:ext cx="155520" cy="293760"/>
          </a:xfrm>
          <a:custGeom>
            <a:avLst/>
            <a:gdLst>
              <a:gd name="textAreaLeft" fmla="*/ 0 w 155520"/>
              <a:gd name="textAreaRight" fmla="*/ 155880 w 1555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8" h="185">
                <a:moveTo>
                  <a:pt x="98" y="130"/>
                </a:moveTo>
                <a:lnTo>
                  <a:pt x="85" y="115"/>
                </a:lnTo>
                <a:lnTo>
                  <a:pt x="76" y="100"/>
                </a:lnTo>
                <a:lnTo>
                  <a:pt x="63" y="80"/>
                </a:lnTo>
                <a:lnTo>
                  <a:pt x="51" y="65"/>
                </a:lnTo>
                <a:lnTo>
                  <a:pt x="38" y="45"/>
                </a:lnTo>
                <a:lnTo>
                  <a:pt x="25" y="30"/>
                </a:lnTo>
                <a:lnTo>
                  <a:pt x="13" y="15"/>
                </a:lnTo>
                <a:lnTo>
                  <a:pt x="0" y="0"/>
                </a:lnTo>
                <a:lnTo>
                  <a:pt x="0" y="35"/>
                </a:lnTo>
                <a:lnTo>
                  <a:pt x="0" y="80"/>
                </a:lnTo>
                <a:lnTo>
                  <a:pt x="4" y="135"/>
                </a:lnTo>
                <a:lnTo>
                  <a:pt x="13" y="175"/>
                </a:lnTo>
                <a:lnTo>
                  <a:pt x="32" y="180"/>
                </a:lnTo>
                <a:lnTo>
                  <a:pt x="57" y="180"/>
                </a:lnTo>
                <a:lnTo>
                  <a:pt x="82" y="185"/>
                </a:lnTo>
                <a:lnTo>
                  <a:pt x="91" y="185"/>
                </a:lnTo>
                <a:lnTo>
                  <a:pt x="98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5257800" y="1600200"/>
            <a:ext cx="223920" cy="426960"/>
          </a:xfrm>
          <a:custGeom>
            <a:avLst/>
            <a:gdLst>
              <a:gd name="textAreaLeft" fmla="*/ 0 w 223920"/>
              <a:gd name="textAreaRight" fmla="*/ 224280 w 223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1" h="269">
                <a:moveTo>
                  <a:pt x="141" y="89"/>
                </a:moveTo>
                <a:lnTo>
                  <a:pt x="119" y="69"/>
                </a:lnTo>
                <a:lnTo>
                  <a:pt x="101" y="55"/>
                </a:lnTo>
                <a:lnTo>
                  <a:pt x="85" y="40"/>
                </a:lnTo>
                <a:lnTo>
                  <a:pt x="72" y="35"/>
                </a:lnTo>
                <a:lnTo>
                  <a:pt x="57" y="30"/>
                </a:lnTo>
                <a:lnTo>
                  <a:pt x="32" y="25"/>
                </a:lnTo>
                <a:lnTo>
                  <a:pt x="13" y="15"/>
                </a:lnTo>
                <a:lnTo>
                  <a:pt x="0" y="0"/>
                </a:lnTo>
                <a:lnTo>
                  <a:pt x="16" y="55"/>
                </a:lnTo>
                <a:lnTo>
                  <a:pt x="32" y="94"/>
                </a:lnTo>
                <a:lnTo>
                  <a:pt x="44" y="124"/>
                </a:lnTo>
                <a:lnTo>
                  <a:pt x="47" y="149"/>
                </a:lnTo>
                <a:lnTo>
                  <a:pt x="47" y="179"/>
                </a:lnTo>
                <a:lnTo>
                  <a:pt x="44" y="219"/>
                </a:lnTo>
                <a:lnTo>
                  <a:pt x="41" y="254"/>
                </a:lnTo>
                <a:lnTo>
                  <a:pt x="41" y="269"/>
                </a:lnTo>
                <a:lnTo>
                  <a:pt x="101" y="269"/>
                </a:lnTo>
                <a:lnTo>
                  <a:pt x="113" y="229"/>
                </a:lnTo>
                <a:lnTo>
                  <a:pt x="122" y="179"/>
                </a:lnTo>
                <a:lnTo>
                  <a:pt x="129" y="134"/>
                </a:lnTo>
                <a:lnTo>
                  <a:pt x="14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0" y="506520"/>
            <a:ext cx="1620720" cy="18349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21" h="1156">
                <a:moveTo>
                  <a:pt x="0" y="1156"/>
                </a:moveTo>
                <a:lnTo>
                  <a:pt x="0" y="857"/>
                </a:lnTo>
                <a:lnTo>
                  <a:pt x="60" y="757"/>
                </a:lnTo>
                <a:lnTo>
                  <a:pt x="128" y="648"/>
                </a:lnTo>
                <a:lnTo>
                  <a:pt x="204" y="533"/>
                </a:lnTo>
                <a:lnTo>
                  <a:pt x="276" y="418"/>
                </a:lnTo>
                <a:lnTo>
                  <a:pt x="345" y="314"/>
                </a:lnTo>
                <a:lnTo>
                  <a:pt x="407" y="229"/>
                </a:lnTo>
                <a:lnTo>
                  <a:pt x="454" y="174"/>
                </a:lnTo>
                <a:lnTo>
                  <a:pt x="489" y="149"/>
                </a:lnTo>
                <a:lnTo>
                  <a:pt x="501" y="154"/>
                </a:lnTo>
                <a:lnTo>
                  <a:pt x="517" y="164"/>
                </a:lnTo>
                <a:lnTo>
                  <a:pt x="539" y="179"/>
                </a:lnTo>
                <a:lnTo>
                  <a:pt x="558" y="194"/>
                </a:lnTo>
                <a:lnTo>
                  <a:pt x="579" y="214"/>
                </a:lnTo>
                <a:lnTo>
                  <a:pt x="598" y="229"/>
                </a:lnTo>
                <a:lnTo>
                  <a:pt x="614" y="239"/>
                </a:lnTo>
                <a:lnTo>
                  <a:pt x="623" y="244"/>
                </a:lnTo>
                <a:lnTo>
                  <a:pt x="642" y="239"/>
                </a:lnTo>
                <a:lnTo>
                  <a:pt x="680" y="219"/>
                </a:lnTo>
                <a:lnTo>
                  <a:pt x="730" y="194"/>
                </a:lnTo>
                <a:lnTo>
                  <a:pt x="789" y="159"/>
                </a:lnTo>
                <a:lnTo>
                  <a:pt x="852" y="119"/>
                </a:lnTo>
                <a:lnTo>
                  <a:pt x="918" y="80"/>
                </a:lnTo>
                <a:lnTo>
                  <a:pt x="974" y="40"/>
                </a:lnTo>
                <a:lnTo>
                  <a:pt x="1021" y="0"/>
                </a:lnTo>
                <a:lnTo>
                  <a:pt x="983" y="40"/>
                </a:lnTo>
                <a:lnTo>
                  <a:pt x="949" y="70"/>
                </a:lnTo>
                <a:lnTo>
                  <a:pt x="921" y="100"/>
                </a:lnTo>
                <a:lnTo>
                  <a:pt x="896" y="124"/>
                </a:lnTo>
                <a:lnTo>
                  <a:pt x="874" y="149"/>
                </a:lnTo>
                <a:lnTo>
                  <a:pt x="852" y="164"/>
                </a:lnTo>
                <a:lnTo>
                  <a:pt x="833" y="184"/>
                </a:lnTo>
                <a:lnTo>
                  <a:pt x="811" y="199"/>
                </a:lnTo>
                <a:lnTo>
                  <a:pt x="792" y="219"/>
                </a:lnTo>
                <a:lnTo>
                  <a:pt x="771" y="239"/>
                </a:lnTo>
                <a:lnTo>
                  <a:pt x="749" y="264"/>
                </a:lnTo>
                <a:lnTo>
                  <a:pt x="730" y="289"/>
                </a:lnTo>
                <a:lnTo>
                  <a:pt x="711" y="314"/>
                </a:lnTo>
                <a:lnTo>
                  <a:pt x="692" y="334"/>
                </a:lnTo>
                <a:lnTo>
                  <a:pt x="677" y="344"/>
                </a:lnTo>
                <a:lnTo>
                  <a:pt x="664" y="349"/>
                </a:lnTo>
                <a:lnTo>
                  <a:pt x="651" y="344"/>
                </a:lnTo>
                <a:lnTo>
                  <a:pt x="633" y="329"/>
                </a:lnTo>
                <a:lnTo>
                  <a:pt x="611" y="314"/>
                </a:lnTo>
                <a:lnTo>
                  <a:pt x="589" y="289"/>
                </a:lnTo>
                <a:lnTo>
                  <a:pt x="564" y="269"/>
                </a:lnTo>
                <a:lnTo>
                  <a:pt x="542" y="254"/>
                </a:lnTo>
                <a:lnTo>
                  <a:pt x="520" y="239"/>
                </a:lnTo>
                <a:lnTo>
                  <a:pt x="501" y="234"/>
                </a:lnTo>
                <a:lnTo>
                  <a:pt x="489" y="244"/>
                </a:lnTo>
                <a:lnTo>
                  <a:pt x="470" y="269"/>
                </a:lnTo>
                <a:lnTo>
                  <a:pt x="445" y="309"/>
                </a:lnTo>
                <a:lnTo>
                  <a:pt x="413" y="359"/>
                </a:lnTo>
                <a:lnTo>
                  <a:pt x="379" y="418"/>
                </a:lnTo>
                <a:lnTo>
                  <a:pt x="341" y="488"/>
                </a:lnTo>
                <a:lnTo>
                  <a:pt x="304" y="563"/>
                </a:lnTo>
                <a:lnTo>
                  <a:pt x="263" y="638"/>
                </a:lnTo>
                <a:lnTo>
                  <a:pt x="222" y="717"/>
                </a:lnTo>
                <a:lnTo>
                  <a:pt x="182" y="797"/>
                </a:lnTo>
                <a:lnTo>
                  <a:pt x="141" y="877"/>
                </a:lnTo>
                <a:lnTo>
                  <a:pt x="103" y="947"/>
                </a:lnTo>
                <a:lnTo>
                  <a:pt x="72" y="1016"/>
                </a:lnTo>
                <a:lnTo>
                  <a:pt x="41" y="1071"/>
                </a:lnTo>
                <a:lnTo>
                  <a:pt x="19" y="1121"/>
                </a:lnTo>
                <a:lnTo>
                  <a:pt x="0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6205680" y="2610000"/>
            <a:ext cx="183960" cy="349200"/>
          </a:xfrm>
          <a:custGeom>
            <a:avLst/>
            <a:gdLst>
              <a:gd name="textAreaLeft" fmla="*/ 0 w 183960"/>
              <a:gd name="textAreaRight" fmla="*/ 184320 w 183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16" h="220">
                <a:moveTo>
                  <a:pt x="0" y="0"/>
                </a:moveTo>
                <a:lnTo>
                  <a:pt x="9" y="10"/>
                </a:lnTo>
                <a:lnTo>
                  <a:pt x="19" y="25"/>
                </a:lnTo>
                <a:lnTo>
                  <a:pt x="34" y="35"/>
                </a:lnTo>
                <a:lnTo>
                  <a:pt x="50" y="45"/>
                </a:lnTo>
                <a:lnTo>
                  <a:pt x="66" y="55"/>
                </a:lnTo>
                <a:lnTo>
                  <a:pt x="81" y="65"/>
                </a:lnTo>
                <a:lnTo>
                  <a:pt x="91" y="70"/>
                </a:lnTo>
                <a:lnTo>
                  <a:pt x="100" y="70"/>
                </a:lnTo>
                <a:lnTo>
                  <a:pt x="110" y="80"/>
                </a:lnTo>
                <a:lnTo>
                  <a:pt x="113" y="105"/>
                </a:lnTo>
                <a:lnTo>
                  <a:pt x="116" y="130"/>
                </a:lnTo>
                <a:lnTo>
                  <a:pt x="116" y="140"/>
                </a:lnTo>
                <a:lnTo>
                  <a:pt x="113" y="145"/>
                </a:lnTo>
                <a:lnTo>
                  <a:pt x="103" y="150"/>
                </a:lnTo>
                <a:lnTo>
                  <a:pt x="91" y="165"/>
                </a:lnTo>
                <a:lnTo>
                  <a:pt x="75" y="180"/>
                </a:lnTo>
                <a:lnTo>
                  <a:pt x="59" y="195"/>
                </a:lnTo>
                <a:lnTo>
                  <a:pt x="41" y="205"/>
                </a:lnTo>
                <a:lnTo>
                  <a:pt x="25" y="215"/>
                </a:lnTo>
                <a:lnTo>
                  <a:pt x="9" y="220"/>
                </a:lnTo>
                <a:lnTo>
                  <a:pt x="6" y="170"/>
                </a:lnTo>
                <a:lnTo>
                  <a:pt x="6" y="110"/>
                </a:lnTo>
                <a:lnTo>
                  <a:pt x="6" y="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5086440" y="2158920"/>
            <a:ext cx="1035000" cy="90972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652" h="573">
                <a:moveTo>
                  <a:pt x="0" y="563"/>
                </a:moveTo>
                <a:lnTo>
                  <a:pt x="13" y="538"/>
                </a:lnTo>
                <a:lnTo>
                  <a:pt x="31" y="509"/>
                </a:lnTo>
                <a:lnTo>
                  <a:pt x="53" y="474"/>
                </a:lnTo>
                <a:lnTo>
                  <a:pt x="82" y="454"/>
                </a:lnTo>
                <a:lnTo>
                  <a:pt x="100" y="444"/>
                </a:lnTo>
                <a:lnTo>
                  <a:pt x="125" y="424"/>
                </a:lnTo>
                <a:lnTo>
                  <a:pt x="154" y="404"/>
                </a:lnTo>
                <a:lnTo>
                  <a:pt x="182" y="379"/>
                </a:lnTo>
                <a:lnTo>
                  <a:pt x="210" y="349"/>
                </a:lnTo>
                <a:lnTo>
                  <a:pt x="232" y="329"/>
                </a:lnTo>
                <a:lnTo>
                  <a:pt x="251" y="304"/>
                </a:lnTo>
                <a:lnTo>
                  <a:pt x="260" y="289"/>
                </a:lnTo>
                <a:lnTo>
                  <a:pt x="266" y="269"/>
                </a:lnTo>
                <a:lnTo>
                  <a:pt x="279" y="234"/>
                </a:lnTo>
                <a:lnTo>
                  <a:pt x="298" y="190"/>
                </a:lnTo>
                <a:lnTo>
                  <a:pt x="317" y="140"/>
                </a:lnTo>
                <a:lnTo>
                  <a:pt x="335" y="95"/>
                </a:lnTo>
                <a:lnTo>
                  <a:pt x="354" y="50"/>
                </a:lnTo>
                <a:lnTo>
                  <a:pt x="367" y="20"/>
                </a:lnTo>
                <a:lnTo>
                  <a:pt x="376" y="10"/>
                </a:lnTo>
                <a:lnTo>
                  <a:pt x="389" y="5"/>
                </a:lnTo>
                <a:lnTo>
                  <a:pt x="407" y="0"/>
                </a:lnTo>
                <a:lnTo>
                  <a:pt x="423" y="0"/>
                </a:lnTo>
                <a:lnTo>
                  <a:pt x="426" y="10"/>
                </a:lnTo>
                <a:lnTo>
                  <a:pt x="417" y="55"/>
                </a:lnTo>
                <a:lnTo>
                  <a:pt x="401" y="130"/>
                </a:lnTo>
                <a:lnTo>
                  <a:pt x="389" y="200"/>
                </a:lnTo>
                <a:lnTo>
                  <a:pt x="392" y="229"/>
                </a:lnTo>
                <a:lnTo>
                  <a:pt x="398" y="229"/>
                </a:lnTo>
                <a:lnTo>
                  <a:pt x="410" y="229"/>
                </a:lnTo>
                <a:lnTo>
                  <a:pt x="423" y="229"/>
                </a:lnTo>
                <a:lnTo>
                  <a:pt x="439" y="229"/>
                </a:lnTo>
                <a:lnTo>
                  <a:pt x="454" y="224"/>
                </a:lnTo>
                <a:lnTo>
                  <a:pt x="470" y="224"/>
                </a:lnTo>
                <a:lnTo>
                  <a:pt x="483" y="220"/>
                </a:lnTo>
                <a:lnTo>
                  <a:pt x="495" y="210"/>
                </a:lnTo>
                <a:lnTo>
                  <a:pt x="517" y="195"/>
                </a:lnTo>
                <a:lnTo>
                  <a:pt x="539" y="180"/>
                </a:lnTo>
                <a:lnTo>
                  <a:pt x="555" y="175"/>
                </a:lnTo>
                <a:lnTo>
                  <a:pt x="561" y="170"/>
                </a:lnTo>
                <a:lnTo>
                  <a:pt x="567" y="180"/>
                </a:lnTo>
                <a:lnTo>
                  <a:pt x="580" y="210"/>
                </a:lnTo>
                <a:lnTo>
                  <a:pt x="595" y="244"/>
                </a:lnTo>
                <a:lnTo>
                  <a:pt x="605" y="279"/>
                </a:lnTo>
                <a:lnTo>
                  <a:pt x="614" y="309"/>
                </a:lnTo>
                <a:lnTo>
                  <a:pt x="633" y="334"/>
                </a:lnTo>
                <a:lnTo>
                  <a:pt x="649" y="359"/>
                </a:lnTo>
                <a:lnTo>
                  <a:pt x="652" y="379"/>
                </a:lnTo>
                <a:lnTo>
                  <a:pt x="642" y="404"/>
                </a:lnTo>
                <a:lnTo>
                  <a:pt x="627" y="429"/>
                </a:lnTo>
                <a:lnTo>
                  <a:pt x="611" y="449"/>
                </a:lnTo>
                <a:lnTo>
                  <a:pt x="592" y="459"/>
                </a:lnTo>
                <a:lnTo>
                  <a:pt x="573" y="474"/>
                </a:lnTo>
                <a:lnTo>
                  <a:pt x="551" y="509"/>
                </a:lnTo>
                <a:lnTo>
                  <a:pt x="533" y="543"/>
                </a:lnTo>
                <a:lnTo>
                  <a:pt x="526" y="558"/>
                </a:lnTo>
                <a:lnTo>
                  <a:pt x="504" y="543"/>
                </a:lnTo>
                <a:lnTo>
                  <a:pt x="479" y="528"/>
                </a:lnTo>
                <a:lnTo>
                  <a:pt x="448" y="513"/>
                </a:lnTo>
                <a:lnTo>
                  <a:pt x="414" y="499"/>
                </a:lnTo>
                <a:lnTo>
                  <a:pt x="382" y="484"/>
                </a:lnTo>
                <a:lnTo>
                  <a:pt x="351" y="469"/>
                </a:lnTo>
                <a:lnTo>
                  <a:pt x="329" y="459"/>
                </a:lnTo>
                <a:lnTo>
                  <a:pt x="310" y="454"/>
                </a:lnTo>
                <a:lnTo>
                  <a:pt x="295" y="454"/>
                </a:lnTo>
                <a:lnTo>
                  <a:pt x="273" y="454"/>
                </a:lnTo>
                <a:lnTo>
                  <a:pt x="248" y="459"/>
                </a:lnTo>
                <a:lnTo>
                  <a:pt x="219" y="464"/>
                </a:lnTo>
                <a:lnTo>
                  <a:pt x="194" y="474"/>
                </a:lnTo>
                <a:lnTo>
                  <a:pt x="169" y="484"/>
                </a:lnTo>
                <a:lnTo>
                  <a:pt x="151" y="494"/>
                </a:lnTo>
                <a:lnTo>
                  <a:pt x="138" y="509"/>
                </a:lnTo>
                <a:lnTo>
                  <a:pt x="125" y="523"/>
                </a:lnTo>
                <a:lnTo>
                  <a:pt x="107" y="538"/>
                </a:lnTo>
                <a:lnTo>
                  <a:pt x="85" y="548"/>
                </a:lnTo>
                <a:lnTo>
                  <a:pt x="63" y="558"/>
                </a:lnTo>
                <a:lnTo>
                  <a:pt x="41" y="568"/>
                </a:lnTo>
                <a:lnTo>
                  <a:pt x="22" y="573"/>
                </a:lnTo>
                <a:lnTo>
                  <a:pt x="10" y="568"/>
                </a:lnTo>
                <a:lnTo>
                  <a:pt x="0" y="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7434360" y="1969920"/>
            <a:ext cx="357120" cy="758880"/>
          </a:xfrm>
          <a:custGeom>
            <a:avLst/>
            <a:gdLst>
              <a:gd name="textAreaLeft" fmla="*/ 0 w 357120"/>
              <a:gd name="textAreaRight" fmla="*/ 357480 w 357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25" h="478">
                <a:moveTo>
                  <a:pt x="31" y="0"/>
                </a:moveTo>
                <a:lnTo>
                  <a:pt x="47" y="40"/>
                </a:lnTo>
                <a:lnTo>
                  <a:pt x="68" y="94"/>
                </a:lnTo>
                <a:lnTo>
                  <a:pt x="84" y="149"/>
                </a:lnTo>
                <a:lnTo>
                  <a:pt x="94" y="184"/>
                </a:lnTo>
                <a:lnTo>
                  <a:pt x="115" y="174"/>
                </a:lnTo>
                <a:lnTo>
                  <a:pt x="140" y="164"/>
                </a:lnTo>
                <a:lnTo>
                  <a:pt x="159" y="159"/>
                </a:lnTo>
                <a:lnTo>
                  <a:pt x="166" y="159"/>
                </a:lnTo>
                <a:lnTo>
                  <a:pt x="175" y="224"/>
                </a:lnTo>
                <a:lnTo>
                  <a:pt x="187" y="319"/>
                </a:lnTo>
                <a:lnTo>
                  <a:pt x="203" y="408"/>
                </a:lnTo>
                <a:lnTo>
                  <a:pt x="225" y="478"/>
                </a:lnTo>
                <a:lnTo>
                  <a:pt x="213" y="468"/>
                </a:lnTo>
                <a:lnTo>
                  <a:pt x="203" y="453"/>
                </a:lnTo>
                <a:lnTo>
                  <a:pt x="194" y="443"/>
                </a:lnTo>
                <a:lnTo>
                  <a:pt x="181" y="428"/>
                </a:lnTo>
                <a:lnTo>
                  <a:pt x="169" y="418"/>
                </a:lnTo>
                <a:lnTo>
                  <a:pt x="156" y="408"/>
                </a:lnTo>
                <a:lnTo>
                  <a:pt x="140" y="398"/>
                </a:lnTo>
                <a:lnTo>
                  <a:pt x="122" y="398"/>
                </a:lnTo>
                <a:lnTo>
                  <a:pt x="87" y="393"/>
                </a:lnTo>
                <a:lnTo>
                  <a:pt x="62" y="373"/>
                </a:lnTo>
                <a:lnTo>
                  <a:pt x="50" y="334"/>
                </a:lnTo>
                <a:lnTo>
                  <a:pt x="47" y="274"/>
                </a:lnTo>
                <a:lnTo>
                  <a:pt x="31" y="244"/>
                </a:lnTo>
                <a:lnTo>
                  <a:pt x="15" y="209"/>
                </a:lnTo>
                <a:lnTo>
                  <a:pt x="6" y="184"/>
                </a:lnTo>
                <a:lnTo>
                  <a:pt x="0" y="164"/>
                </a:lnTo>
                <a:lnTo>
                  <a:pt x="0" y="134"/>
                </a:lnTo>
                <a:lnTo>
                  <a:pt x="3" y="79"/>
                </a:lnTo>
                <a:lnTo>
                  <a:pt x="9" y="25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>
            <a:off x="6934320" y="2362320"/>
            <a:ext cx="223560" cy="387360"/>
          </a:xfrm>
          <a:custGeom>
            <a:avLst/>
            <a:gdLst>
              <a:gd name="textAreaLeft" fmla="*/ 0 w 223560"/>
              <a:gd name="textAreaRight" fmla="*/ 223920 w 223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41" h="244">
                <a:moveTo>
                  <a:pt x="125" y="0"/>
                </a:moveTo>
                <a:lnTo>
                  <a:pt x="129" y="35"/>
                </a:lnTo>
                <a:lnTo>
                  <a:pt x="138" y="80"/>
                </a:lnTo>
                <a:lnTo>
                  <a:pt x="141" y="124"/>
                </a:lnTo>
                <a:lnTo>
                  <a:pt x="138" y="149"/>
                </a:lnTo>
                <a:lnTo>
                  <a:pt x="125" y="169"/>
                </a:lnTo>
                <a:lnTo>
                  <a:pt x="110" y="199"/>
                </a:lnTo>
                <a:lnTo>
                  <a:pt x="91" y="229"/>
                </a:lnTo>
                <a:lnTo>
                  <a:pt x="79" y="244"/>
                </a:lnTo>
                <a:lnTo>
                  <a:pt x="60" y="229"/>
                </a:lnTo>
                <a:lnTo>
                  <a:pt x="35" y="199"/>
                </a:lnTo>
                <a:lnTo>
                  <a:pt x="10" y="169"/>
                </a:lnTo>
                <a:lnTo>
                  <a:pt x="0" y="154"/>
                </a:lnTo>
                <a:lnTo>
                  <a:pt x="13" y="139"/>
                </a:lnTo>
                <a:lnTo>
                  <a:pt x="28" y="124"/>
                </a:lnTo>
                <a:lnTo>
                  <a:pt x="44" y="115"/>
                </a:lnTo>
                <a:lnTo>
                  <a:pt x="63" y="105"/>
                </a:lnTo>
                <a:lnTo>
                  <a:pt x="79" y="90"/>
                </a:lnTo>
                <a:lnTo>
                  <a:pt x="97" y="70"/>
                </a:lnTo>
                <a:lnTo>
                  <a:pt x="113" y="40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2"/>
          <p:cNvSpPr/>
          <p:nvPr/>
        </p:nvSpPr>
        <p:spPr>
          <a:xfrm>
            <a:off x="5708520" y="3235320"/>
            <a:ext cx="1217880" cy="95724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767" h="603">
                <a:moveTo>
                  <a:pt x="767" y="279"/>
                </a:moveTo>
                <a:lnTo>
                  <a:pt x="736" y="274"/>
                </a:lnTo>
                <a:lnTo>
                  <a:pt x="698" y="279"/>
                </a:lnTo>
                <a:lnTo>
                  <a:pt x="651" y="289"/>
                </a:lnTo>
                <a:lnTo>
                  <a:pt x="601" y="309"/>
                </a:lnTo>
                <a:lnTo>
                  <a:pt x="545" y="329"/>
                </a:lnTo>
                <a:lnTo>
                  <a:pt x="488" y="349"/>
                </a:lnTo>
                <a:lnTo>
                  <a:pt x="429" y="379"/>
                </a:lnTo>
                <a:lnTo>
                  <a:pt x="366" y="404"/>
                </a:lnTo>
                <a:lnTo>
                  <a:pt x="307" y="433"/>
                </a:lnTo>
                <a:lnTo>
                  <a:pt x="247" y="463"/>
                </a:lnTo>
                <a:lnTo>
                  <a:pt x="194" y="493"/>
                </a:lnTo>
                <a:lnTo>
                  <a:pt x="141" y="523"/>
                </a:lnTo>
                <a:lnTo>
                  <a:pt x="97" y="548"/>
                </a:lnTo>
                <a:lnTo>
                  <a:pt x="56" y="568"/>
                </a:lnTo>
                <a:lnTo>
                  <a:pt x="25" y="588"/>
                </a:lnTo>
                <a:lnTo>
                  <a:pt x="0" y="603"/>
                </a:lnTo>
                <a:lnTo>
                  <a:pt x="31" y="553"/>
                </a:lnTo>
                <a:lnTo>
                  <a:pt x="56" y="498"/>
                </a:lnTo>
                <a:lnTo>
                  <a:pt x="72" y="443"/>
                </a:lnTo>
                <a:lnTo>
                  <a:pt x="81" y="394"/>
                </a:lnTo>
                <a:lnTo>
                  <a:pt x="112" y="384"/>
                </a:lnTo>
                <a:lnTo>
                  <a:pt x="150" y="369"/>
                </a:lnTo>
                <a:lnTo>
                  <a:pt x="188" y="354"/>
                </a:lnTo>
                <a:lnTo>
                  <a:pt x="225" y="339"/>
                </a:lnTo>
                <a:lnTo>
                  <a:pt x="263" y="319"/>
                </a:lnTo>
                <a:lnTo>
                  <a:pt x="291" y="304"/>
                </a:lnTo>
                <a:lnTo>
                  <a:pt x="313" y="284"/>
                </a:lnTo>
                <a:lnTo>
                  <a:pt x="322" y="269"/>
                </a:lnTo>
                <a:lnTo>
                  <a:pt x="335" y="199"/>
                </a:lnTo>
                <a:lnTo>
                  <a:pt x="350" y="115"/>
                </a:lnTo>
                <a:lnTo>
                  <a:pt x="369" y="50"/>
                </a:lnTo>
                <a:lnTo>
                  <a:pt x="376" y="25"/>
                </a:lnTo>
                <a:lnTo>
                  <a:pt x="394" y="20"/>
                </a:lnTo>
                <a:lnTo>
                  <a:pt x="419" y="20"/>
                </a:lnTo>
                <a:lnTo>
                  <a:pt x="441" y="15"/>
                </a:lnTo>
                <a:lnTo>
                  <a:pt x="463" y="10"/>
                </a:lnTo>
                <a:lnTo>
                  <a:pt x="482" y="5"/>
                </a:lnTo>
                <a:lnTo>
                  <a:pt x="498" y="5"/>
                </a:lnTo>
                <a:lnTo>
                  <a:pt x="510" y="0"/>
                </a:lnTo>
                <a:lnTo>
                  <a:pt x="513" y="0"/>
                </a:lnTo>
                <a:lnTo>
                  <a:pt x="529" y="65"/>
                </a:lnTo>
                <a:lnTo>
                  <a:pt x="573" y="65"/>
                </a:lnTo>
                <a:lnTo>
                  <a:pt x="576" y="80"/>
                </a:lnTo>
                <a:lnTo>
                  <a:pt x="579" y="110"/>
                </a:lnTo>
                <a:lnTo>
                  <a:pt x="589" y="144"/>
                </a:lnTo>
                <a:lnTo>
                  <a:pt x="604" y="169"/>
                </a:lnTo>
                <a:lnTo>
                  <a:pt x="623" y="189"/>
                </a:lnTo>
                <a:lnTo>
                  <a:pt x="648" y="209"/>
                </a:lnTo>
                <a:lnTo>
                  <a:pt x="673" y="229"/>
                </a:lnTo>
                <a:lnTo>
                  <a:pt x="698" y="244"/>
                </a:lnTo>
                <a:lnTo>
                  <a:pt x="723" y="254"/>
                </a:lnTo>
                <a:lnTo>
                  <a:pt x="742" y="269"/>
                </a:lnTo>
                <a:lnTo>
                  <a:pt x="758" y="274"/>
                </a:lnTo>
                <a:lnTo>
                  <a:pt x="767" y="2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3"/>
          <p:cNvSpPr/>
          <p:nvPr/>
        </p:nvSpPr>
        <p:spPr>
          <a:xfrm>
            <a:off x="7080120" y="2508120"/>
            <a:ext cx="760680" cy="1573200"/>
          </a:xfrm>
          <a:custGeom>
            <a:avLst/>
            <a:gdLst>
              <a:gd name="textAreaLeft" fmla="*/ 0 w 760680"/>
              <a:gd name="textAreaRight" fmla="*/ 761040 w 7606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479" h="991">
                <a:moveTo>
                  <a:pt x="479" y="926"/>
                </a:moveTo>
                <a:lnTo>
                  <a:pt x="448" y="956"/>
                </a:lnTo>
                <a:lnTo>
                  <a:pt x="417" y="976"/>
                </a:lnTo>
                <a:lnTo>
                  <a:pt x="385" y="986"/>
                </a:lnTo>
                <a:lnTo>
                  <a:pt x="351" y="991"/>
                </a:lnTo>
                <a:lnTo>
                  <a:pt x="320" y="981"/>
                </a:lnTo>
                <a:lnTo>
                  <a:pt x="291" y="971"/>
                </a:lnTo>
                <a:lnTo>
                  <a:pt x="263" y="951"/>
                </a:lnTo>
                <a:lnTo>
                  <a:pt x="238" y="926"/>
                </a:lnTo>
                <a:lnTo>
                  <a:pt x="223" y="911"/>
                </a:lnTo>
                <a:lnTo>
                  <a:pt x="207" y="891"/>
                </a:lnTo>
                <a:lnTo>
                  <a:pt x="188" y="876"/>
                </a:lnTo>
                <a:lnTo>
                  <a:pt x="166" y="862"/>
                </a:lnTo>
                <a:lnTo>
                  <a:pt x="141" y="842"/>
                </a:lnTo>
                <a:lnTo>
                  <a:pt x="116" y="827"/>
                </a:lnTo>
                <a:lnTo>
                  <a:pt x="88" y="812"/>
                </a:lnTo>
                <a:lnTo>
                  <a:pt x="60" y="797"/>
                </a:lnTo>
                <a:lnTo>
                  <a:pt x="41" y="762"/>
                </a:lnTo>
                <a:lnTo>
                  <a:pt x="22" y="727"/>
                </a:lnTo>
                <a:lnTo>
                  <a:pt x="6" y="697"/>
                </a:lnTo>
                <a:lnTo>
                  <a:pt x="0" y="682"/>
                </a:lnTo>
                <a:lnTo>
                  <a:pt x="10" y="632"/>
                </a:lnTo>
                <a:lnTo>
                  <a:pt x="16" y="558"/>
                </a:lnTo>
                <a:lnTo>
                  <a:pt x="22" y="478"/>
                </a:lnTo>
                <a:lnTo>
                  <a:pt x="22" y="418"/>
                </a:lnTo>
                <a:lnTo>
                  <a:pt x="41" y="383"/>
                </a:lnTo>
                <a:lnTo>
                  <a:pt x="63" y="333"/>
                </a:lnTo>
                <a:lnTo>
                  <a:pt x="85" y="284"/>
                </a:lnTo>
                <a:lnTo>
                  <a:pt x="107" y="229"/>
                </a:lnTo>
                <a:lnTo>
                  <a:pt x="125" y="169"/>
                </a:lnTo>
                <a:lnTo>
                  <a:pt x="138" y="109"/>
                </a:lnTo>
                <a:lnTo>
                  <a:pt x="144" y="54"/>
                </a:lnTo>
                <a:lnTo>
                  <a:pt x="138" y="0"/>
                </a:lnTo>
                <a:lnTo>
                  <a:pt x="157" y="19"/>
                </a:lnTo>
                <a:lnTo>
                  <a:pt x="179" y="44"/>
                </a:lnTo>
                <a:lnTo>
                  <a:pt x="197" y="64"/>
                </a:lnTo>
                <a:lnTo>
                  <a:pt x="213" y="89"/>
                </a:lnTo>
                <a:lnTo>
                  <a:pt x="223" y="114"/>
                </a:lnTo>
                <a:lnTo>
                  <a:pt x="226" y="139"/>
                </a:lnTo>
                <a:lnTo>
                  <a:pt x="219" y="164"/>
                </a:lnTo>
                <a:lnTo>
                  <a:pt x="204" y="194"/>
                </a:lnTo>
                <a:lnTo>
                  <a:pt x="182" y="224"/>
                </a:lnTo>
                <a:lnTo>
                  <a:pt x="160" y="254"/>
                </a:lnTo>
                <a:lnTo>
                  <a:pt x="138" y="279"/>
                </a:lnTo>
                <a:lnTo>
                  <a:pt x="119" y="308"/>
                </a:lnTo>
                <a:lnTo>
                  <a:pt x="100" y="338"/>
                </a:lnTo>
                <a:lnTo>
                  <a:pt x="88" y="363"/>
                </a:lnTo>
                <a:lnTo>
                  <a:pt x="82" y="388"/>
                </a:lnTo>
                <a:lnTo>
                  <a:pt x="78" y="413"/>
                </a:lnTo>
                <a:lnTo>
                  <a:pt x="78" y="468"/>
                </a:lnTo>
                <a:lnTo>
                  <a:pt x="82" y="528"/>
                </a:lnTo>
                <a:lnTo>
                  <a:pt x="88" y="582"/>
                </a:lnTo>
                <a:lnTo>
                  <a:pt x="104" y="622"/>
                </a:lnTo>
                <a:lnTo>
                  <a:pt x="113" y="637"/>
                </a:lnTo>
                <a:lnTo>
                  <a:pt x="125" y="652"/>
                </a:lnTo>
                <a:lnTo>
                  <a:pt x="138" y="672"/>
                </a:lnTo>
                <a:lnTo>
                  <a:pt x="154" y="692"/>
                </a:lnTo>
                <a:lnTo>
                  <a:pt x="166" y="712"/>
                </a:lnTo>
                <a:lnTo>
                  <a:pt x="182" y="727"/>
                </a:lnTo>
                <a:lnTo>
                  <a:pt x="194" y="742"/>
                </a:lnTo>
                <a:lnTo>
                  <a:pt x="207" y="747"/>
                </a:lnTo>
                <a:lnTo>
                  <a:pt x="232" y="757"/>
                </a:lnTo>
                <a:lnTo>
                  <a:pt x="257" y="782"/>
                </a:lnTo>
                <a:lnTo>
                  <a:pt x="279" y="807"/>
                </a:lnTo>
                <a:lnTo>
                  <a:pt x="295" y="832"/>
                </a:lnTo>
                <a:lnTo>
                  <a:pt x="310" y="852"/>
                </a:lnTo>
                <a:lnTo>
                  <a:pt x="335" y="876"/>
                </a:lnTo>
                <a:lnTo>
                  <a:pt x="354" y="896"/>
                </a:lnTo>
                <a:lnTo>
                  <a:pt x="367" y="926"/>
                </a:lnTo>
                <a:lnTo>
                  <a:pt x="382" y="931"/>
                </a:lnTo>
                <a:lnTo>
                  <a:pt x="401" y="931"/>
                </a:lnTo>
                <a:lnTo>
                  <a:pt x="420" y="931"/>
                </a:lnTo>
                <a:lnTo>
                  <a:pt x="439" y="931"/>
                </a:lnTo>
                <a:lnTo>
                  <a:pt x="454" y="931"/>
                </a:lnTo>
                <a:lnTo>
                  <a:pt x="467" y="926"/>
                </a:lnTo>
                <a:lnTo>
                  <a:pt x="476" y="926"/>
                </a:lnTo>
                <a:lnTo>
                  <a:pt x="479" y="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4"/>
          <p:cNvSpPr/>
          <p:nvPr/>
        </p:nvSpPr>
        <p:spPr>
          <a:xfrm>
            <a:off x="4062240" y="1668600"/>
            <a:ext cx="1089360" cy="1266840"/>
          </a:xfrm>
          <a:custGeom>
            <a:avLst/>
            <a:gdLst>
              <a:gd name="textAreaLeft" fmla="*/ 0 w 1089360"/>
              <a:gd name="textAreaRight" fmla="*/ 1089720 w 10893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86" h="798">
                <a:moveTo>
                  <a:pt x="676" y="155"/>
                </a:moveTo>
                <a:lnTo>
                  <a:pt x="670" y="175"/>
                </a:lnTo>
                <a:lnTo>
                  <a:pt x="661" y="195"/>
                </a:lnTo>
                <a:lnTo>
                  <a:pt x="651" y="210"/>
                </a:lnTo>
                <a:lnTo>
                  <a:pt x="645" y="215"/>
                </a:lnTo>
                <a:lnTo>
                  <a:pt x="630" y="274"/>
                </a:lnTo>
                <a:lnTo>
                  <a:pt x="636" y="284"/>
                </a:lnTo>
                <a:lnTo>
                  <a:pt x="648" y="304"/>
                </a:lnTo>
                <a:lnTo>
                  <a:pt x="664" y="329"/>
                </a:lnTo>
                <a:lnTo>
                  <a:pt x="680" y="344"/>
                </a:lnTo>
                <a:lnTo>
                  <a:pt x="686" y="359"/>
                </a:lnTo>
                <a:lnTo>
                  <a:pt x="686" y="389"/>
                </a:lnTo>
                <a:lnTo>
                  <a:pt x="686" y="419"/>
                </a:lnTo>
                <a:lnTo>
                  <a:pt x="683" y="449"/>
                </a:lnTo>
                <a:lnTo>
                  <a:pt x="676" y="474"/>
                </a:lnTo>
                <a:lnTo>
                  <a:pt x="658" y="499"/>
                </a:lnTo>
                <a:lnTo>
                  <a:pt x="636" y="524"/>
                </a:lnTo>
                <a:lnTo>
                  <a:pt x="620" y="548"/>
                </a:lnTo>
                <a:lnTo>
                  <a:pt x="604" y="588"/>
                </a:lnTo>
                <a:lnTo>
                  <a:pt x="589" y="638"/>
                </a:lnTo>
                <a:lnTo>
                  <a:pt x="573" y="688"/>
                </a:lnTo>
                <a:lnTo>
                  <a:pt x="561" y="718"/>
                </a:lnTo>
                <a:lnTo>
                  <a:pt x="551" y="733"/>
                </a:lnTo>
                <a:lnTo>
                  <a:pt x="536" y="753"/>
                </a:lnTo>
                <a:lnTo>
                  <a:pt x="514" y="778"/>
                </a:lnTo>
                <a:lnTo>
                  <a:pt x="489" y="798"/>
                </a:lnTo>
                <a:lnTo>
                  <a:pt x="485" y="778"/>
                </a:lnTo>
                <a:lnTo>
                  <a:pt x="479" y="723"/>
                </a:lnTo>
                <a:lnTo>
                  <a:pt x="467" y="668"/>
                </a:lnTo>
                <a:lnTo>
                  <a:pt x="451" y="633"/>
                </a:lnTo>
                <a:lnTo>
                  <a:pt x="388" y="683"/>
                </a:lnTo>
                <a:lnTo>
                  <a:pt x="326" y="718"/>
                </a:lnTo>
                <a:lnTo>
                  <a:pt x="263" y="743"/>
                </a:lnTo>
                <a:lnTo>
                  <a:pt x="204" y="758"/>
                </a:lnTo>
                <a:lnTo>
                  <a:pt x="147" y="768"/>
                </a:lnTo>
                <a:lnTo>
                  <a:pt x="94" y="773"/>
                </a:lnTo>
                <a:lnTo>
                  <a:pt x="44" y="783"/>
                </a:lnTo>
                <a:lnTo>
                  <a:pt x="0" y="788"/>
                </a:lnTo>
                <a:lnTo>
                  <a:pt x="9" y="763"/>
                </a:lnTo>
                <a:lnTo>
                  <a:pt x="34" y="728"/>
                </a:lnTo>
                <a:lnTo>
                  <a:pt x="59" y="693"/>
                </a:lnTo>
                <a:lnTo>
                  <a:pt x="78" y="668"/>
                </a:lnTo>
                <a:lnTo>
                  <a:pt x="85" y="658"/>
                </a:lnTo>
                <a:lnTo>
                  <a:pt x="97" y="648"/>
                </a:lnTo>
                <a:lnTo>
                  <a:pt x="110" y="638"/>
                </a:lnTo>
                <a:lnTo>
                  <a:pt x="125" y="623"/>
                </a:lnTo>
                <a:lnTo>
                  <a:pt x="138" y="613"/>
                </a:lnTo>
                <a:lnTo>
                  <a:pt x="150" y="603"/>
                </a:lnTo>
                <a:lnTo>
                  <a:pt x="163" y="598"/>
                </a:lnTo>
                <a:lnTo>
                  <a:pt x="172" y="593"/>
                </a:lnTo>
                <a:lnTo>
                  <a:pt x="172" y="573"/>
                </a:lnTo>
                <a:lnTo>
                  <a:pt x="160" y="529"/>
                </a:lnTo>
                <a:lnTo>
                  <a:pt x="141" y="479"/>
                </a:lnTo>
                <a:lnTo>
                  <a:pt x="138" y="444"/>
                </a:lnTo>
                <a:lnTo>
                  <a:pt x="141" y="429"/>
                </a:lnTo>
                <a:lnTo>
                  <a:pt x="150" y="414"/>
                </a:lnTo>
                <a:lnTo>
                  <a:pt x="163" y="394"/>
                </a:lnTo>
                <a:lnTo>
                  <a:pt x="175" y="374"/>
                </a:lnTo>
                <a:lnTo>
                  <a:pt x="191" y="354"/>
                </a:lnTo>
                <a:lnTo>
                  <a:pt x="207" y="339"/>
                </a:lnTo>
                <a:lnTo>
                  <a:pt x="219" y="324"/>
                </a:lnTo>
                <a:lnTo>
                  <a:pt x="232" y="319"/>
                </a:lnTo>
                <a:lnTo>
                  <a:pt x="244" y="314"/>
                </a:lnTo>
                <a:lnTo>
                  <a:pt x="263" y="309"/>
                </a:lnTo>
                <a:lnTo>
                  <a:pt x="285" y="309"/>
                </a:lnTo>
                <a:lnTo>
                  <a:pt x="310" y="304"/>
                </a:lnTo>
                <a:lnTo>
                  <a:pt x="332" y="304"/>
                </a:lnTo>
                <a:lnTo>
                  <a:pt x="354" y="304"/>
                </a:lnTo>
                <a:lnTo>
                  <a:pt x="373" y="304"/>
                </a:lnTo>
                <a:lnTo>
                  <a:pt x="385" y="304"/>
                </a:lnTo>
                <a:lnTo>
                  <a:pt x="388" y="299"/>
                </a:lnTo>
                <a:lnTo>
                  <a:pt x="382" y="279"/>
                </a:lnTo>
                <a:lnTo>
                  <a:pt x="373" y="254"/>
                </a:lnTo>
                <a:lnTo>
                  <a:pt x="357" y="220"/>
                </a:lnTo>
                <a:lnTo>
                  <a:pt x="344" y="185"/>
                </a:lnTo>
                <a:lnTo>
                  <a:pt x="332" y="155"/>
                </a:lnTo>
                <a:lnTo>
                  <a:pt x="326" y="130"/>
                </a:lnTo>
                <a:lnTo>
                  <a:pt x="326" y="110"/>
                </a:lnTo>
                <a:lnTo>
                  <a:pt x="335" y="120"/>
                </a:lnTo>
                <a:lnTo>
                  <a:pt x="351" y="135"/>
                </a:lnTo>
                <a:lnTo>
                  <a:pt x="373" y="145"/>
                </a:lnTo>
                <a:lnTo>
                  <a:pt x="395" y="155"/>
                </a:lnTo>
                <a:lnTo>
                  <a:pt x="417" y="160"/>
                </a:lnTo>
                <a:lnTo>
                  <a:pt x="435" y="165"/>
                </a:lnTo>
                <a:lnTo>
                  <a:pt x="454" y="160"/>
                </a:lnTo>
                <a:lnTo>
                  <a:pt x="467" y="155"/>
                </a:lnTo>
                <a:lnTo>
                  <a:pt x="479" y="145"/>
                </a:lnTo>
                <a:lnTo>
                  <a:pt x="498" y="130"/>
                </a:lnTo>
                <a:lnTo>
                  <a:pt x="520" y="110"/>
                </a:lnTo>
                <a:lnTo>
                  <a:pt x="545" y="95"/>
                </a:lnTo>
                <a:lnTo>
                  <a:pt x="567" y="80"/>
                </a:lnTo>
                <a:lnTo>
                  <a:pt x="589" y="65"/>
                </a:lnTo>
                <a:lnTo>
                  <a:pt x="608" y="50"/>
                </a:lnTo>
                <a:lnTo>
                  <a:pt x="620" y="45"/>
                </a:lnTo>
                <a:lnTo>
                  <a:pt x="633" y="40"/>
                </a:lnTo>
                <a:lnTo>
                  <a:pt x="645" y="30"/>
                </a:lnTo>
                <a:lnTo>
                  <a:pt x="661" y="15"/>
                </a:lnTo>
                <a:lnTo>
                  <a:pt x="676" y="0"/>
                </a:lnTo>
                <a:lnTo>
                  <a:pt x="676" y="45"/>
                </a:lnTo>
                <a:lnTo>
                  <a:pt x="676" y="90"/>
                </a:lnTo>
                <a:lnTo>
                  <a:pt x="676" y="130"/>
                </a:lnTo>
                <a:lnTo>
                  <a:pt x="67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5"/>
          <p:cNvSpPr/>
          <p:nvPr/>
        </p:nvSpPr>
        <p:spPr>
          <a:xfrm>
            <a:off x="2924280" y="2270160"/>
            <a:ext cx="233280" cy="458640"/>
          </a:xfrm>
          <a:custGeom>
            <a:avLst/>
            <a:gdLst>
              <a:gd name="textAreaLeft" fmla="*/ 0 w 233280"/>
              <a:gd name="textAreaRight" fmla="*/ 233640 w 2332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47" h="289">
                <a:moveTo>
                  <a:pt x="0" y="0"/>
                </a:moveTo>
                <a:lnTo>
                  <a:pt x="15" y="0"/>
                </a:lnTo>
                <a:lnTo>
                  <a:pt x="31" y="5"/>
                </a:lnTo>
                <a:lnTo>
                  <a:pt x="47" y="10"/>
                </a:lnTo>
                <a:lnTo>
                  <a:pt x="65" y="20"/>
                </a:lnTo>
                <a:lnTo>
                  <a:pt x="81" y="30"/>
                </a:lnTo>
                <a:lnTo>
                  <a:pt x="94" y="40"/>
                </a:lnTo>
                <a:lnTo>
                  <a:pt x="103" y="50"/>
                </a:lnTo>
                <a:lnTo>
                  <a:pt x="109" y="60"/>
                </a:lnTo>
                <a:lnTo>
                  <a:pt x="112" y="90"/>
                </a:lnTo>
                <a:lnTo>
                  <a:pt x="112" y="135"/>
                </a:lnTo>
                <a:lnTo>
                  <a:pt x="112" y="174"/>
                </a:lnTo>
                <a:lnTo>
                  <a:pt x="112" y="189"/>
                </a:lnTo>
                <a:lnTo>
                  <a:pt x="147" y="234"/>
                </a:lnTo>
                <a:lnTo>
                  <a:pt x="119" y="249"/>
                </a:lnTo>
                <a:lnTo>
                  <a:pt x="91" y="264"/>
                </a:lnTo>
                <a:lnTo>
                  <a:pt x="72" y="284"/>
                </a:lnTo>
                <a:lnTo>
                  <a:pt x="62" y="289"/>
                </a:lnTo>
                <a:lnTo>
                  <a:pt x="59" y="254"/>
                </a:lnTo>
                <a:lnTo>
                  <a:pt x="56" y="219"/>
                </a:lnTo>
                <a:lnTo>
                  <a:pt x="50" y="189"/>
                </a:lnTo>
                <a:lnTo>
                  <a:pt x="40" y="159"/>
                </a:lnTo>
                <a:lnTo>
                  <a:pt x="31" y="125"/>
                </a:lnTo>
                <a:lnTo>
                  <a:pt x="18" y="85"/>
                </a:lnTo>
                <a:lnTo>
                  <a:pt x="6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6"/>
          <p:cNvSpPr/>
          <p:nvPr/>
        </p:nvSpPr>
        <p:spPr>
          <a:xfrm>
            <a:off x="333360" y="1154160"/>
            <a:ext cx="1317600" cy="139212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830" h="877">
                <a:moveTo>
                  <a:pt x="0" y="628"/>
                </a:moveTo>
                <a:lnTo>
                  <a:pt x="25" y="588"/>
                </a:lnTo>
                <a:lnTo>
                  <a:pt x="53" y="539"/>
                </a:lnTo>
                <a:lnTo>
                  <a:pt x="81" y="494"/>
                </a:lnTo>
                <a:lnTo>
                  <a:pt x="109" y="449"/>
                </a:lnTo>
                <a:lnTo>
                  <a:pt x="138" y="404"/>
                </a:lnTo>
                <a:lnTo>
                  <a:pt x="163" y="369"/>
                </a:lnTo>
                <a:lnTo>
                  <a:pt x="185" y="339"/>
                </a:lnTo>
                <a:lnTo>
                  <a:pt x="200" y="324"/>
                </a:lnTo>
                <a:lnTo>
                  <a:pt x="216" y="309"/>
                </a:lnTo>
                <a:lnTo>
                  <a:pt x="241" y="289"/>
                </a:lnTo>
                <a:lnTo>
                  <a:pt x="272" y="260"/>
                </a:lnTo>
                <a:lnTo>
                  <a:pt x="304" y="230"/>
                </a:lnTo>
                <a:lnTo>
                  <a:pt x="332" y="195"/>
                </a:lnTo>
                <a:lnTo>
                  <a:pt x="357" y="165"/>
                </a:lnTo>
                <a:lnTo>
                  <a:pt x="376" y="135"/>
                </a:lnTo>
                <a:lnTo>
                  <a:pt x="385" y="105"/>
                </a:lnTo>
                <a:lnTo>
                  <a:pt x="470" y="220"/>
                </a:lnTo>
                <a:lnTo>
                  <a:pt x="492" y="200"/>
                </a:lnTo>
                <a:lnTo>
                  <a:pt x="517" y="175"/>
                </a:lnTo>
                <a:lnTo>
                  <a:pt x="545" y="145"/>
                </a:lnTo>
                <a:lnTo>
                  <a:pt x="570" y="120"/>
                </a:lnTo>
                <a:lnTo>
                  <a:pt x="595" y="95"/>
                </a:lnTo>
                <a:lnTo>
                  <a:pt x="617" y="80"/>
                </a:lnTo>
                <a:lnTo>
                  <a:pt x="633" y="65"/>
                </a:lnTo>
                <a:lnTo>
                  <a:pt x="642" y="60"/>
                </a:lnTo>
                <a:lnTo>
                  <a:pt x="651" y="60"/>
                </a:lnTo>
                <a:lnTo>
                  <a:pt x="670" y="55"/>
                </a:lnTo>
                <a:lnTo>
                  <a:pt x="695" y="55"/>
                </a:lnTo>
                <a:lnTo>
                  <a:pt x="723" y="45"/>
                </a:lnTo>
                <a:lnTo>
                  <a:pt x="752" y="40"/>
                </a:lnTo>
                <a:lnTo>
                  <a:pt x="783" y="30"/>
                </a:lnTo>
                <a:lnTo>
                  <a:pt x="808" y="15"/>
                </a:lnTo>
                <a:lnTo>
                  <a:pt x="830" y="0"/>
                </a:lnTo>
                <a:lnTo>
                  <a:pt x="805" y="35"/>
                </a:lnTo>
                <a:lnTo>
                  <a:pt x="780" y="80"/>
                </a:lnTo>
                <a:lnTo>
                  <a:pt x="755" y="130"/>
                </a:lnTo>
                <a:lnTo>
                  <a:pt x="730" y="185"/>
                </a:lnTo>
                <a:lnTo>
                  <a:pt x="708" y="240"/>
                </a:lnTo>
                <a:lnTo>
                  <a:pt x="689" y="294"/>
                </a:lnTo>
                <a:lnTo>
                  <a:pt x="673" y="344"/>
                </a:lnTo>
                <a:lnTo>
                  <a:pt x="661" y="384"/>
                </a:lnTo>
                <a:lnTo>
                  <a:pt x="645" y="359"/>
                </a:lnTo>
                <a:lnTo>
                  <a:pt x="629" y="334"/>
                </a:lnTo>
                <a:lnTo>
                  <a:pt x="617" y="309"/>
                </a:lnTo>
                <a:lnTo>
                  <a:pt x="611" y="294"/>
                </a:lnTo>
                <a:lnTo>
                  <a:pt x="611" y="275"/>
                </a:lnTo>
                <a:lnTo>
                  <a:pt x="614" y="250"/>
                </a:lnTo>
                <a:lnTo>
                  <a:pt x="614" y="235"/>
                </a:lnTo>
                <a:lnTo>
                  <a:pt x="614" y="225"/>
                </a:lnTo>
                <a:lnTo>
                  <a:pt x="592" y="245"/>
                </a:lnTo>
                <a:lnTo>
                  <a:pt x="576" y="275"/>
                </a:lnTo>
                <a:lnTo>
                  <a:pt x="567" y="299"/>
                </a:lnTo>
                <a:lnTo>
                  <a:pt x="564" y="324"/>
                </a:lnTo>
                <a:lnTo>
                  <a:pt x="535" y="369"/>
                </a:lnTo>
                <a:lnTo>
                  <a:pt x="507" y="429"/>
                </a:lnTo>
                <a:lnTo>
                  <a:pt x="479" y="489"/>
                </a:lnTo>
                <a:lnTo>
                  <a:pt x="457" y="564"/>
                </a:lnTo>
                <a:lnTo>
                  <a:pt x="435" y="638"/>
                </a:lnTo>
                <a:lnTo>
                  <a:pt x="420" y="718"/>
                </a:lnTo>
                <a:lnTo>
                  <a:pt x="413" y="798"/>
                </a:lnTo>
                <a:lnTo>
                  <a:pt x="413" y="877"/>
                </a:lnTo>
                <a:lnTo>
                  <a:pt x="391" y="877"/>
                </a:lnTo>
                <a:lnTo>
                  <a:pt x="366" y="872"/>
                </a:lnTo>
                <a:lnTo>
                  <a:pt x="344" y="872"/>
                </a:lnTo>
                <a:lnTo>
                  <a:pt x="322" y="867"/>
                </a:lnTo>
                <a:lnTo>
                  <a:pt x="301" y="862"/>
                </a:lnTo>
                <a:lnTo>
                  <a:pt x="279" y="857"/>
                </a:lnTo>
                <a:lnTo>
                  <a:pt x="260" y="853"/>
                </a:lnTo>
                <a:lnTo>
                  <a:pt x="244" y="848"/>
                </a:lnTo>
                <a:lnTo>
                  <a:pt x="272" y="748"/>
                </a:lnTo>
                <a:lnTo>
                  <a:pt x="297" y="633"/>
                </a:lnTo>
                <a:lnTo>
                  <a:pt x="313" y="524"/>
                </a:lnTo>
                <a:lnTo>
                  <a:pt x="319" y="444"/>
                </a:lnTo>
                <a:lnTo>
                  <a:pt x="291" y="479"/>
                </a:lnTo>
                <a:lnTo>
                  <a:pt x="257" y="514"/>
                </a:lnTo>
                <a:lnTo>
                  <a:pt x="222" y="549"/>
                </a:lnTo>
                <a:lnTo>
                  <a:pt x="188" y="583"/>
                </a:lnTo>
                <a:lnTo>
                  <a:pt x="153" y="618"/>
                </a:lnTo>
                <a:lnTo>
                  <a:pt x="119" y="648"/>
                </a:lnTo>
                <a:lnTo>
                  <a:pt x="94" y="673"/>
                </a:lnTo>
                <a:lnTo>
                  <a:pt x="72" y="693"/>
                </a:lnTo>
                <a:lnTo>
                  <a:pt x="50" y="683"/>
                </a:lnTo>
                <a:lnTo>
                  <a:pt x="25" y="658"/>
                </a:lnTo>
                <a:lnTo>
                  <a:pt x="6" y="638"/>
                </a:lnTo>
                <a:lnTo>
                  <a:pt x="0" y="6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7"/>
          <p:cNvSpPr/>
          <p:nvPr/>
        </p:nvSpPr>
        <p:spPr>
          <a:xfrm>
            <a:off x="1601640" y="561960"/>
            <a:ext cx="277920" cy="600120"/>
          </a:xfrm>
          <a:custGeom>
            <a:avLst/>
            <a:gdLst>
              <a:gd name="textAreaLeft" fmla="*/ 0 w 277920"/>
              <a:gd name="textAreaRight" fmla="*/ 278280 w 2779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75" h="378">
                <a:moveTo>
                  <a:pt x="137" y="0"/>
                </a:moveTo>
                <a:lnTo>
                  <a:pt x="134" y="40"/>
                </a:lnTo>
                <a:lnTo>
                  <a:pt x="131" y="104"/>
                </a:lnTo>
                <a:lnTo>
                  <a:pt x="131" y="169"/>
                </a:lnTo>
                <a:lnTo>
                  <a:pt x="137" y="204"/>
                </a:lnTo>
                <a:lnTo>
                  <a:pt x="153" y="224"/>
                </a:lnTo>
                <a:lnTo>
                  <a:pt x="166" y="264"/>
                </a:lnTo>
                <a:lnTo>
                  <a:pt x="175" y="314"/>
                </a:lnTo>
                <a:lnTo>
                  <a:pt x="166" y="378"/>
                </a:lnTo>
                <a:lnTo>
                  <a:pt x="150" y="354"/>
                </a:lnTo>
                <a:lnTo>
                  <a:pt x="131" y="329"/>
                </a:lnTo>
                <a:lnTo>
                  <a:pt x="112" y="299"/>
                </a:lnTo>
                <a:lnTo>
                  <a:pt x="90" y="264"/>
                </a:lnTo>
                <a:lnTo>
                  <a:pt x="65" y="239"/>
                </a:lnTo>
                <a:lnTo>
                  <a:pt x="43" y="214"/>
                </a:lnTo>
                <a:lnTo>
                  <a:pt x="21" y="204"/>
                </a:lnTo>
                <a:lnTo>
                  <a:pt x="0" y="199"/>
                </a:lnTo>
                <a:lnTo>
                  <a:pt x="6" y="164"/>
                </a:lnTo>
                <a:lnTo>
                  <a:pt x="18" y="134"/>
                </a:lnTo>
                <a:lnTo>
                  <a:pt x="34" y="104"/>
                </a:lnTo>
                <a:lnTo>
                  <a:pt x="53" y="75"/>
                </a:lnTo>
                <a:lnTo>
                  <a:pt x="75" y="50"/>
                </a:lnTo>
                <a:lnTo>
                  <a:pt x="97" y="30"/>
                </a:lnTo>
                <a:lnTo>
                  <a:pt x="119" y="10"/>
                </a:lnTo>
                <a:lnTo>
                  <a:pt x="1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8"/>
          <p:cNvSpPr/>
          <p:nvPr/>
        </p:nvSpPr>
        <p:spPr>
          <a:xfrm>
            <a:off x="1949400" y="625320"/>
            <a:ext cx="154080" cy="308160"/>
          </a:xfrm>
          <a:custGeom>
            <a:avLst/>
            <a:gdLst>
              <a:gd name="textAreaLeft" fmla="*/ 0 w 154080"/>
              <a:gd name="textAreaRight" fmla="*/ 154440 w 1540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97" h="194">
                <a:moveTo>
                  <a:pt x="3" y="39"/>
                </a:moveTo>
                <a:lnTo>
                  <a:pt x="15" y="30"/>
                </a:lnTo>
                <a:lnTo>
                  <a:pt x="47" y="15"/>
                </a:lnTo>
                <a:lnTo>
                  <a:pt x="78" y="0"/>
                </a:lnTo>
                <a:lnTo>
                  <a:pt x="94" y="0"/>
                </a:lnTo>
                <a:lnTo>
                  <a:pt x="97" y="20"/>
                </a:lnTo>
                <a:lnTo>
                  <a:pt x="91" y="49"/>
                </a:lnTo>
                <a:lnTo>
                  <a:pt x="78" y="79"/>
                </a:lnTo>
                <a:lnTo>
                  <a:pt x="62" y="89"/>
                </a:lnTo>
                <a:lnTo>
                  <a:pt x="50" y="114"/>
                </a:lnTo>
                <a:lnTo>
                  <a:pt x="44" y="149"/>
                </a:lnTo>
                <a:lnTo>
                  <a:pt x="41" y="179"/>
                </a:lnTo>
                <a:lnTo>
                  <a:pt x="41" y="189"/>
                </a:lnTo>
                <a:lnTo>
                  <a:pt x="34" y="194"/>
                </a:lnTo>
                <a:lnTo>
                  <a:pt x="25" y="194"/>
                </a:lnTo>
                <a:lnTo>
                  <a:pt x="12" y="189"/>
                </a:lnTo>
                <a:lnTo>
                  <a:pt x="3" y="169"/>
                </a:lnTo>
                <a:lnTo>
                  <a:pt x="0" y="134"/>
                </a:lnTo>
                <a:lnTo>
                  <a:pt x="0" y="104"/>
                </a:lnTo>
                <a:lnTo>
                  <a:pt x="0" y="74"/>
                </a:lnTo>
                <a:lnTo>
                  <a:pt x="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9"/>
          <p:cNvSpPr/>
          <p:nvPr/>
        </p:nvSpPr>
        <p:spPr>
          <a:xfrm>
            <a:off x="988920" y="316080"/>
            <a:ext cx="3143520" cy="3062160"/>
          </a:xfrm>
          <a:custGeom>
            <a:avLst/>
            <a:gdLst>
              <a:gd name="textAreaLeft" fmla="*/ 0 w 3143520"/>
              <a:gd name="textAreaRight" fmla="*/ 3143880 w 3143520"/>
              <a:gd name="textAreaTop" fmla="*/ 0 h 3062160"/>
              <a:gd name="textAreaBottom" fmla="*/ 3062520 h 3062160"/>
            </a:gdLst>
            <a:ahLst/>
            <a:rect l="textAreaLeft" t="textAreaTop" r="textAreaRight" b="textAreaBottom"/>
            <a:pathLst>
              <a:path w="1980" h="1929">
                <a:moveTo>
                  <a:pt x="780" y="85"/>
                </a:moveTo>
                <a:lnTo>
                  <a:pt x="790" y="100"/>
                </a:lnTo>
                <a:lnTo>
                  <a:pt x="802" y="120"/>
                </a:lnTo>
                <a:lnTo>
                  <a:pt x="815" y="150"/>
                </a:lnTo>
                <a:lnTo>
                  <a:pt x="830" y="180"/>
                </a:lnTo>
                <a:lnTo>
                  <a:pt x="843" y="210"/>
                </a:lnTo>
                <a:lnTo>
                  <a:pt x="859" y="239"/>
                </a:lnTo>
                <a:lnTo>
                  <a:pt x="874" y="269"/>
                </a:lnTo>
                <a:lnTo>
                  <a:pt x="887" y="289"/>
                </a:lnTo>
                <a:lnTo>
                  <a:pt x="902" y="309"/>
                </a:lnTo>
                <a:lnTo>
                  <a:pt x="921" y="339"/>
                </a:lnTo>
                <a:lnTo>
                  <a:pt x="940" y="374"/>
                </a:lnTo>
                <a:lnTo>
                  <a:pt x="962" y="419"/>
                </a:lnTo>
                <a:lnTo>
                  <a:pt x="981" y="464"/>
                </a:lnTo>
                <a:lnTo>
                  <a:pt x="1003" y="509"/>
                </a:lnTo>
                <a:lnTo>
                  <a:pt x="1021" y="558"/>
                </a:lnTo>
                <a:lnTo>
                  <a:pt x="1037" y="608"/>
                </a:lnTo>
                <a:lnTo>
                  <a:pt x="1021" y="673"/>
                </a:lnTo>
                <a:lnTo>
                  <a:pt x="1006" y="748"/>
                </a:lnTo>
                <a:lnTo>
                  <a:pt x="990" y="827"/>
                </a:lnTo>
                <a:lnTo>
                  <a:pt x="981" y="897"/>
                </a:lnTo>
                <a:lnTo>
                  <a:pt x="971" y="867"/>
                </a:lnTo>
                <a:lnTo>
                  <a:pt x="956" y="842"/>
                </a:lnTo>
                <a:lnTo>
                  <a:pt x="940" y="817"/>
                </a:lnTo>
                <a:lnTo>
                  <a:pt x="921" y="798"/>
                </a:lnTo>
                <a:lnTo>
                  <a:pt x="902" y="783"/>
                </a:lnTo>
                <a:lnTo>
                  <a:pt x="887" y="768"/>
                </a:lnTo>
                <a:lnTo>
                  <a:pt x="874" y="758"/>
                </a:lnTo>
                <a:lnTo>
                  <a:pt x="865" y="753"/>
                </a:lnTo>
                <a:lnTo>
                  <a:pt x="849" y="753"/>
                </a:lnTo>
                <a:lnTo>
                  <a:pt x="833" y="753"/>
                </a:lnTo>
                <a:lnTo>
                  <a:pt x="815" y="758"/>
                </a:lnTo>
                <a:lnTo>
                  <a:pt x="796" y="758"/>
                </a:lnTo>
                <a:lnTo>
                  <a:pt x="793" y="728"/>
                </a:lnTo>
                <a:lnTo>
                  <a:pt x="780" y="688"/>
                </a:lnTo>
                <a:lnTo>
                  <a:pt x="765" y="638"/>
                </a:lnTo>
                <a:lnTo>
                  <a:pt x="746" y="583"/>
                </a:lnTo>
                <a:lnTo>
                  <a:pt x="733" y="593"/>
                </a:lnTo>
                <a:lnTo>
                  <a:pt x="714" y="613"/>
                </a:lnTo>
                <a:lnTo>
                  <a:pt x="692" y="648"/>
                </a:lnTo>
                <a:lnTo>
                  <a:pt x="667" y="683"/>
                </a:lnTo>
                <a:lnTo>
                  <a:pt x="642" y="723"/>
                </a:lnTo>
                <a:lnTo>
                  <a:pt x="624" y="758"/>
                </a:lnTo>
                <a:lnTo>
                  <a:pt x="611" y="788"/>
                </a:lnTo>
                <a:lnTo>
                  <a:pt x="605" y="808"/>
                </a:lnTo>
                <a:lnTo>
                  <a:pt x="592" y="852"/>
                </a:lnTo>
                <a:lnTo>
                  <a:pt x="564" y="922"/>
                </a:lnTo>
                <a:lnTo>
                  <a:pt x="536" y="987"/>
                </a:lnTo>
                <a:lnTo>
                  <a:pt x="514" y="1027"/>
                </a:lnTo>
                <a:lnTo>
                  <a:pt x="511" y="1062"/>
                </a:lnTo>
                <a:lnTo>
                  <a:pt x="520" y="1116"/>
                </a:lnTo>
                <a:lnTo>
                  <a:pt x="536" y="1176"/>
                </a:lnTo>
                <a:lnTo>
                  <a:pt x="555" y="1226"/>
                </a:lnTo>
                <a:lnTo>
                  <a:pt x="558" y="1251"/>
                </a:lnTo>
                <a:lnTo>
                  <a:pt x="552" y="1281"/>
                </a:lnTo>
                <a:lnTo>
                  <a:pt x="539" y="1321"/>
                </a:lnTo>
                <a:lnTo>
                  <a:pt x="520" y="1356"/>
                </a:lnTo>
                <a:lnTo>
                  <a:pt x="501" y="1395"/>
                </a:lnTo>
                <a:lnTo>
                  <a:pt x="483" y="1425"/>
                </a:lnTo>
                <a:lnTo>
                  <a:pt x="464" y="1455"/>
                </a:lnTo>
                <a:lnTo>
                  <a:pt x="448" y="1470"/>
                </a:lnTo>
                <a:lnTo>
                  <a:pt x="439" y="1425"/>
                </a:lnTo>
                <a:lnTo>
                  <a:pt x="420" y="1361"/>
                </a:lnTo>
                <a:lnTo>
                  <a:pt x="398" y="1306"/>
                </a:lnTo>
                <a:lnTo>
                  <a:pt x="376" y="1266"/>
                </a:lnTo>
                <a:lnTo>
                  <a:pt x="364" y="1276"/>
                </a:lnTo>
                <a:lnTo>
                  <a:pt x="348" y="1306"/>
                </a:lnTo>
                <a:lnTo>
                  <a:pt x="326" y="1351"/>
                </a:lnTo>
                <a:lnTo>
                  <a:pt x="301" y="1395"/>
                </a:lnTo>
                <a:lnTo>
                  <a:pt x="279" y="1445"/>
                </a:lnTo>
                <a:lnTo>
                  <a:pt x="254" y="1490"/>
                </a:lnTo>
                <a:lnTo>
                  <a:pt x="235" y="1525"/>
                </a:lnTo>
                <a:lnTo>
                  <a:pt x="223" y="1545"/>
                </a:lnTo>
                <a:lnTo>
                  <a:pt x="207" y="1555"/>
                </a:lnTo>
                <a:lnTo>
                  <a:pt x="185" y="1570"/>
                </a:lnTo>
                <a:lnTo>
                  <a:pt x="154" y="1580"/>
                </a:lnTo>
                <a:lnTo>
                  <a:pt x="122" y="1595"/>
                </a:lnTo>
                <a:lnTo>
                  <a:pt x="85" y="1610"/>
                </a:lnTo>
                <a:lnTo>
                  <a:pt x="54" y="1625"/>
                </a:lnTo>
                <a:lnTo>
                  <a:pt x="22" y="1640"/>
                </a:lnTo>
                <a:lnTo>
                  <a:pt x="0" y="1660"/>
                </a:lnTo>
                <a:lnTo>
                  <a:pt x="50" y="1674"/>
                </a:lnTo>
                <a:lnTo>
                  <a:pt x="101" y="1689"/>
                </a:lnTo>
                <a:lnTo>
                  <a:pt x="151" y="1704"/>
                </a:lnTo>
                <a:lnTo>
                  <a:pt x="201" y="1714"/>
                </a:lnTo>
                <a:lnTo>
                  <a:pt x="248" y="1724"/>
                </a:lnTo>
                <a:lnTo>
                  <a:pt x="288" y="1729"/>
                </a:lnTo>
                <a:lnTo>
                  <a:pt x="329" y="1734"/>
                </a:lnTo>
                <a:lnTo>
                  <a:pt x="360" y="1734"/>
                </a:lnTo>
                <a:lnTo>
                  <a:pt x="411" y="1734"/>
                </a:lnTo>
                <a:lnTo>
                  <a:pt x="464" y="1729"/>
                </a:lnTo>
                <a:lnTo>
                  <a:pt x="523" y="1719"/>
                </a:lnTo>
                <a:lnTo>
                  <a:pt x="580" y="1714"/>
                </a:lnTo>
                <a:lnTo>
                  <a:pt x="630" y="1709"/>
                </a:lnTo>
                <a:lnTo>
                  <a:pt x="674" y="1709"/>
                </a:lnTo>
                <a:lnTo>
                  <a:pt x="708" y="1709"/>
                </a:lnTo>
                <a:lnTo>
                  <a:pt x="730" y="1714"/>
                </a:lnTo>
                <a:lnTo>
                  <a:pt x="730" y="1704"/>
                </a:lnTo>
                <a:lnTo>
                  <a:pt x="730" y="1674"/>
                </a:lnTo>
                <a:lnTo>
                  <a:pt x="730" y="1640"/>
                </a:lnTo>
                <a:lnTo>
                  <a:pt x="730" y="1615"/>
                </a:lnTo>
                <a:lnTo>
                  <a:pt x="736" y="1590"/>
                </a:lnTo>
                <a:lnTo>
                  <a:pt x="752" y="1560"/>
                </a:lnTo>
                <a:lnTo>
                  <a:pt x="774" y="1535"/>
                </a:lnTo>
                <a:lnTo>
                  <a:pt x="793" y="1510"/>
                </a:lnTo>
                <a:lnTo>
                  <a:pt x="793" y="1495"/>
                </a:lnTo>
                <a:lnTo>
                  <a:pt x="796" y="1455"/>
                </a:lnTo>
                <a:lnTo>
                  <a:pt x="802" y="1395"/>
                </a:lnTo>
                <a:lnTo>
                  <a:pt x="812" y="1331"/>
                </a:lnTo>
                <a:lnTo>
                  <a:pt x="833" y="1381"/>
                </a:lnTo>
                <a:lnTo>
                  <a:pt x="859" y="1460"/>
                </a:lnTo>
                <a:lnTo>
                  <a:pt x="880" y="1540"/>
                </a:lnTo>
                <a:lnTo>
                  <a:pt x="899" y="1590"/>
                </a:lnTo>
                <a:lnTo>
                  <a:pt x="909" y="1610"/>
                </a:lnTo>
                <a:lnTo>
                  <a:pt x="918" y="1635"/>
                </a:lnTo>
                <a:lnTo>
                  <a:pt x="931" y="1670"/>
                </a:lnTo>
                <a:lnTo>
                  <a:pt x="946" y="1709"/>
                </a:lnTo>
                <a:lnTo>
                  <a:pt x="962" y="1754"/>
                </a:lnTo>
                <a:lnTo>
                  <a:pt x="978" y="1794"/>
                </a:lnTo>
                <a:lnTo>
                  <a:pt x="993" y="1829"/>
                </a:lnTo>
                <a:lnTo>
                  <a:pt x="1012" y="1859"/>
                </a:lnTo>
                <a:lnTo>
                  <a:pt x="1053" y="1869"/>
                </a:lnTo>
                <a:lnTo>
                  <a:pt x="1103" y="1879"/>
                </a:lnTo>
                <a:lnTo>
                  <a:pt x="1156" y="1889"/>
                </a:lnTo>
                <a:lnTo>
                  <a:pt x="1212" y="1894"/>
                </a:lnTo>
                <a:lnTo>
                  <a:pt x="1269" y="1904"/>
                </a:lnTo>
                <a:lnTo>
                  <a:pt x="1319" y="1914"/>
                </a:lnTo>
                <a:lnTo>
                  <a:pt x="1363" y="1919"/>
                </a:lnTo>
                <a:lnTo>
                  <a:pt x="1397" y="1929"/>
                </a:lnTo>
                <a:lnTo>
                  <a:pt x="1372" y="1894"/>
                </a:lnTo>
                <a:lnTo>
                  <a:pt x="1347" y="1854"/>
                </a:lnTo>
                <a:lnTo>
                  <a:pt x="1319" y="1814"/>
                </a:lnTo>
                <a:lnTo>
                  <a:pt x="1291" y="1774"/>
                </a:lnTo>
                <a:lnTo>
                  <a:pt x="1266" y="1734"/>
                </a:lnTo>
                <a:lnTo>
                  <a:pt x="1247" y="1704"/>
                </a:lnTo>
                <a:lnTo>
                  <a:pt x="1231" y="1679"/>
                </a:lnTo>
                <a:lnTo>
                  <a:pt x="1222" y="1670"/>
                </a:lnTo>
                <a:lnTo>
                  <a:pt x="1206" y="1660"/>
                </a:lnTo>
                <a:lnTo>
                  <a:pt x="1184" y="1650"/>
                </a:lnTo>
                <a:lnTo>
                  <a:pt x="1159" y="1640"/>
                </a:lnTo>
                <a:lnTo>
                  <a:pt x="1134" y="1635"/>
                </a:lnTo>
                <a:lnTo>
                  <a:pt x="1128" y="1605"/>
                </a:lnTo>
                <a:lnTo>
                  <a:pt x="1134" y="1565"/>
                </a:lnTo>
                <a:lnTo>
                  <a:pt x="1144" y="1525"/>
                </a:lnTo>
                <a:lnTo>
                  <a:pt x="1156" y="1495"/>
                </a:lnTo>
                <a:lnTo>
                  <a:pt x="1162" y="1460"/>
                </a:lnTo>
                <a:lnTo>
                  <a:pt x="1159" y="1400"/>
                </a:lnTo>
                <a:lnTo>
                  <a:pt x="1153" y="1341"/>
                </a:lnTo>
                <a:lnTo>
                  <a:pt x="1140" y="1291"/>
                </a:lnTo>
                <a:lnTo>
                  <a:pt x="1122" y="1221"/>
                </a:lnTo>
                <a:lnTo>
                  <a:pt x="1093" y="1121"/>
                </a:lnTo>
                <a:lnTo>
                  <a:pt x="1068" y="1027"/>
                </a:lnTo>
                <a:lnTo>
                  <a:pt x="1059" y="957"/>
                </a:lnTo>
                <a:lnTo>
                  <a:pt x="1062" y="912"/>
                </a:lnTo>
                <a:lnTo>
                  <a:pt x="1068" y="867"/>
                </a:lnTo>
                <a:lnTo>
                  <a:pt x="1075" y="832"/>
                </a:lnTo>
                <a:lnTo>
                  <a:pt x="1087" y="808"/>
                </a:lnTo>
                <a:lnTo>
                  <a:pt x="1106" y="788"/>
                </a:lnTo>
                <a:lnTo>
                  <a:pt x="1131" y="758"/>
                </a:lnTo>
                <a:lnTo>
                  <a:pt x="1153" y="738"/>
                </a:lnTo>
                <a:lnTo>
                  <a:pt x="1172" y="728"/>
                </a:lnTo>
                <a:lnTo>
                  <a:pt x="1197" y="783"/>
                </a:lnTo>
                <a:lnTo>
                  <a:pt x="1228" y="847"/>
                </a:lnTo>
                <a:lnTo>
                  <a:pt x="1263" y="922"/>
                </a:lnTo>
                <a:lnTo>
                  <a:pt x="1297" y="997"/>
                </a:lnTo>
                <a:lnTo>
                  <a:pt x="1331" y="1067"/>
                </a:lnTo>
                <a:lnTo>
                  <a:pt x="1360" y="1126"/>
                </a:lnTo>
                <a:lnTo>
                  <a:pt x="1382" y="1176"/>
                </a:lnTo>
                <a:lnTo>
                  <a:pt x="1397" y="1206"/>
                </a:lnTo>
                <a:lnTo>
                  <a:pt x="1410" y="1226"/>
                </a:lnTo>
                <a:lnTo>
                  <a:pt x="1429" y="1256"/>
                </a:lnTo>
                <a:lnTo>
                  <a:pt x="1447" y="1291"/>
                </a:lnTo>
                <a:lnTo>
                  <a:pt x="1466" y="1326"/>
                </a:lnTo>
                <a:lnTo>
                  <a:pt x="1485" y="1361"/>
                </a:lnTo>
                <a:lnTo>
                  <a:pt x="1501" y="1390"/>
                </a:lnTo>
                <a:lnTo>
                  <a:pt x="1513" y="1420"/>
                </a:lnTo>
                <a:lnTo>
                  <a:pt x="1516" y="1445"/>
                </a:lnTo>
                <a:lnTo>
                  <a:pt x="1516" y="1495"/>
                </a:lnTo>
                <a:lnTo>
                  <a:pt x="1516" y="1550"/>
                </a:lnTo>
                <a:lnTo>
                  <a:pt x="1516" y="1605"/>
                </a:lnTo>
                <a:lnTo>
                  <a:pt x="1513" y="1660"/>
                </a:lnTo>
                <a:lnTo>
                  <a:pt x="1516" y="1709"/>
                </a:lnTo>
                <a:lnTo>
                  <a:pt x="1532" y="1754"/>
                </a:lnTo>
                <a:lnTo>
                  <a:pt x="1554" y="1794"/>
                </a:lnTo>
                <a:lnTo>
                  <a:pt x="1576" y="1809"/>
                </a:lnTo>
                <a:lnTo>
                  <a:pt x="1588" y="1804"/>
                </a:lnTo>
                <a:lnTo>
                  <a:pt x="1604" y="1789"/>
                </a:lnTo>
                <a:lnTo>
                  <a:pt x="1623" y="1774"/>
                </a:lnTo>
                <a:lnTo>
                  <a:pt x="1642" y="1749"/>
                </a:lnTo>
                <a:lnTo>
                  <a:pt x="1660" y="1724"/>
                </a:lnTo>
                <a:lnTo>
                  <a:pt x="1679" y="1699"/>
                </a:lnTo>
                <a:lnTo>
                  <a:pt x="1692" y="1679"/>
                </a:lnTo>
                <a:lnTo>
                  <a:pt x="1701" y="1665"/>
                </a:lnTo>
                <a:lnTo>
                  <a:pt x="1710" y="1645"/>
                </a:lnTo>
                <a:lnTo>
                  <a:pt x="1720" y="1615"/>
                </a:lnTo>
                <a:lnTo>
                  <a:pt x="1735" y="1575"/>
                </a:lnTo>
                <a:lnTo>
                  <a:pt x="1754" y="1535"/>
                </a:lnTo>
                <a:lnTo>
                  <a:pt x="1770" y="1495"/>
                </a:lnTo>
                <a:lnTo>
                  <a:pt x="1786" y="1455"/>
                </a:lnTo>
                <a:lnTo>
                  <a:pt x="1801" y="1425"/>
                </a:lnTo>
                <a:lnTo>
                  <a:pt x="1814" y="1405"/>
                </a:lnTo>
                <a:lnTo>
                  <a:pt x="1836" y="1371"/>
                </a:lnTo>
                <a:lnTo>
                  <a:pt x="1864" y="1321"/>
                </a:lnTo>
                <a:lnTo>
                  <a:pt x="1886" y="1281"/>
                </a:lnTo>
                <a:lnTo>
                  <a:pt x="1905" y="1251"/>
                </a:lnTo>
                <a:lnTo>
                  <a:pt x="1923" y="1226"/>
                </a:lnTo>
                <a:lnTo>
                  <a:pt x="1948" y="1191"/>
                </a:lnTo>
                <a:lnTo>
                  <a:pt x="1970" y="1166"/>
                </a:lnTo>
                <a:lnTo>
                  <a:pt x="1980" y="1151"/>
                </a:lnTo>
                <a:lnTo>
                  <a:pt x="1961" y="1166"/>
                </a:lnTo>
                <a:lnTo>
                  <a:pt x="1939" y="1186"/>
                </a:lnTo>
                <a:lnTo>
                  <a:pt x="1917" y="1201"/>
                </a:lnTo>
                <a:lnTo>
                  <a:pt x="1889" y="1216"/>
                </a:lnTo>
                <a:lnTo>
                  <a:pt x="1861" y="1236"/>
                </a:lnTo>
                <a:lnTo>
                  <a:pt x="1833" y="1251"/>
                </a:lnTo>
                <a:lnTo>
                  <a:pt x="1804" y="1261"/>
                </a:lnTo>
                <a:lnTo>
                  <a:pt x="1779" y="1271"/>
                </a:lnTo>
                <a:lnTo>
                  <a:pt x="1754" y="1281"/>
                </a:lnTo>
                <a:lnTo>
                  <a:pt x="1732" y="1296"/>
                </a:lnTo>
                <a:lnTo>
                  <a:pt x="1710" y="1311"/>
                </a:lnTo>
                <a:lnTo>
                  <a:pt x="1689" y="1331"/>
                </a:lnTo>
                <a:lnTo>
                  <a:pt x="1670" y="1346"/>
                </a:lnTo>
                <a:lnTo>
                  <a:pt x="1654" y="1361"/>
                </a:lnTo>
                <a:lnTo>
                  <a:pt x="1638" y="1376"/>
                </a:lnTo>
                <a:lnTo>
                  <a:pt x="1629" y="1381"/>
                </a:lnTo>
                <a:lnTo>
                  <a:pt x="1588" y="1321"/>
                </a:lnTo>
                <a:lnTo>
                  <a:pt x="1541" y="1251"/>
                </a:lnTo>
                <a:lnTo>
                  <a:pt x="1494" y="1171"/>
                </a:lnTo>
                <a:lnTo>
                  <a:pt x="1444" y="1087"/>
                </a:lnTo>
                <a:lnTo>
                  <a:pt x="1394" y="1007"/>
                </a:lnTo>
                <a:lnTo>
                  <a:pt x="1350" y="932"/>
                </a:lnTo>
                <a:lnTo>
                  <a:pt x="1316" y="862"/>
                </a:lnTo>
                <a:lnTo>
                  <a:pt x="1288" y="812"/>
                </a:lnTo>
                <a:lnTo>
                  <a:pt x="1266" y="763"/>
                </a:lnTo>
                <a:lnTo>
                  <a:pt x="1234" y="708"/>
                </a:lnTo>
                <a:lnTo>
                  <a:pt x="1203" y="643"/>
                </a:lnTo>
                <a:lnTo>
                  <a:pt x="1169" y="578"/>
                </a:lnTo>
                <a:lnTo>
                  <a:pt x="1131" y="514"/>
                </a:lnTo>
                <a:lnTo>
                  <a:pt x="1097" y="459"/>
                </a:lnTo>
                <a:lnTo>
                  <a:pt x="1065" y="409"/>
                </a:lnTo>
                <a:lnTo>
                  <a:pt x="1040" y="379"/>
                </a:lnTo>
                <a:lnTo>
                  <a:pt x="1018" y="354"/>
                </a:lnTo>
                <a:lnTo>
                  <a:pt x="999" y="339"/>
                </a:lnTo>
                <a:lnTo>
                  <a:pt x="981" y="319"/>
                </a:lnTo>
                <a:lnTo>
                  <a:pt x="965" y="304"/>
                </a:lnTo>
                <a:lnTo>
                  <a:pt x="952" y="289"/>
                </a:lnTo>
                <a:lnTo>
                  <a:pt x="940" y="274"/>
                </a:lnTo>
                <a:lnTo>
                  <a:pt x="927" y="259"/>
                </a:lnTo>
                <a:lnTo>
                  <a:pt x="918" y="244"/>
                </a:lnTo>
                <a:lnTo>
                  <a:pt x="905" y="225"/>
                </a:lnTo>
                <a:lnTo>
                  <a:pt x="890" y="190"/>
                </a:lnTo>
                <a:lnTo>
                  <a:pt x="868" y="155"/>
                </a:lnTo>
                <a:lnTo>
                  <a:pt x="846" y="115"/>
                </a:lnTo>
                <a:lnTo>
                  <a:pt x="821" y="75"/>
                </a:lnTo>
                <a:lnTo>
                  <a:pt x="799" y="40"/>
                </a:lnTo>
                <a:lnTo>
                  <a:pt x="783" y="15"/>
                </a:lnTo>
                <a:lnTo>
                  <a:pt x="771" y="0"/>
                </a:lnTo>
                <a:lnTo>
                  <a:pt x="755" y="5"/>
                </a:lnTo>
                <a:lnTo>
                  <a:pt x="739" y="15"/>
                </a:lnTo>
                <a:lnTo>
                  <a:pt x="724" y="35"/>
                </a:lnTo>
                <a:lnTo>
                  <a:pt x="708" y="55"/>
                </a:lnTo>
                <a:lnTo>
                  <a:pt x="714" y="75"/>
                </a:lnTo>
                <a:lnTo>
                  <a:pt x="733" y="95"/>
                </a:lnTo>
                <a:lnTo>
                  <a:pt x="755" y="100"/>
                </a:lnTo>
                <a:lnTo>
                  <a:pt x="78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0"/>
          <p:cNvSpPr/>
          <p:nvPr/>
        </p:nvSpPr>
        <p:spPr>
          <a:xfrm>
            <a:off x="6095880" y="1295280"/>
            <a:ext cx="1122480" cy="159876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707" h="1007">
                <a:moveTo>
                  <a:pt x="707" y="0"/>
                </a:moveTo>
                <a:lnTo>
                  <a:pt x="670" y="30"/>
                </a:lnTo>
                <a:lnTo>
                  <a:pt x="629" y="65"/>
                </a:lnTo>
                <a:lnTo>
                  <a:pt x="582" y="100"/>
                </a:lnTo>
                <a:lnTo>
                  <a:pt x="535" y="140"/>
                </a:lnTo>
                <a:lnTo>
                  <a:pt x="485" y="180"/>
                </a:lnTo>
                <a:lnTo>
                  <a:pt x="435" y="214"/>
                </a:lnTo>
                <a:lnTo>
                  <a:pt x="385" y="254"/>
                </a:lnTo>
                <a:lnTo>
                  <a:pt x="332" y="294"/>
                </a:lnTo>
                <a:lnTo>
                  <a:pt x="281" y="334"/>
                </a:lnTo>
                <a:lnTo>
                  <a:pt x="231" y="369"/>
                </a:lnTo>
                <a:lnTo>
                  <a:pt x="184" y="399"/>
                </a:lnTo>
                <a:lnTo>
                  <a:pt x="140" y="429"/>
                </a:lnTo>
                <a:lnTo>
                  <a:pt x="97" y="454"/>
                </a:lnTo>
                <a:lnTo>
                  <a:pt x="59" y="479"/>
                </a:lnTo>
                <a:lnTo>
                  <a:pt x="28" y="494"/>
                </a:lnTo>
                <a:lnTo>
                  <a:pt x="0" y="503"/>
                </a:lnTo>
                <a:lnTo>
                  <a:pt x="28" y="518"/>
                </a:lnTo>
                <a:lnTo>
                  <a:pt x="62" y="543"/>
                </a:lnTo>
                <a:lnTo>
                  <a:pt x="100" y="563"/>
                </a:lnTo>
                <a:lnTo>
                  <a:pt x="134" y="583"/>
                </a:lnTo>
                <a:lnTo>
                  <a:pt x="169" y="608"/>
                </a:lnTo>
                <a:lnTo>
                  <a:pt x="197" y="623"/>
                </a:lnTo>
                <a:lnTo>
                  <a:pt x="216" y="633"/>
                </a:lnTo>
                <a:lnTo>
                  <a:pt x="222" y="638"/>
                </a:lnTo>
                <a:lnTo>
                  <a:pt x="234" y="693"/>
                </a:lnTo>
                <a:lnTo>
                  <a:pt x="250" y="748"/>
                </a:lnTo>
                <a:lnTo>
                  <a:pt x="269" y="807"/>
                </a:lnTo>
                <a:lnTo>
                  <a:pt x="288" y="867"/>
                </a:lnTo>
                <a:lnTo>
                  <a:pt x="306" y="922"/>
                </a:lnTo>
                <a:lnTo>
                  <a:pt x="328" y="962"/>
                </a:lnTo>
                <a:lnTo>
                  <a:pt x="347" y="992"/>
                </a:lnTo>
                <a:lnTo>
                  <a:pt x="366" y="1007"/>
                </a:lnTo>
                <a:lnTo>
                  <a:pt x="379" y="947"/>
                </a:lnTo>
                <a:lnTo>
                  <a:pt x="397" y="867"/>
                </a:lnTo>
                <a:lnTo>
                  <a:pt x="416" y="797"/>
                </a:lnTo>
                <a:lnTo>
                  <a:pt x="438" y="763"/>
                </a:lnTo>
                <a:lnTo>
                  <a:pt x="454" y="753"/>
                </a:lnTo>
                <a:lnTo>
                  <a:pt x="476" y="743"/>
                </a:lnTo>
                <a:lnTo>
                  <a:pt x="501" y="733"/>
                </a:lnTo>
                <a:lnTo>
                  <a:pt x="532" y="718"/>
                </a:lnTo>
                <a:lnTo>
                  <a:pt x="560" y="708"/>
                </a:lnTo>
                <a:lnTo>
                  <a:pt x="585" y="698"/>
                </a:lnTo>
                <a:lnTo>
                  <a:pt x="607" y="693"/>
                </a:lnTo>
                <a:lnTo>
                  <a:pt x="623" y="688"/>
                </a:lnTo>
                <a:lnTo>
                  <a:pt x="629" y="648"/>
                </a:lnTo>
                <a:lnTo>
                  <a:pt x="642" y="598"/>
                </a:lnTo>
                <a:lnTo>
                  <a:pt x="657" y="538"/>
                </a:lnTo>
                <a:lnTo>
                  <a:pt x="673" y="484"/>
                </a:lnTo>
                <a:lnTo>
                  <a:pt x="689" y="424"/>
                </a:lnTo>
                <a:lnTo>
                  <a:pt x="701" y="379"/>
                </a:lnTo>
                <a:lnTo>
                  <a:pt x="707" y="344"/>
                </a:lnTo>
                <a:lnTo>
                  <a:pt x="701" y="324"/>
                </a:lnTo>
                <a:lnTo>
                  <a:pt x="676" y="314"/>
                </a:lnTo>
                <a:lnTo>
                  <a:pt x="654" y="314"/>
                </a:lnTo>
                <a:lnTo>
                  <a:pt x="632" y="309"/>
                </a:lnTo>
                <a:lnTo>
                  <a:pt x="623" y="299"/>
                </a:lnTo>
                <a:lnTo>
                  <a:pt x="623" y="274"/>
                </a:lnTo>
                <a:lnTo>
                  <a:pt x="629" y="249"/>
                </a:lnTo>
                <a:lnTo>
                  <a:pt x="639" y="224"/>
                </a:lnTo>
                <a:lnTo>
                  <a:pt x="651" y="209"/>
                </a:lnTo>
                <a:lnTo>
                  <a:pt x="651" y="180"/>
                </a:lnTo>
                <a:lnTo>
                  <a:pt x="651" y="150"/>
                </a:lnTo>
                <a:lnTo>
                  <a:pt x="651" y="120"/>
                </a:lnTo>
                <a:lnTo>
                  <a:pt x="657" y="110"/>
                </a:lnTo>
                <a:lnTo>
                  <a:pt x="670" y="110"/>
                </a:lnTo>
                <a:lnTo>
                  <a:pt x="685" y="105"/>
                </a:lnTo>
                <a:lnTo>
                  <a:pt x="695" y="95"/>
                </a:lnTo>
                <a:lnTo>
                  <a:pt x="701" y="85"/>
                </a:lnTo>
                <a:lnTo>
                  <a:pt x="704" y="65"/>
                </a:lnTo>
                <a:lnTo>
                  <a:pt x="704" y="35"/>
                </a:lnTo>
                <a:lnTo>
                  <a:pt x="707" y="10"/>
                </a:lnTo>
                <a:lnTo>
                  <a:pt x="7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21"/>
          <p:cNvSpPr/>
          <p:nvPr/>
        </p:nvSpPr>
        <p:spPr>
          <a:xfrm>
            <a:off x="7189920" y="3479760"/>
            <a:ext cx="527040" cy="1258920"/>
          </a:xfrm>
          <a:custGeom>
            <a:avLst/>
            <a:gdLst>
              <a:gd name="textAreaLeft" fmla="*/ 0 w 527040"/>
              <a:gd name="textAreaRight" fmla="*/ 527400 w 52704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32" h="793">
                <a:moveTo>
                  <a:pt x="332" y="723"/>
                </a:moveTo>
                <a:lnTo>
                  <a:pt x="298" y="723"/>
                </a:lnTo>
                <a:lnTo>
                  <a:pt x="263" y="723"/>
                </a:lnTo>
                <a:lnTo>
                  <a:pt x="232" y="713"/>
                </a:lnTo>
                <a:lnTo>
                  <a:pt x="201" y="698"/>
                </a:lnTo>
                <a:lnTo>
                  <a:pt x="172" y="678"/>
                </a:lnTo>
                <a:lnTo>
                  <a:pt x="154" y="648"/>
                </a:lnTo>
                <a:lnTo>
                  <a:pt x="141" y="608"/>
                </a:lnTo>
                <a:lnTo>
                  <a:pt x="138" y="553"/>
                </a:lnTo>
                <a:lnTo>
                  <a:pt x="144" y="454"/>
                </a:lnTo>
                <a:lnTo>
                  <a:pt x="147" y="339"/>
                </a:lnTo>
                <a:lnTo>
                  <a:pt x="150" y="235"/>
                </a:lnTo>
                <a:lnTo>
                  <a:pt x="144" y="160"/>
                </a:lnTo>
                <a:lnTo>
                  <a:pt x="138" y="130"/>
                </a:lnTo>
                <a:lnTo>
                  <a:pt x="125" y="95"/>
                </a:lnTo>
                <a:lnTo>
                  <a:pt x="110" y="65"/>
                </a:lnTo>
                <a:lnTo>
                  <a:pt x="91" y="35"/>
                </a:lnTo>
                <a:lnTo>
                  <a:pt x="72" y="15"/>
                </a:lnTo>
                <a:lnTo>
                  <a:pt x="50" y="0"/>
                </a:lnTo>
                <a:lnTo>
                  <a:pt x="28" y="0"/>
                </a:lnTo>
                <a:lnTo>
                  <a:pt x="9" y="15"/>
                </a:lnTo>
                <a:lnTo>
                  <a:pt x="0" y="75"/>
                </a:lnTo>
                <a:lnTo>
                  <a:pt x="3" y="125"/>
                </a:lnTo>
                <a:lnTo>
                  <a:pt x="16" y="160"/>
                </a:lnTo>
                <a:lnTo>
                  <a:pt x="38" y="170"/>
                </a:lnTo>
                <a:lnTo>
                  <a:pt x="60" y="180"/>
                </a:lnTo>
                <a:lnTo>
                  <a:pt x="72" y="195"/>
                </a:lnTo>
                <a:lnTo>
                  <a:pt x="78" y="220"/>
                </a:lnTo>
                <a:lnTo>
                  <a:pt x="82" y="255"/>
                </a:lnTo>
                <a:lnTo>
                  <a:pt x="82" y="314"/>
                </a:lnTo>
                <a:lnTo>
                  <a:pt x="75" y="409"/>
                </a:lnTo>
                <a:lnTo>
                  <a:pt x="69" y="529"/>
                </a:lnTo>
                <a:lnTo>
                  <a:pt x="66" y="643"/>
                </a:lnTo>
                <a:lnTo>
                  <a:pt x="88" y="678"/>
                </a:lnTo>
                <a:lnTo>
                  <a:pt x="116" y="718"/>
                </a:lnTo>
                <a:lnTo>
                  <a:pt x="144" y="748"/>
                </a:lnTo>
                <a:lnTo>
                  <a:pt x="182" y="778"/>
                </a:lnTo>
                <a:lnTo>
                  <a:pt x="216" y="793"/>
                </a:lnTo>
                <a:lnTo>
                  <a:pt x="254" y="793"/>
                </a:lnTo>
                <a:lnTo>
                  <a:pt x="294" y="768"/>
                </a:lnTo>
                <a:lnTo>
                  <a:pt x="332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3"/>
          <p:cNvSpPr/>
          <p:nvPr/>
        </p:nvSpPr>
        <p:spPr>
          <a:xfrm>
            <a:off x="174600" y="3060720"/>
            <a:ext cx="2670120" cy="17874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682" h="1126">
                <a:moveTo>
                  <a:pt x="1682" y="1126"/>
                </a:moveTo>
                <a:lnTo>
                  <a:pt x="1581" y="1042"/>
                </a:lnTo>
                <a:lnTo>
                  <a:pt x="1475" y="957"/>
                </a:lnTo>
                <a:lnTo>
                  <a:pt x="1359" y="862"/>
                </a:lnTo>
                <a:lnTo>
                  <a:pt x="1240" y="773"/>
                </a:lnTo>
                <a:lnTo>
                  <a:pt x="1115" y="678"/>
                </a:lnTo>
                <a:lnTo>
                  <a:pt x="989" y="583"/>
                </a:lnTo>
                <a:lnTo>
                  <a:pt x="864" y="494"/>
                </a:lnTo>
                <a:lnTo>
                  <a:pt x="739" y="409"/>
                </a:lnTo>
                <a:lnTo>
                  <a:pt x="617" y="324"/>
                </a:lnTo>
                <a:lnTo>
                  <a:pt x="501" y="249"/>
                </a:lnTo>
                <a:lnTo>
                  <a:pt x="391" y="180"/>
                </a:lnTo>
                <a:lnTo>
                  <a:pt x="288" y="120"/>
                </a:lnTo>
                <a:lnTo>
                  <a:pt x="197" y="75"/>
                </a:lnTo>
                <a:lnTo>
                  <a:pt x="119" y="35"/>
                </a:lnTo>
                <a:lnTo>
                  <a:pt x="50" y="10"/>
                </a:lnTo>
                <a:lnTo>
                  <a:pt x="0" y="0"/>
                </a:lnTo>
                <a:lnTo>
                  <a:pt x="65" y="5"/>
                </a:lnTo>
                <a:lnTo>
                  <a:pt x="144" y="20"/>
                </a:lnTo>
                <a:lnTo>
                  <a:pt x="231" y="50"/>
                </a:lnTo>
                <a:lnTo>
                  <a:pt x="328" y="85"/>
                </a:lnTo>
                <a:lnTo>
                  <a:pt x="435" y="135"/>
                </a:lnTo>
                <a:lnTo>
                  <a:pt x="545" y="190"/>
                </a:lnTo>
                <a:lnTo>
                  <a:pt x="661" y="259"/>
                </a:lnTo>
                <a:lnTo>
                  <a:pt x="780" y="329"/>
                </a:lnTo>
                <a:lnTo>
                  <a:pt x="902" y="414"/>
                </a:lnTo>
                <a:lnTo>
                  <a:pt x="1021" y="499"/>
                </a:lnTo>
                <a:lnTo>
                  <a:pt x="1143" y="593"/>
                </a:lnTo>
                <a:lnTo>
                  <a:pt x="1259" y="693"/>
                </a:lnTo>
                <a:lnTo>
                  <a:pt x="1375" y="798"/>
                </a:lnTo>
                <a:lnTo>
                  <a:pt x="1484" y="902"/>
                </a:lnTo>
                <a:lnTo>
                  <a:pt x="1588" y="1012"/>
                </a:lnTo>
                <a:lnTo>
                  <a:pt x="1682" y="1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4"/>
          <p:cNvSpPr/>
          <p:nvPr/>
        </p:nvSpPr>
        <p:spPr>
          <a:xfrm>
            <a:off x="3565440" y="3378240"/>
            <a:ext cx="39600" cy="315720"/>
          </a:xfrm>
          <a:custGeom>
            <a:avLst/>
            <a:gdLst>
              <a:gd name="textAreaLeft" fmla="*/ 0 w 39600"/>
              <a:gd name="textAreaRight" fmla="*/ 39960 w 39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" h="199">
                <a:moveTo>
                  <a:pt x="12" y="189"/>
                </a:moveTo>
                <a:lnTo>
                  <a:pt x="6" y="149"/>
                </a:lnTo>
                <a:lnTo>
                  <a:pt x="0" y="104"/>
                </a:lnTo>
                <a:lnTo>
                  <a:pt x="3" y="59"/>
                </a:lnTo>
                <a:lnTo>
                  <a:pt x="15" y="0"/>
                </a:lnTo>
                <a:lnTo>
                  <a:pt x="12" y="74"/>
                </a:lnTo>
                <a:lnTo>
                  <a:pt x="19" y="154"/>
                </a:lnTo>
                <a:lnTo>
                  <a:pt x="25" y="199"/>
                </a:lnTo>
                <a:lnTo>
                  <a:pt x="12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25"/>
          <p:cNvSpPr/>
          <p:nvPr/>
        </p:nvSpPr>
        <p:spPr>
          <a:xfrm>
            <a:off x="2948040" y="2903400"/>
            <a:ext cx="284040" cy="711360"/>
          </a:xfrm>
          <a:custGeom>
            <a:avLst/>
            <a:gdLst>
              <a:gd name="textAreaLeft" fmla="*/ 0 w 284040"/>
              <a:gd name="textAreaRight" fmla="*/ 284400 w 28404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79" h="448">
                <a:moveTo>
                  <a:pt x="13" y="448"/>
                </a:moveTo>
                <a:lnTo>
                  <a:pt x="10" y="353"/>
                </a:lnTo>
                <a:lnTo>
                  <a:pt x="16" y="274"/>
                </a:lnTo>
                <a:lnTo>
                  <a:pt x="32" y="199"/>
                </a:lnTo>
                <a:lnTo>
                  <a:pt x="54" y="139"/>
                </a:lnTo>
                <a:lnTo>
                  <a:pt x="82" y="94"/>
                </a:lnTo>
                <a:lnTo>
                  <a:pt x="113" y="54"/>
                </a:lnTo>
                <a:lnTo>
                  <a:pt x="144" y="25"/>
                </a:lnTo>
                <a:lnTo>
                  <a:pt x="179" y="0"/>
                </a:lnTo>
                <a:lnTo>
                  <a:pt x="135" y="15"/>
                </a:lnTo>
                <a:lnTo>
                  <a:pt x="97" y="49"/>
                </a:lnTo>
                <a:lnTo>
                  <a:pt x="63" y="104"/>
                </a:lnTo>
                <a:lnTo>
                  <a:pt x="35" y="169"/>
                </a:lnTo>
                <a:lnTo>
                  <a:pt x="13" y="239"/>
                </a:lnTo>
                <a:lnTo>
                  <a:pt x="3" y="314"/>
                </a:lnTo>
                <a:lnTo>
                  <a:pt x="0" y="383"/>
                </a:lnTo>
                <a:lnTo>
                  <a:pt x="13" y="4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3525840" y="3029040"/>
            <a:ext cx="436680" cy="222120"/>
          </a:xfrm>
          <a:custGeom>
            <a:avLst/>
            <a:gdLst>
              <a:gd name="textAreaLeft" fmla="*/ 0 w 436680"/>
              <a:gd name="textAreaRight" fmla="*/ 436680 w 436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5" h="140">
                <a:moveTo>
                  <a:pt x="275" y="0"/>
                </a:moveTo>
                <a:lnTo>
                  <a:pt x="253" y="0"/>
                </a:lnTo>
                <a:lnTo>
                  <a:pt x="222" y="5"/>
                </a:lnTo>
                <a:lnTo>
                  <a:pt x="184" y="20"/>
                </a:lnTo>
                <a:lnTo>
                  <a:pt x="144" y="35"/>
                </a:lnTo>
                <a:lnTo>
                  <a:pt x="100" y="50"/>
                </a:lnTo>
                <a:lnTo>
                  <a:pt x="62" y="70"/>
                </a:lnTo>
                <a:lnTo>
                  <a:pt x="31" y="90"/>
                </a:lnTo>
                <a:lnTo>
                  <a:pt x="9" y="105"/>
                </a:lnTo>
                <a:lnTo>
                  <a:pt x="3" y="115"/>
                </a:lnTo>
                <a:lnTo>
                  <a:pt x="0" y="130"/>
                </a:lnTo>
                <a:lnTo>
                  <a:pt x="3" y="140"/>
                </a:lnTo>
                <a:lnTo>
                  <a:pt x="18" y="130"/>
                </a:lnTo>
                <a:lnTo>
                  <a:pt x="34" y="120"/>
                </a:lnTo>
                <a:lnTo>
                  <a:pt x="59" y="100"/>
                </a:lnTo>
                <a:lnTo>
                  <a:pt x="91" y="85"/>
                </a:lnTo>
                <a:lnTo>
                  <a:pt x="128" y="65"/>
                </a:lnTo>
                <a:lnTo>
                  <a:pt x="166" y="45"/>
                </a:lnTo>
                <a:lnTo>
                  <a:pt x="206" y="25"/>
                </a:lnTo>
                <a:lnTo>
                  <a:pt x="244" y="10"/>
                </a:lnTo>
                <a:lnTo>
                  <a:pt x="2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27"/>
          <p:cNvSpPr/>
          <p:nvPr/>
        </p:nvSpPr>
        <p:spPr>
          <a:xfrm>
            <a:off x="2919240" y="2973240"/>
            <a:ext cx="804960" cy="1898640"/>
          </a:xfrm>
          <a:custGeom>
            <a:avLst/>
            <a:gdLst>
              <a:gd name="textAreaLeft" fmla="*/ 0 w 804960"/>
              <a:gd name="textAreaRight" fmla="*/ 805320 w 8049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07" h="1196">
                <a:moveTo>
                  <a:pt x="59" y="1196"/>
                </a:moveTo>
                <a:lnTo>
                  <a:pt x="53" y="1191"/>
                </a:lnTo>
                <a:lnTo>
                  <a:pt x="34" y="1176"/>
                </a:lnTo>
                <a:lnTo>
                  <a:pt x="15" y="1156"/>
                </a:lnTo>
                <a:lnTo>
                  <a:pt x="0" y="1142"/>
                </a:lnTo>
                <a:lnTo>
                  <a:pt x="43" y="1122"/>
                </a:lnTo>
                <a:lnTo>
                  <a:pt x="75" y="1092"/>
                </a:lnTo>
                <a:lnTo>
                  <a:pt x="94" y="1047"/>
                </a:lnTo>
                <a:lnTo>
                  <a:pt x="106" y="997"/>
                </a:lnTo>
                <a:lnTo>
                  <a:pt x="109" y="947"/>
                </a:lnTo>
                <a:lnTo>
                  <a:pt x="109" y="897"/>
                </a:lnTo>
                <a:lnTo>
                  <a:pt x="103" y="853"/>
                </a:lnTo>
                <a:lnTo>
                  <a:pt x="97" y="818"/>
                </a:lnTo>
                <a:lnTo>
                  <a:pt x="100" y="788"/>
                </a:lnTo>
                <a:lnTo>
                  <a:pt x="106" y="763"/>
                </a:lnTo>
                <a:lnTo>
                  <a:pt x="112" y="738"/>
                </a:lnTo>
                <a:lnTo>
                  <a:pt x="122" y="713"/>
                </a:lnTo>
                <a:lnTo>
                  <a:pt x="134" y="693"/>
                </a:lnTo>
                <a:lnTo>
                  <a:pt x="153" y="668"/>
                </a:lnTo>
                <a:lnTo>
                  <a:pt x="172" y="653"/>
                </a:lnTo>
                <a:lnTo>
                  <a:pt x="197" y="633"/>
                </a:lnTo>
                <a:lnTo>
                  <a:pt x="206" y="623"/>
                </a:lnTo>
                <a:lnTo>
                  <a:pt x="213" y="608"/>
                </a:lnTo>
                <a:lnTo>
                  <a:pt x="213" y="593"/>
                </a:lnTo>
                <a:lnTo>
                  <a:pt x="206" y="574"/>
                </a:lnTo>
                <a:lnTo>
                  <a:pt x="194" y="554"/>
                </a:lnTo>
                <a:lnTo>
                  <a:pt x="175" y="534"/>
                </a:lnTo>
                <a:lnTo>
                  <a:pt x="153" y="519"/>
                </a:lnTo>
                <a:lnTo>
                  <a:pt x="128" y="499"/>
                </a:lnTo>
                <a:lnTo>
                  <a:pt x="100" y="439"/>
                </a:lnTo>
                <a:lnTo>
                  <a:pt x="87" y="329"/>
                </a:lnTo>
                <a:lnTo>
                  <a:pt x="97" y="200"/>
                </a:lnTo>
                <a:lnTo>
                  <a:pt x="137" y="85"/>
                </a:lnTo>
                <a:lnTo>
                  <a:pt x="172" y="45"/>
                </a:lnTo>
                <a:lnTo>
                  <a:pt x="209" y="20"/>
                </a:lnTo>
                <a:lnTo>
                  <a:pt x="253" y="5"/>
                </a:lnTo>
                <a:lnTo>
                  <a:pt x="297" y="0"/>
                </a:lnTo>
                <a:lnTo>
                  <a:pt x="338" y="10"/>
                </a:lnTo>
                <a:lnTo>
                  <a:pt x="375" y="20"/>
                </a:lnTo>
                <a:lnTo>
                  <a:pt x="404" y="35"/>
                </a:lnTo>
                <a:lnTo>
                  <a:pt x="422" y="55"/>
                </a:lnTo>
                <a:lnTo>
                  <a:pt x="419" y="55"/>
                </a:lnTo>
                <a:lnTo>
                  <a:pt x="413" y="60"/>
                </a:lnTo>
                <a:lnTo>
                  <a:pt x="410" y="65"/>
                </a:lnTo>
                <a:lnTo>
                  <a:pt x="391" y="55"/>
                </a:lnTo>
                <a:lnTo>
                  <a:pt x="360" y="45"/>
                </a:lnTo>
                <a:lnTo>
                  <a:pt x="322" y="35"/>
                </a:lnTo>
                <a:lnTo>
                  <a:pt x="278" y="35"/>
                </a:lnTo>
                <a:lnTo>
                  <a:pt x="234" y="50"/>
                </a:lnTo>
                <a:lnTo>
                  <a:pt x="191" y="75"/>
                </a:lnTo>
                <a:lnTo>
                  <a:pt x="156" y="120"/>
                </a:lnTo>
                <a:lnTo>
                  <a:pt x="134" y="190"/>
                </a:lnTo>
                <a:lnTo>
                  <a:pt x="122" y="275"/>
                </a:lnTo>
                <a:lnTo>
                  <a:pt x="122" y="344"/>
                </a:lnTo>
                <a:lnTo>
                  <a:pt x="134" y="399"/>
                </a:lnTo>
                <a:lnTo>
                  <a:pt x="153" y="444"/>
                </a:lnTo>
                <a:lnTo>
                  <a:pt x="175" y="474"/>
                </a:lnTo>
                <a:lnTo>
                  <a:pt x="203" y="499"/>
                </a:lnTo>
                <a:lnTo>
                  <a:pt x="234" y="514"/>
                </a:lnTo>
                <a:lnTo>
                  <a:pt x="263" y="529"/>
                </a:lnTo>
                <a:lnTo>
                  <a:pt x="281" y="529"/>
                </a:lnTo>
                <a:lnTo>
                  <a:pt x="307" y="524"/>
                </a:lnTo>
                <a:lnTo>
                  <a:pt x="335" y="514"/>
                </a:lnTo>
                <a:lnTo>
                  <a:pt x="366" y="499"/>
                </a:lnTo>
                <a:lnTo>
                  <a:pt x="394" y="489"/>
                </a:lnTo>
                <a:lnTo>
                  <a:pt x="422" y="479"/>
                </a:lnTo>
                <a:lnTo>
                  <a:pt x="451" y="484"/>
                </a:lnTo>
                <a:lnTo>
                  <a:pt x="473" y="494"/>
                </a:lnTo>
                <a:lnTo>
                  <a:pt x="482" y="499"/>
                </a:lnTo>
                <a:lnTo>
                  <a:pt x="485" y="499"/>
                </a:lnTo>
                <a:lnTo>
                  <a:pt x="494" y="504"/>
                </a:lnTo>
                <a:lnTo>
                  <a:pt x="507" y="529"/>
                </a:lnTo>
                <a:lnTo>
                  <a:pt x="485" y="534"/>
                </a:lnTo>
                <a:lnTo>
                  <a:pt x="460" y="539"/>
                </a:lnTo>
                <a:lnTo>
                  <a:pt x="435" y="544"/>
                </a:lnTo>
                <a:lnTo>
                  <a:pt x="407" y="554"/>
                </a:lnTo>
                <a:lnTo>
                  <a:pt x="379" y="559"/>
                </a:lnTo>
                <a:lnTo>
                  <a:pt x="350" y="574"/>
                </a:lnTo>
                <a:lnTo>
                  <a:pt x="319" y="588"/>
                </a:lnTo>
                <a:lnTo>
                  <a:pt x="291" y="608"/>
                </a:lnTo>
                <a:lnTo>
                  <a:pt x="253" y="653"/>
                </a:lnTo>
                <a:lnTo>
                  <a:pt x="222" y="723"/>
                </a:lnTo>
                <a:lnTo>
                  <a:pt x="197" y="803"/>
                </a:lnTo>
                <a:lnTo>
                  <a:pt x="175" y="892"/>
                </a:lnTo>
                <a:lnTo>
                  <a:pt x="150" y="982"/>
                </a:lnTo>
                <a:lnTo>
                  <a:pt x="128" y="1067"/>
                </a:lnTo>
                <a:lnTo>
                  <a:pt x="97" y="1142"/>
                </a:lnTo>
                <a:lnTo>
                  <a:pt x="59" y="1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28"/>
          <p:cNvSpPr/>
          <p:nvPr/>
        </p:nvSpPr>
        <p:spPr>
          <a:xfrm>
            <a:off x="2455920" y="4002120"/>
            <a:ext cx="189000" cy="341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9" h="215">
                <a:moveTo>
                  <a:pt x="47" y="215"/>
                </a:moveTo>
                <a:lnTo>
                  <a:pt x="66" y="155"/>
                </a:lnTo>
                <a:lnTo>
                  <a:pt x="85" y="100"/>
                </a:lnTo>
                <a:lnTo>
                  <a:pt x="104" y="50"/>
                </a:lnTo>
                <a:lnTo>
                  <a:pt x="119" y="15"/>
                </a:lnTo>
                <a:lnTo>
                  <a:pt x="113" y="0"/>
                </a:lnTo>
                <a:lnTo>
                  <a:pt x="107" y="0"/>
                </a:lnTo>
                <a:lnTo>
                  <a:pt x="101" y="5"/>
                </a:lnTo>
                <a:lnTo>
                  <a:pt x="88" y="15"/>
                </a:lnTo>
                <a:lnTo>
                  <a:pt x="66" y="45"/>
                </a:lnTo>
                <a:lnTo>
                  <a:pt x="38" y="95"/>
                </a:lnTo>
                <a:lnTo>
                  <a:pt x="13" y="145"/>
                </a:lnTo>
                <a:lnTo>
                  <a:pt x="0" y="165"/>
                </a:lnTo>
                <a:lnTo>
                  <a:pt x="47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9"/>
          <p:cNvSpPr/>
          <p:nvPr/>
        </p:nvSpPr>
        <p:spPr>
          <a:xfrm>
            <a:off x="3290760" y="3164040"/>
            <a:ext cx="109800" cy="174600"/>
          </a:xfrm>
          <a:custGeom>
            <a:avLst/>
            <a:gdLst>
              <a:gd name="textAreaLeft" fmla="*/ 0 w 109800"/>
              <a:gd name="textAreaRight" fmla="*/ 110160 w 1098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69" h="110">
                <a:moveTo>
                  <a:pt x="38" y="110"/>
                </a:moveTo>
                <a:lnTo>
                  <a:pt x="51" y="105"/>
                </a:lnTo>
                <a:lnTo>
                  <a:pt x="60" y="90"/>
                </a:lnTo>
                <a:lnTo>
                  <a:pt x="66" y="70"/>
                </a:lnTo>
                <a:lnTo>
                  <a:pt x="69" y="50"/>
                </a:lnTo>
                <a:lnTo>
                  <a:pt x="66" y="30"/>
                </a:lnTo>
                <a:lnTo>
                  <a:pt x="57" y="10"/>
                </a:lnTo>
                <a:lnTo>
                  <a:pt x="44" y="0"/>
                </a:lnTo>
                <a:lnTo>
                  <a:pt x="32" y="0"/>
                </a:lnTo>
                <a:lnTo>
                  <a:pt x="19" y="5"/>
                </a:lnTo>
                <a:lnTo>
                  <a:pt x="7" y="20"/>
                </a:lnTo>
                <a:lnTo>
                  <a:pt x="0" y="40"/>
                </a:lnTo>
                <a:lnTo>
                  <a:pt x="0" y="60"/>
                </a:lnTo>
                <a:lnTo>
                  <a:pt x="4" y="80"/>
                </a:lnTo>
                <a:lnTo>
                  <a:pt x="13" y="95"/>
                </a:lnTo>
                <a:lnTo>
                  <a:pt x="26" y="105"/>
                </a:lnTo>
                <a:lnTo>
                  <a:pt x="3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5545080" y="3867120"/>
            <a:ext cx="41400" cy="36720"/>
          </a:xfrm>
          <a:custGeom>
            <a:avLst/>
            <a:gdLst>
              <a:gd name="textAreaLeft" fmla="*/ 0 w 41400"/>
              <a:gd name="textAreaRight" fmla="*/ 41760 w 414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6" h="23">
                <a:moveTo>
                  <a:pt x="3" y="0"/>
                </a:moveTo>
                <a:lnTo>
                  <a:pt x="7" y="5"/>
                </a:lnTo>
                <a:lnTo>
                  <a:pt x="13" y="10"/>
                </a:lnTo>
                <a:lnTo>
                  <a:pt x="19" y="14"/>
                </a:lnTo>
                <a:lnTo>
                  <a:pt x="26" y="16"/>
                </a:lnTo>
                <a:lnTo>
                  <a:pt x="25" y="23"/>
                </a:lnTo>
                <a:lnTo>
                  <a:pt x="15" y="22"/>
                </a:lnTo>
                <a:lnTo>
                  <a:pt x="7" y="17"/>
                </a:lnTo>
                <a:lnTo>
                  <a:pt x="0" y="10"/>
                </a:lnTo>
                <a:lnTo>
                  <a:pt x="3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60" descr="图形1"/>
          <p:cNvPicPr/>
          <p:nvPr/>
        </p:nvPicPr>
        <p:blipFill>
          <a:blip r:embed="rId1"/>
          <a:stretch/>
        </p:blipFill>
        <p:spPr>
          <a:xfrm>
            <a:off x="1219320" y="4191120"/>
            <a:ext cx="609480" cy="59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6" descr="图形1"/>
          <p:cNvPicPr/>
          <p:nvPr/>
        </p:nvPicPr>
        <p:blipFill>
          <a:blip r:embed="rId2"/>
          <a:stretch/>
        </p:blipFill>
        <p:spPr>
          <a:xfrm>
            <a:off x="7467480" y="152280"/>
            <a:ext cx="609840" cy="592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7" descr="图形1"/>
          <p:cNvPicPr/>
          <p:nvPr/>
        </p:nvPicPr>
        <p:blipFill>
          <a:blip r:embed="rId3"/>
          <a:stretch/>
        </p:blipFill>
        <p:spPr>
          <a:xfrm>
            <a:off x="5410080" y="457200"/>
            <a:ext cx="609840" cy="59220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79"/>
          <p:cNvSpPr/>
          <p:nvPr/>
        </p:nvSpPr>
        <p:spPr>
          <a:xfrm>
            <a:off x="7308720" y="3500280"/>
            <a:ext cx="457200" cy="371520"/>
          </a:xfrm>
          <a:custGeom>
            <a:avLst/>
            <a:gdLst>
              <a:gd name="textAreaLeft" fmla="*/ 0 w 457200"/>
              <a:gd name="textAreaRight" fmla="*/ 457560 w 457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75" h="198">
                <a:moveTo>
                  <a:pt x="235" y="0"/>
                </a:moveTo>
                <a:lnTo>
                  <a:pt x="231" y="8"/>
                </a:lnTo>
                <a:lnTo>
                  <a:pt x="226" y="16"/>
                </a:lnTo>
                <a:lnTo>
                  <a:pt x="221" y="26"/>
                </a:lnTo>
                <a:lnTo>
                  <a:pt x="215" y="37"/>
                </a:lnTo>
                <a:lnTo>
                  <a:pt x="209" y="48"/>
                </a:lnTo>
                <a:lnTo>
                  <a:pt x="203" y="58"/>
                </a:lnTo>
                <a:lnTo>
                  <a:pt x="198" y="67"/>
                </a:lnTo>
                <a:lnTo>
                  <a:pt x="194" y="73"/>
                </a:lnTo>
                <a:lnTo>
                  <a:pt x="200" y="78"/>
                </a:lnTo>
                <a:lnTo>
                  <a:pt x="205" y="84"/>
                </a:lnTo>
                <a:lnTo>
                  <a:pt x="207" y="90"/>
                </a:lnTo>
                <a:lnTo>
                  <a:pt x="208" y="95"/>
                </a:lnTo>
                <a:lnTo>
                  <a:pt x="218" y="99"/>
                </a:lnTo>
                <a:lnTo>
                  <a:pt x="229" y="101"/>
                </a:lnTo>
                <a:lnTo>
                  <a:pt x="240" y="103"/>
                </a:lnTo>
                <a:lnTo>
                  <a:pt x="251" y="107"/>
                </a:lnTo>
                <a:lnTo>
                  <a:pt x="262" y="111"/>
                </a:lnTo>
                <a:lnTo>
                  <a:pt x="269" y="116"/>
                </a:lnTo>
                <a:lnTo>
                  <a:pt x="274" y="122"/>
                </a:lnTo>
                <a:lnTo>
                  <a:pt x="275" y="130"/>
                </a:lnTo>
                <a:lnTo>
                  <a:pt x="270" y="129"/>
                </a:lnTo>
                <a:lnTo>
                  <a:pt x="264" y="129"/>
                </a:lnTo>
                <a:lnTo>
                  <a:pt x="259" y="129"/>
                </a:lnTo>
                <a:lnTo>
                  <a:pt x="253" y="129"/>
                </a:lnTo>
                <a:lnTo>
                  <a:pt x="247" y="129"/>
                </a:lnTo>
                <a:lnTo>
                  <a:pt x="241" y="130"/>
                </a:lnTo>
                <a:lnTo>
                  <a:pt x="236" y="130"/>
                </a:lnTo>
                <a:lnTo>
                  <a:pt x="232" y="132"/>
                </a:lnTo>
                <a:lnTo>
                  <a:pt x="227" y="132"/>
                </a:lnTo>
                <a:lnTo>
                  <a:pt x="221" y="132"/>
                </a:lnTo>
                <a:lnTo>
                  <a:pt x="214" y="130"/>
                </a:lnTo>
                <a:lnTo>
                  <a:pt x="205" y="128"/>
                </a:lnTo>
                <a:lnTo>
                  <a:pt x="198" y="126"/>
                </a:lnTo>
                <a:lnTo>
                  <a:pt x="189" y="123"/>
                </a:lnTo>
                <a:lnTo>
                  <a:pt x="183" y="121"/>
                </a:lnTo>
                <a:lnTo>
                  <a:pt x="178" y="119"/>
                </a:lnTo>
                <a:lnTo>
                  <a:pt x="173" y="124"/>
                </a:lnTo>
                <a:lnTo>
                  <a:pt x="169" y="132"/>
                </a:lnTo>
                <a:lnTo>
                  <a:pt x="162" y="139"/>
                </a:lnTo>
                <a:lnTo>
                  <a:pt x="156" y="148"/>
                </a:lnTo>
                <a:lnTo>
                  <a:pt x="150" y="156"/>
                </a:lnTo>
                <a:lnTo>
                  <a:pt x="144" y="166"/>
                </a:lnTo>
                <a:lnTo>
                  <a:pt x="139" y="175"/>
                </a:lnTo>
                <a:lnTo>
                  <a:pt x="135" y="183"/>
                </a:lnTo>
                <a:lnTo>
                  <a:pt x="132" y="184"/>
                </a:lnTo>
                <a:lnTo>
                  <a:pt x="128" y="186"/>
                </a:lnTo>
                <a:lnTo>
                  <a:pt x="124" y="187"/>
                </a:lnTo>
                <a:lnTo>
                  <a:pt x="121" y="187"/>
                </a:lnTo>
                <a:lnTo>
                  <a:pt x="118" y="189"/>
                </a:lnTo>
                <a:lnTo>
                  <a:pt x="117" y="192"/>
                </a:lnTo>
                <a:lnTo>
                  <a:pt x="114" y="194"/>
                </a:lnTo>
                <a:lnTo>
                  <a:pt x="112" y="198"/>
                </a:lnTo>
                <a:lnTo>
                  <a:pt x="110" y="191"/>
                </a:lnTo>
                <a:lnTo>
                  <a:pt x="111" y="182"/>
                </a:lnTo>
                <a:lnTo>
                  <a:pt x="113" y="173"/>
                </a:lnTo>
                <a:lnTo>
                  <a:pt x="118" y="164"/>
                </a:lnTo>
                <a:lnTo>
                  <a:pt x="123" y="154"/>
                </a:lnTo>
                <a:lnTo>
                  <a:pt x="129" y="145"/>
                </a:lnTo>
                <a:lnTo>
                  <a:pt x="135" y="137"/>
                </a:lnTo>
                <a:lnTo>
                  <a:pt x="140" y="130"/>
                </a:lnTo>
                <a:lnTo>
                  <a:pt x="137" y="126"/>
                </a:lnTo>
                <a:lnTo>
                  <a:pt x="126" y="130"/>
                </a:lnTo>
                <a:lnTo>
                  <a:pt x="110" y="138"/>
                </a:lnTo>
                <a:lnTo>
                  <a:pt x="90" y="146"/>
                </a:lnTo>
                <a:lnTo>
                  <a:pt x="69" y="155"/>
                </a:lnTo>
                <a:lnTo>
                  <a:pt x="48" y="164"/>
                </a:lnTo>
                <a:lnTo>
                  <a:pt x="28" y="171"/>
                </a:lnTo>
                <a:lnTo>
                  <a:pt x="14" y="177"/>
                </a:lnTo>
                <a:lnTo>
                  <a:pt x="4" y="181"/>
                </a:lnTo>
                <a:lnTo>
                  <a:pt x="8" y="177"/>
                </a:lnTo>
                <a:lnTo>
                  <a:pt x="11" y="172"/>
                </a:lnTo>
                <a:lnTo>
                  <a:pt x="15" y="169"/>
                </a:lnTo>
                <a:lnTo>
                  <a:pt x="15" y="164"/>
                </a:lnTo>
                <a:lnTo>
                  <a:pt x="15" y="157"/>
                </a:lnTo>
                <a:lnTo>
                  <a:pt x="16" y="151"/>
                </a:lnTo>
                <a:lnTo>
                  <a:pt x="19" y="145"/>
                </a:lnTo>
                <a:lnTo>
                  <a:pt x="24" y="142"/>
                </a:lnTo>
                <a:lnTo>
                  <a:pt x="28" y="140"/>
                </a:lnTo>
                <a:lnTo>
                  <a:pt x="36" y="138"/>
                </a:lnTo>
                <a:lnTo>
                  <a:pt x="44" y="134"/>
                </a:lnTo>
                <a:lnTo>
                  <a:pt x="54" y="130"/>
                </a:lnTo>
                <a:lnTo>
                  <a:pt x="64" y="127"/>
                </a:lnTo>
                <a:lnTo>
                  <a:pt x="73" y="124"/>
                </a:lnTo>
                <a:lnTo>
                  <a:pt x="79" y="122"/>
                </a:lnTo>
                <a:lnTo>
                  <a:pt x="83" y="119"/>
                </a:lnTo>
                <a:lnTo>
                  <a:pt x="87" y="116"/>
                </a:lnTo>
                <a:lnTo>
                  <a:pt x="92" y="112"/>
                </a:lnTo>
                <a:lnTo>
                  <a:pt x="98" y="108"/>
                </a:lnTo>
                <a:lnTo>
                  <a:pt x="105" y="106"/>
                </a:lnTo>
                <a:lnTo>
                  <a:pt x="96" y="106"/>
                </a:lnTo>
                <a:lnTo>
                  <a:pt x="84" y="107"/>
                </a:lnTo>
                <a:lnTo>
                  <a:pt x="69" y="107"/>
                </a:lnTo>
                <a:lnTo>
                  <a:pt x="53" y="107"/>
                </a:lnTo>
                <a:lnTo>
                  <a:pt x="37" y="107"/>
                </a:lnTo>
                <a:lnTo>
                  <a:pt x="21" y="107"/>
                </a:lnTo>
                <a:lnTo>
                  <a:pt x="9" y="107"/>
                </a:lnTo>
                <a:lnTo>
                  <a:pt x="0" y="107"/>
                </a:lnTo>
                <a:lnTo>
                  <a:pt x="3" y="103"/>
                </a:lnTo>
                <a:lnTo>
                  <a:pt x="5" y="99"/>
                </a:lnTo>
                <a:lnTo>
                  <a:pt x="10" y="94"/>
                </a:lnTo>
                <a:lnTo>
                  <a:pt x="16" y="89"/>
                </a:lnTo>
                <a:lnTo>
                  <a:pt x="22" y="84"/>
                </a:lnTo>
                <a:lnTo>
                  <a:pt x="28" y="80"/>
                </a:lnTo>
                <a:lnTo>
                  <a:pt x="36" y="78"/>
                </a:lnTo>
                <a:lnTo>
                  <a:pt x="43" y="78"/>
                </a:lnTo>
                <a:lnTo>
                  <a:pt x="51" y="79"/>
                </a:lnTo>
                <a:lnTo>
                  <a:pt x="58" y="80"/>
                </a:lnTo>
                <a:lnTo>
                  <a:pt x="67" y="81"/>
                </a:lnTo>
                <a:lnTo>
                  <a:pt x="74" y="81"/>
                </a:lnTo>
                <a:lnTo>
                  <a:pt x="81" y="83"/>
                </a:lnTo>
                <a:lnTo>
                  <a:pt x="89" y="83"/>
                </a:lnTo>
                <a:lnTo>
                  <a:pt x="96" y="83"/>
                </a:lnTo>
                <a:lnTo>
                  <a:pt x="102" y="81"/>
                </a:lnTo>
                <a:lnTo>
                  <a:pt x="108" y="80"/>
                </a:lnTo>
                <a:lnTo>
                  <a:pt x="114" y="78"/>
                </a:lnTo>
                <a:lnTo>
                  <a:pt x="122" y="75"/>
                </a:lnTo>
                <a:lnTo>
                  <a:pt x="129" y="72"/>
                </a:lnTo>
                <a:lnTo>
                  <a:pt x="138" y="68"/>
                </a:lnTo>
                <a:lnTo>
                  <a:pt x="145" y="65"/>
                </a:lnTo>
                <a:lnTo>
                  <a:pt x="154" y="63"/>
                </a:lnTo>
                <a:lnTo>
                  <a:pt x="162" y="62"/>
                </a:lnTo>
                <a:lnTo>
                  <a:pt x="167" y="54"/>
                </a:lnTo>
                <a:lnTo>
                  <a:pt x="172" y="47"/>
                </a:lnTo>
                <a:lnTo>
                  <a:pt x="178" y="37"/>
                </a:lnTo>
                <a:lnTo>
                  <a:pt x="183" y="29"/>
                </a:lnTo>
                <a:lnTo>
                  <a:pt x="189" y="20"/>
                </a:lnTo>
                <a:lnTo>
                  <a:pt x="194" y="13"/>
                </a:lnTo>
                <a:lnTo>
                  <a:pt x="198" y="8"/>
                </a:lnTo>
                <a:lnTo>
                  <a:pt x="200" y="4"/>
                </a:lnTo>
                <a:lnTo>
                  <a:pt x="235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81"/>
          <p:cNvSpPr/>
          <p:nvPr/>
        </p:nvSpPr>
        <p:spPr>
          <a:xfrm>
            <a:off x="6659640" y="3789360"/>
            <a:ext cx="457200" cy="371520"/>
          </a:xfrm>
          <a:custGeom>
            <a:avLst/>
            <a:gdLst>
              <a:gd name="textAreaLeft" fmla="*/ 0 w 457200"/>
              <a:gd name="textAreaRight" fmla="*/ 457560 w 457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75" h="198">
                <a:moveTo>
                  <a:pt x="235" y="0"/>
                </a:moveTo>
                <a:lnTo>
                  <a:pt x="231" y="8"/>
                </a:lnTo>
                <a:lnTo>
                  <a:pt x="226" y="16"/>
                </a:lnTo>
                <a:lnTo>
                  <a:pt x="221" y="26"/>
                </a:lnTo>
                <a:lnTo>
                  <a:pt x="215" y="37"/>
                </a:lnTo>
                <a:lnTo>
                  <a:pt x="209" y="48"/>
                </a:lnTo>
                <a:lnTo>
                  <a:pt x="203" y="58"/>
                </a:lnTo>
                <a:lnTo>
                  <a:pt x="198" y="67"/>
                </a:lnTo>
                <a:lnTo>
                  <a:pt x="194" y="73"/>
                </a:lnTo>
                <a:lnTo>
                  <a:pt x="200" y="78"/>
                </a:lnTo>
                <a:lnTo>
                  <a:pt x="205" y="84"/>
                </a:lnTo>
                <a:lnTo>
                  <a:pt x="207" y="90"/>
                </a:lnTo>
                <a:lnTo>
                  <a:pt x="208" y="95"/>
                </a:lnTo>
                <a:lnTo>
                  <a:pt x="218" y="99"/>
                </a:lnTo>
                <a:lnTo>
                  <a:pt x="229" y="101"/>
                </a:lnTo>
                <a:lnTo>
                  <a:pt x="240" y="103"/>
                </a:lnTo>
                <a:lnTo>
                  <a:pt x="251" y="107"/>
                </a:lnTo>
                <a:lnTo>
                  <a:pt x="262" y="111"/>
                </a:lnTo>
                <a:lnTo>
                  <a:pt x="269" y="116"/>
                </a:lnTo>
                <a:lnTo>
                  <a:pt x="274" y="122"/>
                </a:lnTo>
                <a:lnTo>
                  <a:pt x="275" y="130"/>
                </a:lnTo>
                <a:lnTo>
                  <a:pt x="270" y="129"/>
                </a:lnTo>
                <a:lnTo>
                  <a:pt x="264" y="129"/>
                </a:lnTo>
                <a:lnTo>
                  <a:pt x="259" y="129"/>
                </a:lnTo>
                <a:lnTo>
                  <a:pt x="253" y="129"/>
                </a:lnTo>
                <a:lnTo>
                  <a:pt x="247" y="129"/>
                </a:lnTo>
                <a:lnTo>
                  <a:pt x="241" y="130"/>
                </a:lnTo>
                <a:lnTo>
                  <a:pt x="236" y="130"/>
                </a:lnTo>
                <a:lnTo>
                  <a:pt x="232" y="132"/>
                </a:lnTo>
                <a:lnTo>
                  <a:pt x="227" y="132"/>
                </a:lnTo>
                <a:lnTo>
                  <a:pt x="221" y="132"/>
                </a:lnTo>
                <a:lnTo>
                  <a:pt x="214" y="130"/>
                </a:lnTo>
                <a:lnTo>
                  <a:pt x="205" y="128"/>
                </a:lnTo>
                <a:lnTo>
                  <a:pt x="198" y="126"/>
                </a:lnTo>
                <a:lnTo>
                  <a:pt x="189" y="123"/>
                </a:lnTo>
                <a:lnTo>
                  <a:pt x="183" y="121"/>
                </a:lnTo>
                <a:lnTo>
                  <a:pt x="178" y="119"/>
                </a:lnTo>
                <a:lnTo>
                  <a:pt x="173" y="124"/>
                </a:lnTo>
                <a:lnTo>
                  <a:pt x="169" y="132"/>
                </a:lnTo>
                <a:lnTo>
                  <a:pt x="162" y="139"/>
                </a:lnTo>
                <a:lnTo>
                  <a:pt x="156" y="148"/>
                </a:lnTo>
                <a:lnTo>
                  <a:pt x="150" y="156"/>
                </a:lnTo>
                <a:lnTo>
                  <a:pt x="144" y="166"/>
                </a:lnTo>
                <a:lnTo>
                  <a:pt x="139" y="175"/>
                </a:lnTo>
                <a:lnTo>
                  <a:pt x="135" y="183"/>
                </a:lnTo>
                <a:lnTo>
                  <a:pt x="132" y="184"/>
                </a:lnTo>
                <a:lnTo>
                  <a:pt x="128" y="186"/>
                </a:lnTo>
                <a:lnTo>
                  <a:pt x="124" y="187"/>
                </a:lnTo>
                <a:lnTo>
                  <a:pt x="121" y="187"/>
                </a:lnTo>
                <a:lnTo>
                  <a:pt x="118" y="189"/>
                </a:lnTo>
                <a:lnTo>
                  <a:pt x="117" y="192"/>
                </a:lnTo>
                <a:lnTo>
                  <a:pt x="114" y="194"/>
                </a:lnTo>
                <a:lnTo>
                  <a:pt x="112" y="198"/>
                </a:lnTo>
                <a:lnTo>
                  <a:pt x="110" y="191"/>
                </a:lnTo>
                <a:lnTo>
                  <a:pt x="111" y="182"/>
                </a:lnTo>
                <a:lnTo>
                  <a:pt x="113" y="173"/>
                </a:lnTo>
                <a:lnTo>
                  <a:pt x="118" y="164"/>
                </a:lnTo>
                <a:lnTo>
                  <a:pt x="123" y="154"/>
                </a:lnTo>
                <a:lnTo>
                  <a:pt x="129" y="145"/>
                </a:lnTo>
                <a:lnTo>
                  <a:pt x="135" y="137"/>
                </a:lnTo>
                <a:lnTo>
                  <a:pt x="140" y="130"/>
                </a:lnTo>
                <a:lnTo>
                  <a:pt x="137" y="126"/>
                </a:lnTo>
                <a:lnTo>
                  <a:pt x="126" y="130"/>
                </a:lnTo>
                <a:lnTo>
                  <a:pt x="110" y="138"/>
                </a:lnTo>
                <a:lnTo>
                  <a:pt x="90" y="146"/>
                </a:lnTo>
                <a:lnTo>
                  <a:pt x="69" y="155"/>
                </a:lnTo>
                <a:lnTo>
                  <a:pt x="48" y="164"/>
                </a:lnTo>
                <a:lnTo>
                  <a:pt x="28" y="171"/>
                </a:lnTo>
                <a:lnTo>
                  <a:pt x="14" y="177"/>
                </a:lnTo>
                <a:lnTo>
                  <a:pt x="4" y="181"/>
                </a:lnTo>
                <a:lnTo>
                  <a:pt x="8" y="177"/>
                </a:lnTo>
                <a:lnTo>
                  <a:pt x="11" y="172"/>
                </a:lnTo>
                <a:lnTo>
                  <a:pt x="15" y="169"/>
                </a:lnTo>
                <a:lnTo>
                  <a:pt x="15" y="164"/>
                </a:lnTo>
                <a:lnTo>
                  <a:pt x="15" y="157"/>
                </a:lnTo>
                <a:lnTo>
                  <a:pt x="16" y="151"/>
                </a:lnTo>
                <a:lnTo>
                  <a:pt x="19" y="145"/>
                </a:lnTo>
                <a:lnTo>
                  <a:pt x="24" y="142"/>
                </a:lnTo>
                <a:lnTo>
                  <a:pt x="28" y="140"/>
                </a:lnTo>
                <a:lnTo>
                  <a:pt x="36" y="138"/>
                </a:lnTo>
                <a:lnTo>
                  <a:pt x="44" y="134"/>
                </a:lnTo>
                <a:lnTo>
                  <a:pt x="54" y="130"/>
                </a:lnTo>
                <a:lnTo>
                  <a:pt x="64" y="127"/>
                </a:lnTo>
                <a:lnTo>
                  <a:pt x="73" y="124"/>
                </a:lnTo>
                <a:lnTo>
                  <a:pt x="79" y="122"/>
                </a:lnTo>
                <a:lnTo>
                  <a:pt x="83" y="119"/>
                </a:lnTo>
                <a:lnTo>
                  <a:pt x="87" y="116"/>
                </a:lnTo>
                <a:lnTo>
                  <a:pt x="92" y="112"/>
                </a:lnTo>
                <a:lnTo>
                  <a:pt x="98" y="108"/>
                </a:lnTo>
                <a:lnTo>
                  <a:pt x="105" y="106"/>
                </a:lnTo>
                <a:lnTo>
                  <a:pt x="96" y="106"/>
                </a:lnTo>
                <a:lnTo>
                  <a:pt x="84" y="107"/>
                </a:lnTo>
                <a:lnTo>
                  <a:pt x="69" y="107"/>
                </a:lnTo>
                <a:lnTo>
                  <a:pt x="53" y="107"/>
                </a:lnTo>
                <a:lnTo>
                  <a:pt x="37" y="107"/>
                </a:lnTo>
                <a:lnTo>
                  <a:pt x="21" y="107"/>
                </a:lnTo>
                <a:lnTo>
                  <a:pt x="9" y="107"/>
                </a:lnTo>
                <a:lnTo>
                  <a:pt x="0" y="107"/>
                </a:lnTo>
                <a:lnTo>
                  <a:pt x="3" y="103"/>
                </a:lnTo>
                <a:lnTo>
                  <a:pt x="5" y="99"/>
                </a:lnTo>
                <a:lnTo>
                  <a:pt x="10" y="94"/>
                </a:lnTo>
                <a:lnTo>
                  <a:pt x="16" y="89"/>
                </a:lnTo>
                <a:lnTo>
                  <a:pt x="22" y="84"/>
                </a:lnTo>
                <a:lnTo>
                  <a:pt x="28" y="80"/>
                </a:lnTo>
                <a:lnTo>
                  <a:pt x="36" y="78"/>
                </a:lnTo>
                <a:lnTo>
                  <a:pt x="43" y="78"/>
                </a:lnTo>
                <a:lnTo>
                  <a:pt x="51" y="79"/>
                </a:lnTo>
                <a:lnTo>
                  <a:pt x="58" y="80"/>
                </a:lnTo>
                <a:lnTo>
                  <a:pt x="67" y="81"/>
                </a:lnTo>
                <a:lnTo>
                  <a:pt x="74" y="81"/>
                </a:lnTo>
                <a:lnTo>
                  <a:pt x="81" y="83"/>
                </a:lnTo>
                <a:lnTo>
                  <a:pt x="89" y="83"/>
                </a:lnTo>
                <a:lnTo>
                  <a:pt x="96" y="83"/>
                </a:lnTo>
                <a:lnTo>
                  <a:pt x="102" y="81"/>
                </a:lnTo>
                <a:lnTo>
                  <a:pt x="108" y="80"/>
                </a:lnTo>
                <a:lnTo>
                  <a:pt x="114" y="78"/>
                </a:lnTo>
                <a:lnTo>
                  <a:pt x="122" y="75"/>
                </a:lnTo>
                <a:lnTo>
                  <a:pt x="129" y="72"/>
                </a:lnTo>
                <a:lnTo>
                  <a:pt x="138" y="68"/>
                </a:lnTo>
                <a:lnTo>
                  <a:pt x="145" y="65"/>
                </a:lnTo>
                <a:lnTo>
                  <a:pt x="154" y="63"/>
                </a:lnTo>
                <a:lnTo>
                  <a:pt x="162" y="62"/>
                </a:lnTo>
                <a:lnTo>
                  <a:pt x="167" y="54"/>
                </a:lnTo>
                <a:lnTo>
                  <a:pt x="172" y="47"/>
                </a:lnTo>
                <a:lnTo>
                  <a:pt x="178" y="37"/>
                </a:lnTo>
                <a:lnTo>
                  <a:pt x="183" y="29"/>
                </a:lnTo>
                <a:lnTo>
                  <a:pt x="189" y="20"/>
                </a:lnTo>
                <a:lnTo>
                  <a:pt x="194" y="13"/>
                </a:lnTo>
                <a:lnTo>
                  <a:pt x="198" y="8"/>
                </a:lnTo>
                <a:lnTo>
                  <a:pt x="200" y="4"/>
                </a:lnTo>
                <a:lnTo>
                  <a:pt x="235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83"/>
          <p:cNvSpPr/>
          <p:nvPr/>
        </p:nvSpPr>
        <p:spPr>
          <a:xfrm>
            <a:off x="7812000" y="3429000"/>
            <a:ext cx="457200" cy="371520"/>
          </a:xfrm>
          <a:custGeom>
            <a:avLst/>
            <a:gdLst>
              <a:gd name="textAreaLeft" fmla="*/ 0 w 457200"/>
              <a:gd name="textAreaRight" fmla="*/ 457560 w 457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75" h="198">
                <a:moveTo>
                  <a:pt x="235" y="0"/>
                </a:moveTo>
                <a:lnTo>
                  <a:pt x="231" y="8"/>
                </a:lnTo>
                <a:lnTo>
                  <a:pt x="226" y="16"/>
                </a:lnTo>
                <a:lnTo>
                  <a:pt x="221" y="26"/>
                </a:lnTo>
                <a:lnTo>
                  <a:pt x="215" y="37"/>
                </a:lnTo>
                <a:lnTo>
                  <a:pt x="209" y="48"/>
                </a:lnTo>
                <a:lnTo>
                  <a:pt x="203" y="58"/>
                </a:lnTo>
                <a:lnTo>
                  <a:pt x="198" y="67"/>
                </a:lnTo>
                <a:lnTo>
                  <a:pt x="194" y="73"/>
                </a:lnTo>
                <a:lnTo>
                  <a:pt x="200" y="78"/>
                </a:lnTo>
                <a:lnTo>
                  <a:pt x="205" y="84"/>
                </a:lnTo>
                <a:lnTo>
                  <a:pt x="207" y="90"/>
                </a:lnTo>
                <a:lnTo>
                  <a:pt x="208" y="95"/>
                </a:lnTo>
                <a:lnTo>
                  <a:pt x="218" y="99"/>
                </a:lnTo>
                <a:lnTo>
                  <a:pt x="229" y="101"/>
                </a:lnTo>
                <a:lnTo>
                  <a:pt x="240" y="103"/>
                </a:lnTo>
                <a:lnTo>
                  <a:pt x="251" y="107"/>
                </a:lnTo>
                <a:lnTo>
                  <a:pt x="262" y="111"/>
                </a:lnTo>
                <a:lnTo>
                  <a:pt x="269" y="116"/>
                </a:lnTo>
                <a:lnTo>
                  <a:pt x="274" y="122"/>
                </a:lnTo>
                <a:lnTo>
                  <a:pt x="275" y="130"/>
                </a:lnTo>
                <a:lnTo>
                  <a:pt x="270" y="129"/>
                </a:lnTo>
                <a:lnTo>
                  <a:pt x="264" y="129"/>
                </a:lnTo>
                <a:lnTo>
                  <a:pt x="259" y="129"/>
                </a:lnTo>
                <a:lnTo>
                  <a:pt x="253" y="129"/>
                </a:lnTo>
                <a:lnTo>
                  <a:pt x="247" y="129"/>
                </a:lnTo>
                <a:lnTo>
                  <a:pt x="241" y="130"/>
                </a:lnTo>
                <a:lnTo>
                  <a:pt x="236" y="130"/>
                </a:lnTo>
                <a:lnTo>
                  <a:pt x="232" y="132"/>
                </a:lnTo>
                <a:lnTo>
                  <a:pt x="227" y="132"/>
                </a:lnTo>
                <a:lnTo>
                  <a:pt x="221" y="132"/>
                </a:lnTo>
                <a:lnTo>
                  <a:pt x="214" y="130"/>
                </a:lnTo>
                <a:lnTo>
                  <a:pt x="205" y="128"/>
                </a:lnTo>
                <a:lnTo>
                  <a:pt x="198" y="126"/>
                </a:lnTo>
                <a:lnTo>
                  <a:pt x="189" y="123"/>
                </a:lnTo>
                <a:lnTo>
                  <a:pt x="183" y="121"/>
                </a:lnTo>
                <a:lnTo>
                  <a:pt x="178" y="119"/>
                </a:lnTo>
                <a:lnTo>
                  <a:pt x="173" y="124"/>
                </a:lnTo>
                <a:lnTo>
                  <a:pt x="169" y="132"/>
                </a:lnTo>
                <a:lnTo>
                  <a:pt x="162" y="139"/>
                </a:lnTo>
                <a:lnTo>
                  <a:pt x="156" y="148"/>
                </a:lnTo>
                <a:lnTo>
                  <a:pt x="150" y="156"/>
                </a:lnTo>
                <a:lnTo>
                  <a:pt x="144" y="166"/>
                </a:lnTo>
                <a:lnTo>
                  <a:pt x="139" y="175"/>
                </a:lnTo>
                <a:lnTo>
                  <a:pt x="135" y="183"/>
                </a:lnTo>
                <a:lnTo>
                  <a:pt x="132" y="184"/>
                </a:lnTo>
                <a:lnTo>
                  <a:pt x="128" y="186"/>
                </a:lnTo>
                <a:lnTo>
                  <a:pt x="124" y="187"/>
                </a:lnTo>
                <a:lnTo>
                  <a:pt x="121" y="187"/>
                </a:lnTo>
                <a:lnTo>
                  <a:pt x="118" y="189"/>
                </a:lnTo>
                <a:lnTo>
                  <a:pt x="117" y="192"/>
                </a:lnTo>
                <a:lnTo>
                  <a:pt x="114" y="194"/>
                </a:lnTo>
                <a:lnTo>
                  <a:pt x="112" y="198"/>
                </a:lnTo>
                <a:lnTo>
                  <a:pt x="110" y="191"/>
                </a:lnTo>
                <a:lnTo>
                  <a:pt x="111" y="182"/>
                </a:lnTo>
                <a:lnTo>
                  <a:pt x="113" y="173"/>
                </a:lnTo>
                <a:lnTo>
                  <a:pt x="118" y="164"/>
                </a:lnTo>
                <a:lnTo>
                  <a:pt x="123" y="154"/>
                </a:lnTo>
                <a:lnTo>
                  <a:pt x="129" y="145"/>
                </a:lnTo>
                <a:lnTo>
                  <a:pt x="135" y="137"/>
                </a:lnTo>
                <a:lnTo>
                  <a:pt x="140" y="130"/>
                </a:lnTo>
                <a:lnTo>
                  <a:pt x="137" y="126"/>
                </a:lnTo>
                <a:lnTo>
                  <a:pt x="126" y="130"/>
                </a:lnTo>
                <a:lnTo>
                  <a:pt x="110" y="138"/>
                </a:lnTo>
                <a:lnTo>
                  <a:pt x="90" y="146"/>
                </a:lnTo>
                <a:lnTo>
                  <a:pt x="69" y="155"/>
                </a:lnTo>
                <a:lnTo>
                  <a:pt x="48" y="164"/>
                </a:lnTo>
                <a:lnTo>
                  <a:pt x="28" y="171"/>
                </a:lnTo>
                <a:lnTo>
                  <a:pt x="14" y="177"/>
                </a:lnTo>
                <a:lnTo>
                  <a:pt x="4" y="181"/>
                </a:lnTo>
                <a:lnTo>
                  <a:pt x="8" y="177"/>
                </a:lnTo>
                <a:lnTo>
                  <a:pt x="11" y="172"/>
                </a:lnTo>
                <a:lnTo>
                  <a:pt x="15" y="169"/>
                </a:lnTo>
                <a:lnTo>
                  <a:pt x="15" y="164"/>
                </a:lnTo>
                <a:lnTo>
                  <a:pt x="15" y="157"/>
                </a:lnTo>
                <a:lnTo>
                  <a:pt x="16" y="151"/>
                </a:lnTo>
                <a:lnTo>
                  <a:pt x="19" y="145"/>
                </a:lnTo>
                <a:lnTo>
                  <a:pt x="24" y="142"/>
                </a:lnTo>
                <a:lnTo>
                  <a:pt x="28" y="140"/>
                </a:lnTo>
                <a:lnTo>
                  <a:pt x="36" y="138"/>
                </a:lnTo>
                <a:lnTo>
                  <a:pt x="44" y="134"/>
                </a:lnTo>
                <a:lnTo>
                  <a:pt x="54" y="130"/>
                </a:lnTo>
                <a:lnTo>
                  <a:pt x="64" y="127"/>
                </a:lnTo>
                <a:lnTo>
                  <a:pt x="73" y="124"/>
                </a:lnTo>
                <a:lnTo>
                  <a:pt x="79" y="122"/>
                </a:lnTo>
                <a:lnTo>
                  <a:pt x="83" y="119"/>
                </a:lnTo>
                <a:lnTo>
                  <a:pt x="87" y="116"/>
                </a:lnTo>
                <a:lnTo>
                  <a:pt x="92" y="112"/>
                </a:lnTo>
                <a:lnTo>
                  <a:pt x="98" y="108"/>
                </a:lnTo>
                <a:lnTo>
                  <a:pt x="105" y="106"/>
                </a:lnTo>
                <a:lnTo>
                  <a:pt x="96" y="106"/>
                </a:lnTo>
                <a:lnTo>
                  <a:pt x="84" y="107"/>
                </a:lnTo>
                <a:lnTo>
                  <a:pt x="69" y="107"/>
                </a:lnTo>
                <a:lnTo>
                  <a:pt x="53" y="107"/>
                </a:lnTo>
                <a:lnTo>
                  <a:pt x="37" y="107"/>
                </a:lnTo>
                <a:lnTo>
                  <a:pt x="21" y="107"/>
                </a:lnTo>
                <a:lnTo>
                  <a:pt x="9" y="107"/>
                </a:lnTo>
                <a:lnTo>
                  <a:pt x="0" y="107"/>
                </a:lnTo>
                <a:lnTo>
                  <a:pt x="3" y="103"/>
                </a:lnTo>
                <a:lnTo>
                  <a:pt x="5" y="99"/>
                </a:lnTo>
                <a:lnTo>
                  <a:pt x="10" y="94"/>
                </a:lnTo>
                <a:lnTo>
                  <a:pt x="16" y="89"/>
                </a:lnTo>
                <a:lnTo>
                  <a:pt x="22" y="84"/>
                </a:lnTo>
                <a:lnTo>
                  <a:pt x="28" y="80"/>
                </a:lnTo>
                <a:lnTo>
                  <a:pt x="36" y="78"/>
                </a:lnTo>
                <a:lnTo>
                  <a:pt x="43" y="78"/>
                </a:lnTo>
                <a:lnTo>
                  <a:pt x="51" y="79"/>
                </a:lnTo>
                <a:lnTo>
                  <a:pt x="58" y="80"/>
                </a:lnTo>
                <a:lnTo>
                  <a:pt x="67" y="81"/>
                </a:lnTo>
                <a:lnTo>
                  <a:pt x="74" y="81"/>
                </a:lnTo>
                <a:lnTo>
                  <a:pt x="81" y="83"/>
                </a:lnTo>
                <a:lnTo>
                  <a:pt x="89" y="83"/>
                </a:lnTo>
                <a:lnTo>
                  <a:pt x="96" y="83"/>
                </a:lnTo>
                <a:lnTo>
                  <a:pt x="102" y="81"/>
                </a:lnTo>
                <a:lnTo>
                  <a:pt x="108" y="80"/>
                </a:lnTo>
                <a:lnTo>
                  <a:pt x="114" y="78"/>
                </a:lnTo>
                <a:lnTo>
                  <a:pt x="122" y="75"/>
                </a:lnTo>
                <a:lnTo>
                  <a:pt x="129" y="72"/>
                </a:lnTo>
                <a:lnTo>
                  <a:pt x="138" y="68"/>
                </a:lnTo>
                <a:lnTo>
                  <a:pt x="145" y="65"/>
                </a:lnTo>
                <a:lnTo>
                  <a:pt x="154" y="63"/>
                </a:lnTo>
                <a:lnTo>
                  <a:pt x="162" y="62"/>
                </a:lnTo>
                <a:lnTo>
                  <a:pt x="167" y="54"/>
                </a:lnTo>
                <a:lnTo>
                  <a:pt x="172" y="47"/>
                </a:lnTo>
                <a:lnTo>
                  <a:pt x="178" y="37"/>
                </a:lnTo>
                <a:lnTo>
                  <a:pt x="183" y="29"/>
                </a:lnTo>
                <a:lnTo>
                  <a:pt x="189" y="20"/>
                </a:lnTo>
                <a:lnTo>
                  <a:pt x="194" y="13"/>
                </a:lnTo>
                <a:lnTo>
                  <a:pt x="198" y="8"/>
                </a:lnTo>
                <a:lnTo>
                  <a:pt x="200" y="4"/>
                </a:lnTo>
                <a:lnTo>
                  <a:pt x="235" y="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4"/>
          <p:cNvSpPr/>
          <p:nvPr/>
        </p:nvSpPr>
        <p:spPr>
          <a:xfrm>
            <a:off x="8317080" y="2997360"/>
            <a:ext cx="457200" cy="371160"/>
          </a:xfrm>
          <a:custGeom>
            <a:avLst/>
            <a:gdLst>
              <a:gd name="textAreaLeft" fmla="*/ 0 w 457200"/>
              <a:gd name="textAreaRight" fmla="*/ 457560 w 45720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75" h="198">
                <a:moveTo>
                  <a:pt x="235" y="0"/>
                </a:moveTo>
                <a:lnTo>
                  <a:pt x="231" y="8"/>
                </a:lnTo>
                <a:lnTo>
                  <a:pt x="226" y="16"/>
                </a:lnTo>
                <a:lnTo>
                  <a:pt x="221" y="26"/>
                </a:lnTo>
                <a:lnTo>
                  <a:pt x="215" y="37"/>
                </a:lnTo>
                <a:lnTo>
                  <a:pt x="209" y="48"/>
                </a:lnTo>
                <a:lnTo>
                  <a:pt x="203" y="58"/>
                </a:lnTo>
                <a:lnTo>
                  <a:pt x="198" y="67"/>
                </a:lnTo>
                <a:lnTo>
                  <a:pt x="194" y="73"/>
                </a:lnTo>
                <a:lnTo>
                  <a:pt x="200" y="78"/>
                </a:lnTo>
                <a:lnTo>
                  <a:pt x="205" y="84"/>
                </a:lnTo>
                <a:lnTo>
                  <a:pt x="207" y="90"/>
                </a:lnTo>
                <a:lnTo>
                  <a:pt x="208" y="95"/>
                </a:lnTo>
                <a:lnTo>
                  <a:pt x="218" y="99"/>
                </a:lnTo>
                <a:lnTo>
                  <a:pt x="229" y="101"/>
                </a:lnTo>
                <a:lnTo>
                  <a:pt x="240" y="103"/>
                </a:lnTo>
                <a:lnTo>
                  <a:pt x="251" y="107"/>
                </a:lnTo>
                <a:lnTo>
                  <a:pt x="262" y="111"/>
                </a:lnTo>
                <a:lnTo>
                  <a:pt x="269" y="116"/>
                </a:lnTo>
                <a:lnTo>
                  <a:pt x="274" y="122"/>
                </a:lnTo>
                <a:lnTo>
                  <a:pt x="275" y="130"/>
                </a:lnTo>
                <a:lnTo>
                  <a:pt x="270" y="129"/>
                </a:lnTo>
                <a:lnTo>
                  <a:pt x="264" y="129"/>
                </a:lnTo>
                <a:lnTo>
                  <a:pt x="259" y="129"/>
                </a:lnTo>
                <a:lnTo>
                  <a:pt x="253" y="129"/>
                </a:lnTo>
                <a:lnTo>
                  <a:pt x="247" y="129"/>
                </a:lnTo>
                <a:lnTo>
                  <a:pt x="241" y="130"/>
                </a:lnTo>
                <a:lnTo>
                  <a:pt x="236" y="130"/>
                </a:lnTo>
                <a:lnTo>
                  <a:pt x="232" y="132"/>
                </a:lnTo>
                <a:lnTo>
                  <a:pt x="227" y="132"/>
                </a:lnTo>
                <a:lnTo>
                  <a:pt x="221" y="132"/>
                </a:lnTo>
                <a:lnTo>
                  <a:pt x="214" y="130"/>
                </a:lnTo>
                <a:lnTo>
                  <a:pt x="205" y="128"/>
                </a:lnTo>
                <a:lnTo>
                  <a:pt x="198" y="126"/>
                </a:lnTo>
                <a:lnTo>
                  <a:pt x="189" y="123"/>
                </a:lnTo>
                <a:lnTo>
                  <a:pt x="183" y="121"/>
                </a:lnTo>
                <a:lnTo>
                  <a:pt x="178" y="119"/>
                </a:lnTo>
                <a:lnTo>
                  <a:pt x="173" y="124"/>
                </a:lnTo>
                <a:lnTo>
                  <a:pt x="169" y="132"/>
                </a:lnTo>
                <a:lnTo>
                  <a:pt x="162" y="139"/>
                </a:lnTo>
                <a:lnTo>
                  <a:pt x="156" y="148"/>
                </a:lnTo>
                <a:lnTo>
                  <a:pt x="150" y="156"/>
                </a:lnTo>
                <a:lnTo>
                  <a:pt x="144" y="166"/>
                </a:lnTo>
                <a:lnTo>
                  <a:pt x="139" y="175"/>
                </a:lnTo>
                <a:lnTo>
                  <a:pt x="135" y="183"/>
                </a:lnTo>
                <a:lnTo>
                  <a:pt x="132" y="184"/>
                </a:lnTo>
                <a:lnTo>
                  <a:pt x="128" y="186"/>
                </a:lnTo>
                <a:lnTo>
                  <a:pt x="124" y="187"/>
                </a:lnTo>
                <a:lnTo>
                  <a:pt x="121" y="187"/>
                </a:lnTo>
                <a:lnTo>
                  <a:pt x="118" y="189"/>
                </a:lnTo>
                <a:lnTo>
                  <a:pt x="117" y="192"/>
                </a:lnTo>
                <a:lnTo>
                  <a:pt x="114" y="194"/>
                </a:lnTo>
                <a:lnTo>
                  <a:pt x="112" y="198"/>
                </a:lnTo>
                <a:lnTo>
                  <a:pt x="110" y="191"/>
                </a:lnTo>
                <a:lnTo>
                  <a:pt x="111" y="182"/>
                </a:lnTo>
                <a:lnTo>
                  <a:pt x="113" y="173"/>
                </a:lnTo>
                <a:lnTo>
                  <a:pt x="118" y="164"/>
                </a:lnTo>
                <a:lnTo>
                  <a:pt x="123" y="154"/>
                </a:lnTo>
                <a:lnTo>
                  <a:pt x="129" y="145"/>
                </a:lnTo>
                <a:lnTo>
                  <a:pt x="135" y="137"/>
                </a:lnTo>
                <a:lnTo>
                  <a:pt x="140" y="130"/>
                </a:lnTo>
                <a:lnTo>
                  <a:pt x="137" y="126"/>
                </a:lnTo>
                <a:lnTo>
                  <a:pt x="126" y="130"/>
                </a:lnTo>
                <a:lnTo>
                  <a:pt x="110" y="138"/>
                </a:lnTo>
                <a:lnTo>
                  <a:pt x="90" y="146"/>
                </a:lnTo>
                <a:lnTo>
                  <a:pt x="69" y="155"/>
                </a:lnTo>
                <a:lnTo>
                  <a:pt x="48" y="164"/>
                </a:lnTo>
                <a:lnTo>
                  <a:pt x="28" y="171"/>
                </a:lnTo>
                <a:lnTo>
                  <a:pt x="14" y="177"/>
                </a:lnTo>
                <a:lnTo>
                  <a:pt x="4" y="181"/>
                </a:lnTo>
                <a:lnTo>
                  <a:pt x="8" y="177"/>
                </a:lnTo>
                <a:lnTo>
                  <a:pt x="11" y="172"/>
                </a:lnTo>
                <a:lnTo>
                  <a:pt x="15" y="169"/>
                </a:lnTo>
                <a:lnTo>
                  <a:pt x="15" y="164"/>
                </a:lnTo>
                <a:lnTo>
                  <a:pt x="15" y="157"/>
                </a:lnTo>
                <a:lnTo>
                  <a:pt x="16" y="151"/>
                </a:lnTo>
                <a:lnTo>
                  <a:pt x="19" y="145"/>
                </a:lnTo>
                <a:lnTo>
                  <a:pt x="24" y="142"/>
                </a:lnTo>
                <a:lnTo>
                  <a:pt x="28" y="140"/>
                </a:lnTo>
                <a:lnTo>
                  <a:pt x="36" y="138"/>
                </a:lnTo>
                <a:lnTo>
                  <a:pt x="44" y="134"/>
                </a:lnTo>
                <a:lnTo>
                  <a:pt x="54" y="130"/>
                </a:lnTo>
                <a:lnTo>
                  <a:pt x="64" y="127"/>
                </a:lnTo>
                <a:lnTo>
                  <a:pt x="73" y="124"/>
                </a:lnTo>
                <a:lnTo>
                  <a:pt x="79" y="122"/>
                </a:lnTo>
                <a:lnTo>
                  <a:pt x="83" y="119"/>
                </a:lnTo>
                <a:lnTo>
                  <a:pt x="87" y="116"/>
                </a:lnTo>
                <a:lnTo>
                  <a:pt x="92" y="112"/>
                </a:lnTo>
                <a:lnTo>
                  <a:pt x="98" y="108"/>
                </a:lnTo>
                <a:lnTo>
                  <a:pt x="105" y="106"/>
                </a:lnTo>
                <a:lnTo>
                  <a:pt x="96" y="106"/>
                </a:lnTo>
                <a:lnTo>
                  <a:pt x="84" y="107"/>
                </a:lnTo>
                <a:lnTo>
                  <a:pt x="69" y="107"/>
                </a:lnTo>
                <a:lnTo>
                  <a:pt x="53" y="107"/>
                </a:lnTo>
                <a:lnTo>
                  <a:pt x="37" y="107"/>
                </a:lnTo>
                <a:lnTo>
                  <a:pt x="21" y="107"/>
                </a:lnTo>
                <a:lnTo>
                  <a:pt x="9" y="107"/>
                </a:lnTo>
                <a:lnTo>
                  <a:pt x="0" y="107"/>
                </a:lnTo>
                <a:lnTo>
                  <a:pt x="3" y="103"/>
                </a:lnTo>
                <a:lnTo>
                  <a:pt x="5" y="99"/>
                </a:lnTo>
                <a:lnTo>
                  <a:pt x="10" y="94"/>
                </a:lnTo>
                <a:lnTo>
                  <a:pt x="16" y="89"/>
                </a:lnTo>
                <a:lnTo>
                  <a:pt x="22" y="84"/>
                </a:lnTo>
                <a:lnTo>
                  <a:pt x="28" y="80"/>
                </a:lnTo>
                <a:lnTo>
                  <a:pt x="36" y="78"/>
                </a:lnTo>
                <a:lnTo>
                  <a:pt x="43" y="78"/>
                </a:lnTo>
                <a:lnTo>
                  <a:pt x="51" y="79"/>
                </a:lnTo>
                <a:lnTo>
                  <a:pt x="58" y="80"/>
                </a:lnTo>
                <a:lnTo>
                  <a:pt x="67" y="81"/>
                </a:lnTo>
                <a:lnTo>
                  <a:pt x="74" y="81"/>
                </a:lnTo>
                <a:lnTo>
                  <a:pt x="81" y="83"/>
                </a:lnTo>
                <a:lnTo>
                  <a:pt x="89" y="83"/>
                </a:lnTo>
                <a:lnTo>
                  <a:pt x="96" y="83"/>
                </a:lnTo>
                <a:lnTo>
                  <a:pt x="102" y="81"/>
                </a:lnTo>
                <a:lnTo>
                  <a:pt x="108" y="80"/>
                </a:lnTo>
                <a:lnTo>
                  <a:pt x="114" y="78"/>
                </a:lnTo>
                <a:lnTo>
                  <a:pt x="122" y="75"/>
                </a:lnTo>
                <a:lnTo>
                  <a:pt x="129" y="72"/>
                </a:lnTo>
                <a:lnTo>
                  <a:pt x="138" y="68"/>
                </a:lnTo>
                <a:lnTo>
                  <a:pt x="145" y="65"/>
                </a:lnTo>
                <a:lnTo>
                  <a:pt x="154" y="63"/>
                </a:lnTo>
                <a:lnTo>
                  <a:pt x="162" y="62"/>
                </a:lnTo>
                <a:lnTo>
                  <a:pt x="167" y="54"/>
                </a:lnTo>
                <a:lnTo>
                  <a:pt x="172" y="47"/>
                </a:lnTo>
                <a:lnTo>
                  <a:pt x="178" y="37"/>
                </a:lnTo>
                <a:lnTo>
                  <a:pt x="183" y="29"/>
                </a:lnTo>
                <a:lnTo>
                  <a:pt x="189" y="20"/>
                </a:lnTo>
                <a:lnTo>
                  <a:pt x="194" y="13"/>
                </a:lnTo>
                <a:lnTo>
                  <a:pt x="198" y="8"/>
                </a:lnTo>
                <a:lnTo>
                  <a:pt x="200" y="4"/>
                </a:lnTo>
                <a:lnTo>
                  <a:pt x="235" y="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95" descr="图形111"/>
          <p:cNvPicPr/>
          <p:nvPr/>
        </p:nvPicPr>
        <p:blipFill>
          <a:blip r:embed="rId4"/>
          <a:stretch/>
        </p:blipFill>
        <p:spPr>
          <a:xfrm>
            <a:off x="8464680" y="5877000"/>
            <a:ext cx="47916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6" descr="图形111"/>
          <p:cNvPicPr/>
          <p:nvPr/>
        </p:nvPicPr>
        <p:blipFill>
          <a:blip r:embed="rId5"/>
          <a:stretch/>
        </p:blipFill>
        <p:spPr>
          <a:xfrm>
            <a:off x="7888320" y="5516640"/>
            <a:ext cx="479520" cy="371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98" descr="图形111"/>
          <p:cNvPicPr/>
          <p:nvPr/>
        </p:nvPicPr>
        <p:blipFill>
          <a:blip r:embed="rId6"/>
          <a:stretch/>
        </p:blipFill>
        <p:spPr>
          <a:xfrm>
            <a:off x="7164360" y="5589720"/>
            <a:ext cx="479520" cy="3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4" descr="图形1"/>
          <p:cNvPicPr/>
          <p:nvPr/>
        </p:nvPicPr>
        <p:blipFill>
          <a:blip r:embed="rId7"/>
          <a:stretch/>
        </p:blipFill>
        <p:spPr>
          <a:xfrm>
            <a:off x="297180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5" descr="图形1"/>
          <p:cNvPicPr/>
          <p:nvPr/>
        </p:nvPicPr>
        <p:blipFill>
          <a:blip r:embed="rId8"/>
          <a:stretch/>
        </p:blipFill>
        <p:spPr>
          <a:xfrm>
            <a:off x="762120" y="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6" descr="图形1"/>
          <p:cNvPicPr/>
          <p:nvPr/>
        </p:nvPicPr>
        <p:blipFill>
          <a:blip r:embed="rId9"/>
          <a:stretch/>
        </p:blipFill>
        <p:spPr>
          <a:xfrm>
            <a:off x="4114800" y="1143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07"/>
          <p:cNvGrpSpPr/>
          <p:nvPr/>
        </p:nvGrpSpPr>
        <p:grpSpPr>
          <a:xfrm>
            <a:off x="3352680" y="1219320"/>
            <a:ext cx="3672000" cy="5181480"/>
            <a:chOff x="3352680" y="1219320"/>
            <a:chExt cx="3672000" cy="5181480"/>
          </a:xfrm>
        </p:grpSpPr>
        <p:pic>
          <p:nvPicPr>
            <p:cNvPr id="197" name="Picture 208" descr="图形1"/>
            <p:cNvPicPr/>
            <p:nvPr/>
          </p:nvPicPr>
          <p:blipFill>
            <a:blip r:embed="rId10"/>
            <a:stretch/>
          </p:blipFill>
          <p:spPr>
            <a:xfrm>
              <a:off x="6477120" y="12193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09" descr="图形1"/>
            <p:cNvPicPr/>
            <p:nvPr/>
          </p:nvPicPr>
          <p:blipFill>
            <a:blip r:embed="rId11"/>
            <a:stretch/>
          </p:blipFill>
          <p:spPr>
            <a:xfrm>
              <a:off x="3352680" y="56386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10"/>
          <p:cNvGrpSpPr/>
          <p:nvPr/>
        </p:nvGrpSpPr>
        <p:grpSpPr>
          <a:xfrm>
            <a:off x="380880" y="685800"/>
            <a:ext cx="6186600" cy="4267080"/>
            <a:chOff x="380880" y="685800"/>
            <a:chExt cx="6186600" cy="4267080"/>
          </a:xfrm>
        </p:grpSpPr>
        <p:pic>
          <p:nvPicPr>
            <p:cNvPr id="200" name="Picture 211" descr="图形1"/>
            <p:cNvPicPr/>
            <p:nvPr/>
          </p:nvPicPr>
          <p:blipFill>
            <a:blip r:embed="rId12"/>
            <a:stretch/>
          </p:blipFill>
          <p:spPr>
            <a:xfrm>
              <a:off x="6019560" y="32004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12" descr="图形1"/>
            <p:cNvPicPr/>
            <p:nvPr/>
          </p:nvPicPr>
          <p:blipFill>
            <a:blip r:embed="rId13"/>
            <a:stretch/>
          </p:blipFill>
          <p:spPr>
            <a:xfrm>
              <a:off x="3886200" y="4419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13" descr="图形1"/>
            <p:cNvPicPr/>
            <p:nvPr/>
          </p:nvPicPr>
          <p:blipFill>
            <a:blip r:embed="rId14"/>
            <a:stretch/>
          </p:blipFill>
          <p:spPr>
            <a:xfrm>
              <a:off x="380880" y="68580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218"/>
          <p:cNvSpPr/>
          <p:nvPr/>
        </p:nvSpPr>
        <p:spPr>
          <a:xfrm>
            <a:off x="900000" y="83664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鸡画竹叶，小狗画梅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22" descr=""/>
          <p:cNvPicPr/>
          <p:nvPr/>
        </p:nvPicPr>
        <p:blipFill>
          <a:blip r:embed="rId15"/>
          <a:stretch/>
        </p:blipFill>
        <p:spPr>
          <a:xfrm>
            <a:off x="0" y="3429000"/>
            <a:ext cx="615960" cy="48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3" descr=""/>
          <p:cNvPicPr/>
          <p:nvPr/>
        </p:nvPicPr>
        <p:blipFill>
          <a:blip r:embed="rId16"/>
          <a:stretch/>
        </p:blipFill>
        <p:spPr>
          <a:xfrm>
            <a:off x="609480" y="3733920"/>
            <a:ext cx="615960" cy="48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4" descr=""/>
          <p:cNvPicPr/>
          <p:nvPr/>
        </p:nvPicPr>
        <p:blipFill>
          <a:blip r:embed="rId17"/>
          <a:stretch/>
        </p:blipFill>
        <p:spPr>
          <a:xfrm>
            <a:off x="1600200" y="3581280"/>
            <a:ext cx="615960" cy="48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25" descr=""/>
          <p:cNvPicPr/>
          <p:nvPr/>
        </p:nvPicPr>
        <p:blipFill>
          <a:blip r:embed="rId18"/>
          <a:stretch/>
        </p:blipFill>
        <p:spPr>
          <a:xfrm>
            <a:off x="2268360" y="3429000"/>
            <a:ext cx="615960" cy="48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26" descr="马"/>
          <p:cNvPicPr/>
          <p:nvPr/>
        </p:nvPicPr>
        <p:blipFill>
          <a:blip r:embed="rId19"/>
          <a:stretch/>
        </p:blipFill>
        <p:spPr>
          <a:xfrm>
            <a:off x="-2052720" y="3716280"/>
            <a:ext cx="2808360" cy="23385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28"/>
          <p:cNvSpPr/>
          <p:nvPr/>
        </p:nvSpPr>
        <p:spPr>
          <a:xfrm flipH="1">
            <a:off x="1258200" y="5950080"/>
            <a:ext cx="430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29"/>
          <p:cNvSpPr/>
          <p:nvPr/>
        </p:nvSpPr>
        <p:spPr>
          <a:xfrm flipH="1">
            <a:off x="1908000" y="6237360"/>
            <a:ext cx="43056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30"/>
          <p:cNvSpPr/>
          <p:nvPr/>
        </p:nvSpPr>
        <p:spPr>
          <a:xfrm flipH="1">
            <a:off x="-720" y="5661000"/>
            <a:ext cx="430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1"/>
          <p:cNvSpPr/>
          <p:nvPr/>
        </p:nvSpPr>
        <p:spPr>
          <a:xfrm flipH="1">
            <a:off x="467640" y="6165720"/>
            <a:ext cx="4302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15" descr="鸡"/>
          <p:cNvPicPr/>
          <p:nvPr/>
        </p:nvPicPr>
        <p:blipFill>
          <a:blip r:embed="rId20"/>
          <a:stretch/>
        </p:blipFill>
        <p:spPr>
          <a:xfrm>
            <a:off x="7883640" y="2100240"/>
            <a:ext cx="1368360" cy="1328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6" descr="狗"/>
          <p:cNvPicPr/>
          <p:nvPr/>
        </p:nvPicPr>
        <p:blipFill>
          <a:blip r:embed="rId21"/>
          <a:stretch/>
        </p:blipFill>
        <p:spPr>
          <a:xfrm>
            <a:off x="8170920" y="5084640"/>
            <a:ext cx="1944720" cy="1130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0" descr="20060102093154702"/>
          <p:cNvPicPr/>
          <p:nvPr/>
        </p:nvPicPr>
        <p:blipFill>
          <a:blip r:embed="rId22"/>
          <a:stretch/>
        </p:blipFill>
        <p:spPr>
          <a:xfrm>
            <a:off x="-719280" y="2205000"/>
            <a:ext cx="1438560" cy="155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32"/>
          <p:cNvSpPr/>
          <p:nvPr/>
        </p:nvSpPr>
        <p:spPr>
          <a:xfrm>
            <a:off x="936720" y="1700280"/>
            <a:ext cx="79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鸭画枫叶，小马画月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35"/>
          <p:cNvSpPr/>
          <p:nvPr/>
        </p:nvSpPr>
        <p:spPr>
          <a:xfrm>
            <a:off x="6732720" y="62373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6"/>
          <p:cNvSpPr/>
          <p:nvPr/>
        </p:nvSpPr>
        <p:spPr>
          <a:xfrm>
            <a:off x="5608800" y="647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点击鼠标，等待一会儿，就会依次出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399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526E-006 C -0.01754 0.03838 -0.0349 0.077 -0.06007 0.09226 C -0.08524 0.10752 -0.12431 0.08093 -0.15208 0.09226 C -0.17969 0.10359 -0.19948 0.15006 -0.22587 0.16023 C -0.25226 0.17041 -0.29688 0.15445 -0.31094 0.1533 E">
                                      <p:cBhvr>
                                        <p:cTn id="423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7341E-007 C -0.01789 -0.03237 -0.03577 -0.06474 -0.05452 -0.07468 C -0.07327 -0.08462 -0.09844 -0.07468 -0.11268 -0.06035 C -0.12674 -0.04578 -0.10209 0.00139 -0.13889 0.01272 C -0.17587 0.02382 -0.30243 0.00832 -0.33455 0.00763 E">
                                      <p:cBhvr>
                                        <p:cTn id="44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9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5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C 0.03073 0.03631 0.06163 0.07261 0.09358 0.07399 C 0.12552 0.07538 0.16077 0.02382 0.19202 0.00833 C 0.22327 -0.00716 0.24705 -0.02312 0.2809 -0.01919 C 0.31476 -0.01526 0.37622 0.02313 0.39531 0.03168 E">
                                      <p:cBhvr>
                                        <p:cTn id="456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43353E-006 C 0.01597 0.05386 0.03194 0.10774 0.05868 0.10774 C 0.08541 0.10774 0.13246 -0.00047 0.16024 -5.43353E-006 C 0.18802 0.00045 0.18194 0.09849 0.22534 0.10982 C 0.26875 0.12115 0.38819 0.07467 0.42066 0.06774 E">
                                      <p:cBhvr>
                                        <p:cTn id="474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图形1"/>
          <p:cNvPicPr/>
          <p:nvPr/>
        </p:nvPicPr>
        <p:blipFill>
          <a:blip r:embed="rId1"/>
          <a:stretch/>
        </p:blipFill>
        <p:spPr>
          <a:xfrm>
            <a:off x="2057400" y="19810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图形1"/>
          <p:cNvPicPr/>
          <p:nvPr/>
        </p:nvPicPr>
        <p:blipFill>
          <a:blip r:embed="rId2"/>
          <a:stretch/>
        </p:blipFill>
        <p:spPr>
          <a:xfrm>
            <a:off x="304920" y="914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图形1"/>
          <p:cNvPicPr/>
          <p:nvPr/>
        </p:nvPicPr>
        <p:blipFill>
          <a:blip r:embed="rId3"/>
          <a:stretch/>
        </p:blipFill>
        <p:spPr>
          <a:xfrm>
            <a:off x="8596440" y="5486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图形1"/>
          <p:cNvPicPr/>
          <p:nvPr/>
        </p:nvPicPr>
        <p:blipFill>
          <a:blip r:embed="rId4"/>
          <a:stretch/>
        </p:blipFill>
        <p:spPr>
          <a:xfrm>
            <a:off x="8001000" y="57150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图形1"/>
          <p:cNvPicPr/>
          <p:nvPr/>
        </p:nvPicPr>
        <p:blipFill>
          <a:blip r:embed="rId5"/>
          <a:stretch/>
        </p:blipFill>
        <p:spPr>
          <a:xfrm>
            <a:off x="4343400" y="4572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图形1"/>
          <p:cNvPicPr/>
          <p:nvPr/>
        </p:nvPicPr>
        <p:blipFill>
          <a:blip r:embed="rId6"/>
          <a:stretch/>
        </p:blipFill>
        <p:spPr>
          <a:xfrm>
            <a:off x="693432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图形1"/>
          <p:cNvPicPr/>
          <p:nvPr/>
        </p:nvPicPr>
        <p:blipFill>
          <a:blip r:embed="rId7"/>
          <a:stretch/>
        </p:blipFill>
        <p:spPr>
          <a:xfrm>
            <a:off x="3352680" y="12193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图形1"/>
          <p:cNvPicPr/>
          <p:nvPr/>
        </p:nvPicPr>
        <p:blipFill>
          <a:blip r:embed="rId8"/>
          <a:stretch/>
        </p:blipFill>
        <p:spPr>
          <a:xfrm>
            <a:off x="1981080" y="3049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图形1"/>
          <p:cNvPicPr/>
          <p:nvPr/>
        </p:nvPicPr>
        <p:blipFill>
          <a:blip r:embed="rId9"/>
          <a:stretch/>
        </p:blipFill>
        <p:spPr>
          <a:xfrm>
            <a:off x="5791320" y="12952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图形1"/>
          <p:cNvPicPr/>
          <p:nvPr/>
        </p:nvPicPr>
        <p:blipFill>
          <a:blip r:embed="rId10"/>
          <a:stretch/>
        </p:blipFill>
        <p:spPr>
          <a:xfrm>
            <a:off x="2438280" y="5562720"/>
            <a:ext cx="547920" cy="533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图形1"/>
          <p:cNvPicPr/>
          <p:nvPr/>
        </p:nvPicPr>
        <p:blipFill>
          <a:blip r:embed="rId11"/>
          <a:stretch/>
        </p:blipFill>
        <p:spPr>
          <a:xfrm>
            <a:off x="5029200" y="5943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图形1"/>
          <p:cNvPicPr/>
          <p:nvPr/>
        </p:nvPicPr>
        <p:blipFill>
          <a:blip r:embed="rId12"/>
          <a:stretch/>
        </p:blipFill>
        <p:spPr>
          <a:xfrm>
            <a:off x="7848720" y="43434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图形1"/>
          <p:cNvPicPr/>
          <p:nvPr/>
        </p:nvPicPr>
        <p:blipFill>
          <a:blip r:embed="rId13"/>
          <a:stretch/>
        </p:blipFill>
        <p:spPr>
          <a:xfrm>
            <a:off x="3733920" y="44956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图形1"/>
          <p:cNvPicPr/>
          <p:nvPr/>
        </p:nvPicPr>
        <p:blipFill>
          <a:blip r:embed="rId14"/>
          <a:stretch/>
        </p:blipFill>
        <p:spPr>
          <a:xfrm>
            <a:off x="6934320" y="5715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7"/>
          <p:cNvGrpSpPr/>
          <p:nvPr/>
        </p:nvGrpSpPr>
        <p:grpSpPr>
          <a:xfrm>
            <a:off x="2133720" y="5638680"/>
            <a:ext cx="6033960" cy="4800600"/>
            <a:chOff x="2133720" y="5638680"/>
            <a:chExt cx="6033960" cy="4800600"/>
          </a:xfrm>
        </p:grpSpPr>
        <p:pic>
          <p:nvPicPr>
            <p:cNvPr id="234" name="Picture 18" descr="图形1"/>
            <p:cNvPicPr/>
            <p:nvPr/>
          </p:nvPicPr>
          <p:blipFill>
            <a:blip r:embed="rId15"/>
            <a:stretch/>
          </p:blipFill>
          <p:spPr>
            <a:xfrm>
              <a:off x="2133720" y="563868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9" descr="图形1"/>
            <p:cNvPicPr/>
            <p:nvPr/>
          </p:nvPicPr>
          <p:blipFill>
            <a:blip r:embed="rId16"/>
            <a:stretch/>
          </p:blipFill>
          <p:spPr>
            <a:xfrm>
              <a:off x="7620120" y="9905760"/>
              <a:ext cx="5475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20" descr="图形1"/>
          <p:cNvPicPr/>
          <p:nvPr/>
        </p:nvPicPr>
        <p:blipFill>
          <a:blip r:embed="rId17"/>
          <a:stretch/>
        </p:blipFill>
        <p:spPr>
          <a:xfrm>
            <a:off x="5562720" y="5791320"/>
            <a:ext cx="547560" cy="53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1" descr="图形1"/>
          <p:cNvPicPr/>
          <p:nvPr/>
        </p:nvPicPr>
        <p:blipFill>
          <a:blip r:embed="rId18"/>
          <a:stretch/>
        </p:blipFill>
        <p:spPr>
          <a:xfrm>
            <a:off x="6172200" y="40384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2" descr="图形1"/>
          <p:cNvPicPr/>
          <p:nvPr/>
        </p:nvPicPr>
        <p:blipFill>
          <a:blip r:embed="rId19"/>
          <a:stretch/>
        </p:blipFill>
        <p:spPr>
          <a:xfrm>
            <a:off x="304920" y="52578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3"/>
          <p:cNvGrpSpPr/>
          <p:nvPr/>
        </p:nvGrpSpPr>
        <p:grpSpPr>
          <a:xfrm>
            <a:off x="4572000" y="990720"/>
            <a:ext cx="3672000" cy="5181480"/>
            <a:chOff x="4572000" y="990720"/>
            <a:chExt cx="3672000" cy="5181480"/>
          </a:xfrm>
        </p:grpSpPr>
        <p:pic>
          <p:nvPicPr>
            <p:cNvPr id="240" name="Picture 24" descr="图形1"/>
            <p:cNvPicPr/>
            <p:nvPr/>
          </p:nvPicPr>
          <p:blipFill>
            <a:blip r:embed="rId20"/>
            <a:stretch/>
          </p:blipFill>
          <p:spPr>
            <a:xfrm>
              <a:off x="7696440" y="990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5" descr="图形1"/>
            <p:cNvPicPr/>
            <p:nvPr/>
          </p:nvPicPr>
          <p:blipFill>
            <a:blip r:embed="rId21"/>
            <a:stretch/>
          </p:blipFill>
          <p:spPr>
            <a:xfrm>
              <a:off x="4572000" y="54100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" name="Picture 26" descr="图形1"/>
          <p:cNvPicPr/>
          <p:nvPr/>
        </p:nvPicPr>
        <p:blipFill>
          <a:blip r:embed="rId22"/>
          <a:stretch/>
        </p:blipFill>
        <p:spPr>
          <a:xfrm>
            <a:off x="4876920" y="4648320"/>
            <a:ext cx="547560" cy="5331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7"/>
          <p:cNvGrpSpPr/>
          <p:nvPr/>
        </p:nvGrpSpPr>
        <p:grpSpPr>
          <a:xfrm>
            <a:off x="1523880" y="838080"/>
            <a:ext cx="6186600" cy="4267080"/>
            <a:chOff x="1523880" y="838080"/>
            <a:chExt cx="6186600" cy="4267080"/>
          </a:xfrm>
        </p:grpSpPr>
        <p:pic>
          <p:nvPicPr>
            <p:cNvPr id="244" name="Picture 28" descr="图形1"/>
            <p:cNvPicPr/>
            <p:nvPr/>
          </p:nvPicPr>
          <p:blipFill>
            <a:blip r:embed="rId23"/>
            <a:stretch/>
          </p:blipFill>
          <p:spPr>
            <a:xfrm>
              <a:off x="7162560" y="335268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9" descr="图形1"/>
            <p:cNvPicPr/>
            <p:nvPr/>
          </p:nvPicPr>
          <p:blipFill>
            <a:blip r:embed="rId24"/>
            <a:stretch/>
          </p:blipFill>
          <p:spPr>
            <a:xfrm>
              <a:off x="5029200" y="457200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0" descr="图形1"/>
            <p:cNvPicPr/>
            <p:nvPr/>
          </p:nvPicPr>
          <p:blipFill>
            <a:blip r:embed="rId25"/>
            <a:stretch/>
          </p:blipFill>
          <p:spPr>
            <a:xfrm>
              <a:off x="1523880" y="83808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31"/>
          <p:cNvGrpSpPr/>
          <p:nvPr/>
        </p:nvGrpSpPr>
        <p:grpSpPr>
          <a:xfrm>
            <a:off x="1600200" y="2514600"/>
            <a:ext cx="6186600" cy="3505320"/>
            <a:chOff x="1600200" y="2514600"/>
            <a:chExt cx="6186600" cy="3505320"/>
          </a:xfrm>
        </p:grpSpPr>
        <p:pic>
          <p:nvPicPr>
            <p:cNvPr id="248" name="Picture 32" descr="图形1"/>
            <p:cNvPicPr/>
            <p:nvPr/>
          </p:nvPicPr>
          <p:blipFill>
            <a:blip r:embed="rId26"/>
            <a:stretch/>
          </p:blipFill>
          <p:spPr>
            <a:xfrm>
              <a:off x="7239240" y="548640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3" descr="图形1"/>
            <p:cNvPicPr/>
            <p:nvPr/>
          </p:nvPicPr>
          <p:blipFill>
            <a:blip r:embed="rId27"/>
            <a:stretch/>
          </p:blipFill>
          <p:spPr>
            <a:xfrm>
              <a:off x="1600200" y="41148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34"/>
            <p:cNvGrpSpPr/>
            <p:nvPr/>
          </p:nvGrpSpPr>
          <p:grpSpPr>
            <a:xfrm>
              <a:off x="4953240" y="2514600"/>
              <a:ext cx="1538280" cy="914400"/>
              <a:chOff x="4953240" y="2514600"/>
              <a:chExt cx="1538280" cy="914400"/>
            </a:xfrm>
          </p:grpSpPr>
          <p:pic>
            <p:nvPicPr>
              <p:cNvPr id="251" name="Picture 35" descr="图形1"/>
              <p:cNvPicPr/>
              <p:nvPr/>
            </p:nvPicPr>
            <p:blipFill>
              <a:blip r:embed="rId28"/>
              <a:stretch/>
            </p:blipFill>
            <p:spPr>
              <a:xfrm>
                <a:off x="5943600" y="2514600"/>
                <a:ext cx="5479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36" descr="图形1"/>
              <p:cNvPicPr/>
              <p:nvPr/>
            </p:nvPicPr>
            <p:blipFill>
              <a:blip r:embed="rId29"/>
              <a:stretch/>
            </p:blipFill>
            <p:spPr>
              <a:xfrm>
                <a:off x="4953240" y="2895480"/>
                <a:ext cx="54756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3" name="Group 37"/>
          <p:cNvGrpSpPr/>
          <p:nvPr/>
        </p:nvGrpSpPr>
        <p:grpSpPr>
          <a:xfrm>
            <a:off x="3276720" y="4038480"/>
            <a:ext cx="4128480" cy="1600200"/>
            <a:chOff x="3276720" y="4038480"/>
            <a:chExt cx="4128480" cy="1600200"/>
          </a:xfrm>
        </p:grpSpPr>
        <p:pic>
          <p:nvPicPr>
            <p:cNvPr id="254" name="Picture 38" descr="图形1"/>
            <p:cNvPicPr/>
            <p:nvPr/>
          </p:nvPicPr>
          <p:blipFill>
            <a:blip r:embed="rId30"/>
            <a:stretch/>
          </p:blipFill>
          <p:spPr>
            <a:xfrm>
              <a:off x="6858000" y="4038480"/>
              <a:ext cx="547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9" descr="图形1"/>
            <p:cNvPicPr/>
            <p:nvPr/>
          </p:nvPicPr>
          <p:blipFill>
            <a:blip r:embed="rId31"/>
            <a:stretch/>
          </p:blipFill>
          <p:spPr>
            <a:xfrm>
              <a:off x="3276720" y="5105520"/>
              <a:ext cx="5475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AutoShape 8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86"/>
          <p:cNvSpPr/>
          <p:nvPr/>
        </p:nvSpPr>
        <p:spPr>
          <a:xfrm>
            <a:off x="0" y="0"/>
            <a:ext cx="8953560" cy="2598840"/>
          </a:xfrm>
          <a:custGeom>
            <a:avLst/>
            <a:gdLst>
              <a:gd name="textAreaLeft" fmla="*/ 0 w 8953560"/>
              <a:gd name="textAreaRight" fmla="*/ 8953920 w 8953560"/>
              <a:gd name="textAreaTop" fmla="*/ 0 h 2598840"/>
              <a:gd name="textAreaBottom" fmla="*/ 2598840 h 2598840"/>
            </a:gdLst>
            <a:ahLst/>
            <a:rect l="textAreaLeft" t="textAreaTop" r="textAreaRight" b="textAreaBottom"/>
            <a:pathLst>
              <a:path w="5640" h="1637">
                <a:moveTo>
                  <a:pt x="5640" y="0"/>
                </a:moveTo>
                <a:lnTo>
                  <a:pt x="0" y="0"/>
                </a:lnTo>
                <a:lnTo>
                  <a:pt x="0" y="1168"/>
                </a:lnTo>
                <a:lnTo>
                  <a:pt x="66" y="1162"/>
                </a:lnTo>
                <a:lnTo>
                  <a:pt x="139" y="1158"/>
                </a:lnTo>
                <a:lnTo>
                  <a:pt x="217" y="1155"/>
                </a:lnTo>
                <a:lnTo>
                  <a:pt x="301" y="1152"/>
                </a:lnTo>
                <a:lnTo>
                  <a:pt x="389" y="1152"/>
                </a:lnTo>
                <a:lnTo>
                  <a:pt x="482" y="1152"/>
                </a:lnTo>
                <a:lnTo>
                  <a:pt x="577" y="1155"/>
                </a:lnTo>
                <a:lnTo>
                  <a:pt x="678" y="1155"/>
                </a:lnTo>
                <a:lnTo>
                  <a:pt x="783" y="1162"/>
                </a:lnTo>
                <a:lnTo>
                  <a:pt x="888" y="1168"/>
                </a:lnTo>
                <a:lnTo>
                  <a:pt x="996" y="1175"/>
                </a:lnTo>
                <a:lnTo>
                  <a:pt x="1106" y="1181"/>
                </a:lnTo>
                <a:lnTo>
                  <a:pt x="1216" y="1191"/>
                </a:lnTo>
                <a:lnTo>
                  <a:pt x="1328" y="1201"/>
                </a:lnTo>
                <a:lnTo>
                  <a:pt x="1441" y="1213"/>
                </a:lnTo>
                <a:lnTo>
                  <a:pt x="1554" y="1226"/>
                </a:lnTo>
                <a:lnTo>
                  <a:pt x="1664" y="1243"/>
                </a:lnTo>
                <a:lnTo>
                  <a:pt x="1776" y="1259"/>
                </a:lnTo>
                <a:lnTo>
                  <a:pt x="1884" y="1275"/>
                </a:lnTo>
                <a:lnTo>
                  <a:pt x="1992" y="1291"/>
                </a:lnTo>
                <a:lnTo>
                  <a:pt x="2097" y="1311"/>
                </a:lnTo>
                <a:lnTo>
                  <a:pt x="2197" y="1333"/>
                </a:lnTo>
                <a:lnTo>
                  <a:pt x="2297" y="1353"/>
                </a:lnTo>
                <a:lnTo>
                  <a:pt x="2390" y="1375"/>
                </a:lnTo>
                <a:lnTo>
                  <a:pt x="2481" y="1401"/>
                </a:lnTo>
                <a:lnTo>
                  <a:pt x="2567" y="1427"/>
                </a:lnTo>
                <a:lnTo>
                  <a:pt x="2647" y="1453"/>
                </a:lnTo>
                <a:lnTo>
                  <a:pt x="2723" y="1479"/>
                </a:lnTo>
                <a:lnTo>
                  <a:pt x="2792" y="1508"/>
                </a:lnTo>
                <a:lnTo>
                  <a:pt x="2855" y="1537"/>
                </a:lnTo>
                <a:lnTo>
                  <a:pt x="2909" y="1569"/>
                </a:lnTo>
                <a:lnTo>
                  <a:pt x="2958" y="1602"/>
                </a:lnTo>
                <a:lnTo>
                  <a:pt x="2988" y="1599"/>
                </a:lnTo>
                <a:lnTo>
                  <a:pt x="3019" y="1592"/>
                </a:lnTo>
                <a:lnTo>
                  <a:pt x="3051" y="1589"/>
                </a:lnTo>
                <a:lnTo>
                  <a:pt x="3081" y="1589"/>
                </a:lnTo>
                <a:lnTo>
                  <a:pt x="3112" y="1586"/>
                </a:lnTo>
                <a:lnTo>
                  <a:pt x="3142" y="1586"/>
                </a:lnTo>
                <a:lnTo>
                  <a:pt x="3174" y="1586"/>
                </a:lnTo>
                <a:lnTo>
                  <a:pt x="3203" y="1586"/>
                </a:lnTo>
                <a:lnTo>
                  <a:pt x="3230" y="1586"/>
                </a:lnTo>
                <a:lnTo>
                  <a:pt x="3259" y="1589"/>
                </a:lnTo>
                <a:lnTo>
                  <a:pt x="3286" y="1592"/>
                </a:lnTo>
                <a:lnTo>
                  <a:pt x="3311" y="1595"/>
                </a:lnTo>
                <a:lnTo>
                  <a:pt x="3335" y="1599"/>
                </a:lnTo>
                <a:lnTo>
                  <a:pt x="3357" y="1602"/>
                </a:lnTo>
                <a:lnTo>
                  <a:pt x="3379" y="1608"/>
                </a:lnTo>
                <a:lnTo>
                  <a:pt x="3399" y="1615"/>
                </a:lnTo>
                <a:lnTo>
                  <a:pt x="3433" y="1624"/>
                </a:lnTo>
                <a:lnTo>
                  <a:pt x="3470" y="1631"/>
                </a:lnTo>
                <a:lnTo>
                  <a:pt x="3509" y="1634"/>
                </a:lnTo>
                <a:lnTo>
                  <a:pt x="3548" y="1637"/>
                </a:lnTo>
                <a:lnTo>
                  <a:pt x="3590" y="1634"/>
                </a:lnTo>
                <a:lnTo>
                  <a:pt x="3631" y="1634"/>
                </a:lnTo>
                <a:lnTo>
                  <a:pt x="3673" y="1631"/>
                </a:lnTo>
                <a:lnTo>
                  <a:pt x="3714" y="1624"/>
                </a:lnTo>
                <a:lnTo>
                  <a:pt x="3754" y="1618"/>
                </a:lnTo>
                <a:lnTo>
                  <a:pt x="3793" y="1612"/>
                </a:lnTo>
                <a:lnTo>
                  <a:pt x="3829" y="1605"/>
                </a:lnTo>
                <a:lnTo>
                  <a:pt x="3864" y="1599"/>
                </a:lnTo>
                <a:lnTo>
                  <a:pt x="3893" y="1592"/>
                </a:lnTo>
                <a:lnTo>
                  <a:pt x="3922" y="1589"/>
                </a:lnTo>
                <a:lnTo>
                  <a:pt x="3944" y="1582"/>
                </a:lnTo>
                <a:lnTo>
                  <a:pt x="3964" y="1579"/>
                </a:lnTo>
                <a:lnTo>
                  <a:pt x="4010" y="1553"/>
                </a:lnTo>
                <a:lnTo>
                  <a:pt x="4057" y="1527"/>
                </a:lnTo>
                <a:lnTo>
                  <a:pt x="4106" y="1501"/>
                </a:lnTo>
                <a:lnTo>
                  <a:pt x="4155" y="1479"/>
                </a:lnTo>
                <a:lnTo>
                  <a:pt x="4206" y="1456"/>
                </a:lnTo>
                <a:lnTo>
                  <a:pt x="4258" y="1434"/>
                </a:lnTo>
                <a:lnTo>
                  <a:pt x="4311" y="1414"/>
                </a:lnTo>
                <a:lnTo>
                  <a:pt x="4365" y="1395"/>
                </a:lnTo>
                <a:lnTo>
                  <a:pt x="4419" y="1375"/>
                </a:lnTo>
                <a:lnTo>
                  <a:pt x="4475" y="1359"/>
                </a:lnTo>
                <a:lnTo>
                  <a:pt x="4529" y="1343"/>
                </a:lnTo>
                <a:lnTo>
                  <a:pt x="4586" y="1330"/>
                </a:lnTo>
                <a:lnTo>
                  <a:pt x="4642" y="1314"/>
                </a:lnTo>
                <a:lnTo>
                  <a:pt x="4698" y="1301"/>
                </a:lnTo>
                <a:lnTo>
                  <a:pt x="4754" y="1288"/>
                </a:lnTo>
                <a:lnTo>
                  <a:pt x="4813" y="1278"/>
                </a:lnTo>
                <a:lnTo>
                  <a:pt x="4869" y="1265"/>
                </a:lnTo>
                <a:lnTo>
                  <a:pt x="4926" y="1256"/>
                </a:lnTo>
                <a:lnTo>
                  <a:pt x="4982" y="1249"/>
                </a:lnTo>
                <a:lnTo>
                  <a:pt x="5036" y="1239"/>
                </a:lnTo>
                <a:lnTo>
                  <a:pt x="5092" y="1233"/>
                </a:lnTo>
                <a:lnTo>
                  <a:pt x="5146" y="1223"/>
                </a:lnTo>
                <a:lnTo>
                  <a:pt x="5200" y="1217"/>
                </a:lnTo>
                <a:lnTo>
                  <a:pt x="5254" y="1213"/>
                </a:lnTo>
                <a:lnTo>
                  <a:pt x="5307" y="1207"/>
                </a:lnTo>
                <a:lnTo>
                  <a:pt x="5359" y="1204"/>
                </a:lnTo>
                <a:lnTo>
                  <a:pt x="5408" y="1197"/>
                </a:lnTo>
                <a:lnTo>
                  <a:pt x="5457" y="1194"/>
                </a:lnTo>
                <a:lnTo>
                  <a:pt x="5506" y="1191"/>
                </a:lnTo>
                <a:lnTo>
                  <a:pt x="5552" y="1188"/>
                </a:lnTo>
                <a:lnTo>
                  <a:pt x="5596" y="1188"/>
                </a:lnTo>
                <a:lnTo>
                  <a:pt x="5640" y="1184"/>
                </a:lnTo>
                <a:lnTo>
                  <a:pt x="5640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87"/>
          <p:cNvSpPr/>
          <p:nvPr/>
        </p:nvSpPr>
        <p:spPr>
          <a:xfrm>
            <a:off x="4287960" y="2506680"/>
            <a:ext cx="2066760" cy="3538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302" h="223">
                <a:moveTo>
                  <a:pt x="0" y="136"/>
                </a:moveTo>
                <a:lnTo>
                  <a:pt x="25" y="117"/>
                </a:lnTo>
                <a:lnTo>
                  <a:pt x="54" y="97"/>
                </a:lnTo>
                <a:lnTo>
                  <a:pt x="88" y="81"/>
                </a:lnTo>
                <a:lnTo>
                  <a:pt x="125" y="65"/>
                </a:lnTo>
                <a:lnTo>
                  <a:pt x="164" y="52"/>
                </a:lnTo>
                <a:lnTo>
                  <a:pt x="206" y="39"/>
                </a:lnTo>
                <a:lnTo>
                  <a:pt x="250" y="29"/>
                </a:lnTo>
                <a:lnTo>
                  <a:pt x="296" y="23"/>
                </a:lnTo>
                <a:lnTo>
                  <a:pt x="326" y="20"/>
                </a:lnTo>
                <a:lnTo>
                  <a:pt x="357" y="13"/>
                </a:lnTo>
                <a:lnTo>
                  <a:pt x="389" y="10"/>
                </a:lnTo>
                <a:lnTo>
                  <a:pt x="419" y="10"/>
                </a:lnTo>
                <a:lnTo>
                  <a:pt x="450" y="7"/>
                </a:lnTo>
                <a:lnTo>
                  <a:pt x="480" y="7"/>
                </a:lnTo>
                <a:lnTo>
                  <a:pt x="512" y="7"/>
                </a:lnTo>
                <a:lnTo>
                  <a:pt x="541" y="7"/>
                </a:lnTo>
                <a:lnTo>
                  <a:pt x="568" y="7"/>
                </a:lnTo>
                <a:lnTo>
                  <a:pt x="597" y="10"/>
                </a:lnTo>
                <a:lnTo>
                  <a:pt x="624" y="13"/>
                </a:lnTo>
                <a:lnTo>
                  <a:pt x="649" y="16"/>
                </a:lnTo>
                <a:lnTo>
                  <a:pt x="673" y="20"/>
                </a:lnTo>
                <a:lnTo>
                  <a:pt x="695" y="23"/>
                </a:lnTo>
                <a:lnTo>
                  <a:pt x="717" y="29"/>
                </a:lnTo>
                <a:lnTo>
                  <a:pt x="737" y="36"/>
                </a:lnTo>
                <a:lnTo>
                  <a:pt x="771" y="45"/>
                </a:lnTo>
                <a:lnTo>
                  <a:pt x="808" y="52"/>
                </a:lnTo>
                <a:lnTo>
                  <a:pt x="847" y="55"/>
                </a:lnTo>
                <a:lnTo>
                  <a:pt x="886" y="58"/>
                </a:lnTo>
                <a:lnTo>
                  <a:pt x="928" y="55"/>
                </a:lnTo>
                <a:lnTo>
                  <a:pt x="969" y="55"/>
                </a:lnTo>
                <a:lnTo>
                  <a:pt x="1011" y="52"/>
                </a:lnTo>
                <a:lnTo>
                  <a:pt x="1052" y="45"/>
                </a:lnTo>
                <a:lnTo>
                  <a:pt x="1092" y="39"/>
                </a:lnTo>
                <a:lnTo>
                  <a:pt x="1131" y="33"/>
                </a:lnTo>
                <a:lnTo>
                  <a:pt x="1167" y="26"/>
                </a:lnTo>
                <a:lnTo>
                  <a:pt x="1202" y="20"/>
                </a:lnTo>
                <a:lnTo>
                  <a:pt x="1231" y="13"/>
                </a:lnTo>
                <a:lnTo>
                  <a:pt x="1260" y="10"/>
                </a:lnTo>
                <a:lnTo>
                  <a:pt x="1282" y="3"/>
                </a:lnTo>
                <a:lnTo>
                  <a:pt x="1302" y="0"/>
                </a:lnTo>
                <a:lnTo>
                  <a:pt x="1263" y="26"/>
                </a:lnTo>
                <a:lnTo>
                  <a:pt x="1226" y="52"/>
                </a:lnTo>
                <a:lnTo>
                  <a:pt x="1192" y="78"/>
                </a:lnTo>
                <a:lnTo>
                  <a:pt x="1158" y="104"/>
                </a:lnTo>
                <a:lnTo>
                  <a:pt x="1126" y="133"/>
                </a:lnTo>
                <a:lnTo>
                  <a:pt x="1094" y="162"/>
                </a:lnTo>
                <a:lnTo>
                  <a:pt x="1065" y="191"/>
                </a:lnTo>
                <a:lnTo>
                  <a:pt x="1035" y="223"/>
                </a:lnTo>
                <a:lnTo>
                  <a:pt x="989" y="217"/>
                </a:lnTo>
                <a:lnTo>
                  <a:pt x="932" y="214"/>
                </a:lnTo>
                <a:lnTo>
                  <a:pt x="871" y="207"/>
                </a:lnTo>
                <a:lnTo>
                  <a:pt x="805" y="201"/>
                </a:lnTo>
                <a:lnTo>
                  <a:pt x="734" y="194"/>
                </a:lnTo>
                <a:lnTo>
                  <a:pt x="658" y="188"/>
                </a:lnTo>
                <a:lnTo>
                  <a:pt x="583" y="181"/>
                </a:lnTo>
                <a:lnTo>
                  <a:pt x="507" y="175"/>
                </a:lnTo>
                <a:lnTo>
                  <a:pt x="431" y="172"/>
                </a:lnTo>
                <a:lnTo>
                  <a:pt x="355" y="165"/>
                </a:lnTo>
                <a:lnTo>
                  <a:pt x="284" y="159"/>
                </a:lnTo>
                <a:lnTo>
                  <a:pt x="215" y="152"/>
                </a:lnTo>
                <a:lnTo>
                  <a:pt x="152" y="149"/>
                </a:lnTo>
                <a:lnTo>
                  <a:pt x="93" y="146"/>
                </a:lnTo>
                <a:lnTo>
                  <a:pt x="42" y="139"/>
                </a:lnTo>
                <a:lnTo>
                  <a:pt x="0" y="136"/>
                </a:lnTo>
                <a:close/>
              </a:path>
            </a:pathLst>
          </a:custGeom>
          <a:solidFill>
            <a:srgbClr val="bf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88"/>
          <p:cNvSpPr/>
          <p:nvPr/>
        </p:nvSpPr>
        <p:spPr>
          <a:xfrm>
            <a:off x="61920" y="1828800"/>
            <a:ext cx="4695840" cy="2239920"/>
          </a:xfrm>
          <a:custGeom>
            <a:avLst/>
            <a:gdLst>
              <a:gd name="textAreaLeft" fmla="*/ 0 w 4695840"/>
              <a:gd name="textAreaRight" fmla="*/ 4696200 w 4695840"/>
              <a:gd name="textAreaTop" fmla="*/ 0 h 2239920"/>
              <a:gd name="textAreaBottom" fmla="*/ 2240280 h 2239920"/>
            </a:gdLst>
            <a:ahLst/>
            <a:rect l="textAreaLeft" t="textAreaTop" r="textAreaRight" b="textAreaBottom"/>
            <a:pathLst>
              <a:path w="2958" h="1411">
                <a:moveTo>
                  <a:pt x="0" y="1411"/>
                </a:moveTo>
                <a:lnTo>
                  <a:pt x="0" y="16"/>
                </a:lnTo>
                <a:lnTo>
                  <a:pt x="66" y="10"/>
                </a:lnTo>
                <a:lnTo>
                  <a:pt x="139" y="6"/>
                </a:lnTo>
                <a:lnTo>
                  <a:pt x="217" y="3"/>
                </a:lnTo>
                <a:lnTo>
                  <a:pt x="301" y="0"/>
                </a:lnTo>
                <a:lnTo>
                  <a:pt x="389" y="0"/>
                </a:lnTo>
                <a:lnTo>
                  <a:pt x="482" y="0"/>
                </a:lnTo>
                <a:lnTo>
                  <a:pt x="577" y="3"/>
                </a:lnTo>
                <a:lnTo>
                  <a:pt x="678" y="3"/>
                </a:lnTo>
                <a:lnTo>
                  <a:pt x="783" y="10"/>
                </a:lnTo>
                <a:lnTo>
                  <a:pt x="888" y="16"/>
                </a:lnTo>
                <a:lnTo>
                  <a:pt x="996" y="23"/>
                </a:lnTo>
                <a:lnTo>
                  <a:pt x="1106" y="29"/>
                </a:lnTo>
                <a:lnTo>
                  <a:pt x="1216" y="39"/>
                </a:lnTo>
                <a:lnTo>
                  <a:pt x="1328" y="49"/>
                </a:lnTo>
                <a:lnTo>
                  <a:pt x="1441" y="61"/>
                </a:lnTo>
                <a:lnTo>
                  <a:pt x="1554" y="74"/>
                </a:lnTo>
                <a:lnTo>
                  <a:pt x="1664" y="91"/>
                </a:lnTo>
                <a:lnTo>
                  <a:pt x="1776" y="107"/>
                </a:lnTo>
                <a:lnTo>
                  <a:pt x="1884" y="123"/>
                </a:lnTo>
                <a:lnTo>
                  <a:pt x="1992" y="139"/>
                </a:lnTo>
                <a:lnTo>
                  <a:pt x="2097" y="159"/>
                </a:lnTo>
                <a:lnTo>
                  <a:pt x="2197" y="181"/>
                </a:lnTo>
                <a:lnTo>
                  <a:pt x="2297" y="201"/>
                </a:lnTo>
                <a:lnTo>
                  <a:pt x="2390" y="223"/>
                </a:lnTo>
                <a:lnTo>
                  <a:pt x="2481" y="249"/>
                </a:lnTo>
                <a:lnTo>
                  <a:pt x="2567" y="275"/>
                </a:lnTo>
                <a:lnTo>
                  <a:pt x="2647" y="301"/>
                </a:lnTo>
                <a:lnTo>
                  <a:pt x="2723" y="327"/>
                </a:lnTo>
                <a:lnTo>
                  <a:pt x="2792" y="356"/>
                </a:lnTo>
                <a:lnTo>
                  <a:pt x="2855" y="385"/>
                </a:lnTo>
                <a:lnTo>
                  <a:pt x="2909" y="417"/>
                </a:lnTo>
                <a:lnTo>
                  <a:pt x="2958" y="450"/>
                </a:lnTo>
                <a:lnTo>
                  <a:pt x="2912" y="456"/>
                </a:lnTo>
                <a:lnTo>
                  <a:pt x="2868" y="466"/>
                </a:lnTo>
                <a:lnTo>
                  <a:pt x="2826" y="479"/>
                </a:lnTo>
                <a:lnTo>
                  <a:pt x="2787" y="492"/>
                </a:lnTo>
                <a:lnTo>
                  <a:pt x="2750" y="508"/>
                </a:lnTo>
                <a:lnTo>
                  <a:pt x="2716" y="524"/>
                </a:lnTo>
                <a:lnTo>
                  <a:pt x="2687" y="544"/>
                </a:lnTo>
                <a:lnTo>
                  <a:pt x="2662" y="563"/>
                </a:lnTo>
                <a:lnTo>
                  <a:pt x="2540" y="553"/>
                </a:lnTo>
                <a:lnTo>
                  <a:pt x="2417" y="547"/>
                </a:lnTo>
                <a:lnTo>
                  <a:pt x="2300" y="547"/>
                </a:lnTo>
                <a:lnTo>
                  <a:pt x="2185" y="550"/>
                </a:lnTo>
                <a:lnTo>
                  <a:pt x="2070" y="557"/>
                </a:lnTo>
                <a:lnTo>
                  <a:pt x="1960" y="566"/>
                </a:lnTo>
                <a:lnTo>
                  <a:pt x="1852" y="579"/>
                </a:lnTo>
                <a:lnTo>
                  <a:pt x="1747" y="595"/>
                </a:lnTo>
                <a:lnTo>
                  <a:pt x="1644" y="615"/>
                </a:lnTo>
                <a:lnTo>
                  <a:pt x="1546" y="637"/>
                </a:lnTo>
                <a:lnTo>
                  <a:pt x="1448" y="663"/>
                </a:lnTo>
                <a:lnTo>
                  <a:pt x="1353" y="689"/>
                </a:lnTo>
                <a:lnTo>
                  <a:pt x="1262" y="718"/>
                </a:lnTo>
                <a:lnTo>
                  <a:pt x="1172" y="748"/>
                </a:lnTo>
                <a:lnTo>
                  <a:pt x="1084" y="783"/>
                </a:lnTo>
                <a:lnTo>
                  <a:pt x="1001" y="815"/>
                </a:lnTo>
                <a:lnTo>
                  <a:pt x="920" y="851"/>
                </a:lnTo>
                <a:lnTo>
                  <a:pt x="839" y="887"/>
                </a:lnTo>
                <a:lnTo>
                  <a:pt x="763" y="925"/>
                </a:lnTo>
                <a:lnTo>
                  <a:pt x="690" y="964"/>
                </a:lnTo>
                <a:lnTo>
                  <a:pt x="616" y="1003"/>
                </a:lnTo>
                <a:lnTo>
                  <a:pt x="548" y="1042"/>
                </a:lnTo>
                <a:lnTo>
                  <a:pt x="482" y="1081"/>
                </a:lnTo>
                <a:lnTo>
                  <a:pt x="418" y="1123"/>
                </a:lnTo>
                <a:lnTo>
                  <a:pt x="357" y="1162"/>
                </a:lnTo>
                <a:lnTo>
                  <a:pt x="298" y="1201"/>
                </a:lnTo>
                <a:lnTo>
                  <a:pt x="242" y="1236"/>
                </a:lnTo>
                <a:lnTo>
                  <a:pt x="188" y="1275"/>
                </a:lnTo>
                <a:lnTo>
                  <a:pt x="137" y="1311"/>
                </a:lnTo>
                <a:lnTo>
                  <a:pt x="90" y="1346"/>
                </a:lnTo>
                <a:lnTo>
                  <a:pt x="44" y="1379"/>
                </a:lnTo>
                <a:lnTo>
                  <a:pt x="0" y="1411"/>
                </a:lnTo>
                <a:close/>
              </a:path>
            </a:pathLst>
          </a:custGeom>
          <a:solidFill>
            <a:srgbClr val="ba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89"/>
          <p:cNvSpPr/>
          <p:nvPr/>
        </p:nvSpPr>
        <p:spPr>
          <a:xfrm>
            <a:off x="5931000" y="1879560"/>
            <a:ext cx="3084480" cy="1233360"/>
          </a:xfrm>
          <a:custGeom>
            <a:avLst/>
            <a:gdLst>
              <a:gd name="textAreaLeft" fmla="*/ 0 w 3084480"/>
              <a:gd name="textAreaRight" fmla="*/ 3084840 w 3084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w="1943" h="777">
                <a:moveTo>
                  <a:pt x="0" y="618"/>
                </a:moveTo>
                <a:lnTo>
                  <a:pt x="20" y="622"/>
                </a:lnTo>
                <a:lnTo>
                  <a:pt x="47" y="625"/>
                </a:lnTo>
                <a:lnTo>
                  <a:pt x="76" y="628"/>
                </a:lnTo>
                <a:lnTo>
                  <a:pt x="113" y="631"/>
                </a:lnTo>
                <a:lnTo>
                  <a:pt x="152" y="635"/>
                </a:lnTo>
                <a:lnTo>
                  <a:pt x="196" y="638"/>
                </a:lnTo>
                <a:lnTo>
                  <a:pt x="245" y="644"/>
                </a:lnTo>
                <a:lnTo>
                  <a:pt x="296" y="648"/>
                </a:lnTo>
                <a:lnTo>
                  <a:pt x="353" y="654"/>
                </a:lnTo>
                <a:lnTo>
                  <a:pt x="411" y="660"/>
                </a:lnTo>
                <a:lnTo>
                  <a:pt x="473" y="664"/>
                </a:lnTo>
                <a:lnTo>
                  <a:pt x="539" y="670"/>
                </a:lnTo>
                <a:lnTo>
                  <a:pt x="605" y="677"/>
                </a:lnTo>
                <a:lnTo>
                  <a:pt x="673" y="683"/>
                </a:lnTo>
                <a:lnTo>
                  <a:pt x="744" y="690"/>
                </a:lnTo>
                <a:lnTo>
                  <a:pt x="815" y="696"/>
                </a:lnTo>
                <a:lnTo>
                  <a:pt x="889" y="703"/>
                </a:lnTo>
                <a:lnTo>
                  <a:pt x="964" y="709"/>
                </a:lnTo>
                <a:lnTo>
                  <a:pt x="1038" y="716"/>
                </a:lnTo>
                <a:lnTo>
                  <a:pt x="1114" y="719"/>
                </a:lnTo>
                <a:lnTo>
                  <a:pt x="1190" y="725"/>
                </a:lnTo>
                <a:lnTo>
                  <a:pt x="1263" y="732"/>
                </a:lnTo>
                <a:lnTo>
                  <a:pt x="1339" y="738"/>
                </a:lnTo>
                <a:lnTo>
                  <a:pt x="1412" y="745"/>
                </a:lnTo>
                <a:lnTo>
                  <a:pt x="1486" y="748"/>
                </a:lnTo>
                <a:lnTo>
                  <a:pt x="1557" y="754"/>
                </a:lnTo>
                <a:lnTo>
                  <a:pt x="1628" y="758"/>
                </a:lnTo>
                <a:lnTo>
                  <a:pt x="1696" y="764"/>
                </a:lnTo>
                <a:lnTo>
                  <a:pt x="1762" y="767"/>
                </a:lnTo>
                <a:lnTo>
                  <a:pt x="1826" y="771"/>
                </a:lnTo>
                <a:lnTo>
                  <a:pt x="1885" y="774"/>
                </a:lnTo>
                <a:lnTo>
                  <a:pt x="1943" y="777"/>
                </a:lnTo>
                <a:lnTo>
                  <a:pt x="1943" y="0"/>
                </a:lnTo>
                <a:lnTo>
                  <a:pt x="1899" y="4"/>
                </a:lnTo>
                <a:lnTo>
                  <a:pt x="1855" y="4"/>
                </a:lnTo>
                <a:lnTo>
                  <a:pt x="1809" y="7"/>
                </a:lnTo>
                <a:lnTo>
                  <a:pt x="1760" y="10"/>
                </a:lnTo>
                <a:lnTo>
                  <a:pt x="1711" y="13"/>
                </a:lnTo>
                <a:lnTo>
                  <a:pt x="1662" y="20"/>
                </a:lnTo>
                <a:lnTo>
                  <a:pt x="1610" y="23"/>
                </a:lnTo>
                <a:lnTo>
                  <a:pt x="1557" y="29"/>
                </a:lnTo>
                <a:lnTo>
                  <a:pt x="1503" y="33"/>
                </a:lnTo>
                <a:lnTo>
                  <a:pt x="1449" y="39"/>
                </a:lnTo>
                <a:lnTo>
                  <a:pt x="1395" y="49"/>
                </a:lnTo>
                <a:lnTo>
                  <a:pt x="1339" y="55"/>
                </a:lnTo>
                <a:lnTo>
                  <a:pt x="1285" y="65"/>
                </a:lnTo>
                <a:lnTo>
                  <a:pt x="1229" y="72"/>
                </a:lnTo>
                <a:lnTo>
                  <a:pt x="1172" y="81"/>
                </a:lnTo>
                <a:lnTo>
                  <a:pt x="1116" y="94"/>
                </a:lnTo>
                <a:lnTo>
                  <a:pt x="1057" y="104"/>
                </a:lnTo>
                <a:lnTo>
                  <a:pt x="1001" y="117"/>
                </a:lnTo>
                <a:lnTo>
                  <a:pt x="945" y="130"/>
                </a:lnTo>
                <a:lnTo>
                  <a:pt x="889" y="146"/>
                </a:lnTo>
                <a:lnTo>
                  <a:pt x="832" y="159"/>
                </a:lnTo>
                <a:lnTo>
                  <a:pt x="778" y="175"/>
                </a:lnTo>
                <a:lnTo>
                  <a:pt x="722" y="191"/>
                </a:lnTo>
                <a:lnTo>
                  <a:pt x="668" y="211"/>
                </a:lnTo>
                <a:lnTo>
                  <a:pt x="614" y="230"/>
                </a:lnTo>
                <a:lnTo>
                  <a:pt x="561" y="250"/>
                </a:lnTo>
                <a:lnTo>
                  <a:pt x="509" y="272"/>
                </a:lnTo>
                <a:lnTo>
                  <a:pt x="458" y="295"/>
                </a:lnTo>
                <a:lnTo>
                  <a:pt x="409" y="317"/>
                </a:lnTo>
                <a:lnTo>
                  <a:pt x="360" y="343"/>
                </a:lnTo>
                <a:lnTo>
                  <a:pt x="313" y="369"/>
                </a:lnTo>
                <a:lnTo>
                  <a:pt x="267" y="395"/>
                </a:lnTo>
                <a:lnTo>
                  <a:pt x="228" y="421"/>
                </a:lnTo>
                <a:lnTo>
                  <a:pt x="191" y="447"/>
                </a:lnTo>
                <a:lnTo>
                  <a:pt x="157" y="473"/>
                </a:lnTo>
                <a:lnTo>
                  <a:pt x="123" y="499"/>
                </a:lnTo>
                <a:lnTo>
                  <a:pt x="91" y="528"/>
                </a:lnTo>
                <a:lnTo>
                  <a:pt x="59" y="557"/>
                </a:lnTo>
                <a:lnTo>
                  <a:pt x="30" y="586"/>
                </a:lnTo>
                <a:lnTo>
                  <a:pt x="0" y="618"/>
                </a:lnTo>
                <a:close/>
              </a:path>
            </a:pathLst>
          </a:custGeom>
          <a:solidFill>
            <a:srgbClr val="ba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90"/>
          <p:cNvSpPr/>
          <p:nvPr/>
        </p:nvSpPr>
        <p:spPr>
          <a:xfrm>
            <a:off x="61920" y="2697120"/>
            <a:ext cx="8953560" cy="4160880"/>
          </a:xfrm>
          <a:custGeom>
            <a:avLst/>
            <a:gdLst>
              <a:gd name="textAreaLeft" fmla="*/ 0 w 8953560"/>
              <a:gd name="textAreaRight" fmla="*/ 8953920 w 8953560"/>
              <a:gd name="textAreaTop" fmla="*/ 0 h 4160880"/>
              <a:gd name="textAreaBottom" fmla="*/ 4161240 h 4160880"/>
            </a:gdLst>
            <a:ahLst/>
            <a:rect l="textAreaLeft" t="textAreaTop" r="textAreaRight" b="textAreaBottom"/>
            <a:pathLst>
              <a:path w="5640" h="2621">
                <a:moveTo>
                  <a:pt x="2662" y="16"/>
                </a:moveTo>
                <a:lnTo>
                  <a:pt x="2540" y="6"/>
                </a:lnTo>
                <a:lnTo>
                  <a:pt x="2417" y="0"/>
                </a:lnTo>
                <a:lnTo>
                  <a:pt x="2300" y="0"/>
                </a:lnTo>
                <a:lnTo>
                  <a:pt x="2185" y="3"/>
                </a:lnTo>
                <a:lnTo>
                  <a:pt x="2070" y="10"/>
                </a:lnTo>
                <a:lnTo>
                  <a:pt x="1960" y="19"/>
                </a:lnTo>
                <a:lnTo>
                  <a:pt x="1852" y="32"/>
                </a:lnTo>
                <a:lnTo>
                  <a:pt x="1747" y="48"/>
                </a:lnTo>
                <a:lnTo>
                  <a:pt x="1644" y="68"/>
                </a:lnTo>
                <a:lnTo>
                  <a:pt x="1546" y="90"/>
                </a:lnTo>
                <a:lnTo>
                  <a:pt x="1448" y="116"/>
                </a:lnTo>
                <a:lnTo>
                  <a:pt x="1353" y="142"/>
                </a:lnTo>
                <a:lnTo>
                  <a:pt x="1262" y="171"/>
                </a:lnTo>
                <a:lnTo>
                  <a:pt x="1172" y="201"/>
                </a:lnTo>
                <a:lnTo>
                  <a:pt x="1084" y="236"/>
                </a:lnTo>
                <a:lnTo>
                  <a:pt x="1001" y="268"/>
                </a:lnTo>
                <a:lnTo>
                  <a:pt x="920" y="304"/>
                </a:lnTo>
                <a:lnTo>
                  <a:pt x="839" y="340"/>
                </a:lnTo>
                <a:lnTo>
                  <a:pt x="763" y="378"/>
                </a:lnTo>
                <a:lnTo>
                  <a:pt x="690" y="417"/>
                </a:lnTo>
                <a:lnTo>
                  <a:pt x="616" y="456"/>
                </a:lnTo>
                <a:lnTo>
                  <a:pt x="548" y="495"/>
                </a:lnTo>
                <a:lnTo>
                  <a:pt x="482" y="534"/>
                </a:lnTo>
                <a:lnTo>
                  <a:pt x="418" y="576"/>
                </a:lnTo>
                <a:lnTo>
                  <a:pt x="357" y="615"/>
                </a:lnTo>
                <a:lnTo>
                  <a:pt x="298" y="654"/>
                </a:lnTo>
                <a:lnTo>
                  <a:pt x="242" y="689"/>
                </a:lnTo>
                <a:lnTo>
                  <a:pt x="188" y="728"/>
                </a:lnTo>
                <a:lnTo>
                  <a:pt x="137" y="764"/>
                </a:lnTo>
                <a:lnTo>
                  <a:pt x="90" y="799"/>
                </a:lnTo>
                <a:lnTo>
                  <a:pt x="44" y="832"/>
                </a:lnTo>
                <a:lnTo>
                  <a:pt x="0" y="864"/>
                </a:lnTo>
                <a:lnTo>
                  <a:pt x="0" y="2621"/>
                </a:lnTo>
                <a:lnTo>
                  <a:pt x="5640" y="2621"/>
                </a:lnTo>
                <a:lnTo>
                  <a:pt x="5640" y="262"/>
                </a:lnTo>
                <a:lnTo>
                  <a:pt x="5582" y="259"/>
                </a:lnTo>
                <a:lnTo>
                  <a:pt x="5523" y="256"/>
                </a:lnTo>
                <a:lnTo>
                  <a:pt x="5459" y="252"/>
                </a:lnTo>
                <a:lnTo>
                  <a:pt x="5393" y="249"/>
                </a:lnTo>
                <a:lnTo>
                  <a:pt x="5325" y="243"/>
                </a:lnTo>
                <a:lnTo>
                  <a:pt x="5254" y="239"/>
                </a:lnTo>
                <a:lnTo>
                  <a:pt x="5183" y="233"/>
                </a:lnTo>
                <a:lnTo>
                  <a:pt x="5109" y="230"/>
                </a:lnTo>
                <a:lnTo>
                  <a:pt x="5036" y="223"/>
                </a:lnTo>
                <a:lnTo>
                  <a:pt x="4960" y="217"/>
                </a:lnTo>
                <a:lnTo>
                  <a:pt x="4887" y="210"/>
                </a:lnTo>
                <a:lnTo>
                  <a:pt x="4811" y="204"/>
                </a:lnTo>
                <a:lnTo>
                  <a:pt x="4735" y="201"/>
                </a:lnTo>
                <a:lnTo>
                  <a:pt x="4661" y="194"/>
                </a:lnTo>
                <a:lnTo>
                  <a:pt x="4586" y="188"/>
                </a:lnTo>
                <a:lnTo>
                  <a:pt x="4512" y="181"/>
                </a:lnTo>
                <a:lnTo>
                  <a:pt x="4441" y="175"/>
                </a:lnTo>
                <a:lnTo>
                  <a:pt x="4370" y="168"/>
                </a:lnTo>
                <a:lnTo>
                  <a:pt x="4302" y="162"/>
                </a:lnTo>
                <a:lnTo>
                  <a:pt x="4236" y="155"/>
                </a:lnTo>
                <a:lnTo>
                  <a:pt x="4170" y="149"/>
                </a:lnTo>
                <a:lnTo>
                  <a:pt x="4108" y="145"/>
                </a:lnTo>
                <a:lnTo>
                  <a:pt x="4050" y="139"/>
                </a:lnTo>
                <a:lnTo>
                  <a:pt x="3993" y="133"/>
                </a:lnTo>
                <a:lnTo>
                  <a:pt x="3942" y="129"/>
                </a:lnTo>
                <a:lnTo>
                  <a:pt x="3893" y="123"/>
                </a:lnTo>
                <a:lnTo>
                  <a:pt x="3849" y="120"/>
                </a:lnTo>
                <a:lnTo>
                  <a:pt x="3810" y="116"/>
                </a:lnTo>
                <a:lnTo>
                  <a:pt x="3773" y="113"/>
                </a:lnTo>
                <a:lnTo>
                  <a:pt x="3744" y="110"/>
                </a:lnTo>
                <a:lnTo>
                  <a:pt x="3717" y="107"/>
                </a:lnTo>
                <a:lnTo>
                  <a:pt x="3697" y="103"/>
                </a:lnTo>
                <a:lnTo>
                  <a:pt x="3651" y="97"/>
                </a:lnTo>
                <a:lnTo>
                  <a:pt x="3594" y="94"/>
                </a:lnTo>
                <a:lnTo>
                  <a:pt x="3533" y="87"/>
                </a:lnTo>
                <a:lnTo>
                  <a:pt x="3467" y="81"/>
                </a:lnTo>
                <a:lnTo>
                  <a:pt x="3396" y="74"/>
                </a:lnTo>
                <a:lnTo>
                  <a:pt x="3320" y="68"/>
                </a:lnTo>
                <a:lnTo>
                  <a:pt x="3245" y="61"/>
                </a:lnTo>
                <a:lnTo>
                  <a:pt x="3169" y="55"/>
                </a:lnTo>
                <a:lnTo>
                  <a:pt x="3093" y="52"/>
                </a:lnTo>
                <a:lnTo>
                  <a:pt x="3017" y="45"/>
                </a:lnTo>
                <a:lnTo>
                  <a:pt x="2946" y="39"/>
                </a:lnTo>
                <a:lnTo>
                  <a:pt x="2877" y="32"/>
                </a:lnTo>
                <a:lnTo>
                  <a:pt x="2814" y="29"/>
                </a:lnTo>
                <a:lnTo>
                  <a:pt x="2755" y="26"/>
                </a:lnTo>
                <a:lnTo>
                  <a:pt x="2704" y="19"/>
                </a:lnTo>
                <a:lnTo>
                  <a:pt x="2662" y="16"/>
                </a:lnTo>
                <a:close/>
              </a:path>
            </a:pathLst>
          </a:custGeom>
          <a:solidFill>
            <a:srgbClr val="e8f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91"/>
          <p:cNvSpPr/>
          <p:nvPr/>
        </p:nvSpPr>
        <p:spPr>
          <a:xfrm>
            <a:off x="3090960" y="158760"/>
            <a:ext cx="147600" cy="19512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" h="123">
                <a:moveTo>
                  <a:pt x="47" y="123"/>
                </a:moveTo>
                <a:lnTo>
                  <a:pt x="66" y="117"/>
                </a:lnTo>
                <a:lnTo>
                  <a:pt x="81" y="104"/>
                </a:lnTo>
                <a:lnTo>
                  <a:pt x="91" y="84"/>
                </a:lnTo>
                <a:lnTo>
                  <a:pt x="93" y="62"/>
                </a:lnTo>
                <a:lnTo>
                  <a:pt x="91" y="36"/>
                </a:lnTo>
                <a:lnTo>
                  <a:pt x="81" y="16"/>
                </a:lnTo>
                <a:lnTo>
                  <a:pt x="66" y="4"/>
                </a:lnTo>
                <a:lnTo>
                  <a:pt x="47" y="0"/>
                </a:lnTo>
                <a:lnTo>
                  <a:pt x="30" y="4"/>
                </a:lnTo>
                <a:lnTo>
                  <a:pt x="15" y="16"/>
                </a:lnTo>
                <a:lnTo>
                  <a:pt x="5" y="36"/>
                </a:lnTo>
                <a:lnTo>
                  <a:pt x="0" y="62"/>
                </a:lnTo>
                <a:lnTo>
                  <a:pt x="5" y="84"/>
                </a:lnTo>
                <a:lnTo>
                  <a:pt x="15" y="104"/>
                </a:lnTo>
                <a:lnTo>
                  <a:pt x="30" y="117"/>
                </a:lnTo>
                <a:lnTo>
                  <a:pt x="47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92"/>
          <p:cNvSpPr/>
          <p:nvPr/>
        </p:nvSpPr>
        <p:spPr>
          <a:xfrm>
            <a:off x="2016000" y="647640"/>
            <a:ext cx="115920" cy="158760"/>
          </a:xfrm>
          <a:custGeom>
            <a:avLst/>
            <a:gdLst>
              <a:gd name="textAreaLeft" fmla="*/ 0 w 115920"/>
              <a:gd name="textAreaRight" fmla="*/ 116280 w 115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3" h="100">
                <a:moveTo>
                  <a:pt x="36" y="100"/>
                </a:moveTo>
                <a:lnTo>
                  <a:pt x="51" y="97"/>
                </a:lnTo>
                <a:lnTo>
                  <a:pt x="63" y="84"/>
                </a:lnTo>
                <a:lnTo>
                  <a:pt x="71" y="68"/>
                </a:lnTo>
                <a:lnTo>
                  <a:pt x="73" y="48"/>
                </a:lnTo>
                <a:lnTo>
                  <a:pt x="71" y="29"/>
                </a:lnTo>
                <a:lnTo>
                  <a:pt x="63" y="13"/>
                </a:lnTo>
                <a:lnTo>
                  <a:pt x="51" y="3"/>
                </a:lnTo>
                <a:lnTo>
                  <a:pt x="36" y="0"/>
                </a:lnTo>
                <a:lnTo>
                  <a:pt x="22" y="3"/>
                </a:lnTo>
                <a:lnTo>
                  <a:pt x="12" y="13"/>
                </a:lnTo>
                <a:lnTo>
                  <a:pt x="2" y="29"/>
                </a:lnTo>
                <a:lnTo>
                  <a:pt x="0" y="48"/>
                </a:lnTo>
                <a:lnTo>
                  <a:pt x="2" y="68"/>
                </a:lnTo>
                <a:lnTo>
                  <a:pt x="12" y="84"/>
                </a:lnTo>
                <a:lnTo>
                  <a:pt x="22" y="97"/>
                </a:lnTo>
                <a:lnTo>
                  <a:pt x="36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93"/>
          <p:cNvSpPr/>
          <p:nvPr/>
        </p:nvSpPr>
        <p:spPr>
          <a:xfrm>
            <a:off x="588960" y="149400"/>
            <a:ext cx="152280" cy="19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96" h="126">
                <a:moveTo>
                  <a:pt x="47" y="126"/>
                </a:moveTo>
                <a:lnTo>
                  <a:pt x="67" y="120"/>
                </a:lnTo>
                <a:lnTo>
                  <a:pt x="81" y="107"/>
                </a:lnTo>
                <a:lnTo>
                  <a:pt x="91" y="87"/>
                </a:lnTo>
                <a:lnTo>
                  <a:pt x="96" y="65"/>
                </a:lnTo>
                <a:lnTo>
                  <a:pt x="91" y="39"/>
                </a:lnTo>
                <a:lnTo>
                  <a:pt x="81" y="19"/>
                </a:lnTo>
                <a:lnTo>
                  <a:pt x="67" y="6"/>
                </a:lnTo>
                <a:lnTo>
                  <a:pt x="47" y="0"/>
                </a:lnTo>
                <a:lnTo>
                  <a:pt x="30" y="6"/>
                </a:lnTo>
                <a:lnTo>
                  <a:pt x="15" y="19"/>
                </a:lnTo>
                <a:lnTo>
                  <a:pt x="5" y="39"/>
                </a:lnTo>
                <a:lnTo>
                  <a:pt x="0" y="65"/>
                </a:lnTo>
                <a:lnTo>
                  <a:pt x="5" y="87"/>
                </a:lnTo>
                <a:lnTo>
                  <a:pt x="15" y="107"/>
                </a:lnTo>
                <a:lnTo>
                  <a:pt x="30" y="120"/>
                </a:lnTo>
                <a:lnTo>
                  <a:pt x="4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94"/>
          <p:cNvSpPr/>
          <p:nvPr/>
        </p:nvSpPr>
        <p:spPr>
          <a:xfrm>
            <a:off x="2306520" y="914400"/>
            <a:ext cx="147600" cy="19512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" h="123">
                <a:moveTo>
                  <a:pt x="47" y="123"/>
                </a:moveTo>
                <a:lnTo>
                  <a:pt x="64" y="120"/>
                </a:lnTo>
                <a:lnTo>
                  <a:pt x="78" y="107"/>
                </a:lnTo>
                <a:lnTo>
                  <a:pt x="88" y="87"/>
                </a:lnTo>
                <a:lnTo>
                  <a:pt x="93" y="61"/>
                </a:lnTo>
                <a:lnTo>
                  <a:pt x="88" y="39"/>
                </a:lnTo>
                <a:lnTo>
                  <a:pt x="78" y="19"/>
                </a:lnTo>
                <a:lnTo>
                  <a:pt x="64" y="6"/>
                </a:lnTo>
                <a:lnTo>
                  <a:pt x="47" y="0"/>
                </a:lnTo>
                <a:lnTo>
                  <a:pt x="27" y="6"/>
                </a:lnTo>
                <a:lnTo>
                  <a:pt x="12" y="19"/>
                </a:lnTo>
                <a:lnTo>
                  <a:pt x="3" y="39"/>
                </a:lnTo>
                <a:lnTo>
                  <a:pt x="0" y="61"/>
                </a:lnTo>
                <a:lnTo>
                  <a:pt x="3" y="87"/>
                </a:lnTo>
                <a:lnTo>
                  <a:pt x="12" y="107"/>
                </a:lnTo>
                <a:lnTo>
                  <a:pt x="27" y="120"/>
                </a:lnTo>
                <a:lnTo>
                  <a:pt x="47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95"/>
          <p:cNvSpPr/>
          <p:nvPr/>
        </p:nvSpPr>
        <p:spPr>
          <a:xfrm>
            <a:off x="3203640" y="554040"/>
            <a:ext cx="120600" cy="160200"/>
          </a:xfrm>
          <a:custGeom>
            <a:avLst/>
            <a:gdLst>
              <a:gd name="textAreaLeft" fmla="*/ 0 w 120600"/>
              <a:gd name="textAreaRight" fmla="*/ 120960 w 1206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76" h="101">
                <a:moveTo>
                  <a:pt x="37" y="101"/>
                </a:moveTo>
                <a:lnTo>
                  <a:pt x="52" y="98"/>
                </a:lnTo>
                <a:lnTo>
                  <a:pt x="64" y="85"/>
                </a:lnTo>
                <a:lnTo>
                  <a:pt x="74" y="68"/>
                </a:lnTo>
                <a:lnTo>
                  <a:pt x="76" y="49"/>
                </a:lnTo>
                <a:lnTo>
                  <a:pt x="74" y="30"/>
                </a:lnTo>
                <a:lnTo>
                  <a:pt x="64" y="13"/>
                </a:lnTo>
                <a:lnTo>
                  <a:pt x="52" y="4"/>
                </a:lnTo>
                <a:lnTo>
                  <a:pt x="37" y="0"/>
                </a:lnTo>
                <a:lnTo>
                  <a:pt x="22" y="4"/>
                </a:lnTo>
                <a:lnTo>
                  <a:pt x="13" y="13"/>
                </a:lnTo>
                <a:lnTo>
                  <a:pt x="3" y="30"/>
                </a:lnTo>
                <a:lnTo>
                  <a:pt x="0" y="49"/>
                </a:lnTo>
                <a:lnTo>
                  <a:pt x="3" y="68"/>
                </a:lnTo>
                <a:lnTo>
                  <a:pt x="13" y="85"/>
                </a:lnTo>
                <a:lnTo>
                  <a:pt x="22" y="98"/>
                </a:lnTo>
                <a:lnTo>
                  <a:pt x="37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96"/>
          <p:cNvSpPr/>
          <p:nvPr/>
        </p:nvSpPr>
        <p:spPr>
          <a:xfrm>
            <a:off x="3301920" y="1217520"/>
            <a:ext cx="147600" cy="19548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93" h="123">
                <a:moveTo>
                  <a:pt x="46" y="123"/>
                </a:moveTo>
                <a:lnTo>
                  <a:pt x="66" y="116"/>
                </a:lnTo>
                <a:lnTo>
                  <a:pt x="80" y="103"/>
                </a:lnTo>
                <a:lnTo>
                  <a:pt x="90" y="84"/>
                </a:lnTo>
                <a:lnTo>
                  <a:pt x="93" y="61"/>
                </a:lnTo>
                <a:lnTo>
                  <a:pt x="90" y="36"/>
                </a:lnTo>
                <a:lnTo>
                  <a:pt x="80" y="16"/>
                </a:lnTo>
                <a:lnTo>
                  <a:pt x="66" y="3"/>
                </a:lnTo>
                <a:lnTo>
                  <a:pt x="46" y="0"/>
                </a:lnTo>
                <a:lnTo>
                  <a:pt x="29" y="3"/>
                </a:lnTo>
                <a:lnTo>
                  <a:pt x="14" y="16"/>
                </a:lnTo>
                <a:lnTo>
                  <a:pt x="4" y="36"/>
                </a:lnTo>
                <a:lnTo>
                  <a:pt x="0" y="61"/>
                </a:lnTo>
                <a:lnTo>
                  <a:pt x="4" y="84"/>
                </a:lnTo>
                <a:lnTo>
                  <a:pt x="14" y="103"/>
                </a:lnTo>
                <a:lnTo>
                  <a:pt x="29" y="116"/>
                </a:lnTo>
                <a:lnTo>
                  <a:pt x="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97"/>
          <p:cNvSpPr/>
          <p:nvPr/>
        </p:nvSpPr>
        <p:spPr>
          <a:xfrm>
            <a:off x="4229280" y="801720"/>
            <a:ext cx="147600" cy="19512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" h="123">
                <a:moveTo>
                  <a:pt x="47" y="123"/>
                </a:moveTo>
                <a:lnTo>
                  <a:pt x="66" y="116"/>
                </a:lnTo>
                <a:lnTo>
                  <a:pt x="81" y="103"/>
                </a:lnTo>
                <a:lnTo>
                  <a:pt x="91" y="84"/>
                </a:lnTo>
                <a:lnTo>
                  <a:pt x="93" y="61"/>
                </a:lnTo>
                <a:lnTo>
                  <a:pt x="91" y="35"/>
                </a:lnTo>
                <a:lnTo>
                  <a:pt x="81" y="16"/>
                </a:lnTo>
                <a:lnTo>
                  <a:pt x="66" y="3"/>
                </a:lnTo>
                <a:lnTo>
                  <a:pt x="47" y="0"/>
                </a:lnTo>
                <a:lnTo>
                  <a:pt x="27" y="3"/>
                </a:lnTo>
                <a:lnTo>
                  <a:pt x="13" y="16"/>
                </a:lnTo>
                <a:lnTo>
                  <a:pt x="3" y="35"/>
                </a:lnTo>
                <a:lnTo>
                  <a:pt x="0" y="61"/>
                </a:lnTo>
                <a:lnTo>
                  <a:pt x="3" y="84"/>
                </a:lnTo>
                <a:lnTo>
                  <a:pt x="13" y="103"/>
                </a:lnTo>
                <a:lnTo>
                  <a:pt x="27" y="116"/>
                </a:lnTo>
                <a:lnTo>
                  <a:pt x="47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98"/>
          <p:cNvSpPr/>
          <p:nvPr/>
        </p:nvSpPr>
        <p:spPr>
          <a:xfrm>
            <a:off x="4338720" y="1330200"/>
            <a:ext cx="115920" cy="158760"/>
          </a:xfrm>
          <a:custGeom>
            <a:avLst/>
            <a:gdLst>
              <a:gd name="textAreaLeft" fmla="*/ 0 w 115920"/>
              <a:gd name="textAreaRight" fmla="*/ 116280 w 115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3" h="100">
                <a:moveTo>
                  <a:pt x="37" y="100"/>
                </a:moveTo>
                <a:lnTo>
                  <a:pt x="51" y="97"/>
                </a:lnTo>
                <a:lnTo>
                  <a:pt x="64" y="84"/>
                </a:lnTo>
                <a:lnTo>
                  <a:pt x="71" y="71"/>
                </a:lnTo>
                <a:lnTo>
                  <a:pt x="73" y="52"/>
                </a:lnTo>
                <a:lnTo>
                  <a:pt x="71" y="32"/>
                </a:lnTo>
                <a:lnTo>
                  <a:pt x="64" y="16"/>
                </a:lnTo>
                <a:lnTo>
                  <a:pt x="51" y="3"/>
                </a:lnTo>
                <a:lnTo>
                  <a:pt x="37" y="0"/>
                </a:lnTo>
                <a:lnTo>
                  <a:pt x="22" y="3"/>
                </a:lnTo>
                <a:lnTo>
                  <a:pt x="12" y="16"/>
                </a:lnTo>
                <a:lnTo>
                  <a:pt x="2" y="32"/>
                </a:lnTo>
                <a:lnTo>
                  <a:pt x="0" y="52"/>
                </a:lnTo>
                <a:lnTo>
                  <a:pt x="2" y="71"/>
                </a:lnTo>
                <a:lnTo>
                  <a:pt x="12" y="84"/>
                </a:lnTo>
                <a:lnTo>
                  <a:pt x="22" y="97"/>
                </a:lnTo>
                <a:lnTo>
                  <a:pt x="37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99"/>
          <p:cNvSpPr/>
          <p:nvPr/>
        </p:nvSpPr>
        <p:spPr>
          <a:xfrm>
            <a:off x="5294160" y="1125360"/>
            <a:ext cx="147960" cy="195480"/>
          </a:xfrm>
          <a:custGeom>
            <a:avLst/>
            <a:gdLst>
              <a:gd name="textAreaLeft" fmla="*/ 0 w 147960"/>
              <a:gd name="textAreaRight" fmla="*/ 147960 w 1479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93" h="123">
                <a:moveTo>
                  <a:pt x="46" y="123"/>
                </a:moveTo>
                <a:lnTo>
                  <a:pt x="64" y="116"/>
                </a:lnTo>
                <a:lnTo>
                  <a:pt x="78" y="103"/>
                </a:lnTo>
                <a:lnTo>
                  <a:pt x="88" y="84"/>
                </a:lnTo>
                <a:lnTo>
                  <a:pt x="93" y="61"/>
                </a:lnTo>
                <a:lnTo>
                  <a:pt x="88" y="35"/>
                </a:lnTo>
                <a:lnTo>
                  <a:pt x="78" y="16"/>
                </a:lnTo>
                <a:lnTo>
                  <a:pt x="64" y="3"/>
                </a:lnTo>
                <a:lnTo>
                  <a:pt x="46" y="0"/>
                </a:lnTo>
                <a:lnTo>
                  <a:pt x="27" y="3"/>
                </a:lnTo>
                <a:lnTo>
                  <a:pt x="12" y="16"/>
                </a:lnTo>
                <a:lnTo>
                  <a:pt x="2" y="35"/>
                </a:lnTo>
                <a:lnTo>
                  <a:pt x="0" y="61"/>
                </a:lnTo>
                <a:lnTo>
                  <a:pt x="2" y="84"/>
                </a:lnTo>
                <a:lnTo>
                  <a:pt x="12" y="103"/>
                </a:lnTo>
                <a:lnTo>
                  <a:pt x="27" y="116"/>
                </a:lnTo>
                <a:lnTo>
                  <a:pt x="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00"/>
          <p:cNvSpPr/>
          <p:nvPr/>
        </p:nvSpPr>
        <p:spPr>
          <a:xfrm>
            <a:off x="4948200" y="1870200"/>
            <a:ext cx="120600" cy="153720"/>
          </a:xfrm>
          <a:custGeom>
            <a:avLst/>
            <a:gdLst>
              <a:gd name="textAreaLeft" fmla="*/ 0 w 120600"/>
              <a:gd name="textAreaRight" fmla="*/ 120960 w 1206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6" h="97">
                <a:moveTo>
                  <a:pt x="39" y="97"/>
                </a:moveTo>
                <a:lnTo>
                  <a:pt x="54" y="94"/>
                </a:lnTo>
                <a:lnTo>
                  <a:pt x="66" y="84"/>
                </a:lnTo>
                <a:lnTo>
                  <a:pt x="74" y="68"/>
                </a:lnTo>
                <a:lnTo>
                  <a:pt x="76" y="48"/>
                </a:lnTo>
                <a:lnTo>
                  <a:pt x="74" y="29"/>
                </a:lnTo>
                <a:lnTo>
                  <a:pt x="66" y="13"/>
                </a:lnTo>
                <a:lnTo>
                  <a:pt x="54" y="3"/>
                </a:lnTo>
                <a:lnTo>
                  <a:pt x="39" y="0"/>
                </a:lnTo>
                <a:lnTo>
                  <a:pt x="25" y="3"/>
                </a:lnTo>
                <a:lnTo>
                  <a:pt x="12" y="13"/>
                </a:lnTo>
                <a:lnTo>
                  <a:pt x="3" y="29"/>
                </a:lnTo>
                <a:lnTo>
                  <a:pt x="0" y="48"/>
                </a:lnTo>
                <a:lnTo>
                  <a:pt x="3" y="68"/>
                </a:lnTo>
                <a:lnTo>
                  <a:pt x="12" y="84"/>
                </a:lnTo>
                <a:lnTo>
                  <a:pt x="25" y="94"/>
                </a:lnTo>
                <a:lnTo>
                  <a:pt x="39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01"/>
          <p:cNvSpPr/>
          <p:nvPr/>
        </p:nvSpPr>
        <p:spPr>
          <a:xfrm>
            <a:off x="4559400" y="262080"/>
            <a:ext cx="112680" cy="153720"/>
          </a:xfrm>
          <a:custGeom>
            <a:avLst/>
            <a:gdLst>
              <a:gd name="textAreaLeft" fmla="*/ 0 w 112680"/>
              <a:gd name="textAreaRight" fmla="*/ 113040 w 1126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1" h="97">
                <a:moveTo>
                  <a:pt x="35" y="97"/>
                </a:moveTo>
                <a:lnTo>
                  <a:pt x="49" y="94"/>
                </a:lnTo>
                <a:lnTo>
                  <a:pt x="62" y="81"/>
                </a:lnTo>
                <a:lnTo>
                  <a:pt x="69" y="68"/>
                </a:lnTo>
                <a:lnTo>
                  <a:pt x="71" y="49"/>
                </a:lnTo>
                <a:lnTo>
                  <a:pt x="69" y="29"/>
                </a:lnTo>
                <a:lnTo>
                  <a:pt x="62" y="13"/>
                </a:lnTo>
                <a:lnTo>
                  <a:pt x="49" y="3"/>
                </a:lnTo>
                <a:lnTo>
                  <a:pt x="35" y="0"/>
                </a:lnTo>
                <a:lnTo>
                  <a:pt x="20" y="3"/>
                </a:lnTo>
                <a:lnTo>
                  <a:pt x="10" y="13"/>
                </a:lnTo>
                <a:lnTo>
                  <a:pt x="3" y="29"/>
                </a:lnTo>
                <a:lnTo>
                  <a:pt x="0" y="49"/>
                </a:lnTo>
                <a:lnTo>
                  <a:pt x="3" y="68"/>
                </a:lnTo>
                <a:lnTo>
                  <a:pt x="10" y="81"/>
                </a:lnTo>
                <a:lnTo>
                  <a:pt x="20" y="94"/>
                </a:lnTo>
                <a:lnTo>
                  <a:pt x="35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102"/>
          <p:cNvSpPr/>
          <p:nvPr/>
        </p:nvSpPr>
        <p:spPr>
          <a:xfrm>
            <a:off x="4870440" y="169920"/>
            <a:ext cx="117360" cy="154080"/>
          </a:xfrm>
          <a:custGeom>
            <a:avLst/>
            <a:gdLst>
              <a:gd name="textAreaLeft" fmla="*/ 0 w 117360"/>
              <a:gd name="textAreaRight" fmla="*/ 117720 w 117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4" h="97">
                <a:moveTo>
                  <a:pt x="37" y="97"/>
                </a:moveTo>
                <a:lnTo>
                  <a:pt x="52" y="94"/>
                </a:lnTo>
                <a:lnTo>
                  <a:pt x="64" y="81"/>
                </a:lnTo>
                <a:lnTo>
                  <a:pt x="71" y="68"/>
                </a:lnTo>
                <a:lnTo>
                  <a:pt x="74" y="48"/>
                </a:lnTo>
                <a:lnTo>
                  <a:pt x="71" y="29"/>
                </a:lnTo>
                <a:lnTo>
                  <a:pt x="64" y="13"/>
                </a:lnTo>
                <a:lnTo>
                  <a:pt x="52" y="3"/>
                </a:lnTo>
                <a:lnTo>
                  <a:pt x="37" y="0"/>
                </a:lnTo>
                <a:lnTo>
                  <a:pt x="22" y="3"/>
                </a:lnTo>
                <a:lnTo>
                  <a:pt x="12" y="13"/>
                </a:lnTo>
                <a:lnTo>
                  <a:pt x="3" y="29"/>
                </a:lnTo>
                <a:lnTo>
                  <a:pt x="0" y="48"/>
                </a:lnTo>
                <a:lnTo>
                  <a:pt x="3" y="68"/>
                </a:lnTo>
                <a:lnTo>
                  <a:pt x="12" y="81"/>
                </a:lnTo>
                <a:lnTo>
                  <a:pt x="22" y="94"/>
                </a:lnTo>
                <a:lnTo>
                  <a:pt x="37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103"/>
          <p:cNvSpPr/>
          <p:nvPr/>
        </p:nvSpPr>
        <p:spPr>
          <a:xfrm>
            <a:off x="6303960" y="2039760"/>
            <a:ext cx="120600" cy="158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6" h="100">
                <a:moveTo>
                  <a:pt x="37" y="100"/>
                </a:moveTo>
                <a:lnTo>
                  <a:pt x="52" y="97"/>
                </a:lnTo>
                <a:lnTo>
                  <a:pt x="64" y="84"/>
                </a:lnTo>
                <a:lnTo>
                  <a:pt x="74" y="71"/>
                </a:lnTo>
                <a:lnTo>
                  <a:pt x="76" y="51"/>
                </a:lnTo>
                <a:lnTo>
                  <a:pt x="74" y="32"/>
                </a:lnTo>
                <a:lnTo>
                  <a:pt x="64" y="16"/>
                </a:lnTo>
                <a:lnTo>
                  <a:pt x="52" y="3"/>
                </a:lnTo>
                <a:lnTo>
                  <a:pt x="37" y="0"/>
                </a:lnTo>
                <a:lnTo>
                  <a:pt x="22" y="3"/>
                </a:lnTo>
                <a:lnTo>
                  <a:pt x="12" y="16"/>
                </a:lnTo>
                <a:lnTo>
                  <a:pt x="3" y="32"/>
                </a:lnTo>
                <a:lnTo>
                  <a:pt x="0" y="51"/>
                </a:lnTo>
                <a:lnTo>
                  <a:pt x="3" y="71"/>
                </a:lnTo>
                <a:lnTo>
                  <a:pt x="12" y="84"/>
                </a:lnTo>
                <a:lnTo>
                  <a:pt x="22" y="97"/>
                </a:lnTo>
                <a:lnTo>
                  <a:pt x="37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04"/>
          <p:cNvSpPr/>
          <p:nvPr/>
        </p:nvSpPr>
        <p:spPr>
          <a:xfrm>
            <a:off x="7108920" y="955800"/>
            <a:ext cx="120600" cy="153720"/>
          </a:xfrm>
          <a:custGeom>
            <a:avLst/>
            <a:gdLst>
              <a:gd name="textAreaLeft" fmla="*/ 0 w 120600"/>
              <a:gd name="textAreaRight" fmla="*/ 120960 w 1206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6" h="97">
                <a:moveTo>
                  <a:pt x="39" y="97"/>
                </a:moveTo>
                <a:lnTo>
                  <a:pt x="54" y="94"/>
                </a:lnTo>
                <a:lnTo>
                  <a:pt x="66" y="81"/>
                </a:lnTo>
                <a:lnTo>
                  <a:pt x="73" y="68"/>
                </a:lnTo>
                <a:lnTo>
                  <a:pt x="76" y="48"/>
                </a:lnTo>
                <a:lnTo>
                  <a:pt x="73" y="29"/>
                </a:lnTo>
                <a:lnTo>
                  <a:pt x="66" y="13"/>
                </a:lnTo>
                <a:lnTo>
                  <a:pt x="54" y="3"/>
                </a:lnTo>
                <a:lnTo>
                  <a:pt x="39" y="0"/>
                </a:lnTo>
                <a:lnTo>
                  <a:pt x="24" y="3"/>
                </a:lnTo>
                <a:lnTo>
                  <a:pt x="12" y="13"/>
                </a:lnTo>
                <a:lnTo>
                  <a:pt x="2" y="29"/>
                </a:lnTo>
                <a:lnTo>
                  <a:pt x="0" y="48"/>
                </a:lnTo>
                <a:lnTo>
                  <a:pt x="2" y="68"/>
                </a:lnTo>
                <a:lnTo>
                  <a:pt x="12" y="81"/>
                </a:lnTo>
                <a:lnTo>
                  <a:pt x="24" y="94"/>
                </a:lnTo>
                <a:lnTo>
                  <a:pt x="39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05"/>
          <p:cNvSpPr/>
          <p:nvPr/>
        </p:nvSpPr>
        <p:spPr>
          <a:xfrm>
            <a:off x="8666280" y="560520"/>
            <a:ext cx="120600" cy="158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6" h="100">
                <a:moveTo>
                  <a:pt x="37" y="100"/>
                </a:moveTo>
                <a:lnTo>
                  <a:pt x="51" y="97"/>
                </a:lnTo>
                <a:lnTo>
                  <a:pt x="64" y="84"/>
                </a:lnTo>
                <a:lnTo>
                  <a:pt x="73" y="68"/>
                </a:lnTo>
                <a:lnTo>
                  <a:pt x="76" y="48"/>
                </a:lnTo>
                <a:lnTo>
                  <a:pt x="73" y="29"/>
                </a:lnTo>
                <a:lnTo>
                  <a:pt x="64" y="13"/>
                </a:lnTo>
                <a:lnTo>
                  <a:pt x="51" y="3"/>
                </a:lnTo>
                <a:lnTo>
                  <a:pt x="37" y="0"/>
                </a:lnTo>
                <a:lnTo>
                  <a:pt x="22" y="3"/>
                </a:lnTo>
                <a:lnTo>
                  <a:pt x="12" y="13"/>
                </a:lnTo>
                <a:lnTo>
                  <a:pt x="2" y="29"/>
                </a:lnTo>
                <a:lnTo>
                  <a:pt x="0" y="48"/>
                </a:lnTo>
                <a:lnTo>
                  <a:pt x="2" y="68"/>
                </a:lnTo>
                <a:lnTo>
                  <a:pt x="12" y="84"/>
                </a:lnTo>
                <a:lnTo>
                  <a:pt x="22" y="97"/>
                </a:lnTo>
                <a:lnTo>
                  <a:pt x="37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06"/>
          <p:cNvSpPr/>
          <p:nvPr/>
        </p:nvSpPr>
        <p:spPr>
          <a:xfrm>
            <a:off x="1533600" y="770040"/>
            <a:ext cx="117360" cy="153720"/>
          </a:xfrm>
          <a:custGeom>
            <a:avLst/>
            <a:gdLst>
              <a:gd name="textAreaLeft" fmla="*/ 0 w 117360"/>
              <a:gd name="textAreaRight" fmla="*/ 117720 w 1173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4" h="97">
                <a:moveTo>
                  <a:pt x="37" y="97"/>
                </a:moveTo>
                <a:lnTo>
                  <a:pt x="52" y="94"/>
                </a:lnTo>
                <a:lnTo>
                  <a:pt x="64" y="81"/>
                </a:lnTo>
                <a:lnTo>
                  <a:pt x="71" y="68"/>
                </a:lnTo>
                <a:lnTo>
                  <a:pt x="74" y="49"/>
                </a:lnTo>
                <a:lnTo>
                  <a:pt x="71" y="30"/>
                </a:lnTo>
                <a:lnTo>
                  <a:pt x="64" y="13"/>
                </a:lnTo>
                <a:lnTo>
                  <a:pt x="52" y="4"/>
                </a:lnTo>
                <a:lnTo>
                  <a:pt x="37" y="0"/>
                </a:lnTo>
                <a:lnTo>
                  <a:pt x="22" y="4"/>
                </a:lnTo>
                <a:lnTo>
                  <a:pt x="12" y="13"/>
                </a:lnTo>
                <a:lnTo>
                  <a:pt x="3" y="30"/>
                </a:lnTo>
                <a:lnTo>
                  <a:pt x="0" y="49"/>
                </a:lnTo>
                <a:lnTo>
                  <a:pt x="3" y="68"/>
                </a:lnTo>
                <a:lnTo>
                  <a:pt x="12" y="81"/>
                </a:lnTo>
                <a:lnTo>
                  <a:pt x="22" y="94"/>
                </a:lnTo>
                <a:lnTo>
                  <a:pt x="37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07"/>
          <p:cNvSpPr/>
          <p:nvPr/>
        </p:nvSpPr>
        <p:spPr>
          <a:xfrm>
            <a:off x="4749840" y="2189160"/>
            <a:ext cx="147600" cy="193680"/>
          </a:xfrm>
          <a:custGeom>
            <a:avLst/>
            <a:gdLst>
              <a:gd name="textAreaLeft" fmla="*/ 0 w 147600"/>
              <a:gd name="textAreaRight" fmla="*/ 147600 w 147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93" h="122">
                <a:moveTo>
                  <a:pt x="47" y="122"/>
                </a:moveTo>
                <a:lnTo>
                  <a:pt x="66" y="116"/>
                </a:lnTo>
                <a:lnTo>
                  <a:pt x="81" y="103"/>
                </a:lnTo>
                <a:lnTo>
                  <a:pt x="91" y="84"/>
                </a:lnTo>
                <a:lnTo>
                  <a:pt x="93" y="61"/>
                </a:lnTo>
                <a:lnTo>
                  <a:pt x="91" y="35"/>
                </a:lnTo>
                <a:lnTo>
                  <a:pt x="81" y="16"/>
                </a:lnTo>
                <a:lnTo>
                  <a:pt x="66" y="3"/>
                </a:lnTo>
                <a:lnTo>
                  <a:pt x="47" y="0"/>
                </a:lnTo>
                <a:lnTo>
                  <a:pt x="30" y="3"/>
                </a:lnTo>
                <a:lnTo>
                  <a:pt x="15" y="16"/>
                </a:lnTo>
                <a:lnTo>
                  <a:pt x="5" y="35"/>
                </a:lnTo>
                <a:lnTo>
                  <a:pt x="0" y="61"/>
                </a:lnTo>
                <a:lnTo>
                  <a:pt x="5" y="84"/>
                </a:lnTo>
                <a:lnTo>
                  <a:pt x="15" y="103"/>
                </a:lnTo>
                <a:lnTo>
                  <a:pt x="30" y="116"/>
                </a:lnTo>
                <a:lnTo>
                  <a:pt x="47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08"/>
          <p:cNvSpPr/>
          <p:nvPr/>
        </p:nvSpPr>
        <p:spPr>
          <a:xfrm>
            <a:off x="5764320" y="709560"/>
            <a:ext cx="147600" cy="19548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93" h="123">
                <a:moveTo>
                  <a:pt x="47" y="123"/>
                </a:moveTo>
                <a:lnTo>
                  <a:pt x="66" y="116"/>
                </a:lnTo>
                <a:lnTo>
                  <a:pt x="81" y="103"/>
                </a:lnTo>
                <a:lnTo>
                  <a:pt x="91" y="84"/>
                </a:lnTo>
                <a:lnTo>
                  <a:pt x="93" y="61"/>
                </a:lnTo>
                <a:lnTo>
                  <a:pt x="91" y="35"/>
                </a:lnTo>
                <a:lnTo>
                  <a:pt x="81" y="16"/>
                </a:lnTo>
                <a:lnTo>
                  <a:pt x="66" y="3"/>
                </a:lnTo>
                <a:lnTo>
                  <a:pt x="47" y="0"/>
                </a:lnTo>
                <a:lnTo>
                  <a:pt x="29" y="3"/>
                </a:lnTo>
                <a:lnTo>
                  <a:pt x="15" y="16"/>
                </a:lnTo>
                <a:lnTo>
                  <a:pt x="5" y="35"/>
                </a:lnTo>
                <a:lnTo>
                  <a:pt x="0" y="61"/>
                </a:lnTo>
                <a:lnTo>
                  <a:pt x="5" y="84"/>
                </a:lnTo>
                <a:lnTo>
                  <a:pt x="15" y="103"/>
                </a:lnTo>
                <a:lnTo>
                  <a:pt x="29" y="116"/>
                </a:lnTo>
                <a:lnTo>
                  <a:pt x="47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09"/>
          <p:cNvSpPr/>
          <p:nvPr/>
        </p:nvSpPr>
        <p:spPr>
          <a:xfrm>
            <a:off x="6462720" y="241200"/>
            <a:ext cx="152280" cy="200160"/>
          </a:xfrm>
          <a:custGeom>
            <a:avLst/>
            <a:gdLst>
              <a:gd name="textAreaLeft" fmla="*/ 0 w 152280"/>
              <a:gd name="textAreaRight" fmla="*/ 152640 w 152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96" h="126">
                <a:moveTo>
                  <a:pt x="47" y="126"/>
                </a:moveTo>
                <a:lnTo>
                  <a:pt x="67" y="120"/>
                </a:lnTo>
                <a:lnTo>
                  <a:pt x="81" y="107"/>
                </a:lnTo>
                <a:lnTo>
                  <a:pt x="91" y="87"/>
                </a:lnTo>
                <a:lnTo>
                  <a:pt x="96" y="65"/>
                </a:lnTo>
                <a:lnTo>
                  <a:pt x="91" y="39"/>
                </a:lnTo>
                <a:lnTo>
                  <a:pt x="81" y="20"/>
                </a:lnTo>
                <a:lnTo>
                  <a:pt x="67" y="7"/>
                </a:lnTo>
                <a:lnTo>
                  <a:pt x="47" y="0"/>
                </a:lnTo>
                <a:lnTo>
                  <a:pt x="30" y="7"/>
                </a:lnTo>
                <a:lnTo>
                  <a:pt x="15" y="20"/>
                </a:lnTo>
                <a:lnTo>
                  <a:pt x="5" y="39"/>
                </a:lnTo>
                <a:lnTo>
                  <a:pt x="0" y="65"/>
                </a:lnTo>
                <a:lnTo>
                  <a:pt x="5" y="87"/>
                </a:lnTo>
                <a:lnTo>
                  <a:pt x="15" y="107"/>
                </a:lnTo>
                <a:lnTo>
                  <a:pt x="30" y="120"/>
                </a:lnTo>
                <a:lnTo>
                  <a:pt x="4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10"/>
          <p:cNvSpPr/>
          <p:nvPr/>
        </p:nvSpPr>
        <p:spPr>
          <a:xfrm>
            <a:off x="6180120" y="723960"/>
            <a:ext cx="120600" cy="154080"/>
          </a:xfrm>
          <a:custGeom>
            <a:avLst/>
            <a:gdLst>
              <a:gd name="textAreaLeft" fmla="*/ 0 w 120600"/>
              <a:gd name="textAreaRight" fmla="*/ 120960 w 1206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6" h="97">
                <a:moveTo>
                  <a:pt x="39" y="97"/>
                </a:moveTo>
                <a:lnTo>
                  <a:pt x="54" y="94"/>
                </a:lnTo>
                <a:lnTo>
                  <a:pt x="66" y="81"/>
                </a:lnTo>
                <a:lnTo>
                  <a:pt x="73" y="68"/>
                </a:lnTo>
                <a:lnTo>
                  <a:pt x="76" y="49"/>
                </a:lnTo>
                <a:lnTo>
                  <a:pt x="73" y="29"/>
                </a:lnTo>
                <a:lnTo>
                  <a:pt x="66" y="13"/>
                </a:lnTo>
                <a:lnTo>
                  <a:pt x="54" y="4"/>
                </a:lnTo>
                <a:lnTo>
                  <a:pt x="39" y="0"/>
                </a:lnTo>
                <a:lnTo>
                  <a:pt x="24" y="4"/>
                </a:lnTo>
                <a:lnTo>
                  <a:pt x="12" y="13"/>
                </a:lnTo>
                <a:lnTo>
                  <a:pt x="2" y="29"/>
                </a:lnTo>
                <a:lnTo>
                  <a:pt x="0" y="49"/>
                </a:lnTo>
                <a:lnTo>
                  <a:pt x="2" y="68"/>
                </a:lnTo>
                <a:lnTo>
                  <a:pt x="12" y="81"/>
                </a:lnTo>
                <a:lnTo>
                  <a:pt x="24" y="94"/>
                </a:lnTo>
                <a:lnTo>
                  <a:pt x="39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11"/>
          <p:cNvSpPr/>
          <p:nvPr/>
        </p:nvSpPr>
        <p:spPr>
          <a:xfrm>
            <a:off x="6534000" y="1562040"/>
            <a:ext cx="150840" cy="195480"/>
          </a:xfrm>
          <a:custGeom>
            <a:avLst/>
            <a:gdLst>
              <a:gd name="textAreaLeft" fmla="*/ 0 w 150840"/>
              <a:gd name="textAreaRight" fmla="*/ 151200 w 15084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95" h="123">
                <a:moveTo>
                  <a:pt x="46" y="123"/>
                </a:moveTo>
                <a:lnTo>
                  <a:pt x="66" y="119"/>
                </a:lnTo>
                <a:lnTo>
                  <a:pt x="80" y="107"/>
                </a:lnTo>
                <a:lnTo>
                  <a:pt x="90" y="87"/>
                </a:lnTo>
                <a:lnTo>
                  <a:pt x="95" y="61"/>
                </a:lnTo>
                <a:lnTo>
                  <a:pt x="90" y="39"/>
                </a:lnTo>
                <a:lnTo>
                  <a:pt x="80" y="19"/>
                </a:lnTo>
                <a:lnTo>
                  <a:pt x="66" y="6"/>
                </a:lnTo>
                <a:lnTo>
                  <a:pt x="46" y="0"/>
                </a:lnTo>
                <a:lnTo>
                  <a:pt x="29" y="6"/>
                </a:lnTo>
                <a:lnTo>
                  <a:pt x="14" y="19"/>
                </a:lnTo>
                <a:lnTo>
                  <a:pt x="4" y="39"/>
                </a:lnTo>
                <a:lnTo>
                  <a:pt x="0" y="61"/>
                </a:lnTo>
                <a:lnTo>
                  <a:pt x="4" y="87"/>
                </a:lnTo>
                <a:lnTo>
                  <a:pt x="14" y="107"/>
                </a:lnTo>
                <a:lnTo>
                  <a:pt x="29" y="119"/>
                </a:lnTo>
                <a:lnTo>
                  <a:pt x="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2"/>
          <p:cNvSpPr/>
          <p:nvPr/>
        </p:nvSpPr>
        <p:spPr>
          <a:xfrm>
            <a:off x="5452920" y="1684440"/>
            <a:ext cx="120960" cy="153720"/>
          </a:xfrm>
          <a:custGeom>
            <a:avLst/>
            <a:gdLst>
              <a:gd name="textAreaLeft" fmla="*/ 0 w 120960"/>
              <a:gd name="textAreaRight" fmla="*/ 121320 w 1209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6" h="97">
                <a:moveTo>
                  <a:pt x="37" y="97"/>
                </a:moveTo>
                <a:lnTo>
                  <a:pt x="52" y="94"/>
                </a:lnTo>
                <a:lnTo>
                  <a:pt x="64" y="85"/>
                </a:lnTo>
                <a:lnTo>
                  <a:pt x="74" y="68"/>
                </a:lnTo>
                <a:lnTo>
                  <a:pt x="76" y="49"/>
                </a:lnTo>
                <a:lnTo>
                  <a:pt x="74" y="30"/>
                </a:lnTo>
                <a:lnTo>
                  <a:pt x="64" y="13"/>
                </a:lnTo>
                <a:lnTo>
                  <a:pt x="52" y="4"/>
                </a:lnTo>
                <a:lnTo>
                  <a:pt x="37" y="0"/>
                </a:lnTo>
                <a:lnTo>
                  <a:pt x="22" y="4"/>
                </a:lnTo>
                <a:lnTo>
                  <a:pt x="12" y="13"/>
                </a:lnTo>
                <a:lnTo>
                  <a:pt x="3" y="30"/>
                </a:lnTo>
                <a:lnTo>
                  <a:pt x="0" y="49"/>
                </a:lnTo>
                <a:lnTo>
                  <a:pt x="3" y="68"/>
                </a:lnTo>
                <a:lnTo>
                  <a:pt x="12" y="85"/>
                </a:lnTo>
                <a:lnTo>
                  <a:pt x="22" y="94"/>
                </a:lnTo>
                <a:lnTo>
                  <a:pt x="37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3"/>
          <p:cNvSpPr/>
          <p:nvPr/>
        </p:nvSpPr>
        <p:spPr>
          <a:xfrm>
            <a:off x="7143840" y="1484280"/>
            <a:ext cx="147600" cy="19512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" h="123">
                <a:moveTo>
                  <a:pt x="46" y="123"/>
                </a:moveTo>
                <a:lnTo>
                  <a:pt x="63" y="120"/>
                </a:lnTo>
                <a:lnTo>
                  <a:pt x="78" y="107"/>
                </a:lnTo>
                <a:lnTo>
                  <a:pt x="88" y="88"/>
                </a:lnTo>
                <a:lnTo>
                  <a:pt x="93" y="62"/>
                </a:lnTo>
                <a:lnTo>
                  <a:pt x="88" y="39"/>
                </a:lnTo>
                <a:lnTo>
                  <a:pt x="78" y="20"/>
                </a:lnTo>
                <a:lnTo>
                  <a:pt x="63" y="7"/>
                </a:lnTo>
                <a:lnTo>
                  <a:pt x="46" y="0"/>
                </a:lnTo>
                <a:lnTo>
                  <a:pt x="27" y="7"/>
                </a:lnTo>
                <a:lnTo>
                  <a:pt x="12" y="20"/>
                </a:lnTo>
                <a:lnTo>
                  <a:pt x="2" y="39"/>
                </a:lnTo>
                <a:lnTo>
                  <a:pt x="0" y="62"/>
                </a:lnTo>
                <a:lnTo>
                  <a:pt x="2" y="88"/>
                </a:lnTo>
                <a:lnTo>
                  <a:pt x="12" y="107"/>
                </a:lnTo>
                <a:lnTo>
                  <a:pt x="27" y="120"/>
                </a:lnTo>
                <a:lnTo>
                  <a:pt x="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14"/>
          <p:cNvSpPr/>
          <p:nvPr/>
        </p:nvSpPr>
        <p:spPr>
          <a:xfrm>
            <a:off x="7407360" y="776160"/>
            <a:ext cx="152280" cy="195480"/>
          </a:xfrm>
          <a:custGeom>
            <a:avLst/>
            <a:gdLst>
              <a:gd name="textAreaLeft" fmla="*/ 0 w 152280"/>
              <a:gd name="textAreaRight" fmla="*/ 152640 w 1522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96" h="123">
                <a:moveTo>
                  <a:pt x="49" y="123"/>
                </a:moveTo>
                <a:lnTo>
                  <a:pt x="66" y="119"/>
                </a:lnTo>
                <a:lnTo>
                  <a:pt x="81" y="106"/>
                </a:lnTo>
                <a:lnTo>
                  <a:pt x="91" y="87"/>
                </a:lnTo>
                <a:lnTo>
                  <a:pt x="96" y="61"/>
                </a:lnTo>
                <a:lnTo>
                  <a:pt x="91" y="38"/>
                </a:lnTo>
                <a:lnTo>
                  <a:pt x="81" y="19"/>
                </a:lnTo>
                <a:lnTo>
                  <a:pt x="66" y="6"/>
                </a:lnTo>
                <a:lnTo>
                  <a:pt x="49" y="0"/>
                </a:lnTo>
                <a:lnTo>
                  <a:pt x="30" y="6"/>
                </a:lnTo>
                <a:lnTo>
                  <a:pt x="15" y="19"/>
                </a:lnTo>
                <a:lnTo>
                  <a:pt x="5" y="38"/>
                </a:lnTo>
                <a:lnTo>
                  <a:pt x="0" y="61"/>
                </a:lnTo>
                <a:lnTo>
                  <a:pt x="5" y="87"/>
                </a:lnTo>
                <a:lnTo>
                  <a:pt x="15" y="106"/>
                </a:lnTo>
                <a:lnTo>
                  <a:pt x="30" y="119"/>
                </a:lnTo>
                <a:lnTo>
                  <a:pt x="49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15"/>
          <p:cNvSpPr/>
          <p:nvPr/>
        </p:nvSpPr>
        <p:spPr>
          <a:xfrm>
            <a:off x="8494560" y="287280"/>
            <a:ext cx="147960" cy="200160"/>
          </a:xfrm>
          <a:custGeom>
            <a:avLst/>
            <a:gdLst>
              <a:gd name="textAreaLeft" fmla="*/ 0 w 147960"/>
              <a:gd name="textAreaRight" fmla="*/ 147960 w 1479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93" h="126">
                <a:moveTo>
                  <a:pt x="47" y="126"/>
                </a:moveTo>
                <a:lnTo>
                  <a:pt x="64" y="120"/>
                </a:lnTo>
                <a:lnTo>
                  <a:pt x="79" y="107"/>
                </a:lnTo>
                <a:lnTo>
                  <a:pt x="88" y="88"/>
                </a:lnTo>
                <a:lnTo>
                  <a:pt x="93" y="65"/>
                </a:lnTo>
                <a:lnTo>
                  <a:pt x="88" y="39"/>
                </a:lnTo>
                <a:lnTo>
                  <a:pt x="79" y="20"/>
                </a:lnTo>
                <a:lnTo>
                  <a:pt x="64" y="7"/>
                </a:lnTo>
                <a:lnTo>
                  <a:pt x="47" y="0"/>
                </a:lnTo>
                <a:lnTo>
                  <a:pt x="27" y="7"/>
                </a:lnTo>
                <a:lnTo>
                  <a:pt x="13" y="20"/>
                </a:lnTo>
                <a:lnTo>
                  <a:pt x="3" y="39"/>
                </a:lnTo>
                <a:lnTo>
                  <a:pt x="0" y="65"/>
                </a:lnTo>
                <a:lnTo>
                  <a:pt x="3" y="88"/>
                </a:lnTo>
                <a:lnTo>
                  <a:pt x="13" y="107"/>
                </a:lnTo>
                <a:lnTo>
                  <a:pt x="27" y="120"/>
                </a:lnTo>
                <a:lnTo>
                  <a:pt x="4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6"/>
          <p:cNvSpPr/>
          <p:nvPr/>
        </p:nvSpPr>
        <p:spPr>
          <a:xfrm>
            <a:off x="341280" y="1227240"/>
            <a:ext cx="120600" cy="160200"/>
          </a:xfrm>
          <a:custGeom>
            <a:avLst/>
            <a:gdLst>
              <a:gd name="textAreaLeft" fmla="*/ 0 w 120600"/>
              <a:gd name="textAreaRight" fmla="*/ 120960 w 1206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76" h="101">
                <a:moveTo>
                  <a:pt x="37" y="101"/>
                </a:moveTo>
                <a:lnTo>
                  <a:pt x="51" y="97"/>
                </a:lnTo>
                <a:lnTo>
                  <a:pt x="63" y="85"/>
                </a:lnTo>
                <a:lnTo>
                  <a:pt x="73" y="68"/>
                </a:lnTo>
                <a:lnTo>
                  <a:pt x="76" y="49"/>
                </a:lnTo>
                <a:lnTo>
                  <a:pt x="73" y="30"/>
                </a:lnTo>
                <a:lnTo>
                  <a:pt x="63" y="13"/>
                </a:lnTo>
                <a:lnTo>
                  <a:pt x="51" y="4"/>
                </a:lnTo>
                <a:lnTo>
                  <a:pt x="37" y="0"/>
                </a:lnTo>
                <a:lnTo>
                  <a:pt x="22" y="4"/>
                </a:lnTo>
                <a:lnTo>
                  <a:pt x="12" y="13"/>
                </a:lnTo>
                <a:lnTo>
                  <a:pt x="2" y="30"/>
                </a:lnTo>
                <a:lnTo>
                  <a:pt x="0" y="49"/>
                </a:lnTo>
                <a:lnTo>
                  <a:pt x="2" y="68"/>
                </a:lnTo>
                <a:lnTo>
                  <a:pt x="12" y="85"/>
                </a:lnTo>
                <a:lnTo>
                  <a:pt x="22" y="97"/>
                </a:lnTo>
                <a:lnTo>
                  <a:pt x="37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117"/>
          <p:cNvSpPr/>
          <p:nvPr/>
        </p:nvSpPr>
        <p:spPr>
          <a:xfrm>
            <a:off x="182520" y="328680"/>
            <a:ext cx="119160" cy="158760"/>
          </a:xfrm>
          <a:custGeom>
            <a:avLst/>
            <a:gdLst>
              <a:gd name="textAreaLeft" fmla="*/ 0 w 119160"/>
              <a:gd name="textAreaRight" fmla="*/ 119520 w 1191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5" h="100">
                <a:moveTo>
                  <a:pt x="39" y="100"/>
                </a:moveTo>
                <a:lnTo>
                  <a:pt x="53" y="97"/>
                </a:lnTo>
                <a:lnTo>
                  <a:pt x="66" y="84"/>
                </a:lnTo>
                <a:lnTo>
                  <a:pt x="73" y="71"/>
                </a:lnTo>
                <a:lnTo>
                  <a:pt x="75" y="52"/>
                </a:lnTo>
                <a:lnTo>
                  <a:pt x="73" y="32"/>
                </a:lnTo>
                <a:lnTo>
                  <a:pt x="66" y="16"/>
                </a:lnTo>
                <a:lnTo>
                  <a:pt x="53" y="3"/>
                </a:lnTo>
                <a:lnTo>
                  <a:pt x="39" y="0"/>
                </a:lnTo>
                <a:lnTo>
                  <a:pt x="24" y="3"/>
                </a:lnTo>
                <a:lnTo>
                  <a:pt x="12" y="16"/>
                </a:lnTo>
                <a:lnTo>
                  <a:pt x="2" y="32"/>
                </a:lnTo>
                <a:lnTo>
                  <a:pt x="0" y="52"/>
                </a:lnTo>
                <a:lnTo>
                  <a:pt x="2" y="71"/>
                </a:lnTo>
                <a:lnTo>
                  <a:pt x="12" y="84"/>
                </a:lnTo>
                <a:lnTo>
                  <a:pt x="24" y="97"/>
                </a:lnTo>
                <a:lnTo>
                  <a:pt x="39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18"/>
          <p:cNvSpPr/>
          <p:nvPr/>
        </p:nvSpPr>
        <p:spPr>
          <a:xfrm>
            <a:off x="7721640" y="1001880"/>
            <a:ext cx="117360" cy="153720"/>
          </a:xfrm>
          <a:custGeom>
            <a:avLst/>
            <a:gdLst>
              <a:gd name="textAreaLeft" fmla="*/ 0 w 117360"/>
              <a:gd name="textAreaRight" fmla="*/ 117720 w 11736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74" h="97">
                <a:moveTo>
                  <a:pt x="37" y="97"/>
                </a:moveTo>
                <a:lnTo>
                  <a:pt x="52" y="94"/>
                </a:lnTo>
                <a:lnTo>
                  <a:pt x="64" y="81"/>
                </a:lnTo>
                <a:lnTo>
                  <a:pt x="71" y="68"/>
                </a:lnTo>
                <a:lnTo>
                  <a:pt x="74" y="49"/>
                </a:lnTo>
                <a:lnTo>
                  <a:pt x="71" y="29"/>
                </a:lnTo>
                <a:lnTo>
                  <a:pt x="64" y="13"/>
                </a:lnTo>
                <a:lnTo>
                  <a:pt x="52" y="3"/>
                </a:lnTo>
                <a:lnTo>
                  <a:pt x="37" y="0"/>
                </a:lnTo>
                <a:lnTo>
                  <a:pt x="22" y="3"/>
                </a:lnTo>
                <a:lnTo>
                  <a:pt x="13" y="13"/>
                </a:lnTo>
                <a:lnTo>
                  <a:pt x="3" y="29"/>
                </a:lnTo>
                <a:lnTo>
                  <a:pt x="0" y="49"/>
                </a:lnTo>
                <a:lnTo>
                  <a:pt x="3" y="68"/>
                </a:lnTo>
                <a:lnTo>
                  <a:pt x="13" y="81"/>
                </a:lnTo>
                <a:lnTo>
                  <a:pt x="22" y="94"/>
                </a:lnTo>
                <a:lnTo>
                  <a:pt x="37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119"/>
          <p:cNvSpPr/>
          <p:nvPr/>
        </p:nvSpPr>
        <p:spPr>
          <a:xfrm>
            <a:off x="1125360" y="190440"/>
            <a:ext cx="303480" cy="395280"/>
          </a:xfrm>
          <a:custGeom>
            <a:avLst/>
            <a:gdLst>
              <a:gd name="textAreaLeft" fmla="*/ 0 w 303480"/>
              <a:gd name="textAreaRight" fmla="*/ 303840 w 3034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91" h="249">
                <a:moveTo>
                  <a:pt x="96" y="0"/>
                </a:moveTo>
                <a:lnTo>
                  <a:pt x="108" y="87"/>
                </a:lnTo>
                <a:lnTo>
                  <a:pt x="147" y="55"/>
                </a:lnTo>
                <a:lnTo>
                  <a:pt x="123" y="107"/>
                </a:lnTo>
                <a:lnTo>
                  <a:pt x="191" y="123"/>
                </a:lnTo>
                <a:lnTo>
                  <a:pt x="123" y="139"/>
                </a:lnTo>
                <a:lnTo>
                  <a:pt x="147" y="191"/>
                </a:lnTo>
                <a:lnTo>
                  <a:pt x="108" y="158"/>
                </a:lnTo>
                <a:lnTo>
                  <a:pt x="96" y="249"/>
                </a:lnTo>
                <a:lnTo>
                  <a:pt x="83" y="158"/>
                </a:lnTo>
                <a:lnTo>
                  <a:pt x="44" y="191"/>
                </a:lnTo>
                <a:lnTo>
                  <a:pt x="69" y="139"/>
                </a:lnTo>
                <a:lnTo>
                  <a:pt x="0" y="123"/>
                </a:lnTo>
                <a:lnTo>
                  <a:pt x="69" y="107"/>
                </a:lnTo>
                <a:lnTo>
                  <a:pt x="44" y="55"/>
                </a:lnTo>
                <a:lnTo>
                  <a:pt x="83" y="87"/>
                </a:lnTo>
                <a:lnTo>
                  <a:pt x="96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20"/>
          <p:cNvSpPr/>
          <p:nvPr/>
        </p:nvSpPr>
        <p:spPr>
          <a:xfrm>
            <a:off x="1144440" y="210960"/>
            <a:ext cx="265320" cy="354240"/>
          </a:xfrm>
          <a:custGeom>
            <a:avLst/>
            <a:gdLst>
              <a:gd name="textAreaLeft" fmla="*/ 0 w 265320"/>
              <a:gd name="textAreaRight" fmla="*/ 265680 w 26532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167" h="223">
                <a:moveTo>
                  <a:pt x="84" y="0"/>
                </a:moveTo>
                <a:lnTo>
                  <a:pt x="93" y="74"/>
                </a:lnTo>
                <a:lnTo>
                  <a:pt x="93" y="77"/>
                </a:lnTo>
                <a:lnTo>
                  <a:pt x="130" y="48"/>
                </a:lnTo>
                <a:lnTo>
                  <a:pt x="108" y="97"/>
                </a:lnTo>
                <a:lnTo>
                  <a:pt x="111" y="97"/>
                </a:lnTo>
                <a:lnTo>
                  <a:pt x="167" y="110"/>
                </a:lnTo>
                <a:lnTo>
                  <a:pt x="113" y="123"/>
                </a:lnTo>
                <a:lnTo>
                  <a:pt x="108" y="123"/>
                </a:lnTo>
                <a:lnTo>
                  <a:pt x="130" y="171"/>
                </a:lnTo>
                <a:lnTo>
                  <a:pt x="93" y="142"/>
                </a:lnTo>
                <a:lnTo>
                  <a:pt x="93" y="145"/>
                </a:lnTo>
                <a:lnTo>
                  <a:pt x="84" y="220"/>
                </a:lnTo>
                <a:lnTo>
                  <a:pt x="84" y="223"/>
                </a:lnTo>
                <a:lnTo>
                  <a:pt x="74" y="149"/>
                </a:lnTo>
                <a:lnTo>
                  <a:pt x="74" y="142"/>
                </a:lnTo>
                <a:lnTo>
                  <a:pt x="37" y="171"/>
                </a:lnTo>
                <a:lnTo>
                  <a:pt x="59" y="123"/>
                </a:lnTo>
                <a:lnTo>
                  <a:pt x="0" y="110"/>
                </a:lnTo>
                <a:lnTo>
                  <a:pt x="54" y="97"/>
                </a:lnTo>
                <a:lnTo>
                  <a:pt x="59" y="97"/>
                </a:lnTo>
                <a:lnTo>
                  <a:pt x="37" y="48"/>
                </a:lnTo>
                <a:lnTo>
                  <a:pt x="74" y="77"/>
                </a:lnTo>
                <a:lnTo>
                  <a:pt x="84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21"/>
          <p:cNvSpPr/>
          <p:nvPr/>
        </p:nvSpPr>
        <p:spPr>
          <a:xfrm>
            <a:off x="1160640" y="231840"/>
            <a:ext cx="233280" cy="307800"/>
          </a:xfrm>
          <a:custGeom>
            <a:avLst/>
            <a:gdLst>
              <a:gd name="textAreaLeft" fmla="*/ 0 w 233280"/>
              <a:gd name="textAreaRight" fmla="*/ 233640 w 2332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47" h="194">
                <a:moveTo>
                  <a:pt x="74" y="0"/>
                </a:moveTo>
                <a:lnTo>
                  <a:pt x="83" y="64"/>
                </a:lnTo>
                <a:lnTo>
                  <a:pt x="83" y="68"/>
                </a:lnTo>
                <a:lnTo>
                  <a:pt x="115" y="42"/>
                </a:lnTo>
                <a:lnTo>
                  <a:pt x="96" y="84"/>
                </a:lnTo>
                <a:lnTo>
                  <a:pt x="98" y="84"/>
                </a:lnTo>
                <a:lnTo>
                  <a:pt x="147" y="97"/>
                </a:lnTo>
                <a:lnTo>
                  <a:pt x="98" y="110"/>
                </a:lnTo>
                <a:lnTo>
                  <a:pt x="96" y="110"/>
                </a:lnTo>
                <a:lnTo>
                  <a:pt x="115" y="152"/>
                </a:lnTo>
                <a:lnTo>
                  <a:pt x="83" y="126"/>
                </a:lnTo>
                <a:lnTo>
                  <a:pt x="74" y="194"/>
                </a:lnTo>
                <a:lnTo>
                  <a:pt x="66" y="129"/>
                </a:lnTo>
                <a:lnTo>
                  <a:pt x="64" y="126"/>
                </a:lnTo>
                <a:lnTo>
                  <a:pt x="32" y="152"/>
                </a:lnTo>
                <a:lnTo>
                  <a:pt x="52" y="110"/>
                </a:lnTo>
                <a:lnTo>
                  <a:pt x="0" y="97"/>
                </a:lnTo>
                <a:lnTo>
                  <a:pt x="49" y="84"/>
                </a:lnTo>
                <a:lnTo>
                  <a:pt x="52" y="84"/>
                </a:lnTo>
                <a:lnTo>
                  <a:pt x="32" y="42"/>
                </a:lnTo>
                <a:lnTo>
                  <a:pt x="64" y="68"/>
                </a:lnTo>
                <a:lnTo>
                  <a:pt x="74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22"/>
          <p:cNvSpPr/>
          <p:nvPr/>
        </p:nvSpPr>
        <p:spPr>
          <a:xfrm>
            <a:off x="1176480" y="252360"/>
            <a:ext cx="201600" cy="266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7" h="168">
                <a:moveTo>
                  <a:pt x="64" y="0"/>
                </a:moveTo>
                <a:lnTo>
                  <a:pt x="71" y="55"/>
                </a:lnTo>
                <a:lnTo>
                  <a:pt x="73" y="58"/>
                </a:lnTo>
                <a:lnTo>
                  <a:pt x="100" y="35"/>
                </a:lnTo>
                <a:lnTo>
                  <a:pt x="83" y="71"/>
                </a:lnTo>
                <a:lnTo>
                  <a:pt x="83" y="74"/>
                </a:lnTo>
                <a:lnTo>
                  <a:pt x="127" y="84"/>
                </a:lnTo>
                <a:lnTo>
                  <a:pt x="86" y="93"/>
                </a:lnTo>
                <a:lnTo>
                  <a:pt x="83" y="93"/>
                </a:lnTo>
                <a:lnTo>
                  <a:pt x="100" y="132"/>
                </a:lnTo>
                <a:lnTo>
                  <a:pt x="73" y="110"/>
                </a:lnTo>
                <a:lnTo>
                  <a:pt x="71" y="110"/>
                </a:lnTo>
                <a:lnTo>
                  <a:pt x="64" y="168"/>
                </a:lnTo>
                <a:lnTo>
                  <a:pt x="56" y="113"/>
                </a:lnTo>
                <a:lnTo>
                  <a:pt x="56" y="110"/>
                </a:lnTo>
                <a:lnTo>
                  <a:pt x="27" y="132"/>
                </a:lnTo>
                <a:lnTo>
                  <a:pt x="44" y="97"/>
                </a:lnTo>
                <a:lnTo>
                  <a:pt x="44" y="93"/>
                </a:lnTo>
                <a:lnTo>
                  <a:pt x="2" y="84"/>
                </a:lnTo>
                <a:lnTo>
                  <a:pt x="0" y="84"/>
                </a:lnTo>
                <a:lnTo>
                  <a:pt x="42" y="74"/>
                </a:lnTo>
                <a:lnTo>
                  <a:pt x="44" y="74"/>
                </a:lnTo>
                <a:lnTo>
                  <a:pt x="27" y="35"/>
                </a:lnTo>
                <a:lnTo>
                  <a:pt x="54" y="58"/>
                </a:lnTo>
                <a:lnTo>
                  <a:pt x="56" y="58"/>
                </a:lnTo>
                <a:lnTo>
                  <a:pt x="64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123"/>
          <p:cNvSpPr/>
          <p:nvPr/>
        </p:nvSpPr>
        <p:spPr>
          <a:xfrm>
            <a:off x="1192320" y="272880"/>
            <a:ext cx="169920" cy="225720"/>
          </a:xfrm>
          <a:custGeom>
            <a:avLst/>
            <a:gdLst>
              <a:gd name="textAreaLeft" fmla="*/ 0 w 169920"/>
              <a:gd name="textAreaRight" fmla="*/ 170280 w 16992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107" h="142">
                <a:moveTo>
                  <a:pt x="54" y="0"/>
                </a:moveTo>
                <a:lnTo>
                  <a:pt x="61" y="45"/>
                </a:lnTo>
                <a:lnTo>
                  <a:pt x="61" y="48"/>
                </a:lnTo>
                <a:lnTo>
                  <a:pt x="85" y="29"/>
                </a:lnTo>
                <a:lnTo>
                  <a:pt x="88" y="29"/>
                </a:lnTo>
                <a:lnTo>
                  <a:pt x="73" y="61"/>
                </a:lnTo>
                <a:lnTo>
                  <a:pt x="71" y="61"/>
                </a:lnTo>
                <a:lnTo>
                  <a:pt x="107" y="71"/>
                </a:lnTo>
                <a:lnTo>
                  <a:pt x="73" y="80"/>
                </a:lnTo>
                <a:lnTo>
                  <a:pt x="71" y="80"/>
                </a:lnTo>
                <a:lnTo>
                  <a:pt x="85" y="113"/>
                </a:lnTo>
                <a:lnTo>
                  <a:pt x="88" y="113"/>
                </a:lnTo>
                <a:lnTo>
                  <a:pt x="63" y="93"/>
                </a:lnTo>
                <a:lnTo>
                  <a:pt x="61" y="93"/>
                </a:lnTo>
                <a:lnTo>
                  <a:pt x="54" y="142"/>
                </a:lnTo>
                <a:lnTo>
                  <a:pt x="46" y="97"/>
                </a:lnTo>
                <a:lnTo>
                  <a:pt x="46" y="93"/>
                </a:lnTo>
                <a:lnTo>
                  <a:pt x="22" y="113"/>
                </a:lnTo>
                <a:lnTo>
                  <a:pt x="36" y="80"/>
                </a:lnTo>
                <a:lnTo>
                  <a:pt x="2" y="71"/>
                </a:lnTo>
                <a:lnTo>
                  <a:pt x="0" y="71"/>
                </a:lnTo>
                <a:lnTo>
                  <a:pt x="36" y="61"/>
                </a:lnTo>
                <a:lnTo>
                  <a:pt x="22" y="29"/>
                </a:lnTo>
                <a:lnTo>
                  <a:pt x="46" y="48"/>
                </a:lnTo>
                <a:lnTo>
                  <a:pt x="54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24"/>
          <p:cNvSpPr/>
          <p:nvPr/>
        </p:nvSpPr>
        <p:spPr>
          <a:xfrm>
            <a:off x="1211400" y="291960"/>
            <a:ext cx="136440" cy="185760"/>
          </a:xfrm>
          <a:custGeom>
            <a:avLst/>
            <a:gdLst>
              <a:gd name="textAreaLeft" fmla="*/ 0 w 136440"/>
              <a:gd name="textAreaRight" fmla="*/ 136800 w 1364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86" h="117">
                <a:moveTo>
                  <a:pt x="42" y="0"/>
                </a:moveTo>
                <a:lnTo>
                  <a:pt x="49" y="39"/>
                </a:lnTo>
                <a:lnTo>
                  <a:pt x="69" y="23"/>
                </a:lnTo>
                <a:lnTo>
                  <a:pt x="71" y="23"/>
                </a:lnTo>
                <a:lnTo>
                  <a:pt x="59" y="49"/>
                </a:lnTo>
                <a:lnTo>
                  <a:pt x="56" y="52"/>
                </a:lnTo>
                <a:lnTo>
                  <a:pt x="86" y="59"/>
                </a:lnTo>
                <a:lnTo>
                  <a:pt x="59" y="65"/>
                </a:lnTo>
                <a:lnTo>
                  <a:pt x="56" y="68"/>
                </a:lnTo>
                <a:lnTo>
                  <a:pt x="69" y="94"/>
                </a:lnTo>
                <a:lnTo>
                  <a:pt x="71" y="94"/>
                </a:lnTo>
                <a:lnTo>
                  <a:pt x="49" y="78"/>
                </a:lnTo>
                <a:lnTo>
                  <a:pt x="42" y="114"/>
                </a:lnTo>
                <a:lnTo>
                  <a:pt x="42" y="117"/>
                </a:lnTo>
                <a:lnTo>
                  <a:pt x="37" y="78"/>
                </a:lnTo>
                <a:lnTo>
                  <a:pt x="15" y="94"/>
                </a:lnTo>
                <a:lnTo>
                  <a:pt x="27" y="68"/>
                </a:lnTo>
                <a:lnTo>
                  <a:pt x="27" y="65"/>
                </a:lnTo>
                <a:lnTo>
                  <a:pt x="0" y="59"/>
                </a:lnTo>
                <a:lnTo>
                  <a:pt x="27" y="52"/>
                </a:lnTo>
                <a:lnTo>
                  <a:pt x="27" y="49"/>
                </a:lnTo>
                <a:lnTo>
                  <a:pt x="15" y="23"/>
                </a:lnTo>
                <a:lnTo>
                  <a:pt x="34" y="39"/>
                </a:lnTo>
                <a:lnTo>
                  <a:pt x="37" y="39"/>
                </a:lnTo>
                <a:lnTo>
                  <a:pt x="42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25"/>
          <p:cNvSpPr/>
          <p:nvPr/>
        </p:nvSpPr>
        <p:spPr>
          <a:xfrm>
            <a:off x="1227240" y="318960"/>
            <a:ext cx="104760" cy="133560"/>
          </a:xfrm>
          <a:custGeom>
            <a:avLst/>
            <a:gdLst>
              <a:gd name="textAreaLeft" fmla="*/ 0 w 104760"/>
              <a:gd name="textAreaRight" fmla="*/ 105120 w 10476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6" h="84">
                <a:moveTo>
                  <a:pt x="32" y="0"/>
                </a:moveTo>
                <a:lnTo>
                  <a:pt x="37" y="26"/>
                </a:lnTo>
                <a:lnTo>
                  <a:pt x="56" y="9"/>
                </a:lnTo>
                <a:lnTo>
                  <a:pt x="44" y="35"/>
                </a:lnTo>
                <a:lnTo>
                  <a:pt x="66" y="42"/>
                </a:lnTo>
                <a:lnTo>
                  <a:pt x="44" y="48"/>
                </a:lnTo>
                <a:lnTo>
                  <a:pt x="56" y="74"/>
                </a:lnTo>
                <a:lnTo>
                  <a:pt x="37" y="58"/>
                </a:lnTo>
                <a:lnTo>
                  <a:pt x="32" y="84"/>
                </a:lnTo>
                <a:lnTo>
                  <a:pt x="27" y="58"/>
                </a:lnTo>
                <a:lnTo>
                  <a:pt x="10" y="74"/>
                </a:lnTo>
                <a:lnTo>
                  <a:pt x="19" y="48"/>
                </a:lnTo>
                <a:lnTo>
                  <a:pt x="0" y="42"/>
                </a:lnTo>
                <a:lnTo>
                  <a:pt x="19" y="35"/>
                </a:lnTo>
                <a:lnTo>
                  <a:pt x="10" y="9"/>
                </a:lnTo>
                <a:lnTo>
                  <a:pt x="27" y="26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26"/>
          <p:cNvSpPr/>
          <p:nvPr/>
        </p:nvSpPr>
        <p:spPr>
          <a:xfrm>
            <a:off x="2030400" y="154080"/>
            <a:ext cx="361800" cy="477720"/>
          </a:xfrm>
          <a:custGeom>
            <a:avLst/>
            <a:gdLst>
              <a:gd name="textAreaLeft" fmla="*/ 0 w 361800"/>
              <a:gd name="textAreaRight" fmla="*/ 362160 w 36180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228" h="301">
                <a:moveTo>
                  <a:pt x="115" y="0"/>
                </a:moveTo>
                <a:lnTo>
                  <a:pt x="130" y="107"/>
                </a:lnTo>
                <a:lnTo>
                  <a:pt x="179" y="68"/>
                </a:lnTo>
                <a:lnTo>
                  <a:pt x="147" y="133"/>
                </a:lnTo>
                <a:lnTo>
                  <a:pt x="228" y="152"/>
                </a:lnTo>
                <a:lnTo>
                  <a:pt x="147" y="168"/>
                </a:lnTo>
                <a:lnTo>
                  <a:pt x="179" y="233"/>
                </a:lnTo>
                <a:lnTo>
                  <a:pt x="130" y="194"/>
                </a:lnTo>
                <a:lnTo>
                  <a:pt x="115" y="301"/>
                </a:lnTo>
                <a:lnTo>
                  <a:pt x="101" y="194"/>
                </a:lnTo>
                <a:lnTo>
                  <a:pt x="52" y="233"/>
                </a:lnTo>
                <a:lnTo>
                  <a:pt x="84" y="168"/>
                </a:lnTo>
                <a:lnTo>
                  <a:pt x="0" y="152"/>
                </a:lnTo>
                <a:lnTo>
                  <a:pt x="84" y="133"/>
                </a:lnTo>
                <a:lnTo>
                  <a:pt x="52" y="68"/>
                </a:lnTo>
                <a:lnTo>
                  <a:pt x="101" y="107"/>
                </a:lnTo>
                <a:lnTo>
                  <a:pt x="115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7"/>
          <p:cNvSpPr/>
          <p:nvPr/>
        </p:nvSpPr>
        <p:spPr>
          <a:xfrm>
            <a:off x="2054160" y="179280"/>
            <a:ext cx="319320" cy="427320"/>
          </a:xfrm>
          <a:custGeom>
            <a:avLst/>
            <a:gdLst>
              <a:gd name="textAreaLeft" fmla="*/ 0 w 319320"/>
              <a:gd name="textAreaRight" fmla="*/ 319680 w 319320"/>
              <a:gd name="textAreaTop" fmla="*/ 0 h 427320"/>
              <a:gd name="textAreaBottom" fmla="*/ 427320 h 427320"/>
            </a:gdLst>
            <a:ahLst/>
            <a:rect l="textAreaLeft" t="textAreaTop" r="textAreaRight" b="textAreaBottom"/>
            <a:pathLst>
              <a:path w="201" h="269">
                <a:moveTo>
                  <a:pt x="100" y="0"/>
                </a:moveTo>
                <a:lnTo>
                  <a:pt x="113" y="91"/>
                </a:lnTo>
                <a:lnTo>
                  <a:pt x="113" y="94"/>
                </a:lnTo>
                <a:lnTo>
                  <a:pt x="157" y="59"/>
                </a:lnTo>
                <a:lnTo>
                  <a:pt x="157" y="62"/>
                </a:lnTo>
                <a:lnTo>
                  <a:pt x="130" y="117"/>
                </a:lnTo>
                <a:lnTo>
                  <a:pt x="132" y="120"/>
                </a:lnTo>
                <a:lnTo>
                  <a:pt x="198" y="136"/>
                </a:lnTo>
                <a:lnTo>
                  <a:pt x="201" y="136"/>
                </a:lnTo>
                <a:lnTo>
                  <a:pt x="135" y="149"/>
                </a:lnTo>
                <a:lnTo>
                  <a:pt x="130" y="152"/>
                </a:lnTo>
                <a:lnTo>
                  <a:pt x="157" y="211"/>
                </a:lnTo>
                <a:lnTo>
                  <a:pt x="113" y="175"/>
                </a:lnTo>
                <a:lnTo>
                  <a:pt x="100" y="266"/>
                </a:lnTo>
                <a:lnTo>
                  <a:pt x="100" y="269"/>
                </a:lnTo>
                <a:lnTo>
                  <a:pt x="88" y="181"/>
                </a:lnTo>
                <a:lnTo>
                  <a:pt x="88" y="175"/>
                </a:lnTo>
                <a:lnTo>
                  <a:pt x="44" y="211"/>
                </a:lnTo>
                <a:lnTo>
                  <a:pt x="71" y="152"/>
                </a:lnTo>
                <a:lnTo>
                  <a:pt x="69" y="152"/>
                </a:lnTo>
                <a:lnTo>
                  <a:pt x="0" y="136"/>
                </a:lnTo>
                <a:lnTo>
                  <a:pt x="66" y="120"/>
                </a:lnTo>
                <a:lnTo>
                  <a:pt x="71" y="120"/>
                </a:lnTo>
                <a:lnTo>
                  <a:pt x="44" y="59"/>
                </a:lnTo>
                <a:lnTo>
                  <a:pt x="88" y="94"/>
                </a:lnTo>
                <a:lnTo>
                  <a:pt x="100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28"/>
          <p:cNvSpPr/>
          <p:nvPr/>
        </p:nvSpPr>
        <p:spPr>
          <a:xfrm>
            <a:off x="2073240" y="204840"/>
            <a:ext cx="279360" cy="376200"/>
          </a:xfrm>
          <a:custGeom>
            <a:avLst/>
            <a:gdLst>
              <a:gd name="textAreaLeft" fmla="*/ 0 w 279360"/>
              <a:gd name="textAreaRight" fmla="*/ 279720 w 279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76" h="237">
                <a:moveTo>
                  <a:pt x="88" y="0"/>
                </a:moveTo>
                <a:lnTo>
                  <a:pt x="98" y="78"/>
                </a:lnTo>
                <a:lnTo>
                  <a:pt x="101" y="85"/>
                </a:lnTo>
                <a:lnTo>
                  <a:pt x="140" y="52"/>
                </a:lnTo>
                <a:lnTo>
                  <a:pt x="115" y="104"/>
                </a:lnTo>
                <a:lnTo>
                  <a:pt x="176" y="120"/>
                </a:lnTo>
                <a:lnTo>
                  <a:pt x="118" y="133"/>
                </a:lnTo>
                <a:lnTo>
                  <a:pt x="115" y="133"/>
                </a:lnTo>
                <a:lnTo>
                  <a:pt x="140" y="185"/>
                </a:lnTo>
                <a:lnTo>
                  <a:pt x="101" y="156"/>
                </a:lnTo>
                <a:lnTo>
                  <a:pt x="88" y="233"/>
                </a:lnTo>
                <a:lnTo>
                  <a:pt x="88" y="237"/>
                </a:lnTo>
                <a:lnTo>
                  <a:pt x="79" y="159"/>
                </a:lnTo>
                <a:lnTo>
                  <a:pt x="79" y="156"/>
                </a:lnTo>
                <a:lnTo>
                  <a:pt x="37" y="185"/>
                </a:lnTo>
                <a:lnTo>
                  <a:pt x="61" y="133"/>
                </a:lnTo>
                <a:lnTo>
                  <a:pt x="0" y="120"/>
                </a:lnTo>
                <a:lnTo>
                  <a:pt x="59" y="104"/>
                </a:lnTo>
                <a:lnTo>
                  <a:pt x="61" y="104"/>
                </a:lnTo>
                <a:lnTo>
                  <a:pt x="37" y="52"/>
                </a:lnTo>
                <a:lnTo>
                  <a:pt x="76" y="81"/>
                </a:lnTo>
                <a:lnTo>
                  <a:pt x="79" y="81"/>
                </a:lnTo>
                <a:lnTo>
                  <a:pt x="88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29"/>
          <p:cNvSpPr/>
          <p:nvPr/>
        </p:nvSpPr>
        <p:spPr>
          <a:xfrm>
            <a:off x="2093760" y="231840"/>
            <a:ext cx="239760" cy="322200"/>
          </a:xfrm>
          <a:custGeom>
            <a:avLst/>
            <a:gdLst>
              <a:gd name="textAreaLeft" fmla="*/ 0 w 239760"/>
              <a:gd name="textAreaRight" fmla="*/ 240120 w 23976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51" h="203">
                <a:moveTo>
                  <a:pt x="75" y="0"/>
                </a:moveTo>
                <a:lnTo>
                  <a:pt x="85" y="68"/>
                </a:lnTo>
                <a:lnTo>
                  <a:pt x="85" y="71"/>
                </a:lnTo>
                <a:lnTo>
                  <a:pt x="119" y="42"/>
                </a:lnTo>
                <a:lnTo>
                  <a:pt x="122" y="42"/>
                </a:lnTo>
                <a:lnTo>
                  <a:pt x="100" y="87"/>
                </a:lnTo>
                <a:lnTo>
                  <a:pt x="100" y="90"/>
                </a:lnTo>
                <a:lnTo>
                  <a:pt x="151" y="103"/>
                </a:lnTo>
                <a:lnTo>
                  <a:pt x="102" y="113"/>
                </a:lnTo>
                <a:lnTo>
                  <a:pt x="100" y="116"/>
                </a:lnTo>
                <a:lnTo>
                  <a:pt x="122" y="161"/>
                </a:lnTo>
                <a:lnTo>
                  <a:pt x="88" y="136"/>
                </a:lnTo>
                <a:lnTo>
                  <a:pt x="85" y="136"/>
                </a:lnTo>
                <a:lnTo>
                  <a:pt x="75" y="200"/>
                </a:lnTo>
                <a:lnTo>
                  <a:pt x="75" y="203"/>
                </a:lnTo>
                <a:lnTo>
                  <a:pt x="66" y="136"/>
                </a:lnTo>
                <a:lnTo>
                  <a:pt x="66" y="132"/>
                </a:lnTo>
                <a:lnTo>
                  <a:pt x="31" y="161"/>
                </a:lnTo>
                <a:lnTo>
                  <a:pt x="51" y="116"/>
                </a:lnTo>
                <a:lnTo>
                  <a:pt x="0" y="103"/>
                </a:lnTo>
                <a:lnTo>
                  <a:pt x="48" y="90"/>
                </a:lnTo>
                <a:lnTo>
                  <a:pt x="51" y="87"/>
                </a:lnTo>
                <a:lnTo>
                  <a:pt x="31" y="42"/>
                </a:lnTo>
                <a:lnTo>
                  <a:pt x="66" y="71"/>
                </a:lnTo>
                <a:lnTo>
                  <a:pt x="75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30"/>
          <p:cNvSpPr/>
          <p:nvPr/>
        </p:nvSpPr>
        <p:spPr>
          <a:xfrm>
            <a:off x="2112840" y="25704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7" h="171">
                <a:moveTo>
                  <a:pt x="63" y="0"/>
                </a:moveTo>
                <a:lnTo>
                  <a:pt x="73" y="55"/>
                </a:lnTo>
                <a:lnTo>
                  <a:pt x="73" y="58"/>
                </a:lnTo>
                <a:lnTo>
                  <a:pt x="103" y="35"/>
                </a:lnTo>
                <a:lnTo>
                  <a:pt x="103" y="32"/>
                </a:lnTo>
                <a:lnTo>
                  <a:pt x="85" y="71"/>
                </a:lnTo>
                <a:lnTo>
                  <a:pt x="85" y="74"/>
                </a:lnTo>
                <a:lnTo>
                  <a:pt x="127" y="87"/>
                </a:lnTo>
                <a:lnTo>
                  <a:pt x="85" y="97"/>
                </a:lnTo>
                <a:lnTo>
                  <a:pt x="103" y="136"/>
                </a:lnTo>
                <a:lnTo>
                  <a:pt x="103" y="139"/>
                </a:lnTo>
                <a:lnTo>
                  <a:pt x="73" y="113"/>
                </a:lnTo>
                <a:lnTo>
                  <a:pt x="63" y="168"/>
                </a:lnTo>
                <a:lnTo>
                  <a:pt x="63" y="171"/>
                </a:lnTo>
                <a:lnTo>
                  <a:pt x="56" y="116"/>
                </a:lnTo>
                <a:lnTo>
                  <a:pt x="56" y="113"/>
                </a:lnTo>
                <a:lnTo>
                  <a:pt x="24" y="139"/>
                </a:lnTo>
                <a:lnTo>
                  <a:pt x="41" y="100"/>
                </a:lnTo>
                <a:lnTo>
                  <a:pt x="44" y="97"/>
                </a:lnTo>
                <a:lnTo>
                  <a:pt x="0" y="87"/>
                </a:lnTo>
                <a:lnTo>
                  <a:pt x="41" y="74"/>
                </a:lnTo>
                <a:lnTo>
                  <a:pt x="44" y="74"/>
                </a:lnTo>
                <a:lnTo>
                  <a:pt x="24" y="35"/>
                </a:lnTo>
                <a:lnTo>
                  <a:pt x="24" y="32"/>
                </a:lnTo>
                <a:lnTo>
                  <a:pt x="54" y="58"/>
                </a:lnTo>
                <a:lnTo>
                  <a:pt x="56" y="58"/>
                </a:lnTo>
                <a:lnTo>
                  <a:pt x="63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1"/>
          <p:cNvSpPr/>
          <p:nvPr/>
        </p:nvSpPr>
        <p:spPr>
          <a:xfrm>
            <a:off x="2131920" y="282600"/>
            <a:ext cx="163440" cy="220680"/>
          </a:xfrm>
          <a:custGeom>
            <a:avLst/>
            <a:gdLst>
              <a:gd name="textAreaLeft" fmla="*/ 0 w 163440"/>
              <a:gd name="textAreaRight" fmla="*/ 163800 w 163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3" h="139">
                <a:moveTo>
                  <a:pt x="51" y="0"/>
                </a:moveTo>
                <a:lnTo>
                  <a:pt x="59" y="45"/>
                </a:lnTo>
                <a:lnTo>
                  <a:pt x="86" y="26"/>
                </a:lnTo>
                <a:lnTo>
                  <a:pt x="71" y="58"/>
                </a:lnTo>
                <a:lnTo>
                  <a:pt x="71" y="61"/>
                </a:lnTo>
                <a:lnTo>
                  <a:pt x="103" y="71"/>
                </a:lnTo>
                <a:lnTo>
                  <a:pt x="71" y="78"/>
                </a:lnTo>
                <a:lnTo>
                  <a:pt x="71" y="81"/>
                </a:lnTo>
                <a:lnTo>
                  <a:pt x="86" y="113"/>
                </a:lnTo>
                <a:lnTo>
                  <a:pt x="61" y="94"/>
                </a:lnTo>
                <a:lnTo>
                  <a:pt x="59" y="94"/>
                </a:lnTo>
                <a:lnTo>
                  <a:pt x="51" y="139"/>
                </a:lnTo>
                <a:lnTo>
                  <a:pt x="44" y="94"/>
                </a:lnTo>
                <a:lnTo>
                  <a:pt x="20" y="113"/>
                </a:lnTo>
                <a:lnTo>
                  <a:pt x="17" y="113"/>
                </a:lnTo>
                <a:lnTo>
                  <a:pt x="34" y="81"/>
                </a:lnTo>
                <a:lnTo>
                  <a:pt x="0" y="71"/>
                </a:lnTo>
                <a:lnTo>
                  <a:pt x="34" y="61"/>
                </a:lnTo>
                <a:lnTo>
                  <a:pt x="34" y="58"/>
                </a:lnTo>
                <a:lnTo>
                  <a:pt x="20" y="26"/>
                </a:lnTo>
                <a:lnTo>
                  <a:pt x="17" y="26"/>
                </a:lnTo>
                <a:lnTo>
                  <a:pt x="44" y="45"/>
                </a:lnTo>
                <a:lnTo>
                  <a:pt x="51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32"/>
          <p:cNvSpPr/>
          <p:nvPr/>
        </p:nvSpPr>
        <p:spPr>
          <a:xfrm>
            <a:off x="2151000" y="307800"/>
            <a:ext cx="128520" cy="169920"/>
          </a:xfrm>
          <a:custGeom>
            <a:avLst/>
            <a:gdLst>
              <a:gd name="textAreaLeft" fmla="*/ 0 w 128520"/>
              <a:gd name="textAreaRight" fmla="*/ 128880 w 128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1" h="107">
                <a:moveTo>
                  <a:pt x="39" y="0"/>
                </a:moveTo>
                <a:lnTo>
                  <a:pt x="47" y="36"/>
                </a:lnTo>
                <a:lnTo>
                  <a:pt x="69" y="16"/>
                </a:lnTo>
                <a:lnTo>
                  <a:pt x="54" y="45"/>
                </a:lnTo>
                <a:lnTo>
                  <a:pt x="81" y="55"/>
                </a:lnTo>
                <a:lnTo>
                  <a:pt x="54" y="62"/>
                </a:lnTo>
                <a:lnTo>
                  <a:pt x="69" y="91"/>
                </a:lnTo>
                <a:lnTo>
                  <a:pt x="47" y="71"/>
                </a:lnTo>
                <a:lnTo>
                  <a:pt x="39" y="107"/>
                </a:lnTo>
                <a:lnTo>
                  <a:pt x="34" y="71"/>
                </a:lnTo>
                <a:lnTo>
                  <a:pt x="12" y="91"/>
                </a:lnTo>
                <a:lnTo>
                  <a:pt x="25" y="62"/>
                </a:lnTo>
                <a:lnTo>
                  <a:pt x="0" y="55"/>
                </a:lnTo>
                <a:lnTo>
                  <a:pt x="25" y="45"/>
                </a:lnTo>
                <a:lnTo>
                  <a:pt x="12" y="16"/>
                </a:lnTo>
                <a:lnTo>
                  <a:pt x="34" y="36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33"/>
          <p:cNvSpPr/>
          <p:nvPr/>
        </p:nvSpPr>
        <p:spPr>
          <a:xfrm>
            <a:off x="2486160" y="174600"/>
            <a:ext cx="298440" cy="399960"/>
          </a:xfrm>
          <a:custGeom>
            <a:avLst/>
            <a:gdLst>
              <a:gd name="textAreaLeft" fmla="*/ 0 w 298440"/>
              <a:gd name="textAreaRight" fmla="*/ 298800 w 2984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88" h="252">
                <a:moveTo>
                  <a:pt x="93" y="0"/>
                </a:moveTo>
                <a:lnTo>
                  <a:pt x="105" y="91"/>
                </a:lnTo>
                <a:lnTo>
                  <a:pt x="146" y="55"/>
                </a:lnTo>
                <a:lnTo>
                  <a:pt x="122" y="110"/>
                </a:lnTo>
                <a:lnTo>
                  <a:pt x="188" y="126"/>
                </a:lnTo>
                <a:lnTo>
                  <a:pt x="122" y="139"/>
                </a:lnTo>
                <a:lnTo>
                  <a:pt x="146" y="194"/>
                </a:lnTo>
                <a:lnTo>
                  <a:pt x="105" y="162"/>
                </a:lnTo>
                <a:lnTo>
                  <a:pt x="93" y="252"/>
                </a:lnTo>
                <a:lnTo>
                  <a:pt x="83" y="162"/>
                </a:lnTo>
                <a:lnTo>
                  <a:pt x="41" y="194"/>
                </a:lnTo>
                <a:lnTo>
                  <a:pt x="66" y="139"/>
                </a:lnTo>
                <a:lnTo>
                  <a:pt x="0" y="126"/>
                </a:lnTo>
                <a:lnTo>
                  <a:pt x="66" y="110"/>
                </a:lnTo>
                <a:lnTo>
                  <a:pt x="41" y="55"/>
                </a:lnTo>
                <a:lnTo>
                  <a:pt x="83" y="91"/>
                </a:lnTo>
                <a:lnTo>
                  <a:pt x="93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34"/>
          <p:cNvSpPr/>
          <p:nvPr/>
        </p:nvSpPr>
        <p:spPr>
          <a:xfrm>
            <a:off x="2500200" y="195120"/>
            <a:ext cx="268560" cy="354240"/>
          </a:xfrm>
          <a:custGeom>
            <a:avLst/>
            <a:gdLst>
              <a:gd name="textAreaLeft" fmla="*/ 0 w 268560"/>
              <a:gd name="textAreaRight" fmla="*/ 268920 w 268560"/>
              <a:gd name="textAreaTop" fmla="*/ 0 h 354240"/>
              <a:gd name="textAreaBottom" fmla="*/ 354240 h 354240"/>
            </a:gdLst>
            <a:ahLst/>
            <a:rect l="textAreaLeft" t="textAreaTop" r="textAreaRight" b="textAreaBottom"/>
            <a:pathLst>
              <a:path w="169" h="223">
                <a:moveTo>
                  <a:pt x="84" y="0"/>
                </a:moveTo>
                <a:lnTo>
                  <a:pt x="93" y="74"/>
                </a:lnTo>
                <a:lnTo>
                  <a:pt x="96" y="81"/>
                </a:lnTo>
                <a:lnTo>
                  <a:pt x="133" y="49"/>
                </a:lnTo>
                <a:lnTo>
                  <a:pt x="133" y="52"/>
                </a:lnTo>
                <a:lnTo>
                  <a:pt x="111" y="100"/>
                </a:lnTo>
                <a:lnTo>
                  <a:pt x="167" y="113"/>
                </a:lnTo>
                <a:lnTo>
                  <a:pt x="169" y="113"/>
                </a:lnTo>
                <a:lnTo>
                  <a:pt x="113" y="126"/>
                </a:lnTo>
                <a:lnTo>
                  <a:pt x="111" y="126"/>
                </a:lnTo>
                <a:lnTo>
                  <a:pt x="133" y="175"/>
                </a:lnTo>
                <a:lnTo>
                  <a:pt x="96" y="146"/>
                </a:lnTo>
                <a:lnTo>
                  <a:pt x="86" y="220"/>
                </a:lnTo>
                <a:lnTo>
                  <a:pt x="84" y="223"/>
                </a:lnTo>
                <a:lnTo>
                  <a:pt x="74" y="149"/>
                </a:lnTo>
                <a:lnTo>
                  <a:pt x="74" y="146"/>
                </a:lnTo>
                <a:lnTo>
                  <a:pt x="37" y="175"/>
                </a:lnTo>
                <a:lnTo>
                  <a:pt x="59" y="126"/>
                </a:lnTo>
                <a:lnTo>
                  <a:pt x="3" y="113"/>
                </a:lnTo>
                <a:lnTo>
                  <a:pt x="0" y="113"/>
                </a:lnTo>
                <a:lnTo>
                  <a:pt x="57" y="100"/>
                </a:lnTo>
                <a:lnTo>
                  <a:pt x="59" y="100"/>
                </a:lnTo>
                <a:lnTo>
                  <a:pt x="37" y="49"/>
                </a:lnTo>
                <a:lnTo>
                  <a:pt x="74" y="81"/>
                </a:lnTo>
                <a:lnTo>
                  <a:pt x="74" y="78"/>
                </a:lnTo>
                <a:lnTo>
                  <a:pt x="84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35"/>
          <p:cNvSpPr/>
          <p:nvPr/>
        </p:nvSpPr>
        <p:spPr>
          <a:xfrm>
            <a:off x="2516040" y="220680"/>
            <a:ext cx="238320" cy="307800"/>
          </a:xfrm>
          <a:custGeom>
            <a:avLst/>
            <a:gdLst>
              <a:gd name="textAreaLeft" fmla="*/ 0 w 238320"/>
              <a:gd name="textAreaRight" fmla="*/ 238680 w 2383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50" h="194">
                <a:moveTo>
                  <a:pt x="74" y="0"/>
                </a:moveTo>
                <a:lnTo>
                  <a:pt x="83" y="65"/>
                </a:lnTo>
                <a:lnTo>
                  <a:pt x="83" y="68"/>
                </a:lnTo>
                <a:lnTo>
                  <a:pt x="118" y="39"/>
                </a:lnTo>
                <a:lnTo>
                  <a:pt x="118" y="42"/>
                </a:lnTo>
                <a:lnTo>
                  <a:pt x="98" y="84"/>
                </a:lnTo>
                <a:lnTo>
                  <a:pt x="147" y="97"/>
                </a:lnTo>
                <a:lnTo>
                  <a:pt x="150" y="97"/>
                </a:lnTo>
                <a:lnTo>
                  <a:pt x="101" y="107"/>
                </a:lnTo>
                <a:lnTo>
                  <a:pt x="98" y="110"/>
                </a:lnTo>
                <a:lnTo>
                  <a:pt x="118" y="152"/>
                </a:lnTo>
                <a:lnTo>
                  <a:pt x="83" y="126"/>
                </a:lnTo>
                <a:lnTo>
                  <a:pt x="76" y="191"/>
                </a:lnTo>
                <a:lnTo>
                  <a:pt x="74" y="194"/>
                </a:lnTo>
                <a:lnTo>
                  <a:pt x="66" y="130"/>
                </a:lnTo>
                <a:lnTo>
                  <a:pt x="66" y="126"/>
                </a:lnTo>
                <a:lnTo>
                  <a:pt x="32" y="152"/>
                </a:lnTo>
                <a:lnTo>
                  <a:pt x="52" y="110"/>
                </a:lnTo>
                <a:lnTo>
                  <a:pt x="3" y="97"/>
                </a:lnTo>
                <a:lnTo>
                  <a:pt x="0" y="97"/>
                </a:lnTo>
                <a:lnTo>
                  <a:pt x="49" y="84"/>
                </a:lnTo>
                <a:lnTo>
                  <a:pt x="52" y="84"/>
                </a:lnTo>
                <a:lnTo>
                  <a:pt x="32" y="39"/>
                </a:lnTo>
                <a:lnTo>
                  <a:pt x="64" y="68"/>
                </a:lnTo>
                <a:lnTo>
                  <a:pt x="66" y="65"/>
                </a:lnTo>
                <a:lnTo>
                  <a:pt x="74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36"/>
          <p:cNvSpPr/>
          <p:nvPr/>
        </p:nvSpPr>
        <p:spPr>
          <a:xfrm>
            <a:off x="2532240" y="241200"/>
            <a:ext cx="201600" cy="266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7" h="168">
                <a:moveTo>
                  <a:pt x="64" y="0"/>
                </a:moveTo>
                <a:lnTo>
                  <a:pt x="73" y="55"/>
                </a:lnTo>
                <a:lnTo>
                  <a:pt x="73" y="58"/>
                </a:lnTo>
                <a:lnTo>
                  <a:pt x="103" y="36"/>
                </a:lnTo>
                <a:lnTo>
                  <a:pt x="103" y="32"/>
                </a:lnTo>
                <a:lnTo>
                  <a:pt x="86" y="71"/>
                </a:lnTo>
                <a:lnTo>
                  <a:pt x="127" y="84"/>
                </a:lnTo>
                <a:lnTo>
                  <a:pt x="86" y="94"/>
                </a:lnTo>
                <a:lnTo>
                  <a:pt x="103" y="133"/>
                </a:lnTo>
                <a:lnTo>
                  <a:pt x="73" y="110"/>
                </a:lnTo>
                <a:lnTo>
                  <a:pt x="66" y="165"/>
                </a:lnTo>
                <a:lnTo>
                  <a:pt x="64" y="168"/>
                </a:lnTo>
                <a:lnTo>
                  <a:pt x="56" y="113"/>
                </a:lnTo>
                <a:lnTo>
                  <a:pt x="56" y="110"/>
                </a:lnTo>
                <a:lnTo>
                  <a:pt x="27" y="133"/>
                </a:lnTo>
                <a:lnTo>
                  <a:pt x="44" y="94"/>
                </a:lnTo>
                <a:lnTo>
                  <a:pt x="2" y="84"/>
                </a:lnTo>
                <a:lnTo>
                  <a:pt x="0" y="84"/>
                </a:lnTo>
                <a:lnTo>
                  <a:pt x="44" y="75"/>
                </a:lnTo>
                <a:lnTo>
                  <a:pt x="44" y="71"/>
                </a:lnTo>
                <a:lnTo>
                  <a:pt x="27" y="32"/>
                </a:lnTo>
                <a:lnTo>
                  <a:pt x="56" y="58"/>
                </a:lnTo>
                <a:lnTo>
                  <a:pt x="56" y="55"/>
                </a:lnTo>
                <a:lnTo>
                  <a:pt x="64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37"/>
          <p:cNvSpPr/>
          <p:nvPr/>
        </p:nvSpPr>
        <p:spPr>
          <a:xfrm>
            <a:off x="2550960" y="262080"/>
            <a:ext cx="166680" cy="225360"/>
          </a:xfrm>
          <a:custGeom>
            <a:avLst/>
            <a:gdLst>
              <a:gd name="textAreaLeft" fmla="*/ 0 w 166680"/>
              <a:gd name="textAreaRight" fmla="*/ 167040 w 166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05" h="142">
                <a:moveTo>
                  <a:pt x="54" y="0"/>
                </a:moveTo>
                <a:lnTo>
                  <a:pt x="59" y="45"/>
                </a:lnTo>
                <a:lnTo>
                  <a:pt x="61" y="49"/>
                </a:lnTo>
                <a:lnTo>
                  <a:pt x="86" y="29"/>
                </a:lnTo>
                <a:lnTo>
                  <a:pt x="86" y="26"/>
                </a:lnTo>
                <a:lnTo>
                  <a:pt x="71" y="58"/>
                </a:lnTo>
                <a:lnTo>
                  <a:pt x="71" y="62"/>
                </a:lnTo>
                <a:lnTo>
                  <a:pt x="105" y="71"/>
                </a:lnTo>
                <a:lnTo>
                  <a:pt x="71" y="81"/>
                </a:lnTo>
                <a:lnTo>
                  <a:pt x="86" y="113"/>
                </a:lnTo>
                <a:lnTo>
                  <a:pt x="61" y="94"/>
                </a:lnTo>
                <a:lnTo>
                  <a:pt x="59" y="94"/>
                </a:lnTo>
                <a:lnTo>
                  <a:pt x="54" y="139"/>
                </a:lnTo>
                <a:lnTo>
                  <a:pt x="54" y="142"/>
                </a:lnTo>
                <a:lnTo>
                  <a:pt x="47" y="94"/>
                </a:lnTo>
                <a:lnTo>
                  <a:pt x="20" y="113"/>
                </a:lnTo>
                <a:lnTo>
                  <a:pt x="35" y="81"/>
                </a:lnTo>
                <a:lnTo>
                  <a:pt x="0" y="71"/>
                </a:lnTo>
                <a:lnTo>
                  <a:pt x="35" y="62"/>
                </a:lnTo>
                <a:lnTo>
                  <a:pt x="20" y="26"/>
                </a:lnTo>
                <a:lnTo>
                  <a:pt x="44" y="45"/>
                </a:lnTo>
                <a:lnTo>
                  <a:pt x="47" y="49"/>
                </a:lnTo>
                <a:lnTo>
                  <a:pt x="54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38"/>
          <p:cNvSpPr/>
          <p:nvPr/>
        </p:nvSpPr>
        <p:spPr>
          <a:xfrm>
            <a:off x="2567160" y="282600"/>
            <a:ext cx="136440" cy="179280"/>
          </a:xfrm>
          <a:custGeom>
            <a:avLst/>
            <a:gdLst>
              <a:gd name="textAreaLeft" fmla="*/ 0 w 136440"/>
              <a:gd name="textAreaRight" fmla="*/ 136800 w 13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6" h="113">
                <a:moveTo>
                  <a:pt x="44" y="0"/>
                </a:moveTo>
                <a:lnTo>
                  <a:pt x="49" y="36"/>
                </a:lnTo>
                <a:lnTo>
                  <a:pt x="49" y="39"/>
                </a:lnTo>
                <a:lnTo>
                  <a:pt x="71" y="23"/>
                </a:lnTo>
                <a:lnTo>
                  <a:pt x="71" y="19"/>
                </a:lnTo>
                <a:lnTo>
                  <a:pt x="59" y="49"/>
                </a:lnTo>
                <a:lnTo>
                  <a:pt x="86" y="58"/>
                </a:lnTo>
                <a:lnTo>
                  <a:pt x="59" y="65"/>
                </a:lnTo>
                <a:lnTo>
                  <a:pt x="71" y="94"/>
                </a:lnTo>
                <a:lnTo>
                  <a:pt x="51" y="78"/>
                </a:lnTo>
                <a:lnTo>
                  <a:pt x="49" y="78"/>
                </a:lnTo>
                <a:lnTo>
                  <a:pt x="44" y="113"/>
                </a:lnTo>
                <a:lnTo>
                  <a:pt x="37" y="78"/>
                </a:lnTo>
                <a:lnTo>
                  <a:pt x="15" y="94"/>
                </a:lnTo>
                <a:lnTo>
                  <a:pt x="27" y="68"/>
                </a:lnTo>
                <a:lnTo>
                  <a:pt x="29" y="65"/>
                </a:lnTo>
                <a:lnTo>
                  <a:pt x="0" y="58"/>
                </a:lnTo>
                <a:lnTo>
                  <a:pt x="27" y="49"/>
                </a:lnTo>
                <a:lnTo>
                  <a:pt x="29" y="49"/>
                </a:lnTo>
                <a:lnTo>
                  <a:pt x="15" y="19"/>
                </a:lnTo>
                <a:lnTo>
                  <a:pt x="37" y="36"/>
                </a:lnTo>
                <a:lnTo>
                  <a:pt x="37" y="39"/>
                </a:lnTo>
                <a:lnTo>
                  <a:pt x="44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39"/>
          <p:cNvSpPr/>
          <p:nvPr/>
        </p:nvSpPr>
        <p:spPr>
          <a:xfrm>
            <a:off x="2583000" y="303120"/>
            <a:ext cx="104760" cy="138240"/>
          </a:xfrm>
          <a:custGeom>
            <a:avLst/>
            <a:gdLst>
              <a:gd name="textAreaLeft" fmla="*/ 0 w 104760"/>
              <a:gd name="textAreaRight" fmla="*/ 105120 w 10476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66" h="87">
                <a:moveTo>
                  <a:pt x="34" y="0"/>
                </a:moveTo>
                <a:lnTo>
                  <a:pt x="39" y="29"/>
                </a:lnTo>
                <a:lnTo>
                  <a:pt x="56" y="13"/>
                </a:lnTo>
                <a:lnTo>
                  <a:pt x="46" y="39"/>
                </a:lnTo>
                <a:lnTo>
                  <a:pt x="66" y="45"/>
                </a:lnTo>
                <a:lnTo>
                  <a:pt x="46" y="52"/>
                </a:lnTo>
                <a:lnTo>
                  <a:pt x="56" y="74"/>
                </a:lnTo>
                <a:lnTo>
                  <a:pt x="39" y="61"/>
                </a:lnTo>
                <a:lnTo>
                  <a:pt x="34" y="87"/>
                </a:lnTo>
                <a:lnTo>
                  <a:pt x="29" y="61"/>
                </a:lnTo>
                <a:lnTo>
                  <a:pt x="10" y="74"/>
                </a:lnTo>
                <a:lnTo>
                  <a:pt x="22" y="52"/>
                </a:lnTo>
                <a:lnTo>
                  <a:pt x="0" y="45"/>
                </a:lnTo>
                <a:lnTo>
                  <a:pt x="22" y="39"/>
                </a:lnTo>
                <a:lnTo>
                  <a:pt x="10" y="13"/>
                </a:lnTo>
                <a:lnTo>
                  <a:pt x="29" y="29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40"/>
          <p:cNvSpPr/>
          <p:nvPr/>
        </p:nvSpPr>
        <p:spPr>
          <a:xfrm>
            <a:off x="3584520" y="1380960"/>
            <a:ext cx="378000" cy="498600"/>
          </a:xfrm>
          <a:custGeom>
            <a:avLst/>
            <a:gdLst>
              <a:gd name="textAreaLeft" fmla="*/ 0 w 378000"/>
              <a:gd name="textAreaRight" fmla="*/ 378360 w 3780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8" h="314">
                <a:moveTo>
                  <a:pt x="118" y="0"/>
                </a:moveTo>
                <a:lnTo>
                  <a:pt x="132" y="110"/>
                </a:lnTo>
                <a:lnTo>
                  <a:pt x="184" y="72"/>
                </a:lnTo>
                <a:lnTo>
                  <a:pt x="152" y="140"/>
                </a:lnTo>
                <a:lnTo>
                  <a:pt x="238" y="159"/>
                </a:lnTo>
                <a:lnTo>
                  <a:pt x="152" y="175"/>
                </a:lnTo>
                <a:lnTo>
                  <a:pt x="184" y="243"/>
                </a:lnTo>
                <a:lnTo>
                  <a:pt x="132" y="201"/>
                </a:lnTo>
                <a:lnTo>
                  <a:pt x="118" y="314"/>
                </a:lnTo>
                <a:lnTo>
                  <a:pt x="105" y="201"/>
                </a:lnTo>
                <a:lnTo>
                  <a:pt x="54" y="243"/>
                </a:lnTo>
                <a:lnTo>
                  <a:pt x="83" y="175"/>
                </a:lnTo>
                <a:lnTo>
                  <a:pt x="0" y="159"/>
                </a:lnTo>
                <a:lnTo>
                  <a:pt x="83" y="140"/>
                </a:lnTo>
                <a:lnTo>
                  <a:pt x="54" y="72"/>
                </a:lnTo>
                <a:lnTo>
                  <a:pt x="105" y="110"/>
                </a:lnTo>
                <a:lnTo>
                  <a:pt x="118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41"/>
          <p:cNvSpPr/>
          <p:nvPr/>
        </p:nvSpPr>
        <p:spPr>
          <a:xfrm>
            <a:off x="3603600" y="1413000"/>
            <a:ext cx="335160" cy="441360"/>
          </a:xfrm>
          <a:custGeom>
            <a:avLst/>
            <a:gdLst>
              <a:gd name="textAreaLeft" fmla="*/ 0 w 335160"/>
              <a:gd name="textAreaRight" fmla="*/ 335520 w 3351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1" h="278">
                <a:moveTo>
                  <a:pt x="106" y="0"/>
                </a:moveTo>
                <a:lnTo>
                  <a:pt x="118" y="90"/>
                </a:lnTo>
                <a:lnTo>
                  <a:pt x="120" y="97"/>
                </a:lnTo>
                <a:lnTo>
                  <a:pt x="167" y="58"/>
                </a:lnTo>
                <a:lnTo>
                  <a:pt x="164" y="58"/>
                </a:lnTo>
                <a:lnTo>
                  <a:pt x="137" y="120"/>
                </a:lnTo>
                <a:lnTo>
                  <a:pt x="140" y="120"/>
                </a:lnTo>
                <a:lnTo>
                  <a:pt x="208" y="136"/>
                </a:lnTo>
                <a:lnTo>
                  <a:pt x="211" y="139"/>
                </a:lnTo>
                <a:lnTo>
                  <a:pt x="142" y="152"/>
                </a:lnTo>
                <a:lnTo>
                  <a:pt x="137" y="155"/>
                </a:lnTo>
                <a:lnTo>
                  <a:pt x="167" y="217"/>
                </a:lnTo>
                <a:lnTo>
                  <a:pt x="164" y="213"/>
                </a:lnTo>
                <a:lnTo>
                  <a:pt x="120" y="178"/>
                </a:lnTo>
                <a:lnTo>
                  <a:pt x="120" y="181"/>
                </a:lnTo>
                <a:lnTo>
                  <a:pt x="108" y="272"/>
                </a:lnTo>
                <a:lnTo>
                  <a:pt x="106" y="278"/>
                </a:lnTo>
                <a:lnTo>
                  <a:pt x="93" y="184"/>
                </a:lnTo>
                <a:lnTo>
                  <a:pt x="93" y="178"/>
                </a:lnTo>
                <a:lnTo>
                  <a:pt x="47" y="217"/>
                </a:lnTo>
                <a:lnTo>
                  <a:pt x="47" y="213"/>
                </a:lnTo>
                <a:lnTo>
                  <a:pt x="76" y="155"/>
                </a:lnTo>
                <a:lnTo>
                  <a:pt x="74" y="155"/>
                </a:lnTo>
                <a:lnTo>
                  <a:pt x="3" y="139"/>
                </a:lnTo>
                <a:lnTo>
                  <a:pt x="0" y="139"/>
                </a:lnTo>
                <a:lnTo>
                  <a:pt x="71" y="120"/>
                </a:lnTo>
                <a:lnTo>
                  <a:pt x="76" y="120"/>
                </a:lnTo>
                <a:lnTo>
                  <a:pt x="47" y="58"/>
                </a:lnTo>
                <a:lnTo>
                  <a:pt x="93" y="97"/>
                </a:lnTo>
                <a:lnTo>
                  <a:pt x="93" y="94"/>
                </a:lnTo>
                <a:lnTo>
                  <a:pt x="106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42"/>
          <p:cNvSpPr/>
          <p:nvPr/>
        </p:nvSpPr>
        <p:spPr>
          <a:xfrm>
            <a:off x="3627360" y="1438200"/>
            <a:ext cx="292320" cy="385920"/>
          </a:xfrm>
          <a:custGeom>
            <a:avLst/>
            <a:gdLst>
              <a:gd name="textAreaLeft" fmla="*/ 0 w 292320"/>
              <a:gd name="textAreaRight" fmla="*/ 292680 w 2923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84" h="243">
                <a:moveTo>
                  <a:pt x="91" y="0"/>
                </a:moveTo>
                <a:lnTo>
                  <a:pt x="103" y="81"/>
                </a:lnTo>
                <a:lnTo>
                  <a:pt x="103" y="84"/>
                </a:lnTo>
                <a:lnTo>
                  <a:pt x="144" y="52"/>
                </a:lnTo>
                <a:lnTo>
                  <a:pt x="120" y="104"/>
                </a:lnTo>
                <a:lnTo>
                  <a:pt x="120" y="107"/>
                </a:lnTo>
                <a:lnTo>
                  <a:pt x="181" y="120"/>
                </a:lnTo>
                <a:lnTo>
                  <a:pt x="184" y="123"/>
                </a:lnTo>
                <a:lnTo>
                  <a:pt x="122" y="136"/>
                </a:lnTo>
                <a:lnTo>
                  <a:pt x="120" y="136"/>
                </a:lnTo>
                <a:lnTo>
                  <a:pt x="144" y="191"/>
                </a:lnTo>
                <a:lnTo>
                  <a:pt x="103" y="159"/>
                </a:lnTo>
                <a:lnTo>
                  <a:pt x="93" y="240"/>
                </a:lnTo>
                <a:lnTo>
                  <a:pt x="91" y="243"/>
                </a:lnTo>
                <a:lnTo>
                  <a:pt x="81" y="162"/>
                </a:lnTo>
                <a:lnTo>
                  <a:pt x="81" y="159"/>
                </a:lnTo>
                <a:lnTo>
                  <a:pt x="39" y="191"/>
                </a:lnTo>
                <a:lnTo>
                  <a:pt x="64" y="136"/>
                </a:lnTo>
                <a:lnTo>
                  <a:pt x="0" y="123"/>
                </a:lnTo>
                <a:lnTo>
                  <a:pt x="0" y="120"/>
                </a:lnTo>
                <a:lnTo>
                  <a:pt x="61" y="107"/>
                </a:lnTo>
                <a:lnTo>
                  <a:pt x="64" y="107"/>
                </a:lnTo>
                <a:lnTo>
                  <a:pt x="39" y="52"/>
                </a:lnTo>
                <a:lnTo>
                  <a:pt x="81" y="84"/>
                </a:lnTo>
                <a:lnTo>
                  <a:pt x="91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143"/>
          <p:cNvSpPr/>
          <p:nvPr/>
        </p:nvSpPr>
        <p:spPr>
          <a:xfrm>
            <a:off x="3646440" y="1463760"/>
            <a:ext cx="252360" cy="334800"/>
          </a:xfrm>
          <a:custGeom>
            <a:avLst/>
            <a:gdLst>
              <a:gd name="textAreaLeft" fmla="*/ 0 w 252360"/>
              <a:gd name="textAreaRight" fmla="*/ 252720 w 25236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159" h="211">
                <a:moveTo>
                  <a:pt x="81" y="0"/>
                </a:moveTo>
                <a:lnTo>
                  <a:pt x="91" y="68"/>
                </a:lnTo>
                <a:lnTo>
                  <a:pt x="91" y="71"/>
                </a:lnTo>
                <a:lnTo>
                  <a:pt x="128" y="42"/>
                </a:lnTo>
                <a:lnTo>
                  <a:pt x="106" y="91"/>
                </a:lnTo>
                <a:lnTo>
                  <a:pt x="157" y="104"/>
                </a:lnTo>
                <a:lnTo>
                  <a:pt x="159" y="104"/>
                </a:lnTo>
                <a:lnTo>
                  <a:pt x="108" y="117"/>
                </a:lnTo>
                <a:lnTo>
                  <a:pt x="106" y="120"/>
                </a:lnTo>
                <a:lnTo>
                  <a:pt x="128" y="165"/>
                </a:lnTo>
                <a:lnTo>
                  <a:pt x="128" y="169"/>
                </a:lnTo>
                <a:lnTo>
                  <a:pt x="91" y="139"/>
                </a:lnTo>
                <a:lnTo>
                  <a:pt x="81" y="207"/>
                </a:lnTo>
                <a:lnTo>
                  <a:pt x="81" y="211"/>
                </a:lnTo>
                <a:lnTo>
                  <a:pt x="71" y="143"/>
                </a:lnTo>
                <a:lnTo>
                  <a:pt x="69" y="139"/>
                </a:lnTo>
                <a:lnTo>
                  <a:pt x="32" y="169"/>
                </a:lnTo>
                <a:lnTo>
                  <a:pt x="54" y="120"/>
                </a:lnTo>
                <a:lnTo>
                  <a:pt x="3" y="107"/>
                </a:lnTo>
                <a:lnTo>
                  <a:pt x="0" y="104"/>
                </a:lnTo>
                <a:lnTo>
                  <a:pt x="52" y="91"/>
                </a:lnTo>
                <a:lnTo>
                  <a:pt x="54" y="91"/>
                </a:lnTo>
                <a:lnTo>
                  <a:pt x="32" y="42"/>
                </a:lnTo>
                <a:lnTo>
                  <a:pt x="69" y="71"/>
                </a:lnTo>
                <a:lnTo>
                  <a:pt x="81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144"/>
          <p:cNvSpPr/>
          <p:nvPr/>
        </p:nvSpPr>
        <p:spPr>
          <a:xfrm>
            <a:off x="3666960" y="1488960"/>
            <a:ext cx="212760" cy="282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34" h="178">
                <a:moveTo>
                  <a:pt x="68" y="0"/>
                </a:moveTo>
                <a:lnTo>
                  <a:pt x="75" y="59"/>
                </a:lnTo>
                <a:lnTo>
                  <a:pt x="75" y="62"/>
                </a:lnTo>
                <a:lnTo>
                  <a:pt x="107" y="36"/>
                </a:lnTo>
                <a:lnTo>
                  <a:pt x="90" y="75"/>
                </a:lnTo>
                <a:lnTo>
                  <a:pt x="90" y="78"/>
                </a:lnTo>
                <a:lnTo>
                  <a:pt x="132" y="88"/>
                </a:lnTo>
                <a:lnTo>
                  <a:pt x="134" y="88"/>
                </a:lnTo>
                <a:lnTo>
                  <a:pt x="90" y="101"/>
                </a:lnTo>
                <a:lnTo>
                  <a:pt x="88" y="101"/>
                </a:lnTo>
                <a:lnTo>
                  <a:pt x="107" y="143"/>
                </a:lnTo>
                <a:lnTo>
                  <a:pt x="78" y="120"/>
                </a:lnTo>
                <a:lnTo>
                  <a:pt x="75" y="117"/>
                </a:lnTo>
                <a:lnTo>
                  <a:pt x="68" y="175"/>
                </a:lnTo>
                <a:lnTo>
                  <a:pt x="68" y="178"/>
                </a:lnTo>
                <a:lnTo>
                  <a:pt x="58" y="120"/>
                </a:lnTo>
                <a:lnTo>
                  <a:pt x="58" y="117"/>
                </a:lnTo>
                <a:lnTo>
                  <a:pt x="26" y="143"/>
                </a:lnTo>
                <a:lnTo>
                  <a:pt x="44" y="104"/>
                </a:lnTo>
                <a:lnTo>
                  <a:pt x="46" y="101"/>
                </a:lnTo>
                <a:lnTo>
                  <a:pt x="2" y="88"/>
                </a:lnTo>
                <a:lnTo>
                  <a:pt x="0" y="88"/>
                </a:lnTo>
                <a:lnTo>
                  <a:pt x="44" y="78"/>
                </a:lnTo>
                <a:lnTo>
                  <a:pt x="46" y="78"/>
                </a:lnTo>
                <a:lnTo>
                  <a:pt x="26" y="36"/>
                </a:lnTo>
                <a:lnTo>
                  <a:pt x="56" y="59"/>
                </a:lnTo>
                <a:lnTo>
                  <a:pt x="58" y="59"/>
                </a:lnTo>
                <a:lnTo>
                  <a:pt x="68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145"/>
          <p:cNvSpPr/>
          <p:nvPr/>
        </p:nvSpPr>
        <p:spPr>
          <a:xfrm>
            <a:off x="3689280" y="1515960"/>
            <a:ext cx="171360" cy="225360"/>
          </a:xfrm>
          <a:custGeom>
            <a:avLst/>
            <a:gdLst>
              <a:gd name="textAreaLeft" fmla="*/ 0 w 171360"/>
              <a:gd name="textAreaRight" fmla="*/ 171720 w 1713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08" h="142">
                <a:moveTo>
                  <a:pt x="54" y="0"/>
                </a:moveTo>
                <a:lnTo>
                  <a:pt x="61" y="45"/>
                </a:lnTo>
                <a:lnTo>
                  <a:pt x="61" y="48"/>
                </a:lnTo>
                <a:lnTo>
                  <a:pt x="88" y="25"/>
                </a:lnTo>
                <a:lnTo>
                  <a:pt x="74" y="61"/>
                </a:lnTo>
                <a:lnTo>
                  <a:pt x="71" y="61"/>
                </a:lnTo>
                <a:lnTo>
                  <a:pt x="105" y="71"/>
                </a:lnTo>
                <a:lnTo>
                  <a:pt x="108" y="71"/>
                </a:lnTo>
                <a:lnTo>
                  <a:pt x="74" y="81"/>
                </a:lnTo>
                <a:lnTo>
                  <a:pt x="71" y="84"/>
                </a:lnTo>
                <a:lnTo>
                  <a:pt x="88" y="116"/>
                </a:lnTo>
                <a:lnTo>
                  <a:pt x="88" y="119"/>
                </a:lnTo>
                <a:lnTo>
                  <a:pt x="61" y="97"/>
                </a:lnTo>
                <a:lnTo>
                  <a:pt x="54" y="142"/>
                </a:lnTo>
                <a:lnTo>
                  <a:pt x="47" y="97"/>
                </a:lnTo>
                <a:lnTo>
                  <a:pt x="44" y="97"/>
                </a:lnTo>
                <a:lnTo>
                  <a:pt x="20" y="116"/>
                </a:lnTo>
                <a:lnTo>
                  <a:pt x="17" y="119"/>
                </a:lnTo>
                <a:lnTo>
                  <a:pt x="35" y="84"/>
                </a:lnTo>
                <a:lnTo>
                  <a:pt x="35" y="81"/>
                </a:lnTo>
                <a:lnTo>
                  <a:pt x="0" y="71"/>
                </a:lnTo>
                <a:lnTo>
                  <a:pt x="35" y="61"/>
                </a:lnTo>
                <a:lnTo>
                  <a:pt x="17" y="25"/>
                </a:lnTo>
                <a:lnTo>
                  <a:pt x="44" y="45"/>
                </a:lnTo>
                <a:lnTo>
                  <a:pt x="47" y="48"/>
                </a:lnTo>
                <a:lnTo>
                  <a:pt x="54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46"/>
          <p:cNvSpPr/>
          <p:nvPr/>
        </p:nvSpPr>
        <p:spPr>
          <a:xfrm>
            <a:off x="3708360" y="1546200"/>
            <a:ext cx="133560" cy="169920"/>
          </a:xfrm>
          <a:custGeom>
            <a:avLst/>
            <a:gdLst>
              <a:gd name="textAreaLeft" fmla="*/ 0 w 133560"/>
              <a:gd name="textAreaRight" fmla="*/ 133920 w 133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4" h="107">
                <a:moveTo>
                  <a:pt x="42" y="0"/>
                </a:moveTo>
                <a:lnTo>
                  <a:pt x="47" y="32"/>
                </a:lnTo>
                <a:lnTo>
                  <a:pt x="71" y="13"/>
                </a:lnTo>
                <a:lnTo>
                  <a:pt x="57" y="45"/>
                </a:lnTo>
                <a:lnTo>
                  <a:pt x="84" y="52"/>
                </a:lnTo>
                <a:lnTo>
                  <a:pt x="57" y="62"/>
                </a:lnTo>
                <a:lnTo>
                  <a:pt x="71" y="91"/>
                </a:lnTo>
                <a:lnTo>
                  <a:pt x="47" y="74"/>
                </a:lnTo>
                <a:lnTo>
                  <a:pt x="42" y="107"/>
                </a:lnTo>
                <a:lnTo>
                  <a:pt x="35" y="74"/>
                </a:lnTo>
                <a:lnTo>
                  <a:pt x="13" y="91"/>
                </a:lnTo>
                <a:lnTo>
                  <a:pt x="25" y="62"/>
                </a:lnTo>
                <a:lnTo>
                  <a:pt x="0" y="52"/>
                </a:lnTo>
                <a:lnTo>
                  <a:pt x="25" y="45"/>
                </a:lnTo>
                <a:lnTo>
                  <a:pt x="13" y="13"/>
                </a:lnTo>
                <a:lnTo>
                  <a:pt x="35" y="32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7"/>
          <p:cNvSpPr/>
          <p:nvPr/>
        </p:nvSpPr>
        <p:spPr>
          <a:xfrm>
            <a:off x="5321160" y="123840"/>
            <a:ext cx="362160" cy="477720"/>
          </a:xfrm>
          <a:custGeom>
            <a:avLst/>
            <a:gdLst>
              <a:gd name="textAreaLeft" fmla="*/ 0 w 362160"/>
              <a:gd name="textAreaRight" fmla="*/ 362520 w 36216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228" h="301">
                <a:moveTo>
                  <a:pt x="113" y="0"/>
                </a:moveTo>
                <a:lnTo>
                  <a:pt x="127" y="106"/>
                </a:lnTo>
                <a:lnTo>
                  <a:pt x="176" y="68"/>
                </a:lnTo>
                <a:lnTo>
                  <a:pt x="147" y="132"/>
                </a:lnTo>
                <a:lnTo>
                  <a:pt x="228" y="152"/>
                </a:lnTo>
                <a:lnTo>
                  <a:pt x="147" y="168"/>
                </a:lnTo>
                <a:lnTo>
                  <a:pt x="176" y="233"/>
                </a:lnTo>
                <a:lnTo>
                  <a:pt x="127" y="194"/>
                </a:lnTo>
                <a:lnTo>
                  <a:pt x="113" y="301"/>
                </a:lnTo>
                <a:lnTo>
                  <a:pt x="100" y="194"/>
                </a:lnTo>
                <a:lnTo>
                  <a:pt x="51" y="233"/>
                </a:lnTo>
                <a:lnTo>
                  <a:pt x="81" y="168"/>
                </a:lnTo>
                <a:lnTo>
                  <a:pt x="0" y="152"/>
                </a:lnTo>
                <a:lnTo>
                  <a:pt x="81" y="132"/>
                </a:lnTo>
                <a:lnTo>
                  <a:pt x="51" y="68"/>
                </a:lnTo>
                <a:lnTo>
                  <a:pt x="100" y="106"/>
                </a:lnTo>
                <a:lnTo>
                  <a:pt x="113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148"/>
          <p:cNvSpPr/>
          <p:nvPr/>
        </p:nvSpPr>
        <p:spPr>
          <a:xfrm>
            <a:off x="5340240" y="149400"/>
            <a:ext cx="322200" cy="425160"/>
          </a:xfrm>
          <a:custGeom>
            <a:avLst/>
            <a:gdLst>
              <a:gd name="textAreaLeft" fmla="*/ 0 w 322200"/>
              <a:gd name="textAreaRight" fmla="*/ 322560 w 3222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03" h="268">
                <a:moveTo>
                  <a:pt x="101" y="0"/>
                </a:moveTo>
                <a:lnTo>
                  <a:pt x="113" y="90"/>
                </a:lnTo>
                <a:lnTo>
                  <a:pt x="113" y="94"/>
                </a:lnTo>
                <a:lnTo>
                  <a:pt x="159" y="58"/>
                </a:lnTo>
                <a:lnTo>
                  <a:pt x="132" y="116"/>
                </a:lnTo>
                <a:lnTo>
                  <a:pt x="201" y="133"/>
                </a:lnTo>
                <a:lnTo>
                  <a:pt x="203" y="136"/>
                </a:lnTo>
                <a:lnTo>
                  <a:pt x="135" y="149"/>
                </a:lnTo>
                <a:lnTo>
                  <a:pt x="132" y="152"/>
                </a:lnTo>
                <a:lnTo>
                  <a:pt x="159" y="210"/>
                </a:lnTo>
                <a:lnTo>
                  <a:pt x="157" y="210"/>
                </a:lnTo>
                <a:lnTo>
                  <a:pt x="115" y="175"/>
                </a:lnTo>
                <a:lnTo>
                  <a:pt x="113" y="175"/>
                </a:lnTo>
                <a:lnTo>
                  <a:pt x="103" y="265"/>
                </a:lnTo>
                <a:lnTo>
                  <a:pt x="101" y="268"/>
                </a:lnTo>
                <a:lnTo>
                  <a:pt x="91" y="178"/>
                </a:lnTo>
                <a:lnTo>
                  <a:pt x="88" y="175"/>
                </a:lnTo>
                <a:lnTo>
                  <a:pt x="44" y="210"/>
                </a:lnTo>
                <a:lnTo>
                  <a:pt x="71" y="152"/>
                </a:lnTo>
                <a:lnTo>
                  <a:pt x="71" y="149"/>
                </a:lnTo>
                <a:lnTo>
                  <a:pt x="3" y="136"/>
                </a:lnTo>
                <a:lnTo>
                  <a:pt x="0" y="136"/>
                </a:lnTo>
                <a:lnTo>
                  <a:pt x="69" y="120"/>
                </a:lnTo>
                <a:lnTo>
                  <a:pt x="71" y="116"/>
                </a:lnTo>
                <a:lnTo>
                  <a:pt x="44" y="58"/>
                </a:lnTo>
                <a:lnTo>
                  <a:pt x="88" y="94"/>
                </a:lnTo>
                <a:lnTo>
                  <a:pt x="101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149"/>
          <p:cNvSpPr/>
          <p:nvPr/>
        </p:nvSpPr>
        <p:spPr>
          <a:xfrm>
            <a:off x="5361120" y="174600"/>
            <a:ext cx="282600" cy="374760"/>
          </a:xfrm>
          <a:custGeom>
            <a:avLst/>
            <a:gdLst>
              <a:gd name="textAreaLeft" fmla="*/ 0 w 282600"/>
              <a:gd name="textAreaRight" fmla="*/ 282960 w 2826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78" h="236">
                <a:moveTo>
                  <a:pt x="88" y="0"/>
                </a:moveTo>
                <a:lnTo>
                  <a:pt x="100" y="78"/>
                </a:lnTo>
                <a:lnTo>
                  <a:pt x="100" y="81"/>
                </a:lnTo>
                <a:lnTo>
                  <a:pt x="139" y="52"/>
                </a:lnTo>
                <a:lnTo>
                  <a:pt x="117" y="104"/>
                </a:lnTo>
                <a:lnTo>
                  <a:pt x="176" y="117"/>
                </a:lnTo>
                <a:lnTo>
                  <a:pt x="178" y="120"/>
                </a:lnTo>
                <a:lnTo>
                  <a:pt x="119" y="133"/>
                </a:lnTo>
                <a:lnTo>
                  <a:pt x="115" y="133"/>
                </a:lnTo>
                <a:lnTo>
                  <a:pt x="139" y="184"/>
                </a:lnTo>
                <a:lnTo>
                  <a:pt x="100" y="155"/>
                </a:lnTo>
                <a:lnTo>
                  <a:pt x="90" y="233"/>
                </a:lnTo>
                <a:lnTo>
                  <a:pt x="88" y="236"/>
                </a:lnTo>
                <a:lnTo>
                  <a:pt x="78" y="159"/>
                </a:lnTo>
                <a:lnTo>
                  <a:pt x="78" y="152"/>
                </a:lnTo>
                <a:lnTo>
                  <a:pt x="39" y="184"/>
                </a:lnTo>
                <a:lnTo>
                  <a:pt x="61" y="133"/>
                </a:lnTo>
                <a:lnTo>
                  <a:pt x="2" y="120"/>
                </a:lnTo>
                <a:lnTo>
                  <a:pt x="0" y="120"/>
                </a:lnTo>
                <a:lnTo>
                  <a:pt x="58" y="104"/>
                </a:lnTo>
                <a:lnTo>
                  <a:pt x="63" y="104"/>
                </a:lnTo>
                <a:lnTo>
                  <a:pt x="39" y="52"/>
                </a:lnTo>
                <a:lnTo>
                  <a:pt x="78" y="81"/>
                </a:lnTo>
                <a:lnTo>
                  <a:pt x="88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50"/>
          <p:cNvSpPr/>
          <p:nvPr/>
        </p:nvSpPr>
        <p:spPr>
          <a:xfrm>
            <a:off x="5380200" y="200160"/>
            <a:ext cx="244440" cy="32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54" h="204">
                <a:moveTo>
                  <a:pt x="78" y="0"/>
                </a:moveTo>
                <a:lnTo>
                  <a:pt x="85" y="68"/>
                </a:lnTo>
                <a:lnTo>
                  <a:pt x="88" y="71"/>
                </a:lnTo>
                <a:lnTo>
                  <a:pt x="122" y="42"/>
                </a:lnTo>
                <a:lnTo>
                  <a:pt x="100" y="88"/>
                </a:lnTo>
                <a:lnTo>
                  <a:pt x="103" y="88"/>
                </a:lnTo>
                <a:lnTo>
                  <a:pt x="151" y="101"/>
                </a:lnTo>
                <a:lnTo>
                  <a:pt x="154" y="104"/>
                </a:lnTo>
                <a:lnTo>
                  <a:pt x="103" y="113"/>
                </a:lnTo>
                <a:lnTo>
                  <a:pt x="100" y="117"/>
                </a:lnTo>
                <a:lnTo>
                  <a:pt x="122" y="162"/>
                </a:lnTo>
                <a:lnTo>
                  <a:pt x="88" y="133"/>
                </a:lnTo>
                <a:lnTo>
                  <a:pt x="78" y="201"/>
                </a:lnTo>
                <a:lnTo>
                  <a:pt x="78" y="204"/>
                </a:lnTo>
                <a:lnTo>
                  <a:pt x="68" y="136"/>
                </a:lnTo>
                <a:lnTo>
                  <a:pt x="66" y="133"/>
                </a:lnTo>
                <a:lnTo>
                  <a:pt x="32" y="162"/>
                </a:lnTo>
                <a:lnTo>
                  <a:pt x="54" y="117"/>
                </a:lnTo>
                <a:lnTo>
                  <a:pt x="54" y="113"/>
                </a:lnTo>
                <a:lnTo>
                  <a:pt x="2" y="104"/>
                </a:lnTo>
                <a:lnTo>
                  <a:pt x="0" y="101"/>
                </a:lnTo>
                <a:lnTo>
                  <a:pt x="51" y="91"/>
                </a:lnTo>
                <a:lnTo>
                  <a:pt x="54" y="88"/>
                </a:lnTo>
                <a:lnTo>
                  <a:pt x="32" y="42"/>
                </a:lnTo>
                <a:lnTo>
                  <a:pt x="66" y="71"/>
                </a:lnTo>
                <a:lnTo>
                  <a:pt x="68" y="68"/>
                </a:lnTo>
                <a:lnTo>
                  <a:pt x="78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1"/>
          <p:cNvSpPr/>
          <p:nvPr/>
        </p:nvSpPr>
        <p:spPr>
          <a:xfrm>
            <a:off x="5398920" y="225360"/>
            <a:ext cx="206640" cy="273240"/>
          </a:xfrm>
          <a:custGeom>
            <a:avLst/>
            <a:gdLst>
              <a:gd name="textAreaLeft" fmla="*/ 0 w 206640"/>
              <a:gd name="textAreaRight" fmla="*/ 207000 w 206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30" h="172">
                <a:moveTo>
                  <a:pt x="66" y="0"/>
                </a:moveTo>
                <a:lnTo>
                  <a:pt x="73" y="55"/>
                </a:lnTo>
                <a:lnTo>
                  <a:pt x="73" y="59"/>
                </a:lnTo>
                <a:lnTo>
                  <a:pt x="103" y="33"/>
                </a:lnTo>
                <a:lnTo>
                  <a:pt x="105" y="33"/>
                </a:lnTo>
                <a:lnTo>
                  <a:pt x="86" y="72"/>
                </a:lnTo>
                <a:lnTo>
                  <a:pt x="86" y="75"/>
                </a:lnTo>
                <a:lnTo>
                  <a:pt x="127" y="85"/>
                </a:lnTo>
                <a:lnTo>
                  <a:pt x="130" y="85"/>
                </a:lnTo>
                <a:lnTo>
                  <a:pt x="88" y="97"/>
                </a:lnTo>
                <a:lnTo>
                  <a:pt x="86" y="97"/>
                </a:lnTo>
                <a:lnTo>
                  <a:pt x="105" y="136"/>
                </a:lnTo>
                <a:lnTo>
                  <a:pt x="76" y="114"/>
                </a:lnTo>
                <a:lnTo>
                  <a:pt x="73" y="114"/>
                </a:lnTo>
                <a:lnTo>
                  <a:pt x="66" y="169"/>
                </a:lnTo>
                <a:lnTo>
                  <a:pt x="66" y="172"/>
                </a:lnTo>
                <a:lnTo>
                  <a:pt x="56" y="117"/>
                </a:lnTo>
                <a:lnTo>
                  <a:pt x="56" y="114"/>
                </a:lnTo>
                <a:lnTo>
                  <a:pt x="27" y="136"/>
                </a:lnTo>
                <a:lnTo>
                  <a:pt x="44" y="97"/>
                </a:lnTo>
                <a:lnTo>
                  <a:pt x="2" y="88"/>
                </a:lnTo>
                <a:lnTo>
                  <a:pt x="0" y="85"/>
                </a:lnTo>
                <a:lnTo>
                  <a:pt x="42" y="75"/>
                </a:lnTo>
                <a:lnTo>
                  <a:pt x="44" y="75"/>
                </a:lnTo>
                <a:lnTo>
                  <a:pt x="27" y="33"/>
                </a:lnTo>
                <a:lnTo>
                  <a:pt x="24" y="33"/>
                </a:lnTo>
                <a:lnTo>
                  <a:pt x="56" y="59"/>
                </a:lnTo>
                <a:lnTo>
                  <a:pt x="66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52"/>
          <p:cNvSpPr/>
          <p:nvPr/>
        </p:nvSpPr>
        <p:spPr>
          <a:xfrm>
            <a:off x="5423040" y="252360"/>
            <a:ext cx="161640" cy="220680"/>
          </a:xfrm>
          <a:custGeom>
            <a:avLst/>
            <a:gdLst>
              <a:gd name="textAreaLeft" fmla="*/ 0 w 161640"/>
              <a:gd name="textAreaRight" fmla="*/ 162000 w 1616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51" y="0"/>
                </a:moveTo>
                <a:lnTo>
                  <a:pt x="58" y="45"/>
                </a:lnTo>
                <a:lnTo>
                  <a:pt x="83" y="25"/>
                </a:lnTo>
                <a:lnTo>
                  <a:pt x="68" y="58"/>
                </a:lnTo>
                <a:lnTo>
                  <a:pt x="102" y="68"/>
                </a:lnTo>
                <a:lnTo>
                  <a:pt x="68" y="77"/>
                </a:lnTo>
                <a:lnTo>
                  <a:pt x="83" y="113"/>
                </a:lnTo>
                <a:lnTo>
                  <a:pt x="58" y="93"/>
                </a:lnTo>
                <a:lnTo>
                  <a:pt x="51" y="135"/>
                </a:lnTo>
                <a:lnTo>
                  <a:pt x="51" y="139"/>
                </a:lnTo>
                <a:lnTo>
                  <a:pt x="44" y="93"/>
                </a:lnTo>
                <a:lnTo>
                  <a:pt x="17" y="113"/>
                </a:lnTo>
                <a:lnTo>
                  <a:pt x="31" y="80"/>
                </a:lnTo>
                <a:lnTo>
                  <a:pt x="31" y="77"/>
                </a:lnTo>
                <a:lnTo>
                  <a:pt x="0" y="68"/>
                </a:lnTo>
                <a:lnTo>
                  <a:pt x="31" y="58"/>
                </a:lnTo>
                <a:lnTo>
                  <a:pt x="17" y="25"/>
                </a:lnTo>
                <a:lnTo>
                  <a:pt x="41" y="45"/>
                </a:lnTo>
                <a:lnTo>
                  <a:pt x="44" y="45"/>
                </a:lnTo>
                <a:lnTo>
                  <a:pt x="51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53"/>
          <p:cNvSpPr/>
          <p:nvPr/>
        </p:nvSpPr>
        <p:spPr>
          <a:xfrm>
            <a:off x="5442120" y="277920"/>
            <a:ext cx="123480" cy="163440"/>
          </a:xfrm>
          <a:custGeom>
            <a:avLst/>
            <a:gdLst>
              <a:gd name="textAreaLeft" fmla="*/ 0 w 123480"/>
              <a:gd name="textAreaRight" fmla="*/ 123840 w 1234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78" h="103">
                <a:moveTo>
                  <a:pt x="39" y="0"/>
                </a:moveTo>
                <a:lnTo>
                  <a:pt x="44" y="32"/>
                </a:lnTo>
                <a:lnTo>
                  <a:pt x="66" y="16"/>
                </a:lnTo>
                <a:lnTo>
                  <a:pt x="54" y="45"/>
                </a:lnTo>
                <a:lnTo>
                  <a:pt x="78" y="52"/>
                </a:lnTo>
                <a:lnTo>
                  <a:pt x="54" y="61"/>
                </a:lnTo>
                <a:lnTo>
                  <a:pt x="66" y="90"/>
                </a:lnTo>
                <a:lnTo>
                  <a:pt x="44" y="71"/>
                </a:lnTo>
                <a:lnTo>
                  <a:pt x="39" y="103"/>
                </a:lnTo>
                <a:lnTo>
                  <a:pt x="32" y="71"/>
                </a:lnTo>
                <a:lnTo>
                  <a:pt x="10" y="90"/>
                </a:lnTo>
                <a:lnTo>
                  <a:pt x="24" y="61"/>
                </a:lnTo>
                <a:lnTo>
                  <a:pt x="0" y="52"/>
                </a:lnTo>
                <a:lnTo>
                  <a:pt x="24" y="45"/>
                </a:lnTo>
                <a:lnTo>
                  <a:pt x="10" y="16"/>
                </a:lnTo>
                <a:lnTo>
                  <a:pt x="32" y="32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154"/>
          <p:cNvSpPr/>
          <p:nvPr/>
        </p:nvSpPr>
        <p:spPr>
          <a:xfrm>
            <a:off x="5632560" y="1042920"/>
            <a:ext cx="303120" cy="395280"/>
          </a:xfrm>
          <a:custGeom>
            <a:avLst/>
            <a:gdLst>
              <a:gd name="textAreaLeft" fmla="*/ 0 w 303120"/>
              <a:gd name="textAreaRight" fmla="*/ 303480 w 3031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91" h="249">
                <a:moveTo>
                  <a:pt x="95" y="0"/>
                </a:moveTo>
                <a:lnTo>
                  <a:pt x="107" y="91"/>
                </a:lnTo>
                <a:lnTo>
                  <a:pt x="147" y="55"/>
                </a:lnTo>
                <a:lnTo>
                  <a:pt x="122" y="110"/>
                </a:lnTo>
                <a:lnTo>
                  <a:pt x="191" y="126"/>
                </a:lnTo>
                <a:lnTo>
                  <a:pt x="122" y="139"/>
                </a:lnTo>
                <a:lnTo>
                  <a:pt x="147" y="194"/>
                </a:lnTo>
                <a:lnTo>
                  <a:pt x="107" y="162"/>
                </a:lnTo>
                <a:lnTo>
                  <a:pt x="95" y="249"/>
                </a:lnTo>
                <a:lnTo>
                  <a:pt x="83" y="162"/>
                </a:lnTo>
                <a:lnTo>
                  <a:pt x="44" y="194"/>
                </a:lnTo>
                <a:lnTo>
                  <a:pt x="68" y="139"/>
                </a:lnTo>
                <a:lnTo>
                  <a:pt x="0" y="126"/>
                </a:lnTo>
                <a:lnTo>
                  <a:pt x="68" y="110"/>
                </a:lnTo>
                <a:lnTo>
                  <a:pt x="44" y="55"/>
                </a:lnTo>
                <a:lnTo>
                  <a:pt x="83" y="91"/>
                </a:lnTo>
                <a:lnTo>
                  <a:pt x="95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155"/>
          <p:cNvSpPr/>
          <p:nvPr/>
        </p:nvSpPr>
        <p:spPr>
          <a:xfrm>
            <a:off x="5651640" y="1063800"/>
            <a:ext cx="263520" cy="35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66" h="223">
                <a:moveTo>
                  <a:pt x="83" y="0"/>
                </a:moveTo>
                <a:lnTo>
                  <a:pt x="93" y="74"/>
                </a:lnTo>
                <a:lnTo>
                  <a:pt x="93" y="81"/>
                </a:lnTo>
                <a:lnTo>
                  <a:pt x="130" y="48"/>
                </a:lnTo>
                <a:lnTo>
                  <a:pt x="130" y="52"/>
                </a:lnTo>
                <a:lnTo>
                  <a:pt x="108" y="97"/>
                </a:lnTo>
                <a:lnTo>
                  <a:pt x="110" y="100"/>
                </a:lnTo>
                <a:lnTo>
                  <a:pt x="164" y="113"/>
                </a:lnTo>
                <a:lnTo>
                  <a:pt x="166" y="113"/>
                </a:lnTo>
                <a:lnTo>
                  <a:pt x="113" y="126"/>
                </a:lnTo>
                <a:lnTo>
                  <a:pt x="108" y="126"/>
                </a:lnTo>
                <a:lnTo>
                  <a:pt x="130" y="175"/>
                </a:lnTo>
                <a:lnTo>
                  <a:pt x="93" y="145"/>
                </a:lnTo>
                <a:lnTo>
                  <a:pt x="83" y="220"/>
                </a:lnTo>
                <a:lnTo>
                  <a:pt x="83" y="223"/>
                </a:lnTo>
                <a:lnTo>
                  <a:pt x="73" y="149"/>
                </a:lnTo>
                <a:lnTo>
                  <a:pt x="73" y="145"/>
                </a:lnTo>
                <a:lnTo>
                  <a:pt x="37" y="175"/>
                </a:lnTo>
                <a:lnTo>
                  <a:pt x="59" y="126"/>
                </a:lnTo>
                <a:lnTo>
                  <a:pt x="56" y="126"/>
                </a:lnTo>
                <a:lnTo>
                  <a:pt x="0" y="113"/>
                </a:lnTo>
                <a:lnTo>
                  <a:pt x="54" y="100"/>
                </a:lnTo>
                <a:lnTo>
                  <a:pt x="59" y="97"/>
                </a:lnTo>
                <a:lnTo>
                  <a:pt x="37" y="48"/>
                </a:lnTo>
                <a:lnTo>
                  <a:pt x="73" y="78"/>
                </a:lnTo>
                <a:lnTo>
                  <a:pt x="83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56"/>
          <p:cNvSpPr/>
          <p:nvPr/>
        </p:nvSpPr>
        <p:spPr>
          <a:xfrm>
            <a:off x="5667480" y="1089000"/>
            <a:ext cx="233280" cy="308160"/>
          </a:xfrm>
          <a:custGeom>
            <a:avLst/>
            <a:gdLst>
              <a:gd name="textAreaLeft" fmla="*/ 0 w 233280"/>
              <a:gd name="textAreaRight" fmla="*/ 233640 w 2332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47" h="194">
                <a:moveTo>
                  <a:pt x="73" y="0"/>
                </a:moveTo>
                <a:lnTo>
                  <a:pt x="83" y="65"/>
                </a:lnTo>
                <a:lnTo>
                  <a:pt x="83" y="68"/>
                </a:lnTo>
                <a:lnTo>
                  <a:pt x="115" y="39"/>
                </a:lnTo>
                <a:lnTo>
                  <a:pt x="95" y="84"/>
                </a:lnTo>
                <a:lnTo>
                  <a:pt x="147" y="97"/>
                </a:lnTo>
                <a:lnTo>
                  <a:pt x="98" y="107"/>
                </a:lnTo>
                <a:lnTo>
                  <a:pt x="95" y="107"/>
                </a:lnTo>
                <a:lnTo>
                  <a:pt x="115" y="152"/>
                </a:lnTo>
                <a:lnTo>
                  <a:pt x="83" y="126"/>
                </a:lnTo>
                <a:lnTo>
                  <a:pt x="73" y="191"/>
                </a:lnTo>
                <a:lnTo>
                  <a:pt x="73" y="194"/>
                </a:lnTo>
                <a:lnTo>
                  <a:pt x="63" y="129"/>
                </a:lnTo>
                <a:lnTo>
                  <a:pt x="63" y="126"/>
                </a:lnTo>
                <a:lnTo>
                  <a:pt x="32" y="152"/>
                </a:lnTo>
                <a:lnTo>
                  <a:pt x="51" y="110"/>
                </a:lnTo>
                <a:lnTo>
                  <a:pt x="51" y="107"/>
                </a:lnTo>
                <a:lnTo>
                  <a:pt x="0" y="97"/>
                </a:lnTo>
                <a:lnTo>
                  <a:pt x="49" y="84"/>
                </a:lnTo>
                <a:lnTo>
                  <a:pt x="51" y="84"/>
                </a:lnTo>
                <a:lnTo>
                  <a:pt x="32" y="39"/>
                </a:lnTo>
                <a:lnTo>
                  <a:pt x="63" y="65"/>
                </a:lnTo>
                <a:lnTo>
                  <a:pt x="73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57"/>
          <p:cNvSpPr/>
          <p:nvPr/>
        </p:nvSpPr>
        <p:spPr>
          <a:xfrm>
            <a:off x="5683320" y="1109520"/>
            <a:ext cx="201600" cy="266760"/>
          </a:xfrm>
          <a:custGeom>
            <a:avLst/>
            <a:gdLst>
              <a:gd name="textAreaLeft" fmla="*/ 0 w 201600"/>
              <a:gd name="textAreaRight" fmla="*/ 201960 w 201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7" h="168">
                <a:moveTo>
                  <a:pt x="63" y="0"/>
                </a:moveTo>
                <a:lnTo>
                  <a:pt x="71" y="55"/>
                </a:lnTo>
                <a:lnTo>
                  <a:pt x="71" y="58"/>
                </a:lnTo>
                <a:lnTo>
                  <a:pt x="100" y="32"/>
                </a:lnTo>
                <a:lnTo>
                  <a:pt x="83" y="71"/>
                </a:lnTo>
                <a:lnTo>
                  <a:pt x="127" y="84"/>
                </a:lnTo>
                <a:lnTo>
                  <a:pt x="85" y="94"/>
                </a:lnTo>
                <a:lnTo>
                  <a:pt x="83" y="94"/>
                </a:lnTo>
                <a:lnTo>
                  <a:pt x="100" y="133"/>
                </a:lnTo>
                <a:lnTo>
                  <a:pt x="73" y="110"/>
                </a:lnTo>
                <a:lnTo>
                  <a:pt x="71" y="110"/>
                </a:lnTo>
                <a:lnTo>
                  <a:pt x="63" y="165"/>
                </a:lnTo>
                <a:lnTo>
                  <a:pt x="63" y="168"/>
                </a:lnTo>
                <a:lnTo>
                  <a:pt x="56" y="113"/>
                </a:lnTo>
                <a:lnTo>
                  <a:pt x="56" y="110"/>
                </a:lnTo>
                <a:lnTo>
                  <a:pt x="27" y="133"/>
                </a:lnTo>
                <a:lnTo>
                  <a:pt x="44" y="94"/>
                </a:lnTo>
                <a:lnTo>
                  <a:pt x="0" y="84"/>
                </a:lnTo>
                <a:lnTo>
                  <a:pt x="41" y="71"/>
                </a:lnTo>
                <a:lnTo>
                  <a:pt x="44" y="71"/>
                </a:lnTo>
                <a:lnTo>
                  <a:pt x="27" y="32"/>
                </a:lnTo>
                <a:lnTo>
                  <a:pt x="53" y="55"/>
                </a:lnTo>
                <a:lnTo>
                  <a:pt x="56" y="55"/>
                </a:lnTo>
                <a:lnTo>
                  <a:pt x="63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58"/>
          <p:cNvSpPr/>
          <p:nvPr/>
        </p:nvSpPr>
        <p:spPr>
          <a:xfrm>
            <a:off x="5697360" y="1130400"/>
            <a:ext cx="171720" cy="220680"/>
          </a:xfrm>
          <a:custGeom>
            <a:avLst/>
            <a:gdLst>
              <a:gd name="textAreaLeft" fmla="*/ 0 w 171720"/>
              <a:gd name="textAreaRight" fmla="*/ 171720 w 1717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8" h="139">
                <a:moveTo>
                  <a:pt x="54" y="0"/>
                </a:moveTo>
                <a:lnTo>
                  <a:pt x="62" y="45"/>
                </a:lnTo>
                <a:lnTo>
                  <a:pt x="62" y="48"/>
                </a:lnTo>
                <a:lnTo>
                  <a:pt x="86" y="26"/>
                </a:lnTo>
                <a:lnTo>
                  <a:pt x="89" y="26"/>
                </a:lnTo>
                <a:lnTo>
                  <a:pt x="71" y="58"/>
                </a:lnTo>
                <a:lnTo>
                  <a:pt x="71" y="61"/>
                </a:lnTo>
                <a:lnTo>
                  <a:pt x="108" y="71"/>
                </a:lnTo>
                <a:lnTo>
                  <a:pt x="74" y="78"/>
                </a:lnTo>
                <a:lnTo>
                  <a:pt x="71" y="81"/>
                </a:lnTo>
                <a:lnTo>
                  <a:pt x="86" y="113"/>
                </a:lnTo>
                <a:lnTo>
                  <a:pt x="62" y="94"/>
                </a:lnTo>
                <a:lnTo>
                  <a:pt x="54" y="139"/>
                </a:lnTo>
                <a:lnTo>
                  <a:pt x="47" y="94"/>
                </a:lnTo>
                <a:lnTo>
                  <a:pt x="22" y="113"/>
                </a:lnTo>
                <a:lnTo>
                  <a:pt x="37" y="81"/>
                </a:lnTo>
                <a:lnTo>
                  <a:pt x="3" y="71"/>
                </a:lnTo>
                <a:lnTo>
                  <a:pt x="0" y="71"/>
                </a:lnTo>
                <a:lnTo>
                  <a:pt x="37" y="61"/>
                </a:lnTo>
                <a:lnTo>
                  <a:pt x="22" y="26"/>
                </a:lnTo>
                <a:lnTo>
                  <a:pt x="47" y="45"/>
                </a:lnTo>
                <a:lnTo>
                  <a:pt x="54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59"/>
          <p:cNvSpPr/>
          <p:nvPr/>
        </p:nvSpPr>
        <p:spPr>
          <a:xfrm>
            <a:off x="5718240" y="1150920"/>
            <a:ext cx="135000" cy="179280"/>
          </a:xfrm>
          <a:custGeom>
            <a:avLst/>
            <a:gdLst>
              <a:gd name="textAreaLeft" fmla="*/ 0 w 135000"/>
              <a:gd name="textAreaRight" fmla="*/ 135360 w 1350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5" h="113">
                <a:moveTo>
                  <a:pt x="41" y="0"/>
                </a:moveTo>
                <a:lnTo>
                  <a:pt x="49" y="35"/>
                </a:lnTo>
                <a:lnTo>
                  <a:pt x="49" y="39"/>
                </a:lnTo>
                <a:lnTo>
                  <a:pt x="68" y="19"/>
                </a:lnTo>
                <a:lnTo>
                  <a:pt x="71" y="19"/>
                </a:lnTo>
                <a:lnTo>
                  <a:pt x="58" y="48"/>
                </a:lnTo>
                <a:lnTo>
                  <a:pt x="56" y="48"/>
                </a:lnTo>
                <a:lnTo>
                  <a:pt x="85" y="58"/>
                </a:lnTo>
                <a:lnTo>
                  <a:pt x="56" y="65"/>
                </a:lnTo>
                <a:lnTo>
                  <a:pt x="68" y="94"/>
                </a:lnTo>
                <a:lnTo>
                  <a:pt x="71" y="94"/>
                </a:lnTo>
                <a:lnTo>
                  <a:pt x="49" y="78"/>
                </a:lnTo>
                <a:lnTo>
                  <a:pt x="41" y="113"/>
                </a:lnTo>
                <a:lnTo>
                  <a:pt x="36" y="78"/>
                </a:lnTo>
                <a:lnTo>
                  <a:pt x="14" y="94"/>
                </a:lnTo>
                <a:lnTo>
                  <a:pt x="27" y="68"/>
                </a:lnTo>
                <a:lnTo>
                  <a:pt x="27" y="65"/>
                </a:lnTo>
                <a:lnTo>
                  <a:pt x="0" y="58"/>
                </a:lnTo>
                <a:lnTo>
                  <a:pt x="27" y="48"/>
                </a:lnTo>
                <a:lnTo>
                  <a:pt x="14" y="19"/>
                </a:lnTo>
                <a:lnTo>
                  <a:pt x="34" y="35"/>
                </a:lnTo>
                <a:lnTo>
                  <a:pt x="36" y="39"/>
                </a:lnTo>
                <a:lnTo>
                  <a:pt x="41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60"/>
          <p:cNvSpPr/>
          <p:nvPr/>
        </p:nvSpPr>
        <p:spPr>
          <a:xfrm>
            <a:off x="5732640" y="1171440"/>
            <a:ext cx="106200" cy="138240"/>
          </a:xfrm>
          <a:custGeom>
            <a:avLst/>
            <a:gdLst>
              <a:gd name="textAreaLeft" fmla="*/ 0 w 106200"/>
              <a:gd name="textAreaRight" fmla="*/ 106560 w 10620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67" h="87">
                <a:moveTo>
                  <a:pt x="32" y="0"/>
                </a:moveTo>
                <a:lnTo>
                  <a:pt x="37" y="29"/>
                </a:lnTo>
                <a:lnTo>
                  <a:pt x="57" y="13"/>
                </a:lnTo>
                <a:lnTo>
                  <a:pt x="44" y="39"/>
                </a:lnTo>
                <a:lnTo>
                  <a:pt x="67" y="45"/>
                </a:lnTo>
                <a:lnTo>
                  <a:pt x="44" y="52"/>
                </a:lnTo>
                <a:lnTo>
                  <a:pt x="57" y="74"/>
                </a:lnTo>
                <a:lnTo>
                  <a:pt x="37" y="61"/>
                </a:lnTo>
                <a:lnTo>
                  <a:pt x="32" y="87"/>
                </a:lnTo>
                <a:lnTo>
                  <a:pt x="27" y="61"/>
                </a:lnTo>
                <a:lnTo>
                  <a:pt x="10" y="74"/>
                </a:lnTo>
                <a:lnTo>
                  <a:pt x="20" y="52"/>
                </a:lnTo>
                <a:lnTo>
                  <a:pt x="0" y="45"/>
                </a:lnTo>
                <a:lnTo>
                  <a:pt x="20" y="39"/>
                </a:lnTo>
                <a:lnTo>
                  <a:pt x="10" y="13"/>
                </a:lnTo>
                <a:lnTo>
                  <a:pt x="27" y="29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61"/>
          <p:cNvSpPr/>
          <p:nvPr/>
        </p:nvSpPr>
        <p:spPr>
          <a:xfrm>
            <a:off x="6016680" y="1068480"/>
            <a:ext cx="392040" cy="519120"/>
          </a:xfrm>
          <a:custGeom>
            <a:avLst/>
            <a:gdLst>
              <a:gd name="textAreaLeft" fmla="*/ 0 w 392040"/>
              <a:gd name="textAreaRight" fmla="*/ 392400 w 3920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47" h="327">
                <a:moveTo>
                  <a:pt x="125" y="0"/>
                </a:moveTo>
                <a:lnTo>
                  <a:pt x="140" y="117"/>
                </a:lnTo>
                <a:lnTo>
                  <a:pt x="193" y="75"/>
                </a:lnTo>
                <a:lnTo>
                  <a:pt x="159" y="142"/>
                </a:lnTo>
                <a:lnTo>
                  <a:pt x="247" y="165"/>
                </a:lnTo>
                <a:lnTo>
                  <a:pt x="159" y="181"/>
                </a:lnTo>
                <a:lnTo>
                  <a:pt x="193" y="252"/>
                </a:lnTo>
                <a:lnTo>
                  <a:pt x="140" y="210"/>
                </a:lnTo>
                <a:lnTo>
                  <a:pt x="125" y="327"/>
                </a:lnTo>
                <a:lnTo>
                  <a:pt x="110" y="210"/>
                </a:lnTo>
                <a:lnTo>
                  <a:pt x="56" y="252"/>
                </a:lnTo>
                <a:lnTo>
                  <a:pt x="88" y="181"/>
                </a:lnTo>
                <a:lnTo>
                  <a:pt x="0" y="165"/>
                </a:lnTo>
                <a:lnTo>
                  <a:pt x="88" y="142"/>
                </a:lnTo>
                <a:lnTo>
                  <a:pt x="56" y="75"/>
                </a:lnTo>
                <a:lnTo>
                  <a:pt x="110" y="117"/>
                </a:lnTo>
                <a:lnTo>
                  <a:pt x="125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62"/>
          <p:cNvSpPr/>
          <p:nvPr/>
        </p:nvSpPr>
        <p:spPr>
          <a:xfrm>
            <a:off x="6040440" y="1098720"/>
            <a:ext cx="349200" cy="457200"/>
          </a:xfrm>
          <a:custGeom>
            <a:avLst/>
            <a:gdLst>
              <a:gd name="textAreaLeft" fmla="*/ 0 w 349200"/>
              <a:gd name="textAreaRight" fmla="*/ 349560 w 349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" h="288">
                <a:moveTo>
                  <a:pt x="110" y="0"/>
                </a:moveTo>
                <a:lnTo>
                  <a:pt x="122" y="98"/>
                </a:lnTo>
                <a:lnTo>
                  <a:pt x="122" y="101"/>
                </a:lnTo>
                <a:lnTo>
                  <a:pt x="171" y="62"/>
                </a:lnTo>
                <a:lnTo>
                  <a:pt x="171" y="65"/>
                </a:lnTo>
                <a:lnTo>
                  <a:pt x="142" y="127"/>
                </a:lnTo>
                <a:lnTo>
                  <a:pt x="144" y="127"/>
                </a:lnTo>
                <a:lnTo>
                  <a:pt x="215" y="143"/>
                </a:lnTo>
                <a:lnTo>
                  <a:pt x="220" y="146"/>
                </a:lnTo>
                <a:lnTo>
                  <a:pt x="147" y="162"/>
                </a:lnTo>
                <a:lnTo>
                  <a:pt x="142" y="162"/>
                </a:lnTo>
                <a:lnTo>
                  <a:pt x="171" y="227"/>
                </a:lnTo>
                <a:lnTo>
                  <a:pt x="171" y="224"/>
                </a:lnTo>
                <a:lnTo>
                  <a:pt x="122" y="188"/>
                </a:lnTo>
                <a:lnTo>
                  <a:pt x="110" y="285"/>
                </a:lnTo>
                <a:lnTo>
                  <a:pt x="110" y="288"/>
                </a:lnTo>
                <a:lnTo>
                  <a:pt x="98" y="195"/>
                </a:lnTo>
                <a:lnTo>
                  <a:pt x="95" y="188"/>
                </a:lnTo>
                <a:lnTo>
                  <a:pt x="49" y="227"/>
                </a:lnTo>
                <a:lnTo>
                  <a:pt x="49" y="224"/>
                </a:lnTo>
                <a:lnTo>
                  <a:pt x="78" y="162"/>
                </a:lnTo>
                <a:lnTo>
                  <a:pt x="76" y="162"/>
                </a:lnTo>
                <a:lnTo>
                  <a:pt x="2" y="146"/>
                </a:lnTo>
                <a:lnTo>
                  <a:pt x="0" y="146"/>
                </a:lnTo>
                <a:lnTo>
                  <a:pt x="73" y="127"/>
                </a:lnTo>
                <a:lnTo>
                  <a:pt x="78" y="127"/>
                </a:lnTo>
                <a:lnTo>
                  <a:pt x="49" y="62"/>
                </a:lnTo>
                <a:lnTo>
                  <a:pt x="95" y="101"/>
                </a:lnTo>
                <a:lnTo>
                  <a:pt x="110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3"/>
          <p:cNvSpPr/>
          <p:nvPr/>
        </p:nvSpPr>
        <p:spPr>
          <a:xfrm>
            <a:off x="6062760" y="1125360"/>
            <a:ext cx="303120" cy="405000"/>
          </a:xfrm>
          <a:custGeom>
            <a:avLst/>
            <a:gdLst>
              <a:gd name="textAreaLeft" fmla="*/ 0 w 303120"/>
              <a:gd name="textAreaRight" fmla="*/ 303480 w 303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91" h="255">
                <a:moveTo>
                  <a:pt x="96" y="0"/>
                </a:moveTo>
                <a:lnTo>
                  <a:pt x="108" y="84"/>
                </a:lnTo>
                <a:lnTo>
                  <a:pt x="108" y="90"/>
                </a:lnTo>
                <a:lnTo>
                  <a:pt x="150" y="55"/>
                </a:lnTo>
                <a:lnTo>
                  <a:pt x="125" y="110"/>
                </a:lnTo>
                <a:lnTo>
                  <a:pt x="125" y="113"/>
                </a:lnTo>
                <a:lnTo>
                  <a:pt x="189" y="126"/>
                </a:lnTo>
                <a:lnTo>
                  <a:pt x="191" y="129"/>
                </a:lnTo>
                <a:lnTo>
                  <a:pt x="128" y="142"/>
                </a:lnTo>
                <a:lnTo>
                  <a:pt x="125" y="142"/>
                </a:lnTo>
                <a:lnTo>
                  <a:pt x="150" y="200"/>
                </a:lnTo>
                <a:lnTo>
                  <a:pt x="108" y="165"/>
                </a:lnTo>
                <a:lnTo>
                  <a:pt x="108" y="168"/>
                </a:lnTo>
                <a:lnTo>
                  <a:pt x="96" y="252"/>
                </a:lnTo>
                <a:lnTo>
                  <a:pt x="96" y="255"/>
                </a:lnTo>
                <a:lnTo>
                  <a:pt x="84" y="171"/>
                </a:lnTo>
                <a:lnTo>
                  <a:pt x="84" y="165"/>
                </a:lnTo>
                <a:lnTo>
                  <a:pt x="40" y="200"/>
                </a:lnTo>
                <a:lnTo>
                  <a:pt x="67" y="145"/>
                </a:lnTo>
                <a:lnTo>
                  <a:pt x="67" y="142"/>
                </a:lnTo>
                <a:lnTo>
                  <a:pt x="0" y="129"/>
                </a:lnTo>
                <a:lnTo>
                  <a:pt x="64" y="113"/>
                </a:lnTo>
                <a:lnTo>
                  <a:pt x="67" y="110"/>
                </a:lnTo>
                <a:lnTo>
                  <a:pt x="40" y="55"/>
                </a:lnTo>
                <a:lnTo>
                  <a:pt x="84" y="87"/>
                </a:lnTo>
                <a:lnTo>
                  <a:pt x="96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64"/>
          <p:cNvSpPr/>
          <p:nvPr/>
        </p:nvSpPr>
        <p:spPr>
          <a:xfrm>
            <a:off x="6083280" y="1155600"/>
            <a:ext cx="263520" cy="344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66" h="217">
                <a:moveTo>
                  <a:pt x="83" y="0"/>
                </a:moveTo>
                <a:lnTo>
                  <a:pt x="93" y="71"/>
                </a:lnTo>
                <a:lnTo>
                  <a:pt x="93" y="75"/>
                </a:lnTo>
                <a:lnTo>
                  <a:pt x="132" y="45"/>
                </a:lnTo>
                <a:lnTo>
                  <a:pt x="110" y="94"/>
                </a:lnTo>
                <a:lnTo>
                  <a:pt x="164" y="107"/>
                </a:lnTo>
                <a:lnTo>
                  <a:pt x="166" y="107"/>
                </a:lnTo>
                <a:lnTo>
                  <a:pt x="112" y="123"/>
                </a:lnTo>
                <a:lnTo>
                  <a:pt x="107" y="123"/>
                </a:lnTo>
                <a:lnTo>
                  <a:pt x="132" y="172"/>
                </a:lnTo>
                <a:lnTo>
                  <a:pt x="95" y="142"/>
                </a:lnTo>
                <a:lnTo>
                  <a:pt x="93" y="142"/>
                </a:lnTo>
                <a:lnTo>
                  <a:pt x="83" y="217"/>
                </a:lnTo>
                <a:lnTo>
                  <a:pt x="73" y="146"/>
                </a:lnTo>
                <a:lnTo>
                  <a:pt x="71" y="142"/>
                </a:lnTo>
                <a:lnTo>
                  <a:pt x="34" y="172"/>
                </a:lnTo>
                <a:lnTo>
                  <a:pt x="56" y="123"/>
                </a:lnTo>
                <a:lnTo>
                  <a:pt x="2" y="110"/>
                </a:lnTo>
                <a:lnTo>
                  <a:pt x="0" y="107"/>
                </a:lnTo>
                <a:lnTo>
                  <a:pt x="54" y="94"/>
                </a:lnTo>
                <a:lnTo>
                  <a:pt x="56" y="94"/>
                </a:lnTo>
                <a:lnTo>
                  <a:pt x="34" y="42"/>
                </a:lnTo>
                <a:lnTo>
                  <a:pt x="71" y="75"/>
                </a:lnTo>
                <a:lnTo>
                  <a:pt x="73" y="75"/>
                </a:lnTo>
                <a:lnTo>
                  <a:pt x="83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65"/>
          <p:cNvSpPr/>
          <p:nvPr/>
        </p:nvSpPr>
        <p:spPr>
          <a:xfrm>
            <a:off x="6105600" y="1181160"/>
            <a:ext cx="217440" cy="2937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37" h="185">
                <a:moveTo>
                  <a:pt x="69" y="0"/>
                </a:moveTo>
                <a:lnTo>
                  <a:pt x="79" y="62"/>
                </a:lnTo>
                <a:lnTo>
                  <a:pt x="110" y="36"/>
                </a:lnTo>
                <a:lnTo>
                  <a:pt x="93" y="78"/>
                </a:lnTo>
                <a:lnTo>
                  <a:pt x="91" y="81"/>
                </a:lnTo>
                <a:lnTo>
                  <a:pt x="137" y="91"/>
                </a:lnTo>
                <a:lnTo>
                  <a:pt x="93" y="104"/>
                </a:lnTo>
                <a:lnTo>
                  <a:pt x="91" y="104"/>
                </a:lnTo>
                <a:lnTo>
                  <a:pt x="110" y="146"/>
                </a:lnTo>
                <a:lnTo>
                  <a:pt x="110" y="149"/>
                </a:lnTo>
                <a:lnTo>
                  <a:pt x="79" y="123"/>
                </a:lnTo>
                <a:lnTo>
                  <a:pt x="69" y="181"/>
                </a:lnTo>
                <a:lnTo>
                  <a:pt x="69" y="185"/>
                </a:lnTo>
                <a:lnTo>
                  <a:pt x="59" y="123"/>
                </a:lnTo>
                <a:lnTo>
                  <a:pt x="27" y="149"/>
                </a:lnTo>
                <a:lnTo>
                  <a:pt x="44" y="107"/>
                </a:lnTo>
                <a:lnTo>
                  <a:pt x="47" y="104"/>
                </a:lnTo>
                <a:lnTo>
                  <a:pt x="0" y="91"/>
                </a:lnTo>
                <a:lnTo>
                  <a:pt x="44" y="81"/>
                </a:lnTo>
                <a:lnTo>
                  <a:pt x="47" y="78"/>
                </a:lnTo>
                <a:lnTo>
                  <a:pt x="27" y="36"/>
                </a:lnTo>
                <a:lnTo>
                  <a:pt x="59" y="62"/>
                </a:lnTo>
                <a:lnTo>
                  <a:pt x="69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66"/>
          <p:cNvSpPr/>
          <p:nvPr/>
        </p:nvSpPr>
        <p:spPr>
          <a:xfrm>
            <a:off x="6126120" y="1206360"/>
            <a:ext cx="177840" cy="23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2" h="149">
                <a:moveTo>
                  <a:pt x="56" y="0"/>
                </a:moveTo>
                <a:lnTo>
                  <a:pt x="63" y="49"/>
                </a:lnTo>
                <a:lnTo>
                  <a:pt x="90" y="30"/>
                </a:lnTo>
                <a:lnTo>
                  <a:pt x="93" y="26"/>
                </a:lnTo>
                <a:lnTo>
                  <a:pt x="75" y="62"/>
                </a:lnTo>
                <a:lnTo>
                  <a:pt x="75" y="65"/>
                </a:lnTo>
                <a:lnTo>
                  <a:pt x="112" y="75"/>
                </a:lnTo>
                <a:lnTo>
                  <a:pt x="75" y="88"/>
                </a:lnTo>
                <a:lnTo>
                  <a:pt x="93" y="123"/>
                </a:lnTo>
                <a:lnTo>
                  <a:pt x="66" y="104"/>
                </a:lnTo>
                <a:lnTo>
                  <a:pt x="63" y="101"/>
                </a:lnTo>
                <a:lnTo>
                  <a:pt x="56" y="149"/>
                </a:lnTo>
                <a:lnTo>
                  <a:pt x="49" y="104"/>
                </a:lnTo>
                <a:lnTo>
                  <a:pt x="49" y="101"/>
                </a:lnTo>
                <a:lnTo>
                  <a:pt x="22" y="123"/>
                </a:lnTo>
                <a:lnTo>
                  <a:pt x="19" y="123"/>
                </a:lnTo>
                <a:lnTo>
                  <a:pt x="36" y="88"/>
                </a:lnTo>
                <a:lnTo>
                  <a:pt x="0" y="75"/>
                </a:lnTo>
                <a:lnTo>
                  <a:pt x="36" y="65"/>
                </a:lnTo>
                <a:lnTo>
                  <a:pt x="19" y="30"/>
                </a:lnTo>
                <a:lnTo>
                  <a:pt x="19" y="26"/>
                </a:lnTo>
                <a:lnTo>
                  <a:pt x="46" y="49"/>
                </a:lnTo>
                <a:lnTo>
                  <a:pt x="49" y="49"/>
                </a:lnTo>
                <a:lnTo>
                  <a:pt x="56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7"/>
          <p:cNvSpPr/>
          <p:nvPr/>
        </p:nvSpPr>
        <p:spPr>
          <a:xfrm>
            <a:off x="6148440" y="1238400"/>
            <a:ext cx="136440" cy="179280"/>
          </a:xfrm>
          <a:custGeom>
            <a:avLst/>
            <a:gdLst>
              <a:gd name="textAreaLeft" fmla="*/ 0 w 136440"/>
              <a:gd name="textAreaRight" fmla="*/ 136800 w 13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6" h="113">
                <a:moveTo>
                  <a:pt x="42" y="0"/>
                </a:moveTo>
                <a:lnTo>
                  <a:pt x="49" y="35"/>
                </a:lnTo>
                <a:lnTo>
                  <a:pt x="71" y="16"/>
                </a:lnTo>
                <a:lnTo>
                  <a:pt x="59" y="48"/>
                </a:lnTo>
                <a:lnTo>
                  <a:pt x="86" y="55"/>
                </a:lnTo>
                <a:lnTo>
                  <a:pt x="59" y="65"/>
                </a:lnTo>
                <a:lnTo>
                  <a:pt x="71" y="97"/>
                </a:lnTo>
                <a:lnTo>
                  <a:pt x="49" y="78"/>
                </a:lnTo>
                <a:lnTo>
                  <a:pt x="42" y="113"/>
                </a:lnTo>
                <a:lnTo>
                  <a:pt x="35" y="78"/>
                </a:lnTo>
                <a:lnTo>
                  <a:pt x="13" y="97"/>
                </a:lnTo>
                <a:lnTo>
                  <a:pt x="27" y="65"/>
                </a:lnTo>
                <a:lnTo>
                  <a:pt x="0" y="55"/>
                </a:lnTo>
                <a:lnTo>
                  <a:pt x="27" y="48"/>
                </a:lnTo>
                <a:lnTo>
                  <a:pt x="13" y="16"/>
                </a:lnTo>
                <a:lnTo>
                  <a:pt x="35" y="35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68"/>
          <p:cNvSpPr/>
          <p:nvPr/>
        </p:nvSpPr>
        <p:spPr>
          <a:xfrm>
            <a:off x="7034040" y="71280"/>
            <a:ext cx="300240" cy="395280"/>
          </a:xfrm>
          <a:custGeom>
            <a:avLst/>
            <a:gdLst>
              <a:gd name="textAreaLeft" fmla="*/ 0 w 300240"/>
              <a:gd name="textAreaRight" fmla="*/ 300600 w 3002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9" h="249">
                <a:moveTo>
                  <a:pt x="93" y="0"/>
                </a:moveTo>
                <a:lnTo>
                  <a:pt x="105" y="88"/>
                </a:lnTo>
                <a:lnTo>
                  <a:pt x="147" y="55"/>
                </a:lnTo>
                <a:lnTo>
                  <a:pt x="120" y="110"/>
                </a:lnTo>
                <a:lnTo>
                  <a:pt x="189" y="127"/>
                </a:lnTo>
                <a:lnTo>
                  <a:pt x="120" y="139"/>
                </a:lnTo>
                <a:lnTo>
                  <a:pt x="147" y="194"/>
                </a:lnTo>
                <a:lnTo>
                  <a:pt x="105" y="162"/>
                </a:lnTo>
                <a:lnTo>
                  <a:pt x="93" y="249"/>
                </a:lnTo>
                <a:lnTo>
                  <a:pt x="83" y="162"/>
                </a:lnTo>
                <a:lnTo>
                  <a:pt x="42" y="194"/>
                </a:lnTo>
                <a:lnTo>
                  <a:pt x="66" y="139"/>
                </a:lnTo>
                <a:lnTo>
                  <a:pt x="0" y="127"/>
                </a:lnTo>
                <a:lnTo>
                  <a:pt x="66" y="110"/>
                </a:lnTo>
                <a:lnTo>
                  <a:pt x="42" y="55"/>
                </a:lnTo>
                <a:lnTo>
                  <a:pt x="83" y="88"/>
                </a:lnTo>
                <a:lnTo>
                  <a:pt x="93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69"/>
          <p:cNvSpPr/>
          <p:nvPr/>
        </p:nvSpPr>
        <p:spPr>
          <a:xfrm>
            <a:off x="7050240" y="92160"/>
            <a:ext cx="268200" cy="355680"/>
          </a:xfrm>
          <a:custGeom>
            <a:avLst/>
            <a:gdLst>
              <a:gd name="textAreaLeft" fmla="*/ 0 w 268200"/>
              <a:gd name="textAreaRight" fmla="*/ 268560 w 2682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69" h="224">
                <a:moveTo>
                  <a:pt x="83" y="0"/>
                </a:moveTo>
                <a:lnTo>
                  <a:pt x="93" y="75"/>
                </a:lnTo>
                <a:lnTo>
                  <a:pt x="93" y="78"/>
                </a:lnTo>
                <a:lnTo>
                  <a:pt x="132" y="49"/>
                </a:lnTo>
                <a:lnTo>
                  <a:pt x="130" y="49"/>
                </a:lnTo>
                <a:lnTo>
                  <a:pt x="108" y="97"/>
                </a:lnTo>
                <a:lnTo>
                  <a:pt x="110" y="97"/>
                </a:lnTo>
                <a:lnTo>
                  <a:pt x="166" y="114"/>
                </a:lnTo>
                <a:lnTo>
                  <a:pt x="169" y="114"/>
                </a:lnTo>
                <a:lnTo>
                  <a:pt x="113" y="126"/>
                </a:lnTo>
                <a:lnTo>
                  <a:pt x="108" y="126"/>
                </a:lnTo>
                <a:lnTo>
                  <a:pt x="132" y="175"/>
                </a:lnTo>
                <a:lnTo>
                  <a:pt x="130" y="175"/>
                </a:lnTo>
                <a:lnTo>
                  <a:pt x="95" y="146"/>
                </a:lnTo>
                <a:lnTo>
                  <a:pt x="93" y="146"/>
                </a:lnTo>
                <a:lnTo>
                  <a:pt x="83" y="220"/>
                </a:lnTo>
                <a:lnTo>
                  <a:pt x="83" y="224"/>
                </a:lnTo>
                <a:lnTo>
                  <a:pt x="73" y="149"/>
                </a:lnTo>
                <a:lnTo>
                  <a:pt x="73" y="146"/>
                </a:lnTo>
                <a:lnTo>
                  <a:pt x="37" y="175"/>
                </a:lnTo>
                <a:lnTo>
                  <a:pt x="59" y="126"/>
                </a:lnTo>
                <a:lnTo>
                  <a:pt x="0" y="114"/>
                </a:lnTo>
                <a:lnTo>
                  <a:pt x="56" y="101"/>
                </a:lnTo>
                <a:lnTo>
                  <a:pt x="59" y="97"/>
                </a:lnTo>
                <a:lnTo>
                  <a:pt x="37" y="49"/>
                </a:lnTo>
                <a:lnTo>
                  <a:pt x="73" y="78"/>
                </a:lnTo>
                <a:lnTo>
                  <a:pt x="83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70"/>
          <p:cNvSpPr/>
          <p:nvPr/>
        </p:nvSpPr>
        <p:spPr>
          <a:xfrm>
            <a:off x="7066080" y="112680"/>
            <a:ext cx="233280" cy="314280"/>
          </a:xfrm>
          <a:custGeom>
            <a:avLst/>
            <a:gdLst>
              <a:gd name="textAreaLeft" fmla="*/ 0 w 233280"/>
              <a:gd name="textAreaRight" fmla="*/ 233640 w 2332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47" h="198">
                <a:moveTo>
                  <a:pt x="73" y="0"/>
                </a:moveTo>
                <a:lnTo>
                  <a:pt x="83" y="65"/>
                </a:lnTo>
                <a:lnTo>
                  <a:pt x="83" y="68"/>
                </a:lnTo>
                <a:lnTo>
                  <a:pt x="117" y="42"/>
                </a:lnTo>
                <a:lnTo>
                  <a:pt x="98" y="88"/>
                </a:lnTo>
                <a:lnTo>
                  <a:pt x="147" y="97"/>
                </a:lnTo>
                <a:lnTo>
                  <a:pt x="147" y="101"/>
                </a:lnTo>
                <a:lnTo>
                  <a:pt x="98" y="110"/>
                </a:lnTo>
                <a:lnTo>
                  <a:pt x="95" y="110"/>
                </a:lnTo>
                <a:lnTo>
                  <a:pt x="117" y="156"/>
                </a:lnTo>
                <a:lnTo>
                  <a:pt x="115" y="156"/>
                </a:lnTo>
                <a:lnTo>
                  <a:pt x="83" y="130"/>
                </a:lnTo>
                <a:lnTo>
                  <a:pt x="73" y="194"/>
                </a:lnTo>
                <a:lnTo>
                  <a:pt x="73" y="198"/>
                </a:lnTo>
                <a:lnTo>
                  <a:pt x="66" y="133"/>
                </a:lnTo>
                <a:lnTo>
                  <a:pt x="63" y="130"/>
                </a:lnTo>
                <a:lnTo>
                  <a:pt x="32" y="156"/>
                </a:lnTo>
                <a:lnTo>
                  <a:pt x="51" y="113"/>
                </a:lnTo>
                <a:lnTo>
                  <a:pt x="51" y="110"/>
                </a:lnTo>
                <a:lnTo>
                  <a:pt x="2" y="101"/>
                </a:lnTo>
                <a:lnTo>
                  <a:pt x="0" y="101"/>
                </a:lnTo>
                <a:lnTo>
                  <a:pt x="49" y="88"/>
                </a:lnTo>
                <a:lnTo>
                  <a:pt x="51" y="88"/>
                </a:lnTo>
                <a:lnTo>
                  <a:pt x="32" y="42"/>
                </a:lnTo>
                <a:lnTo>
                  <a:pt x="63" y="68"/>
                </a:lnTo>
                <a:lnTo>
                  <a:pt x="66" y="68"/>
                </a:lnTo>
                <a:lnTo>
                  <a:pt x="73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71"/>
          <p:cNvSpPr/>
          <p:nvPr/>
        </p:nvSpPr>
        <p:spPr>
          <a:xfrm>
            <a:off x="7081920" y="138240"/>
            <a:ext cx="201600" cy="268200"/>
          </a:xfrm>
          <a:custGeom>
            <a:avLst/>
            <a:gdLst>
              <a:gd name="textAreaLeft" fmla="*/ 0 w 201600"/>
              <a:gd name="textAreaRight" fmla="*/ 201960 w 2016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7" h="169">
                <a:moveTo>
                  <a:pt x="63" y="0"/>
                </a:moveTo>
                <a:lnTo>
                  <a:pt x="73" y="55"/>
                </a:lnTo>
                <a:lnTo>
                  <a:pt x="100" y="33"/>
                </a:lnTo>
                <a:lnTo>
                  <a:pt x="102" y="33"/>
                </a:lnTo>
                <a:lnTo>
                  <a:pt x="85" y="72"/>
                </a:lnTo>
                <a:lnTo>
                  <a:pt x="127" y="81"/>
                </a:lnTo>
                <a:lnTo>
                  <a:pt x="127" y="85"/>
                </a:lnTo>
                <a:lnTo>
                  <a:pt x="85" y="94"/>
                </a:lnTo>
                <a:lnTo>
                  <a:pt x="83" y="94"/>
                </a:lnTo>
                <a:lnTo>
                  <a:pt x="102" y="133"/>
                </a:lnTo>
                <a:lnTo>
                  <a:pt x="73" y="110"/>
                </a:lnTo>
                <a:lnTo>
                  <a:pt x="63" y="165"/>
                </a:lnTo>
                <a:lnTo>
                  <a:pt x="63" y="169"/>
                </a:lnTo>
                <a:lnTo>
                  <a:pt x="56" y="114"/>
                </a:lnTo>
                <a:lnTo>
                  <a:pt x="56" y="110"/>
                </a:lnTo>
                <a:lnTo>
                  <a:pt x="27" y="133"/>
                </a:lnTo>
                <a:lnTo>
                  <a:pt x="44" y="94"/>
                </a:lnTo>
                <a:lnTo>
                  <a:pt x="2" y="85"/>
                </a:lnTo>
                <a:lnTo>
                  <a:pt x="0" y="85"/>
                </a:lnTo>
                <a:lnTo>
                  <a:pt x="41" y="72"/>
                </a:lnTo>
                <a:lnTo>
                  <a:pt x="44" y="72"/>
                </a:lnTo>
                <a:lnTo>
                  <a:pt x="27" y="33"/>
                </a:lnTo>
                <a:lnTo>
                  <a:pt x="56" y="55"/>
                </a:lnTo>
                <a:lnTo>
                  <a:pt x="63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72"/>
          <p:cNvSpPr/>
          <p:nvPr/>
        </p:nvSpPr>
        <p:spPr>
          <a:xfrm>
            <a:off x="7101000" y="158760"/>
            <a:ext cx="166680" cy="220680"/>
          </a:xfrm>
          <a:custGeom>
            <a:avLst/>
            <a:gdLst>
              <a:gd name="textAreaLeft" fmla="*/ 0 w 166680"/>
              <a:gd name="textAreaRight" fmla="*/ 167040 w 1666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5" h="139">
                <a:moveTo>
                  <a:pt x="51" y="0"/>
                </a:moveTo>
                <a:lnTo>
                  <a:pt x="59" y="46"/>
                </a:lnTo>
                <a:lnTo>
                  <a:pt x="83" y="26"/>
                </a:lnTo>
                <a:lnTo>
                  <a:pt x="85" y="26"/>
                </a:lnTo>
                <a:lnTo>
                  <a:pt x="71" y="59"/>
                </a:lnTo>
                <a:lnTo>
                  <a:pt x="71" y="62"/>
                </a:lnTo>
                <a:lnTo>
                  <a:pt x="105" y="68"/>
                </a:lnTo>
                <a:lnTo>
                  <a:pt x="105" y="72"/>
                </a:lnTo>
                <a:lnTo>
                  <a:pt x="71" y="78"/>
                </a:lnTo>
                <a:lnTo>
                  <a:pt x="68" y="81"/>
                </a:lnTo>
                <a:lnTo>
                  <a:pt x="85" y="114"/>
                </a:lnTo>
                <a:lnTo>
                  <a:pt x="61" y="94"/>
                </a:lnTo>
                <a:lnTo>
                  <a:pt x="59" y="94"/>
                </a:lnTo>
                <a:lnTo>
                  <a:pt x="51" y="139"/>
                </a:lnTo>
                <a:lnTo>
                  <a:pt x="46" y="94"/>
                </a:lnTo>
                <a:lnTo>
                  <a:pt x="44" y="94"/>
                </a:lnTo>
                <a:lnTo>
                  <a:pt x="19" y="114"/>
                </a:lnTo>
                <a:lnTo>
                  <a:pt x="34" y="81"/>
                </a:lnTo>
                <a:lnTo>
                  <a:pt x="34" y="78"/>
                </a:lnTo>
                <a:lnTo>
                  <a:pt x="0" y="72"/>
                </a:lnTo>
                <a:lnTo>
                  <a:pt x="34" y="62"/>
                </a:lnTo>
                <a:lnTo>
                  <a:pt x="19" y="26"/>
                </a:lnTo>
                <a:lnTo>
                  <a:pt x="44" y="46"/>
                </a:lnTo>
                <a:lnTo>
                  <a:pt x="51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73"/>
          <p:cNvSpPr/>
          <p:nvPr/>
        </p:nvSpPr>
        <p:spPr>
          <a:xfrm>
            <a:off x="7116840" y="179280"/>
            <a:ext cx="135000" cy="181080"/>
          </a:xfrm>
          <a:custGeom>
            <a:avLst/>
            <a:gdLst>
              <a:gd name="textAreaLeft" fmla="*/ 0 w 135000"/>
              <a:gd name="textAreaRight" fmla="*/ 135360 w 135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85" h="114">
                <a:moveTo>
                  <a:pt x="41" y="0"/>
                </a:moveTo>
                <a:lnTo>
                  <a:pt x="49" y="36"/>
                </a:lnTo>
                <a:lnTo>
                  <a:pt x="68" y="20"/>
                </a:lnTo>
                <a:lnTo>
                  <a:pt x="71" y="20"/>
                </a:lnTo>
                <a:lnTo>
                  <a:pt x="58" y="46"/>
                </a:lnTo>
                <a:lnTo>
                  <a:pt x="56" y="49"/>
                </a:lnTo>
                <a:lnTo>
                  <a:pt x="85" y="55"/>
                </a:lnTo>
                <a:lnTo>
                  <a:pt x="85" y="59"/>
                </a:lnTo>
                <a:lnTo>
                  <a:pt x="58" y="65"/>
                </a:lnTo>
                <a:lnTo>
                  <a:pt x="56" y="65"/>
                </a:lnTo>
                <a:lnTo>
                  <a:pt x="71" y="94"/>
                </a:lnTo>
                <a:lnTo>
                  <a:pt x="49" y="78"/>
                </a:lnTo>
                <a:lnTo>
                  <a:pt x="41" y="114"/>
                </a:lnTo>
                <a:lnTo>
                  <a:pt x="36" y="78"/>
                </a:lnTo>
                <a:lnTo>
                  <a:pt x="14" y="94"/>
                </a:lnTo>
                <a:lnTo>
                  <a:pt x="27" y="68"/>
                </a:lnTo>
                <a:lnTo>
                  <a:pt x="27" y="65"/>
                </a:lnTo>
                <a:lnTo>
                  <a:pt x="0" y="59"/>
                </a:lnTo>
                <a:lnTo>
                  <a:pt x="27" y="49"/>
                </a:lnTo>
                <a:lnTo>
                  <a:pt x="14" y="20"/>
                </a:lnTo>
                <a:lnTo>
                  <a:pt x="34" y="36"/>
                </a:lnTo>
                <a:lnTo>
                  <a:pt x="36" y="36"/>
                </a:lnTo>
                <a:lnTo>
                  <a:pt x="41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74"/>
          <p:cNvSpPr/>
          <p:nvPr/>
        </p:nvSpPr>
        <p:spPr>
          <a:xfrm>
            <a:off x="7130880" y="200160"/>
            <a:ext cx="105120" cy="139680"/>
          </a:xfrm>
          <a:custGeom>
            <a:avLst/>
            <a:gdLst>
              <a:gd name="textAreaLeft" fmla="*/ 0 w 105120"/>
              <a:gd name="textAreaRight" fmla="*/ 105480 w 1051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6" h="88">
                <a:moveTo>
                  <a:pt x="32" y="0"/>
                </a:moveTo>
                <a:lnTo>
                  <a:pt x="40" y="29"/>
                </a:lnTo>
                <a:lnTo>
                  <a:pt x="57" y="13"/>
                </a:lnTo>
                <a:lnTo>
                  <a:pt x="44" y="36"/>
                </a:lnTo>
                <a:lnTo>
                  <a:pt x="66" y="42"/>
                </a:lnTo>
                <a:lnTo>
                  <a:pt x="44" y="52"/>
                </a:lnTo>
                <a:lnTo>
                  <a:pt x="57" y="75"/>
                </a:lnTo>
                <a:lnTo>
                  <a:pt x="40" y="58"/>
                </a:lnTo>
                <a:lnTo>
                  <a:pt x="32" y="88"/>
                </a:lnTo>
                <a:lnTo>
                  <a:pt x="27" y="58"/>
                </a:lnTo>
                <a:lnTo>
                  <a:pt x="10" y="75"/>
                </a:lnTo>
                <a:lnTo>
                  <a:pt x="20" y="52"/>
                </a:lnTo>
                <a:lnTo>
                  <a:pt x="0" y="42"/>
                </a:lnTo>
                <a:lnTo>
                  <a:pt x="20" y="36"/>
                </a:lnTo>
                <a:lnTo>
                  <a:pt x="10" y="13"/>
                </a:lnTo>
                <a:lnTo>
                  <a:pt x="27" y="29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175"/>
          <p:cNvSpPr/>
          <p:nvPr/>
        </p:nvSpPr>
        <p:spPr>
          <a:xfrm>
            <a:off x="7823160" y="195120"/>
            <a:ext cx="419040" cy="560520"/>
          </a:xfrm>
          <a:custGeom>
            <a:avLst/>
            <a:gdLst>
              <a:gd name="textAreaLeft" fmla="*/ 0 w 419040"/>
              <a:gd name="textAreaRight" fmla="*/ 419400 w 41904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264" h="353">
                <a:moveTo>
                  <a:pt x="132" y="0"/>
                </a:moveTo>
                <a:lnTo>
                  <a:pt x="147" y="126"/>
                </a:lnTo>
                <a:lnTo>
                  <a:pt x="206" y="78"/>
                </a:lnTo>
                <a:lnTo>
                  <a:pt x="171" y="155"/>
                </a:lnTo>
                <a:lnTo>
                  <a:pt x="264" y="175"/>
                </a:lnTo>
                <a:lnTo>
                  <a:pt x="171" y="197"/>
                </a:lnTo>
                <a:lnTo>
                  <a:pt x="206" y="272"/>
                </a:lnTo>
                <a:lnTo>
                  <a:pt x="147" y="226"/>
                </a:lnTo>
                <a:lnTo>
                  <a:pt x="132" y="353"/>
                </a:lnTo>
                <a:lnTo>
                  <a:pt x="115" y="226"/>
                </a:lnTo>
                <a:lnTo>
                  <a:pt x="59" y="272"/>
                </a:lnTo>
                <a:lnTo>
                  <a:pt x="93" y="197"/>
                </a:lnTo>
                <a:lnTo>
                  <a:pt x="0" y="175"/>
                </a:lnTo>
                <a:lnTo>
                  <a:pt x="93" y="155"/>
                </a:lnTo>
                <a:lnTo>
                  <a:pt x="59" y="78"/>
                </a:lnTo>
                <a:lnTo>
                  <a:pt x="115" y="126"/>
                </a:lnTo>
                <a:lnTo>
                  <a:pt x="132" y="0"/>
                </a:lnTo>
                <a:close/>
              </a:path>
            </a:pathLst>
          </a:custGeom>
          <a:solidFill>
            <a:srgbClr val="0c4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176"/>
          <p:cNvSpPr/>
          <p:nvPr/>
        </p:nvSpPr>
        <p:spPr>
          <a:xfrm>
            <a:off x="7846920" y="225360"/>
            <a:ext cx="373320" cy="498600"/>
          </a:xfrm>
          <a:custGeom>
            <a:avLst/>
            <a:gdLst>
              <a:gd name="textAreaLeft" fmla="*/ 0 w 373320"/>
              <a:gd name="textAreaRight" fmla="*/ 373680 w 3733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35" h="314">
                <a:moveTo>
                  <a:pt x="117" y="0"/>
                </a:moveTo>
                <a:lnTo>
                  <a:pt x="132" y="104"/>
                </a:lnTo>
                <a:lnTo>
                  <a:pt x="132" y="110"/>
                </a:lnTo>
                <a:lnTo>
                  <a:pt x="183" y="68"/>
                </a:lnTo>
                <a:lnTo>
                  <a:pt x="151" y="136"/>
                </a:lnTo>
                <a:lnTo>
                  <a:pt x="154" y="140"/>
                </a:lnTo>
                <a:lnTo>
                  <a:pt x="232" y="156"/>
                </a:lnTo>
                <a:lnTo>
                  <a:pt x="235" y="156"/>
                </a:lnTo>
                <a:lnTo>
                  <a:pt x="156" y="175"/>
                </a:lnTo>
                <a:lnTo>
                  <a:pt x="151" y="175"/>
                </a:lnTo>
                <a:lnTo>
                  <a:pt x="183" y="243"/>
                </a:lnTo>
                <a:lnTo>
                  <a:pt x="132" y="204"/>
                </a:lnTo>
                <a:lnTo>
                  <a:pt x="117" y="308"/>
                </a:lnTo>
                <a:lnTo>
                  <a:pt x="117" y="314"/>
                </a:lnTo>
                <a:lnTo>
                  <a:pt x="102" y="211"/>
                </a:lnTo>
                <a:lnTo>
                  <a:pt x="102" y="204"/>
                </a:lnTo>
                <a:lnTo>
                  <a:pt x="51" y="243"/>
                </a:lnTo>
                <a:lnTo>
                  <a:pt x="83" y="175"/>
                </a:lnTo>
                <a:lnTo>
                  <a:pt x="80" y="175"/>
                </a:lnTo>
                <a:lnTo>
                  <a:pt x="2" y="159"/>
                </a:lnTo>
                <a:lnTo>
                  <a:pt x="0" y="156"/>
                </a:lnTo>
                <a:lnTo>
                  <a:pt x="78" y="140"/>
                </a:lnTo>
                <a:lnTo>
                  <a:pt x="83" y="136"/>
                </a:lnTo>
                <a:lnTo>
                  <a:pt x="51" y="68"/>
                </a:lnTo>
                <a:lnTo>
                  <a:pt x="102" y="110"/>
                </a:lnTo>
                <a:lnTo>
                  <a:pt x="117" y="0"/>
                </a:lnTo>
                <a:close/>
              </a:path>
            </a:pathLst>
          </a:custGeom>
          <a:solidFill>
            <a:srgbClr val="336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77"/>
          <p:cNvSpPr/>
          <p:nvPr/>
        </p:nvSpPr>
        <p:spPr>
          <a:xfrm>
            <a:off x="7869240" y="257040"/>
            <a:ext cx="326880" cy="436680"/>
          </a:xfrm>
          <a:custGeom>
            <a:avLst/>
            <a:gdLst/>
            <a:ahLst/>
            <a:rect l="l" t="t" r="r" b="b"/>
            <a:pathLst>
              <a:path w="206" h="275">
                <a:moveTo>
                  <a:pt x="103" y="0"/>
                </a:moveTo>
                <a:lnTo>
                  <a:pt x="115" y="90"/>
                </a:lnTo>
                <a:lnTo>
                  <a:pt x="115" y="94"/>
                </a:lnTo>
                <a:lnTo>
                  <a:pt x="162" y="58"/>
                </a:lnTo>
                <a:lnTo>
                  <a:pt x="135" y="120"/>
                </a:lnTo>
                <a:lnTo>
                  <a:pt x="203" y="136"/>
                </a:lnTo>
                <a:lnTo>
                  <a:pt x="206" y="136"/>
                </a:lnTo>
                <a:lnTo>
                  <a:pt x="137" y="152"/>
                </a:lnTo>
                <a:lnTo>
                  <a:pt x="135" y="155"/>
                </a:lnTo>
                <a:lnTo>
                  <a:pt x="162" y="213"/>
                </a:lnTo>
                <a:lnTo>
                  <a:pt x="162" y="217"/>
                </a:lnTo>
                <a:lnTo>
                  <a:pt x="118" y="178"/>
                </a:lnTo>
                <a:lnTo>
                  <a:pt x="115" y="178"/>
                </a:lnTo>
                <a:lnTo>
                  <a:pt x="103" y="272"/>
                </a:lnTo>
                <a:lnTo>
                  <a:pt x="103" y="275"/>
                </a:lnTo>
                <a:lnTo>
                  <a:pt x="91" y="184"/>
                </a:lnTo>
                <a:lnTo>
                  <a:pt x="91" y="178"/>
                </a:lnTo>
                <a:lnTo>
                  <a:pt x="44" y="217"/>
                </a:lnTo>
                <a:lnTo>
                  <a:pt x="44" y="213"/>
                </a:lnTo>
                <a:lnTo>
                  <a:pt x="71" y="155"/>
                </a:lnTo>
                <a:lnTo>
                  <a:pt x="71" y="152"/>
                </a:lnTo>
                <a:lnTo>
                  <a:pt x="0" y="139"/>
                </a:lnTo>
                <a:lnTo>
                  <a:pt x="0" y="136"/>
                </a:lnTo>
                <a:lnTo>
                  <a:pt x="69" y="120"/>
                </a:lnTo>
                <a:lnTo>
                  <a:pt x="71" y="120"/>
                </a:lnTo>
                <a:lnTo>
                  <a:pt x="44" y="58"/>
                </a:lnTo>
                <a:lnTo>
                  <a:pt x="88" y="94"/>
                </a:lnTo>
                <a:lnTo>
                  <a:pt x="91" y="94"/>
                </a:lnTo>
                <a:lnTo>
                  <a:pt x="103" y="0"/>
                </a:lnTo>
                <a:close/>
              </a:path>
            </a:pathLst>
          </a:custGeom>
          <a:solidFill>
            <a:srgbClr val="5e8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78"/>
          <p:cNvSpPr/>
          <p:nvPr/>
        </p:nvSpPr>
        <p:spPr>
          <a:xfrm>
            <a:off x="7893000" y="287280"/>
            <a:ext cx="279360" cy="374760"/>
          </a:xfrm>
          <a:custGeom>
            <a:avLst/>
            <a:gdLst>
              <a:gd name="textAreaLeft" fmla="*/ 0 w 279360"/>
              <a:gd name="textAreaRight" fmla="*/ 279720 w 279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76" h="236">
                <a:moveTo>
                  <a:pt x="88" y="0"/>
                </a:moveTo>
                <a:lnTo>
                  <a:pt x="100" y="78"/>
                </a:lnTo>
                <a:lnTo>
                  <a:pt x="100" y="81"/>
                </a:lnTo>
                <a:lnTo>
                  <a:pt x="140" y="49"/>
                </a:lnTo>
                <a:lnTo>
                  <a:pt x="142" y="49"/>
                </a:lnTo>
                <a:lnTo>
                  <a:pt x="117" y="101"/>
                </a:lnTo>
                <a:lnTo>
                  <a:pt x="117" y="104"/>
                </a:lnTo>
                <a:lnTo>
                  <a:pt x="176" y="117"/>
                </a:lnTo>
                <a:lnTo>
                  <a:pt x="120" y="133"/>
                </a:lnTo>
                <a:lnTo>
                  <a:pt x="115" y="133"/>
                </a:lnTo>
                <a:lnTo>
                  <a:pt x="140" y="188"/>
                </a:lnTo>
                <a:lnTo>
                  <a:pt x="100" y="156"/>
                </a:lnTo>
                <a:lnTo>
                  <a:pt x="88" y="233"/>
                </a:lnTo>
                <a:lnTo>
                  <a:pt x="88" y="236"/>
                </a:lnTo>
                <a:lnTo>
                  <a:pt x="78" y="159"/>
                </a:lnTo>
                <a:lnTo>
                  <a:pt x="76" y="156"/>
                </a:lnTo>
                <a:lnTo>
                  <a:pt x="37" y="188"/>
                </a:lnTo>
                <a:lnTo>
                  <a:pt x="59" y="133"/>
                </a:lnTo>
                <a:lnTo>
                  <a:pt x="0" y="117"/>
                </a:lnTo>
                <a:lnTo>
                  <a:pt x="59" y="104"/>
                </a:lnTo>
                <a:lnTo>
                  <a:pt x="61" y="101"/>
                </a:lnTo>
                <a:lnTo>
                  <a:pt x="37" y="49"/>
                </a:lnTo>
                <a:lnTo>
                  <a:pt x="76" y="81"/>
                </a:lnTo>
                <a:lnTo>
                  <a:pt x="88" y="0"/>
                </a:lnTo>
                <a:close/>
              </a:path>
            </a:pathLst>
          </a:custGeom>
          <a:solidFill>
            <a:srgbClr val="87a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9"/>
          <p:cNvSpPr/>
          <p:nvPr/>
        </p:nvSpPr>
        <p:spPr>
          <a:xfrm>
            <a:off x="7916760" y="318960"/>
            <a:ext cx="236520" cy="312840"/>
          </a:xfrm>
          <a:custGeom>
            <a:avLst/>
            <a:gdLst>
              <a:gd name="textAreaLeft" fmla="*/ 0 w 236520"/>
              <a:gd name="textAreaRight" fmla="*/ 236880 w 23652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149" h="197">
                <a:moveTo>
                  <a:pt x="73" y="0"/>
                </a:moveTo>
                <a:lnTo>
                  <a:pt x="83" y="64"/>
                </a:lnTo>
                <a:lnTo>
                  <a:pt x="120" y="38"/>
                </a:lnTo>
                <a:lnTo>
                  <a:pt x="98" y="84"/>
                </a:lnTo>
                <a:lnTo>
                  <a:pt x="147" y="97"/>
                </a:lnTo>
                <a:lnTo>
                  <a:pt x="149" y="97"/>
                </a:lnTo>
                <a:lnTo>
                  <a:pt x="100" y="110"/>
                </a:lnTo>
                <a:lnTo>
                  <a:pt x="98" y="110"/>
                </a:lnTo>
                <a:lnTo>
                  <a:pt x="120" y="158"/>
                </a:lnTo>
                <a:lnTo>
                  <a:pt x="85" y="129"/>
                </a:lnTo>
                <a:lnTo>
                  <a:pt x="83" y="129"/>
                </a:lnTo>
                <a:lnTo>
                  <a:pt x="73" y="194"/>
                </a:lnTo>
                <a:lnTo>
                  <a:pt x="73" y="197"/>
                </a:lnTo>
                <a:lnTo>
                  <a:pt x="63" y="132"/>
                </a:lnTo>
                <a:lnTo>
                  <a:pt x="63" y="129"/>
                </a:lnTo>
                <a:lnTo>
                  <a:pt x="29" y="158"/>
                </a:lnTo>
                <a:lnTo>
                  <a:pt x="27" y="158"/>
                </a:lnTo>
                <a:lnTo>
                  <a:pt x="49" y="113"/>
                </a:lnTo>
                <a:lnTo>
                  <a:pt x="49" y="110"/>
                </a:lnTo>
                <a:lnTo>
                  <a:pt x="0" y="97"/>
                </a:lnTo>
                <a:lnTo>
                  <a:pt x="46" y="84"/>
                </a:lnTo>
                <a:lnTo>
                  <a:pt x="49" y="84"/>
                </a:lnTo>
                <a:lnTo>
                  <a:pt x="27" y="38"/>
                </a:lnTo>
                <a:lnTo>
                  <a:pt x="27" y="35"/>
                </a:lnTo>
                <a:lnTo>
                  <a:pt x="61" y="64"/>
                </a:lnTo>
                <a:lnTo>
                  <a:pt x="63" y="64"/>
                </a:lnTo>
                <a:lnTo>
                  <a:pt x="73" y="0"/>
                </a:lnTo>
                <a:close/>
              </a:path>
            </a:pathLst>
          </a:custGeom>
          <a:solidFill>
            <a:srgbClr val="adc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0"/>
          <p:cNvSpPr/>
          <p:nvPr/>
        </p:nvSpPr>
        <p:spPr>
          <a:xfrm>
            <a:off x="7939080" y="349200"/>
            <a:ext cx="190440" cy="252360"/>
          </a:xfrm>
          <a:custGeom>
            <a:avLst/>
            <a:gdLst>
              <a:gd name="textAreaLeft" fmla="*/ 0 w 190440"/>
              <a:gd name="textAreaRight" fmla="*/ 190800 w 1904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" h="159">
                <a:moveTo>
                  <a:pt x="59" y="0"/>
                </a:moveTo>
                <a:lnTo>
                  <a:pt x="69" y="49"/>
                </a:lnTo>
                <a:lnTo>
                  <a:pt x="69" y="52"/>
                </a:lnTo>
                <a:lnTo>
                  <a:pt x="98" y="26"/>
                </a:lnTo>
                <a:lnTo>
                  <a:pt x="81" y="65"/>
                </a:lnTo>
                <a:lnTo>
                  <a:pt x="81" y="68"/>
                </a:lnTo>
                <a:lnTo>
                  <a:pt x="120" y="78"/>
                </a:lnTo>
                <a:lnTo>
                  <a:pt x="81" y="91"/>
                </a:lnTo>
                <a:lnTo>
                  <a:pt x="98" y="129"/>
                </a:lnTo>
                <a:lnTo>
                  <a:pt x="69" y="107"/>
                </a:lnTo>
                <a:lnTo>
                  <a:pt x="59" y="159"/>
                </a:lnTo>
                <a:lnTo>
                  <a:pt x="52" y="107"/>
                </a:lnTo>
                <a:lnTo>
                  <a:pt x="22" y="129"/>
                </a:lnTo>
                <a:lnTo>
                  <a:pt x="20" y="129"/>
                </a:lnTo>
                <a:lnTo>
                  <a:pt x="37" y="91"/>
                </a:lnTo>
                <a:lnTo>
                  <a:pt x="40" y="91"/>
                </a:lnTo>
                <a:lnTo>
                  <a:pt x="0" y="78"/>
                </a:lnTo>
                <a:lnTo>
                  <a:pt x="37" y="68"/>
                </a:lnTo>
                <a:lnTo>
                  <a:pt x="40" y="68"/>
                </a:lnTo>
                <a:lnTo>
                  <a:pt x="20" y="26"/>
                </a:lnTo>
                <a:lnTo>
                  <a:pt x="49" y="49"/>
                </a:lnTo>
                <a:lnTo>
                  <a:pt x="52" y="52"/>
                </a:lnTo>
                <a:lnTo>
                  <a:pt x="59" y="0"/>
                </a:lnTo>
                <a:close/>
              </a:path>
            </a:pathLst>
          </a:custGeom>
          <a:solidFill>
            <a:srgbClr val="d8e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81"/>
          <p:cNvSpPr/>
          <p:nvPr/>
        </p:nvSpPr>
        <p:spPr>
          <a:xfrm>
            <a:off x="7959600" y="374760"/>
            <a:ext cx="147600" cy="195120"/>
          </a:xfrm>
          <a:custGeom>
            <a:avLst/>
            <a:gdLst>
              <a:gd name="textAreaLeft" fmla="*/ 0 w 147600"/>
              <a:gd name="textAreaRight" fmla="*/ 147600 w 147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" h="123">
                <a:moveTo>
                  <a:pt x="46" y="0"/>
                </a:moveTo>
                <a:lnTo>
                  <a:pt x="53" y="39"/>
                </a:lnTo>
                <a:lnTo>
                  <a:pt x="80" y="20"/>
                </a:lnTo>
                <a:lnTo>
                  <a:pt x="63" y="52"/>
                </a:lnTo>
                <a:lnTo>
                  <a:pt x="93" y="62"/>
                </a:lnTo>
                <a:lnTo>
                  <a:pt x="63" y="71"/>
                </a:lnTo>
                <a:lnTo>
                  <a:pt x="80" y="104"/>
                </a:lnTo>
                <a:lnTo>
                  <a:pt x="53" y="84"/>
                </a:lnTo>
                <a:lnTo>
                  <a:pt x="46" y="123"/>
                </a:lnTo>
                <a:lnTo>
                  <a:pt x="39" y="84"/>
                </a:lnTo>
                <a:lnTo>
                  <a:pt x="14" y="104"/>
                </a:lnTo>
                <a:lnTo>
                  <a:pt x="29" y="71"/>
                </a:lnTo>
                <a:lnTo>
                  <a:pt x="0" y="62"/>
                </a:lnTo>
                <a:lnTo>
                  <a:pt x="29" y="52"/>
                </a:lnTo>
                <a:lnTo>
                  <a:pt x="14" y="20"/>
                </a:lnTo>
                <a:lnTo>
                  <a:pt x="39" y="39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2"/>
          <p:cNvSpPr/>
          <p:nvPr/>
        </p:nvSpPr>
        <p:spPr>
          <a:xfrm>
            <a:off x="-4680" y="1274760"/>
            <a:ext cx="3430440" cy="397980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3979800"/>
              <a:gd name="textAreaBottom" fmla="*/ 3979800 h 3979800"/>
            </a:gdLst>
            <a:ahLst/>
            <a:rect l="textAreaLeft" t="textAreaTop" r="textAreaRight" b="textAreaBottom"/>
            <a:pathLst>
              <a:path w="2161" h="2507">
                <a:moveTo>
                  <a:pt x="945" y="0"/>
                </a:moveTo>
                <a:lnTo>
                  <a:pt x="969" y="12"/>
                </a:lnTo>
                <a:lnTo>
                  <a:pt x="1006" y="32"/>
                </a:lnTo>
                <a:lnTo>
                  <a:pt x="1057" y="61"/>
                </a:lnTo>
                <a:lnTo>
                  <a:pt x="1116" y="97"/>
                </a:lnTo>
                <a:lnTo>
                  <a:pt x="1184" y="142"/>
                </a:lnTo>
                <a:lnTo>
                  <a:pt x="1263" y="190"/>
                </a:lnTo>
                <a:lnTo>
                  <a:pt x="1346" y="245"/>
                </a:lnTo>
                <a:lnTo>
                  <a:pt x="1434" y="307"/>
                </a:lnTo>
                <a:lnTo>
                  <a:pt x="1525" y="375"/>
                </a:lnTo>
                <a:lnTo>
                  <a:pt x="1620" y="446"/>
                </a:lnTo>
                <a:lnTo>
                  <a:pt x="1715" y="524"/>
                </a:lnTo>
                <a:lnTo>
                  <a:pt x="1811" y="601"/>
                </a:lnTo>
                <a:lnTo>
                  <a:pt x="1904" y="686"/>
                </a:lnTo>
                <a:lnTo>
                  <a:pt x="1994" y="773"/>
                </a:lnTo>
                <a:lnTo>
                  <a:pt x="2080" y="860"/>
                </a:lnTo>
                <a:lnTo>
                  <a:pt x="2161" y="951"/>
                </a:lnTo>
                <a:lnTo>
                  <a:pt x="2156" y="993"/>
                </a:lnTo>
                <a:lnTo>
                  <a:pt x="2146" y="1087"/>
                </a:lnTo>
                <a:lnTo>
                  <a:pt x="2134" y="1223"/>
                </a:lnTo>
                <a:lnTo>
                  <a:pt x="2122" y="1381"/>
                </a:lnTo>
                <a:lnTo>
                  <a:pt x="2109" y="1546"/>
                </a:lnTo>
                <a:lnTo>
                  <a:pt x="2102" y="1708"/>
                </a:lnTo>
                <a:lnTo>
                  <a:pt x="2102" y="1847"/>
                </a:lnTo>
                <a:lnTo>
                  <a:pt x="2109" y="1951"/>
                </a:lnTo>
                <a:lnTo>
                  <a:pt x="2080" y="1948"/>
                </a:lnTo>
                <a:lnTo>
                  <a:pt x="2048" y="1948"/>
                </a:lnTo>
                <a:lnTo>
                  <a:pt x="2016" y="1948"/>
                </a:lnTo>
                <a:lnTo>
                  <a:pt x="1980" y="1948"/>
                </a:lnTo>
                <a:lnTo>
                  <a:pt x="1943" y="1951"/>
                </a:lnTo>
                <a:lnTo>
                  <a:pt x="1904" y="1957"/>
                </a:lnTo>
                <a:lnTo>
                  <a:pt x="1865" y="1961"/>
                </a:lnTo>
                <a:lnTo>
                  <a:pt x="1823" y="1967"/>
                </a:lnTo>
                <a:lnTo>
                  <a:pt x="1779" y="1973"/>
                </a:lnTo>
                <a:lnTo>
                  <a:pt x="1735" y="1983"/>
                </a:lnTo>
                <a:lnTo>
                  <a:pt x="1691" y="1993"/>
                </a:lnTo>
                <a:lnTo>
                  <a:pt x="1645" y="2003"/>
                </a:lnTo>
                <a:lnTo>
                  <a:pt x="1596" y="2012"/>
                </a:lnTo>
                <a:lnTo>
                  <a:pt x="1549" y="2025"/>
                </a:lnTo>
                <a:lnTo>
                  <a:pt x="1500" y="2038"/>
                </a:lnTo>
                <a:lnTo>
                  <a:pt x="1451" y="2051"/>
                </a:lnTo>
                <a:lnTo>
                  <a:pt x="1434" y="2054"/>
                </a:lnTo>
                <a:lnTo>
                  <a:pt x="1417" y="2058"/>
                </a:lnTo>
                <a:lnTo>
                  <a:pt x="1400" y="2064"/>
                </a:lnTo>
                <a:lnTo>
                  <a:pt x="1383" y="2071"/>
                </a:lnTo>
                <a:lnTo>
                  <a:pt x="1339" y="2083"/>
                </a:lnTo>
                <a:lnTo>
                  <a:pt x="1297" y="2096"/>
                </a:lnTo>
                <a:lnTo>
                  <a:pt x="1253" y="2109"/>
                </a:lnTo>
                <a:lnTo>
                  <a:pt x="1211" y="2122"/>
                </a:lnTo>
                <a:lnTo>
                  <a:pt x="1167" y="2138"/>
                </a:lnTo>
                <a:lnTo>
                  <a:pt x="1126" y="2151"/>
                </a:lnTo>
                <a:lnTo>
                  <a:pt x="1082" y="2168"/>
                </a:lnTo>
                <a:lnTo>
                  <a:pt x="1040" y="2181"/>
                </a:lnTo>
                <a:lnTo>
                  <a:pt x="1023" y="2187"/>
                </a:lnTo>
                <a:lnTo>
                  <a:pt x="1008" y="2193"/>
                </a:lnTo>
                <a:lnTo>
                  <a:pt x="994" y="2200"/>
                </a:lnTo>
                <a:lnTo>
                  <a:pt x="976" y="2206"/>
                </a:lnTo>
                <a:lnTo>
                  <a:pt x="930" y="2226"/>
                </a:lnTo>
                <a:lnTo>
                  <a:pt x="883" y="2242"/>
                </a:lnTo>
                <a:lnTo>
                  <a:pt x="837" y="2261"/>
                </a:lnTo>
                <a:lnTo>
                  <a:pt x="793" y="2281"/>
                </a:lnTo>
                <a:lnTo>
                  <a:pt x="749" y="2300"/>
                </a:lnTo>
                <a:lnTo>
                  <a:pt x="707" y="2320"/>
                </a:lnTo>
                <a:lnTo>
                  <a:pt x="666" y="2339"/>
                </a:lnTo>
                <a:lnTo>
                  <a:pt x="627" y="2359"/>
                </a:lnTo>
                <a:lnTo>
                  <a:pt x="587" y="2378"/>
                </a:lnTo>
                <a:lnTo>
                  <a:pt x="553" y="2397"/>
                </a:lnTo>
                <a:lnTo>
                  <a:pt x="519" y="2417"/>
                </a:lnTo>
                <a:lnTo>
                  <a:pt x="485" y="2433"/>
                </a:lnTo>
                <a:lnTo>
                  <a:pt x="455" y="2452"/>
                </a:lnTo>
                <a:lnTo>
                  <a:pt x="426" y="2472"/>
                </a:lnTo>
                <a:lnTo>
                  <a:pt x="401" y="2491"/>
                </a:lnTo>
                <a:lnTo>
                  <a:pt x="377" y="2507"/>
                </a:lnTo>
                <a:lnTo>
                  <a:pt x="362" y="2446"/>
                </a:lnTo>
                <a:lnTo>
                  <a:pt x="330" y="2333"/>
                </a:lnTo>
                <a:lnTo>
                  <a:pt x="286" y="2181"/>
                </a:lnTo>
                <a:lnTo>
                  <a:pt x="233" y="2009"/>
                </a:lnTo>
                <a:lnTo>
                  <a:pt x="171" y="1834"/>
                </a:lnTo>
                <a:lnTo>
                  <a:pt x="110" y="1669"/>
                </a:lnTo>
                <a:lnTo>
                  <a:pt x="51" y="1533"/>
                </a:lnTo>
                <a:lnTo>
                  <a:pt x="0" y="1440"/>
                </a:lnTo>
                <a:lnTo>
                  <a:pt x="25" y="1378"/>
                </a:lnTo>
                <a:lnTo>
                  <a:pt x="59" y="1300"/>
                </a:lnTo>
                <a:lnTo>
                  <a:pt x="103" y="1216"/>
                </a:lnTo>
                <a:lnTo>
                  <a:pt x="152" y="1119"/>
                </a:lnTo>
                <a:lnTo>
                  <a:pt x="211" y="1019"/>
                </a:lnTo>
                <a:lnTo>
                  <a:pt x="274" y="912"/>
                </a:lnTo>
                <a:lnTo>
                  <a:pt x="340" y="802"/>
                </a:lnTo>
                <a:lnTo>
                  <a:pt x="411" y="689"/>
                </a:lnTo>
                <a:lnTo>
                  <a:pt x="482" y="579"/>
                </a:lnTo>
                <a:lnTo>
                  <a:pt x="556" y="472"/>
                </a:lnTo>
                <a:lnTo>
                  <a:pt x="629" y="372"/>
                </a:lnTo>
                <a:lnTo>
                  <a:pt x="700" y="275"/>
                </a:lnTo>
                <a:lnTo>
                  <a:pt x="768" y="187"/>
                </a:lnTo>
                <a:lnTo>
                  <a:pt x="832" y="113"/>
                </a:lnTo>
                <a:lnTo>
                  <a:pt x="891" y="48"/>
                </a:lnTo>
                <a:lnTo>
                  <a:pt x="945" y="0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183"/>
          <p:cNvSpPr/>
          <p:nvPr/>
        </p:nvSpPr>
        <p:spPr>
          <a:xfrm>
            <a:off x="1211400" y="4633920"/>
            <a:ext cx="1581120" cy="99072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996" h="624">
                <a:moveTo>
                  <a:pt x="247" y="126"/>
                </a:moveTo>
                <a:lnTo>
                  <a:pt x="230" y="152"/>
                </a:lnTo>
                <a:lnTo>
                  <a:pt x="201" y="207"/>
                </a:lnTo>
                <a:lnTo>
                  <a:pt x="164" y="278"/>
                </a:lnTo>
                <a:lnTo>
                  <a:pt x="120" y="359"/>
                </a:lnTo>
                <a:lnTo>
                  <a:pt x="78" y="446"/>
                </a:lnTo>
                <a:lnTo>
                  <a:pt x="42" y="524"/>
                </a:lnTo>
                <a:lnTo>
                  <a:pt x="15" y="586"/>
                </a:lnTo>
                <a:lnTo>
                  <a:pt x="0" y="624"/>
                </a:lnTo>
                <a:lnTo>
                  <a:pt x="32" y="608"/>
                </a:lnTo>
                <a:lnTo>
                  <a:pt x="76" y="589"/>
                </a:lnTo>
                <a:lnTo>
                  <a:pt x="130" y="569"/>
                </a:lnTo>
                <a:lnTo>
                  <a:pt x="191" y="547"/>
                </a:lnTo>
                <a:lnTo>
                  <a:pt x="259" y="521"/>
                </a:lnTo>
                <a:lnTo>
                  <a:pt x="335" y="498"/>
                </a:lnTo>
                <a:lnTo>
                  <a:pt x="411" y="472"/>
                </a:lnTo>
                <a:lnTo>
                  <a:pt x="492" y="446"/>
                </a:lnTo>
                <a:lnTo>
                  <a:pt x="570" y="424"/>
                </a:lnTo>
                <a:lnTo>
                  <a:pt x="648" y="398"/>
                </a:lnTo>
                <a:lnTo>
                  <a:pt x="724" y="375"/>
                </a:lnTo>
                <a:lnTo>
                  <a:pt x="795" y="353"/>
                </a:lnTo>
                <a:lnTo>
                  <a:pt x="859" y="333"/>
                </a:lnTo>
                <a:lnTo>
                  <a:pt x="915" y="317"/>
                </a:lnTo>
                <a:lnTo>
                  <a:pt x="962" y="301"/>
                </a:lnTo>
                <a:lnTo>
                  <a:pt x="996" y="288"/>
                </a:lnTo>
                <a:lnTo>
                  <a:pt x="972" y="265"/>
                </a:lnTo>
                <a:lnTo>
                  <a:pt x="937" y="230"/>
                </a:lnTo>
                <a:lnTo>
                  <a:pt x="896" y="188"/>
                </a:lnTo>
                <a:lnTo>
                  <a:pt x="852" y="139"/>
                </a:lnTo>
                <a:lnTo>
                  <a:pt x="805" y="94"/>
                </a:lnTo>
                <a:lnTo>
                  <a:pt x="766" y="52"/>
                </a:lnTo>
                <a:lnTo>
                  <a:pt x="732" y="19"/>
                </a:lnTo>
                <a:lnTo>
                  <a:pt x="710" y="0"/>
                </a:lnTo>
                <a:lnTo>
                  <a:pt x="695" y="0"/>
                </a:lnTo>
                <a:lnTo>
                  <a:pt x="673" y="0"/>
                </a:lnTo>
                <a:lnTo>
                  <a:pt x="648" y="3"/>
                </a:lnTo>
                <a:lnTo>
                  <a:pt x="622" y="6"/>
                </a:lnTo>
                <a:lnTo>
                  <a:pt x="590" y="13"/>
                </a:lnTo>
                <a:lnTo>
                  <a:pt x="558" y="19"/>
                </a:lnTo>
                <a:lnTo>
                  <a:pt x="524" y="29"/>
                </a:lnTo>
                <a:lnTo>
                  <a:pt x="487" y="39"/>
                </a:lnTo>
                <a:lnTo>
                  <a:pt x="453" y="48"/>
                </a:lnTo>
                <a:lnTo>
                  <a:pt x="416" y="61"/>
                </a:lnTo>
                <a:lnTo>
                  <a:pt x="382" y="71"/>
                </a:lnTo>
                <a:lnTo>
                  <a:pt x="350" y="84"/>
                </a:lnTo>
                <a:lnTo>
                  <a:pt x="318" y="94"/>
                </a:lnTo>
                <a:lnTo>
                  <a:pt x="291" y="107"/>
                </a:lnTo>
                <a:lnTo>
                  <a:pt x="267" y="116"/>
                </a:lnTo>
                <a:lnTo>
                  <a:pt x="247" y="126"/>
                </a:lnTo>
                <a:close/>
              </a:path>
            </a:pathLst>
          </a:custGeom>
          <a:solidFill>
            <a:srgbClr val="337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184"/>
          <p:cNvSpPr/>
          <p:nvPr/>
        </p:nvSpPr>
        <p:spPr>
          <a:xfrm>
            <a:off x="1374840" y="3035160"/>
            <a:ext cx="920520" cy="1741680"/>
          </a:xfrm>
          <a:custGeom>
            <a:avLst/>
            <a:gdLst>
              <a:gd name="textAreaLeft" fmla="*/ 0 w 920520"/>
              <a:gd name="textAreaRight" fmla="*/ 920880 w 920520"/>
              <a:gd name="textAreaTop" fmla="*/ 0 h 1741680"/>
              <a:gd name="textAreaBottom" fmla="*/ 1742040 h 1741680"/>
            </a:gdLst>
            <a:ahLst/>
            <a:rect l="textAreaLeft" t="textAreaTop" r="textAreaRight" b="textAreaBottom"/>
            <a:pathLst>
              <a:path w="580" h="1097">
                <a:moveTo>
                  <a:pt x="117" y="777"/>
                </a:moveTo>
                <a:lnTo>
                  <a:pt x="132" y="874"/>
                </a:lnTo>
                <a:lnTo>
                  <a:pt x="147" y="958"/>
                </a:lnTo>
                <a:lnTo>
                  <a:pt x="161" y="1026"/>
                </a:lnTo>
                <a:lnTo>
                  <a:pt x="171" y="1072"/>
                </a:lnTo>
                <a:lnTo>
                  <a:pt x="154" y="1078"/>
                </a:lnTo>
                <a:lnTo>
                  <a:pt x="139" y="1084"/>
                </a:lnTo>
                <a:lnTo>
                  <a:pt x="125" y="1091"/>
                </a:lnTo>
                <a:lnTo>
                  <a:pt x="107" y="1097"/>
                </a:lnTo>
                <a:lnTo>
                  <a:pt x="103" y="1072"/>
                </a:lnTo>
                <a:lnTo>
                  <a:pt x="93" y="1010"/>
                </a:lnTo>
                <a:lnTo>
                  <a:pt x="78" y="926"/>
                </a:lnTo>
                <a:lnTo>
                  <a:pt x="61" y="826"/>
                </a:lnTo>
                <a:lnTo>
                  <a:pt x="44" y="725"/>
                </a:lnTo>
                <a:lnTo>
                  <a:pt x="29" y="631"/>
                </a:lnTo>
                <a:lnTo>
                  <a:pt x="14" y="551"/>
                </a:lnTo>
                <a:lnTo>
                  <a:pt x="7" y="499"/>
                </a:lnTo>
                <a:lnTo>
                  <a:pt x="2" y="453"/>
                </a:lnTo>
                <a:lnTo>
                  <a:pt x="0" y="392"/>
                </a:lnTo>
                <a:lnTo>
                  <a:pt x="5" y="318"/>
                </a:lnTo>
                <a:lnTo>
                  <a:pt x="19" y="240"/>
                </a:lnTo>
                <a:lnTo>
                  <a:pt x="49" y="165"/>
                </a:lnTo>
                <a:lnTo>
                  <a:pt x="95" y="98"/>
                </a:lnTo>
                <a:lnTo>
                  <a:pt x="161" y="43"/>
                </a:lnTo>
                <a:lnTo>
                  <a:pt x="252" y="7"/>
                </a:lnTo>
                <a:lnTo>
                  <a:pt x="345" y="0"/>
                </a:lnTo>
                <a:lnTo>
                  <a:pt x="416" y="26"/>
                </a:lnTo>
                <a:lnTo>
                  <a:pt x="470" y="72"/>
                </a:lnTo>
                <a:lnTo>
                  <a:pt x="506" y="133"/>
                </a:lnTo>
                <a:lnTo>
                  <a:pt x="531" y="204"/>
                </a:lnTo>
                <a:lnTo>
                  <a:pt x="545" y="276"/>
                </a:lnTo>
                <a:lnTo>
                  <a:pt x="550" y="340"/>
                </a:lnTo>
                <a:lnTo>
                  <a:pt x="553" y="395"/>
                </a:lnTo>
                <a:lnTo>
                  <a:pt x="555" y="518"/>
                </a:lnTo>
                <a:lnTo>
                  <a:pt x="560" y="683"/>
                </a:lnTo>
                <a:lnTo>
                  <a:pt x="568" y="842"/>
                </a:lnTo>
                <a:lnTo>
                  <a:pt x="580" y="942"/>
                </a:lnTo>
                <a:lnTo>
                  <a:pt x="563" y="945"/>
                </a:lnTo>
                <a:lnTo>
                  <a:pt x="548" y="952"/>
                </a:lnTo>
                <a:lnTo>
                  <a:pt x="531" y="955"/>
                </a:lnTo>
                <a:lnTo>
                  <a:pt x="514" y="962"/>
                </a:lnTo>
                <a:lnTo>
                  <a:pt x="506" y="861"/>
                </a:lnTo>
                <a:lnTo>
                  <a:pt x="499" y="674"/>
                </a:lnTo>
                <a:lnTo>
                  <a:pt x="492" y="473"/>
                </a:lnTo>
                <a:lnTo>
                  <a:pt x="487" y="337"/>
                </a:lnTo>
                <a:lnTo>
                  <a:pt x="482" y="295"/>
                </a:lnTo>
                <a:lnTo>
                  <a:pt x="475" y="253"/>
                </a:lnTo>
                <a:lnTo>
                  <a:pt x="462" y="211"/>
                </a:lnTo>
                <a:lnTo>
                  <a:pt x="440" y="172"/>
                </a:lnTo>
                <a:lnTo>
                  <a:pt x="413" y="140"/>
                </a:lnTo>
                <a:lnTo>
                  <a:pt x="377" y="114"/>
                </a:lnTo>
                <a:lnTo>
                  <a:pt x="333" y="101"/>
                </a:lnTo>
                <a:lnTo>
                  <a:pt x="276" y="104"/>
                </a:lnTo>
                <a:lnTo>
                  <a:pt x="220" y="120"/>
                </a:lnTo>
                <a:lnTo>
                  <a:pt x="174" y="153"/>
                </a:lnTo>
                <a:lnTo>
                  <a:pt x="139" y="195"/>
                </a:lnTo>
                <a:lnTo>
                  <a:pt x="112" y="240"/>
                </a:lnTo>
                <a:lnTo>
                  <a:pt x="93" y="288"/>
                </a:lnTo>
                <a:lnTo>
                  <a:pt x="81" y="337"/>
                </a:lnTo>
                <a:lnTo>
                  <a:pt x="73" y="382"/>
                </a:lnTo>
                <a:lnTo>
                  <a:pt x="71" y="418"/>
                </a:lnTo>
                <a:lnTo>
                  <a:pt x="71" y="431"/>
                </a:lnTo>
                <a:lnTo>
                  <a:pt x="73" y="444"/>
                </a:lnTo>
                <a:lnTo>
                  <a:pt x="76" y="460"/>
                </a:lnTo>
                <a:lnTo>
                  <a:pt x="78" y="479"/>
                </a:lnTo>
                <a:lnTo>
                  <a:pt x="85" y="541"/>
                </a:lnTo>
                <a:lnTo>
                  <a:pt x="95" y="612"/>
                </a:lnTo>
                <a:lnTo>
                  <a:pt x="105" y="693"/>
                </a:lnTo>
                <a:lnTo>
                  <a:pt x="117" y="777"/>
                </a:lnTo>
                <a:close/>
              </a:path>
            </a:pathLst>
          </a:custGeom>
          <a:solidFill>
            <a:srgbClr val="8c8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85"/>
          <p:cNvSpPr/>
          <p:nvPr/>
        </p:nvSpPr>
        <p:spPr>
          <a:xfrm>
            <a:off x="-184320" y="888840"/>
            <a:ext cx="3718080" cy="275292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2752920"/>
              <a:gd name="textAreaBottom" fmla="*/ 2753280 h 2752920"/>
            </a:gdLst>
            <a:ahLst/>
            <a:rect l="textAreaLeft" t="textAreaTop" r="textAreaRight" b="textAreaBottom"/>
            <a:pathLst>
              <a:path w="2342" h="1734">
                <a:moveTo>
                  <a:pt x="2274" y="1194"/>
                </a:moveTo>
                <a:lnTo>
                  <a:pt x="2193" y="1103"/>
                </a:lnTo>
                <a:lnTo>
                  <a:pt x="2107" y="1016"/>
                </a:lnTo>
                <a:lnTo>
                  <a:pt x="2017" y="929"/>
                </a:lnTo>
                <a:lnTo>
                  <a:pt x="1924" y="844"/>
                </a:lnTo>
                <a:lnTo>
                  <a:pt x="1828" y="767"/>
                </a:lnTo>
                <a:lnTo>
                  <a:pt x="1733" y="689"/>
                </a:lnTo>
                <a:lnTo>
                  <a:pt x="1638" y="618"/>
                </a:lnTo>
                <a:lnTo>
                  <a:pt x="1547" y="550"/>
                </a:lnTo>
                <a:lnTo>
                  <a:pt x="1459" y="488"/>
                </a:lnTo>
                <a:lnTo>
                  <a:pt x="1376" y="433"/>
                </a:lnTo>
                <a:lnTo>
                  <a:pt x="1297" y="385"/>
                </a:lnTo>
                <a:lnTo>
                  <a:pt x="1229" y="340"/>
                </a:lnTo>
                <a:lnTo>
                  <a:pt x="1170" y="304"/>
                </a:lnTo>
                <a:lnTo>
                  <a:pt x="1119" y="275"/>
                </a:lnTo>
                <a:lnTo>
                  <a:pt x="1082" y="255"/>
                </a:lnTo>
                <a:lnTo>
                  <a:pt x="1058" y="243"/>
                </a:lnTo>
                <a:lnTo>
                  <a:pt x="1004" y="291"/>
                </a:lnTo>
                <a:lnTo>
                  <a:pt x="945" y="356"/>
                </a:lnTo>
                <a:lnTo>
                  <a:pt x="881" y="430"/>
                </a:lnTo>
                <a:lnTo>
                  <a:pt x="813" y="518"/>
                </a:lnTo>
                <a:lnTo>
                  <a:pt x="742" y="615"/>
                </a:lnTo>
                <a:lnTo>
                  <a:pt x="669" y="715"/>
                </a:lnTo>
                <a:lnTo>
                  <a:pt x="595" y="822"/>
                </a:lnTo>
                <a:lnTo>
                  <a:pt x="524" y="932"/>
                </a:lnTo>
                <a:lnTo>
                  <a:pt x="453" y="1045"/>
                </a:lnTo>
                <a:lnTo>
                  <a:pt x="387" y="1155"/>
                </a:lnTo>
                <a:lnTo>
                  <a:pt x="324" y="1262"/>
                </a:lnTo>
                <a:lnTo>
                  <a:pt x="265" y="1362"/>
                </a:lnTo>
                <a:lnTo>
                  <a:pt x="216" y="1459"/>
                </a:lnTo>
                <a:lnTo>
                  <a:pt x="172" y="1543"/>
                </a:lnTo>
                <a:lnTo>
                  <a:pt x="138" y="1621"/>
                </a:lnTo>
                <a:lnTo>
                  <a:pt x="113" y="1683"/>
                </a:lnTo>
                <a:lnTo>
                  <a:pt x="101" y="1699"/>
                </a:lnTo>
                <a:lnTo>
                  <a:pt x="93" y="1715"/>
                </a:lnTo>
                <a:lnTo>
                  <a:pt x="91" y="1728"/>
                </a:lnTo>
                <a:lnTo>
                  <a:pt x="89" y="1734"/>
                </a:lnTo>
                <a:lnTo>
                  <a:pt x="0" y="1585"/>
                </a:lnTo>
                <a:lnTo>
                  <a:pt x="35" y="1514"/>
                </a:lnTo>
                <a:lnTo>
                  <a:pt x="81" y="1424"/>
                </a:lnTo>
                <a:lnTo>
                  <a:pt x="138" y="1323"/>
                </a:lnTo>
                <a:lnTo>
                  <a:pt x="201" y="1210"/>
                </a:lnTo>
                <a:lnTo>
                  <a:pt x="272" y="1090"/>
                </a:lnTo>
                <a:lnTo>
                  <a:pt x="350" y="967"/>
                </a:lnTo>
                <a:lnTo>
                  <a:pt x="429" y="838"/>
                </a:lnTo>
                <a:lnTo>
                  <a:pt x="512" y="708"/>
                </a:lnTo>
                <a:lnTo>
                  <a:pt x="593" y="586"/>
                </a:lnTo>
                <a:lnTo>
                  <a:pt x="673" y="466"/>
                </a:lnTo>
                <a:lnTo>
                  <a:pt x="749" y="353"/>
                </a:lnTo>
                <a:lnTo>
                  <a:pt x="820" y="249"/>
                </a:lnTo>
                <a:lnTo>
                  <a:pt x="886" y="162"/>
                </a:lnTo>
                <a:lnTo>
                  <a:pt x="943" y="87"/>
                </a:lnTo>
                <a:lnTo>
                  <a:pt x="987" y="32"/>
                </a:lnTo>
                <a:lnTo>
                  <a:pt x="1021" y="0"/>
                </a:lnTo>
                <a:lnTo>
                  <a:pt x="1065" y="26"/>
                </a:lnTo>
                <a:lnTo>
                  <a:pt x="1121" y="61"/>
                </a:lnTo>
                <a:lnTo>
                  <a:pt x="1185" y="107"/>
                </a:lnTo>
                <a:lnTo>
                  <a:pt x="1256" y="155"/>
                </a:lnTo>
                <a:lnTo>
                  <a:pt x="1332" y="210"/>
                </a:lnTo>
                <a:lnTo>
                  <a:pt x="1415" y="272"/>
                </a:lnTo>
                <a:lnTo>
                  <a:pt x="1503" y="336"/>
                </a:lnTo>
                <a:lnTo>
                  <a:pt x="1596" y="408"/>
                </a:lnTo>
                <a:lnTo>
                  <a:pt x="1689" y="479"/>
                </a:lnTo>
                <a:lnTo>
                  <a:pt x="1787" y="556"/>
                </a:lnTo>
                <a:lnTo>
                  <a:pt x="1882" y="634"/>
                </a:lnTo>
                <a:lnTo>
                  <a:pt x="1980" y="715"/>
                </a:lnTo>
                <a:lnTo>
                  <a:pt x="2073" y="796"/>
                </a:lnTo>
                <a:lnTo>
                  <a:pt x="2166" y="877"/>
                </a:lnTo>
                <a:lnTo>
                  <a:pt x="2257" y="958"/>
                </a:lnTo>
                <a:lnTo>
                  <a:pt x="2342" y="1039"/>
                </a:lnTo>
                <a:lnTo>
                  <a:pt x="2337" y="1074"/>
                </a:lnTo>
                <a:lnTo>
                  <a:pt x="2328" y="1126"/>
                </a:lnTo>
                <a:lnTo>
                  <a:pt x="2313" y="1181"/>
                </a:lnTo>
                <a:lnTo>
                  <a:pt x="2298" y="1226"/>
                </a:lnTo>
                <a:lnTo>
                  <a:pt x="2274" y="1194"/>
                </a:lnTo>
                <a:close/>
              </a:path>
            </a:pathLst>
          </a:custGeom>
          <a:solidFill>
            <a:srgbClr val="8c8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86"/>
          <p:cNvSpPr/>
          <p:nvPr/>
        </p:nvSpPr>
        <p:spPr>
          <a:xfrm>
            <a:off x="2540160" y="3209760"/>
            <a:ext cx="469800" cy="941400"/>
          </a:xfrm>
          <a:custGeom>
            <a:avLst/>
            <a:gdLst>
              <a:gd name="textAreaLeft" fmla="*/ 0 w 469800"/>
              <a:gd name="textAreaRight" fmla="*/ 470160 w 46980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96" h="593">
                <a:moveTo>
                  <a:pt x="296" y="573"/>
                </a:moveTo>
                <a:lnTo>
                  <a:pt x="259" y="573"/>
                </a:lnTo>
                <a:lnTo>
                  <a:pt x="225" y="573"/>
                </a:lnTo>
                <a:lnTo>
                  <a:pt x="191" y="576"/>
                </a:lnTo>
                <a:lnTo>
                  <a:pt x="159" y="576"/>
                </a:lnTo>
                <a:lnTo>
                  <a:pt x="125" y="580"/>
                </a:lnTo>
                <a:lnTo>
                  <a:pt x="93" y="583"/>
                </a:lnTo>
                <a:lnTo>
                  <a:pt x="64" y="589"/>
                </a:lnTo>
                <a:lnTo>
                  <a:pt x="34" y="593"/>
                </a:lnTo>
                <a:lnTo>
                  <a:pt x="29" y="496"/>
                </a:lnTo>
                <a:lnTo>
                  <a:pt x="19" y="314"/>
                </a:lnTo>
                <a:lnTo>
                  <a:pt x="10" y="130"/>
                </a:lnTo>
                <a:lnTo>
                  <a:pt x="0" y="26"/>
                </a:lnTo>
                <a:lnTo>
                  <a:pt x="34" y="23"/>
                </a:lnTo>
                <a:lnTo>
                  <a:pt x="71" y="17"/>
                </a:lnTo>
                <a:lnTo>
                  <a:pt x="108" y="13"/>
                </a:lnTo>
                <a:lnTo>
                  <a:pt x="144" y="10"/>
                </a:lnTo>
                <a:lnTo>
                  <a:pt x="179" y="7"/>
                </a:lnTo>
                <a:lnTo>
                  <a:pt x="215" y="4"/>
                </a:lnTo>
                <a:lnTo>
                  <a:pt x="252" y="0"/>
                </a:lnTo>
                <a:lnTo>
                  <a:pt x="286" y="0"/>
                </a:lnTo>
                <a:lnTo>
                  <a:pt x="286" y="175"/>
                </a:lnTo>
                <a:lnTo>
                  <a:pt x="289" y="340"/>
                </a:lnTo>
                <a:lnTo>
                  <a:pt x="294" y="479"/>
                </a:lnTo>
                <a:lnTo>
                  <a:pt x="296" y="57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187"/>
          <p:cNvSpPr/>
          <p:nvPr/>
        </p:nvSpPr>
        <p:spPr>
          <a:xfrm>
            <a:off x="1082520" y="1644480"/>
            <a:ext cx="816120" cy="873360"/>
          </a:xfrm>
          <a:custGeom>
            <a:avLst/>
            <a:gdLst>
              <a:gd name="textAreaLeft" fmla="*/ 0 w 816120"/>
              <a:gd name="textAreaRight" fmla="*/ 816480 w 81612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514" h="550">
                <a:moveTo>
                  <a:pt x="514" y="378"/>
                </a:moveTo>
                <a:lnTo>
                  <a:pt x="490" y="388"/>
                </a:lnTo>
                <a:lnTo>
                  <a:pt x="468" y="394"/>
                </a:lnTo>
                <a:lnTo>
                  <a:pt x="441" y="404"/>
                </a:lnTo>
                <a:lnTo>
                  <a:pt x="416" y="414"/>
                </a:lnTo>
                <a:lnTo>
                  <a:pt x="389" y="423"/>
                </a:lnTo>
                <a:lnTo>
                  <a:pt x="362" y="433"/>
                </a:lnTo>
                <a:lnTo>
                  <a:pt x="336" y="443"/>
                </a:lnTo>
                <a:lnTo>
                  <a:pt x="309" y="456"/>
                </a:lnTo>
                <a:lnTo>
                  <a:pt x="282" y="465"/>
                </a:lnTo>
                <a:lnTo>
                  <a:pt x="255" y="478"/>
                </a:lnTo>
                <a:lnTo>
                  <a:pt x="228" y="488"/>
                </a:lnTo>
                <a:lnTo>
                  <a:pt x="201" y="501"/>
                </a:lnTo>
                <a:lnTo>
                  <a:pt x="176" y="514"/>
                </a:lnTo>
                <a:lnTo>
                  <a:pt x="150" y="527"/>
                </a:lnTo>
                <a:lnTo>
                  <a:pt x="125" y="537"/>
                </a:lnTo>
                <a:lnTo>
                  <a:pt x="101" y="550"/>
                </a:lnTo>
                <a:lnTo>
                  <a:pt x="93" y="524"/>
                </a:lnTo>
                <a:lnTo>
                  <a:pt x="83" y="475"/>
                </a:lnTo>
                <a:lnTo>
                  <a:pt x="69" y="417"/>
                </a:lnTo>
                <a:lnTo>
                  <a:pt x="54" y="352"/>
                </a:lnTo>
                <a:lnTo>
                  <a:pt x="37" y="284"/>
                </a:lnTo>
                <a:lnTo>
                  <a:pt x="22" y="223"/>
                </a:lnTo>
                <a:lnTo>
                  <a:pt x="10" y="174"/>
                </a:lnTo>
                <a:lnTo>
                  <a:pt x="0" y="145"/>
                </a:lnTo>
                <a:lnTo>
                  <a:pt x="27" y="132"/>
                </a:lnTo>
                <a:lnTo>
                  <a:pt x="54" y="122"/>
                </a:lnTo>
                <a:lnTo>
                  <a:pt x="83" y="110"/>
                </a:lnTo>
                <a:lnTo>
                  <a:pt x="113" y="100"/>
                </a:lnTo>
                <a:lnTo>
                  <a:pt x="142" y="90"/>
                </a:lnTo>
                <a:lnTo>
                  <a:pt x="172" y="80"/>
                </a:lnTo>
                <a:lnTo>
                  <a:pt x="201" y="71"/>
                </a:lnTo>
                <a:lnTo>
                  <a:pt x="230" y="61"/>
                </a:lnTo>
                <a:lnTo>
                  <a:pt x="260" y="51"/>
                </a:lnTo>
                <a:lnTo>
                  <a:pt x="291" y="42"/>
                </a:lnTo>
                <a:lnTo>
                  <a:pt x="321" y="35"/>
                </a:lnTo>
                <a:lnTo>
                  <a:pt x="350" y="25"/>
                </a:lnTo>
                <a:lnTo>
                  <a:pt x="380" y="19"/>
                </a:lnTo>
                <a:lnTo>
                  <a:pt x="406" y="12"/>
                </a:lnTo>
                <a:lnTo>
                  <a:pt x="436" y="6"/>
                </a:lnTo>
                <a:lnTo>
                  <a:pt x="463" y="0"/>
                </a:lnTo>
                <a:lnTo>
                  <a:pt x="475" y="61"/>
                </a:lnTo>
                <a:lnTo>
                  <a:pt x="490" y="181"/>
                </a:lnTo>
                <a:lnTo>
                  <a:pt x="504" y="304"/>
                </a:lnTo>
                <a:lnTo>
                  <a:pt x="514" y="37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88"/>
          <p:cNvSpPr/>
          <p:nvPr/>
        </p:nvSpPr>
        <p:spPr>
          <a:xfrm>
            <a:off x="542880" y="3662280"/>
            <a:ext cx="657360" cy="1027080"/>
          </a:xfrm>
          <a:custGeom>
            <a:avLst/>
            <a:gdLst>
              <a:gd name="textAreaLeft" fmla="*/ 0 w 657360"/>
              <a:gd name="textAreaRight" fmla="*/ 657360 w 65736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414" h="647">
                <a:moveTo>
                  <a:pt x="414" y="534"/>
                </a:moveTo>
                <a:lnTo>
                  <a:pt x="379" y="547"/>
                </a:lnTo>
                <a:lnTo>
                  <a:pt x="345" y="563"/>
                </a:lnTo>
                <a:lnTo>
                  <a:pt x="311" y="576"/>
                </a:lnTo>
                <a:lnTo>
                  <a:pt x="279" y="589"/>
                </a:lnTo>
                <a:lnTo>
                  <a:pt x="250" y="605"/>
                </a:lnTo>
                <a:lnTo>
                  <a:pt x="218" y="618"/>
                </a:lnTo>
                <a:lnTo>
                  <a:pt x="191" y="634"/>
                </a:lnTo>
                <a:lnTo>
                  <a:pt x="164" y="647"/>
                </a:lnTo>
                <a:lnTo>
                  <a:pt x="154" y="615"/>
                </a:lnTo>
                <a:lnTo>
                  <a:pt x="135" y="557"/>
                </a:lnTo>
                <a:lnTo>
                  <a:pt x="110" y="479"/>
                </a:lnTo>
                <a:lnTo>
                  <a:pt x="83" y="389"/>
                </a:lnTo>
                <a:lnTo>
                  <a:pt x="56" y="301"/>
                </a:lnTo>
                <a:lnTo>
                  <a:pt x="32" y="220"/>
                </a:lnTo>
                <a:lnTo>
                  <a:pt x="12" y="159"/>
                </a:lnTo>
                <a:lnTo>
                  <a:pt x="0" y="123"/>
                </a:lnTo>
                <a:lnTo>
                  <a:pt x="32" y="107"/>
                </a:lnTo>
                <a:lnTo>
                  <a:pt x="66" y="91"/>
                </a:lnTo>
                <a:lnTo>
                  <a:pt x="100" y="75"/>
                </a:lnTo>
                <a:lnTo>
                  <a:pt x="137" y="58"/>
                </a:lnTo>
                <a:lnTo>
                  <a:pt x="171" y="42"/>
                </a:lnTo>
                <a:lnTo>
                  <a:pt x="206" y="29"/>
                </a:lnTo>
                <a:lnTo>
                  <a:pt x="240" y="13"/>
                </a:lnTo>
                <a:lnTo>
                  <a:pt x="274" y="0"/>
                </a:lnTo>
                <a:lnTo>
                  <a:pt x="294" y="81"/>
                </a:lnTo>
                <a:lnTo>
                  <a:pt x="313" y="165"/>
                </a:lnTo>
                <a:lnTo>
                  <a:pt x="335" y="243"/>
                </a:lnTo>
                <a:lnTo>
                  <a:pt x="355" y="321"/>
                </a:lnTo>
                <a:lnTo>
                  <a:pt x="372" y="389"/>
                </a:lnTo>
                <a:lnTo>
                  <a:pt x="389" y="450"/>
                </a:lnTo>
                <a:lnTo>
                  <a:pt x="404" y="499"/>
                </a:lnTo>
                <a:lnTo>
                  <a:pt x="414" y="53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89"/>
          <p:cNvSpPr/>
          <p:nvPr/>
        </p:nvSpPr>
        <p:spPr>
          <a:xfrm>
            <a:off x="2583000" y="3271680"/>
            <a:ext cx="388800" cy="827280"/>
          </a:xfrm>
          <a:custGeom>
            <a:avLst/>
            <a:gdLst>
              <a:gd name="textAreaLeft" fmla="*/ 0 w 388800"/>
              <a:gd name="textAreaRight" fmla="*/ 389160 w 38880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45" h="521">
                <a:moveTo>
                  <a:pt x="0" y="20"/>
                </a:moveTo>
                <a:lnTo>
                  <a:pt x="5" y="78"/>
                </a:lnTo>
                <a:lnTo>
                  <a:pt x="10" y="169"/>
                </a:lnTo>
                <a:lnTo>
                  <a:pt x="15" y="282"/>
                </a:lnTo>
                <a:lnTo>
                  <a:pt x="19" y="389"/>
                </a:lnTo>
                <a:lnTo>
                  <a:pt x="22" y="434"/>
                </a:lnTo>
                <a:lnTo>
                  <a:pt x="22" y="473"/>
                </a:lnTo>
                <a:lnTo>
                  <a:pt x="24" y="502"/>
                </a:lnTo>
                <a:lnTo>
                  <a:pt x="24" y="521"/>
                </a:lnTo>
                <a:lnTo>
                  <a:pt x="44" y="518"/>
                </a:lnTo>
                <a:lnTo>
                  <a:pt x="71" y="515"/>
                </a:lnTo>
                <a:lnTo>
                  <a:pt x="105" y="512"/>
                </a:lnTo>
                <a:lnTo>
                  <a:pt x="139" y="508"/>
                </a:lnTo>
                <a:lnTo>
                  <a:pt x="171" y="508"/>
                </a:lnTo>
                <a:lnTo>
                  <a:pt x="203" y="505"/>
                </a:lnTo>
                <a:lnTo>
                  <a:pt x="227" y="502"/>
                </a:lnTo>
                <a:lnTo>
                  <a:pt x="245" y="502"/>
                </a:lnTo>
                <a:lnTo>
                  <a:pt x="245" y="479"/>
                </a:lnTo>
                <a:lnTo>
                  <a:pt x="245" y="450"/>
                </a:lnTo>
                <a:lnTo>
                  <a:pt x="242" y="418"/>
                </a:lnTo>
                <a:lnTo>
                  <a:pt x="242" y="382"/>
                </a:lnTo>
                <a:lnTo>
                  <a:pt x="240" y="266"/>
                </a:lnTo>
                <a:lnTo>
                  <a:pt x="237" y="149"/>
                </a:lnTo>
                <a:lnTo>
                  <a:pt x="235" y="52"/>
                </a:lnTo>
                <a:lnTo>
                  <a:pt x="235" y="0"/>
                </a:lnTo>
                <a:lnTo>
                  <a:pt x="215" y="0"/>
                </a:lnTo>
                <a:lnTo>
                  <a:pt x="186" y="0"/>
                </a:lnTo>
                <a:lnTo>
                  <a:pt x="149" y="0"/>
                </a:lnTo>
                <a:lnTo>
                  <a:pt x="112" y="4"/>
                </a:lnTo>
                <a:lnTo>
                  <a:pt x="76" y="7"/>
                </a:lnTo>
                <a:lnTo>
                  <a:pt x="41" y="13"/>
                </a:lnTo>
                <a:lnTo>
                  <a:pt x="17" y="16"/>
                </a:lnTo>
                <a:lnTo>
                  <a:pt x="0" y="20"/>
                </a:lnTo>
                <a:close/>
              </a:path>
            </a:pathLst>
          </a:custGeom>
          <a:solidFill>
            <a:srgbClr val="f9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90"/>
          <p:cNvSpPr/>
          <p:nvPr/>
        </p:nvSpPr>
        <p:spPr>
          <a:xfrm>
            <a:off x="1138320" y="1700280"/>
            <a:ext cx="698400" cy="750960"/>
          </a:xfrm>
          <a:custGeom>
            <a:avLst/>
            <a:gdLst>
              <a:gd name="textAreaLeft" fmla="*/ 0 w 698400"/>
              <a:gd name="textAreaRight" fmla="*/ 698760 w 69840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440" h="473">
                <a:moveTo>
                  <a:pt x="440" y="324"/>
                </a:moveTo>
                <a:lnTo>
                  <a:pt x="430" y="327"/>
                </a:lnTo>
                <a:lnTo>
                  <a:pt x="418" y="330"/>
                </a:lnTo>
                <a:lnTo>
                  <a:pt x="408" y="337"/>
                </a:lnTo>
                <a:lnTo>
                  <a:pt x="396" y="340"/>
                </a:lnTo>
                <a:lnTo>
                  <a:pt x="386" y="346"/>
                </a:lnTo>
                <a:lnTo>
                  <a:pt x="374" y="350"/>
                </a:lnTo>
                <a:lnTo>
                  <a:pt x="362" y="356"/>
                </a:lnTo>
                <a:lnTo>
                  <a:pt x="349" y="359"/>
                </a:lnTo>
                <a:lnTo>
                  <a:pt x="318" y="372"/>
                </a:lnTo>
                <a:lnTo>
                  <a:pt x="283" y="385"/>
                </a:lnTo>
                <a:lnTo>
                  <a:pt x="249" y="398"/>
                </a:lnTo>
                <a:lnTo>
                  <a:pt x="215" y="411"/>
                </a:lnTo>
                <a:lnTo>
                  <a:pt x="181" y="427"/>
                </a:lnTo>
                <a:lnTo>
                  <a:pt x="149" y="440"/>
                </a:lnTo>
                <a:lnTo>
                  <a:pt x="117" y="456"/>
                </a:lnTo>
                <a:lnTo>
                  <a:pt x="85" y="473"/>
                </a:lnTo>
                <a:lnTo>
                  <a:pt x="80" y="453"/>
                </a:lnTo>
                <a:lnTo>
                  <a:pt x="73" y="418"/>
                </a:lnTo>
                <a:lnTo>
                  <a:pt x="63" y="372"/>
                </a:lnTo>
                <a:lnTo>
                  <a:pt x="51" y="324"/>
                </a:lnTo>
                <a:lnTo>
                  <a:pt x="36" y="262"/>
                </a:lnTo>
                <a:lnTo>
                  <a:pt x="22" y="204"/>
                </a:lnTo>
                <a:lnTo>
                  <a:pt x="9" y="155"/>
                </a:lnTo>
                <a:lnTo>
                  <a:pt x="0" y="126"/>
                </a:lnTo>
                <a:lnTo>
                  <a:pt x="24" y="117"/>
                </a:lnTo>
                <a:lnTo>
                  <a:pt x="46" y="107"/>
                </a:lnTo>
                <a:lnTo>
                  <a:pt x="70" y="97"/>
                </a:lnTo>
                <a:lnTo>
                  <a:pt x="95" y="87"/>
                </a:lnTo>
                <a:lnTo>
                  <a:pt x="122" y="78"/>
                </a:lnTo>
                <a:lnTo>
                  <a:pt x="146" y="68"/>
                </a:lnTo>
                <a:lnTo>
                  <a:pt x="173" y="62"/>
                </a:lnTo>
                <a:lnTo>
                  <a:pt x="198" y="52"/>
                </a:lnTo>
                <a:lnTo>
                  <a:pt x="222" y="45"/>
                </a:lnTo>
                <a:lnTo>
                  <a:pt x="249" y="36"/>
                </a:lnTo>
                <a:lnTo>
                  <a:pt x="274" y="29"/>
                </a:lnTo>
                <a:lnTo>
                  <a:pt x="301" y="23"/>
                </a:lnTo>
                <a:lnTo>
                  <a:pt x="325" y="16"/>
                </a:lnTo>
                <a:lnTo>
                  <a:pt x="349" y="10"/>
                </a:lnTo>
                <a:lnTo>
                  <a:pt x="371" y="7"/>
                </a:lnTo>
                <a:lnTo>
                  <a:pt x="396" y="0"/>
                </a:lnTo>
                <a:lnTo>
                  <a:pt x="406" y="55"/>
                </a:lnTo>
                <a:lnTo>
                  <a:pt x="420" y="155"/>
                </a:lnTo>
                <a:lnTo>
                  <a:pt x="433" y="262"/>
                </a:lnTo>
                <a:lnTo>
                  <a:pt x="440" y="324"/>
                </a:lnTo>
                <a:close/>
              </a:path>
            </a:pathLst>
          </a:custGeom>
          <a:solidFill>
            <a:srgbClr val="f9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1487520" y="3195720"/>
            <a:ext cx="703080" cy="1541520"/>
          </a:xfrm>
          <a:custGeom>
            <a:avLst/>
            <a:gdLst>
              <a:gd name="textAreaLeft" fmla="*/ 0 w 703080"/>
              <a:gd name="textAreaRight" fmla="*/ 703080 w 703080"/>
              <a:gd name="textAreaTop" fmla="*/ 0 h 1541520"/>
              <a:gd name="textAreaBottom" fmla="*/ 1541880 h 1541520"/>
            </a:gdLst>
            <a:ahLst/>
            <a:rect l="textAreaLeft" t="textAreaTop" r="textAreaRight" b="textAreaBottom"/>
            <a:pathLst>
              <a:path w="443" h="971">
                <a:moveTo>
                  <a:pt x="46" y="676"/>
                </a:moveTo>
                <a:lnTo>
                  <a:pt x="61" y="773"/>
                </a:lnTo>
                <a:lnTo>
                  <a:pt x="76" y="857"/>
                </a:lnTo>
                <a:lnTo>
                  <a:pt x="90" y="925"/>
                </a:lnTo>
                <a:lnTo>
                  <a:pt x="100" y="971"/>
                </a:lnTo>
                <a:lnTo>
                  <a:pt x="142" y="958"/>
                </a:lnTo>
                <a:lnTo>
                  <a:pt x="186" y="941"/>
                </a:lnTo>
                <a:lnTo>
                  <a:pt x="227" y="928"/>
                </a:lnTo>
                <a:lnTo>
                  <a:pt x="271" y="912"/>
                </a:lnTo>
                <a:lnTo>
                  <a:pt x="313" y="899"/>
                </a:lnTo>
                <a:lnTo>
                  <a:pt x="357" y="886"/>
                </a:lnTo>
                <a:lnTo>
                  <a:pt x="399" y="873"/>
                </a:lnTo>
                <a:lnTo>
                  <a:pt x="443" y="861"/>
                </a:lnTo>
                <a:lnTo>
                  <a:pt x="435" y="760"/>
                </a:lnTo>
                <a:lnTo>
                  <a:pt x="428" y="573"/>
                </a:lnTo>
                <a:lnTo>
                  <a:pt x="421" y="372"/>
                </a:lnTo>
                <a:lnTo>
                  <a:pt x="416" y="236"/>
                </a:lnTo>
                <a:lnTo>
                  <a:pt x="411" y="194"/>
                </a:lnTo>
                <a:lnTo>
                  <a:pt x="404" y="152"/>
                </a:lnTo>
                <a:lnTo>
                  <a:pt x="391" y="110"/>
                </a:lnTo>
                <a:lnTo>
                  <a:pt x="369" y="71"/>
                </a:lnTo>
                <a:lnTo>
                  <a:pt x="342" y="39"/>
                </a:lnTo>
                <a:lnTo>
                  <a:pt x="306" y="13"/>
                </a:lnTo>
                <a:lnTo>
                  <a:pt x="262" y="0"/>
                </a:lnTo>
                <a:lnTo>
                  <a:pt x="205" y="3"/>
                </a:lnTo>
                <a:lnTo>
                  <a:pt x="149" y="19"/>
                </a:lnTo>
                <a:lnTo>
                  <a:pt x="103" y="52"/>
                </a:lnTo>
                <a:lnTo>
                  <a:pt x="68" y="94"/>
                </a:lnTo>
                <a:lnTo>
                  <a:pt x="41" y="139"/>
                </a:lnTo>
                <a:lnTo>
                  <a:pt x="22" y="187"/>
                </a:lnTo>
                <a:lnTo>
                  <a:pt x="10" y="236"/>
                </a:lnTo>
                <a:lnTo>
                  <a:pt x="2" y="281"/>
                </a:lnTo>
                <a:lnTo>
                  <a:pt x="0" y="317"/>
                </a:lnTo>
                <a:lnTo>
                  <a:pt x="0" y="330"/>
                </a:lnTo>
                <a:lnTo>
                  <a:pt x="2" y="343"/>
                </a:lnTo>
                <a:lnTo>
                  <a:pt x="5" y="359"/>
                </a:lnTo>
                <a:lnTo>
                  <a:pt x="7" y="378"/>
                </a:lnTo>
                <a:lnTo>
                  <a:pt x="14" y="440"/>
                </a:lnTo>
                <a:lnTo>
                  <a:pt x="24" y="511"/>
                </a:lnTo>
                <a:lnTo>
                  <a:pt x="34" y="592"/>
                </a:lnTo>
                <a:lnTo>
                  <a:pt x="46" y="676"/>
                </a:lnTo>
                <a:close/>
              </a:path>
            </a:pathLst>
          </a:custGeom>
          <a:solidFill>
            <a:srgbClr val="f9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92"/>
          <p:cNvSpPr/>
          <p:nvPr/>
        </p:nvSpPr>
        <p:spPr>
          <a:xfrm>
            <a:off x="596880" y="3735360"/>
            <a:ext cx="552600" cy="893880"/>
          </a:xfrm>
          <a:custGeom>
            <a:avLst/>
            <a:gdLst>
              <a:gd name="textAreaLeft" fmla="*/ 0 w 552600"/>
              <a:gd name="textAreaRight" fmla="*/ 552960 w 5526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348" h="563">
                <a:moveTo>
                  <a:pt x="0" y="100"/>
                </a:moveTo>
                <a:lnTo>
                  <a:pt x="5" y="116"/>
                </a:lnTo>
                <a:lnTo>
                  <a:pt x="15" y="139"/>
                </a:lnTo>
                <a:lnTo>
                  <a:pt x="25" y="171"/>
                </a:lnTo>
                <a:lnTo>
                  <a:pt x="35" y="210"/>
                </a:lnTo>
                <a:lnTo>
                  <a:pt x="47" y="252"/>
                </a:lnTo>
                <a:lnTo>
                  <a:pt x="59" y="294"/>
                </a:lnTo>
                <a:lnTo>
                  <a:pt x="74" y="339"/>
                </a:lnTo>
                <a:lnTo>
                  <a:pt x="86" y="385"/>
                </a:lnTo>
                <a:lnTo>
                  <a:pt x="103" y="446"/>
                </a:lnTo>
                <a:lnTo>
                  <a:pt x="118" y="498"/>
                </a:lnTo>
                <a:lnTo>
                  <a:pt x="130" y="540"/>
                </a:lnTo>
                <a:lnTo>
                  <a:pt x="137" y="563"/>
                </a:lnTo>
                <a:lnTo>
                  <a:pt x="152" y="556"/>
                </a:lnTo>
                <a:lnTo>
                  <a:pt x="172" y="546"/>
                </a:lnTo>
                <a:lnTo>
                  <a:pt x="194" y="537"/>
                </a:lnTo>
                <a:lnTo>
                  <a:pt x="221" y="527"/>
                </a:lnTo>
                <a:lnTo>
                  <a:pt x="245" y="514"/>
                </a:lnTo>
                <a:lnTo>
                  <a:pt x="272" y="504"/>
                </a:lnTo>
                <a:lnTo>
                  <a:pt x="294" y="491"/>
                </a:lnTo>
                <a:lnTo>
                  <a:pt x="316" y="482"/>
                </a:lnTo>
                <a:lnTo>
                  <a:pt x="326" y="478"/>
                </a:lnTo>
                <a:lnTo>
                  <a:pt x="336" y="475"/>
                </a:lnTo>
                <a:lnTo>
                  <a:pt x="343" y="472"/>
                </a:lnTo>
                <a:lnTo>
                  <a:pt x="348" y="469"/>
                </a:lnTo>
                <a:lnTo>
                  <a:pt x="336" y="417"/>
                </a:lnTo>
                <a:lnTo>
                  <a:pt x="318" y="355"/>
                </a:lnTo>
                <a:lnTo>
                  <a:pt x="299" y="281"/>
                </a:lnTo>
                <a:lnTo>
                  <a:pt x="279" y="207"/>
                </a:lnTo>
                <a:lnTo>
                  <a:pt x="260" y="135"/>
                </a:lnTo>
                <a:lnTo>
                  <a:pt x="243" y="74"/>
                </a:lnTo>
                <a:lnTo>
                  <a:pt x="230" y="25"/>
                </a:lnTo>
                <a:lnTo>
                  <a:pt x="223" y="0"/>
                </a:lnTo>
                <a:lnTo>
                  <a:pt x="203" y="6"/>
                </a:lnTo>
                <a:lnTo>
                  <a:pt x="177" y="16"/>
                </a:lnTo>
                <a:lnTo>
                  <a:pt x="142" y="29"/>
                </a:lnTo>
                <a:lnTo>
                  <a:pt x="108" y="45"/>
                </a:lnTo>
                <a:lnTo>
                  <a:pt x="71" y="61"/>
                </a:lnTo>
                <a:lnTo>
                  <a:pt x="40" y="77"/>
                </a:lnTo>
                <a:lnTo>
                  <a:pt x="15" y="90"/>
                </a:lnTo>
                <a:lnTo>
                  <a:pt x="0" y="100"/>
                </a:lnTo>
                <a:close/>
              </a:path>
            </a:pathLst>
          </a:custGeom>
          <a:solidFill>
            <a:srgbClr val="f9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93"/>
          <p:cNvSpPr/>
          <p:nvPr/>
        </p:nvSpPr>
        <p:spPr>
          <a:xfrm>
            <a:off x="2612880" y="3333600"/>
            <a:ext cx="358920" cy="765360"/>
          </a:xfrm>
          <a:custGeom>
            <a:avLst/>
            <a:gdLst>
              <a:gd name="textAreaLeft" fmla="*/ 0 w 358920"/>
              <a:gd name="textAreaRight" fmla="*/ 359280 w 3589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26" h="482">
                <a:moveTo>
                  <a:pt x="226" y="463"/>
                </a:moveTo>
                <a:lnTo>
                  <a:pt x="226" y="440"/>
                </a:lnTo>
                <a:lnTo>
                  <a:pt x="226" y="411"/>
                </a:lnTo>
                <a:lnTo>
                  <a:pt x="223" y="379"/>
                </a:lnTo>
                <a:lnTo>
                  <a:pt x="223" y="343"/>
                </a:lnTo>
                <a:lnTo>
                  <a:pt x="216" y="340"/>
                </a:lnTo>
                <a:lnTo>
                  <a:pt x="206" y="337"/>
                </a:lnTo>
                <a:lnTo>
                  <a:pt x="196" y="333"/>
                </a:lnTo>
                <a:lnTo>
                  <a:pt x="186" y="330"/>
                </a:lnTo>
                <a:lnTo>
                  <a:pt x="174" y="330"/>
                </a:lnTo>
                <a:lnTo>
                  <a:pt x="164" y="327"/>
                </a:lnTo>
                <a:lnTo>
                  <a:pt x="155" y="327"/>
                </a:lnTo>
                <a:lnTo>
                  <a:pt x="150" y="327"/>
                </a:lnTo>
                <a:lnTo>
                  <a:pt x="147" y="301"/>
                </a:lnTo>
                <a:lnTo>
                  <a:pt x="155" y="291"/>
                </a:lnTo>
                <a:lnTo>
                  <a:pt x="159" y="278"/>
                </a:lnTo>
                <a:lnTo>
                  <a:pt x="162" y="259"/>
                </a:lnTo>
                <a:lnTo>
                  <a:pt x="159" y="246"/>
                </a:lnTo>
                <a:lnTo>
                  <a:pt x="174" y="223"/>
                </a:lnTo>
                <a:lnTo>
                  <a:pt x="177" y="188"/>
                </a:lnTo>
                <a:lnTo>
                  <a:pt x="174" y="155"/>
                </a:lnTo>
                <a:lnTo>
                  <a:pt x="167" y="123"/>
                </a:lnTo>
                <a:lnTo>
                  <a:pt x="159" y="130"/>
                </a:lnTo>
                <a:lnTo>
                  <a:pt x="155" y="136"/>
                </a:lnTo>
                <a:lnTo>
                  <a:pt x="147" y="149"/>
                </a:lnTo>
                <a:lnTo>
                  <a:pt x="145" y="159"/>
                </a:lnTo>
                <a:lnTo>
                  <a:pt x="140" y="136"/>
                </a:lnTo>
                <a:lnTo>
                  <a:pt x="130" y="110"/>
                </a:lnTo>
                <a:lnTo>
                  <a:pt x="118" y="84"/>
                </a:lnTo>
                <a:lnTo>
                  <a:pt x="103" y="58"/>
                </a:lnTo>
                <a:lnTo>
                  <a:pt x="89" y="39"/>
                </a:lnTo>
                <a:lnTo>
                  <a:pt x="74" y="20"/>
                </a:lnTo>
                <a:lnTo>
                  <a:pt x="62" y="7"/>
                </a:lnTo>
                <a:lnTo>
                  <a:pt x="52" y="0"/>
                </a:lnTo>
                <a:lnTo>
                  <a:pt x="54" y="29"/>
                </a:lnTo>
                <a:lnTo>
                  <a:pt x="52" y="78"/>
                </a:lnTo>
                <a:lnTo>
                  <a:pt x="49" y="126"/>
                </a:lnTo>
                <a:lnTo>
                  <a:pt x="44" y="162"/>
                </a:lnTo>
                <a:lnTo>
                  <a:pt x="40" y="152"/>
                </a:lnTo>
                <a:lnTo>
                  <a:pt x="35" y="146"/>
                </a:lnTo>
                <a:lnTo>
                  <a:pt x="30" y="143"/>
                </a:lnTo>
                <a:lnTo>
                  <a:pt x="25" y="136"/>
                </a:lnTo>
                <a:lnTo>
                  <a:pt x="20" y="162"/>
                </a:lnTo>
                <a:lnTo>
                  <a:pt x="18" y="201"/>
                </a:lnTo>
                <a:lnTo>
                  <a:pt x="25" y="236"/>
                </a:lnTo>
                <a:lnTo>
                  <a:pt x="44" y="256"/>
                </a:lnTo>
                <a:lnTo>
                  <a:pt x="44" y="265"/>
                </a:lnTo>
                <a:lnTo>
                  <a:pt x="47" y="275"/>
                </a:lnTo>
                <a:lnTo>
                  <a:pt x="52" y="285"/>
                </a:lnTo>
                <a:lnTo>
                  <a:pt x="59" y="291"/>
                </a:lnTo>
                <a:lnTo>
                  <a:pt x="64" y="320"/>
                </a:lnTo>
                <a:lnTo>
                  <a:pt x="52" y="324"/>
                </a:lnTo>
                <a:lnTo>
                  <a:pt x="32" y="330"/>
                </a:lnTo>
                <a:lnTo>
                  <a:pt x="15" y="340"/>
                </a:lnTo>
                <a:lnTo>
                  <a:pt x="0" y="350"/>
                </a:lnTo>
                <a:lnTo>
                  <a:pt x="3" y="395"/>
                </a:lnTo>
                <a:lnTo>
                  <a:pt x="3" y="431"/>
                </a:lnTo>
                <a:lnTo>
                  <a:pt x="5" y="463"/>
                </a:lnTo>
                <a:lnTo>
                  <a:pt x="5" y="482"/>
                </a:lnTo>
                <a:lnTo>
                  <a:pt x="25" y="479"/>
                </a:lnTo>
                <a:lnTo>
                  <a:pt x="52" y="476"/>
                </a:lnTo>
                <a:lnTo>
                  <a:pt x="86" y="473"/>
                </a:lnTo>
                <a:lnTo>
                  <a:pt x="120" y="469"/>
                </a:lnTo>
                <a:lnTo>
                  <a:pt x="152" y="469"/>
                </a:lnTo>
                <a:lnTo>
                  <a:pt x="184" y="466"/>
                </a:lnTo>
                <a:lnTo>
                  <a:pt x="208" y="463"/>
                </a:lnTo>
                <a:lnTo>
                  <a:pt x="226" y="463"/>
                </a:lnTo>
                <a:close/>
              </a:path>
            </a:pathLst>
          </a:custGeom>
          <a:solidFill>
            <a:srgbClr val="a8f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194"/>
          <p:cNvSpPr/>
          <p:nvPr/>
        </p:nvSpPr>
        <p:spPr>
          <a:xfrm>
            <a:off x="1200240" y="1849320"/>
            <a:ext cx="500040" cy="601920"/>
          </a:xfrm>
          <a:custGeom>
            <a:avLst/>
            <a:gdLst>
              <a:gd name="textAreaLeft" fmla="*/ 0 w 500040"/>
              <a:gd name="textAreaRight" fmla="*/ 500400 w 50004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315" h="379">
                <a:moveTo>
                  <a:pt x="310" y="265"/>
                </a:moveTo>
                <a:lnTo>
                  <a:pt x="279" y="278"/>
                </a:lnTo>
                <a:lnTo>
                  <a:pt x="244" y="291"/>
                </a:lnTo>
                <a:lnTo>
                  <a:pt x="210" y="304"/>
                </a:lnTo>
                <a:lnTo>
                  <a:pt x="176" y="317"/>
                </a:lnTo>
                <a:lnTo>
                  <a:pt x="142" y="333"/>
                </a:lnTo>
                <a:lnTo>
                  <a:pt x="110" y="346"/>
                </a:lnTo>
                <a:lnTo>
                  <a:pt x="78" y="362"/>
                </a:lnTo>
                <a:lnTo>
                  <a:pt x="46" y="379"/>
                </a:lnTo>
                <a:lnTo>
                  <a:pt x="41" y="359"/>
                </a:lnTo>
                <a:lnTo>
                  <a:pt x="34" y="324"/>
                </a:lnTo>
                <a:lnTo>
                  <a:pt x="24" y="278"/>
                </a:lnTo>
                <a:lnTo>
                  <a:pt x="12" y="230"/>
                </a:lnTo>
                <a:lnTo>
                  <a:pt x="24" y="207"/>
                </a:lnTo>
                <a:lnTo>
                  <a:pt x="41" y="181"/>
                </a:lnTo>
                <a:lnTo>
                  <a:pt x="63" y="159"/>
                </a:lnTo>
                <a:lnTo>
                  <a:pt x="80" y="149"/>
                </a:lnTo>
                <a:lnTo>
                  <a:pt x="80" y="136"/>
                </a:lnTo>
                <a:lnTo>
                  <a:pt x="80" y="120"/>
                </a:lnTo>
                <a:lnTo>
                  <a:pt x="83" y="107"/>
                </a:lnTo>
                <a:lnTo>
                  <a:pt x="88" y="100"/>
                </a:lnTo>
                <a:lnTo>
                  <a:pt x="80" y="87"/>
                </a:lnTo>
                <a:lnTo>
                  <a:pt x="80" y="78"/>
                </a:lnTo>
                <a:lnTo>
                  <a:pt x="85" y="68"/>
                </a:lnTo>
                <a:lnTo>
                  <a:pt x="95" y="65"/>
                </a:lnTo>
                <a:lnTo>
                  <a:pt x="80" y="52"/>
                </a:lnTo>
                <a:lnTo>
                  <a:pt x="63" y="52"/>
                </a:lnTo>
                <a:lnTo>
                  <a:pt x="49" y="61"/>
                </a:lnTo>
                <a:lnTo>
                  <a:pt x="41" y="71"/>
                </a:lnTo>
                <a:lnTo>
                  <a:pt x="44" y="87"/>
                </a:lnTo>
                <a:lnTo>
                  <a:pt x="39" y="103"/>
                </a:lnTo>
                <a:lnTo>
                  <a:pt x="29" y="113"/>
                </a:lnTo>
                <a:lnTo>
                  <a:pt x="12" y="110"/>
                </a:lnTo>
                <a:lnTo>
                  <a:pt x="0" y="91"/>
                </a:lnTo>
                <a:lnTo>
                  <a:pt x="2" y="68"/>
                </a:lnTo>
                <a:lnTo>
                  <a:pt x="17" y="52"/>
                </a:lnTo>
                <a:lnTo>
                  <a:pt x="31" y="58"/>
                </a:lnTo>
                <a:lnTo>
                  <a:pt x="54" y="29"/>
                </a:lnTo>
                <a:lnTo>
                  <a:pt x="76" y="13"/>
                </a:lnTo>
                <a:lnTo>
                  <a:pt x="100" y="3"/>
                </a:lnTo>
                <a:lnTo>
                  <a:pt x="122" y="0"/>
                </a:lnTo>
                <a:lnTo>
                  <a:pt x="142" y="0"/>
                </a:lnTo>
                <a:lnTo>
                  <a:pt x="156" y="3"/>
                </a:lnTo>
                <a:lnTo>
                  <a:pt x="169" y="10"/>
                </a:lnTo>
                <a:lnTo>
                  <a:pt x="176" y="13"/>
                </a:lnTo>
                <a:lnTo>
                  <a:pt x="193" y="3"/>
                </a:lnTo>
                <a:lnTo>
                  <a:pt x="205" y="16"/>
                </a:lnTo>
                <a:lnTo>
                  <a:pt x="213" y="36"/>
                </a:lnTo>
                <a:lnTo>
                  <a:pt x="210" y="55"/>
                </a:lnTo>
                <a:lnTo>
                  <a:pt x="215" y="58"/>
                </a:lnTo>
                <a:lnTo>
                  <a:pt x="217" y="65"/>
                </a:lnTo>
                <a:lnTo>
                  <a:pt x="217" y="68"/>
                </a:lnTo>
                <a:lnTo>
                  <a:pt x="217" y="71"/>
                </a:lnTo>
                <a:lnTo>
                  <a:pt x="232" y="65"/>
                </a:lnTo>
                <a:lnTo>
                  <a:pt x="242" y="65"/>
                </a:lnTo>
                <a:lnTo>
                  <a:pt x="244" y="74"/>
                </a:lnTo>
                <a:lnTo>
                  <a:pt x="239" y="97"/>
                </a:lnTo>
                <a:lnTo>
                  <a:pt x="254" y="103"/>
                </a:lnTo>
                <a:lnTo>
                  <a:pt x="274" y="116"/>
                </a:lnTo>
                <a:lnTo>
                  <a:pt x="291" y="136"/>
                </a:lnTo>
                <a:lnTo>
                  <a:pt x="306" y="155"/>
                </a:lnTo>
                <a:lnTo>
                  <a:pt x="315" y="181"/>
                </a:lnTo>
                <a:lnTo>
                  <a:pt x="315" y="204"/>
                </a:lnTo>
                <a:lnTo>
                  <a:pt x="308" y="223"/>
                </a:lnTo>
                <a:lnTo>
                  <a:pt x="286" y="236"/>
                </a:lnTo>
                <a:lnTo>
                  <a:pt x="296" y="246"/>
                </a:lnTo>
                <a:lnTo>
                  <a:pt x="303" y="256"/>
                </a:lnTo>
                <a:lnTo>
                  <a:pt x="308" y="262"/>
                </a:lnTo>
                <a:lnTo>
                  <a:pt x="310" y="265"/>
                </a:lnTo>
                <a:close/>
              </a:path>
            </a:pathLst>
          </a:custGeom>
          <a:solidFill>
            <a:srgbClr val="a8f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195"/>
          <p:cNvSpPr/>
          <p:nvPr/>
        </p:nvSpPr>
        <p:spPr>
          <a:xfrm>
            <a:off x="714240" y="3862440"/>
            <a:ext cx="387360" cy="766800"/>
          </a:xfrm>
          <a:custGeom>
            <a:avLst/>
            <a:gdLst>
              <a:gd name="textAreaLeft" fmla="*/ 0 w 387360"/>
              <a:gd name="textAreaRight" fmla="*/ 387720 w 3873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44" h="483">
                <a:moveTo>
                  <a:pt x="222" y="350"/>
                </a:moveTo>
                <a:lnTo>
                  <a:pt x="161" y="282"/>
                </a:lnTo>
                <a:lnTo>
                  <a:pt x="174" y="275"/>
                </a:lnTo>
                <a:lnTo>
                  <a:pt x="129" y="227"/>
                </a:lnTo>
                <a:lnTo>
                  <a:pt x="139" y="220"/>
                </a:lnTo>
                <a:lnTo>
                  <a:pt x="71" y="127"/>
                </a:lnTo>
                <a:lnTo>
                  <a:pt x="103" y="136"/>
                </a:lnTo>
                <a:lnTo>
                  <a:pt x="83" y="88"/>
                </a:lnTo>
                <a:lnTo>
                  <a:pt x="103" y="49"/>
                </a:lnTo>
                <a:lnTo>
                  <a:pt x="71" y="52"/>
                </a:lnTo>
                <a:lnTo>
                  <a:pt x="54" y="0"/>
                </a:lnTo>
                <a:lnTo>
                  <a:pt x="41" y="59"/>
                </a:lnTo>
                <a:lnTo>
                  <a:pt x="0" y="62"/>
                </a:lnTo>
                <a:lnTo>
                  <a:pt x="29" y="91"/>
                </a:lnTo>
                <a:lnTo>
                  <a:pt x="17" y="140"/>
                </a:lnTo>
                <a:lnTo>
                  <a:pt x="49" y="127"/>
                </a:lnTo>
                <a:lnTo>
                  <a:pt x="46" y="143"/>
                </a:lnTo>
                <a:lnTo>
                  <a:pt x="36" y="178"/>
                </a:lnTo>
                <a:lnTo>
                  <a:pt x="27" y="217"/>
                </a:lnTo>
                <a:lnTo>
                  <a:pt x="17" y="246"/>
                </a:lnTo>
                <a:lnTo>
                  <a:pt x="32" y="243"/>
                </a:lnTo>
                <a:lnTo>
                  <a:pt x="12" y="308"/>
                </a:lnTo>
                <a:lnTo>
                  <a:pt x="29" y="366"/>
                </a:lnTo>
                <a:lnTo>
                  <a:pt x="44" y="418"/>
                </a:lnTo>
                <a:lnTo>
                  <a:pt x="56" y="460"/>
                </a:lnTo>
                <a:lnTo>
                  <a:pt x="63" y="483"/>
                </a:lnTo>
                <a:lnTo>
                  <a:pt x="78" y="476"/>
                </a:lnTo>
                <a:lnTo>
                  <a:pt x="98" y="466"/>
                </a:lnTo>
                <a:lnTo>
                  <a:pt x="120" y="457"/>
                </a:lnTo>
                <a:lnTo>
                  <a:pt x="147" y="447"/>
                </a:lnTo>
                <a:lnTo>
                  <a:pt x="171" y="434"/>
                </a:lnTo>
                <a:lnTo>
                  <a:pt x="198" y="424"/>
                </a:lnTo>
                <a:lnTo>
                  <a:pt x="222" y="411"/>
                </a:lnTo>
                <a:lnTo>
                  <a:pt x="244" y="402"/>
                </a:lnTo>
                <a:lnTo>
                  <a:pt x="232" y="389"/>
                </a:lnTo>
                <a:lnTo>
                  <a:pt x="220" y="373"/>
                </a:lnTo>
                <a:lnTo>
                  <a:pt x="213" y="360"/>
                </a:lnTo>
                <a:lnTo>
                  <a:pt x="208" y="353"/>
                </a:lnTo>
                <a:lnTo>
                  <a:pt x="222" y="350"/>
                </a:lnTo>
                <a:close/>
              </a:path>
            </a:pathLst>
          </a:custGeom>
          <a:solidFill>
            <a:srgbClr val="a8f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96"/>
          <p:cNvSpPr/>
          <p:nvPr/>
        </p:nvSpPr>
        <p:spPr>
          <a:xfrm>
            <a:off x="2598840" y="3278160"/>
            <a:ext cx="365040" cy="806400"/>
          </a:xfrm>
          <a:custGeom>
            <a:avLst/>
            <a:gdLst>
              <a:gd name="textAreaLeft" fmla="*/ 0 w 365040"/>
              <a:gd name="textAreaRight" fmla="*/ 365040 w 3650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230" h="508">
                <a:moveTo>
                  <a:pt x="129" y="229"/>
                </a:moveTo>
                <a:lnTo>
                  <a:pt x="146" y="229"/>
                </a:lnTo>
                <a:lnTo>
                  <a:pt x="161" y="229"/>
                </a:lnTo>
                <a:lnTo>
                  <a:pt x="176" y="229"/>
                </a:lnTo>
                <a:lnTo>
                  <a:pt x="190" y="229"/>
                </a:lnTo>
                <a:lnTo>
                  <a:pt x="203" y="229"/>
                </a:lnTo>
                <a:lnTo>
                  <a:pt x="213" y="229"/>
                </a:lnTo>
                <a:lnTo>
                  <a:pt x="222" y="229"/>
                </a:lnTo>
                <a:lnTo>
                  <a:pt x="230" y="229"/>
                </a:lnTo>
                <a:lnTo>
                  <a:pt x="227" y="223"/>
                </a:lnTo>
                <a:lnTo>
                  <a:pt x="227" y="216"/>
                </a:lnTo>
                <a:lnTo>
                  <a:pt x="227" y="213"/>
                </a:lnTo>
                <a:lnTo>
                  <a:pt x="227" y="207"/>
                </a:lnTo>
                <a:lnTo>
                  <a:pt x="220" y="207"/>
                </a:lnTo>
                <a:lnTo>
                  <a:pt x="210" y="207"/>
                </a:lnTo>
                <a:lnTo>
                  <a:pt x="200" y="207"/>
                </a:lnTo>
                <a:lnTo>
                  <a:pt x="188" y="207"/>
                </a:lnTo>
                <a:lnTo>
                  <a:pt x="173" y="207"/>
                </a:lnTo>
                <a:lnTo>
                  <a:pt x="159" y="207"/>
                </a:lnTo>
                <a:lnTo>
                  <a:pt x="144" y="207"/>
                </a:lnTo>
                <a:lnTo>
                  <a:pt x="129" y="207"/>
                </a:lnTo>
                <a:lnTo>
                  <a:pt x="127" y="139"/>
                </a:lnTo>
                <a:lnTo>
                  <a:pt x="127" y="77"/>
                </a:lnTo>
                <a:lnTo>
                  <a:pt x="124" y="32"/>
                </a:lnTo>
                <a:lnTo>
                  <a:pt x="122" y="0"/>
                </a:lnTo>
                <a:lnTo>
                  <a:pt x="120" y="0"/>
                </a:lnTo>
                <a:lnTo>
                  <a:pt x="115" y="0"/>
                </a:lnTo>
                <a:lnTo>
                  <a:pt x="112" y="0"/>
                </a:lnTo>
                <a:lnTo>
                  <a:pt x="107" y="0"/>
                </a:lnTo>
                <a:lnTo>
                  <a:pt x="105" y="0"/>
                </a:lnTo>
                <a:lnTo>
                  <a:pt x="107" y="32"/>
                </a:lnTo>
                <a:lnTo>
                  <a:pt x="110" y="77"/>
                </a:lnTo>
                <a:lnTo>
                  <a:pt x="110" y="139"/>
                </a:lnTo>
                <a:lnTo>
                  <a:pt x="112" y="207"/>
                </a:lnTo>
                <a:lnTo>
                  <a:pt x="95" y="207"/>
                </a:lnTo>
                <a:lnTo>
                  <a:pt x="80" y="210"/>
                </a:lnTo>
                <a:lnTo>
                  <a:pt x="63" y="210"/>
                </a:lnTo>
                <a:lnTo>
                  <a:pt x="49" y="210"/>
                </a:lnTo>
                <a:lnTo>
                  <a:pt x="34" y="210"/>
                </a:lnTo>
                <a:lnTo>
                  <a:pt x="22" y="210"/>
                </a:lnTo>
                <a:lnTo>
                  <a:pt x="9" y="213"/>
                </a:lnTo>
                <a:lnTo>
                  <a:pt x="0" y="213"/>
                </a:lnTo>
                <a:lnTo>
                  <a:pt x="0" y="220"/>
                </a:lnTo>
                <a:lnTo>
                  <a:pt x="0" y="223"/>
                </a:lnTo>
                <a:lnTo>
                  <a:pt x="0" y="229"/>
                </a:lnTo>
                <a:lnTo>
                  <a:pt x="2" y="236"/>
                </a:lnTo>
                <a:lnTo>
                  <a:pt x="12" y="236"/>
                </a:lnTo>
                <a:lnTo>
                  <a:pt x="22" y="233"/>
                </a:lnTo>
                <a:lnTo>
                  <a:pt x="34" y="233"/>
                </a:lnTo>
                <a:lnTo>
                  <a:pt x="49" y="233"/>
                </a:lnTo>
                <a:lnTo>
                  <a:pt x="63" y="233"/>
                </a:lnTo>
                <a:lnTo>
                  <a:pt x="80" y="233"/>
                </a:lnTo>
                <a:lnTo>
                  <a:pt x="95" y="233"/>
                </a:lnTo>
                <a:lnTo>
                  <a:pt x="112" y="233"/>
                </a:lnTo>
                <a:lnTo>
                  <a:pt x="115" y="304"/>
                </a:lnTo>
                <a:lnTo>
                  <a:pt x="115" y="375"/>
                </a:lnTo>
                <a:lnTo>
                  <a:pt x="115" y="443"/>
                </a:lnTo>
                <a:lnTo>
                  <a:pt x="117" y="508"/>
                </a:lnTo>
                <a:lnTo>
                  <a:pt x="122" y="508"/>
                </a:lnTo>
                <a:lnTo>
                  <a:pt x="127" y="504"/>
                </a:lnTo>
                <a:lnTo>
                  <a:pt x="129" y="504"/>
                </a:lnTo>
                <a:lnTo>
                  <a:pt x="134" y="504"/>
                </a:lnTo>
                <a:lnTo>
                  <a:pt x="134" y="443"/>
                </a:lnTo>
                <a:lnTo>
                  <a:pt x="132" y="372"/>
                </a:lnTo>
                <a:lnTo>
                  <a:pt x="132" y="300"/>
                </a:lnTo>
                <a:lnTo>
                  <a:pt x="129" y="22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197"/>
          <p:cNvSpPr/>
          <p:nvPr/>
        </p:nvSpPr>
        <p:spPr>
          <a:xfrm>
            <a:off x="1195560" y="1771560"/>
            <a:ext cx="614160" cy="565200"/>
          </a:xfrm>
          <a:custGeom>
            <a:avLst/>
            <a:gdLst>
              <a:gd name="textAreaLeft" fmla="*/ 0 w 614160"/>
              <a:gd name="textAreaRight" fmla="*/ 614520 w 61416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387" h="356">
                <a:moveTo>
                  <a:pt x="387" y="136"/>
                </a:moveTo>
                <a:lnTo>
                  <a:pt x="387" y="130"/>
                </a:lnTo>
                <a:lnTo>
                  <a:pt x="387" y="123"/>
                </a:lnTo>
                <a:lnTo>
                  <a:pt x="384" y="117"/>
                </a:lnTo>
                <a:lnTo>
                  <a:pt x="384" y="110"/>
                </a:lnTo>
                <a:lnTo>
                  <a:pt x="362" y="114"/>
                </a:lnTo>
                <a:lnTo>
                  <a:pt x="340" y="120"/>
                </a:lnTo>
                <a:lnTo>
                  <a:pt x="318" y="123"/>
                </a:lnTo>
                <a:lnTo>
                  <a:pt x="296" y="130"/>
                </a:lnTo>
                <a:lnTo>
                  <a:pt x="272" y="133"/>
                </a:lnTo>
                <a:lnTo>
                  <a:pt x="250" y="140"/>
                </a:lnTo>
                <a:lnTo>
                  <a:pt x="225" y="146"/>
                </a:lnTo>
                <a:lnTo>
                  <a:pt x="203" y="152"/>
                </a:lnTo>
                <a:lnTo>
                  <a:pt x="196" y="104"/>
                </a:lnTo>
                <a:lnTo>
                  <a:pt x="189" y="62"/>
                </a:lnTo>
                <a:lnTo>
                  <a:pt x="181" y="26"/>
                </a:lnTo>
                <a:lnTo>
                  <a:pt x="176" y="0"/>
                </a:lnTo>
                <a:lnTo>
                  <a:pt x="172" y="4"/>
                </a:lnTo>
                <a:lnTo>
                  <a:pt x="167" y="4"/>
                </a:lnTo>
                <a:lnTo>
                  <a:pt x="159" y="4"/>
                </a:lnTo>
                <a:lnTo>
                  <a:pt x="154" y="7"/>
                </a:lnTo>
                <a:lnTo>
                  <a:pt x="159" y="30"/>
                </a:lnTo>
                <a:lnTo>
                  <a:pt x="167" y="68"/>
                </a:lnTo>
                <a:lnTo>
                  <a:pt x="174" y="110"/>
                </a:lnTo>
                <a:lnTo>
                  <a:pt x="184" y="159"/>
                </a:lnTo>
                <a:lnTo>
                  <a:pt x="154" y="169"/>
                </a:lnTo>
                <a:lnTo>
                  <a:pt x="127" y="175"/>
                </a:lnTo>
                <a:lnTo>
                  <a:pt x="103" y="185"/>
                </a:lnTo>
                <a:lnTo>
                  <a:pt x="79" y="191"/>
                </a:lnTo>
                <a:lnTo>
                  <a:pt x="54" y="201"/>
                </a:lnTo>
                <a:lnTo>
                  <a:pt x="34" y="208"/>
                </a:lnTo>
                <a:lnTo>
                  <a:pt x="15" y="217"/>
                </a:lnTo>
                <a:lnTo>
                  <a:pt x="0" y="224"/>
                </a:lnTo>
                <a:lnTo>
                  <a:pt x="3" y="230"/>
                </a:lnTo>
                <a:lnTo>
                  <a:pt x="5" y="237"/>
                </a:lnTo>
                <a:lnTo>
                  <a:pt x="5" y="243"/>
                </a:lnTo>
                <a:lnTo>
                  <a:pt x="8" y="250"/>
                </a:lnTo>
                <a:lnTo>
                  <a:pt x="25" y="243"/>
                </a:lnTo>
                <a:lnTo>
                  <a:pt x="42" y="237"/>
                </a:lnTo>
                <a:lnTo>
                  <a:pt x="61" y="227"/>
                </a:lnTo>
                <a:lnTo>
                  <a:pt x="83" y="220"/>
                </a:lnTo>
                <a:lnTo>
                  <a:pt x="108" y="211"/>
                </a:lnTo>
                <a:lnTo>
                  <a:pt x="132" y="201"/>
                </a:lnTo>
                <a:lnTo>
                  <a:pt x="159" y="195"/>
                </a:lnTo>
                <a:lnTo>
                  <a:pt x="186" y="185"/>
                </a:lnTo>
                <a:lnTo>
                  <a:pt x="196" y="237"/>
                </a:lnTo>
                <a:lnTo>
                  <a:pt x="203" y="285"/>
                </a:lnTo>
                <a:lnTo>
                  <a:pt x="208" y="324"/>
                </a:lnTo>
                <a:lnTo>
                  <a:pt x="211" y="356"/>
                </a:lnTo>
                <a:lnTo>
                  <a:pt x="216" y="353"/>
                </a:lnTo>
                <a:lnTo>
                  <a:pt x="223" y="353"/>
                </a:lnTo>
                <a:lnTo>
                  <a:pt x="228" y="353"/>
                </a:lnTo>
                <a:lnTo>
                  <a:pt x="233" y="350"/>
                </a:lnTo>
                <a:lnTo>
                  <a:pt x="230" y="318"/>
                </a:lnTo>
                <a:lnTo>
                  <a:pt x="223" y="279"/>
                </a:lnTo>
                <a:lnTo>
                  <a:pt x="216" y="230"/>
                </a:lnTo>
                <a:lnTo>
                  <a:pt x="208" y="178"/>
                </a:lnTo>
                <a:lnTo>
                  <a:pt x="230" y="172"/>
                </a:lnTo>
                <a:lnTo>
                  <a:pt x="255" y="165"/>
                </a:lnTo>
                <a:lnTo>
                  <a:pt x="277" y="159"/>
                </a:lnTo>
                <a:lnTo>
                  <a:pt x="301" y="156"/>
                </a:lnTo>
                <a:lnTo>
                  <a:pt x="323" y="149"/>
                </a:lnTo>
                <a:lnTo>
                  <a:pt x="345" y="146"/>
                </a:lnTo>
                <a:lnTo>
                  <a:pt x="367" y="140"/>
                </a:lnTo>
                <a:lnTo>
                  <a:pt x="387" y="13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98"/>
          <p:cNvSpPr/>
          <p:nvPr/>
        </p:nvSpPr>
        <p:spPr>
          <a:xfrm>
            <a:off x="682560" y="3790800"/>
            <a:ext cx="362160" cy="765360"/>
          </a:xfrm>
          <a:custGeom>
            <a:avLst/>
            <a:gdLst>
              <a:gd name="textAreaLeft" fmla="*/ 0 w 362160"/>
              <a:gd name="textAreaRight" fmla="*/ 362520 w 36216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28" h="482">
                <a:moveTo>
                  <a:pt x="130" y="217"/>
                </a:moveTo>
                <a:lnTo>
                  <a:pt x="145" y="210"/>
                </a:lnTo>
                <a:lnTo>
                  <a:pt x="159" y="204"/>
                </a:lnTo>
                <a:lnTo>
                  <a:pt x="174" y="201"/>
                </a:lnTo>
                <a:lnTo>
                  <a:pt x="189" y="194"/>
                </a:lnTo>
                <a:lnTo>
                  <a:pt x="201" y="191"/>
                </a:lnTo>
                <a:lnTo>
                  <a:pt x="211" y="185"/>
                </a:lnTo>
                <a:lnTo>
                  <a:pt x="220" y="185"/>
                </a:lnTo>
                <a:lnTo>
                  <a:pt x="228" y="181"/>
                </a:lnTo>
                <a:lnTo>
                  <a:pt x="225" y="175"/>
                </a:lnTo>
                <a:lnTo>
                  <a:pt x="225" y="168"/>
                </a:lnTo>
                <a:lnTo>
                  <a:pt x="223" y="165"/>
                </a:lnTo>
                <a:lnTo>
                  <a:pt x="220" y="159"/>
                </a:lnTo>
                <a:lnTo>
                  <a:pt x="213" y="162"/>
                </a:lnTo>
                <a:lnTo>
                  <a:pt x="206" y="165"/>
                </a:lnTo>
                <a:lnTo>
                  <a:pt x="196" y="168"/>
                </a:lnTo>
                <a:lnTo>
                  <a:pt x="184" y="172"/>
                </a:lnTo>
                <a:lnTo>
                  <a:pt x="169" y="178"/>
                </a:lnTo>
                <a:lnTo>
                  <a:pt x="154" y="181"/>
                </a:lnTo>
                <a:lnTo>
                  <a:pt x="140" y="188"/>
                </a:lnTo>
                <a:lnTo>
                  <a:pt x="125" y="194"/>
                </a:lnTo>
                <a:lnTo>
                  <a:pt x="108" y="130"/>
                </a:lnTo>
                <a:lnTo>
                  <a:pt x="93" y="71"/>
                </a:lnTo>
                <a:lnTo>
                  <a:pt x="81" y="29"/>
                </a:lnTo>
                <a:lnTo>
                  <a:pt x="71" y="0"/>
                </a:lnTo>
                <a:lnTo>
                  <a:pt x="66" y="3"/>
                </a:lnTo>
                <a:lnTo>
                  <a:pt x="64" y="3"/>
                </a:lnTo>
                <a:lnTo>
                  <a:pt x="59" y="7"/>
                </a:lnTo>
                <a:lnTo>
                  <a:pt x="54" y="7"/>
                </a:lnTo>
                <a:lnTo>
                  <a:pt x="61" y="36"/>
                </a:lnTo>
                <a:lnTo>
                  <a:pt x="74" y="78"/>
                </a:lnTo>
                <a:lnTo>
                  <a:pt x="91" y="136"/>
                </a:lnTo>
                <a:lnTo>
                  <a:pt x="108" y="201"/>
                </a:lnTo>
                <a:lnTo>
                  <a:pt x="93" y="207"/>
                </a:lnTo>
                <a:lnTo>
                  <a:pt x="76" y="214"/>
                </a:lnTo>
                <a:lnTo>
                  <a:pt x="61" y="220"/>
                </a:lnTo>
                <a:lnTo>
                  <a:pt x="47" y="227"/>
                </a:lnTo>
                <a:lnTo>
                  <a:pt x="32" y="233"/>
                </a:lnTo>
                <a:lnTo>
                  <a:pt x="20" y="240"/>
                </a:lnTo>
                <a:lnTo>
                  <a:pt x="10" y="243"/>
                </a:lnTo>
                <a:lnTo>
                  <a:pt x="0" y="249"/>
                </a:lnTo>
                <a:lnTo>
                  <a:pt x="3" y="253"/>
                </a:lnTo>
                <a:lnTo>
                  <a:pt x="5" y="259"/>
                </a:lnTo>
                <a:lnTo>
                  <a:pt x="5" y="262"/>
                </a:lnTo>
                <a:lnTo>
                  <a:pt x="8" y="269"/>
                </a:lnTo>
                <a:lnTo>
                  <a:pt x="17" y="265"/>
                </a:lnTo>
                <a:lnTo>
                  <a:pt x="27" y="259"/>
                </a:lnTo>
                <a:lnTo>
                  <a:pt x="39" y="256"/>
                </a:lnTo>
                <a:lnTo>
                  <a:pt x="54" y="249"/>
                </a:lnTo>
                <a:lnTo>
                  <a:pt x="66" y="243"/>
                </a:lnTo>
                <a:lnTo>
                  <a:pt x="81" y="236"/>
                </a:lnTo>
                <a:lnTo>
                  <a:pt x="98" y="230"/>
                </a:lnTo>
                <a:lnTo>
                  <a:pt x="113" y="223"/>
                </a:lnTo>
                <a:lnTo>
                  <a:pt x="130" y="291"/>
                </a:lnTo>
                <a:lnTo>
                  <a:pt x="149" y="359"/>
                </a:lnTo>
                <a:lnTo>
                  <a:pt x="167" y="424"/>
                </a:lnTo>
                <a:lnTo>
                  <a:pt x="181" y="482"/>
                </a:lnTo>
                <a:lnTo>
                  <a:pt x="186" y="482"/>
                </a:lnTo>
                <a:lnTo>
                  <a:pt x="191" y="479"/>
                </a:lnTo>
                <a:lnTo>
                  <a:pt x="194" y="479"/>
                </a:lnTo>
                <a:lnTo>
                  <a:pt x="198" y="476"/>
                </a:lnTo>
                <a:lnTo>
                  <a:pt x="184" y="418"/>
                </a:lnTo>
                <a:lnTo>
                  <a:pt x="167" y="353"/>
                </a:lnTo>
                <a:lnTo>
                  <a:pt x="147" y="285"/>
                </a:lnTo>
                <a:lnTo>
                  <a:pt x="130" y="21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199"/>
          <p:cNvSpPr/>
          <p:nvPr/>
        </p:nvSpPr>
        <p:spPr>
          <a:xfrm>
            <a:off x="2994120" y="3209760"/>
            <a:ext cx="287280" cy="920880"/>
          </a:xfrm>
          <a:custGeom>
            <a:avLst/>
            <a:gdLst>
              <a:gd name="textAreaLeft" fmla="*/ 0 w 287280"/>
              <a:gd name="textAreaRight" fmla="*/ 287640 w 287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81" h="580">
                <a:moveTo>
                  <a:pt x="0" y="0"/>
                </a:moveTo>
                <a:lnTo>
                  <a:pt x="27" y="0"/>
                </a:lnTo>
                <a:lnTo>
                  <a:pt x="54" y="0"/>
                </a:lnTo>
                <a:lnTo>
                  <a:pt x="79" y="0"/>
                </a:lnTo>
                <a:lnTo>
                  <a:pt x="103" y="0"/>
                </a:lnTo>
                <a:lnTo>
                  <a:pt x="125" y="0"/>
                </a:lnTo>
                <a:lnTo>
                  <a:pt x="145" y="4"/>
                </a:lnTo>
                <a:lnTo>
                  <a:pt x="164" y="7"/>
                </a:lnTo>
                <a:lnTo>
                  <a:pt x="181" y="10"/>
                </a:lnTo>
                <a:lnTo>
                  <a:pt x="176" y="140"/>
                </a:lnTo>
                <a:lnTo>
                  <a:pt x="169" y="314"/>
                </a:lnTo>
                <a:lnTo>
                  <a:pt x="169" y="483"/>
                </a:lnTo>
                <a:lnTo>
                  <a:pt x="172" y="580"/>
                </a:lnTo>
                <a:lnTo>
                  <a:pt x="152" y="576"/>
                </a:lnTo>
                <a:lnTo>
                  <a:pt x="132" y="576"/>
                </a:lnTo>
                <a:lnTo>
                  <a:pt x="110" y="573"/>
                </a:lnTo>
                <a:lnTo>
                  <a:pt x="91" y="573"/>
                </a:lnTo>
                <a:lnTo>
                  <a:pt x="71" y="573"/>
                </a:lnTo>
                <a:lnTo>
                  <a:pt x="52" y="573"/>
                </a:lnTo>
                <a:lnTo>
                  <a:pt x="30" y="573"/>
                </a:lnTo>
                <a:lnTo>
                  <a:pt x="10" y="573"/>
                </a:lnTo>
                <a:lnTo>
                  <a:pt x="8" y="479"/>
                </a:lnTo>
                <a:lnTo>
                  <a:pt x="3" y="340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200"/>
          <p:cNvSpPr/>
          <p:nvPr/>
        </p:nvSpPr>
        <p:spPr>
          <a:xfrm>
            <a:off x="2252520" y="3251160"/>
            <a:ext cx="341280" cy="951120"/>
          </a:xfrm>
          <a:custGeom>
            <a:avLst/>
            <a:gdLst>
              <a:gd name="textAreaLeft" fmla="*/ 0 w 341280"/>
              <a:gd name="textAreaRight" fmla="*/ 341640 w 341280"/>
              <a:gd name="textAreaTop" fmla="*/ 0 h 951120"/>
              <a:gd name="textAreaBottom" fmla="*/ 951480 h 951120"/>
            </a:gdLst>
            <a:ahLst/>
            <a:rect l="textAreaLeft" t="textAreaTop" r="textAreaRight" b="textAreaBottom"/>
            <a:pathLst>
              <a:path w="215" h="599">
                <a:moveTo>
                  <a:pt x="181" y="0"/>
                </a:moveTo>
                <a:lnTo>
                  <a:pt x="154" y="4"/>
                </a:lnTo>
                <a:lnTo>
                  <a:pt x="127" y="7"/>
                </a:lnTo>
                <a:lnTo>
                  <a:pt x="100" y="10"/>
                </a:lnTo>
                <a:lnTo>
                  <a:pt x="78" y="13"/>
                </a:lnTo>
                <a:lnTo>
                  <a:pt x="56" y="20"/>
                </a:lnTo>
                <a:lnTo>
                  <a:pt x="34" y="23"/>
                </a:lnTo>
                <a:lnTo>
                  <a:pt x="17" y="26"/>
                </a:lnTo>
                <a:lnTo>
                  <a:pt x="0" y="29"/>
                </a:lnTo>
                <a:lnTo>
                  <a:pt x="15" y="130"/>
                </a:lnTo>
                <a:lnTo>
                  <a:pt x="34" y="295"/>
                </a:lnTo>
                <a:lnTo>
                  <a:pt x="51" y="470"/>
                </a:lnTo>
                <a:lnTo>
                  <a:pt x="59" y="599"/>
                </a:lnTo>
                <a:lnTo>
                  <a:pt x="68" y="596"/>
                </a:lnTo>
                <a:lnTo>
                  <a:pt x="83" y="593"/>
                </a:lnTo>
                <a:lnTo>
                  <a:pt x="100" y="586"/>
                </a:lnTo>
                <a:lnTo>
                  <a:pt x="120" y="583"/>
                </a:lnTo>
                <a:lnTo>
                  <a:pt x="139" y="580"/>
                </a:lnTo>
                <a:lnTo>
                  <a:pt x="164" y="573"/>
                </a:lnTo>
                <a:lnTo>
                  <a:pt x="188" y="570"/>
                </a:lnTo>
                <a:lnTo>
                  <a:pt x="215" y="567"/>
                </a:lnTo>
                <a:lnTo>
                  <a:pt x="210" y="470"/>
                </a:lnTo>
                <a:lnTo>
                  <a:pt x="200" y="288"/>
                </a:lnTo>
                <a:lnTo>
                  <a:pt x="191" y="104"/>
                </a:lnTo>
                <a:lnTo>
                  <a:pt x="181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01"/>
          <p:cNvSpPr/>
          <p:nvPr/>
        </p:nvSpPr>
        <p:spPr>
          <a:xfrm>
            <a:off x="1817640" y="1587600"/>
            <a:ext cx="322200" cy="657000"/>
          </a:xfrm>
          <a:custGeom>
            <a:avLst/>
            <a:gdLst>
              <a:gd name="textAreaLeft" fmla="*/ 0 w 322200"/>
              <a:gd name="textAreaRight" fmla="*/ 322560 w 32220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203" h="414">
                <a:moveTo>
                  <a:pt x="51" y="414"/>
                </a:moveTo>
                <a:lnTo>
                  <a:pt x="76" y="404"/>
                </a:lnTo>
                <a:lnTo>
                  <a:pt x="100" y="398"/>
                </a:lnTo>
                <a:lnTo>
                  <a:pt x="122" y="391"/>
                </a:lnTo>
                <a:lnTo>
                  <a:pt x="142" y="385"/>
                </a:lnTo>
                <a:lnTo>
                  <a:pt x="159" y="382"/>
                </a:lnTo>
                <a:lnTo>
                  <a:pt x="176" y="375"/>
                </a:lnTo>
                <a:lnTo>
                  <a:pt x="191" y="375"/>
                </a:lnTo>
                <a:lnTo>
                  <a:pt x="203" y="372"/>
                </a:lnTo>
                <a:lnTo>
                  <a:pt x="171" y="0"/>
                </a:lnTo>
                <a:lnTo>
                  <a:pt x="154" y="3"/>
                </a:lnTo>
                <a:lnTo>
                  <a:pt x="134" y="6"/>
                </a:lnTo>
                <a:lnTo>
                  <a:pt x="115" y="10"/>
                </a:lnTo>
                <a:lnTo>
                  <a:pt x="93" y="16"/>
                </a:lnTo>
                <a:lnTo>
                  <a:pt x="71" y="19"/>
                </a:lnTo>
                <a:lnTo>
                  <a:pt x="49" y="26"/>
                </a:lnTo>
                <a:lnTo>
                  <a:pt x="24" y="29"/>
                </a:lnTo>
                <a:lnTo>
                  <a:pt x="0" y="36"/>
                </a:lnTo>
                <a:lnTo>
                  <a:pt x="12" y="97"/>
                </a:lnTo>
                <a:lnTo>
                  <a:pt x="27" y="217"/>
                </a:lnTo>
                <a:lnTo>
                  <a:pt x="41" y="340"/>
                </a:lnTo>
                <a:lnTo>
                  <a:pt x="51" y="414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846000" y="1874880"/>
            <a:ext cx="397080" cy="771480"/>
          </a:xfrm>
          <a:custGeom>
            <a:avLst/>
            <a:gdLst>
              <a:gd name="textAreaLeft" fmla="*/ 0 w 397080"/>
              <a:gd name="textAreaRight" fmla="*/ 397440 w 397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250" h="486">
                <a:moveTo>
                  <a:pt x="250" y="405"/>
                </a:moveTo>
                <a:lnTo>
                  <a:pt x="230" y="414"/>
                </a:lnTo>
                <a:lnTo>
                  <a:pt x="210" y="427"/>
                </a:lnTo>
                <a:lnTo>
                  <a:pt x="191" y="437"/>
                </a:lnTo>
                <a:lnTo>
                  <a:pt x="174" y="447"/>
                </a:lnTo>
                <a:lnTo>
                  <a:pt x="157" y="456"/>
                </a:lnTo>
                <a:lnTo>
                  <a:pt x="142" y="466"/>
                </a:lnTo>
                <a:lnTo>
                  <a:pt x="127" y="476"/>
                </a:lnTo>
                <a:lnTo>
                  <a:pt x="113" y="486"/>
                </a:lnTo>
                <a:lnTo>
                  <a:pt x="0" y="84"/>
                </a:lnTo>
                <a:lnTo>
                  <a:pt x="17" y="75"/>
                </a:lnTo>
                <a:lnTo>
                  <a:pt x="32" y="62"/>
                </a:lnTo>
                <a:lnTo>
                  <a:pt x="51" y="52"/>
                </a:lnTo>
                <a:lnTo>
                  <a:pt x="68" y="42"/>
                </a:lnTo>
                <a:lnTo>
                  <a:pt x="88" y="29"/>
                </a:lnTo>
                <a:lnTo>
                  <a:pt x="108" y="20"/>
                </a:lnTo>
                <a:lnTo>
                  <a:pt x="127" y="10"/>
                </a:lnTo>
                <a:lnTo>
                  <a:pt x="149" y="0"/>
                </a:lnTo>
                <a:lnTo>
                  <a:pt x="159" y="29"/>
                </a:lnTo>
                <a:lnTo>
                  <a:pt x="171" y="78"/>
                </a:lnTo>
                <a:lnTo>
                  <a:pt x="186" y="139"/>
                </a:lnTo>
                <a:lnTo>
                  <a:pt x="203" y="207"/>
                </a:lnTo>
                <a:lnTo>
                  <a:pt x="218" y="272"/>
                </a:lnTo>
                <a:lnTo>
                  <a:pt x="232" y="330"/>
                </a:lnTo>
                <a:lnTo>
                  <a:pt x="242" y="379"/>
                </a:lnTo>
                <a:lnTo>
                  <a:pt x="250" y="405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977760" y="3575160"/>
            <a:ext cx="474840" cy="934920"/>
          </a:xfrm>
          <a:custGeom>
            <a:avLst/>
            <a:gdLst>
              <a:gd name="textAreaLeft" fmla="*/ 0 w 474840"/>
              <a:gd name="textAreaRight" fmla="*/ 475200 w 4748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99" h="589">
                <a:moveTo>
                  <a:pt x="0" y="55"/>
                </a:moveTo>
                <a:lnTo>
                  <a:pt x="27" y="46"/>
                </a:lnTo>
                <a:lnTo>
                  <a:pt x="52" y="36"/>
                </a:lnTo>
                <a:lnTo>
                  <a:pt x="76" y="26"/>
                </a:lnTo>
                <a:lnTo>
                  <a:pt x="101" y="20"/>
                </a:lnTo>
                <a:lnTo>
                  <a:pt x="123" y="13"/>
                </a:lnTo>
                <a:lnTo>
                  <a:pt x="142" y="7"/>
                </a:lnTo>
                <a:lnTo>
                  <a:pt x="162" y="3"/>
                </a:lnTo>
                <a:lnTo>
                  <a:pt x="179" y="0"/>
                </a:lnTo>
                <a:lnTo>
                  <a:pt x="189" y="52"/>
                </a:lnTo>
                <a:lnTo>
                  <a:pt x="201" y="123"/>
                </a:lnTo>
                <a:lnTo>
                  <a:pt x="218" y="207"/>
                </a:lnTo>
                <a:lnTo>
                  <a:pt x="235" y="291"/>
                </a:lnTo>
                <a:lnTo>
                  <a:pt x="255" y="376"/>
                </a:lnTo>
                <a:lnTo>
                  <a:pt x="272" y="450"/>
                </a:lnTo>
                <a:lnTo>
                  <a:pt x="286" y="508"/>
                </a:lnTo>
                <a:lnTo>
                  <a:pt x="299" y="541"/>
                </a:lnTo>
                <a:lnTo>
                  <a:pt x="279" y="547"/>
                </a:lnTo>
                <a:lnTo>
                  <a:pt x="260" y="550"/>
                </a:lnTo>
                <a:lnTo>
                  <a:pt x="240" y="557"/>
                </a:lnTo>
                <a:lnTo>
                  <a:pt x="220" y="563"/>
                </a:lnTo>
                <a:lnTo>
                  <a:pt x="198" y="570"/>
                </a:lnTo>
                <a:lnTo>
                  <a:pt x="179" y="576"/>
                </a:lnTo>
                <a:lnTo>
                  <a:pt x="159" y="583"/>
                </a:lnTo>
                <a:lnTo>
                  <a:pt x="140" y="589"/>
                </a:lnTo>
                <a:lnTo>
                  <a:pt x="130" y="554"/>
                </a:lnTo>
                <a:lnTo>
                  <a:pt x="115" y="505"/>
                </a:lnTo>
                <a:lnTo>
                  <a:pt x="98" y="444"/>
                </a:lnTo>
                <a:lnTo>
                  <a:pt x="81" y="376"/>
                </a:lnTo>
                <a:lnTo>
                  <a:pt x="61" y="298"/>
                </a:lnTo>
                <a:lnTo>
                  <a:pt x="39" y="220"/>
                </a:lnTo>
                <a:lnTo>
                  <a:pt x="20" y="136"/>
                </a:lnTo>
                <a:lnTo>
                  <a:pt x="0" y="55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271440" y="3857760"/>
            <a:ext cx="531720" cy="97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335" h="612">
                <a:moveTo>
                  <a:pt x="171" y="0"/>
                </a:moveTo>
                <a:lnTo>
                  <a:pt x="144" y="13"/>
                </a:lnTo>
                <a:lnTo>
                  <a:pt x="120" y="26"/>
                </a:lnTo>
                <a:lnTo>
                  <a:pt x="95" y="39"/>
                </a:lnTo>
                <a:lnTo>
                  <a:pt x="73" y="52"/>
                </a:lnTo>
                <a:lnTo>
                  <a:pt x="54" y="65"/>
                </a:lnTo>
                <a:lnTo>
                  <a:pt x="34" y="75"/>
                </a:lnTo>
                <a:lnTo>
                  <a:pt x="14" y="84"/>
                </a:lnTo>
                <a:lnTo>
                  <a:pt x="0" y="94"/>
                </a:lnTo>
                <a:lnTo>
                  <a:pt x="14" y="130"/>
                </a:lnTo>
                <a:lnTo>
                  <a:pt x="37" y="185"/>
                </a:lnTo>
                <a:lnTo>
                  <a:pt x="63" y="253"/>
                </a:lnTo>
                <a:lnTo>
                  <a:pt x="93" y="334"/>
                </a:lnTo>
                <a:lnTo>
                  <a:pt x="122" y="414"/>
                </a:lnTo>
                <a:lnTo>
                  <a:pt x="149" y="492"/>
                </a:lnTo>
                <a:lnTo>
                  <a:pt x="171" y="560"/>
                </a:lnTo>
                <a:lnTo>
                  <a:pt x="186" y="612"/>
                </a:lnTo>
                <a:lnTo>
                  <a:pt x="196" y="605"/>
                </a:lnTo>
                <a:lnTo>
                  <a:pt x="210" y="596"/>
                </a:lnTo>
                <a:lnTo>
                  <a:pt x="225" y="586"/>
                </a:lnTo>
                <a:lnTo>
                  <a:pt x="242" y="573"/>
                </a:lnTo>
                <a:lnTo>
                  <a:pt x="264" y="563"/>
                </a:lnTo>
                <a:lnTo>
                  <a:pt x="286" y="550"/>
                </a:lnTo>
                <a:lnTo>
                  <a:pt x="308" y="537"/>
                </a:lnTo>
                <a:lnTo>
                  <a:pt x="335" y="524"/>
                </a:lnTo>
                <a:lnTo>
                  <a:pt x="325" y="492"/>
                </a:lnTo>
                <a:lnTo>
                  <a:pt x="306" y="434"/>
                </a:lnTo>
                <a:lnTo>
                  <a:pt x="281" y="356"/>
                </a:lnTo>
                <a:lnTo>
                  <a:pt x="254" y="266"/>
                </a:lnTo>
                <a:lnTo>
                  <a:pt x="227" y="178"/>
                </a:lnTo>
                <a:lnTo>
                  <a:pt x="203" y="97"/>
                </a:lnTo>
                <a:lnTo>
                  <a:pt x="183" y="36"/>
                </a:lnTo>
                <a:lnTo>
                  <a:pt x="171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205"/>
          <p:cNvSpPr/>
          <p:nvPr/>
        </p:nvSpPr>
        <p:spPr>
          <a:xfrm>
            <a:off x="2322360" y="3333600"/>
            <a:ext cx="206640" cy="776520"/>
          </a:xfrm>
          <a:custGeom>
            <a:avLst/>
            <a:gdLst>
              <a:gd name="textAreaLeft" fmla="*/ 0 w 206640"/>
              <a:gd name="textAreaRight" fmla="*/ 207000 w 20664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130" h="489">
                <a:moveTo>
                  <a:pt x="110" y="0"/>
                </a:moveTo>
                <a:lnTo>
                  <a:pt x="93" y="3"/>
                </a:lnTo>
                <a:lnTo>
                  <a:pt x="76" y="3"/>
                </a:lnTo>
                <a:lnTo>
                  <a:pt x="61" y="7"/>
                </a:lnTo>
                <a:lnTo>
                  <a:pt x="46" y="10"/>
                </a:lnTo>
                <a:lnTo>
                  <a:pt x="34" y="13"/>
                </a:lnTo>
                <a:lnTo>
                  <a:pt x="22" y="13"/>
                </a:lnTo>
                <a:lnTo>
                  <a:pt x="10" y="16"/>
                </a:lnTo>
                <a:lnTo>
                  <a:pt x="0" y="20"/>
                </a:lnTo>
                <a:lnTo>
                  <a:pt x="10" y="100"/>
                </a:lnTo>
                <a:lnTo>
                  <a:pt x="27" y="243"/>
                </a:lnTo>
                <a:lnTo>
                  <a:pt x="41" y="388"/>
                </a:lnTo>
                <a:lnTo>
                  <a:pt x="49" y="489"/>
                </a:lnTo>
                <a:lnTo>
                  <a:pt x="54" y="486"/>
                </a:lnTo>
                <a:lnTo>
                  <a:pt x="61" y="482"/>
                </a:lnTo>
                <a:lnTo>
                  <a:pt x="68" y="482"/>
                </a:lnTo>
                <a:lnTo>
                  <a:pt x="78" y="479"/>
                </a:lnTo>
                <a:lnTo>
                  <a:pt x="88" y="476"/>
                </a:lnTo>
                <a:lnTo>
                  <a:pt x="100" y="473"/>
                </a:lnTo>
                <a:lnTo>
                  <a:pt x="112" y="473"/>
                </a:lnTo>
                <a:lnTo>
                  <a:pt x="130" y="469"/>
                </a:lnTo>
                <a:lnTo>
                  <a:pt x="127" y="392"/>
                </a:lnTo>
                <a:lnTo>
                  <a:pt x="122" y="240"/>
                </a:lnTo>
                <a:lnTo>
                  <a:pt x="115" y="84"/>
                </a:lnTo>
                <a:lnTo>
                  <a:pt x="110" y="0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06"/>
          <p:cNvSpPr/>
          <p:nvPr/>
        </p:nvSpPr>
        <p:spPr>
          <a:xfrm>
            <a:off x="3052800" y="3278160"/>
            <a:ext cx="158760" cy="790560"/>
          </a:xfrm>
          <a:custGeom>
            <a:avLst/>
            <a:gdLst>
              <a:gd name="textAreaLeft" fmla="*/ 0 w 158760"/>
              <a:gd name="textAreaRight" fmla="*/ 159120 w 1587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100" h="498">
                <a:moveTo>
                  <a:pt x="0" y="0"/>
                </a:moveTo>
                <a:lnTo>
                  <a:pt x="0" y="93"/>
                </a:lnTo>
                <a:lnTo>
                  <a:pt x="0" y="249"/>
                </a:lnTo>
                <a:lnTo>
                  <a:pt x="2" y="404"/>
                </a:lnTo>
                <a:lnTo>
                  <a:pt x="5" y="491"/>
                </a:lnTo>
                <a:lnTo>
                  <a:pt x="15" y="495"/>
                </a:lnTo>
                <a:lnTo>
                  <a:pt x="27" y="495"/>
                </a:lnTo>
                <a:lnTo>
                  <a:pt x="42" y="498"/>
                </a:lnTo>
                <a:lnTo>
                  <a:pt x="56" y="498"/>
                </a:lnTo>
                <a:lnTo>
                  <a:pt x="68" y="498"/>
                </a:lnTo>
                <a:lnTo>
                  <a:pt x="81" y="498"/>
                </a:lnTo>
                <a:lnTo>
                  <a:pt x="93" y="498"/>
                </a:lnTo>
                <a:lnTo>
                  <a:pt x="100" y="498"/>
                </a:lnTo>
                <a:lnTo>
                  <a:pt x="95" y="414"/>
                </a:lnTo>
                <a:lnTo>
                  <a:pt x="95" y="265"/>
                </a:lnTo>
                <a:lnTo>
                  <a:pt x="98" y="113"/>
                </a:lnTo>
                <a:lnTo>
                  <a:pt x="100" y="12"/>
                </a:lnTo>
                <a:lnTo>
                  <a:pt x="88" y="9"/>
                </a:lnTo>
                <a:lnTo>
                  <a:pt x="76" y="6"/>
                </a:lnTo>
                <a:lnTo>
                  <a:pt x="59" y="6"/>
                </a:lnTo>
                <a:lnTo>
                  <a:pt x="44" y="3"/>
                </a:lnTo>
                <a:lnTo>
                  <a:pt x="29" y="3"/>
                </a:lnTo>
                <a:lnTo>
                  <a:pt x="17" y="3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207"/>
          <p:cNvSpPr/>
          <p:nvPr/>
        </p:nvSpPr>
        <p:spPr>
          <a:xfrm>
            <a:off x="1874880" y="1679400"/>
            <a:ext cx="203040" cy="482760"/>
          </a:xfrm>
          <a:custGeom>
            <a:avLst/>
            <a:gdLst>
              <a:gd name="textAreaLeft" fmla="*/ 0 w 203040"/>
              <a:gd name="textAreaRight" fmla="*/ 203400 w 2030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28" h="304">
                <a:moveTo>
                  <a:pt x="45" y="304"/>
                </a:moveTo>
                <a:lnTo>
                  <a:pt x="59" y="298"/>
                </a:lnTo>
                <a:lnTo>
                  <a:pt x="71" y="295"/>
                </a:lnTo>
                <a:lnTo>
                  <a:pt x="84" y="291"/>
                </a:lnTo>
                <a:lnTo>
                  <a:pt x="93" y="285"/>
                </a:lnTo>
                <a:lnTo>
                  <a:pt x="103" y="285"/>
                </a:lnTo>
                <a:lnTo>
                  <a:pt x="113" y="282"/>
                </a:lnTo>
                <a:lnTo>
                  <a:pt x="120" y="278"/>
                </a:lnTo>
                <a:lnTo>
                  <a:pt x="128" y="278"/>
                </a:lnTo>
                <a:lnTo>
                  <a:pt x="106" y="0"/>
                </a:lnTo>
                <a:lnTo>
                  <a:pt x="93" y="0"/>
                </a:lnTo>
                <a:lnTo>
                  <a:pt x="81" y="3"/>
                </a:lnTo>
                <a:lnTo>
                  <a:pt x="69" y="7"/>
                </a:lnTo>
                <a:lnTo>
                  <a:pt x="57" y="7"/>
                </a:lnTo>
                <a:lnTo>
                  <a:pt x="42" y="10"/>
                </a:lnTo>
                <a:lnTo>
                  <a:pt x="30" y="13"/>
                </a:lnTo>
                <a:lnTo>
                  <a:pt x="15" y="16"/>
                </a:lnTo>
                <a:lnTo>
                  <a:pt x="0" y="20"/>
                </a:lnTo>
                <a:lnTo>
                  <a:pt x="8" y="68"/>
                </a:lnTo>
                <a:lnTo>
                  <a:pt x="22" y="155"/>
                </a:lnTo>
                <a:lnTo>
                  <a:pt x="37" y="249"/>
                </a:lnTo>
                <a:lnTo>
                  <a:pt x="45" y="304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208"/>
          <p:cNvSpPr/>
          <p:nvPr/>
        </p:nvSpPr>
        <p:spPr>
          <a:xfrm>
            <a:off x="912960" y="1978200"/>
            <a:ext cx="260280" cy="580680"/>
          </a:xfrm>
          <a:custGeom>
            <a:avLst/>
            <a:gdLst>
              <a:gd name="textAreaLeft" fmla="*/ 0 w 260280"/>
              <a:gd name="textAreaRight" fmla="*/ 260640 w 26028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64" h="366">
                <a:moveTo>
                  <a:pt x="164" y="314"/>
                </a:moveTo>
                <a:lnTo>
                  <a:pt x="151" y="320"/>
                </a:lnTo>
                <a:lnTo>
                  <a:pt x="142" y="327"/>
                </a:lnTo>
                <a:lnTo>
                  <a:pt x="132" y="333"/>
                </a:lnTo>
                <a:lnTo>
                  <a:pt x="124" y="340"/>
                </a:lnTo>
                <a:lnTo>
                  <a:pt x="115" y="346"/>
                </a:lnTo>
                <a:lnTo>
                  <a:pt x="107" y="353"/>
                </a:lnTo>
                <a:lnTo>
                  <a:pt x="97" y="359"/>
                </a:lnTo>
                <a:lnTo>
                  <a:pt x="90" y="366"/>
                </a:lnTo>
                <a:lnTo>
                  <a:pt x="0" y="48"/>
                </a:lnTo>
                <a:lnTo>
                  <a:pt x="9" y="42"/>
                </a:lnTo>
                <a:lnTo>
                  <a:pt x="19" y="35"/>
                </a:lnTo>
                <a:lnTo>
                  <a:pt x="31" y="29"/>
                </a:lnTo>
                <a:lnTo>
                  <a:pt x="41" y="22"/>
                </a:lnTo>
                <a:lnTo>
                  <a:pt x="53" y="16"/>
                </a:lnTo>
                <a:lnTo>
                  <a:pt x="63" y="10"/>
                </a:lnTo>
                <a:lnTo>
                  <a:pt x="75" y="6"/>
                </a:lnTo>
                <a:lnTo>
                  <a:pt x="88" y="0"/>
                </a:lnTo>
                <a:lnTo>
                  <a:pt x="95" y="19"/>
                </a:lnTo>
                <a:lnTo>
                  <a:pt x="105" y="58"/>
                </a:lnTo>
                <a:lnTo>
                  <a:pt x="115" y="107"/>
                </a:lnTo>
                <a:lnTo>
                  <a:pt x="129" y="158"/>
                </a:lnTo>
                <a:lnTo>
                  <a:pt x="142" y="210"/>
                </a:lnTo>
                <a:lnTo>
                  <a:pt x="151" y="259"/>
                </a:lnTo>
                <a:lnTo>
                  <a:pt x="159" y="294"/>
                </a:lnTo>
                <a:lnTo>
                  <a:pt x="164" y="314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209"/>
          <p:cNvSpPr/>
          <p:nvPr/>
        </p:nvSpPr>
        <p:spPr>
          <a:xfrm>
            <a:off x="1052640" y="3666960"/>
            <a:ext cx="333360" cy="771840"/>
          </a:xfrm>
          <a:custGeom>
            <a:avLst/>
            <a:gdLst>
              <a:gd name="textAreaLeft" fmla="*/ 0 w 333360"/>
              <a:gd name="textAreaRight" fmla="*/ 333720 w 33336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210" h="486">
                <a:moveTo>
                  <a:pt x="100" y="0"/>
                </a:moveTo>
                <a:lnTo>
                  <a:pt x="88" y="0"/>
                </a:lnTo>
                <a:lnTo>
                  <a:pt x="73" y="4"/>
                </a:lnTo>
                <a:lnTo>
                  <a:pt x="58" y="7"/>
                </a:lnTo>
                <a:lnTo>
                  <a:pt x="41" y="10"/>
                </a:lnTo>
                <a:lnTo>
                  <a:pt x="27" y="17"/>
                </a:lnTo>
                <a:lnTo>
                  <a:pt x="14" y="20"/>
                </a:lnTo>
                <a:lnTo>
                  <a:pt x="5" y="23"/>
                </a:lnTo>
                <a:lnTo>
                  <a:pt x="0" y="23"/>
                </a:lnTo>
                <a:lnTo>
                  <a:pt x="7" y="55"/>
                </a:lnTo>
                <a:lnTo>
                  <a:pt x="19" y="110"/>
                </a:lnTo>
                <a:lnTo>
                  <a:pt x="36" y="178"/>
                </a:lnTo>
                <a:lnTo>
                  <a:pt x="56" y="256"/>
                </a:lnTo>
                <a:lnTo>
                  <a:pt x="76" y="334"/>
                </a:lnTo>
                <a:lnTo>
                  <a:pt x="93" y="402"/>
                </a:lnTo>
                <a:lnTo>
                  <a:pt x="105" y="457"/>
                </a:lnTo>
                <a:lnTo>
                  <a:pt x="115" y="486"/>
                </a:lnTo>
                <a:lnTo>
                  <a:pt x="127" y="483"/>
                </a:lnTo>
                <a:lnTo>
                  <a:pt x="139" y="479"/>
                </a:lnTo>
                <a:lnTo>
                  <a:pt x="151" y="476"/>
                </a:lnTo>
                <a:lnTo>
                  <a:pt x="166" y="473"/>
                </a:lnTo>
                <a:lnTo>
                  <a:pt x="178" y="466"/>
                </a:lnTo>
                <a:lnTo>
                  <a:pt x="193" y="463"/>
                </a:lnTo>
                <a:lnTo>
                  <a:pt x="203" y="460"/>
                </a:lnTo>
                <a:lnTo>
                  <a:pt x="210" y="457"/>
                </a:lnTo>
                <a:lnTo>
                  <a:pt x="200" y="428"/>
                </a:lnTo>
                <a:lnTo>
                  <a:pt x="186" y="379"/>
                </a:lnTo>
                <a:lnTo>
                  <a:pt x="171" y="314"/>
                </a:lnTo>
                <a:lnTo>
                  <a:pt x="151" y="240"/>
                </a:lnTo>
                <a:lnTo>
                  <a:pt x="134" y="166"/>
                </a:lnTo>
                <a:lnTo>
                  <a:pt x="120" y="98"/>
                </a:lnTo>
                <a:lnTo>
                  <a:pt x="107" y="39"/>
                </a:lnTo>
                <a:lnTo>
                  <a:pt x="100" y="0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210"/>
          <p:cNvSpPr/>
          <p:nvPr/>
        </p:nvSpPr>
        <p:spPr>
          <a:xfrm>
            <a:off x="352440" y="3956040"/>
            <a:ext cx="369720" cy="765360"/>
          </a:xfrm>
          <a:custGeom>
            <a:avLst/>
            <a:gdLst>
              <a:gd name="textAreaLeft" fmla="*/ 0 w 369720"/>
              <a:gd name="textAreaRight" fmla="*/ 370080 w 3697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33" h="482">
                <a:moveTo>
                  <a:pt x="105" y="0"/>
                </a:moveTo>
                <a:lnTo>
                  <a:pt x="88" y="9"/>
                </a:lnTo>
                <a:lnTo>
                  <a:pt x="74" y="16"/>
                </a:lnTo>
                <a:lnTo>
                  <a:pt x="59" y="22"/>
                </a:lnTo>
                <a:lnTo>
                  <a:pt x="47" y="32"/>
                </a:lnTo>
                <a:lnTo>
                  <a:pt x="32" y="39"/>
                </a:lnTo>
                <a:lnTo>
                  <a:pt x="20" y="45"/>
                </a:lnTo>
                <a:lnTo>
                  <a:pt x="10" y="51"/>
                </a:lnTo>
                <a:lnTo>
                  <a:pt x="0" y="58"/>
                </a:lnTo>
                <a:lnTo>
                  <a:pt x="12" y="84"/>
                </a:lnTo>
                <a:lnTo>
                  <a:pt x="30" y="129"/>
                </a:lnTo>
                <a:lnTo>
                  <a:pt x="54" y="191"/>
                </a:lnTo>
                <a:lnTo>
                  <a:pt x="79" y="259"/>
                </a:lnTo>
                <a:lnTo>
                  <a:pt x="105" y="327"/>
                </a:lnTo>
                <a:lnTo>
                  <a:pt x="127" y="391"/>
                </a:lnTo>
                <a:lnTo>
                  <a:pt x="147" y="446"/>
                </a:lnTo>
                <a:lnTo>
                  <a:pt x="157" y="482"/>
                </a:lnTo>
                <a:lnTo>
                  <a:pt x="162" y="479"/>
                </a:lnTo>
                <a:lnTo>
                  <a:pt x="167" y="475"/>
                </a:lnTo>
                <a:lnTo>
                  <a:pt x="174" y="469"/>
                </a:lnTo>
                <a:lnTo>
                  <a:pt x="184" y="462"/>
                </a:lnTo>
                <a:lnTo>
                  <a:pt x="194" y="459"/>
                </a:lnTo>
                <a:lnTo>
                  <a:pt x="203" y="453"/>
                </a:lnTo>
                <a:lnTo>
                  <a:pt x="218" y="443"/>
                </a:lnTo>
                <a:lnTo>
                  <a:pt x="233" y="437"/>
                </a:lnTo>
                <a:lnTo>
                  <a:pt x="225" y="414"/>
                </a:lnTo>
                <a:lnTo>
                  <a:pt x="211" y="362"/>
                </a:lnTo>
                <a:lnTo>
                  <a:pt x="191" y="294"/>
                </a:lnTo>
                <a:lnTo>
                  <a:pt x="169" y="220"/>
                </a:lnTo>
                <a:lnTo>
                  <a:pt x="149" y="142"/>
                </a:lnTo>
                <a:lnTo>
                  <a:pt x="130" y="74"/>
                </a:lnTo>
                <a:lnTo>
                  <a:pt x="115" y="26"/>
                </a:lnTo>
                <a:lnTo>
                  <a:pt x="105" y="0"/>
                </a:lnTo>
                <a:close/>
              </a:path>
            </a:pathLst>
          </a:cu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211"/>
          <p:cNvSpPr/>
          <p:nvPr/>
        </p:nvSpPr>
        <p:spPr>
          <a:xfrm>
            <a:off x="2392200" y="3990960"/>
            <a:ext cx="131760" cy="46080"/>
          </a:xfrm>
          <a:custGeom>
            <a:avLst/>
            <a:gdLst>
              <a:gd name="textAreaLeft" fmla="*/ 0 w 131760"/>
              <a:gd name="textAreaRight" fmla="*/ 132120 w 131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83" h="29">
                <a:moveTo>
                  <a:pt x="83" y="17"/>
                </a:moveTo>
                <a:lnTo>
                  <a:pt x="83" y="13"/>
                </a:lnTo>
                <a:lnTo>
                  <a:pt x="83" y="7"/>
                </a:lnTo>
                <a:lnTo>
                  <a:pt x="83" y="4"/>
                </a:lnTo>
                <a:lnTo>
                  <a:pt x="83" y="0"/>
                </a:lnTo>
                <a:lnTo>
                  <a:pt x="0" y="17"/>
                </a:lnTo>
                <a:lnTo>
                  <a:pt x="2" y="20"/>
                </a:lnTo>
                <a:lnTo>
                  <a:pt x="2" y="23"/>
                </a:lnTo>
                <a:lnTo>
                  <a:pt x="2" y="26"/>
                </a:lnTo>
                <a:lnTo>
                  <a:pt x="2" y="29"/>
                </a:lnTo>
                <a:lnTo>
                  <a:pt x="83" y="17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12"/>
          <p:cNvSpPr/>
          <p:nvPr/>
        </p:nvSpPr>
        <p:spPr>
          <a:xfrm>
            <a:off x="2387520" y="3924360"/>
            <a:ext cx="136440" cy="41040"/>
          </a:xfrm>
          <a:custGeom>
            <a:avLst/>
            <a:gdLst>
              <a:gd name="textAreaLeft" fmla="*/ 0 w 136440"/>
              <a:gd name="textAreaRight" fmla="*/ 136800 w 1364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86" h="26">
                <a:moveTo>
                  <a:pt x="86" y="13"/>
                </a:moveTo>
                <a:lnTo>
                  <a:pt x="86" y="10"/>
                </a:lnTo>
                <a:lnTo>
                  <a:pt x="86" y="7"/>
                </a:lnTo>
                <a:lnTo>
                  <a:pt x="84" y="4"/>
                </a:lnTo>
                <a:lnTo>
                  <a:pt x="84" y="0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23"/>
                </a:lnTo>
                <a:lnTo>
                  <a:pt x="0" y="26"/>
                </a:lnTo>
                <a:lnTo>
                  <a:pt x="86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213"/>
          <p:cNvSpPr/>
          <p:nvPr/>
        </p:nvSpPr>
        <p:spPr>
          <a:xfrm>
            <a:off x="2381400" y="3848040"/>
            <a:ext cx="139680" cy="34920"/>
          </a:xfrm>
          <a:custGeom>
            <a:avLst/>
            <a:gdLst>
              <a:gd name="textAreaLeft" fmla="*/ 0 w 139680"/>
              <a:gd name="textAreaRight" fmla="*/ 140040 w 1396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88" h="22">
                <a:moveTo>
                  <a:pt x="88" y="13"/>
                </a:moveTo>
                <a:lnTo>
                  <a:pt x="88" y="9"/>
                </a:lnTo>
                <a:lnTo>
                  <a:pt x="88" y="6"/>
                </a:lnTo>
                <a:lnTo>
                  <a:pt x="88" y="3"/>
                </a:lnTo>
                <a:lnTo>
                  <a:pt x="88" y="0"/>
                </a:lnTo>
                <a:lnTo>
                  <a:pt x="0" y="9"/>
                </a:lnTo>
                <a:lnTo>
                  <a:pt x="0" y="13"/>
                </a:lnTo>
                <a:lnTo>
                  <a:pt x="0" y="16"/>
                </a:lnTo>
                <a:lnTo>
                  <a:pt x="0" y="19"/>
                </a:lnTo>
                <a:lnTo>
                  <a:pt x="0" y="22"/>
                </a:lnTo>
                <a:lnTo>
                  <a:pt x="88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214"/>
          <p:cNvSpPr/>
          <p:nvPr/>
        </p:nvSpPr>
        <p:spPr>
          <a:xfrm>
            <a:off x="2373480" y="3765600"/>
            <a:ext cx="142560" cy="30240"/>
          </a:xfrm>
          <a:custGeom>
            <a:avLst/>
            <a:gdLst>
              <a:gd name="textAreaLeft" fmla="*/ 0 w 142560"/>
              <a:gd name="textAreaRight" fmla="*/ 142920 w 142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90" h="19">
                <a:moveTo>
                  <a:pt x="90" y="13"/>
                </a:moveTo>
                <a:lnTo>
                  <a:pt x="90" y="10"/>
                </a:lnTo>
                <a:lnTo>
                  <a:pt x="90" y="6"/>
                </a:lnTo>
                <a:lnTo>
                  <a:pt x="90" y="3"/>
                </a:lnTo>
                <a:lnTo>
                  <a:pt x="90" y="0"/>
                </a:lnTo>
                <a:lnTo>
                  <a:pt x="0" y="6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9"/>
                </a:lnTo>
                <a:lnTo>
                  <a:pt x="90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215"/>
          <p:cNvSpPr/>
          <p:nvPr/>
        </p:nvSpPr>
        <p:spPr>
          <a:xfrm>
            <a:off x="2360520" y="3673440"/>
            <a:ext cx="152640" cy="34920"/>
          </a:xfrm>
          <a:custGeom>
            <a:avLst/>
            <a:gdLst>
              <a:gd name="textAreaLeft" fmla="*/ 0 w 152640"/>
              <a:gd name="textAreaRight" fmla="*/ 153000 w 15264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96" h="22">
                <a:moveTo>
                  <a:pt x="96" y="16"/>
                </a:moveTo>
                <a:lnTo>
                  <a:pt x="96" y="13"/>
                </a:lnTo>
                <a:lnTo>
                  <a:pt x="96" y="6"/>
                </a:lnTo>
                <a:lnTo>
                  <a:pt x="96" y="3"/>
                </a:lnTo>
                <a:lnTo>
                  <a:pt x="96" y="0"/>
                </a:lnTo>
                <a:lnTo>
                  <a:pt x="0" y="9"/>
                </a:lnTo>
                <a:lnTo>
                  <a:pt x="0" y="13"/>
                </a:lnTo>
                <a:lnTo>
                  <a:pt x="0" y="16"/>
                </a:lnTo>
                <a:lnTo>
                  <a:pt x="0" y="19"/>
                </a:lnTo>
                <a:lnTo>
                  <a:pt x="3" y="22"/>
                </a:lnTo>
                <a:lnTo>
                  <a:pt x="96" y="16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216"/>
          <p:cNvSpPr/>
          <p:nvPr/>
        </p:nvSpPr>
        <p:spPr>
          <a:xfrm>
            <a:off x="2352600" y="3586320"/>
            <a:ext cx="160560" cy="41040"/>
          </a:xfrm>
          <a:custGeom>
            <a:avLst/>
            <a:gdLst>
              <a:gd name="textAreaLeft" fmla="*/ 0 w 160560"/>
              <a:gd name="textAreaRight" fmla="*/ 160920 w 160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01" h="26">
                <a:moveTo>
                  <a:pt x="101" y="16"/>
                </a:moveTo>
                <a:lnTo>
                  <a:pt x="101" y="13"/>
                </a:lnTo>
                <a:lnTo>
                  <a:pt x="101" y="9"/>
                </a:lnTo>
                <a:lnTo>
                  <a:pt x="98" y="3"/>
                </a:lnTo>
                <a:lnTo>
                  <a:pt x="98" y="0"/>
                </a:lnTo>
                <a:lnTo>
                  <a:pt x="0" y="9"/>
                </a:lnTo>
                <a:lnTo>
                  <a:pt x="0" y="13"/>
                </a:lnTo>
                <a:lnTo>
                  <a:pt x="0" y="16"/>
                </a:lnTo>
                <a:lnTo>
                  <a:pt x="0" y="22"/>
                </a:lnTo>
                <a:lnTo>
                  <a:pt x="0" y="26"/>
                </a:lnTo>
                <a:lnTo>
                  <a:pt x="101" y="16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217"/>
          <p:cNvSpPr/>
          <p:nvPr/>
        </p:nvSpPr>
        <p:spPr>
          <a:xfrm>
            <a:off x="2341440" y="3498840"/>
            <a:ext cx="166680" cy="41400"/>
          </a:xfrm>
          <a:custGeom>
            <a:avLst/>
            <a:gdLst>
              <a:gd name="textAreaLeft" fmla="*/ 0 w 166680"/>
              <a:gd name="textAreaRight" fmla="*/ 167040 w 1666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5" h="26">
                <a:moveTo>
                  <a:pt x="105" y="16"/>
                </a:moveTo>
                <a:lnTo>
                  <a:pt x="105" y="13"/>
                </a:lnTo>
                <a:lnTo>
                  <a:pt x="105" y="6"/>
                </a:lnTo>
                <a:lnTo>
                  <a:pt x="105" y="3"/>
                </a:lnTo>
                <a:lnTo>
                  <a:pt x="105" y="0"/>
                </a:lnTo>
                <a:lnTo>
                  <a:pt x="0" y="9"/>
                </a:lnTo>
                <a:lnTo>
                  <a:pt x="0" y="13"/>
                </a:lnTo>
                <a:lnTo>
                  <a:pt x="0" y="16"/>
                </a:lnTo>
                <a:lnTo>
                  <a:pt x="0" y="22"/>
                </a:lnTo>
                <a:lnTo>
                  <a:pt x="3" y="26"/>
                </a:lnTo>
                <a:lnTo>
                  <a:pt x="105" y="16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218"/>
          <p:cNvSpPr/>
          <p:nvPr/>
        </p:nvSpPr>
        <p:spPr>
          <a:xfrm>
            <a:off x="2330280" y="3405240"/>
            <a:ext cx="174960" cy="47520"/>
          </a:xfrm>
          <a:custGeom>
            <a:avLst/>
            <a:gdLst>
              <a:gd name="textAreaLeft" fmla="*/ 0 w 174960"/>
              <a:gd name="textAreaRight" fmla="*/ 175320 w 1749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10" h="30">
                <a:moveTo>
                  <a:pt x="110" y="13"/>
                </a:moveTo>
                <a:lnTo>
                  <a:pt x="110" y="10"/>
                </a:lnTo>
                <a:lnTo>
                  <a:pt x="110" y="7"/>
                </a:lnTo>
                <a:lnTo>
                  <a:pt x="110" y="4"/>
                </a:lnTo>
                <a:lnTo>
                  <a:pt x="107" y="0"/>
                </a:lnTo>
                <a:lnTo>
                  <a:pt x="0" y="17"/>
                </a:lnTo>
                <a:lnTo>
                  <a:pt x="0" y="20"/>
                </a:lnTo>
                <a:lnTo>
                  <a:pt x="2" y="23"/>
                </a:lnTo>
                <a:lnTo>
                  <a:pt x="2" y="26"/>
                </a:lnTo>
                <a:lnTo>
                  <a:pt x="2" y="30"/>
                </a:lnTo>
                <a:lnTo>
                  <a:pt x="110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219"/>
          <p:cNvSpPr/>
          <p:nvPr/>
        </p:nvSpPr>
        <p:spPr>
          <a:xfrm>
            <a:off x="3056040" y="3990960"/>
            <a:ext cx="152280" cy="31680"/>
          </a:xfrm>
          <a:custGeom>
            <a:avLst/>
            <a:gdLst>
              <a:gd name="textAreaLeft" fmla="*/ 0 w 152280"/>
              <a:gd name="textAreaRight" fmla="*/ 152640 w 152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6" h="20">
                <a:moveTo>
                  <a:pt x="0" y="0"/>
                </a:moveTo>
                <a:lnTo>
                  <a:pt x="0" y="4"/>
                </a:lnTo>
                <a:lnTo>
                  <a:pt x="0" y="7"/>
                </a:lnTo>
                <a:lnTo>
                  <a:pt x="0" y="13"/>
                </a:lnTo>
                <a:lnTo>
                  <a:pt x="0" y="17"/>
                </a:lnTo>
                <a:lnTo>
                  <a:pt x="10" y="17"/>
                </a:lnTo>
                <a:lnTo>
                  <a:pt x="22" y="17"/>
                </a:lnTo>
                <a:lnTo>
                  <a:pt x="35" y="17"/>
                </a:lnTo>
                <a:lnTo>
                  <a:pt x="47" y="17"/>
                </a:lnTo>
                <a:lnTo>
                  <a:pt x="59" y="17"/>
                </a:lnTo>
                <a:lnTo>
                  <a:pt x="71" y="17"/>
                </a:lnTo>
                <a:lnTo>
                  <a:pt x="84" y="20"/>
                </a:lnTo>
                <a:lnTo>
                  <a:pt x="96" y="20"/>
                </a:lnTo>
                <a:lnTo>
                  <a:pt x="96" y="17"/>
                </a:lnTo>
                <a:lnTo>
                  <a:pt x="96" y="13"/>
                </a:lnTo>
                <a:lnTo>
                  <a:pt x="96" y="10"/>
                </a:lnTo>
                <a:lnTo>
                  <a:pt x="96" y="7"/>
                </a:lnTo>
                <a:lnTo>
                  <a:pt x="84" y="7"/>
                </a:lnTo>
                <a:lnTo>
                  <a:pt x="71" y="4"/>
                </a:lnTo>
                <a:lnTo>
                  <a:pt x="59" y="4"/>
                </a:lnTo>
                <a:lnTo>
                  <a:pt x="47" y="4"/>
                </a:lnTo>
                <a:lnTo>
                  <a:pt x="35" y="0"/>
                </a:lnTo>
                <a:lnTo>
                  <a:pt x="22" y="0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220"/>
          <p:cNvSpPr/>
          <p:nvPr/>
        </p:nvSpPr>
        <p:spPr>
          <a:xfrm>
            <a:off x="3056040" y="3898800"/>
            <a:ext cx="147600" cy="31680"/>
          </a:xfrm>
          <a:custGeom>
            <a:avLst/>
            <a:gdLst>
              <a:gd name="textAreaLeft" fmla="*/ 0 w 147600"/>
              <a:gd name="textAreaRight" fmla="*/ 147600 w 147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3" h="20">
                <a:moveTo>
                  <a:pt x="93" y="7"/>
                </a:moveTo>
                <a:lnTo>
                  <a:pt x="81" y="7"/>
                </a:lnTo>
                <a:lnTo>
                  <a:pt x="69" y="3"/>
                </a:lnTo>
                <a:lnTo>
                  <a:pt x="57" y="3"/>
                </a:lnTo>
                <a:lnTo>
                  <a:pt x="44" y="3"/>
                </a:lnTo>
                <a:lnTo>
                  <a:pt x="32" y="0"/>
                </a:lnTo>
                <a:lnTo>
                  <a:pt x="20" y="0"/>
                </a:lnTo>
                <a:lnTo>
                  <a:pt x="10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0"/>
                </a:lnTo>
                <a:lnTo>
                  <a:pt x="0" y="13"/>
                </a:lnTo>
                <a:lnTo>
                  <a:pt x="10" y="13"/>
                </a:lnTo>
                <a:lnTo>
                  <a:pt x="22" y="13"/>
                </a:lnTo>
                <a:lnTo>
                  <a:pt x="35" y="13"/>
                </a:lnTo>
                <a:lnTo>
                  <a:pt x="47" y="16"/>
                </a:lnTo>
                <a:lnTo>
                  <a:pt x="59" y="16"/>
                </a:lnTo>
                <a:lnTo>
                  <a:pt x="71" y="16"/>
                </a:lnTo>
                <a:lnTo>
                  <a:pt x="81" y="20"/>
                </a:lnTo>
                <a:lnTo>
                  <a:pt x="93" y="20"/>
                </a:lnTo>
                <a:lnTo>
                  <a:pt x="93" y="16"/>
                </a:lnTo>
                <a:lnTo>
                  <a:pt x="93" y="13"/>
                </a:lnTo>
                <a:lnTo>
                  <a:pt x="93" y="10"/>
                </a:lnTo>
                <a:lnTo>
                  <a:pt x="93" y="7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221"/>
          <p:cNvSpPr/>
          <p:nvPr/>
        </p:nvSpPr>
        <p:spPr>
          <a:xfrm>
            <a:off x="3056040" y="3807000"/>
            <a:ext cx="147600" cy="29880"/>
          </a:xfrm>
          <a:custGeom>
            <a:avLst/>
            <a:gdLst>
              <a:gd name="textAreaLeft" fmla="*/ 0 w 147600"/>
              <a:gd name="textAreaRight" fmla="*/ 147600 w 147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93" h="19">
                <a:moveTo>
                  <a:pt x="93" y="3"/>
                </a:moveTo>
                <a:lnTo>
                  <a:pt x="81" y="3"/>
                </a:lnTo>
                <a:lnTo>
                  <a:pt x="69" y="0"/>
                </a:lnTo>
                <a:lnTo>
                  <a:pt x="57" y="0"/>
                </a:lnTo>
                <a:lnTo>
                  <a:pt x="44" y="0"/>
                </a:lnTo>
                <a:lnTo>
                  <a:pt x="32" y="0"/>
                </a:lnTo>
                <a:lnTo>
                  <a:pt x="20" y="0"/>
                </a:lnTo>
                <a:lnTo>
                  <a:pt x="1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10"/>
                </a:lnTo>
                <a:lnTo>
                  <a:pt x="0" y="13"/>
                </a:lnTo>
                <a:lnTo>
                  <a:pt x="10" y="13"/>
                </a:lnTo>
                <a:lnTo>
                  <a:pt x="20" y="13"/>
                </a:lnTo>
                <a:lnTo>
                  <a:pt x="32" y="13"/>
                </a:lnTo>
                <a:lnTo>
                  <a:pt x="44" y="16"/>
                </a:lnTo>
                <a:lnTo>
                  <a:pt x="57" y="16"/>
                </a:lnTo>
                <a:lnTo>
                  <a:pt x="69" y="16"/>
                </a:lnTo>
                <a:lnTo>
                  <a:pt x="81" y="19"/>
                </a:lnTo>
                <a:lnTo>
                  <a:pt x="93" y="19"/>
                </a:lnTo>
                <a:lnTo>
                  <a:pt x="93" y="16"/>
                </a:lnTo>
                <a:lnTo>
                  <a:pt x="93" y="10"/>
                </a:lnTo>
                <a:lnTo>
                  <a:pt x="93" y="6"/>
                </a:lnTo>
                <a:lnTo>
                  <a:pt x="93" y="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22"/>
          <p:cNvSpPr/>
          <p:nvPr/>
        </p:nvSpPr>
        <p:spPr>
          <a:xfrm>
            <a:off x="3052800" y="3714840"/>
            <a:ext cx="150840" cy="30240"/>
          </a:xfrm>
          <a:custGeom>
            <a:avLst/>
            <a:gdLst>
              <a:gd name="textAreaLeft" fmla="*/ 0 w 150840"/>
              <a:gd name="textAreaRight" fmla="*/ 151200 w 150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95" h="19">
                <a:moveTo>
                  <a:pt x="95" y="6"/>
                </a:moveTo>
                <a:lnTo>
                  <a:pt x="83" y="6"/>
                </a:lnTo>
                <a:lnTo>
                  <a:pt x="71" y="3"/>
                </a:lnTo>
                <a:lnTo>
                  <a:pt x="59" y="3"/>
                </a:lnTo>
                <a:lnTo>
                  <a:pt x="46" y="3"/>
                </a:lnTo>
                <a:lnTo>
                  <a:pt x="34" y="0"/>
                </a:lnTo>
                <a:lnTo>
                  <a:pt x="22" y="0"/>
                </a:lnTo>
                <a:lnTo>
                  <a:pt x="1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13"/>
                </a:lnTo>
                <a:lnTo>
                  <a:pt x="0" y="16"/>
                </a:lnTo>
                <a:lnTo>
                  <a:pt x="10" y="16"/>
                </a:lnTo>
                <a:lnTo>
                  <a:pt x="22" y="16"/>
                </a:lnTo>
                <a:lnTo>
                  <a:pt x="34" y="16"/>
                </a:lnTo>
                <a:lnTo>
                  <a:pt x="46" y="16"/>
                </a:lnTo>
                <a:lnTo>
                  <a:pt x="59" y="16"/>
                </a:lnTo>
                <a:lnTo>
                  <a:pt x="71" y="16"/>
                </a:lnTo>
                <a:lnTo>
                  <a:pt x="83" y="19"/>
                </a:lnTo>
                <a:lnTo>
                  <a:pt x="95" y="19"/>
                </a:lnTo>
                <a:lnTo>
                  <a:pt x="95" y="16"/>
                </a:lnTo>
                <a:lnTo>
                  <a:pt x="95" y="13"/>
                </a:lnTo>
                <a:lnTo>
                  <a:pt x="95" y="9"/>
                </a:lnTo>
                <a:lnTo>
                  <a:pt x="95" y="6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23"/>
          <p:cNvSpPr/>
          <p:nvPr/>
        </p:nvSpPr>
        <p:spPr>
          <a:xfrm>
            <a:off x="3052800" y="3621240"/>
            <a:ext cx="150840" cy="31680"/>
          </a:xfrm>
          <a:custGeom>
            <a:avLst/>
            <a:gdLst>
              <a:gd name="textAreaLeft" fmla="*/ 0 w 150840"/>
              <a:gd name="textAreaRight" fmla="*/ 151200 w 1508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95" h="20">
                <a:moveTo>
                  <a:pt x="95" y="7"/>
                </a:moveTo>
                <a:lnTo>
                  <a:pt x="83" y="7"/>
                </a:lnTo>
                <a:lnTo>
                  <a:pt x="71" y="4"/>
                </a:lnTo>
                <a:lnTo>
                  <a:pt x="59" y="4"/>
                </a:lnTo>
                <a:lnTo>
                  <a:pt x="46" y="4"/>
                </a:lnTo>
                <a:lnTo>
                  <a:pt x="34" y="0"/>
                </a:lnTo>
                <a:lnTo>
                  <a:pt x="22" y="0"/>
                </a:lnTo>
                <a:lnTo>
                  <a:pt x="10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0"/>
                </a:lnTo>
                <a:lnTo>
                  <a:pt x="0" y="13"/>
                </a:lnTo>
                <a:lnTo>
                  <a:pt x="10" y="13"/>
                </a:lnTo>
                <a:lnTo>
                  <a:pt x="22" y="13"/>
                </a:lnTo>
                <a:lnTo>
                  <a:pt x="34" y="13"/>
                </a:lnTo>
                <a:lnTo>
                  <a:pt x="46" y="17"/>
                </a:lnTo>
                <a:lnTo>
                  <a:pt x="59" y="17"/>
                </a:lnTo>
                <a:lnTo>
                  <a:pt x="71" y="17"/>
                </a:lnTo>
                <a:lnTo>
                  <a:pt x="83" y="20"/>
                </a:lnTo>
                <a:lnTo>
                  <a:pt x="95" y="20"/>
                </a:lnTo>
                <a:lnTo>
                  <a:pt x="95" y="17"/>
                </a:lnTo>
                <a:lnTo>
                  <a:pt x="95" y="13"/>
                </a:lnTo>
                <a:lnTo>
                  <a:pt x="95" y="10"/>
                </a:lnTo>
                <a:lnTo>
                  <a:pt x="95" y="7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24"/>
          <p:cNvSpPr/>
          <p:nvPr/>
        </p:nvSpPr>
        <p:spPr>
          <a:xfrm>
            <a:off x="3052800" y="3524400"/>
            <a:ext cx="150840" cy="36360"/>
          </a:xfrm>
          <a:custGeom>
            <a:avLst/>
            <a:gdLst>
              <a:gd name="textAreaLeft" fmla="*/ 0 w 150840"/>
              <a:gd name="textAreaRight" fmla="*/ 151200 w 1508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95" h="23">
                <a:moveTo>
                  <a:pt x="95" y="10"/>
                </a:moveTo>
                <a:lnTo>
                  <a:pt x="83" y="6"/>
                </a:lnTo>
                <a:lnTo>
                  <a:pt x="71" y="6"/>
                </a:lnTo>
                <a:lnTo>
                  <a:pt x="59" y="3"/>
                </a:lnTo>
                <a:lnTo>
                  <a:pt x="46" y="3"/>
                </a:lnTo>
                <a:lnTo>
                  <a:pt x="34" y="3"/>
                </a:lnTo>
                <a:lnTo>
                  <a:pt x="22" y="3"/>
                </a:lnTo>
                <a:lnTo>
                  <a:pt x="1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13"/>
                </a:lnTo>
                <a:lnTo>
                  <a:pt x="0" y="16"/>
                </a:lnTo>
                <a:lnTo>
                  <a:pt x="10" y="16"/>
                </a:lnTo>
                <a:lnTo>
                  <a:pt x="22" y="16"/>
                </a:lnTo>
                <a:lnTo>
                  <a:pt x="34" y="16"/>
                </a:lnTo>
                <a:lnTo>
                  <a:pt x="46" y="19"/>
                </a:lnTo>
                <a:lnTo>
                  <a:pt x="59" y="19"/>
                </a:lnTo>
                <a:lnTo>
                  <a:pt x="71" y="19"/>
                </a:lnTo>
                <a:lnTo>
                  <a:pt x="83" y="23"/>
                </a:lnTo>
                <a:lnTo>
                  <a:pt x="95" y="23"/>
                </a:lnTo>
                <a:lnTo>
                  <a:pt x="95" y="19"/>
                </a:lnTo>
                <a:lnTo>
                  <a:pt x="95" y="16"/>
                </a:lnTo>
                <a:lnTo>
                  <a:pt x="95" y="13"/>
                </a:lnTo>
                <a:lnTo>
                  <a:pt x="95" y="1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225"/>
          <p:cNvSpPr/>
          <p:nvPr/>
        </p:nvSpPr>
        <p:spPr>
          <a:xfrm>
            <a:off x="3052800" y="3432240"/>
            <a:ext cx="155520" cy="34920"/>
          </a:xfrm>
          <a:custGeom>
            <a:avLst/>
            <a:gdLst>
              <a:gd name="textAreaLeft" fmla="*/ 0 w 155520"/>
              <a:gd name="textAreaRight" fmla="*/ 155880 w 15552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98" h="22">
                <a:moveTo>
                  <a:pt x="98" y="9"/>
                </a:moveTo>
                <a:lnTo>
                  <a:pt x="86" y="6"/>
                </a:lnTo>
                <a:lnTo>
                  <a:pt x="73" y="6"/>
                </a:lnTo>
                <a:lnTo>
                  <a:pt x="61" y="3"/>
                </a:lnTo>
                <a:lnTo>
                  <a:pt x="46" y="3"/>
                </a:lnTo>
                <a:lnTo>
                  <a:pt x="34" y="0"/>
                </a:lnTo>
                <a:lnTo>
                  <a:pt x="22" y="0"/>
                </a:lnTo>
                <a:lnTo>
                  <a:pt x="1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0" y="13"/>
                </a:lnTo>
                <a:lnTo>
                  <a:pt x="12" y="13"/>
                </a:lnTo>
                <a:lnTo>
                  <a:pt x="22" y="16"/>
                </a:lnTo>
                <a:lnTo>
                  <a:pt x="37" y="16"/>
                </a:lnTo>
                <a:lnTo>
                  <a:pt x="49" y="16"/>
                </a:lnTo>
                <a:lnTo>
                  <a:pt x="61" y="16"/>
                </a:lnTo>
                <a:lnTo>
                  <a:pt x="73" y="19"/>
                </a:lnTo>
                <a:lnTo>
                  <a:pt x="86" y="19"/>
                </a:lnTo>
                <a:lnTo>
                  <a:pt x="98" y="22"/>
                </a:lnTo>
                <a:lnTo>
                  <a:pt x="98" y="19"/>
                </a:lnTo>
                <a:lnTo>
                  <a:pt x="98" y="16"/>
                </a:lnTo>
                <a:lnTo>
                  <a:pt x="98" y="13"/>
                </a:lnTo>
                <a:lnTo>
                  <a:pt x="98" y="9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226"/>
          <p:cNvSpPr/>
          <p:nvPr/>
        </p:nvSpPr>
        <p:spPr>
          <a:xfrm>
            <a:off x="3052800" y="3338640"/>
            <a:ext cx="158760" cy="36360"/>
          </a:xfrm>
          <a:custGeom>
            <a:avLst/>
            <a:gdLst>
              <a:gd name="textAreaLeft" fmla="*/ 0 w 158760"/>
              <a:gd name="textAreaRight" fmla="*/ 159120 w 1587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00" h="23">
                <a:moveTo>
                  <a:pt x="100" y="7"/>
                </a:moveTo>
                <a:lnTo>
                  <a:pt x="88" y="7"/>
                </a:lnTo>
                <a:lnTo>
                  <a:pt x="76" y="4"/>
                </a:lnTo>
                <a:lnTo>
                  <a:pt x="61" y="4"/>
                </a:lnTo>
                <a:lnTo>
                  <a:pt x="49" y="4"/>
                </a:lnTo>
                <a:lnTo>
                  <a:pt x="37" y="0"/>
                </a:lnTo>
                <a:lnTo>
                  <a:pt x="24" y="0"/>
                </a:lnTo>
                <a:lnTo>
                  <a:pt x="12" y="0"/>
                </a:lnTo>
                <a:lnTo>
                  <a:pt x="0" y="0"/>
                </a:lnTo>
                <a:lnTo>
                  <a:pt x="0" y="4"/>
                </a:lnTo>
                <a:lnTo>
                  <a:pt x="0" y="7"/>
                </a:lnTo>
                <a:lnTo>
                  <a:pt x="0" y="10"/>
                </a:lnTo>
                <a:lnTo>
                  <a:pt x="0" y="13"/>
                </a:lnTo>
                <a:lnTo>
                  <a:pt x="12" y="13"/>
                </a:lnTo>
                <a:lnTo>
                  <a:pt x="24" y="13"/>
                </a:lnTo>
                <a:lnTo>
                  <a:pt x="37" y="13"/>
                </a:lnTo>
                <a:lnTo>
                  <a:pt x="49" y="17"/>
                </a:lnTo>
                <a:lnTo>
                  <a:pt x="61" y="17"/>
                </a:lnTo>
                <a:lnTo>
                  <a:pt x="73" y="20"/>
                </a:lnTo>
                <a:lnTo>
                  <a:pt x="86" y="20"/>
                </a:lnTo>
                <a:lnTo>
                  <a:pt x="98" y="23"/>
                </a:lnTo>
                <a:lnTo>
                  <a:pt x="98" y="20"/>
                </a:lnTo>
                <a:lnTo>
                  <a:pt x="98" y="13"/>
                </a:lnTo>
                <a:lnTo>
                  <a:pt x="98" y="10"/>
                </a:lnTo>
                <a:lnTo>
                  <a:pt x="100" y="7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227"/>
          <p:cNvSpPr/>
          <p:nvPr/>
        </p:nvSpPr>
        <p:spPr>
          <a:xfrm>
            <a:off x="1938240" y="2060640"/>
            <a:ext cx="135000" cy="55440"/>
          </a:xfrm>
          <a:custGeom>
            <a:avLst/>
            <a:gdLst>
              <a:gd name="textAreaLeft" fmla="*/ 0 w 135000"/>
              <a:gd name="textAreaRight" fmla="*/ 135360 w 135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85" h="35">
                <a:moveTo>
                  <a:pt x="83" y="0"/>
                </a:moveTo>
                <a:lnTo>
                  <a:pt x="73" y="3"/>
                </a:lnTo>
                <a:lnTo>
                  <a:pt x="63" y="6"/>
                </a:lnTo>
                <a:lnTo>
                  <a:pt x="53" y="9"/>
                </a:lnTo>
                <a:lnTo>
                  <a:pt x="41" y="13"/>
                </a:lnTo>
                <a:lnTo>
                  <a:pt x="29" y="16"/>
                </a:lnTo>
                <a:lnTo>
                  <a:pt x="19" y="19"/>
                </a:lnTo>
                <a:lnTo>
                  <a:pt x="9" y="22"/>
                </a:lnTo>
                <a:lnTo>
                  <a:pt x="0" y="26"/>
                </a:lnTo>
                <a:lnTo>
                  <a:pt x="0" y="29"/>
                </a:lnTo>
                <a:lnTo>
                  <a:pt x="0" y="32"/>
                </a:lnTo>
                <a:lnTo>
                  <a:pt x="0" y="35"/>
                </a:lnTo>
                <a:lnTo>
                  <a:pt x="9" y="32"/>
                </a:lnTo>
                <a:lnTo>
                  <a:pt x="19" y="29"/>
                </a:lnTo>
                <a:lnTo>
                  <a:pt x="31" y="26"/>
                </a:lnTo>
                <a:lnTo>
                  <a:pt x="44" y="22"/>
                </a:lnTo>
                <a:lnTo>
                  <a:pt x="56" y="19"/>
                </a:lnTo>
                <a:lnTo>
                  <a:pt x="66" y="16"/>
                </a:lnTo>
                <a:lnTo>
                  <a:pt x="75" y="16"/>
                </a:lnTo>
                <a:lnTo>
                  <a:pt x="85" y="13"/>
                </a:lnTo>
                <a:lnTo>
                  <a:pt x="8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228"/>
          <p:cNvSpPr/>
          <p:nvPr/>
        </p:nvSpPr>
        <p:spPr>
          <a:xfrm>
            <a:off x="1925640" y="1994040"/>
            <a:ext cx="139680" cy="55440"/>
          </a:xfrm>
          <a:custGeom>
            <a:avLst/>
            <a:gdLst>
              <a:gd name="textAreaLeft" fmla="*/ 0 w 139680"/>
              <a:gd name="textAreaRight" fmla="*/ 140040 w 1396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88" h="35">
                <a:moveTo>
                  <a:pt x="88" y="0"/>
                </a:moveTo>
                <a:lnTo>
                  <a:pt x="79" y="3"/>
                </a:lnTo>
                <a:lnTo>
                  <a:pt x="66" y="6"/>
                </a:lnTo>
                <a:lnTo>
                  <a:pt x="57" y="9"/>
                </a:lnTo>
                <a:lnTo>
                  <a:pt x="44" y="12"/>
                </a:lnTo>
                <a:lnTo>
                  <a:pt x="32" y="16"/>
                </a:lnTo>
                <a:lnTo>
                  <a:pt x="20" y="19"/>
                </a:lnTo>
                <a:lnTo>
                  <a:pt x="10" y="22"/>
                </a:lnTo>
                <a:lnTo>
                  <a:pt x="0" y="25"/>
                </a:lnTo>
                <a:lnTo>
                  <a:pt x="0" y="29"/>
                </a:lnTo>
                <a:lnTo>
                  <a:pt x="3" y="29"/>
                </a:lnTo>
                <a:lnTo>
                  <a:pt x="3" y="32"/>
                </a:lnTo>
                <a:lnTo>
                  <a:pt x="3" y="35"/>
                </a:lnTo>
                <a:lnTo>
                  <a:pt x="13" y="32"/>
                </a:lnTo>
                <a:lnTo>
                  <a:pt x="22" y="29"/>
                </a:lnTo>
                <a:lnTo>
                  <a:pt x="35" y="25"/>
                </a:lnTo>
                <a:lnTo>
                  <a:pt x="47" y="22"/>
                </a:lnTo>
                <a:lnTo>
                  <a:pt x="57" y="22"/>
                </a:lnTo>
                <a:lnTo>
                  <a:pt x="69" y="19"/>
                </a:lnTo>
                <a:lnTo>
                  <a:pt x="79" y="16"/>
                </a:lnTo>
                <a:lnTo>
                  <a:pt x="88" y="12"/>
                </a:lnTo>
                <a:lnTo>
                  <a:pt x="88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229"/>
          <p:cNvSpPr/>
          <p:nvPr/>
        </p:nvSpPr>
        <p:spPr>
          <a:xfrm>
            <a:off x="1914480" y="1932120"/>
            <a:ext cx="147600" cy="50760"/>
          </a:xfrm>
          <a:custGeom>
            <a:avLst/>
            <a:gdLst>
              <a:gd name="textAreaLeft" fmla="*/ 0 w 147600"/>
              <a:gd name="textAreaRight" fmla="*/ 147600 w 1476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3" h="32">
                <a:moveTo>
                  <a:pt x="93" y="0"/>
                </a:moveTo>
                <a:lnTo>
                  <a:pt x="83" y="0"/>
                </a:lnTo>
                <a:lnTo>
                  <a:pt x="71" y="3"/>
                </a:lnTo>
                <a:lnTo>
                  <a:pt x="59" y="6"/>
                </a:lnTo>
                <a:lnTo>
                  <a:pt x="46" y="9"/>
                </a:lnTo>
                <a:lnTo>
                  <a:pt x="34" y="9"/>
                </a:lnTo>
                <a:lnTo>
                  <a:pt x="22" y="13"/>
                </a:lnTo>
                <a:lnTo>
                  <a:pt x="10" y="16"/>
                </a:lnTo>
                <a:lnTo>
                  <a:pt x="0" y="19"/>
                </a:lnTo>
                <a:lnTo>
                  <a:pt x="2" y="22"/>
                </a:lnTo>
                <a:lnTo>
                  <a:pt x="2" y="26"/>
                </a:lnTo>
                <a:lnTo>
                  <a:pt x="2" y="29"/>
                </a:lnTo>
                <a:lnTo>
                  <a:pt x="2" y="32"/>
                </a:lnTo>
                <a:lnTo>
                  <a:pt x="12" y="29"/>
                </a:lnTo>
                <a:lnTo>
                  <a:pt x="24" y="26"/>
                </a:lnTo>
                <a:lnTo>
                  <a:pt x="37" y="22"/>
                </a:lnTo>
                <a:lnTo>
                  <a:pt x="49" y="19"/>
                </a:lnTo>
                <a:lnTo>
                  <a:pt x="61" y="19"/>
                </a:lnTo>
                <a:lnTo>
                  <a:pt x="73" y="16"/>
                </a:lnTo>
                <a:lnTo>
                  <a:pt x="83" y="13"/>
                </a:lnTo>
                <a:lnTo>
                  <a:pt x="93" y="9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230"/>
          <p:cNvSpPr/>
          <p:nvPr/>
        </p:nvSpPr>
        <p:spPr>
          <a:xfrm>
            <a:off x="1906560" y="1865160"/>
            <a:ext cx="150840" cy="51120"/>
          </a:xfrm>
          <a:custGeom>
            <a:avLst/>
            <a:gdLst>
              <a:gd name="textAreaLeft" fmla="*/ 0 w 150840"/>
              <a:gd name="textAreaRight" fmla="*/ 151200 w 1508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95" h="32">
                <a:moveTo>
                  <a:pt x="93" y="0"/>
                </a:moveTo>
                <a:lnTo>
                  <a:pt x="83" y="0"/>
                </a:lnTo>
                <a:lnTo>
                  <a:pt x="71" y="3"/>
                </a:lnTo>
                <a:lnTo>
                  <a:pt x="59" y="6"/>
                </a:lnTo>
                <a:lnTo>
                  <a:pt x="47" y="9"/>
                </a:lnTo>
                <a:lnTo>
                  <a:pt x="32" y="9"/>
                </a:lnTo>
                <a:lnTo>
                  <a:pt x="20" y="13"/>
                </a:lnTo>
                <a:lnTo>
                  <a:pt x="10" y="16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12" y="29"/>
                </a:lnTo>
                <a:lnTo>
                  <a:pt x="22" y="26"/>
                </a:lnTo>
                <a:lnTo>
                  <a:pt x="34" y="22"/>
                </a:lnTo>
                <a:lnTo>
                  <a:pt x="49" y="22"/>
                </a:lnTo>
                <a:lnTo>
                  <a:pt x="61" y="19"/>
                </a:lnTo>
                <a:lnTo>
                  <a:pt x="73" y="16"/>
                </a:lnTo>
                <a:lnTo>
                  <a:pt x="86" y="13"/>
                </a:lnTo>
                <a:lnTo>
                  <a:pt x="95" y="13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231"/>
          <p:cNvSpPr/>
          <p:nvPr/>
        </p:nvSpPr>
        <p:spPr>
          <a:xfrm>
            <a:off x="1895400" y="1798560"/>
            <a:ext cx="158760" cy="46080"/>
          </a:xfrm>
          <a:custGeom>
            <a:avLst/>
            <a:gdLst>
              <a:gd name="textAreaLeft" fmla="*/ 0 w 158760"/>
              <a:gd name="textAreaRight" fmla="*/ 159120 w 158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00" h="29">
                <a:moveTo>
                  <a:pt x="98" y="0"/>
                </a:moveTo>
                <a:lnTo>
                  <a:pt x="88" y="0"/>
                </a:lnTo>
                <a:lnTo>
                  <a:pt x="76" y="3"/>
                </a:lnTo>
                <a:lnTo>
                  <a:pt x="61" y="6"/>
                </a:lnTo>
                <a:lnTo>
                  <a:pt x="49" y="9"/>
                </a:lnTo>
                <a:lnTo>
                  <a:pt x="34" y="9"/>
                </a:lnTo>
                <a:lnTo>
                  <a:pt x="22" y="13"/>
                </a:lnTo>
                <a:lnTo>
                  <a:pt x="9" y="16"/>
                </a:lnTo>
                <a:lnTo>
                  <a:pt x="0" y="19"/>
                </a:lnTo>
                <a:lnTo>
                  <a:pt x="0" y="22"/>
                </a:lnTo>
                <a:lnTo>
                  <a:pt x="2" y="22"/>
                </a:lnTo>
                <a:lnTo>
                  <a:pt x="2" y="25"/>
                </a:lnTo>
                <a:lnTo>
                  <a:pt x="2" y="29"/>
                </a:lnTo>
                <a:lnTo>
                  <a:pt x="12" y="29"/>
                </a:lnTo>
                <a:lnTo>
                  <a:pt x="24" y="25"/>
                </a:lnTo>
                <a:lnTo>
                  <a:pt x="36" y="22"/>
                </a:lnTo>
                <a:lnTo>
                  <a:pt x="51" y="19"/>
                </a:lnTo>
                <a:lnTo>
                  <a:pt x="63" y="19"/>
                </a:lnTo>
                <a:lnTo>
                  <a:pt x="78" y="16"/>
                </a:lnTo>
                <a:lnTo>
                  <a:pt x="90" y="13"/>
                </a:lnTo>
                <a:lnTo>
                  <a:pt x="100" y="13"/>
                </a:lnTo>
                <a:lnTo>
                  <a:pt x="98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232"/>
          <p:cNvSpPr/>
          <p:nvPr/>
        </p:nvSpPr>
        <p:spPr>
          <a:xfrm>
            <a:off x="1882800" y="1736640"/>
            <a:ext cx="163440" cy="41400"/>
          </a:xfrm>
          <a:custGeom>
            <a:avLst/>
            <a:gdLst>
              <a:gd name="textAreaLeft" fmla="*/ 0 w 163440"/>
              <a:gd name="textAreaRight" fmla="*/ 163800 w 1634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3" h="26">
                <a:moveTo>
                  <a:pt x="103" y="0"/>
                </a:moveTo>
                <a:lnTo>
                  <a:pt x="91" y="0"/>
                </a:lnTo>
                <a:lnTo>
                  <a:pt x="79" y="0"/>
                </a:lnTo>
                <a:lnTo>
                  <a:pt x="64" y="3"/>
                </a:lnTo>
                <a:lnTo>
                  <a:pt x="49" y="6"/>
                </a:lnTo>
                <a:lnTo>
                  <a:pt x="35" y="6"/>
                </a:lnTo>
                <a:lnTo>
                  <a:pt x="20" y="9"/>
                </a:lnTo>
                <a:lnTo>
                  <a:pt x="10" y="13"/>
                </a:lnTo>
                <a:lnTo>
                  <a:pt x="0" y="13"/>
                </a:lnTo>
                <a:lnTo>
                  <a:pt x="0" y="16"/>
                </a:lnTo>
                <a:lnTo>
                  <a:pt x="3" y="19"/>
                </a:lnTo>
                <a:lnTo>
                  <a:pt x="3" y="22"/>
                </a:lnTo>
                <a:lnTo>
                  <a:pt x="3" y="26"/>
                </a:lnTo>
                <a:lnTo>
                  <a:pt x="13" y="22"/>
                </a:lnTo>
                <a:lnTo>
                  <a:pt x="25" y="22"/>
                </a:lnTo>
                <a:lnTo>
                  <a:pt x="40" y="19"/>
                </a:lnTo>
                <a:lnTo>
                  <a:pt x="54" y="16"/>
                </a:lnTo>
                <a:lnTo>
                  <a:pt x="66" y="13"/>
                </a:lnTo>
                <a:lnTo>
                  <a:pt x="81" y="13"/>
                </a:lnTo>
                <a:lnTo>
                  <a:pt x="93" y="9"/>
                </a:lnTo>
                <a:lnTo>
                  <a:pt x="103" y="9"/>
                </a:lnTo>
                <a:lnTo>
                  <a:pt x="10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233"/>
          <p:cNvSpPr/>
          <p:nvPr/>
        </p:nvSpPr>
        <p:spPr>
          <a:xfrm>
            <a:off x="1031760" y="2394000"/>
            <a:ext cx="125640" cy="92160"/>
          </a:xfrm>
          <a:custGeom>
            <a:avLst/>
            <a:gdLst>
              <a:gd name="textAreaLeft" fmla="*/ 0 w 125640"/>
              <a:gd name="textAreaRight" fmla="*/ 125640 w 1256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79" h="58">
                <a:moveTo>
                  <a:pt x="0" y="48"/>
                </a:moveTo>
                <a:lnTo>
                  <a:pt x="3" y="58"/>
                </a:lnTo>
                <a:lnTo>
                  <a:pt x="10" y="52"/>
                </a:lnTo>
                <a:lnTo>
                  <a:pt x="20" y="48"/>
                </a:lnTo>
                <a:lnTo>
                  <a:pt x="30" y="42"/>
                </a:lnTo>
                <a:lnTo>
                  <a:pt x="40" y="36"/>
                </a:lnTo>
                <a:lnTo>
                  <a:pt x="49" y="29"/>
                </a:lnTo>
                <a:lnTo>
                  <a:pt x="59" y="23"/>
                </a:lnTo>
                <a:lnTo>
                  <a:pt x="69" y="19"/>
                </a:lnTo>
                <a:lnTo>
                  <a:pt x="79" y="13"/>
                </a:lnTo>
                <a:lnTo>
                  <a:pt x="79" y="10"/>
                </a:lnTo>
                <a:lnTo>
                  <a:pt x="79" y="6"/>
                </a:lnTo>
                <a:lnTo>
                  <a:pt x="79" y="3"/>
                </a:lnTo>
                <a:lnTo>
                  <a:pt x="76" y="0"/>
                </a:lnTo>
                <a:lnTo>
                  <a:pt x="67" y="6"/>
                </a:lnTo>
                <a:lnTo>
                  <a:pt x="57" y="10"/>
                </a:lnTo>
                <a:lnTo>
                  <a:pt x="47" y="16"/>
                </a:lnTo>
                <a:lnTo>
                  <a:pt x="37" y="23"/>
                </a:lnTo>
                <a:lnTo>
                  <a:pt x="27" y="32"/>
                </a:lnTo>
                <a:lnTo>
                  <a:pt x="18" y="39"/>
                </a:lnTo>
                <a:lnTo>
                  <a:pt x="8" y="42"/>
                </a:lnTo>
                <a:lnTo>
                  <a:pt x="0" y="48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234"/>
          <p:cNvSpPr/>
          <p:nvPr/>
        </p:nvSpPr>
        <p:spPr>
          <a:xfrm>
            <a:off x="1012680" y="2327400"/>
            <a:ext cx="128880" cy="87120"/>
          </a:xfrm>
          <a:custGeom>
            <a:avLst/>
            <a:gdLst>
              <a:gd name="textAreaLeft" fmla="*/ 0 w 128880"/>
              <a:gd name="textAreaRight" fmla="*/ 129240 w 1288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81" h="55">
                <a:moveTo>
                  <a:pt x="79" y="0"/>
                </a:moveTo>
                <a:lnTo>
                  <a:pt x="69" y="6"/>
                </a:lnTo>
                <a:lnTo>
                  <a:pt x="59" y="10"/>
                </a:lnTo>
                <a:lnTo>
                  <a:pt x="47" y="16"/>
                </a:lnTo>
                <a:lnTo>
                  <a:pt x="37" y="23"/>
                </a:lnTo>
                <a:lnTo>
                  <a:pt x="27" y="29"/>
                </a:lnTo>
                <a:lnTo>
                  <a:pt x="17" y="35"/>
                </a:lnTo>
                <a:lnTo>
                  <a:pt x="8" y="39"/>
                </a:lnTo>
                <a:lnTo>
                  <a:pt x="0" y="45"/>
                </a:lnTo>
                <a:lnTo>
                  <a:pt x="3" y="55"/>
                </a:lnTo>
                <a:lnTo>
                  <a:pt x="10" y="52"/>
                </a:lnTo>
                <a:lnTo>
                  <a:pt x="20" y="45"/>
                </a:lnTo>
                <a:lnTo>
                  <a:pt x="30" y="39"/>
                </a:lnTo>
                <a:lnTo>
                  <a:pt x="42" y="32"/>
                </a:lnTo>
                <a:lnTo>
                  <a:pt x="52" y="26"/>
                </a:lnTo>
                <a:lnTo>
                  <a:pt x="61" y="19"/>
                </a:lnTo>
                <a:lnTo>
                  <a:pt x="71" y="16"/>
                </a:lnTo>
                <a:lnTo>
                  <a:pt x="81" y="10"/>
                </a:lnTo>
                <a:lnTo>
                  <a:pt x="81" y="6"/>
                </a:lnTo>
                <a:lnTo>
                  <a:pt x="81" y="3"/>
                </a:lnTo>
                <a:lnTo>
                  <a:pt x="79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235"/>
          <p:cNvSpPr/>
          <p:nvPr/>
        </p:nvSpPr>
        <p:spPr>
          <a:xfrm>
            <a:off x="993600" y="2255760"/>
            <a:ext cx="131760" cy="87480"/>
          </a:xfrm>
          <a:custGeom>
            <a:avLst/>
            <a:gdLst>
              <a:gd name="textAreaLeft" fmla="*/ 0 w 131760"/>
              <a:gd name="textAreaRight" fmla="*/ 132120 w 1317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3" h="55">
                <a:moveTo>
                  <a:pt x="81" y="0"/>
                </a:moveTo>
                <a:lnTo>
                  <a:pt x="71" y="6"/>
                </a:lnTo>
                <a:lnTo>
                  <a:pt x="61" y="9"/>
                </a:lnTo>
                <a:lnTo>
                  <a:pt x="49" y="16"/>
                </a:lnTo>
                <a:lnTo>
                  <a:pt x="37" y="22"/>
                </a:lnTo>
                <a:lnTo>
                  <a:pt x="27" y="29"/>
                </a:lnTo>
                <a:lnTo>
                  <a:pt x="17" y="35"/>
                </a:lnTo>
                <a:lnTo>
                  <a:pt x="7" y="42"/>
                </a:lnTo>
                <a:lnTo>
                  <a:pt x="0" y="45"/>
                </a:lnTo>
                <a:lnTo>
                  <a:pt x="2" y="55"/>
                </a:lnTo>
                <a:lnTo>
                  <a:pt x="10" y="51"/>
                </a:lnTo>
                <a:lnTo>
                  <a:pt x="20" y="45"/>
                </a:lnTo>
                <a:lnTo>
                  <a:pt x="29" y="38"/>
                </a:lnTo>
                <a:lnTo>
                  <a:pt x="42" y="32"/>
                </a:lnTo>
                <a:lnTo>
                  <a:pt x="51" y="29"/>
                </a:lnTo>
                <a:lnTo>
                  <a:pt x="64" y="22"/>
                </a:lnTo>
                <a:lnTo>
                  <a:pt x="73" y="16"/>
                </a:lnTo>
                <a:lnTo>
                  <a:pt x="83" y="13"/>
                </a:lnTo>
                <a:lnTo>
                  <a:pt x="83" y="9"/>
                </a:lnTo>
                <a:lnTo>
                  <a:pt x="83" y="6"/>
                </a:lnTo>
                <a:lnTo>
                  <a:pt x="83" y="3"/>
                </a:lnTo>
                <a:lnTo>
                  <a:pt x="81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236"/>
          <p:cNvSpPr/>
          <p:nvPr/>
        </p:nvSpPr>
        <p:spPr>
          <a:xfrm>
            <a:off x="969840" y="2189160"/>
            <a:ext cx="139680" cy="87480"/>
          </a:xfrm>
          <a:custGeom>
            <a:avLst/>
            <a:gdLst>
              <a:gd name="textAreaLeft" fmla="*/ 0 w 139680"/>
              <a:gd name="textAreaRight" fmla="*/ 140040 w 1396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8" h="55">
                <a:moveTo>
                  <a:pt x="86" y="0"/>
                </a:moveTo>
                <a:lnTo>
                  <a:pt x="76" y="3"/>
                </a:lnTo>
                <a:lnTo>
                  <a:pt x="64" y="9"/>
                </a:lnTo>
                <a:lnTo>
                  <a:pt x="54" y="16"/>
                </a:lnTo>
                <a:lnTo>
                  <a:pt x="42" y="19"/>
                </a:lnTo>
                <a:lnTo>
                  <a:pt x="30" y="25"/>
                </a:lnTo>
                <a:lnTo>
                  <a:pt x="17" y="32"/>
                </a:lnTo>
                <a:lnTo>
                  <a:pt x="8" y="38"/>
                </a:lnTo>
                <a:lnTo>
                  <a:pt x="0" y="42"/>
                </a:lnTo>
                <a:lnTo>
                  <a:pt x="5" y="55"/>
                </a:lnTo>
                <a:lnTo>
                  <a:pt x="13" y="48"/>
                </a:lnTo>
                <a:lnTo>
                  <a:pt x="22" y="45"/>
                </a:lnTo>
                <a:lnTo>
                  <a:pt x="35" y="38"/>
                </a:lnTo>
                <a:lnTo>
                  <a:pt x="44" y="32"/>
                </a:lnTo>
                <a:lnTo>
                  <a:pt x="57" y="25"/>
                </a:lnTo>
                <a:lnTo>
                  <a:pt x="69" y="19"/>
                </a:lnTo>
                <a:lnTo>
                  <a:pt x="79" y="16"/>
                </a:lnTo>
                <a:lnTo>
                  <a:pt x="88" y="9"/>
                </a:lnTo>
                <a:lnTo>
                  <a:pt x="88" y="6"/>
                </a:lnTo>
                <a:lnTo>
                  <a:pt x="88" y="3"/>
                </a:lnTo>
                <a:lnTo>
                  <a:pt x="86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237"/>
          <p:cNvSpPr/>
          <p:nvPr/>
        </p:nvSpPr>
        <p:spPr>
          <a:xfrm>
            <a:off x="950760" y="2116080"/>
            <a:ext cx="144720" cy="87480"/>
          </a:xfrm>
          <a:custGeom>
            <a:avLst/>
            <a:gdLst>
              <a:gd name="textAreaLeft" fmla="*/ 0 w 144720"/>
              <a:gd name="textAreaRight" fmla="*/ 145080 w 144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91" h="55">
                <a:moveTo>
                  <a:pt x="88" y="0"/>
                </a:moveTo>
                <a:lnTo>
                  <a:pt x="78" y="7"/>
                </a:lnTo>
                <a:lnTo>
                  <a:pt x="66" y="10"/>
                </a:lnTo>
                <a:lnTo>
                  <a:pt x="54" y="16"/>
                </a:lnTo>
                <a:lnTo>
                  <a:pt x="42" y="23"/>
                </a:lnTo>
                <a:lnTo>
                  <a:pt x="29" y="29"/>
                </a:lnTo>
                <a:lnTo>
                  <a:pt x="17" y="33"/>
                </a:lnTo>
                <a:lnTo>
                  <a:pt x="7" y="39"/>
                </a:lnTo>
                <a:lnTo>
                  <a:pt x="0" y="42"/>
                </a:lnTo>
                <a:lnTo>
                  <a:pt x="2" y="55"/>
                </a:lnTo>
                <a:lnTo>
                  <a:pt x="10" y="49"/>
                </a:lnTo>
                <a:lnTo>
                  <a:pt x="22" y="46"/>
                </a:lnTo>
                <a:lnTo>
                  <a:pt x="32" y="39"/>
                </a:lnTo>
                <a:lnTo>
                  <a:pt x="44" y="33"/>
                </a:lnTo>
                <a:lnTo>
                  <a:pt x="56" y="26"/>
                </a:lnTo>
                <a:lnTo>
                  <a:pt x="69" y="23"/>
                </a:lnTo>
                <a:lnTo>
                  <a:pt x="81" y="16"/>
                </a:lnTo>
                <a:lnTo>
                  <a:pt x="91" y="13"/>
                </a:lnTo>
                <a:lnTo>
                  <a:pt x="91" y="10"/>
                </a:lnTo>
                <a:lnTo>
                  <a:pt x="91" y="7"/>
                </a:lnTo>
                <a:lnTo>
                  <a:pt x="88" y="3"/>
                </a:lnTo>
                <a:lnTo>
                  <a:pt x="88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238"/>
          <p:cNvSpPr/>
          <p:nvPr/>
        </p:nvSpPr>
        <p:spPr>
          <a:xfrm>
            <a:off x="932040" y="2049480"/>
            <a:ext cx="147600" cy="82440"/>
          </a:xfrm>
          <a:custGeom>
            <a:avLst/>
            <a:gdLst>
              <a:gd name="textAreaLeft" fmla="*/ 0 w 147600"/>
              <a:gd name="textAreaRight" fmla="*/ 147600 w 1476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3" h="52">
                <a:moveTo>
                  <a:pt x="90" y="0"/>
                </a:moveTo>
                <a:lnTo>
                  <a:pt x="81" y="3"/>
                </a:lnTo>
                <a:lnTo>
                  <a:pt x="68" y="10"/>
                </a:lnTo>
                <a:lnTo>
                  <a:pt x="54" y="13"/>
                </a:lnTo>
                <a:lnTo>
                  <a:pt x="41" y="20"/>
                </a:lnTo>
                <a:lnTo>
                  <a:pt x="29" y="26"/>
                </a:lnTo>
                <a:lnTo>
                  <a:pt x="17" y="29"/>
                </a:lnTo>
                <a:lnTo>
                  <a:pt x="7" y="36"/>
                </a:lnTo>
                <a:lnTo>
                  <a:pt x="0" y="39"/>
                </a:lnTo>
                <a:lnTo>
                  <a:pt x="2" y="52"/>
                </a:lnTo>
                <a:lnTo>
                  <a:pt x="10" y="49"/>
                </a:lnTo>
                <a:lnTo>
                  <a:pt x="22" y="42"/>
                </a:lnTo>
                <a:lnTo>
                  <a:pt x="34" y="39"/>
                </a:lnTo>
                <a:lnTo>
                  <a:pt x="46" y="33"/>
                </a:lnTo>
                <a:lnTo>
                  <a:pt x="59" y="26"/>
                </a:lnTo>
                <a:lnTo>
                  <a:pt x="71" y="23"/>
                </a:lnTo>
                <a:lnTo>
                  <a:pt x="83" y="16"/>
                </a:lnTo>
                <a:lnTo>
                  <a:pt x="93" y="13"/>
                </a:lnTo>
                <a:lnTo>
                  <a:pt x="93" y="10"/>
                </a:lnTo>
                <a:lnTo>
                  <a:pt x="93" y="7"/>
                </a:lnTo>
                <a:lnTo>
                  <a:pt x="90" y="3"/>
                </a:lnTo>
                <a:lnTo>
                  <a:pt x="90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239"/>
          <p:cNvSpPr/>
          <p:nvPr/>
        </p:nvSpPr>
        <p:spPr>
          <a:xfrm>
            <a:off x="1219320" y="4330800"/>
            <a:ext cx="155520" cy="66600"/>
          </a:xfrm>
          <a:custGeom>
            <a:avLst/>
            <a:gdLst>
              <a:gd name="textAreaLeft" fmla="*/ 0 w 155520"/>
              <a:gd name="textAreaRight" fmla="*/ 155880 w 155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8" h="42">
                <a:moveTo>
                  <a:pt x="93" y="0"/>
                </a:moveTo>
                <a:lnTo>
                  <a:pt x="81" y="3"/>
                </a:lnTo>
                <a:lnTo>
                  <a:pt x="68" y="6"/>
                </a:lnTo>
                <a:lnTo>
                  <a:pt x="56" y="10"/>
                </a:lnTo>
                <a:lnTo>
                  <a:pt x="44" y="13"/>
                </a:lnTo>
                <a:lnTo>
                  <a:pt x="32" y="16"/>
                </a:lnTo>
                <a:lnTo>
                  <a:pt x="19" y="23"/>
                </a:lnTo>
                <a:lnTo>
                  <a:pt x="10" y="26"/>
                </a:lnTo>
                <a:lnTo>
                  <a:pt x="0" y="29"/>
                </a:lnTo>
                <a:lnTo>
                  <a:pt x="0" y="32"/>
                </a:lnTo>
                <a:lnTo>
                  <a:pt x="2" y="36"/>
                </a:lnTo>
                <a:lnTo>
                  <a:pt x="2" y="39"/>
                </a:lnTo>
                <a:lnTo>
                  <a:pt x="2" y="42"/>
                </a:lnTo>
                <a:lnTo>
                  <a:pt x="12" y="39"/>
                </a:lnTo>
                <a:lnTo>
                  <a:pt x="24" y="36"/>
                </a:lnTo>
                <a:lnTo>
                  <a:pt x="37" y="29"/>
                </a:lnTo>
                <a:lnTo>
                  <a:pt x="49" y="26"/>
                </a:lnTo>
                <a:lnTo>
                  <a:pt x="61" y="23"/>
                </a:lnTo>
                <a:lnTo>
                  <a:pt x="73" y="19"/>
                </a:lnTo>
                <a:lnTo>
                  <a:pt x="86" y="16"/>
                </a:lnTo>
                <a:lnTo>
                  <a:pt x="98" y="13"/>
                </a:lnTo>
                <a:lnTo>
                  <a:pt x="95" y="10"/>
                </a:lnTo>
                <a:lnTo>
                  <a:pt x="95" y="6"/>
                </a:lnTo>
                <a:lnTo>
                  <a:pt x="93" y="3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240"/>
          <p:cNvSpPr/>
          <p:nvPr/>
        </p:nvSpPr>
        <p:spPr>
          <a:xfrm>
            <a:off x="1195560" y="424332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93" y="0"/>
                </a:moveTo>
                <a:lnTo>
                  <a:pt x="81" y="3"/>
                </a:lnTo>
                <a:lnTo>
                  <a:pt x="69" y="6"/>
                </a:lnTo>
                <a:lnTo>
                  <a:pt x="57" y="10"/>
                </a:lnTo>
                <a:lnTo>
                  <a:pt x="44" y="13"/>
                </a:lnTo>
                <a:lnTo>
                  <a:pt x="32" y="16"/>
                </a:lnTo>
                <a:lnTo>
                  <a:pt x="20" y="23"/>
                </a:lnTo>
                <a:lnTo>
                  <a:pt x="10" y="26"/>
                </a:lnTo>
                <a:lnTo>
                  <a:pt x="0" y="29"/>
                </a:lnTo>
                <a:lnTo>
                  <a:pt x="0" y="32"/>
                </a:lnTo>
                <a:lnTo>
                  <a:pt x="3" y="35"/>
                </a:lnTo>
                <a:lnTo>
                  <a:pt x="3" y="39"/>
                </a:lnTo>
                <a:lnTo>
                  <a:pt x="3" y="42"/>
                </a:lnTo>
                <a:lnTo>
                  <a:pt x="12" y="39"/>
                </a:lnTo>
                <a:lnTo>
                  <a:pt x="25" y="35"/>
                </a:lnTo>
                <a:lnTo>
                  <a:pt x="37" y="29"/>
                </a:lnTo>
                <a:lnTo>
                  <a:pt x="49" y="26"/>
                </a:lnTo>
                <a:lnTo>
                  <a:pt x="61" y="23"/>
                </a:lnTo>
                <a:lnTo>
                  <a:pt x="74" y="19"/>
                </a:lnTo>
                <a:lnTo>
                  <a:pt x="83" y="16"/>
                </a:lnTo>
                <a:lnTo>
                  <a:pt x="96" y="13"/>
                </a:lnTo>
                <a:lnTo>
                  <a:pt x="96" y="10"/>
                </a:lnTo>
                <a:lnTo>
                  <a:pt x="96" y="6"/>
                </a:lnTo>
                <a:lnTo>
                  <a:pt x="93" y="3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241"/>
          <p:cNvSpPr/>
          <p:nvPr/>
        </p:nvSpPr>
        <p:spPr>
          <a:xfrm>
            <a:off x="1173240" y="4156200"/>
            <a:ext cx="150840" cy="66600"/>
          </a:xfrm>
          <a:custGeom>
            <a:avLst/>
            <a:gdLst>
              <a:gd name="textAreaLeft" fmla="*/ 0 w 150840"/>
              <a:gd name="textAreaRight" fmla="*/ 151200 w 1508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5" h="42">
                <a:moveTo>
                  <a:pt x="93" y="0"/>
                </a:moveTo>
                <a:lnTo>
                  <a:pt x="80" y="3"/>
                </a:lnTo>
                <a:lnTo>
                  <a:pt x="68" y="6"/>
                </a:lnTo>
                <a:lnTo>
                  <a:pt x="56" y="10"/>
                </a:lnTo>
                <a:lnTo>
                  <a:pt x="44" y="13"/>
                </a:lnTo>
                <a:lnTo>
                  <a:pt x="31" y="16"/>
                </a:lnTo>
                <a:lnTo>
                  <a:pt x="22" y="23"/>
                </a:lnTo>
                <a:lnTo>
                  <a:pt x="9" y="26"/>
                </a:lnTo>
                <a:lnTo>
                  <a:pt x="0" y="29"/>
                </a:lnTo>
                <a:lnTo>
                  <a:pt x="2" y="32"/>
                </a:lnTo>
                <a:lnTo>
                  <a:pt x="2" y="35"/>
                </a:lnTo>
                <a:lnTo>
                  <a:pt x="2" y="39"/>
                </a:lnTo>
                <a:lnTo>
                  <a:pt x="2" y="42"/>
                </a:lnTo>
                <a:lnTo>
                  <a:pt x="12" y="39"/>
                </a:lnTo>
                <a:lnTo>
                  <a:pt x="24" y="35"/>
                </a:lnTo>
                <a:lnTo>
                  <a:pt x="36" y="29"/>
                </a:lnTo>
                <a:lnTo>
                  <a:pt x="48" y="26"/>
                </a:lnTo>
                <a:lnTo>
                  <a:pt x="61" y="23"/>
                </a:lnTo>
                <a:lnTo>
                  <a:pt x="73" y="19"/>
                </a:lnTo>
                <a:lnTo>
                  <a:pt x="83" y="16"/>
                </a:lnTo>
                <a:lnTo>
                  <a:pt x="95" y="13"/>
                </a:lnTo>
                <a:lnTo>
                  <a:pt x="95" y="10"/>
                </a:lnTo>
                <a:lnTo>
                  <a:pt x="95" y="6"/>
                </a:lnTo>
                <a:lnTo>
                  <a:pt x="95" y="3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242"/>
          <p:cNvSpPr/>
          <p:nvPr/>
        </p:nvSpPr>
        <p:spPr>
          <a:xfrm>
            <a:off x="1149480" y="4068720"/>
            <a:ext cx="155520" cy="61920"/>
          </a:xfrm>
          <a:custGeom>
            <a:avLst/>
            <a:gdLst>
              <a:gd name="textAreaLeft" fmla="*/ 0 w 155520"/>
              <a:gd name="textAreaRight" fmla="*/ 155880 w 1555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8" h="39">
                <a:moveTo>
                  <a:pt x="95" y="0"/>
                </a:moveTo>
                <a:lnTo>
                  <a:pt x="83" y="3"/>
                </a:lnTo>
                <a:lnTo>
                  <a:pt x="71" y="6"/>
                </a:lnTo>
                <a:lnTo>
                  <a:pt x="59" y="10"/>
                </a:lnTo>
                <a:lnTo>
                  <a:pt x="46" y="13"/>
                </a:lnTo>
                <a:lnTo>
                  <a:pt x="34" y="16"/>
                </a:lnTo>
                <a:lnTo>
                  <a:pt x="22" y="19"/>
                </a:lnTo>
                <a:lnTo>
                  <a:pt x="10" y="23"/>
                </a:lnTo>
                <a:lnTo>
                  <a:pt x="0" y="26"/>
                </a:lnTo>
                <a:lnTo>
                  <a:pt x="2" y="29"/>
                </a:lnTo>
                <a:lnTo>
                  <a:pt x="2" y="32"/>
                </a:lnTo>
                <a:lnTo>
                  <a:pt x="2" y="35"/>
                </a:lnTo>
                <a:lnTo>
                  <a:pt x="5" y="39"/>
                </a:lnTo>
                <a:lnTo>
                  <a:pt x="15" y="35"/>
                </a:lnTo>
                <a:lnTo>
                  <a:pt x="24" y="32"/>
                </a:lnTo>
                <a:lnTo>
                  <a:pt x="37" y="29"/>
                </a:lnTo>
                <a:lnTo>
                  <a:pt x="49" y="26"/>
                </a:lnTo>
                <a:lnTo>
                  <a:pt x="61" y="23"/>
                </a:lnTo>
                <a:lnTo>
                  <a:pt x="73" y="19"/>
                </a:lnTo>
                <a:lnTo>
                  <a:pt x="86" y="16"/>
                </a:lnTo>
                <a:lnTo>
                  <a:pt x="98" y="13"/>
                </a:lnTo>
                <a:lnTo>
                  <a:pt x="95" y="10"/>
                </a:lnTo>
                <a:lnTo>
                  <a:pt x="95" y="6"/>
                </a:lnTo>
                <a:lnTo>
                  <a:pt x="95" y="3"/>
                </a:lnTo>
                <a:lnTo>
                  <a:pt x="95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243"/>
          <p:cNvSpPr/>
          <p:nvPr/>
        </p:nvSpPr>
        <p:spPr>
          <a:xfrm>
            <a:off x="1130400" y="3976560"/>
            <a:ext cx="155520" cy="66960"/>
          </a:xfrm>
          <a:custGeom>
            <a:avLst/>
            <a:gdLst>
              <a:gd name="textAreaLeft" fmla="*/ 0 w 155520"/>
              <a:gd name="textAreaRight" fmla="*/ 155880 w 1555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98" h="42">
                <a:moveTo>
                  <a:pt x="93" y="0"/>
                </a:moveTo>
                <a:lnTo>
                  <a:pt x="80" y="3"/>
                </a:lnTo>
                <a:lnTo>
                  <a:pt x="68" y="6"/>
                </a:lnTo>
                <a:lnTo>
                  <a:pt x="56" y="9"/>
                </a:lnTo>
                <a:lnTo>
                  <a:pt x="44" y="13"/>
                </a:lnTo>
                <a:lnTo>
                  <a:pt x="31" y="19"/>
                </a:lnTo>
                <a:lnTo>
                  <a:pt x="19" y="22"/>
                </a:lnTo>
                <a:lnTo>
                  <a:pt x="9" y="26"/>
                </a:lnTo>
                <a:lnTo>
                  <a:pt x="0" y="29"/>
                </a:lnTo>
                <a:lnTo>
                  <a:pt x="0" y="32"/>
                </a:lnTo>
                <a:lnTo>
                  <a:pt x="2" y="35"/>
                </a:lnTo>
                <a:lnTo>
                  <a:pt x="2" y="38"/>
                </a:lnTo>
                <a:lnTo>
                  <a:pt x="2" y="42"/>
                </a:lnTo>
                <a:lnTo>
                  <a:pt x="12" y="38"/>
                </a:lnTo>
                <a:lnTo>
                  <a:pt x="24" y="35"/>
                </a:lnTo>
                <a:lnTo>
                  <a:pt x="36" y="32"/>
                </a:lnTo>
                <a:lnTo>
                  <a:pt x="49" y="29"/>
                </a:lnTo>
                <a:lnTo>
                  <a:pt x="61" y="26"/>
                </a:lnTo>
                <a:lnTo>
                  <a:pt x="73" y="22"/>
                </a:lnTo>
                <a:lnTo>
                  <a:pt x="85" y="19"/>
                </a:lnTo>
                <a:lnTo>
                  <a:pt x="98" y="16"/>
                </a:lnTo>
                <a:lnTo>
                  <a:pt x="95" y="13"/>
                </a:lnTo>
                <a:lnTo>
                  <a:pt x="95" y="6"/>
                </a:lnTo>
                <a:lnTo>
                  <a:pt x="95" y="3"/>
                </a:lnTo>
                <a:lnTo>
                  <a:pt x="93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244"/>
          <p:cNvSpPr/>
          <p:nvPr/>
        </p:nvSpPr>
        <p:spPr>
          <a:xfrm>
            <a:off x="1106640" y="3889440"/>
            <a:ext cx="155520" cy="66600"/>
          </a:xfrm>
          <a:custGeom>
            <a:avLst/>
            <a:gdLst>
              <a:gd name="textAreaLeft" fmla="*/ 0 w 155520"/>
              <a:gd name="textAreaRight" fmla="*/ 155880 w 155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8" h="42">
                <a:moveTo>
                  <a:pt x="95" y="0"/>
                </a:moveTo>
                <a:lnTo>
                  <a:pt x="83" y="3"/>
                </a:lnTo>
                <a:lnTo>
                  <a:pt x="71" y="6"/>
                </a:lnTo>
                <a:lnTo>
                  <a:pt x="59" y="9"/>
                </a:lnTo>
                <a:lnTo>
                  <a:pt x="46" y="13"/>
                </a:lnTo>
                <a:lnTo>
                  <a:pt x="34" y="19"/>
                </a:lnTo>
                <a:lnTo>
                  <a:pt x="22" y="22"/>
                </a:lnTo>
                <a:lnTo>
                  <a:pt x="10" y="26"/>
                </a:lnTo>
                <a:lnTo>
                  <a:pt x="0" y="29"/>
                </a:lnTo>
                <a:lnTo>
                  <a:pt x="2" y="32"/>
                </a:lnTo>
                <a:lnTo>
                  <a:pt x="2" y="35"/>
                </a:lnTo>
                <a:lnTo>
                  <a:pt x="2" y="38"/>
                </a:lnTo>
                <a:lnTo>
                  <a:pt x="2" y="42"/>
                </a:lnTo>
                <a:lnTo>
                  <a:pt x="12" y="38"/>
                </a:lnTo>
                <a:lnTo>
                  <a:pt x="24" y="35"/>
                </a:lnTo>
                <a:lnTo>
                  <a:pt x="37" y="32"/>
                </a:lnTo>
                <a:lnTo>
                  <a:pt x="49" y="26"/>
                </a:lnTo>
                <a:lnTo>
                  <a:pt x="61" y="22"/>
                </a:lnTo>
                <a:lnTo>
                  <a:pt x="73" y="19"/>
                </a:lnTo>
                <a:lnTo>
                  <a:pt x="86" y="16"/>
                </a:lnTo>
                <a:lnTo>
                  <a:pt x="98" y="13"/>
                </a:lnTo>
                <a:lnTo>
                  <a:pt x="98" y="9"/>
                </a:lnTo>
                <a:lnTo>
                  <a:pt x="98" y="6"/>
                </a:lnTo>
                <a:lnTo>
                  <a:pt x="98" y="3"/>
                </a:lnTo>
                <a:lnTo>
                  <a:pt x="95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45"/>
          <p:cNvSpPr/>
          <p:nvPr/>
        </p:nvSpPr>
        <p:spPr>
          <a:xfrm>
            <a:off x="1087560" y="3801960"/>
            <a:ext cx="155520" cy="66600"/>
          </a:xfrm>
          <a:custGeom>
            <a:avLst/>
            <a:gdLst>
              <a:gd name="textAreaLeft" fmla="*/ 0 w 155520"/>
              <a:gd name="textAreaRight" fmla="*/ 155880 w 155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8" h="42">
                <a:moveTo>
                  <a:pt x="95" y="0"/>
                </a:moveTo>
                <a:lnTo>
                  <a:pt x="83" y="3"/>
                </a:lnTo>
                <a:lnTo>
                  <a:pt x="71" y="6"/>
                </a:lnTo>
                <a:lnTo>
                  <a:pt x="58" y="9"/>
                </a:lnTo>
                <a:lnTo>
                  <a:pt x="46" y="13"/>
                </a:lnTo>
                <a:lnTo>
                  <a:pt x="34" y="16"/>
                </a:lnTo>
                <a:lnTo>
                  <a:pt x="22" y="22"/>
                </a:lnTo>
                <a:lnTo>
                  <a:pt x="9" y="25"/>
                </a:lnTo>
                <a:lnTo>
                  <a:pt x="0" y="29"/>
                </a:lnTo>
                <a:lnTo>
                  <a:pt x="0" y="32"/>
                </a:lnTo>
                <a:lnTo>
                  <a:pt x="0" y="35"/>
                </a:lnTo>
                <a:lnTo>
                  <a:pt x="0" y="38"/>
                </a:lnTo>
                <a:lnTo>
                  <a:pt x="2" y="42"/>
                </a:lnTo>
                <a:lnTo>
                  <a:pt x="12" y="38"/>
                </a:lnTo>
                <a:lnTo>
                  <a:pt x="24" y="35"/>
                </a:lnTo>
                <a:lnTo>
                  <a:pt x="36" y="29"/>
                </a:lnTo>
                <a:lnTo>
                  <a:pt x="49" y="25"/>
                </a:lnTo>
                <a:lnTo>
                  <a:pt x="61" y="22"/>
                </a:lnTo>
                <a:lnTo>
                  <a:pt x="73" y="19"/>
                </a:lnTo>
                <a:lnTo>
                  <a:pt x="85" y="16"/>
                </a:lnTo>
                <a:lnTo>
                  <a:pt x="98" y="13"/>
                </a:lnTo>
                <a:lnTo>
                  <a:pt x="98" y="9"/>
                </a:lnTo>
                <a:lnTo>
                  <a:pt x="98" y="6"/>
                </a:lnTo>
                <a:lnTo>
                  <a:pt x="95" y="3"/>
                </a:lnTo>
                <a:lnTo>
                  <a:pt x="95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246"/>
          <p:cNvSpPr/>
          <p:nvPr/>
        </p:nvSpPr>
        <p:spPr>
          <a:xfrm>
            <a:off x="1063800" y="3719520"/>
            <a:ext cx="158400" cy="61920"/>
          </a:xfrm>
          <a:custGeom>
            <a:avLst/>
            <a:gdLst>
              <a:gd name="textAreaLeft" fmla="*/ 0 w 158400"/>
              <a:gd name="textAreaRight" fmla="*/ 158760 w 1584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00" h="39">
                <a:moveTo>
                  <a:pt x="98" y="0"/>
                </a:moveTo>
                <a:lnTo>
                  <a:pt x="86" y="3"/>
                </a:lnTo>
                <a:lnTo>
                  <a:pt x="73" y="6"/>
                </a:lnTo>
                <a:lnTo>
                  <a:pt x="61" y="10"/>
                </a:lnTo>
                <a:lnTo>
                  <a:pt x="47" y="13"/>
                </a:lnTo>
                <a:lnTo>
                  <a:pt x="34" y="16"/>
                </a:lnTo>
                <a:lnTo>
                  <a:pt x="22" y="19"/>
                </a:lnTo>
                <a:lnTo>
                  <a:pt x="10" y="22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2" y="35"/>
                </a:lnTo>
                <a:lnTo>
                  <a:pt x="2" y="39"/>
                </a:lnTo>
                <a:lnTo>
                  <a:pt x="15" y="35"/>
                </a:lnTo>
                <a:lnTo>
                  <a:pt x="24" y="32"/>
                </a:lnTo>
                <a:lnTo>
                  <a:pt x="39" y="29"/>
                </a:lnTo>
                <a:lnTo>
                  <a:pt x="51" y="26"/>
                </a:lnTo>
                <a:lnTo>
                  <a:pt x="64" y="22"/>
                </a:lnTo>
                <a:lnTo>
                  <a:pt x="76" y="19"/>
                </a:lnTo>
                <a:lnTo>
                  <a:pt x="88" y="16"/>
                </a:lnTo>
                <a:lnTo>
                  <a:pt x="100" y="13"/>
                </a:lnTo>
                <a:lnTo>
                  <a:pt x="100" y="10"/>
                </a:lnTo>
                <a:lnTo>
                  <a:pt x="100" y="6"/>
                </a:lnTo>
                <a:lnTo>
                  <a:pt x="100" y="3"/>
                </a:lnTo>
                <a:lnTo>
                  <a:pt x="98" y="0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247"/>
          <p:cNvSpPr/>
          <p:nvPr/>
        </p:nvSpPr>
        <p:spPr>
          <a:xfrm>
            <a:off x="574560" y="4567320"/>
            <a:ext cx="127080" cy="92160"/>
          </a:xfrm>
          <a:custGeom>
            <a:avLst/>
            <a:gdLst>
              <a:gd name="textAreaLeft" fmla="*/ 0 w 127080"/>
              <a:gd name="textAreaRight" fmla="*/ 127440 w 127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80" h="58">
                <a:moveTo>
                  <a:pt x="80" y="13"/>
                </a:moveTo>
                <a:lnTo>
                  <a:pt x="80" y="9"/>
                </a:lnTo>
                <a:lnTo>
                  <a:pt x="78" y="6"/>
                </a:lnTo>
                <a:lnTo>
                  <a:pt x="78" y="3"/>
                </a:lnTo>
                <a:lnTo>
                  <a:pt x="76" y="0"/>
                </a:lnTo>
                <a:lnTo>
                  <a:pt x="0" y="42"/>
                </a:lnTo>
                <a:lnTo>
                  <a:pt x="2" y="45"/>
                </a:lnTo>
                <a:lnTo>
                  <a:pt x="2" y="48"/>
                </a:lnTo>
                <a:lnTo>
                  <a:pt x="2" y="55"/>
                </a:lnTo>
                <a:lnTo>
                  <a:pt x="5" y="58"/>
                </a:lnTo>
                <a:lnTo>
                  <a:pt x="80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248"/>
          <p:cNvSpPr/>
          <p:nvPr/>
        </p:nvSpPr>
        <p:spPr>
          <a:xfrm>
            <a:off x="550800" y="4505400"/>
            <a:ext cx="131760" cy="87120"/>
          </a:xfrm>
          <a:custGeom>
            <a:avLst/>
            <a:gdLst>
              <a:gd name="textAreaLeft" fmla="*/ 0 w 131760"/>
              <a:gd name="textAreaRight" fmla="*/ 132120 w 1317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83" h="55">
                <a:moveTo>
                  <a:pt x="83" y="13"/>
                </a:moveTo>
                <a:lnTo>
                  <a:pt x="83" y="10"/>
                </a:lnTo>
                <a:lnTo>
                  <a:pt x="83" y="6"/>
                </a:lnTo>
                <a:lnTo>
                  <a:pt x="81" y="3"/>
                </a:lnTo>
                <a:lnTo>
                  <a:pt x="81" y="0"/>
                </a:lnTo>
                <a:lnTo>
                  <a:pt x="0" y="39"/>
                </a:lnTo>
                <a:lnTo>
                  <a:pt x="2" y="42"/>
                </a:lnTo>
                <a:lnTo>
                  <a:pt x="2" y="45"/>
                </a:lnTo>
                <a:lnTo>
                  <a:pt x="2" y="52"/>
                </a:lnTo>
                <a:lnTo>
                  <a:pt x="5" y="55"/>
                </a:lnTo>
                <a:lnTo>
                  <a:pt x="83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249"/>
          <p:cNvSpPr/>
          <p:nvPr/>
        </p:nvSpPr>
        <p:spPr>
          <a:xfrm>
            <a:off x="527040" y="4433760"/>
            <a:ext cx="136440" cy="81000"/>
          </a:xfrm>
          <a:custGeom>
            <a:avLst/>
            <a:gdLst>
              <a:gd name="textAreaLeft" fmla="*/ 0 w 136440"/>
              <a:gd name="textAreaRight" fmla="*/ 136800 w 1364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6" h="51">
                <a:moveTo>
                  <a:pt x="86" y="9"/>
                </a:moveTo>
                <a:lnTo>
                  <a:pt x="86" y="6"/>
                </a:lnTo>
                <a:lnTo>
                  <a:pt x="86" y="3"/>
                </a:lnTo>
                <a:lnTo>
                  <a:pt x="84" y="3"/>
                </a:lnTo>
                <a:lnTo>
                  <a:pt x="84" y="0"/>
                </a:lnTo>
                <a:lnTo>
                  <a:pt x="0" y="38"/>
                </a:lnTo>
                <a:lnTo>
                  <a:pt x="0" y="42"/>
                </a:lnTo>
                <a:lnTo>
                  <a:pt x="3" y="45"/>
                </a:lnTo>
                <a:lnTo>
                  <a:pt x="3" y="48"/>
                </a:lnTo>
                <a:lnTo>
                  <a:pt x="3" y="51"/>
                </a:lnTo>
                <a:lnTo>
                  <a:pt x="86" y="9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250"/>
          <p:cNvSpPr/>
          <p:nvPr/>
        </p:nvSpPr>
        <p:spPr>
          <a:xfrm>
            <a:off x="496800" y="4351320"/>
            <a:ext cx="142920" cy="82440"/>
          </a:xfrm>
          <a:custGeom>
            <a:avLst/>
            <a:gdLst>
              <a:gd name="textAreaLeft" fmla="*/ 0 w 142920"/>
              <a:gd name="textAreaRight" fmla="*/ 143280 w 1429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90" h="52">
                <a:moveTo>
                  <a:pt x="90" y="13"/>
                </a:moveTo>
                <a:lnTo>
                  <a:pt x="90" y="10"/>
                </a:lnTo>
                <a:lnTo>
                  <a:pt x="90" y="6"/>
                </a:lnTo>
                <a:lnTo>
                  <a:pt x="88" y="3"/>
                </a:lnTo>
                <a:lnTo>
                  <a:pt x="88" y="0"/>
                </a:lnTo>
                <a:lnTo>
                  <a:pt x="0" y="42"/>
                </a:lnTo>
                <a:lnTo>
                  <a:pt x="2" y="45"/>
                </a:lnTo>
                <a:lnTo>
                  <a:pt x="2" y="48"/>
                </a:lnTo>
                <a:lnTo>
                  <a:pt x="5" y="52"/>
                </a:lnTo>
                <a:lnTo>
                  <a:pt x="90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251"/>
          <p:cNvSpPr/>
          <p:nvPr/>
        </p:nvSpPr>
        <p:spPr>
          <a:xfrm>
            <a:off x="465120" y="4268880"/>
            <a:ext cx="152280" cy="87120"/>
          </a:xfrm>
          <a:custGeom>
            <a:avLst/>
            <a:gdLst>
              <a:gd name="textAreaLeft" fmla="*/ 0 w 152280"/>
              <a:gd name="textAreaRight" fmla="*/ 152640 w 1522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96" h="55">
                <a:moveTo>
                  <a:pt x="96" y="13"/>
                </a:moveTo>
                <a:lnTo>
                  <a:pt x="96" y="10"/>
                </a:lnTo>
                <a:lnTo>
                  <a:pt x="96" y="7"/>
                </a:lnTo>
                <a:lnTo>
                  <a:pt x="93" y="3"/>
                </a:lnTo>
                <a:lnTo>
                  <a:pt x="93" y="0"/>
                </a:lnTo>
                <a:lnTo>
                  <a:pt x="0" y="42"/>
                </a:lnTo>
                <a:lnTo>
                  <a:pt x="3" y="45"/>
                </a:lnTo>
                <a:lnTo>
                  <a:pt x="3" y="49"/>
                </a:lnTo>
                <a:lnTo>
                  <a:pt x="5" y="52"/>
                </a:lnTo>
                <a:lnTo>
                  <a:pt x="5" y="55"/>
                </a:lnTo>
                <a:lnTo>
                  <a:pt x="96" y="13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252"/>
          <p:cNvSpPr/>
          <p:nvPr/>
        </p:nvSpPr>
        <p:spPr>
          <a:xfrm>
            <a:off x="438120" y="4186080"/>
            <a:ext cx="158760" cy="93960"/>
          </a:xfrm>
          <a:custGeom>
            <a:avLst/>
            <a:gdLst>
              <a:gd name="textAreaLeft" fmla="*/ 0 w 158760"/>
              <a:gd name="textAreaRight" fmla="*/ 159120 w 1587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00" h="59">
                <a:moveTo>
                  <a:pt x="100" y="16"/>
                </a:moveTo>
                <a:lnTo>
                  <a:pt x="98" y="13"/>
                </a:lnTo>
                <a:lnTo>
                  <a:pt x="98" y="7"/>
                </a:lnTo>
                <a:lnTo>
                  <a:pt x="98" y="4"/>
                </a:lnTo>
                <a:lnTo>
                  <a:pt x="95" y="0"/>
                </a:lnTo>
                <a:lnTo>
                  <a:pt x="0" y="46"/>
                </a:lnTo>
                <a:lnTo>
                  <a:pt x="2" y="49"/>
                </a:lnTo>
                <a:lnTo>
                  <a:pt x="2" y="52"/>
                </a:lnTo>
                <a:lnTo>
                  <a:pt x="2" y="55"/>
                </a:lnTo>
                <a:lnTo>
                  <a:pt x="5" y="59"/>
                </a:lnTo>
                <a:lnTo>
                  <a:pt x="100" y="16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253"/>
          <p:cNvSpPr/>
          <p:nvPr/>
        </p:nvSpPr>
        <p:spPr>
          <a:xfrm>
            <a:off x="406440" y="4105440"/>
            <a:ext cx="163440" cy="96840"/>
          </a:xfrm>
          <a:custGeom>
            <a:avLst/>
            <a:gdLst>
              <a:gd name="textAreaLeft" fmla="*/ 0 w 163440"/>
              <a:gd name="textAreaRight" fmla="*/ 163800 w 1634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3" h="61">
                <a:moveTo>
                  <a:pt x="103" y="12"/>
                </a:moveTo>
                <a:lnTo>
                  <a:pt x="103" y="9"/>
                </a:lnTo>
                <a:lnTo>
                  <a:pt x="103" y="6"/>
                </a:lnTo>
                <a:lnTo>
                  <a:pt x="101" y="3"/>
                </a:lnTo>
                <a:lnTo>
                  <a:pt x="101" y="0"/>
                </a:lnTo>
                <a:lnTo>
                  <a:pt x="0" y="48"/>
                </a:lnTo>
                <a:lnTo>
                  <a:pt x="3" y="51"/>
                </a:lnTo>
                <a:lnTo>
                  <a:pt x="3" y="55"/>
                </a:lnTo>
                <a:lnTo>
                  <a:pt x="5" y="58"/>
                </a:lnTo>
                <a:lnTo>
                  <a:pt x="5" y="61"/>
                </a:lnTo>
                <a:lnTo>
                  <a:pt x="103" y="12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254"/>
          <p:cNvSpPr/>
          <p:nvPr/>
        </p:nvSpPr>
        <p:spPr>
          <a:xfrm>
            <a:off x="379440" y="4017960"/>
            <a:ext cx="168120" cy="106200"/>
          </a:xfrm>
          <a:custGeom>
            <a:avLst/>
            <a:gdLst>
              <a:gd name="textAreaLeft" fmla="*/ 0 w 168120"/>
              <a:gd name="textAreaRight" fmla="*/ 168480 w 1681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06" h="67">
                <a:moveTo>
                  <a:pt x="106" y="12"/>
                </a:moveTo>
                <a:lnTo>
                  <a:pt x="103" y="9"/>
                </a:lnTo>
                <a:lnTo>
                  <a:pt x="103" y="6"/>
                </a:lnTo>
                <a:lnTo>
                  <a:pt x="103" y="3"/>
                </a:lnTo>
                <a:lnTo>
                  <a:pt x="101" y="0"/>
                </a:lnTo>
                <a:lnTo>
                  <a:pt x="0" y="55"/>
                </a:lnTo>
                <a:lnTo>
                  <a:pt x="0" y="58"/>
                </a:lnTo>
                <a:lnTo>
                  <a:pt x="3" y="61"/>
                </a:lnTo>
                <a:lnTo>
                  <a:pt x="3" y="64"/>
                </a:lnTo>
                <a:lnTo>
                  <a:pt x="5" y="67"/>
                </a:lnTo>
                <a:lnTo>
                  <a:pt x="106" y="12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255"/>
          <p:cNvSpPr/>
          <p:nvPr/>
        </p:nvSpPr>
        <p:spPr>
          <a:xfrm>
            <a:off x="1211400" y="5091120"/>
            <a:ext cx="1581120" cy="62064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996" h="391">
                <a:moveTo>
                  <a:pt x="0" y="336"/>
                </a:moveTo>
                <a:lnTo>
                  <a:pt x="32" y="320"/>
                </a:lnTo>
                <a:lnTo>
                  <a:pt x="76" y="301"/>
                </a:lnTo>
                <a:lnTo>
                  <a:pt x="130" y="281"/>
                </a:lnTo>
                <a:lnTo>
                  <a:pt x="191" y="259"/>
                </a:lnTo>
                <a:lnTo>
                  <a:pt x="259" y="233"/>
                </a:lnTo>
                <a:lnTo>
                  <a:pt x="335" y="210"/>
                </a:lnTo>
                <a:lnTo>
                  <a:pt x="411" y="184"/>
                </a:lnTo>
                <a:lnTo>
                  <a:pt x="492" y="158"/>
                </a:lnTo>
                <a:lnTo>
                  <a:pt x="570" y="136"/>
                </a:lnTo>
                <a:lnTo>
                  <a:pt x="648" y="110"/>
                </a:lnTo>
                <a:lnTo>
                  <a:pt x="724" y="87"/>
                </a:lnTo>
                <a:lnTo>
                  <a:pt x="795" y="65"/>
                </a:lnTo>
                <a:lnTo>
                  <a:pt x="859" y="45"/>
                </a:lnTo>
                <a:lnTo>
                  <a:pt x="915" y="29"/>
                </a:lnTo>
                <a:lnTo>
                  <a:pt x="962" y="13"/>
                </a:lnTo>
                <a:lnTo>
                  <a:pt x="996" y="0"/>
                </a:lnTo>
                <a:lnTo>
                  <a:pt x="991" y="16"/>
                </a:lnTo>
                <a:lnTo>
                  <a:pt x="986" y="32"/>
                </a:lnTo>
                <a:lnTo>
                  <a:pt x="984" y="48"/>
                </a:lnTo>
                <a:lnTo>
                  <a:pt x="984" y="55"/>
                </a:lnTo>
                <a:lnTo>
                  <a:pt x="957" y="61"/>
                </a:lnTo>
                <a:lnTo>
                  <a:pt x="915" y="74"/>
                </a:lnTo>
                <a:lnTo>
                  <a:pt x="861" y="90"/>
                </a:lnTo>
                <a:lnTo>
                  <a:pt x="798" y="113"/>
                </a:lnTo>
                <a:lnTo>
                  <a:pt x="727" y="136"/>
                </a:lnTo>
                <a:lnTo>
                  <a:pt x="651" y="162"/>
                </a:lnTo>
                <a:lnTo>
                  <a:pt x="570" y="191"/>
                </a:lnTo>
                <a:lnTo>
                  <a:pt x="489" y="217"/>
                </a:lnTo>
                <a:lnTo>
                  <a:pt x="406" y="246"/>
                </a:lnTo>
                <a:lnTo>
                  <a:pt x="328" y="275"/>
                </a:lnTo>
                <a:lnTo>
                  <a:pt x="255" y="301"/>
                </a:lnTo>
                <a:lnTo>
                  <a:pt x="186" y="327"/>
                </a:lnTo>
                <a:lnTo>
                  <a:pt x="130" y="349"/>
                </a:lnTo>
                <a:lnTo>
                  <a:pt x="81" y="369"/>
                </a:lnTo>
                <a:lnTo>
                  <a:pt x="49" y="382"/>
                </a:lnTo>
                <a:lnTo>
                  <a:pt x="29" y="391"/>
                </a:lnTo>
                <a:lnTo>
                  <a:pt x="0" y="336"/>
                </a:lnTo>
                <a:close/>
              </a:path>
            </a:pathLst>
          </a:custGeom>
          <a:solidFill>
            <a:srgbClr val="8c8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256"/>
          <p:cNvSpPr/>
          <p:nvPr/>
        </p:nvSpPr>
        <p:spPr>
          <a:xfrm>
            <a:off x="1339920" y="657360"/>
            <a:ext cx="2314440" cy="197784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1977840"/>
              <a:gd name="textAreaBottom" fmla="*/ 1978200 h 1977840"/>
            </a:gdLst>
            <a:ahLst/>
            <a:rect l="textAreaLeft" t="textAreaTop" r="textAreaRight" b="textAreaBottom"/>
            <a:pathLst>
              <a:path w="1458" h="1246">
                <a:moveTo>
                  <a:pt x="14" y="75"/>
                </a:moveTo>
                <a:lnTo>
                  <a:pt x="22" y="62"/>
                </a:lnTo>
                <a:lnTo>
                  <a:pt x="34" y="49"/>
                </a:lnTo>
                <a:lnTo>
                  <a:pt x="51" y="33"/>
                </a:lnTo>
                <a:lnTo>
                  <a:pt x="73" y="20"/>
                </a:lnTo>
                <a:lnTo>
                  <a:pt x="93" y="7"/>
                </a:lnTo>
                <a:lnTo>
                  <a:pt x="115" y="0"/>
                </a:lnTo>
                <a:lnTo>
                  <a:pt x="134" y="3"/>
                </a:lnTo>
                <a:lnTo>
                  <a:pt x="151" y="13"/>
                </a:lnTo>
                <a:lnTo>
                  <a:pt x="176" y="46"/>
                </a:lnTo>
                <a:lnTo>
                  <a:pt x="193" y="84"/>
                </a:lnTo>
                <a:lnTo>
                  <a:pt x="208" y="117"/>
                </a:lnTo>
                <a:lnTo>
                  <a:pt x="220" y="136"/>
                </a:lnTo>
                <a:lnTo>
                  <a:pt x="230" y="139"/>
                </a:lnTo>
                <a:lnTo>
                  <a:pt x="242" y="143"/>
                </a:lnTo>
                <a:lnTo>
                  <a:pt x="254" y="143"/>
                </a:lnTo>
                <a:lnTo>
                  <a:pt x="269" y="143"/>
                </a:lnTo>
                <a:lnTo>
                  <a:pt x="284" y="143"/>
                </a:lnTo>
                <a:lnTo>
                  <a:pt x="298" y="146"/>
                </a:lnTo>
                <a:lnTo>
                  <a:pt x="308" y="152"/>
                </a:lnTo>
                <a:lnTo>
                  <a:pt x="318" y="159"/>
                </a:lnTo>
                <a:lnTo>
                  <a:pt x="333" y="181"/>
                </a:lnTo>
                <a:lnTo>
                  <a:pt x="347" y="207"/>
                </a:lnTo>
                <a:lnTo>
                  <a:pt x="362" y="233"/>
                </a:lnTo>
                <a:lnTo>
                  <a:pt x="379" y="249"/>
                </a:lnTo>
                <a:lnTo>
                  <a:pt x="389" y="253"/>
                </a:lnTo>
                <a:lnTo>
                  <a:pt x="399" y="253"/>
                </a:lnTo>
                <a:lnTo>
                  <a:pt x="408" y="253"/>
                </a:lnTo>
                <a:lnTo>
                  <a:pt x="418" y="249"/>
                </a:lnTo>
                <a:lnTo>
                  <a:pt x="428" y="253"/>
                </a:lnTo>
                <a:lnTo>
                  <a:pt x="440" y="253"/>
                </a:lnTo>
                <a:lnTo>
                  <a:pt x="450" y="259"/>
                </a:lnTo>
                <a:lnTo>
                  <a:pt x="462" y="272"/>
                </a:lnTo>
                <a:lnTo>
                  <a:pt x="487" y="298"/>
                </a:lnTo>
                <a:lnTo>
                  <a:pt x="506" y="327"/>
                </a:lnTo>
                <a:lnTo>
                  <a:pt x="523" y="359"/>
                </a:lnTo>
                <a:lnTo>
                  <a:pt x="528" y="395"/>
                </a:lnTo>
                <a:lnTo>
                  <a:pt x="545" y="395"/>
                </a:lnTo>
                <a:lnTo>
                  <a:pt x="565" y="401"/>
                </a:lnTo>
                <a:lnTo>
                  <a:pt x="582" y="414"/>
                </a:lnTo>
                <a:lnTo>
                  <a:pt x="597" y="431"/>
                </a:lnTo>
                <a:lnTo>
                  <a:pt x="604" y="437"/>
                </a:lnTo>
                <a:lnTo>
                  <a:pt x="614" y="447"/>
                </a:lnTo>
                <a:lnTo>
                  <a:pt x="626" y="456"/>
                </a:lnTo>
                <a:lnTo>
                  <a:pt x="638" y="466"/>
                </a:lnTo>
                <a:lnTo>
                  <a:pt x="651" y="476"/>
                </a:lnTo>
                <a:lnTo>
                  <a:pt x="660" y="486"/>
                </a:lnTo>
                <a:lnTo>
                  <a:pt x="668" y="495"/>
                </a:lnTo>
                <a:lnTo>
                  <a:pt x="673" y="505"/>
                </a:lnTo>
                <a:lnTo>
                  <a:pt x="680" y="518"/>
                </a:lnTo>
                <a:lnTo>
                  <a:pt x="695" y="524"/>
                </a:lnTo>
                <a:lnTo>
                  <a:pt x="709" y="528"/>
                </a:lnTo>
                <a:lnTo>
                  <a:pt x="724" y="528"/>
                </a:lnTo>
                <a:lnTo>
                  <a:pt x="734" y="528"/>
                </a:lnTo>
                <a:lnTo>
                  <a:pt x="746" y="531"/>
                </a:lnTo>
                <a:lnTo>
                  <a:pt x="763" y="534"/>
                </a:lnTo>
                <a:lnTo>
                  <a:pt x="780" y="541"/>
                </a:lnTo>
                <a:lnTo>
                  <a:pt x="798" y="550"/>
                </a:lnTo>
                <a:lnTo>
                  <a:pt x="812" y="563"/>
                </a:lnTo>
                <a:lnTo>
                  <a:pt x="824" y="583"/>
                </a:lnTo>
                <a:lnTo>
                  <a:pt x="834" y="609"/>
                </a:lnTo>
                <a:lnTo>
                  <a:pt x="846" y="605"/>
                </a:lnTo>
                <a:lnTo>
                  <a:pt x="861" y="605"/>
                </a:lnTo>
                <a:lnTo>
                  <a:pt x="883" y="609"/>
                </a:lnTo>
                <a:lnTo>
                  <a:pt x="905" y="618"/>
                </a:lnTo>
                <a:lnTo>
                  <a:pt x="927" y="631"/>
                </a:lnTo>
                <a:lnTo>
                  <a:pt x="949" y="651"/>
                </a:lnTo>
                <a:lnTo>
                  <a:pt x="964" y="677"/>
                </a:lnTo>
                <a:lnTo>
                  <a:pt x="974" y="706"/>
                </a:lnTo>
                <a:lnTo>
                  <a:pt x="986" y="706"/>
                </a:lnTo>
                <a:lnTo>
                  <a:pt x="1003" y="706"/>
                </a:lnTo>
                <a:lnTo>
                  <a:pt x="1020" y="712"/>
                </a:lnTo>
                <a:lnTo>
                  <a:pt x="1040" y="722"/>
                </a:lnTo>
                <a:lnTo>
                  <a:pt x="1059" y="738"/>
                </a:lnTo>
                <a:lnTo>
                  <a:pt x="1079" y="761"/>
                </a:lnTo>
                <a:lnTo>
                  <a:pt x="1096" y="793"/>
                </a:lnTo>
                <a:lnTo>
                  <a:pt x="1113" y="835"/>
                </a:lnTo>
                <a:lnTo>
                  <a:pt x="1130" y="835"/>
                </a:lnTo>
                <a:lnTo>
                  <a:pt x="1155" y="842"/>
                </a:lnTo>
                <a:lnTo>
                  <a:pt x="1182" y="851"/>
                </a:lnTo>
                <a:lnTo>
                  <a:pt x="1211" y="867"/>
                </a:lnTo>
                <a:lnTo>
                  <a:pt x="1240" y="884"/>
                </a:lnTo>
                <a:lnTo>
                  <a:pt x="1265" y="906"/>
                </a:lnTo>
                <a:lnTo>
                  <a:pt x="1287" y="926"/>
                </a:lnTo>
                <a:lnTo>
                  <a:pt x="1299" y="948"/>
                </a:lnTo>
                <a:lnTo>
                  <a:pt x="1314" y="977"/>
                </a:lnTo>
                <a:lnTo>
                  <a:pt x="1321" y="987"/>
                </a:lnTo>
                <a:lnTo>
                  <a:pt x="1329" y="987"/>
                </a:lnTo>
                <a:lnTo>
                  <a:pt x="1341" y="987"/>
                </a:lnTo>
                <a:lnTo>
                  <a:pt x="1353" y="990"/>
                </a:lnTo>
                <a:lnTo>
                  <a:pt x="1373" y="994"/>
                </a:lnTo>
                <a:lnTo>
                  <a:pt x="1397" y="1007"/>
                </a:lnTo>
                <a:lnTo>
                  <a:pt x="1422" y="1023"/>
                </a:lnTo>
                <a:lnTo>
                  <a:pt x="1444" y="1049"/>
                </a:lnTo>
                <a:lnTo>
                  <a:pt x="1456" y="1081"/>
                </a:lnTo>
                <a:lnTo>
                  <a:pt x="1458" y="1123"/>
                </a:lnTo>
                <a:lnTo>
                  <a:pt x="1444" y="1178"/>
                </a:lnTo>
                <a:lnTo>
                  <a:pt x="1417" y="1223"/>
                </a:lnTo>
                <a:lnTo>
                  <a:pt x="1387" y="1246"/>
                </a:lnTo>
                <a:lnTo>
                  <a:pt x="1358" y="1246"/>
                </a:lnTo>
                <a:lnTo>
                  <a:pt x="1329" y="1233"/>
                </a:lnTo>
                <a:lnTo>
                  <a:pt x="1302" y="1210"/>
                </a:lnTo>
                <a:lnTo>
                  <a:pt x="1282" y="1178"/>
                </a:lnTo>
                <a:lnTo>
                  <a:pt x="1272" y="1142"/>
                </a:lnTo>
                <a:lnTo>
                  <a:pt x="1275" y="1110"/>
                </a:lnTo>
                <a:lnTo>
                  <a:pt x="1267" y="1117"/>
                </a:lnTo>
                <a:lnTo>
                  <a:pt x="1258" y="1123"/>
                </a:lnTo>
                <a:lnTo>
                  <a:pt x="1245" y="1123"/>
                </a:lnTo>
                <a:lnTo>
                  <a:pt x="1236" y="1123"/>
                </a:lnTo>
                <a:lnTo>
                  <a:pt x="1223" y="1120"/>
                </a:lnTo>
                <a:lnTo>
                  <a:pt x="1214" y="1113"/>
                </a:lnTo>
                <a:lnTo>
                  <a:pt x="1204" y="1104"/>
                </a:lnTo>
                <a:lnTo>
                  <a:pt x="1196" y="1091"/>
                </a:lnTo>
                <a:lnTo>
                  <a:pt x="1184" y="1062"/>
                </a:lnTo>
                <a:lnTo>
                  <a:pt x="1167" y="1032"/>
                </a:lnTo>
                <a:lnTo>
                  <a:pt x="1147" y="1007"/>
                </a:lnTo>
                <a:lnTo>
                  <a:pt x="1128" y="987"/>
                </a:lnTo>
                <a:lnTo>
                  <a:pt x="1113" y="974"/>
                </a:lnTo>
                <a:lnTo>
                  <a:pt x="1103" y="958"/>
                </a:lnTo>
                <a:lnTo>
                  <a:pt x="1094" y="948"/>
                </a:lnTo>
                <a:lnTo>
                  <a:pt x="1079" y="952"/>
                </a:lnTo>
                <a:lnTo>
                  <a:pt x="1069" y="955"/>
                </a:lnTo>
                <a:lnTo>
                  <a:pt x="1059" y="961"/>
                </a:lnTo>
                <a:lnTo>
                  <a:pt x="1052" y="965"/>
                </a:lnTo>
                <a:lnTo>
                  <a:pt x="1042" y="965"/>
                </a:lnTo>
                <a:lnTo>
                  <a:pt x="1032" y="965"/>
                </a:lnTo>
                <a:lnTo>
                  <a:pt x="1023" y="961"/>
                </a:lnTo>
                <a:lnTo>
                  <a:pt x="1013" y="948"/>
                </a:lnTo>
                <a:lnTo>
                  <a:pt x="1003" y="932"/>
                </a:lnTo>
                <a:lnTo>
                  <a:pt x="986" y="900"/>
                </a:lnTo>
                <a:lnTo>
                  <a:pt x="971" y="884"/>
                </a:lnTo>
                <a:lnTo>
                  <a:pt x="961" y="877"/>
                </a:lnTo>
                <a:lnTo>
                  <a:pt x="952" y="880"/>
                </a:lnTo>
                <a:lnTo>
                  <a:pt x="937" y="877"/>
                </a:lnTo>
                <a:lnTo>
                  <a:pt x="915" y="867"/>
                </a:lnTo>
                <a:lnTo>
                  <a:pt x="895" y="848"/>
                </a:lnTo>
                <a:lnTo>
                  <a:pt x="886" y="825"/>
                </a:lnTo>
                <a:lnTo>
                  <a:pt x="878" y="806"/>
                </a:lnTo>
                <a:lnTo>
                  <a:pt x="868" y="796"/>
                </a:lnTo>
                <a:lnTo>
                  <a:pt x="859" y="796"/>
                </a:lnTo>
                <a:lnTo>
                  <a:pt x="849" y="799"/>
                </a:lnTo>
                <a:lnTo>
                  <a:pt x="837" y="803"/>
                </a:lnTo>
                <a:lnTo>
                  <a:pt x="822" y="796"/>
                </a:lnTo>
                <a:lnTo>
                  <a:pt x="807" y="780"/>
                </a:lnTo>
                <a:lnTo>
                  <a:pt x="795" y="754"/>
                </a:lnTo>
                <a:lnTo>
                  <a:pt x="788" y="725"/>
                </a:lnTo>
                <a:lnTo>
                  <a:pt x="783" y="699"/>
                </a:lnTo>
                <a:lnTo>
                  <a:pt x="778" y="677"/>
                </a:lnTo>
                <a:lnTo>
                  <a:pt x="763" y="664"/>
                </a:lnTo>
                <a:lnTo>
                  <a:pt x="751" y="670"/>
                </a:lnTo>
                <a:lnTo>
                  <a:pt x="749" y="686"/>
                </a:lnTo>
                <a:lnTo>
                  <a:pt x="744" y="702"/>
                </a:lnTo>
                <a:lnTo>
                  <a:pt x="729" y="709"/>
                </a:lnTo>
                <a:lnTo>
                  <a:pt x="709" y="702"/>
                </a:lnTo>
                <a:lnTo>
                  <a:pt x="695" y="689"/>
                </a:lnTo>
                <a:lnTo>
                  <a:pt x="687" y="673"/>
                </a:lnTo>
                <a:lnTo>
                  <a:pt x="685" y="647"/>
                </a:lnTo>
                <a:lnTo>
                  <a:pt x="678" y="651"/>
                </a:lnTo>
                <a:lnTo>
                  <a:pt x="665" y="654"/>
                </a:lnTo>
                <a:lnTo>
                  <a:pt x="653" y="651"/>
                </a:lnTo>
                <a:lnTo>
                  <a:pt x="638" y="647"/>
                </a:lnTo>
                <a:lnTo>
                  <a:pt x="624" y="641"/>
                </a:lnTo>
                <a:lnTo>
                  <a:pt x="609" y="628"/>
                </a:lnTo>
                <a:lnTo>
                  <a:pt x="597" y="612"/>
                </a:lnTo>
                <a:lnTo>
                  <a:pt x="587" y="589"/>
                </a:lnTo>
                <a:lnTo>
                  <a:pt x="570" y="557"/>
                </a:lnTo>
                <a:lnTo>
                  <a:pt x="558" y="547"/>
                </a:lnTo>
                <a:lnTo>
                  <a:pt x="545" y="550"/>
                </a:lnTo>
                <a:lnTo>
                  <a:pt x="533" y="557"/>
                </a:lnTo>
                <a:lnTo>
                  <a:pt x="526" y="560"/>
                </a:lnTo>
                <a:lnTo>
                  <a:pt x="514" y="560"/>
                </a:lnTo>
                <a:lnTo>
                  <a:pt x="501" y="563"/>
                </a:lnTo>
                <a:lnTo>
                  <a:pt x="487" y="563"/>
                </a:lnTo>
                <a:lnTo>
                  <a:pt x="470" y="560"/>
                </a:lnTo>
                <a:lnTo>
                  <a:pt x="455" y="554"/>
                </a:lnTo>
                <a:lnTo>
                  <a:pt x="443" y="544"/>
                </a:lnTo>
                <a:lnTo>
                  <a:pt x="433" y="524"/>
                </a:lnTo>
                <a:lnTo>
                  <a:pt x="421" y="492"/>
                </a:lnTo>
                <a:lnTo>
                  <a:pt x="411" y="479"/>
                </a:lnTo>
                <a:lnTo>
                  <a:pt x="404" y="479"/>
                </a:lnTo>
                <a:lnTo>
                  <a:pt x="394" y="489"/>
                </a:lnTo>
                <a:lnTo>
                  <a:pt x="386" y="495"/>
                </a:lnTo>
                <a:lnTo>
                  <a:pt x="379" y="499"/>
                </a:lnTo>
                <a:lnTo>
                  <a:pt x="369" y="502"/>
                </a:lnTo>
                <a:lnTo>
                  <a:pt x="359" y="499"/>
                </a:lnTo>
                <a:lnTo>
                  <a:pt x="347" y="492"/>
                </a:lnTo>
                <a:lnTo>
                  <a:pt x="335" y="476"/>
                </a:lnTo>
                <a:lnTo>
                  <a:pt x="323" y="453"/>
                </a:lnTo>
                <a:lnTo>
                  <a:pt x="311" y="421"/>
                </a:lnTo>
                <a:lnTo>
                  <a:pt x="291" y="372"/>
                </a:lnTo>
                <a:lnTo>
                  <a:pt x="279" y="359"/>
                </a:lnTo>
                <a:lnTo>
                  <a:pt x="271" y="369"/>
                </a:lnTo>
                <a:lnTo>
                  <a:pt x="266" y="382"/>
                </a:lnTo>
                <a:lnTo>
                  <a:pt x="264" y="385"/>
                </a:lnTo>
                <a:lnTo>
                  <a:pt x="254" y="392"/>
                </a:lnTo>
                <a:lnTo>
                  <a:pt x="244" y="392"/>
                </a:lnTo>
                <a:lnTo>
                  <a:pt x="232" y="392"/>
                </a:lnTo>
                <a:lnTo>
                  <a:pt x="220" y="389"/>
                </a:lnTo>
                <a:lnTo>
                  <a:pt x="208" y="379"/>
                </a:lnTo>
                <a:lnTo>
                  <a:pt x="198" y="366"/>
                </a:lnTo>
                <a:lnTo>
                  <a:pt x="193" y="346"/>
                </a:lnTo>
                <a:lnTo>
                  <a:pt x="191" y="308"/>
                </a:lnTo>
                <a:lnTo>
                  <a:pt x="186" y="285"/>
                </a:lnTo>
                <a:lnTo>
                  <a:pt x="178" y="275"/>
                </a:lnTo>
                <a:lnTo>
                  <a:pt x="166" y="275"/>
                </a:lnTo>
                <a:lnTo>
                  <a:pt x="156" y="278"/>
                </a:lnTo>
                <a:lnTo>
                  <a:pt x="142" y="278"/>
                </a:lnTo>
                <a:lnTo>
                  <a:pt x="125" y="275"/>
                </a:lnTo>
                <a:lnTo>
                  <a:pt x="107" y="269"/>
                </a:lnTo>
                <a:lnTo>
                  <a:pt x="90" y="259"/>
                </a:lnTo>
                <a:lnTo>
                  <a:pt x="73" y="246"/>
                </a:lnTo>
                <a:lnTo>
                  <a:pt x="61" y="227"/>
                </a:lnTo>
                <a:lnTo>
                  <a:pt x="51" y="201"/>
                </a:lnTo>
                <a:lnTo>
                  <a:pt x="22" y="185"/>
                </a:lnTo>
                <a:lnTo>
                  <a:pt x="5" y="156"/>
                </a:lnTo>
                <a:lnTo>
                  <a:pt x="0" y="117"/>
                </a:lnTo>
                <a:lnTo>
                  <a:pt x="14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257"/>
          <p:cNvSpPr/>
          <p:nvPr/>
        </p:nvSpPr>
        <p:spPr>
          <a:xfrm>
            <a:off x="-241200" y="770040"/>
            <a:ext cx="1662120" cy="27288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728800"/>
              <a:gd name="textAreaBottom" fmla="*/ 2729160 h 2728800"/>
            </a:gdLst>
            <a:ahLst/>
            <a:rect l="textAreaLeft" t="textAreaTop" r="textAreaRight" b="textAreaBottom"/>
            <a:pathLst>
              <a:path w="1047" h="1719">
                <a:moveTo>
                  <a:pt x="1047" y="130"/>
                </a:moveTo>
                <a:lnTo>
                  <a:pt x="1018" y="114"/>
                </a:lnTo>
                <a:lnTo>
                  <a:pt x="1001" y="85"/>
                </a:lnTo>
                <a:lnTo>
                  <a:pt x="996" y="46"/>
                </a:lnTo>
                <a:lnTo>
                  <a:pt x="1010" y="4"/>
                </a:lnTo>
                <a:lnTo>
                  <a:pt x="991" y="0"/>
                </a:lnTo>
                <a:lnTo>
                  <a:pt x="971" y="7"/>
                </a:lnTo>
                <a:lnTo>
                  <a:pt x="952" y="26"/>
                </a:lnTo>
                <a:lnTo>
                  <a:pt x="932" y="49"/>
                </a:lnTo>
                <a:lnTo>
                  <a:pt x="917" y="78"/>
                </a:lnTo>
                <a:lnTo>
                  <a:pt x="903" y="107"/>
                </a:lnTo>
                <a:lnTo>
                  <a:pt x="891" y="133"/>
                </a:lnTo>
                <a:lnTo>
                  <a:pt x="883" y="156"/>
                </a:lnTo>
                <a:lnTo>
                  <a:pt x="876" y="175"/>
                </a:lnTo>
                <a:lnTo>
                  <a:pt x="871" y="191"/>
                </a:lnTo>
                <a:lnTo>
                  <a:pt x="864" y="204"/>
                </a:lnTo>
                <a:lnTo>
                  <a:pt x="856" y="220"/>
                </a:lnTo>
                <a:lnTo>
                  <a:pt x="846" y="233"/>
                </a:lnTo>
                <a:lnTo>
                  <a:pt x="832" y="246"/>
                </a:lnTo>
                <a:lnTo>
                  <a:pt x="815" y="263"/>
                </a:lnTo>
                <a:lnTo>
                  <a:pt x="790" y="279"/>
                </a:lnTo>
                <a:lnTo>
                  <a:pt x="763" y="301"/>
                </a:lnTo>
                <a:lnTo>
                  <a:pt x="739" y="327"/>
                </a:lnTo>
                <a:lnTo>
                  <a:pt x="717" y="360"/>
                </a:lnTo>
                <a:lnTo>
                  <a:pt x="697" y="395"/>
                </a:lnTo>
                <a:lnTo>
                  <a:pt x="680" y="434"/>
                </a:lnTo>
                <a:lnTo>
                  <a:pt x="668" y="466"/>
                </a:lnTo>
                <a:lnTo>
                  <a:pt x="661" y="499"/>
                </a:lnTo>
                <a:lnTo>
                  <a:pt x="656" y="525"/>
                </a:lnTo>
                <a:lnTo>
                  <a:pt x="638" y="525"/>
                </a:lnTo>
                <a:lnTo>
                  <a:pt x="619" y="531"/>
                </a:lnTo>
                <a:lnTo>
                  <a:pt x="597" y="544"/>
                </a:lnTo>
                <a:lnTo>
                  <a:pt x="577" y="567"/>
                </a:lnTo>
                <a:lnTo>
                  <a:pt x="558" y="589"/>
                </a:lnTo>
                <a:lnTo>
                  <a:pt x="541" y="618"/>
                </a:lnTo>
                <a:lnTo>
                  <a:pt x="526" y="651"/>
                </a:lnTo>
                <a:lnTo>
                  <a:pt x="519" y="686"/>
                </a:lnTo>
                <a:lnTo>
                  <a:pt x="504" y="693"/>
                </a:lnTo>
                <a:lnTo>
                  <a:pt x="489" y="706"/>
                </a:lnTo>
                <a:lnTo>
                  <a:pt x="472" y="728"/>
                </a:lnTo>
                <a:lnTo>
                  <a:pt x="455" y="754"/>
                </a:lnTo>
                <a:lnTo>
                  <a:pt x="440" y="783"/>
                </a:lnTo>
                <a:lnTo>
                  <a:pt x="428" y="813"/>
                </a:lnTo>
                <a:lnTo>
                  <a:pt x="418" y="842"/>
                </a:lnTo>
                <a:lnTo>
                  <a:pt x="413" y="871"/>
                </a:lnTo>
                <a:lnTo>
                  <a:pt x="394" y="890"/>
                </a:lnTo>
                <a:lnTo>
                  <a:pt x="374" y="919"/>
                </a:lnTo>
                <a:lnTo>
                  <a:pt x="355" y="955"/>
                </a:lnTo>
                <a:lnTo>
                  <a:pt x="335" y="991"/>
                </a:lnTo>
                <a:lnTo>
                  <a:pt x="320" y="1029"/>
                </a:lnTo>
                <a:lnTo>
                  <a:pt x="308" y="1062"/>
                </a:lnTo>
                <a:lnTo>
                  <a:pt x="298" y="1088"/>
                </a:lnTo>
                <a:lnTo>
                  <a:pt x="293" y="1104"/>
                </a:lnTo>
                <a:lnTo>
                  <a:pt x="291" y="1114"/>
                </a:lnTo>
                <a:lnTo>
                  <a:pt x="284" y="1123"/>
                </a:lnTo>
                <a:lnTo>
                  <a:pt x="274" y="1136"/>
                </a:lnTo>
                <a:lnTo>
                  <a:pt x="262" y="1146"/>
                </a:lnTo>
                <a:lnTo>
                  <a:pt x="249" y="1159"/>
                </a:lnTo>
                <a:lnTo>
                  <a:pt x="237" y="1172"/>
                </a:lnTo>
                <a:lnTo>
                  <a:pt x="222" y="1185"/>
                </a:lnTo>
                <a:lnTo>
                  <a:pt x="208" y="1198"/>
                </a:lnTo>
                <a:lnTo>
                  <a:pt x="181" y="1230"/>
                </a:lnTo>
                <a:lnTo>
                  <a:pt x="161" y="1275"/>
                </a:lnTo>
                <a:lnTo>
                  <a:pt x="149" y="1324"/>
                </a:lnTo>
                <a:lnTo>
                  <a:pt x="147" y="1366"/>
                </a:lnTo>
                <a:lnTo>
                  <a:pt x="132" y="1369"/>
                </a:lnTo>
                <a:lnTo>
                  <a:pt x="115" y="1376"/>
                </a:lnTo>
                <a:lnTo>
                  <a:pt x="98" y="1389"/>
                </a:lnTo>
                <a:lnTo>
                  <a:pt x="83" y="1402"/>
                </a:lnTo>
                <a:lnTo>
                  <a:pt x="66" y="1421"/>
                </a:lnTo>
                <a:lnTo>
                  <a:pt x="51" y="1437"/>
                </a:lnTo>
                <a:lnTo>
                  <a:pt x="36" y="1453"/>
                </a:lnTo>
                <a:lnTo>
                  <a:pt x="24" y="1470"/>
                </a:lnTo>
                <a:lnTo>
                  <a:pt x="7" y="1505"/>
                </a:lnTo>
                <a:lnTo>
                  <a:pt x="5" y="1544"/>
                </a:lnTo>
                <a:lnTo>
                  <a:pt x="5" y="1583"/>
                </a:lnTo>
                <a:lnTo>
                  <a:pt x="2" y="1612"/>
                </a:lnTo>
                <a:lnTo>
                  <a:pt x="0" y="1635"/>
                </a:lnTo>
                <a:lnTo>
                  <a:pt x="5" y="1660"/>
                </a:lnTo>
                <a:lnTo>
                  <a:pt x="19" y="1690"/>
                </a:lnTo>
                <a:lnTo>
                  <a:pt x="39" y="1712"/>
                </a:lnTo>
                <a:lnTo>
                  <a:pt x="51" y="1719"/>
                </a:lnTo>
                <a:lnTo>
                  <a:pt x="66" y="1719"/>
                </a:lnTo>
                <a:lnTo>
                  <a:pt x="81" y="1712"/>
                </a:lnTo>
                <a:lnTo>
                  <a:pt x="93" y="1703"/>
                </a:lnTo>
                <a:lnTo>
                  <a:pt x="105" y="1690"/>
                </a:lnTo>
                <a:lnTo>
                  <a:pt x="115" y="1677"/>
                </a:lnTo>
                <a:lnTo>
                  <a:pt x="120" y="1664"/>
                </a:lnTo>
                <a:lnTo>
                  <a:pt x="125" y="1651"/>
                </a:lnTo>
                <a:lnTo>
                  <a:pt x="127" y="1631"/>
                </a:lnTo>
                <a:lnTo>
                  <a:pt x="129" y="1612"/>
                </a:lnTo>
                <a:lnTo>
                  <a:pt x="139" y="1602"/>
                </a:lnTo>
                <a:lnTo>
                  <a:pt x="159" y="1599"/>
                </a:lnTo>
                <a:lnTo>
                  <a:pt x="181" y="1583"/>
                </a:lnTo>
                <a:lnTo>
                  <a:pt x="198" y="1537"/>
                </a:lnTo>
                <a:lnTo>
                  <a:pt x="210" y="1486"/>
                </a:lnTo>
                <a:lnTo>
                  <a:pt x="215" y="1440"/>
                </a:lnTo>
                <a:lnTo>
                  <a:pt x="247" y="1450"/>
                </a:lnTo>
                <a:lnTo>
                  <a:pt x="269" y="1411"/>
                </a:lnTo>
                <a:lnTo>
                  <a:pt x="281" y="1353"/>
                </a:lnTo>
                <a:lnTo>
                  <a:pt x="286" y="1314"/>
                </a:lnTo>
                <a:lnTo>
                  <a:pt x="291" y="1292"/>
                </a:lnTo>
                <a:lnTo>
                  <a:pt x="301" y="1272"/>
                </a:lnTo>
                <a:lnTo>
                  <a:pt x="315" y="1253"/>
                </a:lnTo>
                <a:lnTo>
                  <a:pt x="330" y="1243"/>
                </a:lnTo>
                <a:lnTo>
                  <a:pt x="345" y="1237"/>
                </a:lnTo>
                <a:lnTo>
                  <a:pt x="357" y="1224"/>
                </a:lnTo>
                <a:lnTo>
                  <a:pt x="364" y="1207"/>
                </a:lnTo>
                <a:lnTo>
                  <a:pt x="369" y="1191"/>
                </a:lnTo>
                <a:lnTo>
                  <a:pt x="372" y="1175"/>
                </a:lnTo>
                <a:lnTo>
                  <a:pt x="377" y="1162"/>
                </a:lnTo>
                <a:lnTo>
                  <a:pt x="384" y="1156"/>
                </a:lnTo>
                <a:lnTo>
                  <a:pt x="399" y="1152"/>
                </a:lnTo>
                <a:lnTo>
                  <a:pt x="418" y="1143"/>
                </a:lnTo>
                <a:lnTo>
                  <a:pt x="435" y="1117"/>
                </a:lnTo>
                <a:lnTo>
                  <a:pt x="450" y="1084"/>
                </a:lnTo>
                <a:lnTo>
                  <a:pt x="455" y="1065"/>
                </a:lnTo>
                <a:lnTo>
                  <a:pt x="455" y="1049"/>
                </a:lnTo>
                <a:lnTo>
                  <a:pt x="460" y="1036"/>
                </a:lnTo>
                <a:lnTo>
                  <a:pt x="470" y="1029"/>
                </a:lnTo>
                <a:lnTo>
                  <a:pt x="489" y="1026"/>
                </a:lnTo>
                <a:lnTo>
                  <a:pt x="509" y="1016"/>
                </a:lnTo>
                <a:lnTo>
                  <a:pt x="526" y="987"/>
                </a:lnTo>
                <a:lnTo>
                  <a:pt x="536" y="955"/>
                </a:lnTo>
                <a:lnTo>
                  <a:pt x="541" y="923"/>
                </a:lnTo>
                <a:lnTo>
                  <a:pt x="548" y="897"/>
                </a:lnTo>
                <a:lnTo>
                  <a:pt x="563" y="881"/>
                </a:lnTo>
                <a:lnTo>
                  <a:pt x="582" y="868"/>
                </a:lnTo>
                <a:lnTo>
                  <a:pt x="607" y="855"/>
                </a:lnTo>
                <a:lnTo>
                  <a:pt x="621" y="839"/>
                </a:lnTo>
                <a:lnTo>
                  <a:pt x="629" y="822"/>
                </a:lnTo>
                <a:lnTo>
                  <a:pt x="631" y="806"/>
                </a:lnTo>
                <a:lnTo>
                  <a:pt x="638" y="796"/>
                </a:lnTo>
                <a:lnTo>
                  <a:pt x="651" y="783"/>
                </a:lnTo>
                <a:lnTo>
                  <a:pt x="658" y="761"/>
                </a:lnTo>
                <a:lnTo>
                  <a:pt x="663" y="732"/>
                </a:lnTo>
                <a:lnTo>
                  <a:pt x="663" y="699"/>
                </a:lnTo>
                <a:lnTo>
                  <a:pt x="678" y="703"/>
                </a:lnTo>
                <a:lnTo>
                  <a:pt x="692" y="699"/>
                </a:lnTo>
                <a:lnTo>
                  <a:pt x="705" y="693"/>
                </a:lnTo>
                <a:lnTo>
                  <a:pt x="717" y="680"/>
                </a:lnTo>
                <a:lnTo>
                  <a:pt x="734" y="683"/>
                </a:lnTo>
                <a:lnTo>
                  <a:pt x="749" y="673"/>
                </a:lnTo>
                <a:lnTo>
                  <a:pt x="766" y="654"/>
                </a:lnTo>
                <a:lnTo>
                  <a:pt x="780" y="628"/>
                </a:lnTo>
                <a:lnTo>
                  <a:pt x="793" y="602"/>
                </a:lnTo>
                <a:lnTo>
                  <a:pt x="802" y="573"/>
                </a:lnTo>
                <a:lnTo>
                  <a:pt x="812" y="551"/>
                </a:lnTo>
                <a:lnTo>
                  <a:pt x="817" y="531"/>
                </a:lnTo>
                <a:lnTo>
                  <a:pt x="827" y="502"/>
                </a:lnTo>
                <a:lnTo>
                  <a:pt x="844" y="470"/>
                </a:lnTo>
                <a:lnTo>
                  <a:pt x="859" y="444"/>
                </a:lnTo>
                <a:lnTo>
                  <a:pt x="873" y="428"/>
                </a:lnTo>
                <a:lnTo>
                  <a:pt x="883" y="418"/>
                </a:lnTo>
                <a:lnTo>
                  <a:pt x="891" y="405"/>
                </a:lnTo>
                <a:lnTo>
                  <a:pt x="895" y="389"/>
                </a:lnTo>
                <a:lnTo>
                  <a:pt x="898" y="369"/>
                </a:lnTo>
                <a:lnTo>
                  <a:pt x="903" y="350"/>
                </a:lnTo>
                <a:lnTo>
                  <a:pt x="913" y="334"/>
                </a:lnTo>
                <a:lnTo>
                  <a:pt x="932" y="318"/>
                </a:lnTo>
                <a:lnTo>
                  <a:pt x="966" y="305"/>
                </a:lnTo>
                <a:lnTo>
                  <a:pt x="984" y="295"/>
                </a:lnTo>
                <a:lnTo>
                  <a:pt x="1001" y="279"/>
                </a:lnTo>
                <a:lnTo>
                  <a:pt x="1013" y="259"/>
                </a:lnTo>
                <a:lnTo>
                  <a:pt x="1025" y="233"/>
                </a:lnTo>
                <a:lnTo>
                  <a:pt x="1035" y="207"/>
                </a:lnTo>
                <a:lnTo>
                  <a:pt x="1040" y="182"/>
                </a:lnTo>
                <a:lnTo>
                  <a:pt x="1045" y="156"/>
                </a:lnTo>
                <a:lnTo>
                  <a:pt x="1047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258"/>
          <p:cNvSpPr/>
          <p:nvPr/>
        </p:nvSpPr>
        <p:spPr>
          <a:xfrm>
            <a:off x="939960" y="4489560"/>
            <a:ext cx="177480" cy="287280"/>
          </a:xfrm>
          <a:custGeom>
            <a:avLst/>
            <a:gdLst>
              <a:gd name="textAreaLeft" fmla="*/ 0 w 177480"/>
              <a:gd name="textAreaRight" fmla="*/ 177840 w 177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12" h="181">
                <a:moveTo>
                  <a:pt x="32" y="3"/>
                </a:moveTo>
                <a:lnTo>
                  <a:pt x="14" y="20"/>
                </a:lnTo>
                <a:lnTo>
                  <a:pt x="5" y="49"/>
                </a:lnTo>
                <a:lnTo>
                  <a:pt x="0" y="84"/>
                </a:lnTo>
                <a:lnTo>
                  <a:pt x="5" y="117"/>
                </a:lnTo>
                <a:lnTo>
                  <a:pt x="9" y="130"/>
                </a:lnTo>
                <a:lnTo>
                  <a:pt x="14" y="146"/>
                </a:lnTo>
                <a:lnTo>
                  <a:pt x="24" y="156"/>
                </a:lnTo>
                <a:lnTo>
                  <a:pt x="32" y="168"/>
                </a:lnTo>
                <a:lnTo>
                  <a:pt x="41" y="175"/>
                </a:lnTo>
                <a:lnTo>
                  <a:pt x="54" y="181"/>
                </a:lnTo>
                <a:lnTo>
                  <a:pt x="66" y="181"/>
                </a:lnTo>
                <a:lnTo>
                  <a:pt x="78" y="181"/>
                </a:lnTo>
                <a:lnTo>
                  <a:pt x="98" y="165"/>
                </a:lnTo>
                <a:lnTo>
                  <a:pt x="110" y="136"/>
                </a:lnTo>
                <a:lnTo>
                  <a:pt x="112" y="104"/>
                </a:lnTo>
                <a:lnTo>
                  <a:pt x="105" y="75"/>
                </a:lnTo>
                <a:lnTo>
                  <a:pt x="100" y="62"/>
                </a:lnTo>
                <a:lnTo>
                  <a:pt x="95" y="49"/>
                </a:lnTo>
                <a:lnTo>
                  <a:pt x="88" y="36"/>
                </a:lnTo>
                <a:lnTo>
                  <a:pt x="80" y="23"/>
                </a:lnTo>
                <a:lnTo>
                  <a:pt x="71" y="13"/>
                </a:lnTo>
                <a:lnTo>
                  <a:pt x="58" y="3"/>
                </a:lnTo>
                <a:lnTo>
                  <a:pt x="46" y="0"/>
                </a:lnTo>
                <a:lnTo>
                  <a:pt x="32" y="3"/>
                </a:lnTo>
                <a:close/>
              </a:path>
            </a:pathLst>
          </a:custGeom>
          <a:solidFill>
            <a:srgbClr val="7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259"/>
          <p:cNvSpPr/>
          <p:nvPr/>
        </p:nvSpPr>
        <p:spPr>
          <a:xfrm>
            <a:off x="1087560" y="3524400"/>
            <a:ext cx="569880" cy="1730160"/>
          </a:xfrm>
          <a:custGeom>
            <a:avLst/>
            <a:gdLst>
              <a:gd name="textAreaLeft" fmla="*/ 0 w 569880"/>
              <a:gd name="textAreaRight" fmla="*/ 570240 w 569880"/>
              <a:gd name="textAreaTop" fmla="*/ 0 h 1730160"/>
              <a:gd name="textAreaBottom" fmla="*/ 1730520 h 1730160"/>
            </a:gdLst>
            <a:ahLst/>
            <a:rect l="textAreaLeft" t="textAreaTop" r="textAreaRight" b="textAreaBottom"/>
            <a:pathLst>
              <a:path w="359" h="1090">
                <a:moveTo>
                  <a:pt x="359" y="734"/>
                </a:moveTo>
                <a:lnTo>
                  <a:pt x="352" y="747"/>
                </a:lnTo>
                <a:lnTo>
                  <a:pt x="330" y="783"/>
                </a:lnTo>
                <a:lnTo>
                  <a:pt x="301" y="835"/>
                </a:lnTo>
                <a:lnTo>
                  <a:pt x="264" y="896"/>
                </a:lnTo>
                <a:lnTo>
                  <a:pt x="227" y="958"/>
                </a:lnTo>
                <a:lnTo>
                  <a:pt x="195" y="1016"/>
                </a:lnTo>
                <a:lnTo>
                  <a:pt x="169" y="1064"/>
                </a:lnTo>
                <a:lnTo>
                  <a:pt x="154" y="1090"/>
                </a:lnTo>
                <a:lnTo>
                  <a:pt x="137" y="1032"/>
                </a:lnTo>
                <a:lnTo>
                  <a:pt x="117" y="958"/>
                </a:lnTo>
                <a:lnTo>
                  <a:pt x="93" y="870"/>
                </a:lnTo>
                <a:lnTo>
                  <a:pt x="68" y="773"/>
                </a:lnTo>
                <a:lnTo>
                  <a:pt x="44" y="676"/>
                </a:lnTo>
                <a:lnTo>
                  <a:pt x="24" y="579"/>
                </a:lnTo>
                <a:lnTo>
                  <a:pt x="7" y="488"/>
                </a:lnTo>
                <a:lnTo>
                  <a:pt x="0" y="408"/>
                </a:lnTo>
                <a:lnTo>
                  <a:pt x="0" y="336"/>
                </a:lnTo>
                <a:lnTo>
                  <a:pt x="2" y="265"/>
                </a:lnTo>
                <a:lnTo>
                  <a:pt x="9" y="197"/>
                </a:lnTo>
                <a:lnTo>
                  <a:pt x="19" y="136"/>
                </a:lnTo>
                <a:lnTo>
                  <a:pt x="36" y="84"/>
                </a:lnTo>
                <a:lnTo>
                  <a:pt x="58" y="42"/>
                </a:lnTo>
                <a:lnTo>
                  <a:pt x="85" y="13"/>
                </a:lnTo>
                <a:lnTo>
                  <a:pt x="117" y="0"/>
                </a:lnTo>
                <a:lnTo>
                  <a:pt x="151" y="0"/>
                </a:lnTo>
                <a:lnTo>
                  <a:pt x="181" y="10"/>
                </a:lnTo>
                <a:lnTo>
                  <a:pt x="208" y="29"/>
                </a:lnTo>
                <a:lnTo>
                  <a:pt x="232" y="55"/>
                </a:lnTo>
                <a:lnTo>
                  <a:pt x="252" y="87"/>
                </a:lnTo>
                <a:lnTo>
                  <a:pt x="264" y="120"/>
                </a:lnTo>
                <a:lnTo>
                  <a:pt x="274" y="158"/>
                </a:lnTo>
                <a:lnTo>
                  <a:pt x="279" y="194"/>
                </a:lnTo>
                <a:lnTo>
                  <a:pt x="284" y="243"/>
                </a:lnTo>
                <a:lnTo>
                  <a:pt x="293" y="314"/>
                </a:lnTo>
                <a:lnTo>
                  <a:pt x="308" y="401"/>
                </a:lnTo>
                <a:lnTo>
                  <a:pt x="323" y="488"/>
                </a:lnTo>
                <a:lnTo>
                  <a:pt x="335" y="576"/>
                </a:lnTo>
                <a:lnTo>
                  <a:pt x="347" y="650"/>
                </a:lnTo>
                <a:lnTo>
                  <a:pt x="357" y="705"/>
                </a:lnTo>
                <a:lnTo>
                  <a:pt x="359" y="734"/>
                </a:lnTo>
                <a:close/>
              </a:path>
            </a:pathLst>
          </a:custGeom>
          <a:solidFill>
            <a:srgbClr val="f2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260"/>
          <p:cNvSpPr/>
          <p:nvPr/>
        </p:nvSpPr>
        <p:spPr>
          <a:xfrm>
            <a:off x="1004760" y="3524400"/>
            <a:ext cx="327240" cy="1730160"/>
          </a:xfrm>
          <a:custGeom>
            <a:avLst/>
            <a:gdLst>
              <a:gd name="textAreaLeft" fmla="*/ 0 w 327240"/>
              <a:gd name="textAreaRight" fmla="*/ 327600 w 327240"/>
              <a:gd name="textAreaTop" fmla="*/ 0 h 1730160"/>
              <a:gd name="textAreaBottom" fmla="*/ 1730520 h 1730160"/>
            </a:gdLst>
            <a:ahLst/>
            <a:rect l="textAreaLeft" t="textAreaTop" r="textAreaRight" b="textAreaBottom"/>
            <a:pathLst>
              <a:path w="206" h="1090">
                <a:moveTo>
                  <a:pt x="142" y="1084"/>
                </a:moveTo>
                <a:lnTo>
                  <a:pt x="128" y="1026"/>
                </a:lnTo>
                <a:lnTo>
                  <a:pt x="106" y="954"/>
                </a:lnTo>
                <a:lnTo>
                  <a:pt x="84" y="870"/>
                </a:lnTo>
                <a:lnTo>
                  <a:pt x="61" y="776"/>
                </a:lnTo>
                <a:lnTo>
                  <a:pt x="39" y="679"/>
                </a:lnTo>
                <a:lnTo>
                  <a:pt x="20" y="586"/>
                </a:lnTo>
                <a:lnTo>
                  <a:pt x="8" y="495"/>
                </a:lnTo>
                <a:lnTo>
                  <a:pt x="0" y="417"/>
                </a:lnTo>
                <a:lnTo>
                  <a:pt x="0" y="346"/>
                </a:lnTo>
                <a:lnTo>
                  <a:pt x="3" y="275"/>
                </a:lnTo>
                <a:lnTo>
                  <a:pt x="8" y="207"/>
                </a:lnTo>
                <a:lnTo>
                  <a:pt x="20" y="145"/>
                </a:lnTo>
                <a:lnTo>
                  <a:pt x="35" y="94"/>
                </a:lnTo>
                <a:lnTo>
                  <a:pt x="57" y="52"/>
                </a:lnTo>
                <a:lnTo>
                  <a:pt x="84" y="23"/>
                </a:lnTo>
                <a:lnTo>
                  <a:pt x="115" y="10"/>
                </a:lnTo>
                <a:lnTo>
                  <a:pt x="169" y="0"/>
                </a:lnTo>
                <a:lnTo>
                  <a:pt x="137" y="13"/>
                </a:lnTo>
                <a:lnTo>
                  <a:pt x="110" y="42"/>
                </a:lnTo>
                <a:lnTo>
                  <a:pt x="88" y="84"/>
                </a:lnTo>
                <a:lnTo>
                  <a:pt x="71" y="136"/>
                </a:lnTo>
                <a:lnTo>
                  <a:pt x="61" y="197"/>
                </a:lnTo>
                <a:lnTo>
                  <a:pt x="54" y="265"/>
                </a:lnTo>
                <a:lnTo>
                  <a:pt x="52" y="336"/>
                </a:lnTo>
                <a:lnTo>
                  <a:pt x="52" y="408"/>
                </a:lnTo>
                <a:lnTo>
                  <a:pt x="59" y="488"/>
                </a:lnTo>
                <a:lnTo>
                  <a:pt x="76" y="579"/>
                </a:lnTo>
                <a:lnTo>
                  <a:pt x="96" y="676"/>
                </a:lnTo>
                <a:lnTo>
                  <a:pt x="120" y="773"/>
                </a:lnTo>
                <a:lnTo>
                  <a:pt x="145" y="870"/>
                </a:lnTo>
                <a:lnTo>
                  <a:pt x="169" y="958"/>
                </a:lnTo>
                <a:lnTo>
                  <a:pt x="189" y="1032"/>
                </a:lnTo>
                <a:lnTo>
                  <a:pt x="206" y="1090"/>
                </a:lnTo>
                <a:lnTo>
                  <a:pt x="142" y="108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261"/>
          <p:cNvSpPr/>
          <p:nvPr/>
        </p:nvSpPr>
        <p:spPr>
          <a:xfrm>
            <a:off x="1082520" y="4567320"/>
            <a:ext cx="51120" cy="108000"/>
          </a:xfrm>
          <a:custGeom>
            <a:avLst/>
            <a:gdLst>
              <a:gd name="textAreaLeft" fmla="*/ 0 w 51120"/>
              <a:gd name="textAreaRight" fmla="*/ 51480 w 511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2" h="68">
                <a:moveTo>
                  <a:pt x="20" y="0"/>
                </a:moveTo>
                <a:lnTo>
                  <a:pt x="0" y="6"/>
                </a:lnTo>
                <a:lnTo>
                  <a:pt x="15" y="61"/>
                </a:lnTo>
                <a:lnTo>
                  <a:pt x="32" y="68"/>
                </a:lnTo>
                <a:lnTo>
                  <a:pt x="20" y="0"/>
                </a:lnTo>
                <a:close/>
              </a:path>
            </a:pathLst>
          </a:custGeom>
          <a:solidFill>
            <a:srgbClr val="8eb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262"/>
          <p:cNvSpPr/>
          <p:nvPr/>
        </p:nvSpPr>
        <p:spPr>
          <a:xfrm>
            <a:off x="1184400" y="4500720"/>
            <a:ext cx="77760" cy="133200"/>
          </a:xfrm>
          <a:custGeom>
            <a:avLst/>
            <a:gdLst>
              <a:gd name="textAreaLeft" fmla="*/ 0 w 77760"/>
              <a:gd name="textAreaRight" fmla="*/ 78120 w 777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49" h="84">
                <a:moveTo>
                  <a:pt x="15" y="0"/>
                </a:moveTo>
                <a:lnTo>
                  <a:pt x="5" y="9"/>
                </a:lnTo>
                <a:lnTo>
                  <a:pt x="0" y="22"/>
                </a:lnTo>
                <a:lnTo>
                  <a:pt x="0" y="42"/>
                </a:lnTo>
                <a:lnTo>
                  <a:pt x="0" y="55"/>
                </a:lnTo>
                <a:lnTo>
                  <a:pt x="5" y="68"/>
                </a:lnTo>
                <a:lnTo>
                  <a:pt x="12" y="77"/>
                </a:lnTo>
                <a:lnTo>
                  <a:pt x="22" y="84"/>
                </a:lnTo>
                <a:lnTo>
                  <a:pt x="34" y="81"/>
                </a:lnTo>
                <a:lnTo>
                  <a:pt x="44" y="68"/>
                </a:lnTo>
                <a:lnTo>
                  <a:pt x="49" y="51"/>
                </a:lnTo>
                <a:lnTo>
                  <a:pt x="49" y="35"/>
                </a:lnTo>
                <a:lnTo>
                  <a:pt x="46" y="26"/>
                </a:lnTo>
                <a:lnTo>
                  <a:pt x="41" y="16"/>
                </a:lnTo>
                <a:lnTo>
                  <a:pt x="34" y="6"/>
                </a:lnTo>
                <a:lnTo>
                  <a:pt x="27" y="0"/>
                </a:lnTo>
                <a:lnTo>
                  <a:pt x="15" y="0"/>
                </a:lnTo>
                <a:close/>
              </a:path>
            </a:pathLst>
          </a:custGeom>
          <a:solidFill>
            <a:srgbClr val="8eb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263"/>
          <p:cNvSpPr/>
          <p:nvPr/>
        </p:nvSpPr>
        <p:spPr>
          <a:xfrm>
            <a:off x="1211400" y="4392720"/>
            <a:ext cx="171360" cy="276120"/>
          </a:xfrm>
          <a:custGeom>
            <a:avLst/>
            <a:gdLst>
              <a:gd name="textAreaLeft" fmla="*/ 0 w 171360"/>
              <a:gd name="textAreaRight" fmla="*/ 171720 w 1713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08" h="174">
                <a:moveTo>
                  <a:pt x="34" y="0"/>
                </a:moveTo>
                <a:lnTo>
                  <a:pt x="15" y="19"/>
                </a:lnTo>
                <a:lnTo>
                  <a:pt x="5" y="52"/>
                </a:lnTo>
                <a:lnTo>
                  <a:pt x="0" y="87"/>
                </a:lnTo>
                <a:lnTo>
                  <a:pt x="2" y="116"/>
                </a:lnTo>
                <a:lnTo>
                  <a:pt x="7" y="129"/>
                </a:lnTo>
                <a:lnTo>
                  <a:pt x="12" y="142"/>
                </a:lnTo>
                <a:lnTo>
                  <a:pt x="20" y="155"/>
                </a:lnTo>
                <a:lnTo>
                  <a:pt x="29" y="165"/>
                </a:lnTo>
                <a:lnTo>
                  <a:pt x="39" y="171"/>
                </a:lnTo>
                <a:lnTo>
                  <a:pt x="51" y="174"/>
                </a:lnTo>
                <a:lnTo>
                  <a:pt x="64" y="174"/>
                </a:lnTo>
                <a:lnTo>
                  <a:pt x="78" y="171"/>
                </a:lnTo>
                <a:lnTo>
                  <a:pt x="100" y="145"/>
                </a:lnTo>
                <a:lnTo>
                  <a:pt x="108" y="113"/>
                </a:lnTo>
                <a:lnTo>
                  <a:pt x="108" y="77"/>
                </a:lnTo>
                <a:lnTo>
                  <a:pt x="100" y="52"/>
                </a:lnTo>
                <a:lnTo>
                  <a:pt x="93" y="32"/>
                </a:lnTo>
                <a:lnTo>
                  <a:pt x="78" y="13"/>
                </a:lnTo>
                <a:lnTo>
                  <a:pt x="59" y="0"/>
                </a:lnTo>
                <a:lnTo>
                  <a:pt x="34" y="0"/>
                </a:lnTo>
                <a:close/>
              </a:path>
            </a:pathLst>
          </a:custGeom>
          <a:solidFill>
            <a:srgbClr val="7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264"/>
          <p:cNvSpPr/>
          <p:nvPr/>
        </p:nvSpPr>
        <p:spPr>
          <a:xfrm>
            <a:off x="1211400" y="3781440"/>
            <a:ext cx="201600" cy="390600"/>
          </a:xfrm>
          <a:custGeom>
            <a:avLst/>
            <a:gdLst>
              <a:gd name="textAreaLeft" fmla="*/ 0 w 201600"/>
              <a:gd name="textAreaRight" fmla="*/ 201960 w 201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27" h="246">
                <a:moveTo>
                  <a:pt x="24" y="246"/>
                </a:moveTo>
                <a:lnTo>
                  <a:pt x="127" y="145"/>
                </a:lnTo>
                <a:lnTo>
                  <a:pt x="122" y="113"/>
                </a:lnTo>
                <a:lnTo>
                  <a:pt x="117" y="84"/>
                </a:lnTo>
                <a:lnTo>
                  <a:pt x="110" y="58"/>
                </a:lnTo>
                <a:lnTo>
                  <a:pt x="100" y="32"/>
                </a:lnTo>
                <a:lnTo>
                  <a:pt x="88" y="16"/>
                </a:lnTo>
                <a:lnTo>
                  <a:pt x="73" y="3"/>
                </a:lnTo>
                <a:lnTo>
                  <a:pt x="54" y="0"/>
                </a:lnTo>
                <a:lnTo>
                  <a:pt x="34" y="3"/>
                </a:lnTo>
                <a:lnTo>
                  <a:pt x="5" y="45"/>
                </a:lnTo>
                <a:lnTo>
                  <a:pt x="0" y="110"/>
                </a:lnTo>
                <a:lnTo>
                  <a:pt x="7" y="184"/>
                </a:lnTo>
                <a:lnTo>
                  <a:pt x="24" y="246"/>
                </a:lnTo>
                <a:close/>
              </a:path>
            </a:pathLst>
          </a:custGeom>
          <a:solidFill>
            <a:srgbClr val="b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265"/>
          <p:cNvSpPr/>
          <p:nvPr/>
        </p:nvSpPr>
        <p:spPr>
          <a:xfrm>
            <a:off x="1238400" y="3832200"/>
            <a:ext cx="139680" cy="277920"/>
          </a:xfrm>
          <a:custGeom>
            <a:avLst/>
            <a:gdLst>
              <a:gd name="textAreaLeft" fmla="*/ 0 w 139680"/>
              <a:gd name="textAreaRight" fmla="*/ 140040 w 139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8" h="175">
                <a:moveTo>
                  <a:pt x="15" y="175"/>
                </a:moveTo>
                <a:lnTo>
                  <a:pt x="88" y="104"/>
                </a:lnTo>
                <a:lnTo>
                  <a:pt x="81" y="55"/>
                </a:lnTo>
                <a:lnTo>
                  <a:pt x="71" y="19"/>
                </a:lnTo>
                <a:lnTo>
                  <a:pt x="52" y="0"/>
                </a:lnTo>
                <a:lnTo>
                  <a:pt x="25" y="6"/>
                </a:lnTo>
                <a:lnTo>
                  <a:pt x="7" y="29"/>
                </a:lnTo>
                <a:lnTo>
                  <a:pt x="0" y="65"/>
                </a:lnTo>
                <a:lnTo>
                  <a:pt x="3" y="113"/>
                </a:lnTo>
                <a:lnTo>
                  <a:pt x="15" y="175"/>
                </a:lnTo>
                <a:close/>
              </a:path>
            </a:pathLst>
          </a:custGeom>
          <a:solidFill>
            <a:srgbClr val="7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266"/>
          <p:cNvSpPr/>
          <p:nvPr/>
        </p:nvSpPr>
        <p:spPr>
          <a:xfrm>
            <a:off x="6843600" y="1890720"/>
            <a:ext cx="1860840" cy="3487680"/>
          </a:xfrm>
          <a:custGeom>
            <a:avLst/>
            <a:gdLst>
              <a:gd name="textAreaLeft" fmla="*/ 0 w 1860840"/>
              <a:gd name="textAreaRight" fmla="*/ 1861200 w 1860840"/>
              <a:gd name="textAreaTop" fmla="*/ 0 h 3487680"/>
              <a:gd name="textAreaBottom" fmla="*/ 3488040 h 3487680"/>
            </a:gdLst>
            <a:ahLst/>
            <a:rect l="textAreaLeft" t="textAreaTop" r="textAreaRight" b="textAreaBottom"/>
            <a:pathLst>
              <a:path w="1172" h="2197">
                <a:moveTo>
                  <a:pt x="419" y="0"/>
                </a:moveTo>
                <a:lnTo>
                  <a:pt x="416" y="35"/>
                </a:lnTo>
                <a:lnTo>
                  <a:pt x="404" y="107"/>
                </a:lnTo>
                <a:lnTo>
                  <a:pt x="385" y="197"/>
                </a:lnTo>
                <a:lnTo>
                  <a:pt x="358" y="298"/>
                </a:lnTo>
                <a:lnTo>
                  <a:pt x="331" y="401"/>
                </a:lnTo>
                <a:lnTo>
                  <a:pt x="304" y="492"/>
                </a:lnTo>
                <a:lnTo>
                  <a:pt x="282" y="560"/>
                </a:lnTo>
                <a:lnTo>
                  <a:pt x="265" y="598"/>
                </a:lnTo>
                <a:lnTo>
                  <a:pt x="287" y="595"/>
                </a:lnTo>
                <a:lnTo>
                  <a:pt x="304" y="586"/>
                </a:lnTo>
                <a:lnTo>
                  <a:pt x="316" y="576"/>
                </a:lnTo>
                <a:lnTo>
                  <a:pt x="318" y="573"/>
                </a:lnTo>
                <a:lnTo>
                  <a:pt x="309" y="628"/>
                </a:lnTo>
                <a:lnTo>
                  <a:pt x="294" y="692"/>
                </a:lnTo>
                <a:lnTo>
                  <a:pt x="277" y="764"/>
                </a:lnTo>
                <a:lnTo>
                  <a:pt x="255" y="835"/>
                </a:lnTo>
                <a:lnTo>
                  <a:pt x="233" y="906"/>
                </a:lnTo>
                <a:lnTo>
                  <a:pt x="211" y="967"/>
                </a:lnTo>
                <a:lnTo>
                  <a:pt x="189" y="1022"/>
                </a:lnTo>
                <a:lnTo>
                  <a:pt x="169" y="1064"/>
                </a:lnTo>
                <a:lnTo>
                  <a:pt x="191" y="1071"/>
                </a:lnTo>
                <a:lnTo>
                  <a:pt x="208" y="1071"/>
                </a:lnTo>
                <a:lnTo>
                  <a:pt x="225" y="1064"/>
                </a:lnTo>
                <a:lnTo>
                  <a:pt x="238" y="1055"/>
                </a:lnTo>
                <a:lnTo>
                  <a:pt x="247" y="1045"/>
                </a:lnTo>
                <a:lnTo>
                  <a:pt x="255" y="1032"/>
                </a:lnTo>
                <a:lnTo>
                  <a:pt x="257" y="1026"/>
                </a:lnTo>
                <a:lnTo>
                  <a:pt x="260" y="1022"/>
                </a:lnTo>
                <a:lnTo>
                  <a:pt x="245" y="1084"/>
                </a:lnTo>
                <a:lnTo>
                  <a:pt x="228" y="1155"/>
                </a:lnTo>
                <a:lnTo>
                  <a:pt x="206" y="1229"/>
                </a:lnTo>
                <a:lnTo>
                  <a:pt x="184" y="1304"/>
                </a:lnTo>
                <a:lnTo>
                  <a:pt x="162" y="1375"/>
                </a:lnTo>
                <a:lnTo>
                  <a:pt x="140" y="1437"/>
                </a:lnTo>
                <a:lnTo>
                  <a:pt x="120" y="1485"/>
                </a:lnTo>
                <a:lnTo>
                  <a:pt x="106" y="1517"/>
                </a:lnTo>
                <a:lnTo>
                  <a:pt x="130" y="1524"/>
                </a:lnTo>
                <a:lnTo>
                  <a:pt x="147" y="1521"/>
                </a:lnTo>
                <a:lnTo>
                  <a:pt x="162" y="1517"/>
                </a:lnTo>
                <a:lnTo>
                  <a:pt x="174" y="1508"/>
                </a:lnTo>
                <a:lnTo>
                  <a:pt x="181" y="1498"/>
                </a:lnTo>
                <a:lnTo>
                  <a:pt x="186" y="1488"/>
                </a:lnTo>
                <a:lnTo>
                  <a:pt x="189" y="1482"/>
                </a:lnTo>
                <a:lnTo>
                  <a:pt x="189" y="1479"/>
                </a:lnTo>
                <a:lnTo>
                  <a:pt x="174" y="1540"/>
                </a:lnTo>
                <a:lnTo>
                  <a:pt x="152" y="1611"/>
                </a:lnTo>
                <a:lnTo>
                  <a:pt x="128" y="1686"/>
                </a:lnTo>
                <a:lnTo>
                  <a:pt x="98" y="1763"/>
                </a:lnTo>
                <a:lnTo>
                  <a:pt x="71" y="1835"/>
                </a:lnTo>
                <a:lnTo>
                  <a:pt x="44" y="1899"/>
                </a:lnTo>
                <a:lnTo>
                  <a:pt x="20" y="1948"/>
                </a:lnTo>
                <a:lnTo>
                  <a:pt x="0" y="1977"/>
                </a:lnTo>
                <a:lnTo>
                  <a:pt x="15" y="1974"/>
                </a:lnTo>
                <a:lnTo>
                  <a:pt x="32" y="1967"/>
                </a:lnTo>
                <a:lnTo>
                  <a:pt x="47" y="1961"/>
                </a:lnTo>
                <a:lnTo>
                  <a:pt x="61" y="1954"/>
                </a:lnTo>
                <a:lnTo>
                  <a:pt x="74" y="1948"/>
                </a:lnTo>
                <a:lnTo>
                  <a:pt x="84" y="1945"/>
                </a:lnTo>
                <a:lnTo>
                  <a:pt x="88" y="1938"/>
                </a:lnTo>
                <a:lnTo>
                  <a:pt x="91" y="1938"/>
                </a:lnTo>
                <a:lnTo>
                  <a:pt x="79" y="2032"/>
                </a:lnTo>
                <a:lnTo>
                  <a:pt x="64" y="2090"/>
                </a:lnTo>
                <a:lnTo>
                  <a:pt x="47" y="2126"/>
                </a:lnTo>
                <a:lnTo>
                  <a:pt x="32" y="2155"/>
                </a:lnTo>
                <a:lnTo>
                  <a:pt x="49" y="2165"/>
                </a:lnTo>
                <a:lnTo>
                  <a:pt x="69" y="2171"/>
                </a:lnTo>
                <a:lnTo>
                  <a:pt x="91" y="2178"/>
                </a:lnTo>
                <a:lnTo>
                  <a:pt x="115" y="2184"/>
                </a:lnTo>
                <a:lnTo>
                  <a:pt x="140" y="2187"/>
                </a:lnTo>
                <a:lnTo>
                  <a:pt x="169" y="2191"/>
                </a:lnTo>
                <a:lnTo>
                  <a:pt x="199" y="2194"/>
                </a:lnTo>
                <a:lnTo>
                  <a:pt x="228" y="2197"/>
                </a:lnTo>
                <a:lnTo>
                  <a:pt x="260" y="2197"/>
                </a:lnTo>
                <a:lnTo>
                  <a:pt x="294" y="2197"/>
                </a:lnTo>
                <a:lnTo>
                  <a:pt x="328" y="2197"/>
                </a:lnTo>
                <a:lnTo>
                  <a:pt x="365" y="2194"/>
                </a:lnTo>
                <a:lnTo>
                  <a:pt x="404" y="2191"/>
                </a:lnTo>
                <a:lnTo>
                  <a:pt x="441" y="2187"/>
                </a:lnTo>
                <a:lnTo>
                  <a:pt x="480" y="2181"/>
                </a:lnTo>
                <a:lnTo>
                  <a:pt x="522" y="2174"/>
                </a:lnTo>
                <a:lnTo>
                  <a:pt x="563" y="2165"/>
                </a:lnTo>
                <a:lnTo>
                  <a:pt x="607" y="2155"/>
                </a:lnTo>
                <a:lnTo>
                  <a:pt x="654" y="2142"/>
                </a:lnTo>
                <a:lnTo>
                  <a:pt x="703" y="2126"/>
                </a:lnTo>
                <a:lnTo>
                  <a:pt x="752" y="2113"/>
                </a:lnTo>
                <a:lnTo>
                  <a:pt x="801" y="2097"/>
                </a:lnTo>
                <a:lnTo>
                  <a:pt x="847" y="2081"/>
                </a:lnTo>
                <a:lnTo>
                  <a:pt x="896" y="2064"/>
                </a:lnTo>
                <a:lnTo>
                  <a:pt x="940" y="2048"/>
                </a:lnTo>
                <a:lnTo>
                  <a:pt x="984" y="2035"/>
                </a:lnTo>
                <a:lnTo>
                  <a:pt x="1026" y="2022"/>
                </a:lnTo>
                <a:lnTo>
                  <a:pt x="1062" y="2009"/>
                </a:lnTo>
                <a:lnTo>
                  <a:pt x="1097" y="2003"/>
                </a:lnTo>
                <a:lnTo>
                  <a:pt x="1128" y="1996"/>
                </a:lnTo>
                <a:lnTo>
                  <a:pt x="1153" y="1993"/>
                </a:lnTo>
                <a:lnTo>
                  <a:pt x="1172" y="1996"/>
                </a:lnTo>
                <a:lnTo>
                  <a:pt x="1168" y="1990"/>
                </a:lnTo>
                <a:lnTo>
                  <a:pt x="1153" y="1971"/>
                </a:lnTo>
                <a:lnTo>
                  <a:pt x="1133" y="1941"/>
                </a:lnTo>
                <a:lnTo>
                  <a:pt x="1109" y="1906"/>
                </a:lnTo>
                <a:lnTo>
                  <a:pt x="1084" y="1864"/>
                </a:lnTo>
                <a:lnTo>
                  <a:pt x="1060" y="1822"/>
                </a:lnTo>
                <a:lnTo>
                  <a:pt x="1038" y="1783"/>
                </a:lnTo>
                <a:lnTo>
                  <a:pt x="1023" y="1747"/>
                </a:lnTo>
                <a:lnTo>
                  <a:pt x="1038" y="1754"/>
                </a:lnTo>
                <a:lnTo>
                  <a:pt x="1053" y="1760"/>
                </a:lnTo>
                <a:lnTo>
                  <a:pt x="1065" y="1763"/>
                </a:lnTo>
                <a:lnTo>
                  <a:pt x="1077" y="1763"/>
                </a:lnTo>
                <a:lnTo>
                  <a:pt x="1087" y="1763"/>
                </a:lnTo>
                <a:lnTo>
                  <a:pt x="1094" y="1760"/>
                </a:lnTo>
                <a:lnTo>
                  <a:pt x="1099" y="1760"/>
                </a:lnTo>
                <a:lnTo>
                  <a:pt x="1102" y="1760"/>
                </a:lnTo>
                <a:lnTo>
                  <a:pt x="1070" y="1725"/>
                </a:lnTo>
                <a:lnTo>
                  <a:pt x="1038" y="1676"/>
                </a:lnTo>
                <a:lnTo>
                  <a:pt x="1006" y="1624"/>
                </a:lnTo>
                <a:lnTo>
                  <a:pt x="974" y="1569"/>
                </a:lnTo>
                <a:lnTo>
                  <a:pt x="945" y="1514"/>
                </a:lnTo>
                <a:lnTo>
                  <a:pt x="918" y="1462"/>
                </a:lnTo>
                <a:lnTo>
                  <a:pt x="896" y="1414"/>
                </a:lnTo>
                <a:lnTo>
                  <a:pt x="879" y="1375"/>
                </a:lnTo>
                <a:lnTo>
                  <a:pt x="901" y="1378"/>
                </a:lnTo>
                <a:lnTo>
                  <a:pt x="918" y="1378"/>
                </a:lnTo>
                <a:lnTo>
                  <a:pt x="928" y="1375"/>
                </a:lnTo>
                <a:lnTo>
                  <a:pt x="933" y="1375"/>
                </a:lnTo>
                <a:lnTo>
                  <a:pt x="903" y="1336"/>
                </a:lnTo>
                <a:lnTo>
                  <a:pt x="874" y="1288"/>
                </a:lnTo>
                <a:lnTo>
                  <a:pt x="847" y="1229"/>
                </a:lnTo>
                <a:lnTo>
                  <a:pt x="823" y="1168"/>
                </a:lnTo>
                <a:lnTo>
                  <a:pt x="801" y="1107"/>
                </a:lnTo>
                <a:lnTo>
                  <a:pt x="783" y="1052"/>
                </a:lnTo>
                <a:lnTo>
                  <a:pt x="771" y="1006"/>
                </a:lnTo>
                <a:lnTo>
                  <a:pt x="764" y="977"/>
                </a:lnTo>
                <a:lnTo>
                  <a:pt x="776" y="987"/>
                </a:lnTo>
                <a:lnTo>
                  <a:pt x="791" y="993"/>
                </a:lnTo>
                <a:lnTo>
                  <a:pt x="805" y="1000"/>
                </a:lnTo>
                <a:lnTo>
                  <a:pt x="820" y="1003"/>
                </a:lnTo>
                <a:lnTo>
                  <a:pt x="835" y="1003"/>
                </a:lnTo>
                <a:lnTo>
                  <a:pt x="845" y="1003"/>
                </a:lnTo>
                <a:lnTo>
                  <a:pt x="852" y="1003"/>
                </a:lnTo>
                <a:lnTo>
                  <a:pt x="854" y="1003"/>
                </a:lnTo>
                <a:lnTo>
                  <a:pt x="830" y="967"/>
                </a:lnTo>
                <a:lnTo>
                  <a:pt x="798" y="912"/>
                </a:lnTo>
                <a:lnTo>
                  <a:pt x="764" y="848"/>
                </a:lnTo>
                <a:lnTo>
                  <a:pt x="730" y="776"/>
                </a:lnTo>
                <a:lnTo>
                  <a:pt x="695" y="705"/>
                </a:lnTo>
                <a:lnTo>
                  <a:pt x="666" y="641"/>
                </a:lnTo>
                <a:lnTo>
                  <a:pt x="641" y="586"/>
                </a:lnTo>
                <a:lnTo>
                  <a:pt x="627" y="550"/>
                </a:lnTo>
                <a:lnTo>
                  <a:pt x="644" y="560"/>
                </a:lnTo>
                <a:lnTo>
                  <a:pt x="663" y="563"/>
                </a:lnTo>
                <a:lnTo>
                  <a:pt x="678" y="566"/>
                </a:lnTo>
                <a:lnTo>
                  <a:pt x="686" y="566"/>
                </a:lnTo>
                <a:lnTo>
                  <a:pt x="656" y="521"/>
                </a:lnTo>
                <a:lnTo>
                  <a:pt x="622" y="456"/>
                </a:lnTo>
                <a:lnTo>
                  <a:pt x="583" y="378"/>
                </a:lnTo>
                <a:lnTo>
                  <a:pt x="544" y="291"/>
                </a:lnTo>
                <a:lnTo>
                  <a:pt x="504" y="207"/>
                </a:lnTo>
                <a:lnTo>
                  <a:pt x="470" y="126"/>
                </a:lnTo>
                <a:lnTo>
                  <a:pt x="441" y="55"/>
                </a:lnTo>
                <a:lnTo>
                  <a:pt x="419" y="0"/>
                </a:lnTo>
                <a:close/>
              </a:path>
            </a:pathLst>
          </a:custGeom>
          <a:solidFill>
            <a:srgbClr val="7fe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267"/>
          <p:cNvSpPr/>
          <p:nvPr/>
        </p:nvSpPr>
        <p:spPr>
          <a:xfrm>
            <a:off x="7839000" y="1006560"/>
            <a:ext cx="1305000" cy="408456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822" h="2573">
                <a:moveTo>
                  <a:pt x="545" y="2553"/>
                </a:moveTo>
                <a:lnTo>
                  <a:pt x="541" y="2547"/>
                </a:lnTo>
                <a:lnTo>
                  <a:pt x="526" y="2528"/>
                </a:lnTo>
                <a:lnTo>
                  <a:pt x="506" y="2498"/>
                </a:lnTo>
                <a:lnTo>
                  <a:pt x="482" y="2463"/>
                </a:lnTo>
                <a:lnTo>
                  <a:pt x="457" y="2421"/>
                </a:lnTo>
                <a:lnTo>
                  <a:pt x="433" y="2379"/>
                </a:lnTo>
                <a:lnTo>
                  <a:pt x="411" y="2340"/>
                </a:lnTo>
                <a:lnTo>
                  <a:pt x="396" y="2304"/>
                </a:lnTo>
                <a:lnTo>
                  <a:pt x="411" y="2311"/>
                </a:lnTo>
                <a:lnTo>
                  <a:pt x="426" y="2317"/>
                </a:lnTo>
                <a:lnTo>
                  <a:pt x="438" y="2320"/>
                </a:lnTo>
                <a:lnTo>
                  <a:pt x="450" y="2320"/>
                </a:lnTo>
                <a:lnTo>
                  <a:pt x="460" y="2320"/>
                </a:lnTo>
                <a:lnTo>
                  <a:pt x="467" y="2317"/>
                </a:lnTo>
                <a:lnTo>
                  <a:pt x="472" y="2317"/>
                </a:lnTo>
                <a:lnTo>
                  <a:pt x="475" y="2317"/>
                </a:lnTo>
                <a:lnTo>
                  <a:pt x="443" y="2282"/>
                </a:lnTo>
                <a:lnTo>
                  <a:pt x="411" y="2233"/>
                </a:lnTo>
                <a:lnTo>
                  <a:pt x="379" y="2181"/>
                </a:lnTo>
                <a:lnTo>
                  <a:pt x="347" y="2126"/>
                </a:lnTo>
                <a:lnTo>
                  <a:pt x="318" y="2071"/>
                </a:lnTo>
                <a:lnTo>
                  <a:pt x="291" y="2019"/>
                </a:lnTo>
                <a:lnTo>
                  <a:pt x="269" y="1971"/>
                </a:lnTo>
                <a:lnTo>
                  <a:pt x="252" y="1932"/>
                </a:lnTo>
                <a:lnTo>
                  <a:pt x="274" y="1935"/>
                </a:lnTo>
                <a:lnTo>
                  <a:pt x="291" y="1935"/>
                </a:lnTo>
                <a:lnTo>
                  <a:pt x="301" y="1932"/>
                </a:lnTo>
                <a:lnTo>
                  <a:pt x="306" y="1932"/>
                </a:lnTo>
                <a:lnTo>
                  <a:pt x="276" y="1893"/>
                </a:lnTo>
                <a:lnTo>
                  <a:pt x="247" y="1845"/>
                </a:lnTo>
                <a:lnTo>
                  <a:pt x="220" y="1786"/>
                </a:lnTo>
                <a:lnTo>
                  <a:pt x="196" y="1725"/>
                </a:lnTo>
                <a:lnTo>
                  <a:pt x="174" y="1664"/>
                </a:lnTo>
                <a:lnTo>
                  <a:pt x="156" y="1609"/>
                </a:lnTo>
                <a:lnTo>
                  <a:pt x="144" y="1563"/>
                </a:lnTo>
                <a:lnTo>
                  <a:pt x="137" y="1534"/>
                </a:lnTo>
                <a:lnTo>
                  <a:pt x="149" y="1544"/>
                </a:lnTo>
                <a:lnTo>
                  <a:pt x="164" y="1550"/>
                </a:lnTo>
                <a:lnTo>
                  <a:pt x="178" y="1557"/>
                </a:lnTo>
                <a:lnTo>
                  <a:pt x="193" y="1560"/>
                </a:lnTo>
                <a:lnTo>
                  <a:pt x="208" y="1560"/>
                </a:lnTo>
                <a:lnTo>
                  <a:pt x="218" y="1560"/>
                </a:lnTo>
                <a:lnTo>
                  <a:pt x="225" y="1560"/>
                </a:lnTo>
                <a:lnTo>
                  <a:pt x="227" y="1560"/>
                </a:lnTo>
                <a:lnTo>
                  <a:pt x="203" y="1524"/>
                </a:lnTo>
                <a:lnTo>
                  <a:pt x="171" y="1469"/>
                </a:lnTo>
                <a:lnTo>
                  <a:pt x="137" y="1405"/>
                </a:lnTo>
                <a:lnTo>
                  <a:pt x="103" y="1333"/>
                </a:lnTo>
                <a:lnTo>
                  <a:pt x="68" y="1262"/>
                </a:lnTo>
                <a:lnTo>
                  <a:pt x="39" y="1198"/>
                </a:lnTo>
                <a:lnTo>
                  <a:pt x="14" y="1143"/>
                </a:lnTo>
                <a:lnTo>
                  <a:pt x="0" y="1107"/>
                </a:lnTo>
                <a:lnTo>
                  <a:pt x="17" y="1117"/>
                </a:lnTo>
                <a:lnTo>
                  <a:pt x="36" y="1120"/>
                </a:lnTo>
                <a:lnTo>
                  <a:pt x="51" y="1123"/>
                </a:lnTo>
                <a:lnTo>
                  <a:pt x="59" y="1123"/>
                </a:lnTo>
                <a:lnTo>
                  <a:pt x="51" y="1110"/>
                </a:lnTo>
                <a:lnTo>
                  <a:pt x="41" y="1097"/>
                </a:lnTo>
                <a:lnTo>
                  <a:pt x="29" y="1081"/>
                </a:lnTo>
                <a:lnTo>
                  <a:pt x="19" y="1062"/>
                </a:lnTo>
                <a:lnTo>
                  <a:pt x="19" y="1042"/>
                </a:lnTo>
                <a:lnTo>
                  <a:pt x="36" y="1020"/>
                </a:lnTo>
                <a:lnTo>
                  <a:pt x="54" y="990"/>
                </a:lnTo>
                <a:lnTo>
                  <a:pt x="71" y="958"/>
                </a:lnTo>
                <a:lnTo>
                  <a:pt x="88" y="919"/>
                </a:lnTo>
                <a:lnTo>
                  <a:pt x="103" y="880"/>
                </a:lnTo>
                <a:lnTo>
                  <a:pt x="117" y="845"/>
                </a:lnTo>
                <a:lnTo>
                  <a:pt x="127" y="812"/>
                </a:lnTo>
                <a:lnTo>
                  <a:pt x="137" y="787"/>
                </a:lnTo>
                <a:lnTo>
                  <a:pt x="129" y="790"/>
                </a:lnTo>
                <a:lnTo>
                  <a:pt x="115" y="800"/>
                </a:lnTo>
                <a:lnTo>
                  <a:pt x="95" y="809"/>
                </a:lnTo>
                <a:lnTo>
                  <a:pt x="78" y="812"/>
                </a:lnTo>
                <a:lnTo>
                  <a:pt x="93" y="787"/>
                </a:lnTo>
                <a:lnTo>
                  <a:pt x="107" y="751"/>
                </a:lnTo>
                <a:lnTo>
                  <a:pt x="125" y="706"/>
                </a:lnTo>
                <a:lnTo>
                  <a:pt x="139" y="657"/>
                </a:lnTo>
                <a:lnTo>
                  <a:pt x="154" y="605"/>
                </a:lnTo>
                <a:lnTo>
                  <a:pt x="169" y="557"/>
                </a:lnTo>
                <a:lnTo>
                  <a:pt x="178" y="518"/>
                </a:lnTo>
                <a:lnTo>
                  <a:pt x="183" y="486"/>
                </a:lnTo>
                <a:lnTo>
                  <a:pt x="178" y="489"/>
                </a:lnTo>
                <a:lnTo>
                  <a:pt x="166" y="499"/>
                </a:lnTo>
                <a:lnTo>
                  <a:pt x="149" y="512"/>
                </a:lnTo>
                <a:lnTo>
                  <a:pt x="127" y="518"/>
                </a:lnTo>
                <a:lnTo>
                  <a:pt x="147" y="479"/>
                </a:lnTo>
                <a:lnTo>
                  <a:pt x="169" y="418"/>
                </a:lnTo>
                <a:lnTo>
                  <a:pt x="193" y="343"/>
                </a:lnTo>
                <a:lnTo>
                  <a:pt x="218" y="262"/>
                </a:lnTo>
                <a:lnTo>
                  <a:pt x="237" y="178"/>
                </a:lnTo>
                <a:lnTo>
                  <a:pt x="254" y="104"/>
                </a:lnTo>
                <a:lnTo>
                  <a:pt x="267" y="42"/>
                </a:lnTo>
                <a:lnTo>
                  <a:pt x="271" y="0"/>
                </a:lnTo>
                <a:lnTo>
                  <a:pt x="281" y="42"/>
                </a:lnTo>
                <a:lnTo>
                  <a:pt x="296" y="101"/>
                </a:lnTo>
                <a:lnTo>
                  <a:pt x="311" y="169"/>
                </a:lnTo>
                <a:lnTo>
                  <a:pt x="330" y="243"/>
                </a:lnTo>
                <a:lnTo>
                  <a:pt x="352" y="317"/>
                </a:lnTo>
                <a:lnTo>
                  <a:pt x="374" y="385"/>
                </a:lnTo>
                <a:lnTo>
                  <a:pt x="394" y="444"/>
                </a:lnTo>
                <a:lnTo>
                  <a:pt x="416" y="486"/>
                </a:lnTo>
                <a:lnTo>
                  <a:pt x="394" y="473"/>
                </a:lnTo>
                <a:lnTo>
                  <a:pt x="377" y="460"/>
                </a:lnTo>
                <a:lnTo>
                  <a:pt x="364" y="450"/>
                </a:lnTo>
                <a:lnTo>
                  <a:pt x="362" y="447"/>
                </a:lnTo>
                <a:lnTo>
                  <a:pt x="367" y="486"/>
                </a:lnTo>
                <a:lnTo>
                  <a:pt x="377" y="528"/>
                </a:lnTo>
                <a:lnTo>
                  <a:pt x="391" y="573"/>
                </a:lnTo>
                <a:lnTo>
                  <a:pt x="408" y="618"/>
                </a:lnTo>
                <a:lnTo>
                  <a:pt x="426" y="664"/>
                </a:lnTo>
                <a:lnTo>
                  <a:pt x="445" y="702"/>
                </a:lnTo>
                <a:lnTo>
                  <a:pt x="467" y="738"/>
                </a:lnTo>
                <a:lnTo>
                  <a:pt x="489" y="767"/>
                </a:lnTo>
                <a:lnTo>
                  <a:pt x="475" y="767"/>
                </a:lnTo>
                <a:lnTo>
                  <a:pt x="457" y="767"/>
                </a:lnTo>
                <a:lnTo>
                  <a:pt x="443" y="767"/>
                </a:lnTo>
                <a:lnTo>
                  <a:pt x="435" y="767"/>
                </a:lnTo>
                <a:lnTo>
                  <a:pt x="450" y="809"/>
                </a:lnTo>
                <a:lnTo>
                  <a:pt x="467" y="855"/>
                </a:lnTo>
                <a:lnTo>
                  <a:pt x="487" y="906"/>
                </a:lnTo>
                <a:lnTo>
                  <a:pt x="511" y="955"/>
                </a:lnTo>
                <a:lnTo>
                  <a:pt x="536" y="1007"/>
                </a:lnTo>
                <a:lnTo>
                  <a:pt x="565" y="1055"/>
                </a:lnTo>
                <a:lnTo>
                  <a:pt x="599" y="1104"/>
                </a:lnTo>
                <a:lnTo>
                  <a:pt x="634" y="1149"/>
                </a:lnTo>
                <a:lnTo>
                  <a:pt x="621" y="1152"/>
                </a:lnTo>
                <a:lnTo>
                  <a:pt x="609" y="1149"/>
                </a:lnTo>
                <a:lnTo>
                  <a:pt x="594" y="1143"/>
                </a:lnTo>
                <a:lnTo>
                  <a:pt x="582" y="1136"/>
                </a:lnTo>
                <a:lnTo>
                  <a:pt x="570" y="1130"/>
                </a:lnTo>
                <a:lnTo>
                  <a:pt x="560" y="1120"/>
                </a:lnTo>
                <a:lnTo>
                  <a:pt x="553" y="1117"/>
                </a:lnTo>
                <a:lnTo>
                  <a:pt x="550" y="1113"/>
                </a:lnTo>
                <a:lnTo>
                  <a:pt x="560" y="1155"/>
                </a:lnTo>
                <a:lnTo>
                  <a:pt x="575" y="1204"/>
                </a:lnTo>
                <a:lnTo>
                  <a:pt x="592" y="1262"/>
                </a:lnTo>
                <a:lnTo>
                  <a:pt x="616" y="1324"/>
                </a:lnTo>
                <a:lnTo>
                  <a:pt x="641" y="1385"/>
                </a:lnTo>
                <a:lnTo>
                  <a:pt x="670" y="1443"/>
                </a:lnTo>
                <a:lnTo>
                  <a:pt x="700" y="1495"/>
                </a:lnTo>
                <a:lnTo>
                  <a:pt x="734" y="1541"/>
                </a:lnTo>
                <a:lnTo>
                  <a:pt x="719" y="1541"/>
                </a:lnTo>
                <a:lnTo>
                  <a:pt x="705" y="1537"/>
                </a:lnTo>
                <a:lnTo>
                  <a:pt x="687" y="1534"/>
                </a:lnTo>
                <a:lnTo>
                  <a:pt x="673" y="1528"/>
                </a:lnTo>
                <a:lnTo>
                  <a:pt x="658" y="1521"/>
                </a:lnTo>
                <a:lnTo>
                  <a:pt x="643" y="1511"/>
                </a:lnTo>
                <a:lnTo>
                  <a:pt x="634" y="1502"/>
                </a:lnTo>
                <a:lnTo>
                  <a:pt x="624" y="1495"/>
                </a:lnTo>
                <a:lnTo>
                  <a:pt x="634" y="1534"/>
                </a:lnTo>
                <a:lnTo>
                  <a:pt x="646" y="1586"/>
                </a:lnTo>
                <a:lnTo>
                  <a:pt x="660" y="1641"/>
                </a:lnTo>
                <a:lnTo>
                  <a:pt x="675" y="1699"/>
                </a:lnTo>
                <a:lnTo>
                  <a:pt x="695" y="1754"/>
                </a:lnTo>
                <a:lnTo>
                  <a:pt x="714" y="1809"/>
                </a:lnTo>
                <a:lnTo>
                  <a:pt x="739" y="1858"/>
                </a:lnTo>
                <a:lnTo>
                  <a:pt x="763" y="1893"/>
                </a:lnTo>
                <a:lnTo>
                  <a:pt x="751" y="1890"/>
                </a:lnTo>
                <a:lnTo>
                  <a:pt x="736" y="1884"/>
                </a:lnTo>
                <a:lnTo>
                  <a:pt x="724" y="1880"/>
                </a:lnTo>
                <a:lnTo>
                  <a:pt x="712" y="1874"/>
                </a:lnTo>
                <a:lnTo>
                  <a:pt x="702" y="1867"/>
                </a:lnTo>
                <a:lnTo>
                  <a:pt x="695" y="1861"/>
                </a:lnTo>
                <a:lnTo>
                  <a:pt x="690" y="1858"/>
                </a:lnTo>
                <a:lnTo>
                  <a:pt x="687" y="1858"/>
                </a:lnTo>
                <a:lnTo>
                  <a:pt x="695" y="1903"/>
                </a:lnTo>
                <a:lnTo>
                  <a:pt x="705" y="1961"/>
                </a:lnTo>
                <a:lnTo>
                  <a:pt x="714" y="2026"/>
                </a:lnTo>
                <a:lnTo>
                  <a:pt x="729" y="2094"/>
                </a:lnTo>
                <a:lnTo>
                  <a:pt x="744" y="2159"/>
                </a:lnTo>
                <a:lnTo>
                  <a:pt x="761" y="2220"/>
                </a:lnTo>
                <a:lnTo>
                  <a:pt x="780" y="2265"/>
                </a:lnTo>
                <a:lnTo>
                  <a:pt x="802" y="2298"/>
                </a:lnTo>
                <a:lnTo>
                  <a:pt x="788" y="2295"/>
                </a:lnTo>
                <a:lnTo>
                  <a:pt x="773" y="2295"/>
                </a:lnTo>
                <a:lnTo>
                  <a:pt x="761" y="2291"/>
                </a:lnTo>
                <a:lnTo>
                  <a:pt x="749" y="2288"/>
                </a:lnTo>
                <a:lnTo>
                  <a:pt x="739" y="2288"/>
                </a:lnTo>
                <a:lnTo>
                  <a:pt x="731" y="2285"/>
                </a:lnTo>
                <a:lnTo>
                  <a:pt x="727" y="2285"/>
                </a:lnTo>
                <a:lnTo>
                  <a:pt x="724" y="2285"/>
                </a:lnTo>
                <a:lnTo>
                  <a:pt x="729" y="2307"/>
                </a:lnTo>
                <a:lnTo>
                  <a:pt x="736" y="2340"/>
                </a:lnTo>
                <a:lnTo>
                  <a:pt x="746" y="2382"/>
                </a:lnTo>
                <a:lnTo>
                  <a:pt x="758" y="2427"/>
                </a:lnTo>
                <a:lnTo>
                  <a:pt x="773" y="2476"/>
                </a:lnTo>
                <a:lnTo>
                  <a:pt x="788" y="2518"/>
                </a:lnTo>
                <a:lnTo>
                  <a:pt x="805" y="2550"/>
                </a:lnTo>
                <a:lnTo>
                  <a:pt x="822" y="2573"/>
                </a:lnTo>
                <a:lnTo>
                  <a:pt x="802" y="2570"/>
                </a:lnTo>
                <a:lnTo>
                  <a:pt x="773" y="2563"/>
                </a:lnTo>
                <a:lnTo>
                  <a:pt x="736" y="2560"/>
                </a:lnTo>
                <a:lnTo>
                  <a:pt x="695" y="2557"/>
                </a:lnTo>
                <a:lnTo>
                  <a:pt x="653" y="2553"/>
                </a:lnTo>
                <a:lnTo>
                  <a:pt x="612" y="2553"/>
                </a:lnTo>
                <a:lnTo>
                  <a:pt x="575" y="2553"/>
                </a:lnTo>
                <a:lnTo>
                  <a:pt x="545" y="2553"/>
                </a:lnTo>
                <a:close/>
              </a:path>
            </a:pathLst>
          </a:custGeom>
          <a:solidFill>
            <a:srgbClr val="7fe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68"/>
          <p:cNvSpPr/>
          <p:nvPr/>
        </p:nvSpPr>
        <p:spPr>
          <a:xfrm>
            <a:off x="7970760" y="4500720"/>
            <a:ext cx="558720" cy="749160"/>
          </a:xfrm>
          <a:custGeom>
            <a:avLst/>
            <a:gdLst>
              <a:gd name="textAreaLeft" fmla="*/ 0 w 558720"/>
              <a:gd name="textAreaRight" fmla="*/ 559080 w 5587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352" h="472">
                <a:moveTo>
                  <a:pt x="29" y="472"/>
                </a:moveTo>
                <a:lnTo>
                  <a:pt x="73" y="456"/>
                </a:lnTo>
                <a:lnTo>
                  <a:pt x="117" y="443"/>
                </a:lnTo>
                <a:lnTo>
                  <a:pt x="161" y="427"/>
                </a:lnTo>
                <a:lnTo>
                  <a:pt x="203" y="414"/>
                </a:lnTo>
                <a:lnTo>
                  <a:pt x="245" y="401"/>
                </a:lnTo>
                <a:lnTo>
                  <a:pt x="281" y="388"/>
                </a:lnTo>
                <a:lnTo>
                  <a:pt x="318" y="378"/>
                </a:lnTo>
                <a:lnTo>
                  <a:pt x="352" y="369"/>
                </a:lnTo>
                <a:lnTo>
                  <a:pt x="338" y="349"/>
                </a:lnTo>
                <a:lnTo>
                  <a:pt x="321" y="323"/>
                </a:lnTo>
                <a:lnTo>
                  <a:pt x="301" y="297"/>
                </a:lnTo>
                <a:lnTo>
                  <a:pt x="281" y="265"/>
                </a:lnTo>
                <a:lnTo>
                  <a:pt x="262" y="229"/>
                </a:lnTo>
                <a:lnTo>
                  <a:pt x="247" y="197"/>
                </a:lnTo>
                <a:lnTo>
                  <a:pt x="235" y="165"/>
                </a:lnTo>
                <a:lnTo>
                  <a:pt x="228" y="136"/>
                </a:lnTo>
                <a:lnTo>
                  <a:pt x="225" y="174"/>
                </a:lnTo>
                <a:lnTo>
                  <a:pt x="220" y="223"/>
                </a:lnTo>
                <a:lnTo>
                  <a:pt x="218" y="265"/>
                </a:lnTo>
                <a:lnTo>
                  <a:pt x="218" y="281"/>
                </a:lnTo>
                <a:lnTo>
                  <a:pt x="213" y="272"/>
                </a:lnTo>
                <a:lnTo>
                  <a:pt x="203" y="265"/>
                </a:lnTo>
                <a:lnTo>
                  <a:pt x="193" y="259"/>
                </a:lnTo>
                <a:lnTo>
                  <a:pt x="181" y="249"/>
                </a:lnTo>
                <a:lnTo>
                  <a:pt x="169" y="236"/>
                </a:lnTo>
                <a:lnTo>
                  <a:pt x="157" y="217"/>
                </a:lnTo>
                <a:lnTo>
                  <a:pt x="142" y="187"/>
                </a:lnTo>
                <a:lnTo>
                  <a:pt x="130" y="149"/>
                </a:lnTo>
                <a:lnTo>
                  <a:pt x="113" y="197"/>
                </a:lnTo>
                <a:lnTo>
                  <a:pt x="108" y="249"/>
                </a:lnTo>
                <a:lnTo>
                  <a:pt x="108" y="284"/>
                </a:lnTo>
                <a:lnTo>
                  <a:pt x="110" y="301"/>
                </a:lnTo>
                <a:lnTo>
                  <a:pt x="95" y="275"/>
                </a:lnTo>
                <a:lnTo>
                  <a:pt x="81" y="239"/>
                </a:lnTo>
                <a:lnTo>
                  <a:pt x="64" y="197"/>
                </a:lnTo>
                <a:lnTo>
                  <a:pt x="46" y="149"/>
                </a:lnTo>
                <a:lnTo>
                  <a:pt x="32" y="103"/>
                </a:lnTo>
                <a:lnTo>
                  <a:pt x="20" y="61"/>
                </a:lnTo>
                <a:lnTo>
                  <a:pt x="12" y="26"/>
                </a:lnTo>
                <a:lnTo>
                  <a:pt x="10" y="0"/>
                </a:lnTo>
                <a:lnTo>
                  <a:pt x="0" y="94"/>
                </a:lnTo>
                <a:lnTo>
                  <a:pt x="2" y="239"/>
                </a:lnTo>
                <a:lnTo>
                  <a:pt x="12" y="382"/>
                </a:lnTo>
                <a:lnTo>
                  <a:pt x="29" y="472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9"/>
          <p:cNvSpPr/>
          <p:nvPr/>
        </p:nvSpPr>
        <p:spPr>
          <a:xfrm>
            <a:off x="6843600" y="1890720"/>
            <a:ext cx="968400" cy="3487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487680"/>
              <a:gd name="textAreaBottom" fmla="*/ 3488040 h 3487680"/>
            </a:gdLst>
            <a:ahLst/>
            <a:rect l="textAreaLeft" t="textAreaTop" r="textAreaRight" b="textAreaBottom"/>
            <a:pathLst>
              <a:path w="610" h="2197">
                <a:moveTo>
                  <a:pt x="522" y="2174"/>
                </a:moveTo>
                <a:lnTo>
                  <a:pt x="480" y="2181"/>
                </a:lnTo>
                <a:lnTo>
                  <a:pt x="441" y="2187"/>
                </a:lnTo>
                <a:lnTo>
                  <a:pt x="404" y="2191"/>
                </a:lnTo>
                <a:lnTo>
                  <a:pt x="365" y="2194"/>
                </a:lnTo>
                <a:lnTo>
                  <a:pt x="328" y="2197"/>
                </a:lnTo>
                <a:lnTo>
                  <a:pt x="294" y="2197"/>
                </a:lnTo>
                <a:lnTo>
                  <a:pt x="260" y="2197"/>
                </a:lnTo>
                <a:lnTo>
                  <a:pt x="228" y="2197"/>
                </a:lnTo>
                <a:lnTo>
                  <a:pt x="199" y="2194"/>
                </a:lnTo>
                <a:lnTo>
                  <a:pt x="169" y="2191"/>
                </a:lnTo>
                <a:lnTo>
                  <a:pt x="140" y="2187"/>
                </a:lnTo>
                <a:lnTo>
                  <a:pt x="115" y="2184"/>
                </a:lnTo>
                <a:lnTo>
                  <a:pt x="91" y="2178"/>
                </a:lnTo>
                <a:lnTo>
                  <a:pt x="69" y="2171"/>
                </a:lnTo>
                <a:lnTo>
                  <a:pt x="49" y="2165"/>
                </a:lnTo>
                <a:lnTo>
                  <a:pt x="32" y="2155"/>
                </a:lnTo>
                <a:lnTo>
                  <a:pt x="47" y="2126"/>
                </a:lnTo>
                <a:lnTo>
                  <a:pt x="64" y="2090"/>
                </a:lnTo>
                <a:lnTo>
                  <a:pt x="79" y="2032"/>
                </a:lnTo>
                <a:lnTo>
                  <a:pt x="91" y="1938"/>
                </a:lnTo>
                <a:lnTo>
                  <a:pt x="88" y="1938"/>
                </a:lnTo>
                <a:lnTo>
                  <a:pt x="84" y="1945"/>
                </a:lnTo>
                <a:lnTo>
                  <a:pt x="74" y="1948"/>
                </a:lnTo>
                <a:lnTo>
                  <a:pt x="61" y="1954"/>
                </a:lnTo>
                <a:lnTo>
                  <a:pt x="47" y="1961"/>
                </a:lnTo>
                <a:lnTo>
                  <a:pt x="32" y="1967"/>
                </a:lnTo>
                <a:lnTo>
                  <a:pt x="15" y="1974"/>
                </a:lnTo>
                <a:lnTo>
                  <a:pt x="0" y="1977"/>
                </a:lnTo>
                <a:lnTo>
                  <a:pt x="20" y="1948"/>
                </a:lnTo>
                <a:lnTo>
                  <a:pt x="44" y="1899"/>
                </a:lnTo>
                <a:lnTo>
                  <a:pt x="71" y="1835"/>
                </a:lnTo>
                <a:lnTo>
                  <a:pt x="98" y="1763"/>
                </a:lnTo>
                <a:lnTo>
                  <a:pt x="128" y="1686"/>
                </a:lnTo>
                <a:lnTo>
                  <a:pt x="152" y="1611"/>
                </a:lnTo>
                <a:lnTo>
                  <a:pt x="174" y="1540"/>
                </a:lnTo>
                <a:lnTo>
                  <a:pt x="189" y="1479"/>
                </a:lnTo>
                <a:lnTo>
                  <a:pt x="189" y="1482"/>
                </a:lnTo>
                <a:lnTo>
                  <a:pt x="186" y="1488"/>
                </a:lnTo>
                <a:lnTo>
                  <a:pt x="181" y="1498"/>
                </a:lnTo>
                <a:lnTo>
                  <a:pt x="174" y="1508"/>
                </a:lnTo>
                <a:lnTo>
                  <a:pt x="162" y="1517"/>
                </a:lnTo>
                <a:lnTo>
                  <a:pt x="147" y="1521"/>
                </a:lnTo>
                <a:lnTo>
                  <a:pt x="130" y="1524"/>
                </a:lnTo>
                <a:lnTo>
                  <a:pt x="106" y="1517"/>
                </a:lnTo>
                <a:lnTo>
                  <a:pt x="120" y="1485"/>
                </a:lnTo>
                <a:lnTo>
                  <a:pt x="140" y="1437"/>
                </a:lnTo>
                <a:lnTo>
                  <a:pt x="162" y="1375"/>
                </a:lnTo>
                <a:lnTo>
                  <a:pt x="184" y="1304"/>
                </a:lnTo>
                <a:lnTo>
                  <a:pt x="206" y="1229"/>
                </a:lnTo>
                <a:lnTo>
                  <a:pt x="228" y="1155"/>
                </a:lnTo>
                <a:lnTo>
                  <a:pt x="245" y="1084"/>
                </a:lnTo>
                <a:lnTo>
                  <a:pt x="260" y="1022"/>
                </a:lnTo>
                <a:lnTo>
                  <a:pt x="257" y="1026"/>
                </a:lnTo>
                <a:lnTo>
                  <a:pt x="255" y="1032"/>
                </a:lnTo>
                <a:lnTo>
                  <a:pt x="247" y="1045"/>
                </a:lnTo>
                <a:lnTo>
                  <a:pt x="238" y="1055"/>
                </a:lnTo>
                <a:lnTo>
                  <a:pt x="225" y="1064"/>
                </a:lnTo>
                <a:lnTo>
                  <a:pt x="208" y="1071"/>
                </a:lnTo>
                <a:lnTo>
                  <a:pt x="191" y="1071"/>
                </a:lnTo>
                <a:lnTo>
                  <a:pt x="169" y="1064"/>
                </a:lnTo>
                <a:lnTo>
                  <a:pt x="189" y="1022"/>
                </a:lnTo>
                <a:lnTo>
                  <a:pt x="211" y="967"/>
                </a:lnTo>
                <a:lnTo>
                  <a:pt x="233" y="906"/>
                </a:lnTo>
                <a:lnTo>
                  <a:pt x="255" y="835"/>
                </a:lnTo>
                <a:lnTo>
                  <a:pt x="277" y="764"/>
                </a:lnTo>
                <a:lnTo>
                  <a:pt x="294" y="692"/>
                </a:lnTo>
                <a:lnTo>
                  <a:pt x="309" y="628"/>
                </a:lnTo>
                <a:lnTo>
                  <a:pt x="318" y="573"/>
                </a:lnTo>
                <a:lnTo>
                  <a:pt x="316" y="576"/>
                </a:lnTo>
                <a:lnTo>
                  <a:pt x="304" y="586"/>
                </a:lnTo>
                <a:lnTo>
                  <a:pt x="287" y="595"/>
                </a:lnTo>
                <a:lnTo>
                  <a:pt x="265" y="598"/>
                </a:lnTo>
                <a:lnTo>
                  <a:pt x="282" y="560"/>
                </a:lnTo>
                <a:lnTo>
                  <a:pt x="304" y="492"/>
                </a:lnTo>
                <a:lnTo>
                  <a:pt x="331" y="401"/>
                </a:lnTo>
                <a:lnTo>
                  <a:pt x="358" y="298"/>
                </a:lnTo>
                <a:lnTo>
                  <a:pt x="385" y="197"/>
                </a:lnTo>
                <a:lnTo>
                  <a:pt x="404" y="107"/>
                </a:lnTo>
                <a:lnTo>
                  <a:pt x="416" y="35"/>
                </a:lnTo>
                <a:lnTo>
                  <a:pt x="419" y="0"/>
                </a:lnTo>
                <a:lnTo>
                  <a:pt x="421" y="39"/>
                </a:lnTo>
                <a:lnTo>
                  <a:pt x="416" y="97"/>
                </a:lnTo>
                <a:lnTo>
                  <a:pt x="409" y="168"/>
                </a:lnTo>
                <a:lnTo>
                  <a:pt x="397" y="246"/>
                </a:lnTo>
                <a:lnTo>
                  <a:pt x="380" y="327"/>
                </a:lnTo>
                <a:lnTo>
                  <a:pt x="362" y="401"/>
                </a:lnTo>
                <a:lnTo>
                  <a:pt x="345" y="466"/>
                </a:lnTo>
                <a:lnTo>
                  <a:pt x="328" y="511"/>
                </a:lnTo>
                <a:lnTo>
                  <a:pt x="343" y="505"/>
                </a:lnTo>
                <a:lnTo>
                  <a:pt x="358" y="495"/>
                </a:lnTo>
                <a:lnTo>
                  <a:pt x="370" y="485"/>
                </a:lnTo>
                <a:lnTo>
                  <a:pt x="382" y="476"/>
                </a:lnTo>
                <a:lnTo>
                  <a:pt x="389" y="466"/>
                </a:lnTo>
                <a:lnTo>
                  <a:pt x="397" y="459"/>
                </a:lnTo>
                <a:lnTo>
                  <a:pt x="402" y="456"/>
                </a:lnTo>
                <a:lnTo>
                  <a:pt x="404" y="453"/>
                </a:lnTo>
                <a:lnTo>
                  <a:pt x="399" y="498"/>
                </a:lnTo>
                <a:lnTo>
                  <a:pt x="389" y="550"/>
                </a:lnTo>
                <a:lnTo>
                  <a:pt x="377" y="608"/>
                </a:lnTo>
                <a:lnTo>
                  <a:pt x="365" y="670"/>
                </a:lnTo>
                <a:lnTo>
                  <a:pt x="348" y="728"/>
                </a:lnTo>
                <a:lnTo>
                  <a:pt x="331" y="786"/>
                </a:lnTo>
                <a:lnTo>
                  <a:pt x="314" y="835"/>
                </a:lnTo>
                <a:lnTo>
                  <a:pt x="294" y="874"/>
                </a:lnTo>
                <a:lnTo>
                  <a:pt x="306" y="870"/>
                </a:lnTo>
                <a:lnTo>
                  <a:pt x="323" y="854"/>
                </a:lnTo>
                <a:lnTo>
                  <a:pt x="343" y="831"/>
                </a:lnTo>
                <a:lnTo>
                  <a:pt x="362" y="802"/>
                </a:lnTo>
                <a:lnTo>
                  <a:pt x="382" y="770"/>
                </a:lnTo>
                <a:lnTo>
                  <a:pt x="402" y="738"/>
                </a:lnTo>
                <a:lnTo>
                  <a:pt x="416" y="705"/>
                </a:lnTo>
                <a:lnTo>
                  <a:pt x="429" y="676"/>
                </a:lnTo>
                <a:lnTo>
                  <a:pt x="433" y="721"/>
                </a:lnTo>
                <a:lnTo>
                  <a:pt x="438" y="776"/>
                </a:lnTo>
                <a:lnTo>
                  <a:pt x="441" y="822"/>
                </a:lnTo>
                <a:lnTo>
                  <a:pt x="443" y="841"/>
                </a:lnTo>
                <a:lnTo>
                  <a:pt x="458" y="796"/>
                </a:lnTo>
                <a:lnTo>
                  <a:pt x="473" y="747"/>
                </a:lnTo>
                <a:lnTo>
                  <a:pt x="482" y="712"/>
                </a:lnTo>
                <a:lnTo>
                  <a:pt x="487" y="696"/>
                </a:lnTo>
                <a:lnTo>
                  <a:pt x="497" y="767"/>
                </a:lnTo>
                <a:lnTo>
                  <a:pt x="500" y="857"/>
                </a:lnTo>
                <a:lnTo>
                  <a:pt x="497" y="951"/>
                </a:lnTo>
                <a:lnTo>
                  <a:pt x="487" y="1035"/>
                </a:lnTo>
                <a:lnTo>
                  <a:pt x="487" y="1006"/>
                </a:lnTo>
                <a:lnTo>
                  <a:pt x="480" y="961"/>
                </a:lnTo>
                <a:lnTo>
                  <a:pt x="468" y="919"/>
                </a:lnTo>
                <a:lnTo>
                  <a:pt x="463" y="899"/>
                </a:lnTo>
                <a:lnTo>
                  <a:pt x="453" y="925"/>
                </a:lnTo>
                <a:lnTo>
                  <a:pt x="441" y="954"/>
                </a:lnTo>
                <a:lnTo>
                  <a:pt x="429" y="980"/>
                </a:lnTo>
                <a:lnTo>
                  <a:pt x="416" y="1003"/>
                </a:lnTo>
                <a:lnTo>
                  <a:pt x="402" y="1026"/>
                </a:lnTo>
                <a:lnTo>
                  <a:pt x="392" y="1042"/>
                </a:lnTo>
                <a:lnTo>
                  <a:pt x="385" y="1052"/>
                </a:lnTo>
                <a:lnTo>
                  <a:pt x="382" y="1055"/>
                </a:lnTo>
                <a:lnTo>
                  <a:pt x="385" y="1009"/>
                </a:lnTo>
                <a:lnTo>
                  <a:pt x="380" y="971"/>
                </a:lnTo>
                <a:lnTo>
                  <a:pt x="367" y="945"/>
                </a:lnTo>
                <a:lnTo>
                  <a:pt x="353" y="919"/>
                </a:lnTo>
                <a:lnTo>
                  <a:pt x="345" y="964"/>
                </a:lnTo>
                <a:lnTo>
                  <a:pt x="331" y="1026"/>
                </a:lnTo>
                <a:lnTo>
                  <a:pt x="311" y="1097"/>
                </a:lnTo>
                <a:lnTo>
                  <a:pt x="287" y="1171"/>
                </a:lnTo>
                <a:lnTo>
                  <a:pt x="262" y="1249"/>
                </a:lnTo>
                <a:lnTo>
                  <a:pt x="238" y="1317"/>
                </a:lnTo>
                <a:lnTo>
                  <a:pt x="216" y="1372"/>
                </a:lnTo>
                <a:lnTo>
                  <a:pt x="199" y="1407"/>
                </a:lnTo>
                <a:lnTo>
                  <a:pt x="213" y="1404"/>
                </a:lnTo>
                <a:lnTo>
                  <a:pt x="230" y="1395"/>
                </a:lnTo>
                <a:lnTo>
                  <a:pt x="245" y="1382"/>
                </a:lnTo>
                <a:lnTo>
                  <a:pt x="260" y="1365"/>
                </a:lnTo>
                <a:lnTo>
                  <a:pt x="272" y="1349"/>
                </a:lnTo>
                <a:lnTo>
                  <a:pt x="282" y="1336"/>
                </a:lnTo>
                <a:lnTo>
                  <a:pt x="287" y="1327"/>
                </a:lnTo>
                <a:lnTo>
                  <a:pt x="289" y="1323"/>
                </a:lnTo>
                <a:lnTo>
                  <a:pt x="292" y="1375"/>
                </a:lnTo>
                <a:lnTo>
                  <a:pt x="289" y="1424"/>
                </a:lnTo>
                <a:lnTo>
                  <a:pt x="282" y="1462"/>
                </a:lnTo>
                <a:lnTo>
                  <a:pt x="279" y="1479"/>
                </a:lnTo>
                <a:lnTo>
                  <a:pt x="301" y="1459"/>
                </a:lnTo>
                <a:lnTo>
                  <a:pt x="326" y="1430"/>
                </a:lnTo>
                <a:lnTo>
                  <a:pt x="353" y="1395"/>
                </a:lnTo>
                <a:lnTo>
                  <a:pt x="382" y="1359"/>
                </a:lnTo>
                <a:lnTo>
                  <a:pt x="407" y="1320"/>
                </a:lnTo>
                <a:lnTo>
                  <a:pt x="429" y="1281"/>
                </a:lnTo>
                <a:lnTo>
                  <a:pt x="446" y="1249"/>
                </a:lnTo>
                <a:lnTo>
                  <a:pt x="453" y="1223"/>
                </a:lnTo>
                <a:lnTo>
                  <a:pt x="453" y="1291"/>
                </a:lnTo>
                <a:lnTo>
                  <a:pt x="448" y="1378"/>
                </a:lnTo>
                <a:lnTo>
                  <a:pt x="436" y="1466"/>
                </a:lnTo>
                <a:lnTo>
                  <a:pt x="414" y="1524"/>
                </a:lnTo>
                <a:lnTo>
                  <a:pt x="394" y="1420"/>
                </a:lnTo>
                <a:lnTo>
                  <a:pt x="380" y="1453"/>
                </a:lnTo>
                <a:lnTo>
                  <a:pt x="367" y="1485"/>
                </a:lnTo>
                <a:lnTo>
                  <a:pt x="353" y="1514"/>
                </a:lnTo>
                <a:lnTo>
                  <a:pt x="340" y="1540"/>
                </a:lnTo>
                <a:lnTo>
                  <a:pt x="326" y="1566"/>
                </a:lnTo>
                <a:lnTo>
                  <a:pt x="314" y="1589"/>
                </a:lnTo>
                <a:lnTo>
                  <a:pt x="299" y="1608"/>
                </a:lnTo>
                <a:lnTo>
                  <a:pt x="284" y="1624"/>
                </a:lnTo>
                <a:lnTo>
                  <a:pt x="294" y="1592"/>
                </a:lnTo>
                <a:lnTo>
                  <a:pt x="299" y="1556"/>
                </a:lnTo>
                <a:lnTo>
                  <a:pt x="299" y="1527"/>
                </a:lnTo>
                <a:lnTo>
                  <a:pt x="299" y="1517"/>
                </a:lnTo>
                <a:lnTo>
                  <a:pt x="284" y="1547"/>
                </a:lnTo>
                <a:lnTo>
                  <a:pt x="272" y="1569"/>
                </a:lnTo>
                <a:lnTo>
                  <a:pt x="257" y="1589"/>
                </a:lnTo>
                <a:lnTo>
                  <a:pt x="240" y="1605"/>
                </a:lnTo>
                <a:lnTo>
                  <a:pt x="225" y="1618"/>
                </a:lnTo>
                <a:lnTo>
                  <a:pt x="213" y="1628"/>
                </a:lnTo>
                <a:lnTo>
                  <a:pt x="201" y="1637"/>
                </a:lnTo>
                <a:lnTo>
                  <a:pt x="189" y="1644"/>
                </a:lnTo>
                <a:lnTo>
                  <a:pt x="186" y="1670"/>
                </a:lnTo>
                <a:lnTo>
                  <a:pt x="181" y="1699"/>
                </a:lnTo>
                <a:lnTo>
                  <a:pt x="172" y="1731"/>
                </a:lnTo>
                <a:lnTo>
                  <a:pt x="162" y="1763"/>
                </a:lnTo>
                <a:lnTo>
                  <a:pt x="147" y="1799"/>
                </a:lnTo>
                <a:lnTo>
                  <a:pt x="135" y="1828"/>
                </a:lnTo>
                <a:lnTo>
                  <a:pt x="123" y="1851"/>
                </a:lnTo>
                <a:lnTo>
                  <a:pt x="110" y="1867"/>
                </a:lnTo>
                <a:lnTo>
                  <a:pt x="137" y="1857"/>
                </a:lnTo>
                <a:lnTo>
                  <a:pt x="159" y="1841"/>
                </a:lnTo>
                <a:lnTo>
                  <a:pt x="181" y="1818"/>
                </a:lnTo>
                <a:lnTo>
                  <a:pt x="201" y="1796"/>
                </a:lnTo>
                <a:lnTo>
                  <a:pt x="216" y="1773"/>
                </a:lnTo>
                <a:lnTo>
                  <a:pt x="230" y="1750"/>
                </a:lnTo>
                <a:lnTo>
                  <a:pt x="240" y="1731"/>
                </a:lnTo>
                <a:lnTo>
                  <a:pt x="250" y="1715"/>
                </a:lnTo>
                <a:lnTo>
                  <a:pt x="247" y="1754"/>
                </a:lnTo>
                <a:lnTo>
                  <a:pt x="240" y="1796"/>
                </a:lnTo>
                <a:lnTo>
                  <a:pt x="230" y="1835"/>
                </a:lnTo>
                <a:lnTo>
                  <a:pt x="218" y="1870"/>
                </a:lnTo>
                <a:lnTo>
                  <a:pt x="203" y="1903"/>
                </a:lnTo>
                <a:lnTo>
                  <a:pt x="191" y="1935"/>
                </a:lnTo>
                <a:lnTo>
                  <a:pt x="179" y="1961"/>
                </a:lnTo>
                <a:lnTo>
                  <a:pt x="169" y="1983"/>
                </a:lnTo>
                <a:lnTo>
                  <a:pt x="191" y="1967"/>
                </a:lnTo>
                <a:lnTo>
                  <a:pt x="218" y="1935"/>
                </a:lnTo>
                <a:lnTo>
                  <a:pt x="247" y="1890"/>
                </a:lnTo>
                <a:lnTo>
                  <a:pt x="277" y="1838"/>
                </a:lnTo>
                <a:lnTo>
                  <a:pt x="306" y="1780"/>
                </a:lnTo>
                <a:lnTo>
                  <a:pt x="333" y="1725"/>
                </a:lnTo>
                <a:lnTo>
                  <a:pt x="353" y="1676"/>
                </a:lnTo>
                <a:lnTo>
                  <a:pt x="362" y="1637"/>
                </a:lnTo>
                <a:lnTo>
                  <a:pt x="387" y="1686"/>
                </a:lnTo>
                <a:lnTo>
                  <a:pt x="399" y="1780"/>
                </a:lnTo>
                <a:lnTo>
                  <a:pt x="404" y="1896"/>
                </a:lnTo>
                <a:lnTo>
                  <a:pt x="404" y="2009"/>
                </a:lnTo>
                <a:lnTo>
                  <a:pt x="421" y="1977"/>
                </a:lnTo>
                <a:lnTo>
                  <a:pt x="446" y="1928"/>
                </a:lnTo>
                <a:lnTo>
                  <a:pt x="470" y="1864"/>
                </a:lnTo>
                <a:lnTo>
                  <a:pt x="497" y="1789"/>
                </a:lnTo>
                <a:lnTo>
                  <a:pt x="522" y="1715"/>
                </a:lnTo>
                <a:lnTo>
                  <a:pt x="541" y="1640"/>
                </a:lnTo>
                <a:lnTo>
                  <a:pt x="556" y="1576"/>
                </a:lnTo>
                <a:lnTo>
                  <a:pt x="561" y="1524"/>
                </a:lnTo>
                <a:lnTo>
                  <a:pt x="585" y="1621"/>
                </a:lnTo>
                <a:lnTo>
                  <a:pt x="602" y="1763"/>
                </a:lnTo>
                <a:lnTo>
                  <a:pt x="610" y="1916"/>
                </a:lnTo>
                <a:lnTo>
                  <a:pt x="607" y="2022"/>
                </a:lnTo>
                <a:lnTo>
                  <a:pt x="595" y="1971"/>
                </a:lnTo>
                <a:lnTo>
                  <a:pt x="575" y="1922"/>
                </a:lnTo>
                <a:lnTo>
                  <a:pt x="558" y="1886"/>
                </a:lnTo>
                <a:lnTo>
                  <a:pt x="551" y="1873"/>
                </a:lnTo>
                <a:lnTo>
                  <a:pt x="551" y="1954"/>
                </a:lnTo>
                <a:lnTo>
                  <a:pt x="548" y="2032"/>
                </a:lnTo>
                <a:lnTo>
                  <a:pt x="539" y="2110"/>
                </a:lnTo>
                <a:lnTo>
                  <a:pt x="522" y="2174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0"/>
          <p:cNvSpPr/>
          <p:nvPr/>
        </p:nvSpPr>
        <p:spPr>
          <a:xfrm>
            <a:off x="7780320" y="3724200"/>
            <a:ext cx="434880" cy="693720"/>
          </a:xfrm>
          <a:custGeom>
            <a:avLst/>
            <a:gdLst>
              <a:gd name="textAreaLeft" fmla="*/ 0 w 434880"/>
              <a:gd name="textAreaRight" fmla="*/ 435240 w 434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74" h="437">
                <a:moveTo>
                  <a:pt x="37" y="0"/>
                </a:moveTo>
                <a:lnTo>
                  <a:pt x="17" y="62"/>
                </a:lnTo>
                <a:lnTo>
                  <a:pt x="3" y="165"/>
                </a:lnTo>
                <a:lnTo>
                  <a:pt x="0" y="278"/>
                </a:lnTo>
                <a:lnTo>
                  <a:pt x="12" y="375"/>
                </a:lnTo>
                <a:lnTo>
                  <a:pt x="17" y="340"/>
                </a:lnTo>
                <a:lnTo>
                  <a:pt x="22" y="291"/>
                </a:lnTo>
                <a:lnTo>
                  <a:pt x="29" y="240"/>
                </a:lnTo>
                <a:lnTo>
                  <a:pt x="37" y="201"/>
                </a:lnTo>
                <a:lnTo>
                  <a:pt x="47" y="227"/>
                </a:lnTo>
                <a:lnTo>
                  <a:pt x="64" y="259"/>
                </a:lnTo>
                <a:lnTo>
                  <a:pt x="86" y="295"/>
                </a:lnTo>
                <a:lnTo>
                  <a:pt x="115" y="330"/>
                </a:lnTo>
                <a:lnTo>
                  <a:pt x="147" y="366"/>
                </a:lnTo>
                <a:lnTo>
                  <a:pt x="186" y="398"/>
                </a:lnTo>
                <a:lnTo>
                  <a:pt x="228" y="421"/>
                </a:lnTo>
                <a:lnTo>
                  <a:pt x="274" y="437"/>
                </a:lnTo>
                <a:lnTo>
                  <a:pt x="255" y="411"/>
                </a:lnTo>
                <a:lnTo>
                  <a:pt x="230" y="375"/>
                </a:lnTo>
                <a:lnTo>
                  <a:pt x="203" y="330"/>
                </a:lnTo>
                <a:lnTo>
                  <a:pt x="176" y="275"/>
                </a:lnTo>
                <a:lnTo>
                  <a:pt x="149" y="217"/>
                </a:lnTo>
                <a:lnTo>
                  <a:pt x="130" y="155"/>
                </a:lnTo>
                <a:lnTo>
                  <a:pt x="115" y="94"/>
                </a:lnTo>
                <a:lnTo>
                  <a:pt x="110" y="32"/>
                </a:lnTo>
                <a:lnTo>
                  <a:pt x="103" y="68"/>
                </a:lnTo>
                <a:lnTo>
                  <a:pt x="93" y="120"/>
                </a:lnTo>
                <a:lnTo>
                  <a:pt x="88" y="168"/>
                </a:lnTo>
                <a:lnTo>
                  <a:pt x="91" y="207"/>
                </a:lnTo>
                <a:lnTo>
                  <a:pt x="69" y="165"/>
                </a:lnTo>
                <a:lnTo>
                  <a:pt x="51" y="110"/>
                </a:lnTo>
                <a:lnTo>
                  <a:pt x="39" y="52"/>
                </a:lnTo>
                <a:lnTo>
                  <a:pt x="37" y="0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271"/>
          <p:cNvSpPr/>
          <p:nvPr/>
        </p:nvSpPr>
        <p:spPr>
          <a:xfrm>
            <a:off x="7839000" y="1006560"/>
            <a:ext cx="1305000" cy="408456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822" h="2573">
                <a:moveTo>
                  <a:pt x="802" y="2298"/>
                </a:moveTo>
                <a:lnTo>
                  <a:pt x="788" y="2295"/>
                </a:lnTo>
                <a:lnTo>
                  <a:pt x="773" y="2295"/>
                </a:lnTo>
                <a:lnTo>
                  <a:pt x="761" y="2291"/>
                </a:lnTo>
                <a:lnTo>
                  <a:pt x="749" y="2288"/>
                </a:lnTo>
                <a:lnTo>
                  <a:pt x="739" y="2288"/>
                </a:lnTo>
                <a:lnTo>
                  <a:pt x="731" y="2285"/>
                </a:lnTo>
                <a:lnTo>
                  <a:pt x="727" y="2285"/>
                </a:lnTo>
                <a:lnTo>
                  <a:pt x="724" y="2285"/>
                </a:lnTo>
                <a:lnTo>
                  <a:pt x="729" y="2307"/>
                </a:lnTo>
                <a:lnTo>
                  <a:pt x="736" y="2340"/>
                </a:lnTo>
                <a:lnTo>
                  <a:pt x="746" y="2382"/>
                </a:lnTo>
                <a:lnTo>
                  <a:pt x="758" y="2427"/>
                </a:lnTo>
                <a:lnTo>
                  <a:pt x="773" y="2476"/>
                </a:lnTo>
                <a:lnTo>
                  <a:pt x="788" y="2518"/>
                </a:lnTo>
                <a:lnTo>
                  <a:pt x="805" y="2550"/>
                </a:lnTo>
                <a:lnTo>
                  <a:pt x="822" y="2573"/>
                </a:lnTo>
                <a:lnTo>
                  <a:pt x="802" y="2570"/>
                </a:lnTo>
                <a:lnTo>
                  <a:pt x="773" y="2563"/>
                </a:lnTo>
                <a:lnTo>
                  <a:pt x="736" y="2560"/>
                </a:lnTo>
                <a:lnTo>
                  <a:pt x="695" y="2557"/>
                </a:lnTo>
                <a:lnTo>
                  <a:pt x="653" y="2553"/>
                </a:lnTo>
                <a:lnTo>
                  <a:pt x="612" y="2553"/>
                </a:lnTo>
                <a:lnTo>
                  <a:pt x="575" y="2553"/>
                </a:lnTo>
                <a:lnTo>
                  <a:pt x="545" y="2553"/>
                </a:lnTo>
                <a:lnTo>
                  <a:pt x="541" y="2547"/>
                </a:lnTo>
                <a:lnTo>
                  <a:pt x="526" y="2528"/>
                </a:lnTo>
                <a:lnTo>
                  <a:pt x="506" y="2498"/>
                </a:lnTo>
                <a:lnTo>
                  <a:pt x="482" y="2463"/>
                </a:lnTo>
                <a:lnTo>
                  <a:pt x="457" y="2421"/>
                </a:lnTo>
                <a:lnTo>
                  <a:pt x="433" y="2379"/>
                </a:lnTo>
                <a:lnTo>
                  <a:pt x="411" y="2340"/>
                </a:lnTo>
                <a:lnTo>
                  <a:pt x="396" y="2304"/>
                </a:lnTo>
                <a:lnTo>
                  <a:pt x="411" y="2311"/>
                </a:lnTo>
                <a:lnTo>
                  <a:pt x="426" y="2317"/>
                </a:lnTo>
                <a:lnTo>
                  <a:pt x="438" y="2320"/>
                </a:lnTo>
                <a:lnTo>
                  <a:pt x="450" y="2320"/>
                </a:lnTo>
                <a:lnTo>
                  <a:pt x="460" y="2320"/>
                </a:lnTo>
                <a:lnTo>
                  <a:pt x="467" y="2317"/>
                </a:lnTo>
                <a:lnTo>
                  <a:pt x="472" y="2317"/>
                </a:lnTo>
                <a:lnTo>
                  <a:pt x="475" y="2317"/>
                </a:lnTo>
                <a:lnTo>
                  <a:pt x="443" y="2282"/>
                </a:lnTo>
                <a:lnTo>
                  <a:pt x="411" y="2233"/>
                </a:lnTo>
                <a:lnTo>
                  <a:pt x="379" y="2181"/>
                </a:lnTo>
                <a:lnTo>
                  <a:pt x="347" y="2126"/>
                </a:lnTo>
                <a:lnTo>
                  <a:pt x="318" y="2071"/>
                </a:lnTo>
                <a:lnTo>
                  <a:pt x="291" y="2019"/>
                </a:lnTo>
                <a:lnTo>
                  <a:pt x="269" y="1971"/>
                </a:lnTo>
                <a:lnTo>
                  <a:pt x="252" y="1932"/>
                </a:lnTo>
                <a:lnTo>
                  <a:pt x="274" y="1935"/>
                </a:lnTo>
                <a:lnTo>
                  <a:pt x="291" y="1935"/>
                </a:lnTo>
                <a:lnTo>
                  <a:pt x="301" y="1932"/>
                </a:lnTo>
                <a:lnTo>
                  <a:pt x="306" y="1932"/>
                </a:lnTo>
                <a:lnTo>
                  <a:pt x="276" y="1893"/>
                </a:lnTo>
                <a:lnTo>
                  <a:pt x="247" y="1845"/>
                </a:lnTo>
                <a:lnTo>
                  <a:pt x="220" y="1786"/>
                </a:lnTo>
                <a:lnTo>
                  <a:pt x="196" y="1725"/>
                </a:lnTo>
                <a:lnTo>
                  <a:pt x="174" y="1664"/>
                </a:lnTo>
                <a:lnTo>
                  <a:pt x="156" y="1609"/>
                </a:lnTo>
                <a:lnTo>
                  <a:pt x="144" y="1563"/>
                </a:lnTo>
                <a:lnTo>
                  <a:pt x="137" y="1534"/>
                </a:lnTo>
                <a:lnTo>
                  <a:pt x="149" y="1544"/>
                </a:lnTo>
                <a:lnTo>
                  <a:pt x="164" y="1550"/>
                </a:lnTo>
                <a:lnTo>
                  <a:pt x="178" y="1557"/>
                </a:lnTo>
                <a:lnTo>
                  <a:pt x="193" y="1560"/>
                </a:lnTo>
                <a:lnTo>
                  <a:pt x="208" y="1560"/>
                </a:lnTo>
                <a:lnTo>
                  <a:pt x="218" y="1560"/>
                </a:lnTo>
                <a:lnTo>
                  <a:pt x="225" y="1560"/>
                </a:lnTo>
                <a:lnTo>
                  <a:pt x="227" y="1560"/>
                </a:lnTo>
                <a:lnTo>
                  <a:pt x="203" y="1524"/>
                </a:lnTo>
                <a:lnTo>
                  <a:pt x="171" y="1469"/>
                </a:lnTo>
                <a:lnTo>
                  <a:pt x="137" y="1405"/>
                </a:lnTo>
                <a:lnTo>
                  <a:pt x="103" y="1333"/>
                </a:lnTo>
                <a:lnTo>
                  <a:pt x="68" y="1262"/>
                </a:lnTo>
                <a:lnTo>
                  <a:pt x="39" y="1198"/>
                </a:lnTo>
                <a:lnTo>
                  <a:pt x="14" y="1143"/>
                </a:lnTo>
                <a:lnTo>
                  <a:pt x="0" y="1107"/>
                </a:lnTo>
                <a:lnTo>
                  <a:pt x="17" y="1117"/>
                </a:lnTo>
                <a:lnTo>
                  <a:pt x="36" y="1120"/>
                </a:lnTo>
                <a:lnTo>
                  <a:pt x="51" y="1123"/>
                </a:lnTo>
                <a:lnTo>
                  <a:pt x="59" y="1123"/>
                </a:lnTo>
                <a:lnTo>
                  <a:pt x="51" y="1110"/>
                </a:lnTo>
                <a:lnTo>
                  <a:pt x="41" y="1097"/>
                </a:lnTo>
                <a:lnTo>
                  <a:pt x="29" y="1081"/>
                </a:lnTo>
                <a:lnTo>
                  <a:pt x="19" y="1062"/>
                </a:lnTo>
                <a:lnTo>
                  <a:pt x="19" y="1042"/>
                </a:lnTo>
                <a:lnTo>
                  <a:pt x="36" y="1020"/>
                </a:lnTo>
                <a:lnTo>
                  <a:pt x="54" y="990"/>
                </a:lnTo>
                <a:lnTo>
                  <a:pt x="71" y="958"/>
                </a:lnTo>
                <a:lnTo>
                  <a:pt x="88" y="919"/>
                </a:lnTo>
                <a:lnTo>
                  <a:pt x="103" y="880"/>
                </a:lnTo>
                <a:lnTo>
                  <a:pt x="117" y="845"/>
                </a:lnTo>
                <a:lnTo>
                  <a:pt x="127" y="812"/>
                </a:lnTo>
                <a:lnTo>
                  <a:pt x="137" y="787"/>
                </a:lnTo>
                <a:lnTo>
                  <a:pt x="129" y="790"/>
                </a:lnTo>
                <a:lnTo>
                  <a:pt x="115" y="800"/>
                </a:lnTo>
                <a:lnTo>
                  <a:pt x="95" y="809"/>
                </a:lnTo>
                <a:lnTo>
                  <a:pt x="78" y="812"/>
                </a:lnTo>
                <a:lnTo>
                  <a:pt x="93" y="787"/>
                </a:lnTo>
                <a:lnTo>
                  <a:pt x="107" y="751"/>
                </a:lnTo>
                <a:lnTo>
                  <a:pt x="125" y="706"/>
                </a:lnTo>
                <a:lnTo>
                  <a:pt x="139" y="657"/>
                </a:lnTo>
                <a:lnTo>
                  <a:pt x="154" y="605"/>
                </a:lnTo>
                <a:lnTo>
                  <a:pt x="169" y="557"/>
                </a:lnTo>
                <a:lnTo>
                  <a:pt x="178" y="518"/>
                </a:lnTo>
                <a:lnTo>
                  <a:pt x="183" y="486"/>
                </a:lnTo>
                <a:lnTo>
                  <a:pt x="178" y="489"/>
                </a:lnTo>
                <a:lnTo>
                  <a:pt x="166" y="499"/>
                </a:lnTo>
                <a:lnTo>
                  <a:pt x="149" y="512"/>
                </a:lnTo>
                <a:lnTo>
                  <a:pt x="127" y="518"/>
                </a:lnTo>
                <a:lnTo>
                  <a:pt x="147" y="479"/>
                </a:lnTo>
                <a:lnTo>
                  <a:pt x="169" y="418"/>
                </a:lnTo>
                <a:lnTo>
                  <a:pt x="193" y="343"/>
                </a:lnTo>
                <a:lnTo>
                  <a:pt x="218" y="262"/>
                </a:lnTo>
                <a:lnTo>
                  <a:pt x="237" y="178"/>
                </a:lnTo>
                <a:lnTo>
                  <a:pt x="254" y="104"/>
                </a:lnTo>
                <a:lnTo>
                  <a:pt x="267" y="42"/>
                </a:lnTo>
                <a:lnTo>
                  <a:pt x="271" y="0"/>
                </a:lnTo>
                <a:lnTo>
                  <a:pt x="274" y="49"/>
                </a:lnTo>
                <a:lnTo>
                  <a:pt x="274" y="114"/>
                </a:lnTo>
                <a:lnTo>
                  <a:pt x="267" y="188"/>
                </a:lnTo>
                <a:lnTo>
                  <a:pt x="259" y="269"/>
                </a:lnTo>
                <a:lnTo>
                  <a:pt x="247" y="350"/>
                </a:lnTo>
                <a:lnTo>
                  <a:pt x="232" y="427"/>
                </a:lnTo>
                <a:lnTo>
                  <a:pt x="215" y="495"/>
                </a:lnTo>
                <a:lnTo>
                  <a:pt x="198" y="550"/>
                </a:lnTo>
                <a:lnTo>
                  <a:pt x="222" y="541"/>
                </a:lnTo>
                <a:lnTo>
                  <a:pt x="244" y="521"/>
                </a:lnTo>
                <a:lnTo>
                  <a:pt x="262" y="502"/>
                </a:lnTo>
                <a:lnTo>
                  <a:pt x="267" y="492"/>
                </a:lnTo>
                <a:lnTo>
                  <a:pt x="264" y="528"/>
                </a:lnTo>
                <a:lnTo>
                  <a:pt x="257" y="570"/>
                </a:lnTo>
                <a:lnTo>
                  <a:pt x="244" y="618"/>
                </a:lnTo>
                <a:lnTo>
                  <a:pt x="232" y="667"/>
                </a:lnTo>
                <a:lnTo>
                  <a:pt x="218" y="715"/>
                </a:lnTo>
                <a:lnTo>
                  <a:pt x="205" y="757"/>
                </a:lnTo>
                <a:lnTo>
                  <a:pt x="193" y="793"/>
                </a:lnTo>
                <a:lnTo>
                  <a:pt x="183" y="819"/>
                </a:lnTo>
                <a:lnTo>
                  <a:pt x="198" y="816"/>
                </a:lnTo>
                <a:lnTo>
                  <a:pt x="213" y="806"/>
                </a:lnTo>
                <a:lnTo>
                  <a:pt x="227" y="796"/>
                </a:lnTo>
                <a:lnTo>
                  <a:pt x="242" y="787"/>
                </a:lnTo>
                <a:lnTo>
                  <a:pt x="254" y="777"/>
                </a:lnTo>
                <a:lnTo>
                  <a:pt x="264" y="770"/>
                </a:lnTo>
                <a:lnTo>
                  <a:pt x="269" y="764"/>
                </a:lnTo>
                <a:lnTo>
                  <a:pt x="271" y="761"/>
                </a:lnTo>
                <a:lnTo>
                  <a:pt x="264" y="800"/>
                </a:lnTo>
                <a:lnTo>
                  <a:pt x="252" y="851"/>
                </a:lnTo>
                <a:lnTo>
                  <a:pt x="235" y="910"/>
                </a:lnTo>
                <a:lnTo>
                  <a:pt x="215" y="971"/>
                </a:lnTo>
                <a:lnTo>
                  <a:pt x="196" y="1033"/>
                </a:lnTo>
                <a:lnTo>
                  <a:pt x="176" y="1088"/>
                </a:lnTo>
                <a:lnTo>
                  <a:pt x="159" y="1136"/>
                </a:lnTo>
                <a:lnTo>
                  <a:pt x="144" y="1168"/>
                </a:lnTo>
                <a:lnTo>
                  <a:pt x="159" y="1162"/>
                </a:lnTo>
                <a:lnTo>
                  <a:pt x="178" y="1149"/>
                </a:lnTo>
                <a:lnTo>
                  <a:pt x="198" y="1130"/>
                </a:lnTo>
                <a:lnTo>
                  <a:pt x="218" y="1104"/>
                </a:lnTo>
                <a:lnTo>
                  <a:pt x="237" y="1078"/>
                </a:lnTo>
                <a:lnTo>
                  <a:pt x="257" y="1052"/>
                </a:lnTo>
                <a:lnTo>
                  <a:pt x="271" y="1029"/>
                </a:lnTo>
                <a:lnTo>
                  <a:pt x="281" y="1010"/>
                </a:lnTo>
                <a:lnTo>
                  <a:pt x="281" y="1071"/>
                </a:lnTo>
                <a:lnTo>
                  <a:pt x="274" y="1143"/>
                </a:lnTo>
                <a:lnTo>
                  <a:pt x="264" y="1217"/>
                </a:lnTo>
                <a:lnTo>
                  <a:pt x="252" y="1278"/>
                </a:lnTo>
                <a:lnTo>
                  <a:pt x="269" y="1266"/>
                </a:lnTo>
                <a:lnTo>
                  <a:pt x="286" y="1249"/>
                </a:lnTo>
                <a:lnTo>
                  <a:pt x="303" y="1227"/>
                </a:lnTo>
                <a:lnTo>
                  <a:pt x="318" y="1204"/>
                </a:lnTo>
                <a:lnTo>
                  <a:pt x="333" y="1178"/>
                </a:lnTo>
                <a:lnTo>
                  <a:pt x="345" y="1159"/>
                </a:lnTo>
                <a:lnTo>
                  <a:pt x="355" y="1139"/>
                </a:lnTo>
                <a:lnTo>
                  <a:pt x="362" y="1123"/>
                </a:lnTo>
                <a:lnTo>
                  <a:pt x="367" y="1201"/>
                </a:lnTo>
                <a:lnTo>
                  <a:pt x="367" y="1295"/>
                </a:lnTo>
                <a:lnTo>
                  <a:pt x="357" y="1385"/>
                </a:lnTo>
                <a:lnTo>
                  <a:pt x="347" y="1443"/>
                </a:lnTo>
                <a:lnTo>
                  <a:pt x="347" y="1411"/>
                </a:lnTo>
                <a:lnTo>
                  <a:pt x="345" y="1372"/>
                </a:lnTo>
                <a:lnTo>
                  <a:pt x="337" y="1337"/>
                </a:lnTo>
                <a:lnTo>
                  <a:pt x="325" y="1311"/>
                </a:lnTo>
                <a:lnTo>
                  <a:pt x="323" y="1343"/>
                </a:lnTo>
                <a:lnTo>
                  <a:pt x="313" y="1382"/>
                </a:lnTo>
                <a:lnTo>
                  <a:pt x="298" y="1427"/>
                </a:lnTo>
                <a:lnTo>
                  <a:pt x="284" y="1476"/>
                </a:lnTo>
                <a:lnTo>
                  <a:pt x="264" y="1524"/>
                </a:lnTo>
                <a:lnTo>
                  <a:pt x="247" y="1566"/>
                </a:lnTo>
                <a:lnTo>
                  <a:pt x="230" y="1602"/>
                </a:lnTo>
                <a:lnTo>
                  <a:pt x="218" y="1628"/>
                </a:lnTo>
                <a:lnTo>
                  <a:pt x="230" y="1628"/>
                </a:lnTo>
                <a:lnTo>
                  <a:pt x="242" y="1621"/>
                </a:lnTo>
                <a:lnTo>
                  <a:pt x="254" y="1618"/>
                </a:lnTo>
                <a:lnTo>
                  <a:pt x="267" y="1609"/>
                </a:lnTo>
                <a:lnTo>
                  <a:pt x="276" y="1602"/>
                </a:lnTo>
                <a:lnTo>
                  <a:pt x="284" y="1599"/>
                </a:lnTo>
                <a:lnTo>
                  <a:pt x="289" y="1592"/>
                </a:lnTo>
                <a:lnTo>
                  <a:pt x="291" y="1592"/>
                </a:lnTo>
                <a:lnTo>
                  <a:pt x="289" y="1683"/>
                </a:lnTo>
                <a:lnTo>
                  <a:pt x="281" y="1754"/>
                </a:lnTo>
                <a:lnTo>
                  <a:pt x="271" y="1806"/>
                </a:lnTo>
                <a:lnTo>
                  <a:pt x="262" y="1832"/>
                </a:lnTo>
                <a:lnTo>
                  <a:pt x="276" y="1819"/>
                </a:lnTo>
                <a:lnTo>
                  <a:pt x="296" y="1796"/>
                </a:lnTo>
                <a:lnTo>
                  <a:pt x="315" y="1767"/>
                </a:lnTo>
                <a:lnTo>
                  <a:pt x="335" y="1735"/>
                </a:lnTo>
                <a:lnTo>
                  <a:pt x="352" y="1702"/>
                </a:lnTo>
                <a:lnTo>
                  <a:pt x="367" y="1673"/>
                </a:lnTo>
                <a:lnTo>
                  <a:pt x="377" y="1654"/>
                </a:lnTo>
                <a:lnTo>
                  <a:pt x="382" y="1647"/>
                </a:lnTo>
                <a:lnTo>
                  <a:pt x="379" y="1725"/>
                </a:lnTo>
                <a:lnTo>
                  <a:pt x="372" y="1796"/>
                </a:lnTo>
                <a:lnTo>
                  <a:pt x="364" y="1851"/>
                </a:lnTo>
                <a:lnTo>
                  <a:pt x="362" y="1874"/>
                </a:lnTo>
                <a:lnTo>
                  <a:pt x="374" y="1851"/>
                </a:lnTo>
                <a:lnTo>
                  <a:pt x="386" y="1825"/>
                </a:lnTo>
                <a:lnTo>
                  <a:pt x="399" y="1796"/>
                </a:lnTo>
                <a:lnTo>
                  <a:pt x="413" y="1767"/>
                </a:lnTo>
                <a:lnTo>
                  <a:pt x="423" y="1741"/>
                </a:lnTo>
                <a:lnTo>
                  <a:pt x="433" y="1719"/>
                </a:lnTo>
                <a:lnTo>
                  <a:pt x="438" y="1706"/>
                </a:lnTo>
                <a:lnTo>
                  <a:pt x="440" y="1699"/>
                </a:lnTo>
                <a:lnTo>
                  <a:pt x="445" y="1812"/>
                </a:lnTo>
                <a:lnTo>
                  <a:pt x="448" y="1913"/>
                </a:lnTo>
                <a:lnTo>
                  <a:pt x="450" y="1997"/>
                </a:lnTo>
                <a:lnTo>
                  <a:pt x="445" y="2062"/>
                </a:lnTo>
                <a:lnTo>
                  <a:pt x="455" y="2045"/>
                </a:lnTo>
                <a:lnTo>
                  <a:pt x="470" y="2019"/>
                </a:lnTo>
                <a:lnTo>
                  <a:pt x="487" y="1994"/>
                </a:lnTo>
                <a:lnTo>
                  <a:pt x="504" y="1964"/>
                </a:lnTo>
                <a:lnTo>
                  <a:pt x="523" y="1935"/>
                </a:lnTo>
                <a:lnTo>
                  <a:pt x="538" y="1903"/>
                </a:lnTo>
                <a:lnTo>
                  <a:pt x="553" y="1877"/>
                </a:lnTo>
                <a:lnTo>
                  <a:pt x="560" y="1851"/>
                </a:lnTo>
                <a:lnTo>
                  <a:pt x="568" y="1890"/>
                </a:lnTo>
                <a:lnTo>
                  <a:pt x="582" y="1945"/>
                </a:lnTo>
                <a:lnTo>
                  <a:pt x="607" y="2007"/>
                </a:lnTo>
                <a:lnTo>
                  <a:pt x="638" y="2074"/>
                </a:lnTo>
                <a:lnTo>
                  <a:pt x="675" y="2142"/>
                </a:lnTo>
                <a:lnTo>
                  <a:pt x="714" y="2207"/>
                </a:lnTo>
                <a:lnTo>
                  <a:pt x="758" y="2259"/>
                </a:lnTo>
                <a:lnTo>
                  <a:pt x="802" y="2298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272"/>
          <p:cNvSpPr/>
          <p:nvPr/>
        </p:nvSpPr>
        <p:spPr>
          <a:xfrm>
            <a:off x="8499600" y="3005280"/>
            <a:ext cx="322200" cy="595080"/>
          </a:xfrm>
          <a:custGeom>
            <a:avLst/>
            <a:gdLst>
              <a:gd name="textAreaLeft" fmla="*/ 0 w 322200"/>
              <a:gd name="textAreaRight" fmla="*/ 322560 w 3222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03" h="375">
                <a:moveTo>
                  <a:pt x="0" y="0"/>
                </a:moveTo>
                <a:lnTo>
                  <a:pt x="2" y="32"/>
                </a:lnTo>
                <a:lnTo>
                  <a:pt x="7" y="78"/>
                </a:lnTo>
                <a:lnTo>
                  <a:pt x="19" y="129"/>
                </a:lnTo>
                <a:lnTo>
                  <a:pt x="39" y="188"/>
                </a:lnTo>
                <a:lnTo>
                  <a:pt x="63" y="246"/>
                </a:lnTo>
                <a:lnTo>
                  <a:pt x="100" y="301"/>
                </a:lnTo>
                <a:lnTo>
                  <a:pt x="147" y="343"/>
                </a:lnTo>
                <a:lnTo>
                  <a:pt x="203" y="375"/>
                </a:lnTo>
                <a:lnTo>
                  <a:pt x="178" y="343"/>
                </a:lnTo>
                <a:lnTo>
                  <a:pt x="159" y="304"/>
                </a:lnTo>
                <a:lnTo>
                  <a:pt x="144" y="269"/>
                </a:lnTo>
                <a:lnTo>
                  <a:pt x="137" y="230"/>
                </a:lnTo>
                <a:lnTo>
                  <a:pt x="129" y="188"/>
                </a:lnTo>
                <a:lnTo>
                  <a:pt x="127" y="146"/>
                </a:lnTo>
                <a:lnTo>
                  <a:pt x="122" y="104"/>
                </a:lnTo>
                <a:lnTo>
                  <a:pt x="120" y="58"/>
                </a:lnTo>
                <a:lnTo>
                  <a:pt x="115" y="113"/>
                </a:lnTo>
                <a:lnTo>
                  <a:pt x="107" y="162"/>
                </a:lnTo>
                <a:lnTo>
                  <a:pt x="100" y="201"/>
                </a:lnTo>
                <a:lnTo>
                  <a:pt x="98" y="217"/>
                </a:lnTo>
                <a:lnTo>
                  <a:pt x="83" y="197"/>
                </a:lnTo>
                <a:lnTo>
                  <a:pt x="68" y="165"/>
                </a:lnTo>
                <a:lnTo>
                  <a:pt x="51" y="133"/>
                </a:lnTo>
                <a:lnTo>
                  <a:pt x="36" y="94"/>
                </a:lnTo>
                <a:lnTo>
                  <a:pt x="22" y="58"/>
                </a:lnTo>
                <a:lnTo>
                  <a:pt x="10" y="29"/>
                </a:lnTo>
                <a:lnTo>
                  <a:pt x="2" y="7"/>
                </a:lnTo>
                <a:lnTo>
                  <a:pt x="0" y="0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273"/>
          <p:cNvSpPr/>
          <p:nvPr/>
        </p:nvSpPr>
        <p:spPr>
          <a:xfrm>
            <a:off x="1417680" y="2789280"/>
            <a:ext cx="5186160" cy="390348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w="3267" h="2459">
                <a:moveTo>
                  <a:pt x="1862" y="1139"/>
                </a:moveTo>
                <a:lnTo>
                  <a:pt x="1855" y="1078"/>
                </a:lnTo>
                <a:lnTo>
                  <a:pt x="1840" y="1016"/>
                </a:lnTo>
                <a:lnTo>
                  <a:pt x="1825" y="958"/>
                </a:lnTo>
                <a:lnTo>
                  <a:pt x="1815" y="903"/>
                </a:lnTo>
                <a:lnTo>
                  <a:pt x="1813" y="848"/>
                </a:lnTo>
                <a:lnTo>
                  <a:pt x="1823" y="790"/>
                </a:lnTo>
                <a:lnTo>
                  <a:pt x="1852" y="731"/>
                </a:lnTo>
                <a:lnTo>
                  <a:pt x="1906" y="673"/>
                </a:lnTo>
                <a:lnTo>
                  <a:pt x="1962" y="625"/>
                </a:lnTo>
                <a:lnTo>
                  <a:pt x="2006" y="589"/>
                </a:lnTo>
                <a:lnTo>
                  <a:pt x="2043" y="570"/>
                </a:lnTo>
                <a:lnTo>
                  <a:pt x="2075" y="560"/>
                </a:lnTo>
                <a:lnTo>
                  <a:pt x="2107" y="553"/>
                </a:lnTo>
                <a:lnTo>
                  <a:pt x="2146" y="547"/>
                </a:lnTo>
                <a:lnTo>
                  <a:pt x="2192" y="541"/>
                </a:lnTo>
                <a:lnTo>
                  <a:pt x="2256" y="524"/>
                </a:lnTo>
                <a:lnTo>
                  <a:pt x="2317" y="508"/>
                </a:lnTo>
                <a:lnTo>
                  <a:pt x="2364" y="498"/>
                </a:lnTo>
                <a:lnTo>
                  <a:pt x="2398" y="492"/>
                </a:lnTo>
                <a:lnTo>
                  <a:pt x="2427" y="486"/>
                </a:lnTo>
                <a:lnTo>
                  <a:pt x="2454" y="486"/>
                </a:lnTo>
                <a:lnTo>
                  <a:pt x="2486" y="486"/>
                </a:lnTo>
                <a:lnTo>
                  <a:pt x="2525" y="486"/>
                </a:lnTo>
                <a:lnTo>
                  <a:pt x="2577" y="486"/>
                </a:lnTo>
                <a:lnTo>
                  <a:pt x="2606" y="486"/>
                </a:lnTo>
                <a:lnTo>
                  <a:pt x="2633" y="492"/>
                </a:lnTo>
                <a:lnTo>
                  <a:pt x="2657" y="498"/>
                </a:lnTo>
                <a:lnTo>
                  <a:pt x="2682" y="505"/>
                </a:lnTo>
                <a:lnTo>
                  <a:pt x="2706" y="515"/>
                </a:lnTo>
                <a:lnTo>
                  <a:pt x="2728" y="524"/>
                </a:lnTo>
                <a:lnTo>
                  <a:pt x="2748" y="534"/>
                </a:lnTo>
                <a:lnTo>
                  <a:pt x="2770" y="544"/>
                </a:lnTo>
                <a:lnTo>
                  <a:pt x="2792" y="550"/>
                </a:lnTo>
                <a:lnTo>
                  <a:pt x="2814" y="560"/>
                </a:lnTo>
                <a:lnTo>
                  <a:pt x="2838" y="566"/>
                </a:lnTo>
                <a:lnTo>
                  <a:pt x="2860" y="570"/>
                </a:lnTo>
                <a:lnTo>
                  <a:pt x="2887" y="570"/>
                </a:lnTo>
                <a:lnTo>
                  <a:pt x="2914" y="570"/>
                </a:lnTo>
                <a:lnTo>
                  <a:pt x="2944" y="563"/>
                </a:lnTo>
                <a:lnTo>
                  <a:pt x="2975" y="553"/>
                </a:lnTo>
                <a:lnTo>
                  <a:pt x="3039" y="537"/>
                </a:lnTo>
                <a:lnTo>
                  <a:pt x="3098" y="531"/>
                </a:lnTo>
                <a:lnTo>
                  <a:pt x="3149" y="531"/>
                </a:lnTo>
                <a:lnTo>
                  <a:pt x="3193" y="531"/>
                </a:lnTo>
                <a:lnTo>
                  <a:pt x="3227" y="524"/>
                </a:lnTo>
                <a:lnTo>
                  <a:pt x="3252" y="511"/>
                </a:lnTo>
                <a:lnTo>
                  <a:pt x="3267" y="486"/>
                </a:lnTo>
                <a:lnTo>
                  <a:pt x="3267" y="443"/>
                </a:lnTo>
                <a:lnTo>
                  <a:pt x="3262" y="392"/>
                </a:lnTo>
                <a:lnTo>
                  <a:pt x="3254" y="340"/>
                </a:lnTo>
                <a:lnTo>
                  <a:pt x="3247" y="295"/>
                </a:lnTo>
                <a:lnTo>
                  <a:pt x="3240" y="249"/>
                </a:lnTo>
                <a:lnTo>
                  <a:pt x="3227" y="214"/>
                </a:lnTo>
                <a:lnTo>
                  <a:pt x="3215" y="181"/>
                </a:lnTo>
                <a:lnTo>
                  <a:pt x="3196" y="155"/>
                </a:lnTo>
                <a:lnTo>
                  <a:pt x="3174" y="139"/>
                </a:lnTo>
                <a:lnTo>
                  <a:pt x="3144" y="126"/>
                </a:lnTo>
                <a:lnTo>
                  <a:pt x="3112" y="110"/>
                </a:lnTo>
                <a:lnTo>
                  <a:pt x="3076" y="94"/>
                </a:lnTo>
                <a:lnTo>
                  <a:pt x="3039" y="78"/>
                </a:lnTo>
                <a:lnTo>
                  <a:pt x="3002" y="62"/>
                </a:lnTo>
                <a:lnTo>
                  <a:pt x="2968" y="52"/>
                </a:lnTo>
                <a:lnTo>
                  <a:pt x="2939" y="42"/>
                </a:lnTo>
                <a:lnTo>
                  <a:pt x="2914" y="39"/>
                </a:lnTo>
                <a:lnTo>
                  <a:pt x="2885" y="39"/>
                </a:lnTo>
                <a:lnTo>
                  <a:pt x="2846" y="36"/>
                </a:lnTo>
                <a:lnTo>
                  <a:pt x="2797" y="29"/>
                </a:lnTo>
                <a:lnTo>
                  <a:pt x="2745" y="23"/>
                </a:lnTo>
                <a:lnTo>
                  <a:pt x="2696" y="20"/>
                </a:lnTo>
                <a:lnTo>
                  <a:pt x="2655" y="13"/>
                </a:lnTo>
                <a:lnTo>
                  <a:pt x="2625" y="10"/>
                </a:lnTo>
                <a:lnTo>
                  <a:pt x="2616" y="10"/>
                </a:lnTo>
                <a:lnTo>
                  <a:pt x="2547" y="0"/>
                </a:lnTo>
                <a:lnTo>
                  <a:pt x="2547" y="3"/>
                </a:lnTo>
                <a:lnTo>
                  <a:pt x="2552" y="16"/>
                </a:lnTo>
                <a:lnTo>
                  <a:pt x="2557" y="32"/>
                </a:lnTo>
                <a:lnTo>
                  <a:pt x="2567" y="52"/>
                </a:lnTo>
                <a:lnTo>
                  <a:pt x="2577" y="75"/>
                </a:lnTo>
                <a:lnTo>
                  <a:pt x="2591" y="94"/>
                </a:lnTo>
                <a:lnTo>
                  <a:pt x="2608" y="110"/>
                </a:lnTo>
                <a:lnTo>
                  <a:pt x="2630" y="120"/>
                </a:lnTo>
                <a:lnTo>
                  <a:pt x="2655" y="126"/>
                </a:lnTo>
                <a:lnTo>
                  <a:pt x="2679" y="130"/>
                </a:lnTo>
                <a:lnTo>
                  <a:pt x="2709" y="136"/>
                </a:lnTo>
                <a:lnTo>
                  <a:pt x="2738" y="139"/>
                </a:lnTo>
                <a:lnTo>
                  <a:pt x="2767" y="149"/>
                </a:lnTo>
                <a:lnTo>
                  <a:pt x="2797" y="162"/>
                </a:lnTo>
                <a:lnTo>
                  <a:pt x="2829" y="178"/>
                </a:lnTo>
                <a:lnTo>
                  <a:pt x="2860" y="201"/>
                </a:lnTo>
                <a:lnTo>
                  <a:pt x="2890" y="230"/>
                </a:lnTo>
                <a:lnTo>
                  <a:pt x="2914" y="262"/>
                </a:lnTo>
                <a:lnTo>
                  <a:pt x="2931" y="298"/>
                </a:lnTo>
                <a:lnTo>
                  <a:pt x="2941" y="330"/>
                </a:lnTo>
                <a:lnTo>
                  <a:pt x="2941" y="356"/>
                </a:lnTo>
                <a:lnTo>
                  <a:pt x="2929" y="372"/>
                </a:lnTo>
                <a:lnTo>
                  <a:pt x="2907" y="379"/>
                </a:lnTo>
                <a:lnTo>
                  <a:pt x="2868" y="372"/>
                </a:lnTo>
                <a:lnTo>
                  <a:pt x="2821" y="356"/>
                </a:lnTo>
                <a:lnTo>
                  <a:pt x="2777" y="343"/>
                </a:lnTo>
                <a:lnTo>
                  <a:pt x="2733" y="327"/>
                </a:lnTo>
                <a:lnTo>
                  <a:pt x="2692" y="311"/>
                </a:lnTo>
                <a:lnTo>
                  <a:pt x="2650" y="301"/>
                </a:lnTo>
                <a:lnTo>
                  <a:pt x="2608" y="291"/>
                </a:lnTo>
                <a:lnTo>
                  <a:pt x="2569" y="285"/>
                </a:lnTo>
                <a:lnTo>
                  <a:pt x="2532" y="282"/>
                </a:lnTo>
                <a:lnTo>
                  <a:pt x="2513" y="282"/>
                </a:lnTo>
                <a:lnTo>
                  <a:pt x="2491" y="282"/>
                </a:lnTo>
                <a:lnTo>
                  <a:pt x="2466" y="282"/>
                </a:lnTo>
                <a:lnTo>
                  <a:pt x="2442" y="285"/>
                </a:lnTo>
                <a:lnTo>
                  <a:pt x="2415" y="285"/>
                </a:lnTo>
                <a:lnTo>
                  <a:pt x="2388" y="285"/>
                </a:lnTo>
                <a:lnTo>
                  <a:pt x="2359" y="288"/>
                </a:lnTo>
                <a:lnTo>
                  <a:pt x="2332" y="288"/>
                </a:lnTo>
                <a:lnTo>
                  <a:pt x="2302" y="291"/>
                </a:lnTo>
                <a:lnTo>
                  <a:pt x="2276" y="295"/>
                </a:lnTo>
                <a:lnTo>
                  <a:pt x="2249" y="295"/>
                </a:lnTo>
                <a:lnTo>
                  <a:pt x="2224" y="298"/>
                </a:lnTo>
                <a:lnTo>
                  <a:pt x="2200" y="301"/>
                </a:lnTo>
                <a:lnTo>
                  <a:pt x="2178" y="304"/>
                </a:lnTo>
                <a:lnTo>
                  <a:pt x="2158" y="308"/>
                </a:lnTo>
                <a:lnTo>
                  <a:pt x="2141" y="311"/>
                </a:lnTo>
                <a:lnTo>
                  <a:pt x="2124" y="317"/>
                </a:lnTo>
                <a:lnTo>
                  <a:pt x="2102" y="324"/>
                </a:lnTo>
                <a:lnTo>
                  <a:pt x="2080" y="333"/>
                </a:lnTo>
                <a:lnTo>
                  <a:pt x="2053" y="346"/>
                </a:lnTo>
                <a:lnTo>
                  <a:pt x="2023" y="356"/>
                </a:lnTo>
                <a:lnTo>
                  <a:pt x="1994" y="372"/>
                </a:lnTo>
                <a:lnTo>
                  <a:pt x="1965" y="385"/>
                </a:lnTo>
                <a:lnTo>
                  <a:pt x="1933" y="401"/>
                </a:lnTo>
                <a:lnTo>
                  <a:pt x="1901" y="418"/>
                </a:lnTo>
                <a:lnTo>
                  <a:pt x="1872" y="434"/>
                </a:lnTo>
                <a:lnTo>
                  <a:pt x="1840" y="450"/>
                </a:lnTo>
                <a:lnTo>
                  <a:pt x="1813" y="463"/>
                </a:lnTo>
                <a:lnTo>
                  <a:pt x="1786" y="479"/>
                </a:lnTo>
                <a:lnTo>
                  <a:pt x="1762" y="492"/>
                </a:lnTo>
                <a:lnTo>
                  <a:pt x="1740" y="505"/>
                </a:lnTo>
                <a:lnTo>
                  <a:pt x="1722" y="515"/>
                </a:lnTo>
                <a:lnTo>
                  <a:pt x="1688" y="537"/>
                </a:lnTo>
                <a:lnTo>
                  <a:pt x="1652" y="570"/>
                </a:lnTo>
                <a:lnTo>
                  <a:pt x="1615" y="608"/>
                </a:lnTo>
                <a:lnTo>
                  <a:pt x="1581" y="651"/>
                </a:lnTo>
                <a:lnTo>
                  <a:pt x="1551" y="696"/>
                </a:lnTo>
                <a:lnTo>
                  <a:pt x="1529" y="741"/>
                </a:lnTo>
                <a:lnTo>
                  <a:pt x="1517" y="786"/>
                </a:lnTo>
                <a:lnTo>
                  <a:pt x="1517" y="825"/>
                </a:lnTo>
                <a:lnTo>
                  <a:pt x="1527" y="877"/>
                </a:lnTo>
                <a:lnTo>
                  <a:pt x="1541" y="958"/>
                </a:lnTo>
                <a:lnTo>
                  <a:pt x="1559" y="1052"/>
                </a:lnTo>
                <a:lnTo>
                  <a:pt x="1576" y="1152"/>
                </a:lnTo>
                <a:lnTo>
                  <a:pt x="1595" y="1249"/>
                </a:lnTo>
                <a:lnTo>
                  <a:pt x="1612" y="1337"/>
                </a:lnTo>
                <a:lnTo>
                  <a:pt x="1629" y="1405"/>
                </a:lnTo>
                <a:lnTo>
                  <a:pt x="1647" y="1440"/>
                </a:lnTo>
                <a:lnTo>
                  <a:pt x="1649" y="1466"/>
                </a:lnTo>
                <a:lnTo>
                  <a:pt x="1632" y="1505"/>
                </a:lnTo>
                <a:lnTo>
                  <a:pt x="1598" y="1550"/>
                </a:lnTo>
                <a:lnTo>
                  <a:pt x="1559" y="1595"/>
                </a:lnTo>
                <a:lnTo>
                  <a:pt x="1512" y="1644"/>
                </a:lnTo>
                <a:lnTo>
                  <a:pt x="1470" y="1683"/>
                </a:lnTo>
                <a:lnTo>
                  <a:pt x="1436" y="1712"/>
                </a:lnTo>
                <a:lnTo>
                  <a:pt x="1417" y="1725"/>
                </a:lnTo>
                <a:lnTo>
                  <a:pt x="1363" y="1744"/>
                </a:lnTo>
                <a:lnTo>
                  <a:pt x="1306" y="1754"/>
                </a:lnTo>
                <a:lnTo>
                  <a:pt x="1250" y="1757"/>
                </a:lnTo>
                <a:lnTo>
                  <a:pt x="1196" y="1754"/>
                </a:lnTo>
                <a:lnTo>
                  <a:pt x="1143" y="1741"/>
                </a:lnTo>
                <a:lnTo>
                  <a:pt x="1089" y="1725"/>
                </a:lnTo>
                <a:lnTo>
                  <a:pt x="1040" y="1705"/>
                </a:lnTo>
                <a:lnTo>
                  <a:pt x="991" y="1683"/>
                </a:lnTo>
                <a:lnTo>
                  <a:pt x="947" y="1660"/>
                </a:lnTo>
                <a:lnTo>
                  <a:pt x="908" y="1638"/>
                </a:lnTo>
                <a:lnTo>
                  <a:pt x="871" y="1612"/>
                </a:lnTo>
                <a:lnTo>
                  <a:pt x="842" y="1592"/>
                </a:lnTo>
                <a:lnTo>
                  <a:pt x="817" y="1573"/>
                </a:lnTo>
                <a:lnTo>
                  <a:pt x="797" y="1557"/>
                </a:lnTo>
                <a:lnTo>
                  <a:pt x="788" y="1547"/>
                </a:lnTo>
                <a:lnTo>
                  <a:pt x="783" y="1544"/>
                </a:lnTo>
                <a:lnTo>
                  <a:pt x="2" y="1796"/>
                </a:lnTo>
                <a:lnTo>
                  <a:pt x="2" y="1806"/>
                </a:lnTo>
                <a:lnTo>
                  <a:pt x="0" y="1828"/>
                </a:lnTo>
                <a:lnTo>
                  <a:pt x="0" y="1864"/>
                </a:lnTo>
                <a:lnTo>
                  <a:pt x="0" y="1909"/>
                </a:lnTo>
                <a:lnTo>
                  <a:pt x="5" y="1961"/>
                </a:lnTo>
                <a:lnTo>
                  <a:pt x="14" y="2013"/>
                </a:lnTo>
                <a:lnTo>
                  <a:pt x="32" y="2065"/>
                </a:lnTo>
                <a:lnTo>
                  <a:pt x="56" y="2110"/>
                </a:lnTo>
                <a:lnTo>
                  <a:pt x="73" y="2133"/>
                </a:lnTo>
                <a:lnTo>
                  <a:pt x="98" y="2155"/>
                </a:lnTo>
                <a:lnTo>
                  <a:pt x="127" y="2181"/>
                </a:lnTo>
                <a:lnTo>
                  <a:pt x="159" y="2207"/>
                </a:lnTo>
                <a:lnTo>
                  <a:pt x="198" y="2233"/>
                </a:lnTo>
                <a:lnTo>
                  <a:pt x="240" y="2259"/>
                </a:lnTo>
                <a:lnTo>
                  <a:pt x="281" y="2285"/>
                </a:lnTo>
                <a:lnTo>
                  <a:pt x="328" y="2311"/>
                </a:lnTo>
                <a:lnTo>
                  <a:pt x="374" y="2336"/>
                </a:lnTo>
                <a:lnTo>
                  <a:pt x="421" y="2359"/>
                </a:lnTo>
                <a:lnTo>
                  <a:pt x="467" y="2382"/>
                </a:lnTo>
                <a:lnTo>
                  <a:pt x="511" y="2401"/>
                </a:lnTo>
                <a:lnTo>
                  <a:pt x="555" y="2421"/>
                </a:lnTo>
                <a:lnTo>
                  <a:pt x="597" y="2434"/>
                </a:lnTo>
                <a:lnTo>
                  <a:pt x="634" y="2447"/>
                </a:lnTo>
                <a:lnTo>
                  <a:pt x="668" y="2453"/>
                </a:lnTo>
                <a:lnTo>
                  <a:pt x="702" y="2456"/>
                </a:lnTo>
                <a:lnTo>
                  <a:pt x="744" y="2459"/>
                </a:lnTo>
                <a:lnTo>
                  <a:pt x="790" y="2459"/>
                </a:lnTo>
                <a:lnTo>
                  <a:pt x="839" y="2456"/>
                </a:lnTo>
                <a:lnTo>
                  <a:pt x="893" y="2453"/>
                </a:lnTo>
                <a:lnTo>
                  <a:pt x="949" y="2447"/>
                </a:lnTo>
                <a:lnTo>
                  <a:pt x="1008" y="2437"/>
                </a:lnTo>
                <a:lnTo>
                  <a:pt x="1069" y="2430"/>
                </a:lnTo>
                <a:lnTo>
                  <a:pt x="1128" y="2417"/>
                </a:lnTo>
                <a:lnTo>
                  <a:pt x="1187" y="2408"/>
                </a:lnTo>
                <a:lnTo>
                  <a:pt x="1245" y="2395"/>
                </a:lnTo>
                <a:lnTo>
                  <a:pt x="1302" y="2382"/>
                </a:lnTo>
                <a:lnTo>
                  <a:pt x="1353" y="2369"/>
                </a:lnTo>
                <a:lnTo>
                  <a:pt x="1402" y="2356"/>
                </a:lnTo>
                <a:lnTo>
                  <a:pt x="1446" y="2343"/>
                </a:lnTo>
                <a:lnTo>
                  <a:pt x="1485" y="2330"/>
                </a:lnTo>
                <a:lnTo>
                  <a:pt x="1522" y="2314"/>
                </a:lnTo>
                <a:lnTo>
                  <a:pt x="1563" y="2298"/>
                </a:lnTo>
                <a:lnTo>
                  <a:pt x="1605" y="2275"/>
                </a:lnTo>
                <a:lnTo>
                  <a:pt x="1649" y="2246"/>
                </a:lnTo>
                <a:lnTo>
                  <a:pt x="1693" y="2220"/>
                </a:lnTo>
                <a:lnTo>
                  <a:pt x="1740" y="2188"/>
                </a:lnTo>
                <a:lnTo>
                  <a:pt x="1784" y="2152"/>
                </a:lnTo>
                <a:lnTo>
                  <a:pt x="1828" y="2116"/>
                </a:lnTo>
                <a:lnTo>
                  <a:pt x="1867" y="2078"/>
                </a:lnTo>
                <a:lnTo>
                  <a:pt x="1906" y="2039"/>
                </a:lnTo>
                <a:lnTo>
                  <a:pt x="1943" y="2000"/>
                </a:lnTo>
                <a:lnTo>
                  <a:pt x="1977" y="1958"/>
                </a:lnTo>
                <a:lnTo>
                  <a:pt x="2004" y="1919"/>
                </a:lnTo>
                <a:lnTo>
                  <a:pt x="2028" y="1877"/>
                </a:lnTo>
                <a:lnTo>
                  <a:pt x="2045" y="1835"/>
                </a:lnTo>
                <a:lnTo>
                  <a:pt x="2058" y="1796"/>
                </a:lnTo>
                <a:lnTo>
                  <a:pt x="2060" y="1770"/>
                </a:lnTo>
                <a:lnTo>
                  <a:pt x="2063" y="1702"/>
                </a:lnTo>
                <a:lnTo>
                  <a:pt x="2058" y="1599"/>
                </a:lnTo>
                <a:lnTo>
                  <a:pt x="2033" y="1472"/>
                </a:lnTo>
                <a:lnTo>
                  <a:pt x="2014" y="1405"/>
                </a:lnTo>
                <a:lnTo>
                  <a:pt x="1989" y="1343"/>
                </a:lnTo>
                <a:lnTo>
                  <a:pt x="1960" y="1288"/>
                </a:lnTo>
                <a:lnTo>
                  <a:pt x="1933" y="1236"/>
                </a:lnTo>
                <a:lnTo>
                  <a:pt x="1906" y="1197"/>
                </a:lnTo>
                <a:lnTo>
                  <a:pt x="1884" y="1165"/>
                </a:lnTo>
                <a:lnTo>
                  <a:pt x="1867" y="1146"/>
                </a:lnTo>
                <a:lnTo>
                  <a:pt x="1862" y="1139"/>
                </a:lnTo>
                <a:close/>
              </a:path>
            </a:pathLst>
          </a:custGeom>
          <a:solidFill>
            <a:srgbClr val="a8e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274"/>
          <p:cNvSpPr/>
          <p:nvPr/>
        </p:nvSpPr>
        <p:spPr>
          <a:xfrm>
            <a:off x="6148440" y="2198520"/>
            <a:ext cx="804960" cy="1567080"/>
          </a:xfrm>
          <a:custGeom>
            <a:avLst/>
            <a:gdLst>
              <a:gd name="textAreaLeft" fmla="*/ 0 w 804960"/>
              <a:gd name="textAreaRight" fmla="*/ 805320 w 804960"/>
              <a:gd name="textAreaTop" fmla="*/ 0 h 1567080"/>
              <a:gd name="textAreaBottom" fmla="*/ 1567440 h 1567080"/>
            </a:gdLst>
            <a:ahLst/>
            <a:rect l="textAreaLeft" t="textAreaTop" r="textAreaRight" b="textAreaBottom"/>
            <a:pathLst>
              <a:path w="507" h="987">
                <a:moveTo>
                  <a:pt x="482" y="987"/>
                </a:moveTo>
                <a:lnTo>
                  <a:pt x="465" y="974"/>
                </a:lnTo>
                <a:lnTo>
                  <a:pt x="441" y="964"/>
                </a:lnTo>
                <a:lnTo>
                  <a:pt x="414" y="958"/>
                </a:lnTo>
                <a:lnTo>
                  <a:pt x="384" y="948"/>
                </a:lnTo>
                <a:lnTo>
                  <a:pt x="358" y="945"/>
                </a:lnTo>
                <a:lnTo>
                  <a:pt x="331" y="945"/>
                </a:lnTo>
                <a:lnTo>
                  <a:pt x="309" y="945"/>
                </a:lnTo>
                <a:lnTo>
                  <a:pt x="294" y="951"/>
                </a:lnTo>
                <a:lnTo>
                  <a:pt x="274" y="961"/>
                </a:lnTo>
                <a:lnTo>
                  <a:pt x="250" y="968"/>
                </a:lnTo>
                <a:lnTo>
                  <a:pt x="223" y="971"/>
                </a:lnTo>
                <a:lnTo>
                  <a:pt x="196" y="974"/>
                </a:lnTo>
                <a:lnTo>
                  <a:pt x="172" y="971"/>
                </a:lnTo>
                <a:lnTo>
                  <a:pt x="147" y="971"/>
                </a:lnTo>
                <a:lnTo>
                  <a:pt x="130" y="964"/>
                </a:lnTo>
                <a:lnTo>
                  <a:pt x="118" y="961"/>
                </a:lnTo>
                <a:lnTo>
                  <a:pt x="108" y="958"/>
                </a:lnTo>
                <a:lnTo>
                  <a:pt x="96" y="951"/>
                </a:lnTo>
                <a:lnTo>
                  <a:pt x="83" y="948"/>
                </a:lnTo>
                <a:lnTo>
                  <a:pt x="66" y="942"/>
                </a:lnTo>
                <a:lnTo>
                  <a:pt x="52" y="938"/>
                </a:lnTo>
                <a:lnTo>
                  <a:pt x="35" y="932"/>
                </a:lnTo>
                <a:lnTo>
                  <a:pt x="17" y="929"/>
                </a:lnTo>
                <a:lnTo>
                  <a:pt x="0" y="922"/>
                </a:lnTo>
                <a:lnTo>
                  <a:pt x="22" y="903"/>
                </a:lnTo>
                <a:lnTo>
                  <a:pt x="42" y="877"/>
                </a:lnTo>
                <a:lnTo>
                  <a:pt x="59" y="848"/>
                </a:lnTo>
                <a:lnTo>
                  <a:pt x="69" y="825"/>
                </a:lnTo>
                <a:lnTo>
                  <a:pt x="61" y="825"/>
                </a:lnTo>
                <a:lnTo>
                  <a:pt x="44" y="828"/>
                </a:lnTo>
                <a:lnTo>
                  <a:pt x="25" y="828"/>
                </a:lnTo>
                <a:lnTo>
                  <a:pt x="13" y="825"/>
                </a:lnTo>
                <a:lnTo>
                  <a:pt x="32" y="806"/>
                </a:lnTo>
                <a:lnTo>
                  <a:pt x="49" y="783"/>
                </a:lnTo>
                <a:lnTo>
                  <a:pt x="66" y="754"/>
                </a:lnTo>
                <a:lnTo>
                  <a:pt x="81" y="725"/>
                </a:lnTo>
                <a:lnTo>
                  <a:pt x="93" y="696"/>
                </a:lnTo>
                <a:lnTo>
                  <a:pt x="103" y="670"/>
                </a:lnTo>
                <a:lnTo>
                  <a:pt x="110" y="650"/>
                </a:lnTo>
                <a:lnTo>
                  <a:pt x="118" y="634"/>
                </a:lnTo>
                <a:lnTo>
                  <a:pt x="106" y="644"/>
                </a:lnTo>
                <a:lnTo>
                  <a:pt x="91" y="647"/>
                </a:lnTo>
                <a:lnTo>
                  <a:pt x="74" y="647"/>
                </a:lnTo>
                <a:lnTo>
                  <a:pt x="61" y="641"/>
                </a:lnTo>
                <a:lnTo>
                  <a:pt x="81" y="615"/>
                </a:lnTo>
                <a:lnTo>
                  <a:pt x="101" y="582"/>
                </a:lnTo>
                <a:lnTo>
                  <a:pt x="118" y="550"/>
                </a:lnTo>
                <a:lnTo>
                  <a:pt x="128" y="524"/>
                </a:lnTo>
                <a:lnTo>
                  <a:pt x="123" y="524"/>
                </a:lnTo>
                <a:lnTo>
                  <a:pt x="110" y="527"/>
                </a:lnTo>
                <a:lnTo>
                  <a:pt x="96" y="527"/>
                </a:lnTo>
                <a:lnTo>
                  <a:pt x="86" y="524"/>
                </a:lnTo>
                <a:lnTo>
                  <a:pt x="98" y="511"/>
                </a:lnTo>
                <a:lnTo>
                  <a:pt x="113" y="489"/>
                </a:lnTo>
                <a:lnTo>
                  <a:pt x="130" y="463"/>
                </a:lnTo>
                <a:lnTo>
                  <a:pt x="150" y="437"/>
                </a:lnTo>
                <a:lnTo>
                  <a:pt x="167" y="408"/>
                </a:lnTo>
                <a:lnTo>
                  <a:pt x="184" y="379"/>
                </a:lnTo>
                <a:lnTo>
                  <a:pt x="196" y="349"/>
                </a:lnTo>
                <a:lnTo>
                  <a:pt x="206" y="327"/>
                </a:lnTo>
                <a:lnTo>
                  <a:pt x="203" y="327"/>
                </a:lnTo>
                <a:lnTo>
                  <a:pt x="194" y="330"/>
                </a:lnTo>
                <a:lnTo>
                  <a:pt x="184" y="333"/>
                </a:lnTo>
                <a:lnTo>
                  <a:pt x="172" y="330"/>
                </a:lnTo>
                <a:lnTo>
                  <a:pt x="189" y="311"/>
                </a:lnTo>
                <a:lnTo>
                  <a:pt x="206" y="288"/>
                </a:lnTo>
                <a:lnTo>
                  <a:pt x="223" y="265"/>
                </a:lnTo>
                <a:lnTo>
                  <a:pt x="238" y="239"/>
                </a:lnTo>
                <a:lnTo>
                  <a:pt x="252" y="214"/>
                </a:lnTo>
                <a:lnTo>
                  <a:pt x="265" y="191"/>
                </a:lnTo>
                <a:lnTo>
                  <a:pt x="272" y="175"/>
                </a:lnTo>
                <a:lnTo>
                  <a:pt x="277" y="162"/>
                </a:lnTo>
                <a:lnTo>
                  <a:pt x="274" y="162"/>
                </a:lnTo>
                <a:lnTo>
                  <a:pt x="267" y="165"/>
                </a:lnTo>
                <a:lnTo>
                  <a:pt x="257" y="168"/>
                </a:lnTo>
                <a:lnTo>
                  <a:pt x="247" y="165"/>
                </a:lnTo>
                <a:lnTo>
                  <a:pt x="262" y="142"/>
                </a:lnTo>
                <a:lnTo>
                  <a:pt x="277" y="120"/>
                </a:lnTo>
                <a:lnTo>
                  <a:pt x="291" y="94"/>
                </a:lnTo>
                <a:lnTo>
                  <a:pt x="304" y="68"/>
                </a:lnTo>
                <a:lnTo>
                  <a:pt x="314" y="45"/>
                </a:lnTo>
                <a:lnTo>
                  <a:pt x="321" y="26"/>
                </a:lnTo>
                <a:lnTo>
                  <a:pt x="328" y="10"/>
                </a:lnTo>
                <a:lnTo>
                  <a:pt x="331" y="0"/>
                </a:lnTo>
                <a:lnTo>
                  <a:pt x="333" y="23"/>
                </a:lnTo>
                <a:lnTo>
                  <a:pt x="340" y="61"/>
                </a:lnTo>
                <a:lnTo>
                  <a:pt x="350" y="107"/>
                </a:lnTo>
                <a:lnTo>
                  <a:pt x="365" y="142"/>
                </a:lnTo>
                <a:lnTo>
                  <a:pt x="360" y="139"/>
                </a:lnTo>
                <a:lnTo>
                  <a:pt x="353" y="133"/>
                </a:lnTo>
                <a:lnTo>
                  <a:pt x="350" y="126"/>
                </a:lnTo>
                <a:lnTo>
                  <a:pt x="348" y="123"/>
                </a:lnTo>
                <a:lnTo>
                  <a:pt x="350" y="149"/>
                </a:lnTo>
                <a:lnTo>
                  <a:pt x="360" y="178"/>
                </a:lnTo>
                <a:lnTo>
                  <a:pt x="372" y="204"/>
                </a:lnTo>
                <a:lnTo>
                  <a:pt x="384" y="227"/>
                </a:lnTo>
                <a:lnTo>
                  <a:pt x="370" y="223"/>
                </a:lnTo>
                <a:lnTo>
                  <a:pt x="382" y="262"/>
                </a:lnTo>
                <a:lnTo>
                  <a:pt x="397" y="294"/>
                </a:lnTo>
                <a:lnTo>
                  <a:pt x="411" y="314"/>
                </a:lnTo>
                <a:lnTo>
                  <a:pt x="424" y="330"/>
                </a:lnTo>
                <a:lnTo>
                  <a:pt x="414" y="327"/>
                </a:lnTo>
                <a:lnTo>
                  <a:pt x="407" y="327"/>
                </a:lnTo>
                <a:lnTo>
                  <a:pt x="399" y="324"/>
                </a:lnTo>
                <a:lnTo>
                  <a:pt x="392" y="320"/>
                </a:lnTo>
                <a:lnTo>
                  <a:pt x="404" y="356"/>
                </a:lnTo>
                <a:lnTo>
                  <a:pt x="419" y="408"/>
                </a:lnTo>
                <a:lnTo>
                  <a:pt x="436" y="456"/>
                </a:lnTo>
                <a:lnTo>
                  <a:pt x="455" y="489"/>
                </a:lnTo>
                <a:lnTo>
                  <a:pt x="443" y="485"/>
                </a:lnTo>
                <a:lnTo>
                  <a:pt x="433" y="482"/>
                </a:lnTo>
                <a:lnTo>
                  <a:pt x="426" y="476"/>
                </a:lnTo>
                <a:lnTo>
                  <a:pt x="424" y="476"/>
                </a:lnTo>
                <a:lnTo>
                  <a:pt x="436" y="531"/>
                </a:lnTo>
                <a:lnTo>
                  <a:pt x="451" y="592"/>
                </a:lnTo>
                <a:lnTo>
                  <a:pt x="468" y="654"/>
                </a:lnTo>
                <a:lnTo>
                  <a:pt x="487" y="699"/>
                </a:lnTo>
                <a:lnTo>
                  <a:pt x="451" y="683"/>
                </a:lnTo>
                <a:lnTo>
                  <a:pt x="458" y="709"/>
                </a:lnTo>
                <a:lnTo>
                  <a:pt x="470" y="731"/>
                </a:lnTo>
                <a:lnTo>
                  <a:pt x="485" y="754"/>
                </a:lnTo>
                <a:lnTo>
                  <a:pt x="490" y="760"/>
                </a:lnTo>
                <a:lnTo>
                  <a:pt x="475" y="754"/>
                </a:lnTo>
                <a:lnTo>
                  <a:pt x="463" y="747"/>
                </a:lnTo>
                <a:lnTo>
                  <a:pt x="453" y="741"/>
                </a:lnTo>
                <a:lnTo>
                  <a:pt x="448" y="738"/>
                </a:lnTo>
                <a:lnTo>
                  <a:pt x="455" y="783"/>
                </a:lnTo>
                <a:lnTo>
                  <a:pt x="468" y="832"/>
                </a:lnTo>
                <a:lnTo>
                  <a:pt x="482" y="880"/>
                </a:lnTo>
                <a:lnTo>
                  <a:pt x="507" y="935"/>
                </a:lnTo>
                <a:lnTo>
                  <a:pt x="495" y="929"/>
                </a:lnTo>
                <a:lnTo>
                  <a:pt x="480" y="922"/>
                </a:lnTo>
                <a:lnTo>
                  <a:pt x="470" y="919"/>
                </a:lnTo>
                <a:lnTo>
                  <a:pt x="465" y="916"/>
                </a:lnTo>
                <a:lnTo>
                  <a:pt x="468" y="938"/>
                </a:lnTo>
                <a:lnTo>
                  <a:pt x="473" y="955"/>
                </a:lnTo>
                <a:lnTo>
                  <a:pt x="477" y="974"/>
                </a:lnTo>
                <a:lnTo>
                  <a:pt x="482" y="987"/>
                </a:lnTo>
                <a:close/>
              </a:path>
            </a:pathLst>
          </a:custGeom>
          <a:solidFill>
            <a:srgbClr val="7fe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275"/>
          <p:cNvSpPr/>
          <p:nvPr/>
        </p:nvSpPr>
        <p:spPr>
          <a:xfrm>
            <a:off x="6148440" y="2198520"/>
            <a:ext cx="525240" cy="1525680"/>
          </a:xfrm>
          <a:custGeom>
            <a:avLst/>
            <a:gdLst>
              <a:gd name="textAreaLeft" fmla="*/ 0 w 525240"/>
              <a:gd name="textAreaRight" fmla="*/ 525600 w 52524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331" h="961">
                <a:moveTo>
                  <a:pt x="118" y="961"/>
                </a:moveTo>
                <a:lnTo>
                  <a:pt x="108" y="958"/>
                </a:lnTo>
                <a:lnTo>
                  <a:pt x="96" y="951"/>
                </a:lnTo>
                <a:lnTo>
                  <a:pt x="83" y="948"/>
                </a:lnTo>
                <a:lnTo>
                  <a:pt x="66" y="942"/>
                </a:lnTo>
                <a:lnTo>
                  <a:pt x="52" y="938"/>
                </a:lnTo>
                <a:lnTo>
                  <a:pt x="35" y="932"/>
                </a:lnTo>
                <a:lnTo>
                  <a:pt x="17" y="929"/>
                </a:lnTo>
                <a:lnTo>
                  <a:pt x="0" y="922"/>
                </a:lnTo>
                <a:lnTo>
                  <a:pt x="22" y="903"/>
                </a:lnTo>
                <a:lnTo>
                  <a:pt x="42" y="877"/>
                </a:lnTo>
                <a:lnTo>
                  <a:pt x="59" y="848"/>
                </a:lnTo>
                <a:lnTo>
                  <a:pt x="69" y="825"/>
                </a:lnTo>
                <a:lnTo>
                  <a:pt x="61" y="825"/>
                </a:lnTo>
                <a:lnTo>
                  <a:pt x="44" y="828"/>
                </a:lnTo>
                <a:lnTo>
                  <a:pt x="25" y="828"/>
                </a:lnTo>
                <a:lnTo>
                  <a:pt x="13" y="825"/>
                </a:lnTo>
                <a:lnTo>
                  <a:pt x="32" y="806"/>
                </a:lnTo>
                <a:lnTo>
                  <a:pt x="49" y="783"/>
                </a:lnTo>
                <a:lnTo>
                  <a:pt x="66" y="754"/>
                </a:lnTo>
                <a:lnTo>
                  <a:pt x="81" y="725"/>
                </a:lnTo>
                <a:lnTo>
                  <a:pt x="93" y="696"/>
                </a:lnTo>
                <a:lnTo>
                  <a:pt x="103" y="670"/>
                </a:lnTo>
                <a:lnTo>
                  <a:pt x="110" y="650"/>
                </a:lnTo>
                <a:lnTo>
                  <a:pt x="118" y="634"/>
                </a:lnTo>
                <a:lnTo>
                  <a:pt x="106" y="644"/>
                </a:lnTo>
                <a:lnTo>
                  <a:pt x="91" y="647"/>
                </a:lnTo>
                <a:lnTo>
                  <a:pt x="74" y="647"/>
                </a:lnTo>
                <a:lnTo>
                  <a:pt x="61" y="641"/>
                </a:lnTo>
                <a:lnTo>
                  <a:pt x="81" y="615"/>
                </a:lnTo>
                <a:lnTo>
                  <a:pt x="101" y="582"/>
                </a:lnTo>
                <a:lnTo>
                  <a:pt x="118" y="550"/>
                </a:lnTo>
                <a:lnTo>
                  <a:pt x="128" y="524"/>
                </a:lnTo>
                <a:lnTo>
                  <a:pt x="123" y="524"/>
                </a:lnTo>
                <a:lnTo>
                  <a:pt x="110" y="527"/>
                </a:lnTo>
                <a:lnTo>
                  <a:pt x="96" y="527"/>
                </a:lnTo>
                <a:lnTo>
                  <a:pt x="86" y="524"/>
                </a:lnTo>
                <a:lnTo>
                  <a:pt x="98" y="511"/>
                </a:lnTo>
                <a:lnTo>
                  <a:pt x="113" y="489"/>
                </a:lnTo>
                <a:lnTo>
                  <a:pt x="130" y="463"/>
                </a:lnTo>
                <a:lnTo>
                  <a:pt x="150" y="437"/>
                </a:lnTo>
                <a:lnTo>
                  <a:pt x="167" y="408"/>
                </a:lnTo>
                <a:lnTo>
                  <a:pt x="184" y="379"/>
                </a:lnTo>
                <a:lnTo>
                  <a:pt x="196" y="349"/>
                </a:lnTo>
                <a:lnTo>
                  <a:pt x="206" y="327"/>
                </a:lnTo>
                <a:lnTo>
                  <a:pt x="203" y="327"/>
                </a:lnTo>
                <a:lnTo>
                  <a:pt x="194" y="330"/>
                </a:lnTo>
                <a:lnTo>
                  <a:pt x="184" y="333"/>
                </a:lnTo>
                <a:lnTo>
                  <a:pt x="172" y="330"/>
                </a:lnTo>
                <a:lnTo>
                  <a:pt x="189" y="311"/>
                </a:lnTo>
                <a:lnTo>
                  <a:pt x="206" y="288"/>
                </a:lnTo>
                <a:lnTo>
                  <a:pt x="223" y="265"/>
                </a:lnTo>
                <a:lnTo>
                  <a:pt x="238" y="239"/>
                </a:lnTo>
                <a:lnTo>
                  <a:pt x="252" y="214"/>
                </a:lnTo>
                <a:lnTo>
                  <a:pt x="265" y="191"/>
                </a:lnTo>
                <a:lnTo>
                  <a:pt x="272" y="175"/>
                </a:lnTo>
                <a:lnTo>
                  <a:pt x="277" y="162"/>
                </a:lnTo>
                <a:lnTo>
                  <a:pt x="274" y="162"/>
                </a:lnTo>
                <a:lnTo>
                  <a:pt x="267" y="165"/>
                </a:lnTo>
                <a:lnTo>
                  <a:pt x="257" y="168"/>
                </a:lnTo>
                <a:lnTo>
                  <a:pt x="247" y="165"/>
                </a:lnTo>
                <a:lnTo>
                  <a:pt x="262" y="142"/>
                </a:lnTo>
                <a:lnTo>
                  <a:pt x="277" y="120"/>
                </a:lnTo>
                <a:lnTo>
                  <a:pt x="291" y="94"/>
                </a:lnTo>
                <a:lnTo>
                  <a:pt x="304" y="68"/>
                </a:lnTo>
                <a:lnTo>
                  <a:pt x="314" y="45"/>
                </a:lnTo>
                <a:lnTo>
                  <a:pt x="321" y="26"/>
                </a:lnTo>
                <a:lnTo>
                  <a:pt x="328" y="10"/>
                </a:lnTo>
                <a:lnTo>
                  <a:pt x="331" y="0"/>
                </a:lnTo>
                <a:lnTo>
                  <a:pt x="326" y="26"/>
                </a:lnTo>
                <a:lnTo>
                  <a:pt x="314" y="65"/>
                </a:lnTo>
                <a:lnTo>
                  <a:pt x="299" y="107"/>
                </a:lnTo>
                <a:lnTo>
                  <a:pt x="284" y="136"/>
                </a:lnTo>
                <a:lnTo>
                  <a:pt x="296" y="129"/>
                </a:lnTo>
                <a:lnTo>
                  <a:pt x="306" y="123"/>
                </a:lnTo>
                <a:lnTo>
                  <a:pt x="311" y="116"/>
                </a:lnTo>
                <a:lnTo>
                  <a:pt x="314" y="113"/>
                </a:lnTo>
                <a:lnTo>
                  <a:pt x="304" y="146"/>
                </a:lnTo>
                <a:lnTo>
                  <a:pt x="287" y="191"/>
                </a:lnTo>
                <a:lnTo>
                  <a:pt x="265" y="239"/>
                </a:lnTo>
                <a:lnTo>
                  <a:pt x="243" y="272"/>
                </a:lnTo>
                <a:lnTo>
                  <a:pt x="255" y="265"/>
                </a:lnTo>
                <a:lnTo>
                  <a:pt x="269" y="249"/>
                </a:lnTo>
                <a:lnTo>
                  <a:pt x="282" y="236"/>
                </a:lnTo>
                <a:lnTo>
                  <a:pt x="287" y="230"/>
                </a:lnTo>
                <a:lnTo>
                  <a:pt x="277" y="259"/>
                </a:lnTo>
                <a:lnTo>
                  <a:pt x="260" y="298"/>
                </a:lnTo>
                <a:lnTo>
                  <a:pt x="240" y="333"/>
                </a:lnTo>
                <a:lnTo>
                  <a:pt x="223" y="362"/>
                </a:lnTo>
                <a:lnTo>
                  <a:pt x="238" y="362"/>
                </a:lnTo>
                <a:lnTo>
                  <a:pt x="250" y="359"/>
                </a:lnTo>
                <a:lnTo>
                  <a:pt x="260" y="353"/>
                </a:lnTo>
                <a:lnTo>
                  <a:pt x="262" y="349"/>
                </a:lnTo>
                <a:lnTo>
                  <a:pt x="252" y="375"/>
                </a:lnTo>
                <a:lnTo>
                  <a:pt x="235" y="398"/>
                </a:lnTo>
                <a:lnTo>
                  <a:pt x="216" y="421"/>
                </a:lnTo>
                <a:lnTo>
                  <a:pt x="198" y="434"/>
                </a:lnTo>
                <a:lnTo>
                  <a:pt x="194" y="450"/>
                </a:lnTo>
                <a:lnTo>
                  <a:pt x="181" y="472"/>
                </a:lnTo>
                <a:lnTo>
                  <a:pt x="167" y="495"/>
                </a:lnTo>
                <a:lnTo>
                  <a:pt x="152" y="511"/>
                </a:lnTo>
                <a:lnTo>
                  <a:pt x="162" y="511"/>
                </a:lnTo>
                <a:lnTo>
                  <a:pt x="174" y="508"/>
                </a:lnTo>
                <a:lnTo>
                  <a:pt x="191" y="502"/>
                </a:lnTo>
                <a:lnTo>
                  <a:pt x="211" y="485"/>
                </a:lnTo>
                <a:lnTo>
                  <a:pt x="206" y="502"/>
                </a:lnTo>
                <a:lnTo>
                  <a:pt x="196" y="524"/>
                </a:lnTo>
                <a:lnTo>
                  <a:pt x="184" y="547"/>
                </a:lnTo>
                <a:lnTo>
                  <a:pt x="174" y="560"/>
                </a:lnTo>
                <a:lnTo>
                  <a:pt x="191" y="557"/>
                </a:lnTo>
                <a:lnTo>
                  <a:pt x="211" y="547"/>
                </a:lnTo>
                <a:lnTo>
                  <a:pt x="230" y="534"/>
                </a:lnTo>
                <a:lnTo>
                  <a:pt x="245" y="518"/>
                </a:lnTo>
                <a:lnTo>
                  <a:pt x="240" y="531"/>
                </a:lnTo>
                <a:lnTo>
                  <a:pt x="235" y="547"/>
                </a:lnTo>
                <a:lnTo>
                  <a:pt x="225" y="566"/>
                </a:lnTo>
                <a:lnTo>
                  <a:pt x="213" y="586"/>
                </a:lnTo>
                <a:lnTo>
                  <a:pt x="201" y="605"/>
                </a:lnTo>
                <a:lnTo>
                  <a:pt x="191" y="621"/>
                </a:lnTo>
                <a:lnTo>
                  <a:pt x="181" y="634"/>
                </a:lnTo>
                <a:lnTo>
                  <a:pt x="172" y="644"/>
                </a:lnTo>
                <a:lnTo>
                  <a:pt x="186" y="589"/>
                </a:lnTo>
                <a:lnTo>
                  <a:pt x="174" y="595"/>
                </a:lnTo>
                <a:lnTo>
                  <a:pt x="162" y="599"/>
                </a:lnTo>
                <a:lnTo>
                  <a:pt x="152" y="599"/>
                </a:lnTo>
                <a:lnTo>
                  <a:pt x="150" y="599"/>
                </a:lnTo>
                <a:lnTo>
                  <a:pt x="154" y="560"/>
                </a:lnTo>
                <a:lnTo>
                  <a:pt x="140" y="576"/>
                </a:lnTo>
                <a:lnTo>
                  <a:pt x="125" y="595"/>
                </a:lnTo>
                <a:lnTo>
                  <a:pt x="115" y="608"/>
                </a:lnTo>
                <a:lnTo>
                  <a:pt x="110" y="615"/>
                </a:lnTo>
                <a:lnTo>
                  <a:pt x="123" y="618"/>
                </a:lnTo>
                <a:lnTo>
                  <a:pt x="137" y="615"/>
                </a:lnTo>
                <a:lnTo>
                  <a:pt x="152" y="612"/>
                </a:lnTo>
                <a:lnTo>
                  <a:pt x="157" y="612"/>
                </a:lnTo>
                <a:lnTo>
                  <a:pt x="147" y="657"/>
                </a:lnTo>
                <a:lnTo>
                  <a:pt x="135" y="689"/>
                </a:lnTo>
                <a:lnTo>
                  <a:pt x="125" y="709"/>
                </a:lnTo>
                <a:lnTo>
                  <a:pt x="123" y="715"/>
                </a:lnTo>
                <a:lnTo>
                  <a:pt x="135" y="709"/>
                </a:lnTo>
                <a:lnTo>
                  <a:pt x="150" y="699"/>
                </a:lnTo>
                <a:lnTo>
                  <a:pt x="159" y="689"/>
                </a:lnTo>
                <a:lnTo>
                  <a:pt x="164" y="683"/>
                </a:lnTo>
                <a:lnTo>
                  <a:pt x="150" y="722"/>
                </a:lnTo>
                <a:lnTo>
                  <a:pt x="132" y="760"/>
                </a:lnTo>
                <a:lnTo>
                  <a:pt x="115" y="790"/>
                </a:lnTo>
                <a:lnTo>
                  <a:pt x="98" y="809"/>
                </a:lnTo>
                <a:lnTo>
                  <a:pt x="110" y="806"/>
                </a:lnTo>
                <a:lnTo>
                  <a:pt x="125" y="793"/>
                </a:lnTo>
                <a:lnTo>
                  <a:pt x="145" y="780"/>
                </a:lnTo>
                <a:lnTo>
                  <a:pt x="164" y="760"/>
                </a:lnTo>
                <a:lnTo>
                  <a:pt x="184" y="741"/>
                </a:lnTo>
                <a:lnTo>
                  <a:pt x="203" y="722"/>
                </a:lnTo>
                <a:lnTo>
                  <a:pt x="218" y="702"/>
                </a:lnTo>
                <a:lnTo>
                  <a:pt x="230" y="683"/>
                </a:lnTo>
                <a:lnTo>
                  <a:pt x="228" y="696"/>
                </a:lnTo>
                <a:lnTo>
                  <a:pt x="223" y="715"/>
                </a:lnTo>
                <a:lnTo>
                  <a:pt x="213" y="738"/>
                </a:lnTo>
                <a:lnTo>
                  <a:pt x="201" y="760"/>
                </a:lnTo>
                <a:lnTo>
                  <a:pt x="189" y="783"/>
                </a:lnTo>
                <a:lnTo>
                  <a:pt x="176" y="806"/>
                </a:lnTo>
                <a:lnTo>
                  <a:pt x="167" y="822"/>
                </a:lnTo>
                <a:lnTo>
                  <a:pt x="159" y="835"/>
                </a:lnTo>
                <a:lnTo>
                  <a:pt x="172" y="832"/>
                </a:lnTo>
                <a:lnTo>
                  <a:pt x="186" y="822"/>
                </a:lnTo>
                <a:lnTo>
                  <a:pt x="201" y="809"/>
                </a:lnTo>
                <a:lnTo>
                  <a:pt x="216" y="796"/>
                </a:lnTo>
                <a:lnTo>
                  <a:pt x="230" y="780"/>
                </a:lnTo>
                <a:lnTo>
                  <a:pt x="243" y="764"/>
                </a:lnTo>
                <a:lnTo>
                  <a:pt x="257" y="744"/>
                </a:lnTo>
                <a:lnTo>
                  <a:pt x="267" y="728"/>
                </a:lnTo>
                <a:lnTo>
                  <a:pt x="265" y="744"/>
                </a:lnTo>
                <a:lnTo>
                  <a:pt x="257" y="767"/>
                </a:lnTo>
                <a:lnTo>
                  <a:pt x="247" y="796"/>
                </a:lnTo>
                <a:lnTo>
                  <a:pt x="235" y="825"/>
                </a:lnTo>
                <a:lnTo>
                  <a:pt x="221" y="854"/>
                </a:lnTo>
                <a:lnTo>
                  <a:pt x="206" y="883"/>
                </a:lnTo>
                <a:lnTo>
                  <a:pt x="191" y="909"/>
                </a:lnTo>
                <a:lnTo>
                  <a:pt x="176" y="929"/>
                </a:lnTo>
                <a:lnTo>
                  <a:pt x="179" y="913"/>
                </a:lnTo>
                <a:lnTo>
                  <a:pt x="181" y="896"/>
                </a:lnTo>
                <a:lnTo>
                  <a:pt x="181" y="880"/>
                </a:lnTo>
                <a:lnTo>
                  <a:pt x="181" y="874"/>
                </a:lnTo>
                <a:lnTo>
                  <a:pt x="164" y="903"/>
                </a:lnTo>
                <a:lnTo>
                  <a:pt x="142" y="932"/>
                </a:lnTo>
                <a:lnTo>
                  <a:pt x="125" y="951"/>
                </a:lnTo>
                <a:lnTo>
                  <a:pt x="118" y="961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276"/>
          <p:cNvSpPr/>
          <p:nvPr/>
        </p:nvSpPr>
        <p:spPr>
          <a:xfrm>
            <a:off x="6618240" y="2860560"/>
            <a:ext cx="195480" cy="247680"/>
          </a:xfrm>
          <a:custGeom>
            <a:avLst/>
            <a:gdLst>
              <a:gd name="textAreaLeft" fmla="*/ 0 w 195480"/>
              <a:gd name="textAreaRight" fmla="*/ 195840 w 1954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3" h="156">
                <a:moveTo>
                  <a:pt x="8" y="0"/>
                </a:moveTo>
                <a:lnTo>
                  <a:pt x="5" y="20"/>
                </a:lnTo>
                <a:lnTo>
                  <a:pt x="3" y="49"/>
                </a:lnTo>
                <a:lnTo>
                  <a:pt x="0" y="78"/>
                </a:lnTo>
                <a:lnTo>
                  <a:pt x="5" y="107"/>
                </a:lnTo>
                <a:lnTo>
                  <a:pt x="15" y="78"/>
                </a:lnTo>
                <a:lnTo>
                  <a:pt x="20" y="101"/>
                </a:lnTo>
                <a:lnTo>
                  <a:pt x="35" y="120"/>
                </a:lnTo>
                <a:lnTo>
                  <a:pt x="54" y="140"/>
                </a:lnTo>
                <a:lnTo>
                  <a:pt x="76" y="156"/>
                </a:lnTo>
                <a:lnTo>
                  <a:pt x="76" y="140"/>
                </a:lnTo>
                <a:lnTo>
                  <a:pt x="76" y="120"/>
                </a:lnTo>
                <a:lnTo>
                  <a:pt x="76" y="101"/>
                </a:lnTo>
                <a:lnTo>
                  <a:pt x="76" y="94"/>
                </a:lnTo>
                <a:lnTo>
                  <a:pt x="88" y="114"/>
                </a:lnTo>
                <a:lnTo>
                  <a:pt x="103" y="127"/>
                </a:lnTo>
                <a:lnTo>
                  <a:pt x="118" y="140"/>
                </a:lnTo>
                <a:lnTo>
                  <a:pt x="123" y="143"/>
                </a:lnTo>
                <a:lnTo>
                  <a:pt x="111" y="110"/>
                </a:lnTo>
                <a:lnTo>
                  <a:pt x="93" y="72"/>
                </a:lnTo>
                <a:lnTo>
                  <a:pt x="84" y="36"/>
                </a:lnTo>
                <a:lnTo>
                  <a:pt x="79" y="4"/>
                </a:lnTo>
                <a:lnTo>
                  <a:pt x="66" y="30"/>
                </a:lnTo>
                <a:lnTo>
                  <a:pt x="59" y="59"/>
                </a:lnTo>
                <a:lnTo>
                  <a:pt x="54" y="85"/>
                </a:lnTo>
                <a:lnTo>
                  <a:pt x="54" y="104"/>
                </a:lnTo>
                <a:lnTo>
                  <a:pt x="42" y="88"/>
                </a:lnTo>
                <a:lnTo>
                  <a:pt x="27" y="55"/>
                </a:lnTo>
                <a:lnTo>
                  <a:pt x="13" y="23"/>
                </a:lnTo>
                <a:lnTo>
                  <a:pt x="8" y="0"/>
                </a:lnTo>
                <a:close/>
              </a:path>
            </a:pathLst>
          </a:custGeom>
          <a:solidFill>
            <a:srgbClr val="00d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277"/>
          <p:cNvGrpSpPr/>
          <p:nvPr/>
        </p:nvGrpSpPr>
        <p:grpSpPr>
          <a:xfrm>
            <a:off x="2700360" y="4653000"/>
            <a:ext cx="4176360" cy="2204640"/>
            <a:chOff x="2700360" y="4653000"/>
            <a:chExt cx="4176360" cy="2204640"/>
          </a:xfrm>
        </p:grpSpPr>
        <p:sp>
          <p:nvSpPr>
            <p:cNvPr id="449" name="Freeform 278"/>
            <p:cNvSpPr/>
            <p:nvPr/>
          </p:nvSpPr>
          <p:spPr>
            <a:xfrm>
              <a:off x="3467520" y="581760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Picture 279" descr="图形111"/>
            <p:cNvPicPr/>
            <p:nvPr/>
          </p:nvPicPr>
          <p:blipFill>
            <a:blip r:embed="rId32"/>
            <a:stretch/>
          </p:blipFill>
          <p:spPr>
            <a:xfrm>
              <a:off x="5257440" y="594252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AutoShape 280"/>
            <p:cNvSpPr/>
            <p:nvPr/>
          </p:nvSpPr>
          <p:spPr>
            <a:xfrm>
              <a:off x="3126240" y="4860720"/>
              <a:ext cx="2980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2" name="Object 281" descr=""/>
            <p:cNvPicPr/>
            <p:nvPr/>
          </p:nvPicPr>
          <p:blipFill>
            <a:blip r:embed="rId33"/>
            <a:stretch/>
          </p:blipFill>
          <p:spPr>
            <a:xfrm>
              <a:off x="4532760" y="5443200"/>
              <a:ext cx="28944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Object 282" descr=""/>
            <p:cNvPicPr/>
            <p:nvPr/>
          </p:nvPicPr>
          <p:blipFill>
            <a:blip r:embed="rId34"/>
            <a:stretch/>
          </p:blipFill>
          <p:spPr>
            <a:xfrm>
              <a:off x="4874040" y="4943880"/>
              <a:ext cx="36216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Object 283" descr=""/>
            <p:cNvPicPr/>
            <p:nvPr/>
          </p:nvPicPr>
          <p:blipFill>
            <a:blip r:embed="rId35"/>
            <a:stretch/>
          </p:blipFill>
          <p:spPr>
            <a:xfrm>
              <a:off x="4234680" y="6358680"/>
              <a:ext cx="28908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Freeform 284"/>
            <p:cNvSpPr/>
            <p:nvPr/>
          </p:nvSpPr>
          <p:spPr>
            <a:xfrm>
              <a:off x="3510000" y="623376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285"/>
            <p:cNvSpPr/>
            <p:nvPr/>
          </p:nvSpPr>
          <p:spPr>
            <a:xfrm>
              <a:off x="3936240" y="644184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286"/>
            <p:cNvSpPr/>
            <p:nvPr/>
          </p:nvSpPr>
          <p:spPr>
            <a:xfrm>
              <a:off x="4575600" y="656676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287"/>
            <p:cNvSpPr/>
            <p:nvPr/>
          </p:nvSpPr>
          <p:spPr>
            <a:xfrm>
              <a:off x="5342760" y="644184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288"/>
            <p:cNvSpPr/>
            <p:nvPr/>
          </p:nvSpPr>
          <p:spPr>
            <a:xfrm>
              <a:off x="5470560" y="477756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289"/>
            <p:cNvSpPr/>
            <p:nvPr/>
          </p:nvSpPr>
          <p:spPr>
            <a:xfrm>
              <a:off x="4703400" y="465300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290"/>
            <p:cNvSpPr/>
            <p:nvPr/>
          </p:nvSpPr>
          <p:spPr>
            <a:xfrm>
              <a:off x="4064040" y="481896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291"/>
            <p:cNvSpPr/>
            <p:nvPr/>
          </p:nvSpPr>
          <p:spPr>
            <a:xfrm>
              <a:off x="3552480" y="540180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292"/>
            <p:cNvSpPr/>
            <p:nvPr/>
          </p:nvSpPr>
          <p:spPr>
            <a:xfrm>
              <a:off x="5811480" y="615060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293"/>
            <p:cNvSpPr/>
            <p:nvPr/>
          </p:nvSpPr>
          <p:spPr>
            <a:xfrm>
              <a:off x="5982120" y="565128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294"/>
            <p:cNvSpPr/>
            <p:nvPr/>
          </p:nvSpPr>
          <p:spPr>
            <a:xfrm>
              <a:off x="5811480" y="5151960"/>
              <a:ext cx="326520" cy="2502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AutoShape 295"/>
            <p:cNvSpPr/>
            <p:nvPr/>
          </p:nvSpPr>
          <p:spPr>
            <a:xfrm>
              <a:off x="2785320" y="5151960"/>
              <a:ext cx="2980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AutoShape 296"/>
            <p:cNvSpPr/>
            <p:nvPr/>
          </p:nvSpPr>
          <p:spPr>
            <a:xfrm>
              <a:off x="3083760" y="5484960"/>
              <a:ext cx="2980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AutoShape 297"/>
            <p:cNvSpPr/>
            <p:nvPr/>
          </p:nvSpPr>
          <p:spPr>
            <a:xfrm>
              <a:off x="2998440" y="6067440"/>
              <a:ext cx="29808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AutoShape 298"/>
            <p:cNvSpPr/>
            <p:nvPr/>
          </p:nvSpPr>
          <p:spPr>
            <a:xfrm>
              <a:off x="2700360" y="5609880"/>
              <a:ext cx="2980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AutoShape 299"/>
            <p:cNvSpPr/>
            <p:nvPr/>
          </p:nvSpPr>
          <p:spPr>
            <a:xfrm>
              <a:off x="6493320" y="6649920"/>
              <a:ext cx="298080" cy="20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AutoShape 300"/>
            <p:cNvSpPr/>
            <p:nvPr/>
          </p:nvSpPr>
          <p:spPr>
            <a:xfrm>
              <a:off x="6280560" y="6192360"/>
              <a:ext cx="29808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AutoShape 301"/>
            <p:cNvSpPr/>
            <p:nvPr/>
          </p:nvSpPr>
          <p:spPr>
            <a:xfrm>
              <a:off x="6578640" y="5942520"/>
              <a:ext cx="29808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302"/>
            <p:cNvSpPr/>
            <p:nvPr/>
          </p:nvSpPr>
          <p:spPr>
            <a:xfrm>
              <a:off x="6323040" y="5568120"/>
              <a:ext cx="29808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AutoShape 303"/>
            <p:cNvSpPr/>
            <p:nvPr/>
          </p:nvSpPr>
          <p:spPr>
            <a:xfrm>
              <a:off x="6408360" y="5068800"/>
              <a:ext cx="29808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Object 304" descr=""/>
            <p:cNvPicPr/>
            <p:nvPr/>
          </p:nvPicPr>
          <p:blipFill>
            <a:blip r:embed="rId36"/>
            <a:stretch/>
          </p:blipFill>
          <p:spPr>
            <a:xfrm>
              <a:off x="4362480" y="6026040"/>
              <a:ext cx="28908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Object 305" descr=""/>
            <p:cNvPicPr/>
            <p:nvPr/>
          </p:nvPicPr>
          <p:blipFill>
            <a:blip r:embed="rId37"/>
            <a:stretch/>
          </p:blipFill>
          <p:spPr>
            <a:xfrm>
              <a:off x="4404960" y="5734440"/>
              <a:ext cx="28944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Object 306" descr=""/>
            <p:cNvPicPr/>
            <p:nvPr/>
          </p:nvPicPr>
          <p:blipFill>
            <a:blip r:embed="rId38"/>
            <a:stretch/>
          </p:blipFill>
          <p:spPr>
            <a:xfrm>
              <a:off x="4660560" y="5235120"/>
              <a:ext cx="28944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bject 307" descr=""/>
            <p:cNvPicPr/>
            <p:nvPr/>
          </p:nvPicPr>
          <p:blipFill>
            <a:blip r:embed="rId39"/>
            <a:stretch/>
          </p:blipFill>
          <p:spPr>
            <a:xfrm>
              <a:off x="5172120" y="4818960"/>
              <a:ext cx="28944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08" descr="图形111"/>
            <p:cNvPicPr/>
            <p:nvPr/>
          </p:nvPicPr>
          <p:blipFill>
            <a:blip r:embed="rId40"/>
            <a:stretch/>
          </p:blipFill>
          <p:spPr>
            <a:xfrm>
              <a:off x="5044320" y="560988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309" descr="图形111"/>
            <p:cNvPicPr/>
            <p:nvPr/>
          </p:nvPicPr>
          <p:blipFill>
            <a:blip r:embed="rId41"/>
            <a:stretch/>
          </p:blipFill>
          <p:spPr>
            <a:xfrm>
              <a:off x="5598360" y="581760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310" descr="图形111"/>
            <p:cNvPicPr/>
            <p:nvPr/>
          </p:nvPicPr>
          <p:blipFill>
            <a:blip r:embed="rId42"/>
            <a:stretch/>
          </p:blipFill>
          <p:spPr>
            <a:xfrm>
              <a:off x="4874040" y="602604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11" descr="图形111"/>
            <p:cNvPicPr/>
            <p:nvPr/>
          </p:nvPicPr>
          <p:blipFill>
            <a:blip r:embed="rId43"/>
            <a:stretch/>
          </p:blipFill>
          <p:spPr>
            <a:xfrm>
              <a:off x="5641200" y="556812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12" descr="图形111"/>
            <p:cNvPicPr/>
            <p:nvPr/>
          </p:nvPicPr>
          <p:blipFill>
            <a:blip r:embed="rId44"/>
            <a:stretch/>
          </p:blipFill>
          <p:spPr>
            <a:xfrm>
              <a:off x="5385240" y="527688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313" descr="图形111"/>
            <p:cNvPicPr/>
            <p:nvPr/>
          </p:nvPicPr>
          <p:blipFill>
            <a:blip r:embed="rId45"/>
            <a:stretch/>
          </p:blipFill>
          <p:spPr>
            <a:xfrm>
              <a:off x="3893400" y="602604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314" descr="图形111"/>
            <p:cNvPicPr/>
            <p:nvPr/>
          </p:nvPicPr>
          <p:blipFill>
            <a:blip r:embed="rId46"/>
            <a:stretch/>
          </p:blipFill>
          <p:spPr>
            <a:xfrm>
              <a:off x="3850920" y="560988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15" descr="图形111"/>
            <p:cNvPicPr/>
            <p:nvPr/>
          </p:nvPicPr>
          <p:blipFill>
            <a:blip r:embed="rId47"/>
            <a:stretch/>
          </p:blipFill>
          <p:spPr>
            <a:xfrm>
              <a:off x="4191840" y="527688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316" descr="图形111"/>
            <p:cNvPicPr/>
            <p:nvPr/>
          </p:nvPicPr>
          <p:blipFill>
            <a:blip r:embed="rId48"/>
            <a:stretch/>
          </p:blipFill>
          <p:spPr>
            <a:xfrm>
              <a:off x="5214960" y="631692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17" descr="图形111"/>
            <p:cNvPicPr/>
            <p:nvPr/>
          </p:nvPicPr>
          <p:blipFill>
            <a:blip r:embed="rId49"/>
            <a:stretch/>
          </p:blipFill>
          <p:spPr>
            <a:xfrm>
              <a:off x="4149360" y="5568120"/>
              <a:ext cx="2682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318" descr="图形111"/>
            <p:cNvPicPr/>
            <p:nvPr/>
          </p:nvPicPr>
          <p:blipFill>
            <a:blip r:embed="rId50"/>
            <a:stretch/>
          </p:blipFill>
          <p:spPr>
            <a:xfrm>
              <a:off x="4362480" y="5027400"/>
              <a:ext cx="26784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Freeform 319"/>
            <p:cNvSpPr/>
            <p:nvPr/>
          </p:nvSpPr>
          <p:spPr>
            <a:xfrm>
              <a:off x="3808440" y="5068800"/>
              <a:ext cx="326520" cy="25056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75" h="198">
                  <a:moveTo>
                    <a:pt x="235" y="0"/>
                  </a:moveTo>
                  <a:lnTo>
                    <a:pt x="231" y="8"/>
                  </a:lnTo>
                  <a:lnTo>
                    <a:pt x="226" y="16"/>
                  </a:lnTo>
                  <a:lnTo>
                    <a:pt x="221" y="26"/>
                  </a:lnTo>
                  <a:lnTo>
                    <a:pt x="215" y="37"/>
                  </a:lnTo>
                  <a:lnTo>
                    <a:pt x="209" y="48"/>
                  </a:lnTo>
                  <a:lnTo>
                    <a:pt x="203" y="58"/>
                  </a:lnTo>
                  <a:lnTo>
                    <a:pt x="198" y="67"/>
                  </a:lnTo>
                  <a:lnTo>
                    <a:pt x="194" y="73"/>
                  </a:lnTo>
                  <a:lnTo>
                    <a:pt x="200" y="78"/>
                  </a:lnTo>
                  <a:lnTo>
                    <a:pt x="205" y="84"/>
                  </a:lnTo>
                  <a:lnTo>
                    <a:pt x="207" y="90"/>
                  </a:lnTo>
                  <a:lnTo>
                    <a:pt x="208" y="95"/>
                  </a:lnTo>
                  <a:lnTo>
                    <a:pt x="218" y="99"/>
                  </a:lnTo>
                  <a:lnTo>
                    <a:pt x="229" y="101"/>
                  </a:lnTo>
                  <a:lnTo>
                    <a:pt x="240" y="103"/>
                  </a:lnTo>
                  <a:lnTo>
                    <a:pt x="251" y="107"/>
                  </a:lnTo>
                  <a:lnTo>
                    <a:pt x="262" y="111"/>
                  </a:lnTo>
                  <a:lnTo>
                    <a:pt x="269" y="116"/>
                  </a:lnTo>
                  <a:lnTo>
                    <a:pt x="274" y="122"/>
                  </a:lnTo>
                  <a:lnTo>
                    <a:pt x="275" y="130"/>
                  </a:lnTo>
                  <a:lnTo>
                    <a:pt x="270" y="129"/>
                  </a:lnTo>
                  <a:lnTo>
                    <a:pt x="264" y="129"/>
                  </a:lnTo>
                  <a:lnTo>
                    <a:pt x="259" y="129"/>
                  </a:lnTo>
                  <a:lnTo>
                    <a:pt x="253" y="129"/>
                  </a:lnTo>
                  <a:lnTo>
                    <a:pt x="247" y="129"/>
                  </a:lnTo>
                  <a:lnTo>
                    <a:pt x="241" y="130"/>
                  </a:lnTo>
                  <a:lnTo>
                    <a:pt x="236" y="130"/>
                  </a:lnTo>
                  <a:lnTo>
                    <a:pt x="232" y="132"/>
                  </a:lnTo>
                  <a:lnTo>
                    <a:pt x="227" y="132"/>
                  </a:lnTo>
                  <a:lnTo>
                    <a:pt x="221" y="132"/>
                  </a:lnTo>
                  <a:lnTo>
                    <a:pt x="214" y="130"/>
                  </a:lnTo>
                  <a:lnTo>
                    <a:pt x="205" y="128"/>
                  </a:lnTo>
                  <a:lnTo>
                    <a:pt x="198" y="126"/>
                  </a:lnTo>
                  <a:lnTo>
                    <a:pt x="189" y="123"/>
                  </a:lnTo>
                  <a:lnTo>
                    <a:pt x="183" y="121"/>
                  </a:lnTo>
                  <a:lnTo>
                    <a:pt x="178" y="119"/>
                  </a:lnTo>
                  <a:lnTo>
                    <a:pt x="173" y="124"/>
                  </a:lnTo>
                  <a:lnTo>
                    <a:pt x="169" y="132"/>
                  </a:lnTo>
                  <a:lnTo>
                    <a:pt x="162" y="139"/>
                  </a:lnTo>
                  <a:lnTo>
                    <a:pt x="156" y="148"/>
                  </a:lnTo>
                  <a:lnTo>
                    <a:pt x="150" y="156"/>
                  </a:lnTo>
                  <a:lnTo>
                    <a:pt x="144" y="166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2" y="184"/>
                  </a:lnTo>
                  <a:lnTo>
                    <a:pt x="128" y="186"/>
                  </a:lnTo>
                  <a:lnTo>
                    <a:pt x="124" y="187"/>
                  </a:lnTo>
                  <a:lnTo>
                    <a:pt x="121" y="187"/>
                  </a:lnTo>
                  <a:lnTo>
                    <a:pt x="118" y="189"/>
                  </a:lnTo>
                  <a:lnTo>
                    <a:pt x="117" y="192"/>
                  </a:lnTo>
                  <a:lnTo>
                    <a:pt x="114" y="194"/>
                  </a:lnTo>
                  <a:lnTo>
                    <a:pt x="112" y="198"/>
                  </a:lnTo>
                  <a:lnTo>
                    <a:pt x="110" y="191"/>
                  </a:lnTo>
                  <a:lnTo>
                    <a:pt x="111" y="182"/>
                  </a:lnTo>
                  <a:lnTo>
                    <a:pt x="113" y="173"/>
                  </a:lnTo>
                  <a:lnTo>
                    <a:pt x="118" y="164"/>
                  </a:lnTo>
                  <a:lnTo>
                    <a:pt x="123" y="154"/>
                  </a:lnTo>
                  <a:lnTo>
                    <a:pt x="129" y="145"/>
                  </a:lnTo>
                  <a:lnTo>
                    <a:pt x="135" y="137"/>
                  </a:lnTo>
                  <a:lnTo>
                    <a:pt x="140" y="130"/>
                  </a:lnTo>
                  <a:lnTo>
                    <a:pt x="137" y="126"/>
                  </a:lnTo>
                  <a:lnTo>
                    <a:pt x="126" y="130"/>
                  </a:lnTo>
                  <a:lnTo>
                    <a:pt x="110" y="138"/>
                  </a:lnTo>
                  <a:lnTo>
                    <a:pt x="90" y="146"/>
                  </a:lnTo>
                  <a:lnTo>
                    <a:pt x="69" y="155"/>
                  </a:lnTo>
                  <a:lnTo>
                    <a:pt x="48" y="164"/>
                  </a:lnTo>
                  <a:lnTo>
                    <a:pt x="28" y="171"/>
                  </a:lnTo>
                  <a:lnTo>
                    <a:pt x="14" y="177"/>
                  </a:lnTo>
                  <a:lnTo>
                    <a:pt x="4" y="181"/>
                  </a:lnTo>
                  <a:lnTo>
                    <a:pt x="8" y="177"/>
                  </a:lnTo>
                  <a:lnTo>
                    <a:pt x="11" y="172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5" y="157"/>
                  </a:lnTo>
                  <a:lnTo>
                    <a:pt x="16" y="151"/>
                  </a:lnTo>
                  <a:lnTo>
                    <a:pt x="19" y="145"/>
                  </a:lnTo>
                  <a:lnTo>
                    <a:pt x="24" y="142"/>
                  </a:lnTo>
                  <a:lnTo>
                    <a:pt x="28" y="140"/>
                  </a:lnTo>
                  <a:lnTo>
                    <a:pt x="36" y="138"/>
                  </a:lnTo>
                  <a:lnTo>
                    <a:pt x="44" y="134"/>
                  </a:lnTo>
                  <a:lnTo>
                    <a:pt x="54" y="130"/>
                  </a:lnTo>
                  <a:lnTo>
                    <a:pt x="64" y="127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2" y="112"/>
                  </a:lnTo>
                  <a:lnTo>
                    <a:pt x="98" y="108"/>
                  </a:lnTo>
                  <a:lnTo>
                    <a:pt x="105" y="106"/>
                  </a:lnTo>
                  <a:lnTo>
                    <a:pt x="96" y="106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53" y="107"/>
                  </a:lnTo>
                  <a:lnTo>
                    <a:pt x="37" y="107"/>
                  </a:lnTo>
                  <a:lnTo>
                    <a:pt x="21" y="107"/>
                  </a:lnTo>
                  <a:lnTo>
                    <a:pt x="9" y="107"/>
                  </a:lnTo>
                  <a:lnTo>
                    <a:pt x="0" y="107"/>
                  </a:lnTo>
                  <a:lnTo>
                    <a:pt x="3" y="103"/>
                  </a:lnTo>
                  <a:lnTo>
                    <a:pt x="5" y="99"/>
                  </a:lnTo>
                  <a:lnTo>
                    <a:pt x="10" y="94"/>
                  </a:lnTo>
                  <a:lnTo>
                    <a:pt x="16" y="89"/>
                  </a:lnTo>
                  <a:lnTo>
                    <a:pt x="22" y="84"/>
                  </a:lnTo>
                  <a:lnTo>
                    <a:pt x="28" y="80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51" y="79"/>
                  </a:lnTo>
                  <a:lnTo>
                    <a:pt x="58" y="80"/>
                  </a:lnTo>
                  <a:lnTo>
                    <a:pt x="67" y="81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2" y="81"/>
                  </a:lnTo>
                  <a:lnTo>
                    <a:pt x="108" y="80"/>
                  </a:lnTo>
                  <a:lnTo>
                    <a:pt x="114" y="78"/>
                  </a:lnTo>
                  <a:lnTo>
                    <a:pt x="122" y="75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45" y="65"/>
                  </a:lnTo>
                  <a:lnTo>
                    <a:pt x="154" y="63"/>
                  </a:lnTo>
                  <a:lnTo>
                    <a:pt x="162" y="62"/>
                  </a:lnTo>
                  <a:lnTo>
                    <a:pt x="167" y="54"/>
                  </a:lnTo>
                  <a:lnTo>
                    <a:pt x="172" y="47"/>
                  </a:lnTo>
                  <a:lnTo>
                    <a:pt x="178" y="37"/>
                  </a:lnTo>
                  <a:lnTo>
                    <a:pt x="183" y="29"/>
                  </a:lnTo>
                  <a:lnTo>
                    <a:pt x="189" y="20"/>
                  </a:lnTo>
                  <a:lnTo>
                    <a:pt x="194" y="13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Text Box 320"/>
          <p:cNvSpPr/>
          <p:nvPr/>
        </p:nvSpPr>
        <p:spPr>
          <a:xfrm>
            <a:off x="3419640" y="2637000"/>
            <a:ext cx="511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用颜料不用笔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几步就成一幅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6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evt="end">
                                        <p:tn val="552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evt="end">
                                        <p:tn val="558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evt="end">
                                        <p:tn val="564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500"/>
                            </p:stCondLst>
                            <p:childTnLst>
                              <p:par>
                                <p:cTn id="5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evt="end">
                                        <p:tn val="581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8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evt="end">
                                        <p:tn val="59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evt="end">
                                        <p:tn val="599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500"/>
                            </p:stCondLst>
                            <p:childTnLst>
                              <p:par>
                                <p:cTn id="6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evt="end">
                                        <p:tn val="62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2"/>
          <p:cNvSpPr/>
          <p:nvPr/>
        </p:nvSpPr>
        <p:spPr>
          <a:xfrm>
            <a:off x="0" y="0"/>
            <a:ext cx="9144000" cy="2744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744640"/>
              <a:gd name="textAreaBottom" fmla="*/ 2744640 h 2744640"/>
            </a:gdLst>
            <a:ahLst/>
            <a:rect l="textAreaLeft" t="textAreaTop" r="textAreaRight" b="textAreaBottom"/>
            <a:pathLst>
              <a:path w="5760" h="1729">
                <a:moveTo>
                  <a:pt x="5760" y="1729"/>
                </a:moveTo>
                <a:lnTo>
                  <a:pt x="5760" y="1475"/>
                </a:lnTo>
                <a:lnTo>
                  <a:pt x="5760" y="1176"/>
                </a:lnTo>
                <a:lnTo>
                  <a:pt x="5760" y="0"/>
                </a:lnTo>
                <a:lnTo>
                  <a:pt x="0" y="0"/>
                </a:lnTo>
                <a:lnTo>
                  <a:pt x="0" y="1126"/>
                </a:lnTo>
                <a:lnTo>
                  <a:pt x="0" y="1724"/>
                </a:lnTo>
                <a:lnTo>
                  <a:pt x="5760" y="1729"/>
                </a:lnTo>
                <a:close/>
              </a:path>
            </a:pathLst>
          </a:custGeom>
          <a:solidFill>
            <a:srgbClr val="66b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0" y="380880"/>
            <a:ext cx="9144000" cy="3988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988080"/>
              <a:gd name="textAreaBottom" fmla="*/ 3988440 h 3988080"/>
            </a:gdLst>
            <a:ahLst/>
            <a:rect l="textAreaLeft" t="textAreaTop" r="textAreaRight" b="textAreaBottom"/>
            <a:pathLst>
              <a:path w="5760" h="2512">
                <a:moveTo>
                  <a:pt x="0" y="982"/>
                </a:moveTo>
                <a:lnTo>
                  <a:pt x="0" y="1121"/>
                </a:lnTo>
                <a:lnTo>
                  <a:pt x="0" y="1934"/>
                </a:lnTo>
                <a:lnTo>
                  <a:pt x="47" y="1884"/>
                </a:lnTo>
                <a:lnTo>
                  <a:pt x="100" y="1819"/>
                </a:lnTo>
                <a:lnTo>
                  <a:pt x="157" y="1749"/>
                </a:lnTo>
                <a:lnTo>
                  <a:pt x="219" y="1679"/>
                </a:lnTo>
                <a:lnTo>
                  <a:pt x="279" y="1620"/>
                </a:lnTo>
                <a:lnTo>
                  <a:pt x="338" y="1580"/>
                </a:lnTo>
                <a:lnTo>
                  <a:pt x="395" y="1565"/>
                </a:lnTo>
                <a:lnTo>
                  <a:pt x="448" y="1580"/>
                </a:lnTo>
                <a:lnTo>
                  <a:pt x="473" y="1595"/>
                </a:lnTo>
                <a:lnTo>
                  <a:pt x="504" y="1615"/>
                </a:lnTo>
                <a:lnTo>
                  <a:pt x="536" y="1630"/>
                </a:lnTo>
                <a:lnTo>
                  <a:pt x="570" y="1645"/>
                </a:lnTo>
                <a:lnTo>
                  <a:pt x="605" y="1660"/>
                </a:lnTo>
                <a:lnTo>
                  <a:pt x="642" y="1670"/>
                </a:lnTo>
                <a:lnTo>
                  <a:pt x="680" y="1684"/>
                </a:lnTo>
                <a:lnTo>
                  <a:pt x="717" y="1694"/>
                </a:lnTo>
                <a:lnTo>
                  <a:pt x="755" y="1704"/>
                </a:lnTo>
                <a:lnTo>
                  <a:pt x="796" y="1714"/>
                </a:lnTo>
                <a:lnTo>
                  <a:pt x="830" y="1719"/>
                </a:lnTo>
                <a:lnTo>
                  <a:pt x="868" y="1729"/>
                </a:lnTo>
                <a:lnTo>
                  <a:pt x="899" y="1734"/>
                </a:lnTo>
                <a:lnTo>
                  <a:pt x="930" y="1734"/>
                </a:lnTo>
                <a:lnTo>
                  <a:pt x="958" y="1739"/>
                </a:lnTo>
                <a:lnTo>
                  <a:pt x="983" y="1739"/>
                </a:lnTo>
                <a:lnTo>
                  <a:pt x="1034" y="1739"/>
                </a:lnTo>
                <a:lnTo>
                  <a:pt x="1087" y="1734"/>
                </a:lnTo>
                <a:lnTo>
                  <a:pt x="1146" y="1724"/>
                </a:lnTo>
                <a:lnTo>
                  <a:pt x="1203" y="1719"/>
                </a:lnTo>
                <a:lnTo>
                  <a:pt x="1253" y="1714"/>
                </a:lnTo>
                <a:lnTo>
                  <a:pt x="1297" y="1714"/>
                </a:lnTo>
                <a:lnTo>
                  <a:pt x="1331" y="1714"/>
                </a:lnTo>
                <a:lnTo>
                  <a:pt x="1353" y="1719"/>
                </a:lnTo>
                <a:lnTo>
                  <a:pt x="1372" y="1729"/>
                </a:lnTo>
                <a:lnTo>
                  <a:pt x="1397" y="1749"/>
                </a:lnTo>
                <a:lnTo>
                  <a:pt x="1431" y="1769"/>
                </a:lnTo>
                <a:lnTo>
                  <a:pt x="1472" y="1789"/>
                </a:lnTo>
                <a:lnTo>
                  <a:pt x="1513" y="1809"/>
                </a:lnTo>
                <a:lnTo>
                  <a:pt x="1557" y="1829"/>
                </a:lnTo>
                <a:lnTo>
                  <a:pt x="1597" y="1849"/>
                </a:lnTo>
                <a:lnTo>
                  <a:pt x="1635" y="1864"/>
                </a:lnTo>
                <a:lnTo>
                  <a:pt x="1676" y="1874"/>
                </a:lnTo>
                <a:lnTo>
                  <a:pt x="1726" y="1884"/>
                </a:lnTo>
                <a:lnTo>
                  <a:pt x="1779" y="1894"/>
                </a:lnTo>
                <a:lnTo>
                  <a:pt x="1835" y="1899"/>
                </a:lnTo>
                <a:lnTo>
                  <a:pt x="1892" y="1909"/>
                </a:lnTo>
                <a:lnTo>
                  <a:pt x="1942" y="1919"/>
                </a:lnTo>
                <a:lnTo>
                  <a:pt x="1986" y="1924"/>
                </a:lnTo>
                <a:lnTo>
                  <a:pt x="2020" y="1934"/>
                </a:lnTo>
                <a:lnTo>
                  <a:pt x="2052" y="1944"/>
                </a:lnTo>
                <a:lnTo>
                  <a:pt x="2089" y="1959"/>
                </a:lnTo>
                <a:lnTo>
                  <a:pt x="2130" y="1978"/>
                </a:lnTo>
                <a:lnTo>
                  <a:pt x="2177" y="1998"/>
                </a:lnTo>
                <a:lnTo>
                  <a:pt x="2221" y="2023"/>
                </a:lnTo>
                <a:lnTo>
                  <a:pt x="2265" y="2048"/>
                </a:lnTo>
                <a:lnTo>
                  <a:pt x="2305" y="2078"/>
                </a:lnTo>
                <a:lnTo>
                  <a:pt x="2340" y="2108"/>
                </a:lnTo>
                <a:lnTo>
                  <a:pt x="2358" y="2128"/>
                </a:lnTo>
                <a:lnTo>
                  <a:pt x="2380" y="2148"/>
                </a:lnTo>
                <a:lnTo>
                  <a:pt x="2405" y="2173"/>
                </a:lnTo>
                <a:lnTo>
                  <a:pt x="2437" y="2203"/>
                </a:lnTo>
                <a:lnTo>
                  <a:pt x="2468" y="2233"/>
                </a:lnTo>
                <a:lnTo>
                  <a:pt x="2499" y="2262"/>
                </a:lnTo>
                <a:lnTo>
                  <a:pt x="2537" y="2297"/>
                </a:lnTo>
                <a:lnTo>
                  <a:pt x="2575" y="2327"/>
                </a:lnTo>
                <a:lnTo>
                  <a:pt x="2609" y="2357"/>
                </a:lnTo>
                <a:lnTo>
                  <a:pt x="2647" y="2387"/>
                </a:lnTo>
                <a:lnTo>
                  <a:pt x="2684" y="2412"/>
                </a:lnTo>
                <a:lnTo>
                  <a:pt x="2722" y="2432"/>
                </a:lnTo>
                <a:lnTo>
                  <a:pt x="2753" y="2447"/>
                </a:lnTo>
                <a:lnTo>
                  <a:pt x="2788" y="2462"/>
                </a:lnTo>
                <a:lnTo>
                  <a:pt x="2816" y="2467"/>
                </a:lnTo>
                <a:lnTo>
                  <a:pt x="2844" y="2462"/>
                </a:lnTo>
                <a:lnTo>
                  <a:pt x="2897" y="2447"/>
                </a:lnTo>
                <a:lnTo>
                  <a:pt x="2947" y="2427"/>
                </a:lnTo>
                <a:lnTo>
                  <a:pt x="2997" y="2407"/>
                </a:lnTo>
                <a:lnTo>
                  <a:pt x="3048" y="2392"/>
                </a:lnTo>
                <a:lnTo>
                  <a:pt x="3091" y="2377"/>
                </a:lnTo>
                <a:lnTo>
                  <a:pt x="3135" y="2367"/>
                </a:lnTo>
                <a:lnTo>
                  <a:pt x="3173" y="2372"/>
                </a:lnTo>
                <a:lnTo>
                  <a:pt x="3204" y="2387"/>
                </a:lnTo>
                <a:lnTo>
                  <a:pt x="3232" y="2412"/>
                </a:lnTo>
                <a:lnTo>
                  <a:pt x="3257" y="2432"/>
                </a:lnTo>
                <a:lnTo>
                  <a:pt x="3279" y="2447"/>
                </a:lnTo>
                <a:lnTo>
                  <a:pt x="3301" y="2462"/>
                </a:lnTo>
                <a:lnTo>
                  <a:pt x="3320" y="2472"/>
                </a:lnTo>
                <a:lnTo>
                  <a:pt x="3336" y="2487"/>
                </a:lnTo>
                <a:lnTo>
                  <a:pt x="3351" y="2492"/>
                </a:lnTo>
                <a:lnTo>
                  <a:pt x="3367" y="2502"/>
                </a:lnTo>
                <a:lnTo>
                  <a:pt x="3386" y="2507"/>
                </a:lnTo>
                <a:lnTo>
                  <a:pt x="3408" y="2512"/>
                </a:lnTo>
                <a:lnTo>
                  <a:pt x="3433" y="2507"/>
                </a:lnTo>
                <a:lnTo>
                  <a:pt x="3461" y="2502"/>
                </a:lnTo>
                <a:lnTo>
                  <a:pt x="3492" y="2492"/>
                </a:lnTo>
                <a:lnTo>
                  <a:pt x="3524" y="2482"/>
                </a:lnTo>
                <a:lnTo>
                  <a:pt x="3558" y="2467"/>
                </a:lnTo>
                <a:lnTo>
                  <a:pt x="3596" y="2447"/>
                </a:lnTo>
                <a:lnTo>
                  <a:pt x="3621" y="2432"/>
                </a:lnTo>
                <a:lnTo>
                  <a:pt x="3652" y="2412"/>
                </a:lnTo>
                <a:lnTo>
                  <a:pt x="3693" y="2392"/>
                </a:lnTo>
                <a:lnTo>
                  <a:pt x="3737" y="2367"/>
                </a:lnTo>
                <a:lnTo>
                  <a:pt x="3790" y="2337"/>
                </a:lnTo>
                <a:lnTo>
                  <a:pt x="3843" y="2307"/>
                </a:lnTo>
                <a:lnTo>
                  <a:pt x="3903" y="2277"/>
                </a:lnTo>
                <a:lnTo>
                  <a:pt x="3962" y="2248"/>
                </a:lnTo>
                <a:lnTo>
                  <a:pt x="4025" y="2223"/>
                </a:lnTo>
                <a:lnTo>
                  <a:pt x="4084" y="2193"/>
                </a:lnTo>
                <a:lnTo>
                  <a:pt x="4141" y="2173"/>
                </a:lnTo>
                <a:lnTo>
                  <a:pt x="4197" y="2153"/>
                </a:lnTo>
                <a:lnTo>
                  <a:pt x="4247" y="2133"/>
                </a:lnTo>
                <a:lnTo>
                  <a:pt x="4294" y="2123"/>
                </a:lnTo>
                <a:lnTo>
                  <a:pt x="4332" y="2118"/>
                </a:lnTo>
                <a:lnTo>
                  <a:pt x="4363" y="2123"/>
                </a:lnTo>
                <a:lnTo>
                  <a:pt x="4382" y="2128"/>
                </a:lnTo>
                <a:lnTo>
                  <a:pt x="4404" y="2133"/>
                </a:lnTo>
                <a:lnTo>
                  <a:pt x="4423" y="2143"/>
                </a:lnTo>
                <a:lnTo>
                  <a:pt x="4441" y="2148"/>
                </a:lnTo>
                <a:lnTo>
                  <a:pt x="4463" y="2158"/>
                </a:lnTo>
                <a:lnTo>
                  <a:pt x="4482" y="2163"/>
                </a:lnTo>
                <a:lnTo>
                  <a:pt x="4501" y="2173"/>
                </a:lnTo>
                <a:lnTo>
                  <a:pt x="4520" y="2183"/>
                </a:lnTo>
                <a:lnTo>
                  <a:pt x="4548" y="2198"/>
                </a:lnTo>
                <a:lnTo>
                  <a:pt x="4576" y="2213"/>
                </a:lnTo>
                <a:lnTo>
                  <a:pt x="4601" y="2228"/>
                </a:lnTo>
                <a:lnTo>
                  <a:pt x="4626" y="2248"/>
                </a:lnTo>
                <a:lnTo>
                  <a:pt x="4648" y="2262"/>
                </a:lnTo>
                <a:lnTo>
                  <a:pt x="4667" y="2277"/>
                </a:lnTo>
                <a:lnTo>
                  <a:pt x="4683" y="2297"/>
                </a:lnTo>
                <a:lnTo>
                  <a:pt x="4698" y="2312"/>
                </a:lnTo>
                <a:lnTo>
                  <a:pt x="4723" y="2337"/>
                </a:lnTo>
                <a:lnTo>
                  <a:pt x="4751" y="2357"/>
                </a:lnTo>
                <a:lnTo>
                  <a:pt x="4780" y="2367"/>
                </a:lnTo>
                <a:lnTo>
                  <a:pt x="4811" y="2377"/>
                </a:lnTo>
                <a:lnTo>
                  <a:pt x="4845" y="2372"/>
                </a:lnTo>
                <a:lnTo>
                  <a:pt x="4877" y="2362"/>
                </a:lnTo>
                <a:lnTo>
                  <a:pt x="4908" y="2342"/>
                </a:lnTo>
                <a:lnTo>
                  <a:pt x="4939" y="2312"/>
                </a:lnTo>
                <a:lnTo>
                  <a:pt x="4971" y="2272"/>
                </a:lnTo>
                <a:lnTo>
                  <a:pt x="5002" y="2233"/>
                </a:lnTo>
                <a:lnTo>
                  <a:pt x="5036" y="2188"/>
                </a:lnTo>
                <a:lnTo>
                  <a:pt x="5071" y="2143"/>
                </a:lnTo>
                <a:lnTo>
                  <a:pt x="5105" y="2108"/>
                </a:lnTo>
                <a:lnTo>
                  <a:pt x="5140" y="2078"/>
                </a:lnTo>
                <a:lnTo>
                  <a:pt x="5174" y="2063"/>
                </a:lnTo>
                <a:lnTo>
                  <a:pt x="5202" y="2058"/>
                </a:lnTo>
                <a:lnTo>
                  <a:pt x="5237" y="2063"/>
                </a:lnTo>
                <a:lnTo>
                  <a:pt x="5281" y="2078"/>
                </a:lnTo>
                <a:lnTo>
                  <a:pt x="5334" y="2093"/>
                </a:lnTo>
                <a:lnTo>
                  <a:pt x="5387" y="2108"/>
                </a:lnTo>
                <a:lnTo>
                  <a:pt x="5441" y="2118"/>
                </a:lnTo>
                <a:lnTo>
                  <a:pt x="5491" y="2123"/>
                </a:lnTo>
                <a:lnTo>
                  <a:pt x="5531" y="2113"/>
                </a:lnTo>
                <a:lnTo>
                  <a:pt x="5560" y="2098"/>
                </a:lnTo>
                <a:lnTo>
                  <a:pt x="5585" y="2073"/>
                </a:lnTo>
                <a:lnTo>
                  <a:pt x="5610" y="2048"/>
                </a:lnTo>
                <a:lnTo>
                  <a:pt x="5635" y="2023"/>
                </a:lnTo>
                <a:lnTo>
                  <a:pt x="5663" y="1993"/>
                </a:lnTo>
                <a:lnTo>
                  <a:pt x="5691" y="1973"/>
                </a:lnTo>
                <a:lnTo>
                  <a:pt x="5716" y="1954"/>
                </a:lnTo>
                <a:lnTo>
                  <a:pt x="5738" y="1939"/>
                </a:lnTo>
                <a:lnTo>
                  <a:pt x="5760" y="1934"/>
                </a:lnTo>
                <a:lnTo>
                  <a:pt x="5760" y="1281"/>
                </a:lnTo>
                <a:lnTo>
                  <a:pt x="5760" y="982"/>
                </a:lnTo>
                <a:lnTo>
                  <a:pt x="5738" y="1012"/>
                </a:lnTo>
                <a:lnTo>
                  <a:pt x="5713" y="1042"/>
                </a:lnTo>
                <a:lnTo>
                  <a:pt x="5685" y="1077"/>
                </a:lnTo>
                <a:lnTo>
                  <a:pt x="5660" y="1106"/>
                </a:lnTo>
                <a:lnTo>
                  <a:pt x="5635" y="1136"/>
                </a:lnTo>
                <a:lnTo>
                  <a:pt x="5616" y="1156"/>
                </a:lnTo>
                <a:lnTo>
                  <a:pt x="5597" y="1171"/>
                </a:lnTo>
                <a:lnTo>
                  <a:pt x="5588" y="1176"/>
                </a:lnTo>
                <a:lnTo>
                  <a:pt x="5575" y="1171"/>
                </a:lnTo>
                <a:lnTo>
                  <a:pt x="5553" y="1161"/>
                </a:lnTo>
                <a:lnTo>
                  <a:pt x="5525" y="1146"/>
                </a:lnTo>
                <a:lnTo>
                  <a:pt x="5497" y="1126"/>
                </a:lnTo>
                <a:lnTo>
                  <a:pt x="5472" y="1111"/>
                </a:lnTo>
                <a:lnTo>
                  <a:pt x="5447" y="1097"/>
                </a:lnTo>
                <a:lnTo>
                  <a:pt x="5428" y="1092"/>
                </a:lnTo>
                <a:lnTo>
                  <a:pt x="5415" y="1087"/>
                </a:lnTo>
                <a:lnTo>
                  <a:pt x="5384" y="1126"/>
                </a:lnTo>
                <a:lnTo>
                  <a:pt x="5347" y="1171"/>
                </a:lnTo>
                <a:lnTo>
                  <a:pt x="5309" y="1226"/>
                </a:lnTo>
                <a:lnTo>
                  <a:pt x="5268" y="1281"/>
                </a:lnTo>
                <a:lnTo>
                  <a:pt x="5228" y="1331"/>
                </a:lnTo>
                <a:lnTo>
                  <a:pt x="5193" y="1371"/>
                </a:lnTo>
                <a:lnTo>
                  <a:pt x="5162" y="1400"/>
                </a:lnTo>
                <a:lnTo>
                  <a:pt x="5140" y="1410"/>
                </a:lnTo>
                <a:lnTo>
                  <a:pt x="5121" y="1390"/>
                </a:lnTo>
                <a:lnTo>
                  <a:pt x="5102" y="1351"/>
                </a:lnTo>
                <a:lnTo>
                  <a:pt x="5087" y="1301"/>
                </a:lnTo>
                <a:lnTo>
                  <a:pt x="5074" y="1241"/>
                </a:lnTo>
                <a:lnTo>
                  <a:pt x="5065" y="1186"/>
                </a:lnTo>
                <a:lnTo>
                  <a:pt x="5055" y="1131"/>
                </a:lnTo>
                <a:lnTo>
                  <a:pt x="5046" y="1097"/>
                </a:lnTo>
                <a:lnTo>
                  <a:pt x="5040" y="1077"/>
                </a:lnTo>
                <a:lnTo>
                  <a:pt x="5033" y="1072"/>
                </a:lnTo>
                <a:lnTo>
                  <a:pt x="5024" y="1062"/>
                </a:lnTo>
                <a:lnTo>
                  <a:pt x="5011" y="1057"/>
                </a:lnTo>
                <a:lnTo>
                  <a:pt x="5002" y="1052"/>
                </a:lnTo>
                <a:lnTo>
                  <a:pt x="4986" y="1047"/>
                </a:lnTo>
                <a:lnTo>
                  <a:pt x="4974" y="1047"/>
                </a:lnTo>
                <a:lnTo>
                  <a:pt x="4961" y="1047"/>
                </a:lnTo>
                <a:lnTo>
                  <a:pt x="4946" y="1052"/>
                </a:lnTo>
                <a:lnTo>
                  <a:pt x="4936" y="972"/>
                </a:lnTo>
                <a:lnTo>
                  <a:pt x="4924" y="902"/>
                </a:lnTo>
                <a:lnTo>
                  <a:pt x="4911" y="847"/>
                </a:lnTo>
                <a:lnTo>
                  <a:pt x="4889" y="817"/>
                </a:lnTo>
                <a:lnTo>
                  <a:pt x="4874" y="813"/>
                </a:lnTo>
                <a:lnTo>
                  <a:pt x="4855" y="808"/>
                </a:lnTo>
                <a:lnTo>
                  <a:pt x="4836" y="798"/>
                </a:lnTo>
                <a:lnTo>
                  <a:pt x="4817" y="793"/>
                </a:lnTo>
                <a:lnTo>
                  <a:pt x="4798" y="788"/>
                </a:lnTo>
                <a:lnTo>
                  <a:pt x="4780" y="778"/>
                </a:lnTo>
                <a:lnTo>
                  <a:pt x="4767" y="768"/>
                </a:lnTo>
                <a:lnTo>
                  <a:pt x="4758" y="758"/>
                </a:lnTo>
                <a:lnTo>
                  <a:pt x="4748" y="743"/>
                </a:lnTo>
                <a:lnTo>
                  <a:pt x="4730" y="713"/>
                </a:lnTo>
                <a:lnTo>
                  <a:pt x="4708" y="678"/>
                </a:lnTo>
                <a:lnTo>
                  <a:pt x="4683" y="643"/>
                </a:lnTo>
                <a:lnTo>
                  <a:pt x="4657" y="608"/>
                </a:lnTo>
                <a:lnTo>
                  <a:pt x="4632" y="583"/>
                </a:lnTo>
                <a:lnTo>
                  <a:pt x="4607" y="563"/>
                </a:lnTo>
                <a:lnTo>
                  <a:pt x="4589" y="553"/>
                </a:lnTo>
                <a:lnTo>
                  <a:pt x="4573" y="563"/>
                </a:lnTo>
                <a:lnTo>
                  <a:pt x="4557" y="573"/>
                </a:lnTo>
                <a:lnTo>
                  <a:pt x="4535" y="588"/>
                </a:lnTo>
                <a:lnTo>
                  <a:pt x="4513" y="608"/>
                </a:lnTo>
                <a:lnTo>
                  <a:pt x="4476" y="638"/>
                </a:lnTo>
                <a:lnTo>
                  <a:pt x="4435" y="673"/>
                </a:lnTo>
                <a:lnTo>
                  <a:pt x="4388" y="708"/>
                </a:lnTo>
                <a:lnTo>
                  <a:pt x="4341" y="748"/>
                </a:lnTo>
                <a:lnTo>
                  <a:pt x="4291" y="788"/>
                </a:lnTo>
                <a:lnTo>
                  <a:pt x="4241" y="822"/>
                </a:lnTo>
                <a:lnTo>
                  <a:pt x="4191" y="862"/>
                </a:lnTo>
                <a:lnTo>
                  <a:pt x="4138" y="902"/>
                </a:lnTo>
                <a:lnTo>
                  <a:pt x="4087" y="942"/>
                </a:lnTo>
                <a:lnTo>
                  <a:pt x="4037" y="977"/>
                </a:lnTo>
                <a:lnTo>
                  <a:pt x="3990" y="1007"/>
                </a:lnTo>
                <a:lnTo>
                  <a:pt x="3946" y="1037"/>
                </a:lnTo>
                <a:lnTo>
                  <a:pt x="3903" y="1062"/>
                </a:lnTo>
                <a:lnTo>
                  <a:pt x="3865" y="1087"/>
                </a:lnTo>
                <a:lnTo>
                  <a:pt x="3834" y="1102"/>
                </a:lnTo>
                <a:lnTo>
                  <a:pt x="3806" y="1111"/>
                </a:lnTo>
                <a:lnTo>
                  <a:pt x="3787" y="1106"/>
                </a:lnTo>
                <a:lnTo>
                  <a:pt x="3765" y="1102"/>
                </a:lnTo>
                <a:lnTo>
                  <a:pt x="3740" y="1092"/>
                </a:lnTo>
                <a:lnTo>
                  <a:pt x="3718" y="1082"/>
                </a:lnTo>
                <a:lnTo>
                  <a:pt x="3696" y="1072"/>
                </a:lnTo>
                <a:lnTo>
                  <a:pt x="3677" y="1062"/>
                </a:lnTo>
                <a:lnTo>
                  <a:pt x="3665" y="1047"/>
                </a:lnTo>
                <a:lnTo>
                  <a:pt x="3661" y="1032"/>
                </a:lnTo>
                <a:lnTo>
                  <a:pt x="3661" y="1012"/>
                </a:lnTo>
                <a:lnTo>
                  <a:pt x="3661" y="987"/>
                </a:lnTo>
                <a:lnTo>
                  <a:pt x="3655" y="957"/>
                </a:lnTo>
                <a:lnTo>
                  <a:pt x="3646" y="932"/>
                </a:lnTo>
                <a:lnTo>
                  <a:pt x="3630" y="907"/>
                </a:lnTo>
                <a:lnTo>
                  <a:pt x="3605" y="887"/>
                </a:lnTo>
                <a:lnTo>
                  <a:pt x="3568" y="882"/>
                </a:lnTo>
                <a:lnTo>
                  <a:pt x="3521" y="892"/>
                </a:lnTo>
                <a:lnTo>
                  <a:pt x="3508" y="882"/>
                </a:lnTo>
                <a:lnTo>
                  <a:pt x="3495" y="872"/>
                </a:lnTo>
                <a:lnTo>
                  <a:pt x="3480" y="862"/>
                </a:lnTo>
                <a:lnTo>
                  <a:pt x="3467" y="847"/>
                </a:lnTo>
                <a:lnTo>
                  <a:pt x="3445" y="827"/>
                </a:lnTo>
                <a:lnTo>
                  <a:pt x="3427" y="813"/>
                </a:lnTo>
                <a:lnTo>
                  <a:pt x="3411" y="798"/>
                </a:lnTo>
                <a:lnTo>
                  <a:pt x="3398" y="793"/>
                </a:lnTo>
                <a:lnTo>
                  <a:pt x="3383" y="788"/>
                </a:lnTo>
                <a:lnTo>
                  <a:pt x="3358" y="783"/>
                </a:lnTo>
                <a:lnTo>
                  <a:pt x="3339" y="773"/>
                </a:lnTo>
                <a:lnTo>
                  <a:pt x="3326" y="758"/>
                </a:lnTo>
                <a:lnTo>
                  <a:pt x="3304" y="783"/>
                </a:lnTo>
                <a:lnTo>
                  <a:pt x="3282" y="813"/>
                </a:lnTo>
                <a:lnTo>
                  <a:pt x="3257" y="837"/>
                </a:lnTo>
                <a:lnTo>
                  <a:pt x="3235" y="857"/>
                </a:lnTo>
                <a:lnTo>
                  <a:pt x="3220" y="872"/>
                </a:lnTo>
                <a:lnTo>
                  <a:pt x="3204" y="887"/>
                </a:lnTo>
                <a:lnTo>
                  <a:pt x="3192" y="897"/>
                </a:lnTo>
                <a:lnTo>
                  <a:pt x="3179" y="902"/>
                </a:lnTo>
                <a:lnTo>
                  <a:pt x="3167" y="907"/>
                </a:lnTo>
                <a:lnTo>
                  <a:pt x="3148" y="922"/>
                </a:lnTo>
                <a:lnTo>
                  <a:pt x="3126" y="937"/>
                </a:lnTo>
                <a:lnTo>
                  <a:pt x="3104" y="952"/>
                </a:lnTo>
                <a:lnTo>
                  <a:pt x="3079" y="967"/>
                </a:lnTo>
                <a:lnTo>
                  <a:pt x="3057" y="987"/>
                </a:lnTo>
                <a:lnTo>
                  <a:pt x="3038" y="1002"/>
                </a:lnTo>
                <a:lnTo>
                  <a:pt x="3026" y="1012"/>
                </a:lnTo>
                <a:lnTo>
                  <a:pt x="3013" y="1017"/>
                </a:lnTo>
                <a:lnTo>
                  <a:pt x="2994" y="1022"/>
                </a:lnTo>
                <a:lnTo>
                  <a:pt x="2976" y="1017"/>
                </a:lnTo>
                <a:lnTo>
                  <a:pt x="2954" y="1012"/>
                </a:lnTo>
                <a:lnTo>
                  <a:pt x="2932" y="1002"/>
                </a:lnTo>
                <a:lnTo>
                  <a:pt x="2910" y="992"/>
                </a:lnTo>
                <a:lnTo>
                  <a:pt x="2894" y="977"/>
                </a:lnTo>
                <a:lnTo>
                  <a:pt x="2885" y="967"/>
                </a:lnTo>
                <a:lnTo>
                  <a:pt x="2850" y="977"/>
                </a:lnTo>
                <a:lnTo>
                  <a:pt x="2813" y="1002"/>
                </a:lnTo>
                <a:lnTo>
                  <a:pt x="2772" y="1027"/>
                </a:lnTo>
                <a:lnTo>
                  <a:pt x="2728" y="1057"/>
                </a:lnTo>
                <a:lnTo>
                  <a:pt x="2687" y="1087"/>
                </a:lnTo>
                <a:lnTo>
                  <a:pt x="2653" y="1116"/>
                </a:lnTo>
                <a:lnTo>
                  <a:pt x="2622" y="1141"/>
                </a:lnTo>
                <a:lnTo>
                  <a:pt x="2603" y="1156"/>
                </a:lnTo>
                <a:lnTo>
                  <a:pt x="2584" y="1171"/>
                </a:lnTo>
                <a:lnTo>
                  <a:pt x="2562" y="1191"/>
                </a:lnTo>
                <a:lnTo>
                  <a:pt x="2540" y="1206"/>
                </a:lnTo>
                <a:lnTo>
                  <a:pt x="2512" y="1221"/>
                </a:lnTo>
                <a:lnTo>
                  <a:pt x="2484" y="1241"/>
                </a:lnTo>
                <a:lnTo>
                  <a:pt x="2456" y="1256"/>
                </a:lnTo>
                <a:lnTo>
                  <a:pt x="2427" y="1266"/>
                </a:lnTo>
                <a:lnTo>
                  <a:pt x="2402" y="1276"/>
                </a:lnTo>
                <a:lnTo>
                  <a:pt x="2377" y="1286"/>
                </a:lnTo>
                <a:lnTo>
                  <a:pt x="2355" y="1301"/>
                </a:lnTo>
                <a:lnTo>
                  <a:pt x="2333" y="1316"/>
                </a:lnTo>
                <a:lnTo>
                  <a:pt x="2312" y="1336"/>
                </a:lnTo>
                <a:lnTo>
                  <a:pt x="2293" y="1351"/>
                </a:lnTo>
                <a:lnTo>
                  <a:pt x="2277" y="1366"/>
                </a:lnTo>
                <a:lnTo>
                  <a:pt x="2261" y="1381"/>
                </a:lnTo>
                <a:lnTo>
                  <a:pt x="2252" y="1386"/>
                </a:lnTo>
                <a:lnTo>
                  <a:pt x="2211" y="1326"/>
                </a:lnTo>
                <a:lnTo>
                  <a:pt x="2164" y="1256"/>
                </a:lnTo>
                <a:lnTo>
                  <a:pt x="2117" y="1176"/>
                </a:lnTo>
                <a:lnTo>
                  <a:pt x="2067" y="1092"/>
                </a:lnTo>
                <a:lnTo>
                  <a:pt x="2017" y="1012"/>
                </a:lnTo>
                <a:lnTo>
                  <a:pt x="1973" y="937"/>
                </a:lnTo>
                <a:lnTo>
                  <a:pt x="1939" y="867"/>
                </a:lnTo>
                <a:lnTo>
                  <a:pt x="1911" y="817"/>
                </a:lnTo>
                <a:lnTo>
                  <a:pt x="1889" y="768"/>
                </a:lnTo>
                <a:lnTo>
                  <a:pt x="1857" y="713"/>
                </a:lnTo>
                <a:lnTo>
                  <a:pt x="1826" y="648"/>
                </a:lnTo>
                <a:lnTo>
                  <a:pt x="1792" y="583"/>
                </a:lnTo>
                <a:lnTo>
                  <a:pt x="1754" y="519"/>
                </a:lnTo>
                <a:lnTo>
                  <a:pt x="1720" y="464"/>
                </a:lnTo>
                <a:lnTo>
                  <a:pt x="1688" y="414"/>
                </a:lnTo>
                <a:lnTo>
                  <a:pt x="1663" y="384"/>
                </a:lnTo>
                <a:lnTo>
                  <a:pt x="1641" y="359"/>
                </a:lnTo>
                <a:lnTo>
                  <a:pt x="1622" y="344"/>
                </a:lnTo>
                <a:lnTo>
                  <a:pt x="1604" y="324"/>
                </a:lnTo>
                <a:lnTo>
                  <a:pt x="1588" y="309"/>
                </a:lnTo>
                <a:lnTo>
                  <a:pt x="1575" y="294"/>
                </a:lnTo>
                <a:lnTo>
                  <a:pt x="1563" y="279"/>
                </a:lnTo>
                <a:lnTo>
                  <a:pt x="1550" y="264"/>
                </a:lnTo>
                <a:lnTo>
                  <a:pt x="1541" y="249"/>
                </a:lnTo>
                <a:lnTo>
                  <a:pt x="1528" y="230"/>
                </a:lnTo>
                <a:lnTo>
                  <a:pt x="1513" y="195"/>
                </a:lnTo>
                <a:lnTo>
                  <a:pt x="1491" y="160"/>
                </a:lnTo>
                <a:lnTo>
                  <a:pt x="1469" y="120"/>
                </a:lnTo>
                <a:lnTo>
                  <a:pt x="1444" y="80"/>
                </a:lnTo>
                <a:lnTo>
                  <a:pt x="1422" y="45"/>
                </a:lnTo>
                <a:lnTo>
                  <a:pt x="1406" y="20"/>
                </a:lnTo>
                <a:lnTo>
                  <a:pt x="1394" y="5"/>
                </a:lnTo>
                <a:lnTo>
                  <a:pt x="1378" y="10"/>
                </a:lnTo>
                <a:lnTo>
                  <a:pt x="1362" y="20"/>
                </a:lnTo>
                <a:lnTo>
                  <a:pt x="1347" y="40"/>
                </a:lnTo>
                <a:lnTo>
                  <a:pt x="1331" y="60"/>
                </a:lnTo>
                <a:lnTo>
                  <a:pt x="1315" y="80"/>
                </a:lnTo>
                <a:lnTo>
                  <a:pt x="1297" y="100"/>
                </a:lnTo>
                <a:lnTo>
                  <a:pt x="1278" y="120"/>
                </a:lnTo>
                <a:lnTo>
                  <a:pt x="1259" y="135"/>
                </a:lnTo>
                <a:lnTo>
                  <a:pt x="1247" y="135"/>
                </a:lnTo>
                <a:lnTo>
                  <a:pt x="1234" y="135"/>
                </a:lnTo>
                <a:lnTo>
                  <a:pt x="1222" y="125"/>
                </a:lnTo>
                <a:lnTo>
                  <a:pt x="1209" y="115"/>
                </a:lnTo>
                <a:lnTo>
                  <a:pt x="1196" y="95"/>
                </a:lnTo>
                <a:lnTo>
                  <a:pt x="1184" y="70"/>
                </a:lnTo>
                <a:lnTo>
                  <a:pt x="1171" y="40"/>
                </a:lnTo>
                <a:lnTo>
                  <a:pt x="1162" y="0"/>
                </a:lnTo>
                <a:lnTo>
                  <a:pt x="1153" y="0"/>
                </a:lnTo>
                <a:lnTo>
                  <a:pt x="1146" y="5"/>
                </a:lnTo>
                <a:lnTo>
                  <a:pt x="1134" y="15"/>
                </a:lnTo>
                <a:lnTo>
                  <a:pt x="1121" y="25"/>
                </a:lnTo>
                <a:lnTo>
                  <a:pt x="1106" y="45"/>
                </a:lnTo>
                <a:lnTo>
                  <a:pt x="1084" y="65"/>
                </a:lnTo>
                <a:lnTo>
                  <a:pt x="1056" y="90"/>
                </a:lnTo>
                <a:lnTo>
                  <a:pt x="1021" y="125"/>
                </a:lnTo>
                <a:lnTo>
                  <a:pt x="974" y="165"/>
                </a:lnTo>
                <a:lnTo>
                  <a:pt x="918" y="205"/>
                </a:lnTo>
                <a:lnTo>
                  <a:pt x="852" y="244"/>
                </a:lnTo>
                <a:lnTo>
                  <a:pt x="789" y="284"/>
                </a:lnTo>
                <a:lnTo>
                  <a:pt x="730" y="319"/>
                </a:lnTo>
                <a:lnTo>
                  <a:pt x="680" y="344"/>
                </a:lnTo>
                <a:lnTo>
                  <a:pt x="642" y="364"/>
                </a:lnTo>
                <a:lnTo>
                  <a:pt x="623" y="369"/>
                </a:lnTo>
                <a:lnTo>
                  <a:pt x="614" y="364"/>
                </a:lnTo>
                <a:lnTo>
                  <a:pt x="598" y="354"/>
                </a:lnTo>
                <a:lnTo>
                  <a:pt x="579" y="339"/>
                </a:lnTo>
                <a:lnTo>
                  <a:pt x="558" y="319"/>
                </a:lnTo>
                <a:lnTo>
                  <a:pt x="539" y="304"/>
                </a:lnTo>
                <a:lnTo>
                  <a:pt x="517" y="289"/>
                </a:lnTo>
                <a:lnTo>
                  <a:pt x="501" y="279"/>
                </a:lnTo>
                <a:lnTo>
                  <a:pt x="489" y="274"/>
                </a:lnTo>
                <a:lnTo>
                  <a:pt x="454" y="299"/>
                </a:lnTo>
                <a:lnTo>
                  <a:pt x="407" y="354"/>
                </a:lnTo>
                <a:lnTo>
                  <a:pt x="345" y="439"/>
                </a:lnTo>
                <a:lnTo>
                  <a:pt x="276" y="543"/>
                </a:lnTo>
                <a:lnTo>
                  <a:pt x="204" y="658"/>
                </a:lnTo>
                <a:lnTo>
                  <a:pt x="128" y="773"/>
                </a:lnTo>
                <a:lnTo>
                  <a:pt x="60" y="882"/>
                </a:lnTo>
                <a:lnTo>
                  <a:pt x="0" y="982"/>
                </a:lnTo>
                <a:close/>
              </a:path>
            </a:pathLst>
          </a:custGeom>
          <a:solidFill>
            <a:srgbClr val="d8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4"/>
          <p:cNvSpPr/>
          <p:nvPr/>
        </p:nvSpPr>
        <p:spPr>
          <a:xfrm>
            <a:off x="8712360" y="1866960"/>
            <a:ext cx="431640" cy="9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72" h="613">
                <a:moveTo>
                  <a:pt x="212" y="399"/>
                </a:moveTo>
                <a:lnTo>
                  <a:pt x="187" y="408"/>
                </a:lnTo>
                <a:lnTo>
                  <a:pt x="162" y="423"/>
                </a:lnTo>
                <a:lnTo>
                  <a:pt x="137" y="448"/>
                </a:lnTo>
                <a:lnTo>
                  <a:pt x="112" y="473"/>
                </a:lnTo>
                <a:lnTo>
                  <a:pt x="90" y="503"/>
                </a:lnTo>
                <a:lnTo>
                  <a:pt x="72" y="538"/>
                </a:lnTo>
                <a:lnTo>
                  <a:pt x="56" y="578"/>
                </a:lnTo>
                <a:lnTo>
                  <a:pt x="46" y="613"/>
                </a:lnTo>
                <a:lnTo>
                  <a:pt x="0" y="573"/>
                </a:lnTo>
                <a:lnTo>
                  <a:pt x="0" y="563"/>
                </a:lnTo>
                <a:lnTo>
                  <a:pt x="3" y="543"/>
                </a:lnTo>
                <a:lnTo>
                  <a:pt x="9" y="513"/>
                </a:lnTo>
                <a:lnTo>
                  <a:pt x="15" y="483"/>
                </a:lnTo>
                <a:lnTo>
                  <a:pt x="21" y="448"/>
                </a:lnTo>
                <a:lnTo>
                  <a:pt x="21" y="408"/>
                </a:lnTo>
                <a:lnTo>
                  <a:pt x="15" y="364"/>
                </a:lnTo>
                <a:lnTo>
                  <a:pt x="0" y="319"/>
                </a:lnTo>
                <a:lnTo>
                  <a:pt x="56" y="239"/>
                </a:lnTo>
                <a:lnTo>
                  <a:pt x="9" y="144"/>
                </a:lnTo>
                <a:lnTo>
                  <a:pt x="37" y="164"/>
                </a:lnTo>
                <a:lnTo>
                  <a:pt x="65" y="179"/>
                </a:lnTo>
                <a:lnTo>
                  <a:pt x="87" y="189"/>
                </a:lnTo>
                <a:lnTo>
                  <a:pt x="100" y="194"/>
                </a:lnTo>
                <a:lnTo>
                  <a:pt x="109" y="189"/>
                </a:lnTo>
                <a:lnTo>
                  <a:pt x="128" y="174"/>
                </a:lnTo>
                <a:lnTo>
                  <a:pt x="147" y="154"/>
                </a:lnTo>
                <a:lnTo>
                  <a:pt x="172" y="124"/>
                </a:lnTo>
                <a:lnTo>
                  <a:pt x="197" y="95"/>
                </a:lnTo>
                <a:lnTo>
                  <a:pt x="225" y="60"/>
                </a:lnTo>
                <a:lnTo>
                  <a:pt x="250" y="30"/>
                </a:lnTo>
                <a:lnTo>
                  <a:pt x="272" y="0"/>
                </a:lnTo>
                <a:lnTo>
                  <a:pt x="272" y="299"/>
                </a:lnTo>
                <a:lnTo>
                  <a:pt x="250" y="314"/>
                </a:lnTo>
                <a:lnTo>
                  <a:pt x="231" y="339"/>
                </a:lnTo>
                <a:lnTo>
                  <a:pt x="216" y="364"/>
                </a:lnTo>
                <a:lnTo>
                  <a:pt x="212" y="3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7315200" y="1295280"/>
            <a:ext cx="155520" cy="293760"/>
          </a:xfrm>
          <a:custGeom>
            <a:avLst/>
            <a:gdLst>
              <a:gd name="textAreaLeft" fmla="*/ 0 w 155520"/>
              <a:gd name="textAreaRight" fmla="*/ 155880 w 1555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8" h="185">
                <a:moveTo>
                  <a:pt x="98" y="130"/>
                </a:moveTo>
                <a:lnTo>
                  <a:pt x="85" y="115"/>
                </a:lnTo>
                <a:lnTo>
                  <a:pt x="76" y="100"/>
                </a:lnTo>
                <a:lnTo>
                  <a:pt x="63" y="80"/>
                </a:lnTo>
                <a:lnTo>
                  <a:pt x="51" y="65"/>
                </a:lnTo>
                <a:lnTo>
                  <a:pt x="38" y="45"/>
                </a:lnTo>
                <a:lnTo>
                  <a:pt x="25" y="30"/>
                </a:lnTo>
                <a:lnTo>
                  <a:pt x="13" y="15"/>
                </a:lnTo>
                <a:lnTo>
                  <a:pt x="0" y="0"/>
                </a:lnTo>
                <a:lnTo>
                  <a:pt x="0" y="35"/>
                </a:lnTo>
                <a:lnTo>
                  <a:pt x="0" y="80"/>
                </a:lnTo>
                <a:lnTo>
                  <a:pt x="4" y="135"/>
                </a:lnTo>
                <a:lnTo>
                  <a:pt x="13" y="175"/>
                </a:lnTo>
                <a:lnTo>
                  <a:pt x="32" y="180"/>
                </a:lnTo>
                <a:lnTo>
                  <a:pt x="57" y="180"/>
                </a:lnTo>
                <a:lnTo>
                  <a:pt x="82" y="185"/>
                </a:lnTo>
                <a:lnTo>
                  <a:pt x="91" y="185"/>
                </a:lnTo>
                <a:lnTo>
                  <a:pt x="98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6"/>
          <p:cNvSpPr/>
          <p:nvPr/>
        </p:nvSpPr>
        <p:spPr>
          <a:xfrm>
            <a:off x="5257800" y="1600200"/>
            <a:ext cx="223920" cy="426960"/>
          </a:xfrm>
          <a:custGeom>
            <a:avLst/>
            <a:gdLst>
              <a:gd name="textAreaLeft" fmla="*/ 0 w 223920"/>
              <a:gd name="textAreaRight" fmla="*/ 224280 w 223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1" h="269">
                <a:moveTo>
                  <a:pt x="141" y="89"/>
                </a:moveTo>
                <a:lnTo>
                  <a:pt x="119" y="69"/>
                </a:lnTo>
                <a:lnTo>
                  <a:pt x="101" y="55"/>
                </a:lnTo>
                <a:lnTo>
                  <a:pt x="85" y="40"/>
                </a:lnTo>
                <a:lnTo>
                  <a:pt x="72" y="35"/>
                </a:lnTo>
                <a:lnTo>
                  <a:pt x="57" y="30"/>
                </a:lnTo>
                <a:lnTo>
                  <a:pt x="32" y="25"/>
                </a:lnTo>
                <a:lnTo>
                  <a:pt x="13" y="15"/>
                </a:lnTo>
                <a:lnTo>
                  <a:pt x="0" y="0"/>
                </a:lnTo>
                <a:lnTo>
                  <a:pt x="16" y="55"/>
                </a:lnTo>
                <a:lnTo>
                  <a:pt x="32" y="94"/>
                </a:lnTo>
                <a:lnTo>
                  <a:pt x="44" y="124"/>
                </a:lnTo>
                <a:lnTo>
                  <a:pt x="47" y="149"/>
                </a:lnTo>
                <a:lnTo>
                  <a:pt x="47" y="179"/>
                </a:lnTo>
                <a:lnTo>
                  <a:pt x="44" y="219"/>
                </a:lnTo>
                <a:lnTo>
                  <a:pt x="41" y="254"/>
                </a:lnTo>
                <a:lnTo>
                  <a:pt x="41" y="269"/>
                </a:lnTo>
                <a:lnTo>
                  <a:pt x="101" y="269"/>
                </a:lnTo>
                <a:lnTo>
                  <a:pt x="113" y="229"/>
                </a:lnTo>
                <a:lnTo>
                  <a:pt x="122" y="179"/>
                </a:lnTo>
                <a:lnTo>
                  <a:pt x="129" y="134"/>
                </a:lnTo>
                <a:lnTo>
                  <a:pt x="14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7"/>
          <p:cNvSpPr/>
          <p:nvPr/>
        </p:nvSpPr>
        <p:spPr>
          <a:xfrm>
            <a:off x="0" y="506520"/>
            <a:ext cx="1620720" cy="18349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21" h="1156">
                <a:moveTo>
                  <a:pt x="0" y="1156"/>
                </a:moveTo>
                <a:lnTo>
                  <a:pt x="0" y="857"/>
                </a:lnTo>
                <a:lnTo>
                  <a:pt x="60" y="757"/>
                </a:lnTo>
                <a:lnTo>
                  <a:pt x="128" y="648"/>
                </a:lnTo>
                <a:lnTo>
                  <a:pt x="204" y="533"/>
                </a:lnTo>
                <a:lnTo>
                  <a:pt x="276" y="418"/>
                </a:lnTo>
                <a:lnTo>
                  <a:pt x="345" y="314"/>
                </a:lnTo>
                <a:lnTo>
                  <a:pt x="407" y="229"/>
                </a:lnTo>
                <a:lnTo>
                  <a:pt x="454" y="174"/>
                </a:lnTo>
                <a:lnTo>
                  <a:pt x="489" y="149"/>
                </a:lnTo>
                <a:lnTo>
                  <a:pt x="501" y="154"/>
                </a:lnTo>
                <a:lnTo>
                  <a:pt x="517" y="164"/>
                </a:lnTo>
                <a:lnTo>
                  <a:pt x="539" y="179"/>
                </a:lnTo>
                <a:lnTo>
                  <a:pt x="558" y="194"/>
                </a:lnTo>
                <a:lnTo>
                  <a:pt x="579" y="214"/>
                </a:lnTo>
                <a:lnTo>
                  <a:pt x="598" y="229"/>
                </a:lnTo>
                <a:lnTo>
                  <a:pt x="614" y="239"/>
                </a:lnTo>
                <a:lnTo>
                  <a:pt x="623" y="244"/>
                </a:lnTo>
                <a:lnTo>
                  <a:pt x="642" y="239"/>
                </a:lnTo>
                <a:lnTo>
                  <a:pt x="680" y="219"/>
                </a:lnTo>
                <a:lnTo>
                  <a:pt x="730" y="194"/>
                </a:lnTo>
                <a:lnTo>
                  <a:pt x="789" y="159"/>
                </a:lnTo>
                <a:lnTo>
                  <a:pt x="852" y="119"/>
                </a:lnTo>
                <a:lnTo>
                  <a:pt x="918" y="80"/>
                </a:lnTo>
                <a:lnTo>
                  <a:pt x="974" y="40"/>
                </a:lnTo>
                <a:lnTo>
                  <a:pt x="1021" y="0"/>
                </a:lnTo>
                <a:lnTo>
                  <a:pt x="983" y="40"/>
                </a:lnTo>
                <a:lnTo>
                  <a:pt x="949" y="70"/>
                </a:lnTo>
                <a:lnTo>
                  <a:pt x="921" y="100"/>
                </a:lnTo>
                <a:lnTo>
                  <a:pt x="896" y="124"/>
                </a:lnTo>
                <a:lnTo>
                  <a:pt x="874" y="149"/>
                </a:lnTo>
                <a:lnTo>
                  <a:pt x="852" y="164"/>
                </a:lnTo>
                <a:lnTo>
                  <a:pt x="833" y="184"/>
                </a:lnTo>
                <a:lnTo>
                  <a:pt x="811" y="199"/>
                </a:lnTo>
                <a:lnTo>
                  <a:pt x="792" y="219"/>
                </a:lnTo>
                <a:lnTo>
                  <a:pt x="771" y="239"/>
                </a:lnTo>
                <a:lnTo>
                  <a:pt x="749" y="264"/>
                </a:lnTo>
                <a:lnTo>
                  <a:pt x="730" y="289"/>
                </a:lnTo>
                <a:lnTo>
                  <a:pt x="711" y="314"/>
                </a:lnTo>
                <a:lnTo>
                  <a:pt x="692" y="334"/>
                </a:lnTo>
                <a:lnTo>
                  <a:pt x="677" y="344"/>
                </a:lnTo>
                <a:lnTo>
                  <a:pt x="664" y="349"/>
                </a:lnTo>
                <a:lnTo>
                  <a:pt x="651" y="344"/>
                </a:lnTo>
                <a:lnTo>
                  <a:pt x="633" y="329"/>
                </a:lnTo>
                <a:lnTo>
                  <a:pt x="611" y="314"/>
                </a:lnTo>
                <a:lnTo>
                  <a:pt x="589" y="289"/>
                </a:lnTo>
                <a:lnTo>
                  <a:pt x="564" y="269"/>
                </a:lnTo>
                <a:lnTo>
                  <a:pt x="542" y="254"/>
                </a:lnTo>
                <a:lnTo>
                  <a:pt x="520" y="239"/>
                </a:lnTo>
                <a:lnTo>
                  <a:pt x="501" y="234"/>
                </a:lnTo>
                <a:lnTo>
                  <a:pt x="489" y="244"/>
                </a:lnTo>
                <a:lnTo>
                  <a:pt x="470" y="269"/>
                </a:lnTo>
                <a:lnTo>
                  <a:pt x="445" y="309"/>
                </a:lnTo>
                <a:lnTo>
                  <a:pt x="413" y="359"/>
                </a:lnTo>
                <a:lnTo>
                  <a:pt x="379" y="418"/>
                </a:lnTo>
                <a:lnTo>
                  <a:pt x="341" y="488"/>
                </a:lnTo>
                <a:lnTo>
                  <a:pt x="304" y="563"/>
                </a:lnTo>
                <a:lnTo>
                  <a:pt x="263" y="638"/>
                </a:lnTo>
                <a:lnTo>
                  <a:pt x="222" y="717"/>
                </a:lnTo>
                <a:lnTo>
                  <a:pt x="182" y="797"/>
                </a:lnTo>
                <a:lnTo>
                  <a:pt x="141" y="877"/>
                </a:lnTo>
                <a:lnTo>
                  <a:pt x="103" y="947"/>
                </a:lnTo>
                <a:lnTo>
                  <a:pt x="72" y="1016"/>
                </a:lnTo>
                <a:lnTo>
                  <a:pt x="41" y="1071"/>
                </a:lnTo>
                <a:lnTo>
                  <a:pt x="19" y="1121"/>
                </a:lnTo>
                <a:lnTo>
                  <a:pt x="0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8"/>
          <p:cNvSpPr/>
          <p:nvPr/>
        </p:nvSpPr>
        <p:spPr>
          <a:xfrm>
            <a:off x="6205680" y="2610000"/>
            <a:ext cx="183960" cy="349200"/>
          </a:xfrm>
          <a:custGeom>
            <a:avLst/>
            <a:gdLst>
              <a:gd name="textAreaLeft" fmla="*/ 0 w 183960"/>
              <a:gd name="textAreaRight" fmla="*/ 184320 w 183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16" h="220">
                <a:moveTo>
                  <a:pt x="0" y="0"/>
                </a:moveTo>
                <a:lnTo>
                  <a:pt x="9" y="10"/>
                </a:lnTo>
                <a:lnTo>
                  <a:pt x="19" y="25"/>
                </a:lnTo>
                <a:lnTo>
                  <a:pt x="34" y="35"/>
                </a:lnTo>
                <a:lnTo>
                  <a:pt x="50" y="45"/>
                </a:lnTo>
                <a:lnTo>
                  <a:pt x="66" y="55"/>
                </a:lnTo>
                <a:lnTo>
                  <a:pt x="81" y="65"/>
                </a:lnTo>
                <a:lnTo>
                  <a:pt x="91" y="70"/>
                </a:lnTo>
                <a:lnTo>
                  <a:pt x="100" y="70"/>
                </a:lnTo>
                <a:lnTo>
                  <a:pt x="110" y="80"/>
                </a:lnTo>
                <a:lnTo>
                  <a:pt x="113" y="105"/>
                </a:lnTo>
                <a:lnTo>
                  <a:pt x="116" y="130"/>
                </a:lnTo>
                <a:lnTo>
                  <a:pt x="116" y="140"/>
                </a:lnTo>
                <a:lnTo>
                  <a:pt x="113" y="145"/>
                </a:lnTo>
                <a:lnTo>
                  <a:pt x="103" y="150"/>
                </a:lnTo>
                <a:lnTo>
                  <a:pt x="91" y="165"/>
                </a:lnTo>
                <a:lnTo>
                  <a:pt x="75" y="180"/>
                </a:lnTo>
                <a:lnTo>
                  <a:pt x="59" y="195"/>
                </a:lnTo>
                <a:lnTo>
                  <a:pt x="41" y="205"/>
                </a:lnTo>
                <a:lnTo>
                  <a:pt x="25" y="215"/>
                </a:lnTo>
                <a:lnTo>
                  <a:pt x="9" y="220"/>
                </a:lnTo>
                <a:lnTo>
                  <a:pt x="6" y="170"/>
                </a:lnTo>
                <a:lnTo>
                  <a:pt x="6" y="110"/>
                </a:lnTo>
                <a:lnTo>
                  <a:pt x="6" y="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reeform 9"/>
          <p:cNvSpPr/>
          <p:nvPr/>
        </p:nvSpPr>
        <p:spPr>
          <a:xfrm>
            <a:off x="5086440" y="2158920"/>
            <a:ext cx="1035000" cy="90972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652" h="573">
                <a:moveTo>
                  <a:pt x="0" y="563"/>
                </a:moveTo>
                <a:lnTo>
                  <a:pt x="13" y="538"/>
                </a:lnTo>
                <a:lnTo>
                  <a:pt x="31" y="509"/>
                </a:lnTo>
                <a:lnTo>
                  <a:pt x="53" y="474"/>
                </a:lnTo>
                <a:lnTo>
                  <a:pt x="82" y="454"/>
                </a:lnTo>
                <a:lnTo>
                  <a:pt x="100" y="444"/>
                </a:lnTo>
                <a:lnTo>
                  <a:pt x="125" y="424"/>
                </a:lnTo>
                <a:lnTo>
                  <a:pt x="154" y="404"/>
                </a:lnTo>
                <a:lnTo>
                  <a:pt x="182" y="379"/>
                </a:lnTo>
                <a:lnTo>
                  <a:pt x="210" y="349"/>
                </a:lnTo>
                <a:lnTo>
                  <a:pt x="232" y="329"/>
                </a:lnTo>
                <a:lnTo>
                  <a:pt x="251" y="304"/>
                </a:lnTo>
                <a:lnTo>
                  <a:pt x="260" y="289"/>
                </a:lnTo>
                <a:lnTo>
                  <a:pt x="266" y="269"/>
                </a:lnTo>
                <a:lnTo>
                  <a:pt x="279" y="234"/>
                </a:lnTo>
                <a:lnTo>
                  <a:pt x="298" y="190"/>
                </a:lnTo>
                <a:lnTo>
                  <a:pt x="317" y="140"/>
                </a:lnTo>
                <a:lnTo>
                  <a:pt x="335" y="95"/>
                </a:lnTo>
                <a:lnTo>
                  <a:pt x="354" y="50"/>
                </a:lnTo>
                <a:lnTo>
                  <a:pt x="367" y="20"/>
                </a:lnTo>
                <a:lnTo>
                  <a:pt x="376" y="10"/>
                </a:lnTo>
                <a:lnTo>
                  <a:pt x="389" y="5"/>
                </a:lnTo>
                <a:lnTo>
                  <a:pt x="407" y="0"/>
                </a:lnTo>
                <a:lnTo>
                  <a:pt x="423" y="0"/>
                </a:lnTo>
                <a:lnTo>
                  <a:pt x="426" y="10"/>
                </a:lnTo>
                <a:lnTo>
                  <a:pt x="417" y="55"/>
                </a:lnTo>
                <a:lnTo>
                  <a:pt x="401" y="130"/>
                </a:lnTo>
                <a:lnTo>
                  <a:pt x="389" y="200"/>
                </a:lnTo>
                <a:lnTo>
                  <a:pt x="392" y="229"/>
                </a:lnTo>
                <a:lnTo>
                  <a:pt x="398" y="229"/>
                </a:lnTo>
                <a:lnTo>
                  <a:pt x="410" y="229"/>
                </a:lnTo>
                <a:lnTo>
                  <a:pt x="423" y="229"/>
                </a:lnTo>
                <a:lnTo>
                  <a:pt x="439" y="229"/>
                </a:lnTo>
                <a:lnTo>
                  <a:pt x="454" y="224"/>
                </a:lnTo>
                <a:lnTo>
                  <a:pt x="470" y="224"/>
                </a:lnTo>
                <a:lnTo>
                  <a:pt x="483" y="220"/>
                </a:lnTo>
                <a:lnTo>
                  <a:pt x="495" y="210"/>
                </a:lnTo>
                <a:lnTo>
                  <a:pt x="517" y="195"/>
                </a:lnTo>
                <a:lnTo>
                  <a:pt x="539" y="180"/>
                </a:lnTo>
                <a:lnTo>
                  <a:pt x="555" y="175"/>
                </a:lnTo>
                <a:lnTo>
                  <a:pt x="561" y="170"/>
                </a:lnTo>
                <a:lnTo>
                  <a:pt x="567" y="180"/>
                </a:lnTo>
                <a:lnTo>
                  <a:pt x="580" y="210"/>
                </a:lnTo>
                <a:lnTo>
                  <a:pt x="595" y="244"/>
                </a:lnTo>
                <a:lnTo>
                  <a:pt x="605" y="279"/>
                </a:lnTo>
                <a:lnTo>
                  <a:pt x="614" y="309"/>
                </a:lnTo>
                <a:lnTo>
                  <a:pt x="633" y="334"/>
                </a:lnTo>
                <a:lnTo>
                  <a:pt x="649" y="359"/>
                </a:lnTo>
                <a:lnTo>
                  <a:pt x="652" y="379"/>
                </a:lnTo>
                <a:lnTo>
                  <a:pt x="642" y="404"/>
                </a:lnTo>
                <a:lnTo>
                  <a:pt x="627" y="429"/>
                </a:lnTo>
                <a:lnTo>
                  <a:pt x="611" y="449"/>
                </a:lnTo>
                <a:lnTo>
                  <a:pt x="592" y="459"/>
                </a:lnTo>
                <a:lnTo>
                  <a:pt x="573" y="474"/>
                </a:lnTo>
                <a:lnTo>
                  <a:pt x="551" y="509"/>
                </a:lnTo>
                <a:lnTo>
                  <a:pt x="533" y="543"/>
                </a:lnTo>
                <a:lnTo>
                  <a:pt x="526" y="558"/>
                </a:lnTo>
                <a:lnTo>
                  <a:pt x="504" y="543"/>
                </a:lnTo>
                <a:lnTo>
                  <a:pt x="479" y="528"/>
                </a:lnTo>
                <a:lnTo>
                  <a:pt x="448" y="513"/>
                </a:lnTo>
                <a:lnTo>
                  <a:pt x="414" y="499"/>
                </a:lnTo>
                <a:lnTo>
                  <a:pt x="382" y="484"/>
                </a:lnTo>
                <a:lnTo>
                  <a:pt x="351" y="469"/>
                </a:lnTo>
                <a:lnTo>
                  <a:pt x="329" y="459"/>
                </a:lnTo>
                <a:lnTo>
                  <a:pt x="310" y="454"/>
                </a:lnTo>
                <a:lnTo>
                  <a:pt x="295" y="454"/>
                </a:lnTo>
                <a:lnTo>
                  <a:pt x="273" y="454"/>
                </a:lnTo>
                <a:lnTo>
                  <a:pt x="248" y="459"/>
                </a:lnTo>
                <a:lnTo>
                  <a:pt x="219" y="464"/>
                </a:lnTo>
                <a:lnTo>
                  <a:pt x="194" y="474"/>
                </a:lnTo>
                <a:lnTo>
                  <a:pt x="169" y="484"/>
                </a:lnTo>
                <a:lnTo>
                  <a:pt x="151" y="494"/>
                </a:lnTo>
                <a:lnTo>
                  <a:pt x="138" y="509"/>
                </a:lnTo>
                <a:lnTo>
                  <a:pt x="125" y="523"/>
                </a:lnTo>
                <a:lnTo>
                  <a:pt x="107" y="538"/>
                </a:lnTo>
                <a:lnTo>
                  <a:pt x="85" y="548"/>
                </a:lnTo>
                <a:lnTo>
                  <a:pt x="63" y="558"/>
                </a:lnTo>
                <a:lnTo>
                  <a:pt x="41" y="568"/>
                </a:lnTo>
                <a:lnTo>
                  <a:pt x="22" y="573"/>
                </a:lnTo>
                <a:lnTo>
                  <a:pt x="10" y="568"/>
                </a:lnTo>
                <a:lnTo>
                  <a:pt x="0" y="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10"/>
          <p:cNvSpPr/>
          <p:nvPr/>
        </p:nvSpPr>
        <p:spPr>
          <a:xfrm>
            <a:off x="7434360" y="1969920"/>
            <a:ext cx="357120" cy="758880"/>
          </a:xfrm>
          <a:custGeom>
            <a:avLst/>
            <a:gdLst>
              <a:gd name="textAreaLeft" fmla="*/ 0 w 357120"/>
              <a:gd name="textAreaRight" fmla="*/ 357480 w 357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25" h="478">
                <a:moveTo>
                  <a:pt x="31" y="0"/>
                </a:moveTo>
                <a:lnTo>
                  <a:pt x="47" y="40"/>
                </a:lnTo>
                <a:lnTo>
                  <a:pt x="68" y="94"/>
                </a:lnTo>
                <a:lnTo>
                  <a:pt x="84" y="149"/>
                </a:lnTo>
                <a:lnTo>
                  <a:pt x="94" y="184"/>
                </a:lnTo>
                <a:lnTo>
                  <a:pt x="115" y="174"/>
                </a:lnTo>
                <a:lnTo>
                  <a:pt x="140" y="164"/>
                </a:lnTo>
                <a:lnTo>
                  <a:pt x="159" y="159"/>
                </a:lnTo>
                <a:lnTo>
                  <a:pt x="166" y="159"/>
                </a:lnTo>
                <a:lnTo>
                  <a:pt x="175" y="224"/>
                </a:lnTo>
                <a:lnTo>
                  <a:pt x="187" y="319"/>
                </a:lnTo>
                <a:lnTo>
                  <a:pt x="203" y="408"/>
                </a:lnTo>
                <a:lnTo>
                  <a:pt x="225" y="478"/>
                </a:lnTo>
                <a:lnTo>
                  <a:pt x="213" y="468"/>
                </a:lnTo>
                <a:lnTo>
                  <a:pt x="203" y="453"/>
                </a:lnTo>
                <a:lnTo>
                  <a:pt x="194" y="443"/>
                </a:lnTo>
                <a:lnTo>
                  <a:pt x="181" y="428"/>
                </a:lnTo>
                <a:lnTo>
                  <a:pt x="169" y="418"/>
                </a:lnTo>
                <a:lnTo>
                  <a:pt x="156" y="408"/>
                </a:lnTo>
                <a:lnTo>
                  <a:pt x="140" y="398"/>
                </a:lnTo>
                <a:lnTo>
                  <a:pt x="122" y="398"/>
                </a:lnTo>
                <a:lnTo>
                  <a:pt x="87" y="393"/>
                </a:lnTo>
                <a:lnTo>
                  <a:pt x="62" y="373"/>
                </a:lnTo>
                <a:lnTo>
                  <a:pt x="50" y="334"/>
                </a:lnTo>
                <a:lnTo>
                  <a:pt x="47" y="274"/>
                </a:lnTo>
                <a:lnTo>
                  <a:pt x="31" y="244"/>
                </a:lnTo>
                <a:lnTo>
                  <a:pt x="15" y="209"/>
                </a:lnTo>
                <a:lnTo>
                  <a:pt x="6" y="184"/>
                </a:lnTo>
                <a:lnTo>
                  <a:pt x="0" y="164"/>
                </a:lnTo>
                <a:lnTo>
                  <a:pt x="0" y="134"/>
                </a:lnTo>
                <a:lnTo>
                  <a:pt x="3" y="79"/>
                </a:lnTo>
                <a:lnTo>
                  <a:pt x="9" y="25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11"/>
          <p:cNvSpPr/>
          <p:nvPr/>
        </p:nvSpPr>
        <p:spPr>
          <a:xfrm>
            <a:off x="6934320" y="2362320"/>
            <a:ext cx="223560" cy="387360"/>
          </a:xfrm>
          <a:custGeom>
            <a:avLst/>
            <a:gdLst>
              <a:gd name="textAreaLeft" fmla="*/ 0 w 223560"/>
              <a:gd name="textAreaRight" fmla="*/ 223920 w 223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41" h="244">
                <a:moveTo>
                  <a:pt x="125" y="0"/>
                </a:moveTo>
                <a:lnTo>
                  <a:pt x="129" y="35"/>
                </a:lnTo>
                <a:lnTo>
                  <a:pt x="138" y="80"/>
                </a:lnTo>
                <a:lnTo>
                  <a:pt x="141" y="124"/>
                </a:lnTo>
                <a:lnTo>
                  <a:pt x="138" y="149"/>
                </a:lnTo>
                <a:lnTo>
                  <a:pt x="125" y="169"/>
                </a:lnTo>
                <a:lnTo>
                  <a:pt x="110" y="199"/>
                </a:lnTo>
                <a:lnTo>
                  <a:pt x="91" y="229"/>
                </a:lnTo>
                <a:lnTo>
                  <a:pt x="79" y="244"/>
                </a:lnTo>
                <a:lnTo>
                  <a:pt x="60" y="229"/>
                </a:lnTo>
                <a:lnTo>
                  <a:pt x="35" y="199"/>
                </a:lnTo>
                <a:lnTo>
                  <a:pt x="10" y="169"/>
                </a:lnTo>
                <a:lnTo>
                  <a:pt x="0" y="154"/>
                </a:lnTo>
                <a:lnTo>
                  <a:pt x="13" y="139"/>
                </a:lnTo>
                <a:lnTo>
                  <a:pt x="28" y="124"/>
                </a:lnTo>
                <a:lnTo>
                  <a:pt x="44" y="115"/>
                </a:lnTo>
                <a:lnTo>
                  <a:pt x="63" y="105"/>
                </a:lnTo>
                <a:lnTo>
                  <a:pt x="79" y="90"/>
                </a:lnTo>
                <a:lnTo>
                  <a:pt x="97" y="70"/>
                </a:lnTo>
                <a:lnTo>
                  <a:pt x="113" y="40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12"/>
          <p:cNvSpPr/>
          <p:nvPr/>
        </p:nvSpPr>
        <p:spPr>
          <a:xfrm>
            <a:off x="5708520" y="3235320"/>
            <a:ext cx="1217880" cy="95724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767" h="603">
                <a:moveTo>
                  <a:pt x="767" y="279"/>
                </a:moveTo>
                <a:lnTo>
                  <a:pt x="736" y="274"/>
                </a:lnTo>
                <a:lnTo>
                  <a:pt x="698" y="279"/>
                </a:lnTo>
                <a:lnTo>
                  <a:pt x="651" y="289"/>
                </a:lnTo>
                <a:lnTo>
                  <a:pt x="601" y="309"/>
                </a:lnTo>
                <a:lnTo>
                  <a:pt x="545" y="329"/>
                </a:lnTo>
                <a:lnTo>
                  <a:pt x="488" y="349"/>
                </a:lnTo>
                <a:lnTo>
                  <a:pt x="429" y="379"/>
                </a:lnTo>
                <a:lnTo>
                  <a:pt x="366" y="404"/>
                </a:lnTo>
                <a:lnTo>
                  <a:pt x="307" y="433"/>
                </a:lnTo>
                <a:lnTo>
                  <a:pt x="247" y="463"/>
                </a:lnTo>
                <a:lnTo>
                  <a:pt x="194" y="493"/>
                </a:lnTo>
                <a:lnTo>
                  <a:pt x="141" y="523"/>
                </a:lnTo>
                <a:lnTo>
                  <a:pt x="97" y="548"/>
                </a:lnTo>
                <a:lnTo>
                  <a:pt x="56" y="568"/>
                </a:lnTo>
                <a:lnTo>
                  <a:pt x="25" y="588"/>
                </a:lnTo>
                <a:lnTo>
                  <a:pt x="0" y="603"/>
                </a:lnTo>
                <a:lnTo>
                  <a:pt x="31" y="553"/>
                </a:lnTo>
                <a:lnTo>
                  <a:pt x="56" y="498"/>
                </a:lnTo>
                <a:lnTo>
                  <a:pt x="72" y="443"/>
                </a:lnTo>
                <a:lnTo>
                  <a:pt x="81" y="394"/>
                </a:lnTo>
                <a:lnTo>
                  <a:pt x="112" y="384"/>
                </a:lnTo>
                <a:lnTo>
                  <a:pt x="150" y="369"/>
                </a:lnTo>
                <a:lnTo>
                  <a:pt x="188" y="354"/>
                </a:lnTo>
                <a:lnTo>
                  <a:pt x="225" y="339"/>
                </a:lnTo>
                <a:lnTo>
                  <a:pt x="263" y="319"/>
                </a:lnTo>
                <a:lnTo>
                  <a:pt x="291" y="304"/>
                </a:lnTo>
                <a:lnTo>
                  <a:pt x="313" y="284"/>
                </a:lnTo>
                <a:lnTo>
                  <a:pt x="322" y="269"/>
                </a:lnTo>
                <a:lnTo>
                  <a:pt x="335" y="199"/>
                </a:lnTo>
                <a:lnTo>
                  <a:pt x="350" y="115"/>
                </a:lnTo>
                <a:lnTo>
                  <a:pt x="369" y="50"/>
                </a:lnTo>
                <a:lnTo>
                  <a:pt x="376" y="25"/>
                </a:lnTo>
                <a:lnTo>
                  <a:pt x="394" y="20"/>
                </a:lnTo>
                <a:lnTo>
                  <a:pt x="419" y="20"/>
                </a:lnTo>
                <a:lnTo>
                  <a:pt x="441" y="15"/>
                </a:lnTo>
                <a:lnTo>
                  <a:pt x="463" y="10"/>
                </a:lnTo>
                <a:lnTo>
                  <a:pt x="482" y="5"/>
                </a:lnTo>
                <a:lnTo>
                  <a:pt x="498" y="5"/>
                </a:lnTo>
                <a:lnTo>
                  <a:pt x="510" y="0"/>
                </a:lnTo>
                <a:lnTo>
                  <a:pt x="513" y="0"/>
                </a:lnTo>
                <a:lnTo>
                  <a:pt x="529" y="65"/>
                </a:lnTo>
                <a:lnTo>
                  <a:pt x="573" y="65"/>
                </a:lnTo>
                <a:lnTo>
                  <a:pt x="576" y="80"/>
                </a:lnTo>
                <a:lnTo>
                  <a:pt x="579" y="110"/>
                </a:lnTo>
                <a:lnTo>
                  <a:pt x="589" y="144"/>
                </a:lnTo>
                <a:lnTo>
                  <a:pt x="604" y="169"/>
                </a:lnTo>
                <a:lnTo>
                  <a:pt x="623" y="189"/>
                </a:lnTo>
                <a:lnTo>
                  <a:pt x="648" y="209"/>
                </a:lnTo>
                <a:lnTo>
                  <a:pt x="673" y="229"/>
                </a:lnTo>
                <a:lnTo>
                  <a:pt x="698" y="244"/>
                </a:lnTo>
                <a:lnTo>
                  <a:pt x="723" y="254"/>
                </a:lnTo>
                <a:lnTo>
                  <a:pt x="742" y="269"/>
                </a:lnTo>
                <a:lnTo>
                  <a:pt x="758" y="274"/>
                </a:lnTo>
                <a:lnTo>
                  <a:pt x="767" y="2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3"/>
          <p:cNvSpPr/>
          <p:nvPr/>
        </p:nvSpPr>
        <p:spPr>
          <a:xfrm>
            <a:off x="7080120" y="2508120"/>
            <a:ext cx="760680" cy="1573200"/>
          </a:xfrm>
          <a:custGeom>
            <a:avLst/>
            <a:gdLst>
              <a:gd name="textAreaLeft" fmla="*/ 0 w 760680"/>
              <a:gd name="textAreaRight" fmla="*/ 761040 w 7606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479" h="991">
                <a:moveTo>
                  <a:pt x="479" y="926"/>
                </a:moveTo>
                <a:lnTo>
                  <a:pt x="448" y="956"/>
                </a:lnTo>
                <a:lnTo>
                  <a:pt x="417" y="976"/>
                </a:lnTo>
                <a:lnTo>
                  <a:pt x="385" y="986"/>
                </a:lnTo>
                <a:lnTo>
                  <a:pt x="351" y="991"/>
                </a:lnTo>
                <a:lnTo>
                  <a:pt x="320" y="981"/>
                </a:lnTo>
                <a:lnTo>
                  <a:pt x="291" y="971"/>
                </a:lnTo>
                <a:lnTo>
                  <a:pt x="263" y="951"/>
                </a:lnTo>
                <a:lnTo>
                  <a:pt x="238" y="926"/>
                </a:lnTo>
                <a:lnTo>
                  <a:pt x="223" y="911"/>
                </a:lnTo>
                <a:lnTo>
                  <a:pt x="207" y="891"/>
                </a:lnTo>
                <a:lnTo>
                  <a:pt x="188" y="876"/>
                </a:lnTo>
                <a:lnTo>
                  <a:pt x="166" y="862"/>
                </a:lnTo>
                <a:lnTo>
                  <a:pt x="141" y="842"/>
                </a:lnTo>
                <a:lnTo>
                  <a:pt x="116" y="827"/>
                </a:lnTo>
                <a:lnTo>
                  <a:pt x="88" y="812"/>
                </a:lnTo>
                <a:lnTo>
                  <a:pt x="60" y="797"/>
                </a:lnTo>
                <a:lnTo>
                  <a:pt x="41" y="762"/>
                </a:lnTo>
                <a:lnTo>
                  <a:pt x="22" y="727"/>
                </a:lnTo>
                <a:lnTo>
                  <a:pt x="6" y="697"/>
                </a:lnTo>
                <a:lnTo>
                  <a:pt x="0" y="682"/>
                </a:lnTo>
                <a:lnTo>
                  <a:pt x="10" y="632"/>
                </a:lnTo>
                <a:lnTo>
                  <a:pt x="16" y="558"/>
                </a:lnTo>
                <a:lnTo>
                  <a:pt x="22" y="478"/>
                </a:lnTo>
                <a:lnTo>
                  <a:pt x="22" y="418"/>
                </a:lnTo>
                <a:lnTo>
                  <a:pt x="41" y="383"/>
                </a:lnTo>
                <a:lnTo>
                  <a:pt x="63" y="333"/>
                </a:lnTo>
                <a:lnTo>
                  <a:pt x="85" y="284"/>
                </a:lnTo>
                <a:lnTo>
                  <a:pt x="107" y="229"/>
                </a:lnTo>
                <a:lnTo>
                  <a:pt x="125" y="169"/>
                </a:lnTo>
                <a:lnTo>
                  <a:pt x="138" y="109"/>
                </a:lnTo>
                <a:lnTo>
                  <a:pt x="144" y="54"/>
                </a:lnTo>
                <a:lnTo>
                  <a:pt x="138" y="0"/>
                </a:lnTo>
                <a:lnTo>
                  <a:pt x="157" y="19"/>
                </a:lnTo>
                <a:lnTo>
                  <a:pt x="179" y="44"/>
                </a:lnTo>
                <a:lnTo>
                  <a:pt x="197" y="64"/>
                </a:lnTo>
                <a:lnTo>
                  <a:pt x="213" y="89"/>
                </a:lnTo>
                <a:lnTo>
                  <a:pt x="223" y="114"/>
                </a:lnTo>
                <a:lnTo>
                  <a:pt x="226" y="139"/>
                </a:lnTo>
                <a:lnTo>
                  <a:pt x="219" y="164"/>
                </a:lnTo>
                <a:lnTo>
                  <a:pt x="204" y="194"/>
                </a:lnTo>
                <a:lnTo>
                  <a:pt x="182" y="224"/>
                </a:lnTo>
                <a:lnTo>
                  <a:pt x="160" y="254"/>
                </a:lnTo>
                <a:lnTo>
                  <a:pt x="138" y="279"/>
                </a:lnTo>
                <a:lnTo>
                  <a:pt x="119" y="308"/>
                </a:lnTo>
                <a:lnTo>
                  <a:pt x="100" y="338"/>
                </a:lnTo>
                <a:lnTo>
                  <a:pt x="88" y="363"/>
                </a:lnTo>
                <a:lnTo>
                  <a:pt x="82" y="388"/>
                </a:lnTo>
                <a:lnTo>
                  <a:pt x="78" y="413"/>
                </a:lnTo>
                <a:lnTo>
                  <a:pt x="78" y="468"/>
                </a:lnTo>
                <a:lnTo>
                  <a:pt x="82" y="528"/>
                </a:lnTo>
                <a:lnTo>
                  <a:pt x="88" y="582"/>
                </a:lnTo>
                <a:lnTo>
                  <a:pt x="104" y="622"/>
                </a:lnTo>
                <a:lnTo>
                  <a:pt x="113" y="637"/>
                </a:lnTo>
                <a:lnTo>
                  <a:pt x="125" y="652"/>
                </a:lnTo>
                <a:lnTo>
                  <a:pt x="138" y="672"/>
                </a:lnTo>
                <a:lnTo>
                  <a:pt x="154" y="692"/>
                </a:lnTo>
                <a:lnTo>
                  <a:pt x="166" y="712"/>
                </a:lnTo>
                <a:lnTo>
                  <a:pt x="182" y="727"/>
                </a:lnTo>
                <a:lnTo>
                  <a:pt x="194" y="742"/>
                </a:lnTo>
                <a:lnTo>
                  <a:pt x="207" y="747"/>
                </a:lnTo>
                <a:lnTo>
                  <a:pt x="232" y="757"/>
                </a:lnTo>
                <a:lnTo>
                  <a:pt x="257" y="782"/>
                </a:lnTo>
                <a:lnTo>
                  <a:pt x="279" y="807"/>
                </a:lnTo>
                <a:lnTo>
                  <a:pt x="295" y="832"/>
                </a:lnTo>
                <a:lnTo>
                  <a:pt x="310" y="852"/>
                </a:lnTo>
                <a:lnTo>
                  <a:pt x="335" y="876"/>
                </a:lnTo>
                <a:lnTo>
                  <a:pt x="354" y="896"/>
                </a:lnTo>
                <a:lnTo>
                  <a:pt x="367" y="926"/>
                </a:lnTo>
                <a:lnTo>
                  <a:pt x="382" y="931"/>
                </a:lnTo>
                <a:lnTo>
                  <a:pt x="401" y="931"/>
                </a:lnTo>
                <a:lnTo>
                  <a:pt x="420" y="931"/>
                </a:lnTo>
                <a:lnTo>
                  <a:pt x="439" y="931"/>
                </a:lnTo>
                <a:lnTo>
                  <a:pt x="454" y="931"/>
                </a:lnTo>
                <a:lnTo>
                  <a:pt x="467" y="926"/>
                </a:lnTo>
                <a:lnTo>
                  <a:pt x="476" y="926"/>
                </a:lnTo>
                <a:lnTo>
                  <a:pt x="479" y="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"/>
          <p:cNvSpPr/>
          <p:nvPr/>
        </p:nvSpPr>
        <p:spPr>
          <a:xfrm>
            <a:off x="4062240" y="1668600"/>
            <a:ext cx="1089360" cy="1266840"/>
          </a:xfrm>
          <a:custGeom>
            <a:avLst/>
            <a:gdLst>
              <a:gd name="textAreaLeft" fmla="*/ 0 w 1089360"/>
              <a:gd name="textAreaRight" fmla="*/ 1089720 w 10893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86" h="798">
                <a:moveTo>
                  <a:pt x="676" y="155"/>
                </a:moveTo>
                <a:lnTo>
                  <a:pt x="670" y="175"/>
                </a:lnTo>
                <a:lnTo>
                  <a:pt x="661" y="195"/>
                </a:lnTo>
                <a:lnTo>
                  <a:pt x="651" y="210"/>
                </a:lnTo>
                <a:lnTo>
                  <a:pt x="645" y="215"/>
                </a:lnTo>
                <a:lnTo>
                  <a:pt x="630" y="274"/>
                </a:lnTo>
                <a:lnTo>
                  <a:pt x="636" y="284"/>
                </a:lnTo>
                <a:lnTo>
                  <a:pt x="648" y="304"/>
                </a:lnTo>
                <a:lnTo>
                  <a:pt x="664" y="329"/>
                </a:lnTo>
                <a:lnTo>
                  <a:pt x="680" y="344"/>
                </a:lnTo>
                <a:lnTo>
                  <a:pt x="686" y="359"/>
                </a:lnTo>
                <a:lnTo>
                  <a:pt x="686" y="389"/>
                </a:lnTo>
                <a:lnTo>
                  <a:pt x="686" y="419"/>
                </a:lnTo>
                <a:lnTo>
                  <a:pt x="683" y="449"/>
                </a:lnTo>
                <a:lnTo>
                  <a:pt x="676" y="474"/>
                </a:lnTo>
                <a:lnTo>
                  <a:pt x="658" y="499"/>
                </a:lnTo>
                <a:lnTo>
                  <a:pt x="636" y="524"/>
                </a:lnTo>
                <a:lnTo>
                  <a:pt x="620" y="548"/>
                </a:lnTo>
                <a:lnTo>
                  <a:pt x="604" y="588"/>
                </a:lnTo>
                <a:lnTo>
                  <a:pt x="589" y="638"/>
                </a:lnTo>
                <a:lnTo>
                  <a:pt x="573" y="688"/>
                </a:lnTo>
                <a:lnTo>
                  <a:pt x="561" y="718"/>
                </a:lnTo>
                <a:lnTo>
                  <a:pt x="551" y="733"/>
                </a:lnTo>
                <a:lnTo>
                  <a:pt x="536" y="753"/>
                </a:lnTo>
                <a:lnTo>
                  <a:pt x="514" y="778"/>
                </a:lnTo>
                <a:lnTo>
                  <a:pt x="489" y="798"/>
                </a:lnTo>
                <a:lnTo>
                  <a:pt x="485" y="778"/>
                </a:lnTo>
                <a:lnTo>
                  <a:pt x="479" y="723"/>
                </a:lnTo>
                <a:lnTo>
                  <a:pt x="467" y="668"/>
                </a:lnTo>
                <a:lnTo>
                  <a:pt x="451" y="633"/>
                </a:lnTo>
                <a:lnTo>
                  <a:pt x="388" y="683"/>
                </a:lnTo>
                <a:lnTo>
                  <a:pt x="326" y="718"/>
                </a:lnTo>
                <a:lnTo>
                  <a:pt x="263" y="743"/>
                </a:lnTo>
                <a:lnTo>
                  <a:pt x="204" y="758"/>
                </a:lnTo>
                <a:lnTo>
                  <a:pt x="147" y="768"/>
                </a:lnTo>
                <a:lnTo>
                  <a:pt x="94" y="773"/>
                </a:lnTo>
                <a:lnTo>
                  <a:pt x="44" y="783"/>
                </a:lnTo>
                <a:lnTo>
                  <a:pt x="0" y="788"/>
                </a:lnTo>
                <a:lnTo>
                  <a:pt x="9" y="763"/>
                </a:lnTo>
                <a:lnTo>
                  <a:pt x="34" y="728"/>
                </a:lnTo>
                <a:lnTo>
                  <a:pt x="59" y="693"/>
                </a:lnTo>
                <a:lnTo>
                  <a:pt x="78" y="668"/>
                </a:lnTo>
                <a:lnTo>
                  <a:pt x="85" y="658"/>
                </a:lnTo>
                <a:lnTo>
                  <a:pt x="97" y="648"/>
                </a:lnTo>
                <a:lnTo>
                  <a:pt x="110" y="638"/>
                </a:lnTo>
                <a:lnTo>
                  <a:pt x="125" y="623"/>
                </a:lnTo>
                <a:lnTo>
                  <a:pt x="138" y="613"/>
                </a:lnTo>
                <a:lnTo>
                  <a:pt x="150" y="603"/>
                </a:lnTo>
                <a:lnTo>
                  <a:pt x="163" y="598"/>
                </a:lnTo>
                <a:lnTo>
                  <a:pt x="172" y="593"/>
                </a:lnTo>
                <a:lnTo>
                  <a:pt x="172" y="573"/>
                </a:lnTo>
                <a:lnTo>
                  <a:pt x="160" y="529"/>
                </a:lnTo>
                <a:lnTo>
                  <a:pt x="141" y="479"/>
                </a:lnTo>
                <a:lnTo>
                  <a:pt x="138" y="444"/>
                </a:lnTo>
                <a:lnTo>
                  <a:pt x="141" y="429"/>
                </a:lnTo>
                <a:lnTo>
                  <a:pt x="150" y="414"/>
                </a:lnTo>
                <a:lnTo>
                  <a:pt x="163" y="394"/>
                </a:lnTo>
                <a:lnTo>
                  <a:pt x="175" y="374"/>
                </a:lnTo>
                <a:lnTo>
                  <a:pt x="191" y="354"/>
                </a:lnTo>
                <a:lnTo>
                  <a:pt x="207" y="339"/>
                </a:lnTo>
                <a:lnTo>
                  <a:pt x="219" y="324"/>
                </a:lnTo>
                <a:lnTo>
                  <a:pt x="232" y="319"/>
                </a:lnTo>
                <a:lnTo>
                  <a:pt x="244" y="314"/>
                </a:lnTo>
                <a:lnTo>
                  <a:pt x="263" y="309"/>
                </a:lnTo>
                <a:lnTo>
                  <a:pt x="285" y="309"/>
                </a:lnTo>
                <a:lnTo>
                  <a:pt x="310" y="304"/>
                </a:lnTo>
                <a:lnTo>
                  <a:pt x="332" y="304"/>
                </a:lnTo>
                <a:lnTo>
                  <a:pt x="354" y="304"/>
                </a:lnTo>
                <a:lnTo>
                  <a:pt x="373" y="304"/>
                </a:lnTo>
                <a:lnTo>
                  <a:pt x="385" y="304"/>
                </a:lnTo>
                <a:lnTo>
                  <a:pt x="388" y="299"/>
                </a:lnTo>
                <a:lnTo>
                  <a:pt x="382" y="279"/>
                </a:lnTo>
                <a:lnTo>
                  <a:pt x="373" y="254"/>
                </a:lnTo>
                <a:lnTo>
                  <a:pt x="357" y="220"/>
                </a:lnTo>
                <a:lnTo>
                  <a:pt x="344" y="185"/>
                </a:lnTo>
                <a:lnTo>
                  <a:pt x="332" y="155"/>
                </a:lnTo>
                <a:lnTo>
                  <a:pt x="326" y="130"/>
                </a:lnTo>
                <a:lnTo>
                  <a:pt x="326" y="110"/>
                </a:lnTo>
                <a:lnTo>
                  <a:pt x="335" y="120"/>
                </a:lnTo>
                <a:lnTo>
                  <a:pt x="351" y="135"/>
                </a:lnTo>
                <a:lnTo>
                  <a:pt x="373" y="145"/>
                </a:lnTo>
                <a:lnTo>
                  <a:pt x="395" y="155"/>
                </a:lnTo>
                <a:lnTo>
                  <a:pt x="417" y="160"/>
                </a:lnTo>
                <a:lnTo>
                  <a:pt x="435" y="165"/>
                </a:lnTo>
                <a:lnTo>
                  <a:pt x="454" y="160"/>
                </a:lnTo>
                <a:lnTo>
                  <a:pt x="467" y="155"/>
                </a:lnTo>
                <a:lnTo>
                  <a:pt x="479" y="145"/>
                </a:lnTo>
                <a:lnTo>
                  <a:pt x="498" y="130"/>
                </a:lnTo>
                <a:lnTo>
                  <a:pt x="520" y="110"/>
                </a:lnTo>
                <a:lnTo>
                  <a:pt x="545" y="95"/>
                </a:lnTo>
                <a:lnTo>
                  <a:pt x="567" y="80"/>
                </a:lnTo>
                <a:lnTo>
                  <a:pt x="589" y="65"/>
                </a:lnTo>
                <a:lnTo>
                  <a:pt x="608" y="50"/>
                </a:lnTo>
                <a:lnTo>
                  <a:pt x="620" y="45"/>
                </a:lnTo>
                <a:lnTo>
                  <a:pt x="633" y="40"/>
                </a:lnTo>
                <a:lnTo>
                  <a:pt x="645" y="30"/>
                </a:lnTo>
                <a:lnTo>
                  <a:pt x="661" y="15"/>
                </a:lnTo>
                <a:lnTo>
                  <a:pt x="676" y="0"/>
                </a:lnTo>
                <a:lnTo>
                  <a:pt x="676" y="45"/>
                </a:lnTo>
                <a:lnTo>
                  <a:pt x="676" y="90"/>
                </a:lnTo>
                <a:lnTo>
                  <a:pt x="676" y="130"/>
                </a:lnTo>
                <a:lnTo>
                  <a:pt x="67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2924280" y="2270160"/>
            <a:ext cx="233280" cy="458640"/>
          </a:xfrm>
          <a:custGeom>
            <a:avLst/>
            <a:gdLst>
              <a:gd name="textAreaLeft" fmla="*/ 0 w 233280"/>
              <a:gd name="textAreaRight" fmla="*/ 233640 w 2332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47" h="289">
                <a:moveTo>
                  <a:pt x="0" y="0"/>
                </a:moveTo>
                <a:lnTo>
                  <a:pt x="15" y="0"/>
                </a:lnTo>
                <a:lnTo>
                  <a:pt x="31" y="5"/>
                </a:lnTo>
                <a:lnTo>
                  <a:pt x="47" y="10"/>
                </a:lnTo>
                <a:lnTo>
                  <a:pt x="65" y="20"/>
                </a:lnTo>
                <a:lnTo>
                  <a:pt x="81" y="30"/>
                </a:lnTo>
                <a:lnTo>
                  <a:pt x="94" y="40"/>
                </a:lnTo>
                <a:lnTo>
                  <a:pt x="103" y="50"/>
                </a:lnTo>
                <a:lnTo>
                  <a:pt x="109" y="60"/>
                </a:lnTo>
                <a:lnTo>
                  <a:pt x="112" y="90"/>
                </a:lnTo>
                <a:lnTo>
                  <a:pt x="112" y="135"/>
                </a:lnTo>
                <a:lnTo>
                  <a:pt x="112" y="174"/>
                </a:lnTo>
                <a:lnTo>
                  <a:pt x="112" y="189"/>
                </a:lnTo>
                <a:lnTo>
                  <a:pt x="147" y="234"/>
                </a:lnTo>
                <a:lnTo>
                  <a:pt x="119" y="249"/>
                </a:lnTo>
                <a:lnTo>
                  <a:pt x="91" y="264"/>
                </a:lnTo>
                <a:lnTo>
                  <a:pt x="72" y="284"/>
                </a:lnTo>
                <a:lnTo>
                  <a:pt x="62" y="289"/>
                </a:lnTo>
                <a:lnTo>
                  <a:pt x="59" y="254"/>
                </a:lnTo>
                <a:lnTo>
                  <a:pt x="56" y="219"/>
                </a:lnTo>
                <a:lnTo>
                  <a:pt x="50" y="189"/>
                </a:lnTo>
                <a:lnTo>
                  <a:pt x="40" y="159"/>
                </a:lnTo>
                <a:lnTo>
                  <a:pt x="31" y="125"/>
                </a:lnTo>
                <a:lnTo>
                  <a:pt x="18" y="85"/>
                </a:lnTo>
                <a:lnTo>
                  <a:pt x="6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16"/>
          <p:cNvSpPr/>
          <p:nvPr/>
        </p:nvSpPr>
        <p:spPr>
          <a:xfrm>
            <a:off x="333360" y="1154160"/>
            <a:ext cx="1317600" cy="139212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830" h="877">
                <a:moveTo>
                  <a:pt x="0" y="628"/>
                </a:moveTo>
                <a:lnTo>
                  <a:pt x="25" y="588"/>
                </a:lnTo>
                <a:lnTo>
                  <a:pt x="53" y="539"/>
                </a:lnTo>
                <a:lnTo>
                  <a:pt x="81" y="494"/>
                </a:lnTo>
                <a:lnTo>
                  <a:pt x="109" y="449"/>
                </a:lnTo>
                <a:lnTo>
                  <a:pt x="138" y="404"/>
                </a:lnTo>
                <a:lnTo>
                  <a:pt x="163" y="369"/>
                </a:lnTo>
                <a:lnTo>
                  <a:pt x="185" y="339"/>
                </a:lnTo>
                <a:lnTo>
                  <a:pt x="200" y="324"/>
                </a:lnTo>
                <a:lnTo>
                  <a:pt x="216" y="309"/>
                </a:lnTo>
                <a:lnTo>
                  <a:pt x="241" y="289"/>
                </a:lnTo>
                <a:lnTo>
                  <a:pt x="272" y="260"/>
                </a:lnTo>
                <a:lnTo>
                  <a:pt x="304" y="230"/>
                </a:lnTo>
                <a:lnTo>
                  <a:pt x="332" y="195"/>
                </a:lnTo>
                <a:lnTo>
                  <a:pt x="357" y="165"/>
                </a:lnTo>
                <a:lnTo>
                  <a:pt x="376" y="135"/>
                </a:lnTo>
                <a:lnTo>
                  <a:pt x="385" y="105"/>
                </a:lnTo>
                <a:lnTo>
                  <a:pt x="470" y="220"/>
                </a:lnTo>
                <a:lnTo>
                  <a:pt x="492" y="200"/>
                </a:lnTo>
                <a:lnTo>
                  <a:pt x="517" y="175"/>
                </a:lnTo>
                <a:lnTo>
                  <a:pt x="545" y="145"/>
                </a:lnTo>
                <a:lnTo>
                  <a:pt x="570" y="120"/>
                </a:lnTo>
                <a:lnTo>
                  <a:pt x="595" y="95"/>
                </a:lnTo>
                <a:lnTo>
                  <a:pt x="617" y="80"/>
                </a:lnTo>
                <a:lnTo>
                  <a:pt x="633" y="65"/>
                </a:lnTo>
                <a:lnTo>
                  <a:pt x="642" y="60"/>
                </a:lnTo>
                <a:lnTo>
                  <a:pt x="651" y="60"/>
                </a:lnTo>
                <a:lnTo>
                  <a:pt x="670" y="55"/>
                </a:lnTo>
                <a:lnTo>
                  <a:pt x="695" y="55"/>
                </a:lnTo>
                <a:lnTo>
                  <a:pt x="723" y="45"/>
                </a:lnTo>
                <a:lnTo>
                  <a:pt x="752" y="40"/>
                </a:lnTo>
                <a:lnTo>
                  <a:pt x="783" y="30"/>
                </a:lnTo>
                <a:lnTo>
                  <a:pt x="808" y="15"/>
                </a:lnTo>
                <a:lnTo>
                  <a:pt x="830" y="0"/>
                </a:lnTo>
                <a:lnTo>
                  <a:pt x="805" y="35"/>
                </a:lnTo>
                <a:lnTo>
                  <a:pt x="780" y="80"/>
                </a:lnTo>
                <a:lnTo>
                  <a:pt x="755" y="130"/>
                </a:lnTo>
                <a:lnTo>
                  <a:pt x="730" y="185"/>
                </a:lnTo>
                <a:lnTo>
                  <a:pt x="708" y="240"/>
                </a:lnTo>
                <a:lnTo>
                  <a:pt x="689" y="294"/>
                </a:lnTo>
                <a:lnTo>
                  <a:pt x="673" y="344"/>
                </a:lnTo>
                <a:lnTo>
                  <a:pt x="661" y="384"/>
                </a:lnTo>
                <a:lnTo>
                  <a:pt x="645" y="359"/>
                </a:lnTo>
                <a:lnTo>
                  <a:pt x="629" y="334"/>
                </a:lnTo>
                <a:lnTo>
                  <a:pt x="617" y="309"/>
                </a:lnTo>
                <a:lnTo>
                  <a:pt x="611" y="294"/>
                </a:lnTo>
                <a:lnTo>
                  <a:pt x="611" y="275"/>
                </a:lnTo>
                <a:lnTo>
                  <a:pt x="614" y="250"/>
                </a:lnTo>
                <a:lnTo>
                  <a:pt x="614" y="235"/>
                </a:lnTo>
                <a:lnTo>
                  <a:pt x="614" y="225"/>
                </a:lnTo>
                <a:lnTo>
                  <a:pt x="592" y="245"/>
                </a:lnTo>
                <a:lnTo>
                  <a:pt x="576" y="275"/>
                </a:lnTo>
                <a:lnTo>
                  <a:pt x="567" y="299"/>
                </a:lnTo>
                <a:lnTo>
                  <a:pt x="564" y="324"/>
                </a:lnTo>
                <a:lnTo>
                  <a:pt x="535" y="369"/>
                </a:lnTo>
                <a:lnTo>
                  <a:pt x="507" y="429"/>
                </a:lnTo>
                <a:lnTo>
                  <a:pt x="479" y="489"/>
                </a:lnTo>
                <a:lnTo>
                  <a:pt x="457" y="564"/>
                </a:lnTo>
                <a:lnTo>
                  <a:pt x="435" y="638"/>
                </a:lnTo>
                <a:lnTo>
                  <a:pt x="420" y="718"/>
                </a:lnTo>
                <a:lnTo>
                  <a:pt x="413" y="798"/>
                </a:lnTo>
                <a:lnTo>
                  <a:pt x="413" y="877"/>
                </a:lnTo>
                <a:lnTo>
                  <a:pt x="391" y="877"/>
                </a:lnTo>
                <a:lnTo>
                  <a:pt x="366" y="872"/>
                </a:lnTo>
                <a:lnTo>
                  <a:pt x="344" y="872"/>
                </a:lnTo>
                <a:lnTo>
                  <a:pt x="322" y="867"/>
                </a:lnTo>
                <a:lnTo>
                  <a:pt x="301" y="862"/>
                </a:lnTo>
                <a:lnTo>
                  <a:pt x="279" y="857"/>
                </a:lnTo>
                <a:lnTo>
                  <a:pt x="260" y="853"/>
                </a:lnTo>
                <a:lnTo>
                  <a:pt x="244" y="848"/>
                </a:lnTo>
                <a:lnTo>
                  <a:pt x="272" y="748"/>
                </a:lnTo>
                <a:lnTo>
                  <a:pt x="297" y="633"/>
                </a:lnTo>
                <a:lnTo>
                  <a:pt x="313" y="524"/>
                </a:lnTo>
                <a:lnTo>
                  <a:pt x="319" y="444"/>
                </a:lnTo>
                <a:lnTo>
                  <a:pt x="291" y="479"/>
                </a:lnTo>
                <a:lnTo>
                  <a:pt x="257" y="514"/>
                </a:lnTo>
                <a:lnTo>
                  <a:pt x="222" y="549"/>
                </a:lnTo>
                <a:lnTo>
                  <a:pt x="188" y="583"/>
                </a:lnTo>
                <a:lnTo>
                  <a:pt x="153" y="618"/>
                </a:lnTo>
                <a:lnTo>
                  <a:pt x="119" y="648"/>
                </a:lnTo>
                <a:lnTo>
                  <a:pt x="94" y="673"/>
                </a:lnTo>
                <a:lnTo>
                  <a:pt x="72" y="693"/>
                </a:lnTo>
                <a:lnTo>
                  <a:pt x="50" y="683"/>
                </a:lnTo>
                <a:lnTo>
                  <a:pt x="25" y="658"/>
                </a:lnTo>
                <a:lnTo>
                  <a:pt x="6" y="638"/>
                </a:lnTo>
                <a:lnTo>
                  <a:pt x="0" y="6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7"/>
          <p:cNvSpPr/>
          <p:nvPr/>
        </p:nvSpPr>
        <p:spPr>
          <a:xfrm>
            <a:off x="1601640" y="561960"/>
            <a:ext cx="277920" cy="600120"/>
          </a:xfrm>
          <a:custGeom>
            <a:avLst/>
            <a:gdLst>
              <a:gd name="textAreaLeft" fmla="*/ 0 w 277920"/>
              <a:gd name="textAreaRight" fmla="*/ 278280 w 2779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75" h="378">
                <a:moveTo>
                  <a:pt x="137" y="0"/>
                </a:moveTo>
                <a:lnTo>
                  <a:pt x="134" y="40"/>
                </a:lnTo>
                <a:lnTo>
                  <a:pt x="131" y="104"/>
                </a:lnTo>
                <a:lnTo>
                  <a:pt x="131" y="169"/>
                </a:lnTo>
                <a:lnTo>
                  <a:pt x="137" y="204"/>
                </a:lnTo>
                <a:lnTo>
                  <a:pt x="153" y="224"/>
                </a:lnTo>
                <a:lnTo>
                  <a:pt x="166" y="264"/>
                </a:lnTo>
                <a:lnTo>
                  <a:pt x="175" y="314"/>
                </a:lnTo>
                <a:lnTo>
                  <a:pt x="166" y="378"/>
                </a:lnTo>
                <a:lnTo>
                  <a:pt x="150" y="354"/>
                </a:lnTo>
                <a:lnTo>
                  <a:pt x="131" y="329"/>
                </a:lnTo>
                <a:lnTo>
                  <a:pt x="112" y="299"/>
                </a:lnTo>
                <a:lnTo>
                  <a:pt x="90" y="264"/>
                </a:lnTo>
                <a:lnTo>
                  <a:pt x="65" y="239"/>
                </a:lnTo>
                <a:lnTo>
                  <a:pt x="43" y="214"/>
                </a:lnTo>
                <a:lnTo>
                  <a:pt x="21" y="204"/>
                </a:lnTo>
                <a:lnTo>
                  <a:pt x="0" y="199"/>
                </a:lnTo>
                <a:lnTo>
                  <a:pt x="6" y="164"/>
                </a:lnTo>
                <a:lnTo>
                  <a:pt x="18" y="134"/>
                </a:lnTo>
                <a:lnTo>
                  <a:pt x="34" y="104"/>
                </a:lnTo>
                <a:lnTo>
                  <a:pt x="53" y="75"/>
                </a:lnTo>
                <a:lnTo>
                  <a:pt x="75" y="50"/>
                </a:lnTo>
                <a:lnTo>
                  <a:pt x="97" y="30"/>
                </a:lnTo>
                <a:lnTo>
                  <a:pt x="119" y="10"/>
                </a:lnTo>
                <a:lnTo>
                  <a:pt x="1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8"/>
          <p:cNvSpPr/>
          <p:nvPr/>
        </p:nvSpPr>
        <p:spPr>
          <a:xfrm>
            <a:off x="1949400" y="625320"/>
            <a:ext cx="154080" cy="308160"/>
          </a:xfrm>
          <a:custGeom>
            <a:avLst/>
            <a:gdLst>
              <a:gd name="textAreaLeft" fmla="*/ 0 w 154080"/>
              <a:gd name="textAreaRight" fmla="*/ 154440 w 1540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97" h="194">
                <a:moveTo>
                  <a:pt x="3" y="39"/>
                </a:moveTo>
                <a:lnTo>
                  <a:pt x="15" y="30"/>
                </a:lnTo>
                <a:lnTo>
                  <a:pt x="47" y="15"/>
                </a:lnTo>
                <a:lnTo>
                  <a:pt x="78" y="0"/>
                </a:lnTo>
                <a:lnTo>
                  <a:pt x="94" y="0"/>
                </a:lnTo>
                <a:lnTo>
                  <a:pt x="97" y="20"/>
                </a:lnTo>
                <a:lnTo>
                  <a:pt x="91" y="49"/>
                </a:lnTo>
                <a:lnTo>
                  <a:pt x="78" y="79"/>
                </a:lnTo>
                <a:lnTo>
                  <a:pt x="62" y="89"/>
                </a:lnTo>
                <a:lnTo>
                  <a:pt x="50" y="114"/>
                </a:lnTo>
                <a:lnTo>
                  <a:pt x="44" y="149"/>
                </a:lnTo>
                <a:lnTo>
                  <a:pt x="41" y="179"/>
                </a:lnTo>
                <a:lnTo>
                  <a:pt x="41" y="189"/>
                </a:lnTo>
                <a:lnTo>
                  <a:pt x="34" y="194"/>
                </a:lnTo>
                <a:lnTo>
                  <a:pt x="25" y="194"/>
                </a:lnTo>
                <a:lnTo>
                  <a:pt x="12" y="189"/>
                </a:lnTo>
                <a:lnTo>
                  <a:pt x="3" y="169"/>
                </a:lnTo>
                <a:lnTo>
                  <a:pt x="0" y="134"/>
                </a:lnTo>
                <a:lnTo>
                  <a:pt x="0" y="104"/>
                </a:lnTo>
                <a:lnTo>
                  <a:pt x="0" y="74"/>
                </a:lnTo>
                <a:lnTo>
                  <a:pt x="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9"/>
          <p:cNvSpPr/>
          <p:nvPr/>
        </p:nvSpPr>
        <p:spPr>
          <a:xfrm>
            <a:off x="988920" y="316080"/>
            <a:ext cx="3143520" cy="3062160"/>
          </a:xfrm>
          <a:custGeom>
            <a:avLst/>
            <a:gdLst>
              <a:gd name="textAreaLeft" fmla="*/ 0 w 3143520"/>
              <a:gd name="textAreaRight" fmla="*/ 3143880 w 3143520"/>
              <a:gd name="textAreaTop" fmla="*/ 0 h 3062160"/>
              <a:gd name="textAreaBottom" fmla="*/ 3062520 h 3062160"/>
            </a:gdLst>
            <a:ahLst/>
            <a:rect l="textAreaLeft" t="textAreaTop" r="textAreaRight" b="textAreaBottom"/>
            <a:pathLst>
              <a:path w="1980" h="1929">
                <a:moveTo>
                  <a:pt x="780" y="85"/>
                </a:moveTo>
                <a:lnTo>
                  <a:pt x="790" y="100"/>
                </a:lnTo>
                <a:lnTo>
                  <a:pt x="802" y="120"/>
                </a:lnTo>
                <a:lnTo>
                  <a:pt x="815" y="150"/>
                </a:lnTo>
                <a:lnTo>
                  <a:pt x="830" y="180"/>
                </a:lnTo>
                <a:lnTo>
                  <a:pt x="843" y="210"/>
                </a:lnTo>
                <a:lnTo>
                  <a:pt x="859" y="239"/>
                </a:lnTo>
                <a:lnTo>
                  <a:pt x="874" y="269"/>
                </a:lnTo>
                <a:lnTo>
                  <a:pt x="887" y="289"/>
                </a:lnTo>
                <a:lnTo>
                  <a:pt x="902" y="309"/>
                </a:lnTo>
                <a:lnTo>
                  <a:pt x="921" y="339"/>
                </a:lnTo>
                <a:lnTo>
                  <a:pt x="940" y="374"/>
                </a:lnTo>
                <a:lnTo>
                  <a:pt x="962" y="419"/>
                </a:lnTo>
                <a:lnTo>
                  <a:pt x="981" y="464"/>
                </a:lnTo>
                <a:lnTo>
                  <a:pt x="1003" y="509"/>
                </a:lnTo>
                <a:lnTo>
                  <a:pt x="1021" y="558"/>
                </a:lnTo>
                <a:lnTo>
                  <a:pt x="1037" y="608"/>
                </a:lnTo>
                <a:lnTo>
                  <a:pt x="1021" y="673"/>
                </a:lnTo>
                <a:lnTo>
                  <a:pt x="1006" y="748"/>
                </a:lnTo>
                <a:lnTo>
                  <a:pt x="990" y="827"/>
                </a:lnTo>
                <a:lnTo>
                  <a:pt x="981" y="897"/>
                </a:lnTo>
                <a:lnTo>
                  <a:pt x="971" y="867"/>
                </a:lnTo>
                <a:lnTo>
                  <a:pt x="956" y="842"/>
                </a:lnTo>
                <a:lnTo>
                  <a:pt x="940" y="817"/>
                </a:lnTo>
                <a:lnTo>
                  <a:pt x="921" y="798"/>
                </a:lnTo>
                <a:lnTo>
                  <a:pt x="902" y="783"/>
                </a:lnTo>
                <a:lnTo>
                  <a:pt x="887" y="768"/>
                </a:lnTo>
                <a:lnTo>
                  <a:pt x="874" y="758"/>
                </a:lnTo>
                <a:lnTo>
                  <a:pt x="865" y="753"/>
                </a:lnTo>
                <a:lnTo>
                  <a:pt x="849" y="753"/>
                </a:lnTo>
                <a:lnTo>
                  <a:pt x="833" y="753"/>
                </a:lnTo>
                <a:lnTo>
                  <a:pt x="815" y="758"/>
                </a:lnTo>
                <a:lnTo>
                  <a:pt x="796" y="758"/>
                </a:lnTo>
                <a:lnTo>
                  <a:pt x="793" y="728"/>
                </a:lnTo>
                <a:lnTo>
                  <a:pt x="780" y="688"/>
                </a:lnTo>
                <a:lnTo>
                  <a:pt x="765" y="638"/>
                </a:lnTo>
                <a:lnTo>
                  <a:pt x="746" y="583"/>
                </a:lnTo>
                <a:lnTo>
                  <a:pt x="733" y="593"/>
                </a:lnTo>
                <a:lnTo>
                  <a:pt x="714" y="613"/>
                </a:lnTo>
                <a:lnTo>
                  <a:pt x="692" y="648"/>
                </a:lnTo>
                <a:lnTo>
                  <a:pt x="667" y="683"/>
                </a:lnTo>
                <a:lnTo>
                  <a:pt x="642" y="723"/>
                </a:lnTo>
                <a:lnTo>
                  <a:pt x="624" y="758"/>
                </a:lnTo>
                <a:lnTo>
                  <a:pt x="611" y="788"/>
                </a:lnTo>
                <a:lnTo>
                  <a:pt x="605" y="808"/>
                </a:lnTo>
                <a:lnTo>
                  <a:pt x="592" y="852"/>
                </a:lnTo>
                <a:lnTo>
                  <a:pt x="564" y="922"/>
                </a:lnTo>
                <a:lnTo>
                  <a:pt x="536" y="987"/>
                </a:lnTo>
                <a:lnTo>
                  <a:pt x="514" y="1027"/>
                </a:lnTo>
                <a:lnTo>
                  <a:pt x="511" y="1062"/>
                </a:lnTo>
                <a:lnTo>
                  <a:pt x="520" y="1116"/>
                </a:lnTo>
                <a:lnTo>
                  <a:pt x="536" y="1176"/>
                </a:lnTo>
                <a:lnTo>
                  <a:pt x="555" y="1226"/>
                </a:lnTo>
                <a:lnTo>
                  <a:pt x="558" y="1251"/>
                </a:lnTo>
                <a:lnTo>
                  <a:pt x="552" y="1281"/>
                </a:lnTo>
                <a:lnTo>
                  <a:pt x="539" y="1321"/>
                </a:lnTo>
                <a:lnTo>
                  <a:pt x="520" y="1356"/>
                </a:lnTo>
                <a:lnTo>
                  <a:pt x="501" y="1395"/>
                </a:lnTo>
                <a:lnTo>
                  <a:pt x="483" y="1425"/>
                </a:lnTo>
                <a:lnTo>
                  <a:pt x="464" y="1455"/>
                </a:lnTo>
                <a:lnTo>
                  <a:pt x="448" y="1470"/>
                </a:lnTo>
                <a:lnTo>
                  <a:pt x="439" y="1425"/>
                </a:lnTo>
                <a:lnTo>
                  <a:pt x="420" y="1361"/>
                </a:lnTo>
                <a:lnTo>
                  <a:pt x="398" y="1306"/>
                </a:lnTo>
                <a:lnTo>
                  <a:pt x="376" y="1266"/>
                </a:lnTo>
                <a:lnTo>
                  <a:pt x="364" y="1276"/>
                </a:lnTo>
                <a:lnTo>
                  <a:pt x="348" y="1306"/>
                </a:lnTo>
                <a:lnTo>
                  <a:pt x="326" y="1351"/>
                </a:lnTo>
                <a:lnTo>
                  <a:pt x="301" y="1395"/>
                </a:lnTo>
                <a:lnTo>
                  <a:pt x="279" y="1445"/>
                </a:lnTo>
                <a:lnTo>
                  <a:pt x="254" y="1490"/>
                </a:lnTo>
                <a:lnTo>
                  <a:pt x="235" y="1525"/>
                </a:lnTo>
                <a:lnTo>
                  <a:pt x="223" y="1545"/>
                </a:lnTo>
                <a:lnTo>
                  <a:pt x="207" y="1555"/>
                </a:lnTo>
                <a:lnTo>
                  <a:pt x="185" y="1570"/>
                </a:lnTo>
                <a:lnTo>
                  <a:pt x="154" y="1580"/>
                </a:lnTo>
                <a:lnTo>
                  <a:pt x="122" y="1595"/>
                </a:lnTo>
                <a:lnTo>
                  <a:pt x="85" y="1610"/>
                </a:lnTo>
                <a:lnTo>
                  <a:pt x="54" y="1625"/>
                </a:lnTo>
                <a:lnTo>
                  <a:pt x="22" y="1640"/>
                </a:lnTo>
                <a:lnTo>
                  <a:pt x="0" y="1660"/>
                </a:lnTo>
                <a:lnTo>
                  <a:pt x="50" y="1674"/>
                </a:lnTo>
                <a:lnTo>
                  <a:pt x="101" y="1689"/>
                </a:lnTo>
                <a:lnTo>
                  <a:pt x="151" y="1704"/>
                </a:lnTo>
                <a:lnTo>
                  <a:pt x="201" y="1714"/>
                </a:lnTo>
                <a:lnTo>
                  <a:pt x="248" y="1724"/>
                </a:lnTo>
                <a:lnTo>
                  <a:pt x="288" y="1729"/>
                </a:lnTo>
                <a:lnTo>
                  <a:pt x="329" y="1734"/>
                </a:lnTo>
                <a:lnTo>
                  <a:pt x="360" y="1734"/>
                </a:lnTo>
                <a:lnTo>
                  <a:pt x="411" y="1734"/>
                </a:lnTo>
                <a:lnTo>
                  <a:pt x="464" y="1729"/>
                </a:lnTo>
                <a:lnTo>
                  <a:pt x="523" y="1719"/>
                </a:lnTo>
                <a:lnTo>
                  <a:pt x="580" y="1714"/>
                </a:lnTo>
                <a:lnTo>
                  <a:pt x="630" y="1709"/>
                </a:lnTo>
                <a:lnTo>
                  <a:pt x="674" y="1709"/>
                </a:lnTo>
                <a:lnTo>
                  <a:pt x="708" y="1709"/>
                </a:lnTo>
                <a:lnTo>
                  <a:pt x="730" y="1714"/>
                </a:lnTo>
                <a:lnTo>
                  <a:pt x="730" y="1704"/>
                </a:lnTo>
                <a:lnTo>
                  <a:pt x="730" y="1674"/>
                </a:lnTo>
                <a:lnTo>
                  <a:pt x="730" y="1640"/>
                </a:lnTo>
                <a:lnTo>
                  <a:pt x="730" y="1615"/>
                </a:lnTo>
                <a:lnTo>
                  <a:pt x="736" y="1590"/>
                </a:lnTo>
                <a:lnTo>
                  <a:pt x="752" y="1560"/>
                </a:lnTo>
                <a:lnTo>
                  <a:pt x="774" y="1535"/>
                </a:lnTo>
                <a:lnTo>
                  <a:pt x="793" y="1510"/>
                </a:lnTo>
                <a:lnTo>
                  <a:pt x="793" y="1495"/>
                </a:lnTo>
                <a:lnTo>
                  <a:pt x="796" y="1455"/>
                </a:lnTo>
                <a:lnTo>
                  <a:pt x="802" y="1395"/>
                </a:lnTo>
                <a:lnTo>
                  <a:pt x="812" y="1331"/>
                </a:lnTo>
                <a:lnTo>
                  <a:pt x="833" y="1381"/>
                </a:lnTo>
                <a:lnTo>
                  <a:pt x="859" y="1460"/>
                </a:lnTo>
                <a:lnTo>
                  <a:pt x="880" y="1540"/>
                </a:lnTo>
                <a:lnTo>
                  <a:pt x="899" y="1590"/>
                </a:lnTo>
                <a:lnTo>
                  <a:pt x="909" y="1610"/>
                </a:lnTo>
                <a:lnTo>
                  <a:pt x="918" y="1635"/>
                </a:lnTo>
                <a:lnTo>
                  <a:pt x="931" y="1670"/>
                </a:lnTo>
                <a:lnTo>
                  <a:pt x="946" y="1709"/>
                </a:lnTo>
                <a:lnTo>
                  <a:pt x="962" y="1754"/>
                </a:lnTo>
                <a:lnTo>
                  <a:pt x="978" y="1794"/>
                </a:lnTo>
                <a:lnTo>
                  <a:pt x="993" y="1829"/>
                </a:lnTo>
                <a:lnTo>
                  <a:pt x="1012" y="1859"/>
                </a:lnTo>
                <a:lnTo>
                  <a:pt x="1053" y="1869"/>
                </a:lnTo>
                <a:lnTo>
                  <a:pt x="1103" y="1879"/>
                </a:lnTo>
                <a:lnTo>
                  <a:pt x="1156" y="1889"/>
                </a:lnTo>
                <a:lnTo>
                  <a:pt x="1212" y="1894"/>
                </a:lnTo>
                <a:lnTo>
                  <a:pt x="1269" y="1904"/>
                </a:lnTo>
                <a:lnTo>
                  <a:pt x="1319" y="1914"/>
                </a:lnTo>
                <a:lnTo>
                  <a:pt x="1363" y="1919"/>
                </a:lnTo>
                <a:lnTo>
                  <a:pt x="1397" y="1929"/>
                </a:lnTo>
                <a:lnTo>
                  <a:pt x="1372" y="1894"/>
                </a:lnTo>
                <a:lnTo>
                  <a:pt x="1347" y="1854"/>
                </a:lnTo>
                <a:lnTo>
                  <a:pt x="1319" y="1814"/>
                </a:lnTo>
                <a:lnTo>
                  <a:pt x="1291" y="1774"/>
                </a:lnTo>
                <a:lnTo>
                  <a:pt x="1266" y="1734"/>
                </a:lnTo>
                <a:lnTo>
                  <a:pt x="1247" y="1704"/>
                </a:lnTo>
                <a:lnTo>
                  <a:pt x="1231" y="1679"/>
                </a:lnTo>
                <a:lnTo>
                  <a:pt x="1222" y="1670"/>
                </a:lnTo>
                <a:lnTo>
                  <a:pt x="1206" y="1660"/>
                </a:lnTo>
                <a:lnTo>
                  <a:pt x="1184" y="1650"/>
                </a:lnTo>
                <a:lnTo>
                  <a:pt x="1159" y="1640"/>
                </a:lnTo>
                <a:lnTo>
                  <a:pt x="1134" y="1635"/>
                </a:lnTo>
                <a:lnTo>
                  <a:pt x="1128" y="1605"/>
                </a:lnTo>
                <a:lnTo>
                  <a:pt x="1134" y="1565"/>
                </a:lnTo>
                <a:lnTo>
                  <a:pt x="1144" y="1525"/>
                </a:lnTo>
                <a:lnTo>
                  <a:pt x="1156" y="1495"/>
                </a:lnTo>
                <a:lnTo>
                  <a:pt x="1162" y="1460"/>
                </a:lnTo>
                <a:lnTo>
                  <a:pt x="1159" y="1400"/>
                </a:lnTo>
                <a:lnTo>
                  <a:pt x="1153" y="1341"/>
                </a:lnTo>
                <a:lnTo>
                  <a:pt x="1140" y="1291"/>
                </a:lnTo>
                <a:lnTo>
                  <a:pt x="1122" y="1221"/>
                </a:lnTo>
                <a:lnTo>
                  <a:pt x="1093" y="1121"/>
                </a:lnTo>
                <a:lnTo>
                  <a:pt x="1068" y="1027"/>
                </a:lnTo>
                <a:lnTo>
                  <a:pt x="1059" y="957"/>
                </a:lnTo>
                <a:lnTo>
                  <a:pt x="1062" y="912"/>
                </a:lnTo>
                <a:lnTo>
                  <a:pt x="1068" y="867"/>
                </a:lnTo>
                <a:lnTo>
                  <a:pt x="1075" y="832"/>
                </a:lnTo>
                <a:lnTo>
                  <a:pt x="1087" y="808"/>
                </a:lnTo>
                <a:lnTo>
                  <a:pt x="1106" y="788"/>
                </a:lnTo>
                <a:lnTo>
                  <a:pt x="1131" y="758"/>
                </a:lnTo>
                <a:lnTo>
                  <a:pt x="1153" y="738"/>
                </a:lnTo>
                <a:lnTo>
                  <a:pt x="1172" y="728"/>
                </a:lnTo>
                <a:lnTo>
                  <a:pt x="1197" y="783"/>
                </a:lnTo>
                <a:lnTo>
                  <a:pt x="1228" y="847"/>
                </a:lnTo>
                <a:lnTo>
                  <a:pt x="1263" y="922"/>
                </a:lnTo>
                <a:lnTo>
                  <a:pt x="1297" y="997"/>
                </a:lnTo>
                <a:lnTo>
                  <a:pt x="1331" y="1067"/>
                </a:lnTo>
                <a:lnTo>
                  <a:pt x="1360" y="1126"/>
                </a:lnTo>
                <a:lnTo>
                  <a:pt x="1382" y="1176"/>
                </a:lnTo>
                <a:lnTo>
                  <a:pt x="1397" y="1206"/>
                </a:lnTo>
                <a:lnTo>
                  <a:pt x="1410" y="1226"/>
                </a:lnTo>
                <a:lnTo>
                  <a:pt x="1429" y="1256"/>
                </a:lnTo>
                <a:lnTo>
                  <a:pt x="1447" y="1291"/>
                </a:lnTo>
                <a:lnTo>
                  <a:pt x="1466" y="1326"/>
                </a:lnTo>
                <a:lnTo>
                  <a:pt x="1485" y="1361"/>
                </a:lnTo>
                <a:lnTo>
                  <a:pt x="1501" y="1390"/>
                </a:lnTo>
                <a:lnTo>
                  <a:pt x="1513" y="1420"/>
                </a:lnTo>
                <a:lnTo>
                  <a:pt x="1516" y="1445"/>
                </a:lnTo>
                <a:lnTo>
                  <a:pt x="1516" y="1495"/>
                </a:lnTo>
                <a:lnTo>
                  <a:pt x="1516" y="1550"/>
                </a:lnTo>
                <a:lnTo>
                  <a:pt x="1516" y="1605"/>
                </a:lnTo>
                <a:lnTo>
                  <a:pt x="1513" y="1660"/>
                </a:lnTo>
                <a:lnTo>
                  <a:pt x="1516" y="1709"/>
                </a:lnTo>
                <a:lnTo>
                  <a:pt x="1532" y="1754"/>
                </a:lnTo>
                <a:lnTo>
                  <a:pt x="1554" y="1794"/>
                </a:lnTo>
                <a:lnTo>
                  <a:pt x="1576" y="1809"/>
                </a:lnTo>
                <a:lnTo>
                  <a:pt x="1588" y="1804"/>
                </a:lnTo>
                <a:lnTo>
                  <a:pt x="1604" y="1789"/>
                </a:lnTo>
                <a:lnTo>
                  <a:pt x="1623" y="1774"/>
                </a:lnTo>
                <a:lnTo>
                  <a:pt x="1642" y="1749"/>
                </a:lnTo>
                <a:lnTo>
                  <a:pt x="1660" y="1724"/>
                </a:lnTo>
                <a:lnTo>
                  <a:pt x="1679" y="1699"/>
                </a:lnTo>
                <a:lnTo>
                  <a:pt x="1692" y="1679"/>
                </a:lnTo>
                <a:lnTo>
                  <a:pt x="1701" y="1665"/>
                </a:lnTo>
                <a:lnTo>
                  <a:pt x="1710" y="1645"/>
                </a:lnTo>
                <a:lnTo>
                  <a:pt x="1720" y="1615"/>
                </a:lnTo>
                <a:lnTo>
                  <a:pt x="1735" y="1575"/>
                </a:lnTo>
                <a:lnTo>
                  <a:pt x="1754" y="1535"/>
                </a:lnTo>
                <a:lnTo>
                  <a:pt x="1770" y="1495"/>
                </a:lnTo>
                <a:lnTo>
                  <a:pt x="1786" y="1455"/>
                </a:lnTo>
                <a:lnTo>
                  <a:pt x="1801" y="1425"/>
                </a:lnTo>
                <a:lnTo>
                  <a:pt x="1814" y="1405"/>
                </a:lnTo>
                <a:lnTo>
                  <a:pt x="1836" y="1371"/>
                </a:lnTo>
                <a:lnTo>
                  <a:pt x="1864" y="1321"/>
                </a:lnTo>
                <a:lnTo>
                  <a:pt x="1886" y="1281"/>
                </a:lnTo>
                <a:lnTo>
                  <a:pt x="1905" y="1251"/>
                </a:lnTo>
                <a:lnTo>
                  <a:pt x="1923" y="1226"/>
                </a:lnTo>
                <a:lnTo>
                  <a:pt x="1948" y="1191"/>
                </a:lnTo>
                <a:lnTo>
                  <a:pt x="1970" y="1166"/>
                </a:lnTo>
                <a:lnTo>
                  <a:pt x="1980" y="1151"/>
                </a:lnTo>
                <a:lnTo>
                  <a:pt x="1961" y="1166"/>
                </a:lnTo>
                <a:lnTo>
                  <a:pt x="1939" y="1186"/>
                </a:lnTo>
                <a:lnTo>
                  <a:pt x="1917" y="1201"/>
                </a:lnTo>
                <a:lnTo>
                  <a:pt x="1889" y="1216"/>
                </a:lnTo>
                <a:lnTo>
                  <a:pt x="1861" y="1236"/>
                </a:lnTo>
                <a:lnTo>
                  <a:pt x="1833" y="1251"/>
                </a:lnTo>
                <a:lnTo>
                  <a:pt x="1804" y="1261"/>
                </a:lnTo>
                <a:lnTo>
                  <a:pt x="1779" y="1271"/>
                </a:lnTo>
                <a:lnTo>
                  <a:pt x="1754" y="1281"/>
                </a:lnTo>
                <a:lnTo>
                  <a:pt x="1732" y="1296"/>
                </a:lnTo>
                <a:lnTo>
                  <a:pt x="1710" y="1311"/>
                </a:lnTo>
                <a:lnTo>
                  <a:pt x="1689" y="1331"/>
                </a:lnTo>
                <a:lnTo>
                  <a:pt x="1670" y="1346"/>
                </a:lnTo>
                <a:lnTo>
                  <a:pt x="1654" y="1361"/>
                </a:lnTo>
                <a:lnTo>
                  <a:pt x="1638" y="1376"/>
                </a:lnTo>
                <a:lnTo>
                  <a:pt x="1629" y="1381"/>
                </a:lnTo>
                <a:lnTo>
                  <a:pt x="1588" y="1321"/>
                </a:lnTo>
                <a:lnTo>
                  <a:pt x="1541" y="1251"/>
                </a:lnTo>
                <a:lnTo>
                  <a:pt x="1494" y="1171"/>
                </a:lnTo>
                <a:lnTo>
                  <a:pt x="1444" y="1087"/>
                </a:lnTo>
                <a:lnTo>
                  <a:pt x="1394" y="1007"/>
                </a:lnTo>
                <a:lnTo>
                  <a:pt x="1350" y="932"/>
                </a:lnTo>
                <a:lnTo>
                  <a:pt x="1316" y="862"/>
                </a:lnTo>
                <a:lnTo>
                  <a:pt x="1288" y="812"/>
                </a:lnTo>
                <a:lnTo>
                  <a:pt x="1266" y="763"/>
                </a:lnTo>
                <a:lnTo>
                  <a:pt x="1234" y="708"/>
                </a:lnTo>
                <a:lnTo>
                  <a:pt x="1203" y="643"/>
                </a:lnTo>
                <a:lnTo>
                  <a:pt x="1169" y="578"/>
                </a:lnTo>
                <a:lnTo>
                  <a:pt x="1131" y="514"/>
                </a:lnTo>
                <a:lnTo>
                  <a:pt x="1097" y="459"/>
                </a:lnTo>
                <a:lnTo>
                  <a:pt x="1065" y="409"/>
                </a:lnTo>
                <a:lnTo>
                  <a:pt x="1040" y="379"/>
                </a:lnTo>
                <a:lnTo>
                  <a:pt x="1018" y="354"/>
                </a:lnTo>
                <a:lnTo>
                  <a:pt x="999" y="339"/>
                </a:lnTo>
                <a:lnTo>
                  <a:pt x="981" y="319"/>
                </a:lnTo>
                <a:lnTo>
                  <a:pt x="965" y="304"/>
                </a:lnTo>
                <a:lnTo>
                  <a:pt x="952" y="289"/>
                </a:lnTo>
                <a:lnTo>
                  <a:pt x="940" y="274"/>
                </a:lnTo>
                <a:lnTo>
                  <a:pt x="927" y="259"/>
                </a:lnTo>
                <a:lnTo>
                  <a:pt x="918" y="244"/>
                </a:lnTo>
                <a:lnTo>
                  <a:pt x="905" y="225"/>
                </a:lnTo>
                <a:lnTo>
                  <a:pt x="890" y="190"/>
                </a:lnTo>
                <a:lnTo>
                  <a:pt x="868" y="155"/>
                </a:lnTo>
                <a:lnTo>
                  <a:pt x="846" y="115"/>
                </a:lnTo>
                <a:lnTo>
                  <a:pt x="821" y="75"/>
                </a:lnTo>
                <a:lnTo>
                  <a:pt x="799" y="40"/>
                </a:lnTo>
                <a:lnTo>
                  <a:pt x="783" y="15"/>
                </a:lnTo>
                <a:lnTo>
                  <a:pt x="771" y="0"/>
                </a:lnTo>
                <a:lnTo>
                  <a:pt x="755" y="5"/>
                </a:lnTo>
                <a:lnTo>
                  <a:pt x="739" y="15"/>
                </a:lnTo>
                <a:lnTo>
                  <a:pt x="724" y="35"/>
                </a:lnTo>
                <a:lnTo>
                  <a:pt x="708" y="55"/>
                </a:lnTo>
                <a:lnTo>
                  <a:pt x="714" y="75"/>
                </a:lnTo>
                <a:lnTo>
                  <a:pt x="733" y="95"/>
                </a:lnTo>
                <a:lnTo>
                  <a:pt x="755" y="100"/>
                </a:lnTo>
                <a:lnTo>
                  <a:pt x="78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20"/>
          <p:cNvSpPr/>
          <p:nvPr/>
        </p:nvSpPr>
        <p:spPr>
          <a:xfrm>
            <a:off x="6095880" y="1295280"/>
            <a:ext cx="1122480" cy="159876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707" h="1007">
                <a:moveTo>
                  <a:pt x="707" y="0"/>
                </a:moveTo>
                <a:lnTo>
                  <a:pt x="670" y="30"/>
                </a:lnTo>
                <a:lnTo>
                  <a:pt x="629" y="65"/>
                </a:lnTo>
                <a:lnTo>
                  <a:pt x="582" y="100"/>
                </a:lnTo>
                <a:lnTo>
                  <a:pt x="535" y="140"/>
                </a:lnTo>
                <a:lnTo>
                  <a:pt x="485" y="180"/>
                </a:lnTo>
                <a:lnTo>
                  <a:pt x="435" y="214"/>
                </a:lnTo>
                <a:lnTo>
                  <a:pt x="385" y="254"/>
                </a:lnTo>
                <a:lnTo>
                  <a:pt x="332" y="294"/>
                </a:lnTo>
                <a:lnTo>
                  <a:pt x="281" y="334"/>
                </a:lnTo>
                <a:lnTo>
                  <a:pt x="231" y="369"/>
                </a:lnTo>
                <a:lnTo>
                  <a:pt x="184" y="399"/>
                </a:lnTo>
                <a:lnTo>
                  <a:pt x="140" y="429"/>
                </a:lnTo>
                <a:lnTo>
                  <a:pt x="97" y="454"/>
                </a:lnTo>
                <a:lnTo>
                  <a:pt x="59" y="479"/>
                </a:lnTo>
                <a:lnTo>
                  <a:pt x="28" y="494"/>
                </a:lnTo>
                <a:lnTo>
                  <a:pt x="0" y="503"/>
                </a:lnTo>
                <a:lnTo>
                  <a:pt x="28" y="518"/>
                </a:lnTo>
                <a:lnTo>
                  <a:pt x="62" y="543"/>
                </a:lnTo>
                <a:lnTo>
                  <a:pt x="100" y="563"/>
                </a:lnTo>
                <a:lnTo>
                  <a:pt x="134" y="583"/>
                </a:lnTo>
                <a:lnTo>
                  <a:pt x="169" y="608"/>
                </a:lnTo>
                <a:lnTo>
                  <a:pt x="197" y="623"/>
                </a:lnTo>
                <a:lnTo>
                  <a:pt x="216" y="633"/>
                </a:lnTo>
                <a:lnTo>
                  <a:pt x="222" y="638"/>
                </a:lnTo>
                <a:lnTo>
                  <a:pt x="234" y="693"/>
                </a:lnTo>
                <a:lnTo>
                  <a:pt x="250" y="748"/>
                </a:lnTo>
                <a:lnTo>
                  <a:pt x="269" y="807"/>
                </a:lnTo>
                <a:lnTo>
                  <a:pt x="288" y="867"/>
                </a:lnTo>
                <a:lnTo>
                  <a:pt x="306" y="922"/>
                </a:lnTo>
                <a:lnTo>
                  <a:pt x="328" y="962"/>
                </a:lnTo>
                <a:lnTo>
                  <a:pt x="347" y="992"/>
                </a:lnTo>
                <a:lnTo>
                  <a:pt x="366" y="1007"/>
                </a:lnTo>
                <a:lnTo>
                  <a:pt x="379" y="947"/>
                </a:lnTo>
                <a:lnTo>
                  <a:pt x="397" y="867"/>
                </a:lnTo>
                <a:lnTo>
                  <a:pt x="416" y="797"/>
                </a:lnTo>
                <a:lnTo>
                  <a:pt x="438" y="763"/>
                </a:lnTo>
                <a:lnTo>
                  <a:pt x="454" y="753"/>
                </a:lnTo>
                <a:lnTo>
                  <a:pt x="476" y="743"/>
                </a:lnTo>
                <a:lnTo>
                  <a:pt x="501" y="733"/>
                </a:lnTo>
                <a:lnTo>
                  <a:pt x="532" y="718"/>
                </a:lnTo>
                <a:lnTo>
                  <a:pt x="560" y="708"/>
                </a:lnTo>
                <a:lnTo>
                  <a:pt x="585" y="698"/>
                </a:lnTo>
                <a:lnTo>
                  <a:pt x="607" y="693"/>
                </a:lnTo>
                <a:lnTo>
                  <a:pt x="623" y="688"/>
                </a:lnTo>
                <a:lnTo>
                  <a:pt x="629" y="648"/>
                </a:lnTo>
                <a:lnTo>
                  <a:pt x="642" y="598"/>
                </a:lnTo>
                <a:lnTo>
                  <a:pt x="657" y="538"/>
                </a:lnTo>
                <a:lnTo>
                  <a:pt x="673" y="484"/>
                </a:lnTo>
                <a:lnTo>
                  <a:pt x="689" y="424"/>
                </a:lnTo>
                <a:lnTo>
                  <a:pt x="701" y="379"/>
                </a:lnTo>
                <a:lnTo>
                  <a:pt x="707" y="344"/>
                </a:lnTo>
                <a:lnTo>
                  <a:pt x="701" y="324"/>
                </a:lnTo>
                <a:lnTo>
                  <a:pt x="676" y="314"/>
                </a:lnTo>
                <a:lnTo>
                  <a:pt x="654" y="314"/>
                </a:lnTo>
                <a:lnTo>
                  <a:pt x="632" y="309"/>
                </a:lnTo>
                <a:lnTo>
                  <a:pt x="623" y="299"/>
                </a:lnTo>
                <a:lnTo>
                  <a:pt x="623" y="274"/>
                </a:lnTo>
                <a:lnTo>
                  <a:pt x="629" y="249"/>
                </a:lnTo>
                <a:lnTo>
                  <a:pt x="639" y="224"/>
                </a:lnTo>
                <a:lnTo>
                  <a:pt x="651" y="209"/>
                </a:lnTo>
                <a:lnTo>
                  <a:pt x="651" y="180"/>
                </a:lnTo>
                <a:lnTo>
                  <a:pt x="651" y="150"/>
                </a:lnTo>
                <a:lnTo>
                  <a:pt x="651" y="120"/>
                </a:lnTo>
                <a:lnTo>
                  <a:pt x="657" y="110"/>
                </a:lnTo>
                <a:lnTo>
                  <a:pt x="670" y="110"/>
                </a:lnTo>
                <a:lnTo>
                  <a:pt x="685" y="105"/>
                </a:lnTo>
                <a:lnTo>
                  <a:pt x="695" y="95"/>
                </a:lnTo>
                <a:lnTo>
                  <a:pt x="701" y="85"/>
                </a:lnTo>
                <a:lnTo>
                  <a:pt x="704" y="65"/>
                </a:lnTo>
                <a:lnTo>
                  <a:pt x="704" y="35"/>
                </a:lnTo>
                <a:lnTo>
                  <a:pt x="707" y="10"/>
                </a:lnTo>
                <a:lnTo>
                  <a:pt x="7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21"/>
          <p:cNvSpPr/>
          <p:nvPr/>
        </p:nvSpPr>
        <p:spPr>
          <a:xfrm>
            <a:off x="7189920" y="3479760"/>
            <a:ext cx="527040" cy="1258920"/>
          </a:xfrm>
          <a:custGeom>
            <a:avLst/>
            <a:gdLst>
              <a:gd name="textAreaLeft" fmla="*/ 0 w 527040"/>
              <a:gd name="textAreaRight" fmla="*/ 527400 w 52704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32" h="793">
                <a:moveTo>
                  <a:pt x="332" y="723"/>
                </a:moveTo>
                <a:lnTo>
                  <a:pt x="298" y="723"/>
                </a:lnTo>
                <a:lnTo>
                  <a:pt x="263" y="723"/>
                </a:lnTo>
                <a:lnTo>
                  <a:pt x="232" y="713"/>
                </a:lnTo>
                <a:lnTo>
                  <a:pt x="201" y="698"/>
                </a:lnTo>
                <a:lnTo>
                  <a:pt x="172" y="678"/>
                </a:lnTo>
                <a:lnTo>
                  <a:pt x="154" y="648"/>
                </a:lnTo>
                <a:lnTo>
                  <a:pt x="141" y="608"/>
                </a:lnTo>
                <a:lnTo>
                  <a:pt x="138" y="553"/>
                </a:lnTo>
                <a:lnTo>
                  <a:pt x="144" y="454"/>
                </a:lnTo>
                <a:lnTo>
                  <a:pt x="147" y="339"/>
                </a:lnTo>
                <a:lnTo>
                  <a:pt x="150" y="235"/>
                </a:lnTo>
                <a:lnTo>
                  <a:pt x="144" y="160"/>
                </a:lnTo>
                <a:lnTo>
                  <a:pt x="138" y="130"/>
                </a:lnTo>
                <a:lnTo>
                  <a:pt x="125" y="95"/>
                </a:lnTo>
                <a:lnTo>
                  <a:pt x="110" y="65"/>
                </a:lnTo>
                <a:lnTo>
                  <a:pt x="91" y="35"/>
                </a:lnTo>
                <a:lnTo>
                  <a:pt x="72" y="15"/>
                </a:lnTo>
                <a:lnTo>
                  <a:pt x="50" y="0"/>
                </a:lnTo>
                <a:lnTo>
                  <a:pt x="28" y="0"/>
                </a:lnTo>
                <a:lnTo>
                  <a:pt x="9" y="15"/>
                </a:lnTo>
                <a:lnTo>
                  <a:pt x="0" y="75"/>
                </a:lnTo>
                <a:lnTo>
                  <a:pt x="3" y="125"/>
                </a:lnTo>
                <a:lnTo>
                  <a:pt x="16" y="160"/>
                </a:lnTo>
                <a:lnTo>
                  <a:pt x="38" y="170"/>
                </a:lnTo>
                <a:lnTo>
                  <a:pt x="60" y="180"/>
                </a:lnTo>
                <a:lnTo>
                  <a:pt x="72" y="195"/>
                </a:lnTo>
                <a:lnTo>
                  <a:pt x="78" y="220"/>
                </a:lnTo>
                <a:lnTo>
                  <a:pt x="82" y="255"/>
                </a:lnTo>
                <a:lnTo>
                  <a:pt x="82" y="314"/>
                </a:lnTo>
                <a:lnTo>
                  <a:pt x="75" y="409"/>
                </a:lnTo>
                <a:lnTo>
                  <a:pt x="69" y="529"/>
                </a:lnTo>
                <a:lnTo>
                  <a:pt x="66" y="643"/>
                </a:lnTo>
                <a:lnTo>
                  <a:pt x="88" y="678"/>
                </a:lnTo>
                <a:lnTo>
                  <a:pt x="116" y="718"/>
                </a:lnTo>
                <a:lnTo>
                  <a:pt x="144" y="748"/>
                </a:lnTo>
                <a:lnTo>
                  <a:pt x="182" y="778"/>
                </a:lnTo>
                <a:lnTo>
                  <a:pt x="216" y="793"/>
                </a:lnTo>
                <a:lnTo>
                  <a:pt x="254" y="793"/>
                </a:lnTo>
                <a:lnTo>
                  <a:pt x="294" y="768"/>
                </a:lnTo>
                <a:lnTo>
                  <a:pt x="332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22"/>
          <p:cNvSpPr/>
          <p:nvPr/>
        </p:nvSpPr>
        <p:spPr>
          <a:xfrm>
            <a:off x="174600" y="3060720"/>
            <a:ext cx="2670120" cy="17874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682" h="1126">
                <a:moveTo>
                  <a:pt x="1682" y="1126"/>
                </a:moveTo>
                <a:lnTo>
                  <a:pt x="1581" y="1042"/>
                </a:lnTo>
                <a:lnTo>
                  <a:pt x="1475" y="957"/>
                </a:lnTo>
                <a:lnTo>
                  <a:pt x="1359" y="862"/>
                </a:lnTo>
                <a:lnTo>
                  <a:pt x="1240" y="773"/>
                </a:lnTo>
                <a:lnTo>
                  <a:pt x="1115" y="678"/>
                </a:lnTo>
                <a:lnTo>
                  <a:pt x="989" y="583"/>
                </a:lnTo>
                <a:lnTo>
                  <a:pt x="864" y="494"/>
                </a:lnTo>
                <a:lnTo>
                  <a:pt x="739" y="409"/>
                </a:lnTo>
                <a:lnTo>
                  <a:pt x="617" y="324"/>
                </a:lnTo>
                <a:lnTo>
                  <a:pt x="501" y="249"/>
                </a:lnTo>
                <a:lnTo>
                  <a:pt x="391" y="180"/>
                </a:lnTo>
                <a:lnTo>
                  <a:pt x="288" y="120"/>
                </a:lnTo>
                <a:lnTo>
                  <a:pt x="197" y="75"/>
                </a:lnTo>
                <a:lnTo>
                  <a:pt x="119" y="35"/>
                </a:lnTo>
                <a:lnTo>
                  <a:pt x="50" y="10"/>
                </a:lnTo>
                <a:lnTo>
                  <a:pt x="0" y="0"/>
                </a:lnTo>
                <a:lnTo>
                  <a:pt x="65" y="5"/>
                </a:lnTo>
                <a:lnTo>
                  <a:pt x="144" y="20"/>
                </a:lnTo>
                <a:lnTo>
                  <a:pt x="231" y="50"/>
                </a:lnTo>
                <a:lnTo>
                  <a:pt x="328" y="85"/>
                </a:lnTo>
                <a:lnTo>
                  <a:pt x="435" y="135"/>
                </a:lnTo>
                <a:lnTo>
                  <a:pt x="545" y="190"/>
                </a:lnTo>
                <a:lnTo>
                  <a:pt x="661" y="259"/>
                </a:lnTo>
                <a:lnTo>
                  <a:pt x="780" y="329"/>
                </a:lnTo>
                <a:lnTo>
                  <a:pt x="902" y="414"/>
                </a:lnTo>
                <a:lnTo>
                  <a:pt x="1021" y="499"/>
                </a:lnTo>
                <a:lnTo>
                  <a:pt x="1143" y="593"/>
                </a:lnTo>
                <a:lnTo>
                  <a:pt x="1259" y="693"/>
                </a:lnTo>
                <a:lnTo>
                  <a:pt x="1375" y="798"/>
                </a:lnTo>
                <a:lnTo>
                  <a:pt x="1484" y="902"/>
                </a:lnTo>
                <a:lnTo>
                  <a:pt x="1588" y="1012"/>
                </a:lnTo>
                <a:lnTo>
                  <a:pt x="1682" y="1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23"/>
          <p:cNvSpPr/>
          <p:nvPr/>
        </p:nvSpPr>
        <p:spPr>
          <a:xfrm>
            <a:off x="3565440" y="3378240"/>
            <a:ext cx="39600" cy="315720"/>
          </a:xfrm>
          <a:custGeom>
            <a:avLst/>
            <a:gdLst>
              <a:gd name="textAreaLeft" fmla="*/ 0 w 39600"/>
              <a:gd name="textAreaRight" fmla="*/ 39960 w 39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" h="199">
                <a:moveTo>
                  <a:pt x="12" y="189"/>
                </a:moveTo>
                <a:lnTo>
                  <a:pt x="6" y="149"/>
                </a:lnTo>
                <a:lnTo>
                  <a:pt x="0" y="104"/>
                </a:lnTo>
                <a:lnTo>
                  <a:pt x="3" y="59"/>
                </a:lnTo>
                <a:lnTo>
                  <a:pt x="15" y="0"/>
                </a:lnTo>
                <a:lnTo>
                  <a:pt x="12" y="74"/>
                </a:lnTo>
                <a:lnTo>
                  <a:pt x="19" y="154"/>
                </a:lnTo>
                <a:lnTo>
                  <a:pt x="25" y="199"/>
                </a:lnTo>
                <a:lnTo>
                  <a:pt x="12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24"/>
          <p:cNvSpPr/>
          <p:nvPr/>
        </p:nvSpPr>
        <p:spPr>
          <a:xfrm>
            <a:off x="2948040" y="2903400"/>
            <a:ext cx="284040" cy="711360"/>
          </a:xfrm>
          <a:custGeom>
            <a:avLst/>
            <a:gdLst>
              <a:gd name="textAreaLeft" fmla="*/ 0 w 284040"/>
              <a:gd name="textAreaRight" fmla="*/ 284400 w 28404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79" h="448">
                <a:moveTo>
                  <a:pt x="13" y="448"/>
                </a:moveTo>
                <a:lnTo>
                  <a:pt x="10" y="353"/>
                </a:lnTo>
                <a:lnTo>
                  <a:pt x="16" y="274"/>
                </a:lnTo>
                <a:lnTo>
                  <a:pt x="32" y="199"/>
                </a:lnTo>
                <a:lnTo>
                  <a:pt x="54" y="139"/>
                </a:lnTo>
                <a:lnTo>
                  <a:pt x="82" y="94"/>
                </a:lnTo>
                <a:lnTo>
                  <a:pt x="113" y="54"/>
                </a:lnTo>
                <a:lnTo>
                  <a:pt x="144" y="25"/>
                </a:lnTo>
                <a:lnTo>
                  <a:pt x="179" y="0"/>
                </a:lnTo>
                <a:lnTo>
                  <a:pt x="135" y="15"/>
                </a:lnTo>
                <a:lnTo>
                  <a:pt x="97" y="49"/>
                </a:lnTo>
                <a:lnTo>
                  <a:pt x="63" y="104"/>
                </a:lnTo>
                <a:lnTo>
                  <a:pt x="35" y="169"/>
                </a:lnTo>
                <a:lnTo>
                  <a:pt x="13" y="239"/>
                </a:lnTo>
                <a:lnTo>
                  <a:pt x="3" y="314"/>
                </a:lnTo>
                <a:lnTo>
                  <a:pt x="0" y="383"/>
                </a:lnTo>
                <a:lnTo>
                  <a:pt x="13" y="4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25"/>
          <p:cNvSpPr/>
          <p:nvPr/>
        </p:nvSpPr>
        <p:spPr>
          <a:xfrm>
            <a:off x="3525840" y="3029040"/>
            <a:ext cx="436680" cy="222120"/>
          </a:xfrm>
          <a:custGeom>
            <a:avLst/>
            <a:gdLst>
              <a:gd name="textAreaLeft" fmla="*/ 0 w 436680"/>
              <a:gd name="textAreaRight" fmla="*/ 436680 w 436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5" h="140">
                <a:moveTo>
                  <a:pt x="275" y="0"/>
                </a:moveTo>
                <a:lnTo>
                  <a:pt x="253" y="0"/>
                </a:lnTo>
                <a:lnTo>
                  <a:pt x="222" y="5"/>
                </a:lnTo>
                <a:lnTo>
                  <a:pt x="184" y="20"/>
                </a:lnTo>
                <a:lnTo>
                  <a:pt x="144" y="35"/>
                </a:lnTo>
                <a:lnTo>
                  <a:pt x="100" y="50"/>
                </a:lnTo>
                <a:lnTo>
                  <a:pt x="62" y="70"/>
                </a:lnTo>
                <a:lnTo>
                  <a:pt x="31" y="90"/>
                </a:lnTo>
                <a:lnTo>
                  <a:pt x="9" y="105"/>
                </a:lnTo>
                <a:lnTo>
                  <a:pt x="3" y="115"/>
                </a:lnTo>
                <a:lnTo>
                  <a:pt x="0" y="130"/>
                </a:lnTo>
                <a:lnTo>
                  <a:pt x="3" y="140"/>
                </a:lnTo>
                <a:lnTo>
                  <a:pt x="18" y="130"/>
                </a:lnTo>
                <a:lnTo>
                  <a:pt x="34" y="120"/>
                </a:lnTo>
                <a:lnTo>
                  <a:pt x="59" y="100"/>
                </a:lnTo>
                <a:lnTo>
                  <a:pt x="91" y="85"/>
                </a:lnTo>
                <a:lnTo>
                  <a:pt x="128" y="65"/>
                </a:lnTo>
                <a:lnTo>
                  <a:pt x="166" y="45"/>
                </a:lnTo>
                <a:lnTo>
                  <a:pt x="206" y="25"/>
                </a:lnTo>
                <a:lnTo>
                  <a:pt x="244" y="10"/>
                </a:lnTo>
                <a:lnTo>
                  <a:pt x="2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26"/>
          <p:cNvSpPr/>
          <p:nvPr/>
        </p:nvSpPr>
        <p:spPr>
          <a:xfrm>
            <a:off x="2919240" y="2973240"/>
            <a:ext cx="804960" cy="1898640"/>
          </a:xfrm>
          <a:custGeom>
            <a:avLst/>
            <a:gdLst>
              <a:gd name="textAreaLeft" fmla="*/ 0 w 804960"/>
              <a:gd name="textAreaRight" fmla="*/ 805320 w 8049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07" h="1196">
                <a:moveTo>
                  <a:pt x="59" y="1196"/>
                </a:moveTo>
                <a:lnTo>
                  <a:pt x="53" y="1191"/>
                </a:lnTo>
                <a:lnTo>
                  <a:pt x="34" y="1176"/>
                </a:lnTo>
                <a:lnTo>
                  <a:pt x="15" y="1156"/>
                </a:lnTo>
                <a:lnTo>
                  <a:pt x="0" y="1142"/>
                </a:lnTo>
                <a:lnTo>
                  <a:pt x="43" y="1122"/>
                </a:lnTo>
                <a:lnTo>
                  <a:pt x="75" y="1092"/>
                </a:lnTo>
                <a:lnTo>
                  <a:pt x="94" y="1047"/>
                </a:lnTo>
                <a:lnTo>
                  <a:pt x="106" y="997"/>
                </a:lnTo>
                <a:lnTo>
                  <a:pt x="109" y="947"/>
                </a:lnTo>
                <a:lnTo>
                  <a:pt x="109" y="897"/>
                </a:lnTo>
                <a:lnTo>
                  <a:pt x="103" y="853"/>
                </a:lnTo>
                <a:lnTo>
                  <a:pt x="97" y="818"/>
                </a:lnTo>
                <a:lnTo>
                  <a:pt x="100" y="788"/>
                </a:lnTo>
                <a:lnTo>
                  <a:pt x="106" y="763"/>
                </a:lnTo>
                <a:lnTo>
                  <a:pt x="112" y="738"/>
                </a:lnTo>
                <a:lnTo>
                  <a:pt x="122" y="713"/>
                </a:lnTo>
                <a:lnTo>
                  <a:pt x="134" y="693"/>
                </a:lnTo>
                <a:lnTo>
                  <a:pt x="153" y="668"/>
                </a:lnTo>
                <a:lnTo>
                  <a:pt x="172" y="653"/>
                </a:lnTo>
                <a:lnTo>
                  <a:pt x="197" y="633"/>
                </a:lnTo>
                <a:lnTo>
                  <a:pt x="206" y="623"/>
                </a:lnTo>
                <a:lnTo>
                  <a:pt x="213" y="608"/>
                </a:lnTo>
                <a:lnTo>
                  <a:pt x="213" y="593"/>
                </a:lnTo>
                <a:lnTo>
                  <a:pt x="206" y="574"/>
                </a:lnTo>
                <a:lnTo>
                  <a:pt x="194" y="554"/>
                </a:lnTo>
                <a:lnTo>
                  <a:pt x="175" y="534"/>
                </a:lnTo>
                <a:lnTo>
                  <a:pt x="153" y="519"/>
                </a:lnTo>
                <a:lnTo>
                  <a:pt x="128" y="499"/>
                </a:lnTo>
                <a:lnTo>
                  <a:pt x="100" y="439"/>
                </a:lnTo>
                <a:lnTo>
                  <a:pt x="87" y="329"/>
                </a:lnTo>
                <a:lnTo>
                  <a:pt x="97" y="200"/>
                </a:lnTo>
                <a:lnTo>
                  <a:pt x="137" y="85"/>
                </a:lnTo>
                <a:lnTo>
                  <a:pt x="172" y="45"/>
                </a:lnTo>
                <a:lnTo>
                  <a:pt x="209" y="20"/>
                </a:lnTo>
                <a:lnTo>
                  <a:pt x="253" y="5"/>
                </a:lnTo>
                <a:lnTo>
                  <a:pt x="297" y="0"/>
                </a:lnTo>
                <a:lnTo>
                  <a:pt x="338" y="10"/>
                </a:lnTo>
                <a:lnTo>
                  <a:pt x="375" y="20"/>
                </a:lnTo>
                <a:lnTo>
                  <a:pt x="404" y="35"/>
                </a:lnTo>
                <a:lnTo>
                  <a:pt x="422" y="55"/>
                </a:lnTo>
                <a:lnTo>
                  <a:pt x="419" y="55"/>
                </a:lnTo>
                <a:lnTo>
                  <a:pt x="413" y="60"/>
                </a:lnTo>
                <a:lnTo>
                  <a:pt x="410" y="65"/>
                </a:lnTo>
                <a:lnTo>
                  <a:pt x="391" y="55"/>
                </a:lnTo>
                <a:lnTo>
                  <a:pt x="360" y="45"/>
                </a:lnTo>
                <a:lnTo>
                  <a:pt x="322" y="35"/>
                </a:lnTo>
                <a:lnTo>
                  <a:pt x="278" y="35"/>
                </a:lnTo>
                <a:lnTo>
                  <a:pt x="234" y="50"/>
                </a:lnTo>
                <a:lnTo>
                  <a:pt x="191" y="75"/>
                </a:lnTo>
                <a:lnTo>
                  <a:pt x="156" y="120"/>
                </a:lnTo>
                <a:lnTo>
                  <a:pt x="134" y="190"/>
                </a:lnTo>
                <a:lnTo>
                  <a:pt x="122" y="275"/>
                </a:lnTo>
                <a:lnTo>
                  <a:pt x="122" y="344"/>
                </a:lnTo>
                <a:lnTo>
                  <a:pt x="134" y="399"/>
                </a:lnTo>
                <a:lnTo>
                  <a:pt x="153" y="444"/>
                </a:lnTo>
                <a:lnTo>
                  <a:pt x="175" y="474"/>
                </a:lnTo>
                <a:lnTo>
                  <a:pt x="203" y="499"/>
                </a:lnTo>
                <a:lnTo>
                  <a:pt x="234" y="514"/>
                </a:lnTo>
                <a:lnTo>
                  <a:pt x="263" y="529"/>
                </a:lnTo>
                <a:lnTo>
                  <a:pt x="281" y="529"/>
                </a:lnTo>
                <a:lnTo>
                  <a:pt x="307" y="524"/>
                </a:lnTo>
                <a:lnTo>
                  <a:pt x="335" y="514"/>
                </a:lnTo>
                <a:lnTo>
                  <a:pt x="366" y="499"/>
                </a:lnTo>
                <a:lnTo>
                  <a:pt x="394" y="489"/>
                </a:lnTo>
                <a:lnTo>
                  <a:pt x="422" y="479"/>
                </a:lnTo>
                <a:lnTo>
                  <a:pt x="451" y="484"/>
                </a:lnTo>
                <a:lnTo>
                  <a:pt x="473" y="494"/>
                </a:lnTo>
                <a:lnTo>
                  <a:pt x="482" y="499"/>
                </a:lnTo>
                <a:lnTo>
                  <a:pt x="485" y="499"/>
                </a:lnTo>
                <a:lnTo>
                  <a:pt x="494" y="504"/>
                </a:lnTo>
                <a:lnTo>
                  <a:pt x="507" y="529"/>
                </a:lnTo>
                <a:lnTo>
                  <a:pt x="485" y="534"/>
                </a:lnTo>
                <a:lnTo>
                  <a:pt x="460" y="539"/>
                </a:lnTo>
                <a:lnTo>
                  <a:pt x="435" y="544"/>
                </a:lnTo>
                <a:lnTo>
                  <a:pt x="407" y="554"/>
                </a:lnTo>
                <a:lnTo>
                  <a:pt x="379" y="559"/>
                </a:lnTo>
                <a:lnTo>
                  <a:pt x="350" y="574"/>
                </a:lnTo>
                <a:lnTo>
                  <a:pt x="319" y="588"/>
                </a:lnTo>
                <a:lnTo>
                  <a:pt x="291" y="608"/>
                </a:lnTo>
                <a:lnTo>
                  <a:pt x="253" y="653"/>
                </a:lnTo>
                <a:lnTo>
                  <a:pt x="222" y="723"/>
                </a:lnTo>
                <a:lnTo>
                  <a:pt x="197" y="803"/>
                </a:lnTo>
                <a:lnTo>
                  <a:pt x="175" y="892"/>
                </a:lnTo>
                <a:lnTo>
                  <a:pt x="150" y="982"/>
                </a:lnTo>
                <a:lnTo>
                  <a:pt x="128" y="1067"/>
                </a:lnTo>
                <a:lnTo>
                  <a:pt x="97" y="1142"/>
                </a:lnTo>
                <a:lnTo>
                  <a:pt x="59" y="1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27"/>
          <p:cNvSpPr/>
          <p:nvPr/>
        </p:nvSpPr>
        <p:spPr>
          <a:xfrm>
            <a:off x="2455920" y="4002120"/>
            <a:ext cx="189000" cy="341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9" h="215">
                <a:moveTo>
                  <a:pt x="47" y="215"/>
                </a:moveTo>
                <a:lnTo>
                  <a:pt x="66" y="155"/>
                </a:lnTo>
                <a:lnTo>
                  <a:pt x="85" y="100"/>
                </a:lnTo>
                <a:lnTo>
                  <a:pt x="104" y="50"/>
                </a:lnTo>
                <a:lnTo>
                  <a:pt x="119" y="15"/>
                </a:lnTo>
                <a:lnTo>
                  <a:pt x="113" y="0"/>
                </a:lnTo>
                <a:lnTo>
                  <a:pt x="107" y="0"/>
                </a:lnTo>
                <a:lnTo>
                  <a:pt x="101" y="5"/>
                </a:lnTo>
                <a:lnTo>
                  <a:pt x="88" y="15"/>
                </a:lnTo>
                <a:lnTo>
                  <a:pt x="66" y="45"/>
                </a:lnTo>
                <a:lnTo>
                  <a:pt x="38" y="95"/>
                </a:lnTo>
                <a:lnTo>
                  <a:pt x="13" y="145"/>
                </a:lnTo>
                <a:lnTo>
                  <a:pt x="0" y="165"/>
                </a:lnTo>
                <a:lnTo>
                  <a:pt x="47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28"/>
          <p:cNvSpPr/>
          <p:nvPr/>
        </p:nvSpPr>
        <p:spPr>
          <a:xfrm>
            <a:off x="3290760" y="3164040"/>
            <a:ext cx="109800" cy="174600"/>
          </a:xfrm>
          <a:custGeom>
            <a:avLst/>
            <a:gdLst>
              <a:gd name="textAreaLeft" fmla="*/ 0 w 109800"/>
              <a:gd name="textAreaRight" fmla="*/ 110160 w 1098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69" h="110">
                <a:moveTo>
                  <a:pt x="38" y="110"/>
                </a:moveTo>
                <a:lnTo>
                  <a:pt x="51" y="105"/>
                </a:lnTo>
                <a:lnTo>
                  <a:pt x="60" y="90"/>
                </a:lnTo>
                <a:lnTo>
                  <a:pt x="66" y="70"/>
                </a:lnTo>
                <a:lnTo>
                  <a:pt x="69" y="50"/>
                </a:lnTo>
                <a:lnTo>
                  <a:pt x="66" y="30"/>
                </a:lnTo>
                <a:lnTo>
                  <a:pt x="57" y="10"/>
                </a:lnTo>
                <a:lnTo>
                  <a:pt x="44" y="0"/>
                </a:lnTo>
                <a:lnTo>
                  <a:pt x="32" y="0"/>
                </a:lnTo>
                <a:lnTo>
                  <a:pt x="19" y="5"/>
                </a:lnTo>
                <a:lnTo>
                  <a:pt x="7" y="20"/>
                </a:lnTo>
                <a:lnTo>
                  <a:pt x="0" y="40"/>
                </a:lnTo>
                <a:lnTo>
                  <a:pt x="0" y="60"/>
                </a:lnTo>
                <a:lnTo>
                  <a:pt x="4" y="80"/>
                </a:lnTo>
                <a:lnTo>
                  <a:pt x="13" y="95"/>
                </a:lnTo>
                <a:lnTo>
                  <a:pt x="26" y="105"/>
                </a:lnTo>
                <a:lnTo>
                  <a:pt x="3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29"/>
          <p:cNvSpPr/>
          <p:nvPr/>
        </p:nvSpPr>
        <p:spPr>
          <a:xfrm>
            <a:off x="5545080" y="3867120"/>
            <a:ext cx="41400" cy="36720"/>
          </a:xfrm>
          <a:custGeom>
            <a:avLst/>
            <a:gdLst>
              <a:gd name="textAreaLeft" fmla="*/ 0 w 41400"/>
              <a:gd name="textAreaRight" fmla="*/ 41760 w 414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6" h="23">
                <a:moveTo>
                  <a:pt x="3" y="0"/>
                </a:moveTo>
                <a:lnTo>
                  <a:pt x="7" y="5"/>
                </a:lnTo>
                <a:lnTo>
                  <a:pt x="13" y="10"/>
                </a:lnTo>
                <a:lnTo>
                  <a:pt x="19" y="14"/>
                </a:lnTo>
                <a:lnTo>
                  <a:pt x="26" y="16"/>
                </a:lnTo>
                <a:lnTo>
                  <a:pt x="25" y="23"/>
                </a:lnTo>
                <a:lnTo>
                  <a:pt x="15" y="22"/>
                </a:lnTo>
                <a:lnTo>
                  <a:pt x="7" y="17"/>
                </a:lnTo>
                <a:lnTo>
                  <a:pt x="0" y="10"/>
                </a:lnTo>
                <a:lnTo>
                  <a:pt x="3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0" descr="图形1"/>
          <p:cNvPicPr/>
          <p:nvPr/>
        </p:nvPicPr>
        <p:blipFill>
          <a:blip r:embed="rId1"/>
          <a:stretch/>
        </p:blipFill>
        <p:spPr>
          <a:xfrm>
            <a:off x="1219320" y="4191120"/>
            <a:ext cx="609480" cy="593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1" descr="图形1"/>
          <p:cNvPicPr/>
          <p:nvPr/>
        </p:nvPicPr>
        <p:blipFill>
          <a:blip r:embed="rId2"/>
          <a:stretch/>
        </p:blipFill>
        <p:spPr>
          <a:xfrm>
            <a:off x="7467480" y="152280"/>
            <a:ext cx="609840" cy="592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2" descr="图形1"/>
          <p:cNvPicPr/>
          <p:nvPr/>
        </p:nvPicPr>
        <p:blipFill>
          <a:blip r:embed="rId3"/>
          <a:stretch/>
        </p:blipFill>
        <p:spPr>
          <a:xfrm>
            <a:off x="5410080" y="457200"/>
            <a:ext cx="609840" cy="592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0" descr="图形1"/>
          <p:cNvPicPr/>
          <p:nvPr/>
        </p:nvPicPr>
        <p:blipFill>
          <a:blip r:embed="rId4"/>
          <a:stretch/>
        </p:blipFill>
        <p:spPr>
          <a:xfrm>
            <a:off x="297180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1" descr="图形1"/>
          <p:cNvPicPr/>
          <p:nvPr/>
        </p:nvPicPr>
        <p:blipFill>
          <a:blip r:embed="rId5"/>
          <a:stretch/>
        </p:blipFill>
        <p:spPr>
          <a:xfrm>
            <a:off x="762120" y="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2" descr="图形1"/>
          <p:cNvPicPr/>
          <p:nvPr/>
        </p:nvPicPr>
        <p:blipFill>
          <a:blip r:embed="rId6"/>
          <a:stretch/>
        </p:blipFill>
        <p:spPr>
          <a:xfrm>
            <a:off x="4114800" y="1143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526" name="Group 43"/>
          <p:cNvGrpSpPr/>
          <p:nvPr/>
        </p:nvGrpSpPr>
        <p:grpSpPr>
          <a:xfrm>
            <a:off x="3352680" y="1219320"/>
            <a:ext cx="3672000" cy="5181480"/>
            <a:chOff x="3352680" y="1219320"/>
            <a:chExt cx="3672000" cy="5181480"/>
          </a:xfrm>
        </p:grpSpPr>
        <p:pic>
          <p:nvPicPr>
            <p:cNvPr id="527" name="Picture 44" descr="图形1"/>
            <p:cNvPicPr/>
            <p:nvPr/>
          </p:nvPicPr>
          <p:blipFill>
            <a:blip r:embed="rId7"/>
            <a:stretch/>
          </p:blipFill>
          <p:spPr>
            <a:xfrm>
              <a:off x="6477120" y="12193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5" descr="图形1"/>
            <p:cNvPicPr/>
            <p:nvPr/>
          </p:nvPicPr>
          <p:blipFill>
            <a:blip r:embed="rId8"/>
            <a:stretch/>
          </p:blipFill>
          <p:spPr>
            <a:xfrm>
              <a:off x="3352680" y="56386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Group 46"/>
          <p:cNvGrpSpPr/>
          <p:nvPr/>
        </p:nvGrpSpPr>
        <p:grpSpPr>
          <a:xfrm>
            <a:off x="380880" y="685800"/>
            <a:ext cx="6186600" cy="4267080"/>
            <a:chOff x="380880" y="685800"/>
            <a:chExt cx="6186600" cy="4267080"/>
          </a:xfrm>
        </p:grpSpPr>
        <p:pic>
          <p:nvPicPr>
            <p:cNvPr id="530" name="Picture 47" descr="图形1"/>
            <p:cNvPicPr/>
            <p:nvPr/>
          </p:nvPicPr>
          <p:blipFill>
            <a:blip r:embed="rId9"/>
            <a:stretch/>
          </p:blipFill>
          <p:spPr>
            <a:xfrm>
              <a:off x="6019560" y="32004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8" descr="图形1"/>
            <p:cNvPicPr/>
            <p:nvPr/>
          </p:nvPicPr>
          <p:blipFill>
            <a:blip r:embed="rId10"/>
            <a:stretch/>
          </p:blipFill>
          <p:spPr>
            <a:xfrm>
              <a:off x="3886200" y="4419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9" descr="图形1"/>
            <p:cNvPicPr/>
            <p:nvPr/>
          </p:nvPicPr>
          <p:blipFill>
            <a:blip r:embed="rId11"/>
            <a:stretch/>
          </p:blipFill>
          <p:spPr>
            <a:xfrm>
              <a:off x="380880" y="68580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3" name="333.wav" descr=""/>
          <p:cNvPicPr/>
          <p:nvPr/>
        </p:nvPicPr>
        <p:blipFill>
          <a:blip r:embed="rId12"/>
          <a:stretch/>
        </p:blipFill>
        <p:spPr>
          <a:xfrm>
            <a:off x="3059280" y="6424560"/>
            <a:ext cx="433080" cy="433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9"/>
          <p:cNvSpPr/>
          <p:nvPr/>
        </p:nvSpPr>
        <p:spPr>
          <a:xfrm>
            <a:off x="1800360" y="1189080"/>
            <a:ext cx="8675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下雪啦，下雪啦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雪地里来了一群小画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鸡画竹叶，小狗画梅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鸭画枫叶，小马画月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用颜料不用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步就成一幅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4304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reeform 2"/>
          <p:cNvSpPr/>
          <p:nvPr/>
        </p:nvSpPr>
        <p:spPr>
          <a:xfrm>
            <a:off x="0" y="0"/>
            <a:ext cx="9144000" cy="2744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744640"/>
              <a:gd name="textAreaBottom" fmla="*/ 2744640 h 2744640"/>
            </a:gdLst>
            <a:ahLst/>
            <a:rect l="textAreaLeft" t="textAreaTop" r="textAreaRight" b="textAreaBottom"/>
            <a:pathLst>
              <a:path w="5760" h="1729">
                <a:moveTo>
                  <a:pt x="5760" y="1729"/>
                </a:moveTo>
                <a:lnTo>
                  <a:pt x="5760" y="1475"/>
                </a:lnTo>
                <a:lnTo>
                  <a:pt x="5760" y="1176"/>
                </a:lnTo>
                <a:lnTo>
                  <a:pt x="5760" y="0"/>
                </a:lnTo>
                <a:lnTo>
                  <a:pt x="0" y="0"/>
                </a:lnTo>
                <a:lnTo>
                  <a:pt x="0" y="1126"/>
                </a:lnTo>
                <a:lnTo>
                  <a:pt x="0" y="1724"/>
                </a:lnTo>
                <a:lnTo>
                  <a:pt x="5760" y="1729"/>
                </a:lnTo>
                <a:close/>
              </a:path>
            </a:pathLst>
          </a:custGeom>
          <a:solidFill>
            <a:srgbClr val="66b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3"/>
          <p:cNvSpPr/>
          <p:nvPr/>
        </p:nvSpPr>
        <p:spPr>
          <a:xfrm>
            <a:off x="0" y="380880"/>
            <a:ext cx="9144000" cy="3988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988080"/>
              <a:gd name="textAreaBottom" fmla="*/ 3988440 h 3988080"/>
            </a:gdLst>
            <a:ahLst/>
            <a:rect l="textAreaLeft" t="textAreaTop" r="textAreaRight" b="textAreaBottom"/>
            <a:pathLst>
              <a:path w="5760" h="2512">
                <a:moveTo>
                  <a:pt x="0" y="982"/>
                </a:moveTo>
                <a:lnTo>
                  <a:pt x="0" y="1121"/>
                </a:lnTo>
                <a:lnTo>
                  <a:pt x="0" y="1934"/>
                </a:lnTo>
                <a:lnTo>
                  <a:pt x="47" y="1884"/>
                </a:lnTo>
                <a:lnTo>
                  <a:pt x="100" y="1819"/>
                </a:lnTo>
                <a:lnTo>
                  <a:pt x="157" y="1749"/>
                </a:lnTo>
                <a:lnTo>
                  <a:pt x="219" y="1679"/>
                </a:lnTo>
                <a:lnTo>
                  <a:pt x="279" y="1620"/>
                </a:lnTo>
                <a:lnTo>
                  <a:pt x="338" y="1580"/>
                </a:lnTo>
                <a:lnTo>
                  <a:pt x="395" y="1565"/>
                </a:lnTo>
                <a:lnTo>
                  <a:pt x="448" y="1580"/>
                </a:lnTo>
                <a:lnTo>
                  <a:pt x="473" y="1595"/>
                </a:lnTo>
                <a:lnTo>
                  <a:pt x="504" y="1615"/>
                </a:lnTo>
                <a:lnTo>
                  <a:pt x="536" y="1630"/>
                </a:lnTo>
                <a:lnTo>
                  <a:pt x="570" y="1645"/>
                </a:lnTo>
                <a:lnTo>
                  <a:pt x="605" y="1660"/>
                </a:lnTo>
                <a:lnTo>
                  <a:pt x="642" y="1670"/>
                </a:lnTo>
                <a:lnTo>
                  <a:pt x="680" y="1684"/>
                </a:lnTo>
                <a:lnTo>
                  <a:pt x="717" y="1694"/>
                </a:lnTo>
                <a:lnTo>
                  <a:pt x="755" y="1704"/>
                </a:lnTo>
                <a:lnTo>
                  <a:pt x="796" y="1714"/>
                </a:lnTo>
                <a:lnTo>
                  <a:pt x="830" y="1719"/>
                </a:lnTo>
                <a:lnTo>
                  <a:pt x="868" y="1729"/>
                </a:lnTo>
                <a:lnTo>
                  <a:pt x="899" y="1734"/>
                </a:lnTo>
                <a:lnTo>
                  <a:pt x="930" y="1734"/>
                </a:lnTo>
                <a:lnTo>
                  <a:pt x="958" y="1739"/>
                </a:lnTo>
                <a:lnTo>
                  <a:pt x="983" y="1739"/>
                </a:lnTo>
                <a:lnTo>
                  <a:pt x="1034" y="1739"/>
                </a:lnTo>
                <a:lnTo>
                  <a:pt x="1087" y="1734"/>
                </a:lnTo>
                <a:lnTo>
                  <a:pt x="1146" y="1724"/>
                </a:lnTo>
                <a:lnTo>
                  <a:pt x="1203" y="1719"/>
                </a:lnTo>
                <a:lnTo>
                  <a:pt x="1253" y="1714"/>
                </a:lnTo>
                <a:lnTo>
                  <a:pt x="1297" y="1714"/>
                </a:lnTo>
                <a:lnTo>
                  <a:pt x="1331" y="1714"/>
                </a:lnTo>
                <a:lnTo>
                  <a:pt x="1353" y="1719"/>
                </a:lnTo>
                <a:lnTo>
                  <a:pt x="1372" y="1729"/>
                </a:lnTo>
                <a:lnTo>
                  <a:pt x="1397" y="1749"/>
                </a:lnTo>
                <a:lnTo>
                  <a:pt x="1431" y="1769"/>
                </a:lnTo>
                <a:lnTo>
                  <a:pt x="1472" y="1789"/>
                </a:lnTo>
                <a:lnTo>
                  <a:pt x="1513" y="1809"/>
                </a:lnTo>
                <a:lnTo>
                  <a:pt x="1557" y="1829"/>
                </a:lnTo>
                <a:lnTo>
                  <a:pt x="1597" y="1849"/>
                </a:lnTo>
                <a:lnTo>
                  <a:pt x="1635" y="1864"/>
                </a:lnTo>
                <a:lnTo>
                  <a:pt x="1676" y="1874"/>
                </a:lnTo>
                <a:lnTo>
                  <a:pt x="1726" y="1884"/>
                </a:lnTo>
                <a:lnTo>
                  <a:pt x="1779" y="1894"/>
                </a:lnTo>
                <a:lnTo>
                  <a:pt x="1835" y="1899"/>
                </a:lnTo>
                <a:lnTo>
                  <a:pt x="1892" y="1909"/>
                </a:lnTo>
                <a:lnTo>
                  <a:pt x="1942" y="1919"/>
                </a:lnTo>
                <a:lnTo>
                  <a:pt x="1986" y="1924"/>
                </a:lnTo>
                <a:lnTo>
                  <a:pt x="2020" y="1934"/>
                </a:lnTo>
                <a:lnTo>
                  <a:pt x="2052" y="1944"/>
                </a:lnTo>
                <a:lnTo>
                  <a:pt x="2089" y="1959"/>
                </a:lnTo>
                <a:lnTo>
                  <a:pt x="2130" y="1978"/>
                </a:lnTo>
                <a:lnTo>
                  <a:pt x="2177" y="1998"/>
                </a:lnTo>
                <a:lnTo>
                  <a:pt x="2221" y="2023"/>
                </a:lnTo>
                <a:lnTo>
                  <a:pt x="2265" y="2048"/>
                </a:lnTo>
                <a:lnTo>
                  <a:pt x="2305" y="2078"/>
                </a:lnTo>
                <a:lnTo>
                  <a:pt x="2340" y="2108"/>
                </a:lnTo>
                <a:lnTo>
                  <a:pt x="2358" y="2128"/>
                </a:lnTo>
                <a:lnTo>
                  <a:pt x="2380" y="2148"/>
                </a:lnTo>
                <a:lnTo>
                  <a:pt x="2405" y="2173"/>
                </a:lnTo>
                <a:lnTo>
                  <a:pt x="2437" y="2203"/>
                </a:lnTo>
                <a:lnTo>
                  <a:pt x="2468" y="2233"/>
                </a:lnTo>
                <a:lnTo>
                  <a:pt x="2499" y="2262"/>
                </a:lnTo>
                <a:lnTo>
                  <a:pt x="2537" y="2297"/>
                </a:lnTo>
                <a:lnTo>
                  <a:pt x="2575" y="2327"/>
                </a:lnTo>
                <a:lnTo>
                  <a:pt x="2609" y="2357"/>
                </a:lnTo>
                <a:lnTo>
                  <a:pt x="2647" y="2387"/>
                </a:lnTo>
                <a:lnTo>
                  <a:pt x="2684" y="2412"/>
                </a:lnTo>
                <a:lnTo>
                  <a:pt x="2722" y="2432"/>
                </a:lnTo>
                <a:lnTo>
                  <a:pt x="2753" y="2447"/>
                </a:lnTo>
                <a:lnTo>
                  <a:pt x="2788" y="2462"/>
                </a:lnTo>
                <a:lnTo>
                  <a:pt x="2816" y="2467"/>
                </a:lnTo>
                <a:lnTo>
                  <a:pt x="2844" y="2462"/>
                </a:lnTo>
                <a:lnTo>
                  <a:pt x="2897" y="2447"/>
                </a:lnTo>
                <a:lnTo>
                  <a:pt x="2947" y="2427"/>
                </a:lnTo>
                <a:lnTo>
                  <a:pt x="2997" y="2407"/>
                </a:lnTo>
                <a:lnTo>
                  <a:pt x="3048" y="2392"/>
                </a:lnTo>
                <a:lnTo>
                  <a:pt x="3091" y="2377"/>
                </a:lnTo>
                <a:lnTo>
                  <a:pt x="3135" y="2367"/>
                </a:lnTo>
                <a:lnTo>
                  <a:pt x="3173" y="2372"/>
                </a:lnTo>
                <a:lnTo>
                  <a:pt x="3204" y="2387"/>
                </a:lnTo>
                <a:lnTo>
                  <a:pt x="3232" y="2412"/>
                </a:lnTo>
                <a:lnTo>
                  <a:pt x="3257" y="2432"/>
                </a:lnTo>
                <a:lnTo>
                  <a:pt x="3279" y="2447"/>
                </a:lnTo>
                <a:lnTo>
                  <a:pt x="3301" y="2462"/>
                </a:lnTo>
                <a:lnTo>
                  <a:pt x="3320" y="2472"/>
                </a:lnTo>
                <a:lnTo>
                  <a:pt x="3336" y="2487"/>
                </a:lnTo>
                <a:lnTo>
                  <a:pt x="3351" y="2492"/>
                </a:lnTo>
                <a:lnTo>
                  <a:pt x="3367" y="2502"/>
                </a:lnTo>
                <a:lnTo>
                  <a:pt x="3386" y="2507"/>
                </a:lnTo>
                <a:lnTo>
                  <a:pt x="3408" y="2512"/>
                </a:lnTo>
                <a:lnTo>
                  <a:pt x="3433" y="2507"/>
                </a:lnTo>
                <a:lnTo>
                  <a:pt x="3461" y="2502"/>
                </a:lnTo>
                <a:lnTo>
                  <a:pt x="3492" y="2492"/>
                </a:lnTo>
                <a:lnTo>
                  <a:pt x="3524" y="2482"/>
                </a:lnTo>
                <a:lnTo>
                  <a:pt x="3558" y="2467"/>
                </a:lnTo>
                <a:lnTo>
                  <a:pt x="3596" y="2447"/>
                </a:lnTo>
                <a:lnTo>
                  <a:pt x="3621" y="2432"/>
                </a:lnTo>
                <a:lnTo>
                  <a:pt x="3652" y="2412"/>
                </a:lnTo>
                <a:lnTo>
                  <a:pt x="3693" y="2392"/>
                </a:lnTo>
                <a:lnTo>
                  <a:pt x="3737" y="2367"/>
                </a:lnTo>
                <a:lnTo>
                  <a:pt x="3790" y="2337"/>
                </a:lnTo>
                <a:lnTo>
                  <a:pt x="3843" y="2307"/>
                </a:lnTo>
                <a:lnTo>
                  <a:pt x="3903" y="2277"/>
                </a:lnTo>
                <a:lnTo>
                  <a:pt x="3962" y="2248"/>
                </a:lnTo>
                <a:lnTo>
                  <a:pt x="4025" y="2223"/>
                </a:lnTo>
                <a:lnTo>
                  <a:pt x="4084" y="2193"/>
                </a:lnTo>
                <a:lnTo>
                  <a:pt x="4141" y="2173"/>
                </a:lnTo>
                <a:lnTo>
                  <a:pt x="4197" y="2153"/>
                </a:lnTo>
                <a:lnTo>
                  <a:pt x="4247" y="2133"/>
                </a:lnTo>
                <a:lnTo>
                  <a:pt x="4294" y="2123"/>
                </a:lnTo>
                <a:lnTo>
                  <a:pt x="4332" y="2118"/>
                </a:lnTo>
                <a:lnTo>
                  <a:pt x="4363" y="2123"/>
                </a:lnTo>
                <a:lnTo>
                  <a:pt x="4382" y="2128"/>
                </a:lnTo>
                <a:lnTo>
                  <a:pt x="4404" y="2133"/>
                </a:lnTo>
                <a:lnTo>
                  <a:pt x="4423" y="2143"/>
                </a:lnTo>
                <a:lnTo>
                  <a:pt x="4441" y="2148"/>
                </a:lnTo>
                <a:lnTo>
                  <a:pt x="4463" y="2158"/>
                </a:lnTo>
                <a:lnTo>
                  <a:pt x="4482" y="2163"/>
                </a:lnTo>
                <a:lnTo>
                  <a:pt x="4501" y="2173"/>
                </a:lnTo>
                <a:lnTo>
                  <a:pt x="4520" y="2183"/>
                </a:lnTo>
                <a:lnTo>
                  <a:pt x="4548" y="2198"/>
                </a:lnTo>
                <a:lnTo>
                  <a:pt x="4576" y="2213"/>
                </a:lnTo>
                <a:lnTo>
                  <a:pt x="4601" y="2228"/>
                </a:lnTo>
                <a:lnTo>
                  <a:pt x="4626" y="2248"/>
                </a:lnTo>
                <a:lnTo>
                  <a:pt x="4648" y="2262"/>
                </a:lnTo>
                <a:lnTo>
                  <a:pt x="4667" y="2277"/>
                </a:lnTo>
                <a:lnTo>
                  <a:pt x="4683" y="2297"/>
                </a:lnTo>
                <a:lnTo>
                  <a:pt x="4698" y="2312"/>
                </a:lnTo>
                <a:lnTo>
                  <a:pt x="4723" y="2337"/>
                </a:lnTo>
                <a:lnTo>
                  <a:pt x="4751" y="2357"/>
                </a:lnTo>
                <a:lnTo>
                  <a:pt x="4780" y="2367"/>
                </a:lnTo>
                <a:lnTo>
                  <a:pt x="4811" y="2377"/>
                </a:lnTo>
                <a:lnTo>
                  <a:pt x="4845" y="2372"/>
                </a:lnTo>
                <a:lnTo>
                  <a:pt x="4877" y="2362"/>
                </a:lnTo>
                <a:lnTo>
                  <a:pt x="4908" y="2342"/>
                </a:lnTo>
                <a:lnTo>
                  <a:pt x="4939" y="2312"/>
                </a:lnTo>
                <a:lnTo>
                  <a:pt x="4971" y="2272"/>
                </a:lnTo>
                <a:lnTo>
                  <a:pt x="5002" y="2233"/>
                </a:lnTo>
                <a:lnTo>
                  <a:pt x="5036" y="2188"/>
                </a:lnTo>
                <a:lnTo>
                  <a:pt x="5071" y="2143"/>
                </a:lnTo>
                <a:lnTo>
                  <a:pt x="5105" y="2108"/>
                </a:lnTo>
                <a:lnTo>
                  <a:pt x="5140" y="2078"/>
                </a:lnTo>
                <a:lnTo>
                  <a:pt x="5174" y="2063"/>
                </a:lnTo>
                <a:lnTo>
                  <a:pt x="5202" y="2058"/>
                </a:lnTo>
                <a:lnTo>
                  <a:pt x="5237" y="2063"/>
                </a:lnTo>
                <a:lnTo>
                  <a:pt x="5281" y="2078"/>
                </a:lnTo>
                <a:lnTo>
                  <a:pt x="5334" y="2093"/>
                </a:lnTo>
                <a:lnTo>
                  <a:pt x="5387" y="2108"/>
                </a:lnTo>
                <a:lnTo>
                  <a:pt x="5441" y="2118"/>
                </a:lnTo>
                <a:lnTo>
                  <a:pt x="5491" y="2123"/>
                </a:lnTo>
                <a:lnTo>
                  <a:pt x="5531" y="2113"/>
                </a:lnTo>
                <a:lnTo>
                  <a:pt x="5560" y="2098"/>
                </a:lnTo>
                <a:lnTo>
                  <a:pt x="5585" y="2073"/>
                </a:lnTo>
                <a:lnTo>
                  <a:pt x="5610" y="2048"/>
                </a:lnTo>
                <a:lnTo>
                  <a:pt x="5635" y="2023"/>
                </a:lnTo>
                <a:lnTo>
                  <a:pt x="5663" y="1993"/>
                </a:lnTo>
                <a:lnTo>
                  <a:pt x="5691" y="1973"/>
                </a:lnTo>
                <a:lnTo>
                  <a:pt x="5716" y="1954"/>
                </a:lnTo>
                <a:lnTo>
                  <a:pt x="5738" y="1939"/>
                </a:lnTo>
                <a:lnTo>
                  <a:pt x="5760" y="1934"/>
                </a:lnTo>
                <a:lnTo>
                  <a:pt x="5760" y="1281"/>
                </a:lnTo>
                <a:lnTo>
                  <a:pt x="5760" y="982"/>
                </a:lnTo>
                <a:lnTo>
                  <a:pt x="5738" y="1012"/>
                </a:lnTo>
                <a:lnTo>
                  <a:pt x="5713" y="1042"/>
                </a:lnTo>
                <a:lnTo>
                  <a:pt x="5685" y="1077"/>
                </a:lnTo>
                <a:lnTo>
                  <a:pt x="5660" y="1106"/>
                </a:lnTo>
                <a:lnTo>
                  <a:pt x="5635" y="1136"/>
                </a:lnTo>
                <a:lnTo>
                  <a:pt x="5616" y="1156"/>
                </a:lnTo>
                <a:lnTo>
                  <a:pt x="5597" y="1171"/>
                </a:lnTo>
                <a:lnTo>
                  <a:pt x="5588" y="1176"/>
                </a:lnTo>
                <a:lnTo>
                  <a:pt x="5575" y="1171"/>
                </a:lnTo>
                <a:lnTo>
                  <a:pt x="5553" y="1161"/>
                </a:lnTo>
                <a:lnTo>
                  <a:pt x="5525" y="1146"/>
                </a:lnTo>
                <a:lnTo>
                  <a:pt x="5497" y="1126"/>
                </a:lnTo>
                <a:lnTo>
                  <a:pt x="5472" y="1111"/>
                </a:lnTo>
                <a:lnTo>
                  <a:pt x="5447" y="1097"/>
                </a:lnTo>
                <a:lnTo>
                  <a:pt x="5428" y="1092"/>
                </a:lnTo>
                <a:lnTo>
                  <a:pt x="5415" y="1087"/>
                </a:lnTo>
                <a:lnTo>
                  <a:pt x="5384" y="1126"/>
                </a:lnTo>
                <a:lnTo>
                  <a:pt x="5347" y="1171"/>
                </a:lnTo>
                <a:lnTo>
                  <a:pt x="5309" y="1226"/>
                </a:lnTo>
                <a:lnTo>
                  <a:pt x="5268" y="1281"/>
                </a:lnTo>
                <a:lnTo>
                  <a:pt x="5228" y="1331"/>
                </a:lnTo>
                <a:lnTo>
                  <a:pt x="5193" y="1371"/>
                </a:lnTo>
                <a:lnTo>
                  <a:pt x="5162" y="1400"/>
                </a:lnTo>
                <a:lnTo>
                  <a:pt x="5140" y="1410"/>
                </a:lnTo>
                <a:lnTo>
                  <a:pt x="5121" y="1390"/>
                </a:lnTo>
                <a:lnTo>
                  <a:pt x="5102" y="1351"/>
                </a:lnTo>
                <a:lnTo>
                  <a:pt x="5087" y="1301"/>
                </a:lnTo>
                <a:lnTo>
                  <a:pt x="5074" y="1241"/>
                </a:lnTo>
                <a:lnTo>
                  <a:pt x="5065" y="1186"/>
                </a:lnTo>
                <a:lnTo>
                  <a:pt x="5055" y="1131"/>
                </a:lnTo>
                <a:lnTo>
                  <a:pt x="5046" y="1097"/>
                </a:lnTo>
                <a:lnTo>
                  <a:pt x="5040" y="1077"/>
                </a:lnTo>
                <a:lnTo>
                  <a:pt x="5033" y="1072"/>
                </a:lnTo>
                <a:lnTo>
                  <a:pt x="5024" y="1062"/>
                </a:lnTo>
                <a:lnTo>
                  <a:pt x="5011" y="1057"/>
                </a:lnTo>
                <a:lnTo>
                  <a:pt x="5002" y="1052"/>
                </a:lnTo>
                <a:lnTo>
                  <a:pt x="4986" y="1047"/>
                </a:lnTo>
                <a:lnTo>
                  <a:pt x="4974" y="1047"/>
                </a:lnTo>
                <a:lnTo>
                  <a:pt x="4961" y="1047"/>
                </a:lnTo>
                <a:lnTo>
                  <a:pt x="4946" y="1052"/>
                </a:lnTo>
                <a:lnTo>
                  <a:pt x="4936" y="972"/>
                </a:lnTo>
                <a:lnTo>
                  <a:pt x="4924" y="902"/>
                </a:lnTo>
                <a:lnTo>
                  <a:pt x="4911" y="847"/>
                </a:lnTo>
                <a:lnTo>
                  <a:pt x="4889" y="817"/>
                </a:lnTo>
                <a:lnTo>
                  <a:pt x="4874" y="813"/>
                </a:lnTo>
                <a:lnTo>
                  <a:pt x="4855" y="808"/>
                </a:lnTo>
                <a:lnTo>
                  <a:pt x="4836" y="798"/>
                </a:lnTo>
                <a:lnTo>
                  <a:pt x="4817" y="793"/>
                </a:lnTo>
                <a:lnTo>
                  <a:pt x="4798" y="788"/>
                </a:lnTo>
                <a:lnTo>
                  <a:pt x="4780" y="778"/>
                </a:lnTo>
                <a:lnTo>
                  <a:pt x="4767" y="768"/>
                </a:lnTo>
                <a:lnTo>
                  <a:pt x="4758" y="758"/>
                </a:lnTo>
                <a:lnTo>
                  <a:pt x="4748" y="743"/>
                </a:lnTo>
                <a:lnTo>
                  <a:pt x="4730" y="713"/>
                </a:lnTo>
                <a:lnTo>
                  <a:pt x="4708" y="678"/>
                </a:lnTo>
                <a:lnTo>
                  <a:pt x="4683" y="643"/>
                </a:lnTo>
                <a:lnTo>
                  <a:pt x="4657" y="608"/>
                </a:lnTo>
                <a:lnTo>
                  <a:pt x="4632" y="583"/>
                </a:lnTo>
                <a:lnTo>
                  <a:pt x="4607" y="563"/>
                </a:lnTo>
                <a:lnTo>
                  <a:pt x="4589" y="553"/>
                </a:lnTo>
                <a:lnTo>
                  <a:pt x="4573" y="563"/>
                </a:lnTo>
                <a:lnTo>
                  <a:pt x="4557" y="573"/>
                </a:lnTo>
                <a:lnTo>
                  <a:pt x="4535" y="588"/>
                </a:lnTo>
                <a:lnTo>
                  <a:pt x="4513" y="608"/>
                </a:lnTo>
                <a:lnTo>
                  <a:pt x="4476" y="638"/>
                </a:lnTo>
                <a:lnTo>
                  <a:pt x="4435" y="673"/>
                </a:lnTo>
                <a:lnTo>
                  <a:pt x="4388" y="708"/>
                </a:lnTo>
                <a:lnTo>
                  <a:pt x="4341" y="748"/>
                </a:lnTo>
                <a:lnTo>
                  <a:pt x="4291" y="788"/>
                </a:lnTo>
                <a:lnTo>
                  <a:pt x="4241" y="822"/>
                </a:lnTo>
                <a:lnTo>
                  <a:pt x="4191" y="862"/>
                </a:lnTo>
                <a:lnTo>
                  <a:pt x="4138" y="902"/>
                </a:lnTo>
                <a:lnTo>
                  <a:pt x="4087" y="942"/>
                </a:lnTo>
                <a:lnTo>
                  <a:pt x="4037" y="977"/>
                </a:lnTo>
                <a:lnTo>
                  <a:pt x="3990" y="1007"/>
                </a:lnTo>
                <a:lnTo>
                  <a:pt x="3946" y="1037"/>
                </a:lnTo>
                <a:lnTo>
                  <a:pt x="3903" y="1062"/>
                </a:lnTo>
                <a:lnTo>
                  <a:pt x="3865" y="1087"/>
                </a:lnTo>
                <a:lnTo>
                  <a:pt x="3834" y="1102"/>
                </a:lnTo>
                <a:lnTo>
                  <a:pt x="3806" y="1111"/>
                </a:lnTo>
                <a:lnTo>
                  <a:pt x="3787" y="1106"/>
                </a:lnTo>
                <a:lnTo>
                  <a:pt x="3765" y="1102"/>
                </a:lnTo>
                <a:lnTo>
                  <a:pt x="3740" y="1092"/>
                </a:lnTo>
                <a:lnTo>
                  <a:pt x="3718" y="1082"/>
                </a:lnTo>
                <a:lnTo>
                  <a:pt x="3696" y="1072"/>
                </a:lnTo>
                <a:lnTo>
                  <a:pt x="3677" y="1062"/>
                </a:lnTo>
                <a:lnTo>
                  <a:pt x="3665" y="1047"/>
                </a:lnTo>
                <a:lnTo>
                  <a:pt x="3661" y="1032"/>
                </a:lnTo>
                <a:lnTo>
                  <a:pt x="3661" y="1012"/>
                </a:lnTo>
                <a:lnTo>
                  <a:pt x="3661" y="987"/>
                </a:lnTo>
                <a:lnTo>
                  <a:pt x="3655" y="957"/>
                </a:lnTo>
                <a:lnTo>
                  <a:pt x="3646" y="932"/>
                </a:lnTo>
                <a:lnTo>
                  <a:pt x="3630" y="907"/>
                </a:lnTo>
                <a:lnTo>
                  <a:pt x="3605" y="887"/>
                </a:lnTo>
                <a:lnTo>
                  <a:pt x="3568" y="882"/>
                </a:lnTo>
                <a:lnTo>
                  <a:pt x="3521" y="892"/>
                </a:lnTo>
                <a:lnTo>
                  <a:pt x="3508" y="882"/>
                </a:lnTo>
                <a:lnTo>
                  <a:pt x="3495" y="872"/>
                </a:lnTo>
                <a:lnTo>
                  <a:pt x="3480" y="862"/>
                </a:lnTo>
                <a:lnTo>
                  <a:pt x="3467" y="847"/>
                </a:lnTo>
                <a:lnTo>
                  <a:pt x="3445" y="827"/>
                </a:lnTo>
                <a:lnTo>
                  <a:pt x="3427" y="813"/>
                </a:lnTo>
                <a:lnTo>
                  <a:pt x="3411" y="798"/>
                </a:lnTo>
                <a:lnTo>
                  <a:pt x="3398" y="793"/>
                </a:lnTo>
                <a:lnTo>
                  <a:pt x="3383" y="788"/>
                </a:lnTo>
                <a:lnTo>
                  <a:pt x="3358" y="783"/>
                </a:lnTo>
                <a:lnTo>
                  <a:pt x="3339" y="773"/>
                </a:lnTo>
                <a:lnTo>
                  <a:pt x="3326" y="758"/>
                </a:lnTo>
                <a:lnTo>
                  <a:pt x="3304" y="783"/>
                </a:lnTo>
                <a:lnTo>
                  <a:pt x="3282" y="813"/>
                </a:lnTo>
                <a:lnTo>
                  <a:pt x="3257" y="837"/>
                </a:lnTo>
                <a:lnTo>
                  <a:pt x="3235" y="857"/>
                </a:lnTo>
                <a:lnTo>
                  <a:pt x="3220" y="872"/>
                </a:lnTo>
                <a:lnTo>
                  <a:pt x="3204" y="887"/>
                </a:lnTo>
                <a:lnTo>
                  <a:pt x="3192" y="897"/>
                </a:lnTo>
                <a:lnTo>
                  <a:pt x="3179" y="902"/>
                </a:lnTo>
                <a:lnTo>
                  <a:pt x="3167" y="907"/>
                </a:lnTo>
                <a:lnTo>
                  <a:pt x="3148" y="922"/>
                </a:lnTo>
                <a:lnTo>
                  <a:pt x="3126" y="937"/>
                </a:lnTo>
                <a:lnTo>
                  <a:pt x="3104" y="952"/>
                </a:lnTo>
                <a:lnTo>
                  <a:pt x="3079" y="967"/>
                </a:lnTo>
                <a:lnTo>
                  <a:pt x="3057" y="987"/>
                </a:lnTo>
                <a:lnTo>
                  <a:pt x="3038" y="1002"/>
                </a:lnTo>
                <a:lnTo>
                  <a:pt x="3026" y="1012"/>
                </a:lnTo>
                <a:lnTo>
                  <a:pt x="3013" y="1017"/>
                </a:lnTo>
                <a:lnTo>
                  <a:pt x="2994" y="1022"/>
                </a:lnTo>
                <a:lnTo>
                  <a:pt x="2976" y="1017"/>
                </a:lnTo>
                <a:lnTo>
                  <a:pt x="2954" y="1012"/>
                </a:lnTo>
                <a:lnTo>
                  <a:pt x="2932" y="1002"/>
                </a:lnTo>
                <a:lnTo>
                  <a:pt x="2910" y="992"/>
                </a:lnTo>
                <a:lnTo>
                  <a:pt x="2894" y="977"/>
                </a:lnTo>
                <a:lnTo>
                  <a:pt x="2885" y="967"/>
                </a:lnTo>
                <a:lnTo>
                  <a:pt x="2850" y="977"/>
                </a:lnTo>
                <a:lnTo>
                  <a:pt x="2813" y="1002"/>
                </a:lnTo>
                <a:lnTo>
                  <a:pt x="2772" y="1027"/>
                </a:lnTo>
                <a:lnTo>
                  <a:pt x="2728" y="1057"/>
                </a:lnTo>
                <a:lnTo>
                  <a:pt x="2687" y="1087"/>
                </a:lnTo>
                <a:lnTo>
                  <a:pt x="2653" y="1116"/>
                </a:lnTo>
                <a:lnTo>
                  <a:pt x="2622" y="1141"/>
                </a:lnTo>
                <a:lnTo>
                  <a:pt x="2603" y="1156"/>
                </a:lnTo>
                <a:lnTo>
                  <a:pt x="2584" y="1171"/>
                </a:lnTo>
                <a:lnTo>
                  <a:pt x="2562" y="1191"/>
                </a:lnTo>
                <a:lnTo>
                  <a:pt x="2540" y="1206"/>
                </a:lnTo>
                <a:lnTo>
                  <a:pt x="2512" y="1221"/>
                </a:lnTo>
                <a:lnTo>
                  <a:pt x="2484" y="1241"/>
                </a:lnTo>
                <a:lnTo>
                  <a:pt x="2456" y="1256"/>
                </a:lnTo>
                <a:lnTo>
                  <a:pt x="2427" y="1266"/>
                </a:lnTo>
                <a:lnTo>
                  <a:pt x="2402" y="1276"/>
                </a:lnTo>
                <a:lnTo>
                  <a:pt x="2377" y="1286"/>
                </a:lnTo>
                <a:lnTo>
                  <a:pt x="2355" y="1301"/>
                </a:lnTo>
                <a:lnTo>
                  <a:pt x="2333" y="1316"/>
                </a:lnTo>
                <a:lnTo>
                  <a:pt x="2312" y="1336"/>
                </a:lnTo>
                <a:lnTo>
                  <a:pt x="2293" y="1351"/>
                </a:lnTo>
                <a:lnTo>
                  <a:pt x="2277" y="1366"/>
                </a:lnTo>
                <a:lnTo>
                  <a:pt x="2261" y="1381"/>
                </a:lnTo>
                <a:lnTo>
                  <a:pt x="2252" y="1386"/>
                </a:lnTo>
                <a:lnTo>
                  <a:pt x="2211" y="1326"/>
                </a:lnTo>
                <a:lnTo>
                  <a:pt x="2164" y="1256"/>
                </a:lnTo>
                <a:lnTo>
                  <a:pt x="2117" y="1176"/>
                </a:lnTo>
                <a:lnTo>
                  <a:pt x="2067" y="1092"/>
                </a:lnTo>
                <a:lnTo>
                  <a:pt x="2017" y="1012"/>
                </a:lnTo>
                <a:lnTo>
                  <a:pt x="1973" y="937"/>
                </a:lnTo>
                <a:lnTo>
                  <a:pt x="1939" y="867"/>
                </a:lnTo>
                <a:lnTo>
                  <a:pt x="1911" y="817"/>
                </a:lnTo>
                <a:lnTo>
                  <a:pt x="1889" y="768"/>
                </a:lnTo>
                <a:lnTo>
                  <a:pt x="1857" y="713"/>
                </a:lnTo>
                <a:lnTo>
                  <a:pt x="1826" y="648"/>
                </a:lnTo>
                <a:lnTo>
                  <a:pt x="1792" y="583"/>
                </a:lnTo>
                <a:lnTo>
                  <a:pt x="1754" y="519"/>
                </a:lnTo>
                <a:lnTo>
                  <a:pt x="1720" y="464"/>
                </a:lnTo>
                <a:lnTo>
                  <a:pt x="1688" y="414"/>
                </a:lnTo>
                <a:lnTo>
                  <a:pt x="1663" y="384"/>
                </a:lnTo>
                <a:lnTo>
                  <a:pt x="1641" y="359"/>
                </a:lnTo>
                <a:lnTo>
                  <a:pt x="1622" y="344"/>
                </a:lnTo>
                <a:lnTo>
                  <a:pt x="1604" y="324"/>
                </a:lnTo>
                <a:lnTo>
                  <a:pt x="1588" y="309"/>
                </a:lnTo>
                <a:lnTo>
                  <a:pt x="1575" y="294"/>
                </a:lnTo>
                <a:lnTo>
                  <a:pt x="1563" y="279"/>
                </a:lnTo>
                <a:lnTo>
                  <a:pt x="1550" y="264"/>
                </a:lnTo>
                <a:lnTo>
                  <a:pt x="1541" y="249"/>
                </a:lnTo>
                <a:lnTo>
                  <a:pt x="1528" y="230"/>
                </a:lnTo>
                <a:lnTo>
                  <a:pt x="1513" y="195"/>
                </a:lnTo>
                <a:lnTo>
                  <a:pt x="1491" y="160"/>
                </a:lnTo>
                <a:lnTo>
                  <a:pt x="1469" y="120"/>
                </a:lnTo>
                <a:lnTo>
                  <a:pt x="1444" y="80"/>
                </a:lnTo>
                <a:lnTo>
                  <a:pt x="1422" y="45"/>
                </a:lnTo>
                <a:lnTo>
                  <a:pt x="1406" y="20"/>
                </a:lnTo>
                <a:lnTo>
                  <a:pt x="1394" y="5"/>
                </a:lnTo>
                <a:lnTo>
                  <a:pt x="1378" y="10"/>
                </a:lnTo>
                <a:lnTo>
                  <a:pt x="1362" y="20"/>
                </a:lnTo>
                <a:lnTo>
                  <a:pt x="1347" y="40"/>
                </a:lnTo>
                <a:lnTo>
                  <a:pt x="1331" y="60"/>
                </a:lnTo>
                <a:lnTo>
                  <a:pt x="1315" y="80"/>
                </a:lnTo>
                <a:lnTo>
                  <a:pt x="1297" y="100"/>
                </a:lnTo>
                <a:lnTo>
                  <a:pt x="1278" y="120"/>
                </a:lnTo>
                <a:lnTo>
                  <a:pt x="1259" y="135"/>
                </a:lnTo>
                <a:lnTo>
                  <a:pt x="1247" y="135"/>
                </a:lnTo>
                <a:lnTo>
                  <a:pt x="1234" y="135"/>
                </a:lnTo>
                <a:lnTo>
                  <a:pt x="1222" y="125"/>
                </a:lnTo>
                <a:lnTo>
                  <a:pt x="1209" y="115"/>
                </a:lnTo>
                <a:lnTo>
                  <a:pt x="1196" y="95"/>
                </a:lnTo>
                <a:lnTo>
                  <a:pt x="1184" y="70"/>
                </a:lnTo>
                <a:lnTo>
                  <a:pt x="1171" y="40"/>
                </a:lnTo>
                <a:lnTo>
                  <a:pt x="1162" y="0"/>
                </a:lnTo>
                <a:lnTo>
                  <a:pt x="1153" y="0"/>
                </a:lnTo>
                <a:lnTo>
                  <a:pt x="1146" y="5"/>
                </a:lnTo>
                <a:lnTo>
                  <a:pt x="1134" y="15"/>
                </a:lnTo>
                <a:lnTo>
                  <a:pt x="1121" y="25"/>
                </a:lnTo>
                <a:lnTo>
                  <a:pt x="1106" y="45"/>
                </a:lnTo>
                <a:lnTo>
                  <a:pt x="1084" y="65"/>
                </a:lnTo>
                <a:lnTo>
                  <a:pt x="1056" y="90"/>
                </a:lnTo>
                <a:lnTo>
                  <a:pt x="1021" y="125"/>
                </a:lnTo>
                <a:lnTo>
                  <a:pt x="974" y="165"/>
                </a:lnTo>
                <a:lnTo>
                  <a:pt x="918" y="205"/>
                </a:lnTo>
                <a:lnTo>
                  <a:pt x="852" y="244"/>
                </a:lnTo>
                <a:lnTo>
                  <a:pt x="789" y="284"/>
                </a:lnTo>
                <a:lnTo>
                  <a:pt x="730" y="319"/>
                </a:lnTo>
                <a:lnTo>
                  <a:pt x="680" y="344"/>
                </a:lnTo>
                <a:lnTo>
                  <a:pt x="642" y="364"/>
                </a:lnTo>
                <a:lnTo>
                  <a:pt x="623" y="369"/>
                </a:lnTo>
                <a:lnTo>
                  <a:pt x="614" y="364"/>
                </a:lnTo>
                <a:lnTo>
                  <a:pt x="598" y="354"/>
                </a:lnTo>
                <a:lnTo>
                  <a:pt x="579" y="339"/>
                </a:lnTo>
                <a:lnTo>
                  <a:pt x="558" y="319"/>
                </a:lnTo>
                <a:lnTo>
                  <a:pt x="539" y="304"/>
                </a:lnTo>
                <a:lnTo>
                  <a:pt x="517" y="289"/>
                </a:lnTo>
                <a:lnTo>
                  <a:pt x="501" y="279"/>
                </a:lnTo>
                <a:lnTo>
                  <a:pt x="489" y="274"/>
                </a:lnTo>
                <a:lnTo>
                  <a:pt x="454" y="299"/>
                </a:lnTo>
                <a:lnTo>
                  <a:pt x="407" y="354"/>
                </a:lnTo>
                <a:lnTo>
                  <a:pt x="345" y="439"/>
                </a:lnTo>
                <a:lnTo>
                  <a:pt x="276" y="543"/>
                </a:lnTo>
                <a:lnTo>
                  <a:pt x="204" y="658"/>
                </a:lnTo>
                <a:lnTo>
                  <a:pt x="128" y="773"/>
                </a:lnTo>
                <a:lnTo>
                  <a:pt x="60" y="882"/>
                </a:lnTo>
                <a:lnTo>
                  <a:pt x="0" y="982"/>
                </a:lnTo>
                <a:close/>
              </a:path>
            </a:pathLst>
          </a:custGeom>
          <a:solidFill>
            <a:srgbClr val="d8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4"/>
          <p:cNvSpPr/>
          <p:nvPr/>
        </p:nvSpPr>
        <p:spPr>
          <a:xfrm>
            <a:off x="8712360" y="1866960"/>
            <a:ext cx="431640" cy="9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72" h="613">
                <a:moveTo>
                  <a:pt x="212" y="399"/>
                </a:moveTo>
                <a:lnTo>
                  <a:pt x="187" y="408"/>
                </a:lnTo>
                <a:lnTo>
                  <a:pt x="162" y="423"/>
                </a:lnTo>
                <a:lnTo>
                  <a:pt x="137" y="448"/>
                </a:lnTo>
                <a:lnTo>
                  <a:pt x="112" y="473"/>
                </a:lnTo>
                <a:lnTo>
                  <a:pt x="90" y="503"/>
                </a:lnTo>
                <a:lnTo>
                  <a:pt x="72" y="538"/>
                </a:lnTo>
                <a:lnTo>
                  <a:pt x="56" y="578"/>
                </a:lnTo>
                <a:lnTo>
                  <a:pt x="46" y="613"/>
                </a:lnTo>
                <a:lnTo>
                  <a:pt x="0" y="573"/>
                </a:lnTo>
                <a:lnTo>
                  <a:pt x="0" y="563"/>
                </a:lnTo>
                <a:lnTo>
                  <a:pt x="3" y="543"/>
                </a:lnTo>
                <a:lnTo>
                  <a:pt x="9" y="513"/>
                </a:lnTo>
                <a:lnTo>
                  <a:pt x="15" y="483"/>
                </a:lnTo>
                <a:lnTo>
                  <a:pt x="21" y="448"/>
                </a:lnTo>
                <a:lnTo>
                  <a:pt x="21" y="408"/>
                </a:lnTo>
                <a:lnTo>
                  <a:pt x="15" y="364"/>
                </a:lnTo>
                <a:lnTo>
                  <a:pt x="0" y="319"/>
                </a:lnTo>
                <a:lnTo>
                  <a:pt x="56" y="239"/>
                </a:lnTo>
                <a:lnTo>
                  <a:pt x="9" y="144"/>
                </a:lnTo>
                <a:lnTo>
                  <a:pt x="37" y="164"/>
                </a:lnTo>
                <a:lnTo>
                  <a:pt x="65" y="179"/>
                </a:lnTo>
                <a:lnTo>
                  <a:pt x="87" y="189"/>
                </a:lnTo>
                <a:lnTo>
                  <a:pt x="100" y="194"/>
                </a:lnTo>
                <a:lnTo>
                  <a:pt x="109" y="189"/>
                </a:lnTo>
                <a:lnTo>
                  <a:pt x="128" y="174"/>
                </a:lnTo>
                <a:lnTo>
                  <a:pt x="147" y="154"/>
                </a:lnTo>
                <a:lnTo>
                  <a:pt x="172" y="124"/>
                </a:lnTo>
                <a:lnTo>
                  <a:pt x="197" y="95"/>
                </a:lnTo>
                <a:lnTo>
                  <a:pt x="225" y="60"/>
                </a:lnTo>
                <a:lnTo>
                  <a:pt x="250" y="30"/>
                </a:lnTo>
                <a:lnTo>
                  <a:pt x="272" y="0"/>
                </a:lnTo>
                <a:lnTo>
                  <a:pt x="272" y="299"/>
                </a:lnTo>
                <a:lnTo>
                  <a:pt x="250" y="314"/>
                </a:lnTo>
                <a:lnTo>
                  <a:pt x="231" y="339"/>
                </a:lnTo>
                <a:lnTo>
                  <a:pt x="216" y="364"/>
                </a:lnTo>
                <a:lnTo>
                  <a:pt x="212" y="3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5"/>
          <p:cNvSpPr/>
          <p:nvPr/>
        </p:nvSpPr>
        <p:spPr>
          <a:xfrm>
            <a:off x="7353360" y="1225440"/>
            <a:ext cx="155520" cy="293760"/>
          </a:xfrm>
          <a:custGeom>
            <a:avLst/>
            <a:gdLst>
              <a:gd name="textAreaLeft" fmla="*/ 0 w 155520"/>
              <a:gd name="textAreaRight" fmla="*/ 155880 w 1555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8" h="185">
                <a:moveTo>
                  <a:pt x="98" y="130"/>
                </a:moveTo>
                <a:lnTo>
                  <a:pt x="85" y="115"/>
                </a:lnTo>
                <a:lnTo>
                  <a:pt x="76" y="100"/>
                </a:lnTo>
                <a:lnTo>
                  <a:pt x="63" y="80"/>
                </a:lnTo>
                <a:lnTo>
                  <a:pt x="51" y="65"/>
                </a:lnTo>
                <a:lnTo>
                  <a:pt x="38" y="45"/>
                </a:lnTo>
                <a:lnTo>
                  <a:pt x="25" y="30"/>
                </a:lnTo>
                <a:lnTo>
                  <a:pt x="13" y="15"/>
                </a:lnTo>
                <a:lnTo>
                  <a:pt x="0" y="0"/>
                </a:lnTo>
                <a:lnTo>
                  <a:pt x="0" y="35"/>
                </a:lnTo>
                <a:lnTo>
                  <a:pt x="0" y="80"/>
                </a:lnTo>
                <a:lnTo>
                  <a:pt x="4" y="135"/>
                </a:lnTo>
                <a:lnTo>
                  <a:pt x="13" y="175"/>
                </a:lnTo>
                <a:lnTo>
                  <a:pt x="32" y="180"/>
                </a:lnTo>
                <a:lnTo>
                  <a:pt x="57" y="180"/>
                </a:lnTo>
                <a:lnTo>
                  <a:pt x="82" y="185"/>
                </a:lnTo>
                <a:lnTo>
                  <a:pt x="91" y="185"/>
                </a:lnTo>
                <a:lnTo>
                  <a:pt x="98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6"/>
          <p:cNvSpPr/>
          <p:nvPr/>
        </p:nvSpPr>
        <p:spPr>
          <a:xfrm>
            <a:off x="5280120" y="1511280"/>
            <a:ext cx="223920" cy="426960"/>
          </a:xfrm>
          <a:custGeom>
            <a:avLst/>
            <a:gdLst>
              <a:gd name="textAreaLeft" fmla="*/ 0 w 223920"/>
              <a:gd name="textAreaRight" fmla="*/ 224280 w 223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1" h="269">
                <a:moveTo>
                  <a:pt x="141" y="89"/>
                </a:moveTo>
                <a:lnTo>
                  <a:pt x="119" y="69"/>
                </a:lnTo>
                <a:lnTo>
                  <a:pt x="101" y="55"/>
                </a:lnTo>
                <a:lnTo>
                  <a:pt x="85" y="40"/>
                </a:lnTo>
                <a:lnTo>
                  <a:pt x="72" y="35"/>
                </a:lnTo>
                <a:lnTo>
                  <a:pt x="57" y="30"/>
                </a:lnTo>
                <a:lnTo>
                  <a:pt x="32" y="25"/>
                </a:lnTo>
                <a:lnTo>
                  <a:pt x="13" y="15"/>
                </a:lnTo>
                <a:lnTo>
                  <a:pt x="0" y="0"/>
                </a:lnTo>
                <a:lnTo>
                  <a:pt x="16" y="55"/>
                </a:lnTo>
                <a:lnTo>
                  <a:pt x="32" y="94"/>
                </a:lnTo>
                <a:lnTo>
                  <a:pt x="44" y="124"/>
                </a:lnTo>
                <a:lnTo>
                  <a:pt x="47" y="149"/>
                </a:lnTo>
                <a:lnTo>
                  <a:pt x="47" y="179"/>
                </a:lnTo>
                <a:lnTo>
                  <a:pt x="44" y="219"/>
                </a:lnTo>
                <a:lnTo>
                  <a:pt x="41" y="254"/>
                </a:lnTo>
                <a:lnTo>
                  <a:pt x="41" y="269"/>
                </a:lnTo>
                <a:lnTo>
                  <a:pt x="101" y="269"/>
                </a:lnTo>
                <a:lnTo>
                  <a:pt x="113" y="229"/>
                </a:lnTo>
                <a:lnTo>
                  <a:pt x="122" y="179"/>
                </a:lnTo>
                <a:lnTo>
                  <a:pt x="129" y="134"/>
                </a:lnTo>
                <a:lnTo>
                  <a:pt x="14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7"/>
          <p:cNvSpPr/>
          <p:nvPr/>
        </p:nvSpPr>
        <p:spPr>
          <a:xfrm>
            <a:off x="0" y="506520"/>
            <a:ext cx="1620720" cy="18349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21" h="1156">
                <a:moveTo>
                  <a:pt x="0" y="1156"/>
                </a:moveTo>
                <a:lnTo>
                  <a:pt x="0" y="857"/>
                </a:lnTo>
                <a:lnTo>
                  <a:pt x="60" y="757"/>
                </a:lnTo>
                <a:lnTo>
                  <a:pt x="128" y="648"/>
                </a:lnTo>
                <a:lnTo>
                  <a:pt x="204" y="533"/>
                </a:lnTo>
                <a:lnTo>
                  <a:pt x="276" y="418"/>
                </a:lnTo>
                <a:lnTo>
                  <a:pt x="345" y="314"/>
                </a:lnTo>
                <a:lnTo>
                  <a:pt x="407" y="229"/>
                </a:lnTo>
                <a:lnTo>
                  <a:pt x="454" y="174"/>
                </a:lnTo>
                <a:lnTo>
                  <a:pt x="489" y="149"/>
                </a:lnTo>
                <a:lnTo>
                  <a:pt x="501" y="154"/>
                </a:lnTo>
                <a:lnTo>
                  <a:pt x="517" y="164"/>
                </a:lnTo>
                <a:lnTo>
                  <a:pt x="539" y="179"/>
                </a:lnTo>
                <a:lnTo>
                  <a:pt x="558" y="194"/>
                </a:lnTo>
                <a:lnTo>
                  <a:pt x="579" y="214"/>
                </a:lnTo>
                <a:lnTo>
                  <a:pt x="598" y="229"/>
                </a:lnTo>
                <a:lnTo>
                  <a:pt x="614" y="239"/>
                </a:lnTo>
                <a:lnTo>
                  <a:pt x="623" y="244"/>
                </a:lnTo>
                <a:lnTo>
                  <a:pt x="642" y="239"/>
                </a:lnTo>
                <a:lnTo>
                  <a:pt x="680" y="219"/>
                </a:lnTo>
                <a:lnTo>
                  <a:pt x="730" y="194"/>
                </a:lnTo>
                <a:lnTo>
                  <a:pt x="789" y="159"/>
                </a:lnTo>
                <a:lnTo>
                  <a:pt x="852" y="119"/>
                </a:lnTo>
                <a:lnTo>
                  <a:pt x="918" y="80"/>
                </a:lnTo>
                <a:lnTo>
                  <a:pt x="974" y="40"/>
                </a:lnTo>
                <a:lnTo>
                  <a:pt x="1021" y="0"/>
                </a:lnTo>
                <a:lnTo>
                  <a:pt x="983" y="40"/>
                </a:lnTo>
                <a:lnTo>
                  <a:pt x="949" y="70"/>
                </a:lnTo>
                <a:lnTo>
                  <a:pt x="921" y="100"/>
                </a:lnTo>
                <a:lnTo>
                  <a:pt x="896" y="124"/>
                </a:lnTo>
                <a:lnTo>
                  <a:pt x="874" y="149"/>
                </a:lnTo>
                <a:lnTo>
                  <a:pt x="852" y="164"/>
                </a:lnTo>
                <a:lnTo>
                  <a:pt x="833" y="184"/>
                </a:lnTo>
                <a:lnTo>
                  <a:pt x="811" y="199"/>
                </a:lnTo>
                <a:lnTo>
                  <a:pt x="792" y="219"/>
                </a:lnTo>
                <a:lnTo>
                  <a:pt x="771" y="239"/>
                </a:lnTo>
                <a:lnTo>
                  <a:pt x="749" y="264"/>
                </a:lnTo>
                <a:lnTo>
                  <a:pt x="730" y="289"/>
                </a:lnTo>
                <a:lnTo>
                  <a:pt x="711" y="314"/>
                </a:lnTo>
                <a:lnTo>
                  <a:pt x="692" y="334"/>
                </a:lnTo>
                <a:lnTo>
                  <a:pt x="677" y="344"/>
                </a:lnTo>
                <a:lnTo>
                  <a:pt x="664" y="349"/>
                </a:lnTo>
                <a:lnTo>
                  <a:pt x="651" y="344"/>
                </a:lnTo>
                <a:lnTo>
                  <a:pt x="633" y="329"/>
                </a:lnTo>
                <a:lnTo>
                  <a:pt x="611" y="314"/>
                </a:lnTo>
                <a:lnTo>
                  <a:pt x="589" y="289"/>
                </a:lnTo>
                <a:lnTo>
                  <a:pt x="564" y="269"/>
                </a:lnTo>
                <a:lnTo>
                  <a:pt x="542" y="254"/>
                </a:lnTo>
                <a:lnTo>
                  <a:pt x="520" y="239"/>
                </a:lnTo>
                <a:lnTo>
                  <a:pt x="501" y="234"/>
                </a:lnTo>
                <a:lnTo>
                  <a:pt x="489" y="244"/>
                </a:lnTo>
                <a:lnTo>
                  <a:pt x="470" y="269"/>
                </a:lnTo>
                <a:lnTo>
                  <a:pt x="445" y="309"/>
                </a:lnTo>
                <a:lnTo>
                  <a:pt x="413" y="359"/>
                </a:lnTo>
                <a:lnTo>
                  <a:pt x="379" y="418"/>
                </a:lnTo>
                <a:lnTo>
                  <a:pt x="341" y="488"/>
                </a:lnTo>
                <a:lnTo>
                  <a:pt x="304" y="563"/>
                </a:lnTo>
                <a:lnTo>
                  <a:pt x="263" y="638"/>
                </a:lnTo>
                <a:lnTo>
                  <a:pt x="222" y="717"/>
                </a:lnTo>
                <a:lnTo>
                  <a:pt x="182" y="797"/>
                </a:lnTo>
                <a:lnTo>
                  <a:pt x="141" y="877"/>
                </a:lnTo>
                <a:lnTo>
                  <a:pt x="103" y="947"/>
                </a:lnTo>
                <a:lnTo>
                  <a:pt x="72" y="1016"/>
                </a:lnTo>
                <a:lnTo>
                  <a:pt x="41" y="1071"/>
                </a:lnTo>
                <a:lnTo>
                  <a:pt x="19" y="1121"/>
                </a:lnTo>
                <a:lnTo>
                  <a:pt x="0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8"/>
          <p:cNvSpPr/>
          <p:nvPr/>
        </p:nvSpPr>
        <p:spPr>
          <a:xfrm>
            <a:off x="6205680" y="2610000"/>
            <a:ext cx="183960" cy="349200"/>
          </a:xfrm>
          <a:custGeom>
            <a:avLst/>
            <a:gdLst>
              <a:gd name="textAreaLeft" fmla="*/ 0 w 183960"/>
              <a:gd name="textAreaRight" fmla="*/ 184320 w 183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16" h="220">
                <a:moveTo>
                  <a:pt x="0" y="0"/>
                </a:moveTo>
                <a:lnTo>
                  <a:pt x="9" y="10"/>
                </a:lnTo>
                <a:lnTo>
                  <a:pt x="19" y="25"/>
                </a:lnTo>
                <a:lnTo>
                  <a:pt x="34" y="35"/>
                </a:lnTo>
                <a:lnTo>
                  <a:pt x="50" y="45"/>
                </a:lnTo>
                <a:lnTo>
                  <a:pt x="66" y="55"/>
                </a:lnTo>
                <a:lnTo>
                  <a:pt x="81" y="65"/>
                </a:lnTo>
                <a:lnTo>
                  <a:pt x="91" y="70"/>
                </a:lnTo>
                <a:lnTo>
                  <a:pt x="100" y="70"/>
                </a:lnTo>
                <a:lnTo>
                  <a:pt x="110" y="80"/>
                </a:lnTo>
                <a:lnTo>
                  <a:pt x="113" y="105"/>
                </a:lnTo>
                <a:lnTo>
                  <a:pt x="116" y="130"/>
                </a:lnTo>
                <a:lnTo>
                  <a:pt x="116" y="140"/>
                </a:lnTo>
                <a:lnTo>
                  <a:pt x="113" y="145"/>
                </a:lnTo>
                <a:lnTo>
                  <a:pt x="103" y="150"/>
                </a:lnTo>
                <a:lnTo>
                  <a:pt x="91" y="165"/>
                </a:lnTo>
                <a:lnTo>
                  <a:pt x="75" y="180"/>
                </a:lnTo>
                <a:lnTo>
                  <a:pt x="59" y="195"/>
                </a:lnTo>
                <a:lnTo>
                  <a:pt x="41" y="205"/>
                </a:lnTo>
                <a:lnTo>
                  <a:pt x="25" y="215"/>
                </a:lnTo>
                <a:lnTo>
                  <a:pt x="9" y="220"/>
                </a:lnTo>
                <a:lnTo>
                  <a:pt x="6" y="170"/>
                </a:lnTo>
                <a:lnTo>
                  <a:pt x="6" y="110"/>
                </a:lnTo>
                <a:lnTo>
                  <a:pt x="6" y="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9"/>
          <p:cNvSpPr/>
          <p:nvPr/>
        </p:nvSpPr>
        <p:spPr>
          <a:xfrm>
            <a:off x="5086440" y="2158920"/>
            <a:ext cx="1035000" cy="90972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652" h="573">
                <a:moveTo>
                  <a:pt x="0" y="563"/>
                </a:moveTo>
                <a:lnTo>
                  <a:pt x="13" y="538"/>
                </a:lnTo>
                <a:lnTo>
                  <a:pt x="31" y="509"/>
                </a:lnTo>
                <a:lnTo>
                  <a:pt x="53" y="474"/>
                </a:lnTo>
                <a:lnTo>
                  <a:pt x="82" y="454"/>
                </a:lnTo>
                <a:lnTo>
                  <a:pt x="100" y="444"/>
                </a:lnTo>
                <a:lnTo>
                  <a:pt x="125" y="424"/>
                </a:lnTo>
                <a:lnTo>
                  <a:pt x="154" y="404"/>
                </a:lnTo>
                <a:lnTo>
                  <a:pt x="182" y="379"/>
                </a:lnTo>
                <a:lnTo>
                  <a:pt x="210" y="349"/>
                </a:lnTo>
                <a:lnTo>
                  <a:pt x="232" y="329"/>
                </a:lnTo>
                <a:lnTo>
                  <a:pt x="251" y="304"/>
                </a:lnTo>
                <a:lnTo>
                  <a:pt x="260" y="289"/>
                </a:lnTo>
                <a:lnTo>
                  <a:pt x="266" y="269"/>
                </a:lnTo>
                <a:lnTo>
                  <a:pt x="279" y="234"/>
                </a:lnTo>
                <a:lnTo>
                  <a:pt x="298" y="190"/>
                </a:lnTo>
                <a:lnTo>
                  <a:pt x="317" y="140"/>
                </a:lnTo>
                <a:lnTo>
                  <a:pt x="335" y="95"/>
                </a:lnTo>
                <a:lnTo>
                  <a:pt x="354" y="50"/>
                </a:lnTo>
                <a:lnTo>
                  <a:pt x="367" y="20"/>
                </a:lnTo>
                <a:lnTo>
                  <a:pt x="376" y="10"/>
                </a:lnTo>
                <a:lnTo>
                  <a:pt x="389" y="5"/>
                </a:lnTo>
                <a:lnTo>
                  <a:pt x="407" y="0"/>
                </a:lnTo>
                <a:lnTo>
                  <a:pt x="423" y="0"/>
                </a:lnTo>
                <a:lnTo>
                  <a:pt x="426" y="10"/>
                </a:lnTo>
                <a:lnTo>
                  <a:pt x="417" y="55"/>
                </a:lnTo>
                <a:lnTo>
                  <a:pt x="401" y="130"/>
                </a:lnTo>
                <a:lnTo>
                  <a:pt x="389" y="200"/>
                </a:lnTo>
                <a:lnTo>
                  <a:pt x="392" y="229"/>
                </a:lnTo>
                <a:lnTo>
                  <a:pt x="398" y="229"/>
                </a:lnTo>
                <a:lnTo>
                  <a:pt x="410" y="229"/>
                </a:lnTo>
                <a:lnTo>
                  <a:pt x="423" y="229"/>
                </a:lnTo>
                <a:lnTo>
                  <a:pt x="439" y="229"/>
                </a:lnTo>
                <a:lnTo>
                  <a:pt x="454" y="224"/>
                </a:lnTo>
                <a:lnTo>
                  <a:pt x="470" y="224"/>
                </a:lnTo>
                <a:lnTo>
                  <a:pt x="483" y="220"/>
                </a:lnTo>
                <a:lnTo>
                  <a:pt x="495" y="210"/>
                </a:lnTo>
                <a:lnTo>
                  <a:pt x="517" y="195"/>
                </a:lnTo>
                <a:lnTo>
                  <a:pt x="539" y="180"/>
                </a:lnTo>
                <a:lnTo>
                  <a:pt x="555" y="175"/>
                </a:lnTo>
                <a:lnTo>
                  <a:pt x="561" y="170"/>
                </a:lnTo>
                <a:lnTo>
                  <a:pt x="567" y="180"/>
                </a:lnTo>
                <a:lnTo>
                  <a:pt x="580" y="210"/>
                </a:lnTo>
                <a:lnTo>
                  <a:pt x="595" y="244"/>
                </a:lnTo>
                <a:lnTo>
                  <a:pt x="605" y="279"/>
                </a:lnTo>
                <a:lnTo>
                  <a:pt x="614" y="309"/>
                </a:lnTo>
                <a:lnTo>
                  <a:pt x="633" y="334"/>
                </a:lnTo>
                <a:lnTo>
                  <a:pt x="649" y="359"/>
                </a:lnTo>
                <a:lnTo>
                  <a:pt x="652" y="379"/>
                </a:lnTo>
                <a:lnTo>
                  <a:pt x="642" y="404"/>
                </a:lnTo>
                <a:lnTo>
                  <a:pt x="627" y="429"/>
                </a:lnTo>
                <a:lnTo>
                  <a:pt x="611" y="449"/>
                </a:lnTo>
                <a:lnTo>
                  <a:pt x="592" y="459"/>
                </a:lnTo>
                <a:lnTo>
                  <a:pt x="573" y="474"/>
                </a:lnTo>
                <a:lnTo>
                  <a:pt x="551" y="509"/>
                </a:lnTo>
                <a:lnTo>
                  <a:pt x="533" y="543"/>
                </a:lnTo>
                <a:lnTo>
                  <a:pt x="526" y="558"/>
                </a:lnTo>
                <a:lnTo>
                  <a:pt x="504" y="543"/>
                </a:lnTo>
                <a:lnTo>
                  <a:pt x="479" y="528"/>
                </a:lnTo>
                <a:lnTo>
                  <a:pt x="448" y="513"/>
                </a:lnTo>
                <a:lnTo>
                  <a:pt x="414" y="499"/>
                </a:lnTo>
                <a:lnTo>
                  <a:pt x="382" y="484"/>
                </a:lnTo>
                <a:lnTo>
                  <a:pt x="351" y="469"/>
                </a:lnTo>
                <a:lnTo>
                  <a:pt x="329" y="459"/>
                </a:lnTo>
                <a:lnTo>
                  <a:pt x="310" y="454"/>
                </a:lnTo>
                <a:lnTo>
                  <a:pt x="295" y="454"/>
                </a:lnTo>
                <a:lnTo>
                  <a:pt x="273" y="454"/>
                </a:lnTo>
                <a:lnTo>
                  <a:pt x="248" y="459"/>
                </a:lnTo>
                <a:lnTo>
                  <a:pt x="219" y="464"/>
                </a:lnTo>
                <a:lnTo>
                  <a:pt x="194" y="474"/>
                </a:lnTo>
                <a:lnTo>
                  <a:pt x="169" y="484"/>
                </a:lnTo>
                <a:lnTo>
                  <a:pt x="151" y="494"/>
                </a:lnTo>
                <a:lnTo>
                  <a:pt x="138" y="509"/>
                </a:lnTo>
                <a:lnTo>
                  <a:pt x="125" y="523"/>
                </a:lnTo>
                <a:lnTo>
                  <a:pt x="107" y="538"/>
                </a:lnTo>
                <a:lnTo>
                  <a:pt x="85" y="548"/>
                </a:lnTo>
                <a:lnTo>
                  <a:pt x="63" y="558"/>
                </a:lnTo>
                <a:lnTo>
                  <a:pt x="41" y="568"/>
                </a:lnTo>
                <a:lnTo>
                  <a:pt x="22" y="573"/>
                </a:lnTo>
                <a:lnTo>
                  <a:pt x="10" y="568"/>
                </a:lnTo>
                <a:lnTo>
                  <a:pt x="0" y="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10"/>
          <p:cNvSpPr/>
          <p:nvPr/>
        </p:nvSpPr>
        <p:spPr>
          <a:xfrm>
            <a:off x="7434360" y="1969920"/>
            <a:ext cx="357120" cy="758880"/>
          </a:xfrm>
          <a:custGeom>
            <a:avLst/>
            <a:gdLst>
              <a:gd name="textAreaLeft" fmla="*/ 0 w 357120"/>
              <a:gd name="textAreaRight" fmla="*/ 357480 w 357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25" h="478">
                <a:moveTo>
                  <a:pt x="31" y="0"/>
                </a:moveTo>
                <a:lnTo>
                  <a:pt x="47" y="40"/>
                </a:lnTo>
                <a:lnTo>
                  <a:pt x="68" y="94"/>
                </a:lnTo>
                <a:lnTo>
                  <a:pt x="84" y="149"/>
                </a:lnTo>
                <a:lnTo>
                  <a:pt x="94" y="184"/>
                </a:lnTo>
                <a:lnTo>
                  <a:pt x="115" y="174"/>
                </a:lnTo>
                <a:lnTo>
                  <a:pt x="140" y="164"/>
                </a:lnTo>
                <a:lnTo>
                  <a:pt x="159" y="159"/>
                </a:lnTo>
                <a:lnTo>
                  <a:pt x="166" y="159"/>
                </a:lnTo>
                <a:lnTo>
                  <a:pt x="175" y="224"/>
                </a:lnTo>
                <a:lnTo>
                  <a:pt x="187" y="319"/>
                </a:lnTo>
                <a:lnTo>
                  <a:pt x="203" y="408"/>
                </a:lnTo>
                <a:lnTo>
                  <a:pt x="225" y="478"/>
                </a:lnTo>
                <a:lnTo>
                  <a:pt x="213" y="468"/>
                </a:lnTo>
                <a:lnTo>
                  <a:pt x="203" y="453"/>
                </a:lnTo>
                <a:lnTo>
                  <a:pt x="194" y="443"/>
                </a:lnTo>
                <a:lnTo>
                  <a:pt x="181" y="428"/>
                </a:lnTo>
                <a:lnTo>
                  <a:pt x="169" y="418"/>
                </a:lnTo>
                <a:lnTo>
                  <a:pt x="156" y="408"/>
                </a:lnTo>
                <a:lnTo>
                  <a:pt x="140" y="398"/>
                </a:lnTo>
                <a:lnTo>
                  <a:pt x="122" y="398"/>
                </a:lnTo>
                <a:lnTo>
                  <a:pt x="87" y="393"/>
                </a:lnTo>
                <a:lnTo>
                  <a:pt x="62" y="373"/>
                </a:lnTo>
                <a:lnTo>
                  <a:pt x="50" y="334"/>
                </a:lnTo>
                <a:lnTo>
                  <a:pt x="47" y="274"/>
                </a:lnTo>
                <a:lnTo>
                  <a:pt x="31" y="244"/>
                </a:lnTo>
                <a:lnTo>
                  <a:pt x="15" y="209"/>
                </a:lnTo>
                <a:lnTo>
                  <a:pt x="6" y="184"/>
                </a:lnTo>
                <a:lnTo>
                  <a:pt x="0" y="164"/>
                </a:lnTo>
                <a:lnTo>
                  <a:pt x="0" y="134"/>
                </a:lnTo>
                <a:lnTo>
                  <a:pt x="3" y="79"/>
                </a:lnTo>
                <a:lnTo>
                  <a:pt x="9" y="25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11"/>
          <p:cNvSpPr/>
          <p:nvPr/>
        </p:nvSpPr>
        <p:spPr>
          <a:xfrm>
            <a:off x="6931080" y="2325600"/>
            <a:ext cx="223920" cy="387360"/>
          </a:xfrm>
          <a:custGeom>
            <a:avLst/>
            <a:gdLst>
              <a:gd name="textAreaLeft" fmla="*/ 0 w 223920"/>
              <a:gd name="textAreaRight" fmla="*/ 224280 w 2239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41" h="244">
                <a:moveTo>
                  <a:pt x="125" y="0"/>
                </a:moveTo>
                <a:lnTo>
                  <a:pt x="129" y="35"/>
                </a:lnTo>
                <a:lnTo>
                  <a:pt x="138" y="80"/>
                </a:lnTo>
                <a:lnTo>
                  <a:pt x="141" y="124"/>
                </a:lnTo>
                <a:lnTo>
                  <a:pt x="138" y="149"/>
                </a:lnTo>
                <a:lnTo>
                  <a:pt x="125" y="169"/>
                </a:lnTo>
                <a:lnTo>
                  <a:pt x="110" y="199"/>
                </a:lnTo>
                <a:lnTo>
                  <a:pt x="91" y="229"/>
                </a:lnTo>
                <a:lnTo>
                  <a:pt x="79" y="244"/>
                </a:lnTo>
                <a:lnTo>
                  <a:pt x="60" y="229"/>
                </a:lnTo>
                <a:lnTo>
                  <a:pt x="35" y="199"/>
                </a:lnTo>
                <a:lnTo>
                  <a:pt x="10" y="169"/>
                </a:lnTo>
                <a:lnTo>
                  <a:pt x="0" y="154"/>
                </a:lnTo>
                <a:lnTo>
                  <a:pt x="13" y="139"/>
                </a:lnTo>
                <a:lnTo>
                  <a:pt x="28" y="124"/>
                </a:lnTo>
                <a:lnTo>
                  <a:pt x="44" y="115"/>
                </a:lnTo>
                <a:lnTo>
                  <a:pt x="63" y="105"/>
                </a:lnTo>
                <a:lnTo>
                  <a:pt x="79" y="90"/>
                </a:lnTo>
                <a:lnTo>
                  <a:pt x="97" y="70"/>
                </a:lnTo>
                <a:lnTo>
                  <a:pt x="113" y="40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12"/>
          <p:cNvSpPr/>
          <p:nvPr/>
        </p:nvSpPr>
        <p:spPr>
          <a:xfrm>
            <a:off x="5708520" y="3235320"/>
            <a:ext cx="1217880" cy="95724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767" h="603">
                <a:moveTo>
                  <a:pt x="767" y="279"/>
                </a:moveTo>
                <a:lnTo>
                  <a:pt x="736" y="274"/>
                </a:lnTo>
                <a:lnTo>
                  <a:pt x="698" y="279"/>
                </a:lnTo>
                <a:lnTo>
                  <a:pt x="651" y="289"/>
                </a:lnTo>
                <a:lnTo>
                  <a:pt x="601" y="309"/>
                </a:lnTo>
                <a:lnTo>
                  <a:pt x="545" y="329"/>
                </a:lnTo>
                <a:lnTo>
                  <a:pt x="488" y="349"/>
                </a:lnTo>
                <a:lnTo>
                  <a:pt x="429" y="379"/>
                </a:lnTo>
                <a:lnTo>
                  <a:pt x="366" y="404"/>
                </a:lnTo>
                <a:lnTo>
                  <a:pt x="307" y="433"/>
                </a:lnTo>
                <a:lnTo>
                  <a:pt x="247" y="463"/>
                </a:lnTo>
                <a:lnTo>
                  <a:pt x="194" y="493"/>
                </a:lnTo>
                <a:lnTo>
                  <a:pt x="141" y="523"/>
                </a:lnTo>
                <a:lnTo>
                  <a:pt x="97" y="548"/>
                </a:lnTo>
                <a:lnTo>
                  <a:pt x="56" y="568"/>
                </a:lnTo>
                <a:lnTo>
                  <a:pt x="25" y="588"/>
                </a:lnTo>
                <a:lnTo>
                  <a:pt x="0" y="603"/>
                </a:lnTo>
                <a:lnTo>
                  <a:pt x="31" y="553"/>
                </a:lnTo>
                <a:lnTo>
                  <a:pt x="56" y="498"/>
                </a:lnTo>
                <a:lnTo>
                  <a:pt x="72" y="443"/>
                </a:lnTo>
                <a:lnTo>
                  <a:pt x="81" y="394"/>
                </a:lnTo>
                <a:lnTo>
                  <a:pt x="112" y="384"/>
                </a:lnTo>
                <a:lnTo>
                  <a:pt x="150" y="369"/>
                </a:lnTo>
                <a:lnTo>
                  <a:pt x="188" y="354"/>
                </a:lnTo>
                <a:lnTo>
                  <a:pt x="225" y="339"/>
                </a:lnTo>
                <a:lnTo>
                  <a:pt x="263" y="319"/>
                </a:lnTo>
                <a:lnTo>
                  <a:pt x="291" y="304"/>
                </a:lnTo>
                <a:lnTo>
                  <a:pt x="313" y="284"/>
                </a:lnTo>
                <a:lnTo>
                  <a:pt x="322" y="269"/>
                </a:lnTo>
                <a:lnTo>
                  <a:pt x="335" y="199"/>
                </a:lnTo>
                <a:lnTo>
                  <a:pt x="350" y="115"/>
                </a:lnTo>
                <a:lnTo>
                  <a:pt x="369" y="50"/>
                </a:lnTo>
                <a:lnTo>
                  <a:pt x="376" y="25"/>
                </a:lnTo>
                <a:lnTo>
                  <a:pt x="394" y="20"/>
                </a:lnTo>
                <a:lnTo>
                  <a:pt x="419" y="20"/>
                </a:lnTo>
                <a:lnTo>
                  <a:pt x="441" y="15"/>
                </a:lnTo>
                <a:lnTo>
                  <a:pt x="463" y="10"/>
                </a:lnTo>
                <a:lnTo>
                  <a:pt x="482" y="5"/>
                </a:lnTo>
                <a:lnTo>
                  <a:pt x="498" y="5"/>
                </a:lnTo>
                <a:lnTo>
                  <a:pt x="510" y="0"/>
                </a:lnTo>
                <a:lnTo>
                  <a:pt x="513" y="0"/>
                </a:lnTo>
                <a:lnTo>
                  <a:pt x="529" y="65"/>
                </a:lnTo>
                <a:lnTo>
                  <a:pt x="573" y="65"/>
                </a:lnTo>
                <a:lnTo>
                  <a:pt x="576" y="80"/>
                </a:lnTo>
                <a:lnTo>
                  <a:pt x="579" y="110"/>
                </a:lnTo>
                <a:lnTo>
                  <a:pt x="589" y="144"/>
                </a:lnTo>
                <a:lnTo>
                  <a:pt x="604" y="169"/>
                </a:lnTo>
                <a:lnTo>
                  <a:pt x="623" y="189"/>
                </a:lnTo>
                <a:lnTo>
                  <a:pt x="648" y="209"/>
                </a:lnTo>
                <a:lnTo>
                  <a:pt x="673" y="229"/>
                </a:lnTo>
                <a:lnTo>
                  <a:pt x="698" y="244"/>
                </a:lnTo>
                <a:lnTo>
                  <a:pt x="723" y="254"/>
                </a:lnTo>
                <a:lnTo>
                  <a:pt x="742" y="269"/>
                </a:lnTo>
                <a:lnTo>
                  <a:pt x="758" y="274"/>
                </a:lnTo>
                <a:lnTo>
                  <a:pt x="767" y="2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13"/>
          <p:cNvSpPr/>
          <p:nvPr/>
        </p:nvSpPr>
        <p:spPr>
          <a:xfrm>
            <a:off x="7080120" y="2508120"/>
            <a:ext cx="760680" cy="1573200"/>
          </a:xfrm>
          <a:custGeom>
            <a:avLst/>
            <a:gdLst>
              <a:gd name="textAreaLeft" fmla="*/ 0 w 760680"/>
              <a:gd name="textAreaRight" fmla="*/ 761040 w 7606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479" h="991">
                <a:moveTo>
                  <a:pt x="479" y="926"/>
                </a:moveTo>
                <a:lnTo>
                  <a:pt x="448" y="956"/>
                </a:lnTo>
                <a:lnTo>
                  <a:pt x="417" y="976"/>
                </a:lnTo>
                <a:lnTo>
                  <a:pt x="385" y="986"/>
                </a:lnTo>
                <a:lnTo>
                  <a:pt x="351" y="991"/>
                </a:lnTo>
                <a:lnTo>
                  <a:pt x="320" y="981"/>
                </a:lnTo>
                <a:lnTo>
                  <a:pt x="291" y="971"/>
                </a:lnTo>
                <a:lnTo>
                  <a:pt x="263" y="951"/>
                </a:lnTo>
                <a:lnTo>
                  <a:pt x="238" y="926"/>
                </a:lnTo>
                <a:lnTo>
                  <a:pt x="223" y="911"/>
                </a:lnTo>
                <a:lnTo>
                  <a:pt x="207" y="891"/>
                </a:lnTo>
                <a:lnTo>
                  <a:pt x="188" y="876"/>
                </a:lnTo>
                <a:lnTo>
                  <a:pt x="166" y="862"/>
                </a:lnTo>
                <a:lnTo>
                  <a:pt x="141" y="842"/>
                </a:lnTo>
                <a:lnTo>
                  <a:pt x="116" y="827"/>
                </a:lnTo>
                <a:lnTo>
                  <a:pt x="88" y="812"/>
                </a:lnTo>
                <a:lnTo>
                  <a:pt x="60" y="797"/>
                </a:lnTo>
                <a:lnTo>
                  <a:pt x="41" y="762"/>
                </a:lnTo>
                <a:lnTo>
                  <a:pt x="22" y="727"/>
                </a:lnTo>
                <a:lnTo>
                  <a:pt x="6" y="697"/>
                </a:lnTo>
                <a:lnTo>
                  <a:pt x="0" y="682"/>
                </a:lnTo>
                <a:lnTo>
                  <a:pt x="10" y="632"/>
                </a:lnTo>
                <a:lnTo>
                  <a:pt x="16" y="558"/>
                </a:lnTo>
                <a:lnTo>
                  <a:pt x="22" y="478"/>
                </a:lnTo>
                <a:lnTo>
                  <a:pt x="22" y="418"/>
                </a:lnTo>
                <a:lnTo>
                  <a:pt x="41" y="383"/>
                </a:lnTo>
                <a:lnTo>
                  <a:pt x="63" y="333"/>
                </a:lnTo>
                <a:lnTo>
                  <a:pt x="85" y="284"/>
                </a:lnTo>
                <a:lnTo>
                  <a:pt x="107" y="229"/>
                </a:lnTo>
                <a:lnTo>
                  <a:pt x="125" y="169"/>
                </a:lnTo>
                <a:lnTo>
                  <a:pt x="138" y="109"/>
                </a:lnTo>
                <a:lnTo>
                  <a:pt x="144" y="54"/>
                </a:lnTo>
                <a:lnTo>
                  <a:pt x="138" y="0"/>
                </a:lnTo>
                <a:lnTo>
                  <a:pt x="157" y="19"/>
                </a:lnTo>
                <a:lnTo>
                  <a:pt x="179" y="44"/>
                </a:lnTo>
                <a:lnTo>
                  <a:pt x="197" y="64"/>
                </a:lnTo>
                <a:lnTo>
                  <a:pt x="213" y="89"/>
                </a:lnTo>
                <a:lnTo>
                  <a:pt x="223" y="114"/>
                </a:lnTo>
                <a:lnTo>
                  <a:pt x="226" y="139"/>
                </a:lnTo>
                <a:lnTo>
                  <a:pt x="219" y="164"/>
                </a:lnTo>
                <a:lnTo>
                  <a:pt x="204" y="194"/>
                </a:lnTo>
                <a:lnTo>
                  <a:pt x="182" y="224"/>
                </a:lnTo>
                <a:lnTo>
                  <a:pt x="160" y="254"/>
                </a:lnTo>
                <a:lnTo>
                  <a:pt x="138" y="279"/>
                </a:lnTo>
                <a:lnTo>
                  <a:pt x="119" y="308"/>
                </a:lnTo>
                <a:lnTo>
                  <a:pt x="100" y="338"/>
                </a:lnTo>
                <a:lnTo>
                  <a:pt x="88" y="363"/>
                </a:lnTo>
                <a:lnTo>
                  <a:pt x="82" y="388"/>
                </a:lnTo>
                <a:lnTo>
                  <a:pt x="78" y="413"/>
                </a:lnTo>
                <a:lnTo>
                  <a:pt x="78" y="468"/>
                </a:lnTo>
                <a:lnTo>
                  <a:pt x="82" y="528"/>
                </a:lnTo>
                <a:lnTo>
                  <a:pt x="88" y="582"/>
                </a:lnTo>
                <a:lnTo>
                  <a:pt x="104" y="622"/>
                </a:lnTo>
                <a:lnTo>
                  <a:pt x="113" y="637"/>
                </a:lnTo>
                <a:lnTo>
                  <a:pt x="125" y="652"/>
                </a:lnTo>
                <a:lnTo>
                  <a:pt x="138" y="672"/>
                </a:lnTo>
                <a:lnTo>
                  <a:pt x="154" y="692"/>
                </a:lnTo>
                <a:lnTo>
                  <a:pt x="166" y="712"/>
                </a:lnTo>
                <a:lnTo>
                  <a:pt x="182" y="727"/>
                </a:lnTo>
                <a:lnTo>
                  <a:pt x="194" y="742"/>
                </a:lnTo>
                <a:lnTo>
                  <a:pt x="207" y="747"/>
                </a:lnTo>
                <a:lnTo>
                  <a:pt x="232" y="757"/>
                </a:lnTo>
                <a:lnTo>
                  <a:pt x="257" y="782"/>
                </a:lnTo>
                <a:lnTo>
                  <a:pt x="279" y="807"/>
                </a:lnTo>
                <a:lnTo>
                  <a:pt x="295" y="832"/>
                </a:lnTo>
                <a:lnTo>
                  <a:pt x="310" y="852"/>
                </a:lnTo>
                <a:lnTo>
                  <a:pt x="335" y="876"/>
                </a:lnTo>
                <a:lnTo>
                  <a:pt x="354" y="896"/>
                </a:lnTo>
                <a:lnTo>
                  <a:pt x="367" y="926"/>
                </a:lnTo>
                <a:lnTo>
                  <a:pt x="382" y="931"/>
                </a:lnTo>
                <a:lnTo>
                  <a:pt x="401" y="931"/>
                </a:lnTo>
                <a:lnTo>
                  <a:pt x="420" y="931"/>
                </a:lnTo>
                <a:lnTo>
                  <a:pt x="439" y="931"/>
                </a:lnTo>
                <a:lnTo>
                  <a:pt x="454" y="931"/>
                </a:lnTo>
                <a:lnTo>
                  <a:pt x="467" y="926"/>
                </a:lnTo>
                <a:lnTo>
                  <a:pt x="476" y="926"/>
                </a:lnTo>
                <a:lnTo>
                  <a:pt x="479" y="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14"/>
          <p:cNvSpPr/>
          <p:nvPr/>
        </p:nvSpPr>
        <p:spPr>
          <a:xfrm>
            <a:off x="4038480" y="1676520"/>
            <a:ext cx="1089000" cy="1266840"/>
          </a:xfrm>
          <a:custGeom>
            <a:avLst/>
            <a:gdLst>
              <a:gd name="textAreaLeft" fmla="*/ 0 w 1089000"/>
              <a:gd name="textAreaRight" fmla="*/ 1089000 w 108900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86" h="798">
                <a:moveTo>
                  <a:pt x="676" y="155"/>
                </a:moveTo>
                <a:lnTo>
                  <a:pt x="670" y="175"/>
                </a:lnTo>
                <a:lnTo>
                  <a:pt x="661" y="195"/>
                </a:lnTo>
                <a:lnTo>
                  <a:pt x="651" y="210"/>
                </a:lnTo>
                <a:lnTo>
                  <a:pt x="645" y="215"/>
                </a:lnTo>
                <a:lnTo>
                  <a:pt x="630" y="274"/>
                </a:lnTo>
                <a:lnTo>
                  <a:pt x="636" y="284"/>
                </a:lnTo>
                <a:lnTo>
                  <a:pt x="648" y="304"/>
                </a:lnTo>
                <a:lnTo>
                  <a:pt x="664" y="329"/>
                </a:lnTo>
                <a:lnTo>
                  <a:pt x="680" y="344"/>
                </a:lnTo>
                <a:lnTo>
                  <a:pt x="686" y="359"/>
                </a:lnTo>
                <a:lnTo>
                  <a:pt x="686" y="389"/>
                </a:lnTo>
                <a:lnTo>
                  <a:pt x="686" y="419"/>
                </a:lnTo>
                <a:lnTo>
                  <a:pt x="683" y="449"/>
                </a:lnTo>
                <a:lnTo>
                  <a:pt x="676" y="474"/>
                </a:lnTo>
                <a:lnTo>
                  <a:pt x="658" y="499"/>
                </a:lnTo>
                <a:lnTo>
                  <a:pt x="636" y="524"/>
                </a:lnTo>
                <a:lnTo>
                  <a:pt x="620" y="548"/>
                </a:lnTo>
                <a:lnTo>
                  <a:pt x="604" y="588"/>
                </a:lnTo>
                <a:lnTo>
                  <a:pt x="589" y="638"/>
                </a:lnTo>
                <a:lnTo>
                  <a:pt x="573" y="688"/>
                </a:lnTo>
                <a:lnTo>
                  <a:pt x="561" y="718"/>
                </a:lnTo>
                <a:lnTo>
                  <a:pt x="551" y="733"/>
                </a:lnTo>
                <a:lnTo>
                  <a:pt x="536" y="753"/>
                </a:lnTo>
                <a:lnTo>
                  <a:pt x="514" y="778"/>
                </a:lnTo>
                <a:lnTo>
                  <a:pt x="489" y="798"/>
                </a:lnTo>
                <a:lnTo>
                  <a:pt x="485" y="778"/>
                </a:lnTo>
                <a:lnTo>
                  <a:pt x="479" y="723"/>
                </a:lnTo>
                <a:lnTo>
                  <a:pt x="467" y="668"/>
                </a:lnTo>
                <a:lnTo>
                  <a:pt x="451" y="633"/>
                </a:lnTo>
                <a:lnTo>
                  <a:pt x="388" y="683"/>
                </a:lnTo>
                <a:lnTo>
                  <a:pt x="326" y="718"/>
                </a:lnTo>
                <a:lnTo>
                  <a:pt x="263" y="743"/>
                </a:lnTo>
                <a:lnTo>
                  <a:pt x="204" y="758"/>
                </a:lnTo>
                <a:lnTo>
                  <a:pt x="147" y="768"/>
                </a:lnTo>
                <a:lnTo>
                  <a:pt x="94" y="773"/>
                </a:lnTo>
                <a:lnTo>
                  <a:pt x="44" y="783"/>
                </a:lnTo>
                <a:lnTo>
                  <a:pt x="0" y="788"/>
                </a:lnTo>
                <a:lnTo>
                  <a:pt x="9" y="763"/>
                </a:lnTo>
                <a:lnTo>
                  <a:pt x="34" y="728"/>
                </a:lnTo>
                <a:lnTo>
                  <a:pt x="59" y="693"/>
                </a:lnTo>
                <a:lnTo>
                  <a:pt x="78" y="668"/>
                </a:lnTo>
                <a:lnTo>
                  <a:pt x="85" y="658"/>
                </a:lnTo>
                <a:lnTo>
                  <a:pt x="97" y="648"/>
                </a:lnTo>
                <a:lnTo>
                  <a:pt x="110" y="638"/>
                </a:lnTo>
                <a:lnTo>
                  <a:pt x="125" y="623"/>
                </a:lnTo>
                <a:lnTo>
                  <a:pt x="138" y="613"/>
                </a:lnTo>
                <a:lnTo>
                  <a:pt x="150" y="603"/>
                </a:lnTo>
                <a:lnTo>
                  <a:pt x="163" y="598"/>
                </a:lnTo>
                <a:lnTo>
                  <a:pt x="172" y="593"/>
                </a:lnTo>
                <a:lnTo>
                  <a:pt x="172" y="573"/>
                </a:lnTo>
                <a:lnTo>
                  <a:pt x="160" y="529"/>
                </a:lnTo>
                <a:lnTo>
                  <a:pt x="141" y="479"/>
                </a:lnTo>
                <a:lnTo>
                  <a:pt x="138" y="444"/>
                </a:lnTo>
                <a:lnTo>
                  <a:pt x="141" y="429"/>
                </a:lnTo>
                <a:lnTo>
                  <a:pt x="150" y="414"/>
                </a:lnTo>
                <a:lnTo>
                  <a:pt x="163" y="394"/>
                </a:lnTo>
                <a:lnTo>
                  <a:pt x="175" y="374"/>
                </a:lnTo>
                <a:lnTo>
                  <a:pt x="191" y="354"/>
                </a:lnTo>
                <a:lnTo>
                  <a:pt x="207" y="339"/>
                </a:lnTo>
                <a:lnTo>
                  <a:pt x="219" y="324"/>
                </a:lnTo>
                <a:lnTo>
                  <a:pt x="232" y="319"/>
                </a:lnTo>
                <a:lnTo>
                  <a:pt x="244" y="314"/>
                </a:lnTo>
                <a:lnTo>
                  <a:pt x="263" y="309"/>
                </a:lnTo>
                <a:lnTo>
                  <a:pt x="285" y="309"/>
                </a:lnTo>
                <a:lnTo>
                  <a:pt x="310" y="304"/>
                </a:lnTo>
                <a:lnTo>
                  <a:pt x="332" y="304"/>
                </a:lnTo>
                <a:lnTo>
                  <a:pt x="354" y="304"/>
                </a:lnTo>
                <a:lnTo>
                  <a:pt x="373" y="304"/>
                </a:lnTo>
                <a:lnTo>
                  <a:pt x="385" y="304"/>
                </a:lnTo>
                <a:lnTo>
                  <a:pt x="388" y="299"/>
                </a:lnTo>
                <a:lnTo>
                  <a:pt x="382" y="279"/>
                </a:lnTo>
                <a:lnTo>
                  <a:pt x="373" y="254"/>
                </a:lnTo>
                <a:lnTo>
                  <a:pt x="357" y="220"/>
                </a:lnTo>
                <a:lnTo>
                  <a:pt x="344" y="185"/>
                </a:lnTo>
                <a:lnTo>
                  <a:pt x="332" y="155"/>
                </a:lnTo>
                <a:lnTo>
                  <a:pt x="326" y="130"/>
                </a:lnTo>
                <a:lnTo>
                  <a:pt x="326" y="110"/>
                </a:lnTo>
                <a:lnTo>
                  <a:pt x="335" y="120"/>
                </a:lnTo>
                <a:lnTo>
                  <a:pt x="351" y="135"/>
                </a:lnTo>
                <a:lnTo>
                  <a:pt x="373" y="145"/>
                </a:lnTo>
                <a:lnTo>
                  <a:pt x="395" y="155"/>
                </a:lnTo>
                <a:lnTo>
                  <a:pt x="417" y="160"/>
                </a:lnTo>
                <a:lnTo>
                  <a:pt x="435" y="165"/>
                </a:lnTo>
                <a:lnTo>
                  <a:pt x="454" y="160"/>
                </a:lnTo>
                <a:lnTo>
                  <a:pt x="467" y="155"/>
                </a:lnTo>
                <a:lnTo>
                  <a:pt x="479" y="145"/>
                </a:lnTo>
                <a:lnTo>
                  <a:pt x="498" y="130"/>
                </a:lnTo>
                <a:lnTo>
                  <a:pt x="520" y="110"/>
                </a:lnTo>
                <a:lnTo>
                  <a:pt x="545" y="95"/>
                </a:lnTo>
                <a:lnTo>
                  <a:pt x="567" y="80"/>
                </a:lnTo>
                <a:lnTo>
                  <a:pt x="589" y="65"/>
                </a:lnTo>
                <a:lnTo>
                  <a:pt x="608" y="50"/>
                </a:lnTo>
                <a:lnTo>
                  <a:pt x="620" y="45"/>
                </a:lnTo>
                <a:lnTo>
                  <a:pt x="633" y="40"/>
                </a:lnTo>
                <a:lnTo>
                  <a:pt x="645" y="30"/>
                </a:lnTo>
                <a:lnTo>
                  <a:pt x="661" y="15"/>
                </a:lnTo>
                <a:lnTo>
                  <a:pt x="676" y="0"/>
                </a:lnTo>
                <a:lnTo>
                  <a:pt x="676" y="45"/>
                </a:lnTo>
                <a:lnTo>
                  <a:pt x="676" y="90"/>
                </a:lnTo>
                <a:lnTo>
                  <a:pt x="676" y="130"/>
                </a:lnTo>
                <a:lnTo>
                  <a:pt x="67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15"/>
          <p:cNvSpPr/>
          <p:nvPr/>
        </p:nvSpPr>
        <p:spPr>
          <a:xfrm>
            <a:off x="2924280" y="2270160"/>
            <a:ext cx="233280" cy="458640"/>
          </a:xfrm>
          <a:custGeom>
            <a:avLst/>
            <a:gdLst>
              <a:gd name="textAreaLeft" fmla="*/ 0 w 233280"/>
              <a:gd name="textAreaRight" fmla="*/ 233640 w 2332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47" h="289">
                <a:moveTo>
                  <a:pt x="0" y="0"/>
                </a:moveTo>
                <a:lnTo>
                  <a:pt x="15" y="0"/>
                </a:lnTo>
                <a:lnTo>
                  <a:pt x="31" y="5"/>
                </a:lnTo>
                <a:lnTo>
                  <a:pt x="47" y="10"/>
                </a:lnTo>
                <a:lnTo>
                  <a:pt x="65" y="20"/>
                </a:lnTo>
                <a:lnTo>
                  <a:pt x="81" y="30"/>
                </a:lnTo>
                <a:lnTo>
                  <a:pt x="94" y="40"/>
                </a:lnTo>
                <a:lnTo>
                  <a:pt x="103" y="50"/>
                </a:lnTo>
                <a:lnTo>
                  <a:pt x="109" y="60"/>
                </a:lnTo>
                <a:lnTo>
                  <a:pt x="112" y="90"/>
                </a:lnTo>
                <a:lnTo>
                  <a:pt x="112" y="135"/>
                </a:lnTo>
                <a:lnTo>
                  <a:pt x="112" y="174"/>
                </a:lnTo>
                <a:lnTo>
                  <a:pt x="112" y="189"/>
                </a:lnTo>
                <a:lnTo>
                  <a:pt x="147" y="234"/>
                </a:lnTo>
                <a:lnTo>
                  <a:pt x="119" y="249"/>
                </a:lnTo>
                <a:lnTo>
                  <a:pt x="91" y="264"/>
                </a:lnTo>
                <a:lnTo>
                  <a:pt x="72" y="284"/>
                </a:lnTo>
                <a:lnTo>
                  <a:pt x="62" y="289"/>
                </a:lnTo>
                <a:lnTo>
                  <a:pt x="59" y="254"/>
                </a:lnTo>
                <a:lnTo>
                  <a:pt x="56" y="219"/>
                </a:lnTo>
                <a:lnTo>
                  <a:pt x="50" y="189"/>
                </a:lnTo>
                <a:lnTo>
                  <a:pt x="40" y="159"/>
                </a:lnTo>
                <a:lnTo>
                  <a:pt x="31" y="125"/>
                </a:lnTo>
                <a:lnTo>
                  <a:pt x="18" y="85"/>
                </a:lnTo>
                <a:lnTo>
                  <a:pt x="6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16"/>
          <p:cNvSpPr/>
          <p:nvPr/>
        </p:nvSpPr>
        <p:spPr>
          <a:xfrm>
            <a:off x="333360" y="1154160"/>
            <a:ext cx="1317600" cy="139212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830" h="877">
                <a:moveTo>
                  <a:pt x="0" y="628"/>
                </a:moveTo>
                <a:lnTo>
                  <a:pt x="25" y="588"/>
                </a:lnTo>
                <a:lnTo>
                  <a:pt x="53" y="539"/>
                </a:lnTo>
                <a:lnTo>
                  <a:pt x="81" y="494"/>
                </a:lnTo>
                <a:lnTo>
                  <a:pt x="109" y="449"/>
                </a:lnTo>
                <a:lnTo>
                  <a:pt x="138" y="404"/>
                </a:lnTo>
                <a:lnTo>
                  <a:pt x="163" y="369"/>
                </a:lnTo>
                <a:lnTo>
                  <a:pt x="185" y="339"/>
                </a:lnTo>
                <a:lnTo>
                  <a:pt x="200" y="324"/>
                </a:lnTo>
                <a:lnTo>
                  <a:pt x="216" y="309"/>
                </a:lnTo>
                <a:lnTo>
                  <a:pt x="241" y="289"/>
                </a:lnTo>
                <a:lnTo>
                  <a:pt x="272" y="260"/>
                </a:lnTo>
                <a:lnTo>
                  <a:pt x="304" y="230"/>
                </a:lnTo>
                <a:lnTo>
                  <a:pt x="332" y="195"/>
                </a:lnTo>
                <a:lnTo>
                  <a:pt x="357" y="165"/>
                </a:lnTo>
                <a:lnTo>
                  <a:pt x="376" y="135"/>
                </a:lnTo>
                <a:lnTo>
                  <a:pt x="385" y="105"/>
                </a:lnTo>
                <a:lnTo>
                  <a:pt x="470" y="220"/>
                </a:lnTo>
                <a:lnTo>
                  <a:pt x="492" y="200"/>
                </a:lnTo>
                <a:lnTo>
                  <a:pt x="517" y="175"/>
                </a:lnTo>
                <a:lnTo>
                  <a:pt x="545" y="145"/>
                </a:lnTo>
                <a:lnTo>
                  <a:pt x="570" y="120"/>
                </a:lnTo>
                <a:lnTo>
                  <a:pt x="595" y="95"/>
                </a:lnTo>
                <a:lnTo>
                  <a:pt x="617" y="80"/>
                </a:lnTo>
                <a:lnTo>
                  <a:pt x="633" y="65"/>
                </a:lnTo>
                <a:lnTo>
                  <a:pt x="642" y="60"/>
                </a:lnTo>
                <a:lnTo>
                  <a:pt x="651" y="60"/>
                </a:lnTo>
                <a:lnTo>
                  <a:pt x="670" y="55"/>
                </a:lnTo>
                <a:lnTo>
                  <a:pt x="695" y="55"/>
                </a:lnTo>
                <a:lnTo>
                  <a:pt x="723" y="45"/>
                </a:lnTo>
                <a:lnTo>
                  <a:pt x="752" y="40"/>
                </a:lnTo>
                <a:lnTo>
                  <a:pt x="783" y="30"/>
                </a:lnTo>
                <a:lnTo>
                  <a:pt x="808" y="15"/>
                </a:lnTo>
                <a:lnTo>
                  <a:pt x="830" y="0"/>
                </a:lnTo>
                <a:lnTo>
                  <a:pt x="805" y="35"/>
                </a:lnTo>
                <a:lnTo>
                  <a:pt x="780" y="80"/>
                </a:lnTo>
                <a:lnTo>
                  <a:pt x="755" y="130"/>
                </a:lnTo>
                <a:lnTo>
                  <a:pt x="730" y="185"/>
                </a:lnTo>
                <a:lnTo>
                  <a:pt x="708" y="240"/>
                </a:lnTo>
                <a:lnTo>
                  <a:pt x="689" y="294"/>
                </a:lnTo>
                <a:lnTo>
                  <a:pt x="673" y="344"/>
                </a:lnTo>
                <a:lnTo>
                  <a:pt x="661" y="384"/>
                </a:lnTo>
                <a:lnTo>
                  <a:pt x="645" y="359"/>
                </a:lnTo>
                <a:lnTo>
                  <a:pt x="629" y="334"/>
                </a:lnTo>
                <a:lnTo>
                  <a:pt x="617" y="309"/>
                </a:lnTo>
                <a:lnTo>
                  <a:pt x="611" y="294"/>
                </a:lnTo>
                <a:lnTo>
                  <a:pt x="611" y="275"/>
                </a:lnTo>
                <a:lnTo>
                  <a:pt x="614" y="250"/>
                </a:lnTo>
                <a:lnTo>
                  <a:pt x="614" y="235"/>
                </a:lnTo>
                <a:lnTo>
                  <a:pt x="614" y="225"/>
                </a:lnTo>
                <a:lnTo>
                  <a:pt x="592" y="245"/>
                </a:lnTo>
                <a:lnTo>
                  <a:pt x="576" y="275"/>
                </a:lnTo>
                <a:lnTo>
                  <a:pt x="567" y="299"/>
                </a:lnTo>
                <a:lnTo>
                  <a:pt x="564" y="324"/>
                </a:lnTo>
                <a:lnTo>
                  <a:pt x="535" y="369"/>
                </a:lnTo>
                <a:lnTo>
                  <a:pt x="507" y="429"/>
                </a:lnTo>
                <a:lnTo>
                  <a:pt x="479" y="489"/>
                </a:lnTo>
                <a:lnTo>
                  <a:pt x="457" y="564"/>
                </a:lnTo>
                <a:lnTo>
                  <a:pt x="435" y="638"/>
                </a:lnTo>
                <a:lnTo>
                  <a:pt x="420" y="718"/>
                </a:lnTo>
                <a:lnTo>
                  <a:pt x="413" y="798"/>
                </a:lnTo>
                <a:lnTo>
                  <a:pt x="413" y="877"/>
                </a:lnTo>
                <a:lnTo>
                  <a:pt x="391" y="877"/>
                </a:lnTo>
                <a:lnTo>
                  <a:pt x="366" y="872"/>
                </a:lnTo>
                <a:lnTo>
                  <a:pt x="344" y="872"/>
                </a:lnTo>
                <a:lnTo>
                  <a:pt x="322" y="867"/>
                </a:lnTo>
                <a:lnTo>
                  <a:pt x="301" y="862"/>
                </a:lnTo>
                <a:lnTo>
                  <a:pt x="279" y="857"/>
                </a:lnTo>
                <a:lnTo>
                  <a:pt x="260" y="853"/>
                </a:lnTo>
                <a:lnTo>
                  <a:pt x="244" y="848"/>
                </a:lnTo>
                <a:lnTo>
                  <a:pt x="272" y="748"/>
                </a:lnTo>
                <a:lnTo>
                  <a:pt x="297" y="633"/>
                </a:lnTo>
                <a:lnTo>
                  <a:pt x="313" y="524"/>
                </a:lnTo>
                <a:lnTo>
                  <a:pt x="319" y="444"/>
                </a:lnTo>
                <a:lnTo>
                  <a:pt x="291" y="479"/>
                </a:lnTo>
                <a:lnTo>
                  <a:pt x="257" y="514"/>
                </a:lnTo>
                <a:lnTo>
                  <a:pt x="222" y="549"/>
                </a:lnTo>
                <a:lnTo>
                  <a:pt x="188" y="583"/>
                </a:lnTo>
                <a:lnTo>
                  <a:pt x="153" y="618"/>
                </a:lnTo>
                <a:lnTo>
                  <a:pt x="119" y="648"/>
                </a:lnTo>
                <a:lnTo>
                  <a:pt x="94" y="673"/>
                </a:lnTo>
                <a:lnTo>
                  <a:pt x="72" y="693"/>
                </a:lnTo>
                <a:lnTo>
                  <a:pt x="50" y="683"/>
                </a:lnTo>
                <a:lnTo>
                  <a:pt x="25" y="658"/>
                </a:lnTo>
                <a:lnTo>
                  <a:pt x="6" y="638"/>
                </a:lnTo>
                <a:lnTo>
                  <a:pt x="0" y="6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17"/>
          <p:cNvSpPr/>
          <p:nvPr/>
        </p:nvSpPr>
        <p:spPr>
          <a:xfrm>
            <a:off x="1601640" y="561960"/>
            <a:ext cx="277920" cy="600120"/>
          </a:xfrm>
          <a:custGeom>
            <a:avLst/>
            <a:gdLst>
              <a:gd name="textAreaLeft" fmla="*/ 0 w 277920"/>
              <a:gd name="textAreaRight" fmla="*/ 278280 w 2779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75" h="378">
                <a:moveTo>
                  <a:pt x="137" y="0"/>
                </a:moveTo>
                <a:lnTo>
                  <a:pt x="134" y="40"/>
                </a:lnTo>
                <a:lnTo>
                  <a:pt x="131" y="104"/>
                </a:lnTo>
                <a:lnTo>
                  <a:pt x="131" y="169"/>
                </a:lnTo>
                <a:lnTo>
                  <a:pt x="137" y="204"/>
                </a:lnTo>
                <a:lnTo>
                  <a:pt x="153" y="224"/>
                </a:lnTo>
                <a:lnTo>
                  <a:pt x="166" y="264"/>
                </a:lnTo>
                <a:lnTo>
                  <a:pt x="175" y="314"/>
                </a:lnTo>
                <a:lnTo>
                  <a:pt x="166" y="378"/>
                </a:lnTo>
                <a:lnTo>
                  <a:pt x="150" y="354"/>
                </a:lnTo>
                <a:lnTo>
                  <a:pt x="131" y="329"/>
                </a:lnTo>
                <a:lnTo>
                  <a:pt x="112" y="299"/>
                </a:lnTo>
                <a:lnTo>
                  <a:pt x="90" y="264"/>
                </a:lnTo>
                <a:lnTo>
                  <a:pt x="65" y="239"/>
                </a:lnTo>
                <a:lnTo>
                  <a:pt x="43" y="214"/>
                </a:lnTo>
                <a:lnTo>
                  <a:pt x="21" y="204"/>
                </a:lnTo>
                <a:lnTo>
                  <a:pt x="0" y="199"/>
                </a:lnTo>
                <a:lnTo>
                  <a:pt x="6" y="164"/>
                </a:lnTo>
                <a:lnTo>
                  <a:pt x="18" y="134"/>
                </a:lnTo>
                <a:lnTo>
                  <a:pt x="34" y="104"/>
                </a:lnTo>
                <a:lnTo>
                  <a:pt x="53" y="75"/>
                </a:lnTo>
                <a:lnTo>
                  <a:pt x="75" y="50"/>
                </a:lnTo>
                <a:lnTo>
                  <a:pt x="97" y="30"/>
                </a:lnTo>
                <a:lnTo>
                  <a:pt x="119" y="10"/>
                </a:lnTo>
                <a:lnTo>
                  <a:pt x="1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18"/>
          <p:cNvSpPr/>
          <p:nvPr/>
        </p:nvSpPr>
        <p:spPr>
          <a:xfrm>
            <a:off x="1949400" y="625320"/>
            <a:ext cx="154080" cy="308160"/>
          </a:xfrm>
          <a:custGeom>
            <a:avLst/>
            <a:gdLst>
              <a:gd name="textAreaLeft" fmla="*/ 0 w 154080"/>
              <a:gd name="textAreaRight" fmla="*/ 154440 w 1540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97" h="194">
                <a:moveTo>
                  <a:pt x="3" y="39"/>
                </a:moveTo>
                <a:lnTo>
                  <a:pt x="15" y="30"/>
                </a:lnTo>
                <a:lnTo>
                  <a:pt x="47" y="15"/>
                </a:lnTo>
                <a:lnTo>
                  <a:pt x="78" y="0"/>
                </a:lnTo>
                <a:lnTo>
                  <a:pt x="94" y="0"/>
                </a:lnTo>
                <a:lnTo>
                  <a:pt x="97" y="20"/>
                </a:lnTo>
                <a:lnTo>
                  <a:pt x="91" y="49"/>
                </a:lnTo>
                <a:lnTo>
                  <a:pt x="78" y="79"/>
                </a:lnTo>
                <a:lnTo>
                  <a:pt x="62" y="89"/>
                </a:lnTo>
                <a:lnTo>
                  <a:pt x="50" y="114"/>
                </a:lnTo>
                <a:lnTo>
                  <a:pt x="44" y="149"/>
                </a:lnTo>
                <a:lnTo>
                  <a:pt x="41" y="179"/>
                </a:lnTo>
                <a:lnTo>
                  <a:pt x="41" y="189"/>
                </a:lnTo>
                <a:lnTo>
                  <a:pt x="34" y="194"/>
                </a:lnTo>
                <a:lnTo>
                  <a:pt x="25" y="194"/>
                </a:lnTo>
                <a:lnTo>
                  <a:pt x="12" y="189"/>
                </a:lnTo>
                <a:lnTo>
                  <a:pt x="3" y="169"/>
                </a:lnTo>
                <a:lnTo>
                  <a:pt x="0" y="134"/>
                </a:lnTo>
                <a:lnTo>
                  <a:pt x="0" y="104"/>
                </a:lnTo>
                <a:lnTo>
                  <a:pt x="0" y="74"/>
                </a:lnTo>
                <a:lnTo>
                  <a:pt x="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19"/>
          <p:cNvSpPr/>
          <p:nvPr/>
        </p:nvSpPr>
        <p:spPr>
          <a:xfrm>
            <a:off x="988920" y="316080"/>
            <a:ext cx="3143520" cy="3062160"/>
          </a:xfrm>
          <a:custGeom>
            <a:avLst/>
            <a:gdLst>
              <a:gd name="textAreaLeft" fmla="*/ 0 w 3143520"/>
              <a:gd name="textAreaRight" fmla="*/ 3143880 w 3143520"/>
              <a:gd name="textAreaTop" fmla="*/ 0 h 3062160"/>
              <a:gd name="textAreaBottom" fmla="*/ 3062520 h 3062160"/>
            </a:gdLst>
            <a:ahLst/>
            <a:rect l="textAreaLeft" t="textAreaTop" r="textAreaRight" b="textAreaBottom"/>
            <a:pathLst>
              <a:path w="1980" h="1929">
                <a:moveTo>
                  <a:pt x="780" y="85"/>
                </a:moveTo>
                <a:lnTo>
                  <a:pt x="790" y="100"/>
                </a:lnTo>
                <a:lnTo>
                  <a:pt x="802" y="120"/>
                </a:lnTo>
                <a:lnTo>
                  <a:pt x="815" y="150"/>
                </a:lnTo>
                <a:lnTo>
                  <a:pt x="830" y="180"/>
                </a:lnTo>
                <a:lnTo>
                  <a:pt x="843" y="210"/>
                </a:lnTo>
                <a:lnTo>
                  <a:pt x="859" y="239"/>
                </a:lnTo>
                <a:lnTo>
                  <a:pt x="874" y="269"/>
                </a:lnTo>
                <a:lnTo>
                  <a:pt x="887" y="289"/>
                </a:lnTo>
                <a:lnTo>
                  <a:pt x="902" y="309"/>
                </a:lnTo>
                <a:lnTo>
                  <a:pt x="921" y="339"/>
                </a:lnTo>
                <a:lnTo>
                  <a:pt x="940" y="374"/>
                </a:lnTo>
                <a:lnTo>
                  <a:pt x="962" y="419"/>
                </a:lnTo>
                <a:lnTo>
                  <a:pt x="981" y="464"/>
                </a:lnTo>
                <a:lnTo>
                  <a:pt x="1003" y="509"/>
                </a:lnTo>
                <a:lnTo>
                  <a:pt x="1021" y="558"/>
                </a:lnTo>
                <a:lnTo>
                  <a:pt x="1037" y="608"/>
                </a:lnTo>
                <a:lnTo>
                  <a:pt x="1021" y="673"/>
                </a:lnTo>
                <a:lnTo>
                  <a:pt x="1006" y="748"/>
                </a:lnTo>
                <a:lnTo>
                  <a:pt x="990" y="827"/>
                </a:lnTo>
                <a:lnTo>
                  <a:pt x="981" y="897"/>
                </a:lnTo>
                <a:lnTo>
                  <a:pt x="971" y="867"/>
                </a:lnTo>
                <a:lnTo>
                  <a:pt x="956" y="842"/>
                </a:lnTo>
                <a:lnTo>
                  <a:pt x="940" y="817"/>
                </a:lnTo>
                <a:lnTo>
                  <a:pt x="921" y="798"/>
                </a:lnTo>
                <a:lnTo>
                  <a:pt x="902" y="783"/>
                </a:lnTo>
                <a:lnTo>
                  <a:pt x="887" y="768"/>
                </a:lnTo>
                <a:lnTo>
                  <a:pt x="874" y="758"/>
                </a:lnTo>
                <a:lnTo>
                  <a:pt x="865" y="753"/>
                </a:lnTo>
                <a:lnTo>
                  <a:pt x="849" y="753"/>
                </a:lnTo>
                <a:lnTo>
                  <a:pt x="833" y="753"/>
                </a:lnTo>
                <a:lnTo>
                  <a:pt x="815" y="758"/>
                </a:lnTo>
                <a:lnTo>
                  <a:pt x="796" y="758"/>
                </a:lnTo>
                <a:lnTo>
                  <a:pt x="793" y="728"/>
                </a:lnTo>
                <a:lnTo>
                  <a:pt x="780" y="688"/>
                </a:lnTo>
                <a:lnTo>
                  <a:pt x="765" y="638"/>
                </a:lnTo>
                <a:lnTo>
                  <a:pt x="746" y="583"/>
                </a:lnTo>
                <a:lnTo>
                  <a:pt x="733" y="593"/>
                </a:lnTo>
                <a:lnTo>
                  <a:pt x="714" y="613"/>
                </a:lnTo>
                <a:lnTo>
                  <a:pt x="692" y="648"/>
                </a:lnTo>
                <a:lnTo>
                  <a:pt x="667" y="683"/>
                </a:lnTo>
                <a:lnTo>
                  <a:pt x="642" y="723"/>
                </a:lnTo>
                <a:lnTo>
                  <a:pt x="624" y="758"/>
                </a:lnTo>
                <a:lnTo>
                  <a:pt x="611" y="788"/>
                </a:lnTo>
                <a:lnTo>
                  <a:pt x="605" y="808"/>
                </a:lnTo>
                <a:lnTo>
                  <a:pt x="592" y="852"/>
                </a:lnTo>
                <a:lnTo>
                  <a:pt x="564" y="922"/>
                </a:lnTo>
                <a:lnTo>
                  <a:pt x="536" y="987"/>
                </a:lnTo>
                <a:lnTo>
                  <a:pt x="514" y="1027"/>
                </a:lnTo>
                <a:lnTo>
                  <a:pt x="511" y="1062"/>
                </a:lnTo>
                <a:lnTo>
                  <a:pt x="520" y="1116"/>
                </a:lnTo>
                <a:lnTo>
                  <a:pt x="536" y="1176"/>
                </a:lnTo>
                <a:lnTo>
                  <a:pt x="555" y="1226"/>
                </a:lnTo>
                <a:lnTo>
                  <a:pt x="558" y="1251"/>
                </a:lnTo>
                <a:lnTo>
                  <a:pt x="552" y="1281"/>
                </a:lnTo>
                <a:lnTo>
                  <a:pt x="539" y="1321"/>
                </a:lnTo>
                <a:lnTo>
                  <a:pt x="520" y="1356"/>
                </a:lnTo>
                <a:lnTo>
                  <a:pt x="501" y="1395"/>
                </a:lnTo>
                <a:lnTo>
                  <a:pt x="483" y="1425"/>
                </a:lnTo>
                <a:lnTo>
                  <a:pt x="464" y="1455"/>
                </a:lnTo>
                <a:lnTo>
                  <a:pt x="448" y="1470"/>
                </a:lnTo>
                <a:lnTo>
                  <a:pt x="439" y="1425"/>
                </a:lnTo>
                <a:lnTo>
                  <a:pt x="420" y="1361"/>
                </a:lnTo>
                <a:lnTo>
                  <a:pt x="398" y="1306"/>
                </a:lnTo>
                <a:lnTo>
                  <a:pt x="376" y="1266"/>
                </a:lnTo>
                <a:lnTo>
                  <a:pt x="364" y="1276"/>
                </a:lnTo>
                <a:lnTo>
                  <a:pt x="348" y="1306"/>
                </a:lnTo>
                <a:lnTo>
                  <a:pt x="326" y="1351"/>
                </a:lnTo>
                <a:lnTo>
                  <a:pt x="301" y="1395"/>
                </a:lnTo>
                <a:lnTo>
                  <a:pt x="279" y="1445"/>
                </a:lnTo>
                <a:lnTo>
                  <a:pt x="254" y="1490"/>
                </a:lnTo>
                <a:lnTo>
                  <a:pt x="235" y="1525"/>
                </a:lnTo>
                <a:lnTo>
                  <a:pt x="223" y="1545"/>
                </a:lnTo>
                <a:lnTo>
                  <a:pt x="207" y="1555"/>
                </a:lnTo>
                <a:lnTo>
                  <a:pt x="185" y="1570"/>
                </a:lnTo>
                <a:lnTo>
                  <a:pt x="154" y="1580"/>
                </a:lnTo>
                <a:lnTo>
                  <a:pt x="122" y="1595"/>
                </a:lnTo>
                <a:lnTo>
                  <a:pt x="85" y="1610"/>
                </a:lnTo>
                <a:lnTo>
                  <a:pt x="54" y="1625"/>
                </a:lnTo>
                <a:lnTo>
                  <a:pt x="22" y="1640"/>
                </a:lnTo>
                <a:lnTo>
                  <a:pt x="0" y="1660"/>
                </a:lnTo>
                <a:lnTo>
                  <a:pt x="50" y="1674"/>
                </a:lnTo>
                <a:lnTo>
                  <a:pt x="101" y="1689"/>
                </a:lnTo>
                <a:lnTo>
                  <a:pt x="151" y="1704"/>
                </a:lnTo>
                <a:lnTo>
                  <a:pt x="201" y="1714"/>
                </a:lnTo>
                <a:lnTo>
                  <a:pt x="248" y="1724"/>
                </a:lnTo>
                <a:lnTo>
                  <a:pt x="288" y="1729"/>
                </a:lnTo>
                <a:lnTo>
                  <a:pt x="329" y="1734"/>
                </a:lnTo>
                <a:lnTo>
                  <a:pt x="360" y="1734"/>
                </a:lnTo>
                <a:lnTo>
                  <a:pt x="411" y="1734"/>
                </a:lnTo>
                <a:lnTo>
                  <a:pt x="464" y="1729"/>
                </a:lnTo>
                <a:lnTo>
                  <a:pt x="523" y="1719"/>
                </a:lnTo>
                <a:lnTo>
                  <a:pt x="580" y="1714"/>
                </a:lnTo>
                <a:lnTo>
                  <a:pt x="630" y="1709"/>
                </a:lnTo>
                <a:lnTo>
                  <a:pt x="674" y="1709"/>
                </a:lnTo>
                <a:lnTo>
                  <a:pt x="708" y="1709"/>
                </a:lnTo>
                <a:lnTo>
                  <a:pt x="730" y="1714"/>
                </a:lnTo>
                <a:lnTo>
                  <a:pt x="730" y="1704"/>
                </a:lnTo>
                <a:lnTo>
                  <a:pt x="730" y="1674"/>
                </a:lnTo>
                <a:lnTo>
                  <a:pt x="730" y="1640"/>
                </a:lnTo>
                <a:lnTo>
                  <a:pt x="730" y="1615"/>
                </a:lnTo>
                <a:lnTo>
                  <a:pt x="736" y="1590"/>
                </a:lnTo>
                <a:lnTo>
                  <a:pt x="752" y="1560"/>
                </a:lnTo>
                <a:lnTo>
                  <a:pt x="774" y="1535"/>
                </a:lnTo>
                <a:lnTo>
                  <a:pt x="793" y="1510"/>
                </a:lnTo>
                <a:lnTo>
                  <a:pt x="793" y="1495"/>
                </a:lnTo>
                <a:lnTo>
                  <a:pt x="796" y="1455"/>
                </a:lnTo>
                <a:lnTo>
                  <a:pt x="802" y="1395"/>
                </a:lnTo>
                <a:lnTo>
                  <a:pt x="812" y="1331"/>
                </a:lnTo>
                <a:lnTo>
                  <a:pt x="833" y="1381"/>
                </a:lnTo>
                <a:lnTo>
                  <a:pt x="859" y="1460"/>
                </a:lnTo>
                <a:lnTo>
                  <a:pt x="880" y="1540"/>
                </a:lnTo>
                <a:lnTo>
                  <a:pt x="899" y="1590"/>
                </a:lnTo>
                <a:lnTo>
                  <a:pt x="909" y="1610"/>
                </a:lnTo>
                <a:lnTo>
                  <a:pt x="918" y="1635"/>
                </a:lnTo>
                <a:lnTo>
                  <a:pt x="931" y="1670"/>
                </a:lnTo>
                <a:lnTo>
                  <a:pt x="946" y="1709"/>
                </a:lnTo>
                <a:lnTo>
                  <a:pt x="962" y="1754"/>
                </a:lnTo>
                <a:lnTo>
                  <a:pt x="978" y="1794"/>
                </a:lnTo>
                <a:lnTo>
                  <a:pt x="993" y="1829"/>
                </a:lnTo>
                <a:lnTo>
                  <a:pt x="1012" y="1859"/>
                </a:lnTo>
                <a:lnTo>
                  <a:pt x="1053" y="1869"/>
                </a:lnTo>
                <a:lnTo>
                  <a:pt x="1103" y="1879"/>
                </a:lnTo>
                <a:lnTo>
                  <a:pt x="1156" y="1889"/>
                </a:lnTo>
                <a:lnTo>
                  <a:pt x="1212" y="1894"/>
                </a:lnTo>
                <a:lnTo>
                  <a:pt x="1269" y="1904"/>
                </a:lnTo>
                <a:lnTo>
                  <a:pt x="1319" y="1914"/>
                </a:lnTo>
                <a:lnTo>
                  <a:pt x="1363" y="1919"/>
                </a:lnTo>
                <a:lnTo>
                  <a:pt x="1397" y="1929"/>
                </a:lnTo>
                <a:lnTo>
                  <a:pt x="1372" y="1894"/>
                </a:lnTo>
                <a:lnTo>
                  <a:pt x="1347" y="1854"/>
                </a:lnTo>
                <a:lnTo>
                  <a:pt x="1319" y="1814"/>
                </a:lnTo>
                <a:lnTo>
                  <a:pt x="1291" y="1774"/>
                </a:lnTo>
                <a:lnTo>
                  <a:pt x="1266" y="1734"/>
                </a:lnTo>
                <a:lnTo>
                  <a:pt x="1247" y="1704"/>
                </a:lnTo>
                <a:lnTo>
                  <a:pt x="1231" y="1679"/>
                </a:lnTo>
                <a:lnTo>
                  <a:pt x="1222" y="1670"/>
                </a:lnTo>
                <a:lnTo>
                  <a:pt x="1206" y="1660"/>
                </a:lnTo>
                <a:lnTo>
                  <a:pt x="1184" y="1650"/>
                </a:lnTo>
                <a:lnTo>
                  <a:pt x="1159" y="1640"/>
                </a:lnTo>
                <a:lnTo>
                  <a:pt x="1134" y="1635"/>
                </a:lnTo>
                <a:lnTo>
                  <a:pt x="1128" y="1605"/>
                </a:lnTo>
                <a:lnTo>
                  <a:pt x="1134" y="1565"/>
                </a:lnTo>
                <a:lnTo>
                  <a:pt x="1144" y="1525"/>
                </a:lnTo>
                <a:lnTo>
                  <a:pt x="1156" y="1495"/>
                </a:lnTo>
                <a:lnTo>
                  <a:pt x="1162" y="1460"/>
                </a:lnTo>
                <a:lnTo>
                  <a:pt x="1159" y="1400"/>
                </a:lnTo>
                <a:lnTo>
                  <a:pt x="1153" y="1341"/>
                </a:lnTo>
                <a:lnTo>
                  <a:pt x="1140" y="1291"/>
                </a:lnTo>
                <a:lnTo>
                  <a:pt x="1122" y="1221"/>
                </a:lnTo>
                <a:lnTo>
                  <a:pt x="1093" y="1121"/>
                </a:lnTo>
                <a:lnTo>
                  <a:pt x="1068" y="1027"/>
                </a:lnTo>
                <a:lnTo>
                  <a:pt x="1059" y="957"/>
                </a:lnTo>
                <a:lnTo>
                  <a:pt x="1062" y="912"/>
                </a:lnTo>
                <a:lnTo>
                  <a:pt x="1068" y="867"/>
                </a:lnTo>
                <a:lnTo>
                  <a:pt x="1075" y="832"/>
                </a:lnTo>
                <a:lnTo>
                  <a:pt x="1087" y="808"/>
                </a:lnTo>
                <a:lnTo>
                  <a:pt x="1106" y="788"/>
                </a:lnTo>
                <a:lnTo>
                  <a:pt x="1131" y="758"/>
                </a:lnTo>
                <a:lnTo>
                  <a:pt x="1153" y="738"/>
                </a:lnTo>
                <a:lnTo>
                  <a:pt x="1172" y="728"/>
                </a:lnTo>
                <a:lnTo>
                  <a:pt x="1197" y="783"/>
                </a:lnTo>
                <a:lnTo>
                  <a:pt x="1228" y="847"/>
                </a:lnTo>
                <a:lnTo>
                  <a:pt x="1263" y="922"/>
                </a:lnTo>
                <a:lnTo>
                  <a:pt x="1297" y="997"/>
                </a:lnTo>
                <a:lnTo>
                  <a:pt x="1331" y="1067"/>
                </a:lnTo>
                <a:lnTo>
                  <a:pt x="1360" y="1126"/>
                </a:lnTo>
                <a:lnTo>
                  <a:pt x="1382" y="1176"/>
                </a:lnTo>
                <a:lnTo>
                  <a:pt x="1397" y="1206"/>
                </a:lnTo>
                <a:lnTo>
                  <a:pt x="1410" y="1226"/>
                </a:lnTo>
                <a:lnTo>
                  <a:pt x="1429" y="1256"/>
                </a:lnTo>
                <a:lnTo>
                  <a:pt x="1447" y="1291"/>
                </a:lnTo>
                <a:lnTo>
                  <a:pt x="1466" y="1326"/>
                </a:lnTo>
                <a:lnTo>
                  <a:pt x="1485" y="1361"/>
                </a:lnTo>
                <a:lnTo>
                  <a:pt x="1501" y="1390"/>
                </a:lnTo>
                <a:lnTo>
                  <a:pt x="1513" y="1420"/>
                </a:lnTo>
                <a:lnTo>
                  <a:pt x="1516" y="1445"/>
                </a:lnTo>
                <a:lnTo>
                  <a:pt x="1516" y="1495"/>
                </a:lnTo>
                <a:lnTo>
                  <a:pt x="1516" y="1550"/>
                </a:lnTo>
                <a:lnTo>
                  <a:pt x="1516" y="1605"/>
                </a:lnTo>
                <a:lnTo>
                  <a:pt x="1513" y="1660"/>
                </a:lnTo>
                <a:lnTo>
                  <a:pt x="1516" y="1709"/>
                </a:lnTo>
                <a:lnTo>
                  <a:pt x="1532" y="1754"/>
                </a:lnTo>
                <a:lnTo>
                  <a:pt x="1554" y="1794"/>
                </a:lnTo>
                <a:lnTo>
                  <a:pt x="1576" y="1809"/>
                </a:lnTo>
                <a:lnTo>
                  <a:pt x="1588" y="1804"/>
                </a:lnTo>
                <a:lnTo>
                  <a:pt x="1604" y="1789"/>
                </a:lnTo>
                <a:lnTo>
                  <a:pt x="1623" y="1774"/>
                </a:lnTo>
                <a:lnTo>
                  <a:pt x="1642" y="1749"/>
                </a:lnTo>
                <a:lnTo>
                  <a:pt x="1660" y="1724"/>
                </a:lnTo>
                <a:lnTo>
                  <a:pt x="1679" y="1699"/>
                </a:lnTo>
                <a:lnTo>
                  <a:pt x="1692" y="1679"/>
                </a:lnTo>
                <a:lnTo>
                  <a:pt x="1701" y="1665"/>
                </a:lnTo>
                <a:lnTo>
                  <a:pt x="1710" y="1645"/>
                </a:lnTo>
                <a:lnTo>
                  <a:pt x="1720" y="1615"/>
                </a:lnTo>
                <a:lnTo>
                  <a:pt x="1735" y="1575"/>
                </a:lnTo>
                <a:lnTo>
                  <a:pt x="1754" y="1535"/>
                </a:lnTo>
                <a:lnTo>
                  <a:pt x="1770" y="1495"/>
                </a:lnTo>
                <a:lnTo>
                  <a:pt x="1786" y="1455"/>
                </a:lnTo>
                <a:lnTo>
                  <a:pt x="1801" y="1425"/>
                </a:lnTo>
                <a:lnTo>
                  <a:pt x="1814" y="1405"/>
                </a:lnTo>
                <a:lnTo>
                  <a:pt x="1836" y="1371"/>
                </a:lnTo>
                <a:lnTo>
                  <a:pt x="1864" y="1321"/>
                </a:lnTo>
                <a:lnTo>
                  <a:pt x="1886" y="1281"/>
                </a:lnTo>
                <a:lnTo>
                  <a:pt x="1905" y="1251"/>
                </a:lnTo>
                <a:lnTo>
                  <a:pt x="1923" y="1226"/>
                </a:lnTo>
                <a:lnTo>
                  <a:pt x="1948" y="1191"/>
                </a:lnTo>
                <a:lnTo>
                  <a:pt x="1970" y="1166"/>
                </a:lnTo>
                <a:lnTo>
                  <a:pt x="1980" y="1151"/>
                </a:lnTo>
                <a:lnTo>
                  <a:pt x="1961" y="1166"/>
                </a:lnTo>
                <a:lnTo>
                  <a:pt x="1939" y="1186"/>
                </a:lnTo>
                <a:lnTo>
                  <a:pt x="1917" y="1201"/>
                </a:lnTo>
                <a:lnTo>
                  <a:pt x="1889" y="1216"/>
                </a:lnTo>
                <a:lnTo>
                  <a:pt x="1861" y="1236"/>
                </a:lnTo>
                <a:lnTo>
                  <a:pt x="1833" y="1251"/>
                </a:lnTo>
                <a:lnTo>
                  <a:pt x="1804" y="1261"/>
                </a:lnTo>
                <a:lnTo>
                  <a:pt x="1779" y="1271"/>
                </a:lnTo>
                <a:lnTo>
                  <a:pt x="1754" y="1281"/>
                </a:lnTo>
                <a:lnTo>
                  <a:pt x="1732" y="1296"/>
                </a:lnTo>
                <a:lnTo>
                  <a:pt x="1710" y="1311"/>
                </a:lnTo>
                <a:lnTo>
                  <a:pt x="1689" y="1331"/>
                </a:lnTo>
                <a:lnTo>
                  <a:pt x="1670" y="1346"/>
                </a:lnTo>
                <a:lnTo>
                  <a:pt x="1654" y="1361"/>
                </a:lnTo>
                <a:lnTo>
                  <a:pt x="1638" y="1376"/>
                </a:lnTo>
                <a:lnTo>
                  <a:pt x="1629" y="1381"/>
                </a:lnTo>
                <a:lnTo>
                  <a:pt x="1588" y="1321"/>
                </a:lnTo>
                <a:lnTo>
                  <a:pt x="1541" y="1251"/>
                </a:lnTo>
                <a:lnTo>
                  <a:pt x="1494" y="1171"/>
                </a:lnTo>
                <a:lnTo>
                  <a:pt x="1444" y="1087"/>
                </a:lnTo>
                <a:lnTo>
                  <a:pt x="1394" y="1007"/>
                </a:lnTo>
                <a:lnTo>
                  <a:pt x="1350" y="932"/>
                </a:lnTo>
                <a:lnTo>
                  <a:pt x="1316" y="862"/>
                </a:lnTo>
                <a:lnTo>
                  <a:pt x="1288" y="812"/>
                </a:lnTo>
                <a:lnTo>
                  <a:pt x="1266" y="763"/>
                </a:lnTo>
                <a:lnTo>
                  <a:pt x="1234" y="708"/>
                </a:lnTo>
                <a:lnTo>
                  <a:pt x="1203" y="643"/>
                </a:lnTo>
                <a:lnTo>
                  <a:pt x="1169" y="578"/>
                </a:lnTo>
                <a:lnTo>
                  <a:pt x="1131" y="514"/>
                </a:lnTo>
                <a:lnTo>
                  <a:pt x="1097" y="459"/>
                </a:lnTo>
                <a:lnTo>
                  <a:pt x="1065" y="409"/>
                </a:lnTo>
                <a:lnTo>
                  <a:pt x="1040" y="379"/>
                </a:lnTo>
                <a:lnTo>
                  <a:pt x="1018" y="354"/>
                </a:lnTo>
                <a:lnTo>
                  <a:pt x="999" y="339"/>
                </a:lnTo>
                <a:lnTo>
                  <a:pt x="981" y="319"/>
                </a:lnTo>
                <a:lnTo>
                  <a:pt x="965" y="304"/>
                </a:lnTo>
                <a:lnTo>
                  <a:pt x="952" y="289"/>
                </a:lnTo>
                <a:lnTo>
                  <a:pt x="940" y="274"/>
                </a:lnTo>
                <a:lnTo>
                  <a:pt x="927" y="259"/>
                </a:lnTo>
                <a:lnTo>
                  <a:pt x="918" y="244"/>
                </a:lnTo>
                <a:lnTo>
                  <a:pt x="905" y="225"/>
                </a:lnTo>
                <a:lnTo>
                  <a:pt x="890" y="190"/>
                </a:lnTo>
                <a:lnTo>
                  <a:pt x="868" y="155"/>
                </a:lnTo>
                <a:lnTo>
                  <a:pt x="846" y="115"/>
                </a:lnTo>
                <a:lnTo>
                  <a:pt x="821" y="75"/>
                </a:lnTo>
                <a:lnTo>
                  <a:pt x="799" y="40"/>
                </a:lnTo>
                <a:lnTo>
                  <a:pt x="783" y="15"/>
                </a:lnTo>
                <a:lnTo>
                  <a:pt x="771" y="0"/>
                </a:lnTo>
                <a:lnTo>
                  <a:pt x="755" y="5"/>
                </a:lnTo>
                <a:lnTo>
                  <a:pt x="739" y="15"/>
                </a:lnTo>
                <a:lnTo>
                  <a:pt x="724" y="35"/>
                </a:lnTo>
                <a:lnTo>
                  <a:pt x="708" y="55"/>
                </a:lnTo>
                <a:lnTo>
                  <a:pt x="714" y="75"/>
                </a:lnTo>
                <a:lnTo>
                  <a:pt x="733" y="95"/>
                </a:lnTo>
                <a:lnTo>
                  <a:pt x="755" y="100"/>
                </a:lnTo>
                <a:lnTo>
                  <a:pt x="78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20"/>
          <p:cNvSpPr/>
          <p:nvPr/>
        </p:nvSpPr>
        <p:spPr>
          <a:xfrm>
            <a:off x="6041880" y="1273320"/>
            <a:ext cx="1122480" cy="159840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707" h="1007">
                <a:moveTo>
                  <a:pt x="707" y="0"/>
                </a:moveTo>
                <a:lnTo>
                  <a:pt x="670" y="30"/>
                </a:lnTo>
                <a:lnTo>
                  <a:pt x="629" y="65"/>
                </a:lnTo>
                <a:lnTo>
                  <a:pt x="582" y="100"/>
                </a:lnTo>
                <a:lnTo>
                  <a:pt x="535" y="140"/>
                </a:lnTo>
                <a:lnTo>
                  <a:pt x="485" y="180"/>
                </a:lnTo>
                <a:lnTo>
                  <a:pt x="435" y="214"/>
                </a:lnTo>
                <a:lnTo>
                  <a:pt x="385" y="254"/>
                </a:lnTo>
                <a:lnTo>
                  <a:pt x="332" y="294"/>
                </a:lnTo>
                <a:lnTo>
                  <a:pt x="281" y="334"/>
                </a:lnTo>
                <a:lnTo>
                  <a:pt x="231" y="369"/>
                </a:lnTo>
                <a:lnTo>
                  <a:pt x="184" y="399"/>
                </a:lnTo>
                <a:lnTo>
                  <a:pt x="140" y="429"/>
                </a:lnTo>
                <a:lnTo>
                  <a:pt x="97" y="454"/>
                </a:lnTo>
                <a:lnTo>
                  <a:pt x="59" y="479"/>
                </a:lnTo>
                <a:lnTo>
                  <a:pt x="28" y="494"/>
                </a:lnTo>
                <a:lnTo>
                  <a:pt x="0" y="503"/>
                </a:lnTo>
                <a:lnTo>
                  <a:pt x="28" y="518"/>
                </a:lnTo>
                <a:lnTo>
                  <a:pt x="62" y="543"/>
                </a:lnTo>
                <a:lnTo>
                  <a:pt x="100" y="563"/>
                </a:lnTo>
                <a:lnTo>
                  <a:pt x="134" y="583"/>
                </a:lnTo>
                <a:lnTo>
                  <a:pt x="169" y="608"/>
                </a:lnTo>
                <a:lnTo>
                  <a:pt x="197" y="623"/>
                </a:lnTo>
                <a:lnTo>
                  <a:pt x="216" y="633"/>
                </a:lnTo>
                <a:lnTo>
                  <a:pt x="222" y="638"/>
                </a:lnTo>
                <a:lnTo>
                  <a:pt x="234" y="693"/>
                </a:lnTo>
                <a:lnTo>
                  <a:pt x="250" y="748"/>
                </a:lnTo>
                <a:lnTo>
                  <a:pt x="269" y="807"/>
                </a:lnTo>
                <a:lnTo>
                  <a:pt x="288" y="867"/>
                </a:lnTo>
                <a:lnTo>
                  <a:pt x="306" y="922"/>
                </a:lnTo>
                <a:lnTo>
                  <a:pt x="328" y="962"/>
                </a:lnTo>
                <a:lnTo>
                  <a:pt x="347" y="992"/>
                </a:lnTo>
                <a:lnTo>
                  <a:pt x="366" y="1007"/>
                </a:lnTo>
                <a:lnTo>
                  <a:pt x="379" y="947"/>
                </a:lnTo>
                <a:lnTo>
                  <a:pt x="397" y="867"/>
                </a:lnTo>
                <a:lnTo>
                  <a:pt x="416" y="797"/>
                </a:lnTo>
                <a:lnTo>
                  <a:pt x="438" y="763"/>
                </a:lnTo>
                <a:lnTo>
                  <a:pt x="454" y="753"/>
                </a:lnTo>
                <a:lnTo>
                  <a:pt x="476" y="743"/>
                </a:lnTo>
                <a:lnTo>
                  <a:pt x="501" y="733"/>
                </a:lnTo>
                <a:lnTo>
                  <a:pt x="532" y="718"/>
                </a:lnTo>
                <a:lnTo>
                  <a:pt x="560" y="708"/>
                </a:lnTo>
                <a:lnTo>
                  <a:pt x="585" y="698"/>
                </a:lnTo>
                <a:lnTo>
                  <a:pt x="607" y="693"/>
                </a:lnTo>
                <a:lnTo>
                  <a:pt x="623" y="688"/>
                </a:lnTo>
                <a:lnTo>
                  <a:pt x="629" y="648"/>
                </a:lnTo>
                <a:lnTo>
                  <a:pt x="642" y="598"/>
                </a:lnTo>
                <a:lnTo>
                  <a:pt x="657" y="538"/>
                </a:lnTo>
                <a:lnTo>
                  <a:pt x="673" y="484"/>
                </a:lnTo>
                <a:lnTo>
                  <a:pt x="689" y="424"/>
                </a:lnTo>
                <a:lnTo>
                  <a:pt x="701" y="379"/>
                </a:lnTo>
                <a:lnTo>
                  <a:pt x="707" y="344"/>
                </a:lnTo>
                <a:lnTo>
                  <a:pt x="701" y="324"/>
                </a:lnTo>
                <a:lnTo>
                  <a:pt x="676" y="314"/>
                </a:lnTo>
                <a:lnTo>
                  <a:pt x="654" y="314"/>
                </a:lnTo>
                <a:lnTo>
                  <a:pt x="632" y="309"/>
                </a:lnTo>
                <a:lnTo>
                  <a:pt x="623" y="299"/>
                </a:lnTo>
                <a:lnTo>
                  <a:pt x="623" y="274"/>
                </a:lnTo>
                <a:lnTo>
                  <a:pt x="629" y="249"/>
                </a:lnTo>
                <a:lnTo>
                  <a:pt x="639" y="224"/>
                </a:lnTo>
                <a:lnTo>
                  <a:pt x="651" y="209"/>
                </a:lnTo>
                <a:lnTo>
                  <a:pt x="651" y="180"/>
                </a:lnTo>
                <a:lnTo>
                  <a:pt x="651" y="150"/>
                </a:lnTo>
                <a:lnTo>
                  <a:pt x="651" y="120"/>
                </a:lnTo>
                <a:lnTo>
                  <a:pt x="657" y="110"/>
                </a:lnTo>
                <a:lnTo>
                  <a:pt x="670" y="110"/>
                </a:lnTo>
                <a:lnTo>
                  <a:pt x="685" y="105"/>
                </a:lnTo>
                <a:lnTo>
                  <a:pt x="695" y="95"/>
                </a:lnTo>
                <a:lnTo>
                  <a:pt x="701" y="85"/>
                </a:lnTo>
                <a:lnTo>
                  <a:pt x="704" y="65"/>
                </a:lnTo>
                <a:lnTo>
                  <a:pt x="704" y="35"/>
                </a:lnTo>
                <a:lnTo>
                  <a:pt x="707" y="10"/>
                </a:lnTo>
                <a:lnTo>
                  <a:pt x="7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21"/>
          <p:cNvSpPr/>
          <p:nvPr/>
        </p:nvSpPr>
        <p:spPr>
          <a:xfrm>
            <a:off x="7189920" y="3479760"/>
            <a:ext cx="527040" cy="1258920"/>
          </a:xfrm>
          <a:custGeom>
            <a:avLst/>
            <a:gdLst>
              <a:gd name="textAreaLeft" fmla="*/ 0 w 527040"/>
              <a:gd name="textAreaRight" fmla="*/ 527400 w 52704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32" h="793">
                <a:moveTo>
                  <a:pt x="332" y="723"/>
                </a:moveTo>
                <a:lnTo>
                  <a:pt x="298" y="723"/>
                </a:lnTo>
                <a:lnTo>
                  <a:pt x="263" y="723"/>
                </a:lnTo>
                <a:lnTo>
                  <a:pt x="232" y="713"/>
                </a:lnTo>
                <a:lnTo>
                  <a:pt x="201" y="698"/>
                </a:lnTo>
                <a:lnTo>
                  <a:pt x="172" y="678"/>
                </a:lnTo>
                <a:lnTo>
                  <a:pt x="154" y="648"/>
                </a:lnTo>
                <a:lnTo>
                  <a:pt x="141" y="608"/>
                </a:lnTo>
                <a:lnTo>
                  <a:pt x="138" y="553"/>
                </a:lnTo>
                <a:lnTo>
                  <a:pt x="144" y="454"/>
                </a:lnTo>
                <a:lnTo>
                  <a:pt x="147" y="339"/>
                </a:lnTo>
                <a:lnTo>
                  <a:pt x="150" y="235"/>
                </a:lnTo>
                <a:lnTo>
                  <a:pt x="144" y="160"/>
                </a:lnTo>
                <a:lnTo>
                  <a:pt x="138" y="130"/>
                </a:lnTo>
                <a:lnTo>
                  <a:pt x="125" y="95"/>
                </a:lnTo>
                <a:lnTo>
                  <a:pt x="110" y="65"/>
                </a:lnTo>
                <a:lnTo>
                  <a:pt x="91" y="35"/>
                </a:lnTo>
                <a:lnTo>
                  <a:pt x="72" y="15"/>
                </a:lnTo>
                <a:lnTo>
                  <a:pt x="50" y="0"/>
                </a:lnTo>
                <a:lnTo>
                  <a:pt x="28" y="0"/>
                </a:lnTo>
                <a:lnTo>
                  <a:pt x="9" y="15"/>
                </a:lnTo>
                <a:lnTo>
                  <a:pt x="0" y="75"/>
                </a:lnTo>
                <a:lnTo>
                  <a:pt x="3" y="125"/>
                </a:lnTo>
                <a:lnTo>
                  <a:pt x="16" y="160"/>
                </a:lnTo>
                <a:lnTo>
                  <a:pt x="38" y="170"/>
                </a:lnTo>
                <a:lnTo>
                  <a:pt x="60" y="180"/>
                </a:lnTo>
                <a:lnTo>
                  <a:pt x="72" y="195"/>
                </a:lnTo>
                <a:lnTo>
                  <a:pt x="78" y="220"/>
                </a:lnTo>
                <a:lnTo>
                  <a:pt x="82" y="255"/>
                </a:lnTo>
                <a:lnTo>
                  <a:pt x="82" y="314"/>
                </a:lnTo>
                <a:lnTo>
                  <a:pt x="75" y="409"/>
                </a:lnTo>
                <a:lnTo>
                  <a:pt x="69" y="529"/>
                </a:lnTo>
                <a:lnTo>
                  <a:pt x="66" y="643"/>
                </a:lnTo>
                <a:lnTo>
                  <a:pt x="88" y="678"/>
                </a:lnTo>
                <a:lnTo>
                  <a:pt x="116" y="718"/>
                </a:lnTo>
                <a:lnTo>
                  <a:pt x="144" y="748"/>
                </a:lnTo>
                <a:lnTo>
                  <a:pt x="182" y="778"/>
                </a:lnTo>
                <a:lnTo>
                  <a:pt x="216" y="793"/>
                </a:lnTo>
                <a:lnTo>
                  <a:pt x="254" y="793"/>
                </a:lnTo>
                <a:lnTo>
                  <a:pt x="294" y="768"/>
                </a:lnTo>
                <a:lnTo>
                  <a:pt x="332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22"/>
          <p:cNvSpPr/>
          <p:nvPr/>
        </p:nvSpPr>
        <p:spPr>
          <a:xfrm>
            <a:off x="304920" y="3048120"/>
            <a:ext cx="5816520" cy="2998800"/>
          </a:xfrm>
          <a:custGeom>
            <a:avLst/>
            <a:gdLst>
              <a:gd name="textAreaLeft" fmla="*/ 0 w 5816520"/>
              <a:gd name="textAreaRight" fmla="*/ 5816880 w 5816520"/>
              <a:gd name="textAreaTop" fmla="*/ 0 h 2998800"/>
              <a:gd name="textAreaBottom" fmla="*/ 2999160 h 2998800"/>
            </a:gdLst>
            <a:ahLst/>
            <a:rect l="textAreaLeft" t="textAreaTop" r="textAreaRight" b="textAreaBottom"/>
            <a:pathLst>
              <a:path w="3664" h="1889">
                <a:moveTo>
                  <a:pt x="3664" y="1864"/>
                </a:moveTo>
                <a:lnTo>
                  <a:pt x="3611" y="1864"/>
                </a:lnTo>
                <a:lnTo>
                  <a:pt x="3551" y="1859"/>
                </a:lnTo>
                <a:lnTo>
                  <a:pt x="3492" y="1849"/>
                </a:lnTo>
                <a:lnTo>
                  <a:pt x="3426" y="1834"/>
                </a:lnTo>
                <a:lnTo>
                  <a:pt x="3357" y="1819"/>
                </a:lnTo>
                <a:lnTo>
                  <a:pt x="3285" y="1794"/>
                </a:lnTo>
                <a:lnTo>
                  <a:pt x="3210" y="1769"/>
                </a:lnTo>
                <a:lnTo>
                  <a:pt x="3132" y="1739"/>
                </a:lnTo>
                <a:lnTo>
                  <a:pt x="3053" y="1709"/>
                </a:lnTo>
                <a:lnTo>
                  <a:pt x="2972" y="1675"/>
                </a:lnTo>
                <a:lnTo>
                  <a:pt x="2887" y="1640"/>
                </a:lnTo>
                <a:lnTo>
                  <a:pt x="2806" y="1600"/>
                </a:lnTo>
                <a:lnTo>
                  <a:pt x="2721" y="1560"/>
                </a:lnTo>
                <a:lnTo>
                  <a:pt x="2637" y="1515"/>
                </a:lnTo>
                <a:lnTo>
                  <a:pt x="2552" y="1475"/>
                </a:lnTo>
                <a:lnTo>
                  <a:pt x="2471" y="1430"/>
                </a:lnTo>
                <a:lnTo>
                  <a:pt x="2386" y="1381"/>
                </a:lnTo>
                <a:lnTo>
                  <a:pt x="2305" y="1336"/>
                </a:lnTo>
                <a:lnTo>
                  <a:pt x="2227" y="1291"/>
                </a:lnTo>
                <a:lnTo>
                  <a:pt x="2148" y="1246"/>
                </a:lnTo>
                <a:lnTo>
                  <a:pt x="2070" y="1196"/>
                </a:lnTo>
                <a:lnTo>
                  <a:pt x="1998" y="1151"/>
                </a:lnTo>
                <a:lnTo>
                  <a:pt x="1926" y="1107"/>
                </a:lnTo>
                <a:lnTo>
                  <a:pt x="1860" y="1067"/>
                </a:lnTo>
                <a:lnTo>
                  <a:pt x="1794" y="1022"/>
                </a:lnTo>
                <a:lnTo>
                  <a:pt x="1735" y="982"/>
                </a:lnTo>
                <a:lnTo>
                  <a:pt x="1678" y="942"/>
                </a:lnTo>
                <a:lnTo>
                  <a:pt x="1628" y="907"/>
                </a:lnTo>
                <a:lnTo>
                  <a:pt x="1581" y="872"/>
                </a:lnTo>
                <a:lnTo>
                  <a:pt x="1541" y="842"/>
                </a:lnTo>
                <a:lnTo>
                  <a:pt x="1506" y="813"/>
                </a:lnTo>
                <a:lnTo>
                  <a:pt x="1478" y="788"/>
                </a:lnTo>
                <a:lnTo>
                  <a:pt x="1437" y="753"/>
                </a:lnTo>
                <a:lnTo>
                  <a:pt x="1384" y="703"/>
                </a:lnTo>
                <a:lnTo>
                  <a:pt x="1318" y="643"/>
                </a:lnTo>
                <a:lnTo>
                  <a:pt x="1240" y="578"/>
                </a:lnTo>
                <a:lnTo>
                  <a:pt x="1152" y="509"/>
                </a:lnTo>
                <a:lnTo>
                  <a:pt x="1055" y="434"/>
                </a:lnTo>
                <a:lnTo>
                  <a:pt x="952" y="359"/>
                </a:lnTo>
                <a:lnTo>
                  <a:pt x="845" y="284"/>
                </a:lnTo>
                <a:lnTo>
                  <a:pt x="733" y="220"/>
                </a:lnTo>
                <a:lnTo>
                  <a:pt x="620" y="155"/>
                </a:lnTo>
                <a:lnTo>
                  <a:pt x="507" y="100"/>
                </a:lnTo>
                <a:lnTo>
                  <a:pt x="397" y="55"/>
                </a:lnTo>
                <a:lnTo>
                  <a:pt x="288" y="20"/>
                </a:lnTo>
                <a:lnTo>
                  <a:pt x="184" y="5"/>
                </a:lnTo>
                <a:lnTo>
                  <a:pt x="87" y="0"/>
                </a:lnTo>
                <a:lnTo>
                  <a:pt x="0" y="20"/>
                </a:lnTo>
                <a:lnTo>
                  <a:pt x="50" y="30"/>
                </a:lnTo>
                <a:lnTo>
                  <a:pt x="119" y="55"/>
                </a:lnTo>
                <a:lnTo>
                  <a:pt x="197" y="95"/>
                </a:lnTo>
                <a:lnTo>
                  <a:pt x="288" y="140"/>
                </a:lnTo>
                <a:lnTo>
                  <a:pt x="391" y="200"/>
                </a:lnTo>
                <a:lnTo>
                  <a:pt x="501" y="269"/>
                </a:lnTo>
                <a:lnTo>
                  <a:pt x="617" y="344"/>
                </a:lnTo>
                <a:lnTo>
                  <a:pt x="739" y="429"/>
                </a:lnTo>
                <a:lnTo>
                  <a:pt x="864" y="514"/>
                </a:lnTo>
                <a:lnTo>
                  <a:pt x="989" y="603"/>
                </a:lnTo>
                <a:lnTo>
                  <a:pt x="1115" y="698"/>
                </a:lnTo>
                <a:lnTo>
                  <a:pt x="1240" y="793"/>
                </a:lnTo>
                <a:lnTo>
                  <a:pt x="1359" y="882"/>
                </a:lnTo>
                <a:lnTo>
                  <a:pt x="1475" y="977"/>
                </a:lnTo>
                <a:lnTo>
                  <a:pt x="1581" y="1062"/>
                </a:lnTo>
                <a:lnTo>
                  <a:pt x="1682" y="1146"/>
                </a:lnTo>
                <a:lnTo>
                  <a:pt x="1769" y="1211"/>
                </a:lnTo>
                <a:lnTo>
                  <a:pt x="1873" y="1281"/>
                </a:lnTo>
                <a:lnTo>
                  <a:pt x="1995" y="1356"/>
                </a:lnTo>
                <a:lnTo>
                  <a:pt x="2133" y="1425"/>
                </a:lnTo>
                <a:lnTo>
                  <a:pt x="2277" y="1495"/>
                </a:lnTo>
                <a:lnTo>
                  <a:pt x="2430" y="1565"/>
                </a:lnTo>
                <a:lnTo>
                  <a:pt x="2587" y="1630"/>
                </a:lnTo>
                <a:lnTo>
                  <a:pt x="2743" y="1690"/>
                </a:lnTo>
                <a:lnTo>
                  <a:pt x="2900" y="1744"/>
                </a:lnTo>
                <a:lnTo>
                  <a:pt x="3047" y="1794"/>
                </a:lnTo>
                <a:lnTo>
                  <a:pt x="3191" y="1834"/>
                </a:lnTo>
                <a:lnTo>
                  <a:pt x="3320" y="1864"/>
                </a:lnTo>
                <a:lnTo>
                  <a:pt x="3436" y="1879"/>
                </a:lnTo>
                <a:lnTo>
                  <a:pt x="3533" y="1889"/>
                </a:lnTo>
                <a:lnTo>
                  <a:pt x="3611" y="1884"/>
                </a:lnTo>
                <a:lnTo>
                  <a:pt x="3664" y="1864"/>
                </a:lnTo>
                <a:close/>
              </a:path>
            </a:pathLst>
          </a:custGeom>
          <a:solidFill>
            <a:srgbClr val="66b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23"/>
          <p:cNvSpPr/>
          <p:nvPr/>
        </p:nvSpPr>
        <p:spPr>
          <a:xfrm>
            <a:off x="174600" y="3060720"/>
            <a:ext cx="2670120" cy="17874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682" h="1126">
                <a:moveTo>
                  <a:pt x="1682" y="1126"/>
                </a:moveTo>
                <a:lnTo>
                  <a:pt x="1581" y="1042"/>
                </a:lnTo>
                <a:lnTo>
                  <a:pt x="1475" y="957"/>
                </a:lnTo>
                <a:lnTo>
                  <a:pt x="1359" y="862"/>
                </a:lnTo>
                <a:lnTo>
                  <a:pt x="1240" y="773"/>
                </a:lnTo>
                <a:lnTo>
                  <a:pt x="1115" y="678"/>
                </a:lnTo>
                <a:lnTo>
                  <a:pt x="989" y="583"/>
                </a:lnTo>
                <a:lnTo>
                  <a:pt x="864" y="494"/>
                </a:lnTo>
                <a:lnTo>
                  <a:pt x="739" y="409"/>
                </a:lnTo>
                <a:lnTo>
                  <a:pt x="617" y="324"/>
                </a:lnTo>
                <a:lnTo>
                  <a:pt x="501" y="249"/>
                </a:lnTo>
                <a:lnTo>
                  <a:pt x="391" y="180"/>
                </a:lnTo>
                <a:lnTo>
                  <a:pt x="288" y="120"/>
                </a:lnTo>
                <a:lnTo>
                  <a:pt x="197" y="75"/>
                </a:lnTo>
                <a:lnTo>
                  <a:pt x="119" y="35"/>
                </a:lnTo>
                <a:lnTo>
                  <a:pt x="50" y="10"/>
                </a:lnTo>
                <a:lnTo>
                  <a:pt x="0" y="0"/>
                </a:lnTo>
                <a:lnTo>
                  <a:pt x="65" y="5"/>
                </a:lnTo>
                <a:lnTo>
                  <a:pt x="144" y="20"/>
                </a:lnTo>
                <a:lnTo>
                  <a:pt x="231" y="50"/>
                </a:lnTo>
                <a:lnTo>
                  <a:pt x="328" y="85"/>
                </a:lnTo>
                <a:lnTo>
                  <a:pt x="435" y="135"/>
                </a:lnTo>
                <a:lnTo>
                  <a:pt x="545" y="190"/>
                </a:lnTo>
                <a:lnTo>
                  <a:pt x="661" y="259"/>
                </a:lnTo>
                <a:lnTo>
                  <a:pt x="780" y="329"/>
                </a:lnTo>
                <a:lnTo>
                  <a:pt x="902" y="414"/>
                </a:lnTo>
                <a:lnTo>
                  <a:pt x="1021" y="499"/>
                </a:lnTo>
                <a:lnTo>
                  <a:pt x="1143" y="593"/>
                </a:lnTo>
                <a:lnTo>
                  <a:pt x="1259" y="693"/>
                </a:lnTo>
                <a:lnTo>
                  <a:pt x="1375" y="798"/>
                </a:lnTo>
                <a:lnTo>
                  <a:pt x="1484" y="902"/>
                </a:lnTo>
                <a:lnTo>
                  <a:pt x="1588" y="1012"/>
                </a:lnTo>
                <a:lnTo>
                  <a:pt x="1682" y="1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24"/>
          <p:cNvSpPr/>
          <p:nvPr/>
        </p:nvSpPr>
        <p:spPr>
          <a:xfrm>
            <a:off x="3565440" y="3378240"/>
            <a:ext cx="39600" cy="315720"/>
          </a:xfrm>
          <a:custGeom>
            <a:avLst/>
            <a:gdLst>
              <a:gd name="textAreaLeft" fmla="*/ 0 w 39600"/>
              <a:gd name="textAreaRight" fmla="*/ 39960 w 39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" h="199">
                <a:moveTo>
                  <a:pt x="12" y="189"/>
                </a:moveTo>
                <a:lnTo>
                  <a:pt x="6" y="149"/>
                </a:lnTo>
                <a:lnTo>
                  <a:pt x="0" y="104"/>
                </a:lnTo>
                <a:lnTo>
                  <a:pt x="3" y="59"/>
                </a:lnTo>
                <a:lnTo>
                  <a:pt x="15" y="0"/>
                </a:lnTo>
                <a:lnTo>
                  <a:pt x="12" y="74"/>
                </a:lnTo>
                <a:lnTo>
                  <a:pt x="19" y="154"/>
                </a:lnTo>
                <a:lnTo>
                  <a:pt x="25" y="199"/>
                </a:lnTo>
                <a:lnTo>
                  <a:pt x="12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25"/>
          <p:cNvSpPr/>
          <p:nvPr/>
        </p:nvSpPr>
        <p:spPr>
          <a:xfrm>
            <a:off x="2948040" y="2903400"/>
            <a:ext cx="284040" cy="711360"/>
          </a:xfrm>
          <a:custGeom>
            <a:avLst/>
            <a:gdLst>
              <a:gd name="textAreaLeft" fmla="*/ 0 w 284040"/>
              <a:gd name="textAreaRight" fmla="*/ 284400 w 28404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79" h="448">
                <a:moveTo>
                  <a:pt x="13" y="448"/>
                </a:moveTo>
                <a:lnTo>
                  <a:pt x="10" y="353"/>
                </a:lnTo>
                <a:lnTo>
                  <a:pt x="16" y="274"/>
                </a:lnTo>
                <a:lnTo>
                  <a:pt x="32" y="199"/>
                </a:lnTo>
                <a:lnTo>
                  <a:pt x="54" y="139"/>
                </a:lnTo>
                <a:lnTo>
                  <a:pt x="82" y="94"/>
                </a:lnTo>
                <a:lnTo>
                  <a:pt x="113" y="54"/>
                </a:lnTo>
                <a:lnTo>
                  <a:pt x="144" y="25"/>
                </a:lnTo>
                <a:lnTo>
                  <a:pt x="179" y="0"/>
                </a:lnTo>
                <a:lnTo>
                  <a:pt x="135" y="15"/>
                </a:lnTo>
                <a:lnTo>
                  <a:pt x="97" y="49"/>
                </a:lnTo>
                <a:lnTo>
                  <a:pt x="63" y="104"/>
                </a:lnTo>
                <a:lnTo>
                  <a:pt x="35" y="169"/>
                </a:lnTo>
                <a:lnTo>
                  <a:pt x="13" y="239"/>
                </a:lnTo>
                <a:lnTo>
                  <a:pt x="3" y="314"/>
                </a:lnTo>
                <a:lnTo>
                  <a:pt x="0" y="383"/>
                </a:lnTo>
                <a:lnTo>
                  <a:pt x="13" y="4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26"/>
          <p:cNvSpPr/>
          <p:nvPr/>
        </p:nvSpPr>
        <p:spPr>
          <a:xfrm>
            <a:off x="3525840" y="3029040"/>
            <a:ext cx="436680" cy="222120"/>
          </a:xfrm>
          <a:custGeom>
            <a:avLst/>
            <a:gdLst>
              <a:gd name="textAreaLeft" fmla="*/ 0 w 436680"/>
              <a:gd name="textAreaRight" fmla="*/ 436680 w 436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5" h="140">
                <a:moveTo>
                  <a:pt x="275" y="0"/>
                </a:moveTo>
                <a:lnTo>
                  <a:pt x="253" y="0"/>
                </a:lnTo>
                <a:lnTo>
                  <a:pt x="222" y="5"/>
                </a:lnTo>
                <a:lnTo>
                  <a:pt x="184" y="20"/>
                </a:lnTo>
                <a:lnTo>
                  <a:pt x="144" y="35"/>
                </a:lnTo>
                <a:lnTo>
                  <a:pt x="100" y="50"/>
                </a:lnTo>
                <a:lnTo>
                  <a:pt x="62" y="70"/>
                </a:lnTo>
                <a:lnTo>
                  <a:pt x="31" y="90"/>
                </a:lnTo>
                <a:lnTo>
                  <a:pt x="9" y="105"/>
                </a:lnTo>
                <a:lnTo>
                  <a:pt x="3" y="115"/>
                </a:lnTo>
                <a:lnTo>
                  <a:pt x="0" y="130"/>
                </a:lnTo>
                <a:lnTo>
                  <a:pt x="3" y="140"/>
                </a:lnTo>
                <a:lnTo>
                  <a:pt x="18" y="130"/>
                </a:lnTo>
                <a:lnTo>
                  <a:pt x="34" y="120"/>
                </a:lnTo>
                <a:lnTo>
                  <a:pt x="59" y="100"/>
                </a:lnTo>
                <a:lnTo>
                  <a:pt x="91" y="85"/>
                </a:lnTo>
                <a:lnTo>
                  <a:pt x="128" y="65"/>
                </a:lnTo>
                <a:lnTo>
                  <a:pt x="166" y="45"/>
                </a:lnTo>
                <a:lnTo>
                  <a:pt x="206" y="25"/>
                </a:lnTo>
                <a:lnTo>
                  <a:pt x="244" y="10"/>
                </a:lnTo>
                <a:lnTo>
                  <a:pt x="2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27"/>
          <p:cNvSpPr/>
          <p:nvPr/>
        </p:nvSpPr>
        <p:spPr>
          <a:xfrm>
            <a:off x="2919240" y="2973240"/>
            <a:ext cx="804960" cy="1898640"/>
          </a:xfrm>
          <a:custGeom>
            <a:avLst/>
            <a:gdLst>
              <a:gd name="textAreaLeft" fmla="*/ 0 w 804960"/>
              <a:gd name="textAreaRight" fmla="*/ 805320 w 8049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07" h="1196">
                <a:moveTo>
                  <a:pt x="59" y="1196"/>
                </a:moveTo>
                <a:lnTo>
                  <a:pt x="53" y="1191"/>
                </a:lnTo>
                <a:lnTo>
                  <a:pt x="34" y="1176"/>
                </a:lnTo>
                <a:lnTo>
                  <a:pt x="15" y="1156"/>
                </a:lnTo>
                <a:lnTo>
                  <a:pt x="0" y="1142"/>
                </a:lnTo>
                <a:lnTo>
                  <a:pt x="43" y="1122"/>
                </a:lnTo>
                <a:lnTo>
                  <a:pt x="75" y="1092"/>
                </a:lnTo>
                <a:lnTo>
                  <a:pt x="94" y="1047"/>
                </a:lnTo>
                <a:lnTo>
                  <a:pt x="106" y="997"/>
                </a:lnTo>
                <a:lnTo>
                  <a:pt x="109" y="947"/>
                </a:lnTo>
                <a:lnTo>
                  <a:pt x="109" y="897"/>
                </a:lnTo>
                <a:lnTo>
                  <a:pt x="103" y="853"/>
                </a:lnTo>
                <a:lnTo>
                  <a:pt x="97" y="818"/>
                </a:lnTo>
                <a:lnTo>
                  <a:pt x="100" y="788"/>
                </a:lnTo>
                <a:lnTo>
                  <a:pt x="106" y="763"/>
                </a:lnTo>
                <a:lnTo>
                  <a:pt x="112" y="738"/>
                </a:lnTo>
                <a:lnTo>
                  <a:pt x="122" y="713"/>
                </a:lnTo>
                <a:lnTo>
                  <a:pt x="134" y="693"/>
                </a:lnTo>
                <a:lnTo>
                  <a:pt x="153" y="668"/>
                </a:lnTo>
                <a:lnTo>
                  <a:pt x="172" y="653"/>
                </a:lnTo>
                <a:lnTo>
                  <a:pt x="197" y="633"/>
                </a:lnTo>
                <a:lnTo>
                  <a:pt x="206" y="623"/>
                </a:lnTo>
                <a:lnTo>
                  <a:pt x="213" y="608"/>
                </a:lnTo>
                <a:lnTo>
                  <a:pt x="213" y="593"/>
                </a:lnTo>
                <a:lnTo>
                  <a:pt x="206" y="574"/>
                </a:lnTo>
                <a:lnTo>
                  <a:pt x="194" y="554"/>
                </a:lnTo>
                <a:lnTo>
                  <a:pt x="175" y="534"/>
                </a:lnTo>
                <a:lnTo>
                  <a:pt x="153" y="519"/>
                </a:lnTo>
                <a:lnTo>
                  <a:pt x="128" y="499"/>
                </a:lnTo>
                <a:lnTo>
                  <a:pt x="100" y="439"/>
                </a:lnTo>
                <a:lnTo>
                  <a:pt x="87" y="329"/>
                </a:lnTo>
                <a:lnTo>
                  <a:pt x="97" y="200"/>
                </a:lnTo>
                <a:lnTo>
                  <a:pt x="137" y="85"/>
                </a:lnTo>
                <a:lnTo>
                  <a:pt x="172" y="45"/>
                </a:lnTo>
                <a:lnTo>
                  <a:pt x="209" y="20"/>
                </a:lnTo>
                <a:lnTo>
                  <a:pt x="253" y="5"/>
                </a:lnTo>
                <a:lnTo>
                  <a:pt x="297" y="0"/>
                </a:lnTo>
                <a:lnTo>
                  <a:pt x="338" y="10"/>
                </a:lnTo>
                <a:lnTo>
                  <a:pt x="375" y="20"/>
                </a:lnTo>
                <a:lnTo>
                  <a:pt x="404" y="35"/>
                </a:lnTo>
                <a:lnTo>
                  <a:pt x="422" y="55"/>
                </a:lnTo>
                <a:lnTo>
                  <a:pt x="419" y="55"/>
                </a:lnTo>
                <a:lnTo>
                  <a:pt x="413" y="60"/>
                </a:lnTo>
                <a:lnTo>
                  <a:pt x="410" y="65"/>
                </a:lnTo>
                <a:lnTo>
                  <a:pt x="391" y="55"/>
                </a:lnTo>
                <a:lnTo>
                  <a:pt x="360" y="45"/>
                </a:lnTo>
                <a:lnTo>
                  <a:pt x="322" y="35"/>
                </a:lnTo>
                <a:lnTo>
                  <a:pt x="278" y="35"/>
                </a:lnTo>
                <a:lnTo>
                  <a:pt x="234" y="50"/>
                </a:lnTo>
                <a:lnTo>
                  <a:pt x="191" y="75"/>
                </a:lnTo>
                <a:lnTo>
                  <a:pt x="156" y="120"/>
                </a:lnTo>
                <a:lnTo>
                  <a:pt x="134" y="190"/>
                </a:lnTo>
                <a:lnTo>
                  <a:pt x="122" y="275"/>
                </a:lnTo>
                <a:lnTo>
                  <a:pt x="122" y="344"/>
                </a:lnTo>
                <a:lnTo>
                  <a:pt x="134" y="399"/>
                </a:lnTo>
                <a:lnTo>
                  <a:pt x="153" y="444"/>
                </a:lnTo>
                <a:lnTo>
                  <a:pt x="175" y="474"/>
                </a:lnTo>
                <a:lnTo>
                  <a:pt x="203" y="499"/>
                </a:lnTo>
                <a:lnTo>
                  <a:pt x="234" y="514"/>
                </a:lnTo>
                <a:lnTo>
                  <a:pt x="263" y="529"/>
                </a:lnTo>
                <a:lnTo>
                  <a:pt x="281" y="529"/>
                </a:lnTo>
                <a:lnTo>
                  <a:pt x="307" y="524"/>
                </a:lnTo>
                <a:lnTo>
                  <a:pt x="335" y="514"/>
                </a:lnTo>
                <a:lnTo>
                  <a:pt x="366" y="499"/>
                </a:lnTo>
                <a:lnTo>
                  <a:pt x="394" y="489"/>
                </a:lnTo>
                <a:lnTo>
                  <a:pt x="422" y="479"/>
                </a:lnTo>
                <a:lnTo>
                  <a:pt x="451" y="484"/>
                </a:lnTo>
                <a:lnTo>
                  <a:pt x="473" y="494"/>
                </a:lnTo>
                <a:lnTo>
                  <a:pt x="482" y="499"/>
                </a:lnTo>
                <a:lnTo>
                  <a:pt x="485" y="499"/>
                </a:lnTo>
                <a:lnTo>
                  <a:pt x="494" y="504"/>
                </a:lnTo>
                <a:lnTo>
                  <a:pt x="507" y="529"/>
                </a:lnTo>
                <a:lnTo>
                  <a:pt x="485" y="534"/>
                </a:lnTo>
                <a:lnTo>
                  <a:pt x="460" y="539"/>
                </a:lnTo>
                <a:lnTo>
                  <a:pt x="435" y="544"/>
                </a:lnTo>
                <a:lnTo>
                  <a:pt x="407" y="554"/>
                </a:lnTo>
                <a:lnTo>
                  <a:pt x="379" y="559"/>
                </a:lnTo>
                <a:lnTo>
                  <a:pt x="350" y="574"/>
                </a:lnTo>
                <a:lnTo>
                  <a:pt x="319" y="588"/>
                </a:lnTo>
                <a:lnTo>
                  <a:pt x="291" y="608"/>
                </a:lnTo>
                <a:lnTo>
                  <a:pt x="253" y="653"/>
                </a:lnTo>
                <a:lnTo>
                  <a:pt x="222" y="723"/>
                </a:lnTo>
                <a:lnTo>
                  <a:pt x="197" y="803"/>
                </a:lnTo>
                <a:lnTo>
                  <a:pt x="175" y="892"/>
                </a:lnTo>
                <a:lnTo>
                  <a:pt x="150" y="982"/>
                </a:lnTo>
                <a:lnTo>
                  <a:pt x="128" y="1067"/>
                </a:lnTo>
                <a:lnTo>
                  <a:pt x="97" y="1142"/>
                </a:lnTo>
                <a:lnTo>
                  <a:pt x="59" y="1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28"/>
          <p:cNvSpPr/>
          <p:nvPr/>
        </p:nvSpPr>
        <p:spPr>
          <a:xfrm>
            <a:off x="2455920" y="4002120"/>
            <a:ext cx="189000" cy="341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9" h="215">
                <a:moveTo>
                  <a:pt x="47" y="215"/>
                </a:moveTo>
                <a:lnTo>
                  <a:pt x="66" y="155"/>
                </a:lnTo>
                <a:lnTo>
                  <a:pt x="85" y="100"/>
                </a:lnTo>
                <a:lnTo>
                  <a:pt x="104" y="50"/>
                </a:lnTo>
                <a:lnTo>
                  <a:pt x="119" y="15"/>
                </a:lnTo>
                <a:lnTo>
                  <a:pt x="113" y="0"/>
                </a:lnTo>
                <a:lnTo>
                  <a:pt x="107" y="0"/>
                </a:lnTo>
                <a:lnTo>
                  <a:pt x="101" y="5"/>
                </a:lnTo>
                <a:lnTo>
                  <a:pt x="88" y="15"/>
                </a:lnTo>
                <a:lnTo>
                  <a:pt x="66" y="45"/>
                </a:lnTo>
                <a:lnTo>
                  <a:pt x="38" y="95"/>
                </a:lnTo>
                <a:lnTo>
                  <a:pt x="13" y="145"/>
                </a:lnTo>
                <a:lnTo>
                  <a:pt x="0" y="165"/>
                </a:lnTo>
                <a:lnTo>
                  <a:pt x="47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290760" y="3164040"/>
            <a:ext cx="109800" cy="174600"/>
          </a:xfrm>
          <a:custGeom>
            <a:avLst/>
            <a:gdLst>
              <a:gd name="textAreaLeft" fmla="*/ 0 w 109800"/>
              <a:gd name="textAreaRight" fmla="*/ 110160 w 1098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69" h="110">
                <a:moveTo>
                  <a:pt x="38" y="110"/>
                </a:moveTo>
                <a:lnTo>
                  <a:pt x="51" y="105"/>
                </a:lnTo>
                <a:lnTo>
                  <a:pt x="60" y="90"/>
                </a:lnTo>
                <a:lnTo>
                  <a:pt x="66" y="70"/>
                </a:lnTo>
                <a:lnTo>
                  <a:pt x="69" y="50"/>
                </a:lnTo>
                <a:lnTo>
                  <a:pt x="66" y="30"/>
                </a:lnTo>
                <a:lnTo>
                  <a:pt x="57" y="10"/>
                </a:lnTo>
                <a:lnTo>
                  <a:pt x="44" y="0"/>
                </a:lnTo>
                <a:lnTo>
                  <a:pt x="32" y="0"/>
                </a:lnTo>
                <a:lnTo>
                  <a:pt x="19" y="5"/>
                </a:lnTo>
                <a:lnTo>
                  <a:pt x="7" y="20"/>
                </a:lnTo>
                <a:lnTo>
                  <a:pt x="0" y="40"/>
                </a:lnTo>
                <a:lnTo>
                  <a:pt x="0" y="60"/>
                </a:lnTo>
                <a:lnTo>
                  <a:pt x="4" y="80"/>
                </a:lnTo>
                <a:lnTo>
                  <a:pt x="13" y="95"/>
                </a:lnTo>
                <a:lnTo>
                  <a:pt x="26" y="105"/>
                </a:lnTo>
                <a:lnTo>
                  <a:pt x="3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reeform 93"/>
          <p:cNvSpPr/>
          <p:nvPr/>
        </p:nvSpPr>
        <p:spPr>
          <a:xfrm>
            <a:off x="7189920" y="3479760"/>
            <a:ext cx="527040" cy="1258920"/>
          </a:xfrm>
          <a:custGeom>
            <a:avLst/>
            <a:gdLst>
              <a:gd name="textAreaLeft" fmla="*/ 0 w 527040"/>
              <a:gd name="textAreaRight" fmla="*/ 527400 w 52704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32" h="793">
                <a:moveTo>
                  <a:pt x="332" y="723"/>
                </a:moveTo>
                <a:lnTo>
                  <a:pt x="298" y="723"/>
                </a:lnTo>
                <a:lnTo>
                  <a:pt x="263" y="723"/>
                </a:lnTo>
                <a:lnTo>
                  <a:pt x="232" y="713"/>
                </a:lnTo>
                <a:lnTo>
                  <a:pt x="201" y="698"/>
                </a:lnTo>
                <a:lnTo>
                  <a:pt x="172" y="678"/>
                </a:lnTo>
                <a:lnTo>
                  <a:pt x="154" y="648"/>
                </a:lnTo>
                <a:lnTo>
                  <a:pt x="141" y="608"/>
                </a:lnTo>
                <a:lnTo>
                  <a:pt x="138" y="553"/>
                </a:lnTo>
                <a:lnTo>
                  <a:pt x="144" y="454"/>
                </a:lnTo>
                <a:lnTo>
                  <a:pt x="147" y="339"/>
                </a:lnTo>
                <a:lnTo>
                  <a:pt x="150" y="235"/>
                </a:lnTo>
                <a:lnTo>
                  <a:pt x="144" y="160"/>
                </a:lnTo>
                <a:lnTo>
                  <a:pt x="138" y="130"/>
                </a:lnTo>
                <a:lnTo>
                  <a:pt x="125" y="95"/>
                </a:lnTo>
                <a:lnTo>
                  <a:pt x="110" y="65"/>
                </a:lnTo>
                <a:lnTo>
                  <a:pt x="91" y="35"/>
                </a:lnTo>
                <a:lnTo>
                  <a:pt x="72" y="15"/>
                </a:lnTo>
                <a:lnTo>
                  <a:pt x="50" y="0"/>
                </a:lnTo>
                <a:lnTo>
                  <a:pt x="28" y="0"/>
                </a:lnTo>
                <a:lnTo>
                  <a:pt x="9" y="15"/>
                </a:lnTo>
                <a:lnTo>
                  <a:pt x="0" y="75"/>
                </a:lnTo>
                <a:lnTo>
                  <a:pt x="3" y="125"/>
                </a:lnTo>
                <a:lnTo>
                  <a:pt x="16" y="160"/>
                </a:lnTo>
                <a:lnTo>
                  <a:pt x="38" y="170"/>
                </a:lnTo>
                <a:lnTo>
                  <a:pt x="60" y="180"/>
                </a:lnTo>
                <a:lnTo>
                  <a:pt x="72" y="195"/>
                </a:lnTo>
                <a:lnTo>
                  <a:pt x="78" y="220"/>
                </a:lnTo>
                <a:lnTo>
                  <a:pt x="82" y="255"/>
                </a:lnTo>
                <a:lnTo>
                  <a:pt x="82" y="314"/>
                </a:lnTo>
                <a:lnTo>
                  <a:pt x="75" y="409"/>
                </a:lnTo>
                <a:lnTo>
                  <a:pt x="69" y="529"/>
                </a:lnTo>
                <a:lnTo>
                  <a:pt x="66" y="643"/>
                </a:lnTo>
                <a:lnTo>
                  <a:pt x="88" y="678"/>
                </a:lnTo>
                <a:lnTo>
                  <a:pt x="116" y="718"/>
                </a:lnTo>
                <a:lnTo>
                  <a:pt x="144" y="748"/>
                </a:lnTo>
                <a:lnTo>
                  <a:pt x="182" y="778"/>
                </a:lnTo>
                <a:lnTo>
                  <a:pt x="216" y="793"/>
                </a:lnTo>
                <a:lnTo>
                  <a:pt x="254" y="793"/>
                </a:lnTo>
                <a:lnTo>
                  <a:pt x="294" y="768"/>
                </a:lnTo>
                <a:lnTo>
                  <a:pt x="332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94" descr="图形1"/>
          <p:cNvPicPr/>
          <p:nvPr/>
        </p:nvPicPr>
        <p:blipFill>
          <a:blip r:embed="rId1"/>
          <a:stretch/>
        </p:blipFill>
        <p:spPr>
          <a:xfrm>
            <a:off x="914400" y="0"/>
            <a:ext cx="533520" cy="519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5" descr="图形1"/>
          <p:cNvPicPr/>
          <p:nvPr/>
        </p:nvPicPr>
        <p:blipFill>
          <a:blip r:embed="rId2"/>
          <a:stretch/>
        </p:blipFill>
        <p:spPr>
          <a:xfrm>
            <a:off x="6858000" y="304920"/>
            <a:ext cx="533520" cy="519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6" descr="图形1"/>
          <p:cNvPicPr/>
          <p:nvPr/>
        </p:nvPicPr>
        <p:blipFill>
          <a:blip r:embed="rId3"/>
          <a:stretch/>
        </p:blipFill>
        <p:spPr>
          <a:xfrm>
            <a:off x="3505320" y="38088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7" descr="图形1"/>
          <p:cNvPicPr/>
          <p:nvPr/>
        </p:nvPicPr>
        <p:blipFill>
          <a:blip r:embed="rId4"/>
          <a:stretch/>
        </p:blipFill>
        <p:spPr>
          <a:xfrm>
            <a:off x="5334120" y="762120"/>
            <a:ext cx="547560" cy="53316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98"/>
          <p:cNvGrpSpPr/>
          <p:nvPr/>
        </p:nvGrpSpPr>
        <p:grpSpPr>
          <a:xfrm>
            <a:off x="250920" y="0"/>
            <a:ext cx="3671280" cy="5181480"/>
            <a:chOff x="250920" y="0"/>
            <a:chExt cx="3671280" cy="5181480"/>
          </a:xfrm>
        </p:grpSpPr>
        <p:pic>
          <p:nvPicPr>
            <p:cNvPr id="569" name="Picture 99" descr="图形1"/>
            <p:cNvPicPr/>
            <p:nvPr/>
          </p:nvPicPr>
          <p:blipFill>
            <a:blip r:embed="rId5"/>
            <a:stretch/>
          </p:blipFill>
          <p:spPr>
            <a:xfrm>
              <a:off x="3375000" y="0"/>
              <a:ext cx="547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100" descr="图形1"/>
            <p:cNvPicPr/>
            <p:nvPr/>
          </p:nvPicPr>
          <p:blipFill>
            <a:blip r:embed="rId6"/>
            <a:stretch/>
          </p:blipFill>
          <p:spPr>
            <a:xfrm>
              <a:off x="250920" y="4419360"/>
              <a:ext cx="547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101"/>
          <p:cNvGrpSpPr/>
          <p:nvPr/>
        </p:nvGrpSpPr>
        <p:grpSpPr>
          <a:xfrm>
            <a:off x="304920" y="914400"/>
            <a:ext cx="6185880" cy="4267080"/>
            <a:chOff x="304920" y="914400"/>
            <a:chExt cx="6185880" cy="4267080"/>
          </a:xfrm>
        </p:grpSpPr>
        <p:pic>
          <p:nvPicPr>
            <p:cNvPr id="572" name="Picture 102" descr="图形1"/>
            <p:cNvPicPr/>
            <p:nvPr/>
          </p:nvPicPr>
          <p:blipFill>
            <a:blip r:embed="rId7"/>
            <a:stretch/>
          </p:blipFill>
          <p:spPr>
            <a:xfrm>
              <a:off x="5943240" y="3429000"/>
              <a:ext cx="547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103" descr="图形1"/>
            <p:cNvPicPr/>
            <p:nvPr/>
          </p:nvPicPr>
          <p:blipFill>
            <a:blip r:embed="rId8"/>
            <a:stretch/>
          </p:blipFill>
          <p:spPr>
            <a:xfrm>
              <a:off x="3809880" y="4648320"/>
              <a:ext cx="547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104" descr="图形1"/>
            <p:cNvPicPr/>
            <p:nvPr/>
          </p:nvPicPr>
          <p:blipFill>
            <a:blip r:embed="rId9"/>
            <a:stretch/>
          </p:blipFill>
          <p:spPr>
            <a:xfrm>
              <a:off x="304920" y="914400"/>
              <a:ext cx="533160" cy="51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5" name="Picture 107" descr="图形1"/>
          <p:cNvPicPr/>
          <p:nvPr/>
        </p:nvPicPr>
        <p:blipFill>
          <a:blip r:embed="rId10"/>
          <a:stretch/>
        </p:blipFill>
        <p:spPr>
          <a:xfrm>
            <a:off x="4952880" y="3657600"/>
            <a:ext cx="533520" cy="519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8" descr="图形1"/>
          <p:cNvPicPr/>
          <p:nvPr/>
        </p:nvPicPr>
        <p:blipFill>
          <a:blip r:embed="rId11"/>
          <a:stretch/>
        </p:blipFill>
        <p:spPr>
          <a:xfrm>
            <a:off x="533520" y="3429000"/>
            <a:ext cx="533160" cy="5191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109"/>
          <p:cNvGrpSpPr/>
          <p:nvPr/>
        </p:nvGrpSpPr>
        <p:grpSpPr>
          <a:xfrm>
            <a:off x="457200" y="1066680"/>
            <a:ext cx="6186600" cy="4267080"/>
            <a:chOff x="457200" y="1066680"/>
            <a:chExt cx="6186600" cy="4267080"/>
          </a:xfrm>
        </p:grpSpPr>
        <p:pic>
          <p:nvPicPr>
            <p:cNvPr id="578" name="Picture 110" descr="图形1"/>
            <p:cNvPicPr/>
            <p:nvPr/>
          </p:nvPicPr>
          <p:blipFill>
            <a:blip r:embed="rId12"/>
            <a:stretch/>
          </p:blipFill>
          <p:spPr>
            <a:xfrm>
              <a:off x="6095880" y="358128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11" descr="图形1"/>
            <p:cNvPicPr/>
            <p:nvPr/>
          </p:nvPicPr>
          <p:blipFill>
            <a:blip r:embed="rId13"/>
            <a:stretch/>
          </p:blipFill>
          <p:spPr>
            <a:xfrm>
              <a:off x="3962520" y="480060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12" descr="图形1"/>
            <p:cNvPicPr/>
            <p:nvPr/>
          </p:nvPicPr>
          <p:blipFill>
            <a:blip r:embed="rId14"/>
            <a:stretch/>
          </p:blipFill>
          <p:spPr>
            <a:xfrm>
              <a:off x="457200" y="106668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1" name="Picture 118" descr="20060102093154702"/>
          <p:cNvPicPr/>
          <p:nvPr/>
        </p:nvPicPr>
        <p:blipFill>
          <a:blip r:embed="rId15"/>
          <a:stretch/>
        </p:blipFill>
        <p:spPr>
          <a:xfrm>
            <a:off x="44280" y="3213000"/>
            <a:ext cx="1863720" cy="201636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119"/>
          <p:cNvSpPr/>
          <p:nvPr/>
        </p:nvSpPr>
        <p:spPr>
          <a:xfrm>
            <a:off x="971640" y="620640"/>
            <a:ext cx="6553080" cy="2016360"/>
          </a:xfrm>
          <a:prstGeom prst="cloudCallout">
            <a:avLst>
              <a:gd name="adj1" fmla="val -37162"/>
              <a:gd name="adj2" fmla="val 66851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0"/>
          <p:cNvSpPr/>
          <p:nvPr/>
        </p:nvSpPr>
        <p:spPr>
          <a:xfrm>
            <a:off x="1042920" y="119700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蛙为什么没参加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24"/>
          <p:cNvSpPr/>
          <p:nvPr/>
        </p:nvSpPr>
        <p:spPr>
          <a:xfrm>
            <a:off x="3198960" y="32130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他在洞里睡着啦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25" descr="未标题-4 拷贝"/>
          <p:cNvPicPr/>
          <p:nvPr/>
        </p:nvPicPr>
        <p:blipFill>
          <a:blip r:embed="rId16"/>
          <a:stretch/>
        </p:blipFill>
        <p:spPr>
          <a:xfrm>
            <a:off x="7007400" y="4630680"/>
            <a:ext cx="213660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evt="end">
                                        <p:tn val="672"/>
                                      </p:cond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13"/>
                                      </p:cond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雪人2"/>
          <p:cNvPicPr/>
          <p:nvPr/>
        </p:nvPicPr>
        <p:blipFill>
          <a:blip r:embed="rId1"/>
          <a:srcRect l="7081" t="0" r="-7071" b="0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268360" y="133200"/>
            <a:ext cx="6696360" cy="68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méi             </a:t>
            </a:r>
            <a:r>
              <a:rPr b="1" lang="en-US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yò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j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梅 花     不 用     几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qī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wā      wèi          cān  ji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  蛙    为 什么   参  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dònɡ      ché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 wéi</a:t>
            </a:r>
            <a:r>
              <a:rPr b="0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shuì    l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洞 里   成  为     睡 着 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>
            <a:off x="0" y="0"/>
            <a:ext cx="9144000" cy="2744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744640"/>
              <a:gd name="textAreaBottom" fmla="*/ 2744640 h 2744640"/>
            </a:gdLst>
            <a:ahLst/>
            <a:rect l="textAreaLeft" t="textAreaTop" r="textAreaRight" b="textAreaBottom"/>
            <a:pathLst>
              <a:path w="5760" h="1729">
                <a:moveTo>
                  <a:pt x="5760" y="1729"/>
                </a:moveTo>
                <a:lnTo>
                  <a:pt x="5760" y="1475"/>
                </a:lnTo>
                <a:lnTo>
                  <a:pt x="5760" y="1176"/>
                </a:lnTo>
                <a:lnTo>
                  <a:pt x="5760" y="0"/>
                </a:lnTo>
                <a:lnTo>
                  <a:pt x="0" y="0"/>
                </a:lnTo>
                <a:lnTo>
                  <a:pt x="0" y="1126"/>
                </a:lnTo>
                <a:lnTo>
                  <a:pt x="0" y="1724"/>
                </a:lnTo>
                <a:lnTo>
                  <a:pt x="5760" y="1729"/>
                </a:lnTo>
                <a:close/>
              </a:path>
            </a:pathLst>
          </a:custGeom>
          <a:solidFill>
            <a:srgbClr val="66b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3"/>
          <p:cNvSpPr/>
          <p:nvPr/>
        </p:nvSpPr>
        <p:spPr>
          <a:xfrm>
            <a:off x="0" y="380880"/>
            <a:ext cx="9144000" cy="3988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988080"/>
              <a:gd name="textAreaBottom" fmla="*/ 3988440 h 3988080"/>
            </a:gdLst>
            <a:ahLst/>
            <a:rect l="textAreaLeft" t="textAreaTop" r="textAreaRight" b="textAreaBottom"/>
            <a:pathLst>
              <a:path w="5760" h="2512">
                <a:moveTo>
                  <a:pt x="0" y="982"/>
                </a:moveTo>
                <a:lnTo>
                  <a:pt x="0" y="1121"/>
                </a:lnTo>
                <a:lnTo>
                  <a:pt x="0" y="1934"/>
                </a:lnTo>
                <a:lnTo>
                  <a:pt x="47" y="1884"/>
                </a:lnTo>
                <a:lnTo>
                  <a:pt x="100" y="1819"/>
                </a:lnTo>
                <a:lnTo>
                  <a:pt x="157" y="1749"/>
                </a:lnTo>
                <a:lnTo>
                  <a:pt x="219" y="1679"/>
                </a:lnTo>
                <a:lnTo>
                  <a:pt x="279" y="1620"/>
                </a:lnTo>
                <a:lnTo>
                  <a:pt x="338" y="1580"/>
                </a:lnTo>
                <a:lnTo>
                  <a:pt x="395" y="1565"/>
                </a:lnTo>
                <a:lnTo>
                  <a:pt x="448" y="1580"/>
                </a:lnTo>
                <a:lnTo>
                  <a:pt x="473" y="1595"/>
                </a:lnTo>
                <a:lnTo>
                  <a:pt x="504" y="1615"/>
                </a:lnTo>
                <a:lnTo>
                  <a:pt x="536" y="1630"/>
                </a:lnTo>
                <a:lnTo>
                  <a:pt x="570" y="1645"/>
                </a:lnTo>
                <a:lnTo>
                  <a:pt x="605" y="1660"/>
                </a:lnTo>
                <a:lnTo>
                  <a:pt x="642" y="1670"/>
                </a:lnTo>
                <a:lnTo>
                  <a:pt x="680" y="1684"/>
                </a:lnTo>
                <a:lnTo>
                  <a:pt x="717" y="1694"/>
                </a:lnTo>
                <a:lnTo>
                  <a:pt x="755" y="1704"/>
                </a:lnTo>
                <a:lnTo>
                  <a:pt x="796" y="1714"/>
                </a:lnTo>
                <a:lnTo>
                  <a:pt x="830" y="1719"/>
                </a:lnTo>
                <a:lnTo>
                  <a:pt x="868" y="1729"/>
                </a:lnTo>
                <a:lnTo>
                  <a:pt x="899" y="1734"/>
                </a:lnTo>
                <a:lnTo>
                  <a:pt x="930" y="1734"/>
                </a:lnTo>
                <a:lnTo>
                  <a:pt x="958" y="1739"/>
                </a:lnTo>
                <a:lnTo>
                  <a:pt x="983" y="1739"/>
                </a:lnTo>
                <a:lnTo>
                  <a:pt x="1034" y="1739"/>
                </a:lnTo>
                <a:lnTo>
                  <a:pt x="1087" y="1734"/>
                </a:lnTo>
                <a:lnTo>
                  <a:pt x="1146" y="1724"/>
                </a:lnTo>
                <a:lnTo>
                  <a:pt x="1203" y="1719"/>
                </a:lnTo>
                <a:lnTo>
                  <a:pt x="1253" y="1714"/>
                </a:lnTo>
                <a:lnTo>
                  <a:pt x="1297" y="1714"/>
                </a:lnTo>
                <a:lnTo>
                  <a:pt x="1331" y="1714"/>
                </a:lnTo>
                <a:lnTo>
                  <a:pt x="1353" y="1719"/>
                </a:lnTo>
                <a:lnTo>
                  <a:pt x="1372" y="1729"/>
                </a:lnTo>
                <a:lnTo>
                  <a:pt x="1397" y="1749"/>
                </a:lnTo>
                <a:lnTo>
                  <a:pt x="1431" y="1769"/>
                </a:lnTo>
                <a:lnTo>
                  <a:pt x="1472" y="1789"/>
                </a:lnTo>
                <a:lnTo>
                  <a:pt x="1513" y="1809"/>
                </a:lnTo>
                <a:lnTo>
                  <a:pt x="1557" y="1829"/>
                </a:lnTo>
                <a:lnTo>
                  <a:pt x="1597" y="1849"/>
                </a:lnTo>
                <a:lnTo>
                  <a:pt x="1635" y="1864"/>
                </a:lnTo>
                <a:lnTo>
                  <a:pt x="1676" y="1874"/>
                </a:lnTo>
                <a:lnTo>
                  <a:pt x="1726" y="1884"/>
                </a:lnTo>
                <a:lnTo>
                  <a:pt x="1779" y="1894"/>
                </a:lnTo>
                <a:lnTo>
                  <a:pt x="1835" y="1899"/>
                </a:lnTo>
                <a:lnTo>
                  <a:pt x="1892" y="1909"/>
                </a:lnTo>
                <a:lnTo>
                  <a:pt x="1942" y="1919"/>
                </a:lnTo>
                <a:lnTo>
                  <a:pt x="1986" y="1924"/>
                </a:lnTo>
                <a:lnTo>
                  <a:pt x="2020" y="1934"/>
                </a:lnTo>
                <a:lnTo>
                  <a:pt x="2052" y="1944"/>
                </a:lnTo>
                <a:lnTo>
                  <a:pt x="2089" y="1959"/>
                </a:lnTo>
                <a:lnTo>
                  <a:pt x="2130" y="1978"/>
                </a:lnTo>
                <a:lnTo>
                  <a:pt x="2177" y="1998"/>
                </a:lnTo>
                <a:lnTo>
                  <a:pt x="2221" y="2023"/>
                </a:lnTo>
                <a:lnTo>
                  <a:pt x="2265" y="2048"/>
                </a:lnTo>
                <a:lnTo>
                  <a:pt x="2305" y="2078"/>
                </a:lnTo>
                <a:lnTo>
                  <a:pt x="2340" y="2108"/>
                </a:lnTo>
                <a:lnTo>
                  <a:pt x="2358" y="2128"/>
                </a:lnTo>
                <a:lnTo>
                  <a:pt x="2380" y="2148"/>
                </a:lnTo>
                <a:lnTo>
                  <a:pt x="2405" y="2173"/>
                </a:lnTo>
                <a:lnTo>
                  <a:pt x="2437" y="2203"/>
                </a:lnTo>
                <a:lnTo>
                  <a:pt x="2468" y="2233"/>
                </a:lnTo>
                <a:lnTo>
                  <a:pt x="2499" y="2262"/>
                </a:lnTo>
                <a:lnTo>
                  <a:pt x="2537" y="2297"/>
                </a:lnTo>
                <a:lnTo>
                  <a:pt x="2575" y="2327"/>
                </a:lnTo>
                <a:lnTo>
                  <a:pt x="2609" y="2357"/>
                </a:lnTo>
                <a:lnTo>
                  <a:pt x="2647" y="2387"/>
                </a:lnTo>
                <a:lnTo>
                  <a:pt x="2684" y="2412"/>
                </a:lnTo>
                <a:lnTo>
                  <a:pt x="2722" y="2432"/>
                </a:lnTo>
                <a:lnTo>
                  <a:pt x="2753" y="2447"/>
                </a:lnTo>
                <a:lnTo>
                  <a:pt x="2788" y="2462"/>
                </a:lnTo>
                <a:lnTo>
                  <a:pt x="2816" y="2467"/>
                </a:lnTo>
                <a:lnTo>
                  <a:pt x="2844" y="2462"/>
                </a:lnTo>
                <a:lnTo>
                  <a:pt x="2897" y="2447"/>
                </a:lnTo>
                <a:lnTo>
                  <a:pt x="2947" y="2427"/>
                </a:lnTo>
                <a:lnTo>
                  <a:pt x="2997" y="2407"/>
                </a:lnTo>
                <a:lnTo>
                  <a:pt x="3048" y="2392"/>
                </a:lnTo>
                <a:lnTo>
                  <a:pt x="3091" y="2377"/>
                </a:lnTo>
                <a:lnTo>
                  <a:pt x="3135" y="2367"/>
                </a:lnTo>
                <a:lnTo>
                  <a:pt x="3173" y="2372"/>
                </a:lnTo>
                <a:lnTo>
                  <a:pt x="3204" y="2387"/>
                </a:lnTo>
                <a:lnTo>
                  <a:pt x="3232" y="2412"/>
                </a:lnTo>
                <a:lnTo>
                  <a:pt x="3257" y="2432"/>
                </a:lnTo>
                <a:lnTo>
                  <a:pt x="3279" y="2447"/>
                </a:lnTo>
                <a:lnTo>
                  <a:pt x="3301" y="2462"/>
                </a:lnTo>
                <a:lnTo>
                  <a:pt x="3320" y="2472"/>
                </a:lnTo>
                <a:lnTo>
                  <a:pt x="3336" y="2487"/>
                </a:lnTo>
                <a:lnTo>
                  <a:pt x="3351" y="2492"/>
                </a:lnTo>
                <a:lnTo>
                  <a:pt x="3367" y="2502"/>
                </a:lnTo>
                <a:lnTo>
                  <a:pt x="3386" y="2507"/>
                </a:lnTo>
                <a:lnTo>
                  <a:pt x="3408" y="2512"/>
                </a:lnTo>
                <a:lnTo>
                  <a:pt x="3433" y="2507"/>
                </a:lnTo>
                <a:lnTo>
                  <a:pt x="3461" y="2502"/>
                </a:lnTo>
                <a:lnTo>
                  <a:pt x="3492" y="2492"/>
                </a:lnTo>
                <a:lnTo>
                  <a:pt x="3524" y="2482"/>
                </a:lnTo>
                <a:lnTo>
                  <a:pt x="3558" y="2467"/>
                </a:lnTo>
                <a:lnTo>
                  <a:pt x="3596" y="2447"/>
                </a:lnTo>
                <a:lnTo>
                  <a:pt x="3621" y="2432"/>
                </a:lnTo>
                <a:lnTo>
                  <a:pt x="3652" y="2412"/>
                </a:lnTo>
                <a:lnTo>
                  <a:pt x="3693" y="2392"/>
                </a:lnTo>
                <a:lnTo>
                  <a:pt x="3737" y="2367"/>
                </a:lnTo>
                <a:lnTo>
                  <a:pt x="3790" y="2337"/>
                </a:lnTo>
                <a:lnTo>
                  <a:pt x="3843" y="2307"/>
                </a:lnTo>
                <a:lnTo>
                  <a:pt x="3903" y="2277"/>
                </a:lnTo>
                <a:lnTo>
                  <a:pt x="3962" y="2248"/>
                </a:lnTo>
                <a:lnTo>
                  <a:pt x="4025" y="2223"/>
                </a:lnTo>
                <a:lnTo>
                  <a:pt x="4084" y="2193"/>
                </a:lnTo>
                <a:lnTo>
                  <a:pt x="4141" y="2173"/>
                </a:lnTo>
                <a:lnTo>
                  <a:pt x="4197" y="2153"/>
                </a:lnTo>
                <a:lnTo>
                  <a:pt x="4247" y="2133"/>
                </a:lnTo>
                <a:lnTo>
                  <a:pt x="4294" y="2123"/>
                </a:lnTo>
                <a:lnTo>
                  <a:pt x="4332" y="2118"/>
                </a:lnTo>
                <a:lnTo>
                  <a:pt x="4363" y="2123"/>
                </a:lnTo>
                <a:lnTo>
                  <a:pt x="4382" y="2128"/>
                </a:lnTo>
                <a:lnTo>
                  <a:pt x="4404" y="2133"/>
                </a:lnTo>
                <a:lnTo>
                  <a:pt x="4423" y="2143"/>
                </a:lnTo>
                <a:lnTo>
                  <a:pt x="4441" y="2148"/>
                </a:lnTo>
                <a:lnTo>
                  <a:pt x="4463" y="2158"/>
                </a:lnTo>
                <a:lnTo>
                  <a:pt x="4482" y="2163"/>
                </a:lnTo>
                <a:lnTo>
                  <a:pt x="4501" y="2173"/>
                </a:lnTo>
                <a:lnTo>
                  <a:pt x="4520" y="2183"/>
                </a:lnTo>
                <a:lnTo>
                  <a:pt x="4548" y="2198"/>
                </a:lnTo>
                <a:lnTo>
                  <a:pt x="4576" y="2213"/>
                </a:lnTo>
                <a:lnTo>
                  <a:pt x="4601" y="2228"/>
                </a:lnTo>
                <a:lnTo>
                  <a:pt x="4626" y="2248"/>
                </a:lnTo>
                <a:lnTo>
                  <a:pt x="4648" y="2262"/>
                </a:lnTo>
                <a:lnTo>
                  <a:pt x="4667" y="2277"/>
                </a:lnTo>
                <a:lnTo>
                  <a:pt x="4683" y="2297"/>
                </a:lnTo>
                <a:lnTo>
                  <a:pt x="4698" y="2312"/>
                </a:lnTo>
                <a:lnTo>
                  <a:pt x="4723" y="2337"/>
                </a:lnTo>
                <a:lnTo>
                  <a:pt x="4751" y="2357"/>
                </a:lnTo>
                <a:lnTo>
                  <a:pt x="4780" y="2367"/>
                </a:lnTo>
                <a:lnTo>
                  <a:pt x="4811" y="2377"/>
                </a:lnTo>
                <a:lnTo>
                  <a:pt x="4845" y="2372"/>
                </a:lnTo>
                <a:lnTo>
                  <a:pt x="4877" y="2362"/>
                </a:lnTo>
                <a:lnTo>
                  <a:pt x="4908" y="2342"/>
                </a:lnTo>
                <a:lnTo>
                  <a:pt x="4939" y="2312"/>
                </a:lnTo>
                <a:lnTo>
                  <a:pt x="4971" y="2272"/>
                </a:lnTo>
                <a:lnTo>
                  <a:pt x="5002" y="2233"/>
                </a:lnTo>
                <a:lnTo>
                  <a:pt x="5036" y="2188"/>
                </a:lnTo>
                <a:lnTo>
                  <a:pt x="5071" y="2143"/>
                </a:lnTo>
                <a:lnTo>
                  <a:pt x="5105" y="2108"/>
                </a:lnTo>
                <a:lnTo>
                  <a:pt x="5140" y="2078"/>
                </a:lnTo>
                <a:lnTo>
                  <a:pt x="5174" y="2063"/>
                </a:lnTo>
                <a:lnTo>
                  <a:pt x="5202" y="2058"/>
                </a:lnTo>
                <a:lnTo>
                  <a:pt x="5237" y="2063"/>
                </a:lnTo>
                <a:lnTo>
                  <a:pt x="5281" y="2078"/>
                </a:lnTo>
                <a:lnTo>
                  <a:pt x="5334" y="2093"/>
                </a:lnTo>
                <a:lnTo>
                  <a:pt x="5387" y="2108"/>
                </a:lnTo>
                <a:lnTo>
                  <a:pt x="5441" y="2118"/>
                </a:lnTo>
                <a:lnTo>
                  <a:pt x="5491" y="2123"/>
                </a:lnTo>
                <a:lnTo>
                  <a:pt x="5531" y="2113"/>
                </a:lnTo>
                <a:lnTo>
                  <a:pt x="5560" y="2098"/>
                </a:lnTo>
                <a:lnTo>
                  <a:pt x="5585" y="2073"/>
                </a:lnTo>
                <a:lnTo>
                  <a:pt x="5610" y="2048"/>
                </a:lnTo>
                <a:lnTo>
                  <a:pt x="5635" y="2023"/>
                </a:lnTo>
                <a:lnTo>
                  <a:pt x="5663" y="1993"/>
                </a:lnTo>
                <a:lnTo>
                  <a:pt x="5691" y="1973"/>
                </a:lnTo>
                <a:lnTo>
                  <a:pt x="5716" y="1954"/>
                </a:lnTo>
                <a:lnTo>
                  <a:pt x="5738" y="1939"/>
                </a:lnTo>
                <a:lnTo>
                  <a:pt x="5760" y="1934"/>
                </a:lnTo>
                <a:lnTo>
                  <a:pt x="5760" y="1281"/>
                </a:lnTo>
                <a:lnTo>
                  <a:pt x="5760" y="982"/>
                </a:lnTo>
                <a:lnTo>
                  <a:pt x="5738" y="1012"/>
                </a:lnTo>
                <a:lnTo>
                  <a:pt x="5713" y="1042"/>
                </a:lnTo>
                <a:lnTo>
                  <a:pt x="5685" y="1077"/>
                </a:lnTo>
                <a:lnTo>
                  <a:pt x="5660" y="1106"/>
                </a:lnTo>
                <a:lnTo>
                  <a:pt x="5635" y="1136"/>
                </a:lnTo>
                <a:lnTo>
                  <a:pt x="5616" y="1156"/>
                </a:lnTo>
                <a:lnTo>
                  <a:pt x="5597" y="1171"/>
                </a:lnTo>
                <a:lnTo>
                  <a:pt x="5588" y="1176"/>
                </a:lnTo>
                <a:lnTo>
                  <a:pt x="5575" y="1171"/>
                </a:lnTo>
                <a:lnTo>
                  <a:pt x="5553" y="1161"/>
                </a:lnTo>
                <a:lnTo>
                  <a:pt x="5525" y="1146"/>
                </a:lnTo>
                <a:lnTo>
                  <a:pt x="5497" y="1126"/>
                </a:lnTo>
                <a:lnTo>
                  <a:pt x="5472" y="1111"/>
                </a:lnTo>
                <a:lnTo>
                  <a:pt x="5447" y="1097"/>
                </a:lnTo>
                <a:lnTo>
                  <a:pt x="5428" y="1092"/>
                </a:lnTo>
                <a:lnTo>
                  <a:pt x="5415" y="1087"/>
                </a:lnTo>
                <a:lnTo>
                  <a:pt x="5384" y="1126"/>
                </a:lnTo>
                <a:lnTo>
                  <a:pt x="5347" y="1171"/>
                </a:lnTo>
                <a:lnTo>
                  <a:pt x="5309" y="1226"/>
                </a:lnTo>
                <a:lnTo>
                  <a:pt x="5268" y="1281"/>
                </a:lnTo>
                <a:lnTo>
                  <a:pt x="5228" y="1331"/>
                </a:lnTo>
                <a:lnTo>
                  <a:pt x="5193" y="1371"/>
                </a:lnTo>
                <a:lnTo>
                  <a:pt x="5162" y="1400"/>
                </a:lnTo>
                <a:lnTo>
                  <a:pt x="5140" y="1410"/>
                </a:lnTo>
                <a:lnTo>
                  <a:pt x="5121" y="1390"/>
                </a:lnTo>
                <a:lnTo>
                  <a:pt x="5102" y="1351"/>
                </a:lnTo>
                <a:lnTo>
                  <a:pt x="5087" y="1301"/>
                </a:lnTo>
                <a:lnTo>
                  <a:pt x="5074" y="1241"/>
                </a:lnTo>
                <a:lnTo>
                  <a:pt x="5065" y="1186"/>
                </a:lnTo>
                <a:lnTo>
                  <a:pt x="5055" y="1131"/>
                </a:lnTo>
                <a:lnTo>
                  <a:pt x="5046" y="1097"/>
                </a:lnTo>
                <a:lnTo>
                  <a:pt x="5040" y="1077"/>
                </a:lnTo>
                <a:lnTo>
                  <a:pt x="5033" y="1072"/>
                </a:lnTo>
                <a:lnTo>
                  <a:pt x="5024" y="1062"/>
                </a:lnTo>
                <a:lnTo>
                  <a:pt x="5011" y="1057"/>
                </a:lnTo>
                <a:lnTo>
                  <a:pt x="5002" y="1052"/>
                </a:lnTo>
                <a:lnTo>
                  <a:pt x="4986" y="1047"/>
                </a:lnTo>
                <a:lnTo>
                  <a:pt x="4974" y="1047"/>
                </a:lnTo>
                <a:lnTo>
                  <a:pt x="4961" y="1047"/>
                </a:lnTo>
                <a:lnTo>
                  <a:pt x="4946" y="1052"/>
                </a:lnTo>
                <a:lnTo>
                  <a:pt x="4936" y="972"/>
                </a:lnTo>
                <a:lnTo>
                  <a:pt x="4924" y="902"/>
                </a:lnTo>
                <a:lnTo>
                  <a:pt x="4911" y="847"/>
                </a:lnTo>
                <a:lnTo>
                  <a:pt x="4889" y="817"/>
                </a:lnTo>
                <a:lnTo>
                  <a:pt x="4874" y="813"/>
                </a:lnTo>
                <a:lnTo>
                  <a:pt x="4855" y="808"/>
                </a:lnTo>
                <a:lnTo>
                  <a:pt x="4836" y="798"/>
                </a:lnTo>
                <a:lnTo>
                  <a:pt x="4817" y="793"/>
                </a:lnTo>
                <a:lnTo>
                  <a:pt x="4798" y="788"/>
                </a:lnTo>
                <a:lnTo>
                  <a:pt x="4780" y="778"/>
                </a:lnTo>
                <a:lnTo>
                  <a:pt x="4767" y="768"/>
                </a:lnTo>
                <a:lnTo>
                  <a:pt x="4758" y="758"/>
                </a:lnTo>
                <a:lnTo>
                  <a:pt x="4748" y="743"/>
                </a:lnTo>
                <a:lnTo>
                  <a:pt x="4730" y="713"/>
                </a:lnTo>
                <a:lnTo>
                  <a:pt x="4708" y="678"/>
                </a:lnTo>
                <a:lnTo>
                  <a:pt x="4683" y="643"/>
                </a:lnTo>
                <a:lnTo>
                  <a:pt x="4657" y="608"/>
                </a:lnTo>
                <a:lnTo>
                  <a:pt x="4632" y="583"/>
                </a:lnTo>
                <a:lnTo>
                  <a:pt x="4607" y="563"/>
                </a:lnTo>
                <a:lnTo>
                  <a:pt x="4589" y="553"/>
                </a:lnTo>
                <a:lnTo>
                  <a:pt x="4573" y="563"/>
                </a:lnTo>
                <a:lnTo>
                  <a:pt x="4557" y="573"/>
                </a:lnTo>
                <a:lnTo>
                  <a:pt x="4535" y="588"/>
                </a:lnTo>
                <a:lnTo>
                  <a:pt x="4513" y="608"/>
                </a:lnTo>
                <a:lnTo>
                  <a:pt x="4476" y="638"/>
                </a:lnTo>
                <a:lnTo>
                  <a:pt x="4435" y="673"/>
                </a:lnTo>
                <a:lnTo>
                  <a:pt x="4388" y="708"/>
                </a:lnTo>
                <a:lnTo>
                  <a:pt x="4341" y="748"/>
                </a:lnTo>
                <a:lnTo>
                  <a:pt x="4291" y="788"/>
                </a:lnTo>
                <a:lnTo>
                  <a:pt x="4241" y="822"/>
                </a:lnTo>
                <a:lnTo>
                  <a:pt x="4191" y="862"/>
                </a:lnTo>
                <a:lnTo>
                  <a:pt x="4138" y="902"/>
                </a:lnTo>
                <a:lnTo>
                  <a:pt x="4087" y="942"/>
                </a:lnTo>
                <a:lnTo>
                  <a:pt x="4037" y="977"/>
                </a:lnTo>
                <a:lnTo>
                  <a:pt x="3990" y="1007"/>
                </a:lnTo>
                <a:lnTo>
                  <a:pt x="3946" y="1037"/>
                </a:lnTo>
                <a:lnTo>
                  <a:pt x="3903" y="1062"/>
                </a:lnTo>
                <a:lnTo>
                  <a:pt x="3865" y="1087"/>
                </a:lnTo>
                <a:lnTo>
                  <a:pt x="3834" y="1102"/>
                </a:lnTo>
                <a:lnTo>
                  <a:pt x="3806" y="1111"/>
                </a:lnTo>
                <a:lnTo>
                  <a:pt x="3787" y="1106"/>
                </a:lnTo>
                <a:lnTo>
                  <a:pt x="3765" y="1102"/>
                </a:lnTo>
                <a:lnTo>
                  <a:pt x="3740" y="1092"/>
                </a:lnTo>
                <a:lnTo>
                  <a:pt x="3718" y="1082"/>
                </a:lnTo>
                <a:lnTo>
                  <a:pt x="3696" y="1072"/>
                </a:lnTo>
                <a:lnTo>
                  <a:pt x="3677" y="1062"/>
                </a:lnTo>
                <a:lnTo>
                  <a:pt x="3665" y="1047"/>
                </a:lnTo>
                <a:lnTo>
                  <a:pt x="3661" y="1032"/>
                </a:lnTo>
                <a:lnTo>
                  <a:pt x="3661" y="1012"/>
                </a:lnTo>
                <a:lnTo>
                  <a:pt x="3661" y="987"/>
                </a:lnTo>
                <a:lnTo>
                  <a:pt x="3655" y="957"/>
                </a:lnTo>
                <a:lnTo>
                  <a:pt x="3646" y="932"/>
                </a:lnTo>
                <a:lnTo>
                  <a:pt x="3630" y="907"/>
                </a:lnTo>
                <a:lnTo>
                  <a:pt x="3605" y="887"/>
                </a:lnTo>
                <a:lnTo>
                  <a:pt x="3568" y="882"/>
                </a:lnTo>
                <a:lnTo>
                  <a:pt x="3521" y="892"/>
                </a:lnTo>
                <a:lnTo>
                  <a:pt x="3508" y="882"/>
                </a:lnTo>
                <a:lnTo>
                  <a:pt x="3495" y="872"/>
                </a:lnTo>
                <a:lnTo>
                  <a:pt x="3480" y="862"/>
                </a:lnTo>
                <a:lnTo>
                  <a:pt x="3467" y="847"/>
                </a:lnTo>
                <a:lnTo>
                  <a:pt x="3445" y="827"/>
                </a:lnTo>
                <a:lnTo>
                  <a:pt x="3427" y="813"/>
                </a:lnTo>
                <a:lnTo>
                  <a:pt x="3411" y="798"/>
                </a:lnTo>
                <a:lnTo>
                  <a:pt x="3398" y="793"/>
                </a:lnTo>
                <a:lnTo>
                  <a:pt x="3383" y="788"/>
                </a:lnTo>
                <a:lnTo>
                  <a:pt x="3358" y="783"/>
                </a:lnTo>
                <a:lnTo>
                  <a:pt x="3339" y="773"/>
                </a:lnTo>
                <a:lnTo>
                  <a:pt x="3326" y="758"/>
                </a:lnTo>
                <a:lnTo>
                  <a:pt x="3304" y="783"/>
                </a:lnTo>
                <a:lnTo>
                  <a:pt x="3282" y="813"/>
                </a:lnTo>
                <a:lnTo>
                  <a:pt x="3257" y="837"/>
                </a:lnTo>
                <a:lnTo>
                  <a:pt x="3235" y="857"/>
                </a:lnTo>
                <a:lnTo>
                  <a:pt x="3220" y="872"/>
                </a:lnTo>
                <a:lnTo>
                  <a:pt x="3204" y="887"/>
                </a:lnTo>
                <a:lnTo>
                  <a:pt x="3192" y="897"/>
                </a:lnTo>
                <a:lnTo>
                  <a:pt x="3179" y="902"/>
                </a:lnTo>
                <a:lnTo>
                  <a:pt x="3167" y="907"/>
                </a:lnTo>
                <a:lnTo>
                  <a:pt x="3148" y="922"/>
                </a:lnTo>
                <a:lnTo>
                  <a:pt x="3126" y="937"/>
                </a:lnTo>
                <a:lnTo>
                  <a:pt x="3104" y="952"/>
                </a:lnTo>
                <a:lnTo>
                  <a:pt x="3079" y="967"/>
                </a:lnTo>
                <a:lnTo>
                  <a:pt x="3057" y="987"/>
                </a:lnTo>
                <a:lnTo>
                  <a:pt x="3038" y="1002"/>
                </a:lnTo>
                <a:lnTo>
                  <a:pt x="3026" y="1012"/>
                </a:lnTo>
                <a:lnTo>
                  <a:pt x="3013" y="1017"/>
                </a:lnTo>
                <a:lnTo>
                  <a:pt x="2994" y="1022"/>
                </a:lnTo>
                <a:lnTo>
                  <a:pt x="2976" y="1017"/>
                </a:lnTo>
                <a:lnTo>
                  <a:pt x="2954" y="1012"/>
                </a:lnTo>
                <a:lnTo>
                  <a:pt x="2932" y="1002"/>
                </a:lnTo>
                <a:lnTo>
                  <a:pt x="2910" y="992"/>
                </a:lnTo>
                <a:lnTo>
                  <a:pt x="2894" y="977"/>
                </a:lnTo>
                <a:lnTo>
                  <a:pt x="2885" y="967"/>
                </a:lnTo>
                <a:lnTo>
                  <a:pt x="2850" y="977"/>
                </a:lnTo>
                <a:lnTo>
                  <a:pt x="2813" y="1002"/>
                </a:lnTo>
                <a:lnTo>
                  <a:pt x="2772" y="1027"/>
                </a:lnTo>
                <a:lnTo>
                  <a:pt x="2728" y="1057"/>
                </a:lnTo>
                <a:lnTo>
                  <a:pt x="2687" y="1087"/>
                </a:lnTo>
                <a:lnTo>
                  <a:pt x="2653" y="1116"/>
                </a:lnTo>
                <a:lnTo>
                  <a:pt x="2622" y="1141"/>
                </a:lnTo>
                <a:lnTo>
                  <a:pt x="2603" y="1156"/>
                </a:lnTo>
                <a:lnTo>
                  <a:pt x="2584" y="1171"/>
                </a:lnTo>
                <a:lnTo>
                  <a:pt x="2562" y="1191"/>
                </a:lnTo>
                <a:lnTo>
                  <a:pt x="2540" y="1206"/>
                </a:lnTo>
                <a:lnTo>
                  <a:pt x="2512" y="1221"/>
                </a:lnTo>
                <a:lnTo>
                  <a:pt x="2484" y="1241"/>
                </a:lnTo>
                <a:lnTo>
                  <a:pt x="2456" y="1256"/>
                </a:lnTo>
                <a:lnTo>
                  <a:pt x="2427" y="1266"/>
                </a:lnTo>
                <a:lnTo>
                  <a:pt x="2402" y="1276"/>
                </a:lnTo>
                <a:lnTo>
                  <a:pt x="2377" y="1286"/>
                </a:lnTo>
                <a:lnTo>
                  <a:pt x="2355" y="1301"/>
                </a:lnTo>
                <a:lnTo>
                  <a:pt x="2333" y="1316"/>
                </a:lnTo>
                <a:lnTo>
                  <a:pt x="2312" y="1336"/>
                </a:lnTo>
                <a:lnTo>
                  <a:pt x="2293" y="1351"/>
                </a:lnTo>
                <a:lnTo>
                  <a:pt x="2277" y="1366"/>
                </a:lnTo>
                <a:lnTo>
                  <a:pt x="2261" y="1381"/>
                </a:lnTo>
                <a:lnTo>
                  <a:pt x="2252" y="1386"/>
                </a:lnTo>
                <a:lnTo>
                  <a:pt x="2211" y="1326"/>
                </a:lnTo>
                <a:lnTo>
                  <a:pt x="2164" y="1256"/>
                </a:lnTo>
                <a:lnTo>
                  <a:pt x="2117" y="1176"/>
                </a:lnTo>
                <a:lnTo>
                  <a:pt x="2067" y="1092"/>
                </a:lnTo>
                <a:lnTo>
                  <a:pt x="2017" y="1012"/>
                </a:lnTo>
                <a:lnTo>
                  <a:pt x="1973" y="937"/>
                </a:lnTo>
                <a:lnTo>
                  <a:pt x="1939" y="867"/>
                </a:lnTo>
                <a:lnTo>
                  <a:pt x="1911" y="817"/>
                </a:lnTo>
                <a:lnTo>
                  <a:pt x="1889" y="768"/>
                </a:lnTo>
                <a:lnTo>
                  <a:pt x="1857" y="713"/>
                </a:lnTo>
                <a:lnTo>
                  <a:pt x="1826" y="648"/>
                </a:lnTo>
                <a:lnTo>
                  <a:pt x="1792" y="583"/>
                </a:lnTo>
                <a:lnTo>
                  <a:pt x="1754" y="519"/>
                </a:lnTo>
                <a:lnTo>
                  <a:pt x="1720" y="464"/>
                </a:lnTo>
                <a:lnTo>
                  <a:pt x="1688" y="414"/>
                </a:lnTo>
                <a:lnTo>
                  <a:pt x="1663" y="384"/>
                </a:lnTo>
                <a:lnTo>
                  <a:pt x="1641" y="359"/>
                </a:lnTo>
                <a:lnTo>
                  <a:pt x="1622" y="344"/>
                </a:lnTo>
                <a:lnTo>
                  <a:pt x="1604" y="324"/>
                </a:lnTo>
                <a:lnTo>
                  <a:pt x="1588" y="309"/>
                </a:lnTo>
                <a:lnTo>
                  <a:pt x="1575" y="294"/>
                </a:lnTo>
                <a:lnTo>
                  <a:pt x="1563" y="279"/>
                </a:lnTo>
                <a:lnTo>
                  <a:pt x="1550" y="264"/>
                </a:lnTo>
                <a:lnTo>
                  <a:pt x="1541" y="249"/>
                </a:lnTo>
                <a:lnTo>
                  <a:pt x="1528" y="230"/>
                </a:lnTo>
                <a:lnTo>
                  <a:pt x="1513" y="195"/>
                </a:lnTo>
                <a:lnTo>
                  <a:pt x="1491" y="160"/>
                </a:lnTo>
                <a:lnTo>
                  <a:pt x="1469" y="120"/>
                </a:lnTo>
                <a:lnTo>
                  <a:pt x="1444" y="80"/>
                </a:lnTo>
                <a:lnTo>
                  <a:pt x="1422" y="45"/>
                </a:lnTo>
                <a:lnTo>
                  <a:pt x="1406" y="20"/>
                </a:lnTo>
                <a:lnTo>
                  <a:pt x="1394" y="5"/>
                </a:lnTo>
                <a:lnTo>
                  <a:pt x="1378" y="10"/>
                </a:lnTo>
                <a:lnTo>
                  <a:pt x="1362" y="20"/>
                </a:lnTo>
                <a:lnTo>
                  <a:pt x="1347" y="40"/>
                </a:lnTo>
                <a:lnTo>
                  <a:pt x="1331" y="60"/>
                </a:lnTo>
                <a:lnTo>
                  <a:pt x="1315" y="80"/>
                </a:lnTo>
                <a:lnTo>
                  <a:pt x="1297" y="100"/>
                </a:lnTo>
                <a:lnTo>
                  <a:pt x="1278" y="120"/>
                </a:lnTo>
                <a:lnTo>
                  <a:pt x="1259" y="135"/>
                </a:lnTo>
                <a:lnTo>
                  <a:pt x="1247" y="135"/>
                </a:lnTo>
                <a:lnTo>
                  <a:pt x="1234" y="135"/>
                </a:lnTo>
                <a:lnTo>
                  <a:pt x="1222" y="125"/>
                </a:lnTo>
                <a:lnTo>
                  <a:pt x="1209" y="115"/>
                </a:lnTo>
                <a:lnTo>
                  <a:pt x="1196" y="95"/>
                </a:lnTo>
                <a:lnTo>
                  <a:pt x="1184" y="70"/>
                </a:lnTo>
                <a:lnTo>
                  <a:pt x="1171" y="40"/>
                </a:lnTo>
                <a:lnTo>
                  <a:pt x="1162" y="0"/>
                </a:lnTo>
                <a:lnTo>
                  <a:pt x="1153" y="0"/>
                </a:lnTo>
                <a:lnTo>
                  <a:pt x="1146" y="5"/>
                </a:lnTo>
                <a:lnTo>
                  <a:pt x="1134" y="15"/>
                </a:lnTo>
                <a:lnTo>
                  <a:pt x="1121" y="25"/>
                </a:lnTo>
                <a:lnTo>
                  <a:pt x="1106" y="45"/>
                </a:lnTo>
                <a:lnTo>
                  <a:pt x="1084" y="65"/>
                </a:lnTo>
                <a:lnTo>
                  <a:pt x="1056" y="90"/>
                </a:lnTo>
                <a:lnTo>
                  <a:pt x="1021" y="125"/>
                </a:lnTo>
                <a:lnTo>
                  <a:pt x="974" y="165"/>
                </a:lnTo>
                <a:lnTo>
                  <a:pt x="918" y="205"/>
                </a:lnTo>
                <a:lnTo>
                  <a:pt x="852" y="244"/>
                </a:lnTo>
                <a:lnTo>
                  <a:pt x="789" y="284"/>
                </a:lnTo>
                <a:lnTo>
                  <a:pt x="730" y="319"/>
                </a:lnTo>
                <a:lnTo>
                  <a:pt x="680" y="344"/>
                </a:lnTo>
                <a:lnTo>
                  <a:pt x="642" y="364"/>
                </a:lnTo>
                <a:lnTo>
                  <a:pt x="623" y="369"/>
                </a:lnTo>
                <a:lnTo>
                  <a:pt x="614" y="364"/>
                </a:lnTo>
                <a:lnTo>
                  <a:pt x="598" y="354"/>
                </a:lnTo>
                <a:lnTo>
                  <a:pt x="579" y="339"/>
                </a:lnTo>
                <a:lnTo>
                  <a:pt x="558" y="319"/>
                </a:lnTo>
                <a:lnTo>
                  <a:pt x="539" y="304"/>
                </a:lnTo>
                <a:lnTo>
                  <a:pt x="517" y="289"/>
                </a:lnTo>
                <a:lnTo>
                  <a:pt x="501" y="279"/>
                </a:lnTo>
                <a:lnTo>
                  <a:pt x="489" y="274"/>
                </a:lnTo>
                <a:lnTo>
                  <a:pt x="454" y="299"/>
                </a:lnTo>
                <a:lnTo>
                  <a:pt x="407" y="354"/>
                </a:lnTo>
                <a:lnTo>
                  <a:pt x="345" y="439"/>
                </a:lnTo>
                <a:lnTo>
                  <a:pt x="276" y="543"/>
                </a:lnTo>
                <a:lnTo>
                  <a:pt x="204" y="658"/>
                </a:lnTo>
                <a:lnTo>
                  <a:pt x="128" y="773"/>
                </a:lnTo>
                <a:lnTo>
                  <a:pt x="60" y="882"/>
                </a:lnTo>
                <a:lnTo>
                  <a:pt x="0" y="982"/>
                </a:lnTo>
                <a:close/>
              </a:path>
            </a:pathLst>
          </a:custGeom>
          <a:solidFill>
            <a:srgbClr val="d8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4"/>
          <p:cNvSpPr/>
          <p:nvPr/>
        </p:nvSpPr>
        <p:spPr>
          <a:xfrm>
            <a:off x="8712360" y="1866960"/>
            <a:ext cx="431640" cy="9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72" h="613">
                <a:moveTo>
                  <a:pt x="212" y="399"/>
                </a:moveTo>
                <a:lnTo>
                  <a:pt x="187" y="408"/>
                </a:lnTo>
                <a:lnTo>
                  <a:pt x="162" y="423"/>
                </a:lnTo>
                <a:lnTo>
                  <a:pt x="137" y="448"/>
                </a:lnTo>
                <a:lnTo>
                  <a:pt x="112" y="473"/>
                </a:lnTo>
                <a:lnTo>
                  <a:pt x="90" y="503"/>
                </a:lnTo>
                <a:lnTo>
                  <a:pt x="72" y="538"/>
                </a:lnTo>
                <a:lnTo>
                  <a:pt x="56" y="578"/>
                </a:lnTo>
                <a:lnTo>
                  <a:pt x="46" y="613"/>
                </a:lnTo>
                <a:lnTo>
                  <a:pt x="0" y="573"/>
                </a:lnTo>
                <a:lnTo>
                  <a:pt x="0" y="563"/>
                </a:lnTo>
                <a:lnTo>
                  <a:pt x="3" y="543"/>
                </a:lnTo>
                <a:lnTo>
                  <a:pt x="9" y="513"/>
                </a:lnTo>
                <a:lnTo>
                  <a:pt x="15" y="483"/>
                </a:lnTo>
                <a:lnTo>
                  <a:pt x="21" y="448"/>
                </a:lnTo>
                <a:lnTo>
                  <a:pt x="21" y="408"/>
                </a:lnTo>
                <a:lnTo>
                  <a:pt x="15" y="364"/>
                </a:lnTo>
                <a:lnTo>
                  <a:pt x="0" y="319"/>
                </a:lnTo>
                <a:lnTo>
                  <a:pt x="56" y="239"/>
                </a:lnTo>
                <a:lnTo>
                  <a:pt x="9" y="144"/>
                </a:lnTo>
                <a:lnTo>
                  <a:pt x="37" y="164"/>
                </a:lnTo>
                <a:lnTo>
                  <a:pt x="65" y="179"/>
                </a:lnTo>
                <a:lnTo>
                  <a:pt x="87" y="189"/>
                </a:lnTo>
                <a:lnTo>
                  <a:pt x="100" y="194"/>
                </a:lnTo>
                <a:lnTo>
                  <a:pt x="109" y="189"/>
                </a:lnTo>
                <a:lnTo>
                  <a:pt x="128" y="174"/>
                </a:lnTo>
                <a:lnTo>
                  <a:pt x="147" y="154"/>
                </a:lnTo>
                <a:lnTo>
                  <a:pt x="172" y="124"/>
                </a:lnTo>
                <a:lnTo>
                  <a:pt x="197" y="95"/>
                </a:lnTo>
                <a:lnTo>
                  <a:pt x="225" y="60"/>
                </a:lnTo>
                <a:lnTo>
                  <a:pt x="250" y="30"/>
                </a:lnTo>
                <a:lnTo>
                  <a:pt x="272" y="0"/>
                </a:lnTo>
                <a:lnTo>
                  <a:pt x="272" y="299"/>
                </a:lnTo>
                <a:lnTo>
                  <a:pt x="250" y="314"/>
                </a:lnTo>
                <a:lnTo>
                  <a:pt x="231" y="339"/>
                </a:lnTo>
                <a:lnTo>
                  <a:pt x="216" y="364"/>
                </a:lnTo>
                <a:lnTo>
                  <a:pt x="212" y="3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5"/>
          <p:cNvSpPr/>
          <p:nvPr/>
        </p:nvSpPr>
        <p:spPr>
          <a:xfrm>
            <a:off x="7315200" y="1295280"/>
            <a:ext cx="155520" cy="293760"/>
          </a:xfrm>
          <a:custGeom>
            <a:avLst/>
            <a:gdLst>
              <a:gd name="textAreaLeft" fmla="*/ 0 w 155520"/>
              <a:gd name="textAreaRight" fmla="*/ 155880 w 1555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8" h="185">
                <a:moveTo>
                  <a:pt x="98" y="130"/>
                </a:moveTo>
                <a:lnTo>
                  <a:pt x="85" y="115"/>
                </a:lnTo>
                <a:lnTo>
                  <a:pt x="76" y="100"/>
                </a:lnTo>
                <a:lnTo>
                  <a:pt x="63" y="80"/>
                </a:lnTo>
                <a:lnTo>
                  <a:pt x="51" y="65"/>
                </a:lnTo>
                <a:lnTo>
                  <a:pt x="38" y="45"/>
                </a:lnTo>
                <a:lnTo>
                  <a:pt x="25" y="30"/>
                </a:lnTo>
                <a:lnTo>
                  <a:pt x="13" y="15"/>
                </a:lnTo>
                <a:lnTo>
                  <a:pt x="0" y="0"/>
                </a:lnTo>
                <a:lnTo>
                  <a:pt x="0" y="35"/>
                </a:lnTo>
                <a:lnTo>
                  <a:pt x="0" y="80"/>
                </a:lnTo>
                <a:lnTo>
                  <a:pt x="4" y="135"/>
                </a:lnTo>
                <a:lnTo>
                  <a:pt x="13" y="175"/>
                </a:lnTo>
                <a:lnTo>
                  <a:pt x="32" y="180"/>
                </a:lnTo>
                <a:lnTo>
                  <a:pt x="57" y="180"/>
                </a:lnTo>
                <a:lnTo>
                  <a:pt x="82" y="185"/>
                </a:lnTo>
                <a:lnTo>
                  <a:pt x="91" y="185"/>
                </a:lnTo>
                <a:lnTo>
                  <a:pt x="98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6"/>
          <p:cNvSpPr/>
          <p:nvPr/>
        </p:nvSpPr>
        <p:spPr>
          <a:xfrm>
            <a:off x="5257800" y="1600200"/>
            <a:ext cx="223920" cy="426960"/>
          </a:xfrm>
          <a:custGeom>
            <a:avLst/>
            <a:gdLst>
              <a:gd name="textAreaLeft" fmla="*/ 0 w 223920"/>
              <a:gd name="textAreaRight" fmla="*/ 224280 w 223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1" h="269">
                <a:moveTo>
                  <a:pt x="141" y="89"/>
                </a:moveTo>
                <a:lnTo>
                  <a:pt x="119" y="69"/>
                </a:lnTo>
                <a:lnTo>
                  <a:pt x="101" y="55"/>
                </a:lnTo>
                <a:lnTo>
                  <a:pt x="85" y="40"/>
                </a:lnTo>
                <a:lnTo>
                  <a:pt x="72" y="35"/>
                </a:lnTo>
                <a:lnTo>
                  <a:pt x="57" y="30"/>
                </a:lnTo>
                <a:lnTo>
                  <a:pt x="32" y="25"/>
                </a:lnTo>
                <a:lnTo>
                  <a:pt x="13" y="15"/>
                </a:lnTo>
                <a:lnTo>
                  <a:pt x="0" y="0"/>
                </a:lnTo>
                <a:lnTo>
                  <a:pt x="16" y="55"/>
                </a:lnTo>
                <a:lnTo>
                  <a:pt x="32" y="94"/>
                </a:lnTo>
                <a:lnTo>
                  <a:pt x="44" y="124"/>
                </a:lnTo>
                <a:lnTo>
                  <a:pt x="47" y="149"/>
                </a:lnTo>
                <a:lnTo>
                  <a:pt x="47" y="179"/>
                </a:lnTo>
                <a:lnTo>
                  <a:pt x="44" y="219"/>
                </a:lnTo>
                <a:lnTo>
                  <a:pt x="41" y="254"/>
                </a:lnTo>
                <a:lnTo>
                  <a:pt x="41" y="269"/>
                </a:lnTo>
                <a:lnTo>
                  <a:pt x="101" y="269"/>
                </a:lnTo>
                <a:lnTo>
                  <a:pt x="113" y="229"/>
                </a:lnTo>
                <a:lnTo>
                  <a:pt x="122" y="179"/>
                </a:lnTo>
                <a:lnTo>
                  <a:pt x="129" y="134"/>
                </a:lnTo>
                <a:lnTo>
                  <a:pt x="14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0" y="506520"/>
            <a:ext cx="1620720" cy="18349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1021" h="1156">
                <a:moveTo>
                  <a:pt x="0" y="1156"/>
                </a:moveTo>
                <a:lnTo>
                  <a:pt x="0" y="857"/>
                </a:lnTo>
                <a:lnTo>
                  <a:pt x="60" y="757"/>
                </a:lnTo>
                <a:lnTo>
                  <a:pt x="128" y="648"/>
                </a:lnTo>
                <a:lnTo>
                  <a:pt x="204" y="533"/>
                </a:lnTo>
                <a:lnTo>
                  <a:pt x="276" y="418"/>
                </a:lnTo>
                <a:lnTo>
                  <a:pt x="345" y="314"/>
                </a:lnTo>
                <a:lnTo>
                  <a:pt x="407" y="229"/>
                </a:lnTo>
                <a:lnTo>
                  <a:pt x="454" y="174"/>
                </a:lnTo>
                <a:lnTo>
                  <a:pt x="489" y="149"/>
                </a:lnTo>
                <a:lnTo>
                  <a:pt x="501" y="154"/>
                </a:lnTo>
                <a:lnTo>
                  <a:pt x="517" y="164"/>
                </a:lnTo>
                <a:lnTo>
                  <a:pt x="539" y="179"/>
                </a:lnTo>
                <a:lnTo>
                  <a:pt x="558" y="194"/>
                </a:lnTo>
                <a:lnTo>
                  <a:pt x="579" y="214"/>
                </a:lnTo>
                <a:lnTo>
                  <a:pt x="598" y="229"/>
                </a:lnTo>
                <a:lnTo>
                  <a:pt x="614" y="239"/>
                </a:lnTo>
                <a:lnTo>
                  <a:pt x="623" y="244"/>
                </a:lnTo>
                <a:lnTo>
                  <a:pt x="642" y="239"/>
                </a:lnTo>
                <a:lnTo>
                  <a:pt x="680" y="219"/>
                </a:lnTo>
                <a:lnTo>
                  <a:pt x="730" y="194"/>
                </a:lnTo>
                <a:lnTo>
                  <a:pt x="789" y="159"/>
                </a:lnTo>
                <a:lnTo>
                  <a:pt x="852" y="119"/>
                </a:lnTo>
                <a:lnTo>
                  <a:pt x="918" y="80"/>
                </a:lnTo>
                <a:lnTo>
                  <a:pt x="974" y="40"/>
                </a:lnTo>
                <a:lnTo>
                  <a:pt x="1021" y="0"/>
                </a:lnTo>
                <a:lnTo>
                  <a:pt x="983" y="40"/>
                </a:lnTo>
                <a:lnTo>
                  <a:pt x="949" y="70"/>
                </a:lnTo>
                <a:lnTo>
                  <a:pt x="921" y="100"/>
                </a:lnTo>
                <a:lnTo>
                  <a:pt x="896" y="124"/>
                </a:lnTo>
                <a:lnTo>
                  <a:pt x="874" y="149"/>
                </a:lnTo>
                <a:lnTo>
                  <a:pt x="852" y="164"/>
                </a:lnTo>
                <a:lnTo>
                  <a:pt x="833" y="184"/>
                </a:lnTo>
                <a:lnTo>
                  <a:pt x="811" y="199"/>
                </a:lnTo>
                <a:lnTo>
                  <a:pt x="792" y="219"/>
                </a:lnTo>
                <a:lnTo>
                  <a:pt x="771" y="239"/>
                </a:lnTo>
                <a:lnTo>
                  <a:pt x="749" y="264"/>
                </a:lnTo>
                <a:lnTo>
                  <a:pt x="730" y="289"/>
                </a:lnTo>
                <a:lnTo>
                  <a:pt x="711" y="314"/>
                </a:lnTo>
                <a:lnTo>
                  <a:pt x="692" y="334"/>
                </a:lnTo>
                <a:lnTo>
                  <a:pt x="677" y="344"/>
                </a:lnTo>
                <a:lnTo>
                  <a:pt x="664" y="349"/>
                </a:lnTo>
                <a:lnTo>
                  <a:pt x="651" y="344"/>
                </a:lnTo>
                <a:lnTo>
                  <a:pt x="633" y="329"/>
                </a:lnTo>
                <a:lnTo>
                  <a:pt x="611" y="314"/>
                </a:lnTo>
                <a:lnTo>
                  <a:pt x="589" y="289"/>
                </a:lnTo>
                <a:lnTo>
                  <a:pt x="564" y="269"/>
                </a:lnTo>
                <a:lnTo>
                  <a:pt x="542" y="254"/>
                </a:lnTo>
                <a:lnTo>
                  <a:pt x="520" y="239"/>
                </a:lnTo>
                <a:lnTo>
                  <a:pt x="501" y="234"/>
                </a:lnTo>
                <a:lnTo>
                  <a:pt x="489" y="244"/>
                </a:lnTo>
                <a:lnTo>
                  <a:pt x="470" y="269"/>
                </a:lnTo>
                <a:lnTo>
                  <a:pt x="445" y="309"/>
                </a:lnTo>
                <a:lnTo>
                  <a:pt x="413" y="359"/>
                </a:lnTo>
                <a:lnTo>
                  <a:pt x="379" y="418"/>
                </a:lnTo>
                <a:lnTo>
                  <a:pt x="341" y="488"/>
                </a:lnTo>
                <a:lnTo>
                  <a:pt x="304" y="563"/>
                </a:lnTo>
                <a:lnTo>
                  <a:pt x="263" y="638"/>
                </a:lnTo>
                <a:lnTo>
                  <a:pt x="222" y="717"/>
                </a:lnTo>
                <a:lnTo>
                  <a:pt x="182" y="797"/>
                </a:lnTo>
                <a:lnTo>
                  <a:pt x="141" y="877"/>
                </a:lnTo>
                <a:lnTo>
                  <a:pt x="103" y="947"/>
                </a:lnTo>
                <a:lnTo>
                  <a:pt x="72" y="1016"/>
                </a:lnTo>
                <a:lnTo>
                  <a:pt x="41" y="1071"/>
                </a:lnTo>
                <a:lnTo>
                  <a:pt x="19" y="1121"/>
                </a:lnTo>
                <a:lnTo>
                  <a:pt x="0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8"/>
          <p:cNvSpPr/>
          <p:nvPr/>
        </p:nvSpPr>
        <p:spPr>
          <a:xfrm>
            <a:off x="6205680" y="2610000"/>
            <a:ext cx="183960" cy="349200"/>
          </a:xfrm>
          <a:custGeom>
            <a:avLst/>
            <a:gdLst>
              <a:gd name="textAreaLeft" fmla="*/ 0 w 183960"/>
              <a:gd name="textAreaRight" fmla="*/ 184320 w 183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16" h="220">
                <a:moveTo>
                  <a:pt x="0" y="0"/>
                </a:moveTo>
                <a:lnTo>
                  <a:pt x="9" y="10"/>
                </a:lnTo>
                <a:lnTo>
                  <a:pt x="19" y="25"/>
                </a:lnTo>
                <a:lnTo>
                  <a:pt x="34" y="35"/>
                </a:lnTo>
                <a:lnTo>
                  <a:pt x="50" y="45"/>
                </a:lnTo>
                <a:lnTo>
                  <a:pt x="66" y="55"/>
                </a:lnTo>
                <a:lnTo>
                  <a:pt x="81" y="65"/>
                </a:lnTo>
                <a:lnTo>
                  <a:pt x="91" y="70"/>
                </a:lnTo>
                <a:lnTo>
                  <a:pt x="100" y="70"/>
                </a:lnTo>
                <a:lnTo>
                  <a:pt x="110" y="80"/>
                </a:lnTo>
                <a:lnTo>
                  <a:pt x="113" y="105"/>
                </a:lnTo>
                <a:lnTo>
                  <a:pt x="116" y="130"/>
                </a:lnTo>
                <a:lnTo>
                  <a:pt x="116" y="140"/>
                </a:lnTo>
                <a:lnTo>
                  <a:pt x="113" y="145"/>
                </a:lnTo>
                <a:lnTo>
                  <a:pt x="103" y="150"/>
                </a:lnTo>
                <a:lnTo>
                  <a:pt x="91" y="165"/>
                </a:lnTo>
                <a:lnTo>
                  <a:pt x="75" y="180"/>
                </a:lnTo>
                <a:lnTo>
                  <a:pt x="59" y="195"/>
                </a:lnTo>
                <a:lnTo>
                  <a:pt x="41" y="205"/>
                </a:lnTo>
                <a:lnTo>
                  <a:pt x="25" y="215"/>
                </a:lnTo>
                <a:lnTo>
                  <a:pt x="9" y="220"/>
                </a:lnTo>
                <a:lnTo>
                  <a:pt x="6" y="170"/>
                </a:lnTo>
                <a:lnTo>
                  <a:pt x="6" y="110"/>
                </a:lnTo>
                <a:lnTo>
                  <a:pt x="6" y="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9"/>
          <p:cNvSpPr/>
          <p:nvPr/>
        </p:nvSpPr>
        <p:spPr>
          <a:xfrm>
            <a:off x="5086440" y="2158920"/>
            <a:ext cx="1035000" cy="90972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652" h="573">
                <a:moveTo>
                  <a:pt x="0" y="563"/>
                </a:moveTo>
                <a:lnTo>
                  <a:pt x="13" y="538"/>
                </a:lnTo>
                <a:lnTo>
                  <a:pt x="31" y="509"/>
                </a:lnTo>
                <a:lnTo>
                  <a:pt x="53" y="474"/>
                </a:lnTo>
                <a:lnTo>
                  <a:pt x="82" y="454"/>
                </a:lnTo>
                <a:lnTo>
                  <a:pt x="100" y="444"/>
                </a:lnTo>
                <a:lnTo>
                  <a:pt x="125" y="424"/>
                </a:lnTo>
                <a:lnTo>
                  <a:pt x="154" y="404"/>
                </a:lnTo>
                <a:lnTo>
                  <a:pt x="182" y="379"/>
                </a:lnTo>
                <a:lnTo>
                  <a:pt x="210" y="349"/>
                </a:lnTo>
                <a:lnTo>
                  <a:pt x="232" y="329"/>
                </a:lnTo>
                <a:lnTo>
                  <a:pt x="251" y="304"/>
                </a:lnTo>
                <a:lnTo>
                  <a:pt x="260" y="289"/>
                </a:lnTo>
                <a:lnTo>
                  <a:pt x="266" y="269"/>
                </a:lnTo>
                <a:lnTo>
                  <a:pt x="279" y="234"/>
                </a:lnTo>
                <a:lnTo>
                  <a:pt x="298" y="190"/>
                </a:lnTo>
                <a:lnTo>
                  <a:pt x="317" y="140"/>
                </a:lnTo>
                <a:lnTo>
                  <a:pt x="335" y="95"/>
                </a:lnTo>
                <a:lnTo>
                  <a:pt x="354" y="50"/>
                </a:lnTo>
                <a:lnTo>
                  <a:pt x="367" y="20"/>
                </a:lnTo>
                <a:lnTo>
                  <a:pt x="376" y="10"/>
                </a:lnTo>
                <a:lnTo>
                  <a:pt x="389" y="5"/>
                </a:lnTo>
                <a:lnTo>
                  <a:pt x="407" y="0"/>
                </a:lnTo>
                <a:lnTo>
                  <a:pt x="423" y="0"/>
                </a:lnTo>
                <a:lnTo>
                  <a:pt x="426" y="10"/>
                </a:lnTo>
                <a:lnTo>
                  <a:pt x="417" y="55"/>
                </a:lnTo>
                <a:lnTo>
                  <a:pt x="401" y="130"/>
                </a:lnTo>
                <a:lnTo>
                  <a:pt x="389" y="200"/>
                </a:lnTo>
                <a:lnTo>
                  <a:pt x="392" y="229"/>
                </a:lnTo>
                <a:lnTo>
                  <a:pt x="398" y="229"/>
                </a:lnTo>
                <a:lnTo>
                  <a:pt x="410" y="229"/>
                </a:lnTo>
                <a:lnTo>
                  <a:pt x="423" y="229"/>
                </a:lnTo>
                <a:lnTo>
                  <a:pt x="439" y="229"/>
                </a:lnTo>
                <a:lnTo>
                  <a:pt x="454" y="224"/>
                </a:lnTo>
                <a:lnTo>
                  <a:pt x="470" y="224"/>
                </a:lnTo>
                <a:lnTo>
                  <a:pt x="483" y="220"/>
                </a:lnTo>
                <a:lnTo>
                  <a:pt x="495" y="210"/>
                </a:lnTo>
                <a:lnTo>
                  <a:pt x="517" y="195"/>
                </a:lnTo>
                <a:lnTo>
                  <a:pt x="539" y="180"/>
                </a:lnTo>
                <a:lnTo>
                  <a:pt x="555" y="175"/>
                </a:lnTo>
                <a:lnTo>
                  <a:pt x="561" y="170"/>
                </a:lnTo>
                <a:lnTo>
                  <a:pt x="567" y="180"/>
                </a:lnTo>
                <a:lnTo>
                  <a:pt x="580" y="210"/>
                </a:lnTo>
                <a:lnTo>
                  <a:pt x="595" y="244"/>
                </a:lnTo>
                <a:lnTo>
                  <a:pt x="605" y="279"/>
                </a:lnTo>
                <a:lnTo>
                  <a:pt x="614" y="309"/>
                </a:lnTo>
                <a:lnTo>
                  <a:pt x="633" y="334"/>
                </a:lnTo>
                <a:lnTo>
                  <a:pt x="649" y="359"/>
                </a:lnTo>
                <a:lnTo>
                  <a:pt x="652" y="379"/>
                </a:lnTo>
                <a:lnTo>
                  <a:pt x="642" y="404"/>
                </a:lnTo>
                <a:lnTo>
                  <a:pt x="627" y="429"/>
                </a:lnTo>
                <a:lnTo>
                  <a:pt x="611" y="449"/>
                </a:lnTo>
                <a:lnTo>
                  <a:pt x="592" y="459"/>
                </a:lnTo>
                <a:lnTo>
                  <a:pt x="573" y="474"/>
                </a:lnTo>
                <a:lnTo>
                  <a:pt x="551" y="509"/>
                </a:lnTo>
                <a:lnTo>
                  <a:pt x="533" y="543"/>
                </a:lnTo>
                <a:lnTo>
                  <a:pt x="526" y="558"/>
                </a:lnTo>
                <a:lnTo>
                  <a:pt x="504" y="543"/>
                </a:lnTo>
                <a:lnTo>
                  <a:pt x="479" y="528"/>
                </a:lnTo>
                <a:lnTo>
                  <a:pt x="448" y="513"/>
                </a:lnTo>
                <a:lnTo>
                  <a:pt x="414" y="499"/>
                </a:lnTo>
                <a:lnTo>
                  <a:pt x="382" y="484"/>
                </a:lnTo>
                <a:lnTo>
                  <a:pt x="351" y="469"/>
                </a:lnTo>
                <a:lnTo>
                  <a:pt x="329" y="459"/>
                </a:lnTo>
                <a:lnTo>
                  <a:pt x="310" y="454"/>
                </a:lnTo>
                <a:lnTo>
                  <a:pt x="295" y="454"/>
                </a:lnTo>
                <a:lnTo>
                  <a:pt x="273" y="454"/>
                </a:lnTo>
                <a:lnTo>
                  <a:pt x="248" y="459"/>
                </a:lnTo>
                <a:lnTo>
                  <a:pt x="219" y="464"/>
                </a:lnTo>
                <a:lnTo>
                  <a:pt x="194" y="474"/>
                </a:lnTo>
                <a:lnTo>
                  <a:pt x="169" y="484"/>
                </a:lnTo>
                <a:lnTo>
                  <a:pt x="151" y="494"/>
                </a:lnTo>
                <a:lnTo>
                  <a:pt x="138" y="509"/>
                </a:lnTo>
                <a:lnTo>
                  <a:pt x="125" y="523"/>
                </a:lnTo>
                <a:lnTo>
                  <a:pt x="107" y="538"/>
                </a:lnTo>
                <a:lnTo>
                  <a:pt x="85" y="548"/>
                </a:lnTo>
                <a:lnTo>
                  <a:pt x="63" y="558"/>
                </a:lnTo>
                <a:lnTo>
                  <a:pt x="41" y="568"/>
                </a:lnTo>
                <a:lnTo>
                  <a:pt x="22" y="573"/>
                </a:lnTo>
                <a:lnTo>
                  <a:pt x="10" y="568"/>
                </a:lnTo>
                <a:lnTo>
                  <a:pt x="0" y="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0"/>
          <p:cNvSpPr/>
          <p:nvPr/>
        </p:nvSpPr>
        <p:spPr>
          <a:xfrm>
            <a:off x="7434360" y="1969920"/>
            <a:ext cx="357120" cy="758880"/>
          </a:xfrm>
          <a:custGeom>
            <a:avLst/>
            <a:gdLst>
              <a:gd name="textAreaLeft" fmla="*/ 0 w 357120"/>
              <a:gd name="textAreaRight" fmla="*/ 357480 w 357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225" h="478">
                <a:moveTo>
                  <a:pt x="31" y="0"/>
                </a:moveTo>
                <a:lnTo>
                  <a:pt x="47" y="40"/>
                </a:lnTo>
                <a:lnTo>
                  <a:pt x="68" y="94"/>
                </a:lnTo>
                <a:lnTo>
                  <a:pt x="84" y="149"/>
                </a:lnTo>
                <a:lnTo>
                  <a:pt x="94" y="184"/>
                </a:lnTo>
                <a:lnTo>
                  <a:pt x="115" y="174"/>
                </a:lnTo>
                <a:lnTo>
                  <a:pt x="140" y="164"/>
                </a:lnTo>
                <a:lnTo>
                  <a:pt x="159" y="159"/>
                </a:lnTo>
                <a:lnTo>
                  <a:pt x="166" y="159"/>
                </a:lnTo>
                <a:lnTo>
                  <a:pt x="175" y="224"/>
                </a:lnTo>
                <a:lnTo>
                  <a:pt x="187" y="319"/>
                </a:lnTo>
                <a:lnTo>
                  <a:pt x="203" y="408"/>
                </a:lnTo>
                <a:lnTo>
                  <a:pt x="225" y="478"/>
                </a:lnTo>
                <a:lnTo>
                  <a:pt x="213" y="468"/>
                </a:lnTo>
                <a:lnTo>
                  <a:pt x="203" y="453"/>
                </a:lnTo>
                <a:lnTo>
                  <a:pt x="194" y="443"/>
                </a:lnTo>
                <a:lnTo>
                  <a:pt x="181" y="428"/>
                </a:lnTo>
                <a:lnTo>
                  <a:pt x="169" y="418"/>
                </a:lnTo>
                <a:lnTo>
                  <a:pt x="156" y="408"/>
                </a:lnTo>
                <a:lnTo>
                  <a:pt x="140" y="398"/>
                </a:lnTo>
                <a:lnTo>
                  <a:pt x="122" y="398"/>
                </a:lnTo>
                <a:lnTo>
                  <a:pt x="87" y="393"/>
                </a:lnTo>
                <a:lnTo>
                  <a:pt x="62" y="373"/>
                </a:lnTo>
                <a:lnTo>
                  <a:pt x="50" y="334"/>
                </a:lnTo>
                <a:lnTo>
                  <a:pt x="47" y="274"/>
                </a:lnTo>
                <a:lnTo>
                  <a:pt x="31" y="244"/>
                </a:lnTo>
                <a:lnTo>
                  <a:pt x="15" y="209"/>
                </a:lnTo>
                <a:lnTo>
                  <a:pt x="6" y="184"/>
                </a:lnTo>
                <a:lnTo>
                  <a:pt x="0" y="164"/>
                </a:lnTo>
                <a:lnTo>
                  <a:pt x="0" y="134"/>
                </a:lnTo>
                <a:lnTo>
                  <a:pt x="3" y="79"/>
                </a:lnTo>
                <a:lnTo>
                  <a:pt x="9" y="25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reeform 11"/>
          <p:cNvSpPr/>
          <p:nvPr/>
        </p:nvSpPr>
        <p:spPr>
          <a:xfrm>
            <a:off x="6934320" y="2362320"/>
            <a:ext cx="223560" cy="387360"/>
          </a:xfrm>
          <a:custGeom>
            <a:avLst/>
            <a:gdLst>
              <a:gd name="textAreaLeft" fmla="*/ 0 w 223560"/>
              <a:gd name="textAreaRight" fmla="*/ 223920 w 223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41" h="244">
                <a:moveTo>
                  <a:pt x="125" y="0"/>
                </a:moveTo>
                <a:lnTo>
                  <a:pt x="129" y="35"/>
                </a:lnTo>
                <a:lnTo>
                  <a:pt x="138" y="80"/>
                </a:lnTo>
                <a:lnTo>
                  <a:pt x="141" y="124"/>
                </a:lnTo>
                <a:lnTo>
                  <a:pt x="138" y="149"/>
                </a:lnTo>
                <a:lnTo>
                  <a:pt x="125" y="169"/>
                </a:lnTo>
                <a:lnTo>
                  <a:pt x="110" y="199"/>
                </a:lnTo>
                <a:lnTo>
                  <a:pt x="91" y="229"/>
                </a:lnTo>
                <a:lnTo>
                  <a:pt x="79" y="244"/>
                </a:lnTo>
                <a:lnTo>
                  <a:pt x="60" y="229"/>
                </a:lnTo>
                <a:lnTo>
                  <a:pt x="35" y="199"/>
                </a:lnTo>
                <a:lnTo>
                  <a:pt x="10" y="169"/>
                </a:lnTo>
                <a:lnTo>
                  <a:pt x="0" y="154"/>
                </a:lnTo>
                <a:lnTo>
                  <a:pt x="13" y="139"/>
                </a:lnTo>
                <a:lnTo>
                  <a:pt x="28" y="124"/>
                </a:lnTo>
                <a:lnTo>
                  <a:pt x="44" y="115"/>
                </a:lnTo>
                <a:lnTo>
                  <a:pt x="63" y="105"/>
                </a:lnTo>
                <a:lnTo>
                  <a:pt x="79" y="90"/>
                </a:lnTo>
                <a:lnTo>
                  <a:pt x="97" y="70"/>
                </a:lnTo>
                <a:lnTo>
                  <a:pt x="113" y="40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reeform 12"/>
          <p:cNvSpPr/>
          <p:nvPr/>
        </p:nvSpPr>
        <p:spPr>
          <a:xfrm>
            <a:off x="5708520" y="3235320"/>
            <a:ext cx="1217880" cy="95724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767" h="603">
                <a:moveTo>
                  <a:pt x="767" y="279"/>
                </a:moveTo>
                <a:lnTo>
                  <a:pt x="736" y="274"/>
                </a:lnTo>
                <a:lnTo>
                  <a:pt x="698" y="279"/>
                </a:lnTo>
                <a:lnTo>
                  <a:pt x="651" y="289"/>
                </a:lnTo>
                <a:lnTo>
                  <a:pt x="601" y="309"/>
                </a:lnTo>
                <a:lnTo>
                  <a:pt x="545" y="329"/>
                </a:lnTo>
                <a:lnTo>
                  <a:pt x="488" y="349"/>
                </a:lnTo>
                <a:lnTo>
                  <a:pt x="429" y="379"/>
                </a:lnTo>
                <a:lnTo>
                  <a:pt x="366" y="404"/>
                </a:lnTo>
                <a:lnTo>
                  <a:pt x="307" y="433"/>
                </a:lnTo>
                <a:lnTo>
                  <a:pt x="247" y="463"/>
                </a:lnTo>
                <a:lnTo>
                  <a:pt x="194" y="493"/>
                </a:lnTo>
                <a:lnTo>
                  <a:pt x="141" y="523"/>
                </a:lnTo>
                <a:lnTo>
                  <a:pt x="97" y="548"/>
                </a:lnTo>
                <a:lnTo>
                  <a:pt x="56" y="568"/>
                </a:lnTo>
                <a:lnTo>
                  <a:pt x="25" y="588"/>
                </a:lnTo>
                <a:lnTo>
                  <a:pt x="0" y="603"/>
                </a:lnTo>
                <a:lnTo>
                  <a:pt x="31" y="553"/>
                </a:lnTo>
                <a:lnTo>
                  <a:pt x="56" y="498"/>
                </a:lnTo>
                <a:lnTo>
                  <a:pt x="72" y="443"/>
                </a:lnTo>
                <a:lnTo>
                  <a:pt x="81" y="394"/>
                </a:lnTo>
                <a:lnTo>
                  <a:pt x="112" y="384"/>
                </a:lnTo>
                <a:lnTo>
                  <a:pt x="150" y="369"/>
                </a:lnTo>
                <a:lnTo>
                  <a:pt x="188" y="354"/>
                </a:lnTo>
                <a:lnTo>
                  <a:pt x="225" y="339"/>
                </a:lnTo>
                <a:lnTo>
                  <a:pt x="263" y="319"/>
                </a:lnTo>
                <a:lnTo>
                  <a:pt x="291" y="304"/>
                </a:lnTo>
                <a:lnTo>
                  <a:pt x="313" y="284"/>
                </a:lnTo>
                <a:lnTo>
                  <a:pt x="322" y="269"/>
                </a:lnTo>
                <a:lnTo>
                  <a:pt x="335" y="199"/>
                </a:lnTo>
                <a:lnTo>
                  <a:pt x="350" y="115"/>
                </a:lnTo>
                <a:lnTo>
                  <a:pt x="369" y="50"/>
                </a:lnTo>
                <a:lnTo>
                  <a:pt x="376" y="25"/>
                </a:lnTo>
                <a:lnTo>
                  <a:pt x="394" y="20"/>
                </a:lnTo>
                <a:lnTo>
                  <a:pt x="419" y="20"/>
                </a:lnTo>
                <a:lnTo>
                  <a:pt x="441" y="15"/>
                </a:lnTo>
                <a:lnTo>
                  <a:pt x="463" y="10"/>
                </a:lnTo>
                <a:lnTo>
                  <a:pt x="482" y="5"/>
                </a:lnTo>
                <a:lnTo>
                  <a:pt x="498" y="5"/>
                </a:lnTo>
                <a:lnTo>
                  <a:pt x="510" y="0"/>
                </a:lnTo>
                <a:lnTo>
                  <a:pt x="513" y="0"/>
                </a:lnTo>
                <a:lnTo>
                  <a:pt x="529" y="65"/>
                </a:lnTo>
                <a:lnTo>
                  <a:pt x="573" y="65"/>
                </a:lnTo>
                <a:lnTo>
                  <a:pt x="576" y="80"/>
                </a:lnTo>
                <a:lnTo>
                  <a:pt x="579" y="110"/>
                </a:lnTo>
                <a:lnTo>
                  <a:pt x="589" y="144"/>
                </a:lnTo>
                <a:lnTo>
                  <a:pt x="604" y="169"/>
                </a:lnTo>
                <a:lnTo>
                  <a:pt x="623" y="189"/>
                </a:lnTo>
                <a:lnTo>
                  <a:pt x="648" y="209"/>
                </a:lnTo>
                <a:lnTo>
                  <a:pt x="673" y="229"/>
                </a:lnTo>
                <a:lnTo>
                  <a:pt x="698" y="244"/>
                </a:lnTo>
                <a:lnTo>
                  <a:pt x="723" y="254"/>
                </a:lnTo>
                <a:lnTo>
                  <a:pt x="742" y="269"/>
                </a:lnTo>
                <a:lnTo>
                  <a:pt x="758" y="274"/>
                </a:lnTo>
                <a:lnTo>
                  <a:pt x="767" y="2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reeform 13"/>
          <p:cNvSpPr/>
          <p:nvPr/>
        </p:nvSpPr>
        <p:spPr>
          <a:xfrm>
            <a:off x="7080120" y="2508120"/>
            <a:ext cx="760680" cy="1573200"/>
          </a:xfrm>
          <a:custGeom>
            <a:avLst/>
            <a:gdLst>
              <a:gd name="textAreaLeft" fmla="*/ 0 w 760680"/>
              <a:gd name="textAreaRight" fmla="*/ 761040 w 7606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479" h="991">
                <a:moveTo>
                  <a:pt x="479" y="926"/>
                </a:moveTo>
                <a:lnTo>
                  <a:pt x="448" y="956"/>
                </a:lnTo>
                <a:lnTo>
                  <a:pt x="417" y="976"/>
                </a:lnTo>
                <a:lnTo>
                  <a:pt x="385" y="986"/>
                </a:lnTo>
                <a:lnTo>
                  <a:pt x="351" y="991"/>
                </a:lnTo>
                <a:lnTo>
                  <a:pt x="320" y="981"/>
                </a:lnTo>
                <a:lnTo>
                  <a:pt x="291" y="971"/>
                </a:lnTo>
                <a:lnTo>
                  <a:pt x="263" y="951"/>
                </a:lnTo>
                <a:lnTo>
                  <a:pt x="238" y="926"/>
                </a:lnTo>
                <a:lnTo>
                  <a:pt x="223" y="911"/>
                </a:lnTo>
                <a:lnTo>
                  <a:pt x="207" y="891"/>
                </a:lnTo>
                <a:lnTo>
                  <a:pt x="188" y="876"/>
                </a:lnTo>
                <a:lnTo>
                  <a:pt x="166" y="862"/>
                </a:lnTo>
                <a:lnTo>
                  <a:pt x="141" y="842"/>
                </a:lnTo>
                <a:lnTo>
                  <a:pt x="116" y="827"/>
                </a:lnTo>
                <a:lnTo>
                  <a:pt x="88" y="812"/>
                </a:lnTo>
                <a:lnTo>
                  <a:pt x="60" y="797"/>
                </a:lnTo>
                <a:lnTo>
                  <a:pt x="41" y="762"/>
                </a:lnTo>
                <a:lnTo>
                  <a:pt x="22" y="727"/>
                </a:lnTo>
                <a:lnTo>
                  <a:pt x="6" y="697"/>
                </a:lnTo>
                <a:lnTo>
                  <a:pt x="0" y="682"/>
                </a:lnTo>
                <a:lnTo>
                  <a:pt x="10" y="632"/>
                </a:lnTo>
                <a:lnTo>
                  <a:pt x="16" y="558"/>
                </a:lnTo>
                <a:lnTo>
                  <a:pt x="22" y="478"/>
                </a:lnTo>
                <a:lnTo>
                  <a:pt x="22" y="418"/>
                </a:lnTo>
                <a:lnTo>
                  <a:pt x="41" y="383"/>
                </a:lnTo>
                <a:lnTo>
                  <a:pt x="63" y="333"/>
                </a:lnTo>
                <a:lnTo>
                  <a:pt x="85" y="284"/>
                </a:lnTo>
                <a:lnTo>
                  <a:pt x="107" y="229"/>
                </a:lnTo>
                <a:lnTo>
                  <a:pt x="125" y="169"/>
                </a:lnTo>
                <a:lnTo>
                  <a:pt x="138" y="109"/>
                </a:lnTo>
                <a:lnTo>
                  <a:pt x="144" y="54"/>
                </a:lnTo>
                <a:lnTo>
                  <a:pt x="138" y="0"/>
                </a:lnTo>
                <a:lnTo>
                  <a:pt x="157" y="19"/>
                </a:lnTo>
                <a:lnTo>
                  <a:pt x="179" y="44"/>
                </a:lnTo>
                <a:lnTo>
                  <a:pt x="197" y="64"/>
                </a:lnTo>
                <a:lnTo>
                  <a:pt x="213" y="89"/>
                </a:lnTo>
                <a:lnTo>
                  <a:pt x="223" y="114"/>
                </a:lnTo>
                <a:lnTo>
                  <a:pt x="226" y="139"/>
                </a:lnTo>
                <a:lnTo>
                  <a:pt x="219" y="164"/>
                </a:lnTo>
                <a:lnTo>
                  <a:pt x="204" y="194"/>
                </a:lnTo>
                <a:lnTo>
                  <a:pt x="182" y="224"/>
                </a:lnTo>
                <a:lnTo>
                  <a:pt x="160" y="254"/>
                </a:lnTo>
                <a:lnTo>
                  <a:pt x="138" y="279"/>
                </a:lnTo>
                <a:lnTo>
                  <a:pt x="119" y="308"/>
                </a:lnTo>
                <a:lnTo>
                  <a:pt x="100" y="338"/>
                </a:lnTo>
                <a:lnTo>
                  <a:pt x="88" y="363"/>
                </a:lnTo>
                <a:lnTo>
                  <a:pt x="82" y="388"/>
                </a:lnTo>
                <a:lnTo>
                  <a:pt x="78" y="413"/>
                </a:lnTo>
                <a:lnTo>
                  <a:pt x="78" y="468"/>
                </a:lnTo>
                <a:lnTo>
                  <a:pt x="82" y="528"/>
                </a:lnTo>
                <a:lnTo>
                  <a:pt x="88" y="582"/>
                </a:lnTo>
                <a:lnTo>
                  <a:pt x="104" y="622"/>
                </a:lnTo>
                <a:lnTo>
                  <a:pt x="113" y="637"/>
                </a:lnTo>
                <a:lnTo>
                  <a:pt x="125" y="652"/>
                </a:lnTo>
                <a:lnTo>
                  <a:pt x="138" y="672"/>
                </a:lnTo>
                <a:lnTo>
                  <a:pt x="154" y="692"/>
                </a:lnTo>
                <a:lnTo>
                  <a:pt x="166" y="712"/>
                </a:lnTo>
                <a:lnTo>
                  <a:pt x="182" y="727"/>
                </a:lnTo>
                <a:lnTo>
                  <a:pt x="194" y="742"/>
                </a:lnTo>
                <a:lnTo>
                  <a:pt x="207" y="747"/>
                </a:lnTo>
                <a:lnTo>
                  <a:pt x="232" y="757"/>
                </a:lnTo>
                <a:lnTo>
                  <a:pt x="257" y="782"/>
                </a:lnTo>
                <a:lnTo>
                  <a:pt x="279" y="807"/>
                </a:lnTo>
                <a:lnTo>
                  <a:pt x="295" y="832"/>
                </a:lnTo>
                <a:lnTo>
                  <a:pt x="310" y="852"/>
                </a:lnTo>
                <a:lnTo>
                  <a:pt x="335" y="876"/>
                </a:lnTo>
                <a:lnTo>
                  <a:pt x="354" y="896"/>
                </a:lnTo>
                <a:lnTo>
                  <a:pt x="367" y="926"/>
                </a:lnTo>
                <a:lnTo>
                  <a:pt x="382" y="931"/>
                </a:lnTo>
                <a:lnTo>
                  <a:pt x="401" y="931"/>
                </a:lnTo>
                <a:lnTo>
                  <a:pt x="420" y="931"/>
                </a:lnTo>
                <a:lnTo>
                  <a:pt x="439" y="931"/>
                </a:lnTo>
                <a:lnTo>
                  <a:pt x="454" y="931"/>
                </a:lnTo>
                <a:lnTo>
                  <a:pt x="467" y="926"/>
                </a:lnTo>
                <a:lnTo>
                  <a:pt x="476" y="926"/>
                </a:lnTo>
                <a:lnTo>
                  <a:pt x="479" y="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reeform 14"/>
          <p:cNvSpPr/>
          <p:nvPr/>
        </p:nvSpPr>
        <p:spPr>
          <a:xfrm>
            <a:off x="4062240" y="1668600"/>
            <a:ext cx="1089360" cy="1266840"/>
          </a:xfrm>
          <a:custGeom>
            <a:avLst/>
            <a:gdLst>
              <a:gd name="textAreaLeft" fmla="*/ 0 w 1089360"/>
              <a:gd name="textAreaRight" fmla="*/ 1089720 w 10893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86" h="798">
                <a:moveTo>
                  <a:pt x="676" y="155"/>
                </a:moveTo>
                <a:lnTo>
                  <a:pt x="670" y="175"/>
                </a:lnTo>
                <a:lnTo>
                  <a:pt x="661" y="195"/>
                </a:lnTo>
                <a:lnTo>
                  <a:pt x="651" y="210"/>
                </a:lnTo>
                <a:lnTo>
                  <a:pt x="645" y="215"/>
                </a:lnTo>
                <a:lnTo>
                  <a:pt x="630" y="274"/>
                </a:lnTo>
                <a:lnTo>
                  <a:pt x="636" y="284"/>
                </a:lnTo>
                <a:lnTo>
                  <a:pt x="648" y="304"/>
                </a:lnTo>
                <a:lnTo>
                  <a:pt x="664" y="329"/>
                </a:lnTo>
                <a:lnTo>
                  <a:pt x="680" y="344"/>
                </a:lnTo>
                <a:lnTo>
                  <a:pt x="686" y="359"/>
                </a:lnTo>
                <a:lnTo>
                  <a:pt x="686" y="389"/>
                </a:lnTo>
                <a:lnTo>
                  <a:pt x="686" y="419"/>
                </a:lnTo>
                <a:lnTo>
                  <a:pt x="683" y="449"/>
                </a:lnTo>
                <a:lnTo>
                  <a:pt x="676" y="474"/>
                </a:lnTo>
                <a:lnTo>
                  <a:pt x="658" y="499"/>
                </a:lnTo>
                <a:lnTo>
                  <a:pt x="636" y="524"/>
                </a:lnTo>
                <a:lnTo>
                  <a:pt x="620" y="548"/>
                </a:lnTo>
                <a:lnTo>
                  <a:pt x="604" y="588"/>
                </a:lnTo>
                <a:lnTo>
                  <a:pt x="589" y="638"/>
                </a:lnTo>
                <a:lnTo>
                  <a:pt x="573" y="688"/>
                </a:lnTo>
                <a:lnTo>
                  <a:pt x="561" y="718"/>
                </a:lnTo>
                <a:lnTo>
                  <a:pt x="551" y="733"/>
                </a:lnTo>
                <a:lnTo>
                  <a:pt x="536" y="753"/>
                </a:lnTo>
                <a:lnTo>
                  <a:pt x="514" y="778"/>
                </a:lnTo>
                <a:lnTo>
                  <a:pt x="489" y="798"/>
                </a:lnTo>
                <a:lnTo>
                  <a:pt x="485" y="778"/>
                </a:lnTo>
                <a:lnTo>
                  <a:pt x="479" y="723"/>
                </a:lnTo>
                <a:lnTo>
                  <a:pt x="467" y="668"/>
                </a:lnTo>
                <a:lnTo>
                  <a:pt x="451" y="633"/>
                </a:lnTo>
                <a:lnTo>
                  <a:pt x="388" y="683"/>
                </a:lnTo>
                <a:lnTo>
                  <a:pt x="326" y="718"/>
                </a:lnTo>
                <a:lnTo>
                  <a:pt x="263" y="743"/>
                </a:lnTo>
                <a:lnTo>
                  <a:pt x="204" y="758"/>
                </a:lnTo>
                <a:lnTo>
                  <a:pt x="147" y="768"/>
                </a:lnTo>
                <a:lnTo>
                  <a:pt x="94" y="773"/>
                </a:lnTo>
                <a:lnTo>
                  <a:pt x="44" y="783"/>
                </a:lnTo>
                <a:lnTo>
                  <a:pt x="0" y="788"/>
                </a:lnTo>
                <a:lnTo>
                  <a:pt x="9" y="763"/>
                </a:lnTo>
                <a:lnTo>
                  <a:pt x="34" y="728"/>
                </a:lnTo>
                <a:lnTo>
                  <a:pt x="59" y="693"/>
                </a:lnTo>
                <a:lnTo>
                  <a:pt x="78" y="668"/>
                </a:lnTo>
                <a:lnTo>
                  <a:pt x="85" y="658"/>
                </a:lnTo>
                <a:lnTo>
                  <a:pt x="97" y="648"/>
                </a:lnTo>
                <a:lnTo>
                  <a:pt x="110" y="638"/>
                </a:lnTo>
                <a:lnTo>
                  <a:pt x="125" y="623"/>
                </a:lnTo>
                <a:lnTo>
                  <a:pt x="138" y="613"/>
                </a:lnTo>
                <a:lnTo>
                  <a:pt x="150" y="603"/>
                </a:lnTo>
                <a:lnTo>
                  <a:pt x="163" y="598"/>
                </a:lnTo>
                <a:lnTo>
                  <a:pt x="172" y="593"/>
                </a:lnTo>
                <a:lnTo>
                  <a:pt x="172" y="573"/>
                </a:lnTo>
                <a:lnTo>
                  <a:pt x="160" y="529"/>
                </a:lnTo>
                <a:lnTo>
                  <a:pt x="141" y="479"/>
                </a:lnTo>
                <a:lnTo>
                  <a:pt x="138" y="444"/>
                </a:lnTo>
                <a:lnTo>
                  <a:pt x="141" y="429"/>
                </a:lnTo>
                <a:lnTo>
                  <a:pt x="150" y="414"/>
                </a:lnTo>
                <a:lnTo>
                  <a:pt x="163" y="394"/>
                </a:lnTo>
                <a:lnTo>
                  <a:pt x="175" y="374"/>
                </a:lnTo>
                <a:lnTo>
                  <a:pt x="191" y="354"/>
                </a:lnTo>
                <a:lnTo>
                  <a:pt x="207" y="339"/>
                </a:lnTo>
                <a:lnTo>
                  <a:pt x="219" y="324"/>
                </a:lnTo>
                <a:lnTo>
                  <a:pt x="232" y="319"/>
                </a:lnTo>
                <a:lnTo>
                  <a:pt x="244" y="314"/>
                </a:lnTo>
                <a:lnTo>
                  <a:pt x="263" y="309"/>
                </a:lnTo>
                <a:lnTo>
                  <a:pt x="285" y="309"/>
                </a:lnTo>
                <a:lnTo>
                  <a:pt x="310" y="304"/>
                </a:lnTo>
                <a:lnTo>
                  <a:pt x="332" y="304"/>
                </a:lnTo>
                <a:lnTo>
                  <a:pt x="354" y="304"/>
                </a:lnTo>
                <a:lnTo>
                  <a:pt x="373" y="304"/>
                </a:lnTo>
                <a:lnTo>
                  <a:pt x="385" y="304"/>
                </a:lnTo>
                <a:lnTo>
                  <a:pt x="388" y="299"/>
                </a:lnTo>
                <a:lnTo>
                  <a:pt x="382" y="279"/>
                </a:lnTo>
                <a:lnTo>
                  <a:pt x="373" y="254"/>
                </a:lnTo>
                <a:lnTo>
                  <a:pt x="357" y="220"/>
                </a:lnTo>
                <a:lnTo>
                  <a:pt x="344" y="185"/>
                </a:lnTo>
                <a:lnTo>
                  <a:pt x="332" y="155"/>
                </a:lnTo>
                <a:lnTo>
                  <a:pt x="326" y="130"/>
                </a:lnTo>
                <a:lnTo>
                  <a:pt x="326" y="110"/>
                </a:lnTo>
                <a:lnTo>
                  <a:pt x="335" y="120"/>
                </a:lnTo>
                <a:lnTo>
                  <a:pt x="351" y="135"/>
                </a:lnTo>
                <a:lnTo>
                  <a:pt x="373" y="145"/>
                </a:lnTo>
                <a:lnTo>
                  <a:pt x="395" y="155"/>
                </a:lnTo>
                <a:lnTo>
                  <a:pt x="417" y="160"/>
                </a:lnTo>
                <a:lnTo>
                  <a:pt x="435" y="165"/>
                </a:lnTo>
                <a:lnTo>
                  <a:pt x="454" y="160"/>
                </a:lnTo>
                <a:lnTo>
                  <a:pt x="467" y="155"/>
                </a:lnTo>
                <a:lnTo>
                  <a:pt x="479" y="145"/>
                </a:lnTo>
                <a:lnTo>
                  <a:pt x="498" y="130"/>
                </a:lnTo>
                <a:lnTo>
                  <a:pt x="520" y="110"/>
                </a:lnTo>
                <a:lnTo>
                  <a:pt x="545" y="95"/>
                </a:lnTo>
                <a:lnTo>
                  <a:pt x="567" y="80"/>
                </a:lnTo>
                <a:lnTo>
                  <a:pt x="589" y="65"/>
                </a:lnTo>
                <a:lnTo>
                  <a:pt x="608" y="50"/>
                </a:lnTo>
                <a:lnTo>
                  <a:pt x="620" y="45"/>
                </a:lnTo>
                <a:lnTo>
                  <a:pt x="633" y="40"/>
                </a:lnTo>
                <a:lnTo>
                  <a:pt x="645" y="30"/>
                </a:lnTo>
                <a:lnTo>
                  <a:pt x="661" y="15"/>
                </a:lnTo>
                <a:lnTo>
                  <a:pt x="676" y="0"/>
                </a:lnTo>
                <a:lnTo>
                  <a:pt x="676" y="45"/>
                </a:lnTo>
                <a:lnTo>
                  <a:pt x="676" y="90"/>
                </a:lnTo>
                <a:lnTo>
                  <a:pt x="676" y="130"/>
                </a:lnTo>
                <a:lnTo>
                  <a:pt x="67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5"/>
          <p:cNvSpPr/>
          <p:nvPr/>
        </p:nvSpPr>
        <p:spPr>
          <a:xfrm>
            <a:off x="2924280" y="2270160"/>
            <a:ext cx="233280" cy="458640"/>
          </a:xfrm>
          <a:custGeom>
            <a:avLst/>
            <a:gdLst>
              <a:gd name="textAreaLeft" fmla="*/ 0 w 233280"/>
              <a:gd name="textAreaRight" fmla="*/ 233640 w 2332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47" h="289">
                <a:moveTo>
                  <a:pt x="0" y="0"/>
                </a:moveTo>
                <a:lnTo>
                  <a:pt x="15" y="0"/>
                </a:lnTo>
                <a:lnTo>
                  <a:pt x="31" y="5"/>
                </a:lnTo>
                <a:lnTo>
                  <a:pt x="47" y="10"/>
                </a:lnTo>
                <a:lnTo>
                  <a:pt x="65" y="20"/>
                </a:lnTo>
                <a:lnTo>
                  <a:pt x="81" y="30"/>
                </a:lnTo>
                <a:lnTo>
                  <a:pt x="94" y="40"/>
                </a:lnTo>
                <a:lnTo>
                  <a:pt x="103" y="50"/>
                </a:lnTo>
                <a:lnTo>
                  <a:pt x="109" y="60"/>
                </a:lnTo>
                <a:lnTo>
                  <a:pt x="112" y="90"/>
                </a:lnTo>
                <a:lnTo>
                  <a:pt x="112" y="135"/>
                </a:lnTo>
                <a:lnTo>
                  <a:pt x="112" y="174"/>
                </a:lnTo>
                <a:lnTo>
                  <a:pt x="112" y="189"/>
                </a:lnTo>
                <a:lnTo>
                  <a:pt x="147" y="234"/>
                </a:lnTo>
                <a:lnTo>
                  <a:pt x="119" y="249"/>
                </a:lnTo>
                <a:lnTo>
                  <a:pt x="91" y="264"/>
                </a:lnTo>
                <a:lnTo>
                  <a:pt x="72" y="284"/>
                </a:lnTo>
                <a:lnTo>
                  <a:pt x="62" y="289"/>
                </a:lnTo>
                <a:lnTo>
                  <a:pt x="59" y="254"/>
                </a:lnTo>
                <a:lnTo>
                  <a:pt x="56" y="219"/>
                </a:lnTo>
                <a:lnTo>
                  <a:pt x="50" y="189"/>
                </a:lnTo>
                <a:lnTo>
                  <a:pt x="40" y="159"/>
                </a:lnTo>
                <a:lnTo>
                  <a:pt x="31" y="125"/>
                </a:lnTo>
                <a:lnTo>
                  <a:pt x="18" y="85"/>
                </a:lnTo>
                <a:lnTo>
                  <a:pt x="6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16"/>
          <p:cNvSpPr/>
          <p:nvPr/>
        </p:nvSpPr>
        <p:spPr>
          <a:xfrm>
            <a:off x="333360" y="1154160"/>
            <a:ext cx="1317600" cy="139212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830" h="877">
                <a:moveTo>
                  <a:pt x="0" y="628"/>
                </a:moveTo>
                <a:lnTo>
                  <a:pt x="25" y="588"/>
                </a:lnTo>
                <a:lnTo>
                  <a:pt x="53" y="539"/>
                </a:lnTo>
                <a:lnTo>
                  <a:pt x="81" y="494"/>
                </a:lnTo>
                <a:lnTo>
                  <a:pt x="109" y="449"/>
                </a:lnTo>
                <a:lnTo>
                  <a:pt x="138" y="404"/>
                </a:lnTo>
                <a:lnTo>
                  <a:pt x="163" y="369"/>
                </a:lnTo>
                <a:lnTo>
                  <a:pt x="185" y="339"/>
                </a:lnTo>
                <a:lnTo>
                  <a:pt x="200" y="324"/>
                </a:lnTo>
                <a:lnTo>
                  <a:pt x="216" y="309"/>
                </a:lnTo>
                <a:lnTo>
                  <a:pt x="241" y="289"/>
                </a:lnTo>
                <a:lnTo>
                  <a:pt x="272" y="260"/>
                </a:lnTo>
                <a:lnTo>
                  <a:pt x="304" y="230"/>
                </a:lnTo>
                <a:lnTo>
                  <a:pt x="332" y="195"/>
                </a:lnTo>
                <a:lnTo>
                  <a:pt x="357" y="165"/>
                </a:lnTo>
                <a:lnTo>
                  <a:pt x="376" y="135"/>
                </a:lnTo>
                <a:lnTo>
                  <a:pt x="385" y="105"/>
                </a:lnTo>
                <a:lnTo>
                  <a:pt x="470" y="220"/>
                </a:lnTo>
                <a:lnTo>
                  <a:pt x="492" y="200"/>
                </a:lnTo>
                <a:lnTo>
                  <a:pt x="517" y="175"/>
                </a:lnTo>
                <a:lnTo>
                  <a:pt x="545" y="145"/>
                </a:lnTo>
                <a:lnTo>
                  <a:pt x="570" y="120"/>
                </a:lnTo>
                <a:lnTo>
                  <a:pt x="595" y="95"/>
                </a:lnTo>
                <a:lnTo>
                  <a:pt x="617" y="80"/>
                </a:lnTo>
                <a:lnTo>
                  <a:pt x="633" y="65"/>
                </a:lnTo>
                <a:lnTo>
                  <a:pt x="642" y="60"/>
                </a:lnTo>
                <a:lnTo>
                  <a:pt x="651" y="60"/>
                </a:lnTo>
                <a:lnTo>
                  <a:pt x="670" y="55"/>
                </a:lnTo>
                <a:lnTo>
                  <a:pt x="695" y="55"/>
                </a:lnTo>
                <a:lnTo>
                  <a:pt x="723" y="45"/>
                </a:lnTo>
                <a:lnTo>
                  <a:pt x="752" y="40"/>
                </a:lnTo>
                <a:lnTo>
                  <a:pt x="783" y="30"/>
                </a:lnTo>
                <a:lnTo>
                  <a:pt x="808" y="15"/>
                </a:lnTo>
                <a:lnTo>
                  <a:pt x="830" y="0"/>
                </a:lnTo>
                <a:lnTo>
                  <a:pt x="805" y="35"/>
                </a:lnTo>
                <a:lnTo>
                  <a:pt x="780" y="80"/>
                </a:lnTo>
                <a:lnTo>
                  <a:pt x="755" y="130"/>
                </a:lnTo>
                <a:lnTo>
                  <a:pt x="730" y="185"/>
                </a:lnTo>
                <a:lnTo>
                  <a:pt x="708" y="240"/>
                </a:lnTo>
                <a:lnTo>
                  <a:pt x="689" y="294"/>
                </a:lnTo>
                <a:lnTo>
                  <a:pt x="673" y="344"/>
                </a:lnTo>
                <a:lnTo>
                  <a:pt x="661" y="384"/>
                </a:lnTo>
                <a:lnTo>
                  <a:pt x="645" y="359"/>
                </a:lnTo>
                <a:lnTo>
                  <a:pt x="629" y="334"/>
                </a:lnTo>
                <a:lnTo>
                  <a:pt x="617" y="309"/>
                </a:lnTo>
                <a:lnTo>
                  <a:pt x="611" y="294"/>
                </a:lnTo>
                <a:lnTo>
                  <a:pt x="611" y="275"/>
                </a:lnTo>
                <a:lnTo>
                  <a:pt x="614" y="250"/>
                </a:lnTo>
                <a:lnTo>
                  <a:pt x="614" y="235"/>
                </a:lnTo>
                <a:lnTo>
                  <a:pt x="614" y="225"/>
                </a:lnTo>
                <a:lnTo>
                  <a:pt x="592" y="245"/>
                </a:lnTo>
                <a:lnTo>
                  <a:pt x="576" y="275"/>
                </a:lnTo>
                <a:lnTo>
                  <a:pt x="567" y="299"/>
                </a:lnTo>
                <a:lnTo>
                  <a:pt x="564" y="324"/>
                </a:lnTo>
                <a:lnTo>
                  <a:pt x="535" y="369"/>
                </a:lnTo>
                <a:lnTo>
                  <a:pt x="507" y="429"/>
                </a:lnTo>
                <a:lnTo>
                  <a:pt x="479" y="489"/>
                </a:lnTo>
                <a:lnTo>
                  <a:pt x="457" y="564"/>
                </a:lnTo>
                <a:lnTo>
                  <a:pt x="435" y="638"/>
                </a:lnTo>
                <a:lnTo>
                  <a:pt x="420" y="718"/>
                </a:lnTo>
                <a:lnTo>
                  <a:pt x="413" y="798"/>
                </a:lnTo>
                <a:lnTo>
                  <a:pt x="413" y="877"/>
                </a:lnTo>
                <a:lnTo>
                  <a:pt x="391" y="877"/>
                </a:lnTo>
                <a:lnTo>
                  <a:pt x="366" y="872"/>
                </a:lnTo>
                <a:lnTo>
                  <a:pt x="344" y="872"/>
                </a:lnTo>
                <a:lnTo>
                  <a:pt x="322" y="867"/>
                </a:lnTo>
                <a:lnTo>
                  <a:pt x="301" y="862"/>
                </a:lnTo>
                <a:lnTo>
                  <a:pt x="279" y="857"/>
                </a:lnTo>
                <a:lnTo>
                  <a:pt x="260" y="853"/>
                </a:lnTo>
                <a:lnTo>
                  <a:pt x="244" y="848"/>
                </a:lnTo>
                <a:lnTo>
                  <a:pt x="272" y="748"/>
                </a:lnTo>
                <a:lnTo>
                  <a:pt x="297" y="633"/>
                </a:lnTo>
                <a:lnTo>
                  <a:pt x="313" y="524"/>
                </a:lnTo>
                <a:lnTo>
                  <a:pt x="319" y="444"/>
                </a:lnTo>
                <a:lnTo>
                  <a:pt x="291" y="479"/>
                </a:lnTo>
                <a:lnTo>
                  <a:pt x="257" y="514"/>
                </a:lnTo>
                <a:lnTo>
                  <a:pt x="222" y="549"/>
                </a:lnTo>
                <a:lnTo>
                  <a:pt x="188" y="583"/>
                </a:lnTo>
                <a:lnTo>
                  <a:pt x="153" y="618"/>
                </a:lnTo>
                <a:lnTo>
                  <a:pt x="119" y="648"/>
                </a:lnTo>
                <a:lnTo>
                  <a:pt x="94" y="673"/>
                </a:lnTo>
                <a:lnTo>
                  <a:pt x="72" y="693"/>
                </a:lnTo>
                <a:lnTo>
                  <a:pt x="50" y="683"/>
                </a:lnTo>
                <a:lnTo>
                  <a:pt x="25" y="658"/>
                </a:lnTo>
                <a:lnTo>
                  <a:pt x="6" y="638"/>
                </a:lnTo>
                <a:lnTo>
                  <a:pt x="0" y="6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reeform 17"/>
          <p:cNvSpPr/>
          <p:nvPr/>
        </p:nvSpPr>
        <p:spPr>
          <a:xfrm>
            <a:off x="1601640" y="561960"/>
            <a:ext cx="277920" cy="600120"/>
          </a:xfrm>
          <a:custGeom>
            <a:avLst/>
            <a:gdLst>
              <a:gd name="textAreaLeft" fmla="*/ 0 w 277920"/>
              <a:gd name="textAreaRight" fmla="*/ 278280 w 2779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75" h="378">
                <a:moveTo>
                  <a:pt x="137" y="0"/>
                </a:moveTo>
                <a:lnTo>
                  <a:pt x="134" y="40"/>
                </a:lnTo>
                <a:lnTo>
                  <a:pt x="131" y="104"/>
                </a:lnTo>
                <a:lnTo>
                  <a:pt x="131" y="169"/>
                </a:lnTo>
                <a:lnTo>
                  <a:pt x="137" y="204"/>
                </a:lnTo>
                <a:lnTo>
                  <a:pt x="153" y="224"/>
                </a:lnTo>
                <a:lnTo>
                  <a:pt x="166" y="264"/>
                </a:lnTo>
                <a:lnTo>
                  <a:pt x="175" y="314"/>
                </a:lnTo>
                <a:lnTo>
                  <a:pt x="166" y="378"/>
                </a:lnTo>
                <a:lnTo>
                  <a:pt x="150" y="354"/>
                </a:lnTo>
                <a:lnTo>
                  <a:pt x="131" y="329"/>
                </a:lnTo>
                <a:lnTo>
                  <a:pt x="112" y="299"/>
                </a:lnTo>
                <a:lnTo>
                  <a:pt x="90" y="264"/>
                </a:lnTo>
                <a:lnTo>
                  <a:pt x="65" y="239"/>
                </a:lnTo>
                <a:lnTo>
                  <a:pt x="43" y="214"/>
                </a:lnTo>
                <a:lnTo>
                  <a:pt x="21" y="204"/>
                </a:lnTo>
                <a:lnTo>
                  <a:pt x="0" y="199"/>
                </a:lnTo>
                <a:lnTo>
                  <a:pt x="6" y="164"/>
                </a:lnTo>
                <a:lnTo>
                  <a:pt x="18" y="134"/>
                </a:lnTo>
                <a:lnTo>
                  <a:pt x="34" y="104"/>
                </a:lnTo>
                <a:lnTo>
                  <a:pt x="53" y="75"/>
                </a:lnTo>
                <a:lnTo>
                  <a:pt x="75" y="50"/>
                </a:lnTo>
                <a:lnTo>
                  <a:pt x="97" y="30"/>
                </a:lnTo>
                <a:lnTo>
                  <a:pt x="119" y="10"/>
                </a:lnTo>
                <a:lnTo>
                  <a:pt x="1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8"/>
          <p:cNvSpPr/>
          <p:nvPr/>
        </p:nvSpPr>
        <p:spPr>
          <a:xfrm>
            <a:off x="1949400" y="625320"/>
            <a:ext cx="154080" cy="308160"/>
          </a:xfrm>
          <a:custGeom>
            <a:avLst/>
            <a:gdLst>
              <a:gd name="textAreaLeft" fmla="*/ 0 w 154080"/>
              <a:gd name="textAreaRight" fmla="*/ 154440 w 1540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97" h="194">
                <a:moveTo>
                  <a:pt x="3" y="39"/>
                </a:moveTo>
                <a:lnTo>
                  <a:pt x="15" y="30"/>
                </a:lnTo>
                <a:lnTo>
                  <a:pt x="47" y="15"/>
                </a:lnTo>
                <a:lnTo>
                  <a:pt x="78" y="0"/>
                </a:lnTo>
                <a:lnTo>
                  <a:pt x="94" y="0"/>
                </a:lnTo>
                <a:lnTo>
                  <a:pt x="97" y="20"/>
                </a:lnTo>
                <a:lnTo>
                  <a:pt x="91" y="49"/>
                </a:lnTo>
                <a:lnTo>
                  <a:pt x="78" y="79"/>
                </a:lnTo>
                <a:lnTo>
                  <a:pt x="62" y="89"/>
                </a:lnTo>
                <a:lnTo>
                  <a:pt x="50" y="114"/>
                </a:lnTo>
                <a:lnTo>
                  <a:pt x="44" y="149"/>
                </a:lnTo>
                <a:lnTo>
                  <a:pt x="41" y="179"/>
                </a:lnTo>
                <a:lnTo>
                  <a:pt x="41" y="189"/>
                </a:lnTo>
                <a:lnTo>
                  <a:pt x="34" y="194"/>
                </a:lnTo>
                <a:lnTo>
                  <a:pt x="25" y="194"/>
                </a:lnTo>
                <a:lnTo>
                  <a:pt x="12" y="189"/>
                </a:lnTo>
                <a:lnTo>
                  <a:pt x="3" y="169"/>
                </a:lnTo>
                <a:lnTo>
                  <a:pt x="0" y="134"/>
                </a:lnTo>
                <a:lnTo>
                  <a:pt x="0" y="104"/>
                </a:lnTo>
                <a:lnTo>
                  <a:pt x="0" y="74"/>
                </a:lnTo>
                <a:lnTo>
                  <a:pt x="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9"/>
          <p:cNvSpPr/>
          <p:nvPr/>
        </p:nvSpPr>
        <p:spPr>
          <a:xfrm>
            <a:off x="988920" y="316080"/>
            <a:ext cx="3143520" cy="3062160"/>
          </a:xfrm>
          <a:custGeom>
            <a:avLst/>
            <a:gdLst>
              <a:gd name="textAreaLeft" fmla="*/ 0 w 3143520"/>
              <a:gd name="textAreaRight" fmla="*/ 3143880 w 3143520"/>
              <a:gd name="textAreaTop" fmla="*/ 0 h 3062160"/>
              <a:gd name="textAreaBottom" fmla="*/ 3062520 h 3062160"/>
            </a:gdLst>
            <a:ahLst/>
            <a:rect l="textAreaLeft" t="textAreaTop" r="textAreaRight" b="textAreaBottom"/>
            <a:pathLst>
              <a:path w="1980" h="1929">
                <a:moveTo>
                  <a:pt x="780" y="85"/>
                </a:moveTo>
                <a:lnTo>
                  <a:pt x="790" y="100"/>
                </a:lnTo>
                <a:lnTo>
                  <a:pt x="802" y="120"/>
                </a:lnTo>
                <a:lnTo>
                  <a:pt x="815" y="150"/>
                </a:lnTo>
                <a:lnTo>
                  <a:pt x="830" y="180"/>
                </a:lnTo>
                <a:lnTo>
                  <a:pt x="843" y="210"/>
                </a:lnTo>
                <a:lnTo>
                  <a:pt x="859" y="239"/>
                </a:lnTo>
                <a:lnTo>
                  <a:pt x="874" y="269"/>
                </a:lnTo>
                <a:lnTo>
                  <a:pt x="887" y="289"/>
                </a:lnTo>
                <a:lnTo>
                  <a:pt x="902" y="309"/>
                </a:lnTo>
                <a:lnTo>
                  <a:pt x="921" y="339"/>
                </a:lnTo>
                <a:lnTo>
                  <a:pt x="940" y="374"/>
                </a:lnTo>
                <a:lnTo>
                  <a:pt x="962" y="419"/>
                </a:lnTo>
                <a:lnTo>
                  <a:pt x="981" y="464"/>
                </a:lnTo>
                <a:lnTo>
                  <a:pt x="1003" y="509"/>
                </a:lnTo>
                <a:lnTo>
                  <a:pt x="1021" y="558"/>
                </a:lnTo>
                <a:lnTo>
                  <a:pt x="1037" y="608"/>
                </a:lnTo>
                <a:lnTo>
                  <a:pt x="1021" y="673"/>
                </a:lnTo>
                <a:lnTo>
                  <a:pt x="1006" y="748"/>
                </a:lnTo>
                <a:lnTo>
                  <a:pt x="990" y="827"/>
                </a:lnTo>
                <a:lnTo>
                  <a:pt x="981" y="897"/>
                </a:lnTo>
                <a:lnTo>
                  <a:pt x="971" y="867"/>
                </a:lnTo>
                <a:lnTo>
                  <a:pt x="956" y="842"/>
                </a:lnTo>
                <a:lnTo>
                  <a:pt x="940" y="817"/>
                </a:lnTo>
                <a:lnTo>
                  <a:pt x="921" y="798"/>
                </a:lnTo>
                <a:lnTo>
                  <a:pt x="902" y="783"/>
                </a:lnTo>
                <a:lnTo>
                  <a:pt x="887" y="768"/>
                </a:lnTo>
                <a:lnTo>
                  <a:pt x="874" y="758"/>
                </a:lnTo>
                <a:lnTo>
                  <a:pt x="865" y="753"/>
                </a:lnTo>
                <a:lnTo>
                  <a:pt x="849" y="753"/>
                </a:lnTo>
                <a:lnTo>
                  <a:pt x="833" y="753"/>
                </a:lnTo>
                <a:lnTo>
                  <a:pt x="815" y="758"/>
                </a:lnTo>
                <a:lnTo>
                  <a:pt x="796" y="758"/>
                </a:lnTo>
                <a:lnTo>
                  <a:pt x="793" y="728"/>
                </a:lnTo>
                <a:lnTo>
                  <a:pt x="780" y="688"/>
                </a:lnTo>
                <a:lnTo>
                  <a:pt x="765" y="638"/>
                </a:lnTo>
                <a:lnTo>
                  <a:pt x="746" y="583"/>
                </a:lnTo>
                <a:lnTo>
                  <a:pt x="733" y="593"/>
                </a:lnTo>
                <a:lnTo>
                  <a:pt x="714" y="613"/>
                </a:lnTo>
                <a:lnTo>
                  <a:pt x="692" y="648"/>
                </a:lnTo>
                <a:lnTo>
                  <a:pt x="667" y="683"/>
                </a:lnTo>
                <a:lnTo>
                  <a:pt x="642" y="723"/>
                </a:lnTo>
                <a:lnTo>
                  <a:pt x="624" y="758"/>
                </a:lnTo>
                <a:lnTo>
                  <a:pt x="611" y="788"/>
                </a:lnTo>
                <a:lnTo>
                  <a:pt x="605" y="808"/>
                </a:lnTo>
                <a:lnTo>
                  <a:pt x="592" y="852"/>
                </a:lnTo>
                <a:lnTo>
                  <a:pt x="564" y="922"/>
                </a:lnTo>
                <a:lnTo>
                  <a:pt x="536" y="987"/>
                </a:lnTo>
                <a:lnTo>
                  <a:pt x="514" y="1027"/>
                </a:lnTo>
                <a:lnTo>
                  <a:pt x="511" y="1062"/>
                </a:lnTo>
                <a:lnTo>
                  <a:pt x="520" y="1116"/>
                </a:lnTo>
                <a:lnTo>
                  <a:pt x="536" y="1176"/>
                </a:lnTo>
                <a:lnTo>
                  <a:pt x="555" y="1226"/>
                </a:lnTo>
                <a:lnTo>
                  <a:pt x="558" y="1251"/>
                </a:lnTo>
                <a:lnTo>
                  <a:pt x="552" y="1281"/>
                </a:lnTo>
                <a:lnTo>
                  <a:pt x="539" y="1321"/>
                </a:lnTo>
                <a:lnTo>
                  <a:pt x="520" y="1356"/>
                </a:lnTo>
                <a:lnTo>
                  <a:pt x="501" y="1395"/>
                </a:lnTo>
                <a:lnTo>
                  <a:pt x="483" y="1425"/>
                </a:lnTo>
                <a:lnTo>
                  <a:pt x="464" y="1455"/>
                </a:lnTo>
                <a:lnTo>
                  <a:pt x="448" y="1470"/>
                </a:lnTo>
                <a:lnTo>
                  <a:pt x="439" y="1425"/>
                </a:lnTo>
                <a:lnTo>
                  <a:pt x="420" y="1361"/>
                </a:lnTo>
                <a:lnTo>
                  <a:pt x="398" y="1306"/>
                </a:lnTo>
                <a:lnTo>
                  <a:pt x="376" y="1266"/>
                </a:lnTo>
                <a:lnTo>
                  <a:pt x="364" y="1276"/>
                </a:lnTo>
                <a:lnTo>
                  <a:pt x="348" y="1306"/>
                </a:lnTo>
                <a:lnTo>
                  <a:pt x="326" y="1351"/>
                </a:lnTo>
                <a:lnTo>
                  <a:pt x="301" y="1395"/>
                </a:lnTo>
                <a:lnTo>
                  <a:pt x="279" y="1445"/>
                </a:lnTo>
                <a:lnTo>
                  <a:pt x="254" y="1490"/>
                </a:lnTo>
                <a:lnTo>
                  <a:pt x="235" y="1525"/>
                </a:lnTo>
                <a:lnTo>
                  <a:pt x="223" y="1545"/>
                </a:lnTo>
                <a:lnTo>
                  <a:pt x="207" y="1555"/>
                </a:lnTo>
                <a:lnTo>
                  <a:pt x="185" y="1570"/>
                </a:lnTo>
                <a:lnTo>
                  <a:pt x="154" y="1580"/>
                </a:lnTo>
                <a:lnTo>
                  <a:pt x="122" y="1595"/>
                </a:lnTo>
                <a:lnTo>
                  <a:pt x="85" y="1610"/>
                </a:lnTo>
                <a:lnTo>
                  <a:pt x="54" y="1625"/>
                </a:lnTo>
                <a:lnTo>
                  <a:pt x="22" y="1640"/>
                </a:lnTo>
                <a:lnTo>
                  <a:pt x="0" y="1660"/>
                </a:lnTo>
                <a:lnTo>
                  <a:pt x="50" y="1674"/>
                </a:lnTo>
                <a:lnTo>
                  <a:pt x="101" y="1689"/>
                </a:lnTo>
                <a:lnTo>
                  <a:pt x="151" y="1704"/>
                </a:lnTo>
                <a:lnTo>
                  <a:pt x="201" y="1714"/>
                </a:lnTo>
                <a:lnTo>
                  <a:pt x="248" y="1724"/>
                </a:lnTo>
                <a:lnTo>
                  <a:pt x="288" y="1729"/>
                </a:lnTo>
                <a:lnTo>
                  <a:pt x="329" y="1734"/>
                </a:lnTo>
                <a:lnTo>
                  <a:pt x="360" y="1734"/>
                </a:lnTo>
                <a:lnTo>
                  <a:pt x="411" y="1734"/>
                </a:lnTo>
                <a:lnTo>
                  <a:pt x="464" y="1729"/>
                </a:lnTo>
                <a:lnTo>
                  <a:pt x="523" y="1719"/>
                </a:lnTo>
                <a:lnTo>
                  <a:pt x="580" y="1714"/>
                </a:lnTo>
                <a:lnTo>
                  <a:pt x="630" y="1709"/>
                </a:lnTo>
                <a:lnTo>
                  <a:pt x="674" y="1709"/>
                </a:lnTo>
                <a:lnTo>
                  <a:pt x="708" y="1709"/>
                </a:lnTo>
                <a:lnTo>
                  <a:pt x="730" y="1714"/>
                </a:lnTo>
                <a:lnTo>
                  <a:pt x="730" y="1704"/>
                </a:lnTo>
                <a:lnTo>
                  <a:pt x="730" y="1674"/>
                </a:lnTo>
                <a:lnTo>
                  <a:pt x="730" y="1640"/>
                </a:lnTo>
                <a:lnTo>
                  <a:pt x="730" y="1615"/>
                </a:lnTo>
                <a:lnTo>
                  <a:pt x="736" y="1590"/>
                </a:lnTo>
                <a:lnTo>
                  <a:pt x="752" y="1560"/>
                </a:lnTo>
                <a:lnTo>
                  <a:pt x="774" y="1535"/>
                </a:lnTo>
                <a:lnTo>
                  <a:pt x="793" y="1510"/>
                </a:lnTo>
                <a:lnTo>
                  <a:pt x="793" y="1495"/>
                </a:lnTo>
                <a:lnTo>
                  <a:pt x="796" y="1455"/>
                </a:lnTo>
                <a:lnTo>
                  <a:pt x="802" y="1395"/>
                </a:lnTo>
                <a:lnTo>
                  <a:pt x="812" y="1331"/>
                </a:lnTo>
                <a:lnTo>
                  <a:pt x="833" y="1381"/>
                </a:lnTo>
                <a:lnTo>
                  <a:pt x="859" y="1460"/>
                </a:lnTo>
                <a:lnTo>
                  <a:pt x="880" y="1540"/>
                </a:lnTo>
                <a:lnTo>
                  <a:pt x="899" y="1590"/>
                </a:lnTo>
                <a:lnTo>
                  <a:pt x="909" y="1610"/>
                </a:lnTo>
                <a:lnTo>
                  <a:pt x="918" y="1635"/>
                </a:lnTo>
                <a:lnTo>
                  <a:pt x="931" y="1670"/>
                </a:lnTo>
                <a:lnTo>
                  <a:pt x="946" y="1709"/>
                </a:lnTo>
                <a:lnTo>
                  <a:pt x="962" y="1754"/>
                </a:lnTo>
                <a:lnTo>
                  <a:pt x="978" y="1794"/>
                </a:lnTo>
                <a:lnTo>
                  <a:pt x="993" y="1829"/>
                </a:lnTo>
                <a:lnTo>
                  <a:pt x="1012" y="1859"/>
                </a:lnTo>
                <a:lnTo>
                  <a:pt x="1053" y="1869"/>
                </a:lnTo>
                <a:lnTo>
                  <a:pt x="1103" y="1879"/>
                </a:lnTo>
                <a:lnTo>
                  <a:pt x="1156" y="1889"/>
                </a:lnTo>
                <a:lnTo>
                  <a:pt x="1212" y="1894"/>
                </a:lnTo>
                <a:lnTo>
                  <a:pt x="1269" y="1904"/>
                </a:lnTo>
                <a:lnTo>
                  <a:pt x="1319" y="1914"/>
                </a:lnTo>
                <a:lnTo>
                  <a:pt x="1363" y="1919"/>
                </a:lnTo>
                <a:lnTo>
                  <a:pt x="1397" y="1929"/>
                </a:lnTo>
                <a:lnTo>
                  <a:pt x="1372" y="1894"/>
                </a:lnTo>
                <a:lnTo>
                  <a:pt x="1347" y="1854"/>
                </a:lnTo>
                <a:lnTo>
                  <a:pt x="1319" y="1814"/>
                </a:lnTo>
                <a:lnTo>
                  <a:pt x="1291" y="1774"/>
                </a:lnTo>
                <a:lnTo>
                  <a:pt x="1266" y="1734"/>
                </a:lnTo>
                <a:lnTo>
                  <a:pt x="1247" y="1704"/>
                </a:lnTo>
                <a:lnTo>
                  <a:pt x="1231" y="1679"/>
                </a:lnTo>
                <a:lnTo>
                  <a:pt x="1222" y="1670"/>
                </a:lnTo>
                <a:lnTo>
                  <a:pt x="1206" y="1660"/>
                </a:lnTo>
                <a:lnTo>
                  <a:pt x="1184" y="1650"/>
                </a:lnTo>
                <a:lnTo>
                  <a:pt x="1159" y="1640"/>
                </a:lnTo>
                <a:lnTo>
                  <a:pt x="1134" y="1635"/>
                </a:lnTo>
                <a:lnTo>
                  <a:pt x="1128" y="1605"/>
                </a:lnTo>
                <a:lnTo>
                  <a:pt x="1134" y="1565"/>
                </a:lnTo>
                <a:lnTo>
                  <a:pt x="1144" y="1525"/>
                </a:lnTo>
                <a:lnTo>
                  <a:pt x="1156" y="1495"/>
                </a:lnTo>
                <a:lnTo>
                  <a:pt x="1162" y="1460"/>
                </a:lnTo>
                <a:lnTo>
                  <a:pt x="1159" y="1400"/>
                </a:lnTo>
                <a:lnTo>
                  <a:pt x="1153" y="1341"/>
                </a:lnTo>
                <a:lnTo>
                  <a:pt x="1140" y="1291"/>
                </a:lnTo>
                <a:lnTo>
                  <a:pt x="1122" y="1221"/>
                </a:lnTo>
                <a:lnTo>
                  <a:pt x="1093" y="1121"/>
                </a:lnTo>
                <a:lnTo>
                  <a:pt x="1068" y="1027"/>
                </a:lnTo>
                <a:lnTo>
                  <a:pt x="1059" y="957"/>
                </a:lnTo>
                <a:lnTo>
                  <a:pt x="1062" y="912"/>
                </a:lnTo>
                <a:lnTo>
                  <a:pt x="1068" y="867"/>
                </a:lnTo>
                <a:lnTo>
                  <a:pt x="1075" y="832"/>
                </a:lnTo>
                <a:lnTo>
                  <a:pt x="1087" y="808"/>
                </a:lnTo>
                <a:lnTo>
                  <a:pt x="1106" y="788"/>
                </a:lnTo>
                <a:lnTo>
                  <a:pt x="1131" y="758"/>
                </a:lnTo>
                <a:lnTo>
                  <a:pt x="1153" y="738"/>
                </a:lnTo>
                <a:lnTo>
                  <a:pt x="1172" y="728"/>
                </a:lnTo>
                <a:lnTo>
                  <a:pt x="1197" y="783"/>
                </a:lnTo>
                <a:lnTo>
                  <a:pt x="1228" y="847"/>
                </a:lnTo>
                <a:lnTo>
                  <a:pt x="1263" y="922"/>
                </a:lnTo>
                <a:lnTo>
                  <a:pt x="1297" y="997"/>
                </a:lnTo>
                <a:lnTo>
                  <a:pt x="1331" y="1067"/>
                </a:lnTo>
                <a:lnTo>
                  <a:pt x="1360" y="1126"/>
                </a:lnTo>
                <a:lnTo>
                  <a:pt x="1382" y="1176"/>
                </a:lnTo>
                <a:lnTo>
                  <a:pt x="1397" y="1206"/>
                </a:lnTo>
                <a:lnTo>
                  <a:pt x="1410" y="1226"/>
                </a:lnTo>
                <a:lnTo>
                  <a:pt x="1429" y="1256"/>
                </a:lnTo>
                <a:lnTo>
                  <a:pt x="1447" y="1291"/>
                </a:lnTo>
                <a:lnTo>
                  <a:pt x="1466" y="1326"/>
                </a:lnTo>
                <a:lnTo>
                  <a:pt x="1485" y="1361"/>
                </a:lnTo>
                <a:lnTo>
                  <a:pt x="1501" y="1390"/>
                </a:lnTo>
                <a:lnTo>
                  <a:pt x="1513" y="1420"/>
                </a:lnTo>
                <a:lnTo>
                  <a:pt x="1516" y="1445"/>
                </a:lnTo>
                <a:lnTo>
                  <a:pt x="1516" y="1495"/>
                </a:lnTo>
                <a:lnTo>
                  <a:pt x="1516" y="1550"/>
                </a:lnTo>
                <a:lnTo>
                  <a:pt x="1516" y="1605"/>
                </a:lnTo>
                <a:lnTo>
                  <a:pt x="1513" y="1660"/>
                </a:lnTo>
                <a:lnTo>
                  <a:pt x="1516" y="1709"/>
                </a:lnTo>
                <a:lnTo>
                  <a:pt x="1532" y="1754"/>
                </a:lnTo>
                <a:lnTo>
                  <a:pt x="1554" y="1794"/>
                </a:lnTo>
                <a:lnTo>
                  <a:pt x="1576" y="1809"/>
                </a:lnTo>
                <a:lnTo>
                  <a:pt x="1588" y="1804"/>
                </a:lnTo>
                <a:lnTo>
                  <a:pt x="1604" y="1789"/>
                </a:lnTo>
                <a:lnTo>
                  <a:pt x="1623" y="1774"/>
                </a:lnTo>
                <a:lnTo>
                  <a:pt x="1642" y="1749"/>
                </a:lnTo>
                <a:lnTo>
                  <a:pt x="1660" y="1724"/>
                </a:lnTo>
                <a:lnTo>
                  <a:pt x="1679" y="1699"/>
                </a:lnTo>
                <a:lnTo>
                  <a:pt x="1692" y="1679"/>
                </a:lnTo>
                <a:lnTo>
                  <a:pt x="1701" y="1665"/>
                </a:lnTo>
                <a:lnTo>
                  <a:pt x="1710" y="1645"/>
                </a:lnTo>
                <a:lnTo>
                  <a:pt x="1720" y="1615"/>
                </a:lnTo>
                <a:lnTo>
                  <a:pt x="1735" y="1575"/>
                </a:lnTo>
                <a:lnTo>
                  <a:pt x="1754" y="1535"/>
                </a:lnTo>
                <a:lnTo>
                  <a:pt x="1770" y="1495"/>
                </a:lnTo>
                <a:lnTo>
                  <a:pt x="1786" y="1455"/>
                </a:lnTo>
                <a:lnTo>
                  <a:pt x="1801" y="1425"/>
                </a:lnTo>
                <a:lnTo>
                  <a:pt x="1814" y="1405"/>
                </a:lnTo>
                <a:lnTo>
                  <a:pt x="1836" y="1371"/>
                </a:lnTo>
                <a:lnTo>
                  <a:pt x="1864" y="1321"/>
                </a:lnTo>
                <a:lnTo>
                  <a:pt x="1886" y="1281"/>
                </a:lnTo>
                <a:lnTo>
                  <a:pt x="1905" y="1251"/>
                </a:lnTo>
                <a:lnTo>
                  <a:pt x="1923" y="1226"/>
                </a:lnTo>
                <a:lnTo>
                  <a:pt x="1948" y="1191"/>
                </a:lnTo>
                <a:lnTo>
                  <a:pt x="1970" y="1166"/>
                </a:lnTo>
                <a:lnTo>
                  <a:pt x="1980" y="1151"/>
                </a:lnTo>
                <a:lnTo>
                  <a:pt x="1961" y="1166"/>
                </a:lnTo>
                <a:lnTo>
                  <a:pt x="1939" y="1186"/>
                </a:lnTo>
                <a:lnTo>
                  <a:pt x="1917" y="1201"/>
                </a:lnTo>
                <a:lnTo>
                  <a:pt x="1889" y="1216"/>
                </a:lnTo>
                <a:lnTo>
                  <a:pt x="1861" y="1236"/>
                </a:lnTo>
                <a:lnTo>
                  <a:pt x="1833" y="1251"/>
                </a:lnTo>
                <a:lnTo>
                  <a:pt x="1804" y="1261"/>
                </a:lnTo>
                <a:lnTo>
                  <a:pt x="1779" y="1271"/>
                </a:lnTo>
                <a:lnTo>
                  <a:pt x="1754" y="1281"/>
                </a:lnTo>
                <a:lnTo>
                  <a:pt x="1732" y="1296"/>
                </a:lnTo>
                <a:lnTo>
                  <a:pt x="1710" y="1311"/>
                </a:lnTo>
                <a:lnTo>
                  <a:pt x="1689" y="1331"/>
                </a:lnTo>
                <a:lnTo>
                  <a:pt x="1670" y="1346"/>
                </a:lnTo>
                <a:lnTo>
                  <a:pt x="1654" y="1361"/>
                </a:lnTo>
                <a:lnTo>
                  <a:pt x="1638" y="1376"/>
                </a:lnTo>
                <a:lnTo>
                  <a:pt x="1629" y="1381"/>
                </a:lnTo>
                <a:lnTo>
                  <a:pt x="1588" y="1321"/>
                </a:lnTo>
                <a:lnTo>
                  <a:pt x="1541" y="1251"/>
                </a:lnTo>
                <a:lnTo>
                  <a:pt x="1494" y="1171"/>
                </a:lnTo>
                <a:lnTo>
                  <a:pt x="1444" y="1087"/>
                </a:lnTo>
                <a:lnTo>
                  <a:pt x="1394" y="1007"/>
                </a:lnTo>
                <a:lnTo>
                  <a:pt x="1350" y="932"/>
                </a:lnTo>
                <a:lnTo>
                  <a:pt x="1316" y="862"/>
                </a:lnTo>
                <a:lnTo>
                  <a:pt x="1288" y="812"/>
                </a:lnTo>
                <a:lnTo>
                  <a:pt x="1266" y="763"/>
                </a:lnTo>
                <a:lnTo>
                  <a:pt x="1234" y="708"/>
                </a:lnTo>
                <a:lnTo>
                  <a:pt x="1203" y="643"/>
                </a:lnTo>
                <a:lnTo>
                  <a:pt x="1169" y="578"/>
                </a:lnTo>
                <a:lnTo>
                  <a:pt x="1131" y="514"/>
                </a:lnTo>
                <a:lnTo>
                  <a:pt x="1097" y="459"/>
                </a:lnTo>
                <a:lnTo>
                  <a:pt x="1065" y="409"/>
                </a:lnTo>
                <a:lnTo>
                  <a:pt x="1040" y="379"/>
                </a:lnTo>
                <a:lnTo>
                  <a:pt x="1018" y="354"/>
                </a:lnTo>
                <a:lnTo>
                  <a:pt x="999" y="339"/>
                </a:lnTo>
                <a:lnTo>
                  <a:pt x="981" y="319"/>
                </a:lnTo>
                <a:lnTo>
                  <a:pt x="965" y="304"/>
                </a:lnTo>
                <a:lnTo>
                  <a:pt x="952" y="289"/>
                </a:lnTo>
                <a:lnTo>
                  <a:pt x="940" y="274"/>
                </a:lnTo>
                <a:lnTo>
                  <a:pt x="927" y="259"/>
                </a:lnTo>
                <a:lnTo>
                  <a:pt x="918" y="244"/>
                </a:lnTo>
                <a:lnTo>
                  <a:pt x="905" y="225"/>
                </a:lnTo>
                <a:lnTo>
                  <a:pt x="890" y="190"/>
                </a:lnTo>
                <a:lnTo>
                  <a:pt x="868" y="155"/>
                </a:lnTo>
                <a:lnTo>
                  <a:pt x="846" y="115"/>
                </a:lnTo>
                <a:lnTo>
                  <a:pt x="821" y="75"/>
                </a:lnTo>
                <a:lnTo>
                  <a:pt x="799" y="40"/>
                </a:lnTo>
                <a:lnTo>
                  <a:pt x="783" y="15"/>
                </a:lnTo>
                <a:lnTo>
                  <a:pt x="771" y="0"/>
                </a:lnTo>
                <a:lnTo>
                  <a:pt x="755" y="5"/>
                </a:lnTo>
                <a:lnTo>
                  <a:pt x="739" y="15"/>
                </a:lnTo>
                <a:lnTo>
                  <a:pt x="724" y="35"/>
                </a:lnTo>
                <a:lnTo>
                  <a:pt x="708" y="55"/>
                </a:lnTo>
                <a:lnTo>
                  <a:pt x="714" y="75"/>
                </a:lnTo>
                <a:lnTo>
                  <a:pt x="733" y="95"/>
                </a:lnTo>
                <a:lnTo>
                  <a:pt x="755" y="100"/>
                </a:lnTo>
                <a:lnTo>
                  <a:pt x="78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20"/>
          <p:cNvSpPr/>
          <p:nvPr/>
        </p:nvSpPr>
        <p:spPr>
          <a:xfrm>
            <a:off x="6095880" y="1295280"/>
            <a:ext cx="1122480" cy="159876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707" h="1007">
                <a:moveTo>
                  <a:pt x="707" y="0"/>
                </a:moveTo>
                <a:lnTo>
                  <a:pt x="670" y="30"/>
                </a:lnTo>
                <a:lnTo>
                  <a:pt x="629" y="65"/>
                </a:lnTo>
                <a:lnTo>
                  <a:pt x="582" y="100"/>
                </a:lnTo>
                <a:lnTo>
                  <a:pt x="535" y="140"/>
                </a:lnTo>
                <a:lnTo>
                  <a:pt x="485" y="180"/>
                </a:lnTo>
                <a:lnTo>
                  <a:pt x="435" y="214"/>
                </a:lnTo>
                <a:lnTo>
                  <a:pt x="385" y="254"/>
                </a:lnTo>
                <a:lnTo>
                  <a:pt x="332" y="294"/>
                </a:lnTo>
                <a:lnTo>
                  <a:pt x="281" y="334"/>
                </a:lnTo>
                <a:lnTo>
                  <a:pt x="231" y="369"/>
                </a:lnTo>
                <a:lnTo>
                  <a:pt x="184" y="399"/>
                </a:lnTo>
                <a:lnTo>
                  <a:pt x="140" y="429"/>
                </a:lnTo>
                <a:lnTo>
                  <a:pt x="97" y="454"/>
                </a:lnTo>
                <a:lnTo>
                  <a:pt x="59" y="479"/>
                </a:lnTo>
                <a:lnTo>
                  <a:pt x="28" y="494"/>
                </a:lnTo>
                <a:lnTo>
                  <a:pt x="0" y="503"/>
                </a:lnTo>
                <a:lnTo>
                  <a:pt x="28" y="518"/>
                </a:lnTo>
                <a:lnTo>
                  <a:pt x="62" y="543"/>
                </a:lnTo>
                <a:lnTo>
                  <a:pt x="100" y="563"/>
                </a:lnTo>
                <a:lnTo>
                  <a:pt x="134" y="583"/>
                </a:lnTo>
                <a:lnTo>
                  <a:pt x="169" y="608"/>
                </a:lnTo>
                <a:lnTo>
                  <a:pt x="197" y="623"/>
                </a:lnTo>
                <a:lnTo>
                  <a:pt x="216" y="633"/>
                </a:lnTo>
                <a:lnTo>
                  <a:pt x="222" y="638"/>
                </a:lnTo>
                <a:lnTo>
                  <a:pt x="234" y="693"/>
                </a:lnTo>
                <a:lnTo>
                  <a:pt x="250" y="748"/>
                </a:lnTo>
                <a:lnTo>
                  <a:pt x="269" y="807"/>
                </a:lnTo>
                <a:lnTo>
                  <a:pt x="288" y="867"/>
                </a:lnTo>
                <a:lnTo>
                  <a:pt x="306" y="922"/>
                </a:lnTo>
                <a:lnTo>
                  <a:pt x="328" y="962"/>
                </a:lnTo>
                <a:lnTo>
                  <a:pt x="347" y="992"/>
                </a:lnTo>
                <a:lnTo>
                  <a:pt x="366" y="1007"/>
                </a:lnTo>
                <a:lnTo>
                  <a:pt x="379" y="947"/>
                </a:lnTo>
                <a:lnTo>
                  <a:pt x="397" y="867"/>
                </a:lnTo>
                <a:lnTo>
                  <a:pt x="416" y="797"/>
                </a:lnTo>
                <a:lnTo>
                  <a:pt x="438" y="763"/>
                </a:lnTo>
                <a:lnTo>
                  <a:pt x="454" y="753"/>
                </a:lnTo>
                <a:lnTo>
                  <a:pt x="476" y="743"/>
                </a:lnTo>
                <a:lnTo>
                  <a:pt x="501" y="733"/>
                </a:lnTo>
                <a:lnTo>
                  <a:pt x="532" y="718"/>
                </a:lnTo>
                <a:lnTo>
                  <a:pt x="560" y="708"/>
                </a:lnTo>
                <a:lnTo>
                  <a:pt x="585" y="698"/>
                </a:lnTo>
                <a:lnTo>
                  <a:pt x="607" y="693"/>
                </a:lnTo>
                <a:lnTo>
                  <a:pt x="623" y="688"/>
                </a:lnTo>
                <a:lnTo>
                  <a:pt x="629" y="648"/>
                </a:lnTo>
                <a:lnTo>
                  <a:pt x="642" y="598"/>
                </a:lnTo>
                <a:lnTo>
                  <a:pt x="657" y="538"/>
                </a:lnTo>
                <a:lnTo>
                  <a:pt x="673" y="484"/>
                </a:lnTo>
                <a:lnTo>
                  <a:pt x="689" y="424"/>
                </a:lnTo>
                <a:lnTo>
                  <a:pt x="701" y="379"/>
                </a:lnTo>
                <a:lnTo>
                  <a:pt x="707" y="344"/>
                </a:lnTo>
                <a:lnTo>
                  <a:pt x="701" y="324"/>
                </a:lnTo>
                <a:lnTo>
                  <a:pt x="676" y="314"/>
                </a:lnTo>
                <a:lnTo>
                  <a:pt x="654" y="314"/>
                </a:lnTo>
                <a:lnTo>
                  <a:pt x="632" y="309"/>
                </a:lnTo>
                <a:lnTo>
                  <a:pt x="623" y="299"/>
                </a:lnTo>
                <a:lnTo>
                  <a:pt x="623" y="274"/>
                </a:lnTo>
                <a:lnTo>
                  <a:pt x="629" y="249"/>
                </a:lnTo>
                <a:lnTo>
                  <a:pt x="639" y="224"/>
                </a:lnTo>
                <a:lnTo>
                  <a:pt x="651" y="209"/>
                </a:lnTo>
                <a:lnTo>
                  <a:pt x="651" y="180"/>
                </a:lnTo>
                <a:lnTo>
                  <a:pt x="651" y="150"/>
                </a:lnTo>
                <a:lnTo>
                  <a:pt x="651" y="120"/>
                </a:lnTo>
                <a:lnTo>
                  <a:pt x="657" y="110"/>
                </a:lnTo>
                <a:lnTo>
                  <a:pt x="670" y="110"/>
                </a:lnTo>
                <a:lnTo>
                  <a:pt x="685" y="105"/>
                </a:lnTo>
                <a:lnTo>
                  <a:pt x="695" y="95"/>
                </a:lnTo>
                <a:lnTo>
                  <a:pt x="701" y="85"/>
                </a:lnTo>
                <a:lnTo>
                  <a:pt x="704" y="65"/>
                </a:lnTo>
                <a:lnTo>
                  <a:pt x="704" y="35"/>
                </a:lnTo>
                <a:lnTo>
                  <a:pt x="707" y="10"/>
                </a:lnTo>
                <a:lnTo>
                  <a:pt x="7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21"/>
          <p:cNvSpPr/>
          <p:nvPr/>
        </p:nvSpPr>
        <p:spPr>
          <a:xfrm>
            <a:off x="7189920" y="3479760"/>
            <a:ext cx="527040" cy="1258920"/>
          </a:xfrm>
          <a:custGeom>
            <a:avLst/>
            <a:gdLst>
              <a:gd name="textAreaLeft" fmla="*/ 0 w 527040"/>
              <a:gd name="textAreaRight" fmla="*/ 527400 w 527040"/>
              <a:gd name="textAreaTop" fmla="*/ 0 h 1258920"/>
              <a:gd name="textAreaBottom" fmla="*/ 1258920 h 1258920"/>
            </a:gdLst>
            <a:ahLst/>
            <a:rect l="textAreaLeft" t="textAreaTop" r="textAreaRight" b="textAreaBottom"/>
            <a:pathLst>
              <a:path w="332" h="793">
                <a:moveTo>
                  <a:pt x="332" y="723"/>
                </a:moveTo>
                <a:lnTo>
                  <a:pt x="298" y="723"/>
                </a:lnTo>
                <a:lnTo>
                  <a:pt x="263" y="723"/>
                </a:lnTo>
                <a:lnTo>
                  <a:pt x="232" y="713"/>
                </a:lnTo>
                <a:lnTo>
                  <a:pt x="201" y="698"/>
                </a:lnTo>
                <a:lnTo>
                  <a:pt x="172" y="678"/>
                </a:lnTo>
                <a:lnTo>
                  <a:pt x="154" y="648"/>
                </a:lnTo>
                <a:lnTo>
                  <a:pt x="141" y="608"/>
                </a:lnTo>
                <a:lnTo>
                  <a:pt x="138" y="553"/>
                </a:lnTo>
                <a:lnTo>
                  <a:pt x="144" y="454"/>
                </a:lnTo>
                <a:lnTo>
                  <a:pt x="147" y="339"/>
                </a:lnTo>
                <a:lnTo>
                  <a:pt x="150" y="235"/>
                </a:lnTo>
                <a:lnTo>
                  <a:pt x="144" y="160"/>
                </a:lnTo>
                <a:lnTo>
                  <a:pt x="138" y="130"/>
                </a:lnTo>
                <a:lnTo>
                  <a:pt x="125" y="95"/>
                </a:lnTo>
                <a:lnTo>
                  <a:pt x="110" y="65"/>
                </a:lnTo>
                <a:lnTo>
                  <a:pt x="91" y="35"/>
                </a:lnTo>
                <a:lnTo>
                  <a:pt x="72" y="15"/>
                </a:lnTo>
                <a:lnTo>
                  <a:pt x="50" y="0"/>
                </a:lnTo>
                <a:lnTo>
                  <a:pt x="28" y="0"/>
                </a:lnTo>
                <a:lnTo>
                  <a:pt x="9" y="15"/>
                </a:lnTo>
                <a:lnTo>
                  <a:pt x="0" y="75"/>
                </a:lnTo>
                <a:lnTo>
                  <a:pt x="3" y="125"/>
                </a:lnTo>
                <a:lnTo>
                  <a:pt x="16" y="160"/>
                </a:lnTo>
                <a:lnTo>
                  <a:pt x="38" y="170"/>
                </a:lnTo>
                <a:lnTo>
                  <a:pt x="60" y="180"/>
                </a:lnTo>
                <a:lnTo>
                  <a:pt x="72" y="195"/>
                </a:lnTo>
                <a:lnTo>
                  <a:pt x="78" y="220"/>
                </a:lnTo>
                <a:lnTo>
                  <a:pt x="82" y="255"/>
                </a:lnTo>
                <a:lnTo>
                  <a:pt x="82" y="314"/>
                </a:lnTo>
                <a:lnTo>
                  <a:pt x="75" y="409"/>
                </a:lnTo>
                <a:lnTo>
                  <a:pt x="69" y="529"/>
                </a:lnTo>
                <a:lnTo>
                  <a:pt x="66" y="643"/>
                </a:lnTo>
                <a:lnTo>
                  <a:pt x="88" y="678"/>
                </a:lnTo>
                <a:lnTo>
                  <a:pt x="116" y="718"/>
                </a:lnTo>
                <a:lnTo>
                  <a:pt x="144" y="748"/>
                </a:lnTo>
                <a:lnTo>
                  <a:pt x="182" y="778"/>
                </a:lnTo>
                <a:lnTo>
                  <a:pt x="216" y="793"/>
                </a:lnTo>
                <a:lnTo>
                  <a:pt x="254" y="793"/>
                </a:lnTo>
                <a:lnTo>
                  <a:pt x="294" y="768"/>
                </a:lnTo>
                <a:lnTo>
                  <a:pt x="332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22"/>
          <p:cNvSpPr/>
          <p:nvPr/>
        </p:nvSpPr>
        <p:spPr>
          <a:xfrm>
            <a:off x="174600" y="3060720"/>
            <a:ext cx="2670120" cy="178740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682" h="1126">
                <a:moveTo>
                  <a:pt x="1682" y="1126"/>
                </a:moveTo>
                <a:lnTo>
                  <a:pt x="1581" y="1042"/>
                </a:lnTo>
                <a:lnTo>
                  <a:pt x="1475" y="957"/>
                </a:lnTo>
                <a:lnTo>
                  <a:pt x="1359" y="862"/>
                </a:lnTo>
                <a:lnTo>
                  <a:pt x="1240" y="773"/>
                </a:lnTo>
                <a:lnTo>
                  <a:pt x="1115" y="678"/>
                </a:lnTo>
                <a:lnTo>
                  <a:pt x="989" y="583"/>
                </a:lnTo>
                <a:lnTo>
                  <a:pt x="864" y="494"/>
                </a:lnTo>
                <a:lnTo>
                  <a:pt x="739" y="409"/>
                </a:lnTo>
                <a:lnTo>
                  <a:pt x="617" y="324"/>
                </a:lnTo>
                <a:lnTo>
                  <a:pt x="501" y="249"/>
                </a:lnTo>
                <a:lnTo>
                  <a:pt x="391" y="180"/>
                </a:lnTo>
                <a:lnTo>
                  <a:pt x="288" y="120"/>
                </a:lnTo>
                <a:lnTo>
                  <a:pt x="197" y="75"/>
                </a:lnTo>
                <a:lnTo>
                  <a:pt x="119" y="35"/>
                </a:lnTo>
                <a:lnTo>
                  <a:pt x="50" y="10"/>
                </a:lnTo>
                <a:lnTo>
                  <a:pt x="0" y="0"/>
                </a:lnTo>
                <a:lnTo>
                  <a:pt x="65" y="5"/>
                </a:lnTo>
                <a:lnTo>
                  <a:pt x="144" y="20"/>
                </a:lnTo>
                <a:lnTo>
                  <a:pt x="231" y="50"/>
                </a:lnTo>
                <a:lnTo>
                  <a:pt x="328" y="85"/>
                </a:lnTo>
                <a:lnTo>
                  <a:pt x="435" y="135"/>
                </a:lnTo>
                <a:lnTo>
                  <a:pt x="545" y="190"/>
                </a:lnTo>
                <a:lnTo>
                  <a:pt x="661" y="259"/>
                </a:lnTo>
                <a:lnTo>
                  <a:pt x="780" y="329"/>
                </a:lnTo>
                <a:lnTo>
                  <a:pt x="902" y="414"/>
                </a:lnTo>
                <a:lnTo>
                  <a:pt x="1021" y="499"/>
                </a:lnTo>
                <a:lnTo>
                  <a:pt x="1143" y="593"/>
                </a:lnTo>
                <a:lnTo>
                  <a:pt x="1259" y="693"/>
                </a:lnTo>
                <a:lnTo>
                  <a:pt x="1375" y="798"/>
                </a:lnTo>
                <a:lnTo>
                  <a:pt x="1484" y="902"/>
                </a:lnTo>
                <a:lnTo>
                  <a:pt x="1588" y="1012"/>
                </a:lnTo>
                <a:lnTo>
                  <a:pt x="1682" y="1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23"/>
          <p:cNvSpPr/>
          <p:nvPr/>
        </p:nvSpPr>
        <p:spPr>
          <a:xfrm>
            <a:off x="3565440" y="3378240"/>
            <a:ext cx="39600" cy="315720"/>
          </a:xfrm>
          <a:custGeom>
            <a:avLst/>
            <a:gdLst>
              <a:gd name="textAreaLeft" fmla="*/ 0 w 39600"/>
              <a:gd name="textAreaRight" fmla="*/ 39960 w 39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" h="199">
                <a:moveTo>
                  <a:pt x="12" y="189"/>
                </a:moveTo>
                <a:lnTo>
                  <a:pt x="6" y="149"/>
                </a:lnTo>
                <a:lnTo>
                  <a:pt x="0" y="104"/>
                </a:lnTo>
                <a:lnTo>
                  <a:pt x="3" y="59"/>
                </a:lnTo>
                <a:lnTo>
                  <a:pt x="15" y="0"/>
                </a:lnTo>
                <a:lnTo>
                  <a:pt x="12" y="74"/>
                </a:lnTo>
                <a:lnTo>
                  <a:pt x="19" y="154"/>
                </a:lnTo>
                <a:lnTo>
                  <a:pt x="25" y="199"/>
                </a:lnTo>
                <a:lnTo>
                  <a:pt x="12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24"/>
          <p:cNvSpPr/>
          <p:nvPr/>
        </p:nvSpPr>
        <p:spPr>
          <a:xfrm>
            <a:off x="2948040" y="2903400"/>
            <a:ext cx="284040" cy="711360"/>
          </a:xfrm>
          <a:custGeom>
            <a:avLst/>
            <a:gdLst>
              <a:gd name="textAreaLeft" fmla="*/ 0 w 284040"/>
              <a:gd name="textAreaRight" fmla="*/ 284400 w 28404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79" h="448">
                <a:moveTo>
                  <a:pt x="13" y="448"/>
                </a:moveTo>
                <a:lnTo>
                  <a:pt x="10" y="353"/>
                </a:lnTo>
                <a:lnTo>
                  <a:pt x="16" y="274"/>
                </a:lnTo>
                <a:lnTo>
                  <a:pt x="32" y="199"/>
                </a:lnTo>
                <a:lnTo>
                  <a:pt x="54" y="139"/>
                </a:lnTo>
                <a:lnTo>
                  <a:pt x="82" y="94"/>
                </a:lnTo>
                <a:lnTo>
                  <a:pt x="113" y="54"/>
                </a:lnTo>
                <a:lnTo>
                  <a:pt x="144" y="25"/>
                </a:lnTo>
                <a:lnTo>
                  <a:pt x="179" y="0"/>
                </a:lnTo>
                <a:lnTo>
                  <a:pt x="135" y="15"/>
                </a:lnTo>
                <a:lnTo>
                  <a:pt x="97" y="49"/>
                </a:lnTo>
                <a:lnTo>
                  <a:pt x="63" y="104"/>
                </a:lnTo>
                <a:lnTo>
                  <a:pt x="35" y="169"/>
                </a:lnTo>
                <a:lnTo>
                  <a:pt x="13" y="239"/>
                </a:lnTo>
                <a:lnTo>
                  <a:pt x="3" y="314"/>
                </a:lnTo>
                <a:lnTo>
                  <a:pt x="0" y="383"/>
                </a:lnTo>
                <a:lnTo>
                  <a:pt x="13" y="4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25"/>
          <p:cNvSpPr/>
          <p:nvPr/>
        </p:nvSpPr>
        <p:spPr>
          <a:xfrm>
            <a:off x="3525840" y="3029040"/>
            <a:ext cx="436680" cy="222120"/>
          </a:xfrm>
          <a:custGeom>
            <a:avLst/>
            <a:gdLst>
              <a:gd name="textAreaLeft" fmla="*/ 0 w 436680"/>
              <a:gd name="textAreaRight" fmla="*/ 436680 w 436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5" h="140">
                <a:moveTo>
                  <a:pt x="275" y="0"/>
                </a:moveTo>
                <a:lnTo>
                  <a:pt x="253" y="0"/>
                </a:lnTo>
                <a:lnTo>
                  <a:pt x="222" y="5"/>
                </a:lnTo>
                <a:lnTo>
                  <a:pt x="184" y="20"/>
                </a:lnTo>
                <a:lnTo>
                  <a:pt x="144" y="35"/>
                </a:lnTo>
                <a:lnTo>
                  <a:pt x="100" y="50"/>
                </a:lnTo>
                <a:lnTo>
                  <a:pt x="62" y="70"/>
                </a:lnTo>
                <a:lnTo>
                  <a:pt x="31" y="90"/>
                </a:lnTo>
                <a:lnTo>
                  <a:pt x="9" y="105"/>
                </a:lnTo>
                <a:lnTo>
                  <a:pt x="3" y="115"/>
                </a:lnTo>
                <a:lnTo>
                  <a:pt x="0" y="130"/>
                </a:lnTo>
                <a:lnTo>
                  <a:pt x="3" y="140"/>
                </a:lnTo>
                <a:lnTo>
                  <a:pt x="18" y="130"/>
                </a:lnTo>
                <a:lnTo>
                  <a:pt x="34" y="120"/>
                </a:lnTo>
                <a:lnTo>
                  <a:pt x="59" y="100"/>
                </a:lnTo>
                <a:lnTo>
                  <a:pt x="91" y="85"/>
                </a:lnTo>
                <a:lnTo>
                  <a:pt x="128" y="65"/>
                </a:lnTo>
                <a:lnTo>
                  <a:pt x="166" y="45"/>
                </a:lnTo>
                <a:lnTo>
                  <a:pt x="206" y="25"/>
                </a:lnTo>
                <a:lnTo>
                  <a:pt x="244" y="10"/>
                </a:lnTo>
                <a:lnTo>
                  <a:pt x="2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26"/>
          <p:cNvSpPr/>
          <p:nvPr/>
        </p:nvSpPr>
        <p:spPr>
          <a:xfrm>
            <a:off x="2919240" y="2973240"/>
            <a:ext cx="804960" cy="1898640"/>
          </a:xfrm>
          <a:custGeom>
            <a:avLst/>
            <a:gdLst>
              <a:gd name="textAreaLeft" fmla="*/ 0 w 804960"/>
              <a:gd name="textAreaRight" fmla="*/ 805320 w 8049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07" h="1196">
                <a:moveTo>
                  <a:pt x="59" y="1196"/>
                </a:moveTo>
                <a:lnTo>
                  <a:pt x="53" y="1191"/>
                </a:lnTo>
                <a:lnTo>
                  <a:pt x="34" y="1176"/>
                </a:lnTo>
                <a:lnTo>
                  <a:pt x="15" y="1156"/>
                </a:lnTo>
                <a:lnTo>
                  <a:pt x="0" y="1142"/>
                </a:lnTo>
                <a:lnTo>
                  <a:pt x="43" y="1122"/>
                </a:lnTo>
                <a:lnTo>
                  <a:pt x="75" y="1092"/>
                </a:lnTo>
                <a:lnTo>
                  <a:pt x="94" y="1047"/>
                </a:lnTo>
                <a:lnTo>
                  <a:pt x="106" y="997"/>
                </a:lnTo>
                <a:lnTo>
                  <a:pt x="109" y="947"/>
                </a:lnTo>
                <a:lnTo>
                  <a:pt x="109" y="897"/>
                </a:lnTo>
                <a:lnTo>
                  <a:pt x="103" y="853"/>
                </a:lnTo>
                <a:lnTo>
                  <a:pt x="97" y="818"/>
                </a:lnTo>
                <a:lnTo>
                  <a:pt x="100" y="788"/>
                </a:lnTo>
                <a:lnTo>
                  <a:pt x="106" y="763"/>
                </a:lnTo>
                <a:lnTo>
                  <a:pt x="112" y="738"/>
                </a:lnTo>
                <a:lnTo>
                  <a:pt x="122" y="713"/>
                </a:lnTo>
                <a:lnTo>
                  <a:pt x="134" y="693"/>
                </a:lnTo>
                <a:lnTo>
                  <a:pt x="153" y="668"/>
                </a:lnTo>
                <a:lnTo>
                  <a:pt x="172" y="653"/>
                </a:lnTo>
                <a:lnTo>
                  <a:pt x="197" y="633"/>
                </a:lnTo>
                <a:lnTo>
                  <a:pt x="206" y="623"/>
                </a:lnTo>
                <a:lnTo>
                  <a:pt x="213" y="608"/>
                </a:lnTo>
                <a:lnTo>
                  <a:pt x="213" y="593"/>
                </a:lnTo>
                <a:lnTo>
                  <a:pt x="206" y="574"/>
                </a:lnTo>
                <a:lnTo>
                  <a:pt x="194" y="554"/>
                </a:lnTo>
                <a:lnTo>
                  <a:pt x="175" y="534"/>
                </a:lnTo>
                <a:lnTo>
                  <a:pt x="153" y="519"/>
                </a:lnTo>
                <a:lnTo>
                  <a:pt x="128" y="499"/>
                </a:lnTo>
                <a:lnTo>
                  <a:pt x="100" y="439"/>
                </a:lnTo>
                <a:lnTo>
                  <a:pt x="87" y="329"/>
                </a:lnTo>
                <a:lnTo>
                  <a:pt x="97" y="200"/>
                </a:lnTo>
                <a:lnTo>
                  <a:pt x="137" y="85"/>
                </a:lnTo>
                <a:lnTo>
                  <a:pt x="172" y="45"/>
                </a:lnTo>
                <a:lnTo>
                  <a:pt x="209" y="20"/>
                </a:lnTo>
                <a:lnTo>
                  <a:pt x="253" y="5"/>
                </a:lnTo>
                <a:lnTo>
                  <a:pt x="297" y="0"/>
                </a:lnTo>
                <a:lnTo>
                  <a:pt x="338" y="10"/>
                </a:lnTo>
                <a:lnTo>
                  <a:pt x="375" y="20"/>
                </a:lnTo>
                <a:lnTo>
                  <a:pt x="404" y="35"/>
                </a:lnTo>
                <a:lnTo>
                  <a:pt x="422" y="55"/>
                </a:lnTo>
                <a:lnTo>
                  <a:pt x="419" y="55"/>
                </a:lnTo>
                <a:lnTo>
                  <a:pt x="413" y="60"/>
                </a:lnTo>
                <a:lnTo>
                  <a:pt x="410" y="65"/>
                </a:lnTo>
                <a:lnTo>
                  <a:pt x="391" y="55"/>
                </a:lnTo>
                <a:lnTo>
                  <a:pt x="360" y="45"/>
                </a:lnTo>
                <a:lnTo>
                  <a:pt x="322" y="35"/>
                </a:lnTo>
                <a:lnTo>
                  <a:pt x="278" y="35"/>
                </a:lnTo>
                <a:lnTo>
                  <a:pt x="234" y="50"/>
                </a:lnTo>
                <a:lnTo>
                  <a:pt x="191" y="75"/>
                </a:lnTo>
                <a:lnTo>
                  <a:pt x="156" y="120"/>
                </a:lnTo>
                <a:lnTo>
                  <a:pt x="134" y="190"/>
                </a:lnTo>
                <a:lnTo>
                  <a:pt x="122" y="275"/>
                </a:lnTo>
                <a:lnTo>
                  <a:pt x="122" y="344"/>
                </a:lnTo>
                <a:lnTo>
                  <a:pt x="134" y="399"/>
                </a:lnTo>
                <a:lnTo>
                  <a:pt x="153" y="444"/>
                </a:lnTo>
                <a:lnTo>
                  <a:pt x="175" y="474"/>
                </a:lnTo>
                <a:lnTo>
                  <a:pt x="203" y="499"/>
                </a:lnTo>
                <a:lnTo>
                  <a:pt x="234" y="514"/>
                </a:lnTo>
                <a:lnTo>
                  <a:pt x="263" y="529"/>
                </a:lnTo>
                <a:lnTo>
                  <a:pt x="281" y="529"/>
                </a:lnTo>
                <a:lnTo>
                  <a:pt x="307" y="524"/>
                </a:lnTo>
                <a:lnTo>
                  <a:pt x="335" y="514"/>
                </a:lnTo>
                <a:lnTo>
                  <a:pt x="366" y="499"/>
                </a:lnTo>
                <a:lnTo>
                  <a:pt x="394" y="489"/>
                </a:lnTo>
                <a:lnTo>
                  <a:pt x="422" y="479"/>
                </a:lnTo>
                <a:lnTo>
                  <a:pt x="451" y="484"/>
                </a:lnTo>
                <a:lnTo>
                  <a:pt x="473" y="494"/>
                </a:lnTo>
                <a:lnTo>
                  <a:pt x="482" y="499"/>
                </a:lnTo>
                <a:lnTo>
                  <a:pt x="485" y="499"/>
                </a:lnTo>
                <a:lnTo>
                  <a:pt x="494" y="504"/>
                </a:lnTo>
                <a:lnTo>
                  <a:pt x="507" y="529"/>
                </a:lnTo>
                <a:lnTo>
                  <a:pt x="485" y="534"/>
                </a:lnTo>
                <a:lnTo>
                  <a:pt x="460" y="539"/>
                </a:lnTo>
                <a:lnTo>
                  <a:pt x="435" y="544"/>
                </a:lnTo>
                <a:lnTo>
                  <a:pt x="407" y="554"/>
                </a:lnTo>
                <a:lnTo>
                  <a:pt x="379" y="559"/>
                </a:lnTo>
                <a:lnTo>
                  <a:pt x="350" y="574"/>
                </a:lnTo>
                <a:lnTo>
                  <a:pt x="319" y="588"/>
                </a:lnTo>
                <a:lnTo>
                  <a:pt x="291" y="608"/>
                </a:lnTo>
                <a:lnTo>
                  <a:pt x="253" y="653"/>
                </a:lnTo>
                <a:lnTo>
                  <a:pt x="222" y="723"/>
                </a:lnTo>
                <a:lnTo>
                  <a:pt x="197" y="803"/>
                </a:lnTo>
                <a:lnTo>
                  <a:pt x="175" y="892"/>
                </a:lnTo>
                <a:lnTo>
                  <a:pt x="150" y="982"/>
                </a:lnTo>
                <a:lnTo>
                  <a:pt x="128" y="1067"/>
                </a:lnTo>
                <a:lnTo>
                  <a:pt x="97" y="1142"/>
                </a:lnTo>
                <a:lnTo>
                  <a:pt x="59" y="1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reeform 27"/>
          <p:cNvSpPr/>
          <p:nvPr/>
        </p:nvSpPr>
        <p:spPr>
          <a:xfrm>
            <a:off x="2455920" y="4002120"/>
            <a:ext cx="189000" cy="341280"/>
          </a:xfrm>
          <a:custGeom>
            <a:avLst/>
            <a:gdLst>
              <a:gd name="textAreaLeft" fmla="*/ 0 w 189000"/>
              <a:gd name="textAreaRight" fmla="*/ 189360 w 1890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9" h="215">
                <a:moveTo>
                  <a:pt x="47" y="215"/>
                </a:moveTo>
                <a:lnTo>
                  <a:pt x="66" y="155"/>
                </a:lnTo>
                <a:lnTo>
                  <a:pt x="85" y="100"/>
                </a:lnTo>
                <a:lnTo>
                  <a:pt x="104" y="50"/>
                </a:lnTo>
                <a:lnTo>
                  <a:pt x="119" y="15"/>
                </a:lnTo>
                <a:lnTo>
                  <a:pt x="113" y="0"/>
                </a:lnTo>
                <a:lnTo>
                  <a:pt x="107" y="0"/>
                </a:lnTo>
                <a:lnTo>
                  <a:pt x="101" y="5"/>
                </a:lnTo>
                <a:lnTo>
                  <a:pt x="88" y="15"/>
                </a:lnTo>
                <a:lnTo>
                  <a:pt x="66" y="45"/>
                </a:lnTo>
                <a:lnTo>
                  <a:pt x="38" y="95"/>
                </a:lnTo>
                <a:lnTo>
                  <a:pt x="13" y="145"/>
                </a:lnTo>
                <a:lnTo>
                  <a:pt x="0" y="165"/>
                </a:lnTo>
                <a:lnTo>
                  <a:pt x="47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reeform 28"/>
          <p:cNvSpPr/>
          <p:nvPr/>
        </p:nvSpPr>
        <p:spPr>
          <a:xfrm>
            <a:off x="3290760" y="3164040"/>
            <a:ext cx="109800" cy="174600"/>
          </a:xfrm>
          <a:custGeom>
            <a:avLst/>
            <a:gdLst>
              <a:gd name="textAreaLeft" fmla="*/ 0 w 109800"/>
              <a:gd name="textAreaRight" fmla="*/ 110160 w 1098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69" h="110">
                <a:moveTo>
                  <a:pt x="38" y="110"/>
                </a:moveTo>
                <a:lnTo>
                  <a:pt x="51" y="105"/>
                </a:lnTo>
                <a:lnTo>
                  <a:pt x="60" y="90"/>
                </a:lnTo>
                <a:lnTo>
                  <a:pt x="66" y="70"/>
                </a:lnTo>
                <a:lnTo>
                  <a:pt x="69" y="50"/>
                </a:lnTo>
                <a:lnTo>
                  <a:pt x="66" y="30"/>
                </a:lnTo>
                <a:lnTo>
                  <a:pt x="57" y="10"/>
                </a:lnTo>
                <a:lnTo>
                  <a:pt x="44" y="0"/>
                </a:lnTo>
                <a:lnTo>
                  <a:pt x="32" y="0"/>
                </a:lnTo>
                <a:lnTo>
                  <a:pt x="19" y="5"/>
                </a:lnTo>
                <a:lnTo>
                  <a:pt x="7" y="20"/>
                </a:lnTo>
                <a:lnTo>
                  <a:pt x="0" y="40"/>
                </a:lnTo>
                <a:lnTo>
                  <a:pt x="0" y="60"/>
                </a:lnTo>
                <a:lnTo>
                  <a:pt x="4" y="80"/>
                </a:lnTo>
                <a:lnTo>
                  <a:pt x="13" y="95"/>
                </a:lnTo>
                <a:lnTo>
                  <a:pt x="26" y="105"/>
                </a:lnTo>
                <a:lnTo>
                  <a:pt x="3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29"/>
          <p:cNvSpPr/>
          <p:nvPr/>
        </p:nvSpPr>
        <p:spPr>
          <a:xfrm>
            <a:off x="5545080" y="3867120"/>
            <a:ext cx="41400" cy="36720"/>
          </a:xfrm>
          <a:custGeom>
            <a:avLst/>
            <a:gdLst>
              <a:gd name="textAreaLeft" fmla="*/ 0 w 41400"/>
              <a:gd name="textAreaRight" fmla="*/ 41760 w 414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6" h="23">
                <a:moveTo>
                  <a:pt x="3" y="0"/>
                </a:moveTo>
                <a:lnTo>
                  <a:pt x="7" y="5"/>
                </a:lnTo>
                <a:lnTo>
                  <a:pt x="13" y="10"/>
                </a:lnTo>
                <a:lnTo>
                  <a:pt x="19" y="14"/>
                </a:lnTo>
                <a:lnTo>
                  <a:pt x="26" y="16"/>
                </a:lnTo>
                <a:lnTo>
                  <a:pt x="25" y="23"/>
                </a:lnTo>
                <a:lnTo>
                  <a:pt x="15" y="22"/>
                </a:lnTo>
                <a:lnTo>
                  <a:pt x="7" y="17"/>
                </a:lnTo>
                <a:lnTo>
                  <a:pt x="0" y="10"/>
                </a:lnTo>
                <a:lnTo>
                  <a:pt x="3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30" descr="图形1"/>
          <p:cNvPicPr/>
          <p:nvPr/>
        </p:nvPicPr>
        <p:blipFill>
          <a:blip r:embed="rId1"/>
          <a:stretch/>
        </p:blipFill>
        <p:spPr>
          <a:xfrm>
            <a:off x="1219320" y="4191120"/>
            <a:ext cx="609480" cy="593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1" descr="图形1"/>
          <p:cNvPicPr/>
          <p:nvPr/>
        </p:nvPicPr>
        <p:blipFill>
          <a:blip r:embed="rId2"/>
          <a:stretch/>
        </p:blipFill>
        <p:spPr>
          <a:xfrm>
            <a:off x="7467480" y="152280"/>
            <a:ext cx="609840" cy="592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2" descr="图形1"/>
          <p:cNvPicPr/>
          <p:nvPr/>
        </p:nvPicPr>
        <p:blipFill>
          <a:blip r:embed="rId3"/>
          <a:stretch/>
        </p:blipFill>
        <p:spPr>
          <a:xfrm>
            <a:off x="5410080" y="457200"/>
            <a:ext cx="609840" cy="592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3" descr="图形1"/>
          <p:cNvPicPr/>
          <p:nvPr/>
        </p:nvPicPr>
        <p:blipFill>
          <a:blip r:embed="rId4"/>
          <a:stretch/>
        </p:blipFill>
        <p:spPr>
          <a:xfrm>
            <a:off x="2971800" y="22860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4" descr="图形1"/>
          <p:cNvPicPr/>
          <p:nvPr/>
        </p:nvPicPr>
        <p:blipFill>
          <a:blip r:embed="rId5"/>
          <a:stretch/>
        </p:blipFill>
        <p:spPr>
          <a:xfrm>
            <a:off x="762120" y="0"/>
            <a:ext cx="547560" cy="533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5" descr="图形1"/>
          <p:cNvPicPr/>
          <p:nvPr/>
        </p:nvPicPr>
        <p:blipFill>
          <a:blip r:embed="rId6"/>
          <a:stretch/>
        </p:blipFill>
        <p:spPr>
          <a:xfrm>
            <a:off x="4114800" y="1143000"/>
            <a:ext cx="547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620" name="Group 36"/>
          <p:cNvGrpSpPr/>
          <p:nvPr/>
        </p:nvGrpSpPr>
        <p:grpSpPr>
          <a:xfrm>
            <a:off x="3352680" y="1219320"/>
            <a:ext cx="3672000" cy="5181480"/>
            <a:chOff x="3352680" y="1219320"/>
            <a:chExt cx="3672000" cy="5181480"/>
          </a:xfrm>
        </p:grpSpPr>
        <p:pic>
          <p:nvPicPr>
            <p:cNvPr id="621" name="Picture 37" descr="图形1"/>
            <p:cNvPicPr/>
            <p:nvPr/>
          </p:nvPicPr>
          <p:blipFill>
            <a:blip r:embed="rId7"/>
            <a:stretch/>
          </p:blipFill>
          <p:spPr>
            <a:xfrm>
              <a:off x="6477120" y="12193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8" descr="图形1"/>
            <p:cNvPicPr/>
            <p:nvPr/>
          </p:nvPicPr>
          <p:blipFill>
            <a:blip r:embed="rId8"/>
            <a:stretch/>
          </p:blipFill>
          <p:spPr>
            <a:xfrm>
              <a:off x="3352680" y="5638680"/>
              <a:ext cx="547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39"/>
          <p:cNvGrpSpPr/>
          <p:nvPr/>
        </p:nvGrpSpPr>
        <p:grpSpPr>
          <a:xfrm>
            <a:off x="380880" y="685800"/>
            <a:ext cx="6186600" cy="4267080"/>
            <a:chOff x="380880" y="685800"/>
            <a:chExt cx="6186600" cy="4267080"/>
          </a:xfrm>
        </p:grpSpPr>
        <p:pic>
          <p:nvPicPr>
            <p:cNvPr id="624" name="Picture 40" descr="图形1"/>
            <p:cNvPicPr/>
            <p:nvPr/>
          </p:nvPicPr>
          <p:blipFill>
            <a:blip r:embed="rId9"/>
            <a:stretch/>
          </p:blipFill>
          <p:spPr>
            <a:xfrm>
              <a:off x="6019560" y="3200400"/>
              <a:ext cx="547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41" descr="图形1"/>
            <p:cNvPicPr/>
            <p:nvPr/>
          </p:nvPicPr>
          <p:blipFill>
            <a:blip r:embed="rId10"/>
            <a:stretch/>
          </p:blipFill>
          <p:spPr>
            <a:xfrm>
              <a:off x="3886200" y="4419720"/>
              <a:ext cx="547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2" descr="图形1"/>
            <p:cNvPicPr/>
            <p:nvPr/>
          </p:nvPicPr>
          <p:blipFill>
            <a:blip r:embed="rId11"/>
            <a:stretch/>
          </p:blipFill>
          <p:spPr>
            <a:xfrm>
              <a:off x="380880" y="685800"/>
              <a:ext cx="533520" cy="5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Text Box 45"/>
          <p:cNvSpPr/>
          <p:nvPr/>
        </p:nvSpPr>
        <p:spPr>
          <a:xfrm>
            <a:off x="1476360" y="189000"/>
            <a:ext cx="8675640" cy="81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下雪啦，下雪啦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雪地里来了一群小画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鸡画竹叶，小狗画梅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鸭画枫叶，小马画月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用颜料不用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几步就成一幅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蛙为什么没参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他在洞里睡着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333.wav" descr=""/>
          <p:cNvPicPr/>
          <p:nvPr/>
        </p:nvPicPr>
        <p:blipFill>
          <a:blip r:embed="rId12"/>
          <a:stretch/>
        </p:blipFill>
        <p:spPr>
          <a:xfrm>
            <a:off x="3059280" y="6424560"/>
            <a:ext cx="43308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43040" fill="hold"/>
                                        <p:tgtEl>
                                          <p:spTgt spid="6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3" descr="未标题-1"/>
          <p:cNvPicPr/>
          <p:nvPr/>
        </p:nvPicPr>
        <p:blipFill>
          <a:blip r:embed="rId1"/>
          <a:srcRect l="2233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0" y="10494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雪啦，下雪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920" y="1700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雪地里来了一群小画家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0" y="234792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）画（  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34920" y="2997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）画（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77840" y="3645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用颜料不用笔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177840" y="4365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步就成一幅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33480" y="5084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为什么没参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250920" y="587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在洞里睡着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kanhe.mp3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02485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图片1"/>
          <p:cNvPicPr/>
          <p:nvPr/>
        </p:nvPicPr>
        <p:blipFill>
          <a:blip r:embed="rId1"/>
          <a:srcRect l="0" t="0" r="82925" b="87570"/>
          <a:stretch/>
        </p:blipFill>
        <p:spPr>
          <a:xfrm>
            <a:off x="1835280" y="592200"/>
            <a:ext cx="5256000" cy="49244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2484360" y="565200"/>
            <a:ext cx="4321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鱼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0d3765d0c19c1d83a0ec9cd8"/>
          <p:cNvPicPr/>
          <p:nvPr/>
        </p:nvPicPr>
        <p:blipFill>
          <a:blip r:embed="rId1"/>
          <a:srcRect l="0" t="0" r="79937" b="0"/>
          <a:stretch/>
        </p:blipFill>
        <p:spPr>
          <a:xfrm>
            <a:off x="611280" y="333360"/>
            <a:ext cx="1834920" cy="2727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0d3765d0c19c1d83a0ec9cd8"/>
          <p:cNvPicPr/>
          <p:nvPr/>
        </p:nvPicPr>
        <p:blipFill>
          <a:blip r:embed="rId2"/>
          <a:srcRect l="15351" t="0" r="65751" b="0"/>
          <a:stretch/>
        </p:blipFill>
        <p:spPr>
          <a:xfrm>
            <a:off x="3419640" y="333360"/>
            <a:ext cx="1825560" cy="2708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0d3765d0c19c1d83a0ec9cd8"/>
          <p:cNvPicPr/>
          <p:nvPr/>
        </p:nvPicPr>
        <p:blipFill>
          <a:blip r:embed="rId3"/>
          <a:srcRect l="29532" t="0" r="48423" b="0"/>
          <a:stretch/>
        </p:blipFill>
        <p:spPr>
          <a:xfrm>
            <a:off x="6227640" y="333360"/>
            <a:ext cx="1873440" cy="2808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0d3765d0c19c1d83a0ec9cd8"/>
          <p:cNvPicPr/>
          <p:nvPr/>
        </p:nvPicPr>
        <p:blipFill>
          <a:blip r:embed="rId4"/>
          <a:srcRect l="44896" t="0" r="33058" b="0"/>
          <a:stretch/>
        </p:blipFill>
        <p:spPr>
          <a:xfrm>
            <a:off x="539640" y="3789360"/>
            <a:ext cx="1944720" cy="2654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0d3765d0c19c1d83a0ec9cd8"/>
          <p:cNvPicPr/>
          <p:nvPr/>
        </p:nvPicPr>
        <p:blipFill>
          <a:blip r:embed="rId5"/>
          <a:srcRect l="59449" t="0" r="17707" b="0"/>
          <a:stretch/>
        </p:blipFill>
        <p:spPr>
          <a:xfrm>
            <a:off x="3419640" y="3789360"/>
            <a:ext cx="1873080" cy="2727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0d3765d0c19c1d83a0ec9cd8"/>
          <p:cNvPicPr/>
          <p:nvPr/>
        </p:nvPicPr>
        <p:blipFill>
          <a:blip r:embed="rId6"/>
          <a:srcRect l="75998" t="0" r="1963" b="0"/>
          <a:stretch/>
        </p:blipFill>
        <p:spPr>
          <a:xfrm>
            <a:off x="6227640" y="3860640"/>
            <a:ext cx="1873440" cy="2592720"/>
          </a:xfrm>
          <a:prstGeom prst="rect">
            <a:avLst/>
          </a:prstGeom>
          <a:ln w="0">
            <a:noFill/>
          </a:ln>
        </p:spPr>
      </p:pic>
      <p:sp>
        <p:nvSpPr>
          <p:cNvPr id="647" name="Line 9"/>
          <p:cNvSpPr/>
          <p:nvPr/>
        </p:nvSpPr>
        <p:spPr>
          <a:xfrm>
            <a:off x="2627280" y="19890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5435640" y="198900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2556000" y="5157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5364000" y="5157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5405760" y="65055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Times New Roman"/>
              </a:rPr>
              <a:t>点击鼠标，等待一会儿，就会依次出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6" descr="图片1"/>
          <p:cNvPicPr/>
          <p:nvPr/>
        </p:nvPicPr>
        <p:blipFill>
          <a:blip r:embed="rId1"/>
          <a:srcRect l="0" t="0" r="82925" b="87570"/>
          <a:stretch/>
        </p:blipFill>
        <p:spPr>
          <a:xfrm>
            <a:off x="1835280" y="592200"/>
            <a:ext cx="5256000" cy="49244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5"/>
          <p:cNvSpPr/>
          <p:nvPr/>
        </p:nvSpPr>
        <p:spPr>
          <a:xfrm>
            <a:off x="2484360" y="565200"/>
            <a:ext cx="4321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鱼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舒缓.wav" descr=""/>
          <p:cNvPicPr/>
          <p:nvPr/>
        </p:nvPicPr>
        <p:blipFill>
          <a:blip r:embed="rId2"/>
          <a:stretch/>
        </p:blipFill>
        <p:spPr>
          <a:xfrm>
            <a:off x="334800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0" dur="681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梅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几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成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蛙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124000" y="5805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虫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chó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  zì  pá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ɡ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LL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700360" y="1125360"/>
            <a:ext cx="25210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蜻蜓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蝴蝶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蜘蛛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0071116135458883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763640" y="1413000"/>
            <a:ext cx="4824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5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9T11:33:47Z</dcterms:created>
  <dc:creator>wang</dc:creator>
  <dc:description/>
  <dc:language>en-US</dc:language>
  <cp:lastModifiedBy>微软用户</cp:lastModifiedBy>
  <dcterms:modified xsi:type="dcterms:W3CDTF">2019-01-12T10:42:44Z</dcterms:modified>
  <cp:revision>110</cp:revision>
  <dc:subject/>
  <dc:title>没有幻灯片标题</dc:title>
</cp:coreProperties>
</file>