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6.gif" ContentType="image/gif"/>
  <Override PartName="/ppt/media/image21.png" ContentType="image/png"/>
  <Override PartName="/ppt/media/image6.png" ContentType="image/png"/>
  <Override PartName="/ppt/media/image31.png" ContentType="image/png"/>
  <Override PartName="/ppt/media/image12.jpeg" ContentType="image/jpeg"/>
  <Override PartName="/ppt/media/image22.jpeg" ContentType="image/jpeg"/>
  <Override PartName="/ppt/media/image7.png" ContentType="image/png"/>
  <Override PartName="/ppt/media/image32.png" ContentType="image/png"/>
  <Override PartName="/ppt/media/image16.png" ContentType="image/png"/>
  <Override PartName="/ppt/media/chimes.wav" ContentType="audio/x-wav"/>
  <Override PartName="/ppt/media/image5.png" ContentType="image/png"/>
  <Override PartName="/ppt/media/image8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24.gif" ContentType="image/gif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7.jpeg" ContentType="image/jpeg"/>
  <Override PartName="/ppt/media/image25.gif" ContentType="image/gif"/>
  <Override PartName="/ppt/media/image18.png" ContentType="image/png"/>
  <Override PartName="/ppt/media/image27.gif" ContentType="image/gif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2CA-E8D7-4E00-92AD-57E5891E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03E-118A-42B4-A8C2-AFFDAA16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ABA-464F-4D66-9B40-3630AFD2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232-B8EA-4779-BA08-3BB8E8A2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B93-11A9-4DEF-AC7A-1970DBAF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77C-D47A-4B0D-A788-667694B4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7BB-8E85-438D-89A1-955F3D3E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A29-654F-42FA-8243-E5400614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569-8B82-4EFA-B871-DE405BFD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E67-1D37-408C-82AC-066C13ED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639-A00E-4C9C-8474-1EBA880D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654-AD6C-4DA2-8957-DAFA8612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7762-F4AF-42D5-AEFE-9FF174A428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1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jpeg"/><Relationship Id="rId6" Type="http://schemas.openxmlformats.org/officeDocument/2006/relationships/image" Target="../media/image20.jpeg"/><Relationship Id="rId7" Type="http://schemas.openxmlformats.org/officeDocument/2006/relationships/image" Target="../media/image15.jpeg"/><Relationship Id="rId8" Type="http://schemas.openxmlformats.org/officeDocument/2006/relationships/image" Target="../media/image17.jpeg"/><Relationship Id="rId9" Type="http://schemas.openxmlformats.org/officeDocument/2006/relationships/image" Target="../media/image22.jpe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8802fa5f1ccf1ef9152ee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765000"/>
            <a:ext cx="611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下雪啦！   下雪啦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5013360"/>
            <a:ext cx="698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4437000"/>
            <a:ext cx="8640720" cy="15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朋友们在雪地里堆雪人啦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4365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458200" y="5950080"/>
            <a:ext cx="6858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447840" y="0"/>
            <a:ext cx="95918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468360" y="609480"/>
            <a:ext cx="961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雪地里来了一（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群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小画家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492360" y="189000"/>
            <a:ext cx="534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鸡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0"/>
            <a:ext cx="24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Times New Roman"/>
              </a:rPr>
              <a:t>竹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35280" y="3789360"/>
            <a:ext cx="5508720" cy="2874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51640" y="981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050" descr="01"/>
          <p:cNvPicPr/>
          <p:nvPr/>
        </p:nvPicPr>
        <p:blipFill>
          <a:blip r:embed="rId1"/>
          <a:srcRect l="-11494" t="0" r="0" b="22730"/>
          <a:stretch/>
        </p:blipFill>
        <p:spPr>
          <a:xfrm>
            <a:off x="-973080" y="0"/>
            <a:ext cx="123696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393372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（   ）的脚印像（   ），所以（   ）画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40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小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3236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竹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4508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小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400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竹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4362480" cy="3200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609480"/>
            <a:ext cx="3886200" cy="3505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" y="3808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小狗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26200" y="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</a:rPr>
              <a:t>梅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990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2"/>
          <p:cNvPicPr/>
          <p:nvPr/>
        </p:nvPicPr>
        <p:blipFill>
          <a:blip r:embed="rId1"/>
          <a:srcRect l="0" t="0" r="0" b="22730"/>
          <a:stretch/>
        </p:blipFill>
        <p:spPr>
          <a:xfrm>
            <a:off x="-380880" y="0"/>
            <a:ext cx="123696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270828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（   ）的脚印像（   ），所以（   ）画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03"/>
          <p:cNvPicPr/>
          <p:nvPr/>
        </p:nvPicPr>
        <p:blipFill>
          <a:blip r:embed="rId1"/>
          <a:srcRect l="0" t="0" r="-496" b="22380"/>
          <a:stretch/>
        </p:blipFill>
        <p:spPr>
          <a:xfrm>
            <a:off x="0" y="0"/>
            <a:ext cx="118108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676680" cy="3276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3703680" cy="314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48769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小鸭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6200" y="44956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</a:rPr>
              <a:t>枫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55627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04"/>
          <p:cNvPicPr/>
          <p:nvPr/>
        </p:nvPicPr>
        <p:blipFill>
          <a:blip r:embed="rId1"/>
          <a:srcRect l="0" t="0" r="0" b="22730"/>
          <a:stretch/>
        </p:blipFill>
        <p:spPr>
          <a:xfrm>
            <a:off x="0" y="0"/>
            <a:ext cx="119635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3886200" cy="3646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4190760" cy="3047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3808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小马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3920" y="1522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</a:rPr>
              <a:t>月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11430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84360" y="765000"/>
            <a:ext cx="50403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小鸡画竹叶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小狗画梅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小鸭画枫叶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小马画月牙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c8802fa5f1ccf1ef9152eeb0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8802fa5f1ccf1ef9152eeb0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8802fa5f1ccf1ef9152ee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981000"/>
            <a:ext cx="55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下雪啦！          下雪啦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653000"/>
            <a:ext cx="576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65720"/>
            <a:ext cx="864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动物们也来堆雪人画画啦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443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458200" y="5950080"/>
            <a:ext cx="6858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441680" y="2743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青蛙为什么没参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8458200" y="5800680"/>
            <a:ext cx="685800" cy="1057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3760" y="2438280"/>
            <a:ext cx="9115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冬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7621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它在洞里睡着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c8802fa5f1ccf1ef9152eeb0"/>
          <p:cNvPicPr/>
          <p:nvPr/>
        </p:nvPicPr>
        <p:blipFill>
          <a:blip r:embed="rId3"/>
          <a:stretch/>
        </p:blipFill>
        <p:spPr>
          <a:xfrm>
            <a:off x="4932360" y="0"/>
            <a:ext cx="4211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685800"/>
            <a:ext cx="1649520" cy="1219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27640" y="762120"/>
            <a:ext cx="2887560" cy="2133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843280" y="914400"/>
            <a:ext cx="1401840" cy="949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732720" y="533520"/>
            <a:ext cx="1801800" cy="1523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0" y="4846680"/>
            <a:ext cx="2057400" cy="2011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250920" y="3352680"/>
            <a:ext cx="1958760" cy="1328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7086600" y="3200400"/>
            <a:ext cx="1878120" cy="149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2484360" y="3200400"/>
            <a:ext cx="1868400" cy="1446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859280" y="3200400"/>
            <a:ext cx="1474920" cy="1603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438280" y="5715000"/>
            <a:ext cx="2210040" cy="1143000"/>
          </a:xfrm>
          <a:prstGeom prst="wedgeEllipseCallout">
            <a:avLst>
              <a:gd name="adj1" fmla="val -70976"/>
              <a:gd name="adj2" fmla="val -68055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会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1828800"/>
            <a:ext cx="121932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676160" y="1981080"/>
            <a:ext cx="198108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1905120"/>
            <a:ext cx="1447920" cy="15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943600" y="1981080"/>
            <a:ext cx="144792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21337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地里还会来些什么小画家呢？它们的脚印又像什么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08200" cy="914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90720" y="0"/>
            <a:ext cx="3004920" cy="764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8802fa5f1ccf1ef9152eeb0"/>
          <p:cNvPicPr/>
          <p:nvPr/>
        </p:nvPicPr>
        <p:blipFill>
          <a:blip r:embed="rId2"/>
          <a:stretch/>
        </p:blipFill>
        <p:spPr>
          <a:xfrm>
            <a:off x="1476360" y="0"/>
            <a:ext cx="7667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01840" y="342432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132000" y="2852640"/>
            <a:ext cx="295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再见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447840" y="0"/>
            <a:ext cx="95918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32000" y="1125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7.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雪地里的小画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397160" y="-235080"/>
            <a:ext cx="11725560" cy="8372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648320"/>
            <a:ext cx="1981080" cy="1295280"/>
          </a:xfrm>
          <a:prstGeom prst="cloudCallout">
            <a:avLst>
              <a:gd name="adj1" fmla="val 76282"/>
              <a:gd name="adj2" fmla="val 34435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会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25000" t="29637" r="27784" b="25000"/>
          <a:stretch/>
        </p:blipFill>
        <p:spPr>
          <a:xfrm>
            <a:off x="4952880" y="2971800"/>
            <a:ext cx="1371600" cy="1317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25000" t="29637" r="27784" b="25000"/>
          <a:stretch/>
        </p:blipFill>
        <p:spPr>
          <a:xfrm>
            <a:off x="5638680" y="1752480"/>
            <a:ext cx="1219320" cy="1171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25000" t="29637" r="27784" b="25000"/>
          <a:stretch/>
        </p:blipFill>
        <p:spPr>
          <a:xfrm>
            <a:off x="6858000" y="281952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rcRect l="25000" t="29637" r="27784" b="25000"/>
          <a:stretch/>
        </p:blipFill>
        <p:spPr>
          <a:xfrm>
            <a:off x="1447920" y="1981080"/>
            <a:ext cx="1218960" cy="1171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rcRect l="25000" t="29637" r="27784" b="25000"/>
          <a:stretch/>
        </p:blipFill>
        <p:spPr>
          <a:xfrm>
            <a:off x="6858000" y="12952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010280" y="1371600"/>
            <a:ext cx="1219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yò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rcRect l="25000" t="29637" r="27784" b="25000"/>
          <a:stretch/>
        </p:blipFill>
        <p:spPr>
          <a:xfrm>
            <a:off x="1905120" y="3213000"/>
            <a:ext cx="1218960" cy="1158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34320" y="2895480"/>
            <a:ext cx="1143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17524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i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3048120"/>
            <a:ext cx="60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rcRect l="25000" t="29637" r="27784" b="25000"/>
          <a:stretch/>
        </p:blipFill>
        <p:spPr>
          <a:xfrm>
            <a:off x="4267080" y="190512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rcRect l="25000" t="29637" r="27784" b="25000"/>
          <a:stretch/>
        </p:blipFill>
        <p:spPr>
          <a:xfrm>
            <a:off x="0" y="228600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rcRect l="25000" t="29637" r="27784" b="25000"/>
          <a:stretch/>
        </p:blipFill>
        <p:spPr>
          <a:xfrm>
            <a:off x="3733920" y="380880"/>
            <a:ext cx="1218960" cy="117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rcRect l="25000" t="29637" r="27784" b="25000"/>
          <a:stretch/>
        </p:blipFill>
        <p:spPr>
          <a:xfrm>
            <a:off x="2438280" y="838080"/>
            <a:ext cx="1219320" cy="1171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rcRect l="25000" t="29637" r="27784" b="25000"/>
          <a:stretch/>
        </p:blipFill>
        <p:spPr>
          <a:xfrm>
            <a:off x="3048120" y="2286000"/>
            <a:ext cx="1218960" cy="1171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0" y="1981080"/>
            <a:ext cx="990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è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362320"/>
            <a:ext cx="9903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838080"/>
            <a:ext cx="1219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457200"/>
            <a:ext cx="990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2286000"/>
            <a:ext cx="1143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2057400"/>
            <a:ext cx="129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ò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3276720"/>
            <a:ext cx="1600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474920" y="-314280"/>
            <a:ext cx="11725560" cy="837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4648320"/>
            <a:ext cx="1981080" cy="1295280"/>
          </a:xfrm>
          <a:prstGeom prst="cloudCallout">
            <a:avLst>
              <a:gd name="adj1" fmla="val 76282"/>
              <a:gd name="adj2" fmla="val 34435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会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25000" t="29637" r="27784" b="25000"/>
          <a:stretch/>
        </p:blipFill>
        <p:spPr>
          <a:xfrm>
            <a:off x="4861080" y="2997360"/>
            <a:ext cx="1371600" cy="131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25000" t="29637" r="27784" b="25000"/>
          <a:stretch/>
        </p:blipFill>
        <p:spPr>
          <a:xfrm>
            <a:off x="5638680" y="1752480"/>
            <a:ext cx="1219320" cy="1171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rcRect l="25000" t="29637" r="27784" b="25000"/>
          <a:stretch/>
        </p:blipFill>
        <p:spPr>
          <a:xfrm>
            <a:off x="6858000" y="281952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rcRect l="25000" t="29637" r="27784" b="25000"/>
          <a:stretch/>
        </p:blipFill>
        <p:spPr>
          <a:xfrm>
            <a:off x="1447920" y="1981080"/>
            <a:ext cx="1218960" cy="1171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rcRect l="25000" t="29637" r="27784" b="25000"/>
          <a:stretch/>
        </p:blipFill>
        <p:spPr>
          <a:xfrm>
            <a:off x="6858000" y="1295280"/>
            <a:ext cx="1219320" cy="117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164360" y="1052640"/>
            <a:ext cx="79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7"/>
          <a:srcRect l="25000" t="29637" r="27784" b="25000"/>
          <a:stretch/>
        </p:blipFill>
        <p:spPr>
          <a:xfrm>
            <a:off x="1905120" y="3213000"/>
            <a:ext cx="12189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948360" y="2637000"/>
            <a:ext cx="1143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19162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321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8"/>
          <a:srcRect l="25000" t="29637" r="27784" b="25000"/>
          <a:stretch/>
        </p:blipFill>
        <p:spPr>
          <a:xfrm>
            <a:off x="4267080" y="190512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rcRect l="25000" t="29637" r="27784" b="25000"/>
          <a:stretch/>
        </p:blipFill>
        <p:spPr>
          <a:xfrm>
            <a:off x="0" y="228600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rcRect l="25000" t="29637" r="27784" b="25000"/>
          <a:stretch/>
        </p:blipFill>
        <p:spPr>
          <a:xfrm>
            <a:off x="3995640" y="33336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rcRect l="25000" t="29637" r="27784" b="25000"/>
          <a:stretch/>
        </p:blipFill>
        <p:spPr>
          <a:xfrm>
            <a:off x="2438280" y="838080"/>
            <a:ext cx="1219320" cy="1171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2"/>
          <a:srcRect l="25000" t="29637" r="27784" b="25000"/>
          <a:stretch/>
        </p:blipFill>
        <p:spPr>
          <a:xfrm>
            <a:off x="3048120" y="2286000"/>
            <a:ext cx="1218960" cy="1171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0" y="2060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2276640"/>
            <a:ext cx="57492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10526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27640" y="260280"/>
            <a:ext cx="57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492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20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3357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60280"/>
            <a:ext cx="8820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认真自读课文，用心思考下面问题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、雪地里来了哪些小画家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、它们都画了些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19640" y="3357720"/>
            <a:ext cx="3238560" cy="3238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48360" y="115920"/>
            <a:ext cx="3450960" cy="3111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336840" cy="3127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4000" y="3573360"/>
            <a:ext cx="34876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84360" y="765000"/>
            <a:ext cx="50403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小鸡画竹叶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小狗画梅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小鸭画枫叶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小马画月牙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2276640"/>
            <a:ext cx="1440000" cy="1368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1366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c8802fa5f1ccf1ef9152ee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67280" y="4365720"/>
            <a:ext cx="3313080" cy="2158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981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地里来了一（ ）小画家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98100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3:37:38Z</dcterms:created>
  <dc:creator>Administrator</dc:creator>
  <dc:description/>
  <dc:language>en-US</dc:language>
  <cp:lastModifiedBy>Administrator</cp:lastModifiedBy>
  <dcterms:modified xsi:type="dcterms:W3CDTF">2012-11-24T13:37:38Z</dcterms:modified>
  <cp:revision>1</cp:revision>
  <dc:subject/>
  <dc:title>幻灯片 1</dc:title>
</cp:coreProperties>
</file>