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E05-ECCB-4693-AA1C-59478E62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749-F96D-4C59-9973-B66C8546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9FC-2C39-4072-B075-A4B7E25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9EA-8400-4914-97D8-2A2E7210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123-ECE8-45DB-AE50-29E8E6FD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D92-4FC4-41DD-8218-52C18E8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70-14B1-4201-8465-D7834F1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608-CDA0-4F78-B3D6-520E641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F7E-A3C9-4601-AF99-136F4F8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65E-2E6F-4700-98B0-FB378FDC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6B1-3D6C-47F3-9E70-53DBC6B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A53-A4FA-4C34-8156-C0B5F69B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32A-BAA4-4F33-81E2-01AFD9A6CF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image" Target="../media/image7.jpeg"/><Relationship Id="rId6" Type="http://schemas.openxmlformats.org/officeDocument/2006/relationships/image" Target="../media/image14.jpeg"/><Relationship Id="rId7" Type="http://schemas.openxmlformats.org/officeDocument/2006/relationships/image" Target="../media/image9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54080"/>
            <a:ext cx="8539200" cy="6404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333360"/>
            <a:ext cx="49147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下雪啦，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下雪啦！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2000160" cy="222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鸡画竹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189000"/>
            <a:ext cx="87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890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狗画梅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2592360" cy="2279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979640" cy="219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4365720"/>
            <a:ext cx="2374920" cy="2492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360520" y="4581360"/>
            <a:ext cx="214020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66800" y="342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鸭画枫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500720" y="4365720"/>
            <a:ext cx="2376360" cy="249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877080" y="4916520"/>
            <a:ext cx="2266920" cy="194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87880" y="342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马画月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47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9320" y="333360"/>
            <a:ext cx="566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鸡画竹叶，小狗画梅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鸭画枫叶，小马画月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26028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5640" y="260280"/>
            <a:ext cx="49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不用颜料不用笔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484280"/>
            <a:ext cx="504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几步就成一幅画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63640" y="4437000"/>
            <a:ext cx="468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53000"/>
                  </a:srgbClr>
                </a:solidFill>
                <a:latin typeface="宋体"/>
              </a:rPr>
              <a:t>青蛙为什么没参加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53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419640" y="544500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51000"/>
                  </a:srgbClr>
                </a:solidFill>
                <a:latin typeface="宋体"/>
              </a:rPr>
              <a:t>他在洞里睡着啦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51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8532720" y="6453360"/>
            <a:ext cx="360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0000" y="1341360"/>
            <a:ext cx="3240360" cy="3167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29242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1341360"/>
            <a:ext cx="0" cy="31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1341360"/>
            <a:ext cx="3025800" cy="31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92428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341360"/>
            <a:ext cx="0" cy="31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9280" y="1916280"/>
            <a:ext cx="180036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几</a:t>
            </a:r>
            <a:endParaRPr b="1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80000" y="191628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用</a:t>
            </a:r>
            <a:endParaRPr b="1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556000" y="692280"/>
            <a:ext cx="36576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了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20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、雪地里的小画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47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37680" y="453960"/>
            <a:ext cx="8147880" cy="3770280"/>
            <a:chOff x="337680" y="453960"/>
            <a:chExt cx="8147880" cy="3770280"/>
          </a:xfrm>
        </p:grpSpPr>
        <p:sp>
          <p:nvSpPr>
            <p:cNvPr id="47" name=""/>
            <p:cNvSpPr/>
            <p:nvPr/>
          </p:nvSpPr>
          <p:spPr>
            <a:xfrm>
              <a:off x="337680" y="48564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méi  hu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49160" y="506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jǐ b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56560" y="453960"/>
              <a:ext cx="193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1" lang="zh-CN" sz="32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 ji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06840" y="578880"/>
              <a:ext cx="21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wèi shén 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8160" y="2139840"/>
              <a:ext cx="162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chéng  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38160" y="2212560"/>
              <a:ext cx="164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bú   yò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5600" y="2212560"/>
              <a:ext cx="14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dòng  l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" y="3703680"/>
              <a:ext cx="165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qīn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w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66360" y="3561840"/>
              <a:ext cx="28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shuì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zh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á</a:t>
              </a: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l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78000" y="1219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梅     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0440" y="129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几 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1160" y="1219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参    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67160" y="1290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为    什    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00" y="2774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成    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10000" y="28749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不     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51880" y="2860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洞    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2360" y="4414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青     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4120" y="44146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睡     着     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59640" y="4005360"/>
            <a:ext cx="2303280" cy="1439640"/>
            <a:chOff x="6659640" y="4005360"/>
            <a:chExt cx="2303280" cy="1439640"/>
          </a:xfrm>
        </p:grpSpPr>
        <p:sp>
          <p:nvSpPr>
            <p:cNvPr id="66" name=""/>
            <p:cNvSpPr/>
            <p:nvPr/>
          </p:nvSpPr>
          <p:spPr>
            <a:xfrm>
              <a:off x="6659640" y="4005360"/>
              <a:ext cx="2303280" cy="1439640"/>
            </a:xfrm>
            <a:prstGeom prst="cloudCallout">
              <a:avLst>
                <a:gd name="adj1" fmla="val -41041"/>
                <a:gd name="adj2" fmla="val 64995"/>
              </a:avLst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5280" y="436536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Arial"/>
                  <a:ea typeface="新宋体"/>
                </a:rPr>
                <a:t>读一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5589720"/>
            <a:ext cx="10476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26771 0.23102 E">
                                      <p:cBhvr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67362E-019 L -0.41736 0.24144 E"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L -0.21267 0.02106 E">
                                      <p:cBhvr>
                                        <p:cTn id="2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2755 L -0.02066 -0.22708 E">
                                      <p:cBhvr>
                                        <p:cTn id="2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3 -0.00185 L -0.25452 -0.00185 E">
                                      <p:cBhvr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93 -0.0463 L 0.19878 -0.45579 E">
                                      <p:cBhvr>
                                        <p:cTn id="3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57 -0.01042 L -0.26441 -0.01042 E">
                                      <p:cBhvr>
                                        <p:cTn id="3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724 -0.25209 E"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5.18519E-006 L 0.48837 0.43056 E">
                                      <p:cBhvr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55120" y="708120"/>
            <a:ext cx="6030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Arial"/>
              </a:rPr>
              <a:t>啦     梅     用     几  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Arial"/>
              </a:rPr>
              <a:t>成     蛙     为     参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Arial"/>
              </a:rPr>
              <a:t>加     洞     睡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835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459640" y="6093000"/>
            <a:ext cx="289080" cy="24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604360" y="6597720"/>
            <a:ext cx="144360" cy="26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雪地里的小画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698480"/>
            <a:ext cx="2158920" cy="208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20714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92720" y="1771560"/>
            <a:ext cx="2808360" cy="2121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62560" y="4076640"/>
            <a:ext cx="228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07280" cy="493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108108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08720" y="3141720"/>
            <a:ext cx="1655640" cy="1600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11280" y="5157720"/>
            <a:ext cx="79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雪地里来了一（  ）小画家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19640" y="5157720"/>
            <a:ext cx="7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个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47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8120" y="404640"/>
            <a:ext cx="2206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雪地里来了一（      ）小画家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32360" y="404640"/>
            <a:ext cx="72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群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47840" y="26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84240" y="260280"/>
            <a:ext cx="3952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小画家们画了什么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9:52:25Z</dcterms:created>
  <dc:creator>Lenovo User</dc:creator>
  <dc:description/>
  <dc:language>en-US</dc:language>
  <cp:lastModifiedBy>陆士军</cp:lastModifiedBy>
  <dcterms:modified xsi:type="dcterms:W3CDTF">2010-11-10T14:22:19Z</dcterms:modified>
  <cp:revision>28</cp:revision>
  <dc:subject/>
  <dc:title>幻灯片 1</dc:title>
</cp:coreProperties>
</file>