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9.jpeg" ContentType="image/jpeg"/>
  <Override PartName="/ppt/media/CAMERA.WAV" ContentType="audio/x-wav"/>
  <Override PartName="/ppt/media/image1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47D4-3731-415E-96CB-C2CFD0AFC8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760-DF53-459F-B6DF-76162692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E46-4B48-42B1-BC7C-C882C353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696-57A2-4244-A057-0236E756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D75-5D50-44D3-8F79-956C4F90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2A4-30F4-436E-9408-708F1D27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193-1E20-4C47-B401-964E7B01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E7D-4E04-401A-8029-667D0994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290-FBFE-4EF7-A1D4-BCD51623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7CE-C672-408E-B7C3-EC408D9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C04-5E27-4847-A582-9D20E2F9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0DB-A10A-4B16-999F-52FF4A9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90B-5C56-4DEF-8D95-9C51052B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B4BE-C27E-4788-AD2C-4E7EEFC979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image" Target="../media/image11.wm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hifeng.net/corporation/luyou/hongshan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hifeng.net/corporation/luyou/hongshan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13716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4d81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晓出净慈寺送林子方　</a:t>
            </a:r>
            <a:br>
              <a:rPr sz="4400"/>
            </a:br>
            <a:r>
              <a:rPr b="1" i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杨万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979640"/>
            <a:ext cx="5867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毕竟西湖六月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风光不与四时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接天莲叶无穷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映日荷花别样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7631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43800" y="914400"/>
            <a:ext cx="304920" cy="29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05920" y="685800"/>
            <a:ext cx="380880" cy="372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467480" y="1600200"/>
            <a:ext cx="45720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708360" y="1413000"/>
            <a:ext cx="3362400" cy="50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84720" y="549360"/>
            <a:ext cx="2376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標楷體"/>
              </a:rPr>
              <a:t>缕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清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001000" y="1295280"/>
            <a:ext cx="380880" cy="373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620640"/>
            <a:ext cx="2447640" cy="703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荷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5805360"/>
            <a:ext cx="2519280" cy="627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標楷體"/>
              </a:rPr>
              <a:t>听觉描写</a:t>
            </a:r>
            <a:r>
              <a:rPr b="0" lang="zh-TW" sz="3500" spc="-1" strike="noStrike">
                <a:solidFill>
                  <a:srgbClr val="000000"/>
                </a:solidFill>
                <a:latin typeface="Arial"/>
                <a:ea typeface="標楷體"/>
              </a:rPr>
              <a:t>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360" y="1844640"/>
            <a:ext cx="2806560" cy="1152720"/>
            <a:chOff x="468360" y="1844640"/>
            <a:chExt cx="2806560" cy="1152720"/>
          </a:xfrm>
        </p:grpSpPr>
        <p:sp>
          <p:nvSpPr>
            <p:cNvPr id="90" name=""/>
            <p:cNvSpPr/>
            <p:nvPr/>
          </p:nvSpPr>
          <p:spPr>
            <a:xfrm>
              <a:off x="539640" y="1916280"/>
              <a:ext cx="27352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5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其他描</a:t>
              </a:r>
              <a:r>
                <a:rPr b="1" lang="zh-CN" sz="35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写</a:t>
              </a:r>
              <a:r>
                <a:rPr b="0" lang="zh-TW" sz="35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？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8360" y="1844640"/>
              <a:ext cx="2663640" cy="1152720"/>
            </a:xfrm>
            <a:prstGeom prst="downArrowCallout">
              <a:avLst>
                <a:gd name="adj1" fmla="val 57774"/>
                <a:gd name="adj2" fmla="val 57769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3213000"/>
            <a:ext cx="3824280" cy="2374920"/>
            <a:chOff x="0" y="3213000"/>
            <a:chExt cx="3824280" cy="2374920"/>
          </a:xfrm>
        </p:grpSpPr>
        <p:sp>
          <p:nvSpPr>
            <p:cNvPr id="93" name=""/>
            <p:cNvSpPr/>
            <p:nvPr/>
          </p:nvSpPr>
          <p:spPr>
            <a:xfrm>
              <a:off x="395280" y="3573360"/>
              <a:ext cx="342900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彷彿</a:t>
              </a:r>
              <a:r>
                <a:rPr b="0" lang="en-US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…</a:t>
              </a:r>
              <a:r>
                <a:rPr b="0" lang="en-US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高楼上渺茫的歌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213000"/>
              <a:ext cx="3780000" cy="2374920"/>
            </a:xfrm>
            <a:prstGeom prst="cloudCallout">
              <a:avLst>
                <a:gd name="adj1" fmla="val -43740"/>
                <a:gd name="adj2" fmla="val 100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Arial"/>
                <a:ea typeface="隶书"/>
              </a:rPr>
              <a:t>修辞手法：通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933480" cy="8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08720" y="4365720"/>
            <a:ext cx="2735280" cy="218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7120" y="1851120"/>
            <a:ext cx="606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感是一种特殊的修辞。通感是把人们的各种感觉（视觉、听觉、嗅觉、味觉、触觉）通过比喻或形容词沟通起来的修辞方式。通感就是移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例：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她笑得很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靓歌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微风过处，送来缕缕清香，仿佛远处高楼上渺茫的歌声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塘中的月色并不均匀；但光和影有着和谐的旋律，如梵婀玲上奏着的名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2800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视觉转为味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1080" y="32130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听觉转为味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49280" y="39528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嗅觉转为听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5661000"/>
            <a:ext cx="30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视觉转为听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413000"/>
            <a:ext cx="8001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f52b"/>
                </a:solidFill>
                <a:latin typeface="Times New Roman"/>
                <a:ea typeface="隶书"/>
              </a:rPr>
              <a:t>自在飞花轻似梦，无边丝雨细如愁。（宋</a:t>
            </a:r>
            <a:r>
              <a:rPr b="1" lang="zh-CN" sz="3200" spc="-1" strike="noStrike">
                <a:solidFill>
                  <a:srgbClr val="ddf52b"/>
                </a:solidFill>
                <a:latin typeface="Times New Roman"/>
                <a:ea typeface="隶书"/>
              </a:rPr>
              <a:t>·</a:t>
            </a:r>
            <a:r>
              <a:rPr b="1" lang="zh-CN" sz="3200" spc="-1" strike="noStrike">
                <a:solidFill>
                  <a:srgbClr val="ddf52b"/>
                </a:solidFill>
                <a:latin typeface="Times New Roman"/>
                <a:ea typeface="隶书"/>
              </a:rPr>
              <a:t>秦观《浣溪沙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f52b"/>
                </a:solidFill>
                <a:latin typeface="宋体"/>
                <a:ea typeface="隶书"/>
              </a:rPr>
              <a:t>促织声尖尖似针。（贾岛《客思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f52b"/>
                </a:solidFill>
                <a:latin typeface="宋体"/>
                <a:ea typeface="隶书"/>
              </a:rPr>
              <a:t>风来花底鸟声香。（贾唯孝《登螺蜂四顾亭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f52b"/>
                </a:solidFill>
                <a:latin typeface="宋体"/>
                <a:ea typeface="隶书"/>
              </a:rPr>
              <a:t>你的耳朵在侦察，你的眼睛在倾听……（艾青写诗描绘日本著名指挥家小泽征尔</a:t>
            </a:r>
            <a:r>
              <a:rPr b="1" lang="zh-CN" sz="3200" spc="-1" strike="noStrike">
                <a:solidFill>
                  <a:srgbClr val="ddf52b"/>
                </a:solidFill>
                <a:latin typeface="宋体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荷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凝碧地波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荷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见风致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11640" y="2637000"/>
            <a:ext cx="1989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塘 上面，弥望的是叶子，叶子出水很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舞女的裙 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76640"/>
            <a:ext cx="5105520" cy="451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125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朗读课文的第四段，试去掉叠词，比较语感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叠词的两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2492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实观效用，使要表现的事物更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68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奏明朗，韵律协调，有音乐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写荷塘上的月色。月色本是难状之景，作者却用了一些传神的动词，描绘出了可感的月光形象，请试着找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386064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泻、浮、洗、笼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0240" y="53244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443700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泻”“浮”二字分别写了月光和雾   气。这二字有何妙用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3124080"/>
            <a:ext cx="114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幼圆"/>
              </a:rPr>
              <a:t>?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3200400"/>
            <a:ext cx="114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幼圆"/>
              </a:rPr>
              <a:t>?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3200400"/>
            <a:ext cx="114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幼圆"/>
              </a:rPr>
              <a:t>?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476280"/>
            <a:ext cx="7346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月光如流水一般，静静地    在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一片叶子和花上。薄薄的青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起在荷塘里。叶子和花仿佛在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乳中洗过一样，又像笼着青纱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010280" y="609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01000" y="1295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浮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010280" y="609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001000" y="1295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浮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</p:spTree>
  </p:cSld>
  <p:transition>
    <p:checke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泻：与喻体“流水”相互应，增强了月光的流动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浮：反映月色与水气的交织，雾的轻柔，自下而上逐渐扩散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80040" y="1752480"/>
            <a:ext cx="54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77080" y="1916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朱自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9144000" cy="5064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692280"/>
            <a:ext cx="828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滿月，卻有一層淡淡的雲，不能朗照</a:t>
            </a:r>
            <a:r>
              <a:rPr b="0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，作者也用了一些叠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远近近、高高低低、重重、阴阴、隐隐约约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奏鲜明、富有音乐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</a:rPr>
              <a:t>                              </a:t>
            </a:r>
            <a:r>
              <a:rPr b="0" lang="zh-CN" sz="2800" spc="-1" strike="noStrike">
                <a:solidFill>
                  <a:srgbClr val="66ff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比喻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子出水很高，像亭亭的舞女的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如一粒粒的明珠，又如碧天里的星星，又如刚出浴的美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时候叶子与花也有一丝的颤动，像闪电般，霎时传到荷塘的那边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光如流水一般，静静地泻在这一片叶子和花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子和花仿佛在牛乳中洗过一样；又像笼着轻纱的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光是隔了树照过来的，高处丛生的灌木，落下参差的斑驳的黑影，峭楞楞如鬼一般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色一例是阴阴的，乍看像一团烟雾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缝里漏着一两点路灯光，是渴睡人的眼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小结：比喻具体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67640" y="5373720"/>
            <a:ext cx="933480" cy="84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052280"/>
            <a:ext cx="6335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拟 人 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5200" y="2349360"/>
            <a:ext cx="82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层层的叶子中间，零星地点缀着些白花，有袅娜地开着的，有羞涩到打着朵儿的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     ②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叶子本是肩并肩地挨着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     ③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叶子底下是脉脉的流水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华文行楷"/>
              </a:rPr>
              <a:t>    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华文行楷"/>
              </a:rPr>
              <a:t>小结：拟人灵秀动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3204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ff"/>
                </a:solidFill>
                <a:latin typeface="Arial"/>
                <a:ea typeface="隶书"/>
              </a:rPr>
              <a:t>通感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微风过处，送来缕缕清香，仿佛远处高楼上渺茫的歌声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     ②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塘中的月色并不均匀：但光与影有着和谐的旋律，如梵婀玲上奏着的名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小结：通感迷离精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77080" y="2492280"/>
            <a:ext cx="2009880" cy="3516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40000" y="836640"/>
            <a:ext cx="4191120" cy="520560"/>
          </a:xfrm>
          <a:prstGeom prst="rect">
            <a:avLst/>
          </a:prstGeom>
          <a:solidFill>
            <a:srgbClr val="99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会作者运用语言的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19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用比喻与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3440" y="2852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用通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3440" y="3716280"/>
            <a:ext cx="34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使用叠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941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微软简综艺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微软简综艺"/>
              </a:rPr>
              <a:t>语言朴素、典雅、充满诗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7160" y="65556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小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700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76720" y="1341360"/>
            <a:ext cx="205740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59436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609480" indent="-609480">
              <a:lnSpc>
                <a:spcPct val="100000"/>
              </a:lnSpc>
              <a:spcBef>
                <a:spcPts val="2999"/>
              </a:spcBef>
              <a:buClr>
                <a:srgbClr val="0000ff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体会作者运用语言的技巧（比喻、拟人、通感、叠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体会作者“淡淡的喜悦”与河塘月色的“淡雅，朦胧，优美”是怎样相辅相成，和谐统一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走进荷香月色   体味诗情画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简洁的文字给每一段拟一个小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421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下荷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3716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荷塘月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5013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荷塘四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02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306828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荷叶、荷花、荷香、荷波、荷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在描写月下荷塘美景的时候，是从哪些方面来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0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荷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2421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舞女的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-3240"/>
            <a:ext cx="7236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62520" y="609480"/>
            <a:ext cx="4319640" cy="5683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23493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6ec"/>
                </a:solidFill>
                <a:latin typeface="標楷體"/>
                <a:ea typeface="標楷體"/>
              </a:rPr>
              <a:t>羞涩地打着朵地</a:t>
            </a:r>
            <a:r>
              <a:rPr b="0" lang="en-US" sz="3000" spc="-1" strike="noStrike">
                <a:solidFill>
                  <a:srgbClr val="ec26ec"/>
                </a:solidFill>
                <a:latin typeface="標楷體"/>
                <a:ea typeface="標楷體"/>
              </a:rPr>
              <a:t>…</a:t>
            </a:r>
            <a:r>
              <a:rPr b="0" lang="en-US" sz="3000" spc="-1" strike="noStrike">
                <a:solidFill>
                  <a:srgbClr val="ec26ec"/>
                </a:solidFill>
                <a:latin typeface="標楷體"/>
                <a:ea typeface="標楷體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2846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如一粒粒的明珠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789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如碧天裡的星星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221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如剛出浴的美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84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袅娜地开着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33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荷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125880" cy="4648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4857480" cy="345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9079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7:39:34Z</dcterms:created>
  <dc:creator>沉钟苑（语文资源网）</dc:creator>
  <dc:description>沉钟苑（语文资源网）</dc:description>
  <cp:keywords>沉钟苑（语文资源网）</cp:keywords>
  <dc:language>en-US</dc:language>
  <cp:lastModifiedBy>zmj</cp:lastModifiedBy>
  <dcterms:modified xsi:type="dcterms:W3CDTF">2012-04-11T12:44:35Z</dcterms:modified>
  <cp:revision>8</cp:revision>
  <dc:subject>沉钟苑（语文资源网）</dc:subject>
  <dc:title>沉钟苑（语文资源网）</dc:title>
</cp:coreProperties>
</file>