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BEF-AD81-4B27-B3DA-43B1A5C4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53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CC8-E0D7-4FB6-864D-D721AFEE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615-5011-4A3D-B9E9-38E7BD6F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CF1-39BA-4556-A922-74B2D205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1774-6289-4108-B86C-EB222B67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9B5-13ED-46BC-A35D-408777C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9BEA-5D8B-48BD-A7C0-ADB04CE1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E102-6E44-4FC5-B0A8-3829FBBC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299C-1A14-4A1F-9D38-181268EC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74840" y="215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DA86-8E6E-422E-9E55-401054F6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9317-2D63-49FD-BA5D-266F744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5FC-CCAB-4A70-B810-D254A5B8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0F54-9099-438C-B09B-64FFCC2C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0468-AC38-4200-88CF-E719B421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753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F35A-B0F7-4A77-82E3-6C19B9A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9BC3-7A3C-4772-B29F-2912B8E1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6B1E-5EAC-4F57-9F77-9B25EF96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8D1-F593-4DAB-B21B-E005A69E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A71-9C3B-4058-B7ED-64E43C1A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A73-2092-4F16-8894-615E0512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4840" y="215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ED8-17B5-4C7E-B2B1-49BEBC8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572-5D31-4F61-9A08-3565B17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375-DD1B-4C2D-8BB3-CED0EFE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779-4D92-45D6-8B79-188D5056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F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圆角矩形 45"/>
          <p:cNvSpPr/>
          <p:nvPr/>
        </p:nvSpPr>
        <p:spPr>
          <a:xfrm>
            <a:off x="320760" y="1000080"/>
            <a:ext cx="8502480" cy="5572080"/>
          </a:xfrm>
          <a:prstGeom prst="roundRect">
            <a:avLst>
              <a:gd name="adj" fmla="val 8134"/>
            </a:avLst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E5F4-828A-4399-91FF-0C4C899B8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F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圆角矩形 45"/>
          <p:cNvSpPr/>
          <p:nvPr/>
        </p:nvSpPr>
        <p:spPr>
          <a:xfrm>
            <a:off x="320760" y="1000080"/>
            <a:ext cx="8502480" cy="5572080"/>
          </a:xfrm>
          <a:prstGeom prst="roundRect">
            <a:avLst>
              <a:gd name="adj" fmla="val 8134"/>
            </a:avLst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9760" y="2021040"/>
            <a:ext cx="6691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E7AD-AA8E-4F36-8A8B-FB473B793F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4800" y="3727440"/>
            <a:ext cx="4619880" cy="3189240"/>
            <a:chOff x="334800" y="3727440"/>
            <a:chExt cx="4619880" cy="3189240"/>
          </a:xfrm>
        </p:grpSpPr>
        <p:sp>
          <p:nvSpPr>
            <p:cNvPr id="50" name="Freeform 332"/>
            <p:cNvSpPr/>
            <p:nvPr/>
          </p:nvSpPr>
          <p:spPr>
            <a:xfrm>
              <a:off x="4042080" y="4919760"/>
              <a:ext cx="703080" cy="628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33"/>
            <p:cNvSpPr/>
            <p:nvPr/>
          </p:nvSpPr>
          <p:spPr>
            <a:xfrm>
              <a:off x="1860480" y="5556240"/>
              <a:ext cx="1533600" cy="520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4"/>
            <p:cNvSpPr/>
            <p:nvPr/>
          </p:nvSpPr>
          <p:spPr>
            <a:xfrm>
              <a:off x="3322800" y="4697280"/>
              <a:ext cx="142560" cy="7538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35"/>
            <p:cNvSpPr/>
            <p:nvPr/>
          </p:nvSpPr>
          <p:spPr>
            <a:xfrm>
              <a:off x="460080" y="3751200"/>
              <a:ext cx="3748320" cy="23036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36"/>
            <p:cNvSpPr/>
            <p:nvPr/>
          </p:nvSpPr>
          <p:spPr>
            <a:xfrm>
              <a:off x="3316320" y="4051080"/>
              <a:ext cx="161640" cy="7729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37"/>
            <p:cNvSpPr/>
            <p:nvPr/>
          </p:nvSpPr>
          <p:spPr>
            <a:xfrm>
              <a:off x="990360" y="4932360"/>
              <a:ext cx="1060560" cy="10843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38"/>
            <p:cNvSpPr/>
            <p:nvPr/>
          </p:nvSpPr>
          <p:spPr>
            <a:xfrm>
              <a:off x="1903320" y="4890960"/>
              <a:ext cx="1287360" cy="1176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39"/>
            <p:cNvSpPr/>
            <p:nvPr/>
          </p:nvSpPr>
          <p:spPr>
            <a:xfrm>
              <a:off x="821880" y="5027400"/>
              <a:ext cx="249120" cy="4251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40"/>
            <p:cNvSpPr/>
            <p:nvPr/>
          </p:nvSpPr>
          <p:spPr>
            <a:xfrm>
              <a:off x="2455920" y="4437000"/>
              <a:ext cx="2498760" cy="24796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41"/>
            <p:cNvSpPr/>
            <p:nvPr/>
          </p:nvSpPr>
          <p:spPr>
            <a:xfrm>
              <a:off x="1662120" y="5483160"/>
              <a:ext cx="846000" cy="577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2"/>
            <p:cNvSpPr/>
            <p:nvPr/>
          </p:nvSpPr>
          <p:spPr>
            <a:xfrm>
              <a:off x="3143160" y="4735440"/>
              <a:ext cx="1614600" cy="16066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43"/>
            <p:cNvSpPr/>
            <p:nvPr/>
          </p:nvSpPr>
          <p:spPr>
            <a:xfrm>
              <a:off x="3997440" y="5641920"/>
              <a:ext cx="577800" cy="623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44"/>
            <p:cNvSpPr/>
            <p:nvPr/>
          </p:nvSpPr>
          <p:spPr>
            <a:xfrm>
              <a:off x="2117520" y="6019920"/>
              <a:ext cx="444240" cy="4762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45"/>
            <p:cNvSpPr/>
            <p:nvPr/>
          </p:nvSpPr>
          <p:spPr>
            <a:xfrm>
              <a:off x="3564000" y="3773160"/>
              <a:ext cx="566640" cy="6602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46"/>
            <p:cNvSpPr/>
            <p:nvPr/>
          </p:nvSpPr>
          <p:spPr>
            <a:xfrm>
              <a:off x="1652400" y="5424480"/>
              <a:ext cx="141120" cy="164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47"/>
            <p:cNvSpPr/>
            <p:nvPr/>
          </p:nvSpPr>
          <p:spPr>
            <a:xfrm>
              <a:off x="3643560" y="5038560"/>
              <a:ext cx="339480" cy="299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8"/>
            <p:cNvSpPr/>
            <p:nvPr/>
          </p:nvSpPr>
          <p:spPr>
            <a:xfrm>
              <a:off x="4375440" y="5272200"/>
              <a:ext cx="423720" cy="8762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49"/>
            <p:cNvSpPr/>
            <p:nvPr/>
          </p:nvSpPr>
          <p:spPr>
            <a:xfrm>
              <a:off x="3197160" y="3809880"/>
              <a:ext cx="188640" cy="6570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50"/>
            <p:cNvSpPr/>
            <p:nvPr/>
          </p:nvSpPr>
          <p:spPr>
            <a:xfrm>
              <a:off x="2781360" y="3727440"/>
              <a:ext cx="471240" cy="3603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1"/>
            <p:cNvSpPr/>
            <p:nvPr/>
          </p:nvSpPr>
          <p:spPr>
            <a:xfrm>
              <a:off x="3278160" y="5781600"/>
              <a:ext cx="361800" cy="4507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52"/>
            <p:cNvSpPr/>
            <p:nvPr/>
          </p:nvSpPr>
          <p:spPr>
            <a:xfrm>
              <a:off x="4253040" y="5681520"/>
              <a:ext cx="193680" cy="191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3"/>
            <p:cNvSpPr/>
            <p:nvPr/>
          </p:nvSpPr>
          <p:spPr>
            <a:xfrm>
              <a:off x="714240" y="5440320"/>
              <a:ext cx="385560" cy="3063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54"/>
            <p:cNvSpPr/>
            <p:nvPr/>
          </p:nvSpPr>
          <p:spPr>
            <a:xfrm>
              <a:off x="2689200" y="4808520"/>
              <a:ext cx="33120" cy="33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5"/>
            <p:cNvSpPr/>
            <p:nvPr/>
          </p:nvSpPr>
          <p:spPr>
            <a:xfrm>
              <a:off x="1650960" y="5278320"/>
              <a:ext cx="5364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6"/>
            <p:cNvSpPr/>
            <p:nvPr/>
          </p:nvSpPr>
          <p:spPr>
            <a:xfrm>
              <a:off x="2719440" y="3768480"/>
              <a:ext cx="52200" cy="53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57"/>
            <p:cNvSpPr/>
            <p:nvPr/>
          </p:nvSpPr>
          <p:spPr>
            <a:xfrm>
              <a:off x="4089600" y="5583240"/>
              <a:ext cx="5076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58"/>
            <p:cNvSpPr/>
            <p:nvPr/>
          </p:nvSpPr>
          <p:spPr>
            <a:xfrm>
              <a:off x="3702240" y="6114960"/>
              <a:ext cx="5220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59"/>
            <p:cNvSpPr/>
            <p:nvPr/>
          </p:nvSpPr>
          <p:spPr>
            <a:xfrm>
              <a:off x="2154240" y="586116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60"/>
            <p:cNvSpPr/>
            <p:nvPr/>
          </p:nvSpPr>
          <p:spPr>
            <a:xfrm>
              <a:off x="2954520" y="563580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1"/>
            <p:cNvSpPr/>
            <p:nvPr/>
          </p:nvSpPr>
          <p:spPr>
            <a:xfrm>
              <a:off x="2354040" y="5751360"/>
              <a:ext cx="39600" cy="396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62"/>
            <p:cNvSpPr/>
            <p:nvPr/>
          </p:nvSpPr>
          <p:spPr>
            <a:xfrm>
              <a:off x="3048120" y="4662360"/>
              <a:ext cx="344520" cy="10620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63"/>
            <p:cNvSpPr/>
            <p:nvPr/>
          </p:nvSpPr>
          <p:spPr>
            <a:xfrm>
              <a:off x="334800" y="5522760"/>
              <a:ext cx="461880" cy="4046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64"/>
            <p:cNvSpPr/>
            <p:nvPr/>
          </p:nvSpPr>
          <p:spPr>
            <a:xfrm>
              <a:off x="441000" y="5421240"/>
              <a:ext cx="263520" cy="145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5"/>
            <p:cNvSpPr/>
            <p:nvPr/>
          </p:nvSpPr>
          <p:spPr>
            <a:xfrm>
              <a:off x="1863720" y="4967280"/>
              <a:ext cx="504720" cy="546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66"/>
            <p:cNvSpPr/>
            <p:nvPr/>
          </p:nvSpPr>
          <p:spPr>
            <a:xfrm>
              <a:off x="888840" y="5862600"/>
              <a:ext cx="465120" cy="1746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67"/>
            <p:cNvSpPr/>
            <p:nvPr/>
          </p:nvSpPr>
          <p:spPr>
            <a:xfrm>
              <a:off x="2236680" y="6153120"/>
              <a:ext cx="282600" cy="253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68"/>
            <p:cNvSpPr/>
            <p:nvPr/>
          </p:nvSpPr>
          <p:spPr>
            <a:xfrm>
              <a:off x="1471320" y="5973840"/>
              <a:ext cx="277560" cy="330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69"/>
            <p:cNvSpPr/>
            <p:nvPr/>
          </p:nvSpPr>
          <p:spPr>
            <a:xfrm>
              <a:off x="2662200" y="6002280"/>
              <a:ext cx="531720" cy="6174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70"/>
            <p:cNvSpPr/>
            <p:nvPr/>
          </p:nvSpPr>
          <p:spPr>
            <a:xfrm>
              <a:off x="2736720" y="6242040"/>
              <a:ext cx="296640" cy="250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371" descr=""/>
          <p:cNvPicPr/>
          <p:nvPr/>
        </p:nvPicPr>
        <p:blipFill>
          <a:blip r:embed="rId3"/>
          <a:stretch/>
        </p:blipFill>
        <p:spPr>
          <a:xfrm>
            <a:off x="1555920" y="144360"/>
            <a:ext cx="1942920" cy="3302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9" descr="HH.png"/>
          <p:cNvPicPr/>
          <p:nvPr/>
        </p:nvPicPr>
        <p:blipFill>
          <a:blip r:embed="rId4"/>
          <a:stretch/>
        </p:blipFill>
        <p:spPr>
          <a:xfrm>
            <a:off x="357120" y="1785960"/>
            <a:ext cx="2268720" cy="4751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865400" y="3422160"/>
            <a:ext cx="401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汉仪黛玉体简"/>
              </a:rPr>
              <a:t>作者：杨万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3762360" y="182880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70200" y="2038320"/>
            <a:ext cx="523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汉仪黛玉体简"/>
              </a:rPr>
              <a:t>晓出净慈寺送林子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宿新市徐公店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篱落疏疏一径深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树头花落未成阴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儿童急走追黄蝶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飞入菜花无处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467240" y="3480840"/>
            <a:ext cx="3087360" cy="2156040"/>
            <a:chOff x="4467240" y="3480840"/>
            <a:chExt cx="3087360" cy="2156040"/>
          </a:xfrm>
        </p:grpSpPr>
        <p:sp>
          <p:nvSpPr>
            <p:cNvPr id="182" name=""/>
            <p:cNvSpPr/>
            <p:nvPr/>
          </p:nvSpPr>
          <p:spPr>
            <a:xfrm>
              <a:off x="4467240" y="3480840"/>
              <a:ext cx="3087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2708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　　泉眼无声惜细流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43480" y="3969720"/>
              <a:ext cx="133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2708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　　树阴照水爱晴柔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67240" y="4458600"/>
              <a:ext cx="3087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2708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　　小荷才露尖尖角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44560" y="5055480"/>
              <a:ext cx="12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　　早有蜻蜓立上头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16480" y="2593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金梅新洋傘字範例"/>
              </a:rPr>
              <a:t>小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0386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白居易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钱塘湖春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4364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孤山寺北贾亭西，水面初平云脚底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几处早莺争暖树，谁家新燕啄春泥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乱花渐欲迷人眼，浅草才能没马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最爱湖东行不足，绿杨荫里白沙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華康少女文字W6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1162080"/>
            <a:ext cx="819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杨万里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(1127—1206)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吉州吉水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今江西吉水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字廷秀，号诚斋。绍兴二十四年进士。孝宗时官至太子侍读。光宗召为秘书监。工诗。为“南宋 四大家”之一。初学“江西诗派”，后学王安石及晚唐诗，终自成一家。一生作诗万余首。亦能文。著有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诚斋集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2240" y="326880"/>
            <a:ext cx="22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華康少女文字W6"/>
              </a:rPr>
              <a:t>词语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7920" y="18381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晓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早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7920" y="252396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四时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春夏秋冬四季。在这里指六月以外的其它时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1960" y="358920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无穷碧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因莲叶面积很广，似与天相接，故呈现无穷的碧绿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1960" y="47340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别样红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红得特别出色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9840" y="1281240"/>
            <a:ext cx="8412120" cy="5108400"/>
            <a:chOff x="339840" y="1281240"/>
            <a:chExt cx="8412120" cy="5108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rcRect l="0" t="0" r="75645" b="60185"/>
            <a:stretch/>
          </p:blipFill>
          <p:spPr>
            <a:xfrm>
              <a:off x="339840" y="1281240"/>
              <a:ext cx="8412120" cy="51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rcRect l="0" t="23978" r="0" b="0"/>
            <a:stretch/>
          </p:blipFill>
          <p:spPr>
            <a:xfrm>
              <a:off x="339840" y="4686840"/>
              <a:ext cx="8412120" cy="170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374760" y="1193760"/>
            <a:ext cx="83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文鼎谁的字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文鼎谁的字体"/>
              </a:rPr>
              <a:t>请同学们自由地朗读古诗，画出古诗 的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600" y="195120"/>
            <a:ext cx="34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華康少女文字W6"/>
              </a:rPr>
              <a:t>诗歌诵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3230640"/>
            <a:ext cx="447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竟西湖六月中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2760" y="3230640"/>
            <a:ext cx="41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光不与四时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992400"/>
            <a:ext cx="45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天莲叶无穷碧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2760" y="39924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日荷花别样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3080" y="2392200"/>
            <a:ext cx="41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晓出净慈寺送林子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18960" y="1217520"/>
            <a:ext cx="8480520" cy="5159520"/>
            <a:chOff x="318960" y="1217520"/>
            <a:chExt cx="8480520" cy="51595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0" t="0" r="75645" b="60185"/>
            <a:stretch/>
          </p:blipFill>
          <p:spPr>
            <a:xfrm>
              <a:off x="318960" y="1217520"/>
              <a:ext cx="848052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rcRect l="0" t="23978" r="0" b="0"/>
            <a:stretch/>
          </p:blipFill>
          <p:spPr>
            <a:xfrm>
              <a:off x="318960" y="4657320"/>
              <a:ext cx="8480520" cy="171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1054080" y="3446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竟   西湖  六月中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40280" y="3446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光  不与  四时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54080" y="4102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天   莲叶  无穷碧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40280" y="4102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日  荷花  别样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54280" y="2608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晓出净慈寺送林子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9160" y="1130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文鼎谁的字体"/>
              </a:rPr>
              <a:t>请同学们自由地朗读古诗，画出古诗的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44440" y="35686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187440" y="35686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044440" y="42544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11120" y="42544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854320" y="35686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845040" y="35686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854320" y="417816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21000" y="417816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82760" y="220680"/>
            <a:ext cx="27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華康少女文字W6"/>
              </a:rPr>
              <a:t>古诗今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76480" y="1854360"/>
            <a:ext cx="6632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竟是西湖六月天的景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光与其它季节确实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莲叶接天望不尽一片碧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光下荷花分外艳丽鲜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47560" y="1166760"/>
            <a:ext cx="1492200" cy="1225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8" dur="2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2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7" dur="2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2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6" dur="2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" dur="2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5" dur="2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6" dur="2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167600" y="5210280"/>
            <a:ext cx="1503360" cy="1230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華康少女文字W6"/>
              </a:rPr>
              <a:t>重点品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341280" y="1238400"/>
            <a:ext cx="85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毕竟西湖六月中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风光不与四时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09520" y="2070000"/>
            <a:ext cx="7042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首句看似突兀，实际造句大气，虽然读者还不曾从诗中领略到西湖美景，但已能从诗人赞叹的语气中感受到了。这一句似脱口而出，是大惊大喜之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最直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感受，因而更强化了西湖之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这首诗是歌咏西湖夏季景致的经典作品，表达了诗人对西湖六月美景的赞美之情，同时从“别样红”之中，透出作者是在以欢快的心态送友。读者可以体会出：作者一边陪着朋友走在路上，一边和朋友谈笑风生。因为只有具有如此“谈笑风生”的心态，才能体会出“接天莲叶无穷碧，映日荷花别样红”的诗情画意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15:09Z</dcterms:created>
  <dc:creator/>
  <dc:description/>
  <cp:keywords/>
  <dc:language>en-US</dc:language>
  <cp:lastModifiedBy>微软系统</cp:lastModifiedBy>
  <cp:lastPrinted>1899-12-30T00:00:00Z</cp:lastPrinted>
  <dcterms:modified xsi:type="dcterms:W3CDTF">2011-05-16T01:05:16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