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19A0-D0CB-4707-ACF0-E133C7D3E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36F6-3FF3-4247-9F60-A1F2D2C6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A607-4CC8-4F98-8213-B463DBB8D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FE43-A0AC-4F1E-ABBD-016F77889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7AAD-429B-407B-9E2A-9420FD3E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EFE9-BB14-4B48-A38A-66A2BA8A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73FF-7B3D-44D3-AC63-EFDBE503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4F02-98FE-4B58-A3BC-7E3CEC9F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5DA1-8ED0-4E48-85FA-001455BF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CD9F-66A2-4E6C-B18D-EFA4A916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1006-B62E-4031-993D-2425CF09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ED7F-D79B-4182-9EB7-147BE965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ECCC-6045-4A03-A917-CC9C87D4F8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599640" y="620280"/>
            <a:ext cx="353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"/>
              </a:rPr>
              <a:t>晓出净慈寺送林子方</a:t>
            </a: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4000" y="1915920"/>
            <a:ext cx="8208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杨万里：字廷秀，吉水人。他平时力主抗金，秉性刚直，立朝廉洁，遇事感言。他作诗主张师法自然，构思新颖奇特，笔调幽默诙谐，语言通俗活泼，风格爽朗轻快，人称“诚斋体”。他工于奇绝，以写景咏物见长，著有《诚斋集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58920" y="209520"/>
            <a:ext cx="7345440" cy="57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晓出净慈寺送林子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【宋】杨万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毕竟西湖六月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风光不与四时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接天莲叶无穷碧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映日荷花别样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667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59600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148360" y="333360"/>
            <a:ext cx="2233440" cy="1674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292720" y="4581360"/>
            <a:ext cx="2089080" cy="1479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11280" y="1773360"/>
            <a:ext cx="3735360" cy="2508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219640" y="2565360"/>
            <a:ext cx="20890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36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86200" y="344520"/>
            <a:ext cx="52941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晓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净慈寺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林子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宋】杨万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27640" y="162864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毕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西湖六月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75280" y="234936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风光不与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四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57800" y="307512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接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莲叶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无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碧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86200" y="3795840"/>
            <a:ext cx="38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映日荷花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别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15:08:09Z</dcterms:created>
  <dc:creator>微软用户</dc:creator>
  <dc:description/>
  <dc:language>en-US</dc:language>
  <cp:lastModifiedBy>zmj</cp:lastModifiedBy>
  <dcterms:modified xsi:type="dcterms:W3CDTF">2012-04-11T12:45:05Z</dcterms:modified>
  <cp:revision>4</cp:revision>
  <dc:subject/>
  <dc:title>幻灯片 1</dc:title>
</cp:coreProperties>
</file>