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B4F-2638-46A8-AC0F-EDBFDC89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5E5-ECAC-4E89-B542-37BF6ABA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2BEC3-F876-4A62-B5C1-51228A58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AC696-D442-42C8-9F07-DFB0335C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23D24-E77A-4762-A652-3E3D2486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07E0A-C349-4CB9-9D26-5A4DFD1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5059B-C7B5-4C05-B9A9-E0B5500E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364F6-8DE5-481E-87BD-8FCE785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C10DF-F52D-403F-8AA5-79BE9B2E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00133-AA19-422E-90B1-1F7A0971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2050A-ECBB-4C0B-86C7-8BC0E905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06123-DDE3-46D2-B3C4-D7D62440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CA9-9EA7-444A-8467-96D374F0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9D0E4-3D60-4A1A-956F-3F063470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5DD97-7693-4D09-8835-2ED972E4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2C03F-8846-4211-BD95-1A6BD099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153EB-1503-4DD5-AC18-F27B0357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C115B-2FC8-4B87-AE98-7392FEC1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A3D49-882D-4E23-B625-B37CFBA6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E67A5-7428-433E-8CD4-5F7FECCD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990D0-3451-4DCF-88D5-EA613F2F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DDC01-6498-425C-95AE-511E685B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2E540-5D78-4AC3-A7E3-0F0A14B0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2E2-36C4-498E-BCBC-58C0F9F7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6BCEA-5C29-4468-9550-CCC1A060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3194B-9963-4ABB-9B47-354EF401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895D4-74FC-4B7F-825F-3560D991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92BE2-0102-417B-BF90-58776906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0E2D8-6BD9-4CDC-913F-75D58273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32DBC-56D1-4E3B-A794-604659D1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DBB85-0EB8-4559-AF77-03C399CE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9FF62-9E27-4FDE-B98A-98F106FC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30A1F-DBE8-463C-8A9B-662066D9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ED152-3122-4C6E-9C2F-3C18BE8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F1CB-04EB-4C4D-8E8F-52756EB8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BE63A-7952-4360-BC35-FB286A35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79CCB-2829-498D-BBFB-F49384D2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5900A-3272-4FBF-A582-1A82D724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6C943-E241-4222-B907-10CA69C7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B43FE-BCEA-4BA8-9FC1-024E5FF2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174AB-45AA-4006-9690-3BFE2438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E56F2-CC98-4F54-8E19-1B8B263A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B53A1-D658-411B-A96C-80F55F06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BBC3C-2214-476F-8B70-0998D462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5B3B8-3528-45C6-8454-666D547A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7913-BB44-4FB6-A21A-16EE922A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070D6-CFA4-4933-946D-4299FDE2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88B4F-F8E8-4B5A-A5DB-C4D08AA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948FE-E3A9-4AC5-AB9D-76DB3ED5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29979-A008-41FC-8DF9-28BD7BFE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FB213-776F-4585-9450-2A6D8497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EAC17-8F1B-422F-A6BD-3C674A1B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F15DB-3F33-4213-AC0A-B517FFBB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D93E1-A5B8-4A4F-BFB2-F5FE4FF1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3C923-8844-46A6-97CB-EE349BB5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47DFA-C44E-4C79-A129-DE3E3AD4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52C0-6819-4B29-B619-3A5CAAAB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091DA-6042-4076-9C67-D5EE917B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6C833-4636-4004-B7AA-BE456520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9A789-F65C-477F-AD1F-F855373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5D121-68B8-4FE6-88A8-703F365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81159-1B31-420C-8A71-7153A698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8A6C4-25FD-4485-BF45-578B6EA7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16F61-DEA2-4D92-A3B4-E6381AE3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31B39-A2AD-4B91-B2A9-8B3907C6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B7490-C5EE-4AFA-8CB2-2C734ED9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8D612A-6459-4DCE-B2C9-F67EA1F4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B574-4651-401E-B2F5-7137DB70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34624-0EED-4706-B29B-17C2208E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DF85B-D663-4B77-9473-CCDA79AF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C4A7B-D9E9-4506-97C4-FE84DCEA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D43C9-9FB0-44B4-A719-B65D32F8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B85D7-EEF0-4062-811A-FF271330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3AFDE-4AD7-4D7D-9181-153C53E5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C9A82C-B48F-4D20-954A-1F083722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EB4CC-5CE4-4D02-B903-0A43D182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130FA-DCE0-487C-9B93-900C17A6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E8EB-BF1C-4330-9BF7-9651E200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CDEE-1816-49A3-9216-CAF14A53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AECB-0D09-4FAB-BA2A-AA5EBCC2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935-E96A-4371-85F3-79A29443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E129-04CC-4A54-9CEA-F8FAEC90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3644-8445-4F16-8929-78C6A880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ACB0-22C3-408C-8DD0-A1860A34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6F94-FE40-42BE-8161-7DE5B496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ACB5-868D-4764-9E65-14F0BE15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48F4-A05E-4B83-A19E-75A99604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FC7EE-1414-4971-BDB9-478BE86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9381-3F0F-4F9B-AF90-8F3D51DC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C2B1-629F-4BEC-B966-7D4979DC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9D95-411F-478A-8051-9BFF9C39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6F9-D3D0-4D20-BA46-CDBAA6A0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17B39-033F-4F1C-B018-2569BEB0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005F-083B-4B77-A694-5D9BD99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4ACB-5108-4130-B135-F215078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503B-EEDB-4A69-9BE4-7DAC4451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46828-447E-4CD0-B39F-370155BE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5943-93D8-4110-94E2-A62B7E50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5B71-99F6-446C-9EB0-9A5720EB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28127-B1C2-451A-ADDC-703FC96E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D24B-DDCB-4A99-BE23-D746556C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F022E-226A-49A5-87CC-7106E4A7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8C8-FE49-4744-9F24-825CDE7E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F5B43-C595-4BB4-9EC4-47314FFA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956D-9B65-4BCA-8A8A-C7C0655D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2AB3-E6CD-409C-8B3E-F90E5A5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4BAD9-7924-43E4-9666-C7110C4F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A9D6-9F60-48B3-A232-618099D1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54D65-000B-4502-9095-AEC5EE7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B7FA-13FB-4BE0-B2BA-35002AF1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FE38F-AD99-49F3-BCE9-B81F0573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B8C2-DC8A-4E9B-8EEF-3920F950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78EE5-9C6D-4B3A-8E7C-53FE2D1D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1A1-4B04-411B-ABA4-6BD5AAF8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AA302-A9BE-4705-A1F4-5638D267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884C7-92D5-4740-8F2F-DF4B8323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5E494-EBE6-4BD1-982B-DD81B0AF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CE516-14E1-44A9-A234-CEB45D55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8F81-5FC3-454A-B227-A527FDC6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3B4E2-E081-4442-A94E-3478A0FC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88DB4-8E8D-457D-BA80-06A57C05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64824-E6C0-4441-B7AA-E1032E2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5026-B6CD-48DF-8128-D99FB907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C6428-E830-4FE3-B987-525FCEBF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17E-1B1C-43AB-9378-FD02A696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FEA14-8AC7-4B3F-92E5-1E9B7780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CDE7-A75D-4BFA-8CDE-78F41DA1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A1489-01FA-4589-9A54-B44898DA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BDF3E-4B6D-4458-B3F7-47E5190F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2D2E2-39BA-441D-B567-1A2B1CAF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4287-B673-4E3C-A442-A161173F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48718-EFAB-440D-894E-A7DC7CDC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F7FC-A47F-4932-8A21-855991D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A53E6-90FB-45C1-9CC9-2D8E81B2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ADA02-A9B1-4A3B-927D-CEA64CA9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8DF-25FB-48B1-AE81-177931D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0C26E-BD00-4F6A-9226-936ADC8F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7F79-2873-47E3-B594-0BC45B0B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B286-D47A-4226-A549-2A5084B8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F1EA4-4DE2-4D57-AF51-6E1571B9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2A38A-DB5C-4CBB-A279-A8E67F26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F8212-CC44-440F-9EE7-7677E8EB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91F0F-4908-4F40-85D8-BECC240A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E13FC-ABE4-42E4-9353-F26E970D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9235A-A56E-41FC-9A9D-656376C6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672454-A6A4-4F8D-B460-385BEE26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28F-A687-4673-B73A-1445EDE1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BCE9E-64DE-4B4D-B300-98A08BDF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65FD6-FD17-4811-A028-672147C6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FB165-0826-48D6-8E83-AA234059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05CEC-E25B-4C8D-B2FE-42FBCC1D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E3022-DF19-4E68-AE69-D337EE1C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938E6-DC6C-432C-8127-2373FDAE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7BC7B-C5C9-46EF-9CE2-32DC22E8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D271C-EE73-428B-B1A5-BDFC262A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63454-5809-4598-B22F-BDDAC31B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56254-6FD0-414E-B700-CF13DE9C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F8F-A4D4-405B-965C-C22185B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A1BEF-29D9-45DF-ACDB-BF10C615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8EF26-738D-47D6-AE9A-E80C2C1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D49EB-6AB0-43DD-90F9-E45EAC5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9549-8670-4435-A456-919AF79B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03B5C-D04A-4D1A-BD3F-4AF8714E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21334-E5F1-469E-B49E-BC8AC34C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237D4-AD92-4045-AF60-E1117E21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07AF6-975E-434C-B631-C0D201DB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C07B6-45B4-499D-8410-F9619D43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636E5-FD98-4F96-ADB9-21EB11E0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2F3C-5B66-40D0-97E5-C289294C07A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4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4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2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3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5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6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1014-9849-4794-9668-3E8FB48BE585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2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3C40-616C-4D0B-9C5F-98AF974685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7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9FEB-8551-459E-A15E-C5235FBC54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30E9-09E0-46C0-973F-398ECE7708E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dt" idx="4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4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4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28AE-4BE0-4BC2-88F7-8BBB0457B05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9843-79A2-409F-85CB-9CA3838607D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57F7-C6E3-453D-BF1C-25C075BD2D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B750-E9C4-4859-BB02-6FAF1FDE86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3167-89A7-4091-8BD4-0BC056528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D6E3-E908-47C5-855B-3FBB602B28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635C-5C0B-469A-B81F-9DBCD825F855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8421-36A7-404D-8556-BEC72741B483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7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7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8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E238-D7C7-4A16-B193-B09E218851A4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1187280" y="1268280"/>
            <a:ext cx="71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</a:rPr>
              <a:t>苏轼《新城道中（其一）》</a:t>
            </a: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003640" y="27082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苏 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．第二、第三两联写景各用了什么修辞方法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?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写景的角度有什么不同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示：比喻，以“披絮帽（戴棉絮制成的帽子）”与“挂铜钲（挂铜盘）”分别比喻“岭上晴云”与“树头初日”。拟人，在沐浴了一场春雨之后，“野桃”向着朝阳笑脸迎人，“溪柳”在春风里翩翩起舞。出得门来，首先映入眼帘的是那迷人的晨景，穿山越岭，再往前行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才看到了桃花、竹篱等，由远及近的顺序写的。第二联写野外远景，第三联写农家近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-6284880" y="0"/>
            <a:ext cx="154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 rot="21071400">
            <a:off x="2700000" y="980640"/>
            <a:ext cx="41036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042920" y="9079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苏轼：字子瞻，号东坡居士，眉山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今四川眉山县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。是北宋时诗坛成就卓越的大家，他既反对王安石比较急进的改革措施，也不同意司马光尽废新法，因而在新旧两党间均受排斥，仕途生涯十分坎坷。苏轼诗中数量最多，对后人影响也最大的是抒发人生感慨和歌咏自然景物的诗篇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苏轼的诗今存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700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多首，有着丰富多彩的风格，或雄奇奔放，或富于理趣，或简淡自然。他岁善于运用新奇形象的比喻来描绘景物，阐发哲理。尤其是长篇古诗大多博用比喻，联想无穷，语言流畅，气势奔放。他还善于幽默旷达的笔调，随时生发奇警新鲜的人生意趣，令人耳目一新。这都表现出宋诗重理趣，好议论的特征。他的诗词冲破了晚唐，五代以来词为「艳科」的旧框框。他和南宋的辛弃疾行成词坛的「苏辛」豪放词派。他的散文，书，画等成就都很高。为唐宋八大家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863640" y="2852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东风知我欲山行，吹断檐间积雨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岭上晴云披絮帽，树头初日挂铜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野桃含笑竹篱短，溪柳自摇沙水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西崦人家应最乐，煮葵烧笋饷春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268360" y="1268280"/>
            <a:ext cx="4175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新城道中（其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苏 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755640" y="1197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【今译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东风像是知道我要到山里行，吹断了檐间连日不断的积雨声。岭上浮着的晴云似披着丝棉帽，树头升起的初日象挂着铜钲。矮矮竹篱旁野桃花点头含笑，清清的沙溪边柳条轻舞多情。生活在西山一带的人家应最乐，煮葵烧笋吃了好闹春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684360" y="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【赏析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此诗描写作者出巡时途中所见的美丽景色，愉快地赞美了山村人家和平的劳动生活。　　绵绵春雨多日不停，诗人有事需要进山，只好准备冒雨去了。不料天快亮的时候，房檐下滴滴答答地雨声忽然止住了，天放晴了。诗人兴奋之极，心想，这是东风知道我有进山的打算，特意把阴云吹散了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　雨后的早晨，山中景色焕然一新。一座座峰峦眉清目秀，头上顶着洁白的云朵，宛如戴上轻软的丝绵帽子，怪舒适的；太阳刚刚升起，挂在高高的树梢，好像一面黄橙橙的铜锣，敲一下就会发出当当的响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539640" y="0"/>
            <a:ext cx="80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这是一首七言律诗（七律），中间四句组成一套山水画屏。前两句描写远景，用的是比喻手法：山峰戴上洁白的絮帽，树枝挂着明亮的铜锣，把晴天云朵和初升的太阳写得形象生动而富有神采；后两句描写近景，用的是拟人手法：山桃花倚篱而笑，杨柳枝无风自摇，自然景物被赋予人的神态举止，真是妩媚极了。也不要忽略诗的开头两句：多情的东风很会察颜观色，猜透了诗人心中的忧虑，并且立即惊慌慷慨相助，吹得雨散天开，这怎能不使诗人喜出望外呢！所以进得山来，桃花笑，柳条舞，一路喜气盈盈。新奇的比喻，巧妙的拟人，不仅描绘出山野花木之美，而且烘托出诗人山行之乐，内心之乐和景色之美互相影响，互相渗透。这就是人们最爱追求的那种艺术境界：情景相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826920" y="907920"/>
            <a:ext cx="792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诗人一路前行，路旁景色使人目不暇接。你看，矮矮的竹篱后面，盛开的山桃花探头探脑，红扑扑的脸儿满含笑意；清清的沙溪边上，柳树摆着轻盈的枝条，自由处在的翩翩起舞。一花一木都是这样春意盎然，这样殷勤好客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诗人正为满山花木左顾右盼，忽见西面山间几缕炊烟袅袅上升，那里的农妇，有的正在烧饭做菜，有的已经提着饭篮走下山来。山下平原上，早有人吆喝着牛儿，趁雨过天晴，忙着春耕了。这样优美的山野风光，这样无忧无虑的劳动生活，世间最快乐的，恐怕无过于此了！诗人这个想法并不合乎那个时代的社会实际，但从中可以领会，他在这次山行中确实感受到了极大的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900000" y="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问题导引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]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．“东风知我欲山行，吹断檐间积雨声”，作者为什么不直道天气的由阴转晴，却要说吹断了檐间连绵雨声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971640" y="21337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示：诗人正打算到山里去，阴雨连绵的天气就突然放晴了。“东风”成了善解人意的知己，“我”要进山，东风马上吹散阴霾，为进山创造了条件，使“我”心想事成。一方面是有隐曲委婉表达之妙。另一方面，也是因为诗人准备进山，急切期盼天晴。所以对檐间没完没了的“积雨”声特别厌烦，特别敏感。所以，雨一停，他首先感到的是檐间滴雨声被“吹断”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84360" y="1341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ahoma"/>
              </a:rPr>
              <a:t>试着描绘此诗句“岭上晴云披絮帽，树头初日挂铜钲”的意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24000" y="3213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ahoma"/>
              </a:rPr>
              <a:t>提示：岭上积聚了晴云，好象披上了絮帽；树头初升起了太阳，好象挂上了铜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8:35:02Z</dcterms:created>
  <dc:creator>YlmF</dc:creator>
  <dc:description/>
  <dc:language>en-US</dc:language>
  <cp:lastModifiedBy>YlmF</cp:lastModifiedBy>
  <dcterms:modified xsi:type="dcterms:W3CDTF">2005-10-05T01:53:12Z</dcterms:modified>
  <cp:revision>3</cp:revision>
  <dc:subject/>
  <dc:title>幻灯片 1</dc:title>
</cp:coreProperties>
</file>