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gif" ContentType="image/gif"/>
  <Override PartName="/ppt/media/image18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9.jpeg" ContentType="image/jpeg"/>
  <Override PartName="/ppt/media/image21.jpeg" ContentType="image/jpeg"/>
  <Override PartName="/ppt/media/image22.wmf" ContentType="image/x-wmf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967-D5F8-489C-ADAE-2D9BC921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083-39AE-4530-B677-039091E5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348-A8B7-4A46-BFC7-63871A45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653B-5849-460C-BDF1-77221FB0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836C-C292-4536-8D29-16143224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71FC-79E6-4153-9E95-746E8807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5C02-687B-4556-A914-ACFC7916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09C8-C86F-4674-948D-331CD127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1B55-D6E2-4B19-9461-F75651E4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CEFC-B963-4B58-B051-A4884529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3B0C-7744-4EDF-9A88-79999413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D88-A65D-41A2-91C1-B0A9A2D7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CF20-9DA7-441B-A8BE-8BD6E57B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ABEC-6FCA-4E8F-B160-CC98B560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28BE-FB22-4EFD-A6CD-4CD9AF80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018B-23AB-48AC-918E-8A4B398C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A839-51A6-46E2-ABC1-A90FF315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FAA-3AB1-4988-AAAE-F1FE1F72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911D-D339-41BC-8549-BB633313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2D1-12F0-41FB-8CCB-E7A0F229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AE6-02A0-4667-B25E-D9841344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B8B-9061-40A8-B1CD-F4D01131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9D0-4B6B-4BBC-808F-C1AE00B6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730-982F-4DA1-86CC-2944A6AC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未知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未知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未知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717A-B8D6-433A-A7B0-1D675BF3EDC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未知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未知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492E-1364-4E45-8033-63412EAB060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24360" y="4005360"/>
            <a:ext cx="543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95ff"/>
                </a:solidFill>
                <a:latin typeface="Times New Roman"/>
                <a:ea typeface="黑体"/>
              </a:rPr>
              <a:t>(*^__^*) </a:t>
            </a:r>
            <a:r>
              <a:rPr b="1" lang="zh-CN" sz="3200" spc="-1" strike="noStrike">
                <a:solidFill>
                  <a:srgbClr val="9595ff"/>
                </a:solidFill>
                <a:latin typeface="Times New Roman"/>
                <a:ea typeface="黑体"/>
              </a:rPr>
              <a:t>嘻嘻……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欢迎浏览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,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  <a:ea typeface="隶书"/>
              </a:rPr>
              <a:t>有什么不足之处 敬请见谅！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认识生字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4086"/>
                </a:solidFill>
                <a:latin typeface="Tahoma"/>
              </a:rPr>
              <a:t>小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</a:rPr>
              <a:t>壁</a:t>
            </a:r>
            <a:r>
              <a:rPr b="1" lang="zh-CN" sz="4000" spc="-1" strike="noStrike">
                <a:solidFill>
                  <a:srgbClr val="664086"/>
                </a:solidFill>
                <a:latin typeface="Tahoma"/>
              </a:rPr>
              <a:t>虎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在墙角捉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蚊</a:t>
            </a:r>
            <a:r>
              <a:rPr b="1" lang="zh-CN" sz="3600" spc="-1" strike="noStrike">
                <a:solidFill>
                  <a:srgbClr val="545472"/>
                </a:solidFill>
                <a:latin typeface="Tahoma"/>
              </a:rPr>
              <a:t>子，一条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蛇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咬住了它的尾巴。小壁虎一挣，挣断尾巴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</a:rPr>
              <a:t>逃</a:t>
            </a:r>
            <a:r>
              <a:rPr b="1" lang="zh-CN" sz="4000" spc="-1" strike="noStrike">
                <a:solidFill>
                  <a:srgbClr val="545472"/>
                </a:solidFill>
                <a:latin typeface="Tahoma"/>
              </a:rPr>
              <a:t>走了。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没有尾巴多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</a:rPr>
              <a:t>难</a:t>
            </a:r>
            <a:r>
              <a:rPr b="1" lang="zh-CN" sz="4000" spc="-1" strike="noStrike">
                <a:solidFill>
                  <a:srgbClr val="545472"/>
                </a:solidFill>
                <a:latin typeface="Tahoma"/>
              </a:rPr>
              <a:t>看</a:t>
            </a:r>
            <a:r>
              <a:rPr b="1" lang="zh-CN" sz="2800" spc="-1" strike="noStrike">
                <a:solidFill>
                  <a:srgbClr val="664086"/>
                </a:solidFill>
                <a:latin typeface="Tahoma"/>
              </a:rPr>
              <a:t>啊！小壁虎想，向谁去借一条尾巴呢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3280" y="24210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4086"/>
                </a:solidFill>
                <a:latin typeface="Tahoma"/>
              </a:rPr>
              <a:t>小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壁</a:t>
            </a:r>
            <a:r>
              <a:rPr b="1" lang="zh-CN" sz="3600" spc="-1" strike="noStrike">
                <a:solidFill>
                  <a:srgbClr val="664086"/>
                </a:solidFill>
                <a:latin typeface="Tahoma"/>
              </a:rPr>
              <a:t>虎</a:t>
            </a:r>
            <a:r>
              <a:rPr b="1" lang="en-US" sz="3600" spc="-1" strike="noStrike">
                <a:solidFill>
                  <a:srgbClr val="664086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xiǎo bì hǔ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4086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蚊</a:t>
            </a:r>
            <a:r>
              <a:rPr b="1" lang="zh-CN" sz="3600" spc="-1" strike="noStrike">
                <a:solidFill>
                  <a:srgbClr val="545472"/>
                </a:solidFill>
                <a:latin typeface="Tahoma"/>
              </a:rPr>
              <a:t>子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wén zi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ahoma"/>
              </a:rPr>
              <a:t>一条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蛇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yì tiáo shé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</a:rPr>
              <a:t>逃</a:t>
            </a:r>
            <a:r>
              <a:rPr b="1" lang="zh-CN" sz="4000" spc="-1" strike="noStrike">
                <a:solidFill>
                  <a:srgbClr val="545472"/>
                </a:solidFill>
                <a:latin typeface="Tahoma"/>
              </a:rPr>
              <a:t>走了</a:t>
            </a:r>
            <a:r>
              <a:rPr b="1" lang="en-US" sz="40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táo zǒu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</a:rPr>
              <a:t>难</a:t>
            </a:r>
            <a:r>
              <a:rPr b="1" lang="zh-CN" sz="4000" spc="-1" strike="noStrike">
                <a:solidFill>
                  <a:srgbClr val="545472"/>
                </a:solidFill>
                <a:latin typeface="Tahoma"/>
              </a:rPr>
              <a:t>看</a:t>
            </a:r>
            <a:r>
              <a:rPr b="1" lang="en-US" sz="40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á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kàn</a:t>
            </a:r>
            <a:r>
              <a:rPr b="1" lang="en-US" sz="40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42920" y="1557360"/>
            <a:ext cx="51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ahoma"/>
              </a:rPr>
              <a:t>它向谁借尾巴了？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008000"/>
                </a:solidFill>
                <a:latin typeface="Tahoma"/>
              </a:rPr>
              <a:t>借到了吗？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55640" y="620640"/>
            <a:ext cx="79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ahoma"/>
                <a:ea typeface="黑体"/>
              </a:rPr>
              <a:t>小壁虎爬呀爬，爬到小河边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ahoma"/>
                <a:ea typeface="黑体"/>
              </a:rPr>
              <a:t>他看见小鱼摇着尾巴，在河里游来游去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ahoma"/>
                <a:ea typeface="黑体"/>
              </a:rPr>
              <a:t>小壁虎说：“小鱼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黑体"/>
              </a:rPr>
              <a:t>姐姐</a:t>
            </a:r>
            <a:r>
              <a:rPr b="1" lang="zh-CN" sz="3600" spc="-1" strike="noStrike">
                <a:solidFill>
                  <a:srgbClr val="545472"/>
                </a:solidFill>
                <a:latin typeface="Tahoma"/>
                <a:ea typeface="黑体"/>
              </a:rPr>
              <a:t>，您把尾巴借给我行吗？”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ahoma"/>
                <a:ea typeface="黑体"/>
              </a:rPr>
              <a:t>小鱼说：“不行啊，我要用尾巴拨水呢。”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姐姐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jie jie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)  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尾巴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wěi ba)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 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借给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 jiè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ɡěi)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8"/>
                </a:solidFill>
                <a:latin typeface="Tahoma"/>
                <a:ea typeface="黑体"/>
              </a:rPr>
              <a:t> 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8"/>
                </a:solidFill>
                <a:latin typeface="Tahoma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8"/>
                </a:solidFill>
                <a:latin typeface="Tahoma"/>
                <a:ea typeface="黑体"/>
              </a:rPr>
              <a:t>小鱼的理由</a:t>
            </a:r>
            <a:r>
              <a:rPr b="1" lang="en-US" sz="3200" spc="-1" strike="noStrike">
                <a:solidFill>
                  <a:srgbClr val="000008"/>
                </a:solidFill>
                <a:latin typeface="Tahoma"/>
                <a:ea typeface="黑体"/>
              </a:rPr>
              <a:t>: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  <a:ea typeface="黑体"/>
              </a:rPr>
              <a:t>因为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  <a:ea typeface="黑体"/>
              </a:rPr>
              <a:t>```````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  <a:ea typeface="黑体"/>
              </a:rPr>
              <a:t>所以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  <a:ea typeface="黑体"/>
              </a:rPr>
              <a:t>```````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692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  <a:ea typeface="黑体"/>
              </a:rPr>
              <a:t>    </a:t>
            </a:r>
            <a:r>
              <a:rPr b="1" lang="zh-CN" sz="3600" spc="-1" strike="noStrike">
                <a:solidFill>
                  <a:srgbClr val="545472"/>
                </a:solidFill>
                <a:latin typeface="Tahoma"/>
                <a:ea typeface="黑体"/>
              </a:rPr>
              <a:t>小壁虎爬呀爬，爬到房檐下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  <a:ea typeface="黑体"/>
              </a:rPr>
              <a:t>    </a:t>
            </a:r>
            <a:r>
              <a:rPr b="1" lang="zh-CN" sz="3600" spc="-1" strike="noStrike">
                <a:solidFill>
                  <a:srgbClr val="545472"/>
                </a:solidFill>
                <a:latin typeface="Tahoma"/>
                <a:ea typeface="黑体"/>
              </a:rPr>
              <a:t>他看见燕子摆着尾巴，在空中飞来飞去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  <a:ea typeface="黑体"/>
              </a:rPr>
              <a:t>    </a:t>
            </a:r>
            <a:r>
              <a:rPr b="1" lang="zh-CN" sz="3600" spc="-1" strike="noStrike">
                <a:solidFill>
                  <a:srgbClr val="545472"/>
                </a:solidFill>
                <a:latin typeface="Tahoma"/>
                <a:ea typeface="黑体"/>
              </a:rPr>
              <a:t>小壁虎说：“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黑体"/>
              </a:rPr>
              <a:t>燕子阿姨，您的尾巴借给我行吗？”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  <a:ea typeface="黑体"/>
              </a:rPr>
              <a:t>    </a:t>
            </a:r>
            <a:r>
              <a:rPr b="1" lang="zh-CN" sz="3600" spc="-1" strike="noStrike">
                <a:solidFill>
                  <a:srgbClr val="545472"/>
                </a:solidFill>
                <a:latin typeface="Tahoma"/>
                <a:ea typeface="黑体"/>
              </a:rPr>
              <a:t>燕子说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黑体"/>
              </a:rPr>
              <a:t>：“不行啊，我要用尾巴掌握方向呢。”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燕子的理由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: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  <a:ea typeface="黑体"/>
              </a:rPr>
              <a:t>因为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  <a:ea typeface="黑体"/>
              </a:rPr>
              <a:t>```````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  <a:ea typeface="黑体"/>
              </a:rPr>
              <a:t>所以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  <a:ea typeface="黑体"/>
              </a:rPr>
              <a:t>```````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736720" y="1341360"/>
            <a:ext cx="640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小壁虎爬呀爬，爬到大树上。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他看见老牛甩着尾巴，在树下吃草。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小壁虎说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：“牛伯伯，您把尾巴借给我行吗？”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老牛说：“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不行啊，我要用尾巴赶蝇子呢。”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4086"/>
                </a:solidFill>
                <a:latin typeface="Tahoma"/>
              </a:rPr>
              <a:t>老牛的理由</a:t>
            </a:r>
            <a:r>
              <a:rPr b="1" lang="en-US" sz="2800" spc="-1" strike="noStrike">
                <a:solidFill>
                  <a:srgbClr val="664086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008000"/>
                </a:solidFill>
                <a:latin typeface="Tahoma"/>
              </a:rPr>
              <a:t>因为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```````</a:t>
            </a:r>
            <a:r>
              <a:rPr b="1" lang="zh-CN" sz="2800" spc="-1" strike="noStrike">
                <a:solidFill>
                  <a:srgbClr val="008000"/>
                </a:solidFill>
                <a:latin typeface="Tahoma"/>
              </a:rPr>
              <a:t>所以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```````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人教版小学语文</a:t>
            </a:r>
            <a:br>
              <a:rPr sz="4400"/>
            </a:b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一年级下册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  <a:ea typeface="黑体"/>
              </a:rPr>
              <a:t>第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黑体"/>
              </a:rPr>
              <a:t>17</a:t>
            </a:r>
            <a:r>
              <a:rPr b="1" lang="zh-CN" sz="2800" spc="-1" strike="noStrike">
                <a:solidFill>
                  <a:srgbClr val="545472"/>
                </a:solidFill>
                <a:latin typeface="Tahoma"/>
                <a:ea typeface="黑体"/>
              </a:rPr>
              <a:t>课小壁虎借尾巴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  <a:ea typeface="黑体"/>
              </a:rPr>
              <a:t>姓名：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  <a:ea typeface="黑体"/>
              </a:rPr>
              <a:t>学号：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黑体"/>
              </a:rPr>
              <a:t>00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  <a:ea typeface="黑体"/>
              </a:rPr>
              <a:t>学院：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11280" y="476280"/>
            <a:ext cx="575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小壁虎借不到尾巴，心里很难过。他爬呀爬，爬回家里找妈妈。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　　   小壁虎把借尾巴的事告诉了妈妈。妈妈笑着说：“傻孩子，你转过身子看看。”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小壁虎转身一看，高兴得叫了起来：“我长出一条新尾巴啦！”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1628640"/>
            <a:ext cx="23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</a:rPr>
              <a:t>小壁虎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借尾巴的</a:t>
            </a:r>
            <a:r>
              <a:rPr b="1" lang="zh-CN" sz="4000" spc="-1" strike="noStrike">
                <a:solidFill>
                  <a:srgbClr val="008000"/>
                </a:solidFill>
                <a:latin typeface="Tahoma"/>
              </a:rPr>
              <a:t>结果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920" y="76788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4086"/>
                </a:solidFill>
                <a:latin typeface="Tahoma"/>
                <a:ea typeface="黑体"/>
              </a:rPr>
              <a:t>  </a:t>
            </a:r>
            <a:r>
              <a:rPr b="1" lang="zh-CN" sz="4000" spc="-1" strike="noStrike">
                <a:solidFill>
                  <a:srgbClr val="664086"/>
                </a:solidFill>
                <a:latin typeface="Tahoma"/>
                <a:ea typeface="黑体"/>
              </a:rPr>
              <a:t>照样子连一连，再读一读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60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小鱼     </a:t>
            </a:r>
            <a:r>
              <a:rPr b="1" lang="zh-CN" sz="3200" spc="-1" strike="noStrike" u="sng">
                <a:solidFill>
                  <a:srgbClr val="545472"/>
                </a:solidFill>
                <a:uFillTx/>
                <a:latin typeface="Tahoma"/>
              </a:rPr>
              <a:t>游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    来     </a:t>
            </a:r>
            <a:r>
              <a:rPr b="1" lang="zh-CN" sz="3200" spc="-1" strike="noStrike" u="sng">
                <a:solidFill>
                  <a:srgbClr val="545472"/>
                </a:solidFill>
                <a:uFillTx/>
                <a:latin typeface="Tahoma"/>
              </a:rPr>
              <a:t>游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    去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8"/>
                </a:solidFill>
                <a:latin typeface="Tahoma"/>
              </a:rPr>
              <a:t>燕子（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</a:rPr>
              <a:t>飞</a:t>
            </a:r>
            <a:r>
              <a:rPr b="1" lang="zh-CN" sz="3200" spc="-1" strike="noStrike">
                <a:solidFill>
                  <a:srgbClr val="000008"/>
                </a:solidFill>
                <a:latin typeface="Tahoma"/>
              </a:rPr>
              <a:t>）来（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</a:rPr>
              <a:t>飞</a:t>
            </a:r>
            <a:r>
              <a:rPr b="1" lang="zh-CN" sz="3200" spc="-1" strike="noStrike">
                <a:solidFill>
                  <a:srgbClr val="000008"/>
                </a:solidFill>
                <a:latin typeface="Tahoma"/>
              </a:rPr>
              <a:t>） 去。           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8"/>
                </a:solidFill>
                <a:latin typeface="Tahoma"/>
              </a:rPr>
              <a:t>老牛（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</a:rPr>
              <a:t>跑</a:t>
            </a:r>
            <a:r>
              <a:rPr b="1" lang="zh-CN" sz="3200" spc="-1" strike="noStrike">
                <a:solidFill>
                  <a:srgbClr val="000008"/>
                </a:solidFill>
                <a:latin typeface="Tahoma"/>
              </a:rPr>
              <a:t>）来（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</a:rPr>
              <a:t>跑</a:t>
            </a:r>
            <a:r>
              <a:rPr b="1" lang="zh-CN" sz="3200" spc="-1" strike="noStrike">
                <a:solidFill>
                  <a:srgbClr val="000008"/>
                </a:solidFill>
                <a:latin typeface="Tahoma"/>
              </a:rPr>
              <a:t>） 去。          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8"/>
                </a:solidFill>
                <a:latin typeface="Tahoma"/>
              </a:rPr>
              <a:t>壁虎（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</a:rPr>
              <a:t>爬</a:t>
            </a:r>
            <a:r>
              <a:rPr b="1" lang="zh-CN" sz="3200" spc="-1" strike="noStrike">
                <a:solidFill>
                  <a:srgbClr val="000008"/>
                </a:solidFill>
                <a:latin typeface="Tahoma"/>
              </a:rPr>
              <a:t>）来 （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</a:rPr>
              <a:t>爬</a:t>
            </a:r>
            <a:r>
              <a:rPr b="1" lang="zh-CN" sz="3200" spc="-1" strike="noStrike">
                <a:solidFill>
                  <a:srgbClr val="000008"/>
                </a:solidFill>
                <a:latin typeface="Tahoma"/>
              </a:rPr>
              <a:t>） 去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8"/>
                </a:solidFill>
                <a:latin typeface="Tahoma"/>
              </a:rPr>
              <a:t>-------(       )  </a:t>
            </a:r>
            <a:r>
              <a:rPr b="1" lang="zh-CN" sz="3200" spc="-1" strike="noStrike">
                <a:solidFill>
                  <a:srgbClr val="000008"/>
                </a:solidFill>
                <a:latin typeface="Tahoma"/>
              </a:rPr>
              <a:t>来</a:t>
            </a:r>
            <a:r>
              <a:rPr b="1" lang="en-US" sz="3200" spc="-1" strike="noStrike">
                <a:solidFill>
                  <a:srgbClr val="000008"/>
                </a:solidFill>
                <a:latin typeface="Tahoma"/>
              </a:rPr>
              <a:t>(       )</a:t>
            </a:r>
            <a:r>
              <a:rPr b="1" lang="zh-CN" sz="3200" spc="-1" strike="noStrike">
                <a:solidFill>
                  <a:srgbClr val="000008"/>
                </a:solidFill>
                <a:latin typeface="Tahoma"/>
              </a:rPr>
              <a:t>去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564000" y="2565360"/>
            <a:ext cx="439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ahoma"/>
              </a:rPr>
              <a:t>再生指生物体的一部分当受到损坏、脱落或截除之后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Tahoma"/>
              </a:rPr>
              <a:t>又重新生成的过程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ahoma"/>
              </a:rPr>
              <a:t>小壁虎为了保护自己的生命而主动挣断尾巴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8000"/>
                </a:solidFill>
                <a:latin typeface="Tahoma"/>
              </a:rPr>
              <a:t>一段时间后又长出尾巴的现象就是再生现象</a:t>
            </a: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765000"/>
            <a:ext cx="388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黑体"/>
              </a:rPr>
              <a:t>小知识之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生物体的再生现象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52560" cy="2209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2286000" y="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419720" y="0"/>
            <a:ext cx="1941480" cy="2209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7162920" y="30492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1143000" y="2514600"/>
            <a:ext cx="1771560" cy="2057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3657600" y="2590920"/>
            <a:ext cx="1749600" cy="182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5943600" y="2590920"/>
            <a:ext cx="1676520" cy="1898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9"/>
          <a:stretch/>
        </p:blipFill>
        <p:spPr>
          <a:xfrm>
            <a:off x="0" y="4749840"/>
            <a:ext cx="1808280" cy="2108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0"/>
          <a:stretch/>
        </p:blipFill>
        <p:spPr>
          <a:xfrm>
            <a:off x="2362320" y="4876920"/>
            <a:ext cx="1919160" cy="1981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1"/>
          <a:stretch/>
        </p:blipFill>
        <p:spPr>
          <a:xfrm>
            <a:off x="5029200" y="4800600"/>
            <a:ext cx="1828800" cy="1846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2"/>
          <a:stretch/>
        </p:blipFill>
        <p:spPr>
          <a:xfrm>
            <a:off x="7315200" y="4800600"/>
            <a:ext cx="1600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076720" y="1557360"/>
            <a:ext cx="3541680" cy="3767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55640" y="191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孔雀的尾巴在遇到危险的时候，它会打开尾屏，暂时吓退或迷惑敌人，保护自己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39204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黑体"/>
              </a:rPr>
              <a:t>孔雀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419720" y="2209680"/>
            <a:ext cx="3968640" cy="3524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419640" y="836640"/>
            <a:ext cx="1295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猴子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2924280"/>
            <a:ext cx="33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4086"/>
                </a:solidFill>
                <a:latin typeface="Times New Roman"/>
              </a:rPr>
              <a:t>猴子把尾巴钩在树上荡秋千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508720" y="2133720"/>
            <a:ext cx="3429000" cy="3200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268360" y="32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啄木鸟的尾巴靠在树上支撑身体，帮助捉虫。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70840" y="836640"/>
            <a:ext cx="16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黑体"/>
              </a:rPr>
              <a:t>啄木鸟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932360" y="11970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971640" y="2492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4086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664086"/>
                </a:solidFill>
                <a:latin typeface="Tahoma"/>
              </a:rPr>
              <a:t>马的尾巴能赶小虫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40960" y="53496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黑体"/>
              </a:rPr>
              <a:t>马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229280" cy="3352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480" y="2514600"/>
            <a:ext cx="37339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松鼠的尾巴在跳跃时，能保持身体平衡。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晚上睡觉时，把尾巴盖在身上，当被子。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0000" y="98100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</a:rPr>
              <a:t>松鼠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24360" y="7650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黑体"/>
              </a:rPr>
              <a:t>鲨鱼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429264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鲨鱼的尾巴能控制游动的方向。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  <a:ea typeface="黑体"/>
              </a:rPr>
              <a:t>教学目标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会认本课“壁、虎”等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个生字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会写“河、姐”等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个生字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理解新词意思。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能正确、有感情以及流利地朗读课文。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通过读课文了解小壁虎借尾巴的经过，知道小鱼、老牛、燕子尾巴的用处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了解其他动物的尾巴的用处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  <a:ea typeface="楷体_GB2312"/>
              </a:rPr>
              <a:t>激发探索自然奥秘的兴趣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  <a:ea typeface="楷体_GB2312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3810240" cy="3124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500720" y="213372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ahoma"/>
              </a:rPr>
              <a:t>   </a:t>
            </a:r>
            <a:r>
              <a:rPr b="1" lang="zh-CN" sz="3600" spc="-1" strike="noStrike">
                <a:solidFill>
                  <a:srgbClr val="008000"/>
                </a:solidFill>
                <a:latin typeface="Tahoma"/>
              </a:rPr>
              <a:t>豹子的尾巴能在   快速奔跑中保持身体平衡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9228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黑体"/>
              </a:rPr>
              <a:t>豹子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213200" y="4220280"/>
            <a:ext cx="300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小鱼    拨水</a:t>
            </a:r>
            <a:br>
              <a:rPr sz="3200"/>
            </a:b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老牛    赶蝇子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燕子    掌握方向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44040" y="1627560"/>
            <a:ext cx="383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小壁虎想从小鱼、老牛、燕子那儿借尾巴，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可是他们的尾巴都有自己的用处，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不能借给小壁虎。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34290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小朋友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它们的尾巴有什么用呢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71640" y="9079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  <a:ea typeface="仿宋_GB2312"/>
              </a:rPr>
              <a:t>想一想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661560" y="620640"/>
            <a:ext cx="137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想一想</a:t>
            </a:r>
            <a:endParaRPr b="0" lang="en-US" sz="4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360" y="1628640"/>
            <a:ext cx="65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小壁虎想从小鱼、老牛、燕子那儿借尾巴，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可是他们的尾巴都有自己的用处，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8000"/>
                </a:solidFill>
                <a:latin typeface="Tahoma"/>
              </a:rPr>
              <a:t>不能借给小壁虎。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94000" y="4508640"/>
            <a:ext cx="43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小朋友们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它们的尾巴有什么用呢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52293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小鱼    拨水</a:t>
            </a:r>
            <a:br>
              <a:rPr sz="2800"/>
            </a:b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老牛    赶蝇子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燕子    掌握方向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182880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24000" y="5373720"/>
            <a:ext cx="4495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Thank you!!!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隶书"/>
              </a:rPr>
              <a:t>                               </a:t>
            </a:r>
            <a:r>
              <a:rPr b="1" lang="zh-CN" sz="4400" spc="-1" strike="noStrike">
                <a:solidFill>
                  <a:srgbClr val="8b3b6e"/>
                </a:solidFill>
                <a:latin typeface="Tahoma"/>
                <a:ea typeface="黑体"/>
              </a:rPr>
              <a:t>引导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4086"/>
                </a:solidFill>
                <a:latin typeface="Tahoma"/>
                <a:ea typeface="隶书"/>
              </a:rPr>
              <a:t>    </a:t>
            </a:r>
            <a:r>
              <a:rPr b="1" lang="zh-CN" sz="3200" spc="-1" strike="noStrike">
                <a:solidFill>
                  <a:srgbClr val="664086"/>
                </a:solidFill>
                <a:latin typeface="Tahoma"/>
                <a:ea typeface="隶书"/>
              </a:rPr>
              <a:t>今天，老师给小朋友们带来一个小谜语，看谁最聪明，能够猜出来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      “</a:t>
            </a:r>
            <a:r>
              <a:rPr b="1" lang="zh-CN" sz="3600" spc="-1" strike="noStrike">
                <a:solidFill>
                  <a:srgbClr val="545472"/>
                </a:solidFill>
                <a:latin typeface="Tahoma"/>
              </a:rPr>
              <a:t>叫虎不是虎，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545472"/>
                </a:solidFill>
                <a:latin typeface="Tahoma"/>
              </a:rPr>
              <a:t>生来有四足。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545472"/>
                </a:solidFill>
                <a:latin typeface="Tahoma"/>
              </a:rPr>
              <a:t>爱在墙角住，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545472"/>
                </a:solidFill>
                <a:latin typeface="Tahoma"/>
              </a:rPr>
              <a:t>专吃蚊蝇虫。”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猜一动物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628720" y="2287440"/>
            <a:ext cx="32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隶书"/>
              </a:rPr>
              <a:t>见过小壁虎吗？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隶书"/>
              </a:rPr>
              <a:t>壁虎是怎样一种动物呢？ 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15360" y="765000"/>
            <a:ext cx="35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17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课   小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壁虎借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尾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认识壁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3851280" cy="4248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067280" y="692280"/>
            <a:ext cx="482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壁虎是一种爬行动物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它的身体扁平，四肢短，脚趾上有吸盘，可附在墙壁上迅速爬行，有长长的尾巴。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壁虎是益虫，吃蚊子、蝇等小虫子。对人类有益</a:t>
            </a:r>
            <a:r>
              <a:rPr b="1" lang="en-US" sz="36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.</a:t>
            </a: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55640" y="191628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小壁虎为什么借尾巴？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它向谁借尾巴了？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借到了吗？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692280"/>
            <a:ext cx="3168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隶书"/>
              </a:rPr>
              <a:t>            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问题</a:t>
            </a:r>
            <a:endParaRPr b="0" lang="en-US" sz="4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19280" y="549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隶书"/>
              </a:rPr>
              <a:t>小壁虎在墙角捉蚊子，一条蛇咬住了它的尾巴。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隶书"/>
              </a:rPr>
              <a:t>小壁虎一挣，挣断尾巴逃走了。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隶书"/>
              </a:rPr>
              <a:t>没有尾巴多难看啊！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  <a:ea typeface="隶书"/>
              </a:rPr>
              <a:t>小壁虎想，向谁去借一条尾巴呢？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7:20:38Z</dcterms:created>
  <dc:creator>chinaz</dc:creator>
  <dc:description/>
  <dc:language>en-US</dc:language>
  <cp:lastModifiedBy>LEG</cp:lastModifiedBy>
  <cp:lastPrinted>1899-12-30T00:00:00Z</cp:lastPrinted>
  <dcterms:modified xsi:type="dcterms:W3CDTF">2011-05-24T11:40:44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