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4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32B-681D-4255-BBBA-B5C0315F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FDE-3DAB-491A-BD67-66B57D6E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D4A-1AAA-4C89-8603-E03C703B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C6A-2954-4DEB-AAD8-C4FD53C8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6ED3-8B26-46CB-AD67-0265D212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2A8F-695F-47AE-BEB5-0CAEB4EA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D943-8A17-4BCF-B087-014BE2A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57AD-55F7-4D1B-AC50-82F737C1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21D-4424-4B88-97B9-5B833665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B3A-BAC3-4DFD-8395-5B1436A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F218-B5D2-4FA3-A85C-B554F9D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037-1D4D-43DA-8640-7B3FE903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EEC9-87F7-4958-AD4C-039F221A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A26C-FDD6-4CD1-8956-82FF717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B58B-F96B-4635-892B-F6DBEE7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B8A4-B506-4917-9AB3-BAD76406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DACE-5D73-4DB1-9691-E7CB2305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201-FEC5-4CC4-A56F-6563E12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FF01-89A0-4835-AA76-AFA25526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C32-EBF8-4C94-9A44-B80CFA2A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3E6-2499-4FDD-91BD-5D93EAE5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9DC-2667-48B6-80C4-1BB8F42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093-E33D-4088-AC36-BE624805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BA4-F2DE-44B8-9413-12334E3E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6CFD-CA56-4BCB-875E-ECC55F8AAE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10200"/>
            <a:ext cx="1763640" cy="8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0C4-A083-4471-9EAB-949B507C07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184464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学语文第二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19480" y="300204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70828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  <a:ea typeface="黑体"/>
              </a:rPr>
              <a:t>小 壁 虎 借 尾 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549360"/>
            <a:ext cx="79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壁虎没借到尾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情如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3480" y="3075120"/>
            <a:ext cx="714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20606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后来小壁虎为什么又高兴起来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3789360"/>
            <a:ext cx="68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壁虎的尾巴有什么特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4508640"/>
            <a:ext cx="756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壁虎的尾巴易断，断后还能再长出新尾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种能力叫“再生”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生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帮助小壁虎逃避敌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效地保护自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285264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壁虎长出一条新尾巴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56200" y="12016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难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69228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训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557360"/>
            <a:ext cx="71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想想小壁虎还可能会向谁去借尾巴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编一个小故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4941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提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: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松鼠的尾巴能当降落伞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在树上跳来跳去掌握平衡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还能当一床非常温暖的被子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2781360"/>
            <a:ext cx="48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提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梅花鹿的尾巴可以报警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只要向上一翘就告诉所有的伙伴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伤害它们的敌人来了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赶快跑吧</a:t>
            </a:r>
            <a:r>
              <a:rPr b="0" lang="zh-CN" sz="2800" spc="-1" strike="noStrike">
                <a:solidFill>
                  <a:srgbClr val="80008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0" t="0" r="95" b="0"/>
          <a:stretch/>
        </p:blipFill>
        <p:spPr>
          <a:xfrm>
            <a:off x="6516720" y="2205000"/>
            <a:ext cx="1512720" cy="2590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0" t="0" r="0" b="-306"/>
          <a:stretch/>
        </p:blipFill>
        <p:spPr>
          <a:xfrm>
            <a:off x="6443640" y="4941720"/>
            <a:ext cx="201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72200" y="50760"/>
            <a:ext cx="38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壁虎是一种爬行动物。它的身体扁平，四肢短，脚趾上有吸盘，可附在墙壁上迅速爬行，有长长的尾巴。壁虎是益虫，吃蚊子、蝇等小虫子。对人类有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壁虎在墙角里捉蚊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一条蛇咬住了他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尾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壁虎一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挣断尾巴逃走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8400" y="3059280"/>
            <a:ext cx="315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墙角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7520 w 826920"/>
              <a:gd name="textAreaRight" fmla="*/ 779400 w 82692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2004" y="1344"/>
                </a:lnTo>
                <a:lnTo>
                  <a:pt x="1344" y="1344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2004" y="20256"/>
                </a:lnTo>
                <a:lnTo>
                  <a:pt x="22004" y="1344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344" y="20256"/>
                </a:lnTo>
                <a:lnTo>
                  <a:pt x="22004" y="20256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344" y="1344"/>
                </a:lnTo>
                <a:lnTo>
                  <a:pt x="1344" y="20256"/>
                </a:lnTo>
                <a:close/>
              </a:path>
              <a:path fill="darken" w="23348" h="21600">
                <a:moveTo>
                  <a:pt x="4626" y="3752"/>
                </a:moveTo>
                <a:lnTo>
                  <a:pt x="18722" y="10800"/>
                </a:lnTo>
                <a:lnTo>
                  <a:pt x="4626" y="17848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12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348000" y="530064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鱼姐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把尾巴借给我行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170028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500280"/>
            <a:ext cx="340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不行啊！我要用尾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拔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呢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532720" y="7174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508720" y="1989000"/>
            <a:ext cx="32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小河边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324000" y="6093000"/>
            <a:ext cx="755640" cy="576000"/>
          </a:xfrm>
          <a:custGeom>
            <a:avLst/>
            <a:gdLst>
              <a:gd name="textAreaLeft" fmla="*/ 36360 w 755640"/>
              <a:gd name="textAreaRight" fmla="*/ 719280 w 755640"/>
              <a:gd name="textAreaTop" fmla="*/ 36360 h 576000"/>
              <a:gd name="textAreaBottom" fmla="*/ 539640 h 576000"/>
            </a:gdLst>
            <a:ahLst/>
            <a:rect l="textAreaLeft" t="textAreaTop" r="textAreaRight" b="textAreaBottom"/>
            <a:pathLst>
              <a:path w="28332" h="21600">
                <a:moveTo>
                  <a:pt x="0" y="0"/>
                </a:moveTo>
                <a:lnTo>
                  <a:pt x="28332" y="0"/>
                </a:lnTo>
                <a:lnTo>
                  <a:pt x="28332" y="21600"/>
                </a:lnTo>
                <a:lnTo>
                  <a:pt x="0" y="21600"/>
                </a:lnTo>
                <a:close/>
              </a:path>
              <a:path fill="lightenLess" w="28332" h="21600">
                <a:moveTo>
                  <a:pt x="0" y="0"/>
                </a:moveTo>
                <a:lnTo>
                  <a:pt x="28332" y="0"/>
                </a:lnTo>
                <a:lnTo>
                  <a:pt x="26963" y="1369"/>
                </a:lnTo>
                <a:lnTo>
                  <a:pt x="1369" y="1369"/>
                </a:lnTo>
                <a:close/>
              </a:path>
              <a:path fill="darken" w="28332" h="21600">
                <a:moveTo>
                  <a:pt x="28332" y="0"/>
                </a:moveTo>
                <a:lnTo>
                  <a:pt x="28332" y="21600"/>
                </a:lnTo>
                <a:lnTo>
                  <a:pt x="26963" y="20231"/>
                </a:lnTo>
                <a:lnTo>
                  <a:pt x="26963" y="1369"/>
                </a:lnTo>
                <a:close/>
              </a:path>
              <a:path fill="darkenLess" w="28332" h="21600">
                <a:moveTo>
                  <a:pt x="28332" y="21600"/>
                </a:moveTo>
                <a:lnTo>
                  <a:pt x="0" y="21600"/>
                </a:lnTo>
                <a:lnTo>
                  <a:pt x="1369" y="20231"/>
                </a:lnTo>
                <a:lnTo>
                  <a:pt x="26963" y="20231"/>
                </a:lnTo>
                <a:close/>
              </a:path>
              <a:path fill="lighten" w="28332" h="21600">
                <a:moveTo>
                  <a:pt x="0" y="21600"/>
                </a:moveTo>
                <a:lnTo>
                  <a:pt x="0" y="0"/>
                </a:lnTo>
                <a:lnTo>
                  <a:pt x="1369" y="1369"/>
                </a:lnTo>
                <a:lnTo>
                  <a:pt x="1369" y="20231"/>
                </a:lnTo>
                <a:close/>
              </a:path>
              <a:path fill="darken" w="28332" h="21600">
                <a:moveTo>
                  <a:pt x="7137" y="3770"/>
                </a:moveTo>
                <a:lnTo>
                  <a:pt x="21196" y="10800"/>
                </a:lnTo>
                <a:lnTo>
                  <a:pt x="7137" y="1783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72200" y="1413000"/>
            <a:ext cx="275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黄牛伯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您把尾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借给我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95840" y="5300640"/>
            <a:ext cx="354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不行啊！我要用尾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赶蝇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呢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68360" y="620640"/>
            <a:ext cx="33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大树上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79480" y="2193840"/>
            <a:ext cx="18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0792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燕子阿姨，您把尾巴借给行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1840" y="457056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不行啊！我要用尾巴掌握方向呢。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46920" y="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屋檐下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8352000" y="635328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23949" y="10800"/>
                </a:lnTo>
                <a:lnTo>
                  <a:pt x="993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981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壁虎为什么要去借尾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342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小壁虎没有了尾巴怎么想？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39640" y="2060640"/>
            <a:ext cx="1079640" cy="1008000"/>
          </a:xfrm>
          <a:custGeom>
            <a:avLst/>
            <a:gdLst>
              <a:gd name="textAreaLeft" fmla="*/ 63360 w 1079640"/>
              <a:gd name="textAreaRight" fmla="*/ 1016280 w 1079640"/>
              <a:gd name="textAreaTop" fmla="*/ 63360 h 1008000"/>
              <a:gd name="textAreaBottom" fmla="*/ 944640 h 1008000"/>
            </a:gdLst>
            <a:ahLst/>
            <a:rect l="textAreaLeft" t="textAreaTop" r="textAreaRight" b="textAreaBottom"/>
            <a:pathLst>
              <a:path w="23135" h="21600">
                <a:moveTo>
                  <a:pt x="0" y="0"/>
                </a:moveTo>
                <a:lnTo>
                  <a:pt x="23135" y="0"/>
                </a:lnTo>
                <a:lnTo>
                  <a:pt x="23135" y="21600"/>
                </a:lnTo>
                <a:lnTo>
                  <a:pt x="0" y="21600"/>
                </a:lnTo>
                <a:close/>
              </a:path>
              <a:path fill="lightenLess" w="23135" h="21600">
                <a:moveTo>
                  <a:pt x="0" y="0"/>
                </a:moveTo>
                <a:lnTo>
                  <a:pt x="23135" y="0"/>
                </a:lnTo>
                <a:lnTo>
                  <a:pt x="21774" y="1361"/>
                </a:lnTo>
                <a:lnTo>
                  <a:pt x="1361" y="1361"/>
                </a:lnTo>
                <a:close/>
              </a:path>
              <a:path fill="darken" w="23135" h="21600">
                <a:moveTo>
                  <a:pt x="23135" y="0"/>
                </a:moveTo>
                <a:lnTo>
                  <a:pt x="23135" y="21600"/>
                </a:lnTo>
                <a:lnTo>
                  <a:pt x="21774" y="20239"/>
                </a:lnTo>
                <a:lnTo>
                  <a:pt x="21774" y="1361"/>
                </a:lnTo>
                <a:close/>
              </a:path>
              <a:path fill="darkenLess" w="23135" h="21600">
                <a:moveTo>
                  <a:pt x="23135" y="21600"/>
                </a:moveTo>
                <a:lnTo>
                  <a:pt x="0" y="21600"/>
                </a:lnTo>
                <a:lnTo>
                  <a:pt x="1361" y="20239"/>
                </a:lnTo>
                <a:lnTo>
                  <a:pt x="21774" y="20239"/>
                </a:lnTo>
                <a:close/>
              </a:path>
              <a:path fill="lighten" w="23135" h="21600">
                <a:moveTo>
                  <a:pt x="0" y="21600"/>
                </a:moveTo>
                <a:lnTo>
                  <a:pt x="0" y="0"/>
                </a:lnTo>
                <a:lnTo>
                  <a:pt x="1361" y="1361"/>
                </a:lnTo>
                <a:lnTo>
                  <a:pt x="1361" y="20239"/>
                </a:lnTo>
                <a:close/>
              </a:path>
              <a:path fill="darken" w="23135" h="21600">
                <a:moveTo>
                  <a:pt x="4532" y="3764"/>
                </a:moveTo>
                <a:lnTo>
                  <a:pt x="18603" y="10800"/>
                </a:lnTo>
                <a:lnTo>
                  <a:pt x="4532" y="1783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443700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没有尾巴多难看哪！小壁虎想，向谁去借一条尾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1916280"/>
            <a:ext cx="70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挣断尾巴（小壁虎为了保护自己。它的尾巴不是很结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挣就能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437000"/>
            <a:ext cx="801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5157720"/>
            <a:ext cx="1657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5229360"/>
            <a:ext cx="172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5805360"/>
            <a:ext cx="1008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229360"/>
            <a:ext cx="146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5157720"/>
            <a:ext cx="146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805360"/>
            <a:ext cx="1100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5877000"/>
            <a:ext cx="158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93200" y="7389720"/>
            <a:ext cx="110016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11280" y="765000"/>
            <a:ext cx="96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壁虎到过哪些地方？跟谁借过尾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39640" y="1413000"/>
            <a:ext cx="936720" cy="1081080"/>
          </a:xfrm>
          <a:custGeom>
            <a:avLst/>
            <a:gdLst>
              <a:gd name="textAreaLeft" fmla="*/ 58680 w 936720"/>
              <a:gd name="textAreaRight" fmla="*/ 878040 w 936720"/>
              <a:gd name="textAreaTop" fmla="*/ 58680 h 1081080"/>
              <a:gd name="textAreaBottom" fmla="*/ 1022400 h 1081080"/>
            </a:gdLst>
            <a:ahLst/>
            <a:rect l="textAreaLeft" t="textAreaTop" r="textAreaRight" b="textAreaBottom"/>
            <a:pathLst>
              <a:path w="21600" h="24928">
                <a:moveTo>
                  <a:pt x="0" y="0"/>
                </a:moveTo>
                <a:lnTo>
                  <a:pt x="21600" y="0"/>
                </a:lnTo>
                <a:lnTo>
                  <a:pt x="21600" y="24928"/>
                </a:lnTo>
                <a:lnTo>
                  <a:pt x="0" y="24928"/>
                </a:lnTo>
                <a:close/>
              </a:path>
              <a:path fill="lightenLess" w="21600" h="24928">
                <a:moveTo>
                  <a:pt x="0" y="0"/>
                </a:moveTo>
                <a:lnTo>
                  <a:pt x="21600" y="0"/>
                </a:lnTo>
                <a:lnTo>
                  <a:pt x="20245" y="1355"/>
                </a:lnTo>
                <a:lnTo>
                  <a:pt x="1355" y="1355"/>
                </a:lnTo>
                <a:close/>
              </a:path>
              <a:path fill="darken" w="21600" h="24928">
                <a:moveTo>
                  <a:pt x="21600" y="0"/>
                </a:moveTo>
                <a:lnTo>
                  <a:pt x="21600" y="24928"/>
                </a:lnTo>
                <a:lnTo>
                  <a:pt x="20245" y="23573"/>
                </a:lnTo>
                <a:lnTo>
                  <a:pt x="20245" y="1355"/>
                </a:lnTo>
                <a:close/>
              </a:path>
              <a:path fill="darkenLess" w="21600" h="24928">
                <a:moveTo>
                  <a:pt x="21600" y="24928"/>
                </a:moveTo>
                <a:lnTo>
                  <a:pt x="0" y="24928"/>
                </a:lnTo>
                <a:lnTo>
                  <a:pt x="1355" y="23573"/>
                </a:lnTo>
                <a:lnTo>
                  <a:pt x="20245" y="23573"/>
                </a:lnTo>
                <a:close/>
              </a:path>
              <a:path fill="lighten" w="21600" h="24928">
                <a:moveTo>
                  <a:pt x="0" y="24928"/>
                </a:moveTo>
                <a:lnTo>
                  <a:pt x="0" y="0"/>
                </a:lnTo>
                <a:lnTo>
                  <a:pt x="1355" y="1355"/>
                </a:lnTo>
                <a:lnTo>
                  <a:pt x="1355" y="23573"/>
                </a:lnTo>
                <a:close/>
              </a:path>
              <a:path fill="darken" w="21600" h="24928">
                <a:moveTo>
                  <a:pt x="3760" y="5424"/>
                </a:moveTo>
                <a:lnTo>
                  <a:pt x="17840" y="12464"/>
                </a:lnTo>
                <a:lnTo>
                  <a:pt x="3760" y="1950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24040" y="134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4052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51560" y="1360440"/>
            <a:ext cx="13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河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341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树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4360" y="1341360"/>
            <a:ext cx="13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屋檐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196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19680" y="2205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老黄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22050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198900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191628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1916280"/>
            <a:ext cx="1297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2852640"/>
            <a:ext cx="792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2852640"/>
            <a:ext cx="115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85264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85264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姐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28526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伯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28526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4258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它们把尾巴借给小壁虎了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为什么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784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0" r="-79" b="156"/>
          <a:stretch/>
        </p:blipFill>
        <p:spPr>
          <a:xfrm>
            <a:off x="0" y="260280"/>
            <a:ext cx="341964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19120" y="530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54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rcRect l="0" t="0" r="164" b="0"/>
          <a:stretch/>
        </p:blipFill>
        <p:spPr>
          <a:xfrm>
            <a:off x="6800760" y="0"/>
            <a:ext cx="2343240" cy="3456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43480" y="1130400"/>
            <a:ext cx="333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摇着尾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989000"/>
            <a:ext cx="250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拨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59120" y="444168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75120" y="4299120"/>
            <a:ext cx="326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甩着尾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084640"/>
            <a:ext cx="290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赶蝇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19680" y="3382920"/>
            <a:ext cx="152100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摆着尾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01320" y="3357720"/>
            <a:ext cx="16426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掌握方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rcRect l="0" t="0" r="-77" b="109"/>
          <a:stretch/>
        </p:blipFill>
        <p:spPr>
          <a:xfrm>
            <a:off x="0" y="3879720"/>
            <a:ext cx="3736800" cy="29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07:34:56Z</dcterms:created>
  <dc:creator>rsh</dc:creator>
  <dc:description/>
  <dc:language>en-US</dc:language>
  <cp:lastModifiedBy>USER</cp:lastModifiedBy>
  <dcterms:modified xsi:type="dcterms:W3CDTF">2012-02-20T06:15:32Z</dcterms:modified>
  <cp:revision>27</cp:revision>
  <dc:subject/>
  <dc:title>幻灯片 1</dc:title>
</cp:coreProperties>
</file>