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19.jpeg" ContentType="image/jpeg"/>
  <Override PartName="/ppt/media/image25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8.gif" ContentType="image/gif"/>
  <Override PartName="/ppt/media/image9.jpeg" ContentType="image/jpeg"/>
  <Override PartName="/ppt/media/03.wav" ContentType="audio/x-wav"/>
  <Override PartName="/ppt/media/image11.jpeg" ContentType="image/jpeg"/>
  <Override PartName="/ppt/media/whoosh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7.jpeg" ContentType="image/jpeg"/>
  <Override PartName="/ppt/media/laser.wav" ContentType="audio/x-wav"/>
  <Override PartName="/ppt/media/image26.jpeg" ContentType="image/jpeg"/>
  <Override PartName="/ppt/media/02.wav" ContentType="audio/x-wav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gif" ContentType="image/gif"/>
  <Override PartName="/ppt/media/MTA_010.WAV" ContentType="audio/x-wav"/>
  <Override PartName="/ppt/media/image23.jpeg" ContentType="image/jpeg"/>
  <Override PartName="/ppt/media/image12.png" ContentType="image/png"/>
  <Override PartName="/ppt/media/image20.jpeg" ContentType="image/jpeg"/>
  <Override PartName="/ppt/media/MTA_021.WAV" ContentType="audio/x-wav"/>
  <Override PartName="/ppt/media/image1.png" ContentType="image/png"/>
  <Override PartName="/ppt/media/image13.jpeg" ContentType="image/jpeg"/>
  <Override PartName="/ppt/media/image24.jpeg" ContentType="image/jpeg"/>
  <Override PartName="/ppt/media/01.wav" ContentType="audio/x-wav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  <p:custShowLst>
    <p:custShow name="讲读" id="0">
      <p:sldLst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1294-2E3B-480B-8116-3AFB1EC5F8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E76-A4DB-42C6-9D60-907BCC8E0E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3E20-248D-4A31-96D2-5B71B93261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DEB6-ACB7-49DE-B01E-9A0F506F22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DA0A-FAAF-4C40-A49F-E16CD65DE6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3BEF-2D57-42C1-AED5-72AC9B36B0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701B-1E8C-41E4-8A22-36FB8EAE19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614F-17C2-4615-B6F3-DAE565F420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C2C7-B2E8-4C46-9402-2BED7622BE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89C-5D21-4E8E-BBA8-25C95037E98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292-2E4E-4CF7-BF84-5DB9622C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27F-4250-4CD1-96D6-0FE3B993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9A7-D714-4DCA-8CC0-FE89E1E8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640-AA5B-43C0-B011-18277387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34D6C-4CDF-4DA0-A89C-2B7756F6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645FF-087E-4A2A-A98D-BEE72202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DB7F0-7239-4D14-A994-E9806269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18DD0-1CB5-4219-9E27-97E3EC15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FE88D-887F-4A05-B613-23252DB8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C1F02-91DA-413C-8E9B-1CFAED9C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54EBC-9A78-4915-A8C1-C7CA1EE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B91-78E9-44C1-83B6-F4E91919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460A3-FA8D-4185-9210-CD9FDB1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DFCA1-8F11-40AC-BEE2-72FFE474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BE69B-BB84-4700-8EB0-BC89EAF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763B1-1E43-4603-919D-CA562B85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EFEA3-7033-4A5F-A37F-FFAB35E4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A7FA-05F5-4CF7-9B38-50CEFE09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BB16-37D7-4E50-B94D-D5526A9A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BB4E-851A-44E8-A490-521F513D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1E56-BC99-4B3D-9C64-2321E4A1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87943-1DC4-48BF-BDB5-DAD5DB96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074-FA75-40B6-BFA6-4B7560C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C4C2B-2BDB-4616-B7B1-49DF3FD7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9413-8CEB-4684-8921-CD08628E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4042-9B28-4B22-8D93-CECC980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9A71-D808-48E2-9007-8FE8375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D455-20C8-49A2-9685-E23D56E5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7801-57DA-4581-A06E-9F803D0F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8BF1-ACBA-4731-ADB7-72562E3A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367-1F71-4C00-92B3-E918FB77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043-2D50-4658-A9A1-9EADF7A0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F7F-336E-4138-BAF3-A7257A0B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10E-47F6-490B-904D-5E6AABD5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A9A-2001-49E5-9589-32706F5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32B-0654-42CF-9EBD-423CF2B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5EF-3D4E-46F5-81AE-F21C4D066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2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A30-FD2C-4767-980E-58AC21F430E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9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CDF-C20F-4226-93C1-B3D1400F843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2.png"/><Relationship Id="rId3" Type="http://schemas.openxmlformats.org/officeDocument/2006/relationships/audio" Target="../media/03.wav"/><Relationship Id="rId4" Type="http://schemas.openxmlformats.org/officeDocument/2006/relationships/audio" Target="../media/02.wav"/><Relationship Id="rId5" Type="http://schemas.openxmlformats.org/officeDocument/2006/relationships/audio" Target="../media/02.wav"/><Relationship Id="rId6" Type="http://schemas.openxmlformats.org/officeDocument/2006/relationships/audio" Target="../media/MTA_010.WAV"/><Relationship Id="rId7" Type="http://schemas.openxmlformats.org/officeDocument/2006/relationships/audio" Target="../media/MTA_010.WAV"/><Relationship Id="rId8" Type="http://schemas.openxmlformats.org/officeDocument/2006/relationships/audio" Target="../media/MTA_021.WAV"/><Relationship Id="rId9" Type="http://schemas.openxmlformats.org/officeDocument/2006/relationships/audio" Target="../media/MTA_021.WAV"/><Relationship Id="rId10" Type="http://schemas.openxmlformats.org/officeDocument/2006/relationships/audio" Target="../media/MTA_021.WAV"/><Relationship Id="rId11" Type="http://schemas.openxmlformats.org/officeDocument/2006/relationships/audio" Target="../media/03.wav"/><Relationship Id="rId12" Type="http://schemas.openxmlformats.org/officeDocument/2006/relationships/audio" Target="../media/MTA_010.WAV"/><Relationship Id="rId13" Type="http://schemas.openxmlformats.org/officeDocument/2006/relationships/audio" Target="../media/MTA_021.WAV"/><Relationship Id="rId14" Type="http://schemas.openxmlformats.org/officeDocument/2006/relationships/audio" Target="../media/03.wav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image" Target="../media/image21.jpeg"/><Relationship Id="rId3" Type="http://schemas.openxmlformats.org/officeDocument/2006/relationships/slide" Target="slide5.xml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5.xm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5.xml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03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01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02.wav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17236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86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79480" y="219384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4000" y="907920"/>
            <a:ext cx="37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燕子阿姨，您把尾巴借给行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71840" y="457056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行啊！我要用尾巴掌握方向呢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853272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046920" y="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屋檐下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rId3" action="ppaction://hlinksldjump"/>
          </p:cNvPr>
          <p:cNvSpPr/>
          <p:nvPr/>
        </p:nvSpPr>
        <p:spPr>
          <a:xfrm>
            <a:off x="8352000" y="635328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23949" y="10800"/>
                </a:lnTo>
                <a:lnTo>
                  <a:pt x="993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900000" y="4797360"/>
            <a:ext cx="140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小壁虎借不到尾巴，心里很难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他爬呀爬，爬回家里找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3780000" y="1413000"/>
            <a:ext cx="5364000" cy="863640"/>
          </a:xfrm>
          <a:prstGeom prst="wedgeRoundRectCallout">
            <a:avLst>
              <a:gd name="adj1" fmla="val -62370"/>
              <a:gd name="adj2" fmla="val 52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067280" y="1557360"/>
            <a:ext cx="53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傻孩子，你转过身子看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740720" y="2637000"/>
            <a:ext cx="1008000" cy="4221000"/>
          </a:xfrm>
          <a:prstGeom prst="wedgeRoundRectCallout">
            <a:avLst>
              <a:gd name="adj1" fmla="val -91259"/>
              <a:gd name="adj2" fmla="val -36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88680" y="452592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长出一条新尾巴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79840" y="29718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1187280" y="126828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小鱼（ ）着尾巴，在河里（  ）          来（  ）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黄牛在树下吃草。尾巴（   ）来（  ）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燕子（   ）着尾巴，在空中（   ）来（   ）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小鱼用尾巴（     ），黄牛用尾巴（       ）， 燕子用尾巴（          ），小壁虎的尾巴断了以后，还能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620640"/>
            <a:ext cx="109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课堂练习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6300720" y="41911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28472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63720" y="126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47360" y="126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897920" y="17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1500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0664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43572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1100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11720" y="21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76560" y="378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拨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9012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赶蝇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25480" y="429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掌握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5412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长出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A_0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A_0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A_0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A_0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A_0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A_0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A_02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1371600"/>
            <a:ext cx="6019920" cy="48006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3124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Bangle"/>
              </a:rPr>
              <a:t>袋鼠的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??ì?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袋鼠前肢短小，后脚长而有力，行进时，完全以后脚来跳。袋鼠的尾巴用处很大，运动时能使身体保持平衡，休息时，大尾巴支在地上，与两条后腿组成一个三角支架，稳稳地支撑住身体。它们善于跳跃，能跳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7-8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米，跳高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1.5-1.8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米。如果它们去参加奥运比赛，一定能拿到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"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双跳冠军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"</a:t>
            </a:r>
            <a:r>
              <a:rPr b="0" lang="zh-CN" sz="2400" spc="-1" strike="noStrike">
                <a:solidFill>
                  <a:srgbClr val="00ff00"/>
                </a:solidFill>
                <a:latin typeface="Arial"/>
                <a:ea typeface="??ì?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rId3" action="ppaction://hlinksldjump"/>
          </p:cNvPr>
          <p:cNvSpPr/>
          <p:nvPr/>
        </p:nvSpPr>
        <p:spPr>
          <a:xfrm>
            <a:off x="8305920" y="6400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Less" w="21600" h="28800">
                <a:moveTo>
                  <a:pt x="5273" y="7585"/>
                </a:moveTo>
                <a:lnTo>
                  <a:pt x="12271" y="7585"/>
                </a:lnTo>
                <a:lnTo>
                  <a:pt x="16327" y="11084"/>
                </a:lnTo>
                <a:lnTo>
                  <a:pt x="16327" y="21215"/>
                </a:lnTo>
                <a:lnTo>
                  <a:pt x="5273" y="21215"/>
                </a:lnTo>
                <a:close/>
              </a:path>
              <a:path fill="darken" w="21600" h="28800">
                <a:moveTo>
                  <a:pt x="12271" y="7585"/>
                </a:moveTo>
                <a:lnTo>
                  <a:pt x="16327" y="11084"/>
                </a:lnTo>
                <a:lnTo>
                  <a:pt x="12271" y="1108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5029200" cy="37908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e7fe72"/>
                </a:solidFill>
                <a:latin typeface="Arial"/>
              </a:rPr>
              <a:t>我所知道的形形色色的动物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9900"/>
                </a:solidFill>
                <a:latin typeface="Arial"/>
              </a:rPr>
              <a:t>松鼠的尾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松鼠有条特别大的尾巴，能起到的作用就更多了。由于松鼠经常在树上跳来跳去，很容易从高高的树上摔下，有了这条大尾巴起平衡作用，它就安多了。当然，万一有留神摔下来，大尾巴上的毛会蓬散松开，好像一顶降落伞，使下落速度大大减慢，保护它不容 易受伤。寒冷的冬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松鼠夜晚在树洞里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蜷起身于缩在大尾巴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这样，大尾巴又成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御寒保暖流“被子”。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近科学家还发现，松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把摆动尾巴的变化，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做它们互相交流的“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言”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  <a:hlinkClick r:id="rId2" action="ppaction://hlinksldjump"/>
          </p:cNvPr>
          <p:cNvSpPr/>
          <p:nvPr/>
        </p:nvSpPr>
        <p:spPr>
          <a:xfrm>
            <a:off x="85345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Less" w="21600" h="28800">
                <a:moveTo>
                  <a:pt x="5273" y="7585"/>
                </a:moveTo>
                <a:lnTo>
                  <a:pt x="12271" y="7585"/>
                </a:lnTo>
                <a:lnTo>
                  <a:pt x="16327" y="11084"/>
                </a:lnTo>
                <a:lnTo>
                  <a:pt x="16327" y="21215"/>
                </a:lnTo>
                <a:lnTo>
                  <a:pt x="5273" y="21215"/>
                </a:lnTo>
                <a:close/>
              </a:path>
              <a:path fill="darken" w="21600" h="28800">
                <a:moveTo>
                  <a:pt x="12271" y="7585"/>
                </a:moveTo>
                <a:lnTo>
                  <a:pt x="16327" y="11084"/>
                </a:lnTo>
                <a:lnTo>
                  <a:pt x="12271" y="1108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老虎的尾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号称“百兽之王”的老虎，除了有尖牙利齿之外，身后那条又粗又长的尾巴，是它另一个有力武器。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老虎攻击猎物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空时，会抡动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巴，像钢鞭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扫向对方，把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物击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rcRect l="0" t="0" r="0" b="5777"/>
          <a:stretch/>
        </p:blipFill>
        <p:spPr>
          <a:xfrm>
            <a:off x="3809880" y="2971800"/>
            <a:ext cx="5181840" cy="3733920"/>
          </a:xfrm>
          <a:prstGeom prst="rect">
            <a:avLst/>
          </a:prstGeom>
          <a:ln w="0">
            <a:noFill/>
          </a:ln>
        </p:spPr>
      </p:pic>
      <p:sp>
        <p:nvSpPr>
          <p:cNvPr id="650" name="">
            <a:hlinkClick r:id="rId2" action="ppaction://hlinksldjump"/>
          </p:cNvPr>
          <p:cNvSpPr/>
          <p:nvPr/>
        </p:nvSpPr>
        <p:spPr>
          <a:xfrm>
            <a:off x="8381880" y="6248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26" h="21600">
                <a:moveTo>
                  <a:pt x="5286" y="3985"/>
                </a:moveTo>
                <a:lnTo>
                  <a:pt x="12284" y="3985"/>
                </a:lnTo>
                <a:lnTo>
                  <a:pt x="16340" y="7484"/>
                </a:lnTo>
                <a:lnTo>
                  <a:pt x="16340" y="17615"/>
                </a:lnTo>
                <a:lnTo>
                  <a:pt x="5286" y="17615"/>
                </a:lnTo>
                <a:close/>
              </a:path>
              <a:path fill="darken" w="21626" h="21600">
                <a:moveTo>
                  <a:pt x="12284" y="3985"/>
                </a:moveTo>
                <a:lnTo>
                  <a:pt x="16340" y="7484"/>
                </a:lnTo>
                <a:lnTo>
                  <a:pt x="12284" y="748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981080"/>
            <a:ext cx="4152960" cy="43434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200400" y="3808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Times New Roman"/>
              </a:rPr>
              <a:t>孔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38080" y="19810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孔雀的尾巴在遇到危险的时候，它会打开尾屏，暂时吓退或迷惑敌人，保护自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53000" y="2103480"/>
            <a:ext cx="4033800" cy="35193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274320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马的尾巴能赶小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2209680"/>
            <a:ext cx="3504960" cy="30369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3200400" y="685800"/>
            <a:ext cx="5181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Times New Roman"/>
              </a:rPr>
              <a:t>猴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2743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00"/>
                </a:solidFill>
                <a:latin typeface="Times New Roman"/>
              </a:rPr>
              <a:t>猴子把尾巴钩在树上荡秋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036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rId3"/>
          </p:cNvPr>
          <p:cNvSpPr/>
          <p:nvPr/>
        </p:nvSpPr>
        <p:spPr>
          <a:xfrm>
            <a:off x="4067280" y="2421000"/>
            <a:ext cx="47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  <a:ea typeface="隶书"/>
              </a:rPr>
              <a:t>       </a:t>
            </a:r>
            <a:r>
              <a:rPr b="1" i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小朋友，你们好！我叫壁虎，我吃蚊子、苍蝇和飞蛾。是人类的朋友啊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44800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09680" y="5638680"/>
            <a:ext cx="563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771640" y="2565360"/>
            <a:ext cx="611532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彩云"/>
              </a:rPr>
              <a:t>小壁虎借尾巴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彩云"/>
              <a:ea typeface="华文彩云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50920" y="112536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xiǎo  bì   hǔ        jiè  wěi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壁 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 尾 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ì  tiáo shé             xīn wěi b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条 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 尾 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ō shuǐ    zhǎn</a:t>
            </a:r>
            <a:r>
              <a:rPr b="1" lang="zh-CN" sz="3600" spc="-1" strike="noStrike">
                <a:solidFill>
                  <a:srgbClr val="000000"/>
                </a:solidFill>
                <a:latin typeface="DotumChe"/>
                <a:ea typeface="DotumChe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wò     táo zǒu        n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3600" spc="-1" strike="noStrike">
                <a:solidFill>
                  <a:srgbClr val="000000"/>
                </a:solidFill>
                <a:latin typeface="DotumChe"/>
                <a:ea typeface="DotumChe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拨 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  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 走      难 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én  zi        jiě jie        shuǎi zhe      yín</a:t>
            </a:r>
            <a:r>
              <a:rPr b="1" lang="zh-CN" sz="3600" spc="-1" strike="noStrike">
                <a:solidFill>
                  <a:srgbClr val="000000"/>
                </a:solidFill>
                <a:latin typeface="DotumChe"/>
                <a:ea typeface="DotumChe"/>
              </a:rPr>
              <a:t>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蚊 子    姐 姐     甩  着     蝇 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56360" y="333360"/>
            <a:ext cx="2160720" cy="936720"/>
          </a:xfrm>
          <a:prstGeom prst="cloudCallout">
            <a:avLst>
              <a:gd name="adj1" fmla="val -43754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516720" y="549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">
            <a:hlinkClick r:id="rId2"/>
          </p:cNvPr>
          <p:cNvSpPr/>
          <p:nvPr/>
        </p:nvSpPr>
        <p:spPr>
          <a:xfrm>
            <a:off x="468360" y="333360"/>
            <a:ext cx="842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33ff"/>
                </a:solidFill>
                <a:latin typeface="Arial"/>
              </a:rPr>
              <a:t>拨 水        墙    角         蚊  子         挣 断        逃    走         难  看            掌 握        房    檐         转  身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3048120" cy="26668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380880" y="2971800"/>
            <a:ext cx="4343400" cy="2590920"/>
          </a:xfrm>
          <a:prstGeom prst="cloudCallout">
            <a:avLst>
              <a:gd name="adj1" fmla="val 72185"/>
              <a:gd name="adj2" fmla="val 2203"/>
            </a:avLst>
          </a:prstGeom>
          <a:blipFill rotWithShape="0">
            <a:blip r:embed="rId2"/>
            <a:srcRect/>
            <a:tile tx="0" ty="0" sx="100000" sy="100000" algn="ctr"/>
          </a:blip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335268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没有尾巴多难看哪！向谁去借一条尾巴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28800" y="457200"/>
            <a:ext cx="55627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 ————————，他觉得———————，所以———————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76720" y="3808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小壁虎的尾巴断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09880" y="990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没有尾巴很难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16002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他想去借一条尾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348000" y="530064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小鱼姐姐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你把尾巴借给我行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35280" y="170028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573360"/>
            <a:ext cx="340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不行啊！我要用尾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拔水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呢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08720" y="198900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河边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lastslide"/>
          </p:cNvPr>
          <p:cNvSpPr/>
          <p:nvPr/>
        </p:nvSpPr>
        <p:spPr>
          <a:xfrm>
            <a:off x="-2844720" y="1052640"/>
            <a:ext cx="755640" cy="576000"/>
          </a:xfrm>
          <a:custGeom>
            <a:avLst/>
            <a:gdLst>
              <a:gd name="textAreaLeft" fmla="*/ 36360 w 755640"/>
              <a:gd name="textAreaRight" fmla="*/ 719280 w 755640"/>
              <a:gd name="textAreaTop" fmla="*/ 36360 h 576000"/>
              <a:gd name="textAreaBottom" fmla="*/ 539640 h 576000"/>
            </a:gdLst>
            <a:ahLst/>
            <a:rect l="textAreaLeft" t="textAreaTop" r="textAreaRight" b="textAreaBottom"/>
            <a:pathLst>
              <a:path w="28332" h="21600">
                <a:moveTo>
                  <a:pt x="0" y="0"/>
                </a:moveTo>
                <a:lnTo>
                  <a:pt x="28332" y="0"/>
                </a:lnTo>
                <a:lnTo>
                  <a:pt x="28332" y="21600"/>
                </a:lnTo>
                <a:lnTo>
                  <a:pt x="0" y="21600"/>
                </a:lnTo>
                <a:close/>
              </a:path>
              <a:path fill="lightenLess" w="28332" h="21600">
                <a:moveTo>
                  <a:pt x="0" y="0"/>
                </a:moveTo>
                <a:lnTo>
                  <a:pt x="28332" y="0"/>
                </a:lnTo>
                <a:lnTo>
                  <a:pt x="26963" y="1369"/>
                </a:lnTo>
                <a:lnTo>
                  <a:pt x="1369" y="1369"/>
                </a:lnTo>
                <a:close/>
              </a:path>
              <a:path fill="darken" w="28332" h="21600">
                <a:moveTo>
                  <a:pt x="28332" y="0"/>
                </a:moveTo>
                <a:lnTo>
                  <a:pt x="28332" y="21600"/>
                </a:lnTo>
                <a:lnTo>
                  <a:pt x="26963" y="20231"/>
                </a:lnTo>
                <a:lnTo>
                  <a:pt x="26963" y="1369"/>
                </a:lnTo>
                <a:close/>
              </a:path>
              <a:path fill="darkenLess" w="28332" h="21600">
                <a:moveTo>
                  <a:pt x="28332" y="21600"/>
                </a:moveTo>
                <a:lnTo>
                  <a:pt x="0" y="21600"/>
                </a:lnTo>
                <a:lnTo>
                  <a:pt x="1369" y="20231"/>
                </a:lnTo>
                <a:lnTo>
                  <a:pt x="26963" y="20231"/>
                </a:lnTo>
                <a:close/>
              </a:path>
              <a:path fill="lighten" w="28332" h="21600">
                <a:moveTo>
                  <a:pt x="0" y="21600"/>
                </a:moveTo>
                <a:lnTo>
                  <a:pt x="0" y="0"/>
                </a:lnTo>
                <a:lnTo>
                  <a:pt x="1369" y="1369"/>
                </a:lnTo>
                <a:lnTo>
                  <a:pt x="1369" y="20231"/>
                </a:lnTo>
                <a:close/>
              </a:path>
              <a:path fill="darken" w="28332" h="21600">
                <a:moveTo>
                  <a:pt x="7137" y="3770"/>
                </a:moveTo>
                <a:lnTo>
                  <a:pt x="21196" y="10800"/>
                </a:lnTo>
                <a:lnTo>
                  <a:pt x="7137" y="17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12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348000" y="530064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小鱼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ff00"/>
                </a:solidFill>
                <a:latin typeface="黑体"/>
                <a:ea typeface="黑体"/>
              </a:rPr>
              <a:t>你把尾巴借给我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9280" y="105264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不行！我要用尾巴拨水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08720" y="198900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河边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" action="ppaction://hlinkshowjump?jump=lastslide"/>
          </p:cNvPr>
          <p:cNvSpPr/>
          <p:nvPr/>
        </p:nvSpPr>
        <p:spPr>
          <a:xfrm>
            <a:off x="-2844720" y="1052640"/>
            <a:ext cx="755640" cy="576000"/>
          </a:xfrm>
          <a:custGeom>
            <a:avLst/>
            <a:gdLst>
              <a:gd name="textAreaLeft" fmla="*/ 36360 w 755640"/>
              <a:gd name="textAreaRight" fmla="*/ 719280 w 755640"/>
              <a:gd name="textAreaTop" fmla="*/ 36360 h 576000"/>
              <a:gd name="textAreaBottom" fmla="*/ 539640 h 576000"/>
            </a:gdLst>
            <a:ahLst/>
            <a:rect l="textAreaLeft" t="textAreaTop" r="textAreaRight" b="textAreaBottom"/>
            <a:pathLst>
              <a:path w="28332" h="21600">
                <a:moveTo>
                  <a:pt x="0" y="0"/>
                </a:moveTo>
                <a:lnTo>
                  <a:pt x="28332" y="0"/>
                </a:lnTo>
                <a:lnTo>
                  <a:pt x="28332" y="21600"/>
                </a:lnTo>
                <a:lnTo>
                  <a:pt x="0" y="21600"/>
                </a:lnTo>
                <a:close/>
              </a:path>
              <a:path fill="lightenLess" w="28332" h="21600">
                <a:moveTo>
                  <a:pt x="0" y="0"/>
                </a:moveTo>
                <a:lnTo>
                  <a:pt x="28332" y="0"/>
                </a:lnTo>
                <a:lnTo>
                  <a:pt x="26963" y="1369"/>
                </a:lnTo>
                <a:lnTo>
                  <a:pt x="1369" y="1369"/>
                </a:lnTo>
                <a:close/>
              </a:path>
              <a:path fill="darken" w="28332" h="21600">
                <a:moveTo>
                  <a:pt x="28332" y="0"/>
                </a:moveTo>
                <a:lnTo>
                  <a:pt x="28332" y="21600"/>
                </a:lnTo>
                <a:lnTo>
                  <a:pt x="26963" y="20231"/>
                </a:lnTo>
                <a:lnTo>
                  <a:pt x="26963" y="1369"/>
                </a:lnTo>
                <a:close/>
              </a:path>
              <a:path fill="darkenLess" w="28332" h="21600">
                <a:moveTo>
                  <a:pt x="28332" y="21600"/>
                </a:moveTo>
                <a:lnTo>
                  <a:pt x="0" y="21600"/>
                </a:lnTo>
                <a:lnTo>
                  <a:pt x="1369" y="20231"/>
                </a:lnTo>
                <a:lnTo>
                  <a:pt x="26963" y="20231"/>
                </a:lnTo>
                <a:close/>
              </a:path>
              <a:path fill="lighten" w="28332" h="21600">
                <a:moveTo>
                  <a:pt x="0" y="21600"/>
                </a:moveTo>
                <a:lnTo>
                  <a:pt x="0" y="0"/>
                </a:lnTo>
                <a:lnTo>
                  <a:pt x="1369" y="1369"/>
                </a:lnTo>
                <a:lnTo>
                  <a:pt x="1369" y="20231"/>
                </a:lnTo>
                <a:close/>
              </a:path>
              <a:path fill="darken" w="28332" h="21600">
                <a:moveTo>
                  <a:pt x="7137" y="3770"/>
                </a:moveTo>
                <a:lnTo>
                  <a:pt x="21196" y="10800"/>
                </a:lnTo>
                <a:lnTo>
                  <a:pt x="7137" y="1783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3336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行啊！我要用尾巴拨水呢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82360" y="4508640"/>
            <a:ext cx="435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鱼姐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把尾巴借给我行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739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7072200" y="1413000"/>
            <a:ext cx="275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黄牛伯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您把尾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借给我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吗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595840" y="5300640"/>
            <a:ext cx="35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不行啊！我要用尾巴赶蝇子呢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68360" y="620640"/>
            <a:ext cx="33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大树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120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3:42:14Z</dcterms:created>
  <dc:creator>赵子三</dc:creator>
  <dc:description/>
  <dc:language>en-US</dc:language>
  <cp:lastModifiedBy>微软用户</cp:lastModifiedBy>
  <dcterms:modified xsi:type="dcterms:W3CDTF">2013-03-18T04:44:12Z</dcterms:modified>
  <cp:revision>69</cp:revision>
  <dc:subject/>
  <dc:title>六年制小学语文第二册</dc:title>
</cp:coreProperties>
</file>