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jpeg" ContentType="image/jpeg"/>
  <Override PartName="/ppt/media/image55.jpeg" ContentType="image/jpeg"/>
  <Override PartName="/ppt/media/image43.png" ContentType="image/png"/>
  <Override PartName="/ppt/media/TYPE.WAV" ContentType="audio/x-wav"/>
  <Override PartName="/ppt/media/image54.jpeg" ContentType="image/jpeg"/>
  <Override PartName="/ppt/media/clap.wav" ContentType="audio/x-wav"/>
  <Override PartName="/ppt/media/image53.jpeg" ContentType="image/jpe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1.png" ContentType="image/png"/>
  <Override PartName="/ppt/media/image3.jpeg" ContentType="image/jpeg"/>
  <Override PartName="/ppt/media/image36.png" ContentType="image/png"/>
  <Override PartName="/ppt/media/image9.jpeg" ContentType="image/jpeg"/>
  <Override PartName="/ppt/media/image35.png" ContentType="image/png"/>
  <Override PartName="/ppt/media/image34.jpeg" ContentType="image/jpeg"/>
  <Override PartName="/ppt/media/image58.wmf" ContentType="image/x-wmf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8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59.jpeg" ContentType="image/jpeg"/>
  <Override PartName="/ppt/media/camera.wav" ContentType="audio/x-wav"/>
  <Override PartName="/ppt/media/laser.wav" ContentType="audio/x-wav"/>
  <Override PartName="/ppt/media/image16.jpeg" ContentType="image/jpeg"/>
  <Override PartName="/ppt/media/image23.jpeg" ContentType="image/jpeg"/>
  <Override PartName="/ppt/media/image65.jpeg" ContentType="image/jpeg"/>
  <Override PartName="/ppt/media/image49.png" ContentType="image/png"/>
  <Override PartName="/ppt/media/image74.gif" ContentType="image/gif"/>
  <Override PartName="/ppt/media/image60.jpeg" ContentType="image/jpeg"/>
  <Override PartName="/ppt/media/image37.jpeg" ContentType="image/jpeg"/>
  <Override PartName="/ppt/media/image71.jpeg" ContentType="image/jpeg"/>
  <Override PartName="/ppt/media/image66.jpeg" ContentType="image/jpeg"/>
  <Override PartName="/ppt/media/image48.png" ContentType="image/png"/>
  <Override PartName="/ppt/media/image70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type.wav" ContentType="audio/x-wav"/>
  <Override PartName="/ppt/media/image63.jpeg" ContentType="image/jpeg"/>
  <Override PartName="/ppt/media/image6.jpeg" ContentType="image/jpeg"/>
  <Override PartName="/ppt/media/image19.jpeg" ContentType="image/jpeg"/>
  <Override PartName="/ppt/media/driveby.wav" ContentType="audio/x-wav"/>
  <Override PartName="/ppt/media/image57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chimes.wav" ContentType="audio/x-wav"/>
  <Override PartName="/ppt/media/image17.jpeg" ContentType="image/jpeg"/>
  <Override PartName="/ppt/media/image61.jpeg" ContentType="image/jpeg"/>
  <Override PartName="/ppt/media/carbrake.wav" ContentType="audio/x-wav"/>
  <Override PartName="/ppt/media/image40.png" ContentType="image/png"/>
  <Override PartName="/ppt/media/image22.jpeg" ContentType="image/jpeg"/>
  <Override PartName="/ppt/media/image1.jpeg" ContentType="image/jpeg"/>
  <Override PartName="/ppt/media/image47.png" ContentType="image/png"/>
  <Override PartName="/ppt/media/image24.jpeg" ContentType="image/jpeg"/>
  <Override PartName="/ppt/media/projctor.wav" ContentType="audio/x-wav"/>
  <Override PartName="/ppt/media/image73.png" ContentType="image/png"/>
  <Override PartName="/ppt/media/cashreg.wav" ContentType="audio/x-wav"/>
  <Override PartName="/ppt/media/image25.jpeg" ContentType="image/jpeg"/>
  <Override PartName="/ppt/media/image2.png" ContentType="image/png"/>
  <Override PartName="/ppt/media/image26.jpeg" ContentType="image/jpeg"/>
  <Override PartName="/ppt/media/image42.png" ContentType="image/png"/>
  <Override PartName="/ppt/media/image50.jpeg" ContentType="image/jpeg"/>
  <Override PartName="/ppt/media/image11.jpeg" ContentType="image/jpeg"/>
  <Override PartName="/ppt/media/image28.jpeg" ContentType="image/jpeg"/>
  <Override PartName="/ppt/media/image38.jpeg" ContentType="image/jpeg"/>
  <Override PartName="/ppt/media/image72.png" ContentType="image/png"/>
  <Override PartName="/ppt/media/image29.jpeg" ContentType="image/jpeg"/>
  <Override PartName="/ppt/media/image12.jpeg" ContentType="image/jpeg"/>
  <Override PartName="/ppt/media/image52.jpeg" ContentType="image/jpeg"/>
  <Override PartName="/ppt/media/ricochet.wav" ContentType="audio/x-wav"/>
  <Override PartName="/ppt/media/image2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A91-2D68-4E74-90AC-61EDB2AE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0D5-CCF0-4F4B-9C90-9647E27F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3EE-10CF-4372-BB7F-01D88132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75E-C542-458D-B310-EF89F11D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6EE-2C90-416F-8658-DA7FAFC1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EE7-EA04-445C-92A0-94E7F4F5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609-DFF9-4879-AA95-54A0EF4F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31A-39EC-4A2B-A05C-6930707C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3A1-BAB7-403D-B941-352114BA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68F-6749-4018-B53C-74B5AAC3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1B0-7DE8-4F41-A3AF-24421E5F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0FE-55B7-44B7-857E-08B04117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BE6D-2F83-42C6-AF64-123290B72A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2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image" Target="../media/image24.jpeg"/><Relationship Id="rId24" Type="http://schemas.openxmlformats.org/officeDocument/2006/relationships/image" Target="../media/image25.jpeg"/><Relationship Id="rId25" Type="http://schemas.openxmlformats.org/officeDocument/2006/relationships/image" Target="../media/image26.jpeg"/><Relationship Id="rId26" Type="http://schemas.openxmlformats.org/officeDocument/2006/relationships/image" Target="../media/image27.jpeg"/><Relationship Id="rId27" Type="http://schemas.openxmlformats.org/officeDocument/2006/relationships/image" Target="../media/image28.jpeg"/><Relationship Id="rId28" Type="http://schemas.openxmlformats.org/officeDocument/2006/relationships/image" Target="../media/image29.jpeg"/><Relationship Id="rId29" Type="http://schemas.openxmlformats.org/officeDocument/2006/relationships/image" Target="../media/image30.jpeg"/><Relationship Id="rId30" Type="http://schemas.openxmlformats.org/officeDocument/2006/relationships/image" Target="../media/image31.jpeg"/><Relationship Id="rId31" Type="http://schemas.openxmlformats.org/officeDocument/2006/relationships/image" Target="../media/image32.jpeg"/><Relationship Id="rId32" Type="http://schemas.openxmlformats.org/officeDocument/2006/relationships/image" Target="../media/image33.jpeg"/><Relationship Id="rId33" Type="http://schemas.openxmlformats.org/officeDocument/2006/relationships/image" Target="../media/image34.jpeg"/><Relationship Id="rId3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7.jpeg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8.wmf"/><Relationship Id="rId3" Type="http://schemas.openxmlformats.org/officeDocument/2006/relationships/image" Target="../media/image5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1.jpe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4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6.jpe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jpe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7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gif"/><Relationship Id="rId3" Type="http://schemas.openxmlformats.org/officeDocument/2006/relationships/image" Target="../media/image7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4191120"/>
            <a:ext cx="8076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壁虎借尾巴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63244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3794"/>
                </a:moveTo>
                <a:lnTo>
                  <a:pt x="23975" y="10800"/>
                </a:lnTo>
                <a:lnTo>
                  <a:pt x="996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2819520" y="63244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9" h="21600">
                <a:moveTo>
                  <a:pt x="16123" y="3794"/>
                </a:moveTo>
                <a:lnTo>
                  <a:pt x="30136" y="10800"/>
                </a:lnTo>
                <a:lnTo>
                  <a:pt x="1612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后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3962520" y="63244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32" h="21600">
                <a:moveTo>
                  <a:pt x="17659" y="3794"/>
                </a:moveTo>
                <a:lnTo>
                  <a:pt x="31672" y="10800"/>
                </a:lnTo>
                <a:lnTo>
                  <a:pt x="1765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会生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105520" y="63244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32" h="21600">
                <a:moveTo>
                  <a:pt x="17659" y="3794"/>
                </a:moveTo>
                <a:lnTo>
                  <a:pt x="31672" y="10800"/>
                </a:lnTo>
                <a:lnTo>
                  <a:pt x="1765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认会生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7086600" y="632448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4579" y="3794"/>
                </a:moveTo>
                <a:lnTo>
                  <a:pt x="28592" y="10800"/>
                </a:lnTo>
                <a:lnTo>
                  <a:pt x="145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后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815328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6324480" y="63244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3794"/>
                </a:moveTo>
                <a:lnTo>
                  <a:pt x="23975" y="10800"/>
                </a:lnTo>
                <a:lnTo>
                  <a:pt x="996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讲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600200"/>
            <a:ext cx="914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0000"/>
                </a:solidFill>
                <a:latin typeface="Times New Roman"/>
              </a:rPr>
              <a:t>小壁虎怎么借尾巴的？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0" y="4083120"/>
            <a:ext cx="952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小壁虎爬呀爬，爬到小河边。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880" y="47530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他看见小鱼摇着尾巴，在河里游来游去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5791320"/>
            <a:ext cx="45720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8800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5791320"/>
            <a:ext cx="45720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30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小壁虎说：“小鱼姐姐，您把尾巴借给我行吗？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5121360"/>
            <a:ext cx="83818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鱼说：“不行啊，我要用尾巴拨水呢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765000"/>
            <a:ext cx="8209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壁虎说：“小鱼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姐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把尾巴借给我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行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？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鱼说：”不行啊，我要用尾巴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拨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呢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学习方法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4300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小壁虎来到什么地方？看到谁干什么？他们怎么说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4197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、分角色朗读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5302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壁虎爬呀爬，爬到大树上。他看见老牛甩着尾巴，在树下吃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4724280"/>
            <a:ext cx="8839080" cy="19227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壁虎说：“牛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伯伯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您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尾巴借给我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行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9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5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6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7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8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9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0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3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4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72200" y="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老牛说：“不行啊，我要用尾巴赶蝇子呢。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60958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502920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29600" y="502920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333360"/>
            <a:ext cx="8839080" cy="19227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壁虎说：“牛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伯伯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您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尾巴借给我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行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852640"/>
            <a:ext cx="82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牛说：“不行啊，我要用尾巴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赶蝇子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。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42991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壁虎爬呀爬，爬到房檐下。他看见燕子摆着尾巴，在空中飞来飞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6019920"/>
            <a:ext cx="45720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6019920"/>
            <a:ext cx="45720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458136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壁虎说：“燕子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阿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把尾巴借给我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行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？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9144000" cy="487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0" y="47530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燕子说：“不行阿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我要用尾巴掌握方向呢。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7232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67816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404640"/>
            <a:ext cx="883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壁虎说：“燕子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阿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把尾巴借给我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行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？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068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燕子说：“不行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要用尾巴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掌握方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呢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880" y="4570560"/>
            <a:ext cx="8534520" cy="1556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壁虎借不到尾巴，心里很难过。他爬呀爬，爬回家里找妈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60958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525780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4952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570560"/>
            <a:ext cx="8458200" cy="8251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壁虎把借尾巴的事告诉了妈妈。妈妈笑着说：“傻孩子你转过身子看看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029200" y="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746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小壁虎转身一看，高兴地叫起来：“我长出一条新尾巴啦！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47242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47242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小壁虎借着尾巴了吗？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718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老牛的尾巴用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143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小鱼的尾巴用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724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燕子的尾巴用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13372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79132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380988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106668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拨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64832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掌握方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7432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赶蝇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-1295280"/>
          <a:ext cx="9601200" cy="815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295280"/>
                    <a:ext cx="9601200" cy="81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28600" y="4022640"/>
            <a:ext cx="9144000" cy="10083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没有尾巴多难看哪！小壁虎想，向谁去借一条尾巴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摇着尾巴，在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游来游去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8108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甩着尾巴，在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吃草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733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摆着尾巴，在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飞来飞去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049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d0d03"/>
                </a:solidFill>
                <a:latin typeface="Times New Roman"/>
              </a:rPr>
              <a:t>小鱼                        河里</a:t>
            </a:r>
            <a:r>
              <a:rPr b="0" lang="zh-CN" sz="4400" spc="-1" strike="noStrike">
                <a:solidFill>
                  <a:srgbClr val="dd0d0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98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d0d03"/>
                </a:solidFill>
                <a:latin typeface="Times New Roman"/>
              </a:rPr>
              <a:t>老黄牛                         树下</a:t>
            </a:r>
            <a:r>
              <a:rPr b="1" lang="zh-CN" sz="5400" spc="-1" strike="noStrike">
                <a:solidFill>
                  <a:srgbClr val="dd0d03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7339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d0d03"/>
                </a:solidFill>
                <a:latin typeface="Times New Roman"/>
              </a:rPr>
              <a:t>燕子                        空中</a:t>
            </a:r>
            <a:r>
              <a:rPr b="1" lang="zh-CN" sz="5400" spc="-1" strike="noStrike">
                <a:solidFill>
                  <a:srgbClr val="dd0d03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2895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1295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75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75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75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76520" y="91440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知道哪些动物尾巴的用处？讲给同学听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7772400" y="5791320"/>
            <a:ext cx="914400" cy="76176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5926" h="21600">
                <a:moveTo>
                  <a:pt x="0" y="0"/>
                </a:moveTo>
                <a:lnTo>
                  <a:pt x="25926" y="0"/>
                </a:lnTo>
                <a:lnTo>
                  <a:pt x="25926" y="21600"/>
                </a:lnTo>
                <a:lnTo>
                  <a:pt x="0" y="21600"/>
                </a:lnTo>
                <a:close/>
              </a:path>
              <a:path fill="lightenLess" w="25926" h="21600">
                <a:moveTo>
                  <a:pt x="0" y="0"/>
                </a:moveTo>
                <a:lnTo>
                  <a:pt x="25926" y="0"/>
                </a:lnTo>
                <a:lnTo>
                  <a:pt x="24526" y="1400"/>
                </a:lnTo>
                <a:lnTo>
                  <a:pt x="1400" y="1400"/>
                </a:lnTo>
                <a:close/>
              </a:path>
              <a:path fill="darken" w="25926" h="21600">
                <a:moveTo>
                  <a:pt x="25926" y="0"/>
                </a:moveTo>
                <a:lnTo>
                  <a:pt x="25926" y="21600"/>
                </a:lnTo>
                <a:lnTo>
                  <a:pt x="24526" y="20200"/>
                </a:lnTo>
                <a:lnTo>
                  <a:pt x="24526" y="1400"/>
                </a:lnTo>
                <a:close/>
              </a:path>
              <a:path fill="darkenLess" w="25926" h="21600">
                <a:moveTo>
                  <a:pt x="25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6" y="20200"/>
                </a:lnTo>
                <a:close/>
              </a:path>
              <a:path fill="lighten" w="25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通过读书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</a:rPr>
              <a:t>我知道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rcRect l="0" t="0" r="0" b="10006"/>
          <a:stretch/>
        </p:blipFill>
        <p:spPr>
          <a:xfrm>
            <a:off x="0" y="2349360"/>
            <a:ext cx="4952880" cy="2743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788000" y="1268280"/>
            <a:ext cx="41148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小鱼尾巴的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多数鱼类，为了适应水中生活，尾巴的形状都有点像扇子，用力摆动时，好像推进器一样，推动身体向前游，同时，鱼类的尾巴还能够控制方向，起着舵的作用。鱼把尾巴当作游泳器。在水里靠尾巴的左右摆动，促使身体向前推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通过读书我知道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1805" t="1509" r="1654" b="7572"/>
          <a:stretch/>
        </p:blipFill>
        <p:spPr>
          <a:xfrm>
            <a:off x="304920" y="1523880"/>
            <a:ext cx="4073400" cy="4572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0" y="1628640"/>
            <a:ext cx="4189320" cy="42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imes New Roman"/>
              </a:rPr>
              <a:t>老牛尾巴的用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牛把尾巴当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衡器。牛有长长的尾巴，末端长着丛生的毛。当它奔跑时，尾巴竖起，起着平衡身体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通过读书我知道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80880" y="1628640"/>
            <a:ext cx="4037040" cy="4472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88000" y="1700280"/>
            <a:ext cx="379548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燕子尾巴的用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燕子的尾巴象剪刀，便于掌握飞行方向。在飞行时起着舵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5280" y="260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通过读书我知道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7391160" cy="190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2997360"/>
            <a:ext cx="9144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00"/>
                </a:solidFill>
                <a:latin typeface="Times New Roman"/>
              </a:rPr>
              <a:t>小壁虎尾巴的用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壁虎的尾巴尤为奇特，除了平衡身体之外，更有迷惑敌人、吓唬敌人的功能。 壁虎在遇到天敌追捕之时，能自断尾巴，尾巴被断开 后，能痉挛似地抽搐、扭动，将天敌的注意力或攻击力引向尾巴，使自身得以趁机逃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3333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743280" y="1413000"/>
            <a:ext cx="5400720" cy="4800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1052640"/>
            <a:ext cx="349236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Bangle"/>
              </a:rPr>
              <a:t>袋鼠的尾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??ì?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??ì?"/>
              </a:rPr>
              <a:t>袋鼠前肢短小，后脚长而有力，行进时，完全以后脚来跳。袋鼠的尾巴用处很大，运动时能使身体保持平衡，休息时，大尾巴支在地上，与两条后腿组成一个三角支架，稳稳地支撑住身体。它们善于跳跃，能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??ì?"/>
              </a:rPr>
              <a:t>7-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??ì?"/>
              </a:rPr>
              <a:t>米，跳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??ì?"/>
              </a:rPr>
              <a:t>1.5-1.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??ì?"/>
              </a:rPr>
              <a:t>米。如果它们去参加奥运比赛，一定能拿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??ì?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??ì?"/>
              </a:rPr>
              <a:t>双跳冠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??ì?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??ì?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6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-95400" y="907920"/>
            <a:ext cx="9334800" cy="56214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50292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0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6095880" cy="3962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2060640"/>
            <a:ext cx="2514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狐狸的尾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OldDreadfulNo7 BT"/>
                <a:ea typeface="华文行楷"/>
              </a:rPr>
              <a:t>狐狸用尾巴擦掉雪地上的踪迹，引开猎人的追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333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295280"/>
            <a:ext cx="83059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</a:rPr>
              <a:t>老虎的尾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称“百兽之王”的老虎，除了有尖牙利齿之外，身后那条又粗又长的尾巴，是它另一个有力武器。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老虎攻击猎物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空时，会抡动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巴，像钢鞭似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扫向对方，把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物击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0" t="0" r="0" b="5777"/>
          <a:stretch/>
        </p:blipFill>
        <p:spPr>
          <a:xfrm>
            <a:off x="3635280" y="2852640"/>
            <a:ext cx="5181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95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325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85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375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9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425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3725"/>
                            </p:stCondLst>
                            <p:childTnLst>
                              <p:par>
                                <p:cTn id="4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620640"/>
            <a:ext cx="8431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00"/>
                </a:solidFill>
                <a:latin typeface="Times New Roman"/>
              </a:rPr>
              <a:t>小</a:t>
            </a:r>
            <a:r>
              <a:rPr b="1" lang="zh-CN" sz="10600" spc="-1" strike="noStrike">
                <a:solidFill>
                  <a:srgbClr val="ffff00"/>
                </a:solidFill>
                <a:latin typeface="Times New Roman"/>
              </a:rPr>
              <a:t>壁虎为什么要借尾巴</a:t>
            </a:r>
            <a:r>
              <a:rPr b="0" lang="zh-CN" sz="106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528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16720" y="2565360"/>
            <a:ext cx="2438280" cy="25146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2514600"/>
              <a:gd name="textAreaBottom" fmla="*/ 2395800 h 251460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我的尾巴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铆钉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楷体_GB2312"/>
              </a:rPr>
              <a:t>    柳在树上好啄虫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404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6934320" cy="5329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334120" y="3200400"/>
            <a:ext cx="3200400" cy="1447920"/>
          </a:xfrm>
          <a:custGeom>
            <a:avLst/>
            <a:gdLst>
              <a:gd name="textAreaLeft" fmla="*/ 113760 w 3200400"/>
              <a:gd name="textAreaRight" fmla="*/ 3086640 w 3200400"/>
              <a:gd name="textAreaTop" fmla="*/ 113760 h 1447920"/>
              <a:gd name="textAreaBottom" fmla="*/ 1334160 h 1447920"/>
            </a:gdLst>
            <a:ahLst/>
            <a:rect l="textAreaLeft" t="textAreaTop" r="textAreaRight" b="textAreaBottom"/>
            <a:pathLst>
              <a:path w="47737" h="21600">
                <a:moveTo>
                  <a:pt x="2407" y="0"/>
                </a:moveTo>
                <a:arcTo wR="2407" hR="2407" stAng="0" swAng="5400000"/>
                <a:lnTo>
                  <a:pt x="0" y="19193"/>
                </a:lnTo>
                <a:arcTo wR="2407" hR="2407" stAng="16200000" swAng="5400000"/>
                <a:lnTo>
                  <a:pt x="45330" y="21600"/>
                </a:lnTo>
                <a:arcTo wR="2407" hR="2407" stAng="10800000" swAng="5400000"/>
                <a:lnTo>
                  <a:pt x="47737" y="2407"/>
                </a:lnTo>
                <a:arcTo wR="2407" hR="2407" stAng="5400000" swAng="5400000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我的尾巴可以吸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Black"/>
              </a:rPr>
              <a:t>雌孔雀的注意啊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rcRect l="0" t="0" r="0" b="10455"/>
          <a:stretch/>
        </p:blipFill>
        <p:spPr>
          <a:xfrm>
            <a:off x="3352680" y="1371600"/>
            <a:ext cx="5791320" cy="4572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01680" y="1752480"/>
            <a:ext cx="300492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鳄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尾巴当作武器。生活在热带地区的非洲鳄，见到牛、羚羊、鹿等动物在河边饮水时，便突然将尾巴一扫，把这些动物打入河里，然后张开大嘴，饱餐一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1680" y="380880"/>
            <a:ext cx="84614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5105520" cy="563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940360" y="1341360"/>
            <a:ext cx="26672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蜥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尾巴有毒汁，保卫自己不受侵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0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5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51200" y="1752480"/>
            <a:ext cx="419112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生在南美洲热带森林中的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蜘蛛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有一条比身体还长的尾巴，用处比四肢还大，因此人们管它叫第五只“手”。在吃东西时，蜘蛛猴缠绕长尾，把身体稳稳悬在树枝上，和脚并用地进餐。休息时，它常常倒挂着睡觉，即使睡熟了，尾巴也不会脱落。在树与树之间跳跃游荡时，具有极强卷握力的尾巴也发挥了极大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0" t="10148" r="0" b="7247"/>
          <a:stretch/>
        </p:blipFill>
        <p:spPr>
          <a:xfrm>
            <a:off x="457200" y="1752480"/>
            <a:ext cx="3505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9280" y="0"/>
            <a:ext cx="854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1413000"/>
            <a:ext cx="41911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宋体"/>
              </a:rPr>
              <a:t>熊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尾巴不象熊类，尤其是在幼小的时候相对的要长些。但她们长大以后，尾巴却相对地变短了，仅只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厘米。她们的尾巴虽短，但上面生的毛却是毛茸茸的，显得十分蓬松粗大。当她们用肛周腺分泌的气味传递信息时，尾巴的功能起到了粉刷的作用，使气味标志涂得更宽些，能够四处横溢扩散，便于更加有效的交换信息，以代替有声的呼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4193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404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所知道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1052640"/>
            <a:ext cx="8458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狗的尾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般在兴奋或见到主人高兴时，狗就会摇头摆尾，尾巴不仅左有摇摆，还会不断旋动；尾巴翘起，表示喜悦；尾巴下垂，意味危险；尾巴不动，显示不安：尾巴夹起，说明害怕；迅速水平地摇动尾巴，象征着友好。狗尾巴的动作还与主人的音调有关。如果主人用亲切的声音对它说“坏家伙！坏家伙！”它也会摇摆尾巴表示高兴；反之，如果主人用严厉的声音说：“好狗！好狗！”它仍然会夹起尾巴表现不愉快。这就是说，对于狗来说，人们说话的声音仅是声源，是音响信号，而不是语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140360" cy="2879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4495680" y="3645000"/>
            <a:ext cx="42530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所知道的形形色色的动物尾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8120" y="1879560"/>
            <a:ext cx="5638680" cy="4335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1197000"/>
            <a:ext cx="2895480" cy="52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6600cc"/>
                </a:solidFill>
                <a:latin typeface="Times New Roman"/>
              </a:rPr>
              <a:t>狐猴的尾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狐猴把尾巴当作仓库。在食物丰富的雨季，狐猴就在尾巴里储存起大量营养品；在食源缺乏的旱季，狐猴靠消耗尾巴里储备的营养来度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50"/>
                            </p:stCondLst>
                            <p:childTnLst>
                              <p:par>
                                <p:cTn id="5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343400" y="228600"/>
            <a:ext cx="48006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鹿的尾巴又小又短，然而它却是重要的报警器。当危险带近鹿群时，首先发现敌害的鹿会竖起尾巴，露出下面的亮点，向同伴发出警报。鹿群一接到警报就会马上逃离。</a:t>
            </a:r>
            <a:br>
              <a:rPr sz="4400"/>
            </a:br>
            <a:br>
              <a:rPr sz="5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4920" y="100980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1120" cy="5334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962520" y="0"/>
            <a:ext cx="49528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人们常说兔子的尾巴长不了，其实，兔子的短尾巴可以在紧急情况下帮助兔子逃命。当兔子被猛兽咬住时，兔子立刻使用“脱皮计”，将尾巴的“皮套”脱下，从而赢得逃命的刹那间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2209680"/>
          <a:ext cx="914400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968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小壁虎在墙角捉蚊子，一条蛇咬住了他的尾巴。小壁虎一挣，挣断尾巴逃走了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2362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4496040" cy="6324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200400" y="30492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Times New Roman"/>
              </a:rPr>
              <a:t>草原上奔跑的骏马，尾巴向后飘逸，神气极了。在奔跑时，马的尾巴起了很好的平衡作用。平时马儿又将尾巴当作“苍蝇拍”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续编《小壁虎借尾巴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1752480"/>
            <a:ext cx="842472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小壁虎爬呀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爬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看见（        ）。小壁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），您把尾巴借给我行吗？”（    ）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不行啊，我要用尾巴（    ）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-168120" y="0"/>
            <a:ext cx="14950800" cy="8208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8135720" cy="960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5335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照样子填空，再读一读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371600"/>
            <a:ext cx="1043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鱼（  ）来（  ）去   壁虎（  ）来（  ）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505320"/>
            <a:ext cx="98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（  ）来（  ）去  小狗（  ）来（  ）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7620120" y="59436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12952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35053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4572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35053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飞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4572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12952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25146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23623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爬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6012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601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4937040"/>
            <a:ext cx="9372600" cy="10083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没有尾巴多难看哪！小壁虎想，向谁去借一条尾巴呢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58672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58672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5867280"/>
            <a:ext cx="45720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71800" y="3048120"/>
            <a:ext cx="1692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小壁虎都向谁去借尾巴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0:11:21Z</dcterms:created>
  <dc:creator>jsh</dc:creator>
  <dc:description/>
  <dc:language>en-US</dc:language>
  <cp:lastModifiedBy>微软用户</cp:lastModifiedBy>
  <dcterms:modified xsi:type="dcterms:W3CDTF">2012-04-04T17:28:55Z</dcterms:modified>
  <cp:revision>36</cp:revision>
  <dc:subject/>
  <dc:title>PowerPoint 演示文稿</dc:title>
</cp:coreProperties>
</file>