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0.wmf" ContentType="image/x-wmf"/>
  <Override PartName="/ppt/media/image4.jpeg" ContentType="image/jpeg"/>
  <Override PartName="/ppt/media/image7.jpeg" ContentType="image/jpeg"/>
  <Override PartName="/ppt/media/image15.gif" ContentType="image/gif"/>
  <Override PartName="/ppt/media/image16.wmf" ContentType="image/x-wmf"/>
  <Override PartName="/ppt/media/image14.wmf" ContentType="image/x-wmf"/>
  <Override PartName="/ppt/media/image5.jpeg" ContentType="image/jpeg"/>
  <Override PartName="/ppt/media/image12.wmf" ContentType="image/x-wmf"/>
  <Override PartName="/ppt/media/chimes.wav" ContentType="audio/x-wav"/>
  <Override PartName="/ppt/media/image1.wmf" ContentType="image/x-wmf"/>
  <Override PartName="/ppt/media/image2.jpeg" ContentType="image/jpeg"/>
  <Override PartName="/ppt/media/image3.jpeg" ContentType="image/jpeg"/>
  <Override PartName="/ppt/media/image6.wmf" ContentType="image/x-wmf"/>
  <Override PartName="/ppt/media/image11.wmf" ContentType="image/x-wmf"/>
  <Override PartName="/ppt/media/coin.wav" ContentType="audio/x-wav"/>
  <Override PartName="/ppt/media/image8.jpeg" ContentType="image/jpe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283A-B91B-4756-B035-2EC7DC9C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E7A3-5970-4FA0-BF79-7259D0D1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C625-839B-4DBB-BB3C-D4336B8F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8FD8-3F31-4D74-A160-4C488113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8E40-EFB2-4CD3-A93B-FC68F100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CF55-1BAD-4880-BFE0-BC89D797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B38E-56AE-41B6-AC47-C6561F91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F8D6-B7E3-4A0A-97C2-A06F5E78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31BF-9B54-469E-8CF1-6FD00A4C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EC82-1F31-4C4F-A534-5D3634AA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E482-0D53-4C0F-9CE1-6CE038AD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F632-13E4-493B-9B11-25D6A1B0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8426-54A6-4CCE-8D42-B63A0BA89A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gif"/><Relationship Id="rId3" Type="http://schemas.openxmlformats.org/officeDocument/2006/relationships/image" Target="../media/image16.wm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gif"/><Relationship Id="rId3" Type="http://schemas.openxmlformats.org/officeDocument/2006/relationships/image" Target="../media/image17.wm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39760" y="176040"/>
            <a:ext cx="866304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6440" y="2565360"/>
            <a:ext cx="7553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马厩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jiù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夙愿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ù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通衢大道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qú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茕茕孑立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qióng  ji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瘠薄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jí bó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缱绻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qiǎnquǎn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命运多舛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huǎn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养尊处优  玲珑剔透   天籁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lài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簌簌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2880" y="1486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基础字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91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191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3" dur="306" fill="hold">
                                          <p:stCondLst>
                                            <p:cond delay="19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4" dur="19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5" dur="306" fill="hold">
                                          <p:stCondLst>
                                            <p:cond delay="19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6" dur="19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7" dur="306" fill="hold">
                                          <p:stCondLst>
                                            <p:cond delay="19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8000" y="44280"/>
            <a:ext cx="900108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124080" y="2328840"/>
            <a:ext cx="2895840" cy="2200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124080" y="2328840"/>
            <a:ext cx="2895840" cy="2200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08000" y="44280"/>
            <a:ext cx="901548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799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799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99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799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124080" y="2328840"/>
            <a:ext cx="2895840" cy="2200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124080" y="2328840"/>
            <a:ext cx="2895840" cy="22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08000" y="44280"/>
            <a:ext cx="901548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952880" cy="152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6360" y="0"/>
            <a:ext cx="9095040" cy="6842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6360" y="44280"/>
            <a:ext cx="67485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8000" y="44280"/>
            <a:ext cx="4952880" cy="152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6360" y="0"/>
            <a:ext cx="9095040" cy="6842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6360" y="44280"/>
            <a:ext cx="67485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81280" y="1054080"/>
            <a:ext cx="5482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作者花如此多的笔墨去描写肖邦故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中描写肖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故园特征的词句有哪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46800" y="3357720"/>
            <a:ext cx="529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既然肖邦故园因为肖邦和他的音乐而闻名，那么肖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故园和肖邦的音乐有什么内在联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33640" y="2060640"/>
            <a:ext cx="326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明确：肖邦出生在一个“简朴”“清寒”“简陋”的小屋里，这个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行楷"/>
                <a:ea typeface="华文行楷"/>
              </a:rPr>
              <a:t>肖邦出生低微，来自于劳苦大众，为后文中肖邦能创作一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行楷"/>
                <a:ea typeface="华文行楷"/>
              </a:rPr>
              <a:t>的爱国主题的钢琴曲埋下了伏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60720" y="4365720"/>
            <a:ext cx="525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明确：通过描写肖邦故园的“简朴”“清寒”“简陋”来突出对比肖邦音乐的伟大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同时暗示肖邦故园孕育了肖邦的音乐风格，即：热切，激情的爱国主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用文中的话说是“最早的孩提时代曾拨动过他的心弦的每一个旋律，而且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在他以后的文学作品中往往半自觉地，有时则完全是不自觉地展示出儿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之国同创作成熟时期的渊源关系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2640" y="40464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分析课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7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2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0">
                                          <p:stCondLst>
                                            <p:cond delay="132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2">
                                          <p:stCondLst>
                                            <p:cond delay="165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4" fill="hold">
                                          <p:stCondLst>
                                            <p:cond delay="64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4" fill="hold">
                                          <p:stCondLst>
                                            <p:cond delay="67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4" fill="hold">
                                          <p:stCondLst>
                                            <p:cond delay="131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4" fill="hold">
                                          <p:stCondLst>
                                            <p:cond delay="133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4" fill="hold">
                                          <p:stCondLst>
                                            <p:cond delay="164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4" fill="hold">
                                          <p:stCondLst>
                                            <p:cond delay="166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4" fill="hold">
                                          <p:stCondLst>
                                            <p:cond delay="180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4" fill="hold">
                                          <p:stCondLst>
                                            <p:cond delay="183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7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2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0">
                                          <p:stCondLst>
                                            <p:cond delay="132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2">
                                          <p:stCondLst>
                                            <p:cond delay="165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4" fill="hold">
                                          <p:stCondLst>
                                            <p:cond delay="64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4" fill="hold">
                                          <p:stCondLst>
                                            <p:cond delay="67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4" fill="hold">
                                          <p:stCondLst>
                                            <p:cond delay="131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4" fill="hold">
                                          <p:stCondLst>
                                            <p:cond delay="133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4" fill="hold">
                                          <p:stCondLst>
                                            <p:cond delay="164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4" fill="hold">
                                          <p:stCondLst>
                                            <p:cond delay="166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4" fill="hold">
                                          <p:stCondLst>
                                            <p:cond delay="180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4" fill="hold">
                                          <p:stCondLst>
                                            <p:cond delay="183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7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2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0">
                                          <p:stCondLst>
                                            <p:cond delay="132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2">
                                          <p:stCondLst>
                                            <p:cond delay="165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4" fill="hold">
                                          <p:stCondLst>
                                            <p:cond delay="64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4" fill="hold">
                                          <p:stCondLst>
                                            <p:cond delay="67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4" fill="hold">
                                          <p:stCondLst>
                                            <p:cond delay="131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4" fill="hold">
                                          <p:stCondLst>
                                            <p:cond delay="133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4" fill="hold">
                                          <p:stCondLst>
                                            <p:cond delay="164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4" fill="hold">
                                          <p:stCondLst>
                                            <p:cond delay="166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4" fill="hold">
                                          <p:stCondLst>
                                            <p:cond delay="180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4" fill="hold">
                                          <p:stCondLst>
                                            <p:cond delay="183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872000" y="1125360"/>
            <a:ext cx="529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经过岁月的洗涤，肖邦故园在波兰人民甚至整个世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民的心目中发生了翻天覆地的变化，那么肖邦故园如今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什么样的故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95280" y="2494080"/>
            <a:ext cx="478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cc00"/>
                </a:solidFill>
                <a:latin typeface="华文新魏"/>
              </a:rPr>
              <a:t>明确：文本第二节说肖邦故园是“波兰人朝拜的圣地，举行精神宴会的殿堂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cc00"/>
                </a:solidFill>
                <a:latin typeface="华文新魏"/>
              </a:rPr>
              <a:t>参观游览的古迹，喷射创作音乐的不竭源泉”，肖邦的故园从某种层次上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cc00"/>
                </a:solidFill>
                <a:latin typeface="华文新魏"/>
              </a:rPr>
              <a:t>经不再是具体的，实在的，有形的一个故居，而是一种无形的，抽象的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cc00"/>
                </a:solidFill>
                <a:latin typeface="华文新魏"/>
              </a:rPr>
              <a:t>征，一个连接波兰民族的凝聚力的符号，一个音乐拓荒者的桥头堡，肖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cc00"/>
                </a:solidFill>
                <a:latin typeface="华文新魏"/>
              </a:rPr>
              <a:t>的音乐之路，人生之路就是在这里起航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cc00"/>
                </a:solidFill>
                <a:latin typeface="华文新魏"/>
              </a:rPr>
              <a:t>    </a:t>
            </a:r>
            <a:r>
              <a:rPr b="0" lang="zh-CN" sz="1800" spc="-1" strike="noStrike">
                <a:solidFill>
                  <a:srgbClr val="99cc00"/>
                </a:solidFill>
                <a:latin typeface="华文新魏"/>
              </a:rPr>
              <a:t>刘禹锡在《陋室铭》中说“山不在高，有仙则名；水不在深，有龙则灵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cc00"/>
                </a:solidFill>
                <a:latin typeface="华文新魏"/>
              </a:rPr>
              <a:t>肖邦故园虽然“简朴，清寒，简陋”，但是由于肖邦音乐对后世的影响，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cc00"/>
                </a:solidFill>
                <a:latin typeface="华文新魏"/>
              </a:rPr>
              <a:t>邦故园的意义也不再局限是肖邦的出生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68760" y="54936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析课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558240" y="1125360"/>
            <a:ext cx="12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肖邦、肖邦音乐和肖邦故园对世界的影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15360" y="2205000"/>
            <a:ext cx="4889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方正姚体"/>
              </a:rPr>
              <a:t>    </a:t>
            </a:r>
            <a:r>
              <a:rPr b="0" lang="zh-CN" sz="1800" spc="-1" strike="noStrike">
                <a:solidFill>
                  <a:srgbClr val="009999"/>
                </a:solidFill>
                <a:latin typeface="方正姚体"/>
              </a:rPr>
              <a:t>肖邦被后世称为神童，“音乐诗人”，是第二个莫扎特，是始终心怀祖国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方正姚体"/>
              </a:rPr>
              <a:t>爱国者。他的音乐是后世音乐家创作的清流源泉，能给人以最大的精神享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方正姚体"/>
              </a:rPr>
              <a:t>更是一蹲“藏在花丛中的大炮”，它已经渗透进了波兰民族的最深层，可以这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方正姚体"/>
              </a:rPr>
              <a:t>说，肖邦的音乐已经成为民族的最坚韧的纽带，成为民族精神的支柱和基础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方正姚体"/>
              </a:rPr>
              <a:t>作为一种斗争武器有不可估量的威力。肖邦故园在这里已经不在是波兰的文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方正姚体"/>
              </a:rPr>
              <a:t>遗产，它已经超越了欧洲，甚至对整个世界产生了极其广泛的影响，伟大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方正姚体"/>
              </a:rPr>
              <a:t>艺术作品是民族的，更是世界的，它成为一种那些客居他乡，漂泊异地者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方正姚体"/>
              </a:rPr>
              <a:t>精神家园和归宿，已经是一个象征，一个符号，一个图腾，被后人所景仰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方正姚体"/>
              </a:rPr>
              <a:t>膜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55000" y="47628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分析课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29480" y="909720"/>
            <a:ext cx="24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620720" y="1486080"/>
          <a:ext cx="5575320" cy="4484520"/>
        </p:xfrm>
        <a:graphic>
          <a:graphicData uri="http://schemas.openxmlformats.org/drawingml/2006/table">
            <a:tbl>
              <a:tblPr/>
              <a:tblGrid>
                <a:gridCol w="1851120"/>
                <a:gridCol w="1650960"/>
                <a:gridCol w="207324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过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现在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影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简朴  小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圣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清流源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清寒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殿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精神享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简陋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古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斗争武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摇篮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最坚韧的纽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1185480" y="69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板书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4920" y="189000"/>
            <a:ext cx="9028080" cy="65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70640" y="2060640"/>
            <a:ext cx="5118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这篇文章的景色描写十分出众，镜头时而拉远，时而推近，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得优裕自如，那些原本看似平淡无奇的景物，在作者的笔下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展现出令人瞩目的光彩，他仿佛在为我们演奏一支恬静优美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抒情乐曲，描画一幅清新秀丽的田园山水画。不仅仅如此，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文的与众不同之处，还在于作者把音乐家的人生与自然景色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绘融会在一起，而这二者又与肖邦对波兰这个国家、这个民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的热爱交织在一起，由人及事，由景及物，由故园到祖国，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感一步步地提升，这样，景语便成了情语，而情语又升华为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种精神的再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5000" y="112536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分析课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6480"/>
            <a:ext cx="902808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2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82200" y="22766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肖邦故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20520" y="4221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雅—伊瓦什凯维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029440" y="476280"/>
            <a:ext cx="3240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98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79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9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79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98" fill="hold">
                                          <p:stCondLst>
                                            <p:cond delay="79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98" fill="hold">
                                          <p:stCondLst>
                                            <p:cond delay="79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6720" y="693720"/>
            <a:ext cx="3486240" cy="5400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716360" y="693720"/>
            <a:ext cx="4038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177480" cy="6842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98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79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79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79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98" fill="hold">
                                          <p:stCondLst>
                                            <p:cond delay="7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98" fill="hold">
                                          <p:stCondLst>
                                            <p:cond delay="7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肖邦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13040" y="1341360"/>
            <a:ext cx="5421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肖邦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(1810 - 1849)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是波兰最伟大的作曲家、钢琴家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母亲的影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下，他从小对波兰的民间音乐十分熟悉和喜爱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岁就开始学习钢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学习作曲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岁便在音乐会上登台演出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岁时进华沙音乐学院作曲班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岁已是华沙很有名的钢琴家和作曲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8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，肖邦到法国首都巴黎，与当时著名的音乐家柏辽兹、李斯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来往密切。这期间，肖邦无论在钢琴演奏方面，还是在音乐创作方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都取得了惊人的成就，很多名曲就是在这时写成的。肖邦在巴黎的岁月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也是他的祖国波兰遭受沙皇俄国蹂躏的年代，所以，肖邦这时期的很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品都反映了他对被侵占的故国家园的怀念，对民族独立的渴望和忧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忧民的博大胸怀。思乡情，亡国恨，时常在他的作品里流露出来。当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俄授予他“俄国皇帝陛下首席钢琴家”的职位时，肖邦严辞拒绝，表现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个爱国艺术家的高尚人格和民族气节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84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，肖邦病逝于巴黎。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终前，他嘱咐亲人把他的心脏运回波兰，以安慰他那颗赤子之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肖邦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1240" y="1270080"/>
            <a:ext cx="5525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肖邦的创作以钢琴作品为主，还涉猎各种舞曲、幻想曲、叙事曲、谐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曲、前奏曲、练习曲、奏鸣曲等。他的音乐具有鲜明的个性和独树一帜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浪漫抒情风格，激昂雄壮、气势磅礴的旋律，色彩丰富的和声，为欧洲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浪漫主义音乐增添了夺目的光彩，被称为“浪漫主义的钢琴诗人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纪念这位伟大的爱国音乐家，波兰自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92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起，每五年在首都华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举行一次“国际肖邦钢琴作品比赛”，这是国际上水平最高、影响最大的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琴比赛之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52640" y="4870440"/>
            <a:ext cx="504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雅—伊瓦什凯维奇是波兰当代杰出的诗人和小说家，也是非常优秀的散文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的散文自成一格，自然流畅，真切中见精神，朴素中有华彩。本文笔调亲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平和，抒情优美，感情深邃沉稳，真挚感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880" y="4005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9"/>
                                  </p:iterate>
                                  <p:childTnLst>
                                    <p:set>
                                      <p:cBhvr>
                                        <p:cTn id="1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78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78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78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498"/>
                                  </p:iterate>
                                  <p:childTnLst>
                                    <p:set>
                                      <p:cBhvr>
                                        <p:cTn id="1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8" dur="4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453" fill="hold">
                                          <p:stCondLst>
                                            <p:cond delay="453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7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4" autoRev="1" fill="hold">
                                          <p:stCondLst>
                                            <p:cond delay="453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34" fill="hold">
                                          <p:stCondLst>
                                            <p:cond delay="86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79800">
                                          <p:val>
                                            <p:strVal val="90"/>
                                          </p:val>
                                        </p:tav>
                                        <p:tav tm="798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79760" y="1270080"/>
            <a:ext cx="561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部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—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对肖邦故居的历史回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二部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—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重点阐述肖邦故居以及它周围的环境与艺术家创作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密切联系，强调了肖邦故居的朴素、简陋，周围景致的形、声、色的微妙变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以及它们在肖邦音乐中的完美体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三部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—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这一部分是文章的重点，作者满含深情地写了肖邦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片故土的热爱。从出生地，到少年时代的探望故里，青年时代的故园告别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再到在异国他乡的梦中思念，直至用音乐来寄托自己对祖国的满腔热爱和对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土的无限眷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四部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3—1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写肖邦故居的现状，人们从这座小屋以及肖邦音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所获得的精神力量。主题在这里得到升华，强调了肖邦之家已经成为波兰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族的精神支柱和坚韧纽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五部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—2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这是本文中最华美的乐章，作者以细腻的笔触描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了肖邦故园春、夏、秋、冬四季美景，并把它们与肖邦的音乐融合在一起，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诗如歌如画，令人陶醉、回味不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4760" y="54936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课文分段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99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399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99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99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49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99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49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199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299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49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399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49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49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99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49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699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799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49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899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49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99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49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99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49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199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299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49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399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49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49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99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49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699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799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49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899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49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99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399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99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99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49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99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49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199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299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49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399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49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49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99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49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699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799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49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899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49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99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49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99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49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199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299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49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399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49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49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99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49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699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799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49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899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49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99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399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99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99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49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99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49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199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299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49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399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49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49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99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49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699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799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49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899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49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99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49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99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49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199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299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49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399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49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49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99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49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699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799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49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899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49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7" dur="2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79900">
                                          <p:val>
                                            <p:strVal val="90"/>
                                          </p:val>
                                        </p:tav>
                                        <p:tav tm="799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79900">
                                          <p:val>
                                            <p:strVal val="90"/>
                                          </p:val>
                                        </p:tav>
                                        <p:tav tm="799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79900">
                                          <p:val>
                                            <p:strVal val="90"/>
                                          </p:val>
                                        </p:tav>
                                        <p:tav tm="799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9025010100088767</dc:creator>
  <dc:description/>
  <cp:keywords/>
  <dc:language>en-US</dc:language>
  <cp:lastModifiedBy>zmj</cp:lastModifiedBy>
  <cp:lastPrinted>1899-12-30T00:00:00Z</cp:lastPrinted>
  <dcterms:modified xsi:type="dcterms:W3CDTF">2012-01-31T14:02:09Z</dcterms:modified>
  <cp:revision>2</cp:revision>
  <dc:subject/>
  <dc:title>幻灯片 1</dc:title>
</cp:coreProperties>
</file>