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02F-4A6A-4842-A741-BCABD845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CC4-5540-447C-8763-23BFA262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BF3-01F3-4C74-93FB-F54D9C69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A57-086E-4608-BEC1-BF88673B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CDCA-6125-4ED2-A825-6A515B15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6A43-8EF8-4EFD-B2F0-1A9C756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07E5-7E3D-4473-8D18-03B2D579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650-B644-400A-B46D-0784025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170D-9D7F-4D89-A2BE-EC48486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37A-E3B6-4857-A56C-0171E8D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22EC-C6B4-4662-BE06-564E2C1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4F9-8371-4618-BAEB-BB65280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CF04-6B83-414E-98A0-9BA76F1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142E-CC9B-42AF-9045-8F5E423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81C-B5D0-45FD-B2C5-79803C1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BB2-1903-4E16-AC8B-DBE0C6A4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433-3110-4DFC-A0F6-AF3074EC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C4F-2418-41AC-A33A-DEEF140F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3B1-C15A-41A7-8A4D-826DD0FE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D08-6DED-406B-AECE-4A2289F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A41-3B6F-45D6-AFB9-BB355E57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4E9-5DA2-4314-AA81-620D3A9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3B2-1C47-4B29-AAAE-DD9D002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2ED-E0A4-4CF4-836D-7EC9149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01CF-CB00-490C-9E7D-1B30F53B875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1DA-42E2-46AA-BCED-837525343AB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2918;&#37030;.r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380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3434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华文新魏"/>
              </a:rPr>
              <a:t>肖邦故园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燕子矶中学高一  杨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66065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68879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6472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454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572"/>
                </a:solidFill>
                <a:latin typeface="Arial"/>
                <a:ea typeface="楷体_GB2312"/>
              </a:rPr>
              <a:t>听一段音乐，写下你的感受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1851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572"/>
                </a:solidFill>
                <a:latin typeface="Arial"/>
                <a:ea typeface="华文行楷"/>
              </a:rPr>
              <a:t>再见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58400" y="3124080"/>
            <a:ext cx="596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Arial"/>
                <a:ea typeface="黑体"/>
                <a:hlinkClick r:id="rId3"/>
              </a:rPr>
              <a:t>肖邦视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advTm="69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986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2860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ff"/>
                </a:solidFill>
                <a:latin typeface="Arial"/>
                <a:ea typeface="华文行楷"/>
              </a:rPr>
              <a:t>伟大的艺术作品是民族的更是世界的民族精神的支柱</a:t>
            </a:r>
            <a:r>
              <a:rPr b="0" lang="zh-CN" sz="1800" spc="-1" strike="noStrike">
                <a:solidFill>
                  <a:srgbClr val="3399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94720" y="228600"/>
            <a:ext cx="47523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Arial"/>
                <a:ea typeface="楷体_GB2312"/>
              </a:rPr>
              <a:t>聆听肖邦的音乐就像和那个高贵的灵魂亲密交谈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Arial"/>
                <a:ea typeface="楷体_GB2312"/>
              </a:rPr>
              <a:t>研习探讨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作者记述描摹了肖邦故居的那些内容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作者写肖邦故居的意义何在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肖邦故居和肖邦创作的音乐有何联系？请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勾划出相关语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记述描摹了肖邦故居的那些内容？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历史      热那佐瓦沃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外观      清寒   隐蔽    简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意义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四季景色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肖邦故居的意义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波兰人朝拜的圣地、举行精神宴会的殿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肖邦故居的魅力来源于哪里？                    ——肖邦身上那点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最美好的东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精神享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藏在花丛中的大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民族最坚韧的纽带、民族精神的支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肖邦故居和肖邦音乐创作的联系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儿时之国同创作成熟时期的渊源关系——童年和青春时代常常给人的一生打下深深的烙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这片土地的景色正是肖邦音乐最理想的序曲——波兰景色和在这大平原上诞生的艺术家的音乐的共同色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欣赏品味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阅读有关四季描写的片断，体会分析作者如何将景物描写和音乐有何联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易中生</cp:lastModifiedBy>
  <dcterms:modified xsi:type="dcterms:W3CDTF">2006-02-23T07:37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