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1F8-830A-4B7F-875A-44716FFC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9DE-47A4-49CB-8AE7-579D8CA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33-9263-4588-84E9-BE75C98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68A-921E-44F7-AFB8-99788F8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8131-05EA-4420-917E-5C024C16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4E2D-17E9-4BCA-9D9D-7F52D691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1E81-6692-4722-8DF6-2C19610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4C16-D03B-49A4-81C8-64B07DD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DB48-65EB-4C08-96EC-A3650D5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2FC3-9395-41E7-B211-670BCF89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9AF7-C493-4830-9398-92C2B3D5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6D2-B54E-4AC1-BA56-55BEE20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C63-31D1-4180-9592-A653DF8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745F-3152-410A-A9B3-3B3AA740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43FC-647C-406B-ABE0-847213F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0C2-CE7B-41A2-A3EA-CB414CD1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BADF-AFF4-4689-85BC-80B636F9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FEDE-DE15-41B8-9090-803FBCDE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23DE-A164-4F3D-A3F5-8D61121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06BD-35C1-4556-A441-39F273C2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B4D5-E712-44DB-A393-62066F2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A3ED-DF80-48D2-888C-A17EFBA3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ECD-00C8-4461-ACE7-5DAD0580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0BC0-29D8-429A-A53B-BA106DA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BDD0-0A51-432F-BADA-CEE1725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6DE0-0FDC-4560-995F-6A5FA1E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2965-2097-41C6-BD9D-3001B20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E433-91A4-47E7-BD3C-6EC67CC6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55DD-4FC4-41F8-B706-7182301E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F71E-65D3-42E8-9D15-EEEB1C0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7A20-BC9C-472D-BCDE-5B48E99B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9480-E2DE-4A14-A9DD-E70A44D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4A8F-96AF-4EC0-8C0C-5A0E9678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2FC-9EBA-4CF5-A2D9-3BF62B70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E4CC-AAB0-4250-A082-BF8C656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6839-FCA1-4472-9B80-AEA6D827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3E70-BAC1-4BC6-AB4A-CAEE9B4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418F-66A7-4C16-B6B7-64E0491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914D-A888-48F9-81C0-D1CF610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A70B-ECED-451C-8CAB-7BB28EDE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8943-28B4-4D6E-979C-32B35F5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D459-FDF8-40E9-B34F-6B747C5A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2444-6E06-4AF8-8298-0F7CBC1B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74A-E38B-4DE7-B27C-76BC108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C4A-B488-4C06-844F-37507DD2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931-12DD-4217-B123-2F261D2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43E-FE98-4EC8-8F6B-A66B841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137-2329-4D71-B8B6-B322E8E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FEA-7C48-4AB6-B176-A3B4F94784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98B-4260-445A-9F1E-23AA07815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A6D-564A-4C82-914D-629531B15204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5EC6-CD1C-4FD4-86CB-C45CA2958D4F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1501200" y="453600"/>
            <a:ext cx="7500240" cy="4969080"/>
            <a:chOff x="1501200" y="453600"/>
            <a:chExt cx="7500240" cy="4969080"/>
          </a:xfrm>
        </p:grpSpPr>
        <p:sp>
          <p:nvSpPr>
            <p:cNvPr id="83" name="矩形 15"/>
            <p:cNvSpPr/>
            <p:nvPr/>
          </p:nvSpPr>
          <p:spPr>
            <a:xfrm rot="21480000">
              <a:off x="1581120" y="58032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矩形 16"/>
            <p:cNvSpPr/>
            <p:nvPr/>
          </p:nvSpPr>
          <p:spPr>
            <a:xfrm rot="21540000">
              <a:off x="1589400" y="57168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1589760" y="55404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FF2-B569-4D83-AB52-599CCE8C06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C9B-E1AB-45DD-BBFF-3743B6B04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73D-490D-43B2-B314-8D2EA5506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u=940811929,2170901529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3"/>
          <p:cNvSpPr txBox="1"/>
          <p:nvPr/>
        </p:nvSpPr>
        <p:spPr>
          <a:xfrm>
            <a:off x="2195640" y="1700280"/>
            <a:ext cx="3114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想北平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276720" y="400536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老  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3296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、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本文的情感线索是什么？（用文中的语句回答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、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课文中哪些段落直接写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我真爱北平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”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、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作者反复强调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对北平的爱想说而说不出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”，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但并非没有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说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，作者是怎样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说</a:t>
            </a: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zh-CN" sz="2500" spc="-1" strike="noStrike">
                <a:solidFill>
                  <a:srgbClr val="595959"/>
                </a:solidFill>
                <a:latin typeface="Calibri"/>
              </a:rPr>
              <a:t>的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000080" y="20718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我真爱北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91520" y="3214800"/>
            <a:ext cx="1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第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8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6840" y="1599840"/>
            <a:ext cx="747252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比喻               爱母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想象                诗人（但不是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直抒胸臆       情不自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 flipH="1" flipV="1" rot="10800000">
            <a:off x="357120" y="3583800"/>
            <a:ext cx="8072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ahoma"/>
                <a:ea typeface="黑体"/>
              </a:rPr>
              <a:t>（情到深处反无声，老舍难以用有限的文字道尽自己对北平的爱。</a:t>
            </a:r>
            <a:r>
              <a:rPr b="1" lang="en-US" sz="2800" spc="-1" strike="noStrike">
                <a:solidFill>
                  <a:srgbClr val="0d0d0d"/>
                </a:solidFill>
                <a:latin typeface="Tahoma"/>
                <a:ea typeface="黑体"/>
              </a:rPr>
              <a:t>"</a:t>
            </a:r>
            <a:r>
              <a:rPr b="1" lang="zh-CN" sz="2800" spc="-1" strike="noStrike">
                <a:solidFill>
                  <a:srgbClr val="0d0d0d"/>
                </a:solidFill>
                <a:latin typeface="Tahoma"/>
                <a:ea typeface="黑体"/>
              </a:rPr>
              <a:t>说不出</a:t>
            </a:r>
            <a:r>
              <a:rPr b="1" lang="en-US" sz="2800" spc="-1" strike="noStrike">
                <a:solidFill>
                  <a:srgbClr val="0d0d0d"/>
                </a:solidFill>
                <a:latin typeface="Tahoma"/>
                <a:ea typeface="黑体"/>
              </a:rPr>
              <a:t>"</a:t>
            </a:r>
            <a:r>
              <a:rPr b="1" lang="zh-CN" sz="2800" spc="-1" strike="noStrike">
                <a:solidFill>
                  <a:srgbClr val="0d0d0d"/>
                </a:solidFill>
                <a:latin typeface="Tahoma"/>
                <a:ea typeface="黑体"/>
              </a:rPr>
              <a:t>正是爱到极点的表现。反复强调，表明爱得非常深厚，只是</a:t>
            </a:r>
            <a:r>
              <a:rPr b="1" lang="en-US" sz="2800" spc="-1" strike="noStrike">
                <a:solidFill>
                  <a:srgbClr val="0d0d0d"/>
                </a:solidFill>
                <a:latin typeface="Tahoma"/>
                <a:ea typeface="黑体"/>
              </a:rPr>
              <a:t>"</a:t>
            </a:r>
            <a:r>
              <a:rPr b="1" lang="zh-CN" sz="2800" spc="-1" strike="noStrike">
                <a:solidFill>
                  <a:srgbClr val="0d0d0d"/>
                </a:solidFill>
                <a:latin typeface="Tahoma"/>
                <a:ea typeface="黑体"/>
              </a:rPr>
              <a:t>说不出而已</a:t>
            </a:r>
            <a:r>
              <a:rPr b="1" lang="en-US" sz="2800" spc="-1" strike="noStrike">
                <a:solidFill>
                  <a:srgbClr val="0d0d0d"/>
                </a:solidFill>
                <a:latin typeface="Tahoma"/>
                <a:ea typeface="黑体"/>
              </a:rPr>
              <a:t>"</a:t>
            </a:r>
            <a:r>
              <a:rPr b="1" lang="zh-CN" sz="2800" spc="-1" strike="noStrike">
                <a:solidFill>
                  <a:srgbClr val="0d0d0d"/>
                </a:solidFill>
                <a:latin typeface="Tahoma"/>
                <a:ea typeface="黑体"/>
              </a:rPr>
              <a:t>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934640"/>
            <a:ext cx="868680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0" lang="zh-CN" sz="3000" spc="-1" strike="noStrike">
                <a:solidFill>
                  <a:srgbClr val="404040"/>
                </a:solidFill>
                <a:latin typeface="Calibri"/>
              </a:rPr>
              <a:t>本文的写作对象是北平，但是文中多次写到欧洲的四大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3000" spc="-1" strike="noStrike">
                <a:solidFill>
                  <a:srgbClr val="404040"/>
                </a:solidFill>
                <a:latin typeface="Calibri"/>
              </a:rPr>
              <a:t>历史的都城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”，</a:t>
            </a:r>
            <a:r>
              <a:rPr b="0" lang="zh-CN" sz="3000" spc="-1" strike="noStrike">
                <a:solidFill>
                  <a:srgbClr val="404040"/>
                </a:solidFill>
                <a:latin typeface="Calibri"/>
              </a:rPr>
              <a:t>这样写有什么意图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0" lang="zh-CN" sz="3000" spc="-1" strike="noStrike">
                <a:solidFill>
                  <a:srgbClr val="404040"/>
                </a:solidFill>
                <a:latin typeface="Calibri"/>
              </a:rPr>
              <a:t>北平有什么特点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785880" y="3214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通过相互对比和衬托，突出北平的特点和作者对北平的偏爱之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1600200"/>
          <a:ext cx="8229600" cy="2257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93960"/>
                <a:gridCol w="1643040"/>
                <a:gridCol w="1400040"/>
              </a:tblGrid>
              <a:tr h="757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4a4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整体结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4a4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环境气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4a4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建筑格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4a4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生活情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4a48"/>
                    </a:solidFill>
                  </a:tcPr>
                </a:tc>
              </a:tr>
              <a:tr h="714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北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0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0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0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0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0cf"/>
                    </a:solidFill>
                  </a:tcPr>
                </a:tc>
              </a:tr>
              <a:tr h="785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华文行楷"/>
                        </a:rPr>
                        <a:t>四大都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9e9"/>
                    </a:solidFill>
                  </a:tcPr>
                </a:tc>
              </a:tr>
            </a:tbl>
          </a:graphicData>
        </a:graphic>
      </p:graphicFrame>
      <p:sp>
        <p:nvSpPr>
          <p:cNvPr id="205" name="TextBox 6"/>
          <p:cNvSpPr/>
          <p:nvPr/>
        </p:nvSpPr>
        <p:spPr>
          <a:xfrm>
            <a:off x="2521800" y="257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复杂有边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2667240" y="3286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太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3786120" y="25718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太热闹、疲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786120" y="3286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动中有静、温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5500800" y="2571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然      有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5643720" y="3357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匀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286760" y="2571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接近自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7286760" y="32860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污染严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标题 1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501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ahoma"/>
                <a:ea typeface="黑体"/>
              </a:rPr>
              <a:t>   </a:t>
            </a:r>
            <a:r>
              <a:rPr b="1" lang="zh-CN" sz="3200" spc="-1" strike="noStrike">
                <a:solidFill>
                  <a:srgbClr val="0d0d0d"/>
                </a:solidFill>
                <a:latin typeface="Tahoma"/>
                <a:ea typeface="黑体"/>
              </a:rPr>
              <a:t>选取日常生活中的平凡事物和画面：什刹海的蜻蜓，玉泉山的塔影，长着红酸枣的老城墙，墙边的花，院里的新鲜蔬菜及带霜的水果</a:t>
            </a:r>
            <a:r>
              <a:rPr b="1" lang="en-US" sz="3200" spc="-1" strike="noStrike">
                <a:solidFill>
                  <a:srgbClr val="0d0d0d"/>
                </a:solidFill>
                <a:latin typeface="Tahoma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d0d0d"/>
                </a:solidFill>
                <a:latin typeface="Tahoma"/>
                <a:ea typeface="黑体"/>
              </a:rPr>
              <a:t>作者采用</a:t>
            </a:r>
            <a:r>
              <a:rPr b="1" lang="zh-CN" sz="3200" spc="-1" strike="noStrike">
                <a:solidFill>
                  <a:srgbClr val="00b0f0"/>
                </a:solidFill>
                <a:latin typeface="Tahoma"/>
                <a:ea typeface="黑体"/>
              </a:rPr>
              <a:t>以小见大</a:t>
            </a:r>
            <a:r>
              <a:rPr b="1" lang="zh-CN" sz="3200" spc="-1" strike="noStrike">
                <a:solidFill>
                  <a:srgbClr val="0d0d0d"/>
                </a:solidFill>
                <a:latin typeface="Tahoma"/>
                <a:ea typeface="黑体"/>
              </a:rPr>
              <a:t>的手法表现对 </a:t>
            </a:r>
            <a:r>
              <a:rPr b="1" lang="zh-CN" sz="3200" spc="-1" strike="noStrike">
                <a:solidFill>
                  <a:srgbClr val="00b0f0"/>
                </a:solidFill>
                <a:latin typeface="Tahoma"/>
                <a:ea typeface="黑体"/>
              </a:rPr>
              <a:t>平民生活</a:t>
            </a:r>
            <a:r>
              <a:rPr b="1" lang="zh-CN" sz="3200" spc="-1" strike="noStrike">
                <a:solidFill>
                  <a:srgbClr val="0d0d0d"/>
                </a:solidFill>
                <a:latin typeface="Tahoma"/>
                <a:ea typeface="黑体"/>
              </a:rPr>
              <a:t>的热爱之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对比和衬托、以小见大的写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情感真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以思乡为题，写一篇散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家乡是我们每个人梦魂牵绕的地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特别是漂泊在外的游子对家乡的思念之情更深，因此思乡是人们的一种美好情感，许多文人墨客写下了许多美好的诗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66387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2484360" y="692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Calibri"/>
                <a:ea typeface="华文新魏"/>
              </a:rPr>
              <a:t>学习目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9280" y="2781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深刻体会作者对北平刻骨铭心的眷恋思乡之情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了解散文的对比衬托手法，学习作者从平凡的事物入手，抒写自己的主观感受和感情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600200"/>
            <a:ext cx="8329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、 “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想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字感情色彩强烈，表现了作者怎样的思想感情？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作者为什么不把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想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字改为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写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字？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500120" y="32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思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1285920" y="4643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“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想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”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是主观描写北平，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“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写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”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是客观描写北平。作者不是实实在在地写北平的景象，而是写作者心目中的北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688840"/>
            <a:ext cx="197640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laoshe "/>
          <p:cNvPicPr/>
          <p:nvPr/>
        </p:nvPicPr>
        <p:blipFill>
          <a:blip r:embed="rId1"/>
          <a:stretch/>
        </p:blipFill>
        <p:spPr>
          <a:xfrm>
            <a:off x="77760" y="189000"/>
            <a:ext cx="5070600" cy="647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mm2705d2000071368"/>
          <p:cNvPicPr/>
          <p:nvPr/>
        </p:nvPicPr>
        <p:blipFill>
          <a:blip r:embed="rId2"/>
          <a:stretch/>
        </p:blipFill>
        <p:spPr>
          <a:xfrm>
            <a:off x="5200560" y="981000"/>
            <a:ext cx="3692520" cy="5734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5796000" y="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  <a:ea typeface="黑体"/>
              </a:rPr>
              <a:t>老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844640"/>
            <a:ext cx="9144000" cy="2043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代作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名舒庆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舍予。出生</a:t>
            </a:r>
            <a:r>
              <a:rPr b="1" lang="zh-CN" sz="3200" spc="-1" strike="noStrike">
                <a:solidFill>
                  <a:srgbClr val="f24f0e"/>
                </a:solidFill>
                <a:latin typeface="宋体"/>
              </a:rPr>
              <a:t>贫民家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老舍的作品大都取材于市民生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中国现现代文学开拓了重要的题材领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所描写的自然风光、世态人情、习俗风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运用的群众口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都呈现出浓郁的“京味”。优秀长篇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骆驼祥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世同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是描写北京市民生活的代表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428760" y="357120"/>
            <a:ext cx="424800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作者和作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11280" y="1268280"/>
            <a:ext cx="3970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长篇小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骆驼祥子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四世同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短篇小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月牙儿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55640" y="1197000"/>
            <a:ext cx="40467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剧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茶馆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龙须沟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方正舒体"/>
              </a:rPr>
              <a:t>“</a:t>
            </a:r>
            <a:r>
              <a:rPr b="1" i="1" lang="zh-CN" sz="4800" spc="-1" strike="noStrike">
                <a:solidFill>
                  <a:srgbClr val="f24f0e"/>
                </a:solidFill>
                <a:latin typeface="Calibri"/>
                <a:ea typeface="方正舒体"/>
              </a:rPr>
              <a:t>人民艺术家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方正舒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000" y="5013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文化大革命”初期因被迫害而弃世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2060640"/>
            <a:ext cx="8497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本文是作者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在山东济南时写下的一篇散文。作者当时不在北京，那时日本帝国主义已经加紧了对中国的侵略，丧权辱国的“何梅协定”的签订，适应日本侵略需要的“冀察政务委员会”的成立，都说明华北危急，北京危急。 当年身处异地的老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战乱的岁月中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更加思念他挚爱的北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285840" y="6429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写作背景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100008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071720" y="200016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听音频朗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想北平朗读.wma" descr=""/>
          <p:cNvPicPr/>
          <p:nvPr/>
        </p:nvPicPr>
        <p:blipFill>
          <a:blip r:embed="rId1"/>
          <a:stretch/>
        </p:blipFill>
        <p:spPr>
          <a:xfrm>
            <a:off x="4419720" y="1714680"/>
            <a:ext cx="18669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5550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1:20:00Z</dcterms:created>
  <dc:creator>Administrator</dc:creator>
  <dc:description/>
  <cp:keywords/>
  <dc:language>en-US</dc:language>
  <cp:lastModifiedBy>User</cp:lastModifiedBy>
  <dcterms:modified xsi:type="dcterms:W3CDTF">2016-03-27T14:29:21Z</dcterms:modified>
  <cp:revision>50</cp:revision>
  <dc:subject/>
  <dc:title>想北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