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gif" ContentType="image/gif"/>
  <Override PartName="/ppt/media/image19.gif" ContentType="image/gif"/>
  <Override PartName="/ppt/media/image14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6.png" ContentType="image/png"/>
  <Override PartName="/ppt/media/image15.png" ContentType="image/png"/>
  <Override PartName="/ppt/media/image18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38.gif" ContentType="image/gif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60EB-7B81-44BB-B3DA-842008F4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45B0-0047-41CA-8D19-BCB244FC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928-6493-4601-8E08-917A3288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2C4-C011-4352-8A2D-1CC258D2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CA05-950A-4311-BD13-19F8897D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106-FAA6-4B79-A285-DEC2AA60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DB54-A3C8-4481-A737-38153370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7A87-40BB-40BE-9603-CBAA01B4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93D-25EC-400B-901C-BFAA1C80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17C8-9DEF-4ADA-85E7-11A03EA1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10F-FAC3-4C7D-8A47-791BBC39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22E-129A-4C7A-8E14-995D8E65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727E-272C-4BC9-93A2-7936A8872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.sw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" Target="slide7.xm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7.xm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38.gif"/><Relationship Id="rId10" Type="http://schemas.openxmlformats.org/officeDocument/2006/relationships/image" Target="../media/image38.gif"/><Relationship Id="rId11" Type="http://schemas.openxmlformats.org/officeDocument/2006/relationships/image" Target="../media/image38.gif"/><Relationship Id="rId12" Type="http://schemas.openxmlformats.org/officeDocument/2006/relationships/image" Target="../media/image38.gif"/><Relationship Id="rId13" Type="http://schemas.openxmlformats.org/officeDocument/2006/relationships/image" Target="../media/image38.gif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&#30333;&#23621;&#26131;.r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8.gif"/><Relationship Id="rId3" Type="http://schemas.openxmlformats.org/officeDocument/2006/relationships/slide" Target="slide8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5090410455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828800"/>
            <a:ext cx="6248520" cy="335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76520" y="304920"/>
            <a:ext cx="5486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欢迎光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54864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辽宁鞍山东方中学翟林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000" descr=""/>
          <p:cNvPicPr/>
          <p:nvPr/>
        </p:nvPicPr>
        <p:blipFill>
          <a:blip r:embed="rId2"/>
          <a:stretch/>
        </p:blipFill>
        <p:spPr>
          <a:xfrm>
            <a:off x="8610480" y="3808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71" name="000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72" name="000" descr=""/>
          <p:cNvPicPr/>
          <p:nvPr/>
        </p:nvPicPr>
        <p:blipFill>
          <a:blip r:embed="rId4"/>
          <a:stretch/>
        </p:blipFill>
        <p:spPr>
          <a:xfrm>
            <a:off x="0" y="8380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73" name="000" descr=""/>
          <p:cNvPicPr/>
          <p:nvPr/>
        </p:nvPicPr>
        <p:blipFill>
          <a:blip r:embed="rId5"/>
          <a:stretch/>
        </p:blipFill>
        <p:spPr>
          <a:xfrm>
            <a:off x="1523880" y="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74" name="000" descr=""/>
          <p:cNvPicPr/>
          <p:nvPr/>
        </p:nvPicPr>
        <p:blipFill>
          <a:blip r:embed="rId6"/>
          <a:stretch/>
        </p:blipFill>
        <p:spPr>
          <a:xfrm>
            <a:off x="6781680" y="44956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75" name="000" descr=""/>
          <p:cNvPicPr/>
          <p:nvPr/>
        </p:nvPicPr>
        <p:blipFill>
          <a:blip r:embed="rId7"/>
          <a:stretch/>
        </p:blipFill>
        <p:spPr>
          <a:xfrm>
            <a:off x="8534520" y="38098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76" name="000" descr=""/>
          <p:cNvPicPr/>
          <p:nvPr/>
        </p:nvPicPr>
        <p:blipFill>
          <a:blip r:embed="rId8"/>
          <a:stretch/>
        </p:blipFill>
        <p:spPr>
          <a:xfrm>
            <a:off x="3429000" y="0"/>
            <a:ext cx="239760" cy="239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258920" y="404640"/>
            <a:ext cx="4968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初读感知美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2852640"/>
            <a:ext cx="7554960" cy="1922760"/>
          </a:xfrm>
          <a:prstGeom prst="rect">
            <a:avLst/>
          </a:prstGeom>
          <a:solidFill>
            <a:srgbClr val="00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隶书"/>
              </a:rPr>
              <a:t>     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隶书"/>
              </a:rPr>
              <a:t>诵读后，你对本诗内容是怎样理解的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1680" y="1692360"/>
            <a:ext cx="8002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31827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白居易所处的中唐是一个多难的时代，他从十多岁开始，即因战乱而离家四处飘泊。德宗贞元十五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99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春，宣武军节度使董晋死，其部下举兵叛乱。继之彰义军节度使吴少诚亦叛，唐朝廷不得不发兵征讨，河南一带再次沦为战乱的中心。由于漕运受阻，加上旱荒频仍，关内饥馑十分严重。就在这一年秋，白居易为宣州刺史所贡，第二年春在长安考中进士，旋即东归省亲。这首河南经乱书怀的诗，大约就写于这一时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华文行楷"/>
              </a:rPr>
              <a:t>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134136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  <a:ea typeface="华文行楷"/>
              </a:rPr>
              <a:t>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292428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华文行楷"/>
              </a:rPr>
              <a:t>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2210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  <a:ea typeface="华文行楷"/>
              </a:rPr>
              <a:t>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057400" y="1066680"/>
          <a:ext cx="7308720" cy="5186520"/>
        </p:xfrm>
        <a:graphic>
          <a:graphicData uri="http://schemas.openxmlformats.org/drawingml/2006/table">
            <a:tbl>
              <a:tblPr/>
              <a:tblGrid>
                <a:gridCol w="73087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时势艰难兵荒马乱，家业空空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兄弟逃难旅居异地，各自西东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战乱以后处处寥落，田园荒芜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骨肉分离漂泊流浪，失散途中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离群孤雁相隔千里，形影相吊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同根兄弟随风飞散，恰似秋蓬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天涯海角共看明月，无不垂泪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今夜思乡你我同心，五地相同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30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209680" y="304920"/>
            <a:ext cx="2438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译诗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8" name="2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924680" y="38088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mboat" descr=""/>
          <p:cNvPicPr/>
          <p:nvPr/>
        </p:nvPicPr>
        <p:blipFill>
          <a:blip r:embed="rId2"/>
          <a:stretch/>
        </p:blipFill>
        <p:spPr>
          <a:xfrm>
            <a:off x="7524720" y="333360"/>
            <a:ext cx="1619280" cy="1150920"/>
          </a:xfrm>
          <a:prstGeom prst="rect">
            <a:avLst/>
          </a:prstGeom>
          <a:ln w="0">
            <a:noFill/>
          </a:ln>
        </p:spPr>
      </p:pic>
      <p:pic>
        <p:nvPicPr>
          <p:cNvPr id="90" name="000" descr=""/>
          <p:cNvPicPr/>
          <p:nvPr/>
        </p:nvPicPr>
        <p:blipFill>
          <a:blip r:embed="rId3"/>
          <a:stretch/>
        </p:blipFill>
        <p:spPr>
          <a:xfrm>
            <a:off x="0" y="53352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91" name="000" descr=""/>
          <p:cNvPicPr/>
          <p:nvPr/>
        </p:nvPicPr>
        <p:blipFill>
          <a:blip r:embed="rId4"/>
          <a:stretch/>
        </p:blipFill>
        <p:spPr>
          <a:xfrm>
            <a:off x="3124080" y="45720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92" name="000" descr=""/>
          <p:cNvPicPr/>
          <p:nvPr/>
        </p:nvPicPr>
        <p:blipFill>
          <a:blip r:embed="rId5"/>
          <a:stretch/>
        </p:blipFill>
        <p:spPr>
          <a:xfrm>
            <a:off x="8610480" y="3808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93" name="000" descr=""/>
          <p:cNvPicPr/>
          <p:nvPr/>
        </p:nvPicPr>
        <p:blipFill>
          <a:blip r:embed="rId6"/>
          <a:stretch/>
        </p:blipFill>
        <p:spPr>
          <a:xfrm>
            <a:off x="7848720" y="8380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94" name="000" descr=""/>
          <p:cNvPicPr/>
          <p:nvPr/>
        </p:nvPicPr>
        <p:blipFill>
          <a:blip r:embed="rId7"/>
          <a:stretch/>
        </p:blipFill>
        <p:spPr>
          <a:xfrm>
            <a:off x="-239760" y="350532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95" name="000" descr=""/>
          <p:cNvPicPr/>
          <p:nvPr/>
        </p:nvPicPr>
        <p:blipFill>
          <a:blip r:embed="rId8"/>
          <a:stretch/>
        </p:blipFill>
        <p:spPr>
          <a:xfrm>
            <a:off x="1219320" y="2209680"/>
            <a:ext cx="239760" cy="239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43080" y="7047000"/>
            <a:ext cx="8686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遥远的夜空有一个弯弯的月亮 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14480" y="-1011240"/>
            <a:ext cx="5715000" cy="4732200"/>
            <a:chOff x="114480" y="-1011240"/>
            <a:chExt cx="5715000" cy="4732200"/>
          </a:xfrm>
        </p:grpSpPr>
        <p:sp>
          <p:nvSpPr>
            <p:cNvPr id="98" name=""/>
            <p:cNvSpPr/>
            <p:nvPr/>
          </p:nvSpPr>
          <p:spPr>
            <a:xfrm>
              <a:off x="114480" y="-1011240"/>
              <a:ext cx="5715000" cy="47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14480" y="-1011240"/>
              <a:ext cx="5189400" cy="3325680"/>
              <a:chOff x="114480" y="-1011240"/>
              <a:chExt cx="5189400" cy="3325680"/>
            </a:xfrm>
          </p:grpSpPr>
          <p:sp>
            <p:nvSpPr>
              <p:cNvPr id="100" name=""/>
              <p:cNvSpPr/>
              <p:nvPr/>
            </p:nvSpPr>
            <p:spPr>
              <a:xfrm>
                <a:off x="114480" y="-1011240"/>
                <a:ext cx="1932120" cy="33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14480" y="-1011240"/>
                <a:ext cx="5189400" cy="360"/>
                <a:chOff x="114480" y="-1011240"/>
                <a:chExt cx="5189400" cy="3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114480" y="-1011240"/>
                  <a:ext cx="5189400" cy="360"/>
                  <a:chOff x="114480" y="-1011240"/>
                  <a:chExt cx="5189400" cy="36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114480" y="-1011240"/>
                    <a:ext cx="5189400" cy="360"/>
                    <a:chOff x="114480" y="-1011240"/>
                    <a:chExt cx="5189400" cy="36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114480" y="-1011240"/>
                      <a:ext cx="51894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114480" y="-1011240"/>
                      <a:ext cx="51894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>
                    <a:off x="114480" y="-1011240"/>
                    <a:ext cx="5189400" cy="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"/>
                <p:cNvSpPr/>
                <p:nvPr/>
              </p:nvSpPr>
              <p:spPr>
                <a:xfrm>
                  <a:off x="114480" y="-1011240"/>
                  <a:ext cx="5189400" cy="360"/>
                </a:xfrm>
                <a:prstGeom prst="rect">
                  <a:avLst/>
                </a:prstGeom>
                <a:noFill/>
                <a:ln w="0">
                  <a:solidFill>
                    <a:srgbClr val="c072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4360" y="404640"/>
            <a:ext cx="4319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再读领悟美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286000"/>
            <a:ext cx="6193080" cy="764280"/>
          </a:xfrm>
          <a:prstGeom prst="rect">
            <a:avLst/>
          </a:prstGeom>
          <a:solidFill>
            <a:srgbClr val="0033c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华文行楷"/>
              </a:rPr>
              <a:t>每联各写了什么内容？传达诗人怎样的情感？我们一起来品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0" y="685800"/>
            <a:ext cx="4952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时难年荒世业空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弟兄羁旅各西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田园寥落干戈后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骨肉流离道路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吊影分为千里雁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辞根散作九秋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共看明月应垂泪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一夜乡心五处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2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05920" y="563868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fj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000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115" name="000" descr=""/>
          <p:cNvPicPr/>
          <p:nvPr/>
        </p:nvPicPr>
        <p:blipFill>
          <a:blip r:embed="rId4"/>
          <a:stretch/>
        </p:blipFill>
        <p:spPr>
          <a:xfrm>
            <a:off x="3886200" y="167652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116" name="000" descr=""/>
          <p:cNvPicPr/>
          <p:nvPr/>
        </p:nvPicPr>
        <p:blipFill>
          <a:blip r:embed="rId5"/>
          <a:stretch/>
        </p:blipFill>
        <p:spPr>
          <a:xfrm>
            <a:off x="2057400" y="30492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117" name="000" descr=""/>
          <p:cNvPicPr/>
          <p:nvPr/>
        </p:nvPicPr>
        <p:blipFill>
          <a:blip r:embed="rId6"/>
          <a:stretch/>
        </p:blipFill>
        <p:spPr>
          <a:xfrm>
            <a:off x="3581280" y="68580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118" name="000" descr=""/>
          <p:cNvPicPr/>
          <p:nvPr/>
        </p:nvPicPr>
        <p:blipFill>
          <a:blip r:embed="rId7"/>
          <a:stretch/>
        </p:blipFill>
        <p:spPr>
          <a:xfrm>
            <a:off x="5943600" y="45720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119" name="000" descr=""/>
          <p:cNvPicPr/>
          <p:nvPr/>
        </p:nvPicPr>
        <p:blipFill>
          <a:blip r:embed="rId8"/>
          <a:stretch/>
        </p:blipFill>
        <p:spPr>
          <a:xfrm>
            <a:off x="7848720" y="3808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120" name="000" descr=""/>
          <p:cNvPicPr/>
          <p:nvPr/>
        </p:nvPicPr>
        <p:blipFill>
          <a:blip r:embed="rId9"/>
          <a:stretch/>
        </p:blipFill>
        <p:spPr>
          <a:xfrm>
            <a:off x="8904240" y="609480"/>
            <a:ext cx="239760" cy="239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050920" y="2565360"/>
            <a:ext cx="482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533520"/>
            <a:ext cx="48769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三读欣赏美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2209680"/>
            <a:ext cx="65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华文新魏"/>
              </a:rPr>
              <a:t>用你的耳朵去倾听，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华文新魏"/>
              </a:rPr>
              <a:t>用你的心灵去体会，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华文新魏"/>
              </a:rPr>
              <a:t>你最欣赏的是哪一句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777240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921000" y="765000"/>
            <a:ext cx="1826280" cy="5040360"/>
          </a:xfrm>
          <a:prstGeom prst="rect">
            <a:avLst/>
          </a:prstGeom>
          <a:solidFill>
            <a:srgbClr val="00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吊影分为千里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496080" y="836640"/>
            <a:ext cx="1826280" cy="5040360"/>
          </a:xfrm>
          <a:prstGeom prst="rect">
            <a:avLst/>
          </a:prstGeom>
          <a:solidFill>
            <a:srgbClr val="00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新魏"/>
              </a:rPr>
              <a:t>辞根散作九秋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3124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诗人不仅以千里孤雁、九秋断蓬作了形象贴切的比喻，而且以吊影分飞与辞根离散这样传神的描述，赋予它们孤苦凄惶的情态，深刻揭示了饱经战乱的零落之苦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2004914203515312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724280" cy="2692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7920" y="907920"/>
            <a:ext cx="18262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隶书"/>
              </a:rPr>
              <a:t>共看明月应垂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22800" y="838080"/>
            <a:ext cx="10033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隶书"/>
              </a:rPr>
              <a:t>一夜乡心五处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2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5715000"/>
            <a:ext cx="838440" cy="876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9480" y="304920"/>
            <a:ext cx="7467840" cy="64260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华文新魏"/>
              </a:rPr>
              <a:t>孤单的诗人凄惶中夜深难寐，举首遥望孤悬夜空的明月，情不自禁联想到飘散在各地的兄长弟妹们，如果此时大家都在举目遥望这轮勾引无限乡思的明月，也会和自己一样潸潸泪垂吧！恐怕这一夜之中，流散五处深切思念家园的心，也都会是相同的。诗人在这里构出一幅五地望月共生乡愁的图景，从而收结全诗，创造出浑朴真淳、引人共鸣的艺术境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1219320"/>
            <a:ext cx="459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方正舒体"/>
              </a:rPr>
              <a:t>       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华文新魏"/>
              </a:rPr>
              <a:t>残月如弓，新月如眉，满月如镜，美丽的月亮是历代诗人笔下多情之物。你能试着写一写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5400000">
            <a:off x="4685760" y="2247840"/>
            <a:ext cx="4952880" cy="19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诵读创造美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990720"/>
            <a:ext cx="4572000" cy="1191240"/>
          </a:xfrm>
          <a:prstGeom prst="rect">
            <a:avLst/>
          </a:prstGeom>
          <a:solidFill>
            <a:srgbClr val="3333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66"/>
                </a:solidFill>
                <a:latin typeface="Arial"/>
                <a:ea typeface="华文新魏"/>
              </a:rPr>
              <a:t>中国人的月亮情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z13" descr=""/>
          <p:cNvPicPr/>
          <p:nvPr/>
        </p:nvPicPr>
        <p:blipFill>
          <a:blip r:embed="rId1"/>
          <a:stretch/>
        </p:blipFill>
        <p:spPr>
          <a:xfrm>
            <a:off x="1143000" y="-5791320"/>
            <a:ext cx="7207200" cy="4724640"/>
          </a:xfrm>
          <a:prstGeom prst="rect">
            <a:avLst/>
          </a:prstGeom>
          <a:ln w="0">
            <a:noFill/>
          </a:ln>
        </p:spPr>
      </p:pic>
      <p:pic>
        <p:nvPicPr>
          <p:cNvPr id="136" name="200491519396171" descr=""/>
          <p:cNvPicPr/>
          <p:nvPr/>
        </p:nvPicPr>
        <p:blipFill>
          <a:blip r:embed="rId2"/>
          <a:stretch/>
        </p:blipFill>
        <p:spPr>
          <a:xfrm>
            <a:off x="-6934320" y="990720"/>
            <a:ext cx="6400800" cy="5360760"/>
          </a:xfrm>
          <a:prstGeom prst="rect">
            <a:avLst/>
          </a:prstGeom>
          <a:ln w="0">
            <a:noFill/>
          </a:ln>
        </p:spPr>
      </p:pic>
      <p:pic>
        <p:nvPicPr>
          <p:cNvPr id="137" name="200592118292240" descr=""/>
          <p:cNvPicPr/>
          <p:nvPr/>
        </p:nvPicPr>
        <p:blipFill>
          <a:blip r:embed="rId3"/>
          <a:stretch/>
        </p:blipFill>
        <p:spPr>
          <a:xfrm>
            <a:off x="990720" y="7696080"/>
            <a:ext cx="7391160" cy="5040360"/>
          </a:xfrm>
          <a:prstGeom prst="rect">
            <a:avLst/>
          </a:prstGeom>
          <a:ln w="0">
            <a:noFill/>
          </a:ln>
        </p:spPr>
      </p:pic>
      <p:pic>
        <p:nvPicPr>
          <p:cNvPr id="138" name="063" descr=""/>
          <p:cNvPicPr/>
          <p:nvPr/>
        </p:nvPicPr>
        <p:blipFill>
          <a:blip r:embed="rId4"/>
          <a:stretch/>
        </p:blipFill>
        <p:spPr>
          <a:xfrm>
            <a:off x="10515600" y="1676520"/>
            <a:ext cx="6705720" cy="4876560"/>
          </a:xfrm>
          <a:prstGeom prst="rect">
            <a:avLst/>
          </a:prstGeom>
          <a:ln w="0">
            <a:noFill/>
          </a:ln>
        </p:spPr>
      </p:pic>
      <p:pic>
        <p:nvPicPr>
          <p:cNvPr id="139" name="1302231" descr=""/>
          <p:cNvPicPr/>
          <p:nvPr/>
        </p:nvPicPr>
        <p:blipFill>
          <a:blip r:embed="rId5"/>
          <a:stretch/>
        </p:blipFill>
        <p:spPr>
          <a:xfrm>
            <a:off x="-6172200" y="1828800"/>
            <a:ext cx="582912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30" descr=""/>
          <p:cNvPicPr/>
          <p:nvPr/>
        </p:nvPicPr>
        <p:blipFill>
          <a:blip r:embed="rId6"/>
          <a:stretch/>
        </p:blipFill>
        <p:spPr>
          <a:xfrm>
            <a:off x="990720" y="7848720"/>
            <a:ext cx="8153280" cy="5257800"/>
          </a:xfrm>
          <a:prstGeom prst="rect">
            <a:avLst/>
          </a:prstGeom>
          <a:ln w="0">
            <a:noFill/>
          </a:ln>
        </p:spPr>
      </p:pic>
      <p:pic>
        <p:nvPicPr>
          <p:cNvPr id="141" name="2005052921191852409" descr=""/>
          <p:cNvPicPr/>
          <p:nvPr/>
        </p:nvPicPr>
        <p:blipFill>
          <a:blip r:embed="rId7"/>
          <a:stretch/>
        </p:blipFill>
        <p:spPr>
          <a:xfrm>
            <a:off x="1600200" y="-5257800"/>
            <a:ext cx="6781680" cy="4495680"/>
          </a:xfrm>
          <a:prstGeom prst="rect">
            <a:avLst/>
          </a:prstGeom>
          <a:ln w="0">
            <a:noFill/>
          </a:ln>
        </p:spPr>
      </p:pic>
      <p:pic>
        <p:nvPicPr>
          <p:cNvPr id="142" name="16_1953" descr=""/>
          <p:cNvPicPr/>
          <p:nvPr/>
        </p:nvPicPr>
        <p:blipFill>
          <a:blip r:embed="rId8"/>
          <a:stretch/>
        </p:blipFill>
        <p:spPr>
          <a:xfrm>
            <a:off x="9753480" y="1219320"/>
            <a:ext cx="6782040" cy="4647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7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z13" descr=""/>
          <p:cNvPicPr/>
          <p:nvPr/>
        </p:nvPicPr>
        <p:blipFill>
          <a:blip r:embed="rId1"/>
          <a:stretch/>
        </p:blipFill>
        <p:spPr>
          <a:xfrm>
            <a:off x="0" y="3505320"/>
            <a:ext cx="4500720" cy="3352680"/>
          </a:xfrm>
          <a:prstGeom prst="rect">
            <a:avLst/>
          </a:prstGeom>
          <a:ln w="0">
            <a:noFill/>
          </a:ln>
        </p:spPr>
      </p:pic>
      <p:pic>
        <p:nvPicPr>
          <p:cNvPr id="144" name="16_1953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145" name="200491519434874" descr=""/>
          <p:cNvPicPr/>
          <p:nvPr/>
        </p:nvPicPr>
        <p:blipFill>
          <a:blip r:embed="rId3"/>
          <a:stretch/>
        </p:blipFill>
        <p:spPr>
          <a:xfrm>
            <a:off x="4495680" y="3505320"/>
            <a:ext cx="4648320" cy="3352680"/>
          </a:xfrm>
          <a:prstGeom prst="rect">
            <a:avLst/>
          </a:prstGeom>
          <a:ln w="0">
            <a:noFill/>
          </a:ln>
        </p:spPr>
      </p:pic>
      <p:pic>
        <p:nvPicPr>
          <p:cNvPr id="146" name="2005072217395029023" descr=""/>
          <p:cNvPicPr/>
          <p:nvPr/>
        </p:nvPicPr>
        <p:blipFill>
          <a:blip r:embed="rId4"/>
          <a:stretch/>
        </p:blipFill>
        <p:spPr>
          <a:xfrm>
            <a:off x="4495680" y="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147" name="u=2033956862,2260302509&amp;gp=0" descr=""/>
          <p:cNvPicPr/>
          <p:nvPr/>
        </p:nvPicPr>
        <p:blipFill>
          <a:blip r:embed="rId5"/>
          <a:stretch/>
        </p:blipFill>
        <p:spPr>
          <a:xfrm>
            <a:off x="6705720" y="0"/>
            <a:ext cx="2165400" cy="1589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09480" y="304920"/>
            <a:ext cx="64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感谢白居易，感谢他用浅白平实而又意蕴精深的语言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倾诉自己身受的离乱之苦。感谢白居易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感谢他以绵邈真挚的诗思，构出一幅五地望月共生乡愁的图景，创造出浑朴真淳、引人共鸣的艺术境界。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   “人生代代无穷已，江月年年望相似。”愿大家美好的人生路上永远有一片皎洁的月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715000" y="4724280"/>
            <a:ext cx="3048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小结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000" descr=""/>
          <p:cNvPicPr/>
          <p:nvPr/>
        </p:nvPicPr>
        <p:blipFill>
          <a:blip r:embed="rId2"/>
          <a:stretch/>
        </p:blipFill>
        <p:spPr>
          <a:xfrm>
            <a:off x="8610480" y="3808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151" name="000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152" name="000" descr=""/>
          <p:cNvPicPr/>
          <p:nvPr/>
        </p:nvPicPr>
        <p:blipFill>
          <a:blip r:embed="rId4"/>
          <a:stretch/>
        </p:blipFill>
        <p:spPr>
          <a:xfrm>
            <a:off x="0" y="8380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153" name="000" descr=""/>
          <p:cNvPicPr/>
          <p:nvPr/>
        </p:nvPicPr>
        <p:blipFill>
          <a:blip r:embed="rId5"/>
          <a:stretch/>
        </p:blipFill>
        <p:spPr>
          <a:xfrm>
            <a:off x="1523880" y="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154" name="000" descr=""/>
          <p:cNvPicPr/>
          <p:nvPr/>
        </p:nvPicPr>
        <p:blipFill>
          <a:blip r:embed="rId6"/>
          <a:stretch/>
        </p:blipFill>
        <p:spPr>
          <a:xfrm>
            <a:off x="6781680" y="44956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155" name="000" descr=""/>
          <p:cNvPicPr/>
          <p:nvPr/>
        </p:nvPicPr>
        <p:blipFill>
          <a:blip r:embed="rId7"/>
          <a:stretch/>
        </p:blipFill>
        <p:spPr>
          <a:xfrm>
            <a:off x="8534520" y="380988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156" name="000" descr=""/>
          <p:cNvPicPr/>
          <p:nvPr/>
        </p:nvPicPr>
        <p:blipFill>
          <a:blip r:embed="rId8"/>
          <a:stretch/>
        </p:blipFill>
        <p:spPr>
          <a:xfrm>
            <a:off x="3429000" y="0"/>
            <a:ext cx="239760" cy="239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523880" y="3124080"/>
            <a:ext cx="39625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再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58" name="gif008" descr=""/>
          <p:cNvPicPr/>
          <p:nvPr/>
        </p:nvPicPr>
        <p:blipFill>
          <a:blip r:embed="rId9"/>
          <a:stretch/>
        </p:blipFill>
        <p:spPr>
          <a:xfrm>
            <a:off x="-304920" y="914400"/>
            <a:ext cx="2210040" cy="1752480"/>
          </a:xfrm>
          <a:prstGeom prst="rect">
            <a:avLst/>
          </a:prstGeom>
          <a:ln w="0">
            <a:noFill/>
          </a:ln>
        </p:spPr>
      </p:pic>
      <p:pic>
        <p:nvPicPr>
          <p:cNvPr id="159" name="gif008" descr=""/>
          <p:cNvPicPr/>
          <p:nvPr/>
        </p:nvPicPr>
        <p:blipFill>
          <a:blip r:embed="rId10"/>
          <a:stretch/>
        </p:blipFill>
        <p:spPr>
          <a:xfrm>
            <a:off x="1752480" y="0"/>
            <a:ext cx="1676520" cy="1752480"/>
          </a:xfrm>
          <a:prstGeom prst="rect">
            <a:avLst/>
          </a:prstGeom>
          <a:ln w="0">
            <a:noFill/>
          </a:ln>
        </p:spPr>
      </p:pic>
      <p:pic>
        <p:nvPicPr>
          <p:cNvPr id="160" name="gif008" descr=""/>
          <p:cNvPicPr/>
          <p:nvPr/>
        </p:nvPicPr>
        <p:blipFill>
          <a:blip r:embed="rId11"/>
          <a:stretch/>
        </p:blipFill>
        <p:spPr>
          <a:xfrm>
            <a:off x="3276720" y="3049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61" name="gif008" descr=""/>
          <p:cNvPicPr/>
          <p:nvPr/>
        </p:nvPicPr>
        <p:blipFill>
          <a:blip r:embed="rId12"/>
          <a:stretch/>
        </p:blipFill>
        <p:spPr>
          <a:xfrm>
            <a:off x="5181480" y="0"/>
            <a:ext cx="2210040" cy="1752480"/>
          </a:xfrm>
          <a:prstGeom prst="rect">
            <a:avLst/>
          </a:prstGeom>
          <a:ln w="0">
            <a:noFill/>
          </a:ln>
        </p:spPr>
      </p:pic>
      <p:pic>
        <p:nvPicPr>
          <p:cNvPr id="162" name="gif008" descr=""/>
          <p:cNvPicPr/>
          <p:nvPr/>
        </p:nvPicPr>
        <p:blipFill>
          <a:blip r:embed="rId13"/>
          <a:stretch/>
        </p:blipFill>
        <p:spPr>
          <a:xfrm>
            <a:off x="7391520" y="762120"/>
            <a:ext cx="1447560" cy="1752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4"/>
          <a:stretch/>
        </p:blipFill>
        <p:spPr>
          <a:xfrm>
            <a:off x="79246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14600" y="1219320"/>
            <a:ext cx="4572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秦时明月汉时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万里长征人未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081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61560" y="1752480"/>
            <a:ext cx="1826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举杯邀明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9240" y="1098720"/>
            <a:ext cx="100332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对影成三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838080" y="304920"/>
            <a:ext cx="5113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6600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望月有感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f6600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175248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华文行楷"/>
              </a:rPr>
              <a:t>白居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3200400"/>
            <a:ext cx="441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你了解白居易吗？我们一起来说说</a:t>
            </a: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u=4086533516,65313047&amp;gp=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765000"/>
            <a:ext cx="3465720" cy="532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900000" y="981000"/>
            <a:ext cx="324036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话题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705720" y="2819520"/>
            <a:ext cx="21384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诵读诗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延伸拓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3581280"/>
            <a:ext cx="21337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赏读诗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揣摩精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114800"/>
            <a:ext cx="20574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品读诗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体会情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457200" y="4800600"/>
            <a:ext cx="20574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朗读诗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理解诗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14400" y="38088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欣赏诗歌的方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9" name="23" descr=""/>
          <p:cNvPicPr/>
          <p:nvPr/>
        </p:nvPicPr>
        <p:blipFill>
          <a:blip r:embed="rId2"/>
          <a:stretch/>
        </p:blipFill>
        <p:spPr>
          <a:xfrm>
            <a:off x="7086600" y="5334120"/>
            <a:ext cx="1905120" cy="1333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43000" y="3886200"/>
            <a:ext cx="6094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华文彩云"/>
                <a:ea typeface="华文彩云"/>
                <a:hlinkClick r:id="rId3" action="ppaction://hlinksldjump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3276720"/>
            <a:ext cx="5335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华文彩云"/>
                <a:ea typeface="华文彩云"/>
                <a:hlinkClick r:id="rId4" action="ppaction://hlinksldjump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2590920"/>
            <a:ext cx="7621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华文彩云"/>
                <a:ea typeface="华文彩云"/>
                <a:hlinkClick r:id="rId5" action="ppaction://hlinksldjump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1752480"/>
            <a:ext cx="838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华文彩云"/>
                <a:ea typeface="华文彩云"/>
                <a:hlinkClick r:id="rId6" action="ppaction://hlinksldjump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619280" y="1700280"/>
            <a:ext cx="6048360" cy="29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朗读欣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005831638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81080" y="457200"/>
            <a:ext cx="66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隶书"/>
                <a:ea typeface="隶书"/>
              </a:rPr>
              <a:t>自河南经乱，关内阻饥，兄弟离散，各在一处。因望月有感，聊书所怀，寄上浮梁大兄、於潜七兄、乌江十五兄，兼示符离及下邽弟妹 。</a:t>
            </a:r>
            <a:r>
              <a:rPr b="1" lang="en-US" sz="3600" spc="-1" strike="noStrike">
                <a:solidFill>
                  <a:srgbClr val="0033cc"/>
                </a:solidFill>
                <a:latin typeface="隶书"/>
                <a:ea typeface="隶书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 rot="5400000">
            <a:off x="-1028880" y="1866960"/>
            <a:ext cx="41148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-1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望月有感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5257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28800" y="3657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隶书"/>
              </a:rPr>
              <a:t>时难年荒世业空，弟兄羁旅各西东。田园寥落干戈后，骨肉流离道路中。吊影分为千里雁，辞根散作九秋蓬。共看明月应垂泪，一夜乡心五处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3:22:17Z</dcterms:created>
  <dc:creator>碧海雲天</dc:creator>
  <dc:description/>
  <dc:language>en-US</dc:language>
  <cp:lastModifiedBy>zmj</cp:lastModifiedBy>
  <dcterms:modified xsi:type="dcterms:W3CDTF">2012-02-15T04:16:51Z</dcterms:modified>
  <cp:revision>151</cp:revision>
  <dc:subject/>
  <dc:title>幻灯片 1</dc:title>
</cp:coreProperties>
</file>