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CBB-AC5B-483D-B34E-30339C8B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A34-EE34-45A1-AD8F-7BDCA41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BCE-25D5-4CB6-9FFE-93CFD093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90C-1F95-437C-819D-0A563D2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224-DBE3-4475-BC1E-B5589A5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E67-BE0A-4784-97A1-2629C3E5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ACC-7615-4641-845F-E8488A0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2F3-16F3-46F4-BE56-DC2F12A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8F7-B5A9-4BCC-8300-0468C3E1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8E4-D338-485D-B933-D2D1017B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CA5-36B9-4CD6-B524-9F5562B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A14-E063-4C01-8E3E-859DE57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212-E3D9-4003-B535-F3C5F5F4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" Target="slide6.xml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6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../Local%20Settings/Temp/HZ$D.205.4338/HZ$D.205.4339/&#30333;&#23621;&#26131;.r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gif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90720"/>
            <a:ext cx="4572000" cy="119124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华文新魏"/>
              </a:rPr>
              <a:t>中国人的月亮情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057400" y="1066680"/>
          <a:ext cx="7308720" cy="5186520"/>
        </p:xfrm>
        <a:graphic>
          <a:graphicData uri="http://schemas.openxmlformats.org/drawingml/2006/table">
            <a:tbl>
              <a:tblPr/>
              <a:tblGrid>
                <a:gridCol w="7308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时势艰难兵荒马乱，家业空空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兄弟逃难旅居异地，各自西东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战乱以后处处寥落，田园荒芜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骨肉分离漂泊流浪，失散途中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离群孤雁相隔千里，形影相吊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同根兄弟随风飞散，恰似秋蓬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天涯海角共看明月，无不垂泪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今夜思乡你我同心，五地相同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09680" y="304920"/>
            <a:ext cx="2438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译诗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2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380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j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000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6" name="000" descr=""/>
          <p:cNvPicPr/>
          <p:nvPr/>
        </p:nvPicPr>
        <p:blipFill>
          <a:blip r:embed="rId4"/>
          <a:stretch/>
        </p:blipFill>
        <p:spPr>
          <a:xfrm>
            <a:off x="3886200" y="16765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7" name="000" descr=""/>
          <p:cNvPicPr/>
          <p:nvPr/>
        </p:nvPicPr>
        <p:blipFill>
          <a:blip r:embed="rId5"/>
          <a:stretch/>
        </p:blipFill>
        <p:spPr>
          <a:xfrm>
            <a:off x="2057400" y="3049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8" name="000" descr=""/>
          <p:cNvPicPr/>
          <p:nvPr/>
        </p:nvPicPr>
        <p:blipFill>
          <a:blip r:embed="rId6"/>
          <a:stretch/>
        </p:blipFill>
        <p:spPr>
          <a:xfrm>
            <a:off x="3581280" y="6858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89" name="000" descr=""/>
          <p:cNvPicPr/>
          <p:nvPr/>
        </p:nvPicPr>
        <p:blipFill>
          <a:blip r:embed="rId7"/>
          <a:stretch/>
        </p:blipFill>
        <p:spPr>
          <a:xfrm>
            <a:off x="5943600" y="4572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0" name="000" descr=""/>
          <p:cNvPicPr/>
          <p:nvPr/>
        </p:nvPicPr>
        <p:blipFill>
          <a:blip r:embed="rId8"/>
          <a:stretch/>
        </p:blipFill>
        <p:spPr>
          <a:xfrm>
            <a:off x="784872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1" name="000" descr=""/>
          <p:cNvPicPr/>
          <p:nvPr/>
        </p:nvPicPr>
        <p:blipFill>
          <a:blip r:embed="rId9"/>
          <a:stretch/>
        </p:blipFill>
        <p:spPr>
          <a:xfrm>
            <a:off x="8904240" y="60948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0920" y="256536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533520"/>
            <a:ext cx="48769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三读欣赏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20968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用你的耳朵去倾听，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用你的心灵去体会，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你最欣赏的是哪一句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7724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921000" y="765000"/>
            <a:ext cx="1826280" cy="50403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吊影分为千里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496080" y="836640"/>
            <a:ext cx="1826280" cy="50403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辞根散作九秋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3124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不仅以千里孤雁、九秋断蓬作了形象贴切的比喻，而且以吊影分飞与辞根离散这样传神的描述，赋予它们孤苦凄惶的情态，深刻揭示了饱经战乱的零落之苦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2004914203515312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2428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7920" y="907920"/>
            <a:ext cx="1826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隶书"/>
              </a:rPr>
              <a:t>共看明月应垂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2800" y="838080"/>
            <a:ext cx="10033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隶书"/>
              </a:rPr>
              <a:t>一夜乡心五处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5715000"/>
            <a:ext cx="838440" cy="876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孤单的诗人凄惶中夜深难寐，举首遥望孤悬夜空的明月，情不自禁联想到飘散在各地的兄长弟妹们，如果此时大家都在举目遥望这轮勾引无限乡思的明月，也会和自己一样潸潸泪垂吧！恐怕这一夜之中，流散五处深切思念家园的心，也都会是相同的。诗人在这里构出一幅五地望月共生乡愁的图景，从而收结全诗，创造出浑朴真淳、引人共鸣的艺术境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1052640"/>
            <a:ext cx="494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方正舒体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残月如弓，新月如眉，满月如镜，美丽的月亮是历代诗人笔下多情之物。你能试着写一写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4685760" y="224784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诵读创造美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感谢白居易，感谢他用浅白平实而又意蕴精深的语言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倾诉自己身受的离乱之苦。感谢白居易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感谢他以绵邈真挚的诗思，构出一幅五地望月共生乡愁的图景，创造出浑朴真淳、引人共鸣的艺术境界。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“人生代代无穷已，江月年年望相似。”愿大家美好的人生路上永远有一片皎洁的月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715000" y="472428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520" y="1066680"/>
            <a:ext cx="86263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8000" spc="-1" strike="noStrike">
                <a:solidFill>
                  <a:srgbClr val="000000"/>
                </a:solidFill>
                <a:latin typeface="隶书"/>
                <a:ea typeface="隶书"/>
              </a:rPr>
              <a:t>钱 塘 湖 春 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白居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33000"/>
            <a:ext cx="2827080" cy="862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1" i="1" lang="en-US" sz="4000" spc="-1" strike="noStrike">
                <a:solidFill>
                  <a:srgbClr val="333399"/>
                </a:solidFill>
                <a:latin typeface="宋体"/>
              </a:rPr>
              <a:t>长庆三年春，白居易任杭州刺使的时候，到西湖游玩，骑马走在白沙堤上，远看风景迷人的西湖，被它特别的气质吸引了，在不知不觉中感受到了初春的美好。他心旷神怡，诗兴大发。写下了这首著名的七言律诗，抒发了自己对春天西湖赞美和热爱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西湖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0360" y="1765440"/>
            <a:ext cx="845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者是按照怎样的路线游览钱塘湖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中选取了哪几种景物来表现初春的钱塘湖美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诗中的景物有什么特点？作者是用哪些词语表现出来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260280"/>
            <a:ext cx="2808360" cy="8251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诗歌导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关于月的古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无言独上西楼， 月如钩        相见欢 （唐）李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明月几时有？把酒问青天。水调歌头 （宋）苏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花间一壶酒，独酌无相亲。举杯邀明月，对影成三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李白《月下独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床前明月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疑是地上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举头望明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低头思故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-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李白《静夜思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明月别枝惊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，清风半夜鸣蝉。―――辛弃疾《西江月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秦时明月汉时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万里长征人未还。―――王昌龄《出塞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人有悲欢离合，月有阴晴圆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此事古难全。―――苏轼《水调歌头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春风又绿江南岸，明月何时照我还――――王安石《泊船瓜洲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shu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0040" y="47242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692280"/>
            <a:ext cx="89154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4800" spc="-1" strike="noStrike">
                <a:solidFill>
                  <a:srgbClr val="cc0066"/>
                </a:solidFill>
                <a:latin typeface="Times New Roman"/>
                <a:ea typeface="隶书"/>
              </a:rPr>
              <a:t>诗   作   赏   析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首诗就像一篇短小精悍的游记，诗人从孤山、贾亭开始，到湖东、白堤止，一路上，在湖青山绿那美如天堂的景色中，饱览了莺歌燕舞，陶醉在鸟语花香，最后，才意犹未尽地沿着白沙堤，在杨柳的绿阴底下，一步三回头，恋恋不舍地离去了。耳畔还回响着由世间万物共同演奏的春天的赞歌，心中便不由自主地流泻出一首饱含着自然融合之趣的《钱塘湖春行》的优美诗歌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0090104225719952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 rot="5400000">
            <a:off x="-793440" y="2385360"/>
            <a:ext cx="5689800" cy="21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看图识记</a:t>
            </a:r>
            <a:endParaRPr b="0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d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6fb8e9fd91e4e3a8b801a0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117405307_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6c65688bc2b1014a9f2fb4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zmj289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63b1dd3fb6654fc77c1e7154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注音有误的一项是（　　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Ａ．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   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ǒ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   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Ｂ．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  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     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Ｃ．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 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　     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２．描写母子给在田间劳作的亲人送饭送水的句子是　　　　　　　　　　　　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３．“足蒸暑土气，背灼炎天光”一句从哪方面描写收麦时天气的炎热，“力尽不知热，但惜夏日长”从哪方面描写天气的酷热和劳作的艰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４．描写贫妇人“拾遗穗”场景的句子是　　　　　　　　　　　　　　　　　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５．“听其相顾言，闻者为悲伤”，“悲”从何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答：　　　　　　　　　　　　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６．哪些诗句表现了诗人对农家的同情和关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月落乌啼霜满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江枫渔火对愁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――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张继《枫桥夜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海上生明月，天涯共此时―张九龄《望月怀远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晓镜但愁云鬓改，夜吟应觉月光寒―李商隐《无题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明月松间照，清泉石上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王维：《山居秋瞑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举杯邀明月，对影成三人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李白：《月下独酌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深林人不知，明月来相照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王维：《竹里馆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我寄愁心与明月，随风直到夜郎西。李白 《闻王昌龄左迁龙标遥有此寄 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１．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２．妇姑荷箪食，童稚携壶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３．正面　　侧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４．右手秉遗穗，左臂悬敝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５．家田输税尽，拾此充饥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６．听其相顾言，闻者为悲伤。　念此私自愧，尽日不能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304920"/>
            <a:ext cx="511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望月有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华文行楷"/>
              </a:rPr>
              <a:t>白居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200400"/>
            <a:ext cx="44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你了解白居易吗？我们一起来说说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u=4086533516,65313047&amp;gp=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765000"/>
            <a:ext cx="3465720" cy="532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00000" y="981000"/>
            <a:ext cx="3240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话题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05720" y="2819520"/>
            <a:ext cx="2138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诵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延伸拓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581280"/>
            <a:ext cx="2133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赏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揣摩精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114800"/>
            <a:ext cx="2057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品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体会情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457200" y="4800600"/>
            <a:ext cx="2057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朗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理解诗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380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欣赏诗歌的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5" name="23" descr=""/>
          <p:cNvPicPr/>
          <p:nvPr/>
        </p:nvPicPr>
        <p:blipFill>
          <a:blip r:embed="rId2"/>
          <a:stretch/>
        </p:blipFill>
        <p:spPr>
          <a:xfrm>
            <a:off x="7086600" y="533412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3000" y="3886200"/>
            <a:ext cx="609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3" action="ppaction://hlinksldjump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276720"/>
            <a:ext cx="533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4" action="ppaction://hlinksldjump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5909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5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1752480"/>
            <a:ext cx="838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6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0583163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457200"/>
            <a:ext cx="66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隶书"/>
                <a:ea typeface="隶书"/>
              </a:rPr>
              <a:t>自河南经乱，关内阻饥，兄弟离散，各在一处。因望月有感，聊书所怀，寄上浮梁大兄、於潜七兄、乌江十五兄，兼示符离及下邽弟妹 。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5400000">
            <a:off x="-1028880" y="186696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1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望月有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3657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隶书"/>
              </a:rPr>
              <a:t>时难年荒世业空，弟兄羁旅各西东。田园寥落干戈后，骨肉流离道路中。吊影分为千里雁，辞根散作九秋蓬。共看明月应垂泪，一夜乡心五处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6" name="000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7" name="000" descr=""/>
          <p:cNvPicPr/>
          <p:nvPr/>
        </p:nvPicPr>
        <p:blipFill>
          <a:blip r:embed="rId4"/>
          <a:stretch/>
        </p:blipFill>
        <p:spPr>
          <a:xfrm>
            <a:off x="0" y="83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8" name="000" descr=""/>
          <p:cNvPicPr/>
          <p:nvPr/>
        </p:nvPicPr>
        <p:blipFill>
          <a:blip r:embed="rId5"/>
          <a:stretch/>
        </p:blipFill>
        <p:spPr>
          <a:xfrm>
            <a:off x="1523880" y="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69" name="000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0" name="000" descr=""/>
          <p:cNvPicPr/>
          <p:nvPr/>
        </p:nvPicPr>
        <p:blipFill>
          <a:blip r:embed="rId7"/>
          <a:stretch/>
        </p:blipFill>
        <p:spPr>
          <a:xfrm>
            <a:off x="8534520" y="3809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1" name="000" descr=""/>
          <p:cNvPicPr/>
          <p:nvPr/>
        </p:nvPicPr>
        <p:blipFill>
          <a:blip r:embed="rId8"/>
          <a:stretch/>
        </p:blipFill>
        <p:spPr>
          <a:xfrm>
            <a:off x="3429000" y="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404640"/>
            <a:ext cx="496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初读感知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2852640"/>
            <a:ext cx="7554960" cy="19227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    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诵读后，你对本诗内容是怎样理解的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71680" y="169236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1827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居易所处的中唐是一个多难的时代，他从十多岁开始，即因战乱而离家四处飘泊。德宗贞元十五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9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春，宣武军节度使董晋死，其部下举兵叛乱。继之彰义军节度使吴少诚亦叛，唐朝廷不得不发兵征讨，河南一带再次沦为战乱的中心。由于漕运受阻，加上旱荒频仍，关内饥馑十分严重。就在这一年秋，白居易为宣州刺史所贡，第二年春在长安考中进士，旋即东归省亲。这首河南经乱书怀的诗，大约就写于这一时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34136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  <a:ea typeface="华文行楷"/>
              </a:rPr>
              <a:t>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29242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2210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22:17Z</dcterms:created>
  <dc:creator>碧海雲天</dc:creator>
  <dc:description/>
  <dc:language>en-US</dc:language>
  <cp:lastModifiedBy>zmj</cp:lastModifiedBy>
  <dcterms:modified xsi:type="dcterms:W3CDTF">2011-12-15T15:00:44Z</dcterms:modified>
  <cp:revision>162</cp:revision>
  <dc:subject/>
  <dc:title>幻灯片 1</dc:title>
</cp:coreProperties>
</file>