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0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9.xml" ContentType="application/vnd.openxmlformats-officedocument.theme+xml"/>
  <Override PartName="/ppt/theme/theme28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</p:sldMasterIdLst>
  <p:sldIdLst>
    <p:sldId id="256" r:id="rId32"/>
    <p:sldId id="257" r:id="rId33"/>
    <p:sldId id="258" r:id="rId34"/>
    <p:sldId id="259" r:id="rId35"/>
    <p:sldId id="260" r:id="rId36"/>
    <p:sldId id="261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" Target="slides/slide1.xml"/><Relationship Id="rId33" Type="http://schemas.openxmlformats.org/officeDocument/2006/relationships/slide" Target="slides/slide2.xml"/><Relationship Id="rId34" Type="http://schemas.openxmlformats.org/officeDocument/2006/relationships/slide" Target="slides/slide3.xml"/><Relationship Id="rId35" Type="http://schemas.openxmlformats.org/officeDocument/2006/relationships/slide" Target="slides/slide4.xml"/><Relationship Id="rId36" Type="http://schemas.openxmlformats.org/officeDocument/2006/relationships/slide" Target="slides/slide5.xml"/><Relationship Id="rId37" Type="http://schemas.openxmlformats.org/officeDocument/2006/relationships/slide" Target="slides/slide6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6E85-D9F1-4E2C-850F-093045592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C339-9477-48EC-A8B0-5F6786A19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8DF986-3212-4B0D-8A9E-86DCCBB29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75E3F0-1FF4-41DB-AB09-ECEFFC847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81700C-7C4C-46DE-A5F9-AD25A320B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A3B6D3-418A-41C5-82B8-D3C9A39B4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AE6540-B26C-4A4C-A3D6-A7022C692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42D4AE-2917-46F1-AA49-20100A87F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052EAF-EA7F-4EDF-A979-7975743C4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D13C43-417F-42FB-B0EB-618D75E4F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AAFBB1-93BF-4101-B569-B5C6EBC02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8DE8D4-4E4A-44FA-9977-F829E493E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07F1-6272-4562-A667-C3D87B1F4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899959-9D2F-4B4B-8AE6-231C9C5E3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48055A-A857-4933-9737-510B35CA7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70141B-D50F-418B-A264-A98BA8AD2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C4671B-EEF3-4751-AF1B-A231A663B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4443D3-8AEB-4153-8174-49A0E705A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303CF3-39A7-47C1-B988-EC40D313D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D4D2A2-874C-4605-8893-7445CD11A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8B99E9-DB7A-4FE4-8025-A3B731C5B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A2213A-4436-489D-8E64-E60902845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F6B736-AAF5-4178-8721-DD72FEE87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551E-993F-44E2-9E55-7C9F3780D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9BB36F-14E6-48D5-85B3-BA272ACE1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07048A-E931-4E0B-8801-24C90A02B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B79BD6-AD60-4FA4-B321-4F3573399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6F1562-75D5-417B-91EA-31A8314D5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800C36-2BB6-4D6D-B8CC-C640E274E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DE876C-0825-4502-9B8F-5373701B8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9D052C-0012-479F-B614-F06FFFDF8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5C0B6E-6372-43E0-B956-B3E7BD2CB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B7FEF9-CE12-4497-BE62-DF111BAAB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473B06-3262-46CD-975E-C2DEB0504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9F4AA-864F-4C29-A14A-208911040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097503-9D6D-4735-8199-BBEA7B47E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DBA005-453C-448E-92A4-4123C3D4D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4CFBAE-B25C-43FB-A1E8-C4A630F5A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AA0555-81CF-4DD2-BE60-423F318BB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47C92C-2648-41D0-A3A2-08AAD4470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A1E68E-38B2-4336-8B81-383F19220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88A54C-C180-4834-AB31-16CE5457C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46358F-9D3F-4AFB-BBB1-A7466D1CF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F9737A-3B22-49F4-9F44-00C3E167C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5931B8-C244-4838-8C73-0445AAA4A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3A434-5444-4618-8E07-BD28D06C0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8EBCB8-565C-451E-B608-1051C6C27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5112DD-C849-47F6-920F-950E50FCF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2F7BB6-DEAB-4DE2-A465-E679BF401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196EC8-F9C0-4E4E-8B9B-C52E0DE5A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738213-23A2-4EF8-BF4B-ABE0E39D5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A513F7-3F12-43BD-ADB9-E37B88019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15FF11-4D56-4873-B03F-76F917846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4C8C09-B217-43C0-B32D-4E9A85F18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B0D3F5-AAEB-4C60-9878-967FBD393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A92665-8CA6-4036-93A5-1EA27935F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A7504-09ED-430D-8A4E-A51358FD0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AB7AA4-E69F-4319-89DB-D93761055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189C0E-E67D-4E52-AC85-CFB80B228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735EE0-C5E1-4E62-8636-237081362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A03434-96E5-40A4-AFE5-53F673773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A6EC64-DCDB-458D-A5E6-A8BE07501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73E43B-5C09-4B3C-96E5-7C6AEF58E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55095B-E783-4EDE-B2D3-8810C94E0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FCC75F-9590-4B18-969F-FB00B8D20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646339-B573-478D-A64D-274D1785F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E9345B-E1B1-476A-981F-EF16243DC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79487-4CCC-40FF-B350-B2462D35E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C72FED-CA2F-4243-9C15-C6C17A1E5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77F8B0-9947-4A8E-B182-6743B50CD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77DB4F-312C-4AC5-8877-030A7014A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1DBD4A-C48D-4D54-94A0-3D5A3639D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FF75D2-6596-4E1E-BC77-C4FBD093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0FFCA4-EDEB-4B0F-AAB0-CDDF36826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0BB6DF-B2ED-4128-9E9B-93B75A95F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A4961B-79D1-4203-970D-DCEF8F590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61177C-55ED-4156-832B-AEEA00807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8EA181-2752-4299-8F1A-88175AF26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794AE-66D0-4B7C-9E22-7B84FB29F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2F66DA-5496-4ADB-9A1C-A741519FD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CA6DEB-DCBF-443F-A42E-5BB75188D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330309-056B-4505-9A58-C5FA2E673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EE9694-DF70-4F1B-BC9A-D51B4C431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E38B37-4739-4B57-B093-583FBBA72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8FDA3E-C981-4384-80CC-669F2FAA4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12CD44-16F6-4D74-A6D2-1D4EC9A1D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192B1F-BF51-4800-A22D-F59CCD678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F901BC-386A-4C3B-9C4E-814556903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5BD055-139C-464D-8F56-E3A0027AE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9C1C3-14AE-4CAE-89E0-AAEFDF356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CD0240-ED9E-4FB0-B433-1152575AB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4D9547-6E84-4C8A-93D4-333DDCFC7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689AE9-4C16-425E-A380-7797C0680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0A6FCF-CB7B-4A1D-A7C8-C18DF5F0F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E35F79-28D8-44B8-A3FF-6FD87E858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5966B4-9A6F-4294-BD80-DDA0721D7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13F67F-20D3-484C-A548-26ED42185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2F7C2F-EFE6-4F86-AF1A-F08A0E6B8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A17F55-99E1-40C4-AA80-D5A1F96E2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0AB10E-A81F-47BA-B2BD-7FD2DD339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E4C87-17DD-4973-AF82-11999C919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25F8D5-6912-4CD1-8065-EAC1820C3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7569CE-36F3-409D-AA1D-AA5D3D718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8CA108-2BA3-43CA-926F-2E887A3CB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AE1ADF-7818-4B9B-90BE-348FCCD7D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A60AE1-B739-4B75-9303-2495363D3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D00F63-AA7B-424B-A3CA-1F281069B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CA9AE2-F588-4406-91B1-86ABEB16A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BF8F98-B602-4243-9865-0AD3F4DCD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1042AA-19D0-4D94-B076-59F422DCF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139F13-7DCB-430C-9203-EEA32221C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7AF7-595D-40FA-B5B4-915B5DE84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70B23-08AC-4AFA-AE5D-B5A7DAE8B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26E613-4BC5-4234-9F18-7D5F288B1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BA348B-FC08-4744-8539-231384566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371D10-686C-4000-AB47-81C0CEAD2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450F6D-CD1B-4E13-B562-F91A8CE38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B18D85-0277-4FCA-A816-F3E080E04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5DBAD4-AB4F-4D39-B7AA-5F11E7EBD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164A37-CC5B-4896-A37D-489A28118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6CDD25-8B90-47D0-B1D6-6F0F31DC6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90466D-6D7F-4F99-9F84-F9F0B2C6A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66BB8A-F24C-4520-B505-5CBED6E44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6F3C7-4B8E-451F-9982-291F62736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28B1CA-D116-4D60-8F83-9FA48B44B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64C83E-91D6-4576-AE66-8BEE5E342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34D7ED-1132-4CE4-BBCD-A62496B8F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BAEA1C-9F46-440E-991F-F4109A70F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98B379-B472-4CA6-91B8-570EA10C7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FF7994-7063-4AEF-802F-8E780B596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50E18D-A2E9-4DFB-B3EE-B21F40A6A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57A9D5-D225-417F-B447-8F3F9E6A2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E7BBF2-63EB-4BA3-978A-E09746164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076E8C-67DD-4232-BDEE-BB2B114AA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88ECB-A65C-4FD3-86B0-7A925BA92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8CA67E9-5199-4A89-BFBD-7B4D3C96D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43BB49-52AB-4BFD-8DC2-69B9AB910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DD3C8E-12F7-42ED-A1B5-8B54E71DE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E39779-4228-45FD-B654-BCD690BF5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545045-25ED-4D17-B5D3-1B89B0131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9EF522-925B-433E-8FEF-E3ADA26D2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F8A335-9625-4D6B-A754-6A5C424F1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CDD10C-78FA-4728-B555-DF627296B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7F8BED-2FE6-4970-BE1C-A40599462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316E14-149C-4463-AAB0-6C2DEA88F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DBCDB-A604-4461-B59C-04834E471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05C0E5-C079-4290-8DFD-76C68ADED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2C4320-0FA2-4A78-A199-8F7AD38B0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8AD16C-DDC2-4F80-A6C1-A6A078B62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8485D25-3BFB-4F65-BDA6-BB41AD1F5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2A0D2A-CD37-48D9-B1AA-5A2D11CFF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B6184C-61C6-426C-B326-4791B6589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63CB8C-A5B6-4546-8DBC-C9DFF10A7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10DECF-4ADD-4203-9D16-8F0FA9AD0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2A7DE6-020D-4B82-B094-2F6EF3DA3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CFEB96-C980-467A-AE57-D2A30A82D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84028-93FD-4469-AB5C-5F737EF3F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434E50-333E-400E-A78D-2F1A2206B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44744C-D7B5-4D4B-AEC6-23D7DE5D0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485B75-AAE1-48C2-952D-6DB7B9183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A8675E9-69BA-44E6-BCD1-6AF517D96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1F24333-06E4-4DC4-9F91-B92E10E87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B04AAA-7EF5-40A1-AFD9-2B139BDCA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8C9D20-BCAD-4197-AED9-73983566C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C676C4-1E22-4161-9286-B8BF960A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7485D8-2C66-4AEF-9224-6FCC64255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0571AE2-A040-4492-B627-94FFE1FC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E78C7-7080-404B-993A-2115C89F3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0CA7F95-B1B6-4ADC-A830-61AEF18B7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469CA6D-607A-46BB-AE5C-D31D646C2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12EBF3-B6F3-48AC-B8E3-5E973EA3F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015D24D-3CCA-4E42-BB93-DE8FAFEA4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442751F-264A-427D-A0FD-608A03A44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97B367C-7FDE-4E95-99BC-2A0E36ABA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B9AF09B-E94B-41EF-9D42-F793DA355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D25689A-0051-42AB-A09A-29EFDE7EE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094E977-87C9-4906-9567-EE507389A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0D8625D-D510-49F5-BFEC-B93E3038B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6BC4F-C3C4-46DE-9341-052E7455F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C630079-4D60-437A-9FF8-D017A00E7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1CF4603-84DF-4A33-AC89-7CD7BFA13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CBADC2B-D510-48B3-8DF8-45D52485C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24F8807-7E6C-4365-ACAD-1FF178B70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81F06AC-EFC3-4B57-85C1-C95872610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F2DB27C-BB24-4906-9478-42795610C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F47CB36-4D05-44DE-8848-43F5C9E94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5A27F13-8DB0-45A7-A2B8-4A454D745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E07ED45-1B47-478F-8D13-C03DECD5E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613FF8D-4C01-4F40-B56F-20F5BBBF1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2C8BC-64C6-4F4D-B8A0-A65B057A9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61FFEDC-42C7-4BE4-989F-BDE0BC1C7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4AB2003-A078-4DB2-9B90-5764EDAA1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8CDFAE9-1FB6-47A1-B5E1-3DBFC07AA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6D6C76C-B637-4F20-A628-F4A4E5EFD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09B5816-188E-4285-9A3D-03022E76D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7666E7F-622F-406E-B986-9CFF5E3BF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82E1FB0-D115-462B-9E33-6E2C8C746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DDF78D3-026C-499E-AEDF-DE3EE50F2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F291104-FEED-4CFB-95A5-725079F5A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6D85011-BD0A-40E5-A771-39AAF71C5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211D4-6058-466F-AF2D-5EC0579E2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25CFB89-D4E7-4CBC-9A7F-2D3AA739E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04F97B6-7D3D-4539-8412-D23E2758D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5045A9A-25FD-4652-8265-E89D816D5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5001F1B-B77A-47B1-909C-119558626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AF5C0B5-0141-43E4-9487-DFC9CFC06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B0F0DFD-597B-4E69-891B-83B871DEF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DBB0097-660B-4262-A37C-3389C15CD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BA4A881-E37E-4949-9A3F-FE08AF311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F43A9AF-EC5D-4332-9B03-9FF8CF444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825A0FF-B806-4457-BBDB-CE5535D38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9AE36-07EF-46A8-A1CD-C67DB1A37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93D92ED-89F1-4352-A6F8-12A7FF30A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A5F9D71-54B5-49C5-A61A-51C45A269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F6AA885-4B92-4878-A7E7-59E38F6D0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176A4F4-F1AC-4D60-8B9B-9B8447A52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91FA54D-7A52-4DA3-B701-6A6E0131D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B75A3C9-F082-45AB-8E69-BBB0EB2EA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F0E6BA1-F069-45EE-B65B-1AC8D7E4D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67623AC-301C-4237-AC30-982DD5DA6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EF5A39E-5B69-4803-AAAC-4BA7787B6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0644306-466F-41C7-BB26-3DA429FEE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305B-CE04-4601-9964-E433512E9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D1103-8919-46AB-8738-C54DB09E6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D93CA8F-BD3D-4A01-B9E1-48FB95A02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6E06502-C474-44CE-81E9-5548C4AFB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F3D67E1-0C95-4B02-8D31-9C989CFB0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B08913B-7819-41F6-B4FB-DE6516A90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940530D-886B-47D9-8AF4-B628B52A1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60E50C1-CBEA-405C-B84C-52BABEC61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1020B3E-FB69-4D8D-97ED-8AFB32145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154732C-D632-4A4A-9275-6441959DE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03BD03A-941E-437F-8A3C-F2672223B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4020158-8007-4507-B128-21D288BDE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C0DE1-F890-42D3-9FA5-845F9BEBD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6A67AF4-7671-4A1E-9F61-5617F3A24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A574736-588B-4AFD-AEAA-4D38BEA6B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4C77AA3-A1AE-4235-80D6-101AEAC62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F31D26D-328A-47A7-BE2D-3B955312D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403DAFC-F3A3-4019-A088-27191FE09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639AE66-950F-4D88-82EB-7747E2957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C6B2782-9A57-4C52-86E2-F632C25BA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975A089-C45D-4206-A613-DED91A1CC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E180909-FAC6-4A1E-88B9-FF4BB8A2F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F764BAA-B8A3-423E-9824-665365CB6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21DCC-14F4-4A60-8AB2-796F7889E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49297D6-EFA6-42F8-B720-D45E5E559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97587A6-FC90-4B22-A775-6F6FEE3D4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E0AE74F-42AA-4CF2-A8C9-B37E01864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BE5C04A-00BC-4FBC-AD8C-67DC1F134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75F6EF6-D670-4B83-9851-8D5B49D73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A64DC72-B20B-4E98-A953-8C6BBA403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06DFB65-13FB-4BC9-A28D-ED858C012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A77DEAB-FE98-434E-B7C7-D83718524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52F5465-29C1-4807-B6AE-292EB63EF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6C3CCC3-6A47-4208-AF4B-AC1C27314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80A26-55FE-4913-899F-5FF9DA1D0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92647C5-94C0-431B-8DA1-B0E02DA71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4F83F11-BAD3-4251-9EF2-43F761182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F3C1598-F1AE-4C6E-9BF9-C0672F93D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AEF6FE6-0096-47CC-94FB-8284FCCB8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BA7935D-E841-4226-A7CE-F12367138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6298956-3CC2-4943-89E3-C0B9EDA30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141C1D6-C6E1-46C9-9D49-8A65038FD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8015F28-5796-4B34-AD94-814646B05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E47BFB4-D790-408F-BB2D-30B149A45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81BB71A-F403-4F6C-9654-E615F5918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D0620-D155-405F-B0CE-5B1138430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E95A494-8F0C-4E05-B30D-AB894B001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EBD99DF-39C6-4945-901F-07FA005A7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71B6F27-7CCD-45BE-A0FB-22592A065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8B8F08C-2273-4718-A9C1-43453EA94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D9117D2-FD51-4EEE-87F2-C31684038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96FE17E-B1B9-462B-B25C-2283A473C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FCCAD2E-7E7A-4955-9F6F-CDB0BDD42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CA22B90-8DF9-426D-B6DC-BC29FA081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1E061DF-1E90-4744-8D47-7E82F17CF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FC60218-8B74-4A1D-B9F7-C206463AE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88A97-437C-4D62-8EC0-049755B6F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EA4338C-C6C1-4DCE-83CE-042411550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CDAE6D9-D5C3-4C0F-829C-4F1C385CE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DB36130-0598-40F8-B1F9-B78131CDB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84A8834-B71B-468C-8794-FCAC0BB6B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96C4660-4310-425D-97F0-D1E4976FD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7ACB430-078D-4A4D-94A2-7880C9937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8540F86-B439-4AE2-AA94-295F8255F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5D1093A-523F-4654-A48C-210C7C51E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954AA4D-D7EF-44F7-B6F1-6C992FDE6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3298E57-7099-4D2B-A71D-AB8B48F0B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AE237-DE0C-4CD3-A83F-B69F870C6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271DBC8-492E-40C4-A0CB-CF8157957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2D159-C837-48E8-B877-4BA340EEC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B0118-D021-4AD0-9975-260A43D4D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DD19A-3881-48F6-8DB4-DA55CC275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E836-4946-410E-A08A-24CC49EDC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5F918-7BD9-445B-9F33-BC1346DE9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F0616-7B93-4AA4-BDBF-EE439BED3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D7F71-68F4-4AA3-A26D-F770EF935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A6268-B404-4F31-A628-95A3D30CB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CCD75-AE4F-4230-B679-9AEA22044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931C7-3321-4407-B87D-2B39BCDC7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EB4E0-67ED-45D0-8AAD-124320C2B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0309C-30D5-4AA5-B22F-9AE14E126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6FAFA-1639-4D9E-9746-6D232E1F8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E34AE3-8B76-4564-8E7E-96EB8CE40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3240-D992-4936-9577-B35FE52ED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A38BDA-33A6-4B6C-8C1C-2CE7B69DD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EB49CA-E0BE-4364-8EE4-2FC589366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B751BD-0020-4CD0-AFC2-DC784981E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15752C-7813-4E31-B24C-1F2F24652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F7A5F3-8D4E-4F2A-AC97-F6F130B02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AD902C-4B50-43EB-A249-AAAE407D7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54B2B-C073-4714-AAC3-6EE47AE73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DEAE8A-0C84-4B81-BDA5-163FF66A7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0752B5-CFBD-4858-BF02-57AFAC92A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9B6637-7766-4BAA-9510-B241AE075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8046-7A09-4B19-88C5-43E2FDD4C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180E47-F958-4E60-9414-DE93E3EE1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93873A-B0B2-41AF-9E9C-62A362B16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C8AD2A-D5ED-445B-90E0-9E66212D5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8893BD-D370-4860-A6E3-9C25363D2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3EE059-742A-41B6-BB2A-F2E57FACD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257953-4834-42A3-9A95-FB674B935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6C3608-96F3-428A-A8DE-E06E0324D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A0AB4B-45CD-49B6-A801-C08698216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9749C5-2963-4EDE-A05F-1108CAB2B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670D8B-57A3-4D47-97BF-7D1781665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BCF2-FEEF-4FE8-8AF0-8E2A92657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C1387C-F106-460D-A7BD-B207F61A8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843085-458D-46B8-86D0-AAC1BBB86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8EA727-9B4A-4720-89B1-4A9931579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0D012E-569E-418A-BC56-C609EE3D2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3524D8-5B15-4C40-818D-379EF2860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D2B47B-ECED-4076-AFE0-44F729E81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301CB4-F949-49E4-8C11-947CAC2FE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EE63D8-D294-4B54-B728-0BB8A3D1B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3F5769-1783-4CC4-AD0D-9B9A13F4D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2B4E2E-49A6-42B8-A534-8E678D0A3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7F72-C7A9-4874-90EA-46ACBAF14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E5AA45-DA12-46C1-81EB-5C1AC72E7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B20224-0099-4041-AEB0-E6E36041E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283F22-B785-401D-A7DA-0F6B5EE36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8718B9-FFAA-4997-A36C-DAB442577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F2CF40-16B6-4C56-BF15-477B9D198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DE6D52-C84E-4BD4-AA5B-C37A34BF1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2DD002-08FC-4913-B7B8-DF6AD54D6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E44305-E309-42B1-BA78-5274F429D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69227F-0EBF-4FBA-93CA-5CA29A7FE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0D31A2-36FF-46A4-861F-A098DF6C5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8B17-AB14-4A58-8F8F-94DFFC400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8BACD4-CCC0-4A1C-AB71-28DE1307B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D0DA31-C65F-4D56-AECB-367C78F61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394FBE-BCCA-4703-95ED-66C2AC986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2BE722-B5B9-4A8E-896D-7F7B60092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16DDFD-67A0-482E-8327-B8EC04750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9366D7-EC46-4C3B-B368-A9A8CF2CC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85CBF2-7199-4033-8338-5005304F0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C320AE-B9A4-46AE-86E2-133BCE3D6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324B6F-174B-469B-A1EC-C1D508F08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8352F1-266B-4514-BC53-69933FFD5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25.xml"/><Relationship Id="rId6" Type="http://schemas.openxmlformats.org/officeDocument/2006/relationships/slideLayout" Target="../slideLayouts/slideLayout326.xml"/><Relationship Id="rId7" Type="http://schemas.openxmlformats.org/officeDocument/2006/relationships/slideLayout" Target="../slideLayouts/slideLayout327.xml"/><Relationship Id="rId8" Type="http://schemas.openxmlformats.org/officeDocument/2006/relationships/slideLayout" Target="../slideLayouts/slideLayout328.xml"/><Relationship Id="rId9" Type="http://schemas.openxmlformats.org/officeDocument/2006/relationships/slideLayout" Target="../slideLayouts/slideLayout329.xml"/><Relationship Id="rId10" Type="http://schemas.openxmlformats.org/officeDocument/2006/relationships/slideLayout" Target="../slideLayouts/slideLayout330.xml"/><Relationship Id="rId11" Type="http://schemas.openxmlformats.org/officeDocument/2006/relationships/slideLayout" Target="../slideLayouts/slideLayout331.xml"/><Relationship Id="rId12" Type="http://schemas.openxmlformats.org/officeDocument/2006/relationships/slideLayout" Target="../slideLayouts/slideLayout332.xml"/><Relationship Id="rId13" Type="http://schemas.openxmlformats.org/officeDocument/2006/relationships/slideLayout" Target="../slideLayouts/slideLayout333.xml"/><Relationship Id="rId14" Type="http://schemas.openxmlformats.org/officeDocument/2006/relationships/slideLayout" Target="../slideLayouts/slideLayout334.xml"/><Relationship Id="rId15" Type="http://schemas.openxmlformats.org/officeDocument/2006/relationships/slideLayout" Target="../slideLayouts/slideLayout335.xml"/><Relationship Id="rId16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37.xml"/><Relationship Id="rId6" Type="http://schemas.openxmlformats.org/officeDocument/2006/relationships/slideLayout" Target="../slideLayouts/slideLayout338.xml"/><Relationship Id="rId7" Type="http://schemas.openxmlformats.org/officeDocument/2006/relationships/slideLayout" Target="../slideLayouts/slideLayout339.xml"/><Relationship Id="rId8" Type="http://schemas.openxmlformats.org/officeDocument/2006/relationships/slideLayout" Target="../slideLayouts/slideLayout340.xml"/><Relationship Id="rId9" Type="http://schemas.openxmlformats.org/officeDocument/2006/relationships/slideLayout" Target="../slideLayouts/slideLayout341.xml"/><Relationship Id="rId10" Type="http://schemas.openxmlformats.org/officeDocument/2006/relationships/slideLayout" Target="../slideLayouts/slideLayout342.xml"/><Relationship Id="rId11" Type="http://schemas.openxmlformats.org/officeDocument/2006/relationships/slideLayout" Target="../slideLayouts/slideLayout343.xml"/><Relationship Id="rId12" Type="http://schemas.openxmlformats.org/officeDocument/2006/relationships/slideLayout" Target="../slideLayouts/slideLayout344.xml"/><Relationship Id="rId13" Type="http://schemas.openxmlformats.org/officeDocument/2006/relationships/slideLayout" Target="../slideLayouts/slideLayout345.xml"/><Relationship Id="rId14" Type="http://schemas.openxmlformats.org/officeDocument/2006/relationships/slideLayout" Target="../slideLayouts/slideLayout346.xml"/><Relationship Id="rId15" Type="http://schemas.openxmlformats.org/officeDocument/2006/relationships/slideLayout" Target="../slideLayouts/slideLayout347.xml"/><Relationship Id="rId16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A014C-00F9-4490-B641-6B9B571D20DE}" type="datetime">
              <a:rPr b="0" lang="zh-CN" sz="1200" spc="-1" strike="noStrike">
                <a:solidFill>
                  <a:srgbClr val="8d8d8d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07786-0421-4440-A1E2-7980BADBA122}" type="slidenum">
              <a:rPr b="0" lang="zh-CN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fed34e"/>
          </a:solidFill>
          <a:ln w="12600">
            <a:solidFill>
              <a:srgbClr val="bb9b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fed34e"/>
          </a:solidFill>
          <a:ln w="12600">
            <a:solidFill>
              <a:srgbClr val="bb9b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Freeform 7912"/>
          <p:cNvSpPr/>
          <p:nvPr/>
        </p:nvSpPr>
        <p:spPr>
          <a:xfrm>
            <a:off x="3317760" y="1273320"/>
            <a:ext cx="598680" cy="399960"/>
          </a:xfrm>
          <a:custGeom>
            <a:avLst/>
            <a:gdLst/>
            <a:ahLst/>
            <a:rect l="l" t="t" r="r" b="b"/>
            <a:pathLst>
              <a:path w="631" h="316">
                <a:moveTo>
                  <a:pt x="37" y="194"/>
                </a:moveTo>
                <a:cubicBezTo>
                  <a:pt x="0" y="154"/>
                  <a:pt x="100" y="83"/>
                  <a:pt x="195" y="119"/>
                </a:cubicBezTo>
                <a:cubicBezTo>
                  <a:pt x="195" y="119"/>
                  <a:pt x="241" y="0"/>
                  <a:pt x="383" y="12"/>
                </a:cubicBezTo>
                <a:cubicBezTo>
                  <a:pt x="519" y="25"/>
                  <a:pt x="492" y="149"/>
                  <a:pt x="492" y="149"/>
                </a:cubicBezTo>
                <a:cubicBezTo>
                  <a:pt x="492" y="149"/>
                  <a:pt x="611" y="92"/>
                  <a:pt x="624" y="219"/>
                </a:cubicBezTo>
                <a:cubicBezTo>
                  <a:pt x="631" y="294"/>
                  <a:pt x="437" y="248"/>
                  <a:pt x="437" y="248"/>
                </a:cubicBezTo>
                <a:cubicBezTo>
                  <a:pt x="437" y="248"/>
                  <a:pt x="291" y="316"/>
                  <a:pt x="181" y="230"/>
                </a:cubicBezTo>
                <a:cubicBezTo>
                  <a:pt x="181" y="230"/>
                  <a:pt x="87" y="248"/>
                  <a:pt x="37" y="194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Freeform 7907"/>
          <p:cNvSpPr/>
          <p:nvPr/>
        </p:nvSpPr>
        <p:spPr>
          <a:xfrm>
            <a:off x="369720" y="2541600"/>
            <a:ext cx="895680" cy="208080"/>
          </a:xfrm>
          <a:custGeom>
            <a:avLst/>
            <a:gdLst/>
            <a:ahLst/>
            <a:rect l="l" t="t" r="r" b="b"/>
            <a:pathLst>
              <a:path w="945" h="165">
                <a:moveTo>
                  <a:pt x="15" y="0"/>
                </a:moveTo>
                <a:cubicBezTo>
                  <a:pt x="0" y="42"/>
                  <a:pt x="190" y="48"/>
                  <a:pt x="190" y="48"/>
                </a:cubicBezTo>
                <a:cubicBezTo>
                  <a:pt x="190" y="48"/>
                  <a:pt x="381" y="127"/>
                  <a:pt x="507" y="66"/>
                </a:cubicBezTo>
                <a:cubicBezTo>
                  <a:pt x="507" y="66"/>
                  <a:pt x="693" y="165"/>
                  <a:pt x="801" y="69"/>
                </a:cubicBezTo>
                <a:cubicBezTo>
                  <a:pt x="801" y="69"/>
                  <a:pt x="890" y="103"/>
                  <a:pt x="945" y="6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Freeform 7908"/>
          <p:cNvSpPr/>
          <p:nvPr/>
        </p:nvSpPr>
        <p:spPr>
          <a:xfrm>
            <a:off x="384120" y="2276640"/>
            <a:ext cx="946080" cy="341280"/>
          </a:xfrm>
          <a:custGeom>
            <a:avLst/>
            <a:gdLst/>
            <a:ahLst/>
            <a:rect l="l" t="t" r="r" b="b"/>
            <a:pathLst>
              <a:path w="997" h="269">
                <a:moveTo>
                  <a:pt x="930" y="269"/>
                </a:moveTo>
                <a:cubicBezTo>
                  <a:pt x="930" y="269"/>
                  <a:pt x="997" y="225"/>
                  <a:pt x="894" y="183"/>
                </a:cubicBezTo>
                <a:cubicBezTo>
                  <a:pt x="834" y="158"/>
                  <a:pt x="777" y="165"/>
                  <a:pt x="777" y="165"/>
                </a:cubicBezTo>
                <a:cubicBezTo>
                  <a:pt x="777" y="165"/>
                  <a:pt x="715" y="60"/>
                  <a:pt x="628" y="118"/>
                </a:cubicBezTo>
                <a:cubicBezTo>
                  <a:pt x="628" y="118"/>
                  <a:pt x="632" y="9"/>
                  <a:pt x="493" y="4"/>
                </a:cubicBezTo>
                <a:cubicBezTo>
                  <a:pt x="355" y="0"/>
                  <a:pt x="308" y="144"/>
                  <a:pt x="308" y="144"/>
                </a:cubicBezTo>
                <a:cubicBezTo>
                  <a:pt x="308" y="144"/>
                  <a:pt x="226" y="8"/>
                  <a:pt x="157" y="145"/>
                </a:cubicBezTo>
                <a:cubicBezTo>
                  <a:pt x="157" y="145"/>
                  <a:pt x="54" y="61"/>
                  <a:pt x="0" y="209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Freeform 7909"/>
          <p:cNvSpPr/>
          <p:nvPr/>
        </p:nvSpPr>
        <p:spPr>
          <a:xfrm>
            <a:off x="5248440" y="582480"/>
            <a:ext cx="1471320" cy="701640"/>
          </a:xfrm>
          <a:custGeom>
            <a:avLst/>
            <a:gdLst/>
            <a:ahLst/>
            <a:rect l="l" t="t" r="r" b="b"/>
            <a:pathLst>
              <a:path w="1552" h="555">
                <a:moveTo>
                  <a:pt x="106" y="355"/>
                </a:moveTo>
                <a:cubicBezTo>
                  <a:pt x="106" y="355"/>
                  <a:pt x="0" y="267"/>
                  <a:pt x="165" y="218"/>
                </a:cubicBezTo>
                <a:cubicBezTo>
                  <a:pt x="261" y="190"/>
                  <a:pt x="356" y="219"/>
                  <a:pt x="356" y="219"/>
                </a:cubicBezTo>
                <a:cubicBezTo>
                  <a:pt x="356" y="219"/>
                  <a:pt x="468" y="67"/>
                  <a:pt x="593" y="169"/>
                </a:cubicBezTo>
                <a:cubicBezTo>
                  <a:pt x="593" y="169"/>
                  <a:pt x="665" y="0"/>
                  <a:pt x="877" y="14"/>
                </a:cubicBezTo>
                <a:cubicBezTo>
                  <a:pt x="1090" y="28"/>
                  <a:pt x="1079" y="258"/>
                  <a:pt x="1079" y="258"/>
                </a:cubicBezTo>
                <a:cubicBezTo>
                  <a:pt x="1079" y="258"/>
                  <a:pt x="1247" y="141"/>
                  <a:pt x="1311" y="283"/>
                </a:cubicBezTo>
                <a:cubicBezTo>
                  <a:pt x="1311" y="283"/>
                  <a:pt x="1528" y="310"/>
                  <a:pt x="1542" y="404"/>
                </a:cubicBezTo>
                <a:cubicBezTo>
                  <a:pt x="1552" y="473"/>
                  <a:pt x="1266" y="451"/>
                  <a:pt x="1266" y="451"/>
                </a:cubicBezTo>
                <a:cubicBezTo>
                  <a:pt x="1266" y="451"/>
                  <a:pt x="961" y="543"/>
                  <a:pt x="777" y="432"/>
                </a:cubicBezTo>
                <a:cubicBezTo>
                  <a:pt x="777" y="432"/>
                  <a:pt x="476" y="555"/>
                  <a:pt x="325" y="391"/>
                </a:cubicBezTo>
                <a:cubicBezTo>
                  <a:pt x="325" y="391"/>
                  <a:pt x="184" y="429"/>
                  <a:pt x="106" y="355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Freeform 7909"/>
          <p:cNvSpPr/>
          <p:nvPr/>
        </p:nvSpPr>
        <p:spPr>
          <a:xfrm>
            <a:off x="488880" y="212760"/>
            <a:ext cx="1473120" cy="701640"/>
          </a:xfrm>
          <a:custGeom>
            <a:avLst/>
            <a:gdLst/>
            <a:ahLst/>
            <a:rect l="l" t="t" r="r" b="b"/>
            <a:pathLst>
              <a:path w="1552" h="555">
                <a:moveTo>
                  <a:pt x="106" y="355"/>
                </a:moveTo>
                <a:cubicBezTo>
                  <a:pt x="106" y="355"/>
                  <a:pt x="0" y="267"/>
                  <a:pt x="165" y="218"/>
                </a:cubicBezTo>
                <a:cubicBezTo>
                  <a:pt x="261" y="190"/>
                  <a:pt x="356" y="219"/>
                  <a:pt x="356" y="219"/>
                </a:cubicBezTo>
                <a:cubicBezTo>
                  <a:pt x="356" y="219"/>
                  <a:pt x="468" y="67"/>
                  <a:pt x="593" y="169"/>
                </a:cubicBezTo>
                <a:cubicBezTo>
                  <a:pt x="593" y="169"/>
                  <a:pt x="665" y="0"/>
                  <a:pt x="877" y="14"/>
                </a:cubicBezTo>
                <a:cubicBezTo>
                  <a:pt x="1090" y="28"/>
                  <a:pt x="1079" y="258"/>
                  <a:pt x="1079" y="258"/>
                </a:cubicBezTo>
                <a:cubicBezTo>
                  <a:pt x="1079" y="258"/>
                  <a:pt x="1247" y="141"/>
                  <a:pt x="1311" y="283"/>
                </a:cubicBezTo>
                <a:cubicBezTo>
                  <a:pt x="1311" y="283"/>
                  <a:pt x="1528" y="310"/>
                  <a:pt x="1542" y="404"/>
                </a:cubicBezTo>
                <a:cubicBezTo>
                  <a:pt x="1552" y="473"/>
                  <a:pt x="1266" y="451"/>
                  <a:pt x="1266" y="451"/>
                </a:cubicBezTo>
                <a:cubicBezTo>
                  <a:pt x="1266" y="451"/>
                  <a:pt x="961" y="543"/>
                  <a:pt x="777" y="432"/>
                </a:cubicBezTo>
                <a:cubicBezTo>
                  <a:pt x="777" y="432"/>
                  <a:pt x="476" y="555"/>
                  <a:pt x="325" y="391"/>
                </a:cubicBezTo>
                <a:cubicBezTo>
                  <a:pt x="325" y="391"/>
                  <a:pt x="184" y="429"/>
                  <a:pt x="106" y="355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Freeform 7909"/>
          <p:cNvSpPr/>
          <p:nvPr/>
        </p:nvSpPr>
        <p:spPr>
          <a:xfrm>
            <a:off x="4319640" y="5965920"/>
            <a:ext cx="1471680" cy="701640"/>
          </a:xfrm>
          <a:custGeom>
            <a:avLst/>
            <a:gdLst/>
            <a:ahLst/>
            <a:rect l="l" t="t" r="r" b="b"/>
            <a:pathLst>
              <a:path w="1552" h="555">
                <a:moveTo>
                  <a:pt x="106" y="355"/>
                </a:moveTo>
                <a:cubicBezTo>
                  <a:pt x="106" y="355"/>
                  <a:pt x="0" y="267"/>
                  <a:pt x="165" y="218"/>
                </a:cubicBezTo>
                <a:cubicBezTo>
                  <a:pt x="261" y="190"/>
                  <a:pt x="356" y="219"/>
                  <a:pt x="356" y="219"/>
                </a:cubicBezTo>
                <a:cubicBezTo>
                  <a:pt x="356" y="219"/>
                  <a:pt x="468" y="67"/>
                  <a:pt x="593" y="169"/>
                </a:cubicBezTo>
                <a:cubicBezTo>
                  <a:pt x="593" y="169"/>
                  <a:pt x="665" y="0"/>
                  <a:pt x="877" y="14"/>
                </a:cubicBezTo>
                <a:cubicBezTo>
                  <a:pt x="1090" y="28"/>
                  <a:pt x="1079" y="258"/>
                  <a:pt x="1079" y="258"/>
                </a:cubicBezTo>
                <a:cubicBezTo>
                  <a:pt x="1079" y="258"/>
                  <a:pt x="1247" y="141"/>
                  <a:pt x="1311" y="283"/>
                </a:cubicBezTo>
                <a:cubicBezTo>
                  <a:pt x="1311" y="283"/>
                  <a:pt x="1528" y="310"/>
                  <a:pt x="1542" y="404"/>
                </a:cubicBezTo>
                <a:cubicBezTo>
                  <a:pt x="1552" y="473"/>
                  <a:pt x="1266" y="451"/>
                  <a:pt x="1266" y="451"/>
                </a:cubicBezTo>
                <a:cubicBezTo>
                  <a:pt x="1266" y="451"/>
                  <a:pt x="961" y="543"/>
                  <a:pt x="777" y="432"/>
                </a:cubicBezTo>
                <a:cubicBezTo>
                  <a:pt x="777" y="432"/>
                  <a:pt x="476" y="555"/>
                  <a:pt x="325" y="391"/>
                </a:cubicBezTo>
                <a:cubicBezTo>
                  <a:pt x="325" y="391"/>
                  <a:pt x="184" y="429"/>
                  <a:pt x="106" y="355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箭头: 五边形 11869"/>
          <p:cNvSpPr/>
          <p:nvPr/>
        </p:nvSpPr>
        <p:spPr>
          <a:xfrm flipV="1" rot="10800000">
            <a:off x="1897200" y="4223160"/>
            <a:ext cx="7248240" cy="497160"/>
          </a:xfrm>
          <a:custGeom>
            <a:avLst/>
            <a:gdLst>
              <a:gd name="textAreaLeft" fmla="*/ 0 w 7248240"/>
              <a:gd name="textAreaRight" fmla="*/ 7248600 w 7248240"/>
              <a:gd name="textAreaTop" fmla="*/ -360 h 497160"/>
              <a:gd name="textAreaBottom" fmla="*/ 497160 h 49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60" y="0"/>
                </a:lnTo>
                <a:lnTo>
                  <a:pt x="21600" y="10800"/>
                </a:lnTo>
                <a:lnTo>
                  <a:pt x="2086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ed3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箭头: 五边形 9283"/>
          <p:cNvSpPr/>
          <p:nvPr/>
        </p:nvSpPr>
        <p:spPr>
          <a:xfrm flipV="1" rot="10800000">
            <a:off x="1130400" y="3727800"/>
            <a:ext cx="8012160" cy="497160"/>
          </a:xfrm>
          <a:custGeom>
            <a:avLst/>
            <a:gdLst>
              <a:gd name="textAreaLeft" fmla="*/ 0 w 8012160"/>
              <a:gd name="textAreaRight" fmla="*/ 8012520 w 8012160"/>
              <a:gd name="textAreaTop" fmla="*/ -360 h 497160"/>
              <a:gd name="textAreaBottom" fmla="*/ 497160 h 49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931" y="0"/>
                </a:lnTo>
                <a:lnTo>
                  <a:pt x="21600" y="10800"/>
                </a:lnTo>
                <a:lnTo>
                  <a:pt x="2093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edf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箭头: 五边形 9484"/>
          <p:cNvSpPr/>
          <p:nvPr/>
        </p:nvSpPr>
        <p:spPr>
          <a:xfrm flipV="1" rot="10800000">
            <a:off x="374760" y="3233880"/>
            <a:ext cx="8766000" cy="496800"/>
          </a:xfrm>
          <a:custGeom>
            <a:avLst/>
            <a:gdLst>
              <a:gd name="textAreaLeft" fmla="*/ 0 w 8766000"/>
              <a:gd name="textAreaRight" fmla="*/ 8766360 w 8766000"/>
              <a:gd name="textAreaTop" fmla="*/ 360 h 496800"/>
              <a:gd name="textAreaBottom" fmla="*/ 49752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988" y="0"/>
                </a:lnTo>
                <a:lnTo>
                  <a:pt x="21600" y="10800"/>
                </a:lnTo>
                <a:lnTo>
                  <a:pt x="2098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ed3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箭头: 五边形 9685"/>
          <p:cNvSpPr/>
          <p:nvPr/>
        </p:nvSpPr>
        <p:spPr>
          <a:xfrm flipV="1" rot="10800000">
            <a:off x="1515600" y="2739960"/>
            <a:ext cx="7628040" cy="496800"/>
          </a:xfrm>
          <a:custGeom>
            <a:avLst/>
            <a:gdLst>
              <a:gd name="textAreaLeft" fmla="*/ 0 w 7628040"/>
              <a:gd name="textAreaRight" fmla="*/ 7628400 w 7628040"/>
              <a:gd name="textAreaTop" fmla="*/ 360 h 496800"/>
              <a:gd name="textAreaBottom" fmla="*/ 49752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97" y="0"/>
                </a:lnTo>
                <a:lnTo>
                  <a:pt x="21600" y="10800"/>
                </a:lnTo>
                <a:lnTo>
                  <a:pt x="2089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edf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箭头: 五边形 9886"/>
          <p:cNvSpPr/>
          <p:nvPr/>
        </p:nvSpPr>
        <p:spPr>
          <a:xfrm flipV="1" rot="10800000">
            <a:off x="2362320" y="2243520"/>
            <a:ext cx="6783120" cy="497160"/>
          </a:xfrm>
          <a:custGeom>
            <a:avLst/>
            <a:gdLst>
              <a:gd name="textAreaLeft" fmla="*/ 0 w 6783120"/>
              <a:gd name="textAreaRight" fmla="*/ 6783480 w 6783120"/>
              <a:gd name="textAreaTop" fmla="*/ -360 h 497160"/>
              <a:gd name="textAreaBottom" fmla="*/ 497160 h 49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09" y="0"/>
                </a:lnTo>
                <a:lnTo>
                  <a:pt x="21600" y="10800"/>
                </a:lnTo>
                <a:lnTo>
                  <a:pt x="2080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ed3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箭头: 五边形 12097"/>
          <p:cNvSpPr/>
          <p:nvPr/>
        </p:nvSpPr>
        <p:spPr>
          <a:xfrm flipV="1" rot="10800000">
            <a:off x="7651440" y="238680"/>
            <a:ext cx="1492200" cy="834840"/>
          </a:xfrm>
          <a:custGeom>
            <a:avLst/>
            <a:gdLst>
              <a:gd name="textAreaLeft" fmla="*/ 0 w 1492200"/>
              <a:gd name="textAreaRight" fmla="*/ 1492560 w 1492200"/>
              <a:gd name="textAreaTop" fmla="*/ -360 h 834840"/>
              <a:gd name="textAreaBottom" fmla="*/ 834840 h 834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557" y="0"/>
                </a:lnTo>
                <a:lnTo>
                  <a:pt x="21600" y="10800"/>
                </a:lnTo>
                <a:lnTo>
                  <a:pt x="1555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ed3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418" name="图片 42" descr=""/>
          <p:cNvPicPr/>
          <p:nvPr/>
        </p:nvPicPr>
        <p:blipFill>
          <a:blip r:embed="rId2"/>
          <a:stretch/>
        </p:blipFill>
        <p:spPr>
          <a:xfrm>
            <a:off x="297000" y="1201680"/>
            <a:ext cx="3368520" cy="3133800"/>
          </a:xfrm>
          <a:prstGeom prst="rect">
            <a:avLst/>
          </a:prstGeom>
          <a:ln w="0">
            <a:noFill/>
          </a:ln>
        </p:spPr>
      </p:pic>
      <p:pic>
        <p:nvPicPr>
          <p:cNvPr id="419" name="组合 28" descr=""/>
          <p:cNvPicPr/>
          <p:nvPr/>
        </p:nvPicPr>
        <p:blipFill>
          <a:blip r:embed="rId3"/>
          <a:stretch/>
        </p:blipFill>
        <p:spPr>
          <a:xfrm>
            <a:off x="801720" y="5099040"/>
            <a:ext cx="1298520" cy="581040"/>
          </a:xfrm>
          <a:prstGeom prst="rect">
            <a:avLst/>
          </a:prstGeom>
          <a:ln w="0">
            <a:noFill/>
          </a:ln>
        </p:spPr>
      </p:pic>
      <p:pic>
        <p:nvPicPr>
          <p:cNvPr id="420" name="组合 32" descr=""/>
          <p:cNvPicPr/>
          <p:nvPr/>
        </p:nvPicPr>
        <p:blipFill>
          <a:blip r:embed="rId4"/>
          <a:stretch/>
        </p:blipFill>
        <p:spPr>
          <a:xfrm>
            <a:off x="7118280" y="5240160"/>
            <a:ext cx="903240" cy="51120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41A96-E5E9-404A-97B0-034BDFA3EB33}" type="datetime">
              <a:rPr b="0" lang="zh-CN" sz="1200" spc="-1" strike="noStrike">
                <a:solidFill>
                  <a:srgbClr val="8d8d8d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9CFFC-A1B7-44F3-809E-BCCDDC890127}" type="slidenum">
              <a:rPr b="0" lang="zh-CN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fed34e"/>
          </a:solidFill>
          <a:ln w="12600">
            <a:solidFill>
              <a:srgbClr val="bb9b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CD61B-4790-4C34-B727-40FE37C12E50}" type="datetime">
              <a:rPr b="0" lang="zh-CN" sz="1200" spc="-1" strike="noStrike">
                <a:solidFill>
                  <a:srgbClr val="8d8d8d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465FD-6515-40B0-A2CE-7C334BE58416}" type="slidenum">
              <a:rPr b="0" lang="zh-CN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fed34e"/>
          </a:solidFill>
          <a:ln w="12600">
            <a:solidFill>
              <a:srgbClr val="bb9b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D5C8B-2202-4981-B436-C86AC315EDD6}" type="datetime">
              <a:rPr b="0" lang="zh-CN" sz="1200" spc="-1" strike="noStrike">
                <a:solidFill>
                  <a:srgbClr val="8d8d8d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3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BD7BB-C6D6-43C8-B871-AC839CBFD5C8}" type="slidenum">
              <a:rPr b="0" lang="zh-CN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fed34e"/>
          </a:solidFill>
          <a:ln w="12600">
            <a:solidFill>
              <a:srgbClr val="bb9b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dt" idx="3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34F7B-90C5-4275-B3A7-92914354027F}" type="datetime">
              <a:rPr b="0" lang="zh-CN" sz="1200" spc="-1" strike="noStrike">
                <a:solidFill>
                  <a:srgbClr val="8d8d8d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ftr" idx="3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sldNum" idx="3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C9789-06D5-444C-BC97-D0DCD2F85CC8}" type="slidenum">
              <a:rPr b="0" lang="zh-CN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fed34e"/>
          </a:solidFill>
          <a:ln w="12600">
            <a:solidFill>
              <a:srgbClr val="bb9b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dt" idx="4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5B52B-27F1-4541-991E-1A29300843AE}" type="datetime">
              <a:rPr b="0" lang="zh-CN" sz="1200" spc="-1" strike="noStrike">
                <a:solidFill>
                  <a:srgbClr val="8d8d8d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ftr" idx="4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 type="sldNum" idx="4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A45B0-2076-4387-8880-7534DB4C298B}" type="slidenum">
              <a:rPr b="0" lang="zh-CN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fed34e"/>
          </a:solidFill>
          <a:ln w="12600">
            <a:solidFill>
              <a:srgbClr val="bb9b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Freeform 7912"/>
          <p:cNvSpPr/>
          <p:nvPr/>
        </p:nvSpPr>
        <p:spPr>
          <a:xfrm>
            <a:off x="3317760" y="1273320"/>
            <a:ext cx="598680" cy="399960"/>
          </a:xfrm>
          <a:custGeom>
            <a:avLst/>
            <a:gdLst/>
            <a:ahLst/>
            <a:rect l="l" t="t" r="r" b="b"/>
            <a:pathLst>
              <a:path w="631" h="316">
                <a:moveTo>
                  <a:pt x="37" y="194"/>
                </a:moveTo>
                <a:cubicBezTo>
                  <a:pt x="0" y="154"/>
                  <a:pt x="100" y="83"/>
                  <a:pt x="195" y="119"/>
                </a:cubicBezTo>
                <a:cubicBezTo>
                  <a:pt x="195" y="119"/>
                  <a:pt x="241" y="0"/>
                  <a:pt x="383" y="12"/>
                </a:cubicBezTo>
                <a:cubicBezTo>
                  <a:pt x="519" y="25"/>
                  <a:pt x="492" y="149"/>
                  <a:pt x="492" y="149"/>
                </a:cubicBezTo>
                <a:cubicBezTo>
                  <a:pt x="492" y="149"/>
                  <a:pt x="611" y="92"/>
                  <a:pt x="624" y="219"/>
                </a:cubicBezTo>
                <a:cubicBezTo>
                  <a:pt x="631" y="294"/>
                  <a:pt x="437" y="248"/>
                  <a:pt x="437" y="248"/>
                </a:cubicBezTo>
                <a:cubicBezTo>
                  <a:pt x="437" y="248"/>
                  <a:pt x="291" y="316"/>
                  <a:pt x="181" y="230"/>
                </a:cubicBezTo>
                <a:cubicBezTo>
                  <a:pt x="181" y="230"/>
                  <a:pt x="87" y="248"/>
                  <a:pt x="37" y="194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Freeform 7907"/>
          <p:cNvSpPr/>
          <p:nvPr/>
        </p:nvSpPr>
        <p:spPr>
          <a:xfrm>
            <a:off x="369720" y="2541600"/>
            <a:ext cx="895680" cy="208080"/>
          </a:xfrm>
          <a:custGeom>
            <a:avLst/>
            <a:gdLst/>
            <a:ahLst/>
            <a:rect l="l" t="t" r="r" b="b"/>
            <a:pathLst>
              <a:path w="945" h="165">
                <a:moveTo>
                  <a:pt x="15" y="0"/>
                </a:moveTo>
                <a:cubicBezTo>
                  <a:pt x="0" y="42"/>
                  <a:pt x="190" y="48"/>
                  <a:pt x="190" y="48"/>
                </a:cubicBezTo>
                <a:cubicBezTo>
                  <a:pt x="190" y="48"/>
                  <a:pt x="381" y="127"/>
                  <a:pt x="507" y="66"/>
                </a:cubicBezTo>
                <a:cubicBezTo>
                  <a:pt x="507" y="66"/>
                  <a:pt x="693" y="165"/>
                  <a:pt x="801" y="69"/>
                </a:cubicBezTo>
                <a:cubicBezTo>
                  <a:pt x="801" y="69"/>
                  <a:pt x="890" y="103"/>
                  <a:pt x="945" y="6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Freeform 7908"/>
          <p:cNvSpPr/>
          <p:nvPr/>
        </p:nvSpPr>
        <p:spPr>
          <a:xfrm>
            <a:off x="384120" y="2276640"/>
            <a:ext cx="946080" cy="341280"/>
          </a:xfrm>
          <a:custGeom>
            <a:avLst/>
            <a:gdLst/>
            <a:ahLst/>
            <a:rect l="l" t="t" r="r" b="b"/>
            <a:pathLst>
              <a:path w="997" h="269">
                <a:moveTo>
                  <a:pt x="930" y="269"/>
                </a:moveTo>
                <a:cubicBezTo>
                  <a:pt x="930" y="269"/>
                  <a:pt x="997" y="225"/>
                  <a:pt x="894" y="183"/>
                </a:cubicBezTo>
                <a:cubicBezTo>
                  <a:pt x="834" y="158"/>
                  <a:pt x="777" y="165"/>
                  <a:pt x="777" y="165"/>
                </a:cubicBezTo>
                <a:cubicBezTo>
                  <a:pt x="777" y="165"/>
                  <a:pt x="715" y="60"/>
                  <a:pt x="628" y="118"/>
                </a:cubicBezTo>
                <a:cubicBezTo>
                  <a:pt x="628" y="118"/>
                  <a:pt x="632" y="9"/>
                  <a:pt x="493" y="4"/>
                </a:cubicBezTo>
                <a:cubicBezTo>
                  <a:pt x="355" y="0"/>
                  <a:pt x="308" y="144"/>
                  <a:pt x="308" y="144"/>
                </a:cubicBezTo>
                <a:cubicBezTo>
                  <a:pt x="308" y="144"/>
                  <a:pt x="226" y="8"/>
                  <a:pt x="157" y="145"/>
                </a:cubicBezTo>
                <a:cubicBezTo>
                  <a:pt x="157" y="145"/>
                  <a:pt x="54" y="61"/>
                  <a:pt x="0" y="209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Freeform 7909"/>
          <p:cNvSpPr/>
          <p:nvPr/>
        </p:nvSpPr>
        <p:spPr>
          <a:xfrm>
            <a:off x="5248440" y="582480"/>
            <a:ext cx="1471320" cy="701640"/>
          </a:xfrm>
          <a:custGeom>
            <a:avLst/>
            <a:gdLst/>
            <a:ahLst/>
            <a:rect l="l" t="t" r="r" b="b"/>
            <a:pathLst>
              <a:path w="1552" h="555">
                <a:moveTo>
                  <a:pt x="106" y="355"/>
                </a:moveTo>
                <a:cubicBezTo>
                  <a:pt x="106" y="355"/>
                  <a:pt x="0" y="267"/>
                  <a:pt x="165" y="218"/>
                </a:cubicBezTo>
                <a:cubicBezTo>
                  <a:pt x="261" y="190"/>
                  <a:pt x="356" y="219"/>
                  <a:pt x="356" y="219"/>
                </a:cubicBezTo>
                <a:cubicBezTo>
                  <a:pt x="356" y="219"/>
                  <a:pt x="468" y="67"/>
                  <a:pt x="593" y="169"/>
                </a:cubicBezTo>
                <a:cubicBezTo>
                  <a:pt x="593" y="169"/>
                  <a:pt x="665" y="0"/>
                  <a:pt x="877" y="14"/>
                </a:cubicBezTo>
                <a:cubicBezTo>
                  <a:pt x="1090" y="28"/>
                  <a:pt x="1079" y="258"/>
                  <a:pt x="1079" y="258"/>
                </a:cubicBezTo>
                <a:cubicBezTo>
                  <a:pt x="1079" y="258"/>
                  <a:pt x="1247" y="141"/>
                  <a:pt x="1311" y="283"/>
                </a:cubicBezTo>
                <a:cubicBezTo>
                  <a:pt x="1311" y="283"/>
                  <a:pt x="1528" y="310"/>
                  <a:pt x="1542" y="404"/>
                </a:cubicBezTo>
                <a:cubicBezTo>
                  <a:pt x="1552" y="473"/>
                  <a:pt x="1266" y="451"/>
                  <a:pt x="1266" y="451"/>
                </a:cubicBezTo>
                <a:cubicBezTo>
                  <a:pt x="1266" y="451"/>
                  <a:pt x="961" y="543"/>
                  <a:pt x="777" y="432"/>
                </a:cubicBezTo>
                <a:cubicBezTo>
                  <a:pt x="777" y="432"/>
                  <a:pt x="476" y="555"/>
                  <a:pt x="325" y="391"/>
                </a:cubicBezTo>
                <a:cubicBezTo>
                  <a:pt x="325" y="391"/>
                  <a:pt x="184" y="429"/>
                  <a:pt x="106" y="355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Freeform 7909"/>
          <p:cNvSpPr/>
          <p:nvPr/>
        </p:nvSpPr>
        <p:spPr>
          <a:xfrm>
            <a:off x="488880" y="212760"/>
            <a:ext cx="1473120" cy="701640"/>
          </a:xfrm>
          <a:custGeom>
            <a:avLst/>
            <a:gdLst/>
            <a:ahLst/>
            <a:rect l="l" t="t" r="r" b="b"/>
            <a:pathLst>
              <a:path w="1552" h="555">
                <a:moveTo>
                  <a:pt x="106" y="355"/>
                </a:moveTo>
                <a:cubicBezTo>
                  <a:pt x="106" y="355"/>
                  <a:pt x="0" y="267"/>
                  <a:pt x="165" y="218"/>
                </a:cubicBezTo>
                <a:cubicBezTo>
                  <a:pt x="261" y="190"/>
                  <a:pt x="356" y="219"/>
                  <a:pt x="356" y="219"/>
                </a:cubicBezTo>
                <a:cubicBezTo>
                  <a:pt x="356" y="219"/>
                  <a:pt x="468" y="67"/>
                  <a:pt x="593" y="169"/>
                </a:cubicBezTo>
                <a:cubicBezTo>
                  <a:pt x="593" y="169"/>
                  <a:pt x="665" y="0"/>
                  <a:pt x="877" y="14"/>
                </a:cubicBezTo>
                <a:cubicBezTo>
                  <a:pt x="1090" y="28"/>
                  <a:pt x="1079" y="258"/>
                  <a:pt x="1079" y="258"/>
                </a:cubicBezTo>
                <a:cubicBezTo>
                  <a:pt x="1079" y="258"/>
                  <a:pt x="1247" y="141"/>
                  <a:pt x="1311" y="283"/>
                </a:cubicBezTo>
                <a:cubicBezTo>
                  <a:pt x="1311" y="283"/>
                  <a:pt x="1528" y="310"/>
                  <a:pt x="1542" y="404"/>
                </a:cubicBezTo>
                <a:cubicBezTo>
                  <a:pt x="1552" y="473"/>
                  <a:pt x="1266" y="451"/>
                  <a:pt x="1266" y="451"/>
                </a:cubicBezTo>
                <a:cubicBezTo>
                  <a:pt x="1266" y="451"/>
                  <a:pt x="961" y="543"/>
                  <a:pt x="777" y="432"/>
                </a:cubicBezTo>
                <a:cubicBezTo>
                  <a:pt x="777" y="432"/>
                  <a:pt x="476" y="555"/>
                  <a:pt x="325" y="391"/>
                </a:cubicBezTo>
                <a:cubicBezTo>
                  <a:pt x="325" y="391"/>
                  <a:pt x="184" y="429"/>
                  <a:pt x="106" y="355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Freeform 7909"/>
          <p:cNvSpPr/>
          <p:nvPr/>
        </p:nvSpPr>
        <p:spPr>
          <a:xfrm>
            <a:off x="4319640" y="5965920"/>
            <a:ext cx="1471680" cy="701640"/>
          </a:xfrm>
          <a:custGeom>
            <a:avLst/>
            <a:gdLst/>
            <a:ahLst/>
            <a:rect l="l" t="t" r="r" b="b"/>
            <a:pathLst>
              <a:path w="1552" h="555">
                <a:moveTo>
                  <a:pt x="106" y="355"/>
                </a:moveTo>
                <a:cubicBezTo>
                  <a:pt x="106" y="355"/>
                  <a:pt x="0" y="267"/>
                  <a:pt x="165" y="218"/>
                </a:cubicBezTo>
                <a:cubicBezTo>
                  <a:pt x="261" y="190"/>
                  <a:pt x="356" y="219"/>
                  <a:pt x="356" y="219"/>
                </a:cubicBezTo>
                <a:cubicBezTo>
                  <a:pt x="356" y="219"/>
                  <a:pt x="468" y="67"/>
                  <a:pt x="593" y="169"/>
                </a:cubicBezTo>
                <a:cubicBezTo>
                  <a:pt x="593" y="169"/>
                  <a:pt x="665" y="0"/>
                  <a:pt x="877" y="14"/>
                </a:cubicBezTo>
                <a:cubicBezTo>
                  <a:pt x="1090" y="28"/>
                  <a:pt x="1079" y="258"/>
                  <a:pt x="1079" y="258"/>
                </a:cubicBezTo>
                <a:cubicBezTo>
                  <a:pt x="1079" y="258"/>
                  <a:pt x="1247" y="141"/>
                  <a:pt x="1311" y="283"/>
                </a:cubicBezTo>
                <a:cubicBezTo>
                  <a:pt x="1311" y="283"/>
                  <a:pt x="1528" y="310"/>
                  <a:pt x="1542" y="404"/>
                </a:cubicBezTo>
                <a:cubicBezTo>
                  <a:pt x="1552" y="473"/>
                  <a:pt x="1266" y="451"/>
                  <a:pt x="1266" y="451"/>
                </a:cubicBezTo>
                <a:cubicBezTo>
                  <a:pt x="1266" y="451"/>
                  <a:pt x="961" y="543"/>
                  <a:pt x="777" y="432"/>
                </a:cubicBezTo>
                <a:cubicBezTo>
                  <a:pt x="777" y="432"/>
                  <a:pt x="476" y="555"/>
                  <a:pt x="325" y="391"/>
                </a:cubicBezTo>
                <a:cubicBezTo>
                  <a:pt x="325" y="391"/>
                  <a:pt x="184" y="429"/>
                  <a:pt x="106" y="355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箭头: 五边形 11869"/>
          <p:cNvSpPr/>
          <p:nvPr/>
        </p:nvSpPr>
        <p:spPr>
          <a:xfrm flipV="1" rot="10800000">
            <a:off x="1897200" y="4223160"/>
            <a:ext cx="7248240" cy="497160"/>
          </a:xfrm>
          <a:custGeom>
            <a:avLst/>
            <a:gdLst>
              <a:gd name="textAreaLeft" fmla="*/ 0 w 7248240"/>
              <a:gd name="textAreaRight" fmla="*/ 7248600 w 7248240"/>
              <a:gd name="textAreaTop" fmla="*/ -360 h 497160"/>
              <a:gd name="textAreaBottom" fmla="*/ 497160 h 49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60" y="0"/>
                </a:lnTo>
                <a:lnTo>
                  <a:pt x="21600" y="10800"/>
                </a:lnTo>
                <a:lnTo>
                  <a:pt x="2086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ed3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箭头: 五边形 9283"/>
          <p:cNvSpPr/>
          <p:nvPr/>
        </p:nvSpPr>
        <p:spPr>
          <a:xfrm flipV="1" rot="10800000">
            <a:off x="1130400" y="3727800"/>
            <a:ext cx="8012160" cy="497160"/>
          </a:xfrm>
          <a:custGeom>
            <a:avLst/>
            <a:gdLst>
              <a:gd name="textAreaLeft" fmla="*/ 0 w 8012160"/>
              <a:gd name="textAreaRight" fmla="*/ 8012520 w 8012160"/>
              <a:gd name="textAreaTop" fmla="*/ -360 h 497160"/>
              <a:gd name="textAreaBottom" fmla="*/ 497160 h 49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931" y="0"/>
                </a:lnTo>
                <a:lnTo>
                  <a:pt x="21600" y="10800"/>
                </a:lnTo>
                <a:lnTo>
                  <a:pt x="2093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edf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箭头: 五边形 9484"/>
          <p:cNvSpPr/>
          <p:nvPr/>
        </p:nvSpPr>
        <p:spPr>
          <a:xfrm flipV="1" rot="10800000">
            <a:off x="374760" y="3233880"/>
            <a:ext cx="8766000" cy="496800"/>
          </a:xfrm>
          <a:custGeom>
            <a:avLst/>
            <a:gdLst>
              <a:gd name="textAreaLeft" fmla="*/ 0 w 8766000"/>
              <a:gd name="textAreaRight" fmla="*/ 8766360 w 8766000"/>
              <a:gd name="textAreaTop" fmla="*/ 360 h 496800"/>
              <a:gd name="textAreaBottom" fmla="*/ 49752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988" y="0"/>
                </a:lnTo>
                <a:lnTo>
                  <a:pt x="21600" y="10800"/>
                </a:lnTo>
                <a:lnTo>
                  <a:pt x="2098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ed3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箭头: 五边形 9685"/>
          <p:cNvSpPr/>
          <p:nvPr/>
        </p:nvSpPr>
        <p:spPr>
          <a:xfrm flipV="1" rot="10800000">
            <a:off x="1515600" y="2739960"/>
            <a:ext cx="7628040" cy="496800"/>
          </a:xfrm>
          <a:custGeom>
            <a:avLst/>
            <a:gdLst>
              <a:gd name="textAreaLeft" fmla="*/ 0 w 7628040"/>
              <a:gd name="textAreaRight" fmla="*/ 7628400 w 7628040"/>
              <a:gd name="textAreaTop" fmla="*/ 360 h 496800"/>
              <a:gd name="textAreaBottom" fmla="*/ 49752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97" y="0"/>
                </a:lnTo>
                <a:lnTo>
                  <a:pt x="21600" y="10800"/>
                </a:lnTo>
                <a:lnTo>
                  <a:pt x="2089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edf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箭头: 五边形 9886"/>
          <p:cNvSpPr/>
          <p:nvPr/>
        </p:nvSpPr>
        <p:spPr>
          <a:xfrm flipV="1" rot="10800000">
            <a:off x="2362320" y="2243520"/>
            <a:ext cx="6783120" cy="497160"/>
          </a:xfrm>
          <a:custGeom>
            <a:avLst/>
            <a:gdLst>
              <a:gd name="textAreaLeft" fmla="*/ 0 w 6783120"/>
              <a:gd name="textAreaRight" fmla="*/ 6783480 w 6783120"/>
              <a:gd name="textAreaTop" fmla="*/ -360 h 497160"/>
              <a:gd name="textAreaBottom" fmla="*/ 497160 h 49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09" y="0"/>
                </a:lnTo>
                <a:lnTo>
                  <a:pt x="21600" y="10800"/>
                </a:lnTo>
                <a:lnTo>
                  <a:pt x="2080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ed3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箭头: 五边形 12097"/>
          <p:cNvSpPr/>
          <p:nvPr/>
        </p:nvSpPr>
        <p:spPr>
          <a:xfrm flipV="1" rot="10800000">
            <a:off x="7651440" y="238680"/>
            <a:ext cx="1492200" cy="834840"/>
          </a:xfrm>
          <a:custGeom>
            <a:avLst/>
            <a:gdLst>
              <a:gd name="textAreaLeft" fmla="*/ 0 w 1492200"/>
              <a:gd name="textAreaRight" fmla="*/ 1492560 w 1492200"/>
              <a:gd name="textAreaTop" fmla="*/ -360 h 834840"/>
              <a:gd name="textAreaBottom" fmla="*/ 834840 h 834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557" y="0"/>
                </a:lnTo>
                <a:lnTo>
                  <a:pt x="21600" y="10800"/>
                </a:lnTo>
                <a:lnTo>
                  <a:pt x="1555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ed3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643" name="图片 24" descr=""/>
          <p:cNvPicPr/>
          <p:nvPr/>
        </p:nvPicPr>
        <p:blipFill>
          <a:blip r:embed="rId2"/>
          <a:stretch/>
        </p:blipFill>
        <p:spPr>
          <a:xfrm>
            <a:off x="297000" y="1201680"/>
            <a:ext cx="3368520" cy="3133800"/>
          </a:xfrm>
          <a:prstGeom prst="rect">
            <a:avLst/>
          </a:prstGeom>
          <a:ln w="0">
            <a:noFill/>
          </a:ln>
        </p:spPr>
      </p:pic>
      <p:pic>
        <p:nvPicPr>
          <p:cNvPr id="644" name="组合 10" descr=""/>
          <p:cNvPicPr/>
          <p:nvPr/>
        </p:nvPicPr>
        <p:blipFill>
          <a:blip r:embed="rId3"/>
          <a:stretch/>
        </p:blipFill>
        <p:spPr>
          <a:xfrm>
            <a:off x="801720" y="5099040"/>
            <a:ext cx="1298520" cy="581040"/>
          </a:xfrm>
          <a:prstGeom prst="rect">
            <a:avLst/>
          </a:prstGeom>
          <a:ln w="0">
            <a:noFill/>
          </a:ln>
        </p:spPr>
      </p:pic>
      <p:pic>
        <p:nvPicPr>
          <p:cNvPr id="645" name="组合 14" descr=""/>
          <p:cNvPicPr/>
          <p:nvPr/>
        </p:nvPicPr>
        <p:blipFill>
          <a:blip r:embed="rId4"/>
          <a:stretch/>
        </p:blipFill>
        <p:spPr>
          <a:xfrm>
            <a:off x="7118280" y="5240160"/>
            <a:ext cx="903240" cy="511200"/>
          </a:xfrm>
          <a:prstGeom prst="rect">
            <a:avLst/>
          </a:prstGeom>
          <a:ln w="0">
            <a:noFill/>
          </a:ln>
        </p:spPr>
      </p:pic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dt" idx="4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F2A3D-53B7-45CB-9C98-B0BC51A085BC}" type="datetime">
              <a:rPr b="0" lang="zh-CN" sz="1200" spc="-1" strike="noStrike">
                <a:solidFill>
                  <a:srgbClr val="8d8d8d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ftr" idx="4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 type="sldNum" idx="4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4A113-87B2-4400-971A-7A5D55E1D546}" type="slidenum">
              <a:rPr b="0" lang="zh-CN" sz="1200" spc="-1" strike="noStrike">
                <a:solidFill>
                  <a:srgbClr val="8d8d8d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fed34e"/>
          </a:solidFill>
          <a:ln w="12600">
            <a:solidFill>
              <a:srgbClr val="bb9b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 type="dt" idx="4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FD1C0-EE37-4302-9C4E-8188298B1202}" type="datetime">
              <a:rPr b="0" lang="zh-CN" sz="1200" spc="-1" strike="noStrike">
                <a:solidFill>
                  <a:srgbClr val="8d8d8d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 type="ftr" idx="4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 type="sldNum" idx="4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B50D0-26C7-4D4B-B346-470705D90FF0}" type="slidenum">
              <a:rPr b="0" lang="zh-CN" sz="1200" spc="-1" strike="noStrike">
                <a:solidFill>
                  <a:srgbClr val="8d8d8d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fed34e"/>
          </a:solidFill>
          <a:ln w="12600">
            <a:solidFill>
              <a:srgbClr val="bb9b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Freeform 7907"/>
          <p:cNvSpPr/>
          <p:nvPr/>
        </p:nvSpPr>
        <p:spPr>
          <a:xfrm>
            <a:off x="369720" y="2541600"/>
            <a:ext cx="895680" cy="208080"/>
          </a:xfrm>
          <a:custGeom>
            <a:avLst/>
            <a:gdLst/>
            <a:ahLst/>
            <a:rect l="l" t="t" r="r" b="b"/>
            <a:pathLst>
              <a:path w="945" h="165">
                <a:moveTo>
                  <a:pt x="15" y="0"/>
                </a:moveTo>
                <a:cubicBezTo>
                  <a:pt x="0" y="42"/>
                  <a:pt x="190" y="48"/>
                  <a:pt x="190" y="48"/>
                </a:cubicBezTo>
                <a:cubicBezTo>
                  <a:pt x="190" y="48"/>
                  <a:pt x="381" y="127"/>
                  <a:pt x="507" y="66"/>
                </a:cubicBezTo>
                <a:cubicBezTo>
                  <a:pt x="507" y="66"/>
                  <a:pt x="693" y="165"/>
                  <a:pt x="801" y="69"/>
                </a:cubicBezTo>
                <a:cubicBezTo>
                  <a:pt x="801" y="69"/>
                  <a:pt x="890" y="103"/>
                  <a:pt x="945" y="6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Freeform 7908"/>
          <p:cNvSpPr/>
          <p:nvPr/>
        </p:nvSpPr>
        <p:spPr>
          <a:xfrm>
            <a:off x="384120" y="2276640"/>
            <a:ext cx="946080" cy="341280"/>
          </a:xfrm>
          <a:custGeom>
            <a:avLst/>
            <a:gdLst/>
            <a:ahLst/>
            <a:rect l="l" t="t" r="r" b="b"/>
            <a:pathLst>
              <a:path w="997" h="269">
                <a:moveTo>
                  <a:pt x="930" y="269"/>
                </a:moveTo>
                <a:cubicBezTo>
                  <a:pt x="930" y="269"/>
                  <a:pt x="997" y="225"/>
                  <a:pt x="894" y="183"/>
                </a:cubicBezTo>
                <a:cubicBezTo>
                  <a:pt x="834" y="158"/>
                  <a:pt x="777" y="165"/>
                  <a:pt x="777" y="165"/>
                </a:cubicBezTo>
                <a:cubicBezTo>
                  <a:pt x="777" y="165"/>
                  <a:pt x="715" y="60"/>
                  <a:pt x="628" y="118"/>
                </a:cubicBezTo>
                <a:cubicBezTo>
                  <a:pt x="628" y="118"/>
                  <a:pt x="632" y="9"/>
                  <a:pt x="493" y="4"/>
                </a:cubicBezTo>
                <a:cubicBezTo>
                  <a:pt x="355" y="0"/>
                  <a:pt x="308" y="144"/>
                  <a:pt x="308" y="144"/>
                </a:cubicBezTo>
                <a:cubicBezTo>
                  <a:pt x="308" y="144"/>
                  <a:pt x="226" y="8"/>
                  <a:pt x="157" y="145"/>
                </a:cubicBezTo>
                <a:cubicBezTo>
                  <a:pt x="157" y="145"/>
                  <a:pt x="54" y="61"/>
                  <a:pt x="0" y="209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Freeform 7909"/>
          <p:cNvSpPr/>
          <p:nvPr/>
        </p:nvSpPr>
        <p:spPr>
          <a:xfrm>
            <a:off x="5248440" y="582480"/>
            <a:ext cx="1471320" cy="701640"/>
          </a:xfrm>
          <a:custGeom>
            <a:avLst/>
            <a:gdLst/>
            <a:ahLst/>
            <a:rect l="l" t="t" r="r" b="b"/>
            <a:pathLst>
              <a:path w="1552" h="555">
                <a:moveTo>
                  <a:pt x="106" y="355"/>
                </a:moveTo>
                <a:cubicBezTo>
                  <a:pt x="106" y="355"/>
                  <a:pt x="0" y="267"/>
                  <a:pt x="165" y="218"/>
                </a:cubicBezTo>
                <a:cubicBezTo>
                  <a:pt x="261" y="190"/>
                  <a:pt x="356" y="219"/>
                  <a:pt x="356" y="219"/>
                </a:cubicBezTo>
                <a:cubicBezTo>
                  <a:pt x="356" y="219"/>
                  <a:pt x="468" y="67"/>
                  <a:pt x="593" y="169"/>
                </a:cubicBezTo>
                <a:cubicBezTo>
                  <a:pt x="593" y="169"/>
                  <a:pt x="665" y="0"/>
                  <a:pt x="877" y="14"/>
                </a:cubicBezTo>
                <a:cubicBezTo>
                  <a:pt x="1090" y="28"/>
                  <a:pt x="1079" y="258"/>
                  <a:pt x="1079" y="258"/>
                </a:cubicBezTo>
                <a:cubicBezTo>
                  <a:pt x="1079" y="258"/>
                  <a:pt x="1247" y="141"/>
                  <a:pt x="1311" y="283"/>
                </a:cubicBezTo>
                <a:cubicBezTo>
                  <a:pt x="1311" y="283"/>
                  <a:pt x="1528" y="310"/>
                  <a:pt x="1542" y="404"/>
                </a:cubicBezTo>
                <a:cubicBezTo>
                  <a:pt x="1552" y="473"/>
                  <a:pt x="1266" y="451"/>
                  <a:pt x="1266" y="451"/>
                </a:cubicBezTo>
                <a:cubicBezTo>
                  <a:pt x="1266" y="451"/>
                  <a:pt x="961" y="543"/>
                  <a:pt x="777" y="432"/>
                </a:cubicBezTo>
                <a:cubicBezTo>
                  <a:pt x="777" y="432"/>
                  <a:pt x="476" y="555"/>
                  <a:pt x="325" y="391"/>
                </a:cubicBezTo>
                <a:cubicBezTo>
                  <a:pt x="325" y="391"/>
                  <a:pt x="184" y="429"/>
                  <a:pt x="106" y="355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Freeform 7909"/>
          <p:cNvSpPr/>
          <p:nvPr/>
        </p:nvSpPr>
        <p:spPr>
          <a:xfrm>
            <a:off x="488880" y="212760"/>
            <a:ext cx="1473120" cy="701640"/>
          </a:xfrm>
          <a:custGeom>
            <a:avLst/>
            <a:gdLst/>
            <a:ahLst/>
            <a:rect l="l" t="t" r="r" b="b"/>
            <a:pathLst>
              <a:path w="1552" h="555">
                <a:moveTo>
                  <a:pt x="106" y="355"/>
                </a:moveTo>
                <a:cubicBezTo>
                  <a:pt x="106" y="355"/>
                  <a:pt x="0" y="267"/>
                  <a:pt x="165" y="218"/>
                </a:cubicBezTo>
                <a:cubicBezTo>
                  <a:pt x="261" y="190"/>
                  <a:pt x="356" y="219"/>
                  <a:pt x="356" y="219"/>
                </a:cubicBezTo>
                <a:cubicBezTo>
                  <a:pt x="356" y="219"/>
                  <a:pt x="468" y="67"/>
                  <a:pt x="593" y="169"/>
                </a:cubicBezTo>
                <a:cubicBezTo>
                  <a:pt x="593" y="169"/>
                  <a:pt x="665" y="0"/>
                  <a:pt x="877" y="14"/>
                </a:cubicBezTo>
                <a:cubicBezTo>
                  <a:pt x="1090" y="28"/>
                  <a:pt x="1079" y="258"/>
                  <a:pt x="1079" y="258"/>
                </a:cubicBezTo>
                <a:cubicBezTo>
                  <a:pt x="1079" y="258"/>
                  <a:pt x="1247" y="141"/>
                  <a:pt x="1311" y="283"/>
                </a:cubicBezTo>
                <a:cubicBezTo>
                  <a:pt x="1311" y="283"/>
                  <a:pt x="1528" y="310"/>
                  <a:pt x="1542" y="404"/>
                </a:cubicBezTo>
                <a:cubicBezTo>
                  <a:pt x="1552" y="473"/>
                  <a:pt x="1266" y="451"/>
                  <a:pt x="1266" y="451"/>
                </a:cubicBezTo>
                <a:cubicBezTo>
                  <a:pt x="1266" y="451"/>
                  <a:pt x="961" y="543"/>
                  <a:pt x="777" y="432"/>
                </a:cubicBezTo>
                <a:cubicBezTo>
                  <a:pt x="777" y="432"/>
                  <a:pt x="476" y="555"/>
                  <a:pt x="325" y="391"/>
                </a:cubicBezTo>
                <a:cubicBezTo>
                  <a:pt x="325" y="391"/>
                  <a:pt x="184" y="429"/>
                  <a:pt x="106" y="355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Freeform 7909"/>
          <p:cNvSpPr/>
          <p:nvPr/>
        </p:nvSpPr>
        <p:spPr>
          <a:xfrm>
            <a:off x="4319640" y="5965920"/>
            <a:ext cx="1471680" cy="701640"/>
          </a:xfrm>
          <a:custGeom>
            <a:avLst/>
            <a:gdLst/>
            <a:ahLst/>
            <a:rect l="l" t="t" r="r" b="b"/>
            <a:pathLst>
              <a:path w="1552" h="555">
                <a:moveTo>
                  <a:pt x="106" y="355"/>
                </a:moveTo>
                <a:cubicBezTo>
                  <a:pt x="106" y="355"/>
                  <a:pt x="0" y="267"/>
                  <a:pt x="165" y="218"/>
                </a:cubicBezTo>
                <a:cubicBezTo>
                  <a:pt x="261" y="190"/>
                  <a:pt x="356" y="219"/>
                  <a:pt x="356" y="219"/>
                </a:cubicBezTo>
                <a:cubicBezTo>
                  <a:pt x="356" y="219"/>
                  <a:pt x="468" y="67"/>
                  <a:pt x="593" y="169"/>
                </a:cubicBezTo>
                <a:cubicBezTo>
                  <a:pt x="593" y="169"/>
                  <a:pt x="665" y="0"/>
                  <a:pt x="877" y="14"/>
                </a:cubicBezTo>
                <a:cubicBezTo>
                  <a:pt x="1090" y="28"/>
                  <a:pt x="1079" y="258"/>
                  <a:pt x="1079" y="258"/>
                </a:cubicBezTo>
                <a:cubicBezTo>
                  <a:pt x="1079" y="258"/>
                  <a:pt x="1247" y="141"/>
                  <a:pt x="1311" y="283"/>
                </a:cubicBezTo>
                <a:cubicBezTo>
                  <a:pt x="1311" y="283"/>
                  <a:pt x="1528" y="310"/>
                  <a:pt x="1542" y="404"/>
                </a:cubicBezTo>
                <a:cubicBezTo>
                  <a:pt x="1552" y="473"/>
                  <a:pt x="1266" y="451"/>
                  <a:pt x="1266" y="451"/>
                </a:cubicBezTo>
                <a:cubicBezTo>
                  <a:pt x="1266" y="451"/>
                  <a:pt x="961" y="543"/>
                  <a:pt x="777" y="432"/>
                </a:cubicBezTo>
                <a:cubicBezTo>
                  <a:pt x="777" y="432"/>
                  <a:pt x="476" y="555"/>
                  <a:pt x="325" y="391"/>
                </a:cubicBezTo>
                <a:cubicBezTo>
                  <a:pt x="325" y="391"/>
                  <a:pt x="184" y="429"/>
                  <a:pt x="106" y="355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箭头: 五边形 11869"/>
          <p:cNvSpPr/>
          <p:nvPr/>
        </p:nvSpPr>
        <p:spPr>
          <a:xfrm flipV="1" rot="10800000">
            <a:off x="2607840" y="4223160"/>
            <a:ext cx="6537240" cy="497160"/>
          </a:xfrm>
          <a:custGeom>
            <a:avLst/>
            <a:gdLst>
              <a:gd name="textAreaLeft" fmla="*/ 0 w 6537240"/>
              <a:gd name="textAreaRight" fmla="*/ 6537600 w 6537240"/>
              <a:gd name="textAreaTop" fmla="*/ -360 h 497160"/>
              <a:gd name="textAreaBottom" fmla="*/ 497160 h 49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80" y="0"/>
                </a:lnTo>
                <a:lnTo>
                  <a:pt x="21600" y="10800"/>
                </a:lnTo>
                <a:lnTo>
                  <a:pt x="2078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ed3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箭头: 五边形 9283"/>
          <p:cNvSpPr/>
          <p:nvPr/>
        </p:nvSpPr>
        <p:spPr>
          <a:xfrm flipV="1" rot="10800000">
            <a:off x="2606400" y="3727800"/>
            <a:ext cx="6535800" cy="497160"/>
          </a:xfrm>
          <a:custGeom>
            <a:avLst/>
            <a:gdLst>
              <a:gd name="textAreaLeft" fmla="*/ 0 w 6535800"/>
              <a:gd name="textAreaRight" fmla="*/ 6536160 w 6535800"/>
              <a:gd name="textAreaTop" fmla="*/ -360 h 497160"/>
              <a:gd name="textAreaBottom" fmla="*/ 497160 h 49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79" y="0"/>
                </a:lnTo>
                <a:lnTo>
                  <a:pt x="21600" y="10800"/>
                </a:lnTo>
                <a:lnTo>
                  <a:pt x="2077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edf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箭头: 五边形 9484"/>
          <p:cNvSpPr/>
          <p:nvPr/>
        </p:nvSpPr>
        <p:spPr>
          <a:xfrm flipV="1" rot="10800000">
            <a:off x="2606760" y="3233880"/>
            <a:ext cx="6534000" cy="496800"/>
          </a:xfrm>
          <a:custGeom>
            <a:avLst/>
            <a:gdLst>
              <a:gd name="textAreaLeft" fmla="*/ 0 w 6534000"/>
              <a:gd name="textAreaRight" fmla="*/ 6534360 w 6534000"/>
              <a:gd name="textAreaTop" fmla="*/ 360 h 496800"/>
              <a:gd name="textAreaBottom" fmla="*/ 49752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79" y="0"/>
                </a:lnTo>
                <a:lnTo>
                  <a:pt x="21600" y="10800"/>
                </a:lnTo>
                <a:lnTo>
                  <a:pt x="2077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ed3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箭头: 五边形 9685"/>
          <p:cNvSpPr/>
          <p:nvPr/>
        </p:nvSpPr>
        <p:spPr>
          <a:xfrm flipV="1" rot="10800000">
            <a:off x="2610000" y="2739960"/>
            <a:ext cx="6534000" cy="496800"/>
          </a:xfrm>
          <a:custGeom>
            <a:avLst/>
            <a:gdLst>
              <a:gd name="textAreaLeft" fmla="*/ 0 w 6534000"/>
              <a:gd name="textAreaRight" fmla="*/ 6534360 w 6534000"/>
              <a:gd name="textAreaTop" fmla="*/ 360 h 496800"/>
              <a:gd name="textAreaBottom" fmla="*/ 49752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79" y="0"/>
                </a:lnTo>
                <a:lnTo>
                  <a:pt x="21600" y="10800"/>
                </a:lnTo>
                <a:lnTo>
                  <a:pt x="2077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edf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箭头: 五边形 9886"/>
          <p:cNvSpPr/>
          <p:nvPr/>
        </p:nvSpPr>
        <p:spPr>
          <a:xfrm flipV="1" rot="10800000">
            <a:off x="2610000" y="2243520"/>
            <a:ext cx="6535440" cy="497160"/>
          </a:xfrm>
          <a:custGeom>
            <a:avLst/>
            <a:gdLst>
              <a:gd name="textAreaLeft" fmla="*/ 0 w 6535440"/>
              <a:gd name="textAreaRight" fmla="*/ 6535800 w 6535440"/>
              <a:gd name="textAreaTop" fmla="*/ -360 h 497160"/>
              <a:gd name="textAreaBottom" fmla="*/ 497160 h 49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79" y="0"/>
                </a:lnTo>
                <a:lnTo>
                  <a:pt x="21600" y="10800"/>
                </a:lnTo>
                <a:lnTo>
                  <a:pt x="2077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ed3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740" name="组合 9" descr=""/>
          <p:cNvPicPr/>
          <p:nvPr/>
        </p:nvPicPr>
        <p:blipFill>
          <a:blip r:embed="rId2"/>
          <a:stretch/>
        </p:blipFill>
        <p:spPr>
          <a:xfrm>
            <a:off x="801720" y="5099040"/>
            <a:ext cx="1298520" cy="581040"/>
          </a:xfrm>
          <a:prstGeom prst="rect">
            <a:avLst/>
          </a:prstGeom>
          <a:ln w="0">
            <a:noFill/>
          </a:ln>
        </p:spPr>
      </p:pic>
      <p:pic>
        <p:nvPicPr>
          <p:cNvPr id="741" name="组合 13" descr=""/>
          <p:cNvPicPr/>
          <p:nvPr/>
        </p:nvPicPr>
        <p:blipFill>
          <a:blip r:embed="rId3"/>
          <a:stretch/>
        </p:blipFill>
        <p:spPr>
          <a:xfrm>
            <a:off x="7118280" y="5240160"/>
            <a:ext cx="903240" cy="511200"/>
          </a:xfrm>
          <a:prstGeom prst="rect">
            <a:avLst/>
          </a:prstGeom>
          <a:ln w="0">
            <a:noFill/>
          </a:ln>
        </p:spPr>
      </p:pic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 type="dt" idx="4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44ACC-4550-4F66-BD69-74C3C53F7CC3}" type="datetime">
              <a:rPr b="0" lang="zh-CN" sz="1200" spc="-1" strike="noStrike">
                <a:solidFill>
                  <a:srgbClr val="8d8d8d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 type="ftr" idx="5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 type="sldNum" idx="5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60D41-C243-4D79-A547-16F1B27F75BE}" type="slidenum">
              <a:rPr b="0" lang="zh-CN" sz="1200" spc="-1" strike="noStrike">
                <a:solidFill>
                  <a:srgbClr val="8d8d8d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fed34e"/>
          </a:solidFill>
          <a:ln w="12600">
            <a:solidFill>
              <a:srgbClr val="bb9b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02B49-7E79-4CD8-97BF-C4287CF0A41F}" type="datetime">
              <a:rPr b="0" lang="zh-CN" sz="1200" spc="-1" strike="noStrike">
                <a:solidFill>
                  <a:srgbClr val="8d8d8d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38899-A651-4CF4-97EF-EA31D6570FF1}" type="slidenum">
              <a:rPr b="0" lang="zh-CN" sz="1200" spc="-1" strike="noStrike">
                <a:solidFill>
                  <a:srgbClr val="8d8d8d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fed34e"/>
          </a:solidFill>
          <a:ln w="12600">
            <a:solidFill>
              <a:srgbClr val="bb9b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 type="dt" idx="5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DFC33-B5D1-416F-8960-3EB2B874C6C6}" type="datetime">
              <a:rPr b="0" lang="zh-CN" sz="1200" spc="-1" strike="noStrike">
                <a:solidFill>
                  <a:srgbClr val="8d8d8d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 type="ftr" idx="5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 type="sldNum" idx="5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101D3-E671-4586-8A65-0BC92E9AC47E}" type="slidenum">
              <a:rPr b="0" lang="zh-CN" sz="1200" spc="-1" strike="noStrike">
                <a:solidFill>
                  <a:srgbClr val="8d8d8d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519DA-24B2-4D60-B700-0093297F2E13}" type="datetime">
              <a:rPr b="0" lang="zh-CN" sz="1200" spc="-1" strike="noStrike">
                <a:solidFill>
                  <a:srgbClr val="8d8d8d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F4414-7CDB-43E3-A6BF-5741E88A34D3}" type="slidenum">
              <a:rPr b="0" lang="zh-CN" sz="1200" spc="-1" strike="noStrike">
                <a:solidFill>
                  <a:srgbClr val="8d8d8d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fed34e"/>
          </a:solidFill>
          <a:ln w="12600">
            <a:solidFill>
              <a:srgbClr val="bb9b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fed34e"/>
          </a:solidFill>
          <a:ln w="12600">
            <a:solidFill>
              <a:srgbClr val="bb9b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Freeform 7912"/>
          <p:cNvSpPr/>
          <p:nvPr/>
        </p:nvSpPr>
        <p:spPr>
          <a:xfrm>
            <a:off x="3317760" y="1273320"/>
            <a:ext cx="598680" cy="399960"/>
          </a:xfrm>
          <a:custGeom>
            <a:avLst/>
            <a:gdLst/>
            <a:ahLst/>
            <a:rect l="l" t="t" r="r" b="b"/>
            <a:pathLst>
              <a:path w="631" h="316">
                <a:moveTo>
                  <a:pt x="37" y="194"/>
                </a:moveTo>
                <a:cubicBezTo>
                  <a:pt x="0" y="154"/>
                  <a:pt x="100" y="83"/>
                  <a:pt x="195" y="119"/>
                </a:cubicBezTo>
                <a:cubicBezTo>
                  <a:pt x="195" y="119"/>
                  <a:pt x="241" y="0"/>
                  <a:pt x="383" y="12"/>
                </a:cubicBezTo>
                <a:cubicBezTo>
                  <a:pt x="519" y="25"/>
                  <a:pt x="492" y="149"/>
                  <a:pt x="492" y="149"/>
                </a:cubicBezTo>
                <a:cubicBezTo>
                  <a:pt x="492" y="149"/>
                  <a:pt x="611" y="92"/>
                  <a:pt x="624" y="219"/>
                </a:cubicBezTo>
                <a:cubicBezTo>
                  <a:pt x="631" y="294"/>
                  <a:pt x="437" y="248"/>
                  <a:pt x="437" y="248"/>
                </a:cubicBezTo>
                <a:cubicBezTo>
                  <a:pt x="437" y="248"/>
                  <a:pt x="291" y="316"/>
                  <a:pt x="181" y="230"/>
                </a:cubicBezTo>
                <a:cubicBezTo>
                  <a:pt x="181" y="230"/>
                  <a:pt x="87" y="248"/>
                  <a:pt x="37" y="194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Freeform 7907"/>
          <p:cNvSpPr/>
          <p:nvPr/>
        </p:nvSpPr>
        <p:spPr>
          <a:xfrm>
            <a:off x="369720" y="2541600"/>
            <a:ext cx="895680" cy="208080"/>
          </a:xfrm>
          <a:custGeom>
            <a:avLst/>
            <a:gdLst/>
            <a:ahLst/>
            <a:rect l="l" t="t" r="r" b="b"/>
            <a:pathLst>
              <a:path w="945" h="165">
                <a:moveTo>
                  <a:pt x="15" y="0"/>
                </a:moveTo>
                <a:cubicBezTo>
                  <a:pt x="0" y="42"/>
                  <a:pt x="190" y="48"/>
                  <a:pt x="190" y="48"/>
                </a:cubicBezTo>
                <a:cubicBezTo>
                  <a:pt x="190" y="48"/>
                  <a:pt x="381" y="127"/>
                  <a:pt x="507" y="66"/>
                </a:cubicBezTo>
                <a:cubicBezTo>
                  <a:pt x="507" y="66"/>
                  <a:pt x="693" y="165"/>
                  <a:pt x="801" y="69"/>
                </a:cubicBezTo>
                <a:cubicBezTo>
                  <a:pt x="801" y="69"/>
                  <a:pt x="890" y="103"/>
                  <a:pt x="945" y="6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Freeform 7908"/>
          <p:cNvSpPr/>
          <p:nvPr/>
        </p:nvSpPr>
        <p:spPr>
          <a:xfrm>
            <a:off x="384120" y="2276640"/>
            <a:ext cx="946080" cy="341280"/>
          </a:xfrm>
          <a:custGeom>
            <a:avLst/>
            <a:gdLst/>
            <a:ahLst/>
            <a:rect l="l" t="t" r="r" b="b"/>
            <a:pathLst>
              <a:path w="997" h="269">
                <a:moveTo>
                  <a:pt x="930" y="269"/>
                </a:moveTo>
                <a:cubicBezTo>
                  <a:pt x="930" y="269"/>
                  <a:pt x="997" y="225"/>
                  <a:pt x="894" y="183"/>
                </a:cubicBezTo>
                <a:cubicBezTo>
                  <a:pt x="834" y="158"/>
                  <a:pt x="777" y="165"/>
                  <a:pt x="777" y="165"/>
                </a:cubicBezTo>
                <a:cubicBezTo>
                  <a:pt x="777" y="165"/>
                  <a:pt x="715" y="60"/>
                  <a:pt x="628" y="118"/>
                </a:cubicBezTo>
                <a:cubicBezTo>
                  <a:pt x="628" y="118"/>
                  <a:pt x="632" y="9"/>
                  <a:pt x="493" y="4"/>
                </a:cubicBezTo>
                <a:cubicBezTo>
                  <a:pt x="355" y="0"/>
                  <a:pt x="308" y="144"/>
                  <a:pt x="308" y="144"/>
                </a:cubicBezTo>
                <a:cubicBezTo>
                  <a:pt x="308" y="144"/>
                  <a:pt x="226" y="8"/>
                  <a:pt x="157" y="145"/>
                </a:cubicBezTo>
                <a:cubicBezTo>
                  <a:pt x="157" y="145"/>
                  <a:pt x="54" y="61"/>
                  <a:pt x="0" y="209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Freeform 7909"/>
          <p:cNvSpPr/>
          <p:nvPr/>
        </p:nvSpPr>
        <p:spPr>
          <a:xfrm>
            <a:off x="5248440" y="582480"/>
            <a:ext cx="1471320" cy="701640"/>
          </a:xfrm>
          <a:custGeom>
            <a:avLst/>
            <a:gdLst/>
            <a:ahLst/>
            <a:rect l="l" t="t" r="r" b="b"/>
            <a:pathLst>
              <a:path w="1552" h="555">
                <a:moveTo>
                  <a:pt x="106" y="355"/>
                </a:moveTo>
                <a:cubicBezTo>
                  <a:pt x="106" y="355"/>
                  <a:pt x="0" y="267"/>
                  <a:pt x="165" y="218"/>
                </a:cubicBezTo>
                <a:cubicBezTo>
                  <a:pt x="261" y="190"/>
                  <a:pt x="356" y="219"/>
                  <a:pt x="356" y="219"/>
                </a:cubicBezTo>
                <a:cubicBezTo>
                  <a:pt x="356" y="219"/>
                  <a:pt x="468" y="67"/>
                  <a:pt x="593" y="169"/>
                </a:cubicBezTo>
                <a:cubicBezTo>
                  <a:pt x="593" y="169"/>
                  <a:pt x="665" y="0"/>
                  <a:pt x="877" y="14"/>
                </a:cubicBezTo>
                <a:cubicBezTo>
                  <a:pt x="1090" y="28"/>
                  <a:pt x="1079" y="258"/>
                  <a:pt x="1079" y="258"/>
                </a:cubicBezTo>
                <a:cubicBezTo>
                  <a:pt x="1079" y="258"/>
                  <a:pt x="1247" y="141"/>
                  <a:pt x="1311" y="283"/>
                </a:cubicBezTo>
                <a:cubicBezTo>
                  <a:pt x="1311" y="283"/>
                  <a:pt x="1528" y="310"/>
                  <a:pt x="1542" y="404"/>
                </a:cubicBezTo>
                <a:cubicBezTo>
                  <a:pt x="1552" y="473"/>
                  <a:pt x="1266" y="451"/>
                  <a:pt x="1266" y="451"/>
                </a:cubicBezTo>
                <a:cubicBezTo>
                  <a:pt x="1266" y="451"/>
                  <a:pt x="961" y="543"/>
                  <a:pt x="777" y="432"/>
                </a:cubicBezTo>
                <a:cubicBezTo>
                  <a:pt x="777" y="432"/>
                  <a:pt x="476" y="555"/>
                  <a:pt x="325" y="391"/>
                </a:cubicBezTo>
                <a:cubicBezTo>
                  <a:pt x="325" y="391"/>
                  <a:pt x="184" y="429"/>
                  <a:pt x="106" y="355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Freeform 7909"/>
          <p:cNvSpPr/>
          <p:nvPr/>
        </p:nvSpPr>
        <p:spPr>
          <a:xfrm>
            <a:off x="488880" y="212760"/>
            <a:ext cx="1473120" cy="701640"/>
          </a:xfrm>
          <a:custGeom>
            <a:avLst/>
            <a:gdLst/>
            <a:ahLst/>
            <a:rect l="l" t="t" r="r" b="b"/>
            <a:pathLst>
              <a:path w="1552" h="555">
                <a:moveTo>
                  <a:pt x="106" y="355"/>
                </a:moveTo>
                <a:cubicBezTo>
                  <a:pt x="106" y="355"/>
                  <a:pt x="0" y="267"/>
                  <a:pt x="165" y="218"/>
                </a:cubicBezTo>
                <a:cubicBezTo>
                  <a:pt x="261" y="190"/>
                  <a:pt x="356" y="219"/>
                  <a:pt x="356" y="219"/>
                </a:cubicBezTo>
                <a:cubicBezTo>
                  <a:pt x="356" y="219"/>
                  <a:pt x="468" y="67"/>
                  <a:pt x="593" y="169"/>
                </a:cubicBezTo>
                <a:cubicBezTo>
                  <a:pt x="593" y="169"/>
                  <a:pt x="665" y="0"/>
                  <a:pt x="877" y="14"/>
                </a:cubicBezTo>
                <a:cubicBezTo>
                  <a:pt x="1090" y="28"/>
                  <a:pt x="1079" y="258"/>
                  <a:pt x="1079" y="258"/>
                </a:cubicBezTo>
                <a:cubicBezTo>
                  <a:pt x="1079" y="258"/>
                  <a:pt x="1247" y="141"/>
                  <a:pt x="1311" y="283"/>
                </a:cubicBezTo>
                <a:cubicBezTo>
                  <a:pt x="1311" y="283"/>
                  <a:pt x="1528" y="310"/>
                  <a:pt x="1542" y="404"/>
                </a:cubicBezTo>
                <a:cubicBezTo>
                  <a:pt x="1552" y="473"/>
                  <a:pt x="1266" y="451"/>
                  <a:pt x="1266" y="451"/>
                </a:cubicBezTo>
                <a:cubicBezTo>
                  <a:pt x="1266" y="451"/>
                  <a:pt x="961" y="543"/>
                  <a:pt x="777" y="432"/>
                </a:cubicBezTo>
                <a:cubicBezTo>
                  <a:pt x="777" y="432"/>
                  <a:pt x="476" y="555"/>
                  <a:pt x="325" y="391"/>
                </a:cubicBezTo>
                <a:cubicBezTo>
                  <a:pt x="325" y="391"/>
                  <a:pt x="184" y="429"/>
                  <a:pt x="106" y="355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Freeform 7909"/>
          <p:cNvSpPr/>
          <p:nvPr/>
        </p:nvSpPr>
        <p:spPr>
          <a:xfrm>
            <a:off x="4319640" y="5965920"/>
            <a:ext cx="1471680" cy="701640"/>
          </a:xfrm>
          <a:custGeom>
            <a:avLst/>
            <a:gdLst/>
            <a:ahLst/>
            <a:rect l="l" t="t" r="r" b="b"/>
            <a:pathLst>
              <a:path w="1552" h="555">
                <a:moveTo>
                  <a:pt x="106" y="355"/>
                </a:moveTo>
                <a:cubicBezTo>
                  <a:pt x="106" y="355"/>
                  <a:pt x="0" y="267"/>
                  <a:pt x="165" y="218"/>
                </a:cubicBezTo>
                <a:cubicBezTo>
                  <a:pt x="261" y="190"/>
                  <a:pt x="356" y="219"/>
                  <a:pt x="356" y="219"/>
                </a:cubicBezTo>
                <a:cubicBezTo>
                  <a:pt x="356" y="219"/>
                  <a:pt x="468" y="67"/>
                  <a:pt x="593" y="169"/>
                </a:cubicBezTo>
                <a:cubicBezTo>
                  <a:pt x="593" y="169"/>
                  <a:pt x="665" y="0"/>
                  <a:pt x="877" y="14"/>
                </a:cubicBezTo>
                <a:cubicBezTo>
                  <a:pt x="1090" y="28"/>
                  <a:pt x="1079" y="258"/>
                  <a:pt x="1079" y="258"/>
                </a:cubicBezTo>
                <a:cubicBezTo>
                  <a:pt x="1079" y="258"/>
                  <a:pt x="1247" y="141"/>
                  <a:pt x="1311" y="283"/>
                </a:cubicBezTo>
                <a:cubicBezTo>
                  <a:pt x="1311" y="283"/>
                  <a:pt x="1528" y="310"/>
                  <a:pt x="1542" y="404"/>
                </a:cubicBezTo>
                <a:cubicBezTo>
                  <a:pt x="1552" y="473"/>
                  <a:pt x="1266" y="451"/>
                  <a:pt x="1266" y="451"/>
                </a:cubicBezTo>
                <a:cubicBezTo>
                  <a:pt x="1266" y="451"/>
                  <a:pt x="961" y="543"/>
                  <a:pt x="777" y="432"/>
                </a:cubicBezTo>
                <a:cubicBezTo>
                  <a:pt x="777" y="432"/>
                  <a:pt x="476" y="555"/>
                  <a:pt x="325" y="391"/>
                </a:cubicBezTo>
                <a:cubicBezTo>
                  <a:pt x="325" y="391"/>
                  <a:pt x="184" y="429"/>
                  <a:pt x="106" y="355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箭头: 五边形 11869"/>
          <p:cNvSpPr/>
          <p:nvPr/>
        </p:nvSpPr>
        <p:spPr>
          <a:xfrm flipV="1" rot="10800000">
            <a:off x="1897200" y="4223160"/>
            <a:ext cx="7248240" cy="497160"/>
          </a:xfrm>
          <a:custGeom>
            <a:avLst/>
            <a:gdLst>
              <a:gd name="textAreaLeft" fmla="*/ 0 w 7248240"/>
              <a:gd name="textAreaRight" fmla="*/ 7248600 w 7248240"/>
              <a:gd name="textAreaTop" fmla="*/ -360 h 497160"/>
              <a:gd name="textAreaBottom" fmla="*/ 497160 h 49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60" y="0"/>
                </a:lnTo>
                <a:lnTo>
                  <a:pt x="21600" y="10800"/>
                </a:lnTo>
                <a:lnTo>
                  <a:pt x="2086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ed3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箭头: 五边形 9283"/>
          <p:cNvSpPr/>
          <p:nvPr/>
        </p:nvSpPr>
        <p:spPr>
          <a:xfrm flipV="1" rot="10800000">
            <a:off x="1130400" y="3727800"/>
            <a:ext cx="8012160" cy="497160"/>
          </a:xfrm>
          <a:custGeom>
            <a:avLst/>
            <a:gdLst>
              <a:gd name="textAreaLeft" fmla="*/ 0 w 8012160"/>
              <a:gd name="textAreaRight" fmla="*/ 8012520 w 8012160"/>
              <a:gd name="textAreaTop" fmla="*/ -360 h 497160"/>
              <a:gd name="textAreaBottom" fmla="*/ 497160 h 49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931" y="0"/>
                </a:lnTo>
                <a:lnTo>
                  <a:pt x="21600" y="10800"/>
                </a:lnTo>
                <a:lnTo>
                  <a:pt x="2093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edf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箭头: 五边形 9484"/>
          <p:cNvSpPr/>
          <p:nvPr/>
        </p:nvSpPr>
        <p:spPr>
          <a:xfrm flipV="1" rot="10800000">
            <a:off x="374760" y="3233880"/>
            <a:ext cx="8766000" cy="496800"/>
          </a:xfrm>
          <a:custGeom>
            <a:avLst/>
            <a:gdLst>
              <a:gd name="textAreaLeft" fmla="*/ 0 w 8766000"/>
              <a:gd name="textAreaRight" fmla="*/ 8766360 w 8766000"/>
              <a:gd name="textAreaTop" fmla="*/ 360 h 496800"/>
              <a:gd name="textAreaBottom" fmla="*/ 49752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988" y="0"/>
                </a:lnTo>
                <a:lnTo>
                  <a:pt x="21600" y="10800"/>
                </a:lnTo>
                <a:lnTo>
                  <a:pt x="2098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ed3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箭头: 五边形 9685"/>
          <p:cNvSpPr/>
          <p:nvPr/>
        </p:nvSpPr>
        <p:spPr>
          <a:xfrm flipV="1" rot="10800000">
            <a:off x="1515600" y="2739960"/>
            <a:ext cx="7628040" cy="496800"/>
          </a:xfrm>
          <a:custGeom>
            <a:avLst/>
            <a:gdLst>
              <a:gd name="textAreaLeft" fmla="*/ 0 w 7628040"/>
              <a:gd name="textAreaRight" fmla="*/ 7628400 w 7628040"/>
              <a:gd name="textAreaTop" fmla="*/ 360 h 496800"/>
              <a:gd name="textAreaBottom" fmla="*/ 49752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97" y="0"/>
                </a:lnTo>
                <a:lnTo>
                  <a:pt x="21600" y="10800"/>
                </a:lnTo>
                <a:lnTo>
                  <a:pt x="2089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edf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箭头: 五边形 9886"/>
          <p:cNvSpPr/>
          <p:nvPr/>
        </p:nvSpPr>
        <p:spPr>
          <a:xfrm flipV="1" rot="10800000">
            <a:off x="2362320" y="2243520"/>
            <a:ext cx="6783120" cy="497160"/>
          </a:xfrm>
          <a:custGeom>
            <a:avLst/>
            <a:gdLst>
              <a:gd name="textAreaLeft" fmla="*/ 0 w 6783120"/>
              <a:gd name="textAreaRight" fmla="*/ 6783480 w 6783120"/>
              <a:gd name="textAreaTop" fmla="*/ -360 h 497160"/>
              <a:gd name="textAreaBottom" fmla="*/ 497160 h 49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09" y="0"/>
                </a:lnTo>
                <a:lnTo>
                  <a:pt x="21600" y="10800"/>
                </a:lnTo>
                <a:lnTo>
                  <a:pt x="2080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ed3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箭头: 五边形 12097"/>
          <p:cNvSpPr/>
          <p:nvPr/>
        </p:nvSpPr>
        <p:spPr>
          <a:xfrm flipV="1" rot="10800000">
            <a:off x="7651440" y="238680"/>
            <a:ext cx="1492200" cy="834840"/>
          </a:xfrm>
          <a:custGeom>
            <a:avLst/>
            <a:gdLst>
              <a:gd name="textAreaLeft" fmla="*/ 0 w 1492200"/>
              <a:gd name="textAreaRight" fmla="*/ 1492560 w 1492200"/>
              <a:gd name="textAreaTop" fmla="*/ -360 h 834840"/>
              <a:gd name="textAreaBottom" fmla="*/ 834840 h 834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557" y="0"/>
                </a:lnTo>
                <a:lnTo>
                  <a:pt x="21600" y="10800"/>
                </a:lnTo>
                <a:lnTo>
                  <a:pt x="1555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ed3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880" name="图片 42" descr=""/>
          <p:cNvPicPr/>
          <p:nvPr/>
        </p:nvPicPr>
        <p:blipFill>
          <a:blip r:embed="rId2"/>
          <a:stretch/>
        </p:blipFill>
        <p:spPr>
          <a:xfrm>
            <a:off x="297000" y="1201680"/>
            <a:ext cx="3368520" cy="3133800"/>
          </a:xfrm>
          <a:prstGeom prst="rect">
            <a:avLst/>
          </a:prstGeom>
          <a:ln w="0">
            <a:noFill/>
          </a:ln>
        </p:spPr>
      </p:pic>
      <p:pic>
        <p:nvPicPr>
          <p:cNvPr id="881" name="组合 28" descr=""/>
          <p:cNvPicPr/>
          <p:nvPr/>
        </p:nvPicPr>
        <p:blipFill>
          <a:blip r:embed="rId3"/>
          <a:stretch/>
        </p:blipFill>
        <p:spPr>
          <a:xfrm>
            <a:off x="801720" y="5099040"/>
            <a:ext cx="1298520" cy="581040"/>
          </a:xfrm>
          <a:prstGeom prst="rect">
            <a:avLst/>
          </a:prstGeom>
          <a:ln w="0">
            <a:noFill/>
          </a:ln>
        </p:spPr>
      </p:pic>
      <p:pic>
        <p:nvPicPr>
          <p:cNvPr id="882" name="组合 32" descr=""/>
          <p:cNvPicPr/>
          <p:nvPr/>
        </p:nvPicPr>
        <p:blipFill>
          <a:blip r:embed="rId4"/>
          <a:stretch/>
        </p:blipFill>
        <p:spPr>
          <a:xfrm>
            <a:off x="7118280" y="5240160"/>
            <a:ext cx="903240" cy="511200"/>
          </a:xfrm>
          <a:prstGeom prst="rect">
            <a:avLst/>
          </a:prstGeom>
          <a:ln w="0">
            <a:noFill/>
          </a:ln>
        </p:spPr>
      </p:pic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 type="dt" idx="5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440DF-CC4C-4CB1-A2F5-7EE3DF873DB2}" type="datetime">
              <a:rPr b="0" lang="zh-CN" sz="1200" spc="-1" strike="noStrike">
                <a:solidFill>
                  <a:srgbClr val="8d8d8d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 type="ftr" idx="5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5"/>
          <p:cNvSpPr>
            <a:spLocks noGrp="1"/>
          </p:cNvSpPr>
          <p:nvPr>
            <p:ph type="sldNum" idx="6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35AA6-96E8-42B1-9589-84725A84EDF1}" type="slidenum">
              <a:rPr b="0" lang="zh-CN" sz="1200" spc="-1" strike="noStrike">
                <a:solidFill>
                  <a:srgbClr val="8d8d8d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fed34e"/>
          </a:solidFill>
          <a:ln w="12600">
            <a:solidFill>
              <a:srgbClr val="bb9b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 type="dt" idx="6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36DB3-3ED6-45F1-9F35-EC6B90561018}" type="datetime">
              <a:rPr b="0" lang="zh-CN" sz="1200" spc="-1" strike="noStrike">
                <a:solidFill>
                  <a:srgbClr val="8d8d8d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 type="ftr" idx="6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5"/>
          <p:cNvSpPr>
            <a:spLocks noGrp="1"/>
          </p:cNvSpPr>
          <p:nvPr>
            <p:ph type="sldNum" idx="6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1A51D-6D05-4BD9-9DA1-0767D7012B13}" type="slidenum">
              <a:rPr b="0" lang="zh-CN" sz="1200" spc="-1" strike="noStrike">
                <a:solidFill>
                  <a:srgbClr val="8d8d8d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fed34e"/>
          </a:solidFill>
          <a:ln w="12600">
            <a:solidFill>
              <a:srgbClr val="bb9b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 type="dt" idx="6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41101-AC1A-4408-AFBA-721EA9DB1582}" type="datetime">
              <a:rPr b="0" lang="zh-CN" sz="1200" spc="-1" strike="noStrike">
                <a:solidFill>
                  <a:srgbClr val="8d8d8d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 type="ftr" idx="6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 type="sldNum" idx="6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31745-D73C-4BAF-8A54-B95558AD8F4F}" type="slidenum">
              <a:rPr b="0" lang="zh-CN" sz="1200" spc="-1" strike="noStrike">
                <a:solidFill>
                  <a:srgbClr val="8d8d8d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fed34e"/>
          </a:solidFill>
          <a:ln w="12600">
            <a:solidFill>
              <a:srgbClr val="bb9b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 type="dt" idx="6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44BEB-3122-4442-AE5C-96935D2383BC}" type="datetime">
              <a:rPr b="0" lang="zh-CN" sz="1200" spc="-1" strike="noStrike">
                <a:solidFill>
                  <a:srgbClr val="8d8d8d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 type="ftr" idx="6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 type="sldNum" idx="6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B3E7B-EE9A-4028-99AF-2C8C67457433}" type="slidenum">
              <a:rPr b="0" lang="zh-CN" sz="1200" spc="-1" strike="noStrike">
                <a:solidFill>
                  <a:srgbClr val="8d8d8d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fed34e"/>
          </a:solidFill>
          <a:ln w="12600">
            <a:solidFill>
              <a:srgbClr val="bb9b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 type="dt" idx="7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3F1B0-CE26-43A3-A1AC-9BC56FFF4EDB}" type="datetime">
              <a:rPr b="0" lang="zh-CN" sz="1200" spc="-1" strike="noStrike">
                <a:solidFill>
                  <a:srgbClr val="8d8d8d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 type="ftr" idx="7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5" name="PlaceHolder 5"/>
          <p:cNvSpPr>
            <a:spLocks noGrp="1"/>
          </p:cNvSpPr>
          <p:nvPr>
            <p:ph type="sldNum" idx="7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21FB6-EA31-4963-A255-67B6F59515A7}" type="slidenum">
              <a:rPr b="0" lang="zh-CN" sz="1200" spc="-1" strike="noStrike">
                <a:solidFill>
                  <a:srgbClr val="8d8d8d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1093" name="图片 9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 rot="355800">
            <a:off x="3166920" y="1255680"/>
            <a:ext cx="2810160" cy="1071720"/>
          </a:xfrm>
          <a:prstGeom prst="rect">
            <a:avLst/>
          </a:prstGeom>
          <a:ln w="0">
            <a:noFill/>
          </a:ln>
        </p:spPr>
      </p:pic>
      <p:pic>
        <p:nvPicPr>
          <p:cNvPr id="1094" name="图片 7" descr=""/>
          <p:cNvPicPr/>
          <p:nvPr/>
        </p:nvPicPr>
        <p:blipFill>
          <a:blip r:embed="rId4"/>
          <a:stretch/>
        </p:blipFill>
        <p:spPr>
          <a:xfrm>
            <a:off x="2720880" y="2975040"/>
            <a:ext cx="3702240" cy="1041480"/>
          </a:xfrm>
          <a:prstGeom prst="rect">
            <a:avLst/>
          </a:prstGeom>
          <a:ln w="0">
            <a:noFill/>
          </a:ln>
        </p:spPr>
      </p:pic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28560" y="992160"/>
            <a:ext cx="7886880" cy="11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628560" y="2211120"/>
            <a:ext cx="7886880" cy="39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 type="dt" idx="7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CC53C-1D6B-47B8-80EC-024108F062A2}" type="datetime">
              <a:rPr b="0" lang="zh-CN" sz="900" spc="-1" strike="noStrike">
                <a:solidFill>
                  <a:srgbClr val="ffffff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 type="ftr" idx="7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 type="sldNum" idx="7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1D5D9-000C-402C-A01C-6480781AF88F}" type="slidenum">
              <a:rPr b="0" lang="zh-CN" sz="9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7" name="矩形 6"/>
          <p:cNvSpPr/>
          <p:nvPr/>
        </p:nvSpPr>
        <p:spPr>
          <a:xfrm>
            <a:off x="1973160" y="2617920"/>
            <a:ext cx="5197680" cy="2154240"/>
          </a:xfrm>
          <a:prstGeom prst="rect">
            <a:avLst/>
          </a:prstGeom>
          <a:noFill/>
          <a:ln w="38160">
            <a:solidFill>
              <a:srgbClr val="ff57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1138" name="图片 7" descr=""/>
          <p:cNvPicPr/>
          <p:nvPr/>
        </p:nvPicPr>
        <p:blipFill>
          <a:blip r:embed="rId3"/>
          <a:stretch/>
        </p:blipFill>
        <p:spPr>
          <a:xfrm>
            <a:off x="5492880" y="1913040"/>
            <a:ext cx="1960560" cy="1877760"/>
          </a:xfrm>
          <a:prstGeom prst="rect">
            <a:avLst/>
          </a:prstGeom>
          <a:ln w="0">
            <a:noFill/>
          </a:ln>
        </p:spPr>
      </p:pic>
      <p:pic>
        <p:nvPicPr>
          <p:cNvPr id="1139" name="图片 8" descr=""/>
          <p:cNvPicPr/>
          <p:nvPr/>
        </p:nvPicPr>
        <p:blipFill>
          <a:blip r:embed="rId4"/>
          <a:stretch/>
        </p:blipFill>
        <p:spPr>
          <a:xfrm>
            <a:off x="1690560" y="4149720"/>
            <a:ext cx="1947960" cy="1244520"/>
          </a:xfrm>
          <a:prstGeom prst="rect">
            <a:avLst/>
          </a:prstGeom>
          <a:ln w="0">
            <a:noFill/>
          </a:ln>
        </p:spPr>
      </p:pic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628560" y="992160"/>
            <a:ext cx="7886880" cy="11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body"/>
          </p:nvPr>
        </p:nvSpPr>
        <p:spPr>
          <a:xfrm>
            <a:off x="628560" y="2211120"/>
            <a:ext cx="7886880" cy="39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 type="dt" idx="7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B4032-F304-4749-B2FA-132EFE5AEBB1}" type="datetime">
              <a:rPr b="0" lang="zh-CN" sz="900" spc="-1" strike="noStrike">
                <a:solidFill>
                  <a:srgbClr val="ffffff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 type="ftr" idx="7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4" name="PlaceHolder 5"/>
          <p:cNvSpPr>
            <a:spLocks noGrp="1"/>
          </p:cNvSpPr>
          <p:nvPr>
            <p:ph type="sldNum" idx="7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FDAEB-34C3-4F0A-97AB-2D12EE83C394}" type="slidenum">
              <a:rPr b="0" lang="zh-CN" sz="9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2" name="任意多边形 5"/>
          <p:cNvSpPr/>
          <p:nvPr/>
        </p:nvSpPr>
        <p:spPr>
          <a:xfrm>
            <a:off x="3413160" y="3465360"/>
            <a:ext cx="1120680" cy="1121040"/>
          </a:xfrm>
          <a:custGeom>
            <a:avLst/>
            <a:gdLst/>
            <a:ahLst/>
            <a:rect l="l" t="t" r="r" b="b"/>
            <a:pathLst>
              <a:path w="970530" h="968938">
                <a:moveTo>
                  <a:pt x="157193" y="238654"/>
                </a:moveTo>
                <a:lnTo>
                  <a:pt x="154926" y="240047"/>
                </a:lnTo>
                <a:lnTo>
                  <a:pt x="158049" y="240047"/>
                </a:lnTo>
                <a:close/>
                <a:moveTo>
                  <a:pt x="152692" y="236963"/>
                </a:moveTo>
                <a:lnTo>
                  <a:pt x="152692" y="240047"/>
                </a:lnTo>
                <a:lnTo>
                  <a:pt x="154587" y="240047"/>
                </a:lnTo>
                <a:close/>
                <a:moveTo>
                  <a:pt x="148213" y="229675"/>
                </a:moveTo>
                <a:lnTo>
                  <a:pt x="145947" y="231066"/>
                </a:lnTo>
                <a:lnTo>
                  <a:pt x="149068" y="231066"/>
                </a:lnTo>
                <a:close/>
                <a:moveTo>
                  <a:pt x="143712" y="227983"/>
                </a:moveTo>
                <a:lnTo>
                  <a:pt x="143712" y="231066"/>
                </a:lnTo>
                <a:lnTo>
                  <a:pt x="145606" y="231066"/>
                </a:lnTo>
                <a:close/>
                <a:moveTo>
                  <a:pt x="139233" y="220695"/>
                </a:moveTo>
                <a:lnTo>
                  <a:pt x="136967" y="222086"/>
                </a:lnTo>
                <a:lnTo>
                  <a:pt x="140088" y="222086"/>
                </a:lnTo>
                <a:close/>
                <a:moveTo>
                  <a:pt x="134732" y="219003"/>
                </a:moveTo>
                <a:lnTo>
                  <a:pt x="134732" y="222086"/>
                </a:lnTo>
                <a:lnTo>
                  <a:pt x="136626" y="222086"/>
                </a:lnTo>
                <a:close/>
                <a:moveTo>
                  <a:pt x="130253" y="211715"/>
                </a:moveTo>
                <a:lnTo>
                  <a:pt x="127987" y="213106"/>
                </a:lnTo>
                <a:lnTo>
                  <a:pt x="131108" y="213106"/>
                </a:lnTo>
                <a:close/>
                <a:moveTo>
                  <a:pt x="125752" y="210023"/>
                </a:moveTo>
                <a:lnTo>
                  <a:pt x="125752" y="213106"/>
                </a:lnTo>
                <a:lnTo>
                  <a:pt x="127646" y="213106"/>
                </a:lnTo>
                <a:close/>
                <a:moveTo>
                  <a:pt x="121272" y="202733"/>
                </a:moveTo>
                <a:lnTo>
                  <a:pt x="119005" y="204126"/>
                </a:lnTo>
                <a:lnTo>
                  <a:pt x="122128" y="204126"/>
                </a:lnTo>
                <a:close/>
                <a:moveTo>
                  <a:pt x="116771" y="201042"/>
                </a:moveTo>
                <a:lnTo>
                  <a:pt x="116771" y="204126"/>
                </a:lnTo>
                <a:lnTo>
                  <a:pt x="118666" y="204126"/>
                </a:lnTo>
                <a:close/>
                <a:moveTo>
                  <a:pt x="112292" y="193754"/>
                </a:moveTo>
                <a:lnTo>
                  <a:pt x="111919" y="193983"/>
                </a:lnTo>
                <a:lnTo>
                  <a:pt x="111919" y="195145"/>
                </a:lnTo>
                <a:lnTo>
                  <a:pt x="113147" y="195145"/>
                </a:lnTo>
                <a:close/>
                <a:moveTo>
                  <a:pt x="233958" y="0"/>
                </a:moveTo>
                <a:lnTo>
                  <a:pt x="320874" y="8930"/>
                </a:lnTo>
                <a:lnTo>
                  <a:pt x="315034" y="21406"/>
                </a:lnTo>
                <a:lnTo>
                  <a:pt x="325726" y="22505"/>
                </a:lnTo>
                <a:lnTo>
                  <a:pt x="322127" y="30193"/>
                </a:lnTo>
                <a:lnTo>
                  <a:pt x="334707" y="31486"/>
                </a:lnTo>
                <a:lnTo>
                  <a:pt x="331109" y="39174"/>
                </a:lnTo>
                <a:lnTo>
                  <a:pt x="343687" y="40466"/>
                </a:lnTo>
                <a:lnTo>
                  <a:pt x="340089" y="48154"/>
                </a:lnTo>
                <a:lnTo>
                  <a:pt x="352667" y="49446"/>
                </a:lnTo>
                <a:lnTo>
                  <a:pt x="349069" y="57134"/>
                </a:lnTo>
                <a:lnTo>
                  <a:pt x="361647" y="58426"/>
                </a:lnTo>
                <a:lnTo>
                  <a:pt x="358622" y="64889"/>
                </a:lnTo>
                <a:lnTo>
                  <a:pt x="370285" y="64889"/>
                </a:lnTo>
                <a:lnTo>
                  <a:pt x="370285" y="67372"/>
                </a:lnTo>
                <a:lnTo>
                  <a:pt x="370628" y="67407"/>
                </a:lnTo>
                <a:lnTo>
                  <a:pt x="370285" y="68140"/>
                </a:lnTo>
                <a:lnTo>
                  <a:pt x="370285" y="75429"/>
                </a:lnTo>
                <a:lnTo>
                  <a:pt x="379608" y="76387"/>
                </a:lnTo>
                <a:lnTo>
                  <a:pt x="376010" y="84075"/>
                </a:lnTo>
                <a:lnTo>
                  <a:pt x="388588" y="85367"/>
                </a:lnTo>
                <a:lnTo>
                  <a:pt x="384990" y="93055"/>
                </a:lnTo>
                <a:lnTo>
                  <a:pt x="397568" y="94347"/>
                </a:lnTo>
                <a:lnTo>
                  <a:pt x="393969" y="102035"/>
                </a:lnTo>
                <a:lnTo>
                  <a:pt x="406549" y="103328"/>
                </a:lnTo>
                <a:lnTo>
                  <a:pt x="402951" y="111015"/>
                </a:lnTo>
                <a:lnTo>
                  <a:pt x="415529" y="112308"/>
                </a:lnTo>
                <a:lnTo>
                  <a:pt x="413482" y="116681"/>
                </a:lnTo>
                <a:lnTo>
                  <a:pt x="478036" y="116681"/>
                </a:lnTo>
                <a:lnTo>
                  <a:pt x="478036" y="10120"/>
                </a:lnTo>
                <a:lnTo>
                  <a:pt x="551260" y="10120"/>
                </a:lnTo>
                <a:lnTo>
                  <a:pt x="551260" y="23695"/>
                </a:lnTo>
                <a:lnTo>
                  <a:pt x="556112" y="23695"/>
                </a:lnTo>
                <a:lnTo>
                  <a:pt x="556112" y="32676"/>
                </a:lnTo>
                <a:lnTo>
                  <a:pt x="565093" y="32676"/>
                </a:lnTo>
                <a:lnTo>
                  <a:pt x="565093" y="41656"/>
                </a:lnTo>
                <a:lnTo>
                  <a:pt x="574073" y="41656"/>
                </a:lnTo>
                <a:lnTo>
                  <a:pt x="574073" y="50636"/>
                </a:lnTo>
                <a:lnTo>
                  <a:pt x="583053" y="50636"/>
                </a:lnTo>
                <a:lnTo>
                  <a:pt x="583053" y="59616"/>
                </a:lnTo>
                <a:lnTo>
                  <a:pt x="592033" y="59616"/>
                </a:lnTo>
                <a:lnTo>
                  <a:pt x="592033" y="68597"/>
                </a:lnTo>
                <a:lnTo>
                  <a:pt x="601014" y="68597"/>
                </a:lnTo>
                <a:lnTo>
                  <a:pt x="601014" y="77577"/>
                </a:lnTo>
                <a:lnTo>
                  <a:pt x="609994" y="77577"/>
                </a:lnTo>
                <a:lnTo>
                  <a:pt x="609994" y="86557"/>
                </a:lnTo>
                <a:lnTo>
                  <a:pt x="618974" y="86557"/>
                </a:lnTo>
                <a:lnTo>
                  <a:pt x="618974" y="95537"/>
                </a:lnTo>
                <a:lnTo>
                  <a:pt x="627954" y="95537"/>
                </a:lnTo>
                <a:lnTo>
                  <a:pt x="627954" y="104518"/>
                </a:lnTo>
                <a:lnTo>
                  <a:pt x="636935" y="104518"/>
                </a:lnTo>
                <a:lnTo>
                  <a:pt x="636935" y="113498"/>
                </a:lnTo>
                <a:lnTo>
                  <a:pt x="645915" y="113498"/>
                </a:lnTo>
                <a:lnTo>
                  <a:pt x="645915" y="122478"/>
                </a:lnTo>
                <a:lnTo>
                  <a:pt x="654895" y="122478"/>
                </a:lnTo>
                <a:lnTo>
                  <a:pt x="654895" y="131458"/>
                </a:lnTo>
                <a:lnTo>
                  <a:pt x="663875" y="131458"/>
                </a:lnTo>
                <a:lnTo>
                  <a:pt x="663875" y="140439"/>
                </a:lnTo>
                <a:lnTo>
                  <a:pt x="672856" y="140439"/>
                </a:lnTo>
                <a:lnTo>
                  <a:pt x="672856" y="149419"/>
                </a:lnTo>
                <a:lnTo>
                  <a:pt x="681836" y="149419"/>
                </a:lnTo>
                <a:lnTo>
                  <a:pt x="681836" y="158399"/>
                </a:lnTo>
                <a:lnTo>
                  <a:pt x="690816" y="158399"/>
                </a:lnTo>
                <a:lnTo>
                  <a:pt x="690816" y="167379"/>
                </a:lnTo>
                <a:lnTo>
                  <a:pt x="699796" y="167379"/>
                </a:lnTo>
                <a:lnTo>
                  <a:pt x="699796" y="176360"/>
                </a:lnTo>
                <a:lnTo>
                  <a:pt x="708777" y="176360"/>
                </a:lnTo>
                <a:lnTo>
                  <a:pt x="708777" y="185340"/>
                </a:lnTo>
                <a:lnTo>
                  <a:pt x="717757" y="185340"/>
                </a:lnTo>
                <a:lnTo>
                  <a:pt x="717757" y="194320"/>
                </a:lnTo>
                <a:lnTo>
                  <a:pt x="726737" y="194320"/>
                </a:lnTo>
                <a:lnTo>
                  <a:pt x="726737" y="203300"/>
                </a:lnTo>
                <a:lnTo>
                  <a:pt x="735717" y="203300"/>
                </a:lnTo>
                <a:lnTo>
                  <a:pt x="735717" y="212280"/>
                </a:lnTo>
                <a:lnTo>
                  <a:pt x="744697" y="212280"/>
                </a:lnTo>
                <a:lnTo>
                  <a:pt x="744697" y="221261"/>
                </a:lnTo>
                <a:lnTo>
                  <a:pt x="753678" y="221261"/>
                </a:lnTo>
                <a:lnTo>
                  <a:pt x="753678" y="230241"/>
                </a:lnTo>
                <a:lnTo>
                  <a:pt x="762658" y="230241"/>
                </a:lnTo>
                <a:lnTo>
                  <a:pt x="762658" y="239221"/>
                </a:lnTo>
                <a:lnTo>
                  <a:pt x="771638" y="239221"/>
                </a:lnTo>
                <a:lnTo>
                  <a:pt x="771638" y="248202"/>
                </a:lnTo>
                <a:lnTo>
                  <a:pt x="780619" y="248202"/>
                </a:lnTo>
                <a:lnTo>
                  <a:pt x="780619" y="256174"/>
                </a:lnTo>
                <a:lnTo>
                  <a:pt x="781627" y="257182"/>
                </a:lnTo>
                <a:lnTo>
                  <a:pt x="789599" y="257182"/>
                </a:lnTo>
                <a:lnTo>
                  <a:pt x="789599" y="265154"/>
                </a:lnTo>
                <a:lnTo>
                  <a:pt x="790607" y="266162"/>
                </a:lnTo>
                <a:lnTo>
                  <a:pt x="798579" y="266162"/>
                </a:lnTo>
                <a:lnTo>
                  <a:pt x="798579" y="274134"/>
                </a:lnTo>
                <a:lnTo>
                  <a:pt x="799588" y="275143"/>
                </a:lnTo>
                <a:lnTo>
                  <a:pt x="807560" y="275143"/>
                </a:lnTo>
                <a:lnTo>
                  <a:pt x="807560" y="283115"/>
                </a:lnTo>
                <a:lnTo>
                  <a:pt x="970530" y="446085"/>
                </a:lnTo>
                <a:lnTo>
                  <a:pt x="934646" y="561686"/>
                </a:lnTo>
                <a:cubicBezTo>
                  <a:pt x="847432" y="767882"/>
                  <a:pt x="662752" y="922817"/>
                  <a:pt x="438360" y="968734"/>
                </a:cubicBezTo>
                <a:lnTo>
                  <a:pt x="436340" y="968938"/>
                </a:lnTo>
                <a:lnTo>
                  <a:pt x="246591" y="779189"/>
                </a:lnTo>
                <a:lnTo>
                  <a:pt x="248087" y="777693"/>
                </a:lnTo>
                <a:lnTo>
                  <a:pt x="240094" y="768036"/>
                </a:lnTo>
                <a:lnTo>
                  <a:pt x="239176" y="768797"/>
                </a:lnTo>
                <a:lnTo>
                  <a:pt x="231114" y="759056"/>
                </a:lnTo>
                <a:lnTo>
                  <a:pt x="230196" y="759817"/>
                </a:lnTo>
                <a:lnTo>
                  <a:pt x="222134" y="750076"/>
                </a:lnTo>
                <a:lnTo>
                  <a:pt x="221216" y="750837"/>
                </a:lnTo>
                <a:lnTo>
                  <a:pt x="213153" y="741094"/>
                </a:lnTo>
                <a:lnTo>
                  <a:pt x="212235" y="741856"/>
                </a:lnTo>
                <a:lnTo>
                  <a:pt x="204173" y="732115"/>
                </a:lnTo>
                <a:lnTo>
                  <a:pt x="203255" y="732876"/>
                </a:lnTo>
                <a:lnTo>
                  <a:pt x="195193" y="723135"/>
                </a:lnTo>
                <a:lnTo>
                  <a:pt x="194275" y="723896"/>
                </a:lnTo>
                <a:lnTo>
                  <a:pt x="186213" y="714155"/>
                </a:lnTo>
                <a:lnTo>
                  <a:pt x="185295" y="714916"/>
                </a:lnTo>
                <a:lnTo>
                  <a:pt x="177232" y="705173"/>
                </a:lnTo>
                <a:lnTo>
                  <a:pt x="176314" y="705935"/>
                </a:lnTo>
                <a:lnTo>
                  <a:pt x="168252" y="696194"/>
                </a:lnTo>
                <a:lnTo>
                  <a:pt x="167334" y="696955"/>
                </a:lnTo>
                <a:lnTo>
                  <a:pt x="159272" y="687214"/>
                </a:lnTo>
                <a:lnTo>
                  <a:pt x="158354" y="687975"/>
                </a:lnTo>
                <a:lnTo>
                  <a:pt x="150292" y="678234"/>
                </a:lnTo>
                <a:lnTo>
                  <a:pt x="149374" y="678995"/>
                </a:lnTo>
                <a:lnTo>
                  <a:pt x="141311" y="669252"/>
                </a:lnTo>
                <a:lnTo>
                  <a:pt x="140393" y="670014"/>
                </a:lnTo>
                <a:lnTo>
                  <a:pt x="132331" y="660273"/>
                </a:lnTo>
                <a:lnTo>
                  <a:pt x="131413" y="661034"/>
                </a:lnTo>
                <a:lnTo>
                  <a:pt x="123351" y="651293"/>
                </a:lnTo>
                <a:lnTo>
                  <a:pt x="122433" y="652054"/>
                </a:lnTo>
                <a:lnTo>
                  <a:pt x="114371" y="642313"/>
                </a:lnTo>
                <a:lnTo>
                  <a:pt x="113453" y="643074"/>
                </a:lnTo>
                <a:lnTo>
                  <a:pt x="105390" y="633331"/>
                </a:lnTo>
                <a:lnTo>
                  <a:pt x="104472" y="634093"/>
                </a:lnTo>
                <a:lnTo>
                  <a:pt x="96410" y="624352"/>
                </a:lnTo>
                <a:lnTo>
                  <a:pt x="95492" y="625113"/>
                </a:lnTo>
                <a:lnTo>
                  <a:pt x="87430" y="615372"/>
                </a:lnTo>
                <a:lnTo>
                  <a:pt x="86512" y="616133"/>
                </a:lnTo>
                <a:lnTo>
                  <a:pt x="78450" y="606392"/>
                </a:lnTo>
                <a:lnTo>
                  <a:pt x="77532" y="607153"/>
                </a:lnTo>
                <a:lnTo>
                  <a:pt x="69469" y="597410"/>
                </a:lnTo>
                <a:lnTo>
                  <a:pt x="68551" y="598172"/>
                </a:lnTo>
                <a:lnTo>
                  <a:pt x="25688" y="546380"/>
                </a:lnTo>
                <a:lnTo>
                  <a:pt x="28430" y="541981"/>
                </a:lnTo>
                <a:lnTo>
                  <a:pt x="20836" y="532805"/>
                </a:lnTo>
                <a:cubicBezTo>
                  <a:pt x="33536" y="518914"/>
                  <a:pt x="39886" y="502245"/>
                  <a:pt x="39886" y="482798"/>
                </a:cubicBezTo>
                <a:lnTo>
                  <a:pt x="39886" y="299477"/>
                </a:lnTo>
                <a:lnTo>
                  <a:pt x="31793" y="299477"/>
                </a:lnTo>
                <a:lnTo>
                  <a:pt x="31793" y="290497"/>
                </a:lnTo>
                <a:lnTo>
                  <a:pt x="22813" y="290497"/>
                </a:lnTo>
                <a:lnTo>
                  <a:pt x="22813" y="281517"/>
                </a:lnTo>
                <a:lnTo>
                  <a:pt x="13833" y="281517"/>
                </a:lnTo>
                <a:lnTo>
                  <a:pt x="13833" y="272536"/>
                </a:lnTo>
                <a:lnTo>
                  <a:pt x="4852" y="272536"/>
                </a:lnTo>
                <a:lnTo>
                  <a:pt x="4852" y="258961"/>
                </a:lnTo>
                <a:lnTo>
                  <a:pt x="0" y="258961"/>
                </a:lnTo>
                <a:lnTo>
                  <a:pt x="0" y="181570"/>
                </a:lnTo>
                <a:lnTo>
                  <a:pt x="97882" y="181570"/>
                </a:lnTo>
                <a:lnTo>
                  <a:pt x="94332" y="175794"/>
                </a:lnTo>
                <a:lnTo>
                  <a:pt x="91819" y="177337"/>
                </a:lnTo>
                <a:lnTo>
                  <a:pt x="85351" y="166812"/>
                </a:lnTo>
                <a:lnTo>
                  <a:pt x="82838" y="168356"/>
                </a:lnTo>
                <a:cubicBezTo>
                  <a:pt x="62201" y="129859"/>
                  <a:pt x="40372" y="94339"/>
                  <a:pt x="17354" y="61795"/>
                </a:cubicBezTo>
                <a:lnTo>
                  <a:pt x="19904" y="60265"/>
                </a:lnTo>
                <a:lnTo>
                  <a:pt x="12502" y="48220"/>
                </a:lnTo>
                <a:lnTo>
                  <a:pt x="75010" y="10716"/>
                </a:lnTo>
                <a:lnTo>
                  <a:pt x="97120" y="42673"/>
                </a:lnTo>
                <a:lnTo>
                  <a:pt x="97823" y="42252"/>
                </a:lnTo>
                <a:lnTo>
                  <a:pt x="104847" y="52405"/>
                </a:lnTo>
                <a:lnTo>
                  <a:pt x="106803" y="51232"/>
                </a:lnTo>
                <a:lnTo>
                  <a:pt x="113827" y="61385"/>
                </a:lnTo>
                <a:lnTo>
                  <a:pt x="115783" y="60212"/>
                </a:lnTo>
                <a:lnTo>
                  <a:pt x="122808" y="70366"/>
                </a:lnTo>
                <a:lnTo>
                  <a:pt x="124764" y="69193"/>
                </a:lnTo>
                <a:lnTo>
                  <a:pt x="131788" y="79346"/>
                </a:lnTo>
                <a:lnTo>
                  <a:pt x="133744" y="78173"/>
                </a:lnTo>
                <a:lnTo>
                  <a:pt x="140768" y="88326"/>
                </a:lnTo>
                <a:lnTo>
                  <a:pt x="142724" y="87153"/>
                </a:lnTo>
                <a:lnTo>
                  <a:pt x="149748" y="97306"/>
                </a:lnTo>
                <a:lnTo>
                  <a:pt x="151704" y="96133"/>
                </a:lnTo>
                <a:lnTo>
                  <a:pt x="158729" y="106287"/>
                </a:lnTo>
                <a:lnTo>
                  <a:pt x="160685" y="105114"/>
                </a:lnTo>
                <a:lnTo>
                  <a:pt x="160735" y="105186"/>
                </a:lnTo>
                <a:lnTo>
                  <a:pt x="160735" y="64889"/>
                </a:lnTo>
                <a:lnTo>
                  <a:pt x="216396" y="64889"/>
                </a:lnTo>
                <a:cubicBezTo>
                  <a:pt x="222746" y="44847"/>
                  <a:pt x="228600" y="23217"/>
                  <a:pt x="233958" y="0"/>
                </a:cubicBezTo>
                <a:close/>
              </a:path>
            </a:pathLst>
          </a:custGeom>
          <a:gradFill rotWithShape="0">
            <a:gsLst>
              <a:gs pos="0">
                <a:srgbClr val="a9d18e">
                  <a:alpha val="53333"/>
                </a:srgbClr>
              </a:gs>
              <a:gs pos="100000">
                <a:srgbClr val="70ad47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3" name="任意多边形 7"/>
          <p:cNvSpPr/>
          <p:nvPr/>
        </p:nvSpPr>
        <p:spPr>
          <a:xfrm>
            <a:off x="2963880" y="2992320"/>
            <a:ext cx="1590480" cy="1592280"/>
          </a:xfrm>
          <a:custGeom>
            <a:avLst/>
            <a:gdLst/>
            <a:ahLst/>
            <a:rect l="l" t="t" r="r" b="b"/>
            <a:pathLst>
              <a:path w="1533844" h="1533842">
                <a:moveTo>
                  <a:pt x="766921" y="180973"/>
                </a:moveTo>
                <a:cubicBezTo>
                  <a:pt x="443311" y="180973"/>
                  <a:pt x="180974" y="443310"/>
                  <a:pt x="180974" y="766920"/>
                </a:cubicBezTo>
                <a:cubicBezTo>
                  <a:pt x="180974" y="1090530"/>
                  <a:pt x="443311" y="1352867"/>
                  <a:pt x="766921" y="1352867"/>
                </a:cubicBezTo>
                <a:cubicBezTo>
                  <a:pt x="1090531" y="1352867"/>
                  <a:pt x="1352868" y="1090530"/>
                  <a:pt x="1352868" y="766920"/>
                </a:cubicBezTo>
                <a:cubicBezTo>
                  <a:pt x="1352868" y="443310"/>
                  <a:pt x="1090531" y="180973"/>
                  <a:pt x="766921" y="180973"/>
                </a:cubicBezTo>
                <a:close/>
                <a:moveTo>
                  <a:pt x="766922" y="0"/>
                </a:moveTo>
                <a:cubicBezTo>
                  <a:pt x="1190481" y="0"/>
                  <a:pt x="1533844" y="343362"/>
                  <a:pt x="1533844" y="766921"/>
                </a:cubicBezTo>
                <a:cubicBezTo>
                  <a:pt x="1533844" y="1190480"/>
                  <a:pt x="1190481" y="1533842"/>
                  <a:pt x="766922" y="1533842"/>
                </a:cubicBezTo>
                <a:cubicBezTo>
                  <a:pt x="343363" y="1533842"/>
                  <a:pt x="0" y="1190480"/>
                  <a:pt x="0" y="766921"/>
                </a:cubicBezTo>
                <a:cubicBezTo>
                  <a:pt x="0" y="343362"/>
                  <a:pt x="343363" y="0"/>
                  <a:pt x="766922" y="0"/>
                </a:cubicBezTo>
                <a:close/>
              </a:path>
            </a:pathLst>
          </a:custGeom>
          <a:solidFill>
            <a:srgbClr val="db00bd"/>
          </a:solidFill>
          <a:ln w="0">
            <a:noFill/>
          </a:ln>
          <a:effectLst>
            <a:outerShdw dist="38183" dir="2700000" blurRad="0" rotWithShape="0">
              <a:srgbClr val="48620a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4" name="椭圆 19"/>
          <p:cNvSpPr/>
          <p:nvPr/>
        </p:nvSpPr>
        <p:spPr>
          <a:xfrm>
            <a:off x="3057480" y="3089160"/>
            <a:ext cx="1403280" cy="140364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5" name="文本框 20"/>
          <p:cNvSpPr/>
          <p:nvPr/>
        </p:nvSpPr>
        <p:spPr>
          <a:xfrm>
            <a:off x="5029200" y="3454560"/>
            <a:ext cx="1139760" cy="1106280"/>
          </a:xfrm>
          <a:custGeom>
            <a:avLst/>
            <a:gdLst/>
            <a:ahLst/>
            <a:rect l="l" t="t" r="r" b="b"/>
            <a:pathLst>
              <a:path w="985397" h="957294">
                <a:moveTo>
                  <a:pt x="244674" y="0"/>
                </a:moveTo>
                <a:lnTo>
                  <a:pt x="565547" y="0"/>
                </a:lnTo>
                <a:lnTo>
                  <a:pt x="565547" y="3431"/>
                </a:lnTo>
                <a:lnTo>
                  <a:pt x="569488" y="3431"/>
                </a:lnTo>
                <a:lnTo>
                  <a:pt x="569488" y="12412"/>
                </a:lnTo>
                <a:lnTo>
                  <a:pt x="578469" y="12412"/>
                </a:lnTo>
                <a:lnTo>
                  <a:pt x="578469" y="21392"/>
                </a:lnTo>
                <a:lnTo>
                  <a:pt x="587449" y="21392"/>
                </a:lnTo>
                <a:lnTo>
                  <a:pt x="587449" y="30372"/>
                </a:lnTo>
                <a:lnTo>
                  <a:pt x="596429" y="30372"/>
                </a:lnTo>
                <a:lnTo>
                  <a:pt x="596429" y="39352"/>
                </a:lnTo>
                <a:lnTo>
                  <a:pt x="605409" y="39352"/>
                </a:lnTo>
                <a:lnTo>
                  <a:pt x="605409" y="48333"/>
                </a:lnTo>
                <a:lnTo>
                  <a:pt x="614390" y="48333"/>
                </a:lnTo>
                <a:lnTo>
                  <a:pt x="614390" y="57313"/>
                </a:lnTo>
                <a:lnTo>
                  <a:pt x="623370" y="57313"/>
                </a:lnTo>
                <a:lnTo>
                  <a:pt x="623370" y="66293"/>
                </a:lnTo>
                <a:lnTo>
                  <a:pt x="632350" y="66293"/>
                </a:lnTo>
                <a:lnTo>
                  <a:pt x="632350" y="75273"/>
                </a:lnTo>
                <a:lnTo>
                  <a:pt x="641330" y="75273"/>
                </a:lnTo>
                <a:lnTo>
                  <a:pt x="641330" y="84254"/>
                </a:lnTo>
                <a:lnTo>
                  <a:pt x="650310" y="84254"/>
                </a:lnTo>
                <a:lnTo>
                  <a:pt x="650310" y="93234"/>
                </a:lnTo>
                <a:lnTo>
                  <a:pt x="659291" y="93234"/>
                </a:lnTo>
                <a:lnTo>
                  <a:pt x="659291" y="102214"/>
                </a:lnTo>
                <a:lnTo>
                  <a:pt x="668271" y="102214"/>
                </a:lnTo>
                <a:lnTo>
                  <a:pt x="668271" y="111194"/>
                </a:lnTo>
                <a:lnTo>
                  <a:pt x="677251" y="111194"/>
                </a:lnTo>
                <a:lnTo>
                  <a:pt x="677251" y="120175"/>
                </a:lnTo>
                <a:lnTo>
                  <a:pt x="686231" y="120175"/>
                </a:lnTo>
                <a:lnTo>
                  <a:pt x="686231" y="129155"/>
                </a:lnTo>
                <a:lnTo>
                  <a:pt x="695212" y="129155"/>
                </a:lnTo>
                <a:lnTo>
                  <a:pt x="695212" y="138135"/>
                </a:lnTo>
                <a:lnTo>
                  <a:pt x="704192" y="138135"/>
                </a:lnTo>
                <a:lnTo>
                  <a:pt x="704192" y="147115"/>
                </a:lnTo>
                <a:lnTo>
                  <a:pt x="713172" y="147115"/>
                </a:lnTo>
                <a:lnTo>
                  <a:pt x="713172" y="156096"/>
                </a:lnTo>
                <a:lnTo>
                  <a:pt x="722152" y="156096"/>
                </a:lnTo>
                <a:lnTo>
                  <a:pt x="722152" y="165076"/>
                </a:lnTo>
                <a:lnTo>
                  <a:pt x="731133" y="165076"/>
                </a:lnTo>
                <a:lnTo>
                  <a:pt x="731133" y="174056"/>
                </a:lnTo>
                <a:lnTo>
                  <a:pt x="740113" y="174056"/>
                </a:lnTo>
                <a:lnTo>
                  <a:pt x="740113" y="183036"/>
                </a:lnTo>
                <a:lnTo>
                  <a:pt x="749093" y="183036"/>
                </a:lnTo>
                <a:lnTo>
                  <a:pt x="749093" y="192017"/>
                </a:lnTo>
                <a:lnTo>
                  <a:pt x="758073" y="192017"/>
                </a:lnTo>
                <a:lnTo>
                  <a:pt x="758073" y="200997"/>
                </a:lnTo>
                <a:lnTo>
                  <a:pt x="767054" y="200997"/>
                </a:lnTo>
                <a:lnTo>
                  <a:pt x="767054" y="209977"/>
                </a:lnTo>
                <a:lnTo>
                  <a:pt x="776034" y="209977"/>
                </a:lnTo>
                <a:lnTo>
                  <a:pt x="776034" y="218957"/>
                </a:lnTo>
                <a:lnTo>
                  <a:pt x="776933" y="218957"/>
                </a:lnTo>
                <a:lnTo>
                  <a:pt x="781569" y="214321"/>
                </a:lnTo>
                <a:lnTo>
                  <a:pt x="985397" y="418149"/>
                </a:lnTo>
                <a:lnTo>
                  <a:pt x="984064" y="431375"/>
                </a:lnTo>
                <a:cubicBezTo>
                  <a:pt x="938147" y="655767"/>
                  <a:pt x="783212" y="840447"/>
                  <a:pt x="577016" y="927661"/>
                </a:cubicBezTo>
                <a:lnTo>
                  <a:pt x="481555" y="957294"/>
                </a:lnTo>
                <a:lnTo>
                  <a:pt x="260076" y="735815"/>
                </a:lnTo>
                <a:lnTo>
                  <a:pt x="261237" y="734654"/>
                </a:lnTo>
                <a:lnTo>
                  <a:pt x="256668" y="726627"/>
                </a:lnTo>
                <a:lnTo>
                  <a:pt x="254540" y="729685"/>
                </a:lnTo>
                <a:lnTo>
                  <a:pt x="247687" y="717647"/>
                </a:lnTo>
                <a:lnTo>
                  <a:pt x="245560" y="720705"/>
                </a:lnTo>
                <a:lnTo>
                  <a:pt x="238707" y="708666"/>
                </a:lnTo>
                <a:lnTo>
                  <a:pt x="236579" y="711725"/>
                </a:lnTo>
                <a:lnTo>
                  <a:pt x="229726" y="699687"/>
                </a:lnTo>
                <a:lnTo>
                  <a:pt x="227599" y="702744"/>
                </a:lnTo>
                <a:lnTo>
                  <a:pt x="220746" y="690706"/>
                </a:lnTo>
                <a:lnTo>
                  <a:pt x="218619" y="693764"/>
                </a:lnTo>
                <a:lnTo>
                  <a:pt x="211766" y="681726"/>
                </a:lnTo>
                <a:lnTo>
                  <a:pt x="209639" y="684784"/>
                </a:lnTo>
                <a:lnTo>
                  <a:pt x="202786" y="672745"/>
                </a:lnTo>
                <a:lnTo>
                  <a:pt x="200658" y="675804"/>
                </a:lnTo>
                <a:lnTo>
                  <a:pt x="193805" y="663766"/>
                </a:lnTo>
                <a:lnTo>
                  <a:pt x="191678" y="666823"/>
                </a:lnTo>
                <a:lnTo>
                  <a:pt x="184825" y="654785"/>
                </a:lnTo>
                <a:lnTo>
                  <a:pt x="182698" y="657843"/>
                </a:lnTo>
                <a:lnTo>
                  <a:pt x="175845" y="645805"/>
                </a:lnTo>
                <a:lnTo>
                  <a:pt x="173718" y="648863"/>
                </a:lnTo>
                <a:lnTo>
                  <a:pt x="166865" y="636824"/>
                </a:lnTo>
                <a:lnTo>
                  <a:pt x="164737" y="639883"/>
                </a:lnTo>
                <a:lnTo>
                  <a:pt x="157884" y="627845"/>
                </a:lnTo>
                <a:lnTo>
                  <a:pt x="155757" y="630902"/>
                </a:lnTo>
                <a:lnTo>
                  <a:pt x="148904" y="618864"/>
                </a:lnTo>
                <a:lnTo>
                  <a:pt x="146777" y="621922"/>
                </a:lnTo>
                <a:lnTo>
                  <a:pt x="139924" y="609884"/>
                </a:lnTo>
                <a:lnTo>
                  <a:pt x="137797" y="612942"/>
                </a:lnTo>
                <a:lnTo>
                  <a:pt x="130944" y="600903"/>
                </a:lnTo>
                <a:lnTo>
                  <a:pt x="128816" y="603962"/>
                </a:lnTo>
                <a:lnTo>
                  <a:pt x="121963" y="591924"/>
                </a:lnTo>
                <a:lnTo>
                  <a:pt x="119836" y="594981"/>
                </a:lnTo>
                <a:lnTo>
                  <a:pt x="112983" y="582943"/>
                </a:lnTo>
                <a:lnTo>
                  <a:pt x="110856" y="586001"/>
                </a:lnTo>
                <a:lnTo>
                  <a:pt x="104003" y="573963"/>
                </a:lnTo>
                <a:lnTo>
                  <a:pt x="101876" y="577021"/>
                </a:lnTo>
                <a:lnTo>
                  <a:pt x="95023" y="564983"/>
                </a:lnTo>
                <a:lnTo>
                  <a:pt x="92896" y="568041"/>
                </a:lnTo>
                <a:lnTo>
                  <a:pt x="86043" y="556002"/>
                </a:lnTo>
                <a:lnTo>
                  <a:pt x="83915" y="559060"/>
                </a:lnTo>
                <a:lnTo>
                  <a:pt x="77062" y="547022"/>
                </a:lnTo>
                <a:lnTo>
                  <a:pt x="74935" y="550080"/>
                </a:lnTo>
                <a:lnTo>
                  <a:pt x="68082" y="538042"/>
                </a:lnTo>
                <a:lnTo>
                  <a:pt x="65955" y="541100"/>
                </a:lnTo>
                <a:lnTo>
                  <a:pt x="59102" y="529062"/>
                </a:lnTo>
                <a:lnTo>
                  <a:pt x="56975" y="532120"/>
                </a:lnTo>
                <a:lnTo>
                  <a:pt x="50122" y="520081"/>
                </a:lnTo>
                <a:lnTo>
                  <a:pt x="47994" y="523139"/>
                </a:lnTo>
                <a:lnTo>
                  <a:pt x="45146" y="518137"/>
                </a:lnTo>
                <a:lnTo>
                  <a:pt x="44053" y="519708"/>
                </a:lnTo>
                <a:cubicBezTo>
                  <a:pt x="31353" y="494307"/>
                  <a:pt x="16669" y="468511"/>
                  <a:pt x="0" y="442317"/>
                </a:cubicBezTo>
                <a:cubicBezTo>
                  <a:pt x="37108" y="400645"/>
                  <a:pt x="67270" y="356890"/>
                  <a:pt x="90488" y="311050"/>
                </a:cubicBezTo>
                <a:cubicBezTo>
                  <a:pt x="66080" y="263425"/>
                  <a:pt x="39688" y="213717"/>
                  <a:pt x="11311" y="161925"/>
                </a:cubicBezTo>
                <a:lnTo>
                  <a:pt x="54938" y="141150"/>
                </a:lnTo>
                <a:lnTo>
                  <a:pt x="53554" y="141150"/>
                </a:lnTo>
                <a:lnTo>
                  <a:pt x="53554" y="132170"/>
                </a:lnTo>
                <a:lnTo>
                  <a:pt x="44574" y="132170"/>
                </a:lnTo>
                <a:lnTo>
                  <a:pt x="44574" y="123190"/>
                </a:lnTo>
                <a:lnTo>
                  <a:pt x="35594" y="123190"/>
                </a:lnTo>
                <a:lnTo>
                  <a:pt x="35594" y="114210"/>
                </a:lnTo>
                <a:lnTo>
                  <a:pt x="26614" y="114210"/>
                </a:lnTo>
                <a:lnTo>
                  <a:pt x="26614" y="105229"/>
                </a:lnTo>
                <a:lnTo>
                  <a:pt x="17633" y="105229"/>
                </a:lnTo>
                <a:lnTo>
                  <a:pt x="17633" y="101798"/>
                </a:lnTo>
                <a:lnTo>
                  <a:pt x="13692" y="101798"/>
                </a:lnTo>
                <a:lnTo>
                  <a:pt x="13692" y="26789"/>
                </a:lnTo>
                <a:lnTo>
                  <a:pt x="225624" y="26789"/>
                </a:lnTo>
                <a:lnTo>
                  <a:pt x="225246" y="30220"/>
                </a:lnTo>
                <a:lnTo>
                  <a:pt x="229565" y="30220"/>
                </a:lnTo>
                <a:lnTo>
                  <a:pt x="228575" y="39201"/>
                </a:lnTo>
                <a:lnTo>
                  <a:pt x="238546" y="39201"/>
                </a:lnTo>
                <a:lnTo>
                  <a:pt x="237556" y="48181"/>
                </a:lnTo>
                <a:lnTo>
                  <a:pt x="244674" y="48181"/>
                </a:lnTo>
                <a:close/>
              </a:path>
            </a:pathLst>
          </a:custGeom>
          <a:gradFill rotWithShape="0">
            <a:gsLst>
              <a:gs pos="0">
                <a:srgbClr val="a9d18e">
                  <a:alpha val="53333"/>
                </a:srgbClr>
              </a:gs>
              <a:gs pos="100000">
                <a:srgbClr val="70ad47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6" name="任意多边形 11"/>
          <p:cNvSpPr/>
          <p:nvPr/>
        </p:nvSpPr>
        <p:spPr>
          <a:xfrm>
            <a:off x="4591080" y="2994120"/>
            <a:ext cx="1590480" cy="1590480"/>
          </a:xfrm>
          <a:custGeom>
            <a:avLst/>
            <a:gdLst/>
            <a:ahLst/>
            <a:rect l="l" t="t" r="r" b="b"/>
            <a:pathLst>
              <a:path w="1533844" h="1533842">
                <a:moveTo>
                  <a:pt x="766921" y="180973"/>
                </a:moveTo>
                <a:cubicBezTo>
                  <a:pt x="443311" y="180973"/>
                  <a:pt x="180974" y="443310"/>
                  <a:pt x="180974" y="766920"/>
                </a:cubicBezTo>
                <a:cubicBezTo>
                  <a:pt x="180974" y="1090530"/>
                  <a:pt x="443311" y="1352867"/>
                  <a:pt x="766921" y="1352867"/>
                </a:cubicBezTo>
                <a:cubicBezTo>
                  <a:pt x="1090531" y="1352867"/>
                  <a:pt x="1352868" y="1090530"/>
                  <a:pt x="1352868" y="766920"/>
                </a:cubicBezTo>
                <a:cubicBezTo>
                  <a:pt x="1352868" y="443310"/>
                  <a:pt x="1090531" y="180973"/>
                  <a:pt x="766921" y="180973"/>
                </a:cubicBezTo>
                <a:close/>
                <a:moveTo>
                  <a:pt x="766922" y="0"/>
                </a:moveTo>
                <a:cubicBezTo>
                  <a:pt x="1190481" y="0"/>
                  <a:pt x="1533844" y="343362"/>
                  <a:pt x="1533844" y="766921"/>
                </a:cubicBezTo>
                <a:cubicBezTo>
                  <a:pt x="1533844" y="1190480"/>
                  <a:pt x="1190481" y="1533842"/>
                  <a:pt x="766922" y="1533842"/>
                </a:cubicBezTo>
                <a:cubicBezTo>
                  <a:pt x="343363" y="1533842"/>
                  <a:pt x="0" y="1190480"/>
                  <a:pt x="0" y="766921"/>
                </a:cubicBezTo>
                <a:cubicBezTo>
                  <a:pt x="0" y="343362"/>
                  <a:pt x="343363" y="0"/>
                  <a:pt x="766922" y="0"/>
                </a:cubicBezTo>
                <a:close/>
              </a:path>
            </a:pathLst>
          </a:custGeom>
          <a:solidFill>
            <a:srgbClr val="db00bd"/>
          </a:solidFill>
          <a:ln w="0">
            <a:noFill/>
          </a:ln>
          <a:effectLst>
            <a:outerShdw dist="38183" dir="2700000" blurRad="0" rotWithShape="0">
              <a:srgbClr val="48620a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7" name="椭圆 22"/>
          <p:cNvSpPr/>
          <p:nvPr/>
        </p:nvSpPr>
        <p:spPr>
          <a:xfrm>
            <a:off x="4676760" y="3079800"/>
            <a:ext cx="1405080" cy="140328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8" name="文本框 23"/>
          <p:cNvSpPr/>
          <p:nvPr/>
        </p:nvSpPr>
        <p:spPr>
          <a:xfrm>
            <a:off x="6673680" y="3440160"/>
            <a:ext cx="1121040" cy="1103400"/>
          </a:xfrm>
          <a:custGeom>
            <a:avLst/>
            <a:gdLst/>
            <a:ahLst/>
            <a:rect l="l" t="t" r="r" b="b"/>
            <a:pathLst>
              <a:path w="970228" h="955344">
                <a:moveTo>
                  <a:pt x="547092" y="0"/>
                </a:moveTo>
                <a:lnTo>
                  <a:pt x="549460" y="11951"/>
                </a:lnTo>
                <a:lnTo>
                  <a:pt x="553392" y="11758"/>
                </a:lnTo>
                <a:lnTo>
                  <a:pt x="555241" y="21089"/>
                </a:lnTo>
                <a:lnTo>
                  <a:pt x="562372" y="20739"/>
                </a:lnTo>
                <a:lnTo>
                  <a:pt x="564221" y="30069"/>
                </a:lnTo>
                <a:lnTo>
                  <a:pt x="571353" y="29719"/>
                </a:lnTo>
                <a:lnTo>
                  <a:pt x="573202" y="39049"/>
                </a:lnTo>
                <a:lnTo>
                  <a:pt x="580333" y="38699"/>
                </a:lnTo>
                <a:lnTo>
                  <a:pt x="582182" y="48029"/>
                </a:lnTo>
                <a:lnTo>
                  <a:pt x="589313" y="47679"/>
                </a:lnTo>
                <a:lnTo>
                  <a:pt x="591162" y="57009"/>
                </a:lnTo>
                <a:lnTo>
                  <a:pt x="598293" y="56659"/>
                </a:lnTo>
                <a:lnTo>
                  <a:pt x="600142" y="65990"/>
                </a:lnTo>
                <a:lnTo>
                  <a:pt x="607274" y="65640"/>
                </a:lnTo>
                <a:lnTo>
                  <a:pt x="609123" y="74970"/>
                </a:lnTo>
                <a:lnTo>
                  <a:pt x="616254" y="74620"/>
                </a:lnTo>
                <a:lnTo>
                  <a:pt x="618103" y="83950"/>
                </a:lnTo>
                <a:lnTo>
                  <a:pt x="625234" y="83600"/>
                </a:lnTo>
                <a:lnTo>
                  <a:pt x="627083" y="92931"/>
                </a:lnTo>
                <a:lnTo>
                  <a:pt x="634214" y="92581"/>
                </a:lnTo>
                <a:lnTo>
                  <a:pt x="636063" y="101911"/>
                </a:lnTo>
                <a:lnTo>
                  <a:pt x="643195" y="101561"/>
                </a:lnTo>
                <a:lnTo>
                  <a:pt x="645044" y="110891"/>
                </a:lnTo>
                <a:lnTo>
                  <a:pt x="652175" y="110541"/>
                </a:lnTo>
                <a:lnTo>
                  <a:pt x="654024" y="119871"/>
                </a:lnTo>
                <a:lnTo>
                  <a:pt x="661155" y="119521"/>
                </a:lnTo>
                <a:lnTo>
                  <a:pt x="663004" y="128852"/>
                </a:lnTo>
                <a:lnTo>
                  <a:pt x="670135" y="128502"/>
                </a:lnTo>
                <a:lnTo>
                  <a:pt x="671984" y="137832"/>
                </a:lnTo>
                <a:lnTo>
                  <a:pt x="679116" y="137482"/>
                </a:lnTo>
                <a:lnTo>
                  <a:pt x="680965" y="146812"/>
                </a:lnTo>
                <a:lnTo>
                  <a:pt x="688096" y="146462"/>
                </a:lnTo>
                <a:lnTo>
                  <a:pt x="689945" y="155792"/>
                </a:lnTo>
                <a:lnTo>
                  <a:pt x="697076" y="155442"/>
                </a:lnTo>
                <a:lnTo>
                  <a:pt x="698925" y="164773"/>
                </a:lnTo>
                <a:lnTo>
                  <a:pt x="706056" y="164423"/>
                </a:lnTo>
                <a:lnTo>
                  <a:pt x="707905" y="173753"/>
                </a:lnTo>
                <a:lnTo>
                  <a:pt x="715037" y="173403"/>
                </a:lnTo>
                <a:lnTo>
                  <a:pt x="716886" y="182733"/>
                </a:lnTo>
                <a:lnTo>
                  <a:pt x="724017" y="182383"/>
                </a:lnTo>
                <a:lnTo>
                  <a:pt x="725866" y="191713"/>
                </a:lnTo>
                <a:lnTo>
                  <a:pt x="732997" y="191363"/>
                </a:lnTo>
                <a:lnTo>
                  <a:pt x="734846" y="200694"/>
                </a:lnTo>
                <a:lnTo>
                  <a:pt x="741977" y="200344"/>
                </a:lnTo>
                <a:lnTo>
                  <a:pt x="743826" y="209674"/>
                </a:lnTo>
                <a:lnTo>
                  <a:pt x="750958" y="209324"/>
                </a:lnTo>
                <a:lnTo>
                  <a:pt x="752807" y="218654"/>
                </a:lnTo>
                <a:lnTo>
                  <a:pt x="759938" y="218304"/>
                </a:lnTo>
                <a:lnTo>
                  <a:pt x="761787" y="227634"/>
                </a:lnTo>
                <a:lnTo>
                  <a:pt x="768918" y="227284"/>
                </a:lnTo>
                <a:lnTo>
                  <a:pt x="770767" y="236615"/>
                </a:lnTo>
                <a:lnTo>
                  <a:pt x="774310" y="236441"/>
                </a:lnTo>
                <a:lnTo>
                  <a:pt x="775989" y="234763"/>
                </a:lnTo>
                <a:lnTo>
                  <a:pt x="777510" y="236284"/>
                </a:lnTo>
                <a:lnTo>
                  <a:pt x="777899" y="236265"/>
                </a:lnTo>
                <a:lnTo>
                  <a:pt x="778000" y="236774"/>
                </a:lnTo>
                <a:lnTo>
                  <a:pt x="786490" y="245264"/>
                </a:lnTo>
                <a:lnTo>
                  <a:pt x="786879" y="245245"/>
                </a:lnTo>
                <a:lnTo>
                  <a:pt x="786980" y="245754"/>
                </a:lnTo>
                <a:lnTo>
                  <a:pt x="795470" y="254244"/>
                </a:lnTo>
                <a:lnTo>
                  <a:pt x="795859" y="254225"/>
                </a:lnTo>
                <a:lnTo>
                  <a:pt x="795960" y="254734"/>
                </a:lnTo>
                <a:lnTo>
                  <a:pt x="804450" y="263224"/>
                </a:lnTo>
                <a:lnTo>
                  <a:pt x="804840" y="263205"/>
                </a:lnTo>
                <a:lnTo>
                  <a:pt x="804941" y="263715"/>
                </a:lnTo>
                <a:lnTo>
                  <a:pt x="970228" y="429003"/>
                </a:lnTo>
                <a:lnTo>
                  <a:pt x="969583" y="435405"/>
                </a:lnTo>
                <a:cubicBezTo>
                  <a:pt x="923666" y="659797"/>
                  <a:pt x="768731" y="844477"/>
                  <a:pt x="562535" y="931691"/>
                </a:cubicBezTo>
                <a:lnTo>
                  <a:pt x="486336" y="955344"/>
                </a:lnTo>
                <a:lnTo>
                  <a:pt x="368078" y="837086"/>
                </a:lnTo>
                <a:lnTo>
                  <a:pt x="363118" y="837086"/>
                </a:lnTo>
                <a:lnTo>
                  <a:pt x="363118" y="832126"/>
                </a:lnTo>
                <a:lnTo>
                  <a:pt x="359098" y="828106"/>
                </a:lnTo>
                <a:lnTo>
                  <a:pt x="354137" y="828106"/>
                </a:lnTo>
                <a:lnTo>
                  <a:pt x="354137" y="823145"/>
                </a:lnTo>
                <a:lnTo>
                  <a:pt x="350118" y="819126"/>
                </a:lnTo>
                <a:lnTo>
                  <a:pt x="345157" y="819126"/>
                </a:lnTo>
                <a:lnTo>
                  <a:pt x="345157" y="814165"/>
                </a:lnTo>
                <a:lnTo>
                  <a:pt x="341138" y="810146"/>
                </a:lnTo>
                <a:lnTo>
                  <a:pt x="336177" y="810146"/>
                </a:lnTo>
                <a:lnTo>
                  <a:pt x="336177" y="805185"/>
                </a:lnTo>
                <a:lnTo>
                  <a:pt x="332157" y="801165"/>
                </a:lnTo>
                <a:lnTo>
                  <a:pt x="327196" y="801165"/>
                </a:lnTo>
                <a:lnTo>
                  <a:pt x="327196" y="796204"/>
                </a:lnTo>
                <a:lnTo>
                  <a:pt x="323177" y="792185"/>
                </a:lnTo>
                <a:lnTo>
                  <a:pt x="318216" y="792185"/>
                </a:lnTo>
                <a:lnTo>
                  <a:pt x="318216" y="787224"/>
                </a:lnTo>
                <a:lnTo>
                  <a:pt x="314197" y="783205"/>
                </a:lnTo>
                <a:lnTo>
                  <a:pt x="309236" y="783205"/>
                </a:lnTo>
                <a:lnTo>
                  <a:pt x="309236" y="778244"/>
                </a:lnTo>
                <a:lnTo>
                  <a:pt x="305217" y="774225"/>
                </a:lnTo>
                <a:lnTo>
                  <a:pt x="300255" y="774225"/>
                </a:lnTo>
                <a:lnTo>
                  <a:pt x="300255" y="769263"/>
                </a:lnTo>
                <a:lnTo>
                  <a:pt x="296236" y="765244"/>
                </a:lnTo>
                <a:lnTo>
                  <a:pt x="291275" y="765244"/>
                </a:lnTo>
                <a:lnTo>
                  <a:pt x="291275" y="760283"/>
                </a:lnTo>
                <a:lnTo>
                  <a:pt x="287256" y="756264"/>
                </a:lnTo>
                <a:lnTo>
                  <a:pt x="282295" y="756264"/>
                </a:lnTo>
                <a:lnTo>
                  <a:pt x="282295" y="751303"/>
                </a:lnTo>
                <a:lnTo>
                  <a:pt x="278276" y="747284"/>
                </a:lnTo>
                <a:lnTo>
                  <a:pt x="273315" y="747284"/>
                </a:lnTo>
                <a:lnTo>
                  <a:pt x="273315" y="742323"/>
                </a:lnTo>
                <a:lnTo>
                  <a:pt x="270872" y="739879"/>
                </a:lnTo>
                <a:lnTo>
                  <a:pt x="272447" y="738304"/>
                </a:lnTo>
                <a:lnTo>
                  <a:pt x="264334" y="738304"/>
                </a:lnTo>
                <a:lnTo>
                  <a:pt x="264334" y="729323"/>
                </a:lnTo>
                <a:lnTo>
                  <a:pt x="255354" y="729323"/>
                </a:lnTo>
                <a:lnTo>
                  <a:pt x="255354" y="720343"/>
                </a:lnTo>
                <a:lnTo>
                  <a:pt x="246374" y="720343"/>
                </a:lnTo>
                <a:lnTo>
                  <a:pt x="246374" y="711363"/>
                </a:lnTo>
                <a:lnTo>
                  <a:pt x="237394" y="711363"/>
                </a:lnTo>
                <a:lnTo>
                  <a:pt x="237394" y="702383"/>
                </a:lnTo>
                <a:lnTo>
                  <a:pt x="228413" y="702383"/>
                </a:lnTo>
                <a:lnTo>
                  <a:pt x="228413" y="693402"/>
                </a:lnTo>
                <a:lnTo>
                  <a:pt x="219433" y="693402"/>
                </a:lnTo>
                <a:lnTo>
                  <a:pt x="219433" y="684422"/>
                </a:lnTo>
                <a:lnTo>
                  <a:pt x="210453" y="684422"/>
                </a:lnTo>
                <a:lnTo>
                  <a:pt x="210453" y="675442"/>
                </a:lnTo>
                <a:lnTo>
                  <a:pt x="201473" y="675442"/>
                </a:lnTo>
                <a:lnTo>
                  <a:pt x="201473" y="666462"/>
                </a:lnTo>
                <a:lnTo>
                  <a:pt x="192492" y="666462"/>
                </a:lnTo>
                <a:lnTo>
                  <a:pt x="192492" y="657481"/>
                </a:lnTo>
                <a:lnTo>
                  <a:pt x="183512" y="657481"/>
                </a:lnTo>
                <a:lnTo>
                  <a:pt x="183512" y="648501"/>
                </a:lnTo>
                <a:lnTo>
                  <a:pt x="174532" y="648501"/>
                </a:lnTo>
                <a:lnTo>
                  <a:pt x="174532" y="639521"/>
                </a:lnTo>
                <a:lnTo>
                  <a:pt x="165552" y="639521"/>
                </a:lnTo>
                <a:lnTo>
                  <a:pt x="165552" y="630540"/>
                </a:lnTo>
                <a:lnTo>
                  <a:pt x="156571" y="630540"/>
                </a:lnTo>
                <a:lnTo>
                  <a:pt x="156571" y="621560"/>
                </a:lnTo>
                <a:lnTo>
                  <a:pt x="147591" y="621560"/>
                </a:lnTo>
                <a:lnTo>
                  <a:pt x="147591" y="612580"/>
                </a:lnTo>
                <a:lnTo>
                  <a:pt x="138611" y="612580"/>
                </a:lnTo>
                <a:lnTo>
                  <a:pt x="138611" y="603600"/>
                </a:lnTo>
                <a:lnTo>
                  <a:pt x="129631" y="603600"/>
                </a:lnTo>
                <a:lnTo>
                  <a:pt x="129631" y="594620"/>
                </a:lnTo>
                <a:lnTo>
                  <a:pt x="120650" y="594620"/>
                </a:lnTo>
                <a:lnTo>
                  <a:pt x="120650" y="585639"/>
                </a:lnTo>
                <a:lnTo>
                  <a:pt x="111670" y="585639"/>
                </a:lnTo>
                <a:lnTo>
                  <a:pt x="111670" y="573881"/>
                </a:lnTo>
                <a:lnTo>
                  <a:pt x="105370" y="573881"/>
                </a:lnTo>
                <a:lnTo>
                  <a:pt x="105370" y="517640"/>
                </a:lnTo>
                <a:lnTo>
                  <a:pt x="101904" y="520509"/>
                </a:lnTo>
                <a:lnTo>
                  <a:pt x="97190" y="507997"/>
                </a:lnTo>
                <a:lnTo>
                  <a:pt x="92924" y="511529"/>
                </a:lnTo>
                <a:lnTo>
                  <a:pt x="88210" y="499015"/>
                </a:lnTo>
                <a:lnTo>
                  <a:pt x="83943" y="502548"/>
                </a:lnTo>
                <a:lnTo>
                  <a:pt x="79229" y="490036"/>
                </a:lnTo>
                <a:lnTo>
                  <a:pt x="74963" y="493568"/>
                </a:lnTo>
                <a:lnTo>
                  <a:pt x="70249" y="481056"/>
                </a:lnTo>
                <a:lnTo>
                  <a:pt x="65983" y="484588"/>
                </a:lnTo>
                <a:lnTo>
                  <a:pt x="61269" y="472076"/>
                </a:lnTo>
                <a:lnTo>
                  <a:pt x="57003" y="475608"/>
                </a:lnTo>
                <a:lnTo>
                  <a:pt x="52289" y="463095"/>
                </a:lnTo>
                <a:lnTo>
                  <a:pt x="48022" y="466628"/>
                </a:lnTo>
                <a:lnTo>
                  <a:pt x="43308" y="454115"/>
                </a:lnTo>
                <a:lnTo>
                  <a:pt x="39042" y="457647"/>
                </a:lnTo>
                <a:lnTo>
                  <a:pt x="34168" y="444709"/>
                </a:lnTo>
                <a:lnTo>
                  <a:pt x="32742" y="445889"/>
                </a:lnTo>
                <a:cubicBezTo>
                  <a:pt x="23217" y="415329"/>
                  <a:pt x="12303" y="386357"/>
                  <a:pt x="0" y="358973"/>
                </a:cubicBezTo>
                <a:lnTo>
                  <a:pt x="70948" y="308060"/>
                </a:lnTo>
                <a:lnTo>
                  <a:pt x="70948" y="302574"/>
                </a:lnTo>
                <a:lnTo>
                  <a:pt x="61968" y="302574"/>
                </a:lnTo>
                <a:lnTo>
                  <a:pt x="61968" y="293593"/>
                </a:lnTo>
                <a:lnTo>
                  <a:pt x="52987" y="293593"/>
                </a:lnTo>
                <a:lnTo>
                  <a:pt x="52987" y="284613"/>
                </a:lnTo>
                <a:lnTo>
                  <a:pt x="44007" y="284613"/>
                </a:lnTo>
                <a:lnTo>
                  <a:pt x="44007" y="275633"/>
                </a:lnTo>
                <a:lnTo>
                  <a:pt x="35027" y="275633"/>
                </a:lnTo>
                <a:lnTo>
                  <a:pt x="35027" y="266653"/>
                </a:lnTo>
                <a:lnTo>
                  <a:pt x="26047" y="266653"/>
                </a:lnTo>
                <a:lnTo>
                  <a:pt x="26047" y="257673"/>
                </a:lnTo>
                <a:lnTo>
                  <a:pt x="17066" y="257673"/>
                </a:lnTo>
                <a:lnTo>
                  <a:pt x="17066" y="248692"/>
                </a:lnTo>
                <a:lnTo>
                  <a:pt x="8086" y="248692"/>
                </a:lnTo>
                <a:lnTo>
                  <a:pt x="8086" y="236934"/>
                </a:lnTo>
                <a:lnTo>
                  <a:pt x="1786" y="236934"/>
                </a:lnTo>
                <a:lnTo>
                  <a:pt x="1786" y="182761"/>
                </a:lnTo>
                <a:lnTo>
                  <a:pt x="80270" y="182761"/>
                </a:lnTo>
                <a:lnTo>
                  <a:pt x="80270" y="182119"/>
                </a:lnTo>
                <a:lnTo>
                  <a:pt x="71290" y="182119"/>
                </a:lnTo>
                <a:lnTo>
                  <a:pt x="71290" y="173139"/>
                </a:lnTo>
                <a:lnTo>
                  <a:pt x="62309" y="173139"/>
                </a:lnTo>
                <a:lnTo>
                  <a:pt x="62309" y="164158"/>
                </a:lnTo>
                <a:lnTo>
                  <a:pt x="53329" y="164158"/>
                </a:lnTo>
                <a:lnTo>
                  <a:pt x="53329" y="152400"/>
                </a:lnTo>
                <a:lnTo>
                  <a:pt x="47029" y="152400"/>
                </a:lnTo>
                <a:lnTo>
                  <a:pt x="47029" y="101203"/>
                </a:lnTo>
                <a:lnTo>
                  <a:pt x="64960" y="101203"/>
                </a:lnTo>
                <a:lnTo>
                  <a:pt x="64562" y="98546"/>
                </a:lnTo>
                <a:lnTo>
                  <a:pt x="56951" y="98725"/>
                </a:lnTo>
                <a:lnTo>
                  <a:pt x="55581" y="89565"/>
                </a:lnTo>
                <a:lnTo>
                  <a:pt x="47971" y="89744"/>
                </a:lnTo>
                <a:lnTo>
                  <a:pt x="46197" y="77879"/>
                </a:lnTo>
                <a:lnTo>
                  <a:pt x="41671" y="77986"/>
                </a:lnTo>
                <a:cubicBezTo>
                  <a:pt x="39290" y="55364"/>
                  <a:pt x="36115" y="34131"/>
                  <a:pt x="32146" y="14287"/>
                </a:cubicBezTo>
                <a:cubicBezTo>
                  <a:pt x="230584" y="13097"/>
                  <a:pt x="402232" y="8334"/>
                  <a:pt x="547092" y="0"/>
                </a:cubicBezTo>
                <a:close/>
              </a:path>
            </a:pathLst>
          </a:custGeom>
          <a:gradFill rotWithShape="0">
            <a:gsLst>
              <a:gs pos="0">
                <a:srgbClr val="a9d18e">
                  <a:alpha val="53333"/>
                </a:srgbClr>
              </a:gs>
              <a:gs pos="100000">
                <a:srgbClr val="70ad47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9" name="任意多边形 15"/>
          <p:cNvSpPr/>
          <p:nvPr/>
        </p:nvSpPr>
        <p:spPr>
          <a:xfrm>
            <a:off x="6218280" y="2994120"/>
            <a:ext cx="1590480" cy="1590480"/>
          </a:xfrm>
          <a:custGeom>
            <a:avLst/>
            <a:gdLst/>
            <a:ahLst/>
            <a:rect l="l" t="t" r="r" b="b"/>
            <a:pathLst>
              <a:path w="1533844" h="1533842">
                <a:moveTo>
                  <a:pt x="766921" y="180973"/>
                </a:moveTo>
                <a:cubicBezTo>
                  <a:pt x="443311" y="180973"/>
                  <a:pt x="180974" y="443310"/>
                  <a:pt x="180974" y="766920"/>
                </a:cubicBezTo>
                <a:cubicBezTo>
                  <a:pt x="180974" y="1090530"/>
                  <a:pt x="443311" y="1352867"/>
                  <a:pt x="766921" y="1352867"/>
                </a:cubicBezTo>
                <a:cubicBezTo>
                  <a:pt x="1090531" y="1352867"/>
                  <a:pt x="1352868" y="1090530"/>
                  <a:pt x="1352868" y="766920"/>
                </a:cubicBezTo>
                <a:cubicBezTo>
                  <a:pt x="1352868" y="443310"/>
                  <a:pt x="1090531" y="180973"/>
                  <a:pt x="766921" y="180973"/>
                </a:cubicBezTo>
                <a:close/>
                <a:moveTo>
                  <a:pt x="766922" y="0"/>
                </a:moveTo>
                <a:cubicBezTo>
                  <a:pt x="1190481" y="0"/>
                  <a:pt x="1533844" y="343362"/>
                  <a:pt x="1533844" y="766921"/>
                </a:cubicBezTo>
                <a:cubicBezTo>
                  <a:pt x="1533844" y="1190480"/>
                  <a:pt x="1190481" y="1533842"/>
                  <a:pt x="766922" y="1533842"/>
                </a:cubicBezTo>
                <a:cubicBezTo>
                  <a:pt x="343363" y="1533842"/>
                  <a:pt x="0" y="1190480"/>
                  <a:pt x="0" y="766921"/>
                </a:cubicBezTo>
                <a:cubicBezTo>
                  <a:pt x="0" y="343362"/>
                  <a:pt x="343363" y="0"/>
                  <a:pt x="766922" y="0"/>
                </a:cubicBezTo>
                <a:close/>
              </a:path>
            </a:pathLst>
          </a:custGeom>
          <a:solidFill>
            <a:srgbClr val="db00bd"/>
          </a:solidFill>
          <a:ln w="0">
            <a:noFill/>
          </a:ln>
          <a:effectLst>
            <a:outerShdw dist="38183" dir="2700000" blurRad="0" rotWithShape="0">
              <a:srgbClr val="48620a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椭圆 25"/>
          <p:cNvSpPr/>
          <p:nvPr/>
        </p:nvSpPr>
        <p:spPr>
          <a:xfrm>
            <a:off x="6311880" y="3079800"/>
            <a:ext cx="1403280" cy="140328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1" name="任意多边形 17"/>
          <p:cNvSpPr/>
          <p:nvPr/>
        </p:nvSpPr>
        <p:spPr>
          <a:xfrm>
            <a:off x="1785960" y="3465360"/>
            <a:ext cx="1120680" cy="1121040"/>
          </a:xfrm>
          <a:custGeom>
            <a:avLst/>
            <a:gdLst/>
            <a:ahLst/>
            <a:rect l="l" t="t" r="r" b="b"/>
            <a:pathLst>
              <a:path w="970530" h="968938">
                <a:moveTo>
                  <a:pt x="157193" y="238654"/>
                </a:moveTo>
                <a:lnTo>
                  <a:pt x="154926" y="240047"/>
                </a:lnTo>
                <a:lnTo>
                  <a:pt x="158049" y="240047"/>
                </a:lnTo>
                <a:close/>
                <a:moveTo>
                  <a:pt x="152692" y="236963"/>
                </a:moveTo>
                <a:lnTo>
                  <a:pt x="152692" y="240047"/>
                </a:lnTo>
                <a:lnTo>
                  <a:pt x="154587" y="240047"/>
                </a:lnTo>
                <a:close/>
                <a:moveTo>
                  <a:pt x="148213" y="229675"/>
                </a:moveTo>
                <a:lnTo>
                  <a:pt x="145947" y="231066"/>
                </a:lnTo>
                <a:lnTo>
                  <a:pt x="149068" y="231066"/>
                </a:lnTo>
                <a:close/>
                <a:moveTo>
                  <a:pt x="143712" y="227983"/>
                </a:moveTo>
                <a:lnTo>
                  <a:pt x="143712" y="231066"/>
                </a:lnTo>
                <a:lnTo>
                  <a:pt x="145606" y="231066"/>
                </a:lnTo>
                <a:close/>
                <a:moveTo>
                  <a:pt x="139233" y="220695"/>
                </a:moveTo>
                <a:lnTo>
                  <a:pt x="136967" y="222086"/>
                </a:lnTo>
                <a:lnTo>
                  <a:pt x="140088" y="222086"/>
                </a:lnTo>
                <a:close/>
                <a:moveTo>
                  <a:pt x="134732" y="219003"/>
                </a:moveTo>
                <a:lnTo>
                  <a:pt x="134732" y="222086"/>
                </a:lnTo>
                <a:lnTo>
                  <a:pt x="136626" y="222086"/>
                </a:lnTo>
                <a:close/>
                <a:moveTo>
                  <a:pt x="130253" y="211715"/>
                </a:moveTo>
                <a:lnTo>
                  <a:pt x="127987" y="213106"/>
                </a:lnTo>
                <a:lnTo>
                  <a:pt x="131108" y="213106"/>
                </a:lnTo>
                <a:close/>
                <a:moveTo>
                  <a:pt x="125752" y="210023"/>
                </a:moveTo>
                <a:lnTo>
                  <a:pt x="125752" y="213106"/>
                </a:lnTo>
                <a:lnTo>
                  <a:pt x="127646" y="213106"/>
                </a:lnTo>
                <a:close/>
                <a:moveTo>
                  <a:pt x="121272" y="202733"/>
                </a:moveTo>
                <a:lnTo>
                  <a:pt x="119005" y="204126"/>
                </a:lnTo>
                <a:lnTo>
                  <a:pt x="122128" y="204126"/>
                </a:lnTo>
                <a:close/>
                <a:moveTo>
                  <a:pt x="116771" y="201042"/>
                </a:moveTo>
                <a:lnTo>
                  <a:pt x="116771" y="204126"/>
                </a:lnTo>
                <a:lnTo>
                  <a:pt x="118666" y="204126"/>
                </a:lnTo>
                <a:close/>
                <a:moveTo>
                  <a:pt x="112292" y="193754"/>
                </a:moveTo>
                <a:lnTo>
                  <a:pt x="111919" y="193983"/>
                </a:lnTo>
                <a:lnTo>
                  <a:pt x="111919" y="195145"/>
                </a:lnTo>
                <a:lnTo>
                  <a:pt x="113147" y="195145"/>
                </a:lnTo>
                <a:close/>
                <a:moveTo>
                  <a:pt x="233958" y="0"/>
                </a:moveTo>
                <a:lnTo>
                  <a:pt x="320874" y="8930"/>
                </a:lnTo>
                <a:lnTo>
                  <a:pt x="315034" y="21406"/>
                </a:lnTo>
                <a:lnTo>
                  <a:pt x="325726" y="22505"/>
                </a:lnTo>
                <a:lnTo>
                  <a:pt x="322127" y="30193"/>
                </a:lnTo>
                <a:lnTo>
                  <a:pt x="334707" y="31486"/>
                </a:lnTo>
                <a:lnTo>
                  <a:pt x="331109" y="39174"/>
                </a:lnTo>
                <a:lnTo>
                  <a:pt x="343687" y="40466"/>
                </a:lnTo>
                <a:lnTo>
                  <a:pt x="340089" y="48154"/>
                </a:lnTo>
                <a:lnTo>
                  <a:pt x="352667" y="49446"/>
                </a:lnTo>
                <a:lnTo>
                  <a:pt x="349069" y="57134"/>
                </a:lnTo>
                <a:lnTo>
                  <a:pt x="361647" y="58426"/>
                </a:lnTo>
                <a:lnTo>
                  <a:pt x="358622" y="64889"/>
                </a:lnTo>
                <a:lnTo>
                  <a:pt x="370285" y="64889"/>
                </a:lnTo>
                <a:lnTo>
                  <a:pt x="370285" y="67372"/>
                </a:lnTo>
                <a:lnTo>
                  <a:pt x="370628" y="67407"/>
                </a:lnTo>
                <a:lnTo>
                  <a:pt x="370285" y="68140"/>
                </a:lnTo>
                <a:lnTo>
                  <a:pt x="370285" y="75429"/>
                </a:lnTo>
                <a:lnTo>
                  <a:pt x="379608" y="76387"/>
                </a:lnTo>
                <a:lnTo>
                  <a:pt x="376010" y="84075"/>
                </a:lnTo>
                <a:lnTo>
                  <a:pt x="388588" y="85367"/>
                </a:lnTo>
                <a:lnTo>
                  <a:pt x="384990" y="93055"/>
                </a:lnTo>
                <a:lnTo>
                  <a:pt x="397568" y="94347"/>
                </a:lnTo>
                <a:lnTo>
                  <a:pt x="393969" y="102035"/>
                </a:lnTo>
                <a:lnTo>
                  <a:pt x="406549" y="103328"/>
                </a:lnTo>
                <a:lnTo>
                  <a:pt x="402951" y="111015"/>
                </a:lnTo>
                <a:lnTo>
                  <a:pt x="415529" y="112308"/>
                </a:lnTo>
                <a:lnTo>
                  <a:pt x="413482" y="116681"/>
                </a:lnTo>
                <a:lnTo>
                  <a:pt x="478036" y="116681"/>
                </a:lnTo>
                <a:lnTo>
                  <a:pt x="478036" y="10120"/>
                </a:lnTo>
                <a:lnTo>
                  <a:pt x="551260" y="10120"/>
                </a:lnTo>
                <a:lnTo>
                  <a:pt x="551260" y="23695"/>
                </a:lnTo>
                <a:lnTo>
                  <a:pt x="556112" y="23695"/>
                </a:lnTo>
                <a:lnTo>
                  <a:pt x="556112" y="32676"/>
                </a:lnTo>
                <a:lnTo>
                  <a:pt x="565093" y="32676"/>
                </a:lnTo>
                <a:lnTo>
                  <a:pt x="565093" y="41656"/>
                </a:lnTo>
                <a:lnTo>
                  <a:pt x="574073" y="41656"/>
                </a:lnTo>
                <a:lnTo>
                  <a:pt x="574073" y="50636"/>
                </a:lnTo>
                <a:lnTo>
                  <a:pt x="583053" y="50636"/>
                </a:lnTo>
                <a:lnTo>
                  <a:pt x="583053" y="59616"/>
                </a:lnTo>
                <a:lnTo>
                  <a:pt x="592033" y="59616"/>
                </a:lnTo>
                <a:lnTo>
                  <a:pt x="592033" y="68597"/>
                </a:lnTo>
                <a:lnTo>
                  <a:pt x="601014" y="68597"/>
                </a:lnTo>
                <a:lnTo>
                  <a:pt x="601014" y="77577"/>
                </a:lnTo>
                <a:lnTo>
                  <a:pt x="609994" y="77577"/>
                </a:lnTo>
                <a:lnTo>
                  <a:pt x="609994" y="86557"/>
                </a:lnTo>
                <a:lnTo>
                  <a:pt x="618974" y="86557"/>
                </a:lnTo>
                <a:lnTo>
                  <a:pt x="618974" y="95537"/>
                </a:lnTo>
                <a:lnTo>
                  <a:pt x="627954" y="95537"/>
                </a:lnTo>
                <a:lnTo>
                  <a:pt x="627954" y="104518"/>
                </a:lnTo>
                <a:lnTo>
                  <a:pt x="636935" y="104518"/>
                </a:lnTo>
                <a:lnTo>
                  <a:pt x="636935" y="113498"/>
                </a:lnTo>
                <a:lnTo>
                  <a:pt x="645915" y="113498"/>
                </a:lnTo>
                <a:lnTo>
                  <a:pt x="645915" y="122478"/>
                </a:lnTo>
                <a:lnTo>
                  <a:pt x="654895" y="122478"/>
                </a:lnTo>
                <a:lnTo>
                  <a:pt x="654895" y="131458"/>
                </a:lnTo>
                <a:lnTo>
                  <a:pt x="663875" y="131458"/>
                </a:lnTo>
                <a:lnTo>
                  <a:pt x="663875" y="140439"/>
                </a:lnTo>
                <a:lnTo>
                  <a:pt x="672856" y="140439"/>
                </a:lnTo>
                <a:lnTo>
                  <a:pt x="672856" y="149419"/>
                </a:lnTo>
                <a:lnTo>
                  <a:pt x="681836" y="149419"/>
                </a:lnTo>
                <a:lnTo>
                  <a:pt x="681836" y="158399"/>
                </a:lnTo>
                <a:lnTo>
                  <a:pt x="690816" y="158399"/>
                </a:lnTo>
                <a:lnTo>
                  <a:pt x="690816" y="167379"/>
                </a:lnTo>
                <a:lnTo>
                  <a:pt x="699796" y="167379"/>
                </a:lnTo>
                <a:lnTo>
                  <a:pt x="699796" y="176360"/>
                </a:lnTo>
                <a:lnTo>
                  <a:pt x="708777" y="176360"/>
                </a:lnTo>
                <a:lnTo>
                  <a:pt x="708777" y="185340"/>
                </a:lnTo>
                <a:lnTo>
                  <a:pt x="717757" y="185340"/>
                </a:lnTo>
                <a:lnTo>
                  <a:pt x="717757" y="194320"/>
                </a:lnTo>
                <a:lnTo>
                  <a:pt x="726737" y="194320"/>
                </a:lnTo>
                <a:lnTo>
                  <a:pt x="726737" y="203300"/>
                </a:lnTo>
                <a:lnTo>
                  <a:pt x="735717" y="203300"/>
                </a:lnTo>
                <a:lnTo>
                  <a:pt x="735717" y="212280"/>
                </a:lnTo>
                <a:lnTo>
                  <a:pt x="744697" y="212280"/>
                </a:lnTo>
                <a:lnTo>
                  <a:pt x="744697" y="221261"/>
                </a:lnTo>
                <a:lnTo>
                  <a:pt x="753678" y="221261"/>
                </a:lnTo>
                <a:lnTo>
                  <a:pt x="753678" y="230241"/>
                </a:lnTo>
                <a:lnTo>
                  <a:pt x="762658" y="230241"/>
                </a:lnTo>
                <a:lnTo>
                  <a:pt x="762658" y="239221"/>
                </a:lnTo>
                <a:lnTo>
                  <a:pt x="771638" y="239221"/>
                </a:lnTo>
                <a:lnTo>
                  <a:pt x="771638" y="248202"/>
                </a:lnTo>
                <a:lnTo>
                  <a:pt x="780619" y="248202"/>
                </a:lnTo>
                <a:lnTo>
                  <a:pt x="780619" y="256174"/>
                </a:lnTo>
                <a:lnTo>
                  <a:pt x="781627" y="257182"/>
                </a:lnTo>
                <a:lnTo>
                  <a:pt x="789599" y="257182"/>
                </a:lnTo>
                <a:lnTo>
                  <a:pt x="789599" y="265154"/>
                </a:lnTo>
                <a:lnTo>
                  <a:pt x="790607" y="266162"/>
                </a:lnTo>
                <a:lnTo>
                  <a:pt x="798579" y="266162"/>
                </a:lnTo>
                <a:lnTo>
                  <a:pt x="798579" y="274134"/>
                </a:lnTo>
                <a:lnTo>
                  <a:pt x="799588" y="275143"/>
                </a:lnTo>
                <a:lnTo>
                  <a:pt x="807560" y="275143"/>
                </a:lnTo>
                <a:lnTo>
                  <a:pt x="807560" y="283115"/>
                </a:lnTo>
                <a:lnTo>
                  <a:pt x="970530" y="446085"/>
                </a:lnTo>
                <a:lnTo>
                  <a:pt x="934646" y="561686"/>
                </a:lnTo>
                <a:cubicBezTo>
                  <a:pt x="847432" y="767882"/>
                  <a:pt x="662752" y="922817"/>
                  <a:pt x="438360" y="968734"/>
                </a:cubicBezTo>
                <a:lnTo>
                  <a:pt x="436340" y="968938"/>
                </a:lnTo>
                <a:lnTo>
                  <a:pt x="246591" y="779189"/>
                </a:lnTo>
                <a:lnTo>
                  <a:pt x="248087" y="777693"/>
                </a:lnTo>
                <a:lnTo>
                  <a:pt x="240094" y="768036"/>
                </a:lnTo>
                <a:lnTo>
                  <a:pt x="239176" y="768797"/>
                </a:lnTo>
                <a:lnTo>
                  <a:pt x="231114" y="759056"/>
                </a:lnTo>
                <a:lnTo>
                  <a:pt x="230196" y="759817"/>
                </a:lnTo>
                <a:lnTo>
                  <a:pt x="222134" y="750076"/>
                </a:lnTo>
                <a:lnTo>
                  <a:pt x="221216" y="750837"/>
                </a:lnTo>
                <a:lnTo>
                  <a:pt x="213153" y="741094"/>
                </a:lnTo>
                <a:lnTo>
                  <a:pt x="212235" y="741856"/>
                </a:lnTo>
                <a:lnTo>
                  <a:pt x="204173" y="732115"/>
                </a:lnTo>
                <a:lnTo>
                  <a:pt x="203255" y="732876"/>
                </a:lnTo>
                <a:lnTo>
                  <a:pt x="195193" y="723135"/>
                </a:lnTo>
                <a:lnTo>
                  <a:pt x="194275" y="723896"/>
                </a:lnTo>
                <a:lnTo>
                  <a:pt x="186213" y="714155"/>
                </a:lnTo>
                <a:lnTo>
                  <a:pt x="185295" y="714916"/>
                </a:lnTo>
                <a:lnTo>
                  <a:pt x="177232" y="705173"/>
                </a:lnTo>
                <a:lnTo>
                  <a:pt x="176314" y="705935"/>
                </a:lnTo>
                <a:lnTo>
                  <a:pt x="168252" y="696194"/>
                </a:lnTo>
                <a:lnTo>
                  <a:pt x="167334" y="696955"/>
                </a:lnTo>
                <a:lnTo>
                  <a:pt x="159272" y="687214"/>
                </a:lnTo>
                <a:lnTo>
                  <a:pt x="158354" y="687975"/>
                </a:lnTo>
                <a:lnTo>
                  <a:pt x="150292" y="678234"/>
                </a:lnTo>
                <a:lnTo>
                  <a:pt x="149374" y="678995"/>
                </a:lnTo>
                <a:lnTo>
                  <a:pt x="141311" y="669252"/>
                </a:lnTo>
                <a:lnTo>
                  <a:pt x="140393" y="670014"/>
                </a:lnTo>
                <a:lnTo>
                  <a:pt x="132331" y="660273"/>
                </a:lnTo>
                <a:lnTo>
                  <a:pt x="131413" y="661034"/>
                </a:lnTo>
                <a:lnTo>
                  <a:pt x="123351" y="651293"/>
                </a:lnTo>
                <a:lnTo>
                  <a:pt x="122433" y="652054"/>
                </a:lnTo>
                <a:lnTo>
                  <a:pt x="114371" y="642313"/>
                </a:lnTo>
                <a:lnTo>
                  <a:pt x="113453" y="643074"/>
                </a:lnTo>
                <a:lnTo>
                  <a:pt x="105390" y="633331"/>
                </a:lnTo>
                <a:lnTo>
                  <a:pt x="104472" y="634093"/>
                </a:lnTo>
                <a:lnTo>
                  <a:pt x="96410" y="624352"/>
                </a:lnTo>
                <a:lnTo>
                  <a:pt x="95492" y="625113"/>
                </a:lnTo>
                <a:lnTo>
                  <a:pt x="87430" y="615372"/>
                </a:lnTo>
                <a:lnTo>
                  <a:pt x="86512" y="616133"/>
                </a:lnTo>
                <a:lnTo>
                  <a:pt x="78450" y="606392"/>
                </a:lnTo>
                <a:lnTo>
                  <a:pt x="77532" y="607153"/>
                </a:lnTo>
                <a:lnTo>
                  <a:pt x="69469" y="597410"/>
                </a:lnTo>
                <a:lnTo>
                  <a:pt x="68551" y="598172"/>
                </a:lnTo>
                <a:lnTo>
                  <a:pt x="25688" y="546380"/>
                </a:lnTo>
                <a:lnTo>
                  <a:pt x="28430" y="541981"/>
                </a:lnTo>
                <a:lnTo>
                  <a:pt x="20836" y="532805"/>
                </a:lnTo>
                <a:cubicBezTo>
                  <a:pt x="33536" y="518914"/>
                  <a:pt x="39886" y="502245"/>
                  <a:pt x="39886" y="482798"/>
                </a:cubicBezTo>
                <a:lnTo>
                  <a:pt x="39886" y="299477"/>
                </a:lnTo>
                <a:lnTo>
                  <a:pt x="31793" y="299477"/>
                </a:lnTo>
                <a:lnTo>
                  <a:pt x="31793" y="290497"/>
                </a:lnTo>
                <a:lnTo>
                  <a:pt x="22813" y="290497"/>
                </a:lnTo>
                <a:lnTo>
                  <a:pt x="22813" y="281517"/>
                </a:lnTo>
                <a:lnTo>
                  <a:pt x="13833" y="281517"/>
                </a:lnTo>
                <a:lnTo>
                  <a:pt x="13833" y="272536"/>
                </a:lnTo>
                <a:lnTo>
                  <a:pt x="4852" y="272536"/>
                </a:lnTo>
                <a:lnTo>
                  <a:pt x="4852" y="258961"/>
                </a:lnTo>
                <a:lnTo>
                  <a:pt x="0" y="258961"/>
                </a:lnTo>
                <a:lnTo>
                  <a:pt x="0" y="181570"/>
                </a:lnTo>
                <a:lnTo>
                  <a:pt x="97882" y="181570"/>
                </a:lnTo>
                <a:lnTo>
                  <a:pt x="94332" y="175794"/>
                </a:lnTo>
                <a:lnTo>
                  <a:pt x="91819" y="177337"/>
                </a:lnTo>
                <a:lnTo>
                  <a:pt x="85351" y="166812"/>
                </a:lnTo>
                <a:lnTo>
                  <a:pt x="82838" y="168356"/>
                </a:lnTo>
                <a:cubicBezTo>
                  <a:pt x="62201" y="129859"/>
                  <a:pt x="40372" y="94339"/>
                  <a:pt x="17354" y="61795"/>
                </a:cubicBezTo>
                <a:lnTo>
                  <a:pt x="19904" y="60265"/>
                </a:lnTo>
                <a:lnTo>
                  <a:pt x="12502" y="48220"/>
                </a:lnTo>
                <a:lnTo>
                  <a:pt x="75010" y="10716"/>
                </a:lnTo>
                <a:lnTo>
                  <a:pt x="97120" y="42673"/>
                </a:lnTo>
                <a:lnTo>
                  <a:pt x="97823" y="42252"/>
                </a:lnTo>
                <a:lnTo>
                  <a:pt x="104847" y="52405"/>
                </a:lnTo>
                <a:lnTo>
                  <a:pt x="106803" y="51232"/>
                </a:lnTo>
                <a:lnTo>
                  <a:pt x="113827" y="61385"/>
                </a:lnTo>
                <a:lnTo>
                  <a:pt x="115783" y="60212"/>
                </a:lnTo>
                <a:lnTo>
                  <a:pt x="122808" y="70366"/>
                </a:lnTo>
                <a:lnTo>
                  <a:pt x="124764" y="69193"/>
                </a:lnTo>
                <a:lnTo>
                  <a:pt x="131788" y="79346"/>
                </a:lnTo>
                <a:lnTo>
                  <a:pt x="133744" y="78173"/>
                </a:lnTo>
                <a:lnTo>
                  <a:pt x="140768" y="88326"/>
                </a:lnTo>
                <a:lnTo>
                  <a:pt x="142724" y="87153"/>
                </a:lnTo>
                <a:lnTo>
                  <a:pt x="149748" y="97306"/>
                </a:lnTo>
                <a:lnTo>
                  <a:pt x="151704" y="96133"/>
                </a:lnTo>
                <a:lnTo>
                  <a:pt x="158729" y="106287"/>
                </a:lnTo>
                <a:lnTo>
                  <a:pt x="160685" y="105114"/>
                </a:lnTo>
                <a:lnTo>
                  <a:pt x="160735" y="105186"/>
                </a:lnTo>
                <a:lnTo>
                  <a:pt x="160735" y="64889"/>
                </a:lnTo>
                <a:lnTo>
                  <a:pt x="216396" y="64889"/>
                </a:lnTo>
                <a:cubicBezTo>
                  <a:pt x="222746" y="44847"/>
                  <a:pt x="228600" y="23217"/>
                  <a:pt x="233958" y="0"/>
                </a:cubicBezTo>
                <a:close/>
              </a:path>
            </a:pathLst>
          </a:custGeom>
          <a:gradFill rotWithShape="0">
            <a:gsLst>
              <a:gs pos="0">
                <a:srgbClr val="a9d18e">
                  <a:alpha val="53333"/>
                </a:srgbClr>
              </a:gs>
              <a:gs pos="100000">
                <a:srgbClr val="70ad47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2" name="任意多边形 19"/>
          <p:cNvSpPr/>
          <p:nvPr/>
        </p:nvSpPr>
        <p:spPr>
          <a:xfrm>
            <a:off x="1335240" y="2992320"/>
            <a:ext cx="1592280" cy="1592280"/>
          </a:xfrm>
          <a:custGeom>
            <a:avLst/>
            <a:gdLst/>
            <a:ahLst/>
            <a:rect l="l" t="t" r="r" b="b"/>
            <a:pathLst>
              <a:path w="1533844" h="1533842">
                <a:moveTo>
                  <a:pt x="766921" y="180973"/>
                </a:moveTo>
                <a:cubicBezTo>
                  <a:pt x="443311" y="180973"/>
                  <a:pt x="180974" y="443310"/>
                  <a:pt x="180974" y="766920"/>
                </a:cubicBezTo>
                <a:cubicBezTo>
                  <a:pt x="180974" y="1090530"/>
                  <a:pt x="443311" y="1352867"/>
                  <a:pt x="766921" y="1352867"/>
                </a:cubicBezTo>
                <a:cubicBezTo>
                  <a:pt x="1090531" y="1352867"/>
                  <a:pt x="1352868" y="1090530"/>
                  <a:pt x="1352868" y="766920"/>
                </a:cubicBezTo>
                <a:cubicBezTo>
                  <a:pt x="1352868" y="443310"/>
                  <a:pt x="1090531" y="180973"/>
                  <a:pt x="766921" y="180973"/>
                </a:cubicBezTo>
                <a:close/>
                <a:moveTo>
                  <a:pt x="766922" y="0"/>
                </a:moveTo>
                <a:cubicBezTo>
                  <a:pt x="1190481" y="0"/>
                  <a:pt x="1533844" y="343362"/>
                  <a:pt x="1533844" y="766921"/>
                </a:cubicBezTo>
                <a:cubicBezTo>
                  <a:pt x="1533844" y="1190480"/>
                  <a:pt x="1190481" y="1533842"/>
                  <a:pt x="766922" y="1533842"/>
                </a:cubicBezTo>
                <a:cubicBezTo>
                  <a:pt x="343363" y="1533842"/>
                  <a:pt x="0" y="1190480"/>
                  <a:pt x="0" y="766921"/>
                </a:cubicBezTo>
                <a:cubicBezTo>
                  <a:pt x="0" y="343362"/>
                  <a:pt x="343363" y="0"/>
                  <a:pt x="766922" y="0"/>
                </a:cubicBezTo>
                <a:close/>
              </a:path>
            </a:pathLst>
          </a:custGeom>
          <a:solidFill>
            <a:srgbClr val="db00bd"/>
          </a:solidFill>
          <a:ln w="0">
            <a:noFill/>
          </a:ln>
          <a:effectLst>
            <a:outerShdw dist="38183" dir="2700000" blurRad="0" rotWithShape="0">
              <a:srgbClr val="48620a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3" name="椭圆 28"/>
          <p:cNvSpPr/>
          <p:nvPr/>
        </p:nvSpPr>
        <p:spPr>
          <a:xfrm>
            <a:off x="1428840" y="3089160"/>
            <a:ext cx="1404720" cy="140364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628560" y="992160"/>
            <a:ext cx="7886880" cy="11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body"/>
          </p:nvPr>
        </p:nvSpPr>
        <p:spPr>
          <a:xfrm>
            <a:off x="628560" y="2211120"/>
            <a:ext cx="7886880" cy="39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 type="dt" idx="7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A1F8C-2414-4A64-929B-CB3CC27A3C2D}" type="datetime">
              <a:rPr b="0" lang="zh-CN" sz="900" spc="-1" strike="noStrike">
                <a:solidFill>
                  <a:srgbClr val="ffffff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PlaceHolder 4"/>
          <p:cNvSpPr>
            <a:spLocks noGrp="1"/>
          </p:cNvSpPr>
          <p:nvPr>
            <p:ph type="ftr" idx="8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8" name="PlaceHolder 5"/>
          <p:cNvSpPr>
            <a:spLocks noGrp="1"/>
          </p:cNvSpPr>
          <p:nvPr>
            <p:ph type="sldNum" idx="8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51B16-B619-4430-BA31-17E6DC9FAD31}" type="slidenum">
              <a:rPr b="0" lang="zh-CN" sz="9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1236" name="图片 9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 rot="355800">
            <a:off x="3166920" y="1255680"/>
            <a:ext cx="2810160" cy="1071720"/>
          </a:xfrm>
          <a:prstGeom prst="rect">
            <a:avLst/>
          </a:prstGeom>
          <a:ln w="0">
            <a:noFill/>
          </a:ln>
        </p:spPr>
      </p:pic>
      <p:pic>
        <p:nvPicPr>
          <p:cNvPr id="1237" name="图片 7" descr=""/>
          <p:cNvPicPr/>
          <p:nvPr/>
        </p:nvPicPr>
        <p:blipFill>
          <a:blip r:embed="rId4"/>
          <a:stretch/>
        </p:blipFill>
        <p:spPr>
          <a:xfrm>
            <a:off x="2720880" y="2975040"/>
            <a:ext cx="3702240" cy="1041480"/>
          </a:xfrm>
          <a:prstGeom prst="rect">
            <a:avLst/>
          </a:prstGeom>
          <a:ln w="0">
            <a:noFill/>
          </a:ln>
        </p:spPr>
      </p:pic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628560" y="992160"/>
            <a:ext cx="7886880" cy="11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 type="body"/>
          </p:nvPr>
        </p:nvSpPr>
        <p:spPr>
          <a:xfrm>
            <a:off x="628560" y="2211120"/>
            <a:ext cx="7886880" cy="39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 type="dt" idx="8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E1A3E-E2B9-4A15-B79D-27BEF02E7F53}" type="datetime">
              <a:rPr b="0" lang="zh-CN" sz="900" spc="-1" strike="noStrike">
                <a:solidFill>
                  <a:srgbClr val="ffffff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PlaceHolder 4"/>
          <p:cNvSpPr>
            <a:spLocks noGrp="1"/>
          </p:cNvSpPr>
          <p:nvPr>
            <p:ph type="ftr" idx="8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2" name="PlaceHolder 5"/>
          <p:cNvSpPr>
            <a:spLocks noGrp="1"/>
          </p:cNvSpPr>
          <p:nvPr>
            <p:ph type="sldNum" idx="8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E54CD-F248-4B8B-BC1D-61813C342AA1}" type="slidenum">
              <a:rPr b="0" lang="zh-CN" sz="9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5"/>
    <p:sldLayoutId id="2147484001" r:id="rId6"/>
    <p:sldLayoutId id="2147484002" r:id="rId7"/>
    <p:sldLayoutId id="2147484003" r:id="rId8"/>
    <p:sldLayoutId id="2147484004" r:id="rId9"/>
    <p:sldLayoutId id="2147484005" r:id="rId10"/>
    <p:sldLayoutId id="2147484006" r:id="rId11"/>
    <p:sldLayoutId id="2147484007" r:id="rId12"/>
    <p:sldLayoutId id="2147484008" r:id="rId13"/>
    <p:sldLayoutId id="2147484009" r:id="rId14"/>
    <p:sldLayoutId id="2147484010" r:id="rId15"/>
    <p:sldLayoutId id="2147484011" r:id="rId16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0" name="矩形 6"/>
          <p:cNvSpPr/>
          <p:nvPr/>
        </p:nvSpPr>
        <p:spPr>
          <a:xfrm>
            <a:off x="1973160" y="2617920"/>
            <a:ext cx="5197680" cy="2154240"/>
          </a:xfrm>
          <a:prstGeom prst="rect">
            <a:avLst/>
          </a:prstGeom>
          <a:noFill/>
          <a:ln w="38160">
            <a:solidFill>
              <a:srgbClr val="ff57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1281" name="图片 7" descr=""/>
          <p:cNvPicPr/>
          <p:nvPr/>
        </p:nvPicPr>
        <p:blipFill>
          <a:blip r:embed="rId3"/>
          <a:stretch/>
        </p:blipFill>
        <p:spPr>
          <a:xfrm>
            <a:off x="5492880" y="1913040"/>
            <a:ext cx="1960560" cy="1877760"/>
          </a:xfrm>
          <a:prstGeom prst="rect">
            <a:avLst/>
          </a:prstGeom>
          <a:ln w="0">
            <a:noFill/>
          </a:ln>
        </p:spPr>
      </p:pic>
      <p:pic>
        <p:nvPicPr>
          <p:cNvPr id="1282" name="图片 8" descr=""/>
          <p:cNvPicPr/>
          <p:nvPr/>
        </p:nvPicPr>
        <p:blipFill>
          <a:blip r:embed="rId4"/>
          <a:stretch/>
        </p:blipFill>
        <p:spPr>
          <a:xfrm>
            <a:off x="1690560" y="4149720"/>
            <a:ext cx="1947960" cy="1244520"/>
          </a:xfrm>
          <a:prstGeom prst="rect">
            <a:avLst/>
          </a:prstGeom>
          <a:ln w="0">
            <a:noFill/>
          </a:ln>
        </p:spPr>
      </p:pic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628560" y="992160"/>
            <a:ext cx="7886880" cy="11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 type="body"/>
          </p:nvPr>
        </p:nvSpPr>
        <p:spPr>
          <a:xfrm>
            <a:off x="628560" y="2211120"/>
            <a:ext cx="7886880" cy="39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 type="dt" idx="8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0E5A4-004B-4ED9-AA98-DD2BFD024282}" type="datetime">
              <a:rPr b="0" lang="zh-CN" sz="900" spc="-1" strike="noStrike">
                <a:solidFill>
                  <a:srgbClr val="ffffff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PlaceHolder 4"/>
          <p:cNvSpPr>
            <a:spLocks noGrp="1"/>
          </p:cNvSpPr>
          <p:nvPr>
            <p:ph type="ftr" idx="8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7" name="PlaceHolder 5"/>
          <p:cNvSpPr>
            <a:spLocks noGrp="1"/>
          </p:cNvSpPr>
          <p:nvPr>
            <p:ph type="sldNum" idx="8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027E7-B3CB-475D-BBBA-040436E69294}" type="slidenum">
              <a:rPr b="0" lang="zh-CN" sz="9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5"/>
    <p:sldLayoutId id="2147484014" r:id="rId6"/>
    <p:sldLayoutId id="2147484015" r:id="rId7"/>
    <p:sldLayoutId id="2147484016" r:id="rId8"/>
    <p:sldLayoutId id="2147484017" r:id="rId9"/>
    <p:sldLayoutId id="2147484018" r:id="rId10"/>
    <p:sldLayoutId id="2147484019" r:id="rId11"/>
    <p:sldLayoutId id="2147484020" r:id="rId12"/>
    <p:sldLayoutId id="2147484021" r:id="rId13"/>
    <p:sldLayoutId id="2147484022" r:id="rId14"/>
    <p:sldLayoutId id="2147484023" r:id="rId15"/>
    <p:sldLayoutId id="2147484024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992160"/>
            <a:ext cx="7886880" cy="11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28560" y="2211120"/>
            <a:ext cx="7886880" cy="39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9ABA6-C4D4-4C93-BFCF-EC08A6AD650E}" type="datetime">
              <a:rPr b="0" lang="zh-CN" sz="900" spc="-1" strike="noStrike">
                <a:solidFill>
                  <a:srgbClr val="ffffff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C4BE5-A649-4F19-878D-73068662547F}" type="slidenum">
              <a:rPr b="0" lang="zh-CN" sz="9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5" name="任意多边形 5"/>
          <p:cNvSpPr/>
          <p:nvPr/>
        </p:nvSpPr>
        <p:spPr>
          <a:xfrm>
            <a:off x="3413160" y="3465360"/>
            <a:ext cx="1120680" cy="1121040"/>
          </a:xfrm>
          <a:custGeom>
            <a:avLst/>
            <a:gdLst/>
            <a:ahLst/>
            <a:rect l="l" t="t" r="r" b="b"/>
            <a:pathLst>
              <a:path w="970530" h="968938">
                <a:moveTo>
                  <a:pt x="157193" y="238654"/>
                </a:moveTo>
                <a:lnTo>
                  <a:pt x="154926" y="240047"/>
                </a:lnTo>
                <a:lnTo>
                  <a:pt x="158049" y="240047"/>
                </a:lnTo>
                <a:close/>
                <a:moveTo>
                  <a:pt x="152692" y="236963"/>
                </a:moveTo>
                <a:lnTo>
                  <a:pt x="152692" y="240047"/>
                </a:lnTo>
                <a:lnTo>
                  <a:pt x="154587" y="240047"/>
                </a:lnTo>
                <a:close/>
                <a:moveTo>
                  <a:pt x="148213" y="229675"/>
                </a:moveTo>
                <a:lnTo>
                  <a:pt x="145947" y="231066"/>
                </a:lnTo>
                <a:lnTo>
                  <a:pt x="149068" y="231066"/>
                </a:lnTo>
                <a:close/>
                <a:moveTo>
                  <a:pt x="143712" y="227983"/>
                </a:moveTo>
                <a:lnTo>
                  <a:pt x="143712" y="231066"/>
                </a:lnTo>
                <a:lnTo>
                  <a:pt x="145606" y="231066"/>
                </a:lnTo>
                <a:close/>
                <a:moveTo>
                  <a:pt x="139233" y="220695"/>
                </a:moveTo>
                <a:lnTo>
                  <a:pt x="136967" y="222086"/>
                </a:lnTo>
                <a:lnTo>
                  <a:pt x="140088" y="222086"/>
                </a:lnTo>
                <a:close/>
                <a:moveTo>
                  <a:pt x="134732" y="219003"/>
                </a:moveTo>
                <a:lnTo>
                  <a:pt x="134732" y="222086"/>
                </a:lnTo>
                <a:lnTo>
                  <a:pt x="136626" y="222086"/>
                </a:lnTo>
                <a:close/>
                <a:moveTo>
                  <a:pt x="130253" y="211715"/>
                </a:moveTo>
                <a:lnTo>
                  <a:pt x="127987" y="213106"/>
                </a:lnTo>
                <a:lnTo>
                  <a:pt x="131108" y="213106"/>
                </a:lnTo>
                <a:close/>
                <a:moveTo>
                  <a:pt x="125752" y="210023"/>
                </a:moveTo>
                <a:lnTo>
                  <a:pt x="125752" y="213106"/>
                </a:lnTo>
                <a:lnTo>
                  <a:pt x="127646" y="213106"/>
                </a:lnTo>
                <a:close/>
                <a:moveTo>
                  <a:pt x="121272" y="202733"/>
                </a:moveTo>
                <a:lnTo>
                  <a:pt x="119005" y="204126"/>
                </a:lnTo>
                <a:lnTo>
                  <a:pt x="122128" y="204126"/>
                </a:lnTo>
                <a:close/>
                <a:moveTo>
                  <a:pt x="116771" y="201042"/>
                </a:moveTo>
                <a:lnTo>
                  <a:pt x="116771" y="204126"/>
                </a:lnTo>
                <a:lnTo>
                  <a:pt x="118666" y="204126"/>
                </a:lnTo>
                <a:close/>
                <a:moveTo>
                  <a:pt x="112292" y="193754"/>
                </a:moveTo>
                <a:lnTo>
                  <a:pt x="111919" y="193983"/>
                </a:lnTo>
                <a:lnTo>
                  <a:pt x="111919" y="195145"/>
                </a:lnTo>
                <a:lnTo>
                  <a:pt x="113147" y="195145"/>
                </a:lnTo>
                <a:close/>
                <a:moveTo>
                  <a:pt x="233958" y="0"/>
                </a:moveTo>
                <a:lnTo>
                  <a:pt x="320874" y="8930"/>
                </a:lnTo>
                <a:lnTo>
                  <a:pt x="315034" y="21406"/>
                </a:lnTo>
                <a:lnTo>
                  <a:pt x="325726" y="22505"/>
                </a:lnTo>
                <a:lnTo>
                  <a:pt x="322127" y="30193"/>
                </a:lnTo>
                <a:lnTo>
                  <a:pt x="334707" y="31486"/>
                </a:lnTo>
                <a:lnTo>
                  <a:pt x="331109" y="39174"/>
                </a:lnTo>
                <a:lnTo>
                  <a:pt x="343687" y="40466"/>
                </a:lnTo>
                <a:lnTo>
                  <a:pt x="340089" y="48154"/>
                </a:lnTo>
                <a:lnTo>
                  <a:pt x="352667" y="49446"/>
                </a:lnTo>
                <a:lnTo>
                  <a:pt x="349069" y="57134"/>
                </a:lnTo>
                <a:lnTo>
                  <a:pt x="361647" y="58426"/>
                </a:lnTo>
                <a:lnTo>
                  <a:pt x="358622" y="64889"/>
                </a:lnTo>
                <a:lnTo>
                  <a:pt x="370285" y="64889"/>
                </a:lnTo>
                <a:lnTo>
                  <a:pt x="370285" y="67372"/>
                </a:lnTo>
                <a:lnTo>
                  <a:pt x="370628" y="67407"/>
                </a:lnTo>
                <a:lnTo>
                  <a:pt x="370285" y="68140"/>
                </a:lnTo>
                <a:lnTo>
                  <a:pt x="370285" y="75429"/>
                </a:lnTo>
                <a:lnTo>
                  <a:pt x="379608" y="76387"/>
                </a:lnTo>
                <a:lnTo>
                  <a:pt x="376010" y="84075"/>
                </a:lnTo>
                <a:lnTo>
                  <a:pt x="388588" y="85367"/>
                </a:lnTo>
                <a:lnTo>
                  <a:pt x="384990" y="93055"/>
                </a:lnTo>
                <a:lnTo>
                  <a:pt x="397568" y="94347"/>
                </a:lnTo>
                <a:lnTo>
                  <a:pt x="393969" y="102035"/>
                </a:lnTo>
                <a:lnTo>
                  <a:pt x="406549" y="103328"/>
                </a:lnTo>
                <a:lnTo>
                  <a:pt x="402951" y="111015"/>
                </a:lnTo>
                <a:lnTo>
                  <a:pt x="415529" y="112308"/>
                </a:lnTo>
                <a:lnTo>
                  <a:pt x="413482" y="116681"/>
                </a:lnTo>
                <a:lnTo>
                  <a:pt x="478036" y="116681"/>
                </a:lnTo>
                <a:lnTo>
                  <a:pt x="478036" y="10120"/>
                </a:lnTo>
                <a:lnTo>
                  <a:pt x="551260" y="10120"/>
                </a:lnTo>
                <a:lnTo>
                  <a:pt x="551260" y="23695"/>
                </a:lnTo>
                <a:lnTo>
                  <a:pt x="556112" y="23695"/>
                </a:lnTo>
                <a:lnTo>
                  <a:pt x="556112" y="32676"/>
                </a:lnTo>
                <a:lnTo>
                  <a:pt x="565093" y="32676"/>
                </a:lnTo>
                <a:lnTo>
                  <a:pt x="565093" y="41656"/>
                </a:lnTo>
                <a:lnTo>
                  <a:pt x="574073" y="41656"/>
                </a:lnTo>
                <a:lnTo>
                  <a:pt x="574073" y="50636"/>
                </a:lnTo>
                <a:lnTo>
                  <a:pt x="583053" y="50636"/>
                </a:lnTo>
                <a:lnTo>
                  <a:pt x="583053" y="59616"/>
                </a:lnTo>
                <a:lnTo>
                  <a:pt x="592033" y="59616"/>
                </a:lnTo>
                <a:lnTo>
                  <a:pt x="592033" y="68597"/>
                </a:lnTo>
                <a:lnTo>
                  <a:pt x="601014" y="68597"/>
                </a:lnTo>
                <a:lnTo>
                  <a:pt x="601014" y="77577"/>
                </a:lnTo>
                <a:lnTo>
                  <a:pt x="609994" y="77577"/>
                </a:lnTo>
                <a:lnTo>
                  <a:pt x="609994" y="86557"/>
                </a:lnTo>
                <a:lnTo>
                  <a:pt x="618974" y="86557"/>
                </a:lnTo>
                <a:lnTo>
                  <a:pt x="618974" y="95537"/>
                </a:lnTo>
                <a:lnTo>
                  <a:pt x="627954" y="95537"/>
                </a:lnTo>
                <a:lnTo>
                  <a:pt x="627954" y="104518"/>
                </a:lnTo>
                <a:lnTo>
                  <a:pt x="636935" y="104518"/>
                </a:lnTo>
                <a:lnTo>
                  <a:pt x="636935" y="113498"/>
                </a:lnTo>
                <a:lnTo>
                  <a:pt x="645915" y="113498"/>
                </a:lnTo>
                <a:lnTo>
                  <a:pt x="645915" y="122478"/>
                </a:lnTo>
                <a:lnTo>
                  <a:pt x="654895" y="122478"/>
                </a:lnTo>
                <a:lnTo>
                  <a:pt x="654895" y="131458"/>
                </a:lnTo>
                <a:lnTo>
                  <a:pt x="663875" y="131458"/>
                </a:lnTo>
                <a:lnTo>
                  <a:pt x="663875" y="140439"/>
                </a:lnTo>
                <a:lnTo>
                  <a:pt x="672856" y="140439"/>
                </a:lnTo>
                <a:lnTo>
                  <a:pt x="672856" y="149419"/>
                </a:lnTo>
                <a:lnTo>
                  <a:pt x="681836" y="149419"/>
                </a:lnTo>
                <a:lnTo>
                  <a:pt x="681836" y="158399"/>
                </a:lnTo>
                <a:lnTo>
                  <a:pt x="690816" y="158399"/>
                </a:lnTo>
                <a:lnTo>
                  <a:pt x="690816" y="167379"/>
                </a:lnTo>
                <a:lnTo>
                  <a:pt x="699796" y="167379"/>
                </a:lnTo>
                <a:lnTo>
                  <a:pt x="699796" y="176360"/>
                </a:lnTo>
                <a:lnTo>
                  <a:pt x="708777" y="176360"/>
                </a:lnTo>
                <a:lnTo>
                  <a:pt x="708777" y="185340"/>
                </a:lnTo>
                <a:lnTo>
                  <a:pt x="717757" y="185340"/>
                </a:lnTo>
                <a:lnTo>
                  <a:pt x="717757" y="194320"/>
                </a:lnTo>
                <a:lnTo>
                  <a:pt x="726737" y="194320"/>
                </a:lnTo>
                <a:lnTo>
                  <a:pt x="726737" y="203300"/>
                </a:lnTo>
                <a:lnTo>
                  <a:pt x="735717" y="203300"/>
                </a:lnTo>
                <a:lnTo>
                  <a:pt x="735717" y="212280"/>
                </a:lnTo>
                <a:lnTo>
                  <a:pt x="744697" y="212280"/>
                </a:lnTo>
                <a:lnTo>
                  <a:pt x="744697" y="221261"/>
                </a:lnTo>
                <a:lnTo>
                  <a:pt x="753678" y="221261"/>
                </a:lnTo>
                <a:lnTo>
                  <a:pt x="753678" y="230241"/>
                </a:lnTo>
                <a:lnTo>
                  <a:pt x="762658" y="230241"/>
                </a:lnTo>
                <a:lnTo>
                  <a:pt x="762658" y="239221"/>
                </a:lnTo>
                <a:lnTo>
                  <a:pt x="771638" y="239221"/>
                </a:lnTo>
                <a:lnTo>
                  <a:pt x="771638" y="248202"/>
                </a:lnTo>
                <a:lnTo>
                  <a:pt x="780619" y="248202"/>
                </a:lnTo>
                <a:lnTo>
                  <a:pt x="780619" y="256174"/>
                </a:lnTo>
                <a:lnTo>
                  <a:pt x="781627" y="257182"/>
                </a:lnTo>
                <a:lnTo>
                  <a:pt x="789599" y="257182"/>
                </a:lnTo>
                <a:lnTo>
                  <a:pt x="789599" y="265154"/>
                </a:lnTo>
                <a:lnTo>
                  <a:pt x="790607" y="266162"/>
                </a:lnTo>
                <a:lnTo>
                  <a:pt x="798579" y="266162"/>
                </a:lnTo>
                <a:lnTo>
                  <a:pt x="798579" y="274134"/>
                </a:lnTo>
                <a:lnTo>
                  <a:pt x="799588" y="275143"/>
                </a:lnTo>
                <a:lnTo>
                  <a:pt x="807560" y="275143"/>
                </a:lnTo>
                <a:lnTo>
                  <a:pt x="807560" y="283115"/>
                </a:lnTo>
                <a:lnTo>
                  <a:pt x="970530" y="446085"/>
                </a:lnTo>
                <a:lnTo>
                  <a:pt x="934646" y="561686"/>
                </a:lnTo>
                <a:cubicBezTo>
                  <a:pt x="847432" y="767882"/>
                  <a:pt x="662752" y="922817"/>
                  <a:pt x="438360" y="968734"/>
                </a:cubicBezTo>
                <a:lnTo>
                  <a:pt x="436340" y="968938"/>
                </a:lnTo>
                <a:lnTo>
                  <a:pt x="246591" y="779189"/>
                </a:lnTo>
                <a:lnTo>
                  <a:pt x="248087" y="777693"/>
                </a:lnTo>
                <a:lnTo>
                  <a:pt x="240094" y="768036"/>
                </a:lnTo>
                <a:lnTo>
                  <a:pt x="239176" y="768797"/>
                </a:lnTo>
                <a:lnTo>
                  <a:pt x="231114" y="759056"/>
                </a:lnTo>
                <a:lnTo>
                  <a:pt x="230196" y="759817"/>
                </a:lnTo>
                <a:lnTo>
                  <a:pt x="222134" y="750076"/>
                </a:lnTo>
                <a:lnTo>
                  <a:pt x="221216" y="750837"/>
                </a:lnTo>
                <a:lnTo>
                  <a:pt x="213153" y="741094"/>
                </a:lnTo>
                <a:lnTo>
                  <a:pt x="212235" y="741856"/>
                </a:lnTo>
                <a:lnTo>
                  <a:pt x="204173" y="732115"/>
                </a:lnTo>
                <a:lnTo>
                  <a:pt x="203255" y="732876"/>
                </a:lnTo>
                <a:lnTo>
                  <a:pt x="195193" y="723135"/>
                </a:lnTo>
                <a:lnTo>
                  <a:pt x="194275" y="723896"/>
                </a:lnTo>
                <a:lnTo>
                  <a:pt x="186213" y="714155"/>
                </a:lnTo>
                <a:lnTo>
                  <a:pt x="185295" y="714916"/>
                </a:lnTo>
                <a:lnTo>
                  <a:pt x="177232" y="705173"/>
                </a:lnTo>
                <a:lnTo>
                  <a:pt x="176314" y="705935"/>
                </a:lnTo>
                <a:lnTo>
                  <a:pt x="168252" y="696194"/>
                </a:lnTo>
                <a:lnTo>
                  <a:pt x="167334" y="696955"/>
                </a:lnTo>
                <a:lnTo>
                  <a:pt x="159272" y="687214"/>
                </a:lnTo>
                <a:lnTo>
                  <a:pt x="158354" y="687975"/>
                </a:lnTo>
                <a:lnTo>
                  <a:pt x="150292" y="678234"/>
                </a:lnTo>
                <a:lnTo>
                  <a:pt x="149374" y="678995"/>
                </a:lnTo>
                <a:lnTo>
                  <a:pt x="141311" y="669252"/>
                </a:lnTo>
                <a:lnTo>
                  <a:pt x="140393" y="670014"/>
                </a:lnTo>
                <a:lnTo>
                  <a:pt x="132331" y="660273"/>
                </a:lnTo>
                <a:lnTo>
                  <a:pt x="131413" y="661034"/>
                </a:lnTo>
                <a:lnTo>
                  <a:pt x="123351" y="651293"/>
                </a:lnTo>
                <a:lnTo>
                  <a:pt x="122433" y="652054"/>
                </a:lnTo>
                <a:lnTo>
                  <a:pt x="114371" y="642313"/>
                </a:lnTo>
                <a:lnTo>
                  <a:pt x="113453" y="643074"/>
                </a:lnTo>
                <a:lnTo>
                  <a:pt x="105390" y="633331"/>
                </a:lnTo>
                <a:lnTo>
                  <a:pt x="104472" y="634093"/>
                </a:lnTo>
                <a:lnTo>
                  <a:pt x="96410" y="624352"/>
                </a:lnTo>
                <a:lnTo>
                  <a:pt x="95492" y="625113"/>
                </a:lnTo>
                <a:lnTo>
                  <a:pt x="87430" y="615372"/>
                </a:lnTo>
                <a:lnTo>
                  <a:pt x="86512" y="616133"/>
                </a:lnTo>
                <a:lnTo>
                  <a:pt x="78450" y="606392"/>
                </a:lnTo>
                <a:lnTo>
                  <a:pt x="77532" y="607153"/>
                </a:lnTo>
                <a:lnTo>
                  <a:pt x="69469" y="597410"/>
                </a:lnTo>
                <a:lnTo>
                  <a:pt x="68551" y="598172"/>
                </a:lnTo>
                <a:lnTo>
                  <a:pt x="25688" y="546380"/>
                </a:lnTo>
                <a:lnTo>
                  <a:pt x="28430" y="541981"/>
                </a:lnTo>
                <a:lnTo>
                  <a:pt x="20836" y="532805"/>
                </a:lnTo>
                <a:cubicBezTo>
                  <a:pt x="33536" y="518914"/>
                  <a:pt x="39886" y="502245"/>
                  <a:pt x="39886" y="482798"/>
                </a:cubicBezTo>
                <a:lnTo>
                  <a:pt x="39886" y="299477"/>
                </a:lnTo>
                <a:lnTo>
                  <a:pt x="31793" y="299477"/>
                </a:lnTo>
                <a:lnTo>
                  <a:pt x="31793" y="290497"/>
                </a:lnTo>
                <a:lnTo>
                  <a:pt x="22813" y="290497"/>
                </a:lnTo>
                <a:lnTo>
                  <a:pt x="22813" y="281517"/>
                </a:lnTo>
                <a:lnTo>
                  <a:pt x="13833" y="281517"/>
                </a:lnTo>
                <a:lnTo>
                  <a:pt x="13833" y="272536"/>
                </a:lnTo>
                <a:lnTo>
                  <a:pt x="4852" y="272536"/>
                </a:lnTo>
                <a:lnTo>
                  <a:pt x="4852" y="258961"/>
                </a:lnTo>
                <a:lnTo>
                  <a:pt x="0" y="258961"/>
                </a:lnTo>
                <a:lnTo>
                  <a:pt x="0" y="181570"/>
                </a:lnTo>
                <a:lnTo>
                  <a:pt x="97882" y="181570"/>
                </a:lnTo>
                <a:lnTo>
                  <a:pt x="94332" y="175794"/>
                </a:lnTo>
                <a:lnTo>
                  <a:pt x="91819" y="177337"/>
                </a:lnTo>
                <a:lnTo>
                  <a:pt x="85351" y="166812"/>
                </a:lnTo>
                <a:lnTo>
                  <a:pt x="82838" y="168356"/>
                </a:lnTo>
                <a:cubicBezTo>
                  <a:pt x="62201" y="129859"/>
                  <a:pt x="40372" y="94339"/>
                  <a:pt x="17354" y="61795"/>
                </a:cubicBezTo>
                <a:lnTo>
                  <a:pt x="19904" y="60265"/>
                </a:lnTo>
                <a:lnTo>
                  <a:pt x="12502" y="48220"/>
                </a:lnTo>
                <a:lnTo>
                  <a:pt x="75010" y="10716"/>
                </a:lnTo>
                <a:lnTo>
                  <a:pt x="97120" y="42673"/>
                </a:lnTo>
                <a:lnTo>
                  <a:pt x="97823" y="42252"/>
                </a:lnTo>
                <a:lnTo>
                  <a:pt x="104847" y="52405"/>
                </a:lnTo>
                <a:lnTo>
                  <a:pt x="106803" y="51232"/>
                </a:lnTo>
                <a:lnTo>
                  <a:pt x="113827" y="61385"/>
                </a:lnTo>
                <a:lnTo>
                  <a:pt x="115783" y="60212"/>
                </a:lnTo>
                <a:lnTo>
                  <a:pt x="122808" y="70366"/>
                </a:lnTo>
                <a:lnTo>
                  <a:pt x="124764" y="69193"/>
                </a:lnTo>
                <a:lnTo>
                  <a:pt x="131788" y="79346"/>
                </a:lnTo>
                <a:lnTo>
                  <a:pt x="133744" y="78173"/>
                </a:lnTo>
                <a:lnTo>
                  <a:pt x="140768" y="88326"/>
                </a:lnTo>
                <a:lnTo>
                  <a:pt x="142724" y="87153"/>
                </a:lnTo>
                <a:lnTo>
                  <a:pt x="149748" y="97306"/>
                </a:lnTo>
                <a:lnTo>
                  <a:pt x="151704" y="96133"/>
                </a:lnTo>
                <a:lnTo>
                  <a:pt x="158729" y="106287"/>
                </a:lnTo>
                <a:lnTo>
                  <a:pt x="160685" y="105114"/>
                </a:lnTo>
                <a:lnTo>
                  <a:pt x="160735" y="105186"/>
                </a:lnTo>
                <a:lnTo>
                  <a:pt x="160735" y="64889"/>
                </a:lnTo>
                <a:lnTo>
                  <a:pt x="216396" y="64889"/>
                </a:lnTo>
                <a:cubicBezTo>
                  <a:pt x="222746" y="44847"/>
                  <a:pt x="228600" y="23217"/>
                  <a:pt x="233958" y="0"/>
                </a:cubicBezTo>
                <a:close/>
              </a:path>
            </a:pathLst>
          </a:custGeom>
          <a:gradFill rotWithShape="0">
            <a:gsLst>
              <a:gs pos="0">
                <a:srgbClr val="a9d18e">
                  <a:alpha val="53333"/>
                </a:srgbClr>
              </a:gs>
              <a:gs pos="100000">
                <a:srgbClr val="70ad47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6" name="任意多边形 7"/>
          <p:cNvSpPr/>
          <p:nvPr/>
        </p:nvSpPr>
        <p:spPr>
          <a:xfrm>
            <a:off x="2963880" y="2992320"/>
            <a:ext cx="1590480" cy="1592280"/>
          </a:xfrm>
          <a:custGeom>
            <a:avLst/>
            <a:gdLst/>
            <a:ahLst/>
            <a:rect l="l" t="t" r="r" b="b"/>
            <a:pathLst>
              <a:path w="1533844" h="1533842">
                <a:moveTo>
                  <a:pt x="766921" y="180973"/>
                </a:moveTo>
                <a:cubicBezTo>
                  <a:pt x="443311" y="180973"/>
                  <a:pt x="180974" y="443310"/>
                  <a:pt x="180974" y="766920"/>
                </a:cubicBezTo>
                <a:cubicBezTo>
                  <a:pt x="180974" y="1090530"/>
                  <a:pt x="443311" y="1352867"/>
                  <a:pt x="766921" y="1352867"/>
                </a:cubicBezTo>
                <a:cubicBezTo>
                  <a:pt x="1090531" y="1352867"/>
                  <a:pt x="1352868" y="1090530"/>
                  <a:pt x="1352868" y="766920"/>
                </a:cubicBezTo>
                <a:cubicBezTo>
                  <a:pt x="1352868" y="443310"/>
                  <a:pt x="1090531" y="180973"/>
                  <a:pt x="766921" y="180973"/>
                </a:cubicBezTo>
                <a:close/>
                <a:moveTo>
                  <a:pt x="766922" y="0"/>
                </a:moveTo>
                <a:cubicBezTo>
                  <a:pt x="1190481" y="0"/>
                  <a:pt x="1533844" y="343362"/>
                  <a:pt x="1533844" y="766921"/>
                </a:cubicBezTo>
                <a:cubicBezTo>
                  <a:pt x="1533844" y="1190480"/>
                  <a:pt x="1190481" y="1533842"/>
                  <a:pt x="766922" y="1533842"/>
                </a:cubicBezTo>
                <a:cubicBezTo>
                  <a:pt x="343363" y="1533842"/>
                  <a:pt x="0" y="1190480"/>
                  <a:pt x="0" y="766921"/>
                </a:cubicBezTo>
                <a:cubicBezTo>
                  <a:pt x="0" y="343362"/>
                  <a:pt x="343363" y="0"/>
                  <a:pt x="766922" y="0"/>
                </a:cubicBezTo>
                <a:close/>
              </a:path>
            </a:pathLst>
          </a:custGeom>
          <a:solidFill>
            <a:srgbClr val="db00bd"/>
          </a:solidFill>
          <a:ln w="0">
            <a:noFill/>
          </a:ln>
          <a:effectLst>
            <a:outerShdw dist="38183" dir="2700000" blurRad="0" rotWithShape="0">
              <a:srgbClr val="48620a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7" name="椭圆 19"/>
          <p:cNvSpPr/>
          <p:nvPr/>
        </p:nvSpPr>
        <p:spPr>
          <a:xfrm>
            <a:off x="3057480" y="3089160"/>
            <a:ext cx="1403280" cy="140364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8" name="文本框 20"/>
          <p:cNvSpPr/>
          <p:nvPr/>
        </p:nvSpPr>
        <p:spPr>
          <a:xfrm>
            <a:off x="5029200" y="3454560"/>
            <a:ext cx="1139760" cy="1106280"/>
          </a:xfrm>
          <a:custGeom>
            <a:avLst/>
            <a:gdLst/>
            <a:ahLst/>
            <a:rect l="l" t="t" r="r" b="b"/>
            <a:pathLst>
              <a:path w="985397" h="957294">
                <a:moveTo>
                  <a:pt x="244674" y="0"/>
                </a:moveTo>
                <a:lnTo>
                  <a:pt x="565547" y="0"/>
                </a:lnTo>
                <a:lnTo>
                  <a:pt x="565547" y="3431"/>
                </a:lnTo>
                <a:lnTo>
                  <a:pt x="569488" y="3431"/>
                </a:lnTo>
                <a:lnTo>
                  <a:pt x="569488" y="12412"/>
                </a:lnTo>
                <a:lnTo>
                  <a:pt x="578469" y="12412"/>
                </a:lnTo>
                <a:lnTo>
                  <a:pt x="578469" y="21392"/>
                </a:lnTo>
                <a:lnTo>
                  <a:pt x="587449" y="21392"/>
                </a:lnTo>
                <a:lnTo>
                  <a:pt x="587449" y="30372"/>
                </a:lnTo>
                <a:lnTo>
                  <a:pt x="596429" y="30372"/>
                </a:lnTo>
                <a:lnTo>
                  <a:pt x="596429" y="39352"/>
                </a:lnTo>
                <a:lnTo>
                  <a:pt x="605409" y="39352"/>
                </a:lnTo>
                <a:lnTo>
                  <a:pt x="605409" y="48333"/>
                </a:lnTo>
                <a:lnTo>
                  <a:pt x="614390" y="48333"/>
                </a:lnTo>
                <a:lnTo>
                  <a:pt x="614390" y="57313"/>
                </a:lnTo>
                <a:lnTo>
                  <a:pt x="623370" y="57313"/>
                </a:lnTo>
                <a:lnTo>
                  <a:pt x="623370" y="66293"/>
                </a:lnTo>
                <a:lnTo>
                  <a:pt x="632350" y="66293"/>
                </a:lnTo>
                <a:lnTo>
                  <a:pt x="632350" y="75273"/>
                </a:lnTo>
                <a:lnTo>
                  <a:pt x="641330" y="75273"/>
                </a:lnTo>
                <a:lnTo>
                  <a:pt x="641330" y="84254"/>
                </a:lnTo>
                <a:lnTo>
                  <a:pt x="650310" y="84254"/>
                </a:lnTo>
                <a:lnTo>
                  <a:pt x="650310" y="93234"/>
                </a:lnTo>
                <a:lnTo>
                  <a:pt x="659291" y="93234"/>
                </a:lnTo>
                <a:lnTo>
                  <a:pt x="659291" y="102214"/>
                </a:lnTo>
                <a:lnTo>
                  <a:pt x="668271" y="102214"/>
                </a:lnTo>
                <a:lnTo>
                  <a:pt x="668271" y="111194"/>
                </a:lnTo>
                <a:lnTo>
                  <a:pt x="677251" y="111194"/>
                </a:lnTo>
                <a:lnTo>
                  <a:pt x="677251" y="120175"/>
                </a:lnTo>
                <a:lnTo>
                  <a:pt x="686231" y="120175"/>
                </a:lnTo>
                <a:lnTo>
                  <a:pt x="686231" y="129155"/>
                </a:lnTo>
                <a:lnTo>
                  <a:pt x="695212" y="129155"/>
                </a:lnTo>
                <a:lnTo>
                  <a:pt x="695212" y="138135"/>
                </a:lnTo>
                <a:lnTo>
                  <a:pt x="704192" y="138135"/>
                </a:lnTo>
                <a:lnTo>
                  <a:pt x="704192" y="147115"/>
                </a:lnTo>
                <a:lnTo>
                  <a:pt x="713172" y="147115"/>
                </a:lnTo>
                <a:lnTo>
                  <a:pt x="713172" y="156096"/>
                </a:lnTo>
                <a:lnTo>
                  <a:pt x="722152" y="156096"/>
                </a:lnTo>
                <a:lnTo>
                  <a:pt x="722152" y="165076"/>
                </a:lnTo>
                <a:lnTo>
                  <a:pt x="731133" y="165076"/>
                </a:lnTo>
                <a:lnTo>
                  <a:pt x="731133" y="174056"/>
                </a:lnTo>
                <a:lnTo>
                  <a:pt x="740113" y="174056"/>
                </a:lnTo>
                <a:lnTo>
                  <a:pt x="740113" y="183036"/>
                </a:lnTo>
                <a:lnTo>
                  <a:pt x="749093" y="183036"/>
                </a:lnTo>
                <a:lnTo>
                  <a:pt x="749093" y="192017"/>
                </a:lnTo>
                <a:lnTo>
                  <a:pt x="758073" y="192017"/>
                </a:lnTo>
                <a:lnTo>
                  <a:pt x="758073" y="200997"/>
                </a:lnTo>
                <a:lnTo>
                  <a:pt x="767054" y="200997"/>
                </a:lnTo>
                <a:lnTo>
                  <a:pt x="767054" y="209977"/>
                </a:lnTo>
                <a:lnTo>
                  <a:pt x="776034" y="209977"/>
                </a:lnTo>
                <a:lnTo>
                  <a:pt x="776034" y="218957"/>
                </a:lnTo>
                <a:lnTo>
                  <a:pt x="776933" y="218957"/>
                </a:lnTo>
                <a:lnTo>
                  <a:pt x="781569" y="214321"/>
                </a:lnTo>
                <a:lnTo>
                  <a:pt x="985397" y="418149"/>
                </a:lnTo>
                <a:lnTo>
                  <a:pt x="984064" y="431375"/>
                </a:lnTo>
                <a:cubicBezTo>
                  <a:pt x="938147" y="655767"/>
                  <a:pt x="783212" y="840447"/>
                  <a:pt x="577016" y="927661"/>
                </a:cubicBezTo>
                <a:lnTo>
                  <a:pt x="481555" y="957294"/>
                </a:lnTo>
                <a:lnTo>
                  <a:pt x="260076" y="735815"/>
                </a:lnTo>
                <a:lnTo>
                  <a:pt x="261237" y="734654"/>
                </a:lnTo>
                <a:lnTo>
                  <a:pt x="256668" y="726627"/>
                </a:lnTo>
                <a:lnTo>
                  <a:pt x="254540" y="729685"/>
                </a:lnTo>
                <a:lnTo>
                  <a:pt x="247687" y="717647"/>
                </a:lnTo>
                <a:lnTo>
                  <a:pt x="245560" y="720705"/>
                </a:lnTo>
                <a:lnTo>
                  <a:pt x="238707" y="708666"/>
                </a:lnTo>
                <a:lnTo>
                  <a:pt x="236579" y="711725"/>
                </a:lnTo>
                <a:lnTo>
                  <a:pt x="229726" y="699687"/>
                </a:lnTo>
                <a:lnTo>
                  <a:pt x="227599" y="702744"/>
                </a:lnTo>
                <a:lnTo>
                  <a:pt x="220746" y="690706"/>
                </a:lnTo>
                <a:lnTo>
                  <a:pt x="218619" y="693764"/>
                </a:lnTo>
                <a:lnTo>
                  <a:pt x="211766" y="681726"/>
                </a:lnTo>
                <a:lnTo>
                  <a:pt x="209639" y="684784"/>
                </a:lnTo>
                <a:lnTo>
                  <a:pt x="202786" y="672745"/>
                </a:lnTo>
                <a:lnTo>
                  <a:pt x="200658" y="675804"/>
                </a:lnTo>
                <a:lnTo>
                  <a:pt x="193805" y="663766"/>
                </a:lnTo>
                <a:lnTo>
                  <a:pt x="191678" y="666823"/>
                </a:lnTo>
                <a:lnTo>
                  <a:pt x="184825" y="654785"/>
                </a:lnTo>
                <a:lnTo>
                  <a:pt x="182698" y="657843"/>
                </a:lnTo>
                <a:lnTo>
                  <a:pt x="175845" y="645805"/>
                </a:lnTo>
                <a:lnTo>
                  <a:pt x="173718" y="648863"/>
                </a:lnTo>
                <a:lnTo>
                  <a:pt x="166865" y="636824"/>
                </a:lnTo>
                <a:lnTo>
                  <a:pt x="164737" y="639883"/>
                </a:lnTo>
                <a:lnTo>
                  <a:pt x="157884" y="627845"/>
                </a:lnTo>
                <a:lnTo>
                  <a:pt x="155757" y="630902"/>
                </a:lnTo>
                <a:lnTo>
                  <a:pt x="148904" y="618864"/>
                </a:lnTo>
                <a:lnTo>
                  <a:pt x="146777" y="621922"/>
                </a:lnTo>
                <a:lnTo>
                  <a:pt x="139924" y="609884"/>
                </a:lnTo>
                <a:lnTo>
                  <a:pt x="137797" y="612942"/>
                </a:lnTo>
                <a:lnTo>
                  <a:pt x="130944" y="600903"/>
                </a:lnTo>
                <a:lnTo>
                  <a:pt x="128816" y="603962"/>
                </a:lnTo>
                <a:lnTo>
                  <a:pt x="121963" y="591924"/>
                </a:lnTo>
                <a:lnTo>
                  <a:pt x="119836" y="594981"/>
                </a:lnTo>
                <a:lnTo>
                  <a:pt x="112983" y="582943"/>
                </a:lnTo>
                <a:lnTo>
                  <a:pt x="110856" y="586001"/>
                </a:lnTo>
                <a:lnTo>
                  <a:pt x="104003" y="573963"/>
                </a:lnTo>
                <a:lnTo>
                  <a:pt x="101876" y="577021"/>
                </a:lnTo>
                <a:lnTo>
                  <a:pt x="95023" y="564983"/>
                </a:lnTo>
                <a:lnTo>
                  <a:pt x="92896" y="568041"/>
                </a:lnTo>
                <a:lnTo>
                  <a:pt x="86043" y="556002"/>
                </a:lnTo>
                <a:lnTo>
                  <a:pt x="83915" y="559060"/>
                </a:lnTo>
                <a:lnTo>
                  <a:pt x="77062" y="547022"/>
                </a:lnTo>
                <a:lnTo>
                  <a:pt x="74935" y="550080"/>
                </a:lnTo>
                <a:lnTo>
                  <a:pt x="68082" y="538042"/>
                </a:lnTo>
                <a:lnTo>
                  <a:pt x="65955" y="541100"/>
                </a:lnTo>
                <a:lnTo>
                  <a:pt x="59102" y="529062"/>
                </a:lnTo>
                <a:lnTo>
                  <a:pt x="56975" y="532120"/>
                </a:lnTo>
                <a:lnTo>
                  <a:pt x="50122" y="520081"/>
                </a:lnTo>
                <a:lnTo>
                  <a:pt x="47994" y="523139"/>
                </a:lnTo>
                <a:lnTo>
                  <a:pt x="45146" y="518137"/>
                </a:lnTo>
                <a:lnTo>
                  <a:pt x="44053" y="519708"/>
                </a:lnTo>
                <a:cubicBezTo>
                  <a:pt x="31353" y="494307"/>
                  <a:pt x="16669" y="468511"/>
                  <a:pt x="0" y="442317"/>
                </a:cubicBezTo>
                <a:cubicBezTo>
                  <a:pt x="37108" y="400645"/>
                  <a:pt x="67270" y="356890"/>
                  <a:pt x="90488" y="311050"/>
                </a:cubicBezTo>
                <a:cubicBezTo>
                  <a:pt x="66080" y="263425"/>
                  <a:pt x="39688" y="213717"/>
                  <a:pt x="11311" y="161925"/>
                </a:cubicBezTo>
                <a:lnTo>
                  <a:pt x="54938" y="141150"/>
                </a:lnTo>
                <a:lnTo>
                  <a:pt x="53554" y="141150"/>
                </a:lnTo>
                <a:lnTo>
                  <a:pt x="53554" y="132170"/>
                </a:lnTo>
                <a:lnTo>
                  <a:pt x="44574" y="132170"/>
                </a:lnTo>
                <a:lnTo>
                  <a:pt x="44574" y="123190"/>
                </a:lnTo>
                <a:lnTo>
                  <a:pt x="35594" y="123190"/>
                </a:lnTo>
                <a:lnTo>
                  <a:pt x="35594" y="114210"/>
                </a:lnTo>
                <a:lnTo>
                  <a:pt x="26614" y="114210"/>
                </a:lnTo>
                <a:lnTo>
                  <a:pt x="26614" y="105229"/>
                </a:lnTo>
                <a:lnTo>
                  <a:pt x="17633" y="105229"/>
                </a:lnTo>
                <a:lnTo>
                  <a:pt x="17633" y="101798"/>
                </a:lnTo>
                <a:lnTo>
                  <a:pt x="13692" y="101798"/>
                </a:lnTo>
                <a:lnTo>
                  <a:pt x="13692" y="26789"/>
                </a:lnTo>
                <a:lnTo>
                  <a:pt x="225624" y="26789"/>
                </a:lnTo>
                <a:lnTo>
                  <a:pt x="225246" y="30220"/>
                </a:lnTo>
                <a:lnTo>
                  <a:pt x="229565" y="30220"/>
                </a:lnTo>
                <a:lnTo>
                  <a:pt x="228575" y="39201"/>
                </a:lnTo>
                <a:lnTo>
                  <a:pt x="238546" y="39201"/>
                </a:lnTo>
                <a:lnTo>
                  <a:pt x="237556" y="48181"/>
                </a:lnTo>
                <a:lnTo>
                  <a:pt x="244674" y="48181"/>
                </a:lnTo>
                <a:close/>
              </a:path>
            </a:pathLst>
          </a:custGeom>
          <a:gradFill rotWithShape="0">
            <a:gsLst>
              <a:gs pos="0">
                <a:srgbClr val="a9d18e">
                  <a:alpha val="53333"/>
                </a:srgbClr>
              </a:gs>
              <a:gs pos="100000">
                <a:srgbClr val="70ad47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任意多边形 11"/>
          <p:cNvSpPr/>
          <p:nvPr/>
        </p:nvSpPr>
        <p:spPr>
          <a:xfrm>
            <a:off x="4591080" y="2994120"/>
            <a:ext cx="1590480" cy="1590480"/>
          </a:xfrm>
          <a:custGeom>
            <a:avLst/>
            <a:gdLst/>
            <a:ahLst/>
            <a:rect l="l" t="t" r="r" b="b"/>
            <a:pathLst>
              <a:path w="1533844" h="1533842">
                <a:moveTo>
                  <a:pt x="766921" y="180973"/>
                </a:moveTo>
                <a:cubicBezTo>
                  <a:pt x="443311" y="180973"/>
                  <a:pt x="180974" y="443310"/>
                  <a:pt x="180974" y="766920"/>
                </a:cubicBezTo>
                <a:cubicBezTo>
                  <a:pt x="180974" y="1090530"/>
                  <a:pt x="443311" y="1352867"/>
                  <a:pt x="766921" y="1352867"/>
                </a:cubicBezTo>
                <a:cubicBezTo>
                  <a:pt x="1090531" y="1352867"/>
                  <a:pt x="1352868" y="1090530"/>
                  <a:pt x="1352868" y="766920"/>
                </a:cubicBezTo>
                <a:cubicBezTo>
                  <a:pt x="1352868" y="443310"/>
                  <a:pt x="1090531" y="180973"/>
                  <a:pt x="766921" y="180973"/>
                </a:cubicBezTo>
                <a:close/>
                <a:moveTo>
                  <a:pt x="766922" y="0"/>
                </a:moveTo>
                <a:cubicBezTo>
                  <a:pt x="1190481" y="0"/>
                  <a:pt x="1533844" y="343362"/>
                  <a:pt x="1533844" y="766921"/>
                </a:cubicBezTo>
                <a:cubicBezTo>
                  <a:pt x="1533844" y="1190480"/>
                  <a:pt x="1190481" y="1533842"/>
                  <a:pt x="766922" y="1533842"/>
                </a:cubicBezTo>
                <a:cubicBezTo>
                  <a:pt x="343363" y="1533842"/>
                  <a:pt x="0" y="1190480"/>
                  <a:pt x="0" y="766921"/>
                </a:cubicBezTo>
                <a:cubicBezTo>
                  <a:pt x="0" y="343362"/>
                  <a:pt x="343363" y="0"/>
                  <a:pt x="766922" y="0"/>
                </a:cubicBezTo>
                <a:close/>
              </a:path>
            </a:pathLst>
          </a:custGeom>
          <a:solidFill>
            <a:srgbClr val="db00bd"/>
          </a:solidFill>
          <a:ln w="0">
            <a:noFill/>
          </a:ln>
          <a:effectLst>
            <a:outerShdw dist="38183" dir="2700000" blurRad="0" rotWithShape="0">
              <a:srgbClr val="48620a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椭圆 22"/>
          <p:cNvSpPr/>
          <p:nvPr/>
        </p:nvSpPr>
        <p:spPr>
          <a:xfrm>
            <a:off x="4676760" y="3079800"/>
            <a:ext cx="1405080" cy="140328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1" name="文本框 23"/>
          <p:cNvSpPr/>
          <p:nvPr/>
        </p:nvSpPr>
        <p:spPr>
          <a:xfrm>
            <a:off x="6673680" y="3440160"/>
            <a:ext cx="1121040" cy="1103400"/>
          </a:xfrm>
          <a:custGeom>
            <a:avLst/>
            <a:gdLst/>
            <a:ahLst/>
            <a:rect l="l" t="t" r="r" b="b"/>
            <a:pathLst>
              <a:path w="970228" h="955344">
                <a:moveTo>
                  <a:pt x="547092" y="0"/>
                </a:moveTo>
                <a:lnTo>
                  <a:pt x="549460" y="11951"/>
                </a:lnTo>
                <a:lnTo>
                  <a:pt x="553392" y="11758"/>
                </a:lnTo>
                <a:lnTo>
                  <a:pt x="555241" y="21089"/>
                </a:lnTo>
                <a:lnTo>
                  <a:pt x="562372" y="20739"/>
                </a:lnTo>
                <a:lnTo>
                  <a:pt x="564221" y="30069"/>
                </a:lnTo>
                <a:lnTo>
                  <a:pt x="571353" y="29719"/>
                </a:lnTo>
                <a:lnTo>
                  <a:pt x="573202" y="39049"/>
                </a:lnTo>
                <a:lnTo>
                  <a:pt x="580333" y="38699"/>
                </a:lnTo>
                <a:lnTo>
                  <a:pt x="582182" y="48029"/>
                </a:lnTo>
                <a:lnTo>
                  <a:pt x="589313" y="47679"/>
                </a:lnTo>
                <a:lnTo>
                  <a:pt x="591162" y="57009"/>
                </a:lnTo>
                <a:lnTo>
                  <a:pt x="598293" y="56659"/>
                </a:lnTo>
                <a:lnTo>
                  <a:pt x="600142" y="65990"/>
                </a:lnTo>
                <a:lnTo>
                  <a:pt x="607274" y="65640"/>
                </a:lnTo>
                <a:lnTo>
                  <a:pt x="609123" y="74970"/>
                </a:lnTo>
                <a:lnTo>
                  <a:pt x="616254" y="74620"/>
                </a:lnTo>
                <a:lnTo>
                  <a:pt x="618103" y="83950"/>
                </a:lnTo>
                <a:lnTo>
                  <a:pt x="625234" y="83600"/>
                </a:lnTo>
                <a:lnTo>
                  <a:pt x="627083" y="92931"/>
                </a:lnTo>
                <a:lnTo>
                  <a:pt x="634214" y="92581"/>
                </a:lnTo>
                <a:lnTo>
                  <a:pt x="636063" y="101911"/>
                </a:lnTo>
                <a:lnTo>
                  <a:pt x="643195" y="101561"/>
                </a:lnTo>
                <a:lnTo>
                  <a:pt x="645044" y="110891"/>
                </a:lnTo>
                <a:lnTo>
                  <a:pt x="652175" y="110541"/>
                </a:lnTo>
                <a:lnTo>
                  <a:pt x="654024" y="119871"/>
                </a:lnTo>
                <a:lnTo>
                  <a:pt x="661155" y="119521"/>
                </a:lnTo>
                <a:lnTo>
                  <a:pt x="663004" y="128852"/>
                </a:lnTo>
                <a:lnTo>
                  <a:pt x="670135" y="128502"/>
                </a:lnTo>
                <a:lnTo>
                  <a:pt x="671984" y="137832"/>
                </a:lnTo>
                <a:lnTo>
                  <a:pt x="679116" y="137482"/>
                </a:lnTo>
                <a:lnTo>
                  <a:pt x="680965" y="146812"/>
                </a:lnTo>
                <a:lnTo>
                  <a:pt x="688096" y="146462"/>
                </a:lnTo>
                <a:lnTo>
                  <a:pt x="689945" y="155792"/>
                </a:lnTo>
                <a:lnTo>
                  <a:pt x="697076" y="155442"/>
                </a:lnTo>
                <a:lnTo>
                  <a:pt x="698925" y="164773"/>
                </a:lnTo>
                <a:lnTo>
                  <a:pt x="706056" y="164423"/>
                </a:lnTo>
                <a:lnTo>
                  <a:pt x="707905" y="173753"/>
                </a:lnTo>
                <a:lnTo>
                  <a:pt x="715037" y="173403"/>
                </a:lnTo>
                <a:lnTo>
                  <a:pt x="716886" y="182733"/>
                </a:lnTo>
                <a:lnTo>
                  <a:pt x="724017" y="182383"/>
                </a:lnTo>
                <a:lnTo>
                  <a:pt x="725866" y="191713"/>
                </a:lnTo>
                <a:lnTo>
                  <a:pt x="732997" y="191363"/>
                </a:lnTo>
                <a:lnTo>
                  <a:pt x="734846" y="200694"/>
                </a:lnTo>
                <a:lnTo>
                  <a:pt x="741977" y="200344"/>
                </a:lnTo>
                <a:lnTo>
                  <a:pt x="743826" y="209674"/>
                </a:lnTo>
                <a:lnTo>
                  <a:pt x="750958" y="209324"/>
                </a:lnTo>
                <a:lnTo>
                  <a:pt x="752807" y="218654"/>
                </a:lnTo>
                <a:lnTo>
                  <a:pt x="759938" y="218304"/>
                </a:lnTo>
                <a:lnTo>
                  <a:pt x="761787" y="227634"/>
                </a:lnTo>
                <a:lnTo>
                  <a:pt x="768918" y="227284"/>
                </a:lnTo>
                <a:lnTo>
                  <a:pt x="770767" y="236615"/>
                </a:lnTo>
                <a:lnTo>
                  <a:pt x="774310" y="236441"/>
                </a:lnTo>
                <a:lnTo>
                  <a:pt x="775989" y="234763"/>
                </a:lnTo>
                <a:lnTo>
                  <a:pt x="777510" y="236284"/>
                </a:lnTo>
                <a:lnTo>
                  <a:pt x="777899" y="236265"/>
                </a:lnTo>
                <a:lnTo>
                  <a:pt x="778000" y="236774"/>
                </a:lnTo>
                <a:lnTo>
                  <a:pt x="786490" y="245264"/>
                </a:lnTo>
                <a:lnTo>
                  <a:pt x="786879" y="245245"/>
                </a:lnTo>
                <a:lnTo>
                  <a:pt x="786980" y="245754"/>
                </a:lnTo>
                <a:lnTo>
                  <a:pt x="795470" y="254244"/>
                </a:lnTo>
                <a:lnTo>
                  <a:pt x="795859" y="254225"/>
                </a:lnTo>
                <a:lnTo>
                  <a:pt x="795960" y="254734"/>
                </a:lnTo>
                <a:lnTo>
                  <a:pt x="804450" y="263224"/>
                </a:lnTo>
                <a:lnTo>
                  <a:pt x="804840" y="263205"/>
                </a:lnTo>
                <a:lnTo>
                  <a:pt x="804941" y="263715"/>
                </a:lnTo>
                <a:lnTo>
                  <a:pt x="970228" y="429003"/>
                </a:lnTo>
                <a:lnTo>
                  <a:pt x="969583" y="435405"/>
                </a:lnTo>
                <a:cubicBezTo>
                  <a:pt x="923666" y="659797"/>
                  <a:pt x="768731" y="844477"/>
                  <a:pt x="562535" y="931691"/>
                </a:cubicBezTo>
                <a:lnTo>
                  <a:pt x="486336" y="955344"/>
                </a:lnTo>
                <a:lnTo>
                  <a:pt x="368078" y="837086"/>
                </a:lnTo>
                <a:lnTo>
                  <a:pt x="363118" y="837086"/>
                </a:lnTo>
                <a:lnTo>
                  <a:pt x="363118" y="832126"/>
                </a:lnTo>
                <a:lnTo>
                  <a:pt x="359098" y="828106"/>
                </a:lnTo>
                <a:lnTo>
                  <a:pt x="354137" y="828106"/>
                </a:lnTo>
                <a:lnTo>
                  <a:pt x="354137" y="823145"/>
                </a:lnTo>
                <a:lnTo>
                  <a:pt x="350118" y="819126"/>
                </a:lnTo>
                <a:lnTo>
                  <a:pt x="345157" y="819126"/>
                </a:lnTo>
                <a:lnTo>
                  <a:pt x="345157" y="814165"/>
                </a:lnTo>
                <a:lnTo>
                  <a:pt x="341138" y="810146"/>
                </a:lnTo>
                <a:lnTo>
                  <a:pt x="336177" y="810146"/>
                </a:lnTo>
                <a:lnTo>
                  <a:pt x="336177" y="805185"/>
                </a:lnTo>
                <a:lnTo>
                  <a:pt x="332157" y="801165"/>
                </a:lnTo>
                <a:lnTo>
                  <a:pt x="327196" y="801165"/>
                </a:lnTo>
                <a:lnTo>
                  <a:pt x="327196" y="796204"/>
                </a:lnTo>
                <a:lnTo>
                  <a:pt x="323177" y="792185"/>
                </a:lnTo>
                <a:lnTo>
                  <a:pt x="318216" y="792185"/>
                </a:lnTo>
                <a:lnTo>
                  <a:pt x="318216" y="787224"/>
                </a:lnTo>
                <a:lnTo>
                  <a:pt x="314197" y="783205"/>
                </a:lnTo>
                <a:lnTo>
                  <a:pt x="309236" y="783205"/>
                </a:lnTo>
                <a:lnTo>
                  <a:pt x="309236" y="778244"/>
                </a:lnTo>
                <a:lnTo>
                  <a:pt x="305217" y="774225"/>
                </a:lnTo>
                <a:lnTo>
                  <a:pt x="300255" y="774225"/>
                </a:lnTo>
                <a:lnTo>
                  <a:pt x="300255" y="769263"/>
                </a:lnTo>
                <a:lnTo>
                  <a:pt x="296236" y="765244"/>
                </a:lnTo>
                <a:lnTo>
                  <a:pt x="291275" y="765244"/>
                </a:lnTo>
                <a:lnTo>
                  <a:pt x="291275" y="760283"/>
                </a:lnTo>
                <a:lnTo>
                  <a:pt x="287256" y="756264"/>
                </a:lnTo>
                <a:lnTo>
                  <a:pt x="282295" y="756264"/>
                </a:lnTo>
                <a:lnTo>
                  <a:pt x="282295" y="751303"/>
                </a:lnTo>
                <a:lnTo>
                  <a:pt x="278276" y="747284"/>
                </a:lnTo>
                <a:lnTo>
                  <a:pt x="273315" y="747284"/>
                </a:lnTo>
                <a:lnTo>
                  <a:pt x="273315" y="742323"/>
                </a:lnTo>
                <a:lnTo>
                  <a:pt x="270872" y="739879"/>
                </a:lnTo>
                <a:lnTo>
                  <a:pt x="272447" y="738304"/>
                </a:lnTo>
                <a:lnTo>
                  <a:pt x="264334" y="738304"/>
                </a:lnTo>
                <a:lnTo>
                  <a:pt x="264334" y="729323"/>
                </a:lnTo>
                <a:lnTo>
                  <a:pt x="255354" y="729323"/>
                </a:lnTo>
                <a:lnTo>
                  <a:pt x="255354" y="720343"/>
                </a:lnTo>
                <a:lnTo>
                  <a:pt x="246374" y="720343"/>
                </a:lnTo>
                <a:lnTo>
                  <a:pt x="246374" y="711363"/>
                </a:lnTo>
                <a:lnTo>
                  <a:pt x="237394" y="711363"/>
                </a:lnTo>
                <a:lnTo>
                  <a:pt x="237394" y="702383"/>
                </a:lnTo>
                <a:lnTo>
                  <a:pt x="228413" y="702383"/>
                </a:lnTo>
                <a:lnTo>
                  <a:pt x="228413" y="693402"/>
                </a:lnTo>
                <a:lnTo>
                  <a:pt x="219433" y="693402"/>
                </a:lnTo>
                <a:lnTo>
                  <a:pt x="219433" y="684422"/>
                </a:lnTo>
                <a:lnTo>
                  <a:pt x="210453" y="684422"/>
                </a:lnTo>
                <a:lnTo>
                  <a:pt x="210453" y="675442"/>
                </a:lnTo>
                <a:lnTo>
                  <a:pt x="201473" y="675442"/>
                </a:lnTo>
                <a:lnTo>
                  <a:pt x="201473" y="666462"/>
                </a:lnTo>
                <a:lnTo>
                  <a:pt x="192492" y="666462"/>
                </a:lnTo>
                <a:lnTo>
                  <a:pt x="192492" y="657481"/>
                </a:lnTo>
                <a:lnTo>
                  <a:pt x="183512" y="657481"/>
                </a:lnTo>
                <a:lnTo>
                  <a:pt x="183512" y="648501"/>
                </a:lnTo>
                <a:lnTo>
                  <a:pt x="174532" y="648501"/>
                </a:lnTo>
                <a:lnTo>
                  <a:pt x="174532" y="639521"/>
                </a:lnTo>
                <a:lnTo>
                  <a:pt x="165552" y="639521"/>
                </a:lnTo>
                <a:lnTo>
                  <a:pt x="165552" y="630540"/>
                </a:lnTo>
                <a:lnTo>
                  <a:pt x="156571" y="630540"/>
                </a:lnTo>
                <a:lnTo>
                  <a:pt x="156571" y="621560"/>
                </a:lnTo>
                <a:lnTo>
                  <a:pt x="147591" y="621560"/>
                </a:lnTo>
                <a:lnTo>
                  <a:pt x="147591" y="612580"/>
                </a:lnTo>
                <a:lnTo>
                  <a:pt x="138611" y="612580"/>
                </a:lnTo>
                <a:lnTo>
                  <a:pt x="138611" y="603600"/>
                </a:lnTo>
                <a:lnTo>
                  <a:pt x="129631" y="603600"/>
                </a:lnTo>
                <a:lnTo>
                  <a:pt x="129631" y="594620"/>
                </a:lnTo>
                <a:lnTo>
                  <a:pt x="120650" y="594620"/>
                </a:lnTo>
                <a:lnTo>
                  <a:pt x="120650" y="585639"/>
                </a:lnTo>
                <a:lnTo>
                  <a:pt x="111670" y="585639"/>
                </a:lnTo>
                <a:lnTo>
                  <a:pt x="111670" y="573881"/>
                </a:lnTo>
                <a:lnTo>
                  <a:pt x="105370" y="573881"/>
                </a:lnTo>
                <a:lnTo>
                  <a:pt x="105370" y="517640"/>
                </a:lnTo>
                <a:lnTo>
                  <a:pt x="101904" y="520509"/>
                </a:lnTo>
                <a:lnTo>
                  <a:pt x="97190" y="507997"/>
                </a:lnTo>
                <a:lnTo>
                  <a:pt x="92924" y="511529"/>
                </a:lnTo>
                <a:lnTo>
                  <a:pt x="88210" y="499015"/>
                </a:lnTo>
                <a:lnTo>
                  <a:pt x="83943" y="502548"/>
                </a:lnTo>
                <a:lnTo>
                  <a:pt x="79229" y="490036"/>
                </a:lnTo>
                <a:lnTo>
                  <a:pt x="74963" y="493568"/>
                </a:lnTo>
                <a:lnTo>
                  <a:pt x="70249" y="481056"/>
                </a:lnTo>
                <a:lnTo>
                  <a:pt x="65983" y="484588"/>
                </a:lnTo>
                <a:lnTo>
                  <a:pt x="61269" y="472076"/>
                </a:lnTo>
                <a:lnTo>
                  <a:pt x="57003" y="475608"/>
                </a:lnTo>
                <a:lnTo>
                  <a:pt x="52289" y="463095"/>
                </a:lnTo>
                <a:lnTo>
                  <a:pt x="48022" y="466628"/>
                </a:lnTo>
                <a:lnTo>
                  <a:pt x="43308" y="454115"/>
                </a:lnTo>
                <a:lnTo>
                  <a:pt x="39042" y="457647"/>
                </a:lnTo>
                <a:lnTo>
                  <a:pt x="34168" y="444709"/>
                </a:lnTo>
                <a:lnTo>
                  <a:pt x="32742" y="445889"/>
                </a:lnTo>
                <a:cubicBezTo>
                  <a:pt x="23217" y="415329"/>
                  <a:pt x="12303" y="386357"/>
                  <a:pt x="0" y="358973"/>
                </a:cubicBezTo>
                <a:lnTo>
                  <a:pt x="70948" y="308060"/>
                </a:lnTo>
                <a:lnTo>
                  <a:pt x="70948" y="302574"/>
                </a:lnTo>
                <a:lnTo>
                  <a:pt x="61968" y="302574"/>
                </a:lnTo>
                <a:lnTo>
                  <a:pt x="61968" y="293593"/>
                </a:lnTo>
                <a:lnTo>
                  <a:pt x="52987" y="293593"/>
                </a:lnTo>
                <a:lnTo>
                  <a:pt x="52987" y="284613"/>
                </a:lnTo>
                <a:lnTo>
                  <a:pt x="44007" y="284613"/>
                </a:lnTo>
                <a:lnTo>
                  <a:pt x="44007" y="275633"/>
                </a:lnTo>
                <a:lnTo>
                  <a:pt x="35027" y="275633"/>
                </a:lnTo>
                <a:lnTo>
                  <a:pt x="35027" y="266653"/>
                </a:lnTo>
                <a:lnTo>
                  <a:pt x="26047" y="266653"/>
                </a:lnTo>
                <a:lnTo>
                  <a:pt x="26047" y="257673"/>
                </a:lnTo>
                <a:lnTo>
                  <a:pt x="17066" y="257673"/>
                </a:lnTo>
                <a:lnTo>
                  <a:pt x="17066" y="248692"/>
                </a:lnTo>
                <a:lnTo>
                  <a:pt x="8086" y="248692"/>
                </a:lnTo>
                <a:lnTo>
                  <a:pt x="8086" y="236934"/>
                </a:lnTo>
                <a:lnTo>
                  <a:pt x="1786" y="236934"/>
                </a:lnTo>
                <a:lnTo>
                  <a:pt x="1786" y="182761"/>
                </a:lnTo>
                <a:lnTo>
                  <a:pt x="80270" y="182761"/>
                </a:lnTo>
                <a:lnTo>
                  <a:pt x="80270" y="182119"/>
                </a:lnTo>
                <a:lnTo>
                  <a:pt x="71290" y="182119"/>
                </a:lnTo>
                <a:lnTo>
                  <a:pt x="71290" y="173139"/>
                </a:lnTo>
                <a:lnTo>
                  <a:pt x="62309" y="173139"/>
                </a:lnTo>
                <a:lnTo>
                  <a:pt x="62309" y="164158"/>
                </a:lnTo>
                <a:lnTo>
                  <a:pt x="53329" y="164158"/>
                </a:lnTo>
                <a:lnTo>
                  <a:pt x="53329" y="152400"/>
                </a:lnTo>
                <a:lnTo>
                  <a:pt x="47029" y="152400"/>
                </a:lnTo>
                <a:lnTo>
                  <a:pt x="47029" y="101203"/>
                </a:lnTo>
                <a:lnTo>
                  <a:pt x="64960" y="101203"/>
                </a:lnTo>
                <a:lnTo>
                  <a:pt x="64562" y="98546"/>
                </a:lnTo>
                <a:lnTo>
                  <a:pt x="56951" y="98725"/>
                </a:lnTo>
                <a:lnTo>
                  <a:pt x="55581" y="89565"/>
                </a:lnTo>
                <a:lnTo>
                  <a:pt x="47971" y="89744"/>
                </a:lnTo>
                <a:lnTo>
                  <a:pt x="46197" y="77879"/>
                </a:lnTo>
                <a:lnTo>
                  <a:pt x="41671" y="77986"/>
                </a:lnTo>
                <a:cubicBezTo>
                  <a:pt x="39290" y="55364"/>
                  <a:pt x="36115" y="34131"/>
                  <a:pt x="32146" y="14287"/>
                </a:cubicBezTo>
                <a:cubicBezTo>
                  <a:pt x="230584" y="13097"/>
                  <a:pt x="402232" y="8334"/>
                  <a:pt x="547092" y="0"/>
                </a:cubicBezTo>
                <a:close/>
              </a:path>
            </a:pathLst>
          </a:custGeom>
          <a:gradFill rotWithShape="0">
            <a:gsLst>
              <a:gs pos="0">
                <a:srgbClr val="a9d18e">
                  <a:alpha val="53333"/>
                </a:srgbClr>
              </a:gs>
              <a:gs pos="100000">
                <a:srgbClr val="70ad47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2" name="任意多边形 15"/>
          <p:cNvSpPr/>
          <p:nvPr/>
        </p:nvSpPr>
        <p:spPr>
          <a:xfrm>
            <a:off x="6218280" y="2994120"/>
            <a:ext cx="1590480" cy="1590480"/>
          </a:xfrm>
          <a:custGeom>
            <a:avLst/>
            <a:gdLst/>
            <a:ahLst/>
            <a:rect l="l" t="t" r="r" b="b"/>
            <a:pathLst>
              <a:path w="1533844" h="1533842">
                <a:moveTo>
                  <a:pt x="766921" y="180973"/>
                </a:moveTo>
                <a:cubicBezTo>
                  <a:pt x="443311" y="180973"/>
                  <a:pt x="180974" y="443310"/>
                  <a:pt x="180974" y="766920"/>
                </a:cubicBezTo>
                <a:cubicBezTo>
                  <a:pt x="180974" y="1090530"/>
                  <a:pt x="443311" y="1352867"/>
                  <a:pt x="766921" y="1352867"/>
                </a:cubicBezTo>
                <a:cubicBezTo>
                  <a:pt x="1090531" y="1352867"/>
                  <a:pt x="1352868" y="1090530"/>
                  <a:pt x="1352868" y="766920"/>
                </a:cubicBezTo>
                <a:cubicBezTo>
                  <a:pt x="1352868" y="443310"/>
                  <a:pt x="1090531" y="180973"/>
                  <a:pt x="766921" y="180973"/>
                </a:cubicBezTo>
                <a:close/>
                <a:moveTo>
                  <a:pt x="766922" y="0"/>
                </a:moveTo>
                <a:cubicBezTo>
                  <a:pt x="1190481" y="0"/>
                  <a:pt x="1533844" y="343362"/>
                  <a:pt x="1533844" y="766921"/>
                </a:cubicBezTo>
                <a:cubicBezTo>
                  <a:pt x="1533844" y="1190480"/>
                  <a:pt x="1190481" y="1533842"/>
                  <a:pt x="766922" y="1533842"/>
                </a:cubicBezTo>
                <a:cubicBezTo>
                  <a:pt x="343363" y="1533842"/>
                  <a:pt x="0" y="1190480"/>
                  <a:pt x="0" y="766921"/>
                </a:cubicBezTo>
                <a:cubicBezTo>
                  <a:pt x="0" y="343362"/>
                  <a:pt x="343363" y="0"/>
                  <a:pt x="766922" y="0"/>
                </a:cubicBezTo>
                <a:close/>
              </a:path>
            </a:pathLst>
          </a:custGeom>
          <a:solidFill>
            <a:srgbClr val="db00bd"/>
          </a:solidFill>
          <a:ln w="0">
            <a:noFill/>
          </a:ln>
          <a:effectLst>
            <a:outerShdw dist="38183" dir="2700000" blurRad="0" rotWithShape="0">
              <a:srgbClr val="48620a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3" name="椭圆 25"/>
          <p:cNvSpPr/>
          <p:nvPr/>
        </p:nvSpPr>
        <p:spPr>
          <a:xfrm>
            <a:off x="6311880" y="3079800"/>
            <a:ext cx="1403280" cy="140328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4" name="任意多边形 17"/>
          <p:cNvSpPr/>
          <p:nvPr/>
        </p:nvSpPr>
        <p:spPr>
          <a:xfrm>
            <a:off x="1785960" y="3465360"/>
            <a:ext cx="1120680" cy="1121040"/>
          </a:xfrm>
          <a:custGeom>
            <a:avLst/>
            <a:gdLst/>
            <a:ahLst/>
            <a:rect l="l" t="t" r="r" b="b"/>
            <a:pathLst>
              <a:path w="970530" h="968938">
                <a:moveTo>
                  <a:pt x="157193" y="238654"/>
                </a:moveTo>
                <a:lnTo>
                  <a:pt x="154926" y="240047"/>
                </a:lnTo>
                <a:lnTo>
                  <a:pt x="158049" y="240047"/>
                </a:lnTo>
                <a:close/>
                <a:moveTo>
                  <a:pt x="152692" y="236963"/>
                </a:moveTo>
                <a:lnTo>
                  <a:pt x="152692" y="240047"/>
                </a:lnTo>
                <a:lnTo>
                  <a:pt x="154587" y="240047"/>
                </a:lnTo>
                <a:close/>
                <a:moveTo>
                  <a:pt x="148213" y="229675"/>
                </a:moveTo>
                <a:lnTo>
                  <a:pt x="145947" y="231066"/>
                </a:lnTo>
                <a:lnTo>
                  <a:pt x="149068" y="231066"/>
                </a:lnTo>
                <a:close/>
                <a:moveTo>
                  <a:pt x="143712" y="227983"/>
                </a:moveTo>
                <a:lnTo>
                  <a:pt x="143712" y="231066"/>
                </a:lnTo>
                <a:lnTo>
                  <a:pt x="145606" y="231066"/>
                </a:lnTo>
                <a:close/>
                <a:moveTo>
                  <a:pt x="139233" y="220695"/>
                </a:moveTo>
                <a:lnTo>
                  <a:pt x="136967" y="222086"/>
                </a:lnTo>
                <a:lnTo>
                  <a:pt x="140088" y="222086"/>
                </a:lnTo>
                <a:close/>
                <a:moveTo>
                  <a:pt x="134732" y="219003"/>
                </a:moveTo>
                <a:lnTo>
                  <a:pt x="134732" y="222086"/>
                </a:lnTo>
                <a:lnTo>
                  <a:pt x="136626" y="222086"/>
                </a:lnTo>
                <a:close/>
                <a:moveTo>
                  <a:pt x="130253" y="211715"/>
                </a:moveTo>
                <a:lnTo>
                  <a:pt x="127987" y="213106"/>
                </a:lnTo>
                <a:lnTo>
                  <a:pt x="131108" y="213106"/>
                </a:lnTo>
                <a:close/>
                <a:moveTo>
                  <a:pt x="125752" y="210023"/>
                </a:moveTo>
                <a:lnTo>
                  <a:pt x="125752" y="213106"/>
                </a:lnTo>
                <a:lnTo>
                  <a:pt x="127646" y="213106"/>
                </a:lnTo>
                <a:close/>
                <a:moveTo>
                  <a:pt x="121272" y="202733"/>
                </a:moveTo>
                <a:lnTo>
                  <a:pt x="119005" y="204126"/>
                </a:lnTo>
                <a:lnTo>
                  <a:pt x="122128" y="204126"/>
                </a:lnTo>
                <a:close/>
                <a:moveTo>
                  <a:pt x="116771" y="201042"/>
                </a:moveTo>
                <a:lnTo>
                  <a:pt x="116771" y="204126"/>
                </a:lnTo>
                <a:lnTo>
                  <a:pt x="118666" y="204126"/>
                </a:lnTo>
                <a:close/>
                <a:moveTo>
                  <a:pt x="112292" y="193754"/>
                </a:moveTo>
                <a:lnTo>
                  <a:pt x="111919" y="193983"/>
                </a:lnTo>
                <a:lnTo>
                  <a:pt x="111919" y="195145"/>
                </a:lnTo>
                <a:lnTo>
                  <a:pt x="113147" y="195145"/>
                </a:lnTo>
                <a:close/>
                <a:moveTo>
                  <a:pt x="233958" y="0"/>
                </a:moveTo>
                <a:lnTo>
                  <a:pt x="320874" y="8930"/>
                </a:lnTo>
                <a:lnTo>
                  <a:pt x="315034" y="21406"/>
                </a:lnTo>
                <a:lnTo>
                  <a:pt x="325726" y="22505"/>
                </a:lnTo>
                <a:lnTo>
                  <a:pt x="322127" y="30193"/>
                </a:lnTo>
                <a:lnTo>
                  <a:pt x="334707" y="31486"/>
                </a:lnTo>
                <a:lnTo>
                  <a:pt x="331109" y="39174"/>
                </a:lnTo>
                <a:lnTo>
                  <a:pt x="343687" y="40466"/>
                </a:lnTo>
                <a:lnTo>
                  <a:pt x="340089" y="48154"/>
                </a:lnTo>
                <a:lnTo>
                  <a:pt x="352667" y="49446"/>
                </a:lnTo>
                <a:lnTo>
                  <a:pt x="349069" y="57134"/>
                </a:lnTo>
                <a:lnTo>
                  <a:pt x="361647" y="58426"/>
                </a:lnTo>
                <a:lnTo>
                  <a:pt x="358622" y="64889"/>
                </a:lnTo>
                <a:lnTo>
                  <a:pt x="370285" y="64889"/>
                </a:lnTo>
                <a:lnTo>
                  <a:pt x="370285" y="67372"/>
                </a:lnTo>
                <a:lnTo>
                  <a:pt x="370628" y="67407"/>
                </a:lnTo>
                <a:lnTo>
                  <a:pt x="370285" y="68140"/>
                </a:lnTo>
                <a:lnTo>
                  <a:pt x="370285" y="75429"/>
                </a:lnTo>
                <a:lnTo>
                  <a:pt x="379608" y="76387"/>
                </a:lnTo>
                <a:lnTo>
                  <a:pt x="376010" y="84075"/>
                </a:lnTo>
                <a:lnTo>
                  <a:pt x="388588" y="85367"/>
                </a:lnTo>
                <a:lnTo>
                  <a:pt x="384990" y="93055"/>
                </a:lnTo>
                <a:lnTo>
                  <a:pt x="397568" y="94347"/>
                </a:lnTo>
                <a:lnTo>
                  <a:pt x="393969" y="102035"/>
                </a:lnTo>
                <a:lnTo>
                  <a:pt x="406549" y="103328"/>
                </a:lnTo>
                <a:lnTo>
                  <a:pt x="402951" y="111015"/>
                </a:lnTo>
                <a:lnTo>
                  <a:pt x="415529" y="112308"/>
                </a:lnTo>
                <a:lnTo>
                  <a:pt x="413482" y="116681"/>
                </a:lnTo>
                <a:lnTo>
                  <a:pt x="478036" y="116681"/>
                </a:lnTo>
                <a:lnTo>
                  <a:pt x="478036" y="10120"/>
                </a:lnTo>
                <a:lnTo>
                  <a:pt x="551260" y="10120"/>
                </a:lnTo>
                <a:lnTo>
                  <a:pt x="551260" y="23695"/>
                </a:lnTo>
                <a:lnTo>
                  <a:pt x="556112" y="23695"/>
                </a:lnTo>
                <a:lnTo>
                  <a:pt x="556112" y="32676"/>
                </a:lnTo>
                <a:lnTo>
                  <a:pt x="565093" y="32676"/>
                </a:lnTo>
                <a:lnTo>
                  <a:pt x="565093" y="41656"/>
                </a:lnTo>
                <a:lnTo>
                  <a:pt x="574073" y="41656"/>
                </a:lnTo>
                <a:lnTo>
                  <a:pt x="574073" y="50636"/>
                </a:lnTo>
                <a:lnTo>
                  <a:pt x="583053" y="50636"/>
                </a:lnTo>
                <a:lnTo>
                  <a:pt x="583053" y="59616"/>
                </a:lnTo>
                <a:lnTo>
                  <a:pt x="592033" y="59616"/>
                </a:lnTo>
                <a:lnTo>
                  <a:pt x="592033" y="68597"/>
                </a:lnTo>
                <a:lnTo>
                  <a:pt x="601014" y="68597"/>
                </a:lnTo>
                <a:lnTo>
                  <a:pt x="601014" y="77577"/>
                </a:lnTo>
                <a:lnTo>
                  <a:pt x="609994" y="77577"/>
                </a:lnTo>
                <a:lnTo>
                  <a:pt x="609994" y="86557"/>
                </a:lnTo>
                <a:lnTo>
                  <a:pt x="618974" y="86557"/>
                </a:lnTo>
                <a:lnTo>
                  <a:pt x="618974" y="95537"/>
                </a:lnTo>
                <a:lnTo>
                  <a:pt x="627954" y="95537"/>
                </a:lnTo>
                <a:lnTo>
                  <a:pt x="627954" y="104518"/>
                </a:lnTo>
                <a:lnTo>
                  <a:pt x="636935" y="104518"/>
                </a:lnTo>
                <a:lnTo>
                  <a:pt x="636935" y="113498"/>
                </a:lnTo>
                <a:lnTo>
                  <a:pt x="645915" y="113498"/>
                </a:lnTo>
                <a:lnTo>
                  <a:pt x="645915" y="122478"/>
                </a:lnTo>
                <a:lnTo>
                  <a:pt x="654895" y="122478"/>
                </a:lnTo>
                <a:lnTo>
                  <a:pt x="654895" y="131458"/>
                </a:lnTo>
                <a:lnTo>
                  <a:pt x="663875" y="131458"/>
                </a:lnTo>
                <a:lnTo>
                  <a:pt x="663875" y="140439"/>
                </a:lnTo>
                <a:lnTo>
                  <a:pt x="672856" y="140439"/>
                </a:lnTo>
                <a:lnTo>
                  <a:pt x="672856" y="149419"/>
                </a:lnTo>
                <a:lnTo>
                  <a:pt x="681836" y="149419"/>
                </a:lnTo>
                <a:lnTo>
                  <a:pt x="681836" y="158399"/>
                </a:lnTo>
                <a:lnTo>
                  <a:pt x="690816" y="158399"/>
                </a:lnTo>
                <a:lnTo>
                  <a:pt x="690816" y="167379"/>
                </a:lnTo>
                <a:lnTo>
                  <a:pt x="699796" y="167379"/>
                </a:lnTo>
                <a:lnTo>
                  <a:pt x="699796" y="176360"/>
                </a:lnTo>
                <a:lnTo>
                  <a:pt x="708777" y="176360"/>
                </a:lnTo>
                <a:lnTo>
                  <a:pt x="708777" y="185340"/>
                </a:lnTo>
                <a:lnTo>
                  <a:pt x="717757" y="185340"/>
                </a:lnTo>
                <a:lnTo>
                  <a:pt x="717757" y="194320"/>
                </a:lnTo>
                <a:lnTo>
                  <a:pt x="726737" y="194320"/>
                </a:lnTo>
                <a:lnTo>
                  <a:pt x="726737" y="203300"/>
                </a:lnTo>
                <a:lnTo>
                  <a:pt x="735717" y="203300"/>
                </a:lnTo>
                <a:lnTo>
                  <a:pt x="735717" y="212280"/>
                </a:lnTo>
                <a:lnTo>
                  <a:pt x="744697" y="212280"/>
                </a:lnTo>
                <a:lnTo>
                  <a:pt x="744697" y="221261"/>
                </a:lnTo>
                <a:lnTo>
                  <a:pt x="753678" y="221261"/>
                </a:lnTo>
                <a:lnTo>
                  <a:pt x="753678" y="230241"/>
                </a:lnTo>
                <a:lnTo>
                  <a:pt x="762658" y="230241"/>
                </a:lnTo>
                <a:lnTo>
                  <a:pt x="762658" y="239221"/>
                </a:lnTo>
                <a:lnTo>
                  <a:pt x="771638" y="239221"/>
                </a:lnTo>
                <a:lnTo>
                  <a:pt x="771638" y="248202"/>
                </a:lnTo>
                <a:lnTo>
                  <a:pt x="780619" y="248202"/>
                </a:lnTo>
                <a:lnTo>
                  <a:pt x="780619" y="256174"/>
                </a:lnTo>
                <a:lnTo>
                  <a:pt x="781627" y="257182"/>
                </a:lnTo>
                <a:lnTo>
                  <a:pt x="789599" y="257182"/>
                </a:lnTo>
                <a:lnTo>
                  <a:pt x="789599" y="265154"/>
                </a:lnTo>
                <a:lnTo>
                  <a:pt x="790607" y="266162"/>
                </a:lnTo>
                <a:lnTo>
                  <a:pt x="798579" y="266162"/>
                </a:lnTo>
                <a:lnTo>
                  <a:pt x="798579" y="274134"/>
                </a:lnTo>
                <a:lnTo>
                  <a:pt x="799588" y="275143"/>
                </a:lnTo>
                <a:lnTo>
                  <a:pt x="807560" y="275143"/>
                </a:lnTo>
                <a:lnTo>
                  <a:pt x="807560" y="283115"/>
                </a:lnTo>
                <a:lnTo>
                  <a:pt x="970530" y="446085"/>
                </a:lnTo>
                <a:lnTo>
                  <a:pt x="934646" y="561686"/>
                </a:lnTo>
                <a:cubicBezTo>
                  <a:pt x="847432" y="767882"/>
                  <a:pt x="662752" y="922817"/>
                  <a:pt x="438360" y="968734"/>
                </a:cubicBezTo>
                <a:lnTo>
                  <a:pt x="436340" y="968938"/>
                </a:lnTo>
                <a:lnTo>
                  <a:pt x="246591" y="779189"/>
                </a:lnTo>
                <a:lnTo>
                  <a:pt x="248087" y="777693"/>
                </a:lnTo>
                <a:lnTo>
                  <a:pt x="240094" y="768036"/>
                </a:lnTo>
                <a:lnTo>
                  <a:pt x="239176" y="768797"/>
                </a:lnTo>
                <a:lnTo>
                  <a:pt x="231114" y="759056"/>
                </a:lnTo>
                <a:lnTo>
                  <a:pt x="230196" y="759817"/>
                </a:lnTo>
                <a:lnTo>
                  <a:pt x="222134" y="750076"/>
                </a:lnTo>
                <a:lnTo>
                  <a:pt x="221216" y="750837"/>
                </a:lnTo>
                <a:lnTo>
                  <a:pt x="213153" y="741094"/>
                </a:lnTo>
                <a:lnTo>
                  <a:pt x="212235" y="741856"/>
                </a:lnTo>
                <a:lnTo>
                  <a:pt x="204173" y="732115"/>
                </a:lnTo>
                <a:lnTo>
                  <a:pt x="203255" y="732876"/>
                </a:lnTo>
                <a:lnTo>
                  <a:pt x="195193" y="723135"/>
                </a:lnTo>
                <a:lnTo>
                  <a:pt x="194275" y="723896"/>
                </a:lnTo>
                <a:lnTo>
                  <a:pt x="186213" y="714155"/>
                </a:lnTo>
                <a:lnTo>
                  <a:pt x="185295" y="714916"/>
                </a:lnTo>
                <a:lnTo>
                  <a:pt x="177232" y="705173"/>
                </a:lnTo>
                <a:lnTo>
                  <a:pt x="176314" y="705935"/>
                </a:lnTo>
                <a:lnTo>
                  <a:pt x="168252" y="696194"/>
                </a:lnTo>
                <a:lnTo>
                  <a:pt x="167334" y="696955"/>
                </a:lnTo>
                <a:lnTo>
                  <a:pt x="159272" y="687214"/>
                </a:lnTo>
                <a:lnTo>
                  <a:pt x="158354" y="687975"/>
                </a:lnTo>
                <a:lnTo>
                  <a:pt x="150292" y="678234"/>
                </a:lnTo>
                <a:lnTo>
                  <a:pt x="149374" y="678995"/>
                </a:lnTo>
                <a:lnTo>
                  <a:pt x="141311" y="669252"/>
                </a:lnTo>
                <a:lnTo>
                  <a:pt x="140393" y="670014"/>
                </a:lnTo>
                <a:lnTo>
                  <a:pt x="132331" y="660273"/>
                </a:lnTo>
                <a:lnTo>
                  <a:pt x="131413" y="661034"/>
                </a:lnTo>
                <a:lnTo>
                  <a:pt x="123351" y="651293"/>
                </a:lnTo>
                <a:lnTo>
                  <a:pt x="122433" y="652054"/>
                </a:lnTo>
                <a:lnTo>
                  <a:pt x="114371" y="642313"/>
                </a:lnTo>
                <a:lnTo>
                  <a:pt x="113453" y="643074"/>
                </a:lnTo>
                <a:lnTo>
                  <a:pt x="105390" y="633331"/>
                </a:lnTo>
                <a:lnTo>
                  <a:pt x="104472" y="634093"/>
                </a:lnTo>
                <a:lnTo>
                  <a:pt x="96410" y="624352"/>
                </a:lnTo>
                <a:lnTo>
                  <a:pt x="95492" y="625113"/>
                </a:lnTo>
                <a:lnTo>
                  <a:pt x="87430" y="615372"/>
                </a:lnTo>
                <a:lnTo>
                  <a:pt x="86512" y="616133"/>
                </a:lnTo>
                <a:lnTo>
                  <a:pt x="78450" y="606392"/>
                </a:lnTo>
                <a:lnTo>
                  <a:pt x="77532" y="607153"/>
                </a:lnTo>
                <a:lnTo>
                  <a:pt x="69469" y="597410"/>
                </a:lnTo>
                <a:lnTo>
                  <a:pt x="68551" y="598172"/>
                </a:lnTo>
                <a:lnTo>
                  <a:pt x="25688" y="546380"/>
                </a:lnTo>
                <a:lnTo>
                  <a:pt x="28430" y="541981"/>
                </a:lnTo>
                <a:lnTo>
                  <a:pt x="20836" y="532805"/>
                </a:lnTo>
                <a:cubicBezTo>
                  <a:pt x="33536" y="518914"/>
                  <a:pt x="39886" y="502245"/>
                  <a:pt x="39886" y="482798"/>
                </a:cubicBezTo>
                <a:lnTo>
                  <a:pt x="39886" y="299477"/>
                </a:lnTo>
                <a:lnTo>
                  <a:pt x="31793" y="299477"/>
                </a:lnTo>
                <a:lnTo>
                  <a:pt x="31793" y="290497"/>
                </a:lnTo>
                <a:lnTo>
                  <a:pt x="22813" y="290497"/>
                </a:lnTo>
                <a:lnTo>
                  <a:pt x="22813" y="281517"/>
                </a:lnTo>
                <a:lnTo>
                  <a:pt x="13833" y="281517"/>
                </a:lnTo>
                <a:lnTo>
                  <a:pt x="13833" y="272536"/>
                </a:lnTo>
                <a:lnTo>
                  <a:pt x="4852" y="272536"/>
                </a:lnTo>
                <a:lnTo>
                  <a:pt x="4852" y="258961"/>
                </a:lnTo>
                <a:lnTo>
                  <a:pt x="0" y="258961"/>
                </a:lnTo>
                <a:lnTo>
                  <a:pt x="0" y="181570"/>
                </a:lnTo>
                <a:lnTo>
                  <a:pt x="97882" y="181570"/>
                </a:lnTo>
                <a:lnTo>
                  <a:pt x="94332" y="175794"/>
                </a:lnTo>
                <a:lnTo>
                  <a:pt x="91819" y="177337"/>
                </a:lnTo>
                <a:lnTo>
                  <a:pt x="85351" y="166812"/>
                </a:lnTo>
                <a:lnTo>
                  <a:pt x="82838" y="168356"/>
                </a:lnTo>
                <a:cubicBezTo>
                  <a:pt x="62201" y="129859"/>
                  <a:pt x="40372" y="94339"/>
                  <a:pt x="17354" y="61795"/>
                </a:cubicBezTo>
                <a:lnTo>
                  <a:pt x="19904" y="60265"/>
                </a:lnTo>
                <a:lnTo>
                  <a:pt x="12502" y="48220"/>
                </a:lnTo>
                <a:lnTo>
                  <a:pt x="75010" y="10716"/>
                </a:lnTo>
                <a:lnTo>
                  <a:pt x="97120" y="42673"/>
                </a:lnTo>
                <a:lnTo>
                  <a:pt x="97823" y="42252"/>
                </a:lnTo>
                <a:lnTo>
                  <a:pt x="104847" y="52405"/>
                </a:lnTo>
                <a:lnTo>
                  <a:pt x="106803" y="51232"/>
                </a:lnTo>
                <a:lnTo>
                  <a:pt x="113827" y="61385"/>
                </a:lnTo>
                <a:lnTo>
                  <a:pt x="115783" y="60212"/>
                </a:lnTo>
                <a:lnTo>
                  <a:pt x="122808" y="70366"/>
                </a:lnTo>
                <a:lnTo>
                  <a:pt x="124764" y="69193"/>
                </a:lnTo>
                <a:lnTo>
                  <a:pt x="131788" y="79346"/>
                </a:lnTo>
                <a:lnTo>
                  <a:pt x="133744" y="78173"/>
                </a:lnTo>
                <a:lnTo>
                  <a:pt x="140768" y="88326"/>
                </a:lnTo>
                <a:lnTo>
                  <a:pt x="142724" y="87153"/>
                </a:lnTo>
                <a:lnTo>
                  <a:pt x="149748" y="97306"/>
                </a:lnTo>
                <a:lnTo>
                  <a:pt x="151704" y="96133"/>
                </a:lnTo>
                <a:lnTo>
                  <a:pt x="158729" y="106287"/>
                </a:lnTo>
                <a:lnTo>
                  <a:pt x="160685" y="105114"/>
                </a:lnTo>
                <a:lnTo>
                  <a:pt x="160735" y="105186"/>
                </a:lnTo>
                <a:lnTo>
                  <a:pt x="160735" y="64889"/>
                </a:lnTo>
                <a:lnTo>
                  <a:pt x="216396" y="64889"/>
                </a:lnTo>
                <a:cubicBezTo>
                  <a:pt x="222746" y="44847"/>
                  <a:pt x="228600" y="23217"/>
                  <a:pt x="233958" y="0"/>
                </a:cubicBezTo>
                <a:close/>
              </a:path>
            </a:pathLst>
          </a:custGeom>
          <a:gradFill rotWithShape="0">
            <a:gsLst>
              <a:gs pos="0">
                <a:srgbClr val="a9d18e">
                  <a:alpha val="53333"/>
                </a:srgbClr>
              </a:gs>
              <a:gs pos="100000">
                <a:srgbClr val="70ad47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5" name="任意多边形 19"/>
          <p:cNvSpPr/>
          <p:nvPr/>
        </p:nvSpPr>
        <p:spPr>
          <a:xfrm>
            <a:off x="1335240" y="2992320"/>
            <a:ext cx="1592280" cy="1592280"/>
          </a:xfrm>
          <a:custGeom>
            <a:avLst/>
            <a:gdLst/>
            <a:ahLst/>
            <a:rect l="l" t="t" r="r" b="b"/>
            <a:pathLst>
              <a:path w="1533844" h="1533842">
                <a:moveTo>
                  <a:pt x="766921" y="180973"/>
                </a:moveTo>
                <a:cubicBezTo>
                  <a:pt x="443311" y="180973"/>
                  <a:pt x="180974" y="443310"/>
                  <a:pt x="180974" y="766920"/>
                </a:cubicBezTo>
                <a:cubicBezTo>
                  <a:pt x="180974" y="1090530"/>
                  <a:pt x="443311" y="1352867"/>
                  <a:pt x="766921" y="1352867"/>
                </a:cubicBezTo>
                <a:cubicBezTo>
                  <a:pt x="1090531" y="1352867"/>
                  <a:pt x="1352868" y="1090530"/>
                  <a:pt x="1352868" y="766920"/>
                </a:cubicBezTo>
                <a:cubicBezTo>
                  <a:pt x="1352868" y="443310"/>
                  <a:pt x="1090531" y="180973"/>
                  <a:pt x="766921" y="180973"/>
                </a:cubicBezTo>
                <a:close/>
                <a:moveTo>
                  <a:pt x="766922" y="0"/>
                </a:moveTo>
                <a:cubicBezTo>
                  <a:pt x="1190481" y="0"/>
                  <a:pt x="1533844" y="343362"/>
                  <a:pt x="1533844" y="766921"/>
                </a:cubicBezTo>
                <a:cubicBezTo>
                  <a:pt x="1533844" y="1190480"/>
                  <a:pt x="1190481" y="1533842"/>
                  <a:pt x="766922" y="1533842"/>
                </a:cubicBezTo>
                <a:cubicBezTo>
                  <a:pt x="343363" y="1533842"/>
                  <a:pt x="0" y="1190480"/>
                  <a:pt x="0" y="766921"/>
                </a:cubicBezTo>
                <a:cubicBezTo>
                  <a:pt x="0" y="343362"/>
                  <a:pt x="343363" y="0"/>
                  <a:pt x="766922" y="0"/>
                </a:cubicBezTo>
                <a:close/>
              </a:path>
            </a:pathLst>
          </a:custGeom>
          <a:solidFill>
            <a:srgbClr val="db00bd"/>
          </a:solidFill>
          <a:ln w="0">
            <a:noFill/>
          </a:ln>
          <a:effectLst>
            <a:outerShdw dist="38183" dir="2700000" blurRad="0" rotWithShape="0">
              <a:srgbClr val="48620a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6" name="椭圆 28"/>
          <p:cNvSpPr/>
          <p:nvPr/>
        </p:nvSpPr>
        <p:spPr>
          <a:xfrm>
            <a:off x="1428840" y="3089160"/>
            <a:ext cx="1404720" cy="140364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628560" y="992160"/>
            <a:ext cx="7886880" cy="11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 type="body"/>
          </p:nvPr>
        </p:nvSpPr>
        <p:spPr>
          <a:xfrm>
            <a:off x="628560" y="2211120"/>
            <a:ext cx="7886880" cy="39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 type="dt" idx="8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2E81A-B3F9-42EE-96C4-D200BECC07F0}" type="datetime">
              <a:rPr b="0" lang="zh-CN" sz="900" spc="-1" strike="noStrike">
                <a:solidFill>
                  <a:srgbClr val="ffffff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PlaceHolder 4"/>
          <p:cNvSpPr>
            <a:spLocks noGrp="1"/>
          </p:cNvSpPr>
          <p:nvPr>
            <p:ph type="ftr" idx="8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1" name="PlaceHolder 5"/>
          <p:cNvSpPr>
            <a:spLocks noGrp="1"/>
          </p:cNvSpPr>
          <p:nvPr>
            <p:ph type="sldNum" idx="9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09DE8-2387-4ACD-8F60-39861A102687}" type="slidenum">
              <a:rPr b="0" lang="zh-CN" sz="9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28560" y="992160"/>
            <a:ext cx="7886880" cy="11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28560" y="2211120"/>
            <a:ext cx="7886880" cy="39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572FA-B1B6-44D1-8A36-5B6076913E73}" type="datetime">
              <a:rPr b="0" lang="zh-CN" sz="900" spc="-1" strike="noStrike">
                <a:solidFill>
                  <a:srgbClr val="ffffff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055B8-3B33-46C5-BE6B-A8C365746CD1}" type="slidenum">
              <a:rPr b="0" lang="zh-CN" sz="9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fed34e"/>
          </a:solidFill>
          <a:ln w="12600">
            <a:solidFill>
              <a:srgbClr val="bb9b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Freeform 7912"/>
          <p:cNvSpPr/>
          <p:nvPr/>
        </p:nvSpPr>
        <p:spPr>
          <a:xfrm>
            <a:off x="3317760" y="1273320"/>
            <a:ext cx="598680" cy="399960"/>
          </a:xfrm>
          <a:custGeom>
            <a:avLst/>
            <a:gdLst/>
            <a:ahLst/>
            <a:rect l="l" t="t" r="r" b="b"/>
            <a:pathLst>
              <a:path w="631" h="316">
                <a:moveTo>
                  <a:pt x="37" y="194"/>
                </a:moveTo>
                <a:cubicBezTo>
                  <a:pt x="0" y="154"/>
                  <a:pt x="100" y="83"/>
                  <a:pt x="195" y="119"/>
                </a:cubicBezTo>
                <a:cubicBezTo>
                  <a:pt x="195" y="119"/>
                  <a:pt x="241" y="0"/>
                  <a:pt x="383" y="12"/>
                </a:cubicBezTo>
                <a:cubicBezTo>
                  <a:pt x="519" y="25"/>
                  <a:pt x="492" y="149"/>
                  <a:pt x="492" y="149"/>
                </a:cubicBezTo>
                <a:cubicBezTo>
                  <a:pt x="492" y="149"/>
                  <a:pt x="611" y="92"/>
                  <a:pt x="624" y="219"/>
                </a:cubicBezTo>
                <a:cubicBezTo>
                  <a:pt x="631" y="294"/>
                  <a:pt x="437" y="248"/>
                  <a:pt x="437" y="248"/>
                </a:cubicBezTo>
                <a:cubicBezTo>
                  <a:pt x="437" y="248"/>
                  <a:pt x="291" y="316"/>
                  <a:pt x="181" y="230"/>
                </a:cubicBezTo>
                <a:cubicBezTo>
                  <a:pt x="181" y="230"/>
                  <a:pt x="87" y="248"/>
                  <a:pt x="37" y="194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Freeform 7907"/>
          <p:cNvSpPr/>
          <p:nvPr/>
        </p:nvSpPr>
        <p:spPr>
          <a:xfrm>
            <a:off x="369720" y="2541600"/>
            <a:ext cx="895680" cy="208080"/>
          </a:xfrm>
          <a:custGeom>
            <a:avLst/>
            <a:gdLst/>
            <a:ahLst/>
            <a:rect l="l" t="t" r="r" b="b"/>
            <a:pathLst>
              <a:path w="945" h="165">
                <a:moveTo>
                  <a:pt x="15" y="0"/>
                </a:moveTo>
                <a:cubicBezTo>
                  <a:pt x="0" y="42"/>
                  <a:pt x="190" y="48"/>
                  <a:pt x="190" y="48"/>
                </a:cubicBezTo>
                <a:cubicBezTo>
                  <a:pt x="190" y="48"/>
                  <a:pt x="381" y="127"/>
                  <a:pt x="507" y="66"/>
                </a:cubicBezTo>
                <a:cubicBezTo>
                  <a:pt x="507" y="66"/>
                  <a:pt x="693" y="165"/>
                  <a:pt x="801" y="69"/>
                </a:cubicBezTo>
                <a:cubicBezTo>
                  <a:pt x="801" y="69"/>
                  <a:pt x="890" y="103"/>
                  <a:pt x="945" y="6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Freeform 7908"/>
          <p:cNvSpPr/>
          <p:nvPr/>
        </p:nvSpPr>
        <p:spPr>
          <a:xfrm>
            <a:off x="384120" y="2276640"/>
            <a:ext cx="946080" cy="341280"/>
          </a:xfrm>
          <a:custGeom>
            <a:avLst/>
            <a:gdLst/>
            <a:ahLst/>
            <a:rect l="l" t="t" r="r" b="b"/>
            <a:pathLst>
              <a:path w="997" h="269">
                <a:moveTo>
                  <a:pt x="930" y="269"/>
                </a:moveTo>
                <a:cubicBezTo>
                  <a:pt x="930" y="269"/>
                  <a:pt x="997" y="225"/>
                  <a:pt x="894" y="183"/>
                </a:cubicBezTo>
                <a:cubicBezTo>
                  <a:pt x="834" y="158"/>
                  <a:pt x="777" y="165"/>
                  <a:pt x="777" y="165"/>
                </a:cubicBezTo>
                <a:cubicBezTo>
                  <a:pt x="777" y="165"/>
                  <a:pt x="715" y="60"/>
                  <a:pt x="628" y="118"/>
                </a:cubicBezTo>
                <a:cubicBezTo>
                  <a:pt x="628" y="118"/>
                  <a:pt x="632" y="9"/>
                  <a:pt x="493" y="4"/>
                </a:cubicBezTo>
                <a:cubicBezTo>
                  <a:pt x="355" y="0"/>
                  <a:pt x="308" y="144"/>
                  <a:pt x="308" y="144"/>
                </a:cubicBezTo>
                <a:cubicBezTo>
                  <a:pt x="308" y="144"/>
                  <a:pt x="226" y="8"/>
                  <a:pt x="157" y="145"/>
                </a:cubicBezTo>
                <a:cubicBezTo>
                  <a:pt x="157" y="145"/>
                  <a:pt x="54" y="61"/>
                  <a:pt x="0" y="209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Freeform 7909"/>
          <p:cNvSpPr/>
          <p:nvPr/>
        </p:nvSpPr>
        <p:spPr>
          <a:xfrm>
            <a:off x="5248440" y="582480"/>
            <a:ext cx="1471320" cy="701640"/>
          </a:xfrm>
          <a:custGeom>
            <a:avLst/>
            <a:gdLst/>
            <a:ahLst/>
            <a:rect l="l" t="t" r="r" b="b"/>
            <a:pathLst>
              <a:path w="1552" h="555">
                <a:moveTo>
                  <a:pt x="106" y="355"/>
                </a:moveTo>
                <a:cubicBezTo>
                  <a:pt x="106" y="355"/>
                  <a:pt x="0" y="267"/>
                  <a:pt x="165" y="218"/>
                </a:cubicBezTo>
                <a:cubicBezTo>
                  <a:pt x="261" y="190"/>
                  <a:pt x="356" y="219"/>
                  <a:pt x="356" y="219"/>
                </a:cubicBezTo>
                <a:cubicBezTo>
                  <a:pt x="356" y="219"/>
                  <a:pt x="468" y="67"/>
                  <a:pt x="593" y="169"/>
                </a:cubicBezTo>
                <a:cubicBezTo>
                  <a:pt x="593" y="169"/>
                  <a:pt x="665" y="0"/>
                  <a:pt x="877" y="14"/>
                </a:cubicBezTo>
                <a:cubicBezTo>
                  <a:pt x="1090" y="28"/>
                  <a:pt x="1079" y="258"/>
                  <a:pt x="1079" y="258"/>
                </a:cubicBezTo>
                <a:cubicBezTo>
                  <a:pt x="1079" y="258"/>
                  <a:pt x="1247" y="141"/>
                  <a:pt x="1311" y="283"/>
                </a:cubicBezTo>
                <a:cubicBezTo>
                  <a:pt x="1311" y="283"/>
                  <a:pt x="1528" y="310"/>
                  <a:pt x="1542" y="404"/>
                </a:cubicBezTo>
                <a:cubicBezTo>
                  <a:pt x="1552" y="473"/>
                  <a:pt x="1266" y="451"/>
                  <a:pt x="1266" y="451"/>
                </a:cubicBezTo>
                <a:cubicBezTo>
                  <a:pt x="1266" y="451"/>
                  <a:pt x="961" y="543"/>
                  <a:pt x="777" y="432"/>
                </a:cubicBezTo>
                <a:cubicBezTo>
                  <a:pt x="777" y="432"/>
                  <a:pt x="476" y="555"/>
                  <a:pt x="325" y="391"/>
                </a:cubicBezTo>
                <a:cubicBezTo>
                  <a:pt x="325" y="391"/>
                  <a:pt x="184" y="429"/>
                  <a:pt x="106" y="355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Freeform 7909"/>
          <p:cNvSpPr/>
          <p:nvPr/>
        </p:nvSpPr>
        <p:spPr>
          <a:xfrm>
            <a:off x="488880" y="212760"/>
            <a:ext cx="1473120" cy="701640"/>
          </a:xfrm>
          <a:custGeom>
            <a:avLst/>
            <a:gdLst/>
            <a:ahLst/>
            <a:rect l="l" t="t" r="r" b="b"/>
            <a:pathLst>
              <a:path w="1552" h="555">
                <a:moveTo>
                  <a:pt x="106" y="355"/>
                </a:moveTo>
                <a:cubicBezTo>
                  <a:pt x="106" y="355"/>
                  <a:pt x="0" y="267"/>
                  <a:pt x="165" y="218"/>
                </a:cubicBezTo>
                <a:cubicBezTo>
                  <a:pt x="261" y="190"/>
                  <a:pt x="356" y="219"/>
                  <a:pt x="356" y="219"/>
                </a:cubicBezTo>
                <a:cubicBezTo>
                  <a:pt x="356" y="219"/>
                  <a:pt x="468" y="67"/>
                  <a:pt x="593" y="169"/>
                </a:cubicBezTo>
                <a:cubicBezTo>
                  <a:pt x="593" y="169"/>
                  <a:pt x="665" y="0"/>
                  <a:pt x="877" y="14"/>
                </a:cubicBezTo>
                <a:cubicBezTo>
                  <a:pt x="1090" y="28"/>
                  <a:pt x="1079" y="258"/>
                  <a:pt x="1079" y="258"/>
                </a:cubicBezTo>
                <a:cubicBezTo>
                  <a:pt x="1079" y="258"/>
                  <a:pt x="1247" y="141"/>
                  <a:pt x="1311" y="283"/>
                </a:cubicBezTo>
                <a:cubicBezTo>
                  <a:pt x="1311" y="283"/>
                  <a:pt x="1528" y="310"/>
                  <a:pt x="1542" y="404"/>
                </a:cubicBezTo>
                <a:cubicBezTo>
                  <a:pt x="1552" y="473"/>
                  <a:pt x="1266" y="451"/>
                  <a:pt x="1266" y="451"/>
                </a:cubicBezTo>
                <a:cubicBezTo>
                  <a:pt x="1266" y="451"/>
                  <a:pt x="961" y="543"/>
                  <a:pt x="777" y="432"/>
                </a:cubicBezTo>
                <a:cubicBezTo>
                  <a:pt x="777" y="432"/>
                  <a:pt x="476" y="555"/>
                  <a:pt x="325" y="391"/>
                </a:cubicBezTo>
                <a:cubicBezTo>
                  <a:pt x="325" y="391"/>
                  <a:pt x="184" y="429"/>
                  <a:pt x="106" y="355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Freeform 7909"/>
          <p:cNvSpPr/>
          <p:nvPr/>
        </p:nvSpPr>
        <p:spPr>
          <a:xfrm>
            <a:off x="4319640" y="5965920"/>
            <a:ext cx="1471680" cy="701640"/>
          </a:xfrm>
          <a:custGeom>
            <a:avLst/>
            <a:gdLst/>
            <a:ahLst/>
            <a:rect l="l" t="t" r="r" b="b"/>
            <a:pathLst>
              <a:path w="1552" h="555">
                <a:moveTo>
                  <a:pt x="106" y="355"/>
                </a:moveTo>
                <a:cubicBezTo>
                  <a:pt x="106" y="355"/>
                  <a:pt x="0" y="267"/>
                  <a:pt x="165" y="218"/>
                </a:cubicBezTo>
                <a:cubicBezTo>
                  <a:pt x="261" y="190"/>
                  <a:pt x="356" y="219"/>
                  <a:pt x="356" y="219"/>
                </a:cubicBezTo>
                <a:cubicBezTo>
                  <a:pt x="356" y="219"/>
                  <a:pt x="468" y="67"/>
                  <a:pt x="593" y="169"/>
                </a:cubicBezTo>
                <a:cubicBezTo>
                  <a:pt x="593" y="169"/>
                  <a:pt x="665" y="0"/>
                  <a:pt x="877" y="14"/>
                </a:cubicBezTo>
                <a:cubicBezTo>
                  <a:pt x="1090" y="28"/>
                  <a:pt x="1079" y="258"/>
                  <a:pt x="1079" y="258"/>
                </a:cubicBezTo>
                <a:cubicBezTo>
                  <a:pt x="1079" y="258"/>
                  <a:pt x="1247" y="141"/>
                  <a:pt x="1311" y="283"/>
                </a:cubicBezTo>
                <a:cubicBezTo>
                  <a:pt x="1311" y="283"/>
                  <a:pt x="1528" y="310"/>
                  <a:pt x="1542" y="404"/>
                </a:cubicBezTo>
                <a:cubicBezTo>
                  <a:pt x="1552" y="473"/>
                  <a:pt x="1266" y="451"/>
                  <a:pt x="1266" y="451"/>
                </a:cubicBezTo>
                <a:cubicBezTo>
                  <a:pt x="1266" y="451"/>
                  <a:pt x="961" y="543"/>
                  <a:pt x="777" y="432"/>
                </a:cubicBezTo>
                <a:cubicBezTo>
                  <a:pt x="777" y="432"/>
                  <a:pt x="476" y="555"/>
                  <a:pt x="325" y="391"/>
                </a:cubicBezTo>
                <a:cubicBezTo>
                  <a:pt x="325" y="391"/>
                  <a:pt x="184" y="429"/>
                  <a:pt x="106" y="355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箭头: 五边形 11869"/>
          <p:cNvSpPr/>
          <p:nvPr/>
        </p:nvSpPr>
        <p:spPr>
          <a:xfrm flipV="1" rot="10800000">
            <a:off x="1897200" y="4223160"/>
            <a:ext cx="7248240" cy="497160"/>
          </a:xfrm>
          <a:custGeom>
            <a:avLst/>
            <a:gdLst>
              <a:gd name="textAreaLeft" fmla="*/ 0 w 7248240"/>
              <a:gd name="textAreaRight" fmla="*/ 7248600 w 7248240"/>
              <a:gd name="textAreaTop" fmla="*/ -360 h 497160"/>
              <a:gd name="textAreaBottom" fmla="*/ 497160 h 49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60" y="0"/>
                </a:lnTo>
                <a:lnTo>
                  <a:pt x="21600" y="10800"/>
                </a:lnTo>
                <a:lnTo>
                  <a:pt x="2086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ed3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箭头: 五边形 9283"/>
          <p:cNvSpPr/>
          <p:nvPr/>
        </p:nvSpPr>
        <p:spPr>
          <a:xfrm flipV="1" rot="10800000">
            <a:off x="1130400" y="3727800"/>
            <a:ext cx="8012160" cy="497160"/>
          </a:xfrm>
          <a:custGeom>
            <a:avLst/>
            <a:gdLst>
              <a:gd name="textAreaLeft" fmla="*/ 0 w 8012160"/>
              <a:gd name="textAreaRight" fmla="*/ 8012520 w 8012160"/>
              <a:gd name="textAreaTop" fmla="*/ -360 h 497160"/>
              <a:gd name="textAreaBottom" fmla="*/ 497160 h 49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931" y="0"/>
                </a:lnTo>
                <a:lnTo>
                  <a:pt x="21600" y="10800"/>
                </a:lnTo>
                <a:lnTo>
                  <a:pt x="2093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edf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箭头: 五边形 9484"/>
          <p:cNvSpPr/>
          <p:nvPr/>
        </p:nvSpPr>
        <p:spPr>
          <a:xfrm flipV="1" rot="10800000">
            <a:off x="374760" y="3233880"/>
            <a:ext cx="8766000" cy="496800"/>
          </a:xfrm>
          <a:custGeom>
            <a:avLst/>
            <a:gdLst>
              <a:gd name="textAreaLeft" fmla="*/ 0 w 8766000"/>
              <a:gd name="textAreaRight" fmla="*/ 8766360 w 8766000"/>
              <a:gd name="textAreaTop" fmla="*/ 360 h 496800"/>
              <a:gd name="textAreaBottom" fmla="*/ 49752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988" y="0"/>
                </a:lnTo>
                <a:lnTo>
                  <a:pt x="21600" y="10800"/>
                </a:lnTo>
                <a:lnTo>
                  <a:pt x="2098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ed3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箭头: 五边形 9685"/>
          <p:cNvSpPr/>
          <p:nvPr/>
        </p:nvSpPr>
        <p:spPr>
          <a:xfrm flipV="1" rot="10800000">
            <a:off x="1515600" y="2739960"/>
            <a:ext cx="7628040" cy="496800"/>
          </a:xfrm>
          <a:custGeom>
            <a:avLst/>
            <a:gdLst>
              <a:gd name="textAreaLeft" fmla="*/ 0 w 7628040"/>
              <a:gd name="textAreaRight" fmla="*/ 7628400 w 7628040"/>
              <a:gd name="textAreaTop" fmla="*/ 360 h 496800"/>
              <a:gd name="textAreaBottom" fmla="*/ 49752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97" y="0"/>
                </a:lnTo>
                <a:lnTo>
                  <a:pt x="21600" y="10800"/>
                </a:lnTo>
                <a:lnTo>
                  <a:pt x="2089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edf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箭头: 五边形 9886"/>
          <p:cNvSpPr/>
          <p:nvPr/>
        </p:nvSpPr>
        <p:spPr>
          <a:xfrm flipV="1" rot="10800000">
            <a:off x="2362320" y="2243520"/>
            <a:ext cx="6783120" cy="497160"/>
          </a:xfrm>
          <a:custGeom>
            <a:avLst/>
            <a:gdLst>
              <a:gd name="textAreaLeft" fmla="*/ 0 w 6783120"/>
              <a:gd name="textAreaRight" fmla="*/ 6783480 w 6783120"/>
              <a:gd name="textAreaTop" fmla="*/ -360 h 497160"/>
              <a:gd name="textAreaBottom" fmla="*/ 497160 h 49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09" y="0"/>
                </a:lnTo>
                <a:lnTo>
                  <a:pt x="21600" y="10800"/>
                </a:lnTo>
                <a:lnTo>
                  <a:pt x="2080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ed3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箭头: 五边形 12097"/>
          <p:cNvSpPr/>
          <p:nvPr/>
        </p:nvSpPr>
        <p:spPr>
          <a:xfrm flipV="1" rot="10800000">
            <a:off x="7651440" y="238680"/>
            <a:ext cx="1492200" cy="834840"/>
          </a:xfrm>
          <a:custGeom>
            <a:avLst/>
            <a:gdLst>
              <a:gd name="textAreaLeft" fmla="*/ 0 w 1492200"/>
              <a:gd name="textAreaRight" fmla="*/ 1492560 w 1492200"/>
              <a:gd name="textAreaTop" fmla="*/ -360 h 834840"/>
              <a:gd name="textAreaBottom" fmla="*/ 834840 h 834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557" y="0"/>
                </a:lnTo>
                <a:lnTo>
                  <a:pt x="21600" y="10800"/>
                </a:lnTo>
                <a:lnTo>
                  <a:pt x="1555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ed3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181" name="图片 24" descr=""/>
          <p:cNvPicPr/>
          <p:nvPr/>
        </p:nvPicPr>
        <p:blipFill>
          <a:blip r:embed="rId2"/>
          <a:stretch/>
        </p:blipFill>
        <p:spPr>
          <a:xfrm>
            <a:off x="297000" y="1201680"/>
            <a:ext cx="3368520" cy="3133800"/>
          </a:xfrm>
          <a:prstGeom prst="rect">
            <a:avLst/>
          </a:prstGeom>
          <a:ln w="0">
            <a:noFill/>
          </a:ln>
        </p:spPr>
      </p:pic>
      <p:pic>
        <p:nvPicPr>
          <p:cNvPr id="182" name="组合 10" descr=""/>
          <p:cNvPicPr/>
          <p:nvPr/>
        </p:nvPicPr>
        <p:blipFill>
          <a:blip r:embed="rId3"/>
          <a:stretch/>
        </p:blipFill>
        <p:spPr>
          <a:xfrm>
            <a:off x="801720" y="5099040"/>
            <a:ext cx="1298520" cy="581040"/>
          </a:xfrm>
          <a:prstGeom prst="rect">
            <a:avLst/>
          </a:prstGeom>
          <a:ln w="0">
            <a:noFill/>
          </a:ln>
        </p:spPr>
      </p:pic>
      <p:pic>
        <p:nvPicPr>
          <p:cNvPr id="183" name="组合 14" descr=""/>
          <p:cNvPicPr/>
          <p:nvPr/>
        </p:nvPicPr>
        <p:blipFill>
          <a:blip r:embed="rId4"/>
          <a:stretch/>
        </p:blipFill>
        <p:spPr>
          <a:xfrm>
            <a:off x="7118280" y="5240160"/>
            <a:ext cx="903240" cy="5112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D61D1-5C0C-4147-8BE7-4FDEFFC8F35B}" type="datetime">
              <a:rPr b="0" lang="zh-CN" sz="1200" spc="-1" strike="noStrike">
                <a:solidFill>
                  <a:srgbClr val="8d8d8d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84BAF-254F-4ADB-879F-AEE3B02A080A}" type="slidenum">
              <a:rPr b="0" lang="zh-CN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fed34e"/>
          </a:solidFill>
          <a:ln w="12600">
            <a:solidFill>
              <a:srgbClr val="bb9b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93068-5B3C-430C-9452-92EE6CE0B347}" type="datetime">
              <a:rPr b="0" lang="zh-CN" sz="1200" spc="-1" strike="noStrike">
                <a:solidFill>
                  <a:srgbClr val="8d8d8d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08B52-FDFB-44E3-8ABA-FBEDC5D13978}" type="slidenum">
              <a:rPr b="0" lang="zh-CN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fed34e"/>
          </a:solidFill>
          <a:ln w="12600">
            <a:solidFill>
              <a:srgbClr val="bb9b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Freeform 7907"/>
          <p:cNvSpPr/>
          <p:nvPr/>
        </p:nvSpPr>
        <p:spPr>
          <a:xfrm>
            <a:off x="369720" y="2541600"/>
            <a:ext cx="895680" cy="208080"/>
          </a:xfrm>
          <a:custGeom>
            <a:avLst/>
            <a:gdLst/>
            <a:ahLst/>
            <a:rect l="l" t="t" r="r" b="b"/>
            <a:pathLst>
              <a:path w="945" h="165">
                <a:moveTo>
                  <a:pt x="15" y="0"/>
                </a:moveTo>
                <a:cubicBezTo>
                  <a:pt x="0" y="42"/>
                  <a:pt x="190" y="48"/>
                  <a:pt x="190" y="48"/>
                </a:cubicBezTo>
                <a:cubicBezTo>
                  <a:pt x="190" y="48"/>
                  <a:pt x="381" y="127"/>
                  <a:pt x="507" y="66"/>
                </a:cubicBezTo>
                <a:cubicBezTo>
                  <a:pt x="507" y="66"/>
                  <a:pt x="693" y="165"/>
                  <a:pt x="801" y="69"/>
                </a:cubicBezTo>
                <a:cubicBezTo>
                  <a:pt x="801" y="69"/>
                  <a:pt x="890" y="103"/>
                  <a:pt x="945" y="6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Freeform 7908"/>
          <p:cNvSpPr/>
          <p:nvPr/>
        </p:nvSpPr>
        <p:spPr>
          <a:xfrm>
            <a:off x="384120" y="2276640"/>
            <a:ext cx="946080" cy="341280"/>
          </a:xfrm>
          <a:custGeom>
            <a:avLst/>
            <a:gdLst/>
            <a:ahLst/>
            <a:rect l="l" t="t" r="r" b="b"/>
            <a:pathLst>
              <a:path w="997" h="269">
                <a:moveTo>
                  <a:pt x="930" y="269"/>
                </a:moveTo>
                <a:cubicBezTo>
                  <a:pt x="930" y="269"/>
                  <a:pt x="997" y="225"/>
                  <a:pt x="894" y="183"/>
                </a:cubicBezTo>
                <a:cubicBezTo>
                  <a:pt x="834" y="158"/>
                  <a:pt x="777" y="165"/>
                  <a:pt x="777" y="165"/>
                </a:cubicBezTo>
                <a:cubicBezTo>
                  <a:pt x="777" y="165"/>
                  <a:pt x="715" y="60"/>
                  <a:pt x="628" y="118"/>
                </a:cubicBezTo>
                <a:cubicBezTo>
                  <a:pt x="628" y="118"/>
                  <a:pt x="632" y="9"/>
                  <a:pt x="493" y="4"/>
                </a:cubicBezTo>
                <a:cubicBezTo>
                  <a:pt x="355" y="0"/>
                  <a:pt x="308" y="144"/>
                  <a:pt x="308" y="144"/>
                </a:cubicBezTo>
                <a:cubicBezTo>
                  <a:pt x="308" y="144"/>
                  <a:pt x="226" y="8"/>
                  <a:pt x="157" y="145"/>
                </a:cubicBezTo>
                <a:cubicBezTo>
                  <a:pt x="157" y="145"/>
                  <a:pt x="54" y="61"/>
                  <a:pt x="0" y="209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Freeform 7909"/>
          <p:cNvSpPr/>
          <p:nvPr/>
        </p:nvSpPr>
        <p:spPr>
          <a:xfrm>
            <a:off x="5248440" y="582480"/>
            <a:ext cx="1471320" cy="701640"/>
          </a:xfrm>
          <a:custGeom>
            <a:avLst/>
            <a:gdLst/>
            <a:ahLst/>
            <a:rect l="l" t="t" r="r" b="b"/>
            <a:pathLst>
              <a:path w="1552" h="555">
                <a:moveTo>
                  <a:pt x="106" y="355"/>
                </a:moveTo>
                <a:cubicBezTo>
                  <a:pt x="106" y="355"/>
                  <a:pt x="0" y="267"/>
                  <a:pt x="165" y="218"/>
                </a:cubicBezTo>
                <a:cubicBezTo>
                  <a:pt x="261" y="190"/>
                  <a:pt x="356" y="219"/>
                  <a:pt x="356" y="219"/>
                </a:cubicBezTo>
                <a:cubicBezTo>
                  <a:pt x="356" y="219"/>
                  <a:pt x="468" y="67"/>
                  <a:pt x="593" y="169"/>
                </a:cubicBezTo>
                <a:cubicBezTo>
                  <a:pt x="593" y="169"/>
                  <a:pt x="665" y="0"/>
                  <a:pt x="877" y="14"/>
                </a:cubicBezTo>
                <a:cubicBezTo>
                  <a:pt x="1090" y="28"/>
                  <a:pt x="1079" y="258"/>
                  <a:pt x="1079" y="258"/>
                </a:cubicBezTo>
                <a:cubicBezTo>
                  <a:pt x="1079" y="258"/>
                  <a:pt x="1247" y="141"/>
                  <a:pt x="1311" y="283"/>
                </a:cubicBezTo>
                <a:cubicBezTo>
                  <a:pt x="1311" y="283"/>
                  <a:pt x="1528" y="310"/>
                  <a:pt x="1542" y="404"/>
                </a:cubicBezTo>
                <a:cubicBezTo>
                  <a:pt x="1552" y="473"/>
                  <a:pt x="1266" y="451"/>
                  <a:pt x="1266" y="451"/>
                </a:cubicBezTo>
                <a:cubicBezTo>
                  <a:pt x="1266" y="451"/>
                  <a:pt x="961" y="543"/>
                  <a:pt x="777" y="432"/>
                </a:cubicBezTo>
                <a:cubicBezTo>
                  <a:pt x="777" y="432"/>
                  <a:pt x="476" y="555"/>
                  <a:pt x="325" y="391"/>
                </a:cubicBezTo>
                <a:cubicBezTo>
                  <a:pt x="325" y="391"/>
                  <a:pt x="184" y="429"/>
                  <a:pt x="106" y="355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Freeform 7909"/>
          <p:cNvSpPr/>
          <p:nvPr/>
        </p:nvSpPr>
        <p:spPr>
          <a:xfrm>
            <a:off x="488880" y="212760"/>
            <a:ext cx="1473120" cy="701640"/>
          </a:xfrm>
          <a:custGeom>
            <a:avLst/>
            <a:gdLst/>
            <a:ahLst/>
            <a:rect l="l" t="t" r="r" b="b"/>
            <a:pathLst>
              <a:path w="1552" h="555">
                <a:moveTo>
                  <a:pt x="106" y="355"/>
                </a:moveTo>
                <a:cubicBezTo>
                  <a:pt x="106" y="355"/>
                  <a:pt x="0" y="267"/>
                  <a:pt x="165" y="218"/>
                </a:cubicBezTo>
                <a:cubicBezTo>
                  <a:pt x="261" y="190"/>
                  <a:pt x="356" y="219"/>
                  <a:pt x="356" y="219"/>
                </a:cubicBezTo>
                <a:cubicBezTo>
                  <a:pt x="356" y="219"/>
                  <a:pt x="468" y="67"/>
                  <a:pt x="593" y="169"/>
                </a:cubicBezTo>
                <a:cubicBezTo>
                  <a:pt x="593" y="169"/>
                  <a:pt x="665" y="0"/>
                  <a:pt x="877" y="14"/>
                </a:cubicBezTo>
                <a:cubicBezTo>
                  <a:pt x="1090" y="28"/>
                  <a:pt x="1079" y="258"/>
                  <a:pt x="1079" y="258"/>
                </a:cubicBezTo>
                <a:cubicBezTo>
                  <a:pt x="1079" y="258"/>
                  <a:pt x="1247" y="141"/>
                  <a:pt x="1311" y="283"/>
                </a:cubicBezTo>
                <a:cubicBezTo>
                  <a:pt x="1311" y="283"/>
                  <a:pt x="1528" y="310"/>
                  <a:pt x="1542" y="404"/>
                </a:cubicBezTo>
                <a:cubicBezTo>
                  <a:pt x="1552" y="473"/>
                  <a:pt x="1266" y="451"/>
                  <a:pt x="1266" y="451"/>
                </a:cubicBezTo>
                <a:cubicBezTo>
                  <a:pt x="1266" y="451"/>
                  <a:pt x="961" y="543"/>
                  <a:pt x="777" y="432"/>
                </a:cubicBezTo>
                <a:cubicBezTo>
                  <a:pt x="777" y="432"/>
                  <a:pt x="476" y="555"/>
                  <a:pt x="325" y="391"/>
                </a:cubicBezTo>
                <a:cubicBezTo>
                  <a:pt x="325" y="391"/>
                  <a:pt x="184" y="429"/>
                  <a:pt x="106" y="355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Freeform 7909"/>
          <p:cNvSpPr/>
          <p:nvPr/>
        </p:nvSpPr>
        <p:spPr>
          <a:xfrm>
            <a:off x="4319640" y="5965920"/>
            <a:ext cx="1471680" cy="701640"/>
          </a:xfrm>
          <a:custGeom>
            <a:avLst/>
            <a:gdLst/>
            <a:ahLst/>
            <a:rect l="l" t="t" r="r" b="b"/>
            <a:pathLst>
              <a:path w="1552" h="555">
                <a:moveTo>
                  <a:pt x="106" y="355"/>
                </a:moveTo>
                <a:cubicBezTo>
                  <a:pt x="106" y="355"/>
                  <a:pt x="0" y="267"/>
                  <a:pt x="165" y="218"/>
                </a:cubicBezTo>
                <a:cubicBezTo>
                  <a:pt x="261" y="190"/>
                  <a:pt x="356" y="219"/>
                  <a:pt x="356" y="219"/>
                </a:cubicBezTo>
                <a:cubicBezTo>
                  <a:pt x="356" y="219"/>
                  <a:pt x="468" y="67"/>
                  <a:pt x="593" y="169"/>
                </a:cubicBezTo>
                <a:cubicBezTo>
                  <a:pt x="593" y="169"/>
                  <a:pt x="665" y="0"/>
                  <a:pt x="877" y="14"/>
                </a:cubicBezTo>
                <a:cubicBezTo>
                  <a:pt x="1090" y="28"/>
                  <a:pt x="1079" y="258"/>
                  <a:pt x="1079" y="258"/>
                </a:cubicBezTo>
                <a:cubicBezTo>
                  <a:pt x="1079" y="258"/>
                  <a:pt x="1247" y="141"/>
                  <a:pt x="1311" y="283"/>
                </a:cubicBezTo>
                <a:cubicBezTo>
                  <a:pt x="1311" y="283"/>
                  <a:pt x="1528" y="310"/>
                  <a:pt x="1542" y="404"/>
                </a:cubicBezTo>
                <a:cubicBezTo>
                  <a:pt x="1552" y="473"/>
                  <a:pt x="1266" y="451"/>
                  <a:pt x="1266" y="451"/>
                </a:cubicBezTo>
                <a:cubicBezTo>
                  <a:pt x="1266" y="451"/>
                  <a:pt x="961" y="543"/>
                  <a:pt x="777" y="432"/>
                </a:cubicBezTo>
                <a:cubicBezTo>
                  <a:pt x="777" y="432"/>
                  <a:pt x="476" y="555"/>
                  <a:pt x="325" y="391"/>
                </a:cubicBezTo>
                <a:cubicBezTo>
                  <a:pt x="325" y="391"/>
                  <a:pt x="184" y="429"/>
                  <a:pt x="106" y="355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箭头: 五边形 11869"/>
          <p:cNvSpPr/>
          <p:nvPr/>
        </p:nvSpPr>
        <p:spPr>
          <a:xfrm flipV="1" rot="10800000">
            <a:off x="2607840" y="4223160"/>
            <a:ext cx="6537240" cy="497160"/>
          </a:xfrm>
          <a:custGeom>
            <a:avLst/>
            <a:gdLst>
              <a:gd name="textAreaLeft" fmla="*/ 0 w 6537240"/>
              <a:gd name="textAreaRight" fmla="*/ 6537600 w 6537240"/>
              <a:gd name="textAreaTop" fmla="*/ -360 h 497160"/>
              <a:gd name="textAreaBottom" fmla="*/ 497160 h 49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80" y="0"/>
                </a:lnTo>
                <a:lnTo>
                  <a:pt x="21600" y="10800"/>
                </a:lnTo>
                <a:lnTo>
                  <a:pt x="2078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ed3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箭头: 五边形 9283"/>
          <p:cNvSpPr/>
          <p:nvPr/>
        </p:nvSpPr>
        <p:spPr>
          <a:xfrm flipV="1" rot="10800000">
            <a:off x="2606400" y="3727800"/>
            <a:ext cx="6535800" cy="497160"/>
          </a:xfrm>
          <a:custGeom>
            <a:avLst/>
            <a:gdLst>
              <a:gd name="textAreaLeft" fmla="*/ 0 w 6535800"/>
              <a:gd name="textAreaRight" fmla="*/ 6536160 w 6535800"/>
              <a:gd name="textAreaTop" fmla="*/ -360 h 497160"/>
              <a:gd name="textAreaBottom" fmla="*/ 497160 h 49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79" y="0"/>
                </a:lnTo>
                <a:lnTo>
                  <a:pt x="21600" y="10800"/>
                </a:lnTo>
                <a:lnTo>
                  <a:pt x="2077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edf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箭头: 五边形 9484"/>
          <p:cNvSpPr/>
          <p:nvPr/>
        </p:nvSpPr>
        <p:spPr>
          <a:xfrm flipV="1" rot="10800000">
            <a:off x="2606760" y="3233880"/>
            <a:ext cx="6534000" cy="496800"/>
          </a:xfrm>
          <a:custGeom>
            <a:avLst/>
            <a:gdLst>
              <a:gd name="textAreaLeft" fmla="*/ 0 w 6534000"/>
              <a:gd name="textAreaRight" fmla="*/ 6534360 w 6534000"/>
              <a:gd name="textAreaTop" fmla="*/ 360 h 496800"/>
              <a:gd name="textAreaBottom" fmla="*/ 49752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79" y="0"/>
                </a:lnTo>
                <a:lnTo>
                  <a:pt x="21600" y="10800"/>
                </a:lnTo>
                <a:lnTo>
                  <a:pt x="2077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ed3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箭头: 五边形 9685"/>
          <p:cNvSpPr/>
          <p:nvPr/>
        </p:nvSpPr>
        <p:spPr>
          <a:xfrm flipV="1" rot="10800000">
            <a:off x="2610000" y="2739960"/>
            <a:ext cx="6534000" cy="496800"/>
          </a:xfrm>
          <a:custGeom>
            <a:avLst/>
            <a:gdLst>
              <a:gd name="textAreaLeft" fmla="*/ 0 w 6534000"/>
              <a:gd name="textAreaRight" fmla="*/ 6534360 w 6534000"/>
              <a:gd name="textAreaTop" fmla="*/ 360 h 496800"/>
              <a:gd name="textAreaBottom" fmla="*/ 49752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79" y="0"/>
                </a:lnTo>
                <a:lnTo>
                  <a:pt x="21600" y="10800"/>
                </a:lnTo>
                <a:lnTo>
                  <a:pt x="2077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edf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箭头: 五边形 9886"/>
          <p:cNvSpPr/>
          <p:nvPr/>
        </p:nvSpPr>
        <p:spPr>
          <a:xfrm flipV="1" rot="10800000">
            <a:off x="2610000" y="2243520"/>
            <a:ext cx="6535440" cy="497160"/>
          </a:xfrm>
          <a:custGeom>
            <a:avLst/>
            <a:gdLst>
              <a:gd name="textAreaLeft" fmla="*/ 0 w 6535440"/>
              <a:gd name="textAreaRight" fmla="*/ 6535800 w 6535440"/>
              <a:gd name="textAreaTop" fmla="*/ -360 h 497160"/>
              <a:gd name="textAreaBottom" fmla="*/ 497160 h 49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79" y="0"/>
                </a:lnTo>
                <a:lnTo>
                  <a:pt x="21600" y="10800"/>
                </a:lnTo>
                <a:lnTo>
                  <a:pt x="2077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ed3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278" name="组合 9" descr=""/>
          <p:cNvPicPr/>
          <p:nvPr/>
        </p:nvPicPr>
        <p:blipFill>
          <a:blip r:embed="rId2"/>
          <a:stretch/>
        </p:blipFill>
        <p:spPr>
          <a:xfrm>
            <a:off x="801720" y="5099040"/>
            <a:ext cx="1298520" cy="581040"/>
          </a:xfrm>
          <a:prstGeom prst="rect">
            <a:avLst/>
          </a:prstGeom>
          <a:ln w="0">
            <a:noFill/>
          </a:ln>
        </p:spPr>
      </p:pic>
      <p:pic>
        <p:nvPicPr>
          <p:cNvPr id="279" name="组合 13" descr=""/>
          <p:cNvPicPr/>
          <p:nvPr/>
        </p:nvPicPr>
        <p:blipFill>
          <a:blip r:embed="rId3"/>
          <a:stretch/>
        </p:blipFill>
        <p:spPr>
          <a:xfrm>
            <a:off x="7118280" y="5240160"/>
            <a:ext cx="903240" cy="51120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88F0F-92EC-4C97-A5B7-F57C0F39E6B1}" type="datetime">
              <a:rPr b="0" lang="zh-CN" sz="1200" spc="-1" strike="noStrike">
                <a:solidFill>
                  <a:srgbClr val="8d8d8d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7FB64-2E99-4A2C-8064-B8FF69E3D3F1}" type="slidenum">
              <a:rPr b="0" lang="zh-CN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fed34e"/>
          </a:solidFill>
          <a:ln w="12600">
            <a:solidFill>
              <a:srgbClr val="bb9b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2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7874B-95E7-44A3-A447-6FFEDD5F80FF}" type="datetime">
              <a:rPr b="0" lang="zh-CN" sz="1200" spc="-1" strike="noStrike">
                <a:solidFill>
                  <a:srgbClr val="8d8d8d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658E4-EBE1-4DCB-B1FC-0F60C61E0D86}" type="slidenum">
              <a:rPr b="0" lang="zh-CN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fed34e"/>
          </a:solidFill>
          <a:ln w="12600">
            <a:solidFill>
              <a:srgbClr val="bb9b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3E0CC-9DD5-41F3-A3DA-C74D0E4AC76B}" type="datetime">
              <a:rPr b="0" lang="zh-CN" sz="1200" spc="-1" strike="noStrike">
                <a:solidFill>
                  <a:srgbClr val="8d8d8d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E1900-8950-493D-80CA-E51E2C6804A6}" type="slidenum">
              <a:rPr b="0" lang="zh-CN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baike.baidu.com/view/1052845.htm" TargetMode="External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3273480" y="2238480"/>
            <a:ext cx="5781600" cy="14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100" spc="-1" strike="noStrike">
                <a:solidFill>
                  <a:srgbClr val="262626"/>
                </a:solidFill>
                <a:latin typeface="Arial"/>
              </a:rPr>
              <a:t>15.</a:t>
            </a:r>
            <a:r>
              <a:rPr b="1" lang="zh-CN" sz="4100" spc="-1" strike="noStrike">
                <a:solidFill>
                  <a:srgbClr val="262626"/>
                </a:solidFill>
                <a:latin typeface="黑体"/>
                <a:ea typeface="黑体"/>
              </a:rPr>
              <a:t>我一生中的重要抉择</a:t>
            </a:r>
            <a:endParaRPr b="0" lang="en-US" sz="41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 type="subTitle"/>
          </p:nvPr>
        </p:nvSpPr>
        <p:spPr>
          <a:xfrm>
            <a:off x="3269880" y="3813120"/>
            <a:ext cx="5784840" cy="9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000" spc="-1" strike="noStrike">
                <a:solidFill>
                  <a:srgbClr val="262626"/>
                </a:solidFill>
                <a:latin typeface="黑体"/>
                <a:ea typeface="黑体"/>
              </a:rPr>
              <a:t>王选</a:t>
            </a: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0" name="文本框 5" descr=""/>
          <p:cNvPicPr/>
          <p:nvPr/>
        </p:nvPicPr>
        <p:blipFill>
          <a:blip r:embed="rId1"/>
          <a:stretch/>
        </p:blipFill>
        <p:spPr>
          <a:xfrm>
            <a:off x="2006640" y="46080"/>
            <a:ext cx="4773600" cy="703080"/>
          </a:xfrm>
          <a:prstGeom prst="rect">
            <a:avLst/>
          </a:prstGeom>
          <a:ln w="0">
            <a:noFill/>
          </a:ln>
        </p:spPr>
      </p:pic>
      <p:sp>
        <p:nvSpPr>
          <p:cNvPr id="1381" name="文本框 7"/>
          <p:cNvSpPr/>
          <p:nvPr/>
        </p:nvSpPr>
        <p:spPr>
          <a:xfrm>
            <a:off x="600120" y="2482920"/>
            <a:ext cx="7588080" cy="29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读熟课文，把不会读的词语标出来。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读书课后词语。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默读课文，分段。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2" name="文本框 62" descr=""/>
          <p:cNvPicPr/>
          <p:nvPr/>
        </p:nvPicPr>
        <p:blipFill>
          <a:blip r:embed="rId1"/>
          <a:stretch/>
        </p:blipFill>
        <p:spPr>
          <a:xfrm>
            <a:off x="2189160" y="-4680"/>
            <a:ext cx="4773600" cy="646200"/>
          </a:xfrm>
          <a:prstGeom prst="rect">
            <a:avLst/>
          </a:prstGeom>
          <a:ln w="0">
            <a:noFill/>
          </a:ln>
        </p:spPr>
      </p:pic>
      <p:sp>
        <p:nvSpPr>
          <p:cNvPr id="1383" name="文本框 111"/>
          <p:cNvSpPr/>
          <p:nvPr/>
        </p:nvSpPr>
        <p:spPr>
          <a:xfrm>
            <a:off x="-1440" y="641520"/>
            <a:ext cx="9154800" cy="62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262626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262626"/>
                </a:solidFill>
                <a:latin typeface="黑体"/>
                <a:ea typeface="黑体"/>
              </a:rPr>
              <a:t>王选（</a:t>
            </a:r>
            <a:r>
              <a:rPr b="1" lang="en-US" sz="3200" spc="-1" strike="noStrike">
                <a:solidFill>
                  <a:srgbClr val="262626"/>
                </a:solidFill>
                <a:latin typeface="黑体"/>
                <a:ea typeface="黑体"/>
              </a:rPr>
              <a:t>1937</a:t>
            </a:r>
            <a:r>
              <a:rPr b="1" lang="zh-CN" sz="3200" spc="-1" strike="noStrike">
                <a:solidFill>
                  <a:srgbClr val="262626"/>
                </a:solidFill>
                <a:latin typeface="黑体"/>
                <a:ea typeface="黑体"/>
              </a:rPr>
              <a:t>年</a:t>
            </a:r>
            <a:r>
              <a:rPr b="1" lang="en-US" sz="3200" spc="-1" strike="noStrike">
                <a:solidFill>
                  <a:srgbClr val="262626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262626"/>
                </a:solidFill>
                <a:latin typeface="黑体"/>
                <a:ea typeface="黑体"/>
              </a:rPr>
              <a:t>月</a:t>
            </a:r>
            <a:r>
              <a:rPr b="1" lang="en-US" sz="3200" spc="-1" strike="noStrike">
                <a:solidFill>
                  <a:srgbClr val="262626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262626"/>
                </a:solidFill>
                <a:latin typeface="黑体"/>
                <a:ea typeface="黑体"/>
              </a:rPr>
              <a:t>日－</a:t>
            </a:r>
            <a:r>
              <a:rPr b="1" lang="en-US" sz="3200" spc="-1" strike="noStrike">
                <a:solidFill>
                  <a:srgbClr val="262626"/>
                </a:solidFill>
                <a:latin typeface="黑体"/>
                <a:ea typeface="黑体"/>
              </a:rPr>
              <a:t>2006</a:t>
            </a:r>
            <a:r>
              <a:rPr b="1" lang="zh-CN" sz="3200" spc="-1" strike="noStrike">
                <a:solidFill>
                  <a:srgbClr val="262626"/>
                </a:solidFill>
                <a:latin typeface="黑体"/>
                <a:ea typeface="黑体"/>
              </a:rPr>
              <a:t>年</a:t>
            </a:r>
            <a:r>
              <a:rPr b="1" lang="en-US" sz="3200" spc="-1" strike="noStrike">
                <a:solidFill>
                  <a:srgbClr val="262626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262626"/>
                </a:solidFill>
                <a:latin typeface="黑体"/>
                <a:ea typeface="黑体"/>
              </a:rPr>
              <a:t>月</a:t>
            </a:r>
            <a:r>
              <a:rPr b="1" lang="en-US" sz="3200" spc="-1" strike="noStrike">
                <a:solidFill>
                  <a:srgbClr val="262626"/>
                </a:solidFill>
                <a:latin typeface="黑体"/>
                <a:ea typeface="黑体"/>
              </a:rPr>
              <a:t>13</a:t>
            </a:r>
            <a:r>
              <a:rPr b="1" lang="zh-CN" sz="3200" spc="-1" strike="noStrike">
                <a:solidFill>
                  <a:srgbClr val="262626"/>
                </a:solidFill>
                <a:latin typeface="黑体"/>
                <a:ea typeface="黑体"/>
              </a:rPr>
              <a:t>日）：曾任中国科学院院士，</a:t>
            </a:r>
            <a:r>
              <a:rPr b="0" lang="zh-CN" sz="3200" spc="-1" strike="noStrike" u="sng">
                <a:solidFill>
                  <a:srgbClr val="0563c1"/>
                </a:solidFill>
                <a:uFillTx/>
                <a:latin typeface="黑体"/>
                <a:ea typeface="黑体"/>
                <a:hlinkClick r:id="rId2"/>
              </a:rPr>
              <a:t>中国工程院院士</a:t>
            </a:r>
            <a:r>
              <a:rPr b="1" lang="zh-CN" sz="3200" spc="-1" strike="noStrike">
                <a:solidFill>
                  <a:srgbClr val="262626"/>
                </a:solidFill>
                <a:latin typeface="黑体"/>
                <a:ea typeface="黑体"/>
              </a:rPr>
              <a:t>，第三世界科学院院士。是汉字激光照排系统的创始人，他所领导的科研集体研制出的汉字激光照排系统为新闻、出版全过程的计算机化奠定了基础，被誉为“汉字印刷术的第二次发明”。被誉为“当代的毕升”“汉字激光照排之父”“中国现代汉字印刷革命的奠基人”“中国迎接知识经济挑战的先驱”。</a:t>
            </a:r>
            <a:r>
              <a:rPr b="1" lang="en-US" sz="3200" spc="-1" strike="noStrike">
                <a:solidFill>
                  <a:srgbClr val="262626"/>
                </a:solidFill>
                <a:latin typeface="黑体"/>
                <a:ea typeface="黑体"/>
              </a:rPr>
              <a:t>2001</a:t>
            </a:r>
            <a:r>
              <a:rPr b="1" lang="zh-CN" sz="3200" spc="-1" strike="noStrike">
                <a:solidFill>
                  <a:srgbClr val="262626"/>
                </a:solidFill>
                <a:latin typeface="黑体"/>
                <a:ea typeface="黑体"/>
              </a:rPr>
              <a:t>年，王选获国家最高科学技术奖。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矩形 8"/>
          <p:cNvSpPr/>
          <p:nvPr/>
        </p:nvSpPr>
        <p:spPr>
          <a:xfrm>
            <a:off x="3754440" y="0"/>
            <a:ext cx="1371600" cy="6858000"/>
          </a:xfrm>
          <a:prstGeom prst="rect">
            <a:avLst/>
          </a:prstGeom>
          <a:solidFill>
            <a:srgbClr val="db00b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85" name="文本框 9"/>
          <p:cNvSpPr/>
          <p:nvPr/>
        </p:nvSpPr>
        <p:spPr>
          <a:xfrm>
            <a:off x="25560" y="1003320"/>
            <a:ext cx="90453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7e6e6"/>
                </a:solidFill>
                <a:latin typeface="黑体"/>
                <a:ea typeface="黑体"/>
              </a:rPr>
              <a:t>瞭望  </a:t>
            </a:r>
            <a:r>
              <a:rPr b="1" lang="en-US" sz="3200" spc="-1" strike="noStrike">
                <a:solidFill>
                  <a:srgbClr val="262626"/>
                </a:solidFill>
                <a:latin typeface="黑体"/>
                <a:ea typeface="黑体"/>
              </a:rPr>
              <a:t>liao wang      </a:t>
            </a:r>
            <a:r>
              <a:rPr b="1" lang="zh-CN" sz="3200" spc="-1" strike="noStrike">
                <a:solidFill>
                  <a:srgbClr val="e7e6e6"/>
                </a:solidFill>
                <a:latin typeface="黑体"/>
                <a:ea typeface="黑体"/>
              </a:rPr>
              <a:t>缅怀  </a:t>
            </a:r>
            <a:r>
              <a:rPr b="1" lang="en-US" sz="3200" spc="-1" strike="noStrike">
                <a:solidFill>
                  <a:srgbClr val="262626"/>
                </a:solidFill>
                <a:latin typeface="黑体"/>
                <a:ea typeface="黑体"/>
              </a:rPr>
              <a:t>mian huai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7e6e6"/>
                </a:solidFill>
                <a:latin typeface="黑体"/>
                <a:ea typeface="黑体"/>
              </a:rPr>
              <a:t>探查  </a:t>
            </a:r>
            <a:r>
              <a:rPr b="1" lang="en-US" sz="3200" spc="-1" strike="noStrike">
                <a:solidFill>
                  <a:srgbClr val="262626"/>
                </a:solidFill>
                <a:latin typeface="黑体"/>
                <a:ea typeface="黑体"/>
              </a:rPr>
              <a:t>tan cha        </a:t>
            </a:r>
            <a:r>
              <a:rPr b="1" lang="zh-CN" sz="3200" spc="-1" strike="noStrike">
                <a:solidFill>
                  <a:srgbClr val="e7e6e6"/>
                </a:solidFill>
                <a:latin typeface="黑体"/>
                <a:ea typeface="黑体"/>
              </a:rPr>
              <a:t>探讨  </a:t>
            </a:r>
            <a:r>
              <a:rPr b="1" lang="en-US" sz="3200" spc="-1" strike="noStrike">
                <a:solidFill>
                  <a:srgbClr val="262626"/>
                </a:solidFill>
                <a:latin typeface="黑体"/>
                <a:ea typeface="黑体"/>
              </a:rPr>
              <a:t>tan tao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7e6e6"/>
                </a:solidFill>
                <a:latin typeface="黑体"/>
                <a:ea typeface="黑体"/>
              </a:rPr>
              <a:t>检讨  </a:t>
            </a:r>
            <a:r>
              <a:rPr b="1" lang="en-US" sz="3200" spc="-1" strike="noStrike">
                <a:solidFill>
                  <a:srgbClr val="262626"/>
                </a:solidFill>
                <a:latin typeface="黑体"/>
                <a:ea typeface="黑体"/>
              </a:rPr>
              <a:t>jian tao       </a:t>
            </a:r>
            <a:r>
              <a:rPr b="1" lang="zh-CN" sz="3200" spc="-1" strike="noStrike">
                <a:solidFill>
                  <a:srgbClr val="e7e6e6"/>
                </a:solidFill>
                <a:latin typeface="黑体"/>
                <a:ea typeface="黑体"/>
              </a:rPr>
              <a:t>彷徨  </a:t>
            </a:r>
            <a:r>
              <a:rPr b="1" lang="en-US" sz="3200" spc="-1" strike="noStrike">
                <a:solidFill>
                  <a:srgbClr val="262626"/>
                </a:solidFill>
                <a:latin typeface="黑体"/>
                <a:ea typeface="黑体"/>
              </a:rPr>
              <a:t>pang huang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激变  </a:t>
            </a:r>
            <a:r>
              <a:rPr b="1" lang="en-US" sz="3200" spc="-1" strike="noStrike">
                <a:solidFill>
                  <a:srgbClr val="262626"/>
                </a:solidFill>
                <a:latin typeface="黑体"/>
                <a:ea typeface="黑体"/>
              </a:rPr>
              <a:t>jibian   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格物致知 </a:t>
            </a:r>
            <a:r>
              <a:rPr b="1" lang="en-US" sz="3200" spc="-1" strike="noStrike">
                <a:solidFill>
                  <a:srgbClr val="262626"/>
                </a:solidFill>
                <a:latin typeface="黑体"/>
                <a:ea typeface="黑体"/>
              </a:rPr>
              <a:t>ge wu zhi zhi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袖手旁观 </a:t>
            </a:r>
            <a:r>
              <a:rPr b="1" lang="en-US" sz="3200" spc="-1" strike="noStrike">
                <a:solidFill>
                  <a:srgbClr val="262626"/>
                </a:solidFill>
                <a:latin typeface="黑体"/>
                <a:ea typeface="黑体"/>
              </a:rPr>
              <a:t>xiou shou pang guan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知所措</a:t>
            </a:r>
            <a:r>
              <a:rPr b="1" lang="zh-CN" sz="3200" spc="-1" strike="noStrike">
                <a:solidFill>
                  <a:srgbClr val="262626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262626"/>
                </a:solidFill>
                <a:latin typeface="黑体"/>
                <a:ea typeface="黑体"/>
              </a:rPr>
              <a:t>bu zhi suo cuo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262626"/>
                </a:solidFill>
                <a:latin typeface="黑体"/>
                <a:ea typeface="黑体"/>
              </a:rPr>
              <a:t>      </a:t>
            </a:r>
            <a:r>
              <a:rPr b="0" lang="zh-CN" sz="1600" spc="-1" strike="noStrike">
                <a:solidFill>
                  <a:srgbClr val="262626"/>
                </a:solidFill>
                <a:latin typeface="Arial"/>
                <a:ea typeface="宋体"/>
              </a:rPr>
              <a:t>       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1386" name="文本框 10" descr=""/>
          <p:cNvPicPr/>
          <p:nvPr/>
        </p:nvPicPr>
        <p:blipFill>
          <a:blip r:embed="rId1"/>
          <a:stretch/>
        </p:blipFill>
        <p:spPr>
          <a:xfrm>
            <a:off x="2066760" y="-127080"/>
            <a:ext cx="5180040" cy="12574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7" name="图片 1" descr=""/>
          <p:cNvPicPr/>
          <p:nvPr/>
        </p:nvPicPr>
        <p:blipFill>
          <a:blip r:embed="rId1"/>
          <a:stretch/>
        </p:blipFill>
        <p:spPr>
          <a:xfrm>
            <a:off x="3240" y="-20520"/>
            <a:ext cx="9159840" cy="68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4064040" y="2244240"/>
            <a:ext cx="4286160" cy="146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5400" spc="-1" strike="noStrike">
                <a:solidFill>
                  <a:srgbClr val="262626"/>
                </a:solidFill>
                <a:latin typeface="Arial"/>
              </a:rPr>
              <a:t>谢谢观看</a:t>
            </a:r>
            <a:endParaRPr b="0" lang="en-US" sz="54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18T11:40:47Z</dcterms:created>
  <dc:creator/>
  <dc:description/>
  <dc:language>en-US</dc:language>
  <cp:lastModifiedBy>cop</cp:lastModifiedBy>
  <dcterms:modified xsi:type="dcterms:W3CDTF">2018-04-18T11:57:28Z</dcterms:modified>
  <cp:revision>5</cp:revision>
  <dc:subject/>
  <dc:title>15.我一生中的重要抉择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224</vt:lpwstr>
  </property>
</Properties>
</file>