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8.gif" ContentType="image/gif"/>
  <Override PartName="/ppt/media/image25.gif" ContentType="image/gif"/>
  <Override PartName="/ppt/media/image21.gif" ContentType="image/gif"/>
  <Override PartName="/ppt/media/image19.gif" ContentType="image/gif"/>
  <Override PartName="/ppt/media/image23.gif" ContentType="image/gif"/>
  <Override PartName="/ppt/media/image17.jpeg" ContentType="image/jpeg"/>
  <Override PartName="/ppt/media/image16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43E-D573-4920-9D5C-FFD1D7DA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E46-C577-401B-A9CE-1A778329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895-A6D9-4E67-8447-5E5758B6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DD8-4338-4E6C-8B0A-2E25265F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49D-6E82-45DC-9FC9-6DD06C47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AF8-22C5-45D9-884F-5BD5D2EA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37D-4798-48B5-810D-57302C06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C99-B0A0-486C-AC76-1E18087C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7C0-3181-4CBA-8774-129D6294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B87-9572-435F-9976-29F438C4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688-DFCE-4DDC-A1E5-BE1E3231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FF5-5026-4753-B98B-589C4614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A75C-D7E8-4D54-8716-5DE838DF6A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99"/>
          <p:cNvSpPr/>
          <p:nvPr/>
        </p:nvSpPr>
        <p:spPr>
          <a:xfrm>
            <a:off x="77760" y="692280"/>
            <a:ext cx="906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同学们，你们知道北大方正吗？北大方正集团是由北京大学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98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投资创办。二十年来，坚持持续不断地技术创新，在中国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I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产业发展进程中占据着重要的地位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200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集团总收入达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4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亿。那么你们知道北大方正与王选有什么关系吗？从今天的学习中你会找出答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4346" descr="t01a6f49c48dd073d41"/>
          <p:cNvPicPr/>
          <p:nvPr/>
        </p:nvPicPr>
        <p:blipFill>
          <a:blip r:embed="rId1"/>
          <a:stretch/>
        </p:blipFill>
        <p:spPr>
          <a:xfrm>
            <a:off x="0" y="5299200"/>
            <a:ext cx="9306000" cy="1879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8280" y="777600"/>
            <a:ext cx="9177480" cy="60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抉择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ué   z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挑选、选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扶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fú      zh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扶助培植。这里以某种手段培养人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阻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ǔ     à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阻力，障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趋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qū    shì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事物发展的动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gān    y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过问或参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堕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duò   lu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方面下落至可耻或可鄙的程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53265" descr="4"/>
          <p:cNvPicPr/>
          <p:nvPr/>
        </p:nvPicPr>
        <p:blipFill>
          <a:blip r:embed="rId1"/>
          <a:stretch/>
        </p:blipFill>
        <p:spPr>
          <a:xfrm>
            <a:off x="0" y="644364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25560" y="-22680"/>
            <a:ext cx="9144000" cy="69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膏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gāo   ya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常温下为半固体或固体的膏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狡辩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iǎo   bià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诡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无理的事说得似乎很有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多益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duō  duō  yì   shà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益：更加。越多越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阳奉阴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áng  fèng  yīn  wé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面上遵从，暗地里违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招摇撞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āo  yáo  zhuàng  pià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撞骗：寻机骗人。假借名义，进行蒙骗欺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-34920"/>
            <a:ext cx="9118440" cy="68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口浪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fēng   kǒu   làng   jiā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喻社会斗争极为激烈、尖锐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词夺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qiǎng  cí  duó   l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词：强辩；夺：争。 指无理强辩，明明没理硬说有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易近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íng   yì   jìn   ré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人和蔼可亲，没有架子，使人容易接近。 也指文字浅显，容易了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修边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bù  xiū  biān  f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容不讲究衣饰仪容或不拘形式小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2880"/>
            <a:ext cx="9156600" cy="69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出类拔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hū   lèi    bá  cu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超出同类之上。多指人的品德才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以为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bù   yǐ   wéi   y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把它放在心上。 表示对人、对事抱轻视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论资排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ùn  zī  pái  bè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据资历深浅、辈份的大小决定级别、待遇的高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权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u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某种范围内最有威望、地位的人或事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逸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ì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人不知道的关于某人的事迹（多指不见于正式记载的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析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4560" y="475920"/>
            <a:ext cx="910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第一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：引出话题：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更多的是自己一生奋斗过来的体会，一生中的重要的抉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第二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：论述第六个重要抉择，花大力扶植年轻人，让年轻一代出来逐步取代自己的作用，早出成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第三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总结全文，将著名心理学家荣格的公式送给青年学生，希望青年学生把自己溶在大集体里，体现自我价值。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2400" y="0"/>
            <a:ext cx="820404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整体感知　走进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22320" y="738000"/>
            <a:ext cx="91663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本文主要写的是什么内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者的第六个抉择：大力扶植年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本文的开篇有何 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故事导入，吸引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54283" descr="t0187f5f51739415419"/>
          <p:cNvPicPr/>
          <p:nvPr/>
        </p:nvPicPr>
        <p:blipFill>
          <a:blip r:embed="rId1"/>
          <a:stretch/>
        </p:blipFill>
        <p:spPr>
          <a:xfrm>
            <a:off x="-22320" y="4481640"/>
            <a:ext cx="916632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-65160" y="-9720"/>
            <a:ext cx="9236160" cy="61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概括各段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引出话题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扶植年轻人是一种历史规律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马太效应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④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”已非权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创业的都是年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⑥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 ”是真心诚意地扶植年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刻记住自己是一个普通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总结：要体现自我价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54291" descr="t0103cfeb69d83c7e86"/>
          <p:cNvPicPr/>
          <p:nvPr/>
        </p:nvPicPr>
        <p:blipFill>
          <a:blip r:embed="rId1"/>
          <a:stretch/>
        </p:blipFill>
        <p:spPr>
          <a:xfrm>
            <a:off x="6472080" y="2184480"/>
            <a:ext cx="1979640" cy="1995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细读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，思考作者为什么讲述《荧屏连着我和你》这一电视节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由李素丽对自己的形容引出作者对自己的形容：“努力奋斗，曾经取得过成绩，现在高峰已过，跟不上新技术发展的一个过时的科学家。”表现了作者的谦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54301" descr="t0179ae046cf68e99e6"/>
          <p:cNvPicPr/>
          <p:nvPr/>
        </p:nvPicPr>
        <p:blipFill>
          <a:blip r:embed="rId1"/>
          <a:stretch/>
        </p:blipFill>
        <p:spPr>
          <a:xfrm>
            <a:off x="0" y="5424480"/>
            <a:ext cx="9144000" cy="1433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开篇举比尔盖茨及电视节目的最终目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引出下文，写自己退下来的原因是为了给年轻人创造创业机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用一天中不同时刻的太阳来比喻不同的人群，好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喻贴切形象，语言幽默，引出演讲的中心话题——我一生中的重要抉择；作者即景设喻，拉近了作者与听众的距离，又给青年人以极大的鼓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作者列举英国卡文迪许实验室的多个事例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充分论证了花大力气扶植年轻人是历史规律，强调扶植年轻人的重要意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什么是“马太效应的”？作者是如何评价“马太效应的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马太效应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强者愈强、弱者愈弱的现象，广泛应用于社会心理学、教育、金融以及科学领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体现在“我”身上，很可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60417" descr="w028"/>
          <p:cNvPicPr/>
          <p:nvPr/>
        </p:nvPicPr>
        <p:blipFill>
          <a:blip r:embed="rId1"/>
          <a:stretch/>
        </p:blipFill>
        <p:spPr>
          <a:xfrm>
            <a:off x="8029440" y="5334120"/>
            <a:ext cx="120672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内容占位符 3" descr=""/>
          <p:cNvPicPr/>
          <p:nvPr/>
        </p:nvPicPr>
        <p:blipFill>
          <a:blip r:embed="rId1"/>
          <a:stretch/>
        </p:blipFill>
        <p:spPr>
          <a:xfrm>
            <a:off x="-25560" y="-41400"/>
            <a:ext cx="9223560" cy="6943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200" y="660240"/>
            <a:ext cx="9118440" cy="61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733840" y="-39600"/>
            <a:ext cx="416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99"/>
          <p:cNvSpPr/>
          <p:nvPr/>
        </p:nvSpPr>
        <p:spPr>
          <a:xfrm>
            <a:off x="25560" y="882720"/>
            <a:ext cx="9118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作者是如何告诫年轻人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人老在电视上露面 ，说明这个科技工作者的科技生涯基本上快结束了。”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要脚踏实地，不要心浮气躁，耐不住寂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60425" descr="花"/>
          <p:cNvPicPr/>
          <p:nvPr/>
        </p:nvPicPr>
        <p:blipFill>
          <a:blip r:embed="rId1"/>
          <a:stretch/>
        </p:blipFill>
        <p:spPr>
          <a:xfrm>
            <a:off x="25560" y="5634000"/>
            <a:ext cx="91184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作者是从哪几个方面来谈论“第六个重要抉择”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花大力气扶植年轻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如何看待权威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倡导老师不要剥夺学生的劳动成果，为学生创造成长的平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分析名人和凡人的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59429" descr="t01ba7f5021c3a91735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在结尾为什么称自己的演讲为“狗皮膏药”式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认为自己已经脱离第一线，创造的高峰已过去，并非站在行业的最前沿。跟大家讲的，更多的是自己一生奋斗的体会，而不是科技含量最高的，对大家所起的作用不是很大。当然这是作者自谦而诙谐的说法，显得幽默风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59419" descr="t01a5d1e22930cde5ea"/>
          <p:cNvPicPr/>
          <p:nvPr/>
        </p:nvPicPr>
        <p:blipFill>
          <a:blip r:embed="rId1"/>
          <a:stretch/>
        </p:blipFill>
        <p:spPr>
          <a:xfrm>
            <a:off x="0" y="5707080"/>
            <a:ext cx="914400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篇演讲是围绕什么中心来展开的？为什么这样安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大力扶植年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因为本文是作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在北京大学的演讲，作者面对的是北大的学生们。演讲的目的是鼓励最富创造力的年轻人努力奋斗，早出成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59413" descr="t01c350bd54c0a89380"/>
          <p:cNvPicPr/>
          <p:nvPr/>
        </p:nvPicPr>
        <p:blipFill>
          <a:blip r:embed="rId1"/>
          <a:stretch/>
        </p:blipFill>
        <p:spPr>
          <a:xfrm>
            <a:off x="0" y="4645080"/>
            <a:ext cx="91440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12960" y="31680"/>
            <a:ext cx="9156600" cy="68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9"/>
          <p:cNvSpPr/>
          <p:nvPr/>
        </p:nvSpPr>
        <p:spPr>
          <a:xfrm>
            <a:off x="-12600" y="31680"/>
            <a:ext cx="9156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通过王选的这个抉择，我们可以看到他身 上具有哪些崇高品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聪慧过人，善于发现总结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谦虚谨慎、性情耿直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勤奋好学、不求虚名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爱国忘 我的工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关心爱护年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81923" descr="t01b03cf5ee44ef4993"/>
          <p:cNvPicPr/>
          <p:nvPr/>
        </p:nvPicPr>
        <p:blipFill>
          <a:blip r:embed="rId1"/>
          <a:stretch/>
        </p:blipFill>
        <p:spPr>
          <a:xfrm>
            <a:off x="-12600" y="4998960"/>
            <a:ext cx="9156600" cy="1859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99"/>
          <p:cNvSpPr/>
          <p:nvPr/>
        </p:nvSpPr>
        <p:spPr>
          <a:xfrm>
            <a:off x="2136600" y="0"/>
            <a:ext cx="49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品味语言　探究写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"/>
          <p:cNvSpPr/>
          <p:nvPr/>
        </p:nvSpPr>
        <p:spPr>
          <a:xfrm>
            <a:off x="0" y="876240"/>
            <a:ext cx="90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微软的董事长比尔•盖茨曾经讲过：“让一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的老者来领导微软公司，这是一件不可设想的事情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可设想”意思是事情的结果不能想象，指向很坏、很危险的方向发展。这里指发展迅速的新技术，尤其是计算机技术需要不断创新，需要富有创造力的年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61446" descr="w006"/>
          <p:cNvPicPr/>
          <p:nvPr/>
        </p:nvPicPr>
        <p:blipFill>
          <a:blip r:embed="rId1"/>
          <a:stretch/>
        </p:blipFill>
        <p:spPr>
          <a:xfrm>
            <a:off x="0" y="5797440"/>
            <a:ext cx="9144000" cy="1060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25920" y="-86040"/>
            <a:ext cx="8712360" cy="62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搞激光照排，提出一种崭新的技术途径，假如人家说我是权威，也许还马马虎虎，因为在这个领域我懂得最多，而且我也在第一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马马虎虎”意思是勉强，凑合。表现作者的谦虚，幽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当然我们要创造条件，就是把他们推到需求刺激的风口浪尖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口浪尖”比喻重要的岗位或市场的前沿。运用比喻，使语言表达生动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64551" descr="t01c32a785b26869ca2"/>
          <p:cNvPicPr/>
          <p:nvPr/>
        </p:nvPicPr>
        <p:blipFill>
          <a:blip r:embed="rId1"/>
          <a:stretch/>
        </p:blipFill>
        <p:spPr>
          <a:xfrm>
            <a:off x="4122720" y="6275520"/>
            <a:ext cx="4964040" cy="741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3240"/>
            <a:ext cx="9144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觉得我是“努力奋斗，曾经取得过成绩，现在高峰已过，跟不上新技术发展的一个过时的科学家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曾经”“跟不上”“过时”几个词语体现出一个胸怀宽广、谦虚谨慎、不慕荣利的科学家的高贵品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66584" descr="t018f6a28ae7dca53b8"/>
          <p:cNvPicPr/>
          <p:nvPr/>
        </p:nvPicPr>
        <p:blipFill>
          <a:blip r:embed="rId1"/>
          <a:stretch/>
        </p:blipFill>
        <p:spPr>
          <a:xfrm>
            <a:off x="0" y="3921120"/>
            <a:ext cx="9144000" cy="2919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-360"/>
            <a:ext cx="9144000" cy="68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让年轻一代出来逐步取代我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取代”一词表现出的不仅仅是科学家宽广的胸襟，更是一种一心为国的忧患意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名人老了，称呼王老，凡人就只能叫老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言诙谐幽默，含有讽刺意味。体现出作者正 直坦荡的胸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66578" descr="t0151efaaceedb8b565"/>
          <p:cNvPicPr/>
          <p:nvPr/>
        </p:nvPicPr>
        <p:blipFill>
          <a:blip r:embed="rId1"/>
          <a:stretch/>
        </p:blipFill>
        <p:spPr>
          <a:xfrm>
            <a:off x="0" y="5433840"/>
            <a:ext cx="9144000" cy="1420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99"/>
          <p:cNvSpPr/>
          <p:nvPr/>
        </p:nvSpPr>
        <p:spPr>
          <a:xfrm>
            <a:off x="1901880" y="0"/>
            <a:ext cx="507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"/>
          <p:cNvSpPr/>
          <p:nvPr/>
        </p:nvSpPr>
        <p:spPr>
          <a:xfrm>
            <a:off x="9360" y="816120"/>
            <a:ext cx="913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选曾经说“人生中最智慧的选择”指的是第六次，作者这样的评议突出了王 选的无私和睿智，以及对年轻人的高度信任。本文写的就是第六个选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篇演讲稿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特点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①主题鲜明，逻辑严密；②层次清楚，详略得当；③诙谐幽默，真挚感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66582" descr="t0132aba94ec9aba5de"/>
          <p:cNvPicPr/>
          <p:nvPr/>
        </p:nvPicPr>
        <p:blipFill>
          <a:blip r:embed="rId1"/>
          <a:stretch/>
        </p:blipFill>
        <p:spPr>
          <a:xfrm>
            <a:off x="9360" y="5346720"/>
            <a:ext cx="913464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背景资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160" y="731520"/>
            <a:ext cx="910584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本文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月王选在北京大学的一篇演讲稿。每个人的一生中都可能面临很 多抉择，王选的一生中有过八个重要抉择，每次都把他的人生推向一个新的台阶。本文节选的是第六个选择。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4346" descr="t01a6f49c48dd073d41"/>
          <p:cNvPicPr/>
          <p:nvPr/>
        </p:nvPicPr>
        <p:blipFill>
          <a:blip r:embed="rId1"/>
          <a:stretch/>
        </p:blipFill>
        <p:spPr>
          <a:xfrm>
            <a:off x="-54000" y="4848120"/>
            <a:ext cx="9398160" cy="1793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谈谈如何把握好成功的机遇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合理的期望值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冷静的思维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真的态度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凡事要有自己的主见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旦看准机遇，立即果断迅速作出决定或明确表明自己的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66580" descr="t012be299800b0d6715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心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12960" y="847440"/>
            <a:ext cx="91566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节选了作者在《我一生中的重要抉择》中的第六个抉择：大力扶植年轻人，表现力作者爱国奉献、甘为人梯的崇高精神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37902" descr="t01e990f56903985822"/>
          <p:cNvPicPr/>
          <p:nvPr/>
        </p:nvPicPr>
        <p:blipFill>
          <a:blip r:embed="rId1"/>
          <a:stretch/>
        </p:blipFill>
        <p:spPr>
          <a:xfrm>
            <a:off x="-12600" y="3481560"/>
            <a:ext cx="915660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5076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240" y="476280"/>
            <a:ext cx="9136080" cy="64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年轻人最富有朝气，最富有创造力，所以要抓住现在，勤奋努力；科学发展日新月异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要培养自己的创造力，要跟上时代步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最喜欢王选先生引述的美国心理学家荣格的话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  plus We  equ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Full  I  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我对这句话的理解是：一个完整的人生，要求一个人在集体中发挥自己的作用，具有集体责任感。只有这种人，才能完全体现自我价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68610" descr="齿轮"/>
          <p:cNvPicPr/>
          <p:nvPr/>
        </p:nvPicPr>
        <p:blipFill>
          <a:blip r:embed="rId1"/>
          <a:stretch/>
        </p:blipFill>
        <p:spPr>
          <a:xfrm>
            <a:off x="30240" y="-168120"/>
            <a:ext cx="1360440" cy="879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675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8272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生字、生词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记住王选极其重大贡献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了解王选一生中经历的几次重大选择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王选先生专注于科研，无私奉献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7171" descr="t01e5e4bd24de49ad29"/>
          <p:cNvPicPr/>
          <p:nvPr/>
        </p:nvPicPr>
        <p:blipFill>
          <a:blip r:embed="rId1"/>
          <a:stretch/>
        </p:blipFill>
        <p:spPr>
          <a:xfrm>
            <a:off x="0" y="5110200"/>
            <a:ext cx="9144000" cy="1747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59396"/>
          <p:cNvSpPr txBox="1"/>
          <p:nvPr/>
        </p:nvSpPr>
        <p:spPr>
          <a:xfrm>
            <a:off x="0" y="0"/>
            <a:ext cx="86756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作者简介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文本框 59397"/>
          <p:cNvSpPr/>
          <p:nvPr/>
        </p:nvSpPr>
        <p:spPr>
          <a:xfrm>
            <a:off x="3060720" y="549360"/>
            <a:ext cx="60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623760" y="549000"/>
            <a:ext cx="5519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1937—2006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“汉字激光照排系统”的创始人，被誉为“当代的毕昇”“汉字激光照排之父”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，王选获国家最高科学技术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" descr="IMG_256"/>
          <p:cNvPicPr/>
          <p:nvPr/>
        </p:nvPicPr>
        <p:blipFill>
          <a:blip r:embed="rId1"/>
          <a:stretch/>
        </p:blipFill>
        <p:spPr>
          <a:xfrm>
            <a:off x="0" y="730080"/>
            <a:ext cx="3624120" cy="6170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798480"/>
            <a:ext cx="91440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0" y="800280"/>
            <a:ext cx="11225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u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择　　　        阻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à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出类拔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uì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枯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fá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uǒ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领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di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滚爬           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n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mè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u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然开朗          丰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hu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4350" descr="t0120ad5d9fad383e98"/>
          <p:cNvPicPr/>
          <p:nvPr/>
        </p:nvPicPr>
        <p:blipFill>
          <a:blip r:embed="rId1"/>
          <a:stretch/>
        </p:blipFill>
        <p:spPr>
          <a:xfrm>
            <a:off x="0" y="4572000"/>
            <a:ext cx="90169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7800" y="19080"/>
            <a:ext cx="909324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q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势                   崭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ǎ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ù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阳奉阴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wé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h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                 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b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xu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xián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逸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duò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               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gā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日中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ō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     狡辩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b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4350" descr="t0120ad5d9fad383e98"/>
          <p:cNvPicPr/>
          <p:nvPr/>
        </p:nvPicPr>
        <p:blipFill>
          <a:blip r:embed="rId1"/>
          <a:stretch/>
        </p:blipFill>
        <p:spPr>
          <a:xfrm>
            <a:off x="-130320" y="4840200"/>
            <a:ext cx="9261720" cy="1801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812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多音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25560" y="593280"/>
            <a:ext cx="91440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1440" y="3311640"/>
            <a:ext cx="82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826920" y="3246480"/>
            <a:ext cx="395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左大括号 25617"/>
          <p:cNvSpPr/>
          <p:nvPr/>
        </p:nvSpPr>
        <p:spPr>
          <a:xfrm>
            <a:off x="4643280" y="1368360"/>
            <a:ext cx="642960" cy="4718160"/>
          </a:xfrm>
          <a:custGeom>
            <a:avLst/>
            <a:gdLst>
              <a:gd name="textAreaLeft" fmla="*/ 410760 w 642960"/>
              <a:gd name="textAreaRight" fmla="*/ 642960 w 642960"/>
              <a:gd name="textAreaTop" fmla="*/ 79200 h 4718160"/>
              <a:gd name="textAreaBottom" fmla="*/ 4638960 h 471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1"/>
                  <a:pt x="10800" y="1161"/>
                </a:cubicBezTo>
                <a:lnTo>
                  <a:pt x="10800" y="9639"/>
                </a:lnTo>
                <a:cubicBezTo>
                  <a:pt x="10800" y="10220"/>
                  <a:pt x="5400" y="10800"/>
                  <a:pt x="0" y="10800"/>
                </a:cubicBezTo>
                <a:cubicBezTo>
                  <a:pt x="5400" y="10800"/>
                  <a:pt x="10800" y="11381"/>
                  <a:pt x="10800" y="11961"/>
                </a:cubicBezTo>
                <a:lnTo>
                  <a:pt x="10800" y="20439"/>
                </a:lnTo>
                <a:cubicBezTo>
                  <a:pt x="10800" y="210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1282680" y="1003320"/>
            <a:ext cx="156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i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1197000" y="5560920"/>
            <a:ext cx="174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i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"/>
          <p:cNvSpPr/>
          <p:nvPr/>
        </p:nvSpPr>
        <p:spPr>
          <a:xfrm>
            <a:off x="2314440" y="901800"/>
            <a:ext cx="233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"/>
          <p:cNvSpPr/>
          <p:nvPr/>
        </p:nvSpPr>
        <p:spPr>
          <a:xfrm>
            <a:off x="2235240" y="5560920"/>
            <a:ext cx="192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4067280" y="3375000"/>
            <a:ext cx="129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左大括号 25617"/>
          <p:cNvSpPr/>
          <p:nvPr/>
        </p:nvSpPr>
        <p:spPr>
          <a:xfrm>
            <a:off x="766800" y="1495440"/>
            <a:ext cx="642960" cy="4718160"/>
          </a:xfrm>
          <a:custGeom>
            <a:avLst/>
            <a:gdLst>
              <a:gd name="textAreaLeft" fmla="*/ 410760 w 642960"/>
              <a:gd name="textAreaRight" fmla="*/ 642960 w 642960"/>
              <a:gd name="textAreaTop" fmla="*/ 79200 h 4718160"/>
              <a:gd name="textAreaBottom" fmla="*/ 4638960 h 471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1"/>
                  <a:pt x="10800" y="1161"/>
                </a:cubicBezTo>
                <a:lnTo>
                  <a:pt x="10800" y="9639"/>
                </a:lnTo>
                <a:cubicBezTo>
                  <a:pt x="10800" y="10220"/>
                  <a:pt x="5400" y="10800"/>
                  <a:pt x="0" y="10800"/>
                </a:cubicBezTo>
                <a:cubicBezTo>
                  <a:pt x="5400" y="10800"/>
                  <a:pt x="10800" y="11381"/>
                  <a:pt x="10800" y="11961"/>
                </a:cubicBezTo>
                <a:lnTo>
                  <a:pt x="10800" y="20439"/>
                </a:lnTo>
                <a:cubicBezTo>
                  <a:pt x="10800" y="210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"/>
          <p:cNvSpPr/>
          <p:nvPr/>
        </p:nvSpPr>
        <p:spPr>
          <a:xfrm>
            <a:off x="5284800" y="1001880"/>
            <a:ext cx="185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7"/>
          <p:cNvSpPr/>
          <p:nvPr/>
        </p:nvSpPr>
        <p:spPr>
          <a:xfrm>
            <a:off x="5257800" y="5560920"/>
            <a:ext cx="21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8"/>
          <p:cNvSpPr/>
          <p:nvPr/>
        </p:nvSpPr>
        <p:spPr>
          <a:xfrm>
            <a:off x="6773760" y="1003320"/>
            <a:ext cx="234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曾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9"/>
          <p:cNvSpPr/>
          <p:nvPr/>
        </p:nvSpPr>
        <p:spPr>
          <a:xfrm>
            <a:off x="6594480" y="5560920"/>
            <a:ext cx="24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曾祖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5366" descr="t01d29261d9de66153e"/>
          <p:cNvPicPr/>
          <p:nvPr/>
        </p:nvPicPr>
        <p:blipFill>
          <a:blip r:embed="rId1"/>
          <a:stretch/>
        </p:blipFill>
        <p:spPr>
          <a:xfrm>
            <a:off x="1409760" y="2048040"/>
            <a:ext cx="1973160" cy="32320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5366" descr="t01d29261d9de66153e"/>
          <p:cNvPicPr/>
          <p:nvPr/>
        </p:nvPicPr>
        <p:blipFill>
          <a:blip r:embed="rId2"/>
          <a:stretch/>
        </p:blipFill>
        <p:spPr>
          <a:xfrm>
            <a:off x="5632560" y="1965240"/>
            <a:ext cx="1973160" cy="3232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9600" y="15840"/>
            <a:ext cx="919800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"/>
          <p:cNvSpPr/>
          <p:nvPr/>
        </p:nvSpPr>
        <p:spPr>
          <a:xfrm>
            <a:off x="49320" y="3308400"/>
            <a:ext cx="92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左大括号 25617"/>
          <p:cNvSpPr/>
          <p:nvPr/>
        </p:nvSpPr>
        <p:spPr>
          <a:xfrm>
            <a:off x="611280" y="1330200"/>
            <a:ext cx="642960" cy="4718160"/>
          </a:xfrm>
          <a:custGeom>
            <a:avLst/>
            <a:gdLst>
              <a:gd name="textAreaLeft" fmla="*/ 410760 w 642960"/>
              <a:gd name="textAreaRight" fmla="*/ 642960 w 642960"/>
              <a:gd name="textAreaTop" fmla="*/ 79200 h 4718160"/>
              <a:gd name="textAreaBottom" fmla="*/ 4638960 h 471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1"/>
                  <a:pt x="10800" y="1161"/>
                </a:cubicBezTo>
                <a:lnTo>
                  <a:pt x="10800" y="9639"/>
                </a:lnTo>
                <a:cubicBezTo>
                  <a:pt x="10800" y="10220"/>
                  <a:pt x="5400" y="10800"/>
                  <a:pt x="0" y="10800"/>
                </a:cubicBezTo>
                <a:cubicBezTo>
                  <a:pt x="5400" y="10800"/>
                  <a:pt x="10800" y="11381"/>
                  <a:pt x="10800" y="11961"/>
                </a:cubicBezTo>
                <a:lnTo>
                  <a:pt x="10800" y="20439"/>
                </a:lnTo>
                <a:cubicBezTo>
                  <a:pt x="10800" y="210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"/>
          <p:cNvSpPr/>
          <p:nvPr/>
        </p:nvSpPr>
        <p:spPr>
          <a:xfrm>
            <a:off x="1384200" y="1060560"/>
            <a:ext cx="12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"/>
          <p:cNvSpPr/>
          <p:nvPr/>
        </p:nvSpPr>
        <p:spPr>
          <a:xfrm>
            <a:off x="1332000" y="54831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2247840" y="1060560"/>
            <a:ext cx="197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"/>
          <p:cNvSpPr/>
          <p:nvPr/>
        </p:nvSpPr>
        <p:spPr>
          <a:xfrm>
            <a:off x="2247840" y="5483160"/>
            <a:ext cx="142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4054320" y="3308400"/>
            <a:ext cx="13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左大括号 25617"/>
          <p:cNvSpPr/>
          <p:nvPr/>
        </p:nvSpPr>
        <p:spPr>
          <a:xfrm>
            <a:off x="4676760" y="1330200"/>
            <a:ext cx="642960" cy="4718160"/>
          </a:xfrm>
          <a:custGeom>
            <a:avLst/>
            <a:gdLst>
              <a:gd name="textAreaLeft" fmla="*/ 410760 w 642960"/>
              <a:gd name="textAreaRight" fmla="*/ 642960 w 642960"/>
              <a:gd name="textAreaTop" fmla="*/ 79200 h 4718160"/>
              <a:gd name="textAreaBottom" fmla="*/ 4638960 h 471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1"/>
                  <a:pt x="10800" y="1161"/>
                </a:cubicBezTo>
                <a:lnTo>
                  <a:pt x="10800" y="9639"/>
                </a:lnTo>
                <a:cubicBezTo>
                  <a:pt x="10800" y="10220"/>
                  <a:pt x="5400" y="10800"/>
                  <a:pt x="0" y="10800"/>
                </a:cubicBezTo>
                <a:cubicBezTo>
                  <a:pt x="5400" y="10800"/>
                  <a:pt x="10800" y="11381"/>
                  <a:pt x="10800" y="11961"/>
                </a:cubicBezTo>
                <a:lnTo>
                  <a:pt x="10800" y="20439"/>
                </a:lnTo>
                <a:cubicBezTo>
                  <a:pt x="10800" y="210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"/>
          <p:cNvSpPr/>
          <p:nvPr/>
        </p:nvSpPr>
        <p:spPr>
          <a:xfrm>
            <a:off x="5319720" y="1060560"/>
            <a:ext cx="15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i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5143680" y="5483160"/>
            <a:ext cx="176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i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7"/>
          <p:cNvSpPr/>
          <p:nvPr/>
        </p:nvSpPr>
        <p:spPr>
          <a:xfrm>
            <a:off x="6512040" y="1060560"/>
            <a:ext cx="21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调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8"/>
          <p:cNvSpPr/>
          <p:nvPr/>
        </p:nvSpPr>
        <p:spPr>
          <a:xfrm>
            <a:off x="6356520" y="5405400"/>
            <a:ext cx="167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调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5372" descr="t01c97b8110905414d1"/>
          <p:cNvPicPr/>
          <p:nvPr/>
        </p:nvPicPr>
        <p:blipFill>
          <a:blip r:embed="rId1"/>
          <a:stretch/>
        </p:blipFill>
        <p:spPr>
          <a:xfrm>
            <a:off x="1332000" y="2171880"/>
            <a:ext cx="2166840" cy="27907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5372" descr="t01c97b8110905414d1"/>
          <p:cNvPicPr/>
          <p:nvPr/>
        </p:nvPicPr>
        <p:blipFill>
          <a:blip r:embed="rId2"/>
          <a:stretch/>
        </p:blipFill>
        <p:spPr>
          <a:xfrm>
            <a:off x="5416560" y="2041560"/>
            <a:ext cx="2165400" cy="2790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16:41:34Z</dcterms:created>
  <dc:creator>雨林木风</dc:creator>
  <dc:description/>
  <dc:language>en-US</dc:language>
  <cp:lastModifiedBy>Administrator</cp:lastModifiedBy>
  <dcterms:modified xsi:type="dcterms:W3CDTF">2018-03-25T04:48:19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