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077-3710-409C-B0D2-8097C581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35EA-FC15-4637-98AB-A845DC72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781-9FD8-49D5-994C-A2A93CFC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2E02-39CD-42A5-A061-ADF1AD20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572F-F015-49A7-AA99-C5CDC2ED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6B43-33C5-4030-85A5-FE9588A5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EB58-3FCD-4976-A656-23E61304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36EE-70D4-4799-9FD1-DEAE0B23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39E3-B160-4351-B925-053B5F8D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EB89-0531-477F-816E-1E1935D2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D12E-1593-44C3-BC1A-FB848158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D6E-AB7A-4DF6-A46C-6BEA83E5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55C5-9FFD-4D4A-8DF3-C7EF693D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3DDF-7F99-4187-8997-50A6E6D8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A29C-1A67-49E8-BE55-18C68775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5CCE-02EC-4E57-B775-5E6FBE33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1864-7F8B-455E-8B17-1DBB72A3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7FCB-02D6-423A-BDF0-7DEA0A40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C47-3C5F-464B-9D91-8DD97170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41B-2699-4601-AC9B-AEBEF649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FE1-C9FD-4A91-9DA9-3F00379F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948-7A8A-469C-AF72-B2441605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4846-B95C-490B-8432-1ABB8247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7F57-F671-4D47-B6D6-272406B9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9F4D-3BCF-45CD-B174-0437AC4109CD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A3AF-C800-45BC-A285-9700A13EF0F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1832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我用残损的手掌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戴望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4724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潍坊高新区浞景学校   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我用残损的手掌   戴望舒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61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我用残损的手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摸索这广大的土地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 advTm="10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8920" y="115560"/>
            <a:ext cx="87138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这一角已经变成灰烬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那一角只是血和泥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这一片湖该是我的家乡，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春天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堤上繁花如锦障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嫩柳枝折断有奇异的芬芳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我触到荇藻和水的微凉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这长白山的雪峰冷到彻骨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这黄河的水夹泥沙在指间滑出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江南的水田，你当年新生的禾草是那么细，那么软……现在只有蓬蒿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岭南的荔枝花寂寞地憔悴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尽那边，我蘸着南海没有渔船的苦水…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无形的手指掠过无限的江山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手指沾了血和灰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手掌沾了阴暗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604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20909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4960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只有那辽远的一角依然完整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温暖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明朗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坚固而蓬勃生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在那上面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我用残损的手掌轻抚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像恋人的柔发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婴孩手中乳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我把全部的力量运在手掌，贴在上面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寄与爱和一切希望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因为只有那里是太阳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是春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将驱逐阴暗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带来苏生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因为只有那里，我们不像牲口一样活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蝼蚁一样死……那里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永恒的中国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 advTm="10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09360" y="609480"/>
            <a:ext cx="5932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我用这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残损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手掌，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3357720"/>
            <a:ext cx="539928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摸索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这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广大的土地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；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84360" y="1844640"/>
            <a:ext cx="6120000" cy="116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饱尝艰难困苦，“残损的手掌”既是写实，又表明了诗人坚贞不屈的意志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4419720"/>
            <a:ext cx="2819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1268280"/>
            <a:ext cx="0" cy="6098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4114800"/>
            <a:ext cx="15840" cy="6825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4869000"/>
            <a:ext cx="324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饱含着对祖国诚挚的爱和深深的哀痛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1066680"/>
            <a:ext cx="304920" cy="2971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8280" y="1371600"/>
            <a:ext cx="115524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统领句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4076640"/>
            <a:ext cx="16200" cy="6825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4869000"/>
            <a:ext cx="324036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象征祖国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53989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我用这残损的手掌，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981080"/>
            <a:ext cx="53992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摸索这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广大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的土地；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2637000"/>
            <a:ext cx="33120" cy="8334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02160" y="3505320"/>
            <a:ext cx="115524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沦陷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3352680"/>
            <a:ext cx="3505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这一角已变成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灰烬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4495680"/>
            <a:ext cx="3505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那一角只是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血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泥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342900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5791320"/>
            <a:ext cx="4953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国土正遭受日寇蹂躏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6000" y="1197000"/>
            <a:ext cx="3124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手掌是残损的土地是破碎的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0920" y="981000"/>
            <a:ext cx="8424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北方—中原—江南—岭南—南海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1989000"/>
            <a:ext cx="0" cy="648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2708280"/>
            <a:ext cx="1224000" cy="70344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雪峰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1989000"/>
            <a:ext cx="0" cy="648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708280"/>
            <a:ext cx="1295640" cy="70344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黄河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67280" y="2997360"/>
            <a:ext cx="122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2708280"/>
            <a:ext cx="1441440" cy="70344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水田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1916280"/>
            <a:ext cx="0" cy="7207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2708280"/>
            <a:ext cx="1800360" cy="70344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荔枝花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51640" y="2708280"/>
            <a:ext cx="1295640" cy="70344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渔船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28000" y="1773360"/>
            <a:ext cx="0" cy="79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480" y="3716280"/>
            <a:ext cx="1399320" cy="23767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冷到刺骨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34480" y="3716280"/>
            <a:ext cx="1399320" cy="230364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水夹泥沙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43960" y="3860640"/>
            <a:ext cx="789840" cy="20163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蓬蒿</a:t>
            </a: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4320" y="3716280"/>
            <a:ext cx="789840" cy="21607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憔悴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44680" y="3573360"/>
            <a:ext cx="789840" cy="21607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苦水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950080"/>
            <a:ext cx="91440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669900"/>
                </a:solidFill>
                <a:latin typeface="Times New Roman"/>
              </a:rPr>
              <a:t>从北到南到处都有侵略者践踏的痕迹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0"/>
            <a:ext cx="59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Times New Roman"/>
              </a:rPr>
              <a:t>牲口一样活，蝼蚁一样死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773360"/>
            <a:ext cx="0" cy="79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87280" y="549360"/>
            <a:ext cx="2953080" cy="7034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辽远的一角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40360" y="549360"/>
            <a:ext cx="2663640" cy="7034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—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完整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2492280"/>
            <a:ext cx="194472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解放区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1773360"/>
            <a:ext cx="360360" cy="216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2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1484280"/>
            <a:ext cx="122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温暖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95640" y="2133720"/>
            <a:ext cx="1441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明朗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95640" y="2852640"/>
            <a:ext cx="1225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坚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3573360"/>
            <a:ext cx="1873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蓬勃生春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5084640"/>
            <a:ext cx="360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残损的手掌轻抚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40360" y="4508640"/>
            <a:ext cx="215640" cy="1873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2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27640" y="4437000"/>
            <a:ext cx="1225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柔发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27640" y="5877000"/>
            <a:ext cx="1655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手中乳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56760" y="4581360"/>
            <a:ext cx="115524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比喻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56360" y="2133720"/>
            <a:ext cx="266364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因为只有那里是太阳，是春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692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16720" y="692280"/>
            <a:ext cx="2303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永恒的中国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995640" y="404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灰烬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1066680"/>
            <a:ext cx="16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血和泥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609480"/>
            <a:ext cx="3048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表达了对侵略者无比的痛恨，对祖国支离破碎的惨状无比痛心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1752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像牲口一样活，像蝼蛄一样死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4191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太阳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48769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春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08360" y="55897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驱逐阴暗，带来苏生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40360" y="4076640"/>
            <a:ext cx="297180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表达了作者对解放区的无比向往，因为她是民族的希望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83840" y="1752480"/>
            <a:ext cx="1155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我用残损的手掌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1960" y="1600200"/>
            <a:ext cx="11552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摸索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这广大的土地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63640" y="15573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沦陷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63640" y="50846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解放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81640" y="2852640"/>
            <a:ext cx="127764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对比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914400"/>
            <a:ext cx="380880" cy="5257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3640" y="907920"/>
            <a:ext cx="288720" cy="1729080"/>
          </a:xfrm>
          <a:custGeom>
            <a:avLst/>
            <a:gdLst>
              <a:gd name="textAreaLeft" fmla="*/ 184680 w 288720"/>
              <a:gd name="textAreaRight" fmla="*/ 289080 w 28872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4437000"/>
            <a:ext cx="288720" cy="1728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看看下面的诗句漏掉了什么？读一读，想一想：能不能漏掉？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这一角 变成灰烬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那一角 是血和泥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这一片 湖是我的家乡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春天，堤上繁花如锦幛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嫩柳枝折断有奇异的芬芳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3141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79640" y="25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6304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已”字表明“这一角”早已经变成了灰烬，那是过去的而不是现在的事情。“该”字强调“这一片湖”应该是我的家乡，但是现在不是了，被侵略军占领了，表达了诗人无限的悲愤、惋惜之情。“只”字强调“那一角”除了“血和泥”再也没有其他东西了，可见侵略者对我们国土蹂躏之深。括号，表明里面的两行诗写的不是现实中的故乡，而是回忆中的故乡；回忆中的故乡越美，就越能表达诗人对现实的悲愤之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320" y="609120"/>
            <a:ext cx="352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把握感情线索，用自己的理解、激情大声诵读诗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品味诗歌优语言， 理解诗歌对比手法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体会诗人对苦难祖国的深切关注和真挚爱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 advTm="10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95280" y="1197000"/>
            <a:ext cx="799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、“我用残损的手掌</a:t>
            </a:r>
            <a:r>
              <a:rPr b="0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摸索这广大的土地”，诗歌以这两行开头，有什么作用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76840" y="260280"/>
            <a:ext cx="376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朗读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·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赏析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·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探究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2421000"/>
            <a:ext cx="6983280" cy="7034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统摄全诗。这两句为实写，确立了“用残损的手掌摸索土地”这一中心意象，从而展开以下的虚写和想像。（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）为抒情定调。对敌人的痛恨，对祖国的炽爱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02384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00480" y="333360"/>
            <a:ext cx="376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朗读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·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赏析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·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探究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1484280"/>
            <a:ext cx="6624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、诗人用“残损的手掌”“摸索”到了什么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、这两种对比鲜明的感情是通过哪些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词语来表达的？这些词语有什么特点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由此产生了怎样的表达效果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4581360"/>
            <a:ext cx="5761080" cy="10159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残损、冷、彻骨、寂寞、憔悴、阴暗……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黑体"/>
              </a:rPr>
              <a:t>	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（消极的、冷色调的）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新生、辽远、温暖、明亮、坚固、蓬勃、永恒……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（积极的、暖色调的）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2000" y="5516640"/>
            <a:ext cx="576000" cy="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4508640"/>
            <a:ext cx="1728720" cy="520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华文细黑"/>
              </a:rPr>
              <a:t>更好地表达诗人内心深处的爱与恨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48360" y="83664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88000" y="333360"/>
            <a:ext cx="2232000" cy="4597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一部分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是已经遭受敌人蹂躏、变成灰烬、充满血和泥的土地；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一部分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是温暖明朗、蓬勃生春、依然完整的辽远的一角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2205000"/>
            <a:ext cx="2809800" cy="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84720" y="465300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对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4720" y="566100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比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77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770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1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8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0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24000" y="836640"/>
            <a:ext cx="806436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、诗人在“摸索”这一动作中容纳了极复杂的感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经验，请举例说明。由此而展开的内心情感的变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化是怎样的呢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5560" y="0"/>
            <a:ext cx="376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朗读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·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赏析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·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探究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2421000"/>
            <a:ext cx="8280360" cy="19227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视觉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：“春天，堤上繁花如锦幛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	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嗅觉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：“嫩柳枝折断有奇异的芬芳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	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触觉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：“我触到荇藻和水的微凉”“黄河的水夹泥沙在指间滑         出”“我用残损的手掌轻抚，像恋人的柔发，婴孩手中乳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	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味觉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：我蘸着南海没有渔船的苦水……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	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4797360"/>
            <a:ext cx="0" cy="9367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49417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华文中宋"/>
              </a:rPr>
              <a:t>深沉的爱国之情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4560" y="494172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华文中宋"/>
              </a:rPr>
              <a:t>切肤的沦亡之痛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47640" y="5950080"/>
            <a:ext cx="6193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华文中宋"/>
              </a:rPr>
              <a:t>线索：手掌的感受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 rot="5400000">
            <a:off x="-118080" y="773640"/>
            <a:ext cx="1513080" cy="77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华文行楷"/>
              </a:rPr>
              <a:t>小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华文行楷"/>
              <a:ea typeface="华文行楷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765000"/>
            <a:ext cx="6624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诗人用“残损的手掌”“摸索”祖国土地时内心深处情感的变化是起伏的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2060640"/>
            <a:ext cx="6121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诗人先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凄楚忧愤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转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热切期盼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对解放区寄予了民族复兴的希望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。消极的、冷色调的前半部分与积极的、暖色调的后半部分形成明显对比，使作者的感情倾向更加鲜明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0920" y="98100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、“辽远的一角”是指什么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700280"/>
            <a:ext cx="849636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指敌后人民的抗日根据地，没有被侵略者所蹂躏的解放区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76840" y="0"/>
            <a:ext cx="376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朗读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·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赏析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·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探究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3068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、读“我用残损的手掌轻抚，像恋人的柔发，婴孩手中乳”一句，这是诗中第二次出现“我用残损的手掌”，有什么作用？“恋人的柔发”“婴孩手中乳”这两个意象选用得恰如其分，你认为好在哪里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4941720"/>
            <a:ext cx="7343640" cy="132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强调。因爱国而受到敌人迫害的“我”在这块温暖明朗的土地上找到了安慰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这两个意象使人对解放区倍感亲切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24000" y="1052640"/>
            <a:ext cx="842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09760" y="33336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赏析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·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探究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126828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7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“因为只有那里我们不像牲口一样活，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蝼蚁一样死……”用了什么修辞方法？起了什么作用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2924280"/>
            <a:ext cx="842472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比喻。是用水深火热的沦陷区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反衬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解放区——那里是将要实现民族复兴、诞生“永恒的中国”的地方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22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、再朗读诗歌，看看在押韵方式上有什么“与众不同”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4869000"/>
            <a:ext cx="8280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华文中宋"/>
              </a:rPr>
              <a:t>有时是四行诗句押一个韵，有时是两行押一个韵。押韵方式灵活，既体现了现代诗形式的自由，又使全诗有着相对协调一致的节奏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336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萧红墓畔口占 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戴望舒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3360" y="1267920"/>
            <a:ext cx="8540640" cy="33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走六小时寂寞的长途，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到你头边放一束红山茶，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我等待着，长夜漫漫，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你却卧听着海涛闲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94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49417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注释：萧红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1911——194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中国现代著名女作家，代表作《呼兰河传》、《生死场》。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194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月病逝于香港，葬于香港浅水湾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5327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赏析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1942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月，现代著名女作家萧红病逝于香港，年仅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岁。这首诗，是戴望舒拜谒萧红墓时所作。“口占”，说明这是出口吟成。古人作绝句，常说：“口占一绝。”可见．戴望舒是把这首诗当作绝句来写的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四句诗都很平易，但语淡情浓，字外有音。首句，“走六小时长途”专程来拜谒萧红墓，足见诗人对她友情之深挚。“寂寞”写出自己生活在敌占区又失去了一位志同道合的战友，心境无比孤寂、悲凉。次句，不说“墓畔”而说“头边”，蕴藏着诗人痛惜她的早逝，希望她仍然活着，幻想她只不过是暂时安睡等丰富复杂的感情；而且，还表示萧红长眠地下，已无法慰解自己的寂寞。“放一束红山茶”，以一束红艳如火的山茶花，寄托对她的深情悼念，也象征她山茶花般热烈、红艳的生命。第三句‘我等待着”，进一步抒写自己等待曙光涌观、盼望民族解放斗争胜利的急切心情。“长夜漫漫”，写出这种“等待”的漫长、痛苦，难以忍受，也隐喻萧红的生命，正是在这漫漫长夜中被摧残、窒息的。结句“你却卧听着海涛闲话”，含蕴的感情最丰富。这里有伤悼萧红不幸被黑暗势力和坎坷生活夺走了生命；有惋惜萧红因早逝而不能在民族解放斗争中发出更多的光和热，不能在革命文坛上创造更多更出色的作品，还有羡慕，羡慕萧红已实现了永恒的超越，无须再在长夜漫漫中苦熬苦等了，她是不幸的，又是幸福的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四句诗，言少意丰，余音袅袅，韵味深长。这首精美动人的新绝句诗，显示出诗人深厚的古典诗词的修养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052640"/>
            <a:ext cx="4935600" cy="628848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撑着油纸伞，独自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彷徨在悠长、悠长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又寂寥的雨巷，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我希望逢着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个丁香一样地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结着愁怨的姑娘。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她是有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丁香一样的颜色，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丁香一样的芬芳，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丁香一样的忧愁，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在雨中哀怨，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哀怨又彷徨；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她彷徨在这寂寥的雨巷，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32360" y="1052640"/>
            <a:ext cx="4560840" cy="606636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撑着油纸伞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像我一样，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像我一样地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默默行着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冷漠、凄清，又惆怅。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她默默地走近，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走近，又投出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太息一般的眼光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她飘过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像梦一般地，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像梦一般地凄婉迷茫。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像梦中飘过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枝丁香地，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95640" y="333360"/>
            <a:ext cx="396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56000" y="0"/>
            <a:ext cx="32400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7a77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雨  巷 </a:t>
            </a:r>
            <a:endParaRPr b="0" lang="en-US" sz="2400" spc="1" strike="noStrike">
              <a:ln w="12600">
                <a:solidFill>
                  <a:srgbClr val="007a77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 advTm="10000"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68360" y="2520"/>
            <a:ext cx="3816360" cy="734616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我身旁飘过这个女郎；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她默默地远了，远了，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到了颓圮的篱墙，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走尽这雨巷。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在雨的哀曲里，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消了她的颜色，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散了她的芬芳，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消散了，甚至她的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太息般的眼光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丁香般的惆怅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撑着油纸伞，独自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彷徨在悠长、悠长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又寂寥的雨巷，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我希望飘过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一个丁香一样地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结着愁怨的姑娘。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 rot="1010400">
            <a:off x="4140000" y="1700280"/>
            <a:ext cx="4787640" cy="3591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300720" y="1700280"/>
            <a:ext cx="503280" cy="57636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 advTm="10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333360"/>
            <a:ext cx="8208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作者简介：</a:t>
            </a:r>
            <a:br>
              <a:rPr sz="44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戴望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905-195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原名戴梦鸥，浙江杭州人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代“现代派”诗歌的代表诗人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其《雨巷》成为传诵一时的名作和代表作，他因此被称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雨巷诗人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”。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4000" y="6093000"/>
            <a:ext cx="8064360" cy="765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学习重点：</a:t>
            </a: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感情诵读，把握全诗，体会诗人情感变化。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习难点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对比手法的运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丰富的联想和想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 advTm="10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南京大屠杀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南京大屠杀：第二次世界大战期间，侵华日军于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937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日攻陷中国的南京之后，在南京城区及郊区对中国平民和战俘进行的长达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星期的大规模屠杀、抢掠、强奸等战争罪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万以上中国平民和战俘被日军杀害，南京城的三分之一被日军纵火烧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 advTm="10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诗歌朗读技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感情充沛：高昂  低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语速合理：快速  缓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重音准确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停顿恰当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字音清晰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抑扬顿挫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 advTm="10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诗人的手掌为什么是“残损”的？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这首诗写于抗日战争最艰苦的年代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194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年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1938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年，诗人戴望舒从沦陷区的上海来到香港，主编一家报纸的副刊，编发了不少动员抗战的诗歌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1941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年，日军占领香港后，立即逮捕了几乎全部的在港知名华人，包括戴望舒在内。戴望舒活跃的抗战姿态，很显然引起了日军的注意。日本宪兵动用酷刑审讯戴望舒，试图从他口中获取文艺界抗日人士名单等资料，但他始终没有屈服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戴望舒在狱中的时间虽然很短，但所受的酷刑和折磨，是非常惨烈的，这使他出狱后仍无法摆脱这场噩梦，两年之后，他在《等待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二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》一诗中，还写下了这样刻骨铭心的句子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在这阴湿，窒息的窄笼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做白虱的巢穴，做泔脚缸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让脚气慢慢延伸到小腹上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做柔道的呆对手，剑术的靶子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从口鼻一起喝水，然后给踩肚子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膝头压在尖钉上，砖头垫在脚踵上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听鞭子在皮骨上舞，做飞机在梁上荡……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 advTm="10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60280"/>
            <a:ext cx="8893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写作背景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首诗写于抗日战争的最艰苦年代。当时祖国半壁江山沦于敌手，民族处于危亡关头。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94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，诗人戴望舒因为在报纸上编发宣传抗战的诗歌，被日本宪兵逮捕。在狱中，他受尽折磨，受伤致残，但始终没有屈服。《我用残损的手掌》就作于那个时候。这首诗，是诗人在侵略者的铁窗下献给祖国母亲的歌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诗中，作者面对现实，把个人的不幸同国家的命运融为一体，以深沉的思想、炽热的感情，抒发了对灾难深重的祖国的由衷关注和真诚的爱。同时，借助于诗的想象，表达了对“辽远一角”的解放区的向往。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8604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华文中宋"/>
                <a:ea typeface="华文中宋"/>
              </a:rPr>
              <a:t>读准下列字音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华文中宋"/>
                <a:ea typeface="华文中宋"/>
              </a:rPr>
              <a:t>锦   幛        荇  藻     蓬   蒿           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华文中宋"/>
                <a:ea typeface="华文中宋"/>
              </a:rPr>
              <a:t>蝼   蚁</a:t>
            </a:r>
            <a:r>
              <a:rPr b="1" lang="zh-CN" sz="4000" spc="-1" strike="noStrike">
                <a:solidFill>
                  <a:srgbClr val="007a77"/>
                </a:solidFill>
                <a:latin typeface="华文中宋"/>
                <a:ea typeface="华文中宋"/>
              </a:rPr>
              <a:t>	</a:t>
            </a:r>
            <a:r>
              <a:rPr b="1" lang="zh-CN" sz="4000" spc="-1" strike="noStrike">
                <a:solidFill>
                  <a:srgbClr val="007a77"/>
                </a:solidFill>
                <a:latin typeface="华文中宋"/>
                <a:ea typeface="华文中宋"/>
              </a:rPr>
              <a:t>	</a:t>
            </a:r>
            <a:r>
              <a:rPr b="1" lang="zh-CN" sz="4000" spc="-1" strike="noStrike">
                <a:solidFill>
                  <a:srgbClr val="007a77"/>
                </a:solidFill>
                <a:latin typeface="华文中宋"/>
                <a:ea typeface="华文中宋"/>
              </a:rPr>
              <a:t>憔   悴       蘸   着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华文中宋"/>
                <a:ea typeface="华文中宋"/>
              </a:rPr>
              <a:t>                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华文中宋"/>
                <a:ea typeface="华文中宋"/>
              </a:rPr>
              <a:t>灰   烬       堤   上</a:t>
            </a:r>
            <a:r>
              <a:rPr b="1" lang="zh-CN" sz="4000" spc="-1" strike="noStrike">
                <a:solidFill>
                  <a:srgbClr val="007a77"/>
                </a:solidFill>
                <a:latin typeface="华文中宋"/>
                <a:ea typeface="华文中宋"/>
              </a:rPr>
              <a:t>	</a:t>
            </a:r>
            <a:r>
              <a:rPr b="1" lang="zh-CN" sz="4000" spc="-1" strike="noStrike">
                <a:solidFill>
                  <a:srgbClr val="007a77"/>
                </a:solidFill>
                <a:latin typeface="华文中宋"/>
                <a:ea typeface="华文中宋"/>
              </a:rPr>
              <a:t>	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华文中宋"/>
              </a:rPr>
              <a:t>蹂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华文中宋"/>
              </a:rPr>
              <a:t>	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华文中宋"/>
              </a:rPr>
              <a:t>躏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765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jǐn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4880" y="76500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zhàng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76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xìng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76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zǎo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72360" y="765000"/>
            <a:ext cx="110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péng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12000" y="765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hāo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20" y="249228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lóu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2492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yǐ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9800" y="26370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qiáo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97800" y="25653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cuì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87240" y="25653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zhàn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33440" y="4437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jìn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48600" y="436572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 Unicode MS"/>
                <a:ea typeface="Arial Unicode MS"/>
              </a:rPr>
              <a:t>dī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72360" y="4365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Arial"/>
              </a:rPr>
              <a:t>Ó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u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Arial"/>
              </a:rPr>
              <a:t>Ì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 advTm="10000">
    <p:blinds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15:05:14Z</dcterms:created>
  <dc:creator>QXZ</dc:creator>
  <dc:description/>
  <dc:language>en-US</dc:language>
  <cp:lastModifiedBy>微软用户</cp:lastModifiedBy>
  <dcterms:modified xsi:type="dcterms:W3CDTF">2014-12-16T07:48:56Z</dcterms:modified>
  <cp:revision>61</cp:revision>
  <dc:subject/>
  <dc:title>PowerPoint 演示文稿</dc:title>
</cp:coreProperties>
</file>