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AF1-74F8-4C75-B860-E5075FD0E9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143-6A72-472C-B00E-250062CF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E44-6DF6-495C-A756-C59A9B37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A9E-1D7D-42AC-96A2-5963E95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6B0-20DF-4D07-9851-836F0FEE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276-387F-4002-B45F-68AB2721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4B2-014B-4AAB-8B3D-41B37D8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C03-C833-480E-A74C-8F29F2D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6CA-1103-4F5E-949D-88AA1F9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E7C-5076-4636-A96B-B7B7822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E66-4364-4D40-8D91-D418D90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930-3CB5-4AE3-B091-FB964CD2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45840"/>
            <a:ext cx="264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172-E7D7-4988-BF6D-A69A7E38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4584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45840"/>
            <a:ext cx="82296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964" t="5424" r="1562" b="14906"/>
          <a:stretch/>
        </p:blipFill>
        <p:spPr>
          <a:xfrm>
            <a:off x="2843280" y="6311880"/>
            <a:ext cx="576360" cy="546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08360" y="62784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新   湖   镇   中   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964" t="5424" r="1562" b="14906"/>
          <a:stretch/>
        </p:blipFill>
        <p:spPr>
          <a:xfrm>
            <a:off x="2843280" y="6311880"/>
            <a:ext cx="576360" cy="54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37360"/>
            <a:ext cx="820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62784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新   湖   镇   中   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1A1-388D-4272-9CF1-8470498D6B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66"/>
                </a:solidFill>
                <a:latin typeface="Arial"/>
                <a:ea typeface="华文中宋"/>
              </a:rPr>
              <a:t>我用</a:t>
            </a:r>
            <a:r>
              <a:rPr b="1" i="1" lang="zh-CN" sz="8000" spc="-1" strike="noStrike">
                <a:solidFill>
                  <a:srgbClr val="000066"/>
                </a:solidFill>
                <a:latin typeface="Arial"/>
                <a:ea typeface="华文中宋"/>
              </a:rPr>
              <a:t>残损</a:t>
            </a:r>
            <a:r>
              <a:rPr b="1" lang="zh-CN" sz="8000" spc="-1" strike="noStrike">
                <a:solidFill>
                  <a:srgbClr val="000066"/>
                </a:solidFill>
                <a:latin typeface="Arial"/>
                <a:ea typeface="华文中宋"/>
              </a:rPr>
              <a:t>的手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戴望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60280"/>
            <a:ext cx="11773080" cy="65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部分表现对祖国命运的深切关注：虽然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掌已经“残损”，却仍要摸索祖国“广大的土地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触到的只是“血和灰”，从而感觉到祖国笼罩在苦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重的“阴暗”之中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部分写诗人的手终于摸到了“那辽远的一角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“依然完整”，没有为侵略者所蹂躏的解放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对这块象征着“永恒的中国”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出了深情的赞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219320"/>
            <a:ext cx="8305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诗人先是凄楚忧愤，转而热切期盼，对解放区寄予了民族复兴的希望。消极的、冷色调的前半部分与积极的、暖色调的后半部分形成了明显的对比，使作者的感情倾向更加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9999"/>
                </a:solidFill>
                <a:latin typeface="Arial"/>
                <a:ea typeface="华文彩云"/>
              </a:rPr>
              <a:t>探究研讨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、这首诗前后两部分的感情色彩明显不同，请找出感情色彩鲜明的词语，体会其表达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、这首诗描写的对象很多，而我们读起来却不觉芜杂，这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歌两部分的写法各异，试作简要分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99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799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799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99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9000"/>
            <a:ext cx="89154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积极的、暖色调的词语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新生、辽远、温暖、明亮、坚固、蓬勃、永恒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极的、冷色调的词语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</a:rPr>
              <a:t>残损、冷、彻骨、寂寞、憔悴、阴暗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诗人之所以这样用这些词语，是为了更好的表达内心深处的爱与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76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全诗在想象中展开内容，在想象中，诗人的手掌抚过了广大的国土。先是沦陷区的家乡，继而从祖国疆域的北部一直到最南端，最终停留在解放区。对祖国大地上的每一处特征性景物的概括，作者突出的是“手掌”的触觉作用（同时也有视觉、嗅觉、味觉等感觉器官的作用），这样，就把较为广泛的描写对象相对集中起来，使之贯穿在“手掌的感觉”这一线索上，因而读起来不觉芜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219320"/>
            <a:ext cx="83822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描写沦陷区，从实处落笔，用一幅幅富有特征的小画缀连；描写解放区，侧重写意，用挚爱和柔情抚摸，加之一连串亲切温馨气息的比喻，凸现和煦明媚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33336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15920"/>
            <a:ext cx="464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／用残损的手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摸索／这广大的土地：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角／已变成灰烬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一角／只是血和泥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片湖／该是我的家乡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春天，堤上／繁花如锦幛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嫩柳枝折断／有奇异的芬芳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触到／荇藻和水的微凉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长白山的雪峰／冷到彻骨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黄河的水夹泥沙／在指间滑出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南的水田，你当年／新生的禾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那么细，那么软……现在／只有蓬蒿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岭南的荔枝花／寂寞地憔悴，尽那边，我蘸着南海／没有渔船的苦水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08360" y="33480"/>
            <a:ext cx="45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无形的手掌／掠过无限的江山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手指／沾了血和灰，手掌／沾了阴暗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只有那辽远的一角／依然完整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温暖，明朗，坚固／而蓬勃生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在那上面，我／用残损的手掌／轻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／恋人的柔发，婴孩手中乳。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我把全部的力量／运在手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贴在上面，寄与／爱和一切希望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因为只有那里／是太阳，是春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将／驱逐阴暗，带来苏生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因为只有那里／我们不像牲口一样活， </a:t>
            </a:r>
            <a:br>
              <a:rPr sz="2400"/>
            </a:b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蝼蚁一样死……那里，永恒的／中国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bbe0e3"/>
                </a:solidFill>
                <a:latin typeface="Arial"/>
              </a:rPr>
              <a:t>我用</a:t>
            </a:r>
            <a:r>
              <a:rPr b="0" i="1" lang="zh-CN" sz="6000" spc="-1" strike="noStrike">
                <a:solidFill>
                  <a:srgbClr val="bbe0e3"/>
                </a:solidFill>
                <a:latin typeface="Arial"/>
                <a:ea typeface="华文彩云"/>
              </a:rPr>
              <a:t>残损</a:t>
            </a:r>
            <a:r>
              <a:rPr b="0" i="1" lang="zh-CN" sz="5400" spc="-1" strike="noStrike">
                <a:solidFill>
                  <a:srgbClr val="bbe0e3"/>
                </a:solidFill>
                <a:latin typeface="Arial"/>
              </a:rPr>
              <a:t>的手掌</a:t>
            </a:r>
            <a:r>
              <a:rPr b="0" i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4000" spc="-1" strike="noStrike">
                <a:solidFill>
                  <a:srgbClr val="62dad7"/>
                </a:solidFill>
                <a:latin typeface="Arial"/>
                <a:ea typeface="楷体_GB2312"/>
              </a:rPr>
              <a:t>戴望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在日寇铁窗下向苦难祖国的抒怀之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忧郁阴暗——凄楚忧愤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对比</a:t>
            </a:r>
            <a:r>
              <a:rPr b="1" lang="zh-CN" sz="3200" spc="-1" strike="noStrike">
                <a:solidFill>
                  <a:srgbClr val="da7734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祖国光明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温暖明朗——热切期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4005360"/>
            <a:ext cx="863640" cy="71280"/>
          </a:xfrm>
          <a:prstGeom prst="rightArrow">
            <a:avLst>
              <a:gd name="adj1" fmla="val 50000"/>
              <a:gd name="adj2" fmla="val 3029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292640"/>
            <a:ext cx="71640" cy="649080"/>
          </a:xfrm>
          <a:prstGeom prst="upArrow">
            <a:avLst>
              <a:gd name="adj1" fmla="val 50000"/>
              <a:gd name="adj2" fmla="val 2265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0" cy="647640"/>
          </a:xfrm>
          <a:prstGeom prst="line">
            <a:avLst/>
          </a:prstGeom>
          <a:ln w="9360">
            <a:solidFill>
              <a:srgbClr val="f3d8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4292640"/>
            <a:ext cx="0" cy="647640"/>
          </a:xfrm>
          <a:prstGeom prst="line">
            <a:avLst/>
          </a:prstGeom>
          <a:ln w="9360">
            <a:solidFill>
              <a:srgbClr val="f3d8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709560" y="2349360"/>
            <a:ext cx="26175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（统摄全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摸索这广大的土地我用残损的手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8119400">
            <a:off x="1969200" y="3367800"/>
            <a:ext cx="1258920" cy="85680"/>
          </a:xfrm>
          <a:prstGeom prst="rightArrow">
            <a:avLst>
              <a:gd name="adj1" fmla="val 50000"/>
              <a:gd name="adj2" fmla="val 3673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798800">
            <a:off x="2556000" y="4076280"/>
            <a:ext cx="73080" cy="1297080"/>
          </a:xfrm>
          <a:prstGeom prst="downArrow">
            <a:avLst>
              <a:gd name="adj1" fmla="val 50000"/>
              <a:gd name="adj2" fmla="val 443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67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67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67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67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华文彩云"/>
              </a:rPr>
              <a:t>延伸拓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借鉴诗人把情感寄寓在具体形象上，使抽象的心绪具有可感性的写法，联系你的生活体验，写几句富有诗意的话，抒写自己的一种感情（如“思念”“悲伤”“欢欣”等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03280" y="981000"/>
            <a:ext cx="633744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祝同学们学习愉快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51280" y="3716280"/>
            <a:ext cx="180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谢谢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3000" y="990720"/>
            <a:ext cx="152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戴望舒全家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彩云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834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、富有感情的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34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、理解诗歌形象化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34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、感受作者高尚的民族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834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83473b"/>
                </a:solidFill>
                <a:latin typeface="Arial"/>
              </a:rPr>
              <a:t>、有感情背诵这首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49360"/>
            <a:ext cx="9144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作者简介与写作背景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戴望舒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905-1950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原名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梦鸥。生于杭州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秋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海大学中文系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加入共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义青年团，做宣传工作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加入中国左联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1942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年，因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报纸上编发宣传抗战的诗歌，被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本宪兵逮捕。在狱中，他受尽折磨，但始终没有屈服。《我用残损的手掌》就作于那个时候。这首诗，是诗人在侵略者的铁窗下献给祖国母亲的歌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代表诗作还有《雨巷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我的记忆》，其中《雨巷》一诗脍炙人口，诗人也因此获得了“雨巷诗人”的桂冠。他是新诗的探索者之一，是象征派现代诗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6019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760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15240" y="0"/>
            <a:ext cx="2228760" cy="448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军侵华的炮火弥漫在中华大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片国土沦陷在日本帝国主义的铁蹄下，抗日战争进入最艰难的时期，这是黎明前最黑暗的时候，中华民族危在旦夕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860436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读准下列字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锦   幛            荇  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蓬   蒿            蝼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憔   悴            蘸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灰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7984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ǐ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5240" y="78408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83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83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" y="23493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242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8520" y="24210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20" y="3933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3933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2880" y="39337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1800" y="5516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10080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华文彩云"/>
              </a:rPr>
              <a:t>我用残损的手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6360" y="188640"/>
            <a:ext cx="81360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这一角／变成灰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那一角／是血和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这一片湖／是我的家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春天，堤上／繁花如锦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嫩柳枝折断／有奇异的芬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我触到／荇藻和水的微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这长白山的雪峰／冷到彻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5f5f5f"/>
                </a:solidFill>
                <a:latin typeface="Arial"/>
              </a:rPr>
              <a:t>这黄河的水夹泥沙／在指间滑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9612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f5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f5613"/>
                </a:solidFill>
                <a:latin typeface="Arial"/>
              </a:rPr>
              <a:t>江南的水田，你当年／新生的禾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f5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f5613"/>
                </a:solidFill>
                <a:latin typeface="Arial"/>
              </a:rPr>
              <a:t>是那么细，那么软</a:t>
            </a:r>
            <a:r>
              <a:rPr b="1" i="1" lang="zh-CN" sz="2400" spc="-1" strike="noStrike">
                <a:solidFill>
                  <a:srgbClr val="7f5613"/>
                </a:solidFill>
                <a:latin typeface="Arial"/>
                <a:ea typeface="Arial"/>
              </a:rPr>
              <a:t>••••••</a:t>
            </a:r>
            <a:r>
              <a:rPr b="1" i="1" lang="zh-CN" sz="3600" spc="-1" strike="noStrike">
                <a:solidFill>
                  <a:srgbClr val="7f5613"/>
                </a:solidFill>
                <a:latin typeface="Arial"/>
              </a:rPr>
              <a:t>现在／只有蓬蒿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f5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f5613"/>
                </a:solidFill>
                <a:latin typeface="Arial"/>
              </a:rPr>
              <a:t>岭南的荔枝花／寂寞地憔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56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f5613"/>
                </a:solidFill>
                <a:latin typeface="Arial"/>
              </a:rPr>
              <a:t>尽那边，我蘸着南海／没有渔船的苦水</a:t>
            </a:r>
            <a:r>
              <a:rPr b="1" i="1" lang="zh-CN" sz="2400" spc="-1" strike="noStrike">
                <a:solidFill>
                  <a:srgbClr val="7f5613"/>
                </a:solidFill>
                <a:latin typeface="Arial"/>
                <a:ea typeface="Arial"/>
              </a:rPr>
              <a:t>••••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be0e3"/>
                </a:solidFill>
                <a:latin typeface="Arial"/>
                <a:ea typeface="华文彩云"/>
              </a:rPr>
              <a:t>阅读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、这首诗从内容上可分为两部分。每部分抒发了诗人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、体会诗人用“残损的手掌”“摸索”祖国土地时的种种感受，说说诗人内心深处情感的变化起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6:22:56Z</dcterms:created>
  <dc:creator>微软用户</dc:creator>
  <dc:description/>
  <dc:language>en-US</dc:language>
  <cp:lastModifiedBy>微软用户</cp:lastModifiedBy>
  <dcterms:modified xsi:type="dcterms:W3CDTF">2016-11-12T07:59:00Z</dcterms:modified>
  <cp:revision>7</cp:revision>
  <dc:subject/>
  <dc:title>幻灯片 1</dc:title>
</cp:coreProperties>
</file>