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BC6-BAB1-4925-8333-A96246F9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BCA-8E35-4E58-87D9-35450326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4EA-3123-4DE8-A215-77321864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B5F-A70C-4AFC-8107-74CDDE37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B0A-1CBE-435B-BD33-D771719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3C1-9AC1-4E6B-9DB5-2AC0850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029-5A7A-4055-8BB8-8F32861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9D5-CC5F-4C67-BDCA-E109E9F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06A-BD8E-4D74-95E1-29894C78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5A3-2EA1-4D4B-9AB6-D4E9FD1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128-47EB-4ACB-BE12-04E925C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266-2867-4F77-94E3-B8053FD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C8F9-D3A4-4211-BCE1-418AB1A3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0" y="4081320"/>
            <a:ext cx="9144000" cy="1524240"/>
          </a:xfrm>
          <a:prstGeom prst="rect">
            <a:avLst/>
          </a:prstGeom>
          <a:solidFill>
            <a:srgbClr val="bbe0e3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971640" y="40053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课  我用残损的手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V="1">
            <a:off x="1187280" y="4944600"/>
            <a:ext cx="7383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276720" y="507852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324000" y="1720800"/>
            <a:ext cx="8496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在那上面，我用残损的手掌轻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像恋人的柔发，婴孩手中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把全部的力量运在手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贴在上面，寄与爱和一切希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因为只有那里是太阳，是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将驱逐阴暗，带来苏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因为只有那里我们不像牲口一样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蝼蚁一样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里，永恒的中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2411280" y="1890720"/>
            <a:ext cx="5538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用这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残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手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2482920" y="4556160"/>
            <a:ext cx="57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摸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广大的土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132000" y="2898720"/>
            <a:ext cx="2667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饱尝艰难困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084480" y="533232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4282920" y="2467080"/>
            <a:ext cx="0" cy="380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211640" y="5132520"/>
            <a:ext cx="0" cy="380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690560" y="5564160"/>
            <a:ext cx="6150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饱含着对祖国诚挚的爱和深深的哀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2124000" y="210672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991080" y="2898720"/>
            <a:ext cx="115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统领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222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诗歌解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39640" y="1081080"/>
            <a:ext cx="56358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用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残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手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60320" y="1913040"/>
            <a:ext cx="52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摸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广大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土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2484360" y="24922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640520" y="3141720"/>
            <a:ext cx="1155240" cy="1447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沦陷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657600" y="3352680"/>
            <a:ext cx="35053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这一角已变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灰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657600" y="4495680"/>
            <a:ext cx="35053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那一角只是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血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3203640" y="34290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268360" y="5516640"/>
            <a:ext cx="49532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国土正遭受日寇蹂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0920" y="987480"/>
            <a:ext cx="496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用这残损的手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71440" y="1635120"/>
            <a:ext cx="48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摸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广大的土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4140360" y="1700280"/>
            <a:ext cx="100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148360" y="1409760"/>
            <a:ext cx="36576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诗人在狱中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24000" y="3429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触摸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2050920" y="3718080"/>
            <a:ext cx="6858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987640" y="2997360"/>
            <a:ext cx="5818320" cy="1068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（春天，堤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繁花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锦幛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嫩柳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枝折断有奇异的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芬芳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我触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荇藻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水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微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4643280" y="530064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思念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973080" y="46483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视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973080" y="5297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嗅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3080" y="5945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触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2340000" y="52354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身临其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050920" y="4869000"/>
            <a:ext cx="297000" cy="1512720"/>
          </a:xfrm>
          <a:custGeom>
            <a:avLst/>
            <a:gdLst>
              <a:gd name="textAreaLeft" fmla="*/ 0 w 297000"/>
              <a:gd name="textAreaRight" fmla="*/ 107280 w 297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476360" y="981000"/>
            <a:ext cx="55436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长白山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雪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冷到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彻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5796000" y="1700280"/>
            <a:ext cx="0" cy="718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291280" y="2421000"/>
            <a:ext cx="1081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35280" y="3213000"/>
            <a:ext cx="5616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诗人看到破碎的山河感到心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187280" y="4221000"/>
            <a:ext cx="6912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这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黄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水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泥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在指间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53440" y="5013360"/>
            <a:ext cx="0" cy="79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877080" y="5877000"/>
            <a:ext cx="1440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触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042920" y="1268280"/>
            <a:ext cx="70563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江南的水田，你当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新生的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禾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那么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现在只有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蓬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16000" y="2708280"/>
            <a:ext cx="66978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对比的手法写出衰败的景象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表达出痛苦的内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8000" y="4508640"/>
            <a:ext cx="47530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岭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荔枝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寂寞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憔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84360" y="5516640"/>
            <a:ext cx="727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拟人的方法写出诗人的痛苦和山河的破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55640" y="2060640"/>
            <a:ext cx="57610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蘸着南海没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渔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苦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340000" y="4292640"/>
            <a:ext cx="5761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水的咸涩味作者称之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则是作者内心的映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5940360" y="270828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465560" y="1660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白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445120" y="476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手掌摸索广大的土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-343080" y="2060640"/>
            <a:ext cx="15210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由北向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116000" y="1916280"/>
            <a:ext cx="0" cy="30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771640" y="1697040"/>
            <a:ext cx="34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雪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340000" y="241776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夹泥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340000" y="2994120"/>
            <a:ext cx="34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蓬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340000" y="3643200"/>
            <a:ext cx="34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荔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411280" y="43624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1373400" y="2379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黄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1373400" y="302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1373400" y="360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岭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1373400" y="4324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南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108000" y="5516640"/>
            <a:ext cx="889308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从北到南到处都有侵略者践踏的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5996520" y="144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7115040" y="2165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6"/>
          <p:cNvSpPr/>
          <p:nvPr/>
        </p:nvSpPr>
        <p:spPr>
          <a:xfrm>
            <a:off x="7796880" y="3048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4723920" y="348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黑体"/>
                <a:ea typeface="黑体"/>
              </a:rPr>
              <a:t>寂寞憔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0"/>
          <p:cNvSpPr/>
          <p:nvPr/>
        </p:nvSpPr>
        <p:spPr>
          <a:xfrm>
            <a:off x="4250880" y="42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ff"/>
                </a:solidFill>
                <a:latin typeface="黑体"/>
                <a:ea typeface="黑体"/>
              </a:rPr>
              <a:t>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609480" y="1255680"/>
            <a:ext cx="2952720" cy="581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辽远的一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859280" y="1268280"/>
            <a:ext cx="1874880" cy="581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然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11280" y="3068640"/>
            <a:ext cx="194472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解放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2627280" y="2492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203640" y="2193840"/>
            <a:ext cx="1224000" cy="58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203640" y="2768760"/>
            <a:ext cx="1224000" cy="58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明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203640" y="3344760"/>
            <a:ext cx="1225440" cy="58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坚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916360" y="3919680"/>
            <a:ext cx="1873080" cy="58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蓬勃生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395280" y="5288040"/>
            <a:ext cx="3168720" cy="581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残损的手掌轻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3635280" y="4797360"/>
            <a:ext cx="144720" cy="1584360"/>
          </a:xfrm>
          <a:custGeom>
            <a:avLst/>
            <a:gdLst>
              <a:gd name="textAreaLeft" fmla="*/ 92520 w 144720"/>
              <a:gd name="textAreaRight" fmla="*/ 145080 w 14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3851280" y="4711680"/>
            <a:ext cx="2521080" cy="581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恋人的柔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851280" y="5877000"/>
            <a:ext cx="2592360" cy="581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婴孩手中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042600" y="4869000"/>
            <a:ext cx="115524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比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5435640" y="2637000"/>
            <a:ext cx="26636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因为只有那里是太阳，是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2627280" y="404640"/>
            <a:ext cx="309708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永恒的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7270920" y="4724280"/>
            <a:ext cx="187308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人们对解放区倍感亲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3635280" y="155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14280" y="2060640"/>
            <a:ext cx="8578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用残损的手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摸索这广大的土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诗歌以这两行开头，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95280" y="3645000"/>
            <a:ext cx="8424720" cy="1424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统摄全诗。这两句为实写，确立了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用残损的手掌摸索土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一中心意象，从而展开以下的虚写和想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为抒情定调。对敌人的痛恨，对祖国的挚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298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3887640" y="1268280"/>
            <a:ext cx="45007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撑着油纸伞，独自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彷徨在悠长，悠长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又寂寥的雨巷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希望逢着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个丁香一样地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结着愁怨的姑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1713612_153256322321_2"/>
          <p:cNvPicPr/>
          <p:nvPr/>
        </p:nvPicPr>
        <p:blipFill>
          <a:blip r:embed="rId2"/>
          <a:srcRect l="10871" t="0" r="56641" b="17183"/>
          <a:stretch/>
        </p:blipFill>
        <p:spPr>
          <a:xfrm>
            <a:off x="179280" y="1803240"/>
            <a:ext cx="2811600" cy="4535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3"/>
          <p:cNvSpPr/>
          <p:nvPr/>
        </p:nvSpPr>
        <p:spPr>
          <a:xfrm>
            <a:off x="2916360" y="4637160"/>
            <a:ext cx="60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到戴望舒，总会想到他的这首缠绵缱绻染上江南烟雨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今天我们将学习诗人的另一首诗，感受诗人不一样的情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167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新课导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图片 4" descr=""/>
            <p:cNvPicPr/>
            <p:nvPr/>
          </p:nvPicPr>
          <p:blipFill>
            <a:blip r:embed="rId3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3"/>
          <p:cNvSpPr/>
          <p:nvPr/>
        </p:nvSpPr>
        <p:spPr>
          <a:xfrm>
            <a:off x="322200" y="18446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诗人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残损的手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摸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7"/>
          <p:cNvSpPr/>
          <p:nvPr/>
        </p:nvSpPr>
        <p:spPr>
          <a:xfrm>
            <a:off x="609480" y="3137040"/>
            <a:ext cx="7994880" cy="8251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部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是已经遭受敌人蹂躏、变成灰烬、充满血和泥的土地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部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是温暖明朗、蓬勃生春、依然完整的辽远的一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24000" y="1268280"/>
            <a:ext cx="8497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两种对比鲜明的感情是通过哪些词语来表达的？这些词语有什么特点？由此产生了怎样的表达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50920" y="3645000"/>
            <a:ext cx="6048360" cy="1169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残损、冷、彻骨、寂寞、憔悴、阴暗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……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（消极的、冷色调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新生、辽远、温暖、明亮、坚固、蓬勃、永恒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（积极的、暖色调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6227640" y="4797360"/>
            <a:ext cx="720720" cy="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164360" y="3716280"/>
            <a:ext cx="1728720" cy="520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更好地表达诗人内心深处的爱与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6443640" y="4133880"/>
            <a:ext cx="574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8"/>
          <p:cNvSpPr/>
          <p:nvPr/>
        </p:nvSpPr>
        <p:spPr>
          <a:xfrm>
            <a:off x="322200" y="18842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诗人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摸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动作中容纳了极复杂的感觉经验，请举例说明。由此而展开的内心情感的变化是怎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F:\图片\问问题.jpg"/>
          <p:cNvPicPr/>
          <p:nvPr/>
        </p:nvPicPr>
        <p:blipFill>
          <a:blip r:embed="rId1"/>
          <a:stretch/>
        </p:blipFill>
        <p:spPr>
          <a:xfrm>
            <a:off x="7020000" y="471960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9"/>
          <p:cNvSpPr/>
          <p:nvPr/>
        </p:nvSpPr>
        <p:spPr>
          <a:xfrm>
            <a:off x="468360" y="1197000"/>
            <a:ext cx="8280360" cy="22269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视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春天，堤上繁花如锦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嗅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嫩柳枝折断有奇异的芬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触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我触到荇藻和水的微凉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的水夹泥沙在指间滑出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我用残损的手掌轻抚，像恋人的柔发，婴孩手中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味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：我蘸着南海没有渔船的苦水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>
            <a:off x="4643280" y="4294080"/>
            <a:ext cx="0" cy="1511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79280" y="48038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深沉的爱国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93236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切肤的沦亡之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547640" y="5805360"/>
            <a:ext cx="6193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线索：手掌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87948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49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运用幻觉和虚拟是创作这首诗的主要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在狱中，想像祖国广阔土地好像就在眼前，不仅可以真切地看到它的形状、颜色，而且可以感触到它的冷暖，嗅到它的芬芳，这种虚拟，强烈表现了诗人对祖国的深挚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886920" y="11970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仔细阅读诗歌，体会诗歌的艺术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祖国各地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直观式的细节描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堤上的繁花如锦幛，嫩柳枝折断发出的芬芳，以及长白山的雪峰，夹着泥沙的黄河，岭南的荔枝花等。这一些细节描绘正透露了诗人对祖国的眷恋、热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589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运用了对比手法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歌前半部分是消极的、冷色调的，后半部分是积极的、暖色调的。前后的对比，使作者的感情倾向更加鲜明，表现出他对解放区的深情向往，对祖国光明未来的热切盼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2200" y="1773360"/>
            <a:ext cx="8570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诗中调动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多种感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触觉、视觉、嗅觉、味觉等，这些感觉经验的综合与联通，使诗人的幻觉世界立体地、鲜明地呈现在读者面前，从而使读者也强烈地感受到一种深沉的爱国之思与切肤的沦亡之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321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板书设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36360" y="2689200"/>
            <a:ext cx="8964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395280" y="1808280"/>
            <a:ext cx="8497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诗歌从内容上可分为两部分。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第一部分表现对祖国命运的深切关注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虽然自己的手掌已经“残损”，却仍然要摸索祖国“广大的土地”，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触到的只是“血和灰”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而感觉到祖国笼罩在困难深重的“阴暗”之中。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第二部分写诗人的手终于摸到了“那辽远的一角”，即“依然完整”，没有为侵略者所蹂躏的解放区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人对这块象征着“永恒的中国”的土地，发出了深情赞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326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诗歌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59280" y="2203200"/>
            <a:ext cx="59054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望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05-1950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原名戴梦鸥。生于杭州，祖籍南京。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作品集有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戴望舒诗选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望舒草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戴望舒的成名作和前期的代表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曾因此而赢得了“雨巷诗人”的雅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bki-20130701125826-2035196067"/>
          <p:cNvPicPr/>
          <p:nvPr/>
        </p:nvPicPr>
        <p:blipFill>
          <a:blip r:embed="rId1"/>
          <a:stretch/>
        </p:blipFill>
        <p:spPr>
          <a:xfrm>
            <a:off x="179280" y="2349360"/>
            <a:ext cx="2820960" cy="35258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172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作者简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图片 4" descr=""/>
            <p:cNvPicPr/>
            <p:nvPr/>
          </p:nvPicPr>
          <p:blipFill>
            <a:blip r:embed="rId2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2" descr="7485157_073341707000_2副本"/>
          <p:cNvPicPr/>
          <p:nvPr/>
        </p:nvPicPr>
        <p:blipFill>
          <a:blip r:embed="rId2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图形1"/>
          <p:cNvPicPr/>
          <p:nvPr/>
        </p:nvPicPr>
        <p:blipFill>
          <a:blip r:embed="rId4"/>
          <a:stretch/>
        </p:blipFill>
        <p:spPr>
          <a:xfrm>
            <a:off x="530280" y="1052640"/>
            <a:ext cx="822960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3" descr="图21"/>
          <p:cNvPicPr/>
          <p:nvPr/>
        </p:nvPicPr>
        <p:blipFill>
          <a:blip r:embed="rId5"/>
          <a:stretch/>
        </p:blipFill>
        <p:spPr>
          <a:xfrm>
            <a:off x="609480" y="3200400"/>
            <a:ext cx="2210040" cy="5205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182520" y="4482720"/>
            <a:ext cx="87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为了成功地生活，少年人必须学习自立，铲除埋伏各处的障碍，在家庭要教养他，使他具有为人所认可的独立人格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戴尔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·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卡耐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C:\Documents and Settings\Administrator\桌面\有用图标\状元成才路标志.png"/>
          <p:cNvPicPr/>
          <p:nvPr/>
        </p:nvPicPr>
        <p:blipFill>
          <a:blip r:embed="rId6"/>
          <a:stretch/>
        </p:blipFill>
        <p:spPr>
          <a:xfrm>
            <a:off x="7935840" y="23760"/>
            <a:ext cx="1168560" cy="102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圆角矩形 2"/>
          <p:cNvSpPr/>
          <p:nvPr/>
        </p:nvSpPr>
        <p:spPr>
          <a:xfrm>
            <a:off x="324000" y="587520"/>
            <a:ext cx="4679640" cy="685800"/>
          </a:xfrm>
          <a:prstGeom prst="roundRect">
            <a:avLst>
              <a:gd name="adj" fmla="val 6394"/>
            </a:avLst>
          </a:prstGeom>
          <a:solidFill>
            <a:srgbClr val="ccffff"/>
          </a:solidFill>
          <a:ln w="28440">
            <a:solidFill>
              <a:srgbClr val="40404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课后习题参考答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72960" y="1916280"/>
            <a:ext cx="844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诗人以“残损的手掌”抚过祖国大地的形象化思绪，在想象中再现了他的家乡、长白山、黄河、江南、岭南以及他没有亲身体验过的解放区的景象，以“手掌”的感觉展示了他内心情感的变化。诗人先是凄楚忧愤，转而热切期盼，对解放区寄予了民族复兴的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7"/>
          <p:cNvSpPr/>
          <p:nvPr/>
        </p:nvSpPr>
        <p:spPr>
          <a:xfrm>
            <a:off x="324000" y="1628640"/>
            <a:ext cx="8447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积极的、暖色调的词语如：新生、辽远、温暖、明朗、坚固、蓬勃、永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极的、冷色调的词语如：残损、冷、彻骨、寂寞、憔悴、阴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人之所以这样用这些词语，是为了更好地表达内心深处的爱与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324000" y="1863720"/>
            <a:ext cx="84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用残损的手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首诗写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抗日战争的最艰苦年代。诗人戴望舒因在报纸上编发宣传抗战的诗歌，被日本宪兵逮捕。在狱中，他受尽折磨，但始终没有屈服。在诗中，作者面对现实，把个人的不幸同国家的命运融为一体，以深沉的思想、炽热的感情，抒发了对灾难深重的祖国的由衷关注和真诚的爱。同时，借助于诗的想象，表达了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辽远一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解放区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176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写作背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03280" y="58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127520" y="17035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ǐn zh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780000" y="1700280"/>
            <a:ext cx="26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ìng zǎ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300720" y="17002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éng h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1339560" y="292428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óu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646800" y="292572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iáo 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6449760" y="28526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573440" y="4149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1515240" y="41608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659640" y="407664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2070000" y="57340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405080" y="23511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锦    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995640" y="23493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荇  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6516720" y="2273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蓬   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405080" y="35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蝼  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3852720" y="35701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憔    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6732720" y="3500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蘸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1547640" y="479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堤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3995640" y="47941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灰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黑体"/>
              </a:rPr>
              <a:t>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6767640" y="4794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蹂   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199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字词注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1628640"/>
            <a:ext cx="795636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锦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精美的幛子。比喻美丽或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荇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长在水中的绿色植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蓬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飞蓬和蒿子，借指野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蝼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蝼蛄和蚂蚁。用来代表微小的生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比喻力量薄弱或地位低微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憔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人瘦弱，面色不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苏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苏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彻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透到骨头里，喻程度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203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词语解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324000" y="476280"/>
            <a:ext cx="3208320" cy="1006560"/>
            <a:chOff x="324000" y="476280"/>
            <a:chExt cx="3208320" cy="1006560"/>
          </a:xfrm>
        </p:grpSpPr>
        <p:sp>
          <p:nvSpPr>
            <p:cNvPr id="206" name="圆角矩形 2"/>
            <p:cNvSpPr/>
            <p:nvPr/>
          </p:nvSpPr>
          <p:spPr>
            <a:xfrm>
              <a:off x="1246320" y="631800"/>
              <a:ext cx="2286000" cy="685800"/>
            </a:xfrm>
            <a:prstGeom prst="roundRect">
              <a:avLst>
                <a:gd name="adj" fmla="val 6394"/>
              </a:avLst>
            </a:prstGeom>
            <a:solidFill>
              <a:srgbClr val="ccffff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整体感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图片 4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1371600" cy="10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Picture 4" descr="图片3"/>
          <p:cNvPicPr/>
          <p:nvPr/>
        </p:nvPicPr>
        <p:blipFill>
          <a:blip r:embed="rId2"/>
          <a:stretch/>
        </p:blipFill>
        <p:spPr>
          <a:xfrm>
            <a:off x="1852560" y="1895400"/>
            <a:ext cx="5791320" cy="4051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324000" y="1504800"/>
            <a:ext cx="8496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用残损的手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摸索这广大的土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这一角已变成灰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那一角只是血和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这一片湖该是我的家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（春天，堤上繁花如锦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嫩柳枝折断有奇异的芬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触到荇藻和水的微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这长白山的雪峰冷到彻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这黄河的水夹泥沙在指间滑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江南的水田，你当年新生的禾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是那么细，那么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在只有蓬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岭南的荔枝花寂寞地憔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尽那边，我蘸着南海没有渔船的苦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无形的手掌掠过无限的江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手指沾了血和灰，手掌沾了阴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只有那辽远的一角依然完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温暖，明朗，坚固而蓬勃生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2:50:44Z</dcterms:created>
  <dc:creator>lxd</dc:creator>
  <dc:description/>
  <dc:language>en-US</dc:language>
  <cp:lastModifiedBy>微软用户</cp:lastModifiedBy>
  <dcterms:modified xsi:type="dcterms:W3CDTF">2016-09-10T07:49:10Z</dcterms:modified>
  <cp:revision>55</cp:revision>
  <dc:subject/>
  <dc:title>幻灯片 1</dc:title>
</cp:coreProperties>
</file>