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F53-5782-4640-8A45-5CBFC354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0E6-C197-4FBE-85EF-1972CE21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411-2E16-4651-9DDD-6F7CAB97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A4C-B70D-490A-8BD0-BDFBF65C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16E-2AB4-4EF1-BB4E-A02D314E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884-B8B5-4200-A4CF-FD6FA31C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942-E3AB-4916-B1D1-A17DC492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944-9EEB-4FE4-875D-832349CA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A4D-D3BB-4C99-A25A-046C4806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D3A-F69F-4D88-AFC6-19B0575C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FFC-658C-4D8A-BEC9-7E931AB1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820-8832-4E99-A5C9-361DFD38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8081-8072-4833-83E0-9C3DD678F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znrs.com/shuma/UploadFiles_4676/200607/20060729173453532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znrs.com/shuma/UploadFiles_4676/200607/20060729173517197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蓝天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0"/>
            <a:ext cx="83818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故乡的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边飘过故乡的云 ，它不停地向我召唤 ，当身边的微风轻轻吹起 ，有个声音在对我呼唤 ，归来吧归来哟 ！浪迹天涯的游子 。归来吧归来哟 ！别再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处漂泊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踏着沉重的脚步 ，归乡路是那么的漫长 。当身边的微风轻轻吹起 ，吹来故乡泥土的芬芳 ，归来吧归来哟 ！浪迹天涯的游子 。归来吧归来哟 ！我已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厌倦飘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已是满怀疲惫 ，眼里是酸楚的泪 。那故乡的风和故乡的云，为我抹去创痕 。我曾经豪情万丈 ，归来却空空的行囊 。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乡的风和故乡的云为我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抚平创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huapian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449280"/>
            <a:ext cx="4114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身在学校，缕缕不绝的常常是对家的思念。家可以是一幢房，一棵树，一条河；可以是一份亲情，一种心动。离家的时候，偶然间的一瞥，心中都会升起浓浓的思念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壁纸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" y="1828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388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乡愁四韵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余光中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给我一瓢长江水啊长江水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那酒一样的长江水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那醉酒的滋味是乡愁的滋味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给我一瓢长江水啊长江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给我一掌海棠红啊海棠红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那血一样的海棠红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那沸血的烧痛是乡愁的烧痛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给我一掌海棠红啊海棠红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1905120"/>
            <a:ext cx="40388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给我一片雪花白啊雪花白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那信一样的雪花白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那家信的等待是乡愁的等待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给我一片雪花白啊雪花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给我一朵腊梅香啊腊梅香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那母亲一样的腊梅香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那母亲的芬芳是乡土的芬芳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给我一朵腊梅香啊腊梅香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《乡愁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余光中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小时侯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乡愁是一枚小小的邮票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我在这头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母亲在那头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长大后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乡愁是一张窄窄的船票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我在这头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新娘在那头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后来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乡愁是一方矮矮的坟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我在外头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母亲呵在里头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乡愁是一湾浅浅的海峡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我在这头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hell Dlg"/>
              </a:rPr>
              <a:t>大陆在那头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-1224000" y="-1251000"/>
            <a:ext cx="10893600" cy="9360000"/>
            <a:chOff x="-1224000" y="-1251000"/>
            <a:chExt cx="10893600" cy="9360000"/>
          </a:xfrm>
        </p:grpSpPr>
        <p:sp>
          <p:nvSpPr>
            <p:cNvPr id="80" name=""/>
            <p:cNvSpPr/>
            <p:nvPr/>
          </p:nvSpPr>
          <p:spPr>
            <a:xfrm>
              <a:off x="-1224000" y="-1251000"/>
              <a:ext cx="10893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-1224000" y="-1251000"/>
              <a:ext cx="10893600" cy="9360000"/>
              <a:chOff x="-1224000" y="-1251000"/>
              <a:chExt cx="10893600" cy="9360000"/>
            </a:xfrm>
          </p:grpSpPr>
          <p:sp>
            <p:nvSpPr>
              <p:cNvPr id="82" name=""/>
              <p:cNvSpPr/>
              <p:nvPr/>
            </p:nvSpPr>
            <p:spPr>
              <a:xfrm>
                <a:off x="-1224000" y="-1251000"/>
                <a:ext cx="10893600" cy="9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 u="sng">
                    <a:solidFill>
                      <a:srgbClr val="ccccff"/>
                    </a:solidFill>
                    <a:uFillTx/>
                    <a:latin typeface="Times New Roman"/>
                    <a:ea typeface="黑体"/>
                    <a:hlinkClick r:id="rId2"/>
                  </a:rPr>
                  <a:t>  </a:t>
                </a:r>
                <a:r>
                  <a:rPr b="0" lang="en-US" sz="57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黑体"/>
                  </a:rPr>
                  <a:t> </a:t>
                </a:r>
                <a:r>
                  <a:rPr b="0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黑体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-1224000" y="-1251000"/>
                <a:ext cx="10893600" cy="9360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4" name="20060729173453532" descr="图片点击可在新窗口打开查看"/>
          <p:cNvPicPr/>
          <p:nvPr/>
        </p:nvPicPr>
        <p:blipFill>
          <a:blip r:embed="rId3"/>
          <a:stretch/>
        </p:blipFill>
        <p:spPr>
          <a:xfrm>
            <a:off x="-1060560" y="-1204920"/>
            <a:ext cx="11430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874800" y="-22320"/>
            <a:ext cx="10893600" cy="6811920"/>
            <a:chOff x="-874800" y="-22320"/>
            <a:chExt cx="10893600" cy="6811920"/>
          </a:xfrm>
        </p:grpSpPr>
        <p:sp>
          <p:nvSpPr>
            <p:cNvPr id="86" name=""/>
            <p:cNvSpPr/>
            <p:nvPr/>
          </p:nvSpPr>
          <p:spPr>
            <a:xfrm>
              <a:off x="-874800" y="-22320"/>
              <a:ext cx="10893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-874800" y="-22320"/>
              <a:ext cx="10893600" cy="6811920"/>
              <a:chOff x="-874800" y="-22320"/>
              <a:chExt cx="10893600" cy="6811920"/>
            </a:xfrm>
          </p:grpSpPr>
          <p:sp>
            <p:nvSpPr>
              <p:cNvPr id="88" name=""/>
              <p:cNvSpPr/>
              <p:nvPr/>
            </p:nvSpPr>
            <p:spPr>
              <a:xfrm>
                <a:off x="-874800" y="-22320"/>
                <a:ext cx="10893600" cy="681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ccccff"/>
                    </a:solidFill>
                    <a:uFillTx/>
                    <a:latin typeface="_x000b__x000c_"/>
                    <a:hlinkClick r:id="rId2"/>
                  </a:rPr>
                  <a:t>  </a:t>
                </a:r>
                <a:r>
                  <a:rPr b="0" lang="en-US" sz="43200" spc="-1" strike="noStrike" u="sng">
                    <a:solidFill>
                      <a:srgbClr val="000000"/>
                    </a:solidFill>
                    <a:uFillTx/>
                    <a:latin typeface="_x000b__x000c_"/>
                  </a:rPr>
                  <a:t> 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-874800" y="-22320"/>
                <a:ext cx="10893600" cy="6811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0" name="20060729173517197" descr="图片点击可在新窗口打开查看"/>
          <p:cNvPicPr/>
          <p:nvPr/>
        </p:nvPicPr>
        <p:blipFill>
          <a:blip r:embed="rId3"/>
          <a:stretch/>
        </p:blipFill>
        <p:spPr>
          <a:xfrm>
            <a:off x="-542880" y="23760"/>
            <a:ext cx="968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oon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03320" y="1523880"/>
            <a:ext cx="1003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月是故乡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33526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我心归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4800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韩少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9480"/>
            <a:ext cx="80769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壁纸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838080"/>
            <a:ext cx="807732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墙上的牵牛，墙根的靠山竹与草茉莉，省钱省事而且会招来翩翩的蝴蝶！至于青菜，白菜，扁豆，毛豆角，黄瓜，菠菜等等，大多数是直接由城外担来而送到家门口的。雨后，韭菜叶上还往往带着雨时溅起的泥点。青菜摊子上的红红绿绿几乎有</a:t>
            </a:r>
            <a:r>
              <a:rPr b="1" lang="en-US" sz="3200" spc="-1" strike="noStrike">
                <a:solidFill>
                  <a:srgbClr val="ff0000"/>
                </a:solidFill>
                <a:latin typeface="_x000b__x000c_"/>
                <a:ea typeface="楷体_GB2312"/>
              </a:rPr>
              <a:t>诗一般的美丽</a:t>
            </a:r>
            <a:r>
              <a:rPr b="1" lang="en-US" sz="32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。果子有不少是从西山与北山来的，西山的沙果，海棠，北山的黑枣，柿子，进了城还带着一层白霜儿，美国包着纸的橘子遇到北平带霜儿的玉李，</a:t>
            </a:r>
            <a:r>
              <a:rPr b="1" lang="en-US" sz="3200" spc="-1" strike="noStrike">
                <a:solidFill>
                  <a:srgbClr val="ff0000"/>
                </a:solidFill>
                <a:latin typeface="_x000b__x000c_"/>
                <a:ea typeface="楷体_GB2312"/>
              </a:rPr>
              <a:t>还不愧杀（惭愧）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_x000b__x000c_"/>
              </a:rPr>
              <a:t>                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_x000b__x000c_"/>
                <a:ea typeface="楷体_GB2312"/>
              </a:rPr>
              <a:t>老舍《想北平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hua1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12952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故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685800"/>
            <a:ext cx="2286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贫瘠脏乱                   浮粪四溢拥挤不堪阴沉连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295280"/>
            <a:ext cx="236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亲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激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876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异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434340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雅静优美繁华酥骨静谧侵肌幽深奇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4724280"/>
            <a:ext cx="1143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冷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虚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___Cup_of_Tea_" descr=""/>
          <p:cNvPicPr/>
          <p:nvPr/>
        </p:nvPicPr>
        <p:blipFill>
          <a:blip r:embed="rId1"/>
          <a:stretch/>
        </p:blipFill>
        <p:spPr>
          <a:xfrm>
            <a:off x="-1219320" y="-1143000"/>
            <a:ext cx="12192120" cy="914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457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907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用心体会，用心交流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438280"/>
            <a:ext cx="6629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在你的阅读中，就文章中最打动你的一句话，一段情，说说你的思考和心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huapian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9907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_x000b__x000c_"/>
                <a:ea typeface="华文行楷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0020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故乡存留了我们的童年，或者还有青年和壮年，也就成了我们生命的一部分……故乡比任何旅游景区多了一些东西：你的血、泪，还有汗水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huapian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1143000"/>
            <a:ext cx="792468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我会对故乡浮粪四溢的墟场失望，会对故乡拥挤不堪的车厢失望，会对故乡阴沉连日的雨季失望，但那种失望不同于对旅泊之地的失望，那种失望能滴血。血沃之地将真正生长出金麦穗和赶车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芦苇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30492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补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“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苍黄的天底下，远近横着几个萧索的荒村，没有一点活气。我的心禁不住悲凉起来了。阿！这不是我二十年来时时记得的故乡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  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鲁迅《故乡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3657600"/>
            <a:ext cx="60958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为什么我的眼里常含泪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因为我对这土地爱得深沉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艾青《我爱这土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田野" descr="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609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故乡意味着我们的付出——它与出生地不是一回事。只有艰辛劳动过奉献过人，才真正拥有故乡……没有故乡的人身后一无所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971800"/>
            <a:ext cx="5943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渡桑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皂（唐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舍并州数十霜，归心日夜忆咸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端又渡桑乾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望并州是故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1:27:21Z</dcterms:created>
  <dc:creator>loopy</dc:creator>
  <dc:description/>
  <dc:language>en-US</dc:language>
  <cp:lastModifiedBy>lcx0127</cp:lastModifiedBy>
  <dcterms:modified xsi:type="dcterms:W3CDTF">2011-11-05T14:05:45Z</dcterms:modified>
  <cp:revision>17</cp:revision>
  <dc:subject/>
  <dc:title>PowerPoint 演示文稿</dc:title>
</cp:coreProperties>
</file>