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5.gif" ContentType="image/gif"/>
  <Override PartName="/ppt/media/image6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E10-553D-4C8D-8C7B-DECC359D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524-A32F-41B5-BFDC-0A8F5F3F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03B-58C2-4761-9F4E-3610D9CF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BC2-EAF9-4F81-8E19-86382A1D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DB0-4E85-4759-9D98-764E48F0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E6B-8A52-479B-A2F7-3B741313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084-2E61-4E65-9DF9-C4B2D94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9C9-0253-4B56-A8CA-AB46B943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843-CF4D-433B-A9A6-FC1C009E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5D8-1126-43C1-90BB-1EB3E419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A3E-A069-4603-AE45-A096D9C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AB1-1D19-4558-A7D7-D2340382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2F18-AC40-412D-BA65-B7FDCA825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1989000"/>
            <a:ext cx="5904000" cy="187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创艺简行楷"/>
              </a:rPr>
              <a:t>我心归去</a:t>
            </a:r>
            <a:endParaRPr b="1" lang="en-US" sz="96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创艺简行楷"/>
              <a:ea typeface="创艺简行楷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19640" y="2997360"/>
            <a:ext cx="23148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创艺简行楷"/>
              </a:rPr>
              <a:t>韩少功</a:t>
            </a:r>
            <a:endParaRPr b="1" lang="en-US" sz="6000" spc="1" strike="noStrike">
              <a:ln w="9360">
                <a:solidFill>
                  <a:srgbClr val="ff99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创艺简行楷"/>
              <a:ea typeface="创艺简行楷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3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3480" y="338040"/>
            <a:ext cx="765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04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行楷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行楷"/>
              </a:rPr>
              <a:t>对吊灯做第六次或六十次研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197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夸张手法写无聊至极的举动，说明了客居的无聊和强烈孤独感，为后面的思乡之情铺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708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行楷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行楷"/>
              </a:rPr>
              <a:t>出国热”在作者的眼里也不屑一提。“我就那么在乎法国的面包和雷诺牌汽车？”这个句子运用了什么修辞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581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反问、借代（以部分——法国的面包和雷诺牌汽车，代全体——法国的优裕的物质生活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3357720"/>
            <a:ext cx="7993080" cy="30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黑体"/>
              </a:rPr>
              <a:t>作者通过对亲人生活场景的想象，用叙述、议论、抒情相结合的笔调抒发了自己在异国他乡对亲人的强烈思念。“身后远远的一片热土”将想家，思念故乡，家的含义进一步深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8366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作者不想移民更是因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55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念亲人，思念故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492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第</a:t>
            </a:r>
            <a:r>
              <a:rPr b="1" lang="zh-CN" sz="36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节作者是怎么表现思念亲人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90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文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——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段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2491189344031961"/>
          <p:cNvPicPr/>
          <p:nvPr/>
        </p:nvPicPr>
        <p:blipFill>
          <a:blip r:embed="rId1"/>
          <a:stretch/>
        </p:blipFill>
        <p:spPr>
          <a:xfrm rot="5400000">
            <a:off x="6357600" y="99720"/>
            <a:ext cx="288612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19640" y="3337560"/>
            <a:ext cx="187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浮粪四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拥挤不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阴沉连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3680" y="17733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3429000"/>
            <a:ext cx="5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故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1700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繁华酥骨静谧侵肌幽深奇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191628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优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雅富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3789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贫瘠脏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虚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77080" y="3500280"/>
            <a:ext cx="115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亲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激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58972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黑体"/>
                <a:ea typeface="黑体"/>
              </a:rPr>
              <a:t>对比手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2349360"/>
            <a:ext cx="863640" cy="142920"/>
          </a:xfrm>
          <a:prstGeom prst="rightArrow">
            <a:avLst>
              <a:gd name="adj1" fmla="val 50000"/>
              <a:gd name="adj2" fmla="val 151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407664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2060640"/>
            <a:ext cx="72720" cy="863640"/>
          </a:xfrm>
          <a:custGeom>
            <a:avLst/>
            <a:gdLst>
              <a:gd name="textAreaLeft" fmla="*/ 46440 w 72720"/>
              <a:gd name="textAreaRight" fmla="*/ 73080 w 72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716280"/>
            <a:ext cx="72720" cy="863640"/>
          </a:xfrm>
          <a:custGeom>
            <a:avLst/>
            <a:gdLst>
              <a:gd name="textAreaLeft" fmla="*/ 46440 w 72720"/>
              <a:gd name="textAreaRight" fmla="*/ 73080 w 72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89000"/>
            <a:ext cx="89647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创艺简行楷"/>
                <a:ea typeface="创艺简行楷"/>
              </a:rPr>
              <a:t>作者的家乡是怎样的？能跟法国比吗？作者为什么还如此思念着家乡？他运用了什么写作方法来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2590920" cy="764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98100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什么法国优越的物质条件让作者感到寂寞孤独和空虚，故乡虽贫瘠却让作者魂牵梦绕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找出文中重要的句子，在此基础上概括回答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63700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故乡让人感到亲切、温馨和激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故乡是我们生命的一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亲人、过去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你的血、泪和汗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故乡的美中含悲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故乡意味着我们的付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72428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异乡语言不通，文化隔膜，寂寞冷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故乡有亲友，至少也有过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有熟悉的景物，是生命的一部分，有我们的付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2708280"/>
            <a:ext cx="197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我在异国“只是一名来付钱的观赏者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429000"/>
            <a:ext cx="503280" cy="1800360"/>
          </a:xfrm>
          <a:custGeom>
            <a:avLst/>
            <a:gdLst>
              <a:gd name="textAreaLeft" fmla="*/ 67320 w 503280"/>
              <a:gd name="textAreaRight" fmla="*/ 435960 w 50328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2472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创艺简行楷"/>
              </a:rPr>
              <a:t>后三节的内容是什么？她的作用是什么？请同学们快速浏览文章，把启示性语句找出来，认真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89000"/>
            <a:ext cx="496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分析文章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7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、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8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、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9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500280"/>
            <a:ext cx="7921440" cy="2665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后三节写对故乡这个文化概念的思考。故乡是我们生命的一部分，有你的血、泪、汗水。故乡美中含悲。故乡意味着我们的付出，意味着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我们创造物质与精神的财富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作用：使主题深化和升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333360"/>
            <a:ext cx="2590920" cy="764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852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典上对“故乡”的概念阐释是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出生或长期居住过的地方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文意，选用文中的关键词句作出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故乡是人的精神寄托，拥有故乡的人才拥有心灵回归的无限幸福；人只有对故乡付出艰辛劳动，才拥有真正意义上的故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413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创艺简行楷"/>
                <a:ea typeface="创艺简行楷"/>
              </a:rPr>
              <a:t>作者认为“故乡”到底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创艺简行楷"/>
                <a:ea typeface="创艺简行楷"/>
              </a:rPr>
              <a:t>作者认为人与故乡是怎样一种关系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2491189344031961"/>
          <p:cNvPicPr/>
          <p:nvPr/>
        </p:nvPicPr>
        <p:blipFill>
          <a:blip r:embed="rId1"/>
          <a:stretch/>
        </p:blipFill>
        <p:spPr>
          <a:xfrm rot="5400000">
            <a:off x="6357600" y="99720"/>
            <a:ext cx="28861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542920" y="1125360"/>
            <a:ext cx="262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亲友，有过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126828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黑体"/>
              </a:rPr>
              <a:t>临时的“家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700280"/>
            <a:ext cx="144720" cy="3384360"/>
          </a:xfrm>
          <a:custGeom>
            <a:avLst/>
            <a:gdLst>
              <a:gd name="textAreaLeft" fmla="*/ 92520 w 144720"/>
              <a:gd name="textAreaRight" fmla="*/ 145080 w 14472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700280"/>
            <a:ext cx="358920" cy="41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415800" y="1916280"/>
            <a:ext cx="1277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异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8680" y="1916280"/>
            <a:ext cx="729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故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63700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难耐的冷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5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无聊得发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4437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④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移民”的追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18446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亲切、激动</a:t>
            </a:r>
            <a:r>
              <a:rPr b="0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38606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⑦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血泪、有汗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515772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⑨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幸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581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⑧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2840" y="3068640"/>
            <a:ext cx="729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空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87720" y="3068640"/>
            <a:ext cx="15634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幸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5589720"/>
            <a:ext cx="4176720" cy="609480"/>
          </a:xfrm>
          <a:prstGeom prst="wedgeRectCallout">
            <a:avLst>
              <a:gd name="adj1" fmla="val -48101"/>
              <a:gd name="adj2" fmla="val -198699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宋体"/>
              </a:rPr>
              <a:t>客居法国的孤独寂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3068640"/>
            <a:ext cx="3527640" cy="609480"/>
          </a:xfrm>
          <a:prstGeom prst="wedgeRectCallout">
            <a:avLst>
              <a:gd name="adj1" fmla="val -49236"/>
              <a:gd name="adj2" fmla="val -183333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园之思的真挚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3640" y="5661000"/>
            <a:ext cx="3600360" cy="609480"/>
          </a:xfrm>
          <a:prstGeom prst="wedgeRectCallout">
            <a:avLst>
              <a:gd name="adj1" fmla="val -60273"/>
              <a:gd name="adj2" fmla="val -195574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园之思的深刻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76280"/>
            <a:ext cx="2881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思 路 结 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3600360" cy="3084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050920" y="1700280"/>
            <a:ext cx="5545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创艺简行楷"/>
              </a:rPr>
              <a:t>再见</a:t>
            </a:r>
            <a:endParaRPr b="1" lang="en-US" sz="96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创艺简行楷"/>
              <a:ea typeface="创艺简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052640"/>
            <a:ext cx="8281800" cy="21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韩少功，生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。曾任《海南纪实》主编，《天涯》杂志社社长、海南省作协主席、文联主席等职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作品有短篇小说《归去来》，中篇小说《爸爸爸》，长篇小说《马桥词典》，散文《完美的假定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作品集《山上的声音》被法国读者网上评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法国十大文学好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荣获法国文化部颁发的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法兰西文艺骑士勋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本文就是作者应邀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法国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领奖期间写下的。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04920"/>
            <a:ext cx="2133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52280"/>
            <a:ext cx="2819520" cy="825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预习检查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3880"/>
            <a:ext cx="8686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别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静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贫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144792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zhu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Times New Roman"/>
              </a:rPr>
              <a:t>à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sh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Times New Roman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3124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Times New Roman"/>
              </a:rPr>
              <a:t>ù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8862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4724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gu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Times New Roman"/>
              </a:rPr>
              <a:t>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6386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j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1447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i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Times New Roman"/>
              </a:rPr>
              <a:t>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286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u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Times New Roman"/>
              </a:rPr>
              <a:t>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3124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Times New Roman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8862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4724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562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Times New Roman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152280"/>
            <a:ext cx="2819520" cy="825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预习检查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3880"/>
            <a:ext cx="8231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倒    悲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熠    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场    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矫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饰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）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447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362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1240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3962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1523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hu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286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u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4800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480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260280"/>
            <a:ext cx="4122720" cy="764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把握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268280"/>
            <a:ext cx="8664480" cy="147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第一部分：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黑体"/>
              </a:rPr>
              <a:t>写在法国圣•纳塞尔市时的无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第二部分：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黑体"/>
              </a:rPr>
              <a:t>写对故乡的怀念及对故乡的深层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20070718_07c25ab93b29c0f366b3Kbo6lfis4ND6"/>
          <p:cNvPicPr/>
          <p:nvPr/>
        </p:nvPicPr>
        <p:blipFill>
          <a:blip r:embed="rId1"/>
          <a:stretch/>
        </p:blipFill>
        <p:spPr>
          <a:xfrm>
            <a:off x="0" y="3716280"/>
            <a:ext cx="5715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2491920"/>
            <a:ext cx="8064360" cy="12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创艺简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作者居住在法国</a:t>
            </a:r>
            <a:r>
              <a:rPr b="1" lang="zh-CN" sz="40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条件怎样</a:t>
            </a:r>
            <a:r>
              <a:rPr b="1" lang="zh-CN" sz="40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心境如何</a:t>
            </a:r>
            <a:r>
              <a:rPr b="1" lang="zh-CN" sz="40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333360"/>
            <a:ext cx="30481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创艺简行楷"/>
              </a:rPr>
              <a:t>感知文章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创艺简行楷"/>
              <a:ea typeface="创艺简行楷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3933720"/>
            <a:ext cx="590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条件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雅静 宽敞 富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心境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难耐的冷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628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文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——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33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作者是怎样描述这种冷清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1557360"/>
            <a:ext cx="7417080" cy="26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这里一切声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弃你而去”：周围与你有关的声音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法语法语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</a:rPr>
              <a:t>法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把你囚禁在一座法语的监狱无处逃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悬崖”“深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谷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感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对吊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第六次或六十次研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创艺简行楷"/>
                <a:ea typeface="创艺简行楷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创艺简行楷"/>
                <a:ea typeface="创艺简行楷"/>
              </a:rPr>
              <a:t>这里一切声响都</a:t>
            </a:r>
            <a:r>
              <a:rPr b="1" lang="zh-CN" sz="3200" spc="-1" strike="noStrike">
                <a:solidFill>
                  <a:srgbClr val="0000ff"/>
                </a:solidFill>
                <a:latin typeface="创艺简行楷"/>
                <a:ea typeface="创艺简行楷"/>
              </a:rPr>
              <a:t>弃</a:t>
            </a:r>
            <a:r>
              <a:rPr b="1" lang="zh-CN" sz="3200" spc="-1" strike="noStrike">
                <a:solidFill>
                  <a:srgbClr val="000000"/>
                </a:solidFill>
                <a:latin typeface="创艺简行楷"/>
                <a:ea typeface="创艺简行楷"/>
              </a:rPr>
              <a:t>你而去”中的“这一切声响让你联想到哪些声音？ 这句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行楷"/>
              </a:rPr>
              <a:t>写出了作者怎样的感受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916280"/>
            <a:ext cx="7272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每个人都生活在声响的包围中，每种声音都为你而来，比如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早上厨房里妈妈“磁拉”煎鸡蛋的声音，是在为你准备早餐；晚上你房门钥匙的转动声，是爸爸来看你是否弄掉了被子；学校的铃声是在督促你学习；街上的汽笛声是在提醒你注意行车安全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远离了熟悉的生活，孤独无助寂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476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创艺简行楷"/>
                <a:ea typeface="创艺简行楷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创艺简行楷"/>
                <a:ea typeface="创艺简行楷"/>
              </a:rPr>
              <a:t>法语法语法语，把你囚禁在一座法语的监狱无处逃遁”这句话有怎样的含义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70028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比喻，写出了作者的离开了熟悉的人、环境、文化后的主观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比作监狱，突出了一种巨大的孤独寂寞与空虚无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573360"/>
            <a:ext cx="7416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行楷"/>
              </a:rPr>
              <a:t>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创艺简行楷"/>
                <a:hlinkClick r:id="rId2" action="ppaction://hlinksldjump"/>
              </a:rPr>
              <a:t>悬崖”“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行楷"/>
              </a:rPr>
              <a:t>谷”感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4508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比喻，将抽象的无形的情感孤独与空虚具体化、形象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2:19:39Z</dcterms:created>
  <dc:creator>USER</dc:creator>
  <dc:description/>
  <dc:language>en-US</dc:language>
  <cp:lastModifiedBy>zmj</cp:lastModifiedBy>
  <dcterms:modified xsi:type="dcterms:W3CDTF">2011-07-03T12:27:41Z</dcterms:modified>
  <cp:revision>16</cp:revision>
  <dc:subject/>
  <dc:title>幻灯片 1</dc:title>
</cp:coreProperties>
</file>