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wmf" ContentType="image/x-wmf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018-D28D-4464-954C-DE5C070F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090-9BCF-404D-A9A2-57CC131A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703-53D1-434B-AAE5-79E717DD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611-BCD2-41BF-89FA-BC321F56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C92-92B4-45D2-90B3-18A56BF0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2E5-8B48-4F29-A578-ECF67CF3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8FD-7118-469B-A960-AB300C22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59F-9053-403D-B757-4A9DC3E2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EB5-42D2-43F4-B337-7E4D2A3D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48B-5267-4803-A6F1-81ECACCB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E4E9-EA81-4283-98ED-FAA143C2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3850-B05C-4091-A92E-4F7C85D6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A2E4-3AF9-4503-AFC0-B49E834583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" Target="slide2.xml"/><Relationship Id="rId4" Type="http://schemas.openxmlformats.org/officeDocument/2006/relationships/image" Target="../media/image14.jpeg"/><Relationship Id="rId5" Type="http://schemas.openxmlformats.org/officeDocument/2006/relationships/slide" Target="slide9.xml"/><Relationship Id="rId6" Type="http://schemas.openxmlformats.org/officeDocument/2006/relationships/image" Target="../media/image23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4.jpeg"/><Relationship Id="rId4" Type="http://schemas.openxmlformats.org/officeDocument/2006/relationships/slide" Target="slide13.xm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" Target="slide2.xml"/><Relationship Id="rId4" Type="http://schemas.openxmlformats.org/officeDocument/2006/relationships/image" Target="../media/image14.jpeg"/><Relationship Id="rId5" Type="http://schemas.openxmlformats.org/officeDocument/2006/relationships/slide" Target="slide14.xml"/><Relationship Id="rId6" Type="http://schemas.openxmlformats.org/officeDocument/2006/relationships/image" Target="../media/image22.jpeg"/><Relationship Id="rId7" Type="http://schemas.openxmlformats.org/officeDocument/2006/relationships/slide" Target="slide12.xml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7.jpeg"/><Relationship Id="rId3" Type="http://schemas.openxmlformats.org/officeDocument/2006/relationships/slide" Target="slide2.xml"/><Relationship Id="rId4" Type="http://schemas.openxmlformats.org/officeDocument/2006/relationships/image" Target="../media/image14.jpeg"/><Relationship Id="rId5" Type="http://schemas.openxmlformats.org/officeDocument/2006/relationships/slide" Target="slide15.xml"/><Relationship Id="rId6" Type="http://schemas.openxmlformats.org/officeDocument/2006/relationships/image" Target="../media/image22.jpeg"/><Relationship Id="rId7" Type="http://schemas.openxmlformats.org/officeDocument/2006/relationships/slide" Target="slide13.xml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7.jpeg"/><Relationship Id="rId3" Type="http://schemas.openxmlformats.org/officeDocument/2006/relationships/slide" Target="slide2.xml"/><Relationship Id="rId4" Type="http://schemas.openxmlformats.org/officeDocument/2006/relationships/image" Target="../media/image14.jpeg"/><Relationship Id="rId5" Type="http://schemas.openxmlformats.org/officeDocument/2006/relationships/slide" Target="slide14.xm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2.xm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" Target="slide4.xml"/><Relationship Id="rId6" Type="http://schemas.openxmlformats.org/officeDocument/2006/relationships/image" Target="../media/image7.jpeg"/><Relationship Id="rId7" Type="http://schemas.openxmlformats.org/officeDocument/2006/relationships/slide" Target="slide5.xml"/><Relationship Id="rId8" Type="http://schemas.openxmlformats.org/officeDocument/2006/relationships/image" Target="../media/image8.jpeg"/><Relationship Id="rId9" Type="http://schemas.openxmlformats.org/officeDocument/2006/relationships/slide" Target="slide6.xml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" Target="slide16.xml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png"/><Relationship Id="rId7" Type="http://schemas.openxmlformats.org/officeDocument/2006/relationships/slide" Target="slide2.xm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slide" Target="slide2.xm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" Target="slide2.xml"/><Relationship Id="rId5" Type="http://schemas.openxmlformats.org/officeDocument/2006/relationships/image" Target="../media/image14.jpeg"/><Relationship Id="rId6" Type="http://schemas.openxmlformats.org/officeDocument/2006/relationships/slide" Target="slide7.xml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jpeg"/><Relationship Id="rId3" Type="http://schemas.openxmlformats.org/officeDocument/2006/relationships/slide" Target="slide2.xml"/><Relationship Id="rId4" Type="http://schemas.openxmlformats.org/officeDocument/2006/relationships/image" Target="../media/image14.jpeg"/><Relationship Id="rId5" Type="http://schemas.openxmlformats.org/officeDocument/2006/relationships/slide" Target="slide6.xm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jpeg"/><Relationship Id="rId3" Type="http://schemas.openxmlformats.org/officeDocument/2006/relationships/image" Target="../media/image1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" Target="slide2.xml"/><Relationship Id="rId4" Type="http://schemas.openxmlformats.org/officeDocument/2006/relationships/image" Target="../media/image14.jpeg"/><Relationship Id="rId5" Type="http://schemas.openxmlformats.org/officeDocument/2006/relationships/slide" Target="slide10.xml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20000" y="6286680"/>
            <a:ext cx="5713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02920" y="1989000"/>
            <a:ext cx="62643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用自己的话概括这则故事的内容。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892520" cy="889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908000" y="6237360"/>
            <a:ext cx="1397160" cy="36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47640" y="4723920"/>
            <a:ext cx="55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  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曹操“梦”中杀人，从而使人不敢在他睡觉时谋害他</a:t>
            </a:r>
            <a:r>
              <a:rPr b="1" i="1" lang="zh-CN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i="1" lang="zh-CN" sz="28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611280" y="5804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4038480" y="6308640"/>
            <a:ext cx="1397160" cy="36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47640" y="3426120"/>
            <a:ext cx="54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6600"/>
                </a:solidFill>
                <a:latin typeface="Arial"/>
              </a:rPr>
              <a:t>曹操骗杀随从以证实自己“人欲危己，己辄心动”说法，使人不敢谋害自己。</a:t>
            </a:r>
            <a:r>
              <a:rPr b="1" i="1" lang="zh-CN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6920" y="1988640"/>
            <a:ext cx="6697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结合《魏武将见匈奴使》和这段文字的内容，请你就魏武（曹操）这个人物作点评价。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892520" cy="889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2360" y="3933720"/>
            <a:ext cx="56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曹操具有过人的气质和才能，但又是极度的自私和猜疑心很强的人，充分显露了他“奸雄”的本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90800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32360" y="-360"/>
            <a:ext cx="31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6633"/>
                </a:solidFill>
                <a:latin typeface="Arial"/>
                <a:ea typeface="迷你简雪君"/>
              </a:rPr>
              <a:t>观沧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7280" y="3789000"/>
            <a:ext cx="68407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东临碣石，以观沧海。水何澹澹，山岛竦峙。树木丛生，百草丰茂。秋风萧瑟，洪波涌起。日月之行，若出其中；星汉灿烂，若出其里。幸甚至哉，歌以咏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1892160" cy="889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6308640"/>
            <a:ext cx="139716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633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中最能体现作者博大的胸怀的诗句—————，—————；——————，————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1892160" cy="88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630864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908000" y="6237360"/>
            <a:ext cx="1397160" cy="368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08360" y="2276640"/>
            <a:ext cx="3889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日月之行，若出其中；星汉灿烂，若出其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414972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评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人描绘了大海吞吐日月，包蕴万千的壮丽景象，表现了诗人开阔的胸襟，抒发了诗人统一中国建功立业的远大抱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716000" y="-360"/>
            <a:ext cx="37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6633"/>
                </a:solidFill>
                <a:latin typeface="Arial"/>
                <a:ea typeface="迷你简雪君"/>
              </a:rPr>
              <a:t>龟虽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69138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龟虽寿，犹有竟时。腾蛇乘雾，终为土灰。老骥伏枥，志在千里；烈士暮年，壮心不已。盈缩之期，不但在天；养怡之福，可得永年。 幸甚至哉，歌以咏志。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1892160" cy="889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630864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908000" y="6237360"/>
            <a:ext cx="139716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们常引用曹操《龟虽寿》中的诗句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__,__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”来比喻人虽老了却仍有雄心壮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1892160" cy="889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908000" y="6237360"/>
            <a:ext cx="1397160" cy="368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68360" y="234936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老骥伏枥，志在千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41497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评：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诗人以“老骥”自况，又称暮年，但他还要继续奋斗，中间四句集中抒发了诗人老当益壮的雄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89400" y="2565360"/>
            <a:ext cx="262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Arial"/>
                <a:ea typeface="文鼎中行书简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11880" y="2421000"/>
            <a:ext cx="889200" cy="189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019160" y="2400480"/>
            <a:ext cx="888840" cy="1892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17600" y="2400480"/>
            <a:ext cx="889200" cy="189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41600" y="2400480"/>
            <a:ext cx="889200" cy="1892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738680" y="2400480"/>
            <a:ext cx="888840" cy="1892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012000" y="2421000"/>
            <a:ext cx="888840" cy="1892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948360" y="5965920"/>
            <a:ext cx="1244880" cy="5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67690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世说新语》是刘义庆和门客杂采众书编纂而成，是我国最早的笔记小说。全书记载了从汉末到东晋豪门贵族和官僚士大夫阶层的趣闻轶事，较为集中地反映了当时社会上层人物的精神状态和生活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刘义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4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南朝宋武帝刘裕的宗亲，袭封临川王，曾主管京城地方事务，任荆州刺史等职，有政绩。为人简素，爱好文学，身边聚集了不少文人学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03840" y="189000"/>
            <a:ext cx="1892520" cy="888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55640" y="125280"/>
            <a:ext cx="1512720" cy="7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ShockwaveFlash1"/>
          <p:cNvGraphicFramePr/>
          <p:nvPr/>
        </p:nvGraphicFramePr>
        <p:xfrm>
          <a:off x="2484360" y="2276640"/>
          <a:ext cx="71640" cy="7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2276640"/>
                    <a:ext cx="71640" cy="72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2" name="ShockwaveFlash2"/>
          <p:cNvGraphicFramePr/>
          <p:nvPr/>
        </p:nvGraphicFramePr>
        <p:xfrm>
          <a:off x="1403280" y="1628640"/>
          <a:ext cx="6337440" cy="410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ShockwaveFlash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1628640"/>
                    <a:ext cx="6337440" cy="4105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227640" y="6373800"/>
            <a:ext cx="139716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8560" y="1483920"/>
            <a:ext cx="66978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魏武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见匈奴使，自以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形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 不足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远国，使崔季珪代，帝自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捉刀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立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床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既毕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令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间谍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问曰：“魏王何如？”匈奴使答曰：“魏王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雅望非常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然床头捉刀人，此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乃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英雄也。”魏武闻之，追杀此使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1727280" cy="811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24000" y="4724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将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将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47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形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相貌丑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4941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雄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震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47973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捉刀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握着刀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今义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专门指代别人做文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0360" y="515772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床头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座位的旁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797360"/>
            <a:ext cx="34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既毕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接见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完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4508640"/>
            <a:ext cx="392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间谍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打探消息的人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今义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从事刺探情报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机密等活动的特务分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25640" y="5084640"/>
            <a:ext cx="196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雅望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高雅的风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4941720"/>
            <a:ext cx="24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非常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非同一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17600" y="5157720"/>
            <a:ext cx="8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乃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文章讲了曹操哪些事情？从中可看出曹操有哪些性格特征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495360" cy="2641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40000" y="299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Arial"/>
              </a:rPr>
              <a:t>使人代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39337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Arial"/>
              </a:rPr>
              <a:t>令人探问</a:t>
            </a:r>
            <a:r>
              <a:rPr b="1" i="1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8000" y="494172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Arial"/>
              </a:rPr>
              <a:t>追杀此使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4004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狡诈  多疑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494172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残忍  不讲信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2997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虚伪  狡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1728720" cy="812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038480" y="6308640"/>
            <a:ext cx="139716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魏武为什么让崔季珪代替自己？后来为什么要追杀匈奴使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魏武将要接见匈奴的使节，自己认为长得丑陋，不足以震服别人。所以让相貌清朗而威重的崔季珪代替自己接见匈奴的使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怕使者回去说曹操空有高雅风采，却是草包肚肠，不是英雄，还不如一个“床头捉刀人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1728720" cy="812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908000" y="6237360"/>
            <a:ext cx="139716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8920" y="1844640"/>
            <a:ext cx="66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魏武常言：“人欲危己，己辄（就）心动。”因语所亲小人（随从）曰：“汝怀刃密来我侧，我必说‘心动’，执汝使行刑，汝但勿言其使，无他，当厚相报。”执者信焉，不以为惧，遂斩之。此人至死不知也。左右以为实，谋逆者挫气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067280" y="6308640"/>
            <a:ext cx="1396800" cy="368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084720" y="260280"/>
            <a:ext cx="1892520" cy="8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989000"/>
            <a:ext cx="62643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魏武常云：“我眠中不可妄近，近便斫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u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刀斧等砍）人，亦不自觉。左右宜深慎此！”后阳眠（白天睡觉），所幸一人，窃以被覆之，因便斫杀。自尔每眠，左右莫敢近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892520" cy="88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630864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1908000" y="6237360"/>
            <a:ext cx="1397160" cy="3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5:00:36Z</dcterms:created>
  <dc:creator>luoliqiang</dc:creator>
  <dc:description/>
  <dc:language>en-US</dc:language>
  <cp:lastModifiedBy>微软用户</cp:lastModifiedBy>
  <dcterms:modified xsi:type="dcterms:W3CDTF">2013-03-11T12:54:33Z</dcterms:modified>
  <cp:revision>29</cp:revision>
  <dc:subject/>
  <dc:title>幻灯片 1</dc:title>
</cp:coreProperties>
</file>