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type.wav" ContentType="audio/x-wav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ADDD-7413-4367-8155-E4D6E0FE4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1051-B03C-41C1-8FF4-199E358C3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9315-60A1-4610-84B2-169D08D37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537C-835B-4F27-A950-4C28CFBEA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27558-E19D-4EBA-A686-86FFF9BF3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FC435-7986-4C0D-A23B-1BF6E302E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D7692-3CC7-49DA-866B-5734A4832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C40CC-74FE-4720-B06E-F30740075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ED2E4-AED6-43EF-9D89-689D7D7CE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F6CB3-9422-4899-BE1E-EE1C8E0D0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117CB-CF34-41D5-B822-557C8AFA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4D2F-BA42-479D-8632-E43B2B546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C34C3-3757-449D-A0CB-A09057BD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BA80D-FD3C-4BBD-A372-4C6AB8CD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6F0B1-69C8-4639-8816-051284AD9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AADE9-B485-4C04-B3EF-555E66B3A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8CCAF-7E64-45FF-9778-9F3050693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5D41-4C27-4FA8-8C99-3B7EC9B4D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F64B-065A-41F2-8BC0-661CF99FC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551D-84B1-4343-88C7-D1CE1D654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463F-0921-46DA-B036-3406643B9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D58F-70D0-4EF0-9DCD-DD20599A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8350-6C51-43AF-AEA3-BCA85537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E781-56D0-4D20-AD42-01F1AEC2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19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000" spc="-1" strike="noStrike">
                <a:solidFill>
                  <a:srgbClr val="0000ff"/>
                </a:solidFill>
                <a:latin typeface="Times New Roman"/>
                <a:ea typeface="华文行楷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富安中学刘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6B62E-7C9D-45A9-9556-0C506F59F1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94875-EB5D-4172-A714-2291AB88345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qd58.com/?viewnews-592.html" TargetMode="External"/><Relationship Id="rId2" Type="http://schemas.openxmlformats.org/officeDocument/2006/relationships/image" Target="../media/image3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hyperlink" Target="E:\&#35821;&#25991;\7&#24180;&#32423;\&#31532;&#19971;&#21333;&#20803;\&#35799;&#20116;&#39318;\&#38395;&#29579;&#26124;&#40836;&#24038;&#36801;&#40857;&#26631;&#36965;&#26377;&#27492;&#23492;.SWF" TargetMode="External"/><Relationship Id="rId4" Type="http://schemas.openxmlformats.org/officeDocument/2006/relationships/hyperlink" Target="E:\&#35821;&#25991;\7&#24180;&#32423;\&#31532;&#19971;&#21333;&#20803;\&#35799;&#20116;&#39318;\&#38395;&#29579;&#26124;&#40836;&#24038;&#36801;&#40857;&#26631;&#36965;&#26377;&#27492;&#23492;.mp3" TargetMode="External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ff"/>
                </a:solidFill>
                <a:latin typeface="楷体_GB2312"/>
                <a:ea typeface="华文隶书"/>
              </a:rPr>
              <a:t>闻王昌龄左迁龙标遥有此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Arial"/>
                <a:ea typeface="华文新魏"/>
              </a:rPr>
              <a:t>李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958160" y="5518080"/>
            <a:ext cx="863640" cy="9018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typ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609480"/>
            <a:ext cx="3753000" cy="5715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09480" y="1828800"/>
            <a:ext cx="3881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李白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唐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代诗人。字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太白，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号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青莲居士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陇西成纪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今甘肃天水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人，他是我国文学史上伟大的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浪漫主义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诗人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与杜甫齐名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世称“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李杜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”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还有“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诗仙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”之称，著有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《李太白全集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09960" y="6858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ff"/>
                </a:solidFill>
                <a:latin typeface="Arial"/>
                <a:ea typeface="微软雅黑"/>
              </a:rPr>
              <a:t>走近作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3" name="typ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500"/>
                            </p:stCondLst>
                            <p:childTnLst>
                              <p:par>
                                <p:cTn id="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3809880" cy="48006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495680" y="685800"/>
            <a:ext cx="43434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题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闻：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听到，听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左迁：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古人尊右卑左，即贬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龙标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：今黔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整体翻译：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听说王昌龄被贬到龙标遥寄此诗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王昌龄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：唐代著名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边塞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诗人。诗家天子，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七绝圣手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。因“不护细行”被贬龙标（黔阳）尉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33760" y="3808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ff"/>
                </a:solidFill>
                <a:latin typeface="华文行楷"/>
                <a:ea typeface="微软雅黑"/>
              </a:rPr>
              <a:t>题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type.wav"/>
      </p:stSnd>
    </p:sndAc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76280" y="1447920"/>
            <a:ext cx="3486240" cy="4419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979520" y="914400"/>
            <a:ext cx="27410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闻王昌龄左迁龙标遥有此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李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杨花落尽子规啼，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闻道龙标过五溪。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我寄愁心与明月，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随风直到夜郎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50840" y="369720"/>
            <a:ext cx="1155960" cy="58140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读诗品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2"/>
          </p:cNvPr>
          <p:cNvSpPr/>
          <p:nvPr/>
        </p:nvSpPr>
        <p:spPr>
          <a:xfrm>
            <a:off x="8077320" y="6019920"/>
            <a:ext cx="509400" cy="433440"/>
          </a:xfrm>
          <a:custGeom>
            <a:avLst/>
            <a:gdLst>
              <a:gd name="textAreaLeft" fmla="*/ 27000 w 509400"/>
              <a:gd name="textAreaRight" fmla="*/ 482400 w 509400"/>
              <a:gd name="textAreaTop" fmla="*/ 27000 h 433440"/>
              <a:gd name="textAreaBottom" fmla="*/ 406440 h 433440"/>
            </a:gdLst>
            <a:ahLst/>
            <a:rect l="textAreaLeft" t="textAreaTop" r="textAreaRight" b="textAreaBottom"/>
            <a:pathLst>
              <a:path w="25382" h="21600">
                <a:moveTo>
                  <a:pt x="0" y="0"/>
                </a:moveTo>
                <a:lnTo>
                  <a:pt x="25382" y="0"/>
                </a:lnTo>
                <a:lnTo>
                  <a:pt x="25382" y="21600"/>
                </a:lnTo>
                <a:lnTo>
                  <a:pt x="0" y="21600"/>
                </a:lnTo>
                <a:close/>
              </a:path>
              <a:path fill="lightenLess" w="25382" h="21600">
                <a:moveTo>
                  <a:pt x="0" y="0"/>
                </a:moveTo>
                <a:lnTo>
                  <a:pt x="25382" y="0"/>
                </a:lnTo>
                <a:lnTo>
                  <a:pt x="24032" y="1350"/>
                </a:lnTo>
                <a:lnTo>
                  <a:pt x="1350" y="1350"/>
                </a:lnTo>
                <a:close/>
              </a:path>
              <a:path fill="darken" w="25382" h="21600">
                <a:moveTo>
                  <a:pt x="25382" y="0"/>
                </a:moveTo>
                <a:lnTo>
                  <a:pt x="25382" y="21600"/>
                </a:lnTo>
                <a:lnTo>
                  <a:pt x="24032" y="20250"/>
                </a:lnTo>
                <a:lnTo>
                  <a:pt x="24032" y="1350"/>
                </a:lnTo>
                <a:close/>
              </a:path>
              <a:path fill="darkenLess" w="25382" h="21600">
                <a:moveTo>
                  <a:pt x="2538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4032" y="20250"/>
                </a:lnTo>
                <a:close/>
              </a:path>
              <a:path fill="lighten" w="2538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5382" h="21600">
                <a:moveTo>
                  <a:pt x="5647" y="8394"/>
                </a:moveTo>
                <a:lnTo>
                  <a:pt x="10101" y="8394"/>
                </a:lnTo>
                <a:lnTo>
                  <a:pt x="14546" y="3756"/>
                </a:lnTo>
                <a:lnTo>
                  <a:pt x="14546" y="17844"/>
                </a:lnTo>
                <a:lnTo>
                  <a:pt x="10101" y="13206"/>
                </a:lnTo>
                <a:lnTo>
                  <a:pt x="5647" y="13206"/>
                </a:lnTo>
                <a:close/>
              </a:path>
              <a:path fill="darken" w="25382" h="21600">
                <a:moveTo>
                  <a:pt x="16209" y="10800"/>
                </a:moveTo>
                <a:lnTo>
                  <a:pt x="19735" y="10800"/>
                </a:lnTo>
              </a:path>
              <a:path fill="darken" w="25382" h="21600">
                <a:moveTo>
                  <a:pt x="16209" y="8394"/>
                </a:moveTo>
                <a:lnTo>
                  <a:pt x="19735" y="5611"/>
                </a:lnTo>
              </a:path>
              <a:path fill="darken" w="25382" h="21600">
                <a:moveTo>
                  <a:pt x="16209" y="13206"/>
                </a:moveTo>
                <a:lnTo>
                  <a:pt x="19735" y="15989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ea typeface="华文行楷"/>
                <a:hlinkClick r:id="rId3"/>
              </a:rPr>
              <a:t>视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ea typeface="华文行楷"/>
                <a:hlinkClick r:id="rId4"/>
              </a:rPr>
              <a:t>朗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5" name="typ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657600" y="2950200"/>
            <a:ext cx="518148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杨花落尽啦，子规鸟儿不住地在啼，听说你遭贬了，被贬到龙标去，一路上要经过辰溪、西溪、巫溪、武溪和沅溪；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让我把为你而忧愁的心托付给天上的明月吧，伴随着风一直走到那夜郎以西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2668320" cy="4724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003720" y="598320"/>
            <a:ext cx="1155960" cy="581400"/>
          </a:xfrm>
          <a:prstGeom prst="rect">
            <a:avLst/>
          </a:prstGeom>
          <a:noFill/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华文行楷"/>
              </a:rPr>
              <a:t>感悟诗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typ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2539080"/>
            <a:ext cx="762012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首句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写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兼点时令，而于景物独取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漂泊无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杨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叫着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“不如归去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子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即含有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飘零之感、离别之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内，切合当时情事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景中见情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次句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叙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“闻道”，表示惊惜。“过五溪”，见迁谪之荒远，道路之艰难。不着悲痛之语，而悲痛之意自见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后两句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抒情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人隔两地，难以相从，而月照中天，千里可共，所以要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将自己的愁心寄与明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随风飘到龙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17720" y="609480"/>
            <a:ext cx="1155960" cy="58140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品诗欣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typ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946320" y="457200"/>
            <a:ext cx="1155960" cy="58140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品诗欣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144792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者为何“寄愁心与明月”？运用了什么修辞手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97180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远在扬州、行止不定的诗人只好把一片深情托付给千里明月，向老友遥致思念之忧了。 运用了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拟人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的修辞手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这里既有对老友遭遇的深刻忧虑，也有对当时现实的愤慨不平，有恳切的思念，也有热诚的关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type.wav"/>
      </p:stSnd>
    </p:sndAc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31960" y="1700280"/>
            <a:ext cx="114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杨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55640" y="2727360"/>
            <a:ext cx="112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子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0" y="1905120"/>
            <a:ext cx="197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行楷"/>
              </a:rPr>
              <a:t>漂泊无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95640" y="2849400"/>
            <a:ext cx="19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行楷"/>
              </a:rPr>
              <a:t>不如归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876920" y="213372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隶书"/>
              </a:rPr>
              <a:t>写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3400" y="3860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明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09680" y="399240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行楷"/>
              </a:rPr>
              <a:t>陪伴友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57800" y="38862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隶书"/>
              </a:rPr>
              <a:t>抒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53341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主题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表达了朋友的关切和同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77120" y="2209680"/>
            <a:ext cx="2266920" cy="648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离愁别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29400" y="4000680"/>
            <a:ext cx="2195640" cy="647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关怀、思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2057400"/>
            <a:ext cx="152280" cy="1143000"/>
          </a:xfrm>
          <a:custGeom>
            <a:avLst/>
            <a:gdLst>
              <a:gd name="textAreaLeft" fmla="*/ 0 w 152280"/>
              <a:gd name="textAreaRight" fmla="*/ 5508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91120" y="426708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72440" y="533520"/>
            <a:ext cx="1552320" cy="64260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总   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type.wav"/>
      </p:stSnd>
    </p:sndAc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500"/>
                            </p:stCondLst>
                            <p:childTnLst>
                              <p:par>
                                <p:cTn id="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500"/>
                            </p:stCondLst>
                            <p:childTnLst>
                              <p:par>
                                <p:cTn id="9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6500"/>
                            </p:stCondLst>
                            <p:childTnLst>
                              <p:par>
                                <p:cTn id="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7000"/>
                            </p:stCondLst>
                            <p:childTnLst>
                              <p:par>
                                <p:cTn id="1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75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2T12:26:03Z</dcterms:created>
  <dc:creator/>
  <dc:description/>
  <dc:language>en-US</dc:language>
  <cp:lastModifiedBy>微软用户</cp:lastModifiedBy>
  <dcterms:modified xsi:type="dcterms:W3CDTF">2013-12-02T14:02:29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249</vt:lpwstr>
  </property>
  <property fmtid="{D5CDD505-2E9C-101B-9397-08002B2CF9AE}" pid="3" name="Version">
    <vt:r8>1</vt:r8>
  </property>
</Properties>
</file>