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87F-079D-429C-A484-A5EE6E02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0EB-F77C-41F4-A4A8-F063D71A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320-D8AC-4FB7-AA7B-293A0A2C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05C-1A4A-4720-A512-B5A37297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2B4-82CE-4119-ADAE-F622E9F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910-039F-4ED2-9D95-25E38A51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FD2-3B9D-496F-91C6-C962096C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9AB-965C-4413-922B-BCD03685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AC0-7858-425F-AD8B-493C5DC1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D78-9C40-4143-9C38-EB62C06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9C5-CC1E-4C07-B44B-96C6B55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270-F010-4A54-B6E1-CD3EBC7D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9E02-8A4C-4FC5-972C-14E8D61A2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../30.&#12298;&#38395;&#29579;&#26124;&#40836;&#24038;&#36801;&#40857;&#26631;&#36965;&#26377;&#27492;&#23492;&#12299;wma&#38899;&#39057;&#35838;&#25991;&#26391;&#35835;.wma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cashreg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900000" y="1773360"/>
            <a:ext cx="7524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闻王昌龄左迁龙标遥有此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2005472313445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39640" y="1287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诗人为什么要将愁心寄与明月呢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1042920" y="333360"/>
            <a:ext cx="30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合作学习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294000" y="695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39640" y="213372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你从哪些诗句可看出龙标这被贬之地极偏远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41440" y="348624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诗中哪一个字真实集中体现了作者的感情？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25440" y="48546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本诗借月抒发了诗人怎样的思想感情？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40464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杨花落尽子规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1989000"/>
            <a:ext cx="8494560" cy="2531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首句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写景兼点时令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于景物独取漂泊无定的杨花、含飘零之感，唤起读者对王昌龄流落远方的担忧；叫着“不如归去”的子规，有离别之恨，触发宦游异乡的人们的心头的凄情；切合当时情事，也就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融情入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0" y="0"/>
            <a:ext cx="1332000" cy="549360"/>
            <a:chOff x="0" y="0"/>
            <a:chExt cx="1332000" cy="549360"/>
          </a:xfrm>
        </p:grpSpPr>
        <p:sp>
          <p:nvSpPr>
            <p:cNvPr id="76" name="Oval 6"/>
            <p:cNvSpPr/>
            <p:nvPr/>
          </p:nvSpPr>
          <p:spPr>
            <a:xfrm>
              <a:off x="0" y="0"/>
              <a:ext cx="1332000" cy="549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7"/>
            <p:cNvSpPr/>
            <p:nvPr/>
          </p:nvSpPr>
          <p:spPr>
            <a:xfrm>
              <a:off x="0" y="0"/>
              <a:ext cx="12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赏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84360" y="47628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闻道龙标过五溪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1700280"/>
            <a:ext cx="8136000" cy="1434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因首句已于景中见情，所以次句便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黑体"/>
              </a:rPr>
              <a:t>直叙其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闻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，表示惊惜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过五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，见迁谪之荒远，道路之艰难。以悲景衬托离情，表现出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黑体"/>
              </a:rPr>
              <a:t>作者对好友旅途艰辛、贬所荒远的深切同情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0" y="0"/>
            <a:ext cx="1332000" cy="549360"/>
            <a:chOff x="0" y="0"/>
            <a:chExt cx="1332000" cy="549360"/>
          </a:xfrm>
        </p:grpSpPr>
        <p:sp>
          <p:nvSpPr>
            <p:cNvPr id="81" name="Oval 6"/>
            <p:cNvSpPr/>
            <p:nvPr/>
          </p:nvSpPr>
          <p:spPr>
            <a:xfrm>
              <a:off x="0" y="0"/>
              <a:ext cx="1332000" cy="549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0" y="0"/>
              <a:ext cx="12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赏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84360" y="404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我寄愁心与明月，随风直到夜郎西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11280" y="1628640"/>
            <a:ext cx="7632720" cy="22885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借景抒情。这两句诗所表现的意味，有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三层意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说自己心中充满了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愁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无可告诉，无人理解，只有将这种愁心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托之于明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说惟有明月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分照两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自己和朋友都能看见她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说，人隔两地，难以相从，也只有依靠她才能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将愁心寄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别无它法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0" y="0"/>
            <a:ext cx="1332000" cy="549360"/>
            <a:chOff x="0" y="0"/>
            <a:chExt cx="1332000" cy="549360"/>
          </a:xfrm>
        </p:grpSpPr>
        <p:sp>
          <p:nvSpPr>
            <p:cNvPr id="86" name="Oval 6"/>
            <p:cNvSpPr/>
            <p:nvPr/>
          </p:nvSpPr>
          <p:spPr>
            <a:xfrm>
              <a:off x="0" y="0"/>
              <a:ext cx="1332000" cy="549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>
              <a:off x="0" y="0"/>
              <a:ext cx="12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赏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820800"/>
            <a:ext cx="818208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“我寄愁心与明月，随君直到夜郎西”一句中，诗人运用了拟人、想象、情景交融等手法，请任选一个角度，结合诗句内容分析其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22936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情景交融（或以景传情、借景抒情），把明月之景与对朋友的思念之情交融在一起，表达自己对朋友的怀念和同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86064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奇特的想象，把无知无情的明月，想像成善解人意的知心人，把自己对朋友的怀念和同情带到夜郎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637000"/>
            <a:ext cx="799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拟人修辞，把明月当作使者，表达对友人的同情与关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主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借月抒怀，表达惊讶、悲愤、同情、关切、安慰 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9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tu4"/>
          <p:cNvPicPr/>
          <p:nvPr/>
        </p:nvPicPr>
        <p:blipFill>
          <a:blip r:embed="rId1"/>
          <a:stretch/>
        </p:blipFill>
        <p:spPr>
          <a:xfrm>
            <a:off x="611280" y="981000"/>
            <a:ext cx="3120840" cy="4969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427640" y="981000"/>
            <a:ext cx="4321080" cy="283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唐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人，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太白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青莲居士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陇西成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甘肃天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。他是我国文学史上伟大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浪漫主义诗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杜甫齐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称“李杜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还有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诗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之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著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李太白全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457200" y="1268280"/>
            <a:ext cx="83059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cc"/>
              </a:gs>
              <a:gs pos="100000">
                <a:srgbClr val="ffcccc"/>
              </a:gs>
            </a:gsLst>
            <a:lin ang="18900000"/>
          </a:gradFill>
          <a:ln w="190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宋体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  <a:ea typeface="黑体"/>
              </a:rPr>
              <a:t>王昌龄是盛唐诗坛上一位以写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  <a:ea typeface="黑体"/>
              </a:rPr>
              <a:t>边塞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  <a:ea typeface="黑体"/>
              </a:rPr>
              <a:t>题材为主的著名诗人。他特别擅长写七绝。天宝初年，李白在长安供奉翰林时，与他便有密切的交往。王昌龄一生遭遇坎坷，他的性格与李白的傲岸不羁有着相似之处。据说李白从天宝三年离京漫游，到扬州时，听到王昌龄被贬龙标尉这个不幸的消息，便题诗抒怀，遥寄给远方的友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2989440" y="333360"/>
            <a:ext cx="31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背景简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-1106640" y="2835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57200" y="1428840"/>
            <a:ext cx="8305920" cy="22399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cc"/>
              </a:gs>
              <a:gs pos="100000">
                <a:srgbClr val="ffccff"/>
              </a:gs>
            </a:gsLst>
            <a:lin ang="18900000"/>
          </a:gradFill>
          <a:ln w="165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  <a:ea typeface="黑体"/>
              </a:rPr>
              <a:t>龙标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今湖南黔阳，唐时甚僻。诗中指王昌龄，古人常用官职或任官之地的州县名来称呼一个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  <a:ea typeface="黑体"/>
              </a:rPr>
              <a:t>左迁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古尊右卑左，即贬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这首诗是作者为好友王昌龄贬官而作的抒发感愤、寄以慰藉的好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2989440" y="549360"/>
            <a:ext cx="31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标题解说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M_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979640" y="1125360"/>
            <a:ext cx="590544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    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/>
              </a:rPr>
              <a:t>听读课文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，注意读准字音，并用“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/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”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划分诗句的节奏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9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28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1440" y="2835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04920" y="461880"/>
            <a:ext cx="85341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闻王昌龄左迁龙标遥有此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宋体"/>
                <a:ea typeface="隶书"/>
              </a:rPr>
              <a:t>[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唐</a:t>
            </a:r>
            <a:r>
              <a:rPr b="1" lang="en-US" sz="4400" spc="-1" strike="noStrike">
                <a:solidFill>
                  <a:srgbClr val="a50021"/>
                </a:solidFill>
                <a:latin typeface="宋体"/>
                <a:ea typeface="隶书"/>
              </a:rPr>
              <a:t>]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杨花落尽子规啼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闻道龙标过五溪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我寄愁心与明月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随君直到夜郎西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2">
            <a:hlinkClick r:id="rId2"/>
          </p:cNvPr>
          <p:cNvSpPr/>
          <p:nvPr/>
        </p:nvSpPr>
        <p:spPr>
          <a:xfrm>
            <a:off x="853452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11990"/>
                </a:moveTo>
                <a:lnTo>
                  <a:pt x="8224" y="11990"/>
                </a:lnTo>
                <a:lnTo>
                  <a:pt x="12645" y="7377"/>
                </a:lnTo>
                <a:lnTo>
                  <a:pt x="12645" y="21390"/>
                </a:lnTo>
                <a:lnTo>
                  <a:pt x="8224" y="16777"/>
                </a:lnTo>
                <a:lnTo>
                  <a:pt x="3794" y="16777"/>
                </a:lnTo>
                <a:close/>
              </a:path>
              <a:path fill="darken" w="21600" h="28766">
                <a:moveTo>
                  <a:pt x="14299" y="14383"/>
                </a:moveTo>
                <a:lnTo>
                  <a:pt x="17806" y="14383"/>
                </a:lnTo>
              </a:path>
              <a:path fill="darken" w="21600" h="28766">
                <a:moveTo>
                  <a:pt x="14299" y="11990"/>
                </a:moveTo>
                <a:lnTo>
                  <a:pt x="17806" y="9222"/>
                </a:lnTo>
              </a:path>
              <a:path fill="darken" w="21600" h="28766">
                <a:moveTo>
                  <a:pt x="14299" y="16777"/>
                </a:moveTo>
                <a:lnTo>
                  <a:pt x="17806" y="19544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64"/>
          <p:cNvSpPr/>
          <p:nvPr/>
        </p:nvSpPr>
        <p:spPr>
          <a:xfrm>
            <a:off x="295200" y="476280"/>
            <a:ext cx="8534520" cy="6105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闻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王昌龄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左迁龙标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遥有此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黑体"/>
                <a:ea typeface="黑体"/>
              </a:rPr>
              <a:t>[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唐</a:t>
            </a:r>
            <a:r>
              <a:rPr b="1" lang="en-US" sz="4400" spc="-1" strike="noStrike">
                <a:solidFill>
                  <a:srgbClr val="a50021"/>
                </a:solidFill>
                <a:latin typeface="黑体"/>
                <a:ea typeface="黑体"/>
              </a:rPr>
              <a:t>]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杨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花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落尽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子规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啼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闻道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龙标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过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五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溪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我寄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愁心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与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明月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随风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直到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夜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郎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西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M_029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476360" y="184464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幼圆"/>
              </a:rPr>
              <a:t>       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幼圆"/>
              </a:rPr>
              <a:t>根据注释，理解诗歌大意，体会诗的意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35" descr="28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6"/>
          <p:cNvSpPr/>
          <p:nvPr/>
        </p:nvSpPr>
        <p:spPr>
          <a:xfrm>
            <a:off x="-1106640" y="2562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32"/>
          <p:cNvSpPr/>
          <p:nvPr/>
        </p:nvSpPr>
        <p:spPr>
          <a:xfrm>
            <a:off x="0" y="914400"/>
            <a:ext cx="9144000" cy="311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宋体"/>
                <a:ea typeface="隶书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龙标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今湖南黔阳，唐时甚僻。诗中指王昌龄，古人常用官职或任官之地的州县名来称呼一个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左迁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古尊右卑左，即贬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子规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即杜鹃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五溪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唐人所说的五溪指辰溪、酉溪、巫溪、武溪、沅溪，当时属于黔中道，在今湖南西部和贵州东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夜郎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汉代我国西南地区少数民族曾在今贵州西部、北部和云南东北部及四川南部部分地区建立过政权，称为夜郎。唐代在今贵州桐梓和湖南沅陵等地设过夜郎县。这里指湖南的夜郎（在今新晃侗族自治县境，与黔阳邻近）。李白当时在东南，所以说“随风直到夜郎西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33"/>
          <p:cNvSpPr/>
          <p:nvPr/>
        </p:nvSpPr>
        <p:spPr>
          <a:xfrm>
            <a:off x="519840" y="1252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宋体"/>
                <a:ea typeface="华文新魏"/>
              </a:rPr>
              <a:t>〖</a:t>
            </a:r>
            <a:r>
              <a:rPr b="1" lang="zh-CN" sz="3600" spc="-1" strike="noStrike">
                <a:solidFill>
                  <a:srgbClr val="339933"/>
                </a:solidFill>
                <a:latin typeface="宋体"/>
                <a:ea typeface="华文新魏"/>
              </a:rPr>
              <a:t>注释</a:t>
            </a:r>
            <a:r>
              <a:rPr b="1" lang="en-US" sz="3600" spc="-1" strike="noStrike">
                <a:solidFill>
                  <a:srgbClr val="339933"/>
                </a:solidFill>
                <a:latin typeface="宋体"/>
                <a:ea typeface="华文新魏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M_015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08360" y="1197000"/>
            <a:ext cx="46087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行楷"/>
              </a:rPr>
              <a:t>译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杨花都凋谢了，只有杜鹃在声声哀啼，我得知你被贬到龙标，跋涉五溪。 我把愁心托付给明月，与风一同伴随你奔赴夜郎之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1:39:09Z</dcterms:created>
  <dc:creator>keyanshi</dc:creator>
  <dc:description/>
  <dc:language>en-US</dc:language>
  <cp:lastModifiedBy>微软用户</cp:lastModifiedBy>
  <dcterms:modified xsi:type="dcterms:W3CDTF">2017-09-17T03:34:23Z</dcterms:modified>
  <cp:revision>94</cp:revision>
  <dc:subject/>
  <dc:title>《闻王昌龄左迁龙标遥有此寄》 </dc:title>
</cp:coreProperties>
</file>