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0924-BAF8-4103-9B1F-2270CA3E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326D-1B3D-44F1-A8D3-088AF0AC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3EC-FD8A-479F-8C7A-76553CB4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8E31-AE50-42CB-8B1F-5977E39E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709E-8733-4813-B814-626F1434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8B54-6FDF-4AD2-B2C6-1ECB217E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9C92-0519-4D25-A52D-710C2C84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EC2-AC67-4CB4-A5A3-FBE90083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02A2-A4DE-42B5-B405-F8EDA6F7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5FA6-F3CF-4E04-A220-2DA2C972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A0AD-AE42-4D71-998E-65C5742C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A49C-74F4-4A2C-8170-5AB8E7B5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ff"/>
                </a:solidFill>
                <a:latin typeface="Arial"/>
                <a:ea typeface="华文行楷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行楷"/>
              </a:rPr>
              <a:t>富安中学刘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0B8A-AE1C-44EC-9F7A-904B1A40F0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&#12298;&#27850;&#31206;&#28142;&#12299;&#21697;&#35835;&#26126;&#24847;.mp4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4337" descr="0003"/>
          <p:cNvPicPr/>
          <p:nvPr/>
        </p:nvPicPr>
        <p:blipFill>
          <a:blip r:embed="rId1"/>
          <a:stretch/>
        </p:blipFill>
        <p:spPr>
          <a:xfrm>
            <a:off x="1981080" y="2971800"/>
            <a:ext cx="5113440" cy="342576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42" name="文本框 14338"/>
          <p:cNvSpPr/>
          <p:nvPr/>
        </p:nvSpPr>
        <p:spPr>
          <a:xfrm>
            <a:off x="2363760" y="762120"/>
            <a:ext cx="383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闻王昌龄左迁龙标遥有此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李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820440"/>
            <a:ext cx="818208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“我寄愁心与明月，随君直到夜郎西”一句中，诗人运用了拟人、想象、情景交融等手法，请任选一个角度，结合诗句内容分析其作用。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拟人修辞，把明月当作使者，表达对友人的同情与关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奇特的想象，把无知无情的明月，想像成善解人意的知心人，把自己对朋友的怀念和同情带到夜郎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情景交融（或以景传情、借景抒情），把明月之景与对朋友的思念之情交融在一起，表达自己对朋友的怀念和同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杨花落尽子规啼，”除了暗示“王昌龄左迁”的时令，还有什么表达效果？结合意象“杨花”、“子规”说说你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者撷取“杨花落尽”“子规啼”的景象，更包含了飘零之感和离别之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日期占位符 3"/>
          <p:cNvSpPr/>
          <p:nvPr/>
        </p:nvSpPr>
        <p:spPr>
          <a:xfrm>
            <a:off x="1522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行楷"/>
              </a:rPr>
              <a:t>富安中学刘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对“我寄愁心与明月”这句诗从修辞和作者情感两个角度进行赏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拟人。抒发了诗人对友人被贬远行的忧虑、关心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本诗中，李白为什么要以“明月”入诗？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明月”除了有普天同照、能够把心儿带给朋友外，更能表现友谊的纯洁，表明王昌龄人格的高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日期占位符 3"/>
          <p:cNvSpPr/>
          <p:nvPr/>
        </p:nvSpPr>
        <p:spPr>
          <a:xfrm>
            <a:off x="1522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行楷"/>
              </a:rPr>
              <a:t>富安中学刘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27649"/>
          <p:cNvSpPr/>
          <p:nvPr/>
        </p:nvSpPr>
        <p:spPr>
          <a:xfrm>
            <a:off x="3849840" y="838080"/>
            <a:ext cx="2009520" cy="100836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70605"/>
                </a:solidFill>
                <a:latin typeface="Times New Roman"/>
                <a:ea typeface="华文行楷"/>
              </a:rPr>
              <a:t>夜雨寄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7650"/>
          <p:cNvSpPr/>
          <p:nvPr/>
        </p:nvSpPr>
        <p:spPr>
          <a:xfrm>
            <a:off x="4390920" y="2743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0605"/>
                </a:solidFill>
                <a:latin typeface="Times New Roman"/>
                <a:ea typeface="华文新魏"/>
              </a:rPr>
              <a:t>李商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27651" descr="SB0014"/>
          <p:cNvPicPr/>
          <p:nvPr/>
        </p:nvPicPr>
        <p:blipFill>
          <a:blip r:embed="rId1"/>
          <a:stretch/>
        </p:blipFill>
        <p:spPr>
          <a:xfrm>
            <a:off x="838080" y="2666880"/>
            <a:ext cx="2971800" cy="32529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7652" descr="SB0014"/>
          <p:cNvPicPr/>
          <p:nvPr/>
        </p:nvPicPr>
        <p:blipFill>
          <a:blip r:embed="rId2"/>
          <a:stretch/>
        </p:blipFill>
        <p:spPr>
          <a:xfrm>
            <a:off x="6019920" y="2666880"/>
            <a:ext cx="3124080" cy="33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文本框 28673"/>
          <p:cNvSpPr/>
          <p:nvPr/>
        </p:nvSpPr>
        <p:spPr>
          <a:xfrm>
            <a:off x="3352680" y="2133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9426"/>
                </a:solidFill>
                <a:latin typeface="Times New Roman"/>
                <a:ea typeface="华文行楷"/>
              </a:rPr>
              <a:t>李商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8674"/>
          <p:cNvSpPr/>
          <p:nvPr/>
        </p:nvSpPr>
        <p:spPr>
          <a:xfrm>
            <a:off x="3312000" y="1379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e059f"/>
                </a:solidFill>
                <a:latin typeface="Times New Roman"/>
                <a:ea typeface="华文隶书"/>
              </a:rPr>
              <a:t>夜雨寄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8675"/>
          <p:cNvSpPr/>
          <p:nvPr/>
        </p:nvSpPr>
        <p:spPr>
          <a:xfrm>
            <a:off x="4385880" y="28954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059f"/>
                </a:solidFill>
                <a:latin typeface="Times New Roman"/>
                <a:ea typeface="华文隶书"/>
              </a:rPr>
              <a:t>君问归期未有期，巴山夜雨涨秋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28676"/>
          <p:cNvSpPr/>
          <p:nvPr/>
        </p:nvSpPr>
        <p:spPr>
          <a:xfrm>
            <a:off x="4385880" y="36576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059f"/>
                </a:solidFill>
                <a:latin typeface="Times New Roman"/>
                <a:ea typeface="华文隶书"/>
              </a:rPr>
              <a:t>何当共剪西窗烛，却话巴山夜雨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524880" y="68580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436156"/>
              </a:solidFill>
              <a:latin typeface="Arial"/>
            </a:endParaRPr>
          </a:p>
        </p:txBody>
      </p:sp>
      <p:sp>
        <p:nvSpPr>
          <p:cNvPr id="83" name="文本框 28678"/>
          <p:cNvSpPr/>
          <p:nvPr/>
        </p:nvSpPr>
        <p:spPr>
          <a:xfrm>
            <a:off x="6158520" y="1600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b05"/>
                </a:solidFill>
                <a:latin typeface="Times New Roman"/>
                <a:ea typeface="华文隶书"/>
              </a:rPr>
              <a:t>（七言绝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28679" descr="SO01862_"/>
          <p:cNvPicPr/>
          <p:nvPr/>
        </p:nvPicPr>
        <p:blipFill>
          <a:blip r:embed="rId1"/>
          <a:stretch/>
        </p:blipFill>
        <p:spPr>
          <a:xfrm>
            <a:off x="-271440" y="0"/>
            <a:ext cx="9601200" cy="700884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28680"/>
          <p:cNvSpPr/>
          <p:nvPr/>
        </p:nvSpPr>
        <p:spPr>
          <a:xfrm>
            <a:off x="1496520" y="272880"/>
            <a:ext cx="912240" cy="825120"/>
          </a:xfrm>
          <a:prstGeom prst="rect">
            <a:avLst/>
          </a:prstGeom>
          <a:solidFill>
            <a:srgbClr val="99cc00"/>
          </a:solidFill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70605"/>
                </a:solidFill>
                <a:latin typeface="Times New Roman"/>
                <a:ea typeface="华文行楷"/>
              </a:rPr>
              <a:t>品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夜雨寄北（女音）.mp3" descr=""/>
          <p:cNvPicPr/>
          <p:nvPr/>
        </p:nvPicPr>
        <p:blipFill>
          <a:blip r:embed="rId2"/>
          <a:stretch/>
        </p:blipFill>
        <p:spPr>
          <a:xfrm>
            <a:off x="7667640" y="544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0809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35841"/>
          <p:cNvSpPr/>
          <p:nvPr/>
        </p:nvSpPr>
        <p:spPr>
          <a:xfrm>
            <a:off x="3561840" y="3049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Times New Roman"/>
              </a:rPr>
              <a:t>李商隐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5842"/>
          <p:cNvSpPr/>
          <p:nvPr/>
        </p:nvSpPr>
        <p:spPr>
          <a:xfrm>
            <a:off x="685800" y="1219320"/>
            <a:ext cx="725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李商隐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13-85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，字义山，号玉溪生，唐代诗人。曾任县尉、秘书郎等职。因受牛李党争影响，被人排挤，潦倒终身。其诗揭露和批判当时藩镇割据、宦官当权和上层统治集团的腐朽糜烂。所作“咏史”诗多托古以斥时政，“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无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诗也常有所寄寓。擅长律、绝，富于文采构思精密，情致婉曲，具有独特风格。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杜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合称为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李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。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李义山诗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传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动作按钮: 前进或下一项 35843"/>
          <p:cNvSpPr/>
          <p:nvPr/>
        </p:nvSpPr>
        <p:spPr>
          <a:xfrm>
            <a:off x="830592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3794"/>
                </a:moveTo>
                <a:lnTo>
                  <a:pt x="20203" y="10800"/>
                </a:lnTo>
                <a:lnTo>
                  <a:pt x="6190" y="17806"/>
                </a:ln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29697"/>
          <p:cNvSpPr/>
          <p:nvPr/>
        </p:nvSpPr>
        <p:spPr>
          <a:xfrm>
            <a:off x="2834640" y="155736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君问归期未有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29698"/>
          <p:cNvSpPr/>
          <p:nvPr/>
        </p:nvSpPr>
        <p:spPr>
          <a:xfrm>
            <a:off x="1547640" y="2637000"/>
            <a:ext cx="6934320" cy="72756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93"/>
                </a:solidFill>
                <a:latin typeface="Times New Roman"/>
                <a:ea typeface="楷体_GB2312"/>
              </a:rPr>
              <a:t>　　一句之中两个“期”字，先停顿后转折，一问一答，一扬一抑，思念友人、欲归不得的愁苦跃然纸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29699"/>
          <p:cNvSpPr/>
          <p:nvPr/>
        </p:nvSpPr>
        <p:spPr>
          <a:xfrm>
            <a:off x="836280" y="704880"/>
            <a:ext cx="1155960" cy="58140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0605"/>
                </a:solidFill>
                <a:latin typeface="Times New Roman"/>
                <a:ea typeface="华文行楷"/>
              </a:rPr>
              <a:t>品读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30721"/>
          <p:cNvSpPr/>
          <p:nvPr/>
        </p:nvSpPr>
        <p:spPr>
          <a:xfrm>
            <a:off x="3172320" y="1538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巴山夜雨涨秋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0722"/>
          <p:cNvSpPr/>
          <p:nvPr/>
        </p:nvSpPr>
        <p:spPr>
          <a:xfrm>
            <a:off x="1476360" y="2451240"/>
            <a:ext cx="6340320" cy="58140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写眼前景象，使已跃然纸上的愁苦交织于巴山的夜雨，融入涨满的秋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0723"/>
          <p:cNvSpPr/>
          <p:nvPr/>
        </p:nvSpPr>
        <p:spPr>
          <a:xfrm>
            <a:off x="1403280" y="4390920"/>
            <a:ext cx="6477120" cy="106884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“涨”字，既写出巴山水注秋池的夜雨景象，又表现诗人愁思之绵绵深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30724"/>
          <p:cNvSpPr/>
          <p:nvPr/>
        </p:nvSpPr>
        <p:spPr>
          <a:xfrm>
            <a:off x="836280" y="704880"/>
            <a:ext cx="1155960" cy="58140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0605"/>
                </a:solidFill>
                <a:latin typeface="Times New Roman"/>
                <a:ea typeface="华文行楷"/>
              </a:rPr>
              <a:t>品读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31745"/>
          <p:cNvSpPr/>
          <p:nvPr/>
        </p:nvSpPr>
        <p:spPr>
          <a:xfrm>
            <a:off x="2989800" y="14097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何当共剪西窗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1746"/>
          <p:cNvSpPr/>
          <p:nvPr/>
        </p:nvSpPr>
        <p:spPr>
          <a:xfrm>
            <a:off x="4530240" y="2268360"/>
            <a:ext cx="528120" cy="116928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何当：什么时候。剪烛：形容深夜秉烛长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此句设想日后重逢的时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31747"/>
          <p:cNvSpPr/>
          <p:nvPr/>
        </p:nvSpPr>
        <p:spPr>
          <a:xfrm>
            <a:off x="2931120" y="36781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却话巴山夜雨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31748"/>
          <p:cNvSpPr/>
          <p:nvPr/>
        </p:nvSpPr>
        <p:spPr>
          <a:xfrm>
            <a:off x="1233360" y="4648320"/>
            <a:ext cx="7010640" cy="106884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　　向“君”追话今夜“我”思“君”而不得归的情景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巴山夜雨”重出，令人的思绪在</a:t>
            </a:r>
            <a:r>
              <a:rPr b="0" lang="zh-CN" sz="3200" spc="-1" strike="noStrike">
                <a:solidFill>
                  <a:srgbClr val="fd0b05"/>
                </a:solidFill>
                <a:latin typeface="Times New Roman"/>
              </a:rPr>
              <a:t>现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3200" spc="-1" strike="noStrike">
                <a:solidFill>
                  <a:srgbClr val="fd0b05"/>
                </a:solidFill>
                <a:latin typeface="Times New Roman"/>
              </a:rPr>
              <a:t>想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徘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1749"/>
          <p:cNvSpPr/>
          <p:nvPr/>
        </p:nvSpPr>
        <p:spPr>
          <a:xfrm>
            <a:off x="836280" y="704880"/>
            <a:ext cx="1155960" cy="58140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0605"/>
                </a:solidFill>
                <a:latin typeface="Times New Roman"/>
                <a:ea typeface="华文行楷"/>
              </a:rPr>
              <a:t>品读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25601" descr="tu4"/>
          <p:cNvPicPr/>
          <p:nvPr/>
        </p:nvPicPr>
        <p:blipFill>
          <a:blip r:embed="rId1"/>
          <a:stretch/>
        </p:blipFill>
        <p:spPr>
          <a:xfrm>
            <a:off x="539640" y="1052640"/>
            <a:ext cx="3121200" cy="439236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5602"/>
          <p:cNvSpPr/>
          <p:nvPr/>
        </p:nvSpPr>
        <p:spPr>
          <a:xfrm>
            <a:off x="3924360" y="476280"/>
            <a:ext cx="4824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代诗人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太白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青莲居士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陇西成纪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甘肃天水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。他是我国文学史上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伟大的浪漫主义诗人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杜甫齐名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世称“李杜”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有“诗仙”之称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著有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太白全集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32769"/>
          <p:cNvSpPr/>
          <p:nvPr/>
        </p:nvSpPr>
        <p:spPr>
          <a:xfrm>
            <a:off x="4110480" y="533520"/>
            <a:ext cx="729360" cy="64260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0605"/>
                </a:solidFill>
                <a:latin typeface="Times New Roman"/>
                <a:ea typeface="隶书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动作按钮: 结束 32770"/>
          <p:cNvSpPr/>
          <p:nvPr/>
        </p:nvSpPr>
        <p:spPr>
          <a:xfrm>
            <a:off x="7628400" y="5446080"/>
            <a:ext cx="557640" cy="772920"/>
          </a:xfrm>
          <a:custGeom>
            <a:avLst/>
            <a:gdLst>
              <a:gd name="textAreaLeft" fmla="*/ 36000 w 557640"/>
              <a:gd name="textAreaRight" fmla="*/ 521640 w 557640"/>
              <a:gd name="textAreaTop" fmla="*/ 36000 h 772920"/>
              <a:gd name="textAreaBottom" fmla="*/ 736920 h 772920"/>
            </a:gdLst>
            <a:ahLst/>
            <a:rect l="textAreaLeft" t="textAreaTop" r="textAreaRight" b="textAreaBottom"/>
            <a:pathLst>
              <a:path w="21600" h="29933">
                <a:moveTo>
                  <a:pt x="0" y="0"/>
                </a:moveTo>
                <a:lnTo>
                  <a:pt x="21600" y="0"/>
                </a:lnTo>
                <a:lnTo>
                  <a:pt x="21600" y="29933"/>
                </a:lnTo>
                <a:lnTo>
                  <a:pt x="0" y="29933"/>
                </a:lnTo>
                <a:close/>
              </a:path>
              <a:path fill="lightenLess" w="21600" h="299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933">
                <a:moveTo>
                  <a:pt x="21600" y="0"/>
                </a:moveTo>
                <a:lnTo>
                  <a:pt x="21600" y="29933"/>
                </a:lnTo>
                <a:lnTo>
                  <a:pt x="20200" y="28533"/>
                </a:lnTo>
                <a:lnTo>
                  <a:pt x="20200" y="1400"/>
                </a:lnTo>
                <a:close/>
              </a:path>
              <a:path fill="darkenLess" w="21600" h="29933">
                <a:moveTo>
                  <a:pt x="21600" y="29933"/>
                </a:moveTo>
                <a:lnTo>
                  <a:pt x="0" y="29933"/>
                </a:lnTo>
                <a:lnTo>
                  <a:pt x="1400" y="28533"/>
                </a:lnTo>
                <a:lnTo>
                  <a:pt x="20200" y="28533"/>
                </a:lnTo>
                <a:close/>
              </a:path>
              <a:path fill="lighten" w="21600" h="29933">
                <a:moveTo>
                  <a:pt x="0" y="299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8533"/>
                </a:lnTo>
                <a:close/>
              </a:path>
              <a:path fill="darken" w="21600" h="29933">
                <a:moveTo>
                  <a:pt x="14299" y="14967"/>
                </a:moveTo>
                <a:lnTo>
                  <a:pt x="3794" y="21973"/>
                </a:lnTo>
                <a:lnTo>
                  <a:pt x="3794" y="7960"/>
                </a:lnTo>
                <a:close/>
              </a:path>
              <a:path fill="darken" w="21600" h="29933">
                <a:moveTo>
                  <a:pt x="16144" y="7960"/>
                </a:moveTo>
                <a:lnTo>
                  <a:pt x="16144" y="21973"/>
                </a:lnTo>
                <a:lnTo>
                  <a:pt x="17806" y="21973"/>
                </a:lnTo>
                <a:lnTo>
                  <a:pt x="17806" y="7960"/>
                </a:lnTo>
                <a:close/>
              </a:path>
            </a:pathLst>
          </a:cu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b05"/>
                </a:solidFill>
                <a:latin typeface="Times New Roman"/>
                <a:ea typeface="华文行楷"/>
              </a:rPr>
              <a:t>诗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b05"/>
                </a:solidFill>
                <a:latin typeface="Times New Roman"/>
                <a:ea typeface="华文行楷"/>
              </a:rPr>
              <a:t>欣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32771"/>
          <p:cNvSpPr/>
          <p:nvPr/>
        </p:nvSpPr>
        <p:spPr>
          <a:xfrm>
            <a:off x="1332000" y="1916280"/>
            <a:ext cx="6553080" cy="126324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0605"/>
                </a:solidFill>
                <a:latin typeface="Times New Roman"/>
                <a:ea typeface="楷体_GB2312"/>
              </a:rPr>
              <a:t>　　这首诗通过归期的问询和回答，抒发诗人羁旅他乡对友人思念的深情。诗中“期”字和“巴山夜雨”重复出现，造成了回环往复、缠绵曲折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这首诗写了哪两种不同的时间和空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时间：分离的现在和会面的将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空间：诗人独处的巴山与夫妻团聚的北方（长安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1522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行楷"/>
              </a:rPr>
              <a:t>富安中学刘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人为什么重复“巴山夜雨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突出思亲念归，寂寞凄凉的感情；将现在和将来，自己和妻子，巴蜀和北方（长安）     联结起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两次写“巴山夜雨”，它们的内涵有什么不同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秋山夜雨，总是唤起离人的愁思，诗人用这个寄人离思的景物来表了他对妻子的无限思念。这首诗既描写了今日身处巴山倾听秋雨时的寂寥之苦，又想象了来日聚首之时的幸福欢乐。此时的痛苦，与将来的喜悦交织一起，时空变换。“巴山夜雨”首末重复出现，令人回肠荡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36865" descr="7505_110681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36866"/>
          <p:cNvSpPr/>
          <p:nvPr/>
        </p:nvSpPr>
        <p:spPr>
          <a:xfrm>
            <a:off x="3352680" y="3581280"/>
            <a:ext cx="32004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泊秦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杜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38913" descr="dumushi1"/>
          <p:cNvPicPr/>
          <p:nvPr/>
        </p:nvPicPr>
        <p:blipFill>
          <a:blip r:embed="rId1"/>
          <a:stretch/>
        </p:blipFill>
        <p:spPr>
          <a:xfrm>
            <a:off x="5364000" y="189000"/>
            <a:ext cx="3600720" cy="11523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15" name="文本框 38914"/>
          <p:cNvSpPr/>
          <p:nvPr/>
        </p:nvSpPr>
        <p:spPr>
          <a:xfrm>
            <a:off x="1697040" y="549360"/>
            <a:ext cx="1155960" cy="5814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作者作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8915"/>
          <p:cNvSpPr/>
          <p:nvPr/>
        </p:nvSpPr>
        <p:spPr>
          <a:xfrm>
            <a:off x="1384200" y="242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38916"/>
          <p:cNvSpPr/>
          <p:nvPr/>
        </p:nvSpPr>
        <p:spPr>
          <a:xfrm>
            <a:off x="762120" y="1447920"/>
            <a:ext cx="8076960" cy="10688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杜牧，唐代文学家，字牧之。以济世之才自负。写景抒情的小诗，多清俊生动。其诗在晚唐成就颇高，后人称杜甫为“老杜”，称杜牧为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。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樊川文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泊秦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杜牧游金陵，夜泊秦淮时所作。诗人泊舟于此，眼见灯红酒绿，耳闻淫歌艳曲，触景生情，借古讽今，写下了这篇的七绝，抨击那些沉湎酒色、不理朝政的上层人物，表达了诗人对国家命运的关怀和忧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40961" descr="dumushi1"/>
          <p:cNvPicPr/>
          <p:nvPr/>
        </p:nvPicPr>
        <p:blipFill>
          <a:blip r:embed="rId1"/>
          <a:stretch/>
        </p:blipFill>
        <p:spPr>
          <a:xfrm>
            <a:off x="647640" y="1679400"/>
            <a:ext cx="7812000" cy="35499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19" name="动作按钮: 声音 40962">
            <a:hlinkClick r:id="rId2"/>
          </p:cNvPr>
          <p:cNvSpPr/>
          <p:nvPr/>
        </p:nvSpPr>
        <p:spPr>
          <a:xfrm>
            <a:off x="7596360" y="5877000"/>
            <a:ext cx="826920" cy="755640"/>
          </a:xfrm>
          <a:custGeom>
            <a:avLst/>
            <a:gdLst>
              <a:gd name="textAreaLeft" fmla="*/ 48960 w 826920"/>
              <a:gd name="textAreaRight" fmla="*/ 777960 w 82692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3637" h="21600">
                <a:moveTo>
                  <a:pt x="0" y="0"/>
                </a:moveTo>
                <a:lnTo>
                  <a:pt x="23637" y="0"/>
                </a:lnTo>
                <a:lnTo>
                  <a:pt x="23637" y="21600"/>
                </a:lnTo>
                <a:lnTo>
                  <a:pt x="0" y="21600"/>
                </a:lnTo>
                <a:close/>
              </a:path>
              <a:path fill="lightenLess" w="23637" h="21600">
                <a:moveTo>
                  <a:pt x="0" y="0"/>
                </a:moveTo>
                <a:lnTo>
                  <a:pt x="23637" y="0"/>
                </a:lnTo>
                <a:lnTo>
                  <a:pt x="22237" y="1400"/>
                </a:lnTo>
                <a:lnTo>
                  <a:pt x="1400" y="1400"/>
                </a:lnTo>
                <a:close/>
              </a:path>
              <a:path fill="darken" w="23637" h="21600">
                <a:moveTo>
                  <a:pt x="23637" y="0"/>
                </a:moveTo>
                <a:lnTo>
                  <a:pt x="23637" y="21600"/>
                </a:lnTo>
                <a:lnTo>
                  <a:pt x="22237" y="20200"/>
                </a:lnTo>
                <a:lnTo>
                  <a:pt x="22237" y="1400"/>
                </a:lnTo>
                <a:close/>
              </a:path>
              <a:path fill="darkenLess" w="23637" h="21600">
                <a:moveTo>
                  <a:pt x="23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7" y="20200"/>
                </a:lnTo>
                <a:close/>
              </a:path>
              <a:path fill="lighten" w="23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7" h="21600">
                <a:moveTo>
                  <a:pt x="4812" y="8406"/>
                </a:moveTo>
                <a:lnTo>
                  <a:pt x="9242" y="8406"/>
                </a:lnTo>
                <a:lnTo>
                  <a:pt x="13663" y="3794"/>
                </a:lnTo>
                <a:lnTo>
                  <a:pt x="13663" y="17806"/>
                </a:lnTo>
                <a:lnTo>
                  <a:pt x="9242" y="13194"/>
                </a:lnTo>
                <a:lnTo>
                  <a:pt x="4812" y="13194"/>
                </a:lnTo>
                <a:close/>
              </a:path>
              <a:path fill="darken" w="23637" h="21600">
                <a:moveTo>
                  <a:pt x="15317" y="10800"/>
                </a:moveTo>
                <a:lnTo>
                  <a:pt x="18825" y="10800"/>
                </a:lnTo>
              </a:path>
              <a:path fill="darken" w="23637" h="21600">
                <a:moveTo>
                  <a:pt x="15317" y="8406"/>
                </a:moveTo>
                <a:lnTo>
                  <a:pt x="18825" y="5639"/>
                </a:lnTo>
              </a:path>
              <a:path fill="darken" w="23637" h="21600">
                <a:moveTo>
                  <a:pt x="15317" y="13194"/>
                </a:moveTo>
                <a:lnTo>
                  <a:pt x="18825" y="15961"/>
                </a:ln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品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明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40963"/>
          <p:cNvSpPr/>
          <p:nvPr/>
        </p:nvSpPr>
        <p:spPr>
          <a:xfrm>
            <a:off x="1623960" y="396720"/>
            <a:ext cx="1155960" cy="5814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品读明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43009"/>
          <p:cNvSpPr/>
          <p:nvPr/>
        </p:nvSpPr>
        <p:spPr>
          <a:xfrm>
            <a:off x="946800" y="1643040"/>
            <a:ext cx="2314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烟笼寒水月笼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夜泊秦淮近酒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43010"/>
          <p:cNvSpPr/>
          <p:nvPr/>
        </p:nvSpPr>
        <p:spPr>
          <a:xfrm>
            <a:off x="4419720" y="162576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写景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夜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3011"/>
          <p:cNvSpPr/>
          <p:nvPr/>
        </p:nvSpPr>
        <p:spPr>
          <a:xfrm>
            <a:off x="4572000" y="3376440"/>
            <a:ext cx="3960720" cy="13129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交代时间、地点“近酒家”引出下文“商女”的出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3012"/>
          <p:cNvSpPr/>
          <p:nvPr/>
        </p:nvSpPr>
        <p:spPr>
          <a:xfrm>
            <a:off x="1552320" y="333360"/>
            <a:ext cx="1155960" cy="5814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诗歌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995640" y="4437000"/>
            <a:ext cx="432000" cy="360"/>
            <a:chOff x="3995640" y="4437000"/>
            <a:chExt cx="432000" cy="360"/>
          </a:xfrm>
        </p:grpSpPr>
        <p:sp>
          <p:nvSpPr>
            <p:cNvPr id="126" name="直接连接符 43013"/>
            <p:cNvSpPr/>
            <p:nvPr/>
          </p:nvSpPr>
          <p:spPr>
            <a:xfrm>
              <a:off x="3995640" y="4437000"/>
              <a:ext cx="43200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3995640" y="4437000"/>
              <a:ext cx="4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45057"/>
          <p:cNvSpPr/>
          <p:nvPr/>
        </p:nvSpPr>
        <p:spPr>
          <a:xfrm>
            <a:off x="826920" y="2276640"/>
            <a:ext cx="7632720" cy="1068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写迷蒙的月色和轻烟笼罩着寒水和岸沙。这是秦淮河美丽的夜景，着墨不多而风情毕现，意境非常淡雅。连用两个“笼”字，用字妥帖而有韵味。烟、寒水、月、沙，都是最能反映秦淮河风貌的特有景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45058"/>
          <p:cNvSpPr/>
          <p:nvPr/>
        </p:nvSpPr>
        <p:spPr>
          <a:xfrm>
            <a:off x="4098600" y="762120"/>
            <a:ext cx="1155960" cy="5814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诗歌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47105"/>
          <p:cNvSpPr/>
          <p:nvPr/>
        </p:nvSpPr>
        <p:spPr>
          <a:xfrm>
            <a:off x="517680" y="2673360"/>
            <a:ext cx="4414680" cy="16304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商女不知亡国恨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隔江犹唱后庭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右大括号 47106"/>
          <p:cNvSpPr/>
          <p:nvPr/>
        </p:nvSpPr>
        <p:spPr>
          <a:xfrm>
            <a:off x="5364000" y="2817720"/>
            <a:ext cx="152640" cy="1295640"/>
          </a:xfrm>
          <a:custGeom>
            <a:avLst/>
            <a:gdLst>
              <a:gd name="textAreaLeft" fmla="*/ 0 w 152640"/>
              <a:gd name="textAreaRight" fmla="*/ 55080 w 1526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7107"/>
          <p:cNvSpPr/>
          <p:nvPr/>
        </p:nvSpPr>
        <p:spPr>
          <a:xfrm>
            <a:off x="5651640" y="2852640"/>
            <a:ext cx="2808000" cy="11912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抒发了作者的忧愤之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7108"/>
          <p:cNvSpPr/>
          <p:nvPr/>
        </p:nvSpPr>
        <p:spPr>
          <a:xfrm>
            <a:off x="3717720" y="762120"/>
            <a:ext cx="1155960" cy="5814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诗歌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21507"/>
          <p:cNvSpPr/>
          <p:nvPr/>
        </p:nvSpPr>
        <p:spPr>
          <a:xfrm>
            <a:off x="609480" y="1371600"/>
            <a:ext cx="8077320" cy="39333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闻：听到，听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左迁：古人尊右卑左，左迁即贬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龙标：今黔阳，贵州西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：唐代伟大浪漫主义诗人，字太白，号“青莲居士”。人称“诗仙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昌龄：唐代著名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边塞诗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诗家天子，七绝圣手。因“不护细行”被贬龙标（黔阳）尉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1509"/>
          <p:cNvSpPr/>
          <p:nvPr/>
        </p:nvSpPr>
        <p:spPr>
          <a:xfrm>
            <a:off x="2666880" y="457200"/>
            <a:ext cx="3733920" cy="5814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题解与作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文本框 49153"/>
          <p:cNvSpPr/>
          <p:nvPr/>
        </p:nvSpPr>
        <p:spPr>
          <a:xfrm>
            <a:off x="990720" y="1371600"/>
            <a:ext cx="7467480" cy="1068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人在此用了曲笔。试想一下，歌女所唱，还不是为取悦寻欢作乐的达官贵人吗？可见“不知亡国恨”的是那些听歌的家伙。“不知”二字，凸现出诗人的感慨之深；一个“犹”字，凸现出诗人的忧愤之切。在杜牧看来，晚唐政局已经危机四伏，达官贵人不以国事为重，仍然过着纸醉金迷的生活，今日听亡国之音取乐，明日有可能自己就要上演亡国的悲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9154"/>
          <p:cNvSpPr/>
          <p:nvPr/>
        </p:nvSpPr>
        <p:spPr>
          <a:xfrm>
            <a:off x="3946320" y="457200"/>
            <a:ext cx="1155960" cy="5814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诗歌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51201" descr="57"/>
          <p:cNvPicPr/>
          <p:nvPr/>
        </p:nvPicPr>
        <p:blipFill>
          <a:blip r:embed="rId1"/>
          <a:stretch/>
        </p:blipFill>
        <p:spPr>
          <a:xfrm>
            <a:off x="4716360" y="3500280"/>
            <a:ext cx="4140360" cy="31053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37" name="文本框 51202"/>
          <p:cNvSpPr/>
          <p:nvPr/>
        </p:nvSpPr>
        <p:spPr>
          <a:xfrm>
            <a:off x="826920" y="692280"/>
            <a:ext cx="6945480" cy="14770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本诗主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作者借古讽今，抨击了那些沉迷酒色、不理朝政的上层人物，表达了诗人对国家命运的关怀和忧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51204"/>
          <p:cNvSpPr/>
          <p:nvPr/>
        </p:nvSpPr>
        <p:spPr>
          <a:xfrm>
            <a:off x="1741320" y="4952880"/>
            <a:ext cx="1400040" cy="5814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背诵与默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1"/>
          <p:cNvSpPr/>
          <p:nvPr/>
        </p:nvSpPr>
        <p:spPr>
          <a:xfrm>
            <a:off x="890640" y="952560"/>
            <a:ext cx="775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简述最后一句的《后庭花》的相关典故，并分析作者指责商女的用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"/>
          <p:cNvSpPr/>
          <p:nvPr/>
        </p:nvSpPr>
        <p:spPr>
          <a:xfrm>
            <a:off x="1144440" y="2513160"/>
            <a:ext cx="66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南朝陈后主在位的时候，大建宫室，生活奢侈，创制了《玉树后庭花》等歌曲寻欢作乐。作者指责商女实际上是一种曲笔，他真正想指责的是那些听歌女唱歌的人。只知道享乐，不关心国家，没有忧患意识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1"/>
          <p:cNvSpPr/>
          <p:nvPr/>
        </p:nvSpPr>
        <p:spPr>
          <a:xfrm>
            <a:off x="977760" y="896760"/>
            <a:ext cx="70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的首句描绘的画面有怎样的特点，请分析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"/>
          <p:cNvSpPr/>
          <p:nvPr/>
        </p:nvSpPr>
        <p:spPr>
          <a:xfrm>
            <a:off x="1413000" y="243828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轻轻的雾霭，淡淡的月光，笼罩着透着寒气的河水，笼罩着两岸沉寂的沙滩。一个“寒”字不但让人想到时值寒冷的时节，而且还写出了在人的心头掠过的一丝寒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1"/>
          <p:cNvSpPr/>
          <p:nvPr/>
        </p:nvSpPr>
        <p:spPr>
          <a:xfrm>
            <a:off x="839880" y="1168560"/>
            <a:ext cx="69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中的弦外之音是什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结合诗句，作简要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"/>
          <p:cNvSpPr/>
          <p:nvPr/>
        </p:nvSpPr>
        <p:spPr>
          <a:xfrm>
            <a:off x="971640" y="2741760"/>
            <a:ext cx="683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者借商女唱亡国之音的《后庭花》，表面是讽刺“商女”，实际是讽刺那些不顾国家艰难，只顾自己享乐，醉死梦生的统治者，表达作者对国家命运的关切和忧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53249" descr="cea18a1b41bdf2dbae51337f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6" name="矩形 53250"/>
          <p:cNvSpPr/>
          <p:nvPr/>
        </p:nvSpPr>
        <p:spPr>
          <a:xfrm>
            <a:off x="2057400" y="-36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Arial"/>
              </a:rPr>
              <a:t>过松源晨炊漆公店</a:t>
            </a:r>
            <a:r>
              <a:rPr b="1" i="1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3251"/>
          <p:cNvSpPr/>
          <p:nvPr/>
        </p:nvSpPr>
        <p:spPr>
          <a:xfrm>
            <a:off x="4210200" y="654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杨万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54274"/>
          <p:cNvSpPr/>
          <p:nvPr/>
        </p:nvSpPr>
        <p:spPr>
          <a:xfrm>
            <a:off x="3799440" y="-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诗人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4275"/>
          <p:cNvSpPr/>
          <p:nvPr/>
        </p:nvSpPr>
        <p:spPr>
          <a:xfrm>
            <a:off x="304920" y="231804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杨万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27-120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字廷秀，自号诚斋野客，吉水南溪（今吉水县黄桥乡湴塘村）人。南宋杰出的诗人，与陆游、范成大、尤袤齐名，被后人推为“南宋四大家”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杨万里是我国古代闻名诗人。他的诗歌创作，走过的是一条由广学博取、转益多师而至面向现实、师法自然的道路。自成一家，形成了独具特色的诗风。创造了他新、奇、活、快、风趣、幽默的“诚斋体”，在中国诗歌史上独树一帜，建立了自己的诗派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杨万里晚年忤宰相韩侂胄，家居吉水十五年，忧愤而死，享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，赐谥文节，追赠光禄大夫。平生著作甚丰，相传有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余首，现存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2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余首。今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诚斋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诗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卷，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杨文节诗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杨文节易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杨文节文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著作传世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59393" descr="mountain_wallpaper_AP29061"/>
          <p:cNvPicPr/>
          <p:nvPr/>
        </p:nvPicPr>
        <p:blipFill>
          <a:blip r:embed="rId1"/>
          <a:stretch/>
        </p:blipFill>
        <p:spPr>
          <a:xfrm>
            <a:off x="5410080" y="3962520"/>
            <a:ext cx="3505320" cy="262872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151" name="矩形 59394"/>
          <p:cNvSpPr/>
          <p:nvPr/>
        </p:nvSpPr>
        <p:spPr>
          <a:xfrm>
            <a:off x="990720" y="455760"/>
            <a:ext cx="7350120" cy="338580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过松源晨炊漆公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 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杨万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莫言下岭便无难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赚得行人空喜欢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正入万山圈子里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一山放过一山拦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《过松源晨炊漆公店》初中音频朗读（杨万里）.mp3" descr=""/>
          <p:cNvPicPr/>
          <p:nvPr/>
        </p:nvPicPr>
        <p:blipFill>
          <a:blip r:embed="rId2"/>
          <a:stretch/>
        </p:blipFill>
        <p:spPr>
          <a:xfrm>
            <a:off x="5335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619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16720" y="-4774680"/>
            <a:ext cx="298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360" y="170028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要说从山岭上下来就没有困难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句话骗得游山的人白白的欢喜一场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你进入到万重山的圈子里以后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座山让你经过另一座山马上将你阻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56323"/>
          <p:cNvSpPr txBox="1"/>
          <p:nvPr/>
        </p:nvSpPr>
        <p:spPr>
          <a:xfrm>
            <a:off x="3533760" y="609480"/>
            <a:ext cx="180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译文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459280" y="274320"/>
            <a:ext cx="2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57347"/>
          <p:cNvSpPr txBox="1"/>
          <p:nvPr/>
        </p:nvSpPr>
        <p:spPr>
          <a:xfrm>
            <a:off x="3581280" y="228600"/>
            <a:ext cx="15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赏析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8" name="文本框 57349"/>
          <p:cNvSpPr/>
          <p:nvPr/>
        </p:nvSpPr>
        <p:spPr>
          <a:xfrm>
            <a:off x="304920" y="91764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的前半部为议论，后半部为描摹，二者构成先果后因的内在联系，均渗透着诗人浓郁的思想感情，创造了一种深邃的意境，正是通过这种深邃的意境，寄寓着深刻的哲理：人生在世岂无难，人生就是不断的与“难”作斗争，没有“难”的生活，在现实社会中是不存在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本诗朴实平易，生动形象，表现力强，一个“空”字突出表现了“行人”被“赚”后的失落神态。 “放”、“拦”等词语的运用，赋予“万山”以人的思想、人的性格，使万山活了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0244" descr="113B"/>
          <p:cNvPicPr/>
          <p:nvPr/>
        </p:nvPicPr>
        <p:blipFill>
          <a:blip r:embed="rId1"/>
          <a:stretch/>
        </p:blipFill>
        <p:spPr>
          <a:xfrm>
            <a:off x="476280" y="1447920"/>
            <a:ext cx="3486240" cy="441936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48" name="文本框 10247"/>
          <p:cNvSpPr/>
          <p:nvPr/>
        </p:nvSpPr>
        <p:spPr>
          <a:xfrm>
            <a:off x="4720320" y="533520"/>
            <a:ext cx="3106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闻王昌龄左迁龙标遥有此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杨花落尽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啼，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闻道龙标过五溪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寄愁心与明月，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随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直到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0248"/>
          <p:cNvSpPr/>
          <p:nvPr/>
        </p:nvSpPr>
        <p:spPr>
          <a:xfrm>
            <a:off x="1050840" y="369720"/>
            <a:ext cx="1155960" cy="5814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读诗品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文本框 61442"/>
          <p:cNvSpPr/>
          <p:nvPr/>
        </p:nvSpPr>
        <p:spPr>
          <a:xfrm>
            <a:off x="457200" y="1066680"/>
            <a:ext cx="80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人借助景物描写和生动形象的比喻，通过写山区行路的感受，说明一个具有普遍意义的深刻道理：人们无论做什么事，都要对前进道路上的困难作好充分的估计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要被一时一事的成功所陶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文本框 1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04520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1"/>
          <p:cNvSpPr/>
          <p:nvPr/>
        </p:nvSpPr>
        <p:spPr>
          <a:xfrm>
            <a:off x="930240" y="909720"/>
            <a:ext cx="731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赚得行人错喜欢”一句，有的版本作“赚得行人空喜欢”，“错”与“空”哪一个字更恰切？请说明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空”比“错”恰切。“错”字只表明“喜欢”是一种错误；而“空”字不仅包含了这一层意思，还突出地表现了“行人”被“赚”后空落落一片惘然的失落神态，形象感更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关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中通过环境的描写表现了人的心情与自然景色和谐相融的句子是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莫言下岭便无难，赚得行人空喜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个字突出表现了“行人”被“赚”后的失落神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26627" descr="图片2"/>
          <p:cNvPicPr/>
          <p:nvPr/>
        </p:nvPicPr>
        <p:blipFill>
          <a:blip r:embed="rId1"/>
          <a:stretch/>
        </p:blipFill>
        <p:spPr>
          <a:xfrm>
            <a:off x="0" y="0"/>
            <a:ext cx="97567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26628"/>
          <p:cNvSpPr/>
          <p:nvPr/>
        </p:nvSpPr>
        <p:spPr>
          <a:xfrm>
            <a:off x="1295280" y="1905120"/>
            <a:ext cx="7667640" cy="416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Arial"/>
                <a:ea typeface="华文行楷"/>
              </a:rPr>
              <a:t>杨花落尽了子规鸟哀啼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Arial"/>
                <a:ea typeface="华文行楷"/>
              </a:rPr>
              <a:t>听说去龙标还要过五溪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Arial"/>
                <a:ea typeface="华文行楷"/>
              </a:rPr>
              <a:t>我把愁心托明月寄给你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Arial"/>
                <a:ea typeface="华文行楷"/>
              </a:rPr>
              <a:t>随风陪伴你直到夜郎西</a:t>
            </a:r>
            <a:r>
              <a:rPr b="0" lang="zh-CN" sz="4800" spc="-1" strike="noStrike">
                <a:solidFill>
                  <a:srgbClr val="ff6699"/>
                </a:solidFill>
                <a:latin typeface="Arial"/>
                <a:ea typeface="华文行楷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6629"/>
          <p:cNvSpPr/>
          <p:nvPr/>
        </p:nvSpPr>
        <p:spPr>
          <a:xfrm>
            <a:off x="990720" y="380880"/>
            <a:ext cx="792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听说王昌龄被贬到龙标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我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在这遥远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地方写下这首诗寄给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1267"/>
          <p:cNvSpPr/>
          <p:nvPr/>
        </p:nvSpPr>
        <p:spPr>
          <a:xfrm>
            <a:off x="3657600" y="2536200"/>
            <a:ext cx="5181480" cy="19501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杨花落尽啦，子规鸟不住地啼，听说你遭贬了，被贬到龙标去，一路上要经过辰溪、西溪、巫溪、武溪和沅溪；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让我把为你而忧愁的心托付给天上的明月吧，伴随着风一直走到那夜郎以西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1269" descr="113B1"/>
          <p:cNvPicPr/>
          <p:nvPr/>
        </p:nvPicPr>
        <p:blipFill>
          <a:blip r:embed="rId1"/>
          <a:stretch/>
        </p:blipFill>
        <p:spPr>
          <a:xfrm>
            <a:off x="533520" y="1066680"/>
            <a:ext cx="2668320" cy="472464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57" name="文本框 11270"/>
          <p:cNvSpPr/>
          <p:nvPr/>
        </p:nvSpPr>
        <p:spPr>
          <a:xfrm>
            <a:off x="5622840" y="609480"/>
            <a:ext cx="1155960" cy="58140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感悟诗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12291"/>
          <p:cNvSpPr/>
          <p:nvPr/>
        </p:nvSpPr>
        <p:spPr>
          <a:xfrm>
            <a:off x="685800" y="2475360"/>
            <a:ext cx="7620120" cy="24375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首句写景兼点时令，而于景物独取漂泊无定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杨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叫着“不如归去”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子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即含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飘零之感、离别之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内，切合当时情事，也就融情入景。因此句已于景中见情，所以次句便直叙其事。“闻道”，表示惊惜。“过五溪”，见迁谪之荒远，道路之艰难。不着悲痛之语，而悲痛之意自见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后两句抒情。人隔两地，难以相从，而月照中天，千里可共，所以要将自己的愁心寄与明月，随风飘到龙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2292"/>
          <p:cNvSpPr/>
          <p:nvPr/>
        </p:nvSpPr>
        <p:spPr>
          <a:xfrm>
            <a:off x="3946320" y="369720"/>
            <a:ext cx="1155960" cy="5814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品诗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3556"/>
          <p:cNvSpPr/>
          <p:nvPr/>
        </p:nvSpPr>
        <p:spPr>
          <a:xfrm>
            <a:off x="4098600" y="1219320"/>
            <a:ext cx="1155960" cy="5814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品诗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3558"/>
          <p:cNvSpPr/>
          <p:nvPr/>
        </p:nvSpPr>
        <p:spPr>
          <a:xfrm>
            <a:off x="3727440" y="2514600"/>
            <a:ext cx="2131560" cy="2043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本诗主题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答：借月抒怀，表达惊讶、悲愤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同情、关切、安慰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杨花”在旧体诗中常象征＿＿＿＿，本诗首句通过各种意象，渲染出在＿＿＿＿季节的一种＿＿＿＿＿气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离散、漂泊；暮春；哀伤、惆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7T23:27:45Z</dcterms:created>
  <dc:creator>周礼华</dc:creator>
  <dc:description/>
  <dc:language>en-US</dc:language>
  <cp:lastModifiedBy>dongyanyi</cp:lastModifiedBy>
  <dcterms:modified xsi:type="dcterms:W3CDTF">2016-01-08T01:57:5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Version">
    <vt:r8>1</vt:r8>
  </property>
</Properties>
</file>