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1CF-EBA1-43EE-9B1E-7B786E99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59F-7CF4-4F06-B773-819B7554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ED5-4B06-4C26-BA2B-C64514B1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73F-15B7-422A-B4F3-F28CEBF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C95-D19A-499A-9228-25A54A3A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AC6-A857-4E05-99DF-72982CE9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B1A-75DB-4470-9031-3CCDCD42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0CD-E29E-4C98-A593-FA84C6DE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C93-FA63-4BBF-B36C-5F840A55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204-E799-4161-8B0F-9E4F99C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D05-4E6A-47CE-B44B-284323B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E73-EC30-45A4-A0B0-9A67ED8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5F65-B4BA-4968-A595-ADFE1907F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77336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望天门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511812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闽侯实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221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林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天门山(青山碧水)" descr=""/>
          <p:cNvPicPr/>
          <p:nvPr/>
        </p:nvPicPr>
        <p:blipFill>
          <a:blip r:embed="rId2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青山碧水4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10362960" cy="762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1920" y="1457280"/>
            <a:ext cx="1171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99ff99"/>
                </a:solidFill>
                <a:latin typeface="Arial"/>
                <a:ea typeface="楷体_GB2312"/>
              </a:rPr>
              <a:t>碧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天门山(青山碧水红日)" descr=""/>
          <p:cNvPicPr/>
          <p:nvPr/>
        </p:nvPicPr>
        <p:blipFill>
          <a:blip r:embed="rId2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天门山" descr=""/>
          <p:cNvPicPr/>
          <p:nvPr/>
        </p:nvPicPr>
        <p:blipFill>
          <a:blip r:embed="rId2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全诗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门中断楚江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孤帆一片日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5344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天门中断楚江开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403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（  ）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2720" y="249228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（  ）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3080" y="2421000"/>
            <a:ext cx="251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2421000"/>
            <a:ext cx="2376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断1" descr=""/>
          <p:cNvPicPr/>
          <p:nvPr/>
        </p:nvPicPr>
        <p:blipFill>
          <a:blip r:embed="rId2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pic>
        <p:nvPicPr>
          <p:cNvPr id="86" name="断3" descr=""/>
          <p:cNvPicPr/>
          <p:nvPr/>
        </p:nvPicPr>
        <p:blipFill>
          <a:blip r:embed="rId3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78680" y="533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断1" descr=""/>
          <p:cNvPicPr/>
          <p:nvPr/>
        </p:nvPicPr>
        <p:blipFill>
          <a:blip r:embed="rId2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pic>
        <p:nvPicPr>
          <p:cNvPr id="89" name="断2" descr=""/>
          <p:cNvPicPr/>
          <p:nvPr/>
        </p:nvPicPr>
        <p:blipFill>
          <a:blip r:embed="rId3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8680" y="533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断1" descr=""/>
          <p:cNvPicPr/>
          <p:nvPr/>
        </p:nvPicPr>
        <p:blipFill>
          <a:blip r:embed="rId2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pic>
        <p:nvPicPr>
          <p:cNvPr id="92" name="断4" descr=""/>
          <p:cNvPicPr/>
          <p:nvPr/>
        </p:nvPicPr>
        <p:blipFill>
          <a:blip r:embed="rId3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8680" y="533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981080" y="1828800"/>
          <a:ext cx="1330560" cy="16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133056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86200" y="1905120"/>
          <a:ext cx="1563840" cy="162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1905120"/>
                    <a:ext cx="156384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4434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5C71" descr=""/>
          <p:cNvPicPr/>
          <p:nvPr/>
        </p:nvPicPr>
        <p:blipFill>
          <a:blip r:embed="rId6"/>
          <a:srcRect l="9826" t="9826" r="6047" b="6047"/>
          <a:stretch/>
        </p:blipFill>
        <p:spPr>
          <a:xfrm>
            <a:off x="6095880" y="19051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断1" descr=""/>
          <p:cNvPicPr/>
          <p:nvPr/>
        </p:nvPicPr>
        <p:blipFill>
          <a:blip r:embed="rId2"/>
          <a:stretch/>
        </p:blipFill>
        <p:spPr>
          <a:xfrm>
            <a:off x="3014640" y="1362240"/>
            <a:ext cx="3114720" cy="4133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8680" y="533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天门中断楚江开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3FXF~MBFP@0Y1PMLO1ZZAW" descr=""/>
          <p:cNvPicPr/>
          <p:nvPr/>
        </p:nvPicPr>
        <p:blipFill>
          <a:blip r:embed="rId2"/>
          <a:stretch/>
        </p:blipFill>
        <p:spPr>
          <a:xfrm>
            <a:off x="1828800" y="0"/>
            <a:ext cx="521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天门中断楚江开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相对出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孤帆一片日边来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孤帆一片日边来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4080" y="2863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</a:t>
            </a:r>
            <a:r>
              <a:rPr b="1" lang="en-US" sz="6600" spc="-1" strike="noStrike">
                <a:solidFill>
                  <a:srgbClr val="008000"/>
                </a:solidFill>
                <a:latin typeface="Arial"/>
                <a:ea typeface="楷体_GB2312"/>
              </a:rPr>
              <a:t>相对出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孤帆一片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日边来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全诗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门中断楚江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孤帆一片日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812000" y="5734080"/>
            <a:ext cx="7383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94583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1752480"/>
            <a:ext cx="5485320" cy="2937960"/>
            <a:chOff x="533520" y="1752480"/>
            <a:chExt cx="5485320" cy="2937960"/>
          </a:xfrm>
        </p:grpSpPr>
        <p:grpSp>
          <p:nvGrpSpPr>
            <p:cNvPr id="110" name=""/>
            <p:cNvGrpSpPr/>
            <p:nvPr/>
          </p:nvGrpSpPr>
          <p:grpSpPr>
            <a:xfrm>
              <a:off x="550440" y="1763640"/>
              <a:ext cx="5448600" cy="2914200"/>
              <a:chOff x="550440" y="1763640"/>
              <a:chExt cx="5448600" cy="29142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50440" y="1763640"/>
                <a:ext cx="1361520" cy="1457280"/>
                <a:chOff x="550440" y="1763640"/>
                <a:chExt cx="1361520" cy="1457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98840" y="1763640"/>
                  <a:ext cx="864360" cy="14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50440" y="1763640"/>
                  <a:ext cx="13615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913040" y="1763640"/>
                <a:ext cx="1360440" cy="1457280"/>
                <a:chOff x="1913040" y="1763640"/>
                <a:chExt cx="1360440" cy="1457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60000" y="1763640"/>
                  <a:ext cx="865800" cy="14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913040" y="1763640"/>
                  <a:ext cx="136044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74560" y="1763640"/>
                <a:ext cx="1361520" cy="1457280"/>
                <a:chOff x="3274560" y="1763640"/>
                <a:chExt cx="1361520" cy="1457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522960" y="1763640"/>
                  <a:ext cx="864360" cy="14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74560" y="1763640"/>
                  <a:ext cx="13615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37520" y="1763640"/>
                <a:ext cx="1361520" cy="1457280"/>
                <a:chOff x="4637520" y="1763640"/>
                <a:chExt cx="1361520" cy="1457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885920" y="1763640"/>
                  <a:ext cx="864360" cy="14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37520" y="1763640"/>
                  <a:ext cx="13615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50440" y="3221640"/>
                <a:ext cx="1361520" cy="1456200"/>
                <a:chOff x="550440" y="3221640"/>
                <a:chExt cx="1361520" cy="1456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98840" y="3221640"/>
                  <a:ext cx="86436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50440" y="3221640"/>
                  <a:ext cx="136152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913040" y="3221640"/>
                <a:ext cx="1360440" cy="1456200"/>
                <a:chOff x="1913040" y="3221640"/>
                <a:chExt cx="1360440" cy="1456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160000" y="3221640"/>
                  <a:ext cx="86580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13040" y="3221640"/>
                  <a:ext cx="136044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74560" y="3221640"/>
                <a:ext cx="1361520" cy="1456200"/>
                <a:chOff x="3274560" y="3221640"/>
                <a:chExt cx="1361520" cy="1456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522960" y="3221640"/>
                  <a:ext cx="86436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74560" y="3221640"/>
                  <a:ext cx="136152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637520" y="3221640"/>
                <a:ext cx="1361520" cy="1456200"/>
                <a:chOff x="4637520" y="3221640"/>
                <a:chExt cx="1361520" cy="1456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885920" y="3221640"/>
                  <a:ext cx="86436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37520" y="3221640"/>
                  <a:ext cx="136152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533520" y="1752480"/>
              <a:ext cx="5485320" cy="293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37200" y="1763640"/>
            <a:ext cx="5449320" cy="2914920"/>
            <a:chOff x="6037200" y="1763640"/>
            <a:chExt cx="5449320" cy="2914920"/>
          </a:xfrm>
        </p:grpSpPr>
        <p:grpSp>
          <p:nvGrpSpPr>
            <p:cNvPr id="137" name=""/>
            <p:cNvGrpSpPr/>
            <p:nvPr/>
          </p:nvGrpSpPr>
          <p:grpSpPr>
            <a:xfrm>
              <a:off x="6037200" y="1763640"/>
              <a:ext cx="1361880" cy="1457640"/>
              <a:chOff x="6037200" y="1763640"/>
              <a:chExt cx="1361880" cy="14576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85600" y="1763640"/>
                <a:ext cx="86472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37200" y="1763640"/>
                <a:ext cx="1361880" cy="145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400160" y="1763640"/>
              <a:ext cx="1360440" cy="1457640"/>
              <a:chOff x="7400160" y="1763640"/>
              <a:chExt cx="1360440" cy="1457640"/>
            </a:xfrm>
          </p:grpSpPr>
          <p:sp>
            <p:nvSpPr>
              <p:cNvPr id="141" name=""/>
              <p:cNvSpPr/>
              <p:nvPr/>
            </p:nvSpPr>
            <p:spPr>
              <a:xfrm>
                <a:off x="7647120" y="1763640"/>
                <a:ext cx="86580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00160" y="1763640"/>
                <a:ext cx="1360440" cy="145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8761680" y="1763640"/>
              <a:ext cx="1361880" cy="1457640"/>
              <a:chOff x="8761680" y="1763640"/>
              <a:chExt cx="1361880" cy="1457640"/>
            </a:xfrm>
          </p:grpSpPr>
          <p:sp>
            <p:nvSpPr>
              <p:cNvPr id="144" name=""/>
              <p:cNvSpPr/>
              <p:nvPr/>
            </p:nvSpPr>
            <p:spPr>
              <a:xfrm>
                <a:off x="9010080" y="1763640"/>
                <a:ext cx="86472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1680" y="1763640"/>
                <a:ext cx="1361880" cy="145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0124640" y="1763640"/>
              <a:ext cx="1361880" cy="1457640"/>
              <a:chOff x="10124640" y="1763640"/>
              <a:chExt cx="1361880" cy="1457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373040" y="1763640"/>
                <a:ext cx="86472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124640" y="1763640"/>
                <a:ext cx="1361880" cy="1457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037200" y="3222000"/>
              <a:ext cx="1361880" cy="1456560"/>
              <a:chOff x="6037200" y="3222000"/>
              <a:chExt cx="1361880" cy="145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6285600" y="3222000"/>
                <a:ext cx="864720" cy="145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37200" y="3222000"/>
                <a:ext cx="1361880" cy="1456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400160" y="3222000"/>
              <a:ext cx="1360440" cy="1456560"/>
              <a:chOff x="7400160" y="3222000"/>
              <a:chExt cx="1360440" cy="1456560"/>
            </a:xfrm>
          </p:grpSpPr>
          <p:sp>
            <p:nvSpPr>
              <p:cNvPr id="153" name=""/>
              <p:cNvSpPr/>
              <p:nvPr/>
            </p:nvSpPr>
            <p:spPr>
              <a:xfrm>
                <a:off x="7647120" y="3222000"/>
                <a:ext cx="865800" cy="145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00160" y="3222000"/>
                <a:ext cx="1360440" cy="1456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8761680" y="3222000"/>
              <a:ext cx="1361880" cy="1456560"/>
              <a:chOff x="8761680" y="3222000"/>
              <a:chExt cx="1361880" cy="1456560"/>
            </a:xfrm>
          </p:grpSpPr>
          <p:sp>
            <p:nvSpPr>
              <p:cNvPr id="156" name=""/>
              <p:cNvSpPr/>
              <p:nvPr/>
            </p:nvSpPr>
            <p:spPr>
              <a:xfrm>
                <a:off x="9010080" y="3222000"/>
                <a:ext cx="864720" cy="145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61680" y="3222000"/>
                <a:ext cx="1361880" cy="1456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0124640" y="3222000"/>
              <a:ext cx="1361880" cy="1456560"/>
              <a:chOff x="10124640" y="3222000"/>
              <a:chExt cx="1361880" cy="1456560"/>
            </a:xfrm>
          </p:grpSpPr>
          <p:sp>
            <p:nvSpPr>
              <p:cNvPr id="159" name=""/>
              <p:cNvSpPr/>
              <p:nvPr/>
            </p:nvSpPr>
            <p:spPr>
              <a:xfrm>
                <a:off x="10373040" y="3222000"/>
                <a:ext cx="864720" cy="145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124640" y="3222000"/>
                <a:ext cx="1361880" cy="1456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019920" y="1752480"/>
            <a:ext cx="5486400" cy="293868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848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断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800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孤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9916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帆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120580939861117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319896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门中断楚江开，碧水东流至此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青山相对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帆一片日边来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7280" y="2276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望天门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116000" y="6093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6018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510516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天门山：在安徽省和县与当涂县西南的长江两岸，在江北的叫西梁山，在江南的叫东梁山。两山隔江相对，形同门户，所以叫天门山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20109_15" descr="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981080" y="1828800"/>
          <a:ext cx="1330560" cy="16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133056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86200" y="1905120"/>
          <a:ext cx="1563840" cy="162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1905120"/>
                    <a:ext cx="156384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4434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5C71" descr=""/>
          <p:cNvPicPr/>
          <p:nvPr/>
        </p:nvPicPr>
        <p:blipFill>
          <a:blip r:embed="rId6"/>
          <a:srcRect l="9826" t="9826" r="6047" b="6047"/>
          <a:stretch/>
        </p:blipFill>
        <p:spPr>
          <a:xfrm>
            <a:off x="6095880" y="1905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7200" y="4495680"/>
            <a:ext cx="208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崔巍天门山，江水绕其下。 ——王安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全诗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门中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断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江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片日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全诗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中断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楚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碧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山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片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715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江：即长江。古代长江中游地带属楚国，所以叫楚江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荆棘" descr=""/>
          <p:cNvPicPr/>
          <p:nvPr/>
        </p:nvPicPr>
        <p:blipFill>
          <a:blip r:embed="rId2"/>
          <a:stretch/>
        </p:blipFill>
        <p:spPr>
          <a:xfrm>
            <a:off x="-1600200" y="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8480" y="11318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cc"/>
                </a:solidFill>
                <a:latin typeface="Arial"/>
                <a:ea typeface="楷体_GB2312"/>
              </a:rPr>
              <a:t>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天门山(黑白)" descr=""/>
          <p:cNvPicPr/>
          <p:nvPr/>
        </p:nvPicPr>
        <p:blipFill>
          <a:blip r:embed="rId2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天门山(青山)" descr=""/>
          <p:cNvPicPr/>
          <p:nvPr/>
        </p:nvPicPr>
        <p:blipFill>
          <a:blip r:embed="rId2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56:40Z</dcterms:created>
  <dc:creator>Windows XP Mode</dc:creator>
  <dc:description/>
  <dc:language>en-US</dc:language>
  <cp:lastModifiedBy>lcx0127</cp:lastModifiedBy>
  <dcterms:modified xsi:type="dcterms:W3CDTF">2012-08-28T11:12:36Z</dcterms:modified>
  <cp:revision>114</cp:revision>
  <dc:subject/>
  <dc:title>幻灯片 1</dc:title>
</cp:coreProperties>
</file>