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png" ContentType="image/png"/>
  <Override PartName="/ppt/media/image11.wmf" ContentType="image/x-wmf"/>
  <Override PartName="/ppt/media/image8.jpeg" ContentType="image/jpeg"/>
  <Override PartName="/ppt/media/image9.png" ContentType="image/png"/>
  <Override PartName="/ppt/media/image10.gif" ContentType="image/gi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B43-18C9-4714-B031-87DE0767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22C-8E5A-47D1-BFDE-D071B727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C3C-829A-457A-BCE0-2EBDC7C3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D70-3640-4616-88AC-194A4C3E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68C-CEF1-4C99-B87E-C0D38264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124-4455-417F-8289-9BAC691A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87D-E474-4964-8113-F79055BE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D72-A00F-49F2-8AC5-041FB3B0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925-BCCE-4E72-9B81-25A498FE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DD8-19ED-4F19-9D6E-F117CAE7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68C-C674-4B68-A614-9EA5547F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EA4-730E-4C39-810D-E04E7601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4BD3-458E-42F7-A86D-F6461DAED5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27240" y="3213000"/>
            <a:ext cx="7898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望天门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91960" y="3213000"/>
            <a:ext cx="7898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题西林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f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341360"/>
            <a:ext cx="4716360" cy="49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题西林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苏 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横看成岭侧成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远近高低各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不识庐山真面目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只缘身在此山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89000"/>
            <a:ext cx="26812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读一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0" y="260280"/>
            <a:ext cx="42861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f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981000"/>
            <a:ext cx="860436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小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苏轼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37—110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字子瞻，号东坡居士，眉州眉山（今四川眉山）人。父苏洵，弟苏辙都是著名的散文家。他是宋仁宗嘉佑二年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5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）的进士，官至翰林学士、知制诰、礼部尚书。曾上书力言王安石新法之弊后因作诗刺新法下御史狱，遭贬。卒后追谥文忠。北宋中期的文坛领袖，文学巨匠，唐宋八大家之一。其文纵横恣肆，其诗题材广阔，清新豪健，善用夸张、比喻，独具风格。词开豪放一派，与辛弃疾并称“苏辛”，有《东坡全集》、《东坡乐府》。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189000"/>
            <a:ext cx="26812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读一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445000"/>
            <a:ext cx="91440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f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24000" y="0"/>
            <a:ext cx="26812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讲一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341360"/>
            <a:ext cx="4716360" cy="49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题西林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苏 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横看成岭侧成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远近高低各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不识庐山真面目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只缘身在此山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0" y="260280"/>
            <a:ext cx="42861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f5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4000" y="0"/>
            <a:ext cx="26812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讲一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6" name=""/>
          <p:cNvSpPr/>
          <p:nvPr/>
        </p:nvSpPr>
        <p:spPr>
          <a:xfrm>
            <a:off x="4067280" y="1281960"/>
            <a:ext cx="507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庐山的山岭之间看山，对面看去，似一道山岭，侧面看去，又像是一座山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远近高低各个不同的角度欣赏，庐山的姿态都不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庐山的全景，只有在鸟瞰中才能看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在山中，反而看不清它的真面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意巧妙地表达了“当局者迷，旁观者清的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41360"/>
            <a:ext cx="4716360" cy="49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题西林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苏 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横看成岭侧成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远近高低各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不识庐山真面目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只缘身在此山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227640" y="260280"/>
            <a:ext cx="26812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背一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227640" y="260280"/>
            <a:ext cx="26812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改一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2133720"/>
            <a:ext cx="7200720" cy="13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请你试试用诗歌的形式把这首古诗译成现代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也可用散文的形式，把这首古诗改写成一段写景的文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6920" y="126828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天门山：</a:t>
            </a:r>
            <a:r>
              <a:rPr b="1" lang="zh-CN" sz="4000" spc="-1" strike="noStrike">
                <a:solidFill>
                  <a:srgbClr val="339933"/>
                </a:solidFill>
                <a:latin typeface="Arial"/>
              </a:rPr>
              <a:t>在今安徽当涂西南长江两岸。东为博望山，西为梁山，两山夹江对峙，就像一座门户，合称天门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126828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楚江：</a:t>
            </a:r>
            <a:r>
              <a:rPr b="1" lang="zh-CN" sz="4000" spc="-1" strike="noStrike">
                <a:solidFill>
                  <a:srgbClr val="339933"/>
                </a:solidFill>
                <a:latin typeface="Arial"/>
              </a:rPr>
              <a:t>安徽在古代属于楚地，所以诗人把流经这个地段的长洒称为楚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126828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回：</a:t>
            </a:r>
            <a:r>
              <a:rPr b="1" lang="zh-CN" sz="4000" spc="-1" strike="noStrike">
                <a:solidFill>
                  <a:srgbClr val="339933"/>
                </a:solidFill>
                <a:latin typeface="Arial"/>
              </a:rPr>
              <a:t>指江水的流向在这里有一个转折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27280" y="19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题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书写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64000" y="0"/>
            <a:ext cx="26812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读一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0" y="1413000"/>
            <a:ext cx="43210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望天门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天门中断楚江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碧水东流至此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两岸青山相对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孤帆一片日边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32000" y="1700280"/>
            <a:ext cx="72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西林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江西庐山寺名，始建于六朝，宋代改称乾明寺。这是苏轼题写在乾明寺墙壁上的一首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7280" y="19890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横看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正面看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627280" y="19890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缘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因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1413000"/>
            <a:ext cx="432108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望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天门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天门中断楚江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碧水东流至此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两岸青山相对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孤帆一片日边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435640" y="0"/>
            <a:ext cx="26812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讲一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987640" y="0"/>
            <a:ext cx="26812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讲一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557360"/>
            <a:ext cx="43210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望天门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天门中断楚江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碧水东流至此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两岸青山相对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孤帆一片日边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492280"/>
            <a:ext cx="432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浩荡东流的长江在冲破天门奔腾而去之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夹江对峙的群山激起了江水一片回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人欣赏着青山相对而出的奇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叶小舟正乘风破浪，从日边驰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63200" y="155736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诗人乘舟东下，远望天门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一派壮美的景色尽收眼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2211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0"/>
            <a:ext cx="26812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背一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 advTm="2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0" y="0"/>
            <a:ext cx="26812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背一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 advTm="2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905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0" y="0"/>
            <a:ext cx="26812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背一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 advTm="2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9058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0" y="0"/>
            <a:ext cx="26812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背一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462720" y="0"/>
            <a:ext cx="26812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改一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1773360"/>
            <a:ext cx="54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请你试试用诗歌的形式把这首古诗译成现代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也可用散文的形式，把这首古诗改写成一段写景的文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06:27:38Z</dcterms:created>
  <dc:creator>Billgates</dc:creator>
  <dc:description/>
  <dc:language>en-US</dc:language>
  <cp:lastModifiedBy>teacher00</cp:lastModifiedBy>
  <dcterms:modified xsi:type="dcterms:W3CDTF">2005-04-19T08:27:29Z</dcterms:modified>
  <cp:revision>17</cp:revision>
  <dc:subject/>
  <dc:title>幻灯片 1</dc:title>
</cp:coreProperties>
</file>