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7.jpeg" ContentType="image/jpeg"/>
  <Override PartName="/ppt/media/image9.jpeg" ContentType="image/jpeg"/>
  <Override PartName="/ppt/media/image11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426-64EA-4930-8056-93F1FCBB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939-C208-494A-A6D4-89EA3209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5BC-EB61-4E52-AF00-516CC918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7EA-9FCF-496A-AADB-9285F728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776-46FA-40B9-8F01-13909E46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079-47FE-4494-953D-C0A8967F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C15-DF96-4C43-B1F6-496D3C5F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4A5-4FBF-4162-A067-E0558939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F53-57D6-4167-B01C-5DF1C549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51C-B6DF-46AF-B9BC-DFA7D852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EF7-2ABB-4063-9F2B-A62E4412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FD5-3769-46CD-9C39-527B24CF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D89B-2646-464A-8E60-D0D043661E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961720" y="1916280"/>
            <a:ext cx="18262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无 题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>
            <a:hlinkClick r:id="rId1" action="ppaction://hlinksldjump"/>
          </p:cNvPr>
          <p:cNvSpPr/>
          <p:nvPr/>
        </p:nvSpPr>
        <p:spPr>
          <a:xfrm>
            <a:off x="5152320" y="3500280"/>
            <a:ext cx="7898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李商隐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95280" y="105264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相见时难别亦难，东风无力百花残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1120" y="3068640"/>
            <a:ext cx="9002880" cy="155628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见的机会真是十分难得，分别时也是难舍难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况且又正值东风将收的暮春天气，百花残谢，更加使人伤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4643280" y="1844640"/>
            <a:ext cx="100836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7667640" y="1773360"/>
            <a:ext cx="5763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643280" y="206064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Arial"/>
                <a:ea typeface="黑体"/>
              </a:rPr>
              <a:t>春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451640" y="2133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Arial"/>
                <a:ea typeface="黑体"/>
              </a:rPr>
              <a:t>凋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556000" y="1773360"/>
            <a:ext cx="5032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340000" y="2133720"/>
            <a:ext cx="10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Arial"/>
                <a:ea typeface="黑体"/>
              </a:rPr>
              <a:t>离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979640" y="5661000"/>
            <a:ext cx="69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暮春时节两个有情人的离愁别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250920" y="7632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Times New Roman"/>
                <a:ea typeface="隶书"/>
              </a:rPr>
              <a:t>研读赏析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42520" y="617040"/>
            <a:ext cx="8062920" cy="58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东风无力百花残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这句景物描写在文中有何作用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点明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分离的季节（暮春）及环境（百花凋谢）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渲染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了离别的悲凉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气氛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，以暮春衰残之景映衬别离伤感之情，倍增哀怨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情景交融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。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残</a:t>
            </a: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”字给人以凄楚的感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抒发了男女主人公怎样的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抒发了与爱人分别的难舍难分的伤感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whwqy0901-c09"/>
          <p:cNvPicPr/>
          <p:nvPr/>
        </p:nvPicPr>
        <p:blipFill>
          <a:blip r:embed="rId1"/>
          <a:stretch/>
        </p:blipFill>
        <p:spPr>
          <a:xfrm>
            <a:off x="6858000" y="15228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76320" y="76320"/>
            <a:ext cx="4856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04920" y="119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0880" y="19810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171440" y="1916280"/>
            <a:ext cx="39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首句中的两个“难”字意义上有何区别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294200" y="400212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见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294200" y="470844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亦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784240" y="3946680"/>
            <a:ext cx="24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见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机会难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768400" y="4708440"/>
            <a:ext cx="24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别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难舍难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5638680" y="4267080"/>
            <a:ext cx="228600" cy="106704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6019920" y="4419720"/>
            <a:ext cx="22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情深意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79280" y="1197000"/>
            <a:ext cx="89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首联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ff00"/>
                </a:solidFill>
                <a:latin typeface="宋体"/>
              </a:rPr>
              <a:t>奠定了全诗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感伤忧郁的基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          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ff00"/>
                </a:solidFill>
                <a:latin typeface="宋体"/>
              </a:rPr>
              <a:t>未见时的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苦苦思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                  </a:t>
            </a:r>
            <a:r>
              <a:rPr b="1" lang="zh-CN" sz="3200" spc="-1" strike="noStrike">
                <a:solidFill>
                  <a:srgbClr val="00ff00"/>
                </a:solidFill>
                <a:latin typeface="宋体"/>
              </a:rPr>
              <a:t>与见后又别离时的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痛苦忧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一切景语皆情语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。情景交融，渲染烘托了离愁别绪。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539640" y="47628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春蚕到死丝方尽，蜡炬成灰泪始干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3213000"/>
            <a:ext cx="9144000" cy="106884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就像春蚕到死才停止吐丝，蜡烛燃尽时才停止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烛泪，我对你的爱坚贞不渝、至死方休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508720" y="1125360"/>
            <a:ext cx="25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33cc33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巧用双关、比喻表达生死不渝的忠贞爱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50920" y="134136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丝方尽”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隐指“思方尽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烛    泪”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——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隐指相思之泪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429080" y="189000"/>
            <a:ext cx="20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0" y="4508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这两句诗，除了歌颂爱情的执著，人们还赋予了它别的什么意义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808200" y="5516640"/>
            <a:ext cx="779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歌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爱情的坚贞不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歌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无私奉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2000" y="620280"/>
            <a:ext cx="8496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春蚕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”“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蜡炬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在这里仅仅是实写两种实物吗？如果不是，作者又是要表达什么情感呢？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春蚕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蜡炬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两个象征意象，运用了比喻的手法，表现相思之深和对所爱的人至死不渝的深情，形象贴切，含意隽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句 “春蚕到死丝方尽，蜡炬成灰泪始干”现在人们赋予了它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比喻人们对理想、事业等，执着追求、无私奉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39640" y="47628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晓镜但愁云鬓改，夜吟应觉月光寒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2349360"/>
            <a:ext cx="8753400" cy="2043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子早晨妆扮照镜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担忧如云的鬓发改变颜色，青春的容颜消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男子晚上长吟不寐，必然感到冷月袭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1116000" y="1197000"/>
            <a:ext cx="503280" cy="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2627280" y="1197000"/>
            <a:ext cx="1152720" cy="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4645080" y="1197000"/>
            <a:ext cx="1152360" cy="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692360" y="1197000"/>
            <a:ext cx="503280" cy="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79280" y="1341360"/>
            <a:ext cx="23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33cc33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照镜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用作动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619280" y="189000"/>
            <a:ext cx="5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Arial"/>
                <a:ea typeface="黑体"/>
              </a:rPr>
              <a:t>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124000" y="134136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Arial"/>
                <a:ea typeface="黑体"/>
              </a:rPr>
              <a:t>青年女子的头发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Arial"/>
                <a:ea typeface="黑体"/>
              </a:rPr>
              <a:t>代指青春年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429080" y="189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Arial"/>
                <a:ea typeface="黑体"/>
              </a:rPr>
              <a:t>夜晚吟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3903840" y="494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47840" y="4875120"/>
            <a:ext cx="822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虚写。设想双方的思念之苦。从“应”字可见，“应”是忖度、料想的意思，表明这一切都是自己对于对方的想象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76320" y="181080"/>
            <a:ext cx="8915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晓镜但愁云鬓改，夜吟应觉月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———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写别后的担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52280" y="1219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选取了两个</a:t>
            </a:r>
            <a:r>
              <a:rPr b="1" lang="zh-CN" sz="2400" spc="-1" strike="noStrike">
                <a:solidFill>
                  <a:srgbClr val="333399"/>
                </a:solidFill>
                <a:latin typeface="隶书"/>
                <a:ea typeface="隶书"/>
              </a:rPr>
              <a:t>典型的生活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场景（设想）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0" y="1981080"/>
            <a:ext cx="457200" cy="990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2004122023212998067"/>
          <p:cNvPicPr/>
          <p:nvPr/>
        </p:nvPicPr>
        <p:blipFill>
          <a:blip r:embed="rId1"/>
          <a:stretch/>
        </p:blipFill>
        <p:spPr>
          <a:xfrm>
            <a:off x="4495680" y="327672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2028240" y="1720800"/>
            <a:ext cx="50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晓镜（但愁）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—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久别相思，只担心容颜衰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441360" y="2406600"/>
            <a:ext cx="83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夜吟（应觉）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—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更显体贴入微、关怀备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f84dd9fcdb193ce5b901a086"/>
          <p:cNvPicPr/>
          <p:nvPr/>
        </p:nvPicPr>
        <p:blipFill>
          <a:blip r:embed="rId2"/>
          <a:stretch/>
        </p:blipFill>
        <p:spPr>
          <a:xfrm>
            <a:off x="0" y="3284640"/>
            <a:ext cx="4500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95280" y="105264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蓬山此去无多路，青鸟殷勤为探看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41120" y="2349360"/>
            <a:ext cx="9002880" cy="137376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你的住处从这里去没有多远，却无路可通，可望而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可即，难以知道你的音讯。希望有青鸟殷勤的替我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望你，为我们传递消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7236000" y="1773360"/>
            <a:ext cx="1008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7380360" y="184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Arial"/>
                <a:ea typeface="黑体"/>
              </a:rPr>
              <a:t>探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0" y="3933720"/>
            <a:ext cx="8916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一句中用了哪两个典故，分别表达了什么意思？体现了作者的什么愿望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典故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：相见很难（可望而不可及） 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典故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：期待双方互通音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体现了作者苦苦相思，期待互通音讯的愿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uu"/>
          <p:cNvPicPr/>
          <p:nvPr/>
        </p:nvPicPr>
        <p:blipFill>
          <a:blip r:embed="rId1"/>
          <a:stretch/>
        </p:blipFill>
        <p:spPr>
          <a:xfrm>
            <a:off x="0" y="212760"/>
            <a:ext cx="9144000" cy="6953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9"/>
          <p:cNvPicPr/>
          <p:nvPr/>
        </p:nvPicPr>
        <p:blipFill>
          <a:blip r:embed="rId2"/>
          <a:stretch/>
        </p:blipFill>
        <p:spPr>
          <a:xfrm>
            <a:off x="3840120" y="533520"/>
            <a:ext cx="5040360" cy="27842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1908000" y="272880"/>
            <a:ext cx="534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蓬山此去无多路，青鸟殷勤为探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强作宽慰之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33520" y="3048120"/>
            <a:ext cx="82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好在蓬山距此没有多远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              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且有仙鸟殷勤捎信、探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"/>
              </a:rPr>
              <a:t>教学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知识与能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了解杜甫其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背诵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无题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过程与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通过反复诵读，品味赏析诗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情感态度与价值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感悟诗人坚忍执着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1"/>
          <p:cNvSpPr/>
          <p:nvPr/>
        </p:nvSpPr>
        <p:spPr>
          <a:xfrm>
            <a:off x="0" y="134136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本诗以深挚的感情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含蓄委婉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咏叹爱情的忠贞，以女性的口吻抒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爱情心理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悲伤痛苦中，寓有寓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灼热的渴望和坚忍的执着精神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。表现出浓郁的离别之恨和缠绵的相思之苦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"/>
          <p:cNvSpPr/>
          <p:nvPr/>
        </p:nvSpPr>
        <p:spPr>
          <a:xfrm>
            <a:off x="3392640" y="189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隶书"/>
              </a:rPr>
              <a:t>诗歌主旨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44280"/>
            <a:ext cx="9143640" cy="6857640"/>
            <a:chOff x="0" y="44280"/>
            <a:chExt cx="9143640" cy="6857640"/>
          </a:xfrm>
        </p:grpSpPr>
        <p:pic>
          <p:nvPicPr>
            <p:cNvPr id="143" name="Picture 3" descr="uu"/>
            <p:cNvPicPr/>
            <p:nvPr/>
          </p:nvPicPr>
          <p:blipFill>
            <a:blip r:embed="rId1"/>
            <a:stretch/>
          </p:blipFill>
          <p:spPr>
            <a:xfrm>
              <a:off x="0" y="4428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4" descr="9"/>
            <p:cNvPicPr/>
            <p:nvPr/>
          </p:nvPicPr>
          <p:blipFill>
            <a:blip r:embed="rId2"/>
            <a:stretch/>
          </p:blipFill>
          <p:spPr>
            <a:xfrm>
              <a:off x="3840120" y="360360"/>
              <a:ext cx="5039280" cy="274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Text Box 5"/>
          <p:cNvSpPr/>
          <p:nvPr/>
        </p:nvSpPr>
        <p:spPr>
          <a:xfrm>
            <a:off x="457200" y="1219320"/>
            <a:ext cx="8367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无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李商隐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相见时难别亦难，东风无力百花残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春蚕到死丝方尽，蜡炬成灰泪始干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晓镜但愁云鬓改，夜吟应觉月光寒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蓬山此去无多路，青鸟殷勤为探看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348920" y="1206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朗读、背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708360" y="105264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067280" y="198900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1"/>
          <p:cNvSpPr/>
          <p:nvPr/>
        </p:nvSpPr>
        <p:spPr>
          <a:xfrm>
            <a:off x="114480" y="358920"/>
            <a:ext cx="892332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宋体"/>
              </a:rPr>
              <a:t>名句赏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、请你从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内容、情感、语言、或者写法</a:t>
            </a: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四个方面，任选一个角度对诗句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春蚕到死丝方尽，蜡炬成灰泪始干</a:t>
            </a: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”进行赏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宋体"/>
              </a:rPr>
              <a:t>答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从内容方面赏析</a:t>
            </a:r>
            <a:r>
              <a:rPr b="0" lang="zh-CN" sz="2800" spc="-1" strike="noStrike">
                <a:solidFill>
                  <a:srgbClr val="ff6600"/>
                </a:solidFill>
                <a:latin typeface="宋体"/>
              </a:rPr>
              <a:t>：虽与爱人分别但相思无尽、挚爱不变，就像春蚕到死才停止吐丝，蜡烛燃尽时才停止流烛泪，我对你的爱坚贞不渝、至死方休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从写法方面赏析</a:t>
            </a:r>
            <a:r>
              <a:rPr b="0" lang="zh-CN" sz="2800" spc="-1" strike="noStrike">
                <a:solidFill>
                  <a:srgbClr val="ff6600"/>
                </a:solidFill>
                <a:latin typeface="宋体"/>
              </a:rPr>
              <a:t>：“丝”与“思”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谐音双关</a:t>
            </a:r>
            <a:r>
              <a:rPr b="0" lang="zh-CN" sz="2800" spc="-1" strike="noStrike">
                <a:solidFill>
                  <a:srgbClr val="ff6600"/>
                </a:solidFill>
                <a:latin typeface="宋体"/>
              </a:rPr>
              <a:t>，蚕丝和蜡泪</a:t>
            </a:r>
            <a:r>
              <a:rPr b="0" lang="zh-CN" sz="2800" spc="-1" strike="noStrike">
                <a:solidFill>
                  <a:srgbClr val="c00000"/>
                </a:solidFill>
                <a:latin typeface="宋体"/>
              </a:rPr>
              <a:t>象征</a:t>
            </a:r>
            <a:r>
              <a:rPr b="0" lang="zh-CN" sz="2800" spc="-1" strike="noStrike">
                <a:solidFill>
                  <a:srgbClr val="ff6600"/>
                </a:solidFill>
                <a:latin typeface="宋体"/>
              </a:rPr>
              <a:t>爱情，以两个生动的</a:t>
            </a:r>
            <a:r>
              <a:rPr b="0" lang="zh-CN" sz="2800" spc="-1" strike="noStrike">
                <a:solidFill>
                  <a:srgbClr val="c00000"/>
                </a:solidFill>
                <a:latin typeface="宋体"/>
              </a:rPr>
              <a:t>比喻</a:t>
            </a:r>
            <a:r>
              <a:rPr b="0" lang="zh-CN" sz="2800" spc="-1" strike="noStrike">
                <a:solidFill>
                  <a:srgbClr val="ff6600"/>
                </a:solidFill>
                <a:latin typeface="宋体"/>
              </a:rPr>
              <a:t>句表白自己对所爱之人至死不渝的深情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从现实意义的赏析</a:t>
            </a:r>
            <a:r>
              <a:rPr b="0" lang="zh-CN" sz="2800" spc="-1" strike="noStrike">
                <a:solidFill>
                  <a:srgbClr val="ff6600"/>
                </a:solidFill>
                <a:latin typeface="宋体"/>
              </a:rPr>
              <a:t>：用春蚕吐丝、蜡烛燃烧来形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宋体"/>
              </a:rPr>
              <a:t>奉献者的献身精神，对理想、事业等执着追求、无私奉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052640" y="412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布置作业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5800" y="2781360"/>
            <a:ext cx="482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背诵本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Q_014"/>
          <p:cNvPicPr/>
          <p:nvPr/>
        </p:nvPicPr>
        <p:blipFill>
          <a:blip r:embed="rId1"/>
          <a:stretch/>
        </p:blipFill>
        <p:spPr>
          <a:xfrm>
            <a:off x="2819520" y="914400"/>
            <a:ext cx="13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124000" y="350028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 flipV="1">
            <a:off x="4500720" y="38678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105063040"/>
          <p:cNvPicPr/>
          <p:nvPr/>
        </p:nvPicPr>
        <p:blipFill>
          <a:blip r:embed="rId1"/>
          <a:srcRect l="65568" t="48449" r="0" b="0"/>
          <a:stretch/>
        </p:blipFill>
        <p:spPr>
          <a:xfrm>
            <a:off x="8013600" y="5661000"/>
            <a:ext cx="1130400" cy="1197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1105063040"/>
          <p:cNvPicPr/>
          <p:nvPr/>
        </p:nvPicPr>
        <p:blipFill>
          <a:blip r:embed="rId2"/>
          <a:srcRect l="63339" t="0" r="0" b="50004"/>
          <a:stretch/>
        </p:blipFill>
        <p:spPr>
          <a:xfrm>
            <a:off x="7885080" y="0"/>
            <a:ext cx="1258920" cy="1216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1105063040"/>
          <p:cNvPicPr/>
          <p:nvPr/>
        </p:nvPicPr>
        <p:blipFill>
          <a:blip r:embed="rId3"/>
          <a:srcRect l="0" t="50004" r="63339" b="0"/>
          <a:stretch/>
        </p:blipFill>
        <p:spPr>
          <a:xfrm>
            <a:off x="0" y="5711760"/>
            <a:ext cx="1187280" cy="1146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2195640" y="0"/>
            <a:ext cx="4752720" cy="1484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黑体"/>
                <a:ea typeface="黑体"/>
              </a:rPr>
              <a:t>走近作者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1105063040"/>
          <p:cNvPicPr/>
          <p:nvPr/>
        </p:nvPicPr>
        <p:blipFill>
          <a:blip r:embed="rId4"/>
          <a:srcRect l="0" t="0" r="50004" b="63339"/>
          <a:stretch/>
        </p:blipFill>
        <p:spPr>
          <a:xfrm>
            <a:off x="0" y="0"/>
            <a:ext cx="1285920" cy="133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u=4206828855,2734581163&amp;fm=21&amp;gp=0"/>
          <p:cNvPicPr/>
          <p:nvPr/>
        </p:nvPicPr>
        <p:blipFill>
          <a:blip r:embed="rId5"/>
          <a:stretch/>
        </p:blipFill>
        <p:spPr>
          <a:xfrm>
            <a:off x="1763640" y="1484280"/>
            <a:ext cx="5616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1100880" y="3333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隶书"/>
              </a:rPr>
              <a:t>作者简介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03280" y="1773360"/>
            <a:ext cx="67690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    </a:t>
            </a:r>
            <a:r>
              <a:rPr b="1" lang="zh-CN" sz="3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李商隐，</a:t>
            </a:r>
            <a:r>
              <a:rPr b="1" lang="zh-CN" sz="3200" spc="-1" strike="noStrike">
                <a:solidFill>
                  <a:srgbClr val="993300"/>
                </a:solidFill>
                <a:latin typeface="仿宋_GB2312"/>
                <a:ea typeface="仿宋_GB2312"/>
              </a:rPr>
              <a:t>字义山，号玉溪生，又号樊南生</a:t>
            </a:r>
            <a:r>
              <a:rPr b="1" lang="zh-CN" sz="3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。因牛李党争，处于夹缝之中的李商隐终生仕途坎坷。为</a:t>
            </a:r>
            <a:r>
              <a:rPr b="1" lang="zh-CN" sz="3200" spc="-1" strike="noStrike">
                <a:solidFill>
                  <a:srgbClr val="993300"/>
                </a:solidFill>
                <a:latin typeface="仿宋_GB2312"/>
                <a:ea typeface="仿宋_GB2312"/>
              </a:rPr>
              <a:t>晚唐著名诗人，与杜牧齐名，人称</a:t>
            </a:r>
            <a:r>
              <a:rPr b="1" lang="en-US" sz="3200" spc="-1" strike="noStrike">
                <a:solidFill>
                  <a:srgbClr val="993300"/>
                </a:solidFill>
                <a:latin typeface="仿宋_GB2312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993300"/>
                </a:solidFill>
                <a:latin typeface="仿宋_GB2312"/>
                <a:ea typeface="仿宋_GB2312"/>
              </a:rPr>
              <a:t>小李杜</a:t>
            </a:r>
            <a:r>
              <a:rPr b="1" lang="en-US" sz="3200" spc="-1" strike="noStrike">
                <a:solidFill>
                  <a:srgbClr val="993300"/>
                </a:solidFill>
                <a:latin typeface="仿宋_GB2312"/>
                <a:ea typeface="仿宋_GB2312"/>
              </a:rPr>
              <a:t>”</a:t>
            </a:r>
            <a:r>
              <a:rPr b="1" lang="zh-CN" sz="3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。其</a:t>
            </a:r>
            <a:r>
              <a:rPr b="1" lang="en-US" sz="3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“</a:t>
            </a:r>
            <a:r>
              <a:rPr b="1" lang="zh-CN" sz="3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无题</a:t>
            </a:r>
            <a:r>
              <a:rPr b="1" lang="en-US" sz="3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”</a:t>
            </a:r>
            <a:r>
              <a:rPr b="1" lang="zh-CN" sz="3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诗以爱情为题材，历代传诵不衰，但诗旨隐晦曲折，众说纷纭，莫衷一是。其诗精于用典，色彩瑰丽，寄托遥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2668" t="3813" r="4892" b="16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4572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诗以“无题”命篇，是李商隐的创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类诗作并非成于一时一地，多数描写爱情，其内容或诗中之意不便明言，或因难用一个恰当的题目表现，所以标以“无题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无题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李商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61880" y="1773000"/>
            <a:ext cx="70628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相见时难别亦难，东风无力百花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春蚕到死丝方尽，腊炬成灰泪始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晓镜但愁云鬓改，夜吟应觉月光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蓬莱此去无多路，青鸟殷勤为探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未命名"/>
          <p:cNvPicPr/>
          <p:nvPr/>
        </p:nvPicPr>
        <p:blipFill>
          <a:blip r:embed="rId1"/>
          <a:stretch/>
        </p:blipFill>
        <p:spPr>
          <a:xfrm>
            <a:off x="0" y="695160"/>
            <a:ext cx="2124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124000" y="350028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 flipV="1">
            <a:off x="4500720" y="38678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105063040"/>
          <p:cNvPicPr/>
          <p:nvPr/>
        </p:nvPicPr>
        <p:blipFill>
          <a:blip r:embed="rId1"/>
          <a:srcRect l="65568" t="48449" r="0" b="0"/>
          <a:stretch/>
        </p:blipFill>
        <p:spPr>
          <a:xfrm>
            <a:off x="8013600" y="5661000"/>
            <a:ext cx="1130400" cy="1197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1105063040"/>
          <p:cNvPicPr/>
          <p:nvPr/>
        </p:nvPicPr>
        <p:blipFill>
          <a:blip r:embed="rId2"/>
          <a:srcRect l="63339" t="0" r="0" b="50004"/>
          <a:stretch/>
        </p:blipFill>
        <p:spPr>
          <a:xfrm>
            <a:off x="7885080" y="0"/>
            <a:ext cx="1258920" cy="1216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1105063040"/>
          <p:cNvPicPr/>
          <p:nvPr/>
        </p:nvPicPr>
        <p:blipFill>
          <a:blip r:embed="rId3"/>
          <a:srcRect l="0" t="50004" r="63339" b="0"/>
          <a:stretch/>
        </p:blipFill>
        <p:spPr>
          <a:xfrm>
            <a:off x="0" y="5711760"/>
            <a:ext cx="1187280" cy="1146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050920" y="2421000"/>
            <a:ext cx="4969080" cy="1439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zh-CN" sz="8000" spc="-1" strike="noStrike">
                <a:solidFill>
                  <a:srgbClr val="ffffff"/>
                </a:solidFill>
                <a:latin typeface="黑体"/>
                <a:ea typeface="黑体"/>
              </a:rPr>
              <a:t>研读赏析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1105063040"/>
          <p:cNvPicPr/>
          <p:nvPr/>
        </p:nvPicPr>
        <p:blipFill>
          <a:blip r:embed="rId4"/>
          <a:srcRect l="0" t="0" r="50004" b="63339"/>
          <a:stretch/>
        </p:blipFill>
        <p:spPr>
          <a:xfrm>
            <a:off x="0" y="0"/>
            <a:ext cx="12859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755640" y="260280"/>
            <a:ext cx="763272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79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4400" spc="-1" strike="noStrike">
                <a:solidFill>
                  <a:srgbClr val="993300"/>
                </a:solidFill>
                <a:latin typeface="黑体"/>
                <a:ea typeface="黑体"/>
              </a:rPr>
              <a:t>无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79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相见时难别亦难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东风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无力百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残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79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春蚕到死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方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尽，蜡炬成灰泪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始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干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79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晓镜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但愁云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改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，夜吟应觉月光寒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79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蓬山此去无多路，青鸟殷勤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探看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4577760" y="220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宋体"/>
              </a:rPr>
              <a:t>春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"/>
          <p:cNvSpPr/>
          <p:nvPr/>
        </p:nvSpPr>
        <p:spPr>
          <a:xfrm>
            <a:off x="7089120" y="220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宋体"/>
              </a:rPr>
              <a:t>凋谢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6145200" y="32241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宋体"/>
              </a:rPr>
              <a:t>方、始：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-504720" y="4535640"/>
            <a:ext cx="4572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宋体"/>
              </a:rPr>
              <a:t>早起时对镜梳妆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067280" y="4484520"/>
            <a:ext cx="52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宋体"/>
              </a:rPr>
              <a:t>改：指容颜变得憔悴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6412680" y="5573880"/>
            <a:ext cx="414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宋体"/>
              </a:rPr>
              <a:t>替、帮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749520" y="-396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隶书"/>
              </a:rPr>
              <a:t>理解诗意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1"/>
          <p:cNvSpPr/>
          <p:nvPr/>
        </p:nvSpPr>
        <p:spPr>
          <a:xfrm>
            <a:off x="128520" y="5373720"/>
            <a:ext cx="854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方正姚体"/>
                <a:ea typeface="方正姚体"/>
              </a:rPr>
              <a:t>你的住处从这里去没有多远，却无路可通，可望而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方正姚体"/>
                <a:ea typeface="方正姚体"/>
              </a:rPr>
              <a:t>可即，难以知道你的音讯。希望有青鸟殷勤的替我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方正姚体"/>
                <a:ea typeface="方正姚体"/>
              </a:rPr>
              <a:t>望你，为我们传递消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50760" y="-779400"/>
            <a:ext cx="9361440" cy="61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相见时难别亦难，东风无力百花残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春蚕到死丝方尽，蜡炬成灰泪始干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晓镜但愁云鬓改，夜吟应觉月光寒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蓬山此去无多路，青鸟殷勤为探看。</a:t>
            </a:r>
            <a:r>
              <a:rPr b="1" lang="zh-CN" sz="4400" spc="-1" strike="noStrike">
                <a:solidFill>
                  <a:srgbClr val="ff6600"/>
                </a:solidFill>
                <a:latin typeface="楷体"/>
                <a:ea typeface="楷体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266760" y="765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方正姚体"/>
                <a:ea typeface="方正姚体"/>
              </a:rPr>
              <a:t>相见本已艰难，离别更是令人难受，又兼暮春时节，春风无力，百花凋谢，让人更加伤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82440" y="2205000"/>
            <a:ext cx="106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方正姚体"/>
                <a:ea typeface="方正姚体"/>
              </a:rPr>
              <a:t>就像春蚕到死才停止吐丝，蜡烛燃尽时才停止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方正姚体"/>
                <a:ea typeface="方正姚体"/>
              </a:rPr>
              <a:t>烛泪，我对你的爱坚贞不渝、至死方休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82440" y="3860640"/>
            <a:ext cx="88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方正姚体"/>
                <a:ea typeface="方正姚体"/>
              </a:rPr>
              <a:t>早起对镜梳妆，担心鬓发变白容颜憔悴，忧虑年华易逝所爱之人也许正在凄清的月光下苦吟吧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12:47:19Z</dcterms:created>
  <dc:creator>PC-201007170854</dc:creator>
  <dc:description/>
  <cp:keywords/>
  <dc:language>en-US</dc:language>
  <cp:lastModifiedBy>Qi,Dongxiao</cp:lastModifiedBy>
  <cp:lastPrinted>1899-12-30T00:00:00Z</cp:lastPrinted>
  <dcterms:modified xsi:type="dcterms:W3CDTF">2016-11-29T05:21:33Z</dcterms:modified>
  <cp:revision>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