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19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chimes.wav" ContentType="audio/x-wav"/>
  <Override PartName="/ppt/media/image1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4AB-FA0C-4845-A995-73F9891F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1B7-E03A-4331-857F-F1066A9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372-5A93-466B-A395-84C4CF3B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5DD-44CA-4AE4-A13A-20205C8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DC3-E905-428C-9F7C-4CFB58E9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92D7-9352-4FDA-BF26-4C077CC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B878-F988-4EA8-A8E5-21784D69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55AC-C188-4861-8DC4-28965D5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88B3-4CF8-4985-8B15-5946258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0B7-61B3-4A7E-A2A7-96AE9F8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CFDB-5AD4-4462-892C-AAC0C19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505-CCEB-4773-8129-E21686B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9D5B-9E76-4DCA-A42C-880ACF5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A2A-B279-4456-81EE-453669D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14B-9717-461A-9E81-7F8D35B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6E4-888E-4225-A70A-7DE69E85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C2AA-96FC-4F22-9E19-46BA1AE1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C89E-0837-4C5C-A9C6-54CD0DC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9A8D-84A4-4E03-8F26-29C2A05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9EF1-28FD-4217-A12D-184674CF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988F-6013-4457-AFB9-ED992A1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63E6-7582-4E16-AB50-D049A1DF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76A-CBD9-470A-B109-A2FC3C7A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C0E9-75E4-4A4B-8547-4FCF3DD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9680-65E8-4474-B268-E69BA7C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0088-59C1-498B-BEEC-F1B22507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B8F0-1E63-44AB-ABFB-6243731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CEAB-472F-4A36-9E43-C843162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E267-FAF9-40BF-9CE4-A3ED6332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2E53-5005-4EBB-905C-74BD05FA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A77A5-9358-4752-A399-159D1F88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59B9-2730-4189-8778-E0BBE24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45D1-BED5-4F05-9274-D88461E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AEB-9879-493D-ADBE-3E3FE2CF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1432-A5A2-4F3C-A73A-B4539623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D27C-3ABD-458A-8CA4-1134FFF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7B0D-5983-4BDB-8A94-4457BB27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2FBE-F683-4567-8F8D-DEFDE5FE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5CE9-C410-4CF1-AE82-E2E46FD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BB19-45F4-4B80-8276-009DB7B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B40C-021F-4821-8FAC-85BC23AD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1BE0-EF53-4F0C-97B1-65D46FE3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005C-AD1F-451C-B757-82CE7C8B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3BB1D-5A95-4802-8F17-549E5D3E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993-2E49-4F95-975B-163B140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B561-EE0B-4A96-8F86-0514654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827D-F52C-483B-9E7D-D95050E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6052-240E-4B93-B5B3-211851F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158A-06E9-437E-BCDE-ECB9F15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B201-883D-4470-8E74-C12695D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59FA-BC23-42F5-A76A-3DA36AD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D347A-E350-4F96-851D-1F682BE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3EA6-482C-417E-A6E6-3A44D8F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469C-A462-47DA-B0DC-9AE20478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B70F-4342-4974-91FE-DD0562CA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977-7B34-4117-BE9C-7FF2F46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CD012-B234-49B9-B2AB-2A67471E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B366E-23B6-471C-AE54-0975845D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D845-2B13-4241-9CC9-5CF994AB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366C-0877-49EB-BEAE-5DB6F5BE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C2A87-275D-4DB1-816E-DC7E420E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F0AF-09AE-4B28-A627-77E289F7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8C27-D84F-4C2D-A368-C87643E4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DF1A-9D80-4C54-A100-F65ADA4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9D93-68E2-42BE-AA75-7AF7B01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DAE8-3E18-4F06-BC4E-BE66AFF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FDF-04DD-4B21-B4BD-68E7E18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5639-635E-4117-B014-18481ED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31AB-072C-4B92-8CF4-E3E3E367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917C-8AC4-4336-B2F5-F918DDCB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B236B-92F9-4847-8847-F36120E6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841B-F365-4CED-8A16-F0BAE3D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FEEBA-2B79-4392-9DBF-40F4D81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B757-F424-47F9-8060-7532D4F7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B135-99D2-40BF-8024-EA633875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0DC6-78A6-441E-8773-1D29A951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7D8A-6C09-4715-8491-7CCC1D9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C5A-B236-43F3-81F0-5962624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D601-BF05-45C7-8252-344FFDBA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DC64-D5A2-455D-821E-9071BD9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706D-79F8-441E-9D82-379A2BCE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C127-A1AC-4C23-AE71-1945D52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1C51-AD14-4554-A0D8-0A8838E1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ABDC-F865-4D4D-9FAC-D75A4D63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A1FC-7F86-472B-8DFC-3D86361D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52D9-904E-4A58-9D50-A990E67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943A9-ED1E-4D4B-86D8-5656091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4348B-6D31-4B57-A2A5-184216E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318-29AF-46C5-BD6A-F20A028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ADB4-80E4-4FC5-B909-87EBD137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1287-B6DE-4FED-864B-F205A13A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D046-F282-4741-A4EC-1CA6AEA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CC09-5169-4DD3-87EE-8A8F0637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5F60-619C-4BC2-9244-EBD166D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72F36-DA72-4B59-A1D8-4171A29F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24420-58AF-473C-B8E2-8DD8B2FE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E7F-BCA5-433A-9BB0-3FEDC106E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6DA0-4757-4011-8E1F-CBC19E268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D46-3D09-4DA0-9EFA-C812DBC62E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A2F-3F1F-4A5C-B101-571D3D4FA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0B4-D20C-4767-8717-8ADF69697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60A2-8F7C-438D-ABE4-5A66D8428B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Q"/>
          <p:cNvPicPr/>
          <p:nvPr/>
        </p:nvPicPr>
        <p:blipFill>
          <a:blip r:embed="rId3"/>
          <a:srcRect l="5941" t="5861" r="293" b="-18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1"/>
          <p:cNvPicPr/>
          <p:nvPr/>
        </p:nvPicPr>
        <p:blipFill>
          <a:blip r:embed="rId4"/>
          <a:srcRect l="37152" t="16760" r="5327" b="25302"/>
          <a:stretch/>
        </p:blipFill>
        <p:spPr>
          <a:xfrm>
            <a:off x="0" y="0"/>
            <a:ext cx="9153360" cy="6915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200" y="164880"/>
            <a:ext cx="80773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200" y="1181160"/>
            <a:ext cx="807732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303030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BE5A-238C-435A-B58D-E119F42AB1A3}" type="slidenum">
              <a:rPr b="0" lang="zh-CN" sz="12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FD3C-173D-4766-B637-881C73C44D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9%D8%D3%DA&#683;%C8%CB%C0%EE%C9%CC%D2%FE%B5%C4&amp;in=8579&amp;cl=2&amp;cm=1&amp;sc=0&amp;lm=-1&amp;pn=0&amp;rn=1&amp;di=2196210340&amp;ln=104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85400" cy="6885000"/>
          </a:xfrm>
          <a:prstGeom prst="rect">
            <a:avLst/>
          </a:prstGeom>
          <a:ln w="0">
            <a:noFill/>
          </a:ln>
        </p:spPr>
      </p:pic>
      <p:pic>
        <p:nvPicPr>
          <p:cNvPr id="331" name="WordArt 3" descr=""/>
          <p:cNvPicPr/>
          <p:nvPr/>
        </p:nvPicPr>
        <p:blipFill>
          <a:blip r:embed="rId3"/>
          <a:stretch/>
        </p:blipFill>
        <p:spPr>
          <a:xfrm>
            <a:off x="1035000" y="466560"/>
            <a:ext cx="7045200" cy="26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81080" y="1486080"/>
            <a:ext cx="84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“东风无力百花残”景物描写在诗中的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698560" y="3746520"/>
            <a:ext cx="37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点明离别的季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渲染离别的气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）烘托人物凄楚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55"/>
          <p:cNvPicPr/>
          <p:nvPr/>
        </p:nvPicPr>
        <p:blipFill>
          <a:blip r:embed="rId2"/>
          <a:stretch/>
        </p:blipFill>
        <p:spPr>
          <a:xfrm>
            <a:off x="1440" y="0"/>
            <a:ext cx="912996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春蚕到死丝方尽，蜡炬成灰泪始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2627280" y="1197000"/>
            <a:ext cx="6494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763640" y="12700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暗喻相思之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4716360" y="1197000"/>
            <a:ext cx="1008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716360" y="1413000"/>
            <a:ext cx="16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蜡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6804000" y="1197000"/>
            <a:ext cx="504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227640" y="127008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暗喻相思之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1403280" y="2781360"/>
            <a:ext cx="66978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蚕到死时丝才吐完，蜡烛要燃完成灰时像泪一样的蜡油才能滴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yu"/>
          <p:cNvPicPr/>
          <p:nvPr/>
        </p:nvPicPr>
        <p:blipFill>
          <a:blip r:embed="rId2"/>
          <a:stretch/>
        </p:blipFill>
        <p:spPr>
          <a:xfrm>
            <a:off x="4419720" y="403848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XZ"/>
          <p:cNvPicPr/>
          <p:nvPr/>
        </p:nvPicPr>
        <p:blipFill>
          <a:blip r:embed="rId3"/>
          <a:stretch/>
        </p:blipFill>
        <p:spPr>
          <a:xfrm>
            <a:off x="0" y="403848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365040" y="40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89680" y="4572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春蚕到死丝方尽，蜡炬成灰泪始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34480" y="1295280"/>
            <a:ext cx="30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丝方尽”——隐指“思方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烛    泪”—— 隐指相思之泪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5181480" y="14479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448240" y="1468440"/>
            <a:ext cx="17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巧用双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526400" y="2362320"/>
            <a:ext cx="42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诗人仅仅是在说”春蚕吐丝，烛泪流干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要表达一种什么样的情感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3942000" y="3297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明确：巧用双关、比喻表达生死不渝的忠贞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533520" y="228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28600" y="990720"/>
            <a:ext cx="8648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春蚕到死丝方尽，蜡炬成灰泪始干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句诗，除了歌颂爱情的执著，人们还赋予了它别的什么意义？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969120" y="2743200"/>
            <a:ext cx="320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爱情的坚贞不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无私奉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838080" y="34290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4495680" y="35053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5003640" y="292572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醇化为一种哲理，其涵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远远超出了它的本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春蚕到死丝方尽，蜡炬成灰泪始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50920" y="1486080"/>
            <a:ext cx="87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蚕到死丝方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谐音，全句是说，自己对于对方的思念，如同春蚕吐丝，到死方休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蜡炬成灰泪始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比喻自己为不能相聚而痛苦，无尽无休，仿佛蜡泪直到蜡烛烧成了灰方始流尽一样。思念不止，表现着眷恋之深，但是终其一生都将处于思念中，却又表明相会无期，前途是无望的，因此，自己的痛苦也将终生以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11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、你是如何理解</a:t>
            </a: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“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春蚕到死丝方尽，蜡炬成灰泪始干</a:t>
            </a: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”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一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丝</a:t>
            </a: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”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即</a:t>
            </a: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思</a:t>
            </a:r>
            <a:r>
              <a:rPr b="1" lang="zh-CN" sz="4400" spc="-1" strike="noStrike">
                <a:solidFill>
                  <a:srgbClr val="003399"/>
                </a:solidFill>
                <a:latin typeface="Verdana"/>
                <a:ea typeface="隶书"/>
              </a:rPr>
              <a:t>”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，泪也因思而落。以春蚕、蜡炬为喻，说明作者对爱和思念至死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968840" y="3718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意：比喻恋人别后相思之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610800" y="4869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意：比喻人们为某种理想而执着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晓镜但愁云鬓改，夜吟应觉月光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468360" y="2852640"/>
            <a:ext cx="82137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早晨照镜子只担忧如云的鬓发改变颜色，青春的容颜消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晚上吟诗，心里愁苦，感到冷月袭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"/>
          <p:cNvSpPr/>
          <p:nvPr/>
        </p:nvSpPr>
        <p:spPr>
          <a:xfrm>
            <a:off x="1116000" y="1197000"/>
            <a:ext cx="5032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627280" y="1197000"/>
            <a:ext cx="1152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645080" y="1197000"/>
            <a:ext cx="115236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1692360" y="1197000"/>
            <a:ext cx="5032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79280" y="134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照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用作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619280" y="18900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2124000" y="134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青年女子的头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代指青春年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4429080" y="18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夜晚吟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380880" y="3276720"/>
            <a:ext cx="4114800" cy="3352320"/>
            <a:chOff x="380880" y="3276720"/>
            <a:chExt cx="4114800" cy="3352320"/>
          </a:xfrm>
        </p:grpSpPr>
        <p:pic>
          <p:nvPicPr>
            <p:cNvPr id="444" name="Picture 3" descr="1_55-4-50-235_20020816163813"/>
            <p:cNvPicPr/>
            <p:nvPr/>
          </p:nvPicPr>
          <p:blipFill>
            <a:blip r:embed="rId2"/>
            <a:stretch/>
          </p:blipFill>
          <p:spPr>
            <a:xfrm>
              <a:off x="380880" y="3276720"/>
              <a:ext cx="4114800" cy="33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" descr="earthshine"/>
            <p:cNvPicPr/>
            <p:nvPr/>
          </p:nvPicPr>
          <p:blipFill>
            <a:blip r:embed="rId3"/>
            <a:stretch/>
          </p:blipFill>
          <p:spPr>
            <a:xfrm>
              <a:off x="2918160" y="3276720"/>
              <a:ext cx="1577160" cy="102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Text Box 5"/>
          <p:cNvSpPr/>
          <p:nvPr/>
        </p:nvSpPr>
        <p:spPr>
          <a:xfrm>
            <a:off x="76320" y="181080"/>
            <a:ext cx="891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晓镜但愁云鬓改，夜吟应觉月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———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写别后的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5228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取了两个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典型的生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场景（设想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0" y="1981080"/>
            <a:ext cx="457200" cy="990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8" descr="2004122023212998067"/>
          <p:cNvPicPr/>
          <p:nvPr/>
        </p:nvPicPr>
        <p:blipFill>
          <a:blip r:embed="rId4"/>
          <a:stretch/>
        </p:blipFill>
        <p:spPr>
          <a:xfrm>
            <a:off x="4495680" y="32767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9"/>
          <p:cNvSpPr/>
          <p:nvPr/>
        </p:nvSpPr>
        <p:spPr>
          <a:xfrm>
            <a:off x="2028240" y="1720800"/>
            <a:ext cx="50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晓镜（但愁）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久别相思，只担心容颜衰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441360" y="240660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夜吟（应觉）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更显体贴入微、关怀备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07732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为何会觉得月光寒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2349000"/>
            <a:ext cx="8093160" cy="35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</a:rPr>
              <a:t>月光的凄清和寒冷实际上反映了主人公内心的孤寂和凄凉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8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55"/>
          <p:cNvPicPr/>
          <p:nvPr/>
        </p:nvPicPr>
        <p:blipFill>
          <a:blip r:embed="rId2"/>
          <a:stretch/>
        </p:blipFill>
        <p:spPr>
          <a:xfrm>
            <a:off x="1440" y="0"/>
            <a:ext cx="912996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蓬山此去无多路，青鸟殷勤为探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84360" y="2276640"/>
            <a:ext cx="82134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方的住处就在不远的蓬莱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却无路可通，可望而不可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希望有青鸟一样的使者殷勤地为我去探看有情人，来往传递消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5867280" y="1197000"/>
            <a:ext cx="720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4788000" y="1197000"/>
            <a:ext cx="865080" cy="14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7740720" y="1197000"/>
            <a:ext cx="504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7597800" y="117360"/>
            <a:ext cx="18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k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564000" y="1270080"/>
            <a:ext cx="30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传说中为西王母传递信息的神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435640" y="189000"/>
            <a:ext cx="21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情谊深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7597800" y="12891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探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850640" y="5086440"/>
            <a:ext cx="28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强作宽慰之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青鸟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WordArt 3" descr=""/>
          <p:cNvPicPr/>
          <p:nvPr/>
        </p:nvPicPr>
        <p:blipFill>
          <a:blip r:embed="rId3"/>
          <a:stretch/>
        </p:blipFill>
        <p:spPr>
          <a:xfrm>
            <a:off x="5931000" y="324000"/>
            <a:ext cx="2493720" cy="4413240"/>
          </a:xfrm>
          <a:prstGeom prst="rect">
            <a:avLst/>
          </a:prstGeom>
          <a:ln w="0">
            <a:noFill/>
          </a:ln>
        </p:spPr>
      </p:pic>
      <p:sp>
        <p:nvSpPr>
          <p:cNvPr id="334" name="WordArt 4"/>
          <p:cNvSpPr txBox="1"/>
          <p:nvPr/>
        </p:nvSpPr>
        <p:spPr>
          <a:xfrm>
            <a:off x="7380360" y="5877000"/>
            <a:ext cx="1515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李商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-228600" y="1676520"/>
            <a:ext cx="8832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四句（首联和颔联）—抒难舍难分之情，表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的坚贞不渝、至死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28600" y="39625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四句（颈联和尾联）—对别后的设想和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117160" y="457200"/>
            <a:ext cx="145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、小结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76320" y="2666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5"/>
          <p:cNvSpPr/>
          <p:nvPr/>
        </p:nvSpPr>
        <p:spPr>
          <a:xfrm>
            <a:off x="612720" y="12700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相见时难别亦难，东风无力百花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612720" y="21337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春蚕到死丝方尽，蜡炬成灰泪始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612720" y="2998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晓镜但愁云鬓改，夜吟应觉月光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612720" y="38624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蓬山此去无多路，青鸟殷勤为探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3060720" y="333360"/>
            <a:ext cx="4319640" cy="952560"/>
            <a:chOff x="3060720" y="333360"/>
            <a:chExt cx="4319640" cy="952560"/>
          </a:xfrm>
        </p:grpSpPr>
        <p:sp>
          <p:nvSpPr>
            <p:cNvPr id="474" name="WordArt 10"/>
            <p:cNvSpPr txBox="1"/>
            <p:nvPr/>
          </p:nvSpPr>
          <p:spPr>
            <a:xfrm>
              <a:off x="3060720" y="333360"/>
              <a:ext cx="2376720" cy="93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黑体"/>
                </a:rPr>
                <a:t>无题</a:t>
              </a:r>
              <a:endPara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475" name="WordArt 11"/>
            <p:cNvSpPr txBox="1"/>
            <p:nvPr/>
          </p:nvSpPr>
          <p:spPr>
            <a:xfrm>
              <a:off x="6084360" y="836640"/>
              <a:ext cx="129600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李商隐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sp>
        <p:nvSpPr>
          <p:cNvPr id="476" name="Text Box 12"/>
          <p:cNvSpPr/>
          <p:nvPr/>
        </p:nvSpPr>
        <p:spPr>
          <a:xfrm>
            <a:off x="7669080" y="3502080"/>
            <a:ext cx="18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3"/>
          <p:cNvGrpSpPr/>
          <p:nvPr/>
        </p:nvGrpSpPr>
        <p:grpSpPr>
          <a:xfrm>
            <a:off x="1618920" y="1270080"/>
            <a:ext cx="5328720" cy="3453840"/>
            <a:chOff x="1618920" y="1270080"/>
            <a:chExt cx="5328720" cy="3453840"/>
          </a:xfrm>
        </p:grpSpPr>
        <p:sp>
          <p:nvSpPr>
            <p:cNvPr id="478" name="Line 14"/>
            <p:cNvSpPr/>
            <p:nvPr/>
          </p:nvSpPr>
          <p:spPr>
            <a:xfrm flipH="1">
              <a:off x="2627280" y="127008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5"/>
            <p:cNvSpPr/>
            <p:nvPr/>
          </p:nvSpPr>
          <p:spPr>
            <a:xfrm flipH="1">
              <a:off x="6660720" y="1270080"/>
              <a:ext cx="21600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6"/>
            <p:cNvSpPr/>
            <p:nvPr/>
          </p:nvSpPr>
          <p:spPr>
            <a:xfrm flipH="1">
              <a:off x="2627280" y="2133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6660720" y="2133000"/>
              <a:ext cx="21600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61892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565164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262728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673200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161892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262728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565164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6732000" y="3861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2527200" y="353880"/>
            <a:ext cx="36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作者介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187280" y="1339560"/>
            <a:ext cx="777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李商隐，汉族，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字义山，号玉溪生、樊南生，晚唐著名诗人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擅长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骈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写作，诗作文学价值也很高，他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和杜牧合称“小李杜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温庭筠合称为“温李”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诗构思新奇，风格浓丽，尤其是一些爱情诗写得缠绵悱恻，为人传诵，是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爱情朦胧诗的代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34920" y="1773360"/>
            <a:ext cx="1557360" cy="3671280"/>
            <a:chOff x="34920" y="1773360"/>
            <a:chExt cx="1557360" cy="3671280"/>
          </a:xfrm>
        </p:grpSpPr>
        <p:pic>
          <p:nvPicPr>
            <p:cNvPr id="338" name="Picture 6" descr="u=560467693,905485120&amp;fm=0&amp;gp=-6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4920" y="1773360"/>
              <a:ext cx="155736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WordArt 7"/>
            <p:cNvSpPr txBox="1"/>
            <p:nvPr/>
          </p:nvSpPr>
          <p:spPr>
            <a:xfrm>
              <a:off x="108000" y="4825800"/>
              <a:ext cx="143964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微软雅黑"/>
                </a:rPr>
                <a:t>李商隐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-110,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-110,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170360" y="765000"/>
            <a:ext cx="380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以“无题”命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960200" y="1773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此类诗歌，大多写爱情，其内容或因不便明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或因难用一个恰当的题目表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因此命为“无题”。再加上政治上的失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此类诗也可能别有所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尤以写相思、失意的作品最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凄婉迷离、优美动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602360" y="4870440"/>
            <a:ext cx="4594320" cy="19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李商隐的“无题诗”，后人多把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们视为爱情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ed83ba38b20e2dd93a87cee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250920" y="404640"/>
            <a:ext cx="57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《无题》“相见时难别亦难”一首，是一首抒离别相思的爱情诗，写难以经受的离恨、终生不渝的回忆及重见无期的哀伤。 是李商隐“无题”诗中最脍炙人口的名篇之一，意境朦胧，感情深沉，极富艺术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-110,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2,-110,2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011%20(9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1066680" y="609480"/>
            <a:ext cx="6172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无 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4400" spc="-1" strike="noStrike">
                <a:solidFill>
                  <a:srgbClr val="008000"/>
                </a:solidFill>
                <a:latin typeface="隶书"/>
                <a:ea typeface="隶书"/>
              </a:rPr>
              <a:t>李商隐</a:t>
            </a:r>
            <a:r>
              <a:rPr b="1" lang="zh-CN" sz="4400" spc="-1" strike="noStrike">
                <a:solidFill>
                  <a:srgbClr val="008000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8000"/>
                </a:solidFill>
                <a:latin typeface="隶书"/>
                <a:ea typeface="隶书"/>
              </a:rPr>
              <a:t>唐</a:t>
            </a:r>
            <a:r>
              <a:rPr b="0" lang="zh-CN" sz="4400" spc="-1" strike="noStrike">
                <a:solidFill>
                  <a:srgbClr val="008000"/>
                </a:solidFill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04920" y="2362320"/>
            <a:ext cx="7543800" cy="3146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相见时难别亦难，东风无力百花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春蚕到死丝方尽，蜡炬成灰泪始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晓镜但愁云鬓改，夜吟应觉月光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蓬山此去无多路，青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殷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4784760" y="55069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708440" y="55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02920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6991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69944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71470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1"/>
          <p:cNvSpPr/>
          <p:nvPr/>
        </p:nvSpPr>
        <p:spPr>
          <a:xfrm>
            <a:off x="4724280" y="547704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052800" y="541008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 ī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3"/>
          <p:cNvSpPr/>
          <p:nvPr/>
        </p:nvSpPr>
        <p:spPr>
          <a:xfrm>
            <a:off x="6072120" y="5369040"/>
            <a:ext cx="228600" cy="595080"/>
          </a:xfrm>
          <a:prstGeom prst="downArrow">
            <a:avLst>
              <a:gd name="adj1" fmla="val 42185"/>
              <a:gd name="adj2" fmla="val 1078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5468760" y="580536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wè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5"/>
          <p:cNvSpPr/>
          <p:nvPr/>
        </p:nvSpPr>
        <p:spPr>
          <a:xfrm>
            <a:off x="7391520" y="5029200"/>
            <a:ext cx="457200" cy="311040"/>
          </a:xfrm>
          <a:prstGeom prst="rightArrow">
            <a:avLst>
              <a:gd name="adj1" fmla="val 50000"/>
              <a:gd name="adj2" fmla="val 36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740000" y="4775040"/>
            <a:ext cx="13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kā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3"/>
          <p:cNvPicPr/>
          <p:nvPr/>
        </p:nvPicPr>
        <p:blipFill>
          <a:blip r:embed="rId2">
            <a:alphaModFix amt="28000"/>
          </a:blip>
          <a:stretch/>
        </p:blipFill>
        <p:spPr>
          <a:xfrm>
            <a:off x="0" y="0"/>
            <a:ext cx="9180360" cy="69264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612720" y="12700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相见时难别亦难，东风无力百花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612720" y="21337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春蚕到死丝方尽，蜡炬成灰泪始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612720" y="2998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晓镜但愁云鬓改，夜吟应觉月光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12720" y="38624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蓬山此去无多路，青鸟殷勤为探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7"/>
          <p:cNvGrpSpPr/>
          <p:nvPr/>
        </p:nvGrpSpPr>
        <p:grpSpPr>
          <a:xfrm>
            <a:off x="3060720" y="333360"/>
            <a:ext cx="4319640" cy="952560"/>
            <a:chOff x="3060720" y="333360"/>
            <a:chExt cx="4319640" cy="952560"/>
          </a:xfrm>
        </p:grpSpPr>
        <p:sp>
          <p:nvSpPr>
            <p:cNvPr id="366" name="WordArt 8"/>
            <p:cNvSpPr txBox="1"/>
            <p:nvPr/>
          </p:nvSpPr>
          <p:spPr>
            <a:xfrm>
              <a:off x="3060720" y="333360"/>
              <a:ext cx="2376720" cy="93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黑体"/>
                </a:rPr>
                <a:t>无题</a:t>
              </a:r>
              <a:endPara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367" name="WordArt 9"/>
            <p:cNvSpPr txBox="1"/>
            <p:nvPr/>
          </p:nvSpPr>
          <p:spPr>
            <a:xfrm>
              <a:off x="6084360" y="836640"/>
              <a:ext cx="129600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宋体"/>
                </a:rPr>
                <a:t>李商隐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sp>
        <p:nvSpPr>
          <p:cNvPr id="368" name="Text Box 10"/>
          <p:cNvSpPr/>
          <p:nvPr/>
        </p:nvSpPr>
        <p:spPr>
          <a:xfrm>
            <a:off x="7669080" y="3502080"/>
            <a:ext cx="18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1"/>
          <p:cNvGrpSpPr/>
          <p:nvPr/>
        </p:nvGrpSpPr>
        <p:grpSpPr>
          <a:xfrm>
            <a:off x="1618920" y="1270080"/>
            <a:ext cx="5328720" cy="3453840"/>
            <a:chOff x="1618920" y="1270080"/>
            <a:chExt cx="5328720" cy="3453840"/>
          </a:xfrm>
        </p:grpSpPr>
        <p:sp>
          <p:nvSpPr>
            <p:cNvPr id="370" name="Line 12"/>
            <p:cNvSpPr/>
            <p:nvPr/>
          </p:nvSpPr>
          <p:spPr>
            <a:xfrm flipH="1">
              <a:off x="2627280" y="127008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60720" y="1270080"/>
              <a:ext cx="21600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4"/>
            <p:cNvSpPr/>
            <p:nvPr/>
          </p:nvSpPr>
          <p:spPr>
            <a:xfrm flipH="1">
              <a:off x="2627280" y="2133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"/>
            <p:cNvSpPr/>
            <p:nvPr/>
          </p:nvSpPr>
          <p:spPr>
            <a:xfrm flipH="1">
              <a:off x="6660720" y="2133000"/>
              <a:ext cx="21600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6"/>
            <p:cNvSpPr/>
            <p:nvPr/>
          </p:nvSpPr>
          <p:spPr>
            <a:xfrm flipH="1">
              <a:off x="161892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7"/>
            <p:cNvSpPr/>
            <p:nvPr/>
          </p:nvSpPr>
          <p:spPr>
            <a:xfrm flipH="1">
              <a:off x="565164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 flipH="1">
              <a:off x="262728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9"/>
            <p:cNvSpPr/>
            <p:nvPr/>
          </p:nvSpPr>
          <p:spPr>
            <a:xfrm flipH="1">
              <a:off x="6732000" y="2997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0"/>
            <p:cNvSpPr/>
            <p:nvPr/>
          </p:nvSpPr>
          <p:spPr>
            <a:xfrm flipH="1">
              <a:off x="161892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1"/>
            <p:cNvSpPr/>
            <p:nvPr/>
          </p:nvSpPr>
          <p:spPr>
            <a:xfrm flipH="1">
              <a:off x="262728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 flipH="1">
              <a:off x="5651640" y="393264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3"/>
            <p:cNvSpPr/>
            <p:nvPr/>
          </p:nvSpPr>
          <p:spPr>
            <a:xfrm flipH="1">
              <a:off x="6732000" y="3861000"/>
              <a:ext cx="215640" cy="79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539640" y="476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相见时难别亦难，东风无力百花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08000" y="1917720"/>
            <a:ext cx="9002520" cy="1922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面困难，而分别也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风衰弱无力，百花残谢，更加使人伤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4716360" y="1197000"/>
            <a:ext cx="100800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7740720" y="119700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788000" y="12700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春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7597800" y="1270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凋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2700360" y="1197000"/>
            <a:ext cx="503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484360" y="127008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离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2126160" y="53020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暮春时节两个有情人的离愁别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whwqy0901-c09"/>
          <p:cNvPicPr/>
          <p:nvPr/>
        </p:nvPicPr>
        <p:blipFill>
          <a:blip r:embed="rId2"/>
          <a:stretch/>
        </p:blipFill>
        <p:spPr>
          <a:xfrm>
            <a:off x="6858000" y="15228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76320" y="76320"/>
            <a:ext cx="485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04920" y="119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0880" y="19810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193760" y="1052640"/>
            <a:ext cx="43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）首句中的两个“难”字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上有何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309680" y="400536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331640" y="470844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亦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2828160" y="394668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机会难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2883240" y="4653000"/>
            <a:ext cx="239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别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难舍难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5797440" y="429264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6019920" y="441972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情深意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21:36:32Z</dcterms:created>
  <dc:creator> </dc:creator>
  <dc:description/>
  <dc:language>en-US</dc:language>
  <cp:lastModifiedBy>USER</cp:lastModifiedBy>
  <dcterms:modified xsi:type="dcterms:W3CDTF">2018-10-25T05:14:44Z</dcterms:modified>
  <cp:revision>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