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voltage.wav" ContentType="audio/x-wav"/>
  <Override PartName="/ppt/media/suction.wav" ContentType="audio/x-wav"/>
  <Override PartName="/ppt/media/image4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5.jpeg" ContentType="image/jpeg"/>
  <Override PartName="/ppt/media/image3.jpeg" ContentType="image/jpeg"/>
  <Override PartName="/ppt/media/drumroll.wav" ContentType="audio/x-wav"/>
  <Override PartName="/ppt/media/image18.jpeg" ContentType="image/jpeg"/>
  <Override PartName="/ppt/media/click.wav" ContentType="audio/x-wav"/>
  <Override PartName="/ppt/media/image17.gif" ContentType="image/gif"/>
  <Override PartName="/ppt/media/image2.jpeg" ContentType="image/jpeg"/>
  <Override PartName="/ppt/media/explode.wav" ContentType="audio/x-wav"/>
  <Override PartName="/ppt/media/image15.jpeg" ContentType="image/jpeg"/>
  <Override PartName="/ppt/media/image16.jpeg" ContentType="image/jpeg"/>
  <Override PartName="/ppt/media/chimes.wav" ContentType="audio/x-wav"/>
  <Override PartName="/ppt/media/hammer.wav" ContentType="audio/x-wav"/>
  <Override PartName="/ppt/media/image12.jpeg" ContentType="image/jpeg"/>
  <Override PartName="/ppt/media/image13.png" ContentType="image/png"/>
  <Override PartName="/ppt/media/image14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BC9-59AD-4BE5-95B7-0A1CD3FD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1C5-17BA-4F5B-94E7-BB80511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D36-A290-4C78-B010-780F8FBF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4E3-AE9C-4284-97E5-A6BE9F8A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C9D-A4F7-4D10-8D16-021C45CB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35E-C25A-4F3B-976A-F516B54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4CD-00C6-4181-A49D-BB7313F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5E8-4078-4140-810C-CAED642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7AB-06FC-4258-BE35-E8FFECD1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21C-0648-4153-A491-4731510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ACE-F8CF-43C3-A1B8-11CC44B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603-1544-4F13-A9A3-3303C29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1C63-BF6E-48B9-9679-C84516A34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voltage.wav"/><Relationship Id="rId3" Type="http://schemas.openxmlformats.org/officeDocument/2006/relationships/audio" Target="../media/explode.wav"/><Relationship Id="rId4" Type="http://schemas.openxmlformats.org/officeDocument/2006/relationships/audio" Target="../media/voltag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15168.htm" TargetMode="External"/><Relationship Id="rId3" Type="http://schemas.openxmlformats.org/officeDocument/2006/relationships/hyperlink" Target="http://baike.baidu.com/view/48830.htm" TargetMode="External"/><Relationship Id="rId4" Type="http://schemas.openxmlformats.org/officeDocument/2006/relationships/hyperlink" Target="http://baike.baidu.com/view/5325.htm" TargetMode="External"/><Relationship Id="rId5" Type="http://schemas.openxmlformats.org/officeDocument/2006/relationships/hyperlink" Target="http://baike.baidu.com/view/1267.htm" TargetMode="External"/><Relationship Id="rId6" Type="http://schemas.openxmlformats.org/officeDocument/2006/relationships/hyperlink" Target="http://baike.baidu.com/view/1565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33080" cy="6994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284720" y="2276640"/>
            <a:ext cx="4044960" cy="16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无 题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50760" y="189000"/>
            <a:ext cx="7221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读闻一多的《也许（葬歌）》，选出分析错误的一项（    ）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也许你真是哭得太累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也许，也许你要睡一睡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那么叫夜鹰不要咳嗽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蛙不要号，蝙蝠不要飞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许阳光拔你的眼帘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许清风刷上你的眉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论谁都不能惊醒你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撑一伞松荫庇护你睡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也许你听这蚯蚓翻泥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听这小草的根须吸水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也许你听这般的音乐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那咒骂的人声更美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那么你先把眼皮闭紧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就让你睡，我让你睡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把黄土轻轻盖着你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叫纸钱儿缓缓的飞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  选自《死水》，新月书店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版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注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92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秋，闻一多的女儿立瑛不幸病逝，年轻的父亲心情异常悲痛，他安葬了爱女，就写下了这首诗。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4895640" cy="413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24720" y="1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55872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．诗人明明知道爱女此次是永世长眠，却偏假想她是“哭得太累”的缘故，又要睡一睡了。这是本首诗构思的关键。后面的诗句全由此引出。一“睡”字，是诗人对爱女的安慰之词，浸透着诗人的爱抚之情，也饱含着诗人无限的悲痛之情。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．诗人在诗中为女儿布置了一个非常安静的环境，这一方面从侧面写出了爱女文静的性格，另一方面也是为了使爱女能够安然长眠，这与诗人的爱抚之情紧密地连结在一起。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．本诗反照和折射出了诗人当时的心情。因为那年头，政治、社会极其昏暗腐败，诗人感到女儿虽然去世太早，但既然离开了这个浑浊的人世，听“蚯蚓翻泥”、听小草的“根须吸水”，总比听那人世的咒骂声要美妙一些，可见诗人对当时社会的厌恶。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．此诗反复吟唱，句子整齐中有错落，除第二节的语气显得比较坚决之外，其他三节几乎都用一种温柔的轻轻的语气写成，就如平时催眠的儿歌一般，让爱女悄悄地睡去。</a:t>
            </a:r>
            <a:r>
              <a:rPr b="0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50760" y="404640"/>
            <a:ext cx="7221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阅读刘湛秋《中国的土地》。完成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～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题。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你可知道这块神奇的土地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埋藏着黄金般的相思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一串串杜鹃花嫣红姹紫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激流的三峡传来神女的叹息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冬天从冻土层到绿色的椰子林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蔷薇色的海浪抚爱着砂粒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你可知道这块神奇的土地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黄皮肤，黑头发是那样美丽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敦厚的性格像微风下的湖水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顽强勇敢又如长江一泻千里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挂霜的葡萄下跃动着欢乐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坚硬的核里已绽开复兴的契机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    选自《无题抒情诗》，重庆出版社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1986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年版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404640"/>
            <a:ext cx="806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是对这首诗的分析，选出错误的一项（    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“埋藏着黄金般的相思”，“黄金般”是用来形容“相思”的对象非常美好，也说明这种“相思”是美好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“挂霜的葡萄”表明已经成熟，“已绽开复兴的契机”，表明中国人民饱经风雨的洗礼，摆脱了幼稚和愚昧，走向了改革开放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中国这块土地之所以牵动着炎黄子孙的“相思”，是因为它拥有壮丽的山川、广阔的沃土、悠久的文化、丰富的物产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作品写美丽的中国人民，从外貌写到内心，再写到性格，层次井然有序，思想逐步加深。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85080" y="333360"/>
            <a:ext cx="5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360" y="692280"/>
            <a:ext cx="77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下面对这首诗的赏析，选出错误的一项 （    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这首诗的前一节写土地，后一节写人民，结构完整，艺术浑成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中国的神奇，不止在于地大物博，更在于人民已经成熟，挣脱了有形的和无形的各种枷锁，思想解放，勇于开拓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本诗十分注重意象的创造，把自己的感情寄寓在典型新颖的意象之中，如“激流的三峡传来神女的叹息”一句，既写出了祖国山川的神奇秀美，又自然地暗示出中华民族的悠久的历史和古老文化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喻，也是创造的意象。如“微风下的湖水”和“一泻千里”的“长江”这两个比喻，就形象地写出了中国人民性格中敦厚的一面和豪放的另一面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5440" y="62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985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66760" y="547560"/>
            <a:ext cx="7150320" cy="60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下面的诗．完成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题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 代 人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顾   城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黑夜给了我黑色的眼睛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却用它寻找光明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选自《黑眼睛》，人民文学出版社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8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版）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66760" y="404640"/>
            <a:ext cx="7437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“黑夜”象征什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不超过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个字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 </a:t>
            </a:r>
            <a:br>
              <a:rPr sz="2400"/>
            </a:b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、“黑色的眼睛”在这里有双重寓意，请用简要语言将这双重寓意写出来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①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不超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字）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②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不超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字）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、“用它寻找光明”这是对“黑夜”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用两个字回答）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84200" y="105264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象征着那场空前的浩劫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3840" y="2781360"/>
            <a:ext cx="513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637000"/>
            <a:ext cx="57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这双眼睛曾被黑暗所欺骗、熏染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645000"/>
            <a:ext cx="61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双眼睛在被欺骗之后发生了深刻的怀疑，渐渐有了一种适应力和穿透力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35840" y="4581360"/>
            <a:ext cx="15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叛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3001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124000" y="3357720"/>
            <a:ext cx="6120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92720" cy="324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620640"/>
            <a:ext cx="784836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邹荻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17—199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代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诗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翻译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湖北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天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。早年就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湖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立师范学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发表长篇叙事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做棺材的人》和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翅膀的人们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后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武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地从事抗日救亡运         动，曾与穆木天、冯乃超等创办《时调》诗刊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入重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复旦大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，以后做过中学教师、报刊编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后历任对外文化联络局办公室主任、《文艺报》编辑部主任、《诗刊》主编等职。著有诗集《青空与林》、《噩梦备忘录》、《尘木集》、《在天门》、《木厂》、《走向北方》、《金塔一样的麦穗》，诗论集《诗的欣赏与创作》、长篇小说《大风歌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79480" y="13460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268280"/>
            <a:ext cx="758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体评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这是一首形式新颖的经典的现代诗歌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最突出的特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理想崇高，意象鲜明，形式特异，形象鲜明，语言简洁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主要技法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设问、想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作年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解放战争时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1387440"/>
            <a:ext cx="705816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表层意义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仆倒于雪地，化为万物的营养，迎来美丽的春天。 </a:t>
            </a:r>
            <a:br>
              <a:rPr sz="3600"/>
            </a:b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深层意义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直面苦难，毫不畏惧，相信为正义的事业、崇高的理想的牺牲的价值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0640"/>
            <a:ext cx="79214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咀嚼感悟：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让人大义凛然，前仆后继？是理想，是为一个高远的理想所激励的时候，人才会认识到死的意义，进而更理解和追求生的意义。 </a:t>
            </a:r>
            <a:br>
              <a:rPr sz="3200"/>
            </a:b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知人论世：</a:t>
            </a: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作者曾经参加中华全国文艺界抗敌协会，</a:t>
            </a: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1948</a:t>
            </a:r>
            <a:r>
              <a:rPr b="1" lang="zh-CN" sz="32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初被迫去香港。 </a:t>
            </a:r>
            <a:br>
              <a:rPr sz="3200"/>
            </a:b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结构理解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结构完整，前后呼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黑体"/>
              </a:rPr>
              <a:t>形式特色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最后五行特别有意思。四个词语独立成行，强调了牺牲之后迎来的美好的未来图景；结尾句既照应开头，又余味隽永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476360" y="2565360"/>
            <a:ext cx="633744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拓展练习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5480" y="476280"/>
            <a:ext cx="72928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徐志摩的《黄鹂》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）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掠颜色飞上了树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看。一只黄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人说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翘着尾尖，它不作声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艳异照亮了浓密——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是春光，火焰，像是热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候它唱，我们静着望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怕惊了它。但它一展翅，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冲破浓密，化一朵彩云；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飞了，不见了，没有——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是春光，火焰，像是热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选自《猛虎集》）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6028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、下面是对这首诗的分析，选出错误的一项（  ）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．“一掠颜色飞上了树”，以“一掠颜色”指代疾飞而来的黄鹂，画出了色彩，更画出了动感。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．“翘着尾尖，它不作声”，这一句只画黄鹂翘着尾尖，又不作声，这是以瞬间之形画其瞬间之静。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．“有人说”一句，只用“看，一只黄鹂”，即鲜活地点染出黄鹂来时所激起的惊慌忙乱之情。 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．第一节最后两句，渐由实而虚，倾诉着由眼前黄鹂所激荡起的欢欣、愉悦和希冀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692280"/>
            <a:ext cx="4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260280"/>
            <a:ext cx="7921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是对这首诗的分析，选出分析错误的一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  ）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．诗的第一节写黄鹂飞来，极为生动地画出了黄鹂疾飞而来默立于树的神采，并表现了诗人久蛰性灵的瞬间解脱的欢乐。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．最后复叠的一句“像是春光，火焰，像是热情”，与前一节结句词语相同而情怀迥异。前面一句是写充实感，而这一句却是写幻想。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．这首诗写的是黄鹂，匆匆飞来飞走的黄鹂是诗人眼前所见，而希望和失望交织的情怀却是诗人胸中所藏之情。 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．此诗所表现的就是对那么一种冲破牢笼、高飞远走，去度自由轻快生涯的渴求，但诗人流露出来的更为持久的还是痛苦。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92280"/>
            <a:ext cx="4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6:29:37Z</dcterms:created>
  <dc:creator>微软用户</dc:creator>
  <dc:description/>
  <dc:language>en-US</dc:language>
  <cp:lastModifiedBy>zmj</cp:lastModifiedBy>
  <dcterms:modified xsi:type="dcterms:W3CDTF">2009-04-09T05:01:57Z</dcterms:modified>
  <cp:revision>14</cp:revision>
  <dc:subject/>
  <dc:title>幻灯片 1</dc:title>
</cp:coreProperties>
</file>