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6E88-D922-4C68-9ACC-50D89C253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11E7-AEDE-4D86-93F1-334758A0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1F5D-4905-425A-B401-3EC8BC6CA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3D11-5F36-4046-9090-D705DEB3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B713-EC51-4060-A5C9-AA1FA67F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1C2B-1129-4D05-B1D8-74073369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EBA3-807C-4A62-BAF6-86C49A70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5583-B696-4677-BB84-A9F0E675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A634-567F-4765-8C89-AF8FDC3E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3ADC-80D8-4EDA-B080-CC250FA5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2BA2-19C1-4C2A-9999-66883736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45CD-915B-47F9-99CB-AE740AB7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B723-62FE-4369-81D8-DA766FC51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773280" y="1268280"/>
            <a:ext cx="7689600" cy="149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8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43" name="矩形 1" descr=""/>
          <p:cNvPicPr/>
          <p:nvPr/>
        </p:nvPicPr>
        <p:blipFill>
          <a:blip r:embed="rId3"/>
          <a:stretch/>
        </p:blipFill>
        <p:spPr>
          <a:xfrm>
            <a:off x="938160" y="450720"/>
            <a:ext cx="7443720" cy="2859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3640" y="3500280"/>
            <a:ext cx="26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毛泽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826920" y="83664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611280" y="620640"/>
            <a:ext cx="79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四、新闻的结构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611280" y="1916280"/>
            <a:ext cx="82818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161b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61bde"/>
                </a:solidFill>
                <a:latin typeface="Arial"/>
              </a:rPr>
              <a:t>新闻的结构有五部分，即标题、导语、主体、背景、结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161b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标题：高度概括已经发生的新闻事实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161b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61bde"/>
                </a:solidFill>
                <a:latin typeface="Arial"/>
              </a:rPr>
              <a:t>导语是新闻开头的第一段或第一句话，它扼要地揭示新闻的核心内容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161b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61bde"/>
                </a:solidFill>
                <a:latin typeface="Arial"/>
              </a:rPr>
              <a:t>主体是新闻的躯干，它用充足的事实表现主题，是对导语内容的进一步扩展和阐释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161b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61bde"/>
                </a:solidFill>
                <a:latin typeface="Arial"/>
              </a:rPr>
              <a:t>背景指的是新闻发生的社会环境和自然环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语：是消息的最后一段落或最后一句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161b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61bde"/>
                </a:solidFill>
                <a:latin typeface="Arial"/>
              </a:rPr>
              <a:t>背景和结语有时可以暗含在主体中。</a:t>
            </a:r>
            <a:r>
              <a:rPr b="1" lang="zh-CN" sz="3600" spc="-1" strike="noStrike">
                <a:solidFill>
                  <a:srgbClr val="161bde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-324000" y="1052640"/>
            <a:ext cx="1332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Arial"/>
                <a:ea typeface="隶书"/>
              </a:rPr>
              <a:t>  </a:t>
            </a:r>
            <a:r>
              <a:rPr b="1" lang="zh-CN" sz="4800" spc="-1" strike="noStrike">
                <a:solidFill>
                  <a:srgbClr val="99cc00"/>
                </a:solidFill>
                <a:latin typeface="Arial"/>
                <a:ea typeface="隶书"/>
              </a:rPr>
              <a:t>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Arial"/>
                <a:ea typeface="隶书"/>
              </a:rPr>
              <a:t>  </a:t>
            </a:r>
            <a:r>
              <a:rPr b="1" lang="zh-CN" sz="4800" spc="-1" strike="noStrike">
                <a:solidFill>
                  <a:srgbClr val="99cc00"/>
                </a:solidFill>
                <a:latin typeface="Arial"/>
                <a:ea typeface="隶书"/>
              </a:rPr>
              <a:t>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Arial"/>
                <a:ea typeface="隶书"/>
              </a:rPr>
              <a:t>  </a:t>
            </a:r>
            <a:r>
              <a:rPr b="1" lang="zh-CN" sz="4800" spc="-1" strike="noStrike">
                <a:solidFill>
                  <a:srgbClr val="99cc00"/>
                </a:solidFill>
                <a:latin typeface="Arial"/>
                <a:ea typeface="隶书"/>
              </a:rPr>
              <a:t>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Arial"/>
                <a:ea typeface="隶书"/>
              </a:rPr>
              <a:t>  </a:t>
            </a:r>
            <a:r>
              <a:rPr b="1" lang="zh-CN" sz="4800" spc="-1" strike="noStrike">
                <a:solidFill>
                  <a:srgbClr val="99cc00"/>
                </a:solidFill>
                <a:latin typeface="Arial"/>
                <a:ea typeface="隶书"/>
              </a:rPr>
              <a:t>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Arial"/>
                <a:ea typeface="隶书"/>
              </a:rPr>
              <a:t>  </a:t>
            </a:r>
            <a:r>
              <a:rPr b="1" lang="zh-CN" sz="4800" spc="-1" strike="noStrike">
                <a:solidFill>
                  <a:srgbClr val="99cc00"/>
                </a:solidFill>
                <a:latin typeface="Arial"/>
                <a:ea typeface="隶书"/>
              </a:rPr>
              <a:t>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826920" y="1413000"/>
            <a:ext cx="360360" cy="3744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97560 h 3744720"/>
              <a:gd name="textAreaBottom" fmla="*/ 3647160 h 37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590920" y="1125360"/>
            <a:ext cx="487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隶书"/>
              </a:rPr>
              <a:t>标题：全文的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隶书"/>
              </a:rPr>
              <a:t>眼睛”，可以只有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隶书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隶书"/>
              </a:rPr>
              <a:t>个大标题，也可以有副标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93520" y="2997360"/>
            <a:ext cx="323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隶书"/>
              </a:rPr>
              <a:t>导语：一般是开头第一句或第一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隶书"/>
              </a:rPr>
              <a:t>是对事件或事件中心的概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982880" y="4581360"/>
            <a:ext cx="6093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隶书"/>
              </a:rPr>
              <a:t>主体：正文部分，是导语内容的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隶书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隶书"/>
              </a:rPr>
              <a:t>体化。阐述生动、具体的新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隶书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隶书"/>
              </a:rPr>
              <a:t>事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我三十万大军南渡长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自主学习－学新闻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. 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齐读课文一遍，掌握字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.1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给加点字注音（多媒体展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芜湖：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ú 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摧枯拉朽：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kū 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荻港：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.2.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解释词语（多媒体展示 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摧枯拉朽：枯指枯草，朽指烂了的木头，比喻腐朽势力很容易打垮，这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指解放军攻势凌厉，不可阻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溃退：溃败后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我三十万大军南渡长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阅读课文，找出这则新闻的“五要素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找出新闻的各个组成部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活动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】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学生交流，教师明确归纳。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渡江战役示意图"/>
          <p:cNvPicPr/>
          <p:nvPr/>
        </p:nvPicPr>
        <p:blipFill>
          <a:blip r:embed="rId2">
            <a:lum contrast="12000"/>
          </a:blip>
          <a:srcRect l="0" t="3795" r="6650" b="654"/>
          <a:stretch/>
        </p:blipFill>
        <p:spPr>
          <a:xfrm>
            <a:off x="0" y="0"/>
            <a:ext cx="9612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684360" y="549360"/>
            <a:ext cx="81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、阅读课文，找出新闻的各个组成部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684360" y="242100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标题：我三十万大军胜利南渡长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611280" y="3429000"/>
            <a:ext cx="76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导语：英勇的人民解放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渡过长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684360" y="4292640"/>
            <a:ext cx="77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主体：渡江战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诸城进击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684360" y="5373720"/>
            <a:ext cx="69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语：人民解放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命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6"/>
          <p:cNvSpPr/>
          <p:nvPr/>
        </p:nvSpPr>
        <p:spPr>
          <a:xfrm>
            <a:off x="611280" y="907920"/>
            <a:ext cx="75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找出这则新闻的要素。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84360" y="2349360"/>
            <a:ext cx="7777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间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4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点：长江前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物：人民解放军三十万大军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事件：突破敌阵，占领南岸广大地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611280" y="549360"/>
            <a:ext cx="828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84360" y="549360"/>
            <a:ext cx="80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“新华社长江前线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49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时电”属于新闻的什么？在新闻中起什么作用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84360" y="2997360"/>
            <a:ext cx="806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答：是新闻的电头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交代了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通讯社名称、发电地点和发电时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电头的作用：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表明材料真实，报道及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971640" y="5373720"/>
            <a:ext cx="7561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著名通讯社名称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新华社（中国）   美联社（美国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             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路透社（法国）   塔斯社（俄罗斯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             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共同社（日本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684360" y="765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合作探究－析新闻 </a:t>
            </a:r>
            <a:r>
              <a:rPr b="0" lang="zh-CN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826920" y="3645000"/>
            <a:ext cx="77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⑴ 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一方面是解放军不到二十四小时，突破敌阵，摧枯拉朽，渡江后乘胜追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⑵ 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另一方面是国民党军，经营了三个半月的防线，军无斗志，土崩瓦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1979640"/>
            <a:ext cx="77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本文的重点，在哪一个要素上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5"/>
          <p:cNvSpPr/>
          <p:nvPr/>
        </p:nvSpPr>
        <p:spPr>
          <a:xfrm>
            <a:off x="468360" y="76500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这篇消息报道都是一场大战，只用不到二百字，你觉得效果如何，请说出自己的感觉。作者为什么不详细写渡江战斗的和情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395280" y="328464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本文不足二百字，却简而不陋，是大手笔，堪称经典。对于渡江和战斗的情景，作者没有详细描写，只是几笔勾勒，粗线条的介绍了渡江的时间、地点及事件的结局。因为敌人“军无斗志，纷纷溃退”，在三十万大军面前简直不堪一击，所以也不值得去详细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-81360" y="4508640"/>
            <a:ext cx="237384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毛泽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874080" y="765000"/>
            <a:ext cx="18262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伟大的诗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伟大的领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3"/>
          <p:cNvPicPr/>
          <p:nvPr/>
        </p:nvPicPr>
        <p:blipFill>
          <a:blip r:embed="rId2"/>
          <a:stretch/>
        </p:blipFill>
        <p:spPr>
          <a:xfrm>
            <a:off x="3676680" y="0"/>
            <a:ext cx="5467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684360" y="620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33cc33"/>
                </a:solidFill>
                <a:latin typeface="Arial"/>
              </a:rPr>
              <a:t>有人认为，消息是客观公正的报道新近发生的事情。既然是客观报道，就不应在字里行间带有感情色彩 。找一找本文中的带有感情色彩的词语，品味一下，说说理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826920" y="3068640"/>
            <a:ext cx="71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33cc33"/>
                </a:solidFill>
                <a:latin typeface="Arial"/>
              </a:rPr>
              <a:t>其实，这是对新闻语言的片面理解。作者在写作新闻时，总是在文章中凝聚自己的感情的。②本文中的一些句子中的词语，包含了作者对解放军的高度赞扬，也充满了对敌人的嘲笑和讽刺。作者爱憎分明的感情，也起到了很好的宣传效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细读课文，列举文中表达准确的词语，分析其效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英勇的人民解放军二十一日已有大约三十万人渡过长江。”“已”和“大约”能否去掉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明确：不能去掉，“已”是“已经”，表明解放军三十万人已经渡过长江；“大约”表明有三十万人是一个概数，不是确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2“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国民党反动派经营了三个半月的长江防线，遇着人民解放军好似摧枯拉朽，军无斗志，纷纷溃退。”“经营”能否换成“构筑”，“溃退”能否换成“败退”，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明确：不能，因为“经营”有精心筹划和准备之意，更能够说明解放军的英勇。“溃退”更能说明国民党军队败退的程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从词语的意义和表达的情感入手。这句话表达了对人民解放军赞美的情感，字里行间透出了豪迈的情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堂小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本文短小精粹、一气呵成。本文所反映的是一个重大的历史事件，我军南渡长江，揭开了解放全中国的序幕。这一战役声势浩大，人民解放军百万大军，从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000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余华里的战线上，冲破敌阵，横渡长江。可以想见，这场战役历经大小战斗无数，值得报道的动人事迹无数，但是，作者正文只用了区区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99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字（含标点），便做了简洁而不失完整的报道。全文气韵生动，令人叹为观止</a:t>
            </a:r>
            <a:r>
              <a:rPr b="0" lang="zh-CN" sz="3200" spc="-1" strike="noStrike">
                <a:solidFill>
                  <a:srgbClr val="ff99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23414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牛刀小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4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检测练习：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消息的主要结构有三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其中导语的位置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作用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消息的主要特点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消息的六要素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3465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请揣摩下面句子加粗词语的含义。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国民党反动派经营了三个半月的长江防线，遇着人民解放军好似摧枯拉朽，军无斗志，纷纷溃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不到二十四小时，三十万人民解放军即已突破敌阵，占领南岸广大地区，现正向繁昌、铜陵、青阳、荻港、鲁港诸城进击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毛泽东最广为流传的八句话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56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最鼓舞人心的一句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星星之火，可以燎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最豪迈最傲气的一句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切反对派都是纸老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条千古不变的真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枪杆子里面出政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最谦虚的一句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只是万里长征的第一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最震撼人心的一句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不犯我，我不犯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最充满信任的一句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办事我放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最无奈的一句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要下雨，娘要嫁人，由他去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4723920"/>
            <a:ext cx="48243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毛泽东故居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湖南湘潭县韶山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48000" y="819000"/>
            <a:ext cx="3995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毛泽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89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7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：伟大的马克思主义者，无产阶级革命家、战略家和理论家，中国共产党、中国人民解放军和中华人民共和国的主要缔造者和领导人。湖南湘潭人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xinsrc_2068afad6ce541cdb86c11172b4edd03"/>
          <p:cNvPicPr/>
          <p:nvPr/>
        </p:nvPicPr>
        <p:blipFill>
          <a:blip r:embed="rId2"/>
          <a:stretch/>
        </p:blipFill>
        <p:spPr>
          <a:xfrm>
            <a:off x="250920" y="836640"/>
            <a:ext cx="51116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xinsimple_60d55fe432c44446b8dcd0595ac4dfac"/>
          <p:cNvPicPr/>
          <p:nvPr/>
        </p:nvPicPr>
        <p:blipFill>
          <a:blip r:embed="rId2"/>
          <a:stretch/>
        </p:blipFill>
        <p:spPr>
          <a:xfrm>
            <a:off x="1042920" y="333360"/>
            <a:ext cx="1609920" cy="230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xinsimple_5ad36e57f843491d9e8c385c44fbec77"/>
          <p:cNvPicPr/>
          <p:nvPr/>
        </p:nvPicPr>
        <p:blipFill>
          <a:blip r:embed="rId3"/>
          <a:stretch/>
        </p:blipFill>
        <p:spPr>
          <a:xfrm>
            <a:off x="4067280" y="404640"/>
            <a:ext cx="1657080" cy="2303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xinsrc_9bd02dd62bf3409d914adb315d2b18b3"/>
          <p:cNvPicPr/>
          <p:nvPr/>
        </p:nvPicPr>
        <p:blipFill>
          <a:blip r:embed="rId4"/>
          <a:stretch/>
        </p:blipFill>
        <p:spPr>
          <a:xfrm>
            <a:off x="912960" y="3351240"/>
            <a:ext cx="1677960" cy="2376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xinsimple_100d8900e6924dcc81a9cde5118582dc"/>
          <p:cNvPicPr/>
          <p:nvPr/>
        </p:nvPicPr>
        <p:blipFill>
          <a:blip r:embed="rId5"/>
          <a:stretch/>
        </p:blipFill>
        <p:spPr>
          <a:xfrm>
            <a:off x="6804000" y="404640"/>
            <a:ext cx="1655640" cy="2232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xinsimple_585d1604603b4a9fa0609ad6d8fb617c"/>
          <p:cNvPicPr/>
          <p:nvPr/>
        </p:nvPicPr>
        <p:blipFill>
          <a:blip r:embed="rId6"/>
          <a:stretch/>
        </p:blipFill>
        <p:spPr>
          <a:xfrm>
            <a:off x="3059280" y="3141720"/>
            <a:ext cx="3384360" cy="2519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xinsimple_f0adb437c7724af78f44ee6dd114fbf4"/>
          <p:cNvPicPr/>
          <p:nvPr/>
        </p:nvPicPr>
        <p:blipFill>
          <a:blip r:embed="rId7"/>
          <a:stretch/>
        </p:blipFill>
        <p:spPr>
          <a:xfrm>
            <a:off x="6877080" y="3429000"/>
            <a:ext cx="1582560" cy="2214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1527120" y="2781360"/>
            <a:ext cx="64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395280" y="263700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91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在湖南省立第四师范学校读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924360" y="2708280"/>
            <a:ext cx="20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92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年在上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6659640" y="2637000"/>
            <a:ext cx="21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927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年大革命失败前在武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3132000" y="575316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938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年春在延安窑洞撰写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论持久战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395280" y="58262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936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年长征途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6659640" y="5753160"/>
            <a:ext cx="24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947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年转战陕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00360" y="-360"/>
            <a:ext cx="4321080" cy="638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毛泽东在他漫长的革命征途上，每一步踏响一曲豪歌。他留给后人的一卷雄伟诗词，流光溢彩，瑰丽壮美，发黄钟大吕之强音，吐山川日月之精华，在一代又一代人的心灵深处激起强烈的共鸣和回响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it[11]"/>
          <p:cNvPicPr/>
          <p:nvPr/>
        </p:nvPicPr>
        <p:blipFill>
          <a:blip r:embed="rId2"/>
          <a:stretch/>
        </p:blipFill>
        <p:spPr>
          <a:xfrm>
            <a:off x="539640" y="404640"/>
            <a:ext cx="3672000" cy="27370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468360" y="321300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毛泽东同志诞辰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1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周年纪念册封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900360" y="4280040"/>
            <a:ext cx="228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沁园春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•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长沙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沁园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雪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49323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毛泽东不仅是卓越的政治家、思想家、军事家和诗人，同时也是一位杰出的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新闻工作者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他写了数百篇消息、述评、评论、答记者问、调查报告、广播讲话等新闻作品，都始终贯穿着一种激昂慷慨、气势恢宏的崇高基调，读来能使人热血沸腾、心潮澎湃。在解放战争节节胜利的大好形势下，他更是欢欣鼓舞，挥毫泼墨写出一系列脍炙人口的战争报道。随着岁月的流逝，尽管其作品已失去新闻价值，但其审美价值却历久不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it[8]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932360" y="765000"/>
            <a:ext cx="3240000" cy="4104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5669640" y="503388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949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年在开国大典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000" y="1557000"/>
            <a:ext cx="8272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1949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年初，淮海、辽沈、平津三大战役结束，我人民解放军在全国取得胜利已成定局。但国民党反动政府依然负隅顽抗，在对长江防线经过三个半月的苦心经营之后，于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日悍然拒绝签订国内和平协定。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21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日，毛主席和朱德总司令立即发布了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向全国进军的命令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我人民解放军于该日凌晨发起了渡江战役。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22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日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时，新华社播发了毛泽东同志撰写的消息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我三十万大军胜利渡过长江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报道了中路军万船齐发，突破敌阵，占领南岸广大地区的战况。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22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日夜，毛泽东同志又撰写了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人民解放军百万大军横渡长江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全面报道前线最新战况的新闻稿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3"/>
          <p:cNvSpPr txBox="1"/>
          <p:nvPr/>
        </p:nvSpPr>
        <p:spPr>
          <a:xfrm>
            <a:off x="900000" y="476280"/>
            <a:ext cx="3200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>
                    <a:alpha val="97000"/>
                  </a:srgbClr>
                </a:solidFill>
                <a:latin typeface="宋体"/>
              </a:rPr>
              <a:t>时代背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>
                  <a:alpha val="97000"/>
                </a:srgbClr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900000" y="476280"/>
            <a:ext cx="73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84360" y="620640"/>
            <a:ext cx="799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971640" y="620640"/>
            <a:ext cx="74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新闻的有关知识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179280" y="198900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61bde"/>
                </a:solidFill>
                <a:latin typeface="Arial"/>
              </a:rPr>
              <a:t>一、新闻的概念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539640" y="2708280"/>
            <a:ext cx="842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539640" y="3141720"/>
            <a:ext cx="8209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161b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bde"/>
                </a:solidFill>
                <a:latin typeface="Arial"/>
              </a:rPr>
              <a:t>新闻这种文体从广义上来讲，包括消息、通讯、报告文学。从狭义上来讲，只指消息，本文就是一篇报道及时的消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61b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bde"/>
                </a:solidFill>
                <a:latin typeface="Arial"/>
              </a:rPr>
              <a:t>新闻也叫消息，或叫新闻消息，它是新近发生的具有社会意义的重大事实的简短报道的文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611280" y="620640"/>
            <a:ext cx="79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二、新闻的要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84360" y="1844640"/>
            <a:ext cx="799128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161b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61bde"/>
                </a:solidFill>
                <a:latin typeface="Arial"/>
              </a:rPr>
              <a:t>六要素（也就是记叙要素）：人物、时间、地点、事件发生的原因、经过、结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539640" y="3645000"/>
            <a:ext cx="842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三、新闻在表达方式上的特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755640" y="4724280"/>
            <a:ext cx="806436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161b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61bde"/>
                </a:solidFill>
                <a:latin typeface="Arial"/>
              </a:rPr>
              <a:t>以记叙为主，可适当议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1:50:28Z</dcterms:created>
  <dc:creator/>
  <dc:description/>
  <cp:keywords/>
  <dc:language>en-US</dc:language>
  <cp:lastModifiedBy>Microsoft</cp:lastModifiedBy>
  <dcterms:modified xsi:type="dcterms:W3CDTF">2017-09-05T00:56:03Z</dcterms:modified>
  <cp:revision>36</cp:revision>
  <dc:subject/>
  <dc:title>幻灯片 1</dc:title>
</cp:coreProperties>
</file>