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A0A-6F9D-451C-86AD-8313E9B8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67D-B658-4E26-B303-27574B3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6F8-210D-4E16-A36C-490A528D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F7E-E8C0-44F8-8F5C-93C39EEA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028-C9FA-4789-BE44-FBAE7B2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264-40AC-4F6C-9CC4-2CB748A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2F6-D364-41FF-84F6-CBBCD79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522-DE26-45E2-91A8-CF04409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BEB-B9C3-4892-91E0-31C0215D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E0D-A59B-462C-AFEA-2343595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615-F173-4AB0-A854-EAA8A25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7D6-D376-45CE-BD9B-18A781B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B75-6712-4709-B675-812ACFF90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0574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汉仪秀英体简"/>
              </a:rPr>
              <a:t>收束心情，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迷你简黑咪"/>
              </a:rPr>
              <a:t>我们又启程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5" descr="小图01"/>
          <p:cNvPicPr/>
          <p:nvPr/>
        </p:nvPicPr>
        <p:blipFill>
          <a:blip r:embed="rId2"/>
          <a:stretch/>
        </p:blipFill>
        <p:spPr>
          <a:xfrm>
            <a:off x="621828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小图01"/>
          <p:cNvPicPr/>
          <p:nvPr/>
        </p:nvPicPr>
        <p:blipFill>
          <a:blip r:embed="rId3"/>
          <a:stretch/>
        </p:blipFill>
        <p:spPr>
          <a:xfrm>
            <a:off x="5796000" y="0"/>
            <a:ext cx="1282680" cy="1309680"/>
          </a:xfrm>
          <a:prstGeom prst="rect">
            <a:avLst/>
          </a:prstGeom>
          <a:ln w="0">
            <a:noFill/>
          </a:ln>
        </p:spPr>
      </p:pic>
      <p:pic>
        <p:nvPicPr>
          <p:cNvPr id="46" name="小图01" descr="小图01"/>
          <p:cNvPicPr/>
          <p:nvPr/>
        </p:nvPicPr>
        <p:blipFill>
          <a:blip r:embed="rId4"/>
          <a:stretch/>
        </p:blipFill>
        <p:spPr>
          <a:xfrm>
            <a:off x="7862760" y="554832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47" name="小图01" descr="小图01"/>
          <p:cNvPicPr/>
          <p:nvPr/>
        </p:nvPicPr>
        <p:blipFill>
          <a:blip r:embed="rId5"/>
          <a:stretch/>
        </p:blipFill>
        <p:spPr>
          <a:xfrm>
            <a:off x="6781680" y="5334120"/>
            <a:ext cx="1282680" cy="1309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" descr="边纹6"/>
          <p:cNvPicPr/>
          <p:nvPr/>
        </p:nvPicPr>
        <p:blipFill>
          <a:blip r:embed="rId6"/>
          <a:stretch/>
        </p:blipFill>
        <p:spPr>
          <a:xfrm>
            <a:off x="762120" y="5791320"/>
            <a:ext cx="5451480" cy="657000"/>
          </a:xfrm>
          <a:prstGeom prst="rect">
            <a:avLst/>
          </a:prstGeom>
          <a:ln w="0">
            <a:noFill/>
          </a:ln>
        </p:spPr>
      </p:pic>
      <p:pic>
        <p:nvPicPr>
          <p:cNvPr id="49" name="3052310_155534025_2" descr=""/>
          <p:cNvPicPr/>
          <p:nvPr/>
        </p:nvPicPr>
        <p:blipFill>
          <a:blip r:embed="rId7"/>
          <a:stretch/>
        </p:blipFill>
        <p:spPr>
          <a:xfrm>
            <a:off x="533520" y="12193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补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标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般包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引标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、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标、副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主标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也叫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正标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概括与说明主要事实和思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引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：提示消息的思想意义或交代背景，说明原因，烘托气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在主标之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1115ab"/>
                </a:solidFill>
                <a:latin typeface="Arial"/>
                <a:ea typeface="黑体"/>
              </a:rPr>
              <a:t>副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：提示报道的事实结果，或作内容提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在主标之下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15328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补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消息固定的格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5ab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倒金字塔结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：由主到次地组织内容，高潮在前，即把最重要的信息放在消息的最前面。让读者在最短的时间内把握住最重要的信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15328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补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电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导语之前，一般交代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通讯社名称、发电地点和发电时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6560" y="3313080"/>
            <a:ext cx="45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头的作用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表明材料真实，报道及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4076640"/>
            <a:ext cx="74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五大著名通讯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华社（中国）    美联社（美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路透社（法国）    塔斯社（俄罗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共同社（日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65000"/>
            <a:ext cx="9144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读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三十万大军胜利南渡长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完成以下练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在文中找出新闻的各个组成部分并做好批注。（教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找出并概括消息的“六要素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作业本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76360" y="1844640"/>
            <a:ext cx="6551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课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48400" y="5493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识回顾，展现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18600" y="1773360"/>
            <a:ext cx="1268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口头回答新闻的有关常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83520" y="2924280"/>
            <a:ext cx="1268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运用有关知识解读新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333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请找出下面这则新闻的标题、导语和主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268280"/>
            <a:ext cx="8354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温家宝强调加强应急管理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务院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在京召开全国应急管理工作会议。中共中央政治局常委、国务院总理温家宝强调，加强全国应急体系建设和应急管理工作，必须做好健全组织体系、运行机制、保障制度等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5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导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务院于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在京召开全国应急管理工作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1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主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58972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共中央政治局常委、国务院总理温家宝强调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保障制度等工作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41300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560" y="836280"/>
            <a:ext cx="8461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01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伦敦奥运会 羽毛球赛事落幕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国军团包揽五金 </a:t>
            </a:r>
            <a:br>
              <a:rPr sz="40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林丹夺冠实现蝉联“全满贯”    中国首获奥运男双冠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500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伦敦奥运会羽毛球比赛在伦敦温布利体育馆落下帷幕，中国军团包揽了男单、女单、男双、女双和混双全部五枚金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……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2920" y="134136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三十万大军胜利南渡长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1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708360" y="3054600"/>
            <a:ext cx="4896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毛泽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893-1976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润之， 湖南湘潭人。中国伟大的无产阶级革命家、军事家、思想家、诗人、书法家。“毛泽东思想”的主要创立者，中华人民共和国“开国领袖”之一。主要作品集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毛泽东选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毛泽东文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著名诗词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沁园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七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七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民解放军占领南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6"/>
          <a:stretch/>
        </p:blipFill>
        <p:spPr>
          <a:xfrm>
            <a:off x="641520" y="1590840"/>
            <a:ext cx="4035240" cy="85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http://cimg.163.com/news/2005/11/29/20051129163908f0c87.jpg"/>
          <p:cNvPicPr/>
          <p:nvPr/>
        </p:nvPicPr>
        <p:blipFill>
          <a:blip r:embed="rId7"/>
          <a:stretch/>
        </p:blipFill>
        <p:spPr>
          <a:xfrm>
            <a:off x="819000" y="2479680"/>
            <a:ext cx="26226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533520"/>
            <a:ext cx="7342200" cy="54036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人争做“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五一居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手好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张能言会道的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肚子名篇佳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笔好文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颗积极纯真的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88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6669991_125938350103_2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3906115_220036165366_2" descr=""/>
          <p:cNvPicPr/>
          <p:nvPr/>
        </p:nvPicPr>
        <p:blipFill>
          <a:blip r:embed="rId3"/>
          <a:srcRect l="0" t="0" r="0" b="4156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9" descr="山底5.png"/>
          <p:cNvPicPr/>
          <p:nvPr/>
        </p:nvPicPr>
        <p:blipFill>
          <a:blip r:embed="rId3"/>
          <a:stretch/>
        </p:blipFill>
        <p:spPr>
          <a:xfrm>
            <a:off x="0" y="474984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8"/>
          <p:cNvSpPr/>
          <p:nvPr/>
        </p:nvSpPr>
        <p:spPr>
          <a:xfrm>
            <a:off x="179280" y="1773360"/>
            <a:ext cx="864072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毛泽东新闻作品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两则消息分别刊载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民日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辽沈、淮海、平津三大战役结束后，人民解放军在全国取得胜利已成定局，但国民党反动政府仍然负隅顽抗，在对长江防线经过三个半月的苦心经营之后，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悍然拒绝签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内和平协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毛泽东发布了“向全国进军”的命令，人民解放军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子夜发起了渡江战役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夜，毛泽东撰写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民解放军百万大军横渡长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新华社全文播发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三十万大军胜利南渡长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报道了我军万船齐发、突破敌阵、占领南岸广大地区的战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6"/>
          <a:stretch/>
        </p:blipFill>
        <p:spPr>
          <a:xfrm>
            <a:off x="0" y="119700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31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4"/>
          <a:stretch/>
        </p:blipFill>
        <p:spPr>
          <a:xfrm>
            <a:off x="7932600" y="6230880"/>
            <a:ext cx="1219320" cy="67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S00554_"/>
          <p:cNvPicPr/>
          <p:nvPr/>
        </p:nvPicPr>
        <p:blipFill>
          <a:blip r:embed="rId5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24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黑体 Std R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字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0"/>
          <p:cNvSpPr/>
          <p:nvPr/>
        </p:nvSpPr>
        <p:spPr>
          <a:xfrm>
            <a:off x="1081080" y="2507400"/>
            <a:ext cx="442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 u="sng">
                <a:solidFill>
                  <a:srgbClr val="0000cc"/>
                </a:solidFill>
                <a:uFillTx/>
                <a:latin typeface="宋体"/>
              </a:rPr>
              <a:t>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退      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宋体"/>
              </a:rPr>
              <a:t>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5"/>
          <p:cNvSpPr/>
          <p:nvPr/>
        </p:nvSpPr>
        <p:spPr>
          <a:xfrm>
            <a:off x="1026720" y="263700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0"/>
          <p:cNvSpPr/>
          <p:nvPr/>
        </p:nvSpPr>
        <p:spPr>
          <a:xfrm>
            <a:off x="3635280" y="2637000"/>
            <a:ext cx="15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D:\我的文档\Tencent Files\923213587\FileRecv\预习反馈.gif"/>
          <p:cNvPicPr/>
          <p:nvPr/>
        </p:nvPicPr>
        <p:blipFill>
          <a:blip r:embed="rId6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31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BS00554_"/>
          <p:cNvPicPr/>
          <p:nvPr/>
        </p:nvPicPr>
        <p:blipFill>
          <a:blip r:embed="rId5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36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一写字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0"/>
          <p:cNvSpPr/>
          <p:nvPr/>
        </p:nvSpPr>
        <p:spPr>
          <a:xfrm>
            <a:off x="1031760" y="239652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宋体"/>
                <a:ea typeface="Times New Roman"/>
              </a:rPr>
              <a:t>w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 ）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2195640" y="2852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D:\我的文档\Tencent Files\923213587\FileRecv\预习反馈.gif"/>
          <p:cNvPicPr/>
          <p:nvPr/>
        </p:nvPicPr>
        <p:blipFill>
          <a:blip r:embed="rId6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24000" y="1000800"/>
            <a:ext cx="8569080" cy="50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找出下列句子中的成语并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党反动派经营了三个半月的长江防线，遇着人民解放军好似摧枯拉朽，军无斗志纷纷溃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摧枯拉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江风平浪静，我军万船齐放，直取对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平浪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95280" y="3141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5ab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115ab"/>
                </a:solidFill>
                <a:latin typeface="Arial"/>
              </a:rPr>
              <a:t>比喻腐朽势力很容易被打垮，这里指解放军攻势凌厉，不可阻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450680" y="566100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5ab"/>
                </a:solidFill>
                <a:latin typeface="Arial"/>
              </a:rPr>
              <a:t>没有风浪，水面很平静。比喻平静无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标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我三十万大军胜利南渡长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709720"/>
            <a:ext cx="860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导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英勇的人民解放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渡过长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718080"/>
            <a:ext cx="828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主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渡江战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诸城进击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458136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结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人民解放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命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分析消息的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仔细阅读课文，找出这则消息的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700280"/>
            <a:ext cx="828180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时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地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人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  <a:ea typeface="黑体"/>
              </a:rPr>
              <a:t>何事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  <a:ea typeface="黑体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162864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午夜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2708280"/>
            <a:ext cx="5905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江前线（芜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安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0240" y="3789360"/>
            <a:ext cx="3620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解放军三十万大军 、敌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27880" y="4869000"/>
            <a:ext cx="3746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突破敌阵，占领南岸广大地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54936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549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新华社长江前线二十二日二时电”属于新闻的什么？在新闻中起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3068640"/>
            <a:ext cx="874872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是新闻的电头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代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通讯社名称、发电地点和发电时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头的作用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表明材料真实，报道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5084280"/>
            <a:ext cx="762012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民解放军正以自己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英雄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战斗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坚决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执行毛主席朱总司令的命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476360" y="476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三十万大军胜利南渡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588000" y="549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标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0948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华社长江前线二十二日二时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227640" y="907920"/>
            <a:ext cx="198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电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50920" y="1773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英勇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民解放军二十一日已有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中宋"/>
              </a:rPr>
              <a:t>大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十万人渡过长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39152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导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28600" y="2743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渡江战斗于二十日午夜开始，地点在芜湖、安庆之间。国民党反动派经营了三个半月的长江防线，遇着人民解放军好似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摧枯拉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军无斗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纷纷溃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长江风平浪静，我军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万船齐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直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岸，不到二十四小时，三十万人民解放军即已突破敌阵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占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南岸广大地区，现正向繁昌、铜陵、青阳、荻港、鲁港诸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进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7467480" y="530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结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7620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主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500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民解放军百万大军横渡长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完成以下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课文中圈出（或概括）新闻的六要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找出本文的标题、电头、导语、主体，给主体部分分层，找出主体中的议论句子并说说它的作用。（在教材中批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我们的行囊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相信自己，勇敢面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养成习惯，重在坚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注重方法，培养能力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222936_150935049964_2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6669991_125938350103_2" descr=""/>
          <p:cNvPicPr/>
          <p:nvPr/>
        </p:nvPicPr>
        <p:blipFill>
          <a:blip r:embed="rId3"/>
          <a:stretch/>
        </p:blipFill>
        <p:spPr>
          <a:xfrm>
            <a:off x="0" y="6095880"/>
            <a:ext cx="3657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迷你简黑咪"/>
              </a:rPr>
              <a:t>有关文言文、古诗词的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强调预习和自学（充分熟读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利用注释解决字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疑难问题课堂上勇敢提问，敢于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打破对参考书的依赖，提升自我阅读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43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8424276_151951503156_2" descr=""/>
          <p:cNvPicPr/>
          <p:nvPr/>
        </p:nvPicPr>
        <p:blipFill>
          <a:blip r:embed="rId2"/>
          <a:srcRect l="0" t="0" r="0" b="4138"/>
          <a:stretch/>
        </p:blipFill>
        <p:spPr>
          <a:xfrm>
            <a:off x="3657600" y="4941720"/>
            <a:ext cx="548640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6669991_125938350103_2" descr=""/>
          <p:cNvPicPr/>
          <p:nvPr/>
        </p:nvPicPr>
        <p:blipFill>
          <a:blip r:embed="rId3"/>
          <a:stretch/>
        </p:blipFill>
        <p:spPr>
          <a:xfrm>
            <a:off x="0" y="6095880"/>
            <a:ext cx="3657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3278160" cy="410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6156360" cy="4713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9280" y="189000"/>
            <a:ext cx="8713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消息二则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900000" y="47628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62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19564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新闻的有关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新闻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9640" y="270828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24000" y="1844640"/>
            <a:ext cx="8642160" cy="318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闻这种文体从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广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来讲，包括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消息、通讯、特写、人物专访、报告文学、新闻评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。从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狭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来讲，只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消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本文就是一篇报道及时的消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息有三个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bde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．让事实说话，内容真实准确，不能虚构或夸张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真实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bde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．报道迅速及时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时效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bde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．简明扼要，便于接受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传播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1128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新闻的要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4360" y="1557360"/>
            <a:ext cx="7991280" cy="163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六要素（五个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</a:rPr>
              <a:t>W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加一个</a:t>
            </a:r>
            <a:r>
              <a:rPr b="1" lang="en-US" sz="3600" spc="-1" strike="noStrike">
                <a:solidFill>
                  <a:srgbClr val="161bde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Whe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Where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What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Wh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How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9640" y="364500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新闻在表达方式上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4724280"/>
            <a:ext cx="806436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记叙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为主，可适当议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新闻的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836640"/>
            <a:ext cx="8820000" cy="329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新闻的结构有五部分，即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标题、导语、主体、背景、结语</a:t>
            </a: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标题：高度概括新闻事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导语：是新闻开头的第一段或第一句话，它扼要地揭示新闻的核心内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主体：是新闻的躯干，它用充足的事实表现主题，是对导语内容的进一步扩展和阐释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背景：指的是新闻发生的社会环境和自然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161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bde"/>
                </a:solidFill>
                <a:latin typeface="Arial"/>
              </a:rPr>
              <a:t>结语：是消息的最后一段或最后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692280"/>
            <a:ext cx="860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新闻的五个部分中，你认为最重要、最有价值的是哪一部分？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72200" y="32846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导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50:28Z</dcterms:created>
  <dc:creator/>
  <dc:description/>
  <cp:keywords/>
  <dc:language>en-US</dc:language>
  <cp:lastModifiedBy>wgp</cp:lastModifiedBy>
  <dcterms:modified xsi:type="dcterms:W3CDTF">2017-09-04T17:29:05Z</dcterms:modified>
  <cp:revision>62</cp:revision>
  <dc:subject/>
  <dc:title>幻灯片 1</dc:title>
</cp:coreProperties>
</file>