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653-C970-4088-9F60-36574A8C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402-E01A-489F-BA38-1D9D8AE4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D4E-FFDE-4EC0-9B49-60EC710C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091-EA4D-445D-A6C4-F04D8C34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905-8AA8-4483-87C1-59574643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36F9-387C-480F-BDF7-0E239A2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962-310E-4A80-9B53-A5A75634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51E-1FCD-4AC3-9EDB-DCC4BEB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3C03-D7A7-48C7-A9DD-B6FE4196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436E-496B-4CD4-AD14-9B1F23E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AA3-8FA2-4391-A58E-42D2AB5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B27-A0CC-4BF0-9B7D-C4886A2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1C40-22F7-4719-8DDA-91B12DA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38C-0EB7-4AB8-8D94-0E63ADE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9900-84F2-48DB-85EF-C7F1F2F8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1440-CA99-4091-9DDD-AFB44E2B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14C-7CFB-4AD2-889D-FA27E75C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8D93-6128-4C13-9D95-EC359E5F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7D95-117A-470B-B150-93B53597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6F14-87C0-4FEC-BA4E-288FAC9D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6208-30FA-4203-B7BA-77BD313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F6F5-4136-4CAD-ADAA-86E07B0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29A-5818-4145-810A-39AC7027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B870-188E-4904-B750-084670B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BF1E-9C21-4B62-9048-9F05F2B8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B5C0-7719-4371-8ACA-AC62F03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80DE-6B84-4760-B9CA-66DEF49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679B-95C6-4BE5-9B70-A388932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D433-6777-450C-9575-4557E28C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4BEA-FB43-4419-9C4B-0751CDA6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13407-B955-4D39-95FB-040DE0AC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95DB0-1413-4B59-A93B-D09FC36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41B06-96FA-4867-81B6-F6A90B8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ABD-6F47-4B7F-A8FA-1D374EF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11962-25AF-49AA-AF98-2E1F913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7F6E3-A03C-4DD1-ABAB-ADB7FEA0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411BC-4B12-47F4-9F39-68F976E4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2F04D-257A-4494-B420-9CD25DD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6451C-B414-4484-B4B3-6F715CA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80052-C65A-4F9A-A7DA-73045C9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F3BB8-07A7-4731-AAA7-C02FED4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D3EF3-F6AA-4979-9AE3-13E6E508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77C11-2093-4E57-8007-739BCD07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55D1-26A2-4EDC-9E50-48D9B7DD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ABF-B879-4B40-AB92-B93863A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392D-0D3C-43EB-A592-8BADA58E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6E09-0BE2-4CC2-96B2-B1FCEB1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A4CF-959F-4FC3-A7DA-ECC4F748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77D1F-A828-4EC3-BF79-75EDF44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2E9A-6083-42A4-B3F9-4613825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0F28-B4A0-4BC5-A872-F26E7BB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EC51-1B0C-4992-A1BB-BF6A661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F7A25-F18E-4952-950D-21E2030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2630-4187-4DD3-913F-6828379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6BCD-3E4F-42D1-9AC2-33236C0C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D1A-CA7B-4D2D-923F-BF1BA4D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0A8F-9E12-4A46-844B-67120776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98C5-D6D7-4DD1-93CF-7D94B47C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0B02-3539-4056-83C2-C672D28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2FFE5-D215-4AD0-B65D-C24B052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69059-79F4-4F92-A817-94F5C77D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E805-2513-48C4-8E53-AC7588C5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1122-E1EE-4D94-8167-ECE87FD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6A25-2167-48FE-B79A-0E5C2A0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2BD9-CBA4-46C0-8985-692D639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E320-215F-47B8-B8E7-0BEEDB4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299-EE95-41B3-B1F8-DDC561B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42EB-38D3-4297-8785-9973DEF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F20F-C43D-4C77-B930-FED33254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D6DE-F989-4002-A79B-51E41A20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A0B3-3D08-45CC-8FA9-115A66C5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940D-2EE7-4197-B733-D634AF34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04FD8-1E97-4B3C-8F75-68834C8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FA63F-7393-4CE4-BA56-7CAB2134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43CE-635C-4488-805C-677C9689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7BB4-7586-4654-A640-A196AA66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BC28-1988-449B-8939-26C9E71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F26-8E78-460F-929F-1619FF44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E1238-03A4-47A2-8A0D-7ABD115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1A5F2-AED0-4CF7-A4AD-8EFFD6C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89DC2-DA2D-43E4-B718-EA6E39E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B5699-DF50-4C66-A41A-B7B45800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D6A23-B321-43BD-8A05-56140785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FB928-FC06-494E-AD69-02AABA4C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A278-85A8-4E07-A69E-877482F2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06D23-CFCD-49DA-A4D3-74BECBBD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629D-C24F-4FDF-86B1-78CB5FF1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F4ECA-2E2E-4347-AB80-671658F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015-8166-4388-9ACE-14B387D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DEFE1-D5E7-4E03-9534-5C1B3DE5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D12AE-51BE-439E-B9DD-602265E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98E08-C3D2-45F0-B429-D192F1C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42C9E-A750-4021-ABBB-0F1B63FD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E766-3783-4344-A1FF-AA8C0D7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96AA-10F0-4408-8F39-6878988E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6083D-D392-4DA7-9B9D-C3CA5AA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220-71F4-42E2-9802-3D38ACA3CC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DA7E-0DA1-45FA-A924-E9063B50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0B9-5E78-410B-8A63-A1BE302699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7371-0B6A-41A3-981D-171A0395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06C-4B5C-4F35-91C9-E5FF132D61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90FB-D1C7-40F0-A6DC-78403AA2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3F2F-52BC-48C6-8EA5-62516D56A45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E59-0CED-4766-8EBD-5822F5C84C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D15-B44C-4E1C-96BB-54BAC535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98160" cy="69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491-5B89-47B2-911F-94481D33A9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0B7-F50E-448A-826B-4B0F1026A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接连接符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1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2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912-A570-488E-B8C1-824FE7E624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C35-67D1-4C8E-AE9E-E1521A55AE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96A7-EFDC-47CA-B06B-B2E33D25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8160" cy="69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64,20,&#24187;&#28783;&#29255; 20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2131920"/>
            <a:ext cx="3278160" cy="47530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6156360" cy="47131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 txBox="1"/>
          <p:nvPr/>
        </p:nvSpPr>
        <p:spPr>
          <a:xfrm>
            <a:off x="179280" y="189000"/>
            <a:ext cx="8713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我三十万大军胜利南渡长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8F3-0C0C-4267-B620-4F4EBD23A1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FE3A5-1BE9-47F2-97C1-114019EA85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标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高度概括已经发生的新闻事实。必须</a:t>
            </a:r>
            <a:r>
              <a:rPr b="1" lang="zh-CN" sz="3200" spc="-1" strike="noStrike">
                <a:solidFill>
                  <a:srgbClr val="1115ab"/>
                </a:solidFill>
                <a:latin typeface="Arial"/>
                <a:ea typeface="黑体"/>
              </a:rPr>
              <a:t>简明、准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概括消息内容，帮助读者理解报道的事实。一般包括引题、主题、副题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正题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也叫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主题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概括与说明主要事实和思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引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提示消息的思想意义或交代背景，说明原因，烘托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副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提示报道的事实结果，或作内容提要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CFB-F9D2-4F58-B7E7-0E5CB9BAB8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96587-8431-4A28-AB85-9AE5AC08E8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6360" y="333000"/>
            <a:ext cx="8856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导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消息的第一段或者第一句话。是消息中最主要的事实，是最重要、最有影响力的材料，是本则消息报道的价值所在。 导语的要求： 一是要抓住事情的核心，二是要能吸引读者看下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主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消息的主干部分。承接导语之后，对导语作具体全面的阐述，具体展开事实或进一步突出中心，从而写出导语的所概括的内容，表现全篇消息的主题思想。应按“时间顺序”或“逻辑顺序”写作，但仍然要先主要的、再写次要的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背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新闻事实发生的历史条件或现实环境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结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消息的最后一段落或最后一句话。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1A0-16A7-44D1-A8C4-7D0FEA58A8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977A-7780-4DBC-9733-F8B96BD23B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四）消息固定的格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5ab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倒金字塔结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：由主到次地组织内容，高潮在前，即把最重要的信息放在消息的最前面。让读者在最短的时间内把握住最重要的信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C9F-8894-4F68-B20E-DF925440E9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45B99-FB74-47C7-A5F4-9CCBBAD7CC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79280" y="40428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四、自主学习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1272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根据所学新闻知识分析《我三十万大军南渡长江》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新闻要素，结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语言特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感受学习人民解放军排山倒海、所向披靡的气势和一往无前、压倒敌人的大无畏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F9F-C8FA-45C6-AC58-02354808AD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C867D-7DBD-4EAF-A091-9EC37F49B1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13080" y="25992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五、合作探究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学习小组合作交流“自主学习”中的疑难问题，不能解决的留给别组或老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3600" spc="-1" strike="noStrike" u="sng">
                <a:solidFill>
                  <a:srgbClr val="0066cc"/>
                </a:solidFill>
                <a:uFillTx/>
                <a:latin typeface="Arial"/>
                <a:ea typeface="黑体"/>
                <a:hlinkClick r:id="rId2"/>
              </a:rPr>
              <a:t>找出新闻的导语部分，说说它在文中的特点及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556000" y="494172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精讲点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B36-3110-4578-AFAF-F85C658092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C2C04-13A8-4A3F-8EA1-59CE4D1F30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39640" y="17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标题：我三十万大军胜利南渡长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9640" y="270972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导语：英勇的人民解放军……渡过长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68360" y="37180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主体：渡江战斗……诸城进击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39640" y="4581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语：人民解放军……的命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、分析消息的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C95-123F-4B79-B174-FB2E108038D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7CD41-56B5-4A68-BF0F-15D0E07B2F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仔细阅读课文，找出这则消息的要素：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4000" y="1700280"/>
            <a:ext cx="828180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时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地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人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事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何故</a:t>
            </a:r>
            <a:r>
              <a:rPr b="1" lang="en-US" sz="3600" spc="-1" strike="noStrike">
                <a:solidFill>
                  <a:srgbClr val="1115ab"/>
                </a:solidFill>
                <a:latin typeface="Arial"/>
                <a:ea typeface="黑体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87640" y="1628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7640" y="2205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江前线（芜湖—安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21640" y="27097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解放军三十万大军 、敌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188240" y="3286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突破敌阵，占领南岸广大地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1480" y="4741920"/>
            <a:ext cx="80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新闻在表达方式上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</a:rPr>
              <a:t>以记叙为主，可适当议论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06E-4D0B-4758-9BDA-8E9947B2D3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6F3E1-5430-4F5C-B214-42AEB063FE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11280" y="54936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8000" y="6206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新华社长江前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电”属于新闻的什么？在新闻中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12720" y="1989000"/>
            <a:ext cx="80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是新闻的电头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代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通讯社名称、发电地点和发电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头的作用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表明材料真实，报道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8360" y="4292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著名通讯社名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新华社（中国）    美联社（美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路透社（法国）    塔斯社（俄罗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共同社（日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445A-138C-44AF-BD5E-FB3EBA05AF9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914B5AE-09A3-44D8-8EB8-D40F1845CC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6"/>
          <p:cNvSpPr/>
          <p:nvPr/>
        </p:nvSpPr>
        <p:spPr>
          <a:xfrm>
            <a:off x="324000" y="1000440"/>
            <a:ext cx="8280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试解释下列句子中词语的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党反动派经营了三个半月的长江防线，遇着人民解放军好似摧枯拉朽，军无斗志纷纷溃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摧枯拉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江风平浪静，我军万船齐放，直取对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平浪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1908000" y="33577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5ab"/>
                </a:solidFill>
                <a:latin typeface="Arial"/>
              </a:rPr>
              <a:t>比喻腐朽势力很容易被打垮，这里指解放军攻势凌厉，不可阻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4364280" y="595008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5ab"/>
                </a:solidFill>
                <a:latin typeface="Arial"/>
              </a:rPr>
              <a:t>没有风浪，水面很平静。比喻平静无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20B3A-3434-44F0-8F19-70824775493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9D283E86-B402-48AC-8EA2-A2E011AD33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、品析语言，领悟情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360" y="1412640"/>
            <a:ext cx="8893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理论上说，新闻只是向读者提供最新的事实，好像是中立的、纯客观的。但是，完全中立的，客观的，不带主观价值判断的“事实”是不可能存在的，请你判断记者倾向哪一方，从哪些倾向词句可以看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其中蕴含了一种什么样的情感？我们学后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981-82DE-4727-91AE-5F861834E3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63532-8C13-431B-84D8-EA7F7A780D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148-DF06-4D8D-8D2D-7B77E31C8C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339A4-E203-40A0-A1A7-C4659AAA9A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1197000"/>
            <a:ext cx="8280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“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华文中宋"/>
              </a:rPr>
              <a:t>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渡长江”，“南”怎么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236000" y="1270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1115ab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向南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79280" y="220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、在课文中勾画表现我军英勇的词语和敌人溃不成军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9280" y="35733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的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800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写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中宋"/>
              </a:rPr>
              <a:t>敌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的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844720" y="3502080"/>
            <a:ext cx="4969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5ab"/>
                </a:solidFill>
                <a:latin typeface="Arial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华文中宋"/>
              </a:rPr>
              <a:t>万船齐放” “突破敌阵” “占领”“进击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700360" y="50864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1115ab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</a:rPr>
              <a:t>军无斗志”</a:t>
            </a:r>
            <a:r>
              <a:rPr b="1" lang="en-US" sz="3600" spc="-1" strike="noStrike">
                <a:solidFill>
                  <a:srgbClr val="1115ab"/>
                </a:solidFill>
                <a:latin typeface="Arial"/>
                <a:ea typeface="华文中宋"/>
              </a:rPr>
              <a:t> “纷纷溃退” </a:t>
            </a:r>
            <a:r>
              <a:rPr b="1" lang="en-US" sz="3600" spc="-1" strike="noStrike">
                <a:solidFill>
                  <a:srgbClr val="1115ab"/>
                </a:solidFill>
                <a:latin typeface="Arial"/>
              </a:rPr>
              <a:t>“摧枯拉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49360" y="334800"/>
            <a:ext cx="369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、字斟句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DEB37-F986-42CD-9030-1CF11B13471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5A72852-1442-41B3-A40C-B78A12AFC8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473640" y="549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导语中的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一词能否删掉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13413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试找出“不到二十四小时，三十万人民解放军即已突破敌阵，占领南岸广大地区。”一句中表现我军攻势猛烈、势如破竹的词语，并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59720" y="30700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试分析下列红色词语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8360" y="371808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党反动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营了三个半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江防线，遇着人民解放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似摧枯拉朽，军无斗志，纷纷溃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945800" y="5373720"/>
            <a:ext cx="52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平浪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船齐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取对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81F8-9984-4CBE-830F-19364B40F2B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D3C4B0A-04CB-46F5-B076-0B2ED27534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52360" y="46224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据了解，渡江战役要有百万大军渡江，那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标题中的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三十万大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”改为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百万大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”行不行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44680" y="1987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不行。因为新闻必须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真实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107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、那么，等所有大军渡江胜利之后再写新闻发表，不可以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920240" y="4074840"/>
            <a:ext cx="54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不可以，因为这样的好消息必须及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告诉给全国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75480" y="5373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新闻必须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及时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4E7A-095C-440D-B12C-91D4EC4C2DC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5C11FF0C-D632-4BCC-8A2B-2AD369F2B1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民解放军占领南京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毛泽东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1272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钟山风雨起苍黄，百万雄师过大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虎踞龙盘今胜昔，天翻地覆慨而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宜将剩勇追穷寇，不可沽名学霸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若有情天亦老，人间正道是沧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79280" y="117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BD8C-C940-4633-A9EB-FA75CDC3C0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F4550B94-A548-4B83-A1C0-A9FAFB8BBC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75f6d"/>
                </a:solidFill>
                <a:latin typeface="Century Schoolbook"/>
              </a:rPr>
              <a:t>毛泽东最广为流传的八句话：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68000" y="162864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最鼓舞人心的一句话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星星之火，可以燎原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最豪迈最傲气的一句话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一切反对派都是纸老虎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一条千古不变的真理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枪杆子里面出政权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最谦虚的一句话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这只是万里长征的第一步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最震撼人心的一句话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人不犯我，我不犯人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最充满信任的一句话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你办事我放心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最无奈的一句话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天要下雨，娘要嫁人，由他去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BC53F-27B7-4111-8C96-5EFE4660AD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3323FDE0-258C-4C94-AE6F-8B7DE4997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79280" y="220500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76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宁波一甲流患者治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后因基础性疾病恶化死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023840" y="120168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0920" y="981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新网杭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电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者 江耘 通讯员 俞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浙江宁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男性甲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重症患者在甲流治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后，因基础性疾病恶化导致多脏器功能衰竭，经全力救治无效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今天，记者从浙江省卫生厅了解到，截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该省累计报告甲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确诊病例共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，已治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。目前仍住院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、居家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。浙江共报告重症病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其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治愈出院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尚在住院治疗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宁波市李惠利医院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收治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男性甲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重症患者，该名患者在甲流治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后，因基础性疾病恶化导致多脏器功能衰竭经全力救治无效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死亡，患者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原发性高血压和慢性阻塞性肺病疾患病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另悉，今天下午，浙江省卫生厅组织开展全省医疗卫生单位甲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诊疗视频培训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名骨干医护人员参加了此次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1840" y="50760"/>
            <a:ext cx="50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9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、拓展：读新闻，分析新闻的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7A572-D231-4B90-8EAC-C280CC4092F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9A992EB5-9F7E-4653-B40B-0EDEFF1150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254160" y="1701720"/>
            <a:ext cx="8640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zh-CN" sz="24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中新网平壤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日电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记者 周兆军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温家宝总理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日上午乘专机前往朝鲜进行正式友好访问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访问期间，温家宝将同朝鲜领导人举行会谈、会见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就发展中朝关系及共同关心的问题交换意见。作为纪念朝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中建交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周年活动的一部分，朝鲜总理金英日曾于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月访问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中国，这次温家宝的回访是就任总理后第一次访问平壤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劳动新闻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当天还刊登了温家宝总理的照片和简历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并刊载了介绍新中国成立</a:t>
            </a:r>
            <a:r>
              <a:rPr b="1" lang="en-US" sz="4000" spc="-1" strike="noStrike" baseline="-2000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4000" spc="-1" strike="noStrike" baseline="-2000">
                <a:solidFill>
                  <a:srgbClr val="000000"/>
                </a:solidFill>
                <a:latin typeface="宋体"/>
              </a:rPr>
              <a:t>年来在各个领域取得巨大成就的文章。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57" name="Picture 4" descr="S5378T1254280914953"/>
          <p:cNvPicPr/>
          <p:nvPr/>
        </p:nvPicPr>
        <p:blipFill>
          <a:blip r:embed="rId2"/>
          <a:stretch/>
        </p:blipFill>
        <p:spPr>
          <a:xfrm>
            <a:off x="108000" y="0"/>
            <a:ext cx="9048600" cy="142884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1260360" y="5445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分析新闻的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8C230-C108-4AF9-9CFC-9483EBA65D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FB01517-662C-4DE6-AAD5-4B2551EB5D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8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8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755640" y="4428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警方一小时破故意杀人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8000" y="692280"/>
            <a:ext cx="896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菏泽网消息（记者郎孝文） 为买一包香烟发生争斗，中学生王某一时冲动，竟用铅笔刀往其同学脖子上连划数刀致其当场昏迷。目前，被王某划伤的葛某已脱离生命危险，犯罪嫌疑人王某被刑事拘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据郓城县公安局民警介绍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许，王某与同学葛某到校外购买香烟，两人因由谁出资发生激烈争执，后引发打斗。王某将葛某按倒在地，用随身携带的铅笔刀往葛某脖子上连划数刀，致葛某当场昏迷。王某以为葛某已死，迅速逃离现场，欲回学校换下衣服。王某进入宿舍楼时，老师发现其身上有血迹且神色慌张，遂将其稳住，并迅速报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接警后，郓城县公安局迅速抽调刑警大队和城郊派出所精干力量组成专案组，经过一小时的调查取证，确定王某为本案犯罪嫌疑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80293-8740-42DB-8418-527BAC68F49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4EF050EA-4484-4904-8AFF-1350AB7FE5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24000" y="90972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找出新闻的导语部分，说说它在文中的特点及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9640" y="263700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黑体"/>
              </a:rPr>
              <a:t>特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简洁，概括，把主要事件简明扼要的概括出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8360" y="4292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用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了尽快向读者报告重要的新闻事实，吸引读者的注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994-7779-4445-ABB4-24949615E41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895B1-6E0A-4A7C-9614-E905AB0918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六、牛刀小试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9280" y="1917720"/>
            <a:ext cx="8153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就校园内发生的事情拟写一则消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成《导学案》本课“学习测评”其他相关题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9B6-3FDA-4D5B-9BE4-17292CC2AC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D849E-1190-4F24-94F8-C97BF76757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-395280" y="44280"/>
            <a:ext cx="9140760" cy="65534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-395280" y="117360"/>
            <a:ext cx="10225080" cy="669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446-F84A-425F-A699-98F6C6C2A6B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27EB9-64D7-4DCE-990D-BB3F3DC6CB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7D9-2BD3-4259-AF03-0756C73936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7B23F-851E-4B60-9B54-FCB0583589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2">
            <a:lum contrast="12000"/>
          </a:blip>
          <a:srcRect l="0" t="3795" r="6650" b="654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924-A475-49BF-8EB3-170A739DB6B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E7C49-03D7-44FF-9B76-0E064FDCDB2D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427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一、预习展示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6360" y="1413000"/>
            <a:ext cx="8569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根据你阅读的课本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71——17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《“表达 交流”——敏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信实》的内容，说说你了解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新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有关常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定义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特点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要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FE3-93D0-435D-9191-1D6396561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3F399-64B1-4CA5-888A-301D90044C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二、展示学习目标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掌握新闻的特点、结构形式等有关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根据所学新闻的知识理清内容、要素、结构，体会语言的真实准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感受学习人民解放军排山倒海、所向披靡的气势和一往无前、压倒敌人的大无畏精神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1B7-0B0E-4068-BFCA-2DA9DF3199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49E26-9DA9-4BF6-88DE-46420944AF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900000" y="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4360" y="62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71640" y="33336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三、新闻的有关知识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4000" y="141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、新闻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9640" y="2276640"/>
            <a:ext cx="842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-247680" y="2133720"/>
            <a:ext cx="9139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新闻这种文体从</a:t>
            </a:r>
            <a:r>
              <a:rPr b="1" lang="zh-CN" sz="3600" spc="-1" strike="noStrike">
                <a:solidFill>
                  <a:srgbClr val="161bde"/>
                </a:solidFill>
                <a:latin typeface="楷体_GB2312"/>
                <a:ea typeface="宋体"/>
              </a:rPr>
              <a:t>广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上来讲，包括消息、通讯、报告文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宋体"/>
              </a:rPr>
              <a:t>狭义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来讲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新闻是一种报纸文体，指新近发生的事实的报道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只指消息，本文就是一篇报道及时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宋体"/>
              </a:rPr>
              <a:t>消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79480" y="57387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2360" y="530208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、消息的三个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性  真实性  时效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3DDF-10C2-4D65-A034-C89091A2677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8012BD66-19F7-4910-8CCC-47492776E9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95280" y="476280"/>
            <a:ext cx="819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三）新闻的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12720" y="1844640"/>
            <a:ext cx="85694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新闻的结构有五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标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分为：正题、引题、副题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导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主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结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滕东中学语文教研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393-92FA-45E9-9B25-8370F1FCB46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055FA-B74E-4C7B-A615-3CEB410835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50:28Z</dcterms:created>
  <dc:creator>滕东中学语文教研组--顾栋</dc:creator>
  <dc:description/>
  <dc:language>en-US</dc:language>
  <cp:lastModifiedBy>Administrator</cp:lastModifiedBy>
  <dcterms:modified xsi:type="dcterms:W3CDTF">2013-11-16T13:16:31Z</dcterms:modified>
  <cp:revision>47</cp:revision>
  <dc:subject>我三十万大军胜利南渡长江</dc:subject>
  <dc:title>我三十万大军胜利南渡长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