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5C3A-7670-4449-A4DE-5D54C4475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C2DA-4034-477E-B91D-0503ED731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3B9F-2E88-4FF0-8F3A-08C1955D7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431E-97B2-4947-91B1-D296E6A02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2253-2F0C-4226-8C5B-40D82B10D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5C26-2479-429A-A519-66AC464E8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29A7-FC1D-44A2-A7DD-1271E1766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9C4B-7914-455A-BAC3-280230156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C8B3-6F17-422A-9D1F-C4666CC12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2498-4D60-4099-B57F-1A38BA897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ECB6-B233-45C1-B176-12F9CA22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0FAB-B074-4AC0-9AFD-4AEBF8C64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297BB-7BBF-43FC-BBD8-706CC96B438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48560" y="228600"/>
            <a:ext cx="259956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Times New Roman"/>
                <a:ea typeface="隶书"/>
              </a:rPr>
              <a:t>亡人逸事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        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——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孙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孙犁2" descr=""/>
          <p:cNvPicPr/>
          <p:nvPr/>
        </p:nvPicPr>
        <p:blipFill>
          <a:blip r:embed="rId1"/>
          <a:stretch/>
        </p:blipFill>
        <p:spPr>
          <a:xfrm>
            <a:off x="4368960" y="0"/>
            <a:ext cx="4775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苏轼的《江城子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Tahoma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乙卯正月二十日夜记梦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十年生死两茫茫，不思量，自难忘。千里孤坟，无处话凄凉。纵使相逢应不识，尘满面，鬓如霜。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    来幽梦忽还乡，小轩窗，正梳妆。相顾无言，唯有泪千行。料得年年肠断处，明月夜，短松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鉴赏文章语浅情深的细节美和任务性格美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借鉴细节描写进行写作训练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体会作者对亡妻的一片深情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作者介绍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1913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年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月生，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2002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年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7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月逝世，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河北平安人。中共党员。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12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岁上小学时开始接触“五四”新文学。高中毕业后到北平，开始 在《大公报》发表文章。抗战时期主要在党领导下的冀中地区从事革命文化工作。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1944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年去延安，在鲁迅艺术学院工作和学习，发表了《荷花淀》、《芦花荡》等作品。新中国成立后，在《天津日报》工作，同时继续文学创作，出版了小说散文集《白洋淀纪事》、长篇小说《风云初记》、论文集《文学短论》等。晚年主要写作散文和评论。有《孙犁文集》（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卷）。历任中国作协理事、顾问，天津作协副主席、主席，天津市文联名誉主席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文章四部分内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20574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天作之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316872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初次见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31172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勤劳持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54547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临终痛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057400"/>
            <a:ext cx="632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从“天作之和”婚姻说起，回忆作者与妻子是在恩么结婚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19520" y="312408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着重写了自己和妻子初次见面的情景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95480" y="434340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写妻子如何人从一个娇惯女儿比一个吃苦耐劳的妻子和母亲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541008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写了作者对妻子的愧疚并会议妻子临终前的情景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r0725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细节描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抓住生活中的细微而又具体的典型情节，加以生动细致的描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用于刻画人物，或点化肖像，或描摹神态，或描写动作，细致描写人物在活动中所表现出来的某个细小的环节或举动，具有传神写照的艺术效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写好细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）真实，符合生活逻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）符合人物的个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）精心锤炼词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）巧妙运用修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ff"/>
                </a:solidFill>
                <a:latin typeface="Times New Roman"/>
                <a:ea typeface="华文行楷"/>
              </a:rPr>
              <a:t>练习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写一个小片段，表现你所熟悉的一个人曾带给你的真情与感动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Z</cp:lastModifiedBy>
  <dcterms:modified xsi:type="dcterms:W3CDTF">2005-12-26T09:50:38Z</dcterms:modified>
  <cp:revision>10</cp:revision>
  <dc:subject/>
  <dc:title>PowerPoint Presentation</dc:title>
</cp:coreProperties>
</file>