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3A4-8311-476B-AC4F-5ADDD32A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891-1E1B-4D58-938A-2A3663F6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1B2-965C-4D3A-83AC-273348EA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D32-54F3-4884-98B2-CB5DA978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8F9-5CDC-484F-B5DE-5DFB7297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8DC-93AD-44B3-AB92-387B1B6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897-969D-407C-9DB5-3D344C33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745-8B18-45FC-9114-96C56CBF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3F9-9A47-4763-A7B3-670725D7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4E2-EF9F-45F4-81D7-D526085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FD9-69FA-4E7C-B58B-8939F085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759-CFC8-40B8-924E-48BACD3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02EF-E7CC-4AAD-AD66-C98F39D3D0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6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59120" y="5029200"/>
            <a:ext cx="62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江都市小纪中学      龚茂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6019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E-mail:jdgms@163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14600" y="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知识总结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685800"/>
            <a:ext cx="75913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细节是文艺作品中细腻地描绘人物性格、事件发展和自然景物等的最小组成单位。它用于刻画人物时，或点画肖像，或描写动作，或烘托心理，细节描写是塑造人物、表现主题的有效方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枝花朵可以展示一个丰富的世界，一个细节可以传达一段感人的生活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362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66880" y="8380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能力迁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362320"/>
            <a:ext cx="75913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运用细节描写手法，写一个片段，表现出你所熟悉的一个人曾带给你的真情与感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2362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765000"/>
            <a:ext cx="8382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我的记忆中，求学之路总是伴着父亲的脚印。小学四年级时，一次上学路上，不小心将夹在书本里的钢笔掉入了路边的水渠。那是学校奖励的一支“英雄”牌钢笔，父亲心疼极了，第二天大早，他硬是随我来到丢笔的地点，二话不说，卷起裤腿就下水捞，深秋的早晨充满了凉意，父亲刚下水，腿上就起了一层鸡皮疙瘩。他不让我在旁边看，嘱咐我上学去，待我走远了，还见他不时弯着腰在水中摸索着……等到中午放学回家，那支笔已经干干净净的出现在饭桌上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又记得上初二时，父亲挑着行李送我开学。偏偏天公不作美，下了场雨，路很滑，父亲一个踉跄，摔倒了。他不顾身上的疼痛，一把抓住快要滑到路边小河里的我的箱包，憨憨地笑着说：“差点儿没把你的书弄湿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至今日，我仍不能忘记过去生活中的这点点滴滴，是父亲的那股认真劲儿，使我不敢对学习稍有懈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示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914400"/>
            <a:ext cx="69343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谢谢各位老师与同学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9600" spc="-1" strike="noStrike">
                <a:solidFill>
                  <a:srgbClr val="ff3300"/>
                </a:solidFill>
                <a:latin typeface="Lucida Console"/>
                <a:ea typeface="华文中宋"/>
              </a:rPr>
              <a:t>再 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762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朱自清散文《背影》片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828800"/>
            <a:ext cx="624852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cc"/>
                </a:solidFill>
                <a:latin typeface="Times New Roman"/>
              </a:rPr>
              <a:t>        </a:t>
            </a:r>
            <a:r>
              <a:rPr b="1" lang="zh-CN" sz="3700" spc="-1" strike="noStrike">
                <a:solidFill>
                  <a:srgbClr val="3366cc"/>
                </a:solidFill>
                <a:latin typeface="Times New Roman"/>
              </a:rPr>
              <a:t>我看见他戴着黑布小帽，穿着黑布大马褂、深青色棉袍，蹒跚地走到铁道边，慢慢探身下去，尚不大难。可是……他用两手攀着上面，两脚在向上缩，他肥胖的身子向左微倾，显出努力的样子……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4572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亡人逸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孙  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作家孙犁生活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697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051506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693432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54864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作家孙犁夫妇生活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孙  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1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0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代作家，原名孙树勋。河北安平县人。幼年喜欢说书和地方戏曲等民间文艺。上中学期间，阅读大量中外文学名著，并练习写作。曾在保定育德中学校刊上发表过小说和独幕剧本。高中毕业后，在靠近白洋淀畔的安信县同口镇任国文教员。白洋淀的自然风光和这一带劳动人民的生活习俗与思想美德，为他以后的文学创作提供了丰富的营养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3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，他到吕正操将军领导的冀中人民自卫军政治部做宣传工作，在《冀中导报》和《红星》杂志上发表《现实主义文学论》和《鲁讯论》。曾在冀中军区开办的抗战学院担任教官，讲授“抗战文艺”和“中国近代革命史”等课程。后到阜平，从事新闻、编辑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孙犁一生中主要作品有小说散文集《白洋淀纪事》、长篇小说《风云初记》、中篇小说《铁木前传》等。孙犁的散文富于抒情味，语言洗练、隽永、深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0960" y="3886200"/>
            <a:ext cx="2185920" cy="2637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3049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快速阅读课文，了解文章四部分的主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914400" y="1828800"/>
            <a:ext cx="7696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99"/>
                </a:solidFill>
                <a:latin typeface="Times New Roman"/>
              </a:rPr>
              <a:t>缘定</a:t>
            </a:r>
            <a:r>
              <a:rPr b="1" lang="zh-CN" sz="2600" spc="-1" strike="noStrike">
                <a:solidFill>
                  <a:srgbClr val="ff3399"/>
                </a:solidFill>
                <a:latin typeface="Times New Roman"/>
              </a:rPr>
              <a:t>：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从“天作之合”的婚姻说起，回忆了作者与妻子是怎么结婚的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04812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初识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着重写了自己和妻子初次见面时的情景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45165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962520"/>
            <a:ext cx="579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6600"/>
                </a:solidFill>
                <a:latin typeface="Times New Roman"/>
              </a:rPr>
              <a:t>持家</a:t>
            </a:r>
            <a:r>
              <a:rPr b="1" lang="zh-CN" sz="2600" spc="-1" strike="noStrike">
                <a:solidFill>
                  <a:srgbClr val="996600"/>
                </a:solidFill>
                <a:latin typeface="Times New Roman"/>
              </a:rPr>
              <a:t>：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写妻子如何从一个娇惯女儿变成一个吃苦耐劳的妻子与母亲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10552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临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写了作者对妻子的愧疚并回忆妻子临终前的情景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43200" y="2286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文本研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143000"/>
            <a:ext cx="75913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中具体写了亡妻的哪些事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1828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看戏突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666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相邀返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581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回家诉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4495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背瓜遭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410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临终对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05740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8098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5486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礼教观念重，为人质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80988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对比铺垫，表现她善于学习吃苦耐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40200" y="541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夫妻情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状元凉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城东石板桥下有一家凉粉店：状元凉粉店。听说，店主的儿子五年前成了本城的高考状元，状元凉粉就此得名。城里人都想讨个好彩头，听说，那儿的生意很火。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一切只是听说而已，凉粉对于我这个农村穷学生来讲真是一种奢侈品，既吃不饱，又贵。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可今天，我却坐在状元凉粉店里，准备尝尝这种“珍馐”；另外……我叹了口气：“唉，真倒霉，前天买参考书，贪便宜在街边小摊上买，黑灯黑火的，找了张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元假钞给我。”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“小伙子，凉粉来啦，吃吧！”店主将满满一大碗凉粉端到我面前。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说真的，这东西又白又滑，爽口宜人，还真好吃，真想天天吃个够。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“上学呢？”店主掇了条板凳坐下来。这时我才抬头打量了她，四五十岁，皮肤很黑，脖子上，手臂上都是些热毒疹。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“嗯，高三了！”这时，我又想起了兜中的那张假币，今天可要将你出手了！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“快要高考了，要注意加点营养，可别亏待自己呀。”店主的话使我想起了自己的母亲，她每次来看我，都会将家里老母鸡生的那几个蛋塞给我，而我知道，为了本人在城里上学，家里一年沾不到十趟腥……“那我就更不能让这钱留在兜里！”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“当家的，水开了！”店主被伙计喊到一旁打凉粉去了。我出于好奇，跑去看。只见一锅滚烫的热水向一个瓷缸里一冲，店主操起一根两指粗的木棍，插进瓷缸中的透明状胶体内，使劲搅拌，沸腾的水早已化成水汽，直扑店主，店主的手臂上顿时烫得通红……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我被眼前的场景深深打动了。我想起在农村打铁的父亲，他也在灼热的环境下辛劳，为我挣来一分一分的学费……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我犹豫了，到底要不要将这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元假钞用掉，使这位店主蒙受损失？不用吧，自己下半个月的日子可就难过了；用吧，抛给这位与我父母一样劳苦的店主，让她的状元儿子少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元生活费，我也于心不忍。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怎么办？我受着良知和生活压力的煎熬……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终于，我咬咬牙，掏出身上仅剩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元真币，“阿姨，给您钱！”“傻孩子，没看见墙上贴的‘高三学生免费’的字条吗？下回再来，我给你炒两菜。”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回校后，我就把那假币撕掉。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为了店主的真诚，为了我的父母，为了自己，这次选择，值！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4T12:03:36Z</dcterms:created>
  <dc:creator>龚茂生</dc:creator>
  <dc:description/>
  <dc:language>en-US</dc:language>
  <cp:lastModifiedBy>user</cp:lastModifiedBy>
  <dcterms:modified xsi:type="dcterms:W3CDTF">2005-12-28T00:15:57Z</dcterms:modified>
  <cp:revision>52</cp:revision>
  <dc:subject/>
  <dc:title>没有幻灯片标题</dc:title>
</cp:coreProperties>
</file>