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5EF-95F5-4F19-93AF-559182C8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566-AB3B-4FCE-9D1D-4E49383B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AD3-8473-4D7D-96BA-DA50667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3FE-9690-489A-84AB-F2A798F5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221-8388-4C86-B456-E588C348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A5B-4289-4CEF-B627-6F771C58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7BE-C9A9-416F-83BD-C0C9FBDA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5D1-6CCD-47E1-99DD-B83D1CE7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D1B-CAE5-47A8-A36B-7EEEAB71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4BD-A3F5-4779-AC96-ABF7314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B48-E147-4D8B-86CF-1BA458B9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53E-E077-4430-93E5-7FD57AB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B717-D0D9-4B2E-811E-AD6DA2391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5838;&#21069;&#27427;&#36175;.doc" TargetMode="External"/><Relationship Id="rId2" Type="http://schemas.openxmlformats.org/officeDocument/2006/relationships/hyperlink" Target="file:///&#35838;&#21069;&#27427;&#36175;.do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esk1"/>
          <p:cNvSpPr/>
          <p:nvPr/>
        </p:nvSpPr>
        <p:spPr>
          <a:xfrm>
            <a:off x="228600" y="152280"/>
            <a:ext cx="2286000" cy="838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姚体"/>
              </a:rPr>
              <a:t>课前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381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故事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当年小龙女身中剧毒，自知不久于人世。便在跳崖自尽之前在石壁刻字，与杨过订下１６年之约。只希望１６年的时光能够抚平杨过心头的悲痛。１６年来，世事沧桑，变化何其之大，谁知杨过心头念念不忘的便是与小龙女的约会。眼看如今１６年即将期满，杨过便来到断肠崖前寻小龙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1523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金庸《神雕侠侣》选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30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83059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文学作品的“显”与“隐”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梅尧臣：“状难写之景如在目前，含不尽之意        见于言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朱光潜：深情都必缠绵委婉，显易流于露，  露则浅而易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穆勒：诗和雄辩都是情感的流露而却有分  别。雄辩是‘让人听到的’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hear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，诗是‘无意间被人听到的’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overhear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ilecab3"/>
          <p:cNvSpPr/>
          <p:nvPr/>
        </p:nvSpPr>
        <p:spPr>
          <a:xfrm>
            <a:off x="152280" y="685800"/>
            <a:ext cx="2057400" cy="9050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学艺术的典型性原则（一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914400"/>
            <a:ext cx="8991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林花谢了春红，太匆匆，无奈朝来寒雨晚来风。胭脂泪，留人醉，几时重？自是人生长恨水长东。（《相见欢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无言独上西楼，月如钩。寂寞梧桐深院锁清秋。剪不断，理还乱，是离愁。别是一般滋味在心头。（《相见欢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春花秋月何时了，往事知多少。小楼昨夜又东风，故国不堪回首月明中。   雕栏玉砌应犹在，只是朱颜改。问君能有几多愁，恰似一江春水向东流。（《虞美人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帘外雨潺潺，春意阑珊。罗衾不耐五更寒。梦里不知身是客，一晌贪欢。　  独自莫凭栏，无限江山。别时容易见时难。流水落花春去也，天上人间！（《浪淘沙》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838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隶书"/>
              </a:rPr>
              <a:t>后主词四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304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学艺术的典型性原则（二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0666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王国维《人间词话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词至李后主而眼界始大，感慨遂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道君（宋徽宗）不过自道生世之戚，后主则俨有释迦、基督担荷人类罪恶之意，其大小固不同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191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文学的典型性是指作品的艺术形象所具有的通过鲜明独特的、能够唤起美感的个性形式揭示社会生活中某些本质规律的生气特性。是个别性和普遍性的统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343640" y="1371600"/>
            <a:ext cx="1648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2670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00"/>
                </a:solidFill>
                <a:latin typeface="Arial"/>
                <a:ea typeface="隶书"/>
              </a:rPr>
              <a:t>谢谢指导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6095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2006-12-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杨过）此刻再临旧地，但见荆莽森森，空山寂寂，当下奔到断肠崖前，走过石壁，抚着石壁上小龙女的字迹，将石缝中的青苔揩去，那两行字显了出来。他轻轻的念道：“小龙女书嘱夫君杨郎，珍重万千，务求相聚。”一颗心不自禁的怦怦跳动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这般苦苦等候了五日，已到三月初七，更是不离断肠崖半步，自晨至午，更自午至夕，每当风动树梢，花落林中，心中便是一跳，跃起来四下里搜寻观望，却那里有小龙女的影踪？太阳最终还是落入了地下。杨过悄立山巅，四顾苍茫，但觉寒气侵体，暮色逼人，站了一个多时辰，竟是一动也不动。再过多时，半轮月亮慢慢移到中天，连这一夜也快过去了。小龙女始终没有来。他便如一具石像般在山顶呆立了一夜，心中如一片寒冰，似有一个声音在耳际不住响动：“傻子！她在十六年之前早就死了。傻子，她待你如此情义深重，你怎么到今天还不明白她的心意？”他踉跄下山，走到小溪之旁，掬水而饮，一低头，猛见水中倒影，两鬓竟然白了一片。他向来头上一根银丝也无，突见两鬓如霜，满脸尘土，几乎不识得自己面貌，伸手在额角鬓际拔下三根头发来，只见三根中倒有两根是白的。霎时之间，心中想起几句词来：“十年生死两茫茫，不思量，自难忘。千里孤坟，无处话凄凉。纵使相逢应不识，尘满面，鬓如霜。”杨过心想：“他是十年生死两茫茫，我和龙儿已相隔一十六年了。他尚有个孤坟，知道爱妻埋骨之所，而我却连妻子葬身何处也自不知。”接着又想到这词的下半阕，那是作者一晚梦到亡妻的情境：“夜来幽梦忽还乡，小轩窗，正梳妆；相顾无言，惟有泪千行！料得年年肠断处，明月夜，短松岗。”不由得心中大恸：“而我，而我，三日三夜不能合眼，竟连梦也做不到一个！”猛地里一跃而起，奔到断肠崖前，瞧着那几行字，大声叫道：“‘十六年后，在此相会，夫妻情深，勿失信约！’小龙女啊小龙女！是你亲手刻下的字，怎地你不守信约？”他这几句话发自肺腑，只震得山谷皆鸣，但听得群山响应，东南西北，四周山峰都传来：“怎地你不守信约？不守信约……”他生性激烈，此时万念俱灰，轻轻说道：“当年你突然失踪，不知去向，定是跃入了这万丈深谷之中，这十六年中，难道你不怕寂寞吗？”泪眼模糊，眼前似乎幻出了小龙女白衣飘飘的影子，又隐隐似乎听到小龙女在谷底叫道：“杨郎，杨郎，你别伤心，别伤心！”杨过双足一登，身子飞起，跃入了深谷之中……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课前欣赏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914400"/>
            <a:ext cx="8001000" cy="51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方正姚体"/>
              </a:rPr>
              <a:t>  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方正姚体"/>
              </a:rPr>
              <a:t>亡人逸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孙  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执教：梁丰高级中学语文组  高冰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6-12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0"/>
            <a:ext cx="85345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初读文本，把握内容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交流关于文本理解方面的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给文章每部分加一个小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2860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天作之合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从“天作之合”的婚姻说起，回忆了作者与妻子是怎么结婚的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缘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初次见面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着重写了自己和妻子初次见面时的情景。　　　　　　　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初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３、勤劳持家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写妻子如何从一个娇惯女儿变成一个吃苦耐劳的妻子与母亲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持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４、临终诀别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写了作者对妻子的愧疚并回忆妻子临终前的情景。　　　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临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5165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作者先后写了哪些细节？表现了亡妻怎样的性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细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她点头笑着说：“真不假，什么事都是天定    的。假如不是下雨，我就到不了你家里来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　　　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一如既往的温柔和内心的幸福感，以及 她对婚姻的满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8200" y="3962520"/>
            <a:ext cx="39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细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“盯”“跳”“走”“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腼腆害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2578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细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她严肃地说：“你明天叫车来接我吧，我不能这样跟着你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　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礼教观念很重，又非常质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860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再读文本，品味细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09480"/>
            <a:ext cx="88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细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我从外面回来，看到她两个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，都因为推机杼，顶得变了形，又粗，又短，指甲也短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勤劳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90920"/>
            <a:ext cx="87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细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每逢孩子发烧，她总是整夜抱着，来回在炕下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关爱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细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她闭上眼睛，久病的脸上，展现了一丝幸福的笑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薄施厚报，温柔善良，幸福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049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三读文本，咀嚼鉴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、试给１－２个细节描写的文字后加上一两句抒情性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想想：孙犁先生为什么不加上这样的抒情句？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267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二、本文是孙犁先生怀念自己亡妻的文字，为什么我们读了也很感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ddrive"/>
          <p:cNvSpPr/>
          <p:nvPr/>
        </p:nvSpPr>
        <p:spPr>
          <a:xfrm>
            <a:off x="7696080" y="5867280"/>
            <a:ext cx="1123920" cy="676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3716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今天是萧珊逝世的六周年纪念日。六年前的光景还非常鲜明地出现在我的眼前。那一天我从火葬场回到家中，一切都是乱糟糟的，过了两三天我渐渐地安静下来了，一个人坐在书桌前，想写一篇纪念她的文章。在五十年前我就有了这样一种习惯：有感情无处倾吐时我经常求助于纸笔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可是一九七二年八月里那几天，我每天坐三四个小时望着面前摊开的稿纸，却写不出一句话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痛苦地想，难道给关了几年的“牛棚”，真的就变成“牛”了？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头上仿佛压了一块大石头，思想好像冻结了一样。我索性放下笔，什么也不写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　　　　　　　         ——巴金《怀念萧珊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背景资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0492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１、紫鹃忙了，连忙叫人请李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巧探春来了。紫鹃见了，忙悄悄的说道：“三姑娘，瞧瞧林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娘罢。”说着，泪如雨下。探春过来，摸了摸黛玉的手已经凉了，连目光也都散了。探春、紫鹃正哭着叫人端水来给黛玉擦洗，李纨赶忙进来了。三个人才见了，不及说话。 刚擦着，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猛听黛玉直声叫道：“宝玉，宝玉，你好……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说到“好”字，便浑身冷汗，不作声了。紫鹃等急忙扶住，那汗愈出，身子便渐渐的冷了。（《红楼梦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105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２、梳洗罢，独倚望江楼，过尽千帆皆不是，斜晖脉脉水悠悠。肠断白蘋洲。（温庭筠《忆江南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学作品的“显”与“隐”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fg</cp:lastModifiedBy>
  <dcterms:modified xsi:type="dcterms:W3CDTF">2006-12-06T08:04:3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