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55FD-D096-4D14-80C2-607D3B249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77C4-6CDD-42F9-9944-16201B9E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593-D2CE-4C29-9257-7BC2610B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C7E2-6893-45BE-8D84-C4E65C50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2C31-778F-41AE-BF3F-14E735B1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BD3-326F-4D59-ADA1-0AE9708D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82A7-3FC0-4A1F-B14A-719D3797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9F53-E5BF-4DE1-A570-FD05A9F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CE12-ED4D-46DD-8189-F7A98227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17A5-F01D-41D8-BFD4-F4BAF13D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3F79-2610-4697-B971-73EC986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3F7-36D6-44E3-A9D3-3E250056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6AF3-E048-45B9-8C5D-75B9E4F2B9B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ps.cn/" TargetMode="External"/><Relationship Id="rId2" Type="http://schemas.openxmlformats.org/officeDocument/2006/relationships/hyperlink" Target="http://www.wps.c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3"/>
          <p:cNvSpPr/>
          <p:nvPr/>
        </p:nvSpPr>
        <p:spPr>
          <a:xfrm>
            <a:off x="990720" y="2147760"/>
            <a:ext cx="10644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文档是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成的安全文档，仅可用支持安全文档的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 Office PC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roid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、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iO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客户端打开，当前软件版本无法保证您在安全环境下查看和编辑文档。使用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文档可以轻松创建和管理受保护的文件，请到</a:t>
            </a:r>
            <a:r>
              <a:rPr b="0" lang="en-US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PS</a:t>
            </a:r>
            <a:r>
              <a:rPr b="0" lang="zh-CN" sz="24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官网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载，或联系您的企业管理员获取最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本。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1T09:46:00Z</dcterms:created>
  <dc:creator/>
  <dc:description/>
  <dc:language>en-US</dc:language>
  <cp:lastModifiedBy>演示人</cp:lastModifiedBy>
  <dcterms:modified xsi:type="dcterms:W3CDTF">2017-03-10T02:36:25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22</vt:lpwstr>
  </property>
  <property fmtid="{D5CDD505-2E9C-101B-9397-08002B2CF9AE}" pid="3" name="_MarkAsFinal">
    <vt:bool>1</vt:bool>
  </property>
</Properties>
</file>