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B477-0A36-4112-9619-550AF64FCBE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E786-3ED8-4056-ADA4-0CF5D93E11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B4F-49DB-4C0A-9646-B4D4AC6B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CD10-7659-4D5F-A437-D0D8B11B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5F6-58B6-4409-95BE-459A8A3A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DCD-2FC8-40B3-8D71-AE650BF7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9C1-606E-416C-AF53-F11FFAB1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8B9-FB5C-463F-92FF-42F35CDF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744-2B27-47FE-8372-5B912BF4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5F1-EBC0-4698-A080-F6A7FB6C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A48-CEEB-4356-96A2-88E04BFD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8AF-4C59-42C3-A4F2-53A1393F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6C4-DC0F-4539-9C9C-EF22ED42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47D-1702-449E-84B0-48332761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B4A4-450F-4801-9AC0-0DB7DA2927E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700360" y="126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MingLiU-ExtB"/>
                <a:ea typeface="黑体"/>
              </a:rPr>
              <a:t>23</a:t>
            </a:r>
            <a:r>
              <a:rPr b="1" lang="zh-CN" sz="3600" spc="-1" strike="noStrike">
                <a:solidFill>
                  <a:srgbClr val="00b0f0"/>
                </a:solidFill>
                <a:latin typeface="MingLiU-ExtB"/>
                <a:ea typeface="黑体"/>
              </a:rPr>
              <a:t>、望梅止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Documents and Settings\Administrator\桌面\5.png"/>
          <p:cNvPicPr/>
          <p:nvPr/>
        </p:nvPicPr>
        <p:blipFill>
          <a:blip r:embed="rId1"/>
          <a:stretch/>
        </p:blipFill>
        <p:spPr>
          <a:xfrm>
            <a:off x="2484360" y="1413000"/>
            <a:ext cx="6443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4291750197"/>
          <p:cNvPicPr/>
          <p:nvPr/>
        </p:nvPicPr>
        <p:blipFill>
          <a:blip r:embed="rId1"/>
          <a:stretch/>
        </p:blipFill>
        <p:spPr>
          <a:xfrm>
            <a:off x="2643120" y="1101600"/>
            <a:ext cx="5572080" cy="2421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2771640" y="3857760"/>
            <a:ext cx="52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忽然，他灵机一动，骑着马跑上一块高地，挥鞭朝前一指，对将士们高声喊道：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Calibri"/>
                <a:ea typeface="楷体_GB2312"/>
              </a:rPr>
              <a:t>你们看，前面有一大片梅林，咱们快去吃梅子吧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111789e39a5"/>
          <p:cNvPicPr/>
          <p:nvPr/>
        </p:nvPicPr>
        <p:blipFill>
          <a:blip r:embed="rId1"/>
          <a:stretch/>
        </p:blipFill>
        <p:spPr>
          <a:xfrm>
            <a:off x="2556000" y="836640"/>
            <a:ext cx="3348000" cy="2708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20081025115851"/>
          <p:cNvPicPr/>
          <p:nvPr/>
        </p:nvPicPr>
        <p:blipFill>
          <a:blip r:embed="rId2"/>
          <a:stretch/>
        </p:blipFill>
        <p:spPr>
          <a:xfrm>
            <a:off x="2556000" y="3573360"/>
            <a:ext cx="3313080" cy="2592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5940360" y="836640"/>
            <a:ext cx="320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将士们口干舌燥，嗓子冒烟，行军速度越来越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顿时不觉得那么渴了，哥哥打起精神往前赶路，不久就走到了有水的地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5" descr="b507566e5b1a4a880250889697d88920"/>
          <p:cNvPicPr/>
          <p:nvPr/>
        </p:nvPicPr>
        <p:blipFill>
          <a:blip r:embed="rId1"/>
          <a:stretch/>
        </p:blipFill>
        <p:spPr>
          <a:xfrm>
            <a:off x="2786040" y="1785960"/>
            <a:ext cx="5730840" cy="43718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6"/>
          <p:cNvSpPr/>
          <p:nvPr/>
        </p:nvSpPr>
        <p:spPr>
          <a:xfrm>
            <a:off x="2714760" y="928800"/>
            <a:ext cx="555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了望梅止渴的方法后，原先将士们（     ），现在（  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0" y="4149720"/>
            <a:ext cx="298620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20081025115851"/>
          <p:cNvPicPr/>
          <p:nvPr/>
        </p:nvPicPr>
        <p:blipFill>
          <a:blip r:embed="rId2"/>
          <a:stretch/>
        </p:blipFill>
        <p:spPr>
          <a:xfrm>
            <a:off x="2714760" y="1214280"/>
            <a:ext cx="4986360" cy="2289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"/>
          <p:cNvSpPr/>
          <p:nvPr/>
        </p:nvSpPr>
        <p:spPr>
          <a:xfrm>
            <a:off x="2484360" y="3573360"/>
            <a:ext cx="6195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将士们一听到“梅子”，马上想到了梅子的又酸又甜的味道，口水都要流出来了，顿时不觉得那么渴了，个个打起精神往前赶路，不久就走到了有水的地方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解结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346680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望梅止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Documents and Settings\Administrator\桌面\6.png"/>
          <p:cNvPicPr/>
          <p:nvPr/>
        </p:nvPicPr>
        <p:blipFill>
          <a:blip r:embed="rId1"/>
          <a:stretch/>
        </p:blipFill>
        <p:spPr>
          <a:xfrm>
            <a:off x="684360" y="3141720"/>
            <a:ext cx="75848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主题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468360" y="2421000"/>
            <a:ext cx="792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通过学习本课让我们在遇到危急的情况时，千万不要着急、慌张，应该沉着冷静，想办法去克服困难，解决问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法点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324000" y="2637000"/>
            <a:ext cx="8351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培养学生初步的问题意识。在这一环节中，就是引导学生根据课题，提出合理的问题，然后以此为线索展开课文的学习。这样，就激发了学生阅读的兴趣，增强了学习的主动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1403280" y="1197000"/>
            <a:ext cx="633744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望梅止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随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ān)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一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生梅林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便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万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不唇干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无中生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智者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è)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用兵奇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众口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纸上一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难学会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因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hì)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利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不简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若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随机应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心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读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兵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也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wǎng)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然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灵感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611280" y="1916280"/>
            <a:ext cx="8208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通过拓展环节发展学生的思维能力，进一步理解课文，体会曹操的聪明与机智。同时渗透情意目标，让学生懂得在危急的情况下，要积极开动脑筋，想办法克服困难，解决问题的道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1" name="直线连接符 21"/>
            <p:cNvSpPr/>
            <p:nvPr/>
          </p:nvSpPr>
          <p:spPr>
            <a:xfrm flipV="1">
              <a:off x="268200" y="1689840"/>
              <a:ext cx="225576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同侧圆角矩形 23"/>
            <p:cNvSpPr/>
            <p:nvPr/>
          </p:nvSpPr>
          <p:spPr>
            <a:xfrm>
              <a:off x="452520" y="1125360"/>
              <a:ext cx="199980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矩形 11"/>
          <p:cNvSpPr/>
          <p:nvPr/>
        </p:nvSpPr>
        <p:spPr>
          <a:xfrm>
            <a:off x="500040" y="2000160"/>
            <a:ext cx="8429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乌梅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别名酸梅、黄仔、合汉梅、干枝梅，为蔷薇科落叶乔木植物梅的近成熟果实，经烟火熏制而成。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梅子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中含有茶酸能促进肠蠕动，因此便秘之人宜食之。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梅子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中含多种有机酸，有改善肝脏机能的作用，故肝病患者宜食之。梅子中的梅酸可软化血管，推迟血管硬化，具有防老抗衰作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1120320" y="2133720"/>
            <a:ext cx="64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h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1119240" y="2708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1332000" y="2708280"/>
            <a:ext cx="16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勇士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8"/>
          <p:cNvSpPr/>
          <p:nvPr/>
        </p:nvSpPr>
        <p:spPr>
          <a:xfrm>
            <a:off x="3236760" y="21337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à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9"/>
          <p:cNvSpPr/>
          <p:nvPr/>
        </p:nvSpPr>
        <p:spPr>
          <a:xfrm>
            <a:off x="3504960" y="270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397080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千万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1"/>
          <p:cNvSpPr/>
          <p:nvPr/>
        </p:nvSpPr>
        <p:spPr>
          <a:xfrm>
            <a:off x="5585040" y="21337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zh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5665320" y="270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627516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止步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1112760" y="342900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kuà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5"/>
          <p:cNvSpPr/>
          <p:nvPr/>
        </p:nvSpPr>
        <p:spPr>
          <a:xfrm>
            <a:off x="1344240" y="400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6"/>
          <p:cNvSpPr/>
          <p:nvPr/>
        </p:nvSpPr>
        <p:spPr>
          <a:xfrm>
            <a:off x="1882440" y="400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快乐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7"/>
          <p:cNvSpPr/>
          <p:nvPr/>
        </p:nvSpPr>
        <p:spPr>
          <a:xfrm>
            <a:off x="3414600" y="342900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8"/>
          <p:cNvSpPr/>
          <p:nvPr/>
        </p:nvSpPr>
        <p:spPr>
          <a:xfrm>
            <a:off x="3649320" y="400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9"/>
          <p:cNvSpPr/>
          <p:nvPr/>
        </p:nvSpPr>
        <p:spPr>
          <a:xfrm>
            <a:off x="4186800" y="400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很好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0"/>
          <p:cNvSpPr/>
          <p:nvPr/>
        </p:nvSpPr>
        <p:spPr>
          <a:xfrm>
            <a:off x="5421240" y="3357720"/>
            <a:ext cx="10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ò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1"/>
          <p:cNvSpPr/>
          <p:nvPr/>
        </p:nvSpPr>
        <p:spPr>
          <a:xfrm>
            <a:off x="5736960" y="400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2"/>
          <p:cNvSpPr/>
          <p:nvPr/>
        </p:nvSpPr>
        <p:spPr>
          <a:xfrm>
            <a:off x="6275160" y="400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劳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3"/>
          <p:cNvSpPr/>
          <p:nvPr/>
        </p:nvSpPr>
        <p:spPr>
          <a:xfrm>
            <a:off x="1186920" y="4724280"/>
            <a:ext cx="8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é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24"/>
          <p:cNvSpPr/>
          <p:nvPr/>
        </p:nvSpPr>
        <p:spPr>
          <a:xfrm>
            <a:off x="1417320" y="530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25"/>
          <p:cNvSpPr/>
          <p:nvPr/>
        </p:nvSpPr>
        <p:spPr>
          <a:xfrm>
            <a:off x="1692360" y="5300640"/>
            <a:ext cx="16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梅花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26"/>
          <p:cNvSpPr/>
          <p:nvPr/>
        </p:nvSpPr>
        <p:spPr>
          <a:xfrm>
            <a:off x="3635280" y="4653000"/>
            <a:ext cx="5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7"/>
          <p:cNvSpPr/>
          <p:nvPr/>
        </p:nvSpPr>
        <p:spPr>
          <a:xfrm>
            <a:off x="3720600" y="5229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28"/>
          <p:cNvSpPr/>
          <p:nvPr/>
        </p:nvSpPr>
        <p:spPr>
          <a:xfrm>
            <a:off x="4114800" y="522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速度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29"/>
          <p:cNvSpPr/>
          <p:nvPr/>
        </p:nvSpPr>
        <p:spPr>
          <a:xfrm>
            <a:off x="5614200" y="47242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í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30"/>
          <p:cNvSpPr/>
          <p:nvPr/>
        </p:nvSpPr>
        <p:spPr>
          <a:xfrm>
            <a:off x="5736960" y="5229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31"/>
          <p:cNvSpPr/>
          <p:nvPr/>
        </p:nvSpPr>
        <p:spPr>
          <a:xfrm>
            <a:off x="6275160" y="522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机灵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习检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1332000" y="310500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能正确流利地朗读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会认“梅、烤、将”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个生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58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826920" y="2205000"/>
            <a:ext cx="7129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将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士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万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   停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灵机一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赶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快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热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0e5wg900rct4s"/>
          <p:cNvPicPr/>
          <p:nvPr/>
        </p:nvPicPr>
        <p:blipFill>
          <a:blip r:embed="rId1"/>
          <a:stretch/>
        </p:blipFill>
        <p:spPr>
          <a:xfrm>
            <a:off x="2643120" y="1214280"/>
            <a:ext cx="5565960" cy="47358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3780000" y="1844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曹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Administrator\桌面\1.png"/>
          <p:cNvPicPr/>
          <p:nvPr/>
        </p:nvPicPr>
        <p:blipFill>
          <a:blip r:embed="rId1"/>
          <a:stretch/>
        </p:blipFill>
        <p:spPr>
          <a:xfrm>
            <a:off x="2857680" y="1214280"/>
            <a:ext cx="543384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untitled"/>
          <p:cNvPicPr/>
          <p:nvPr/>
        </p:nvPicPr>
        <p:blipFill>
          <a:blip r:embed="rId1"/>
          <a:stretch/>
        </p:blipFill>
        <p:spPr>
          <a:xfrm>
            <a:off x="2857680" y="1357200"/>
            <a:ext cx="5375160" cy="4523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Documents and Settings\Administrator\桌面\2.png"/>
          <p:cNvPicPr/>
          <p:nvPr/>
        </p:nvPicPr>
        <p:blipFill>
          <a:blip r:embed="rId1"/>
          <a:stretch/>
        </p:blipFill>
        <p:spPr>
          <a:xfrm>
            <a:off x="2786040" y="1214280"/>
            <a:ext cx="5802480" cy="456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92360" y="285264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3492360" y="2997360"/>
            <a:ext cx="1295640" cy="72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ǒu yí c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Administrator\桌面\3.png"/>
          <p:cNvPicPr/>
          <p:nvPr/>
        </p:nvPicPr>
        <p:blipFill>
          <a:blip r:embed="rId1"/>
          <a:stretch/>
        </p:blipFill>
        <p:spPr>
          <a:xfrm>
            <a:off x="2627280" y="1695600"/>
            <a:ext cx="5373720" cy="4037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2700360" y="5445000"/>
            <a:ext cx="3887640" cy="64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211640" y="4869000"/>
            <a:ext cx="64764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楷体_GB2312"/>
              </a:rPr>
              <a:t>kě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2627280" y="5300640"/>
            <a:ext cx="504720" cy="72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微软用户</cp:lastModifiedBy>
  <dcterms:modified xsi:type="dcterms:W3CDTF">2019-04-27T13:21:45Z</dcterms:modified>
  <cp:revision>123</cp:revision>
  <dc:subject/>
  <dc:title>幻灯片 1</dc:title>
</cp:coreProperties>
</file>