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type.wav" ContentType="audio/x-wav"/>
  <Override PartName="/ppt/media/chimes.wav" ContentType="audio/x-wav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BEA-8F7D-405D-8651-D8B49285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893C-73A6-486B-A160-B6646572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793-8645-4193-B780-4A09575B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101-4B17-4809-B364-8732092A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671-8804-4F77-AE02-835ADEC4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9CE-14BC-49CD-93F2-52A21FB6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856-4092-4D03-8AB7-85C5D8D4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207-BE80-49CB-8431-07C0720A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242-CBDF-4111-9128-E10EC563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51E-7E6F-4C3C-895A-C4355EF6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765-4A26-4317-AE2E-36113E39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6D9-1BE9-4294-9A97-FA91BA10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D985-0376-41EF-9C1E-47A9A00616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7118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孟子选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王好战，请以战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7118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段是故事的高潮，揭示了齐人的本来面目。他本来是怎样的一个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068640"/>
            <a:ext cx="91440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明确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社会地位低下，不与任何人交往，是一个不知廉耻的</a:t>
            </a:r>
            <a:r>
              <a:rPr b="1" lang="zh-CN" sz="4800" spc="-1" strike="noStrike" u="sng">
                <a:solidFill>
                  <a:srgbClr val="cc0000"/>
                </a:solidFill>
                <a:uFillTx/>
                <a:latin typeface="宋体"/>
              </a:rPr>
              <a:t>乞丐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7307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4360" y="134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段是故事的结局，写了哪两方面的内容？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3141720"/>
            <a:ext cx="80773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黑体"/>
              </a:rPr>
              <a:t>明确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妻妾的羞惭愤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齐人恬不知耻的丑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7118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本文为何能产生强烈的讽刺效果？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1700280"/>
            <a:ext cx="806436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0000"/>
                </a:solidFill>
                <a:latin typeface="Times New Roman"/>
                <a:ea typeface="黑体"/>
              </a:rPr>
              <a:t>一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齐人坟场“乞”与妻妾面前“骄”的行为对比，是真相与表象的对比。通过对比，人物内在品格的委琐与外表的庄重自足形成强烈的反差，达到了美学上的滑稽效果，形成了尖锐的讽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妻妾与齐人人生准则的对比。是两种道德标准的对比和冲撞，揭露了齐人的丑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7118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寓   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齐人有一妻一妾》讽刺官场中那种不顾礼义廉耻，以卑鄙的手段钻营富贵利达的人，揭露他们丑恶的灵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7118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79640" y="285264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隶书"/>
              </a:rPr>
              <a:t>孟子见梁襄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765000"/>
            <a:ext cx="828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战国时期，诸侯们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“争地以战，杀人盈野；争城以战，杀人盈城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“弑君三十六，亡国五十二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一部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春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就是一部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战争史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在春秋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三百年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里，“战伐侵功不可胜数”。在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战国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期间战争频繁，仅大规模的战争即达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2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次。战国名将白起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长平之战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坑赵卒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万，所到之处，杀人盈城，尸骨遍野，头颅成山，血流成河。成为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古今中外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战争史上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最残酷的杀害战俘的行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鬼谷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弟子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孙膑和庞涓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人的私怨，使两国人民深受战火之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由此我们就可以想象得出当时的社会是一个什么样的世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孟子一针见血的指出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“春秋无义战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连年的战争导致人民流离失所，在宋国甚至发生了人吃人的惨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60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背景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549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面对这样的局面，圣人之心在滴血。在那个强者争霸，弱者受苦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生灵涂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的年代里，孟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心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得四处奔走呼唤，他在列国间疲惫地奔波，马不停蹄从一个国家奔向另一个国家宣传他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仁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主张。他想用他的仁政，开明政治，将人民从水深火热之中拯救出来。本文就是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记录了他不远千里来进谏梁惠王的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Arial"/>
              </a:rPr>
              <a:t>正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Arial"/>
              </a:rPr>
              <a:t>卒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(cù)       </a:t>
            </a:r>
            <a:r>
              <a:rPr b="1" lang="zh-CN" sz="3600" spc="-1" strike="noStrike">
                <a:solidFill>
                  <a:srgbClr val="993366"/>
                </a:solidFill>
                <a:latin typeface="Arial"/>
              </a:rPr>
              <a:t>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杀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(shì)       </a:t>
            </a:r>
            <a:r>
              <a:rPr b="1" lang="zh-CN" sz="3600" spc="-1" strike="noStrike">
                <a:solidFill>
                  <a:srgbClr val="993366"/>
                </a:solidFill>
                <a:latin typeface="Arial"/>
              </a:rPr>
              <a:t>沛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(pèi)    </a:t>
            </a:r>
            <a:r>
              <a:rPr b="1" lang="zh-CN" sz="3600" spc="-1" strike="noStrike">
                <a:solidFill>
                  <a:srgbClr val="993366"/>
                </a:solidFill>
                <a:latin typeface="Arial"/>
              </a:rPr>
              <a:t>浡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(bó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然      枯</a:t>
            </a:r>
            <a:r>
              <a:rPr b="1" lang="zh-CN" sz="3600" spc="-1" strike="noStrike">
                <a:solidFill>
                  <a:srgbClr val="993366"/>
                </a:solidFill>
                <a:latin typeface="Arial"/>
              </a:rPr>
              <a:t>槁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(gǎo)      </a:t>
            </a:r>
            <a:r>
              <a:rPr b="1" lang="zh-CN" sz="3600" spc="-1" strike="noStrike">
                <a:solidFill>
                  <a:srgbClr val="993366"/>
                </a:solidFill>
                <a:latin typeface="Arial"/>
              </a:rPr>
              <a:t>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(wū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乎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Arial"/>
              </a:rPr>
              <a:t>重点字词梳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360" y="980640"/>
            <a:ext cx="5689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出，</a:t>
            </a: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语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人曰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语：告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卒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然问曰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卒：同“猝”，突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今夫天下之人</a:t>
            </a: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牧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牧：统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孰能</a:t>
            </a: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之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与：归附。跟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⑤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则天下皆</a:t>
            </a: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引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领而望之矣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引：伸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⑥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天下</a:t>
            </a: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乎定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恶：何，怎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⑦</a:t>
            </a: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如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有不嗜杀人者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如：如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9640" y="333360"/>
            <a:ext cx="8136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、孟子主张的“仁政”思想在文中是怎样体现的</a:t>
            </a:r>
            <a:r>
              <a:rPr b="1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孟子以“不嗜杀人者能一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回答梁襄王“孰能一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问话，“嗜杀人者”显然是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凶残、暴戾的典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；“不嗜杀人者”乃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善良、仁爱者的特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这种人才能统一天下。这是孟子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对执政者的谏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孟子在回答梁襄王“孰能与之”时，力透纸背地分析社会现状“今夫天下之人牧，未有不嗜杀人者也”，进一步指出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暴政无处不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现实，又运用比喻，并以“如有不嗜杀人者，则天下之民皆引领而望之矣”一句，生动形象地描述了施“仁政”的君主出现后，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百姓拥戴的场面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且“民归之，由水之就下”不可阻挡。孟子在文中是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以“不嗜杀人者”的话题来抒发所主张的“仁政”思想的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孟子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3280" cy="7118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6443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孟子，名轲，字子舆，战国时邹人。是儒家继孔子之后又一位重要的代表人物，后称为“亚圣”。孟子生于战国诸侯混战最激烈的时期，他提出“民贵君轻”、反对“霸道”，提倡以“仁”“义”为中心的“仁政”、“王道”。他继承和发扬了孔子的思想，希望能够在诸侯中选出一位王天下的君主。由于他的这些主张与当时激烈混战的社会状况不符，所以均未被统治者所采纳。孟子退而与弟子著书，遂成《孟子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300720" y="1413000"/>
            <a:ext cx="2614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620640"/>
            <a:ext cx="79200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、既然梁襄王缺乏人君的气度，孟子还向他讲诉自己的“仁政”思想，这说明孟子有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怎样的个性</a:t>
            </a: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答案：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说明孟子对实现自己的政治理想有着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坚韧执著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的追求，决不放弃任何机会向君王们宣传自己的政治理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26920" y="692280"/>
            <a:ext cx="756144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、说说孟子采用比喻说理的贴切性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答案：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孟子以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“禾苗”喻百姓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，以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“雨露”喻君恩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，就清楚地向梁襄王表明了君恩之于百姓的重要性及实行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“仁政”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的好处。而“水之就下”就更是表明了实行“仁政”的效果之显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70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1280" y="333360"/>
            <a:ext cx="85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孟子见梁襄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嗜杀人者能一之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“施行仁政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枯苗浡然―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引领而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之就下―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民之归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行仁政的结果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414972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3213000"/>
            <a:ext cx="288720" cy="1297080"/>
          </a:xfrm>
          <a:custGeom>
            <a:avLst/>
            <a:gdLst>
              <a:gd name="textAreaLeft" fmla="*/ 184680 w 288720"/>
              <a:gd name="textAreaRight" fmla="*/ 289080 w 2887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33336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隶书"/>
                <a:ea typeface="华文隶书"/>
              </a:rPr>
              <a:t>感悟孟子的人格魅力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33360"/>
            <a:ext cx="7993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隶书"/>
                <a:ea typeface="华文隶书"/>
              </a:rPr>
              <a:t>感悟孟子的人格魅力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907920"/>
            <a:ext cx="799308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孟子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爽快、耿直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掺和着火辣辣的呛味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语出惊人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对人说王“不似人君”“不见所畏”，对王言“今夫天下之人牧，未有不嗜杀人者也”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言下之意是梁襄王也在“嗜杀人者”之列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其语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犀利尖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均毫无讳饰遮掩之态，孟子对梁襄王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藐视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也可见一斑。读之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顿生快感，倍觉清爽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孟子在转述他与梁襄王的对话时，三言两语就呈现出对话双方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内心世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简笔勾勒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其个性化的人物形象便活了起来。在与梁襄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两相对照中，更见孟子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儒雅风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以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挥洒自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的大气。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03280" y="1125360"/>
            <a:ext cx="71294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华文行楷"/>
              </a:rPr>
              <a:t>其实何止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春秋无义战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华文行楷"/>
              </a:rPr>
              <a:t>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华文行楷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隶书"/>
              </a:rPr>
              <a:t>现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这个世界，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隶书"/>
              </a:rPr>
              <a:t>民主与和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的外衣之下，又有多少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隶书"/>
              </a:rPr>
              <a:t>不义之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呢？有多少儿童在战争中失去父母？有多少无辜百姓在战争中失去家园？又有多少妇女在哀哭着死去的亲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54936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隶书"/>
              </a:rPr>
              <a:t>探讨：你认为孟子的思想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当时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隶书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历史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隶书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现实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隶书"/>
              </a:rPr>
              <a:t>中有什么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提示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在那个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诸侯争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的年代，孟子的主张不会成功。仁政，从某种意义上来说就意味着排斥战争。孟子似乎是个理想主义者，认为哪个君主“明”，民自然就会归附他，天下自然就会归他所有。这一点上，他未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过低的估计了战争的作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，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过于乐观的估计了仁政的力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。兼并天下本来就是一项残酷的政治斗争，必然要付出血的代价。争霸，是国力、智谋、武力的综合较量，乖乖在家等着，有谁会拱手送上土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5280" y="404640"/>
            <a:ext cx="874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战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，本身就是一个优胜劣汰的过程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胜者为王败者寇，不存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孟子所希望的那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和平的方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。毛主席有句话极有道理，“枪杆子里面出政权”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秦始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以铁骑长矛完成了霸业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宣告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孟子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仁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某种意义上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失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但千百年来，孟子的思想一直被推崇备至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以民为本，以仁治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，一直为统治者所重视，而且将来这人性的光辉将会继续闪耀下去。尽管孟子的思想主张与战国时代征战攻伐、崇尚强力的历史趋势不相吻合，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孟子这种自承先贤、身任天下的人生精神，却是值得称道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。在那个弱肉强食的年代里，在那个强权的社会里，胜者为王败者为寇，是没有王道与仁政的立足之处的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孟子，和他的“仁政”思想就诞生在这样一个不属于他的社会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333360"/>
            <a:ext cx="835164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孟子的失败，不是他个人的原因，而是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历史的原因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可以说，不是孟子的失败，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而是历史的失败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是历史的悲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正因为历史没有选择孟子，所以战国才会如此硝烟弥漫，人民才会困顿不堪。历史没有选择孟子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但是我们还是需要孟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//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当今的社会，当美国人以暴易暴，无法从伊拉克脱身时，当朝鲜用发展核武器威胁美国陷入战争的阴影之中时，当日本的军国主义开始抬头时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我们需要孟子和孟子的仁政思想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32000" y="1052640"/>
            <a:ext cx="6912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  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在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现代社会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，当人类的精神家园渐渐荒芜的今天，人们越来越功利，蓦然回首，我们发现了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孔孟的精神超越了历史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，在熠熠生辉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孟子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3280" cy="7118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善辩。孟子是一位有名的雄辩家。其门人公都子对他说：“外人皆称夫子好辩。”孟子回答说：“我岂好辩哉？不得已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孟子确实是为了推行自己的政治主张，对付那班见利忘义、嗜杀不仁的统治者，才施展他的辩才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《孟子》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3280" cy="7118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《孟子》是先秦诸子杰出的散文著作，内容包括孟子的政治学说、政治活动、哲学思想和个性修养。《孟子》与《论语》同是语录体散文，但与《论语》相比，它篇幅较长，内容也更具体，描绘也更细致。《孟子》比喻准确形象，语言犀利酣畅，感情洋溢饱满，说理深刻透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7118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47800" y="2019240"/>
            <a:ext cx="605160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华文行楷"/>
              </a:rPr>
              <a:t>齐人有一妻一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2349360"/>
            <a:ext cx="9144000" cy="3527640"/>
            <a:chOff x="0" y="2349360"/>
            <a:chExt cx="9144000" cy="3527640"/>
          </a:xfrm>
        </p:grpSpPr>
        <p:sp>
          <p:nvSpPr>
            <p:cNvPr id="61" name=""/>
            <p:cNvSpPr/>
            <p:nvPr/>
          </p:nvSpPr>
          <p:spPr>
            <a:xfrm>
              <a:off x="0" y="2349360"/>
              <a:ext cx="914400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333399"/>
                  </a:solidFill>
                  <a:latin typeface="Times New Roman"/>
                </a:rPr>
                <a:t>正音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瞷（       ）   墦（    ） 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</a:rPr>
                <a:t>讪（       ）   施（    ）从良人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349360"/>
              <a:ext cx="9144000" cy="35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404720" y="3716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ji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2520" y="37162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f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9080" y="450864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sh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8520" y="45086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y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900000" y="1125360"/>
            <a:ext cx="8915400" cy="4799880"/>
            <a:chOff x="900000" y="1125360"/>
            <a:chExt cx="8915400" cy="4799880"/>
          </a:xfrm>
        </p:grpSpPr>
        <p:sp>
          <p:nvSpPr>
            <p:cNvPr id="68" name=""/>
            <p:cNvSpPr/>
            <p:nvPr/>
          </p:nvSpPr>
          <p:spPr>
            <a:xfrm>
              <a:off x="900000" y="1125360"/>
              <a:ext cx="8915400" cy="47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     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重点词语理解：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a.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 </a:t>
              </a: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餍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酒肉而后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b.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则尽</a:t>
              </a: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</a:rPr>
                <a:t>富贵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也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c.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吾将</a:t>
              </a:r>
              <a:r>
                <a:rPr b="0" lang="zh-CN" sz="3600" spc="-1" strike="noStrike">
                  <a:solidFill>
                    <a:srgbClr val="ff0000"/>
                  </a:solidFill>
                  <a:latin typeface="宋体"/>
                </a:rPr>
                <a:t>瞷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良人之所之也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d.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 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遍</a:t>
              </a:r>
              <a:r>
                <a:rPr b="0" lang="zh-CN" sz="3600" spc="-1" strike="noStrike">
                  <a:solidFill>
                    <a:srgbClr val="ff0000"/>
                  </a:solidFill>
                  <a:latin typeface="宋体"/>
                </a:rPr>
                <a:t>国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中无与立谈者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e.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 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所仰望而</a:t>
              </a: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终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身也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f.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与其</a:t>
              </a: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讪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其良人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00000" y="1125360"/>
              <a:ext cx="8915400" cy="47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325120" y="765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餍：饱，动词，吃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61360" y="1817640"/>
            <a:ext cx="38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富贵：名词，有钱有势的   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1920" y="285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瞷：窥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00680" y="357336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国：都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14520" y="4508640"/>
            <a:ext cx="42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终：使动词，使……完全度过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57320" y="55897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讪：讥讽，怨詈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260280"/>
            <a:ext cx="8893080" cy="6192360"/>
            <a:chOff x="0" y="260280"/>
            <a:chExt cx="8893080" cy="6192360"/>
          </a:xfrm>
        </p:grpSpPr>
        <p:sp>
          <p:nvSpPr>
            <p:cNvPr id="78" name=""/>
            <p:cNvSpPr/>
            <p:nvPr/>
          </p:nvSpPr>
          <p:spPr>
            <a:xfrm>
              <a:off x="0" y="260280"/>
              <a:ext cx="8893080" cy="61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 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道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此其为餍足之道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从此道至吾军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不过二十里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得道多助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失道寡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臣之所好者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道也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;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进乎技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E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不足为外人道也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260280"/>
              <a:ext cx="8893080" cy="6192360"/>
            </a:xfrm>
            <a:prstGeom prst="rect">
              <a:avLst/>
            </a:prstGeom>
            <a:noFill/>
            <a:ln w="0">
              <a:solidFill>
                <a:srgbClr val="cc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685040" y="47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94240" y="162864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道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93640" y="2852640"/>
            <a:ext cx="25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指“仁政”，或道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15000" y="3716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自然的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8480" y="4941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28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04920" y="0"/>
            <a:ext cx="8839080" cy="6856920"/>
            <a:chOff x="304920" y="0"/>
            <a:chExt cx="8839080" cy="6856920"/>
          </a:xfrm>
        </p:grpSpPr>
        <p:sp>
          <p:nvSpPr>
            <p:cNvPr id="87" name=""/>
            <p:cNvSpPr/>
            <p:nvPr/>
          </p:nvSpPr>
          <p:spPr>
            <a:xfrm>
              <a:off x="304920" y="0"/>
              <a:ext cx="8839080" cy="68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99"/>
                  </a:solidFill>
                  <a:latin typeface="Times New Roman"/>
                </a:rPr>
                <a:t>一词多义现象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a.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     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之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A 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吾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将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瞷良人之所之也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B 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此其为餍足之道也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C 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而良人未</a:t>
              </a: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之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知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D 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吾见师</a:t>
              </a:r>
              <a:r>
                <a:rPr b="1" lang="zh-CN" sz="3600" spc="-1" strike="noStrike">
                  <a:solidFill>
                    <a:srgbClr val="ff0000"/>
                  </a:solidFill>
                  <a:latin typeface="宋体"/>
                </a:rPr>
                <a:t>之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出，不见师之入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0"/>
              <a:ext cx="8839080" cy="68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871440" y="148428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前一个是助词，后一个是动词，到、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56536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34800" y="3573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代词，这件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39680" y="522936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取消句子独立性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4:32:26Z</dcterms:created>
  <dc:creator>未知用户</dc:creator>
  <dc:description/>
  <dc:language>en-US</dc:language>
  <cp:lastModifiedBy>微软用户</cp:lastModifiedBy>
  <dcterms:modified xsi:type="dcterms:W3CDTF">2008-09-06T08:20:27Z</dcterms:modified>
  <cp:revision>31</cp:revision>
  <dc:subject/>
  <dc:title>孟子选读</dc:title>
</cp:coreProperties>
</file>