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40AD-6D46-4B27-8797-D64186E5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2E1-9E55-4091-BEBA-4E2617AA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3D9E-58B5-4C58-B45B-632AA43A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47AE-A359-4A9A-B0DF-8266E24F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BBA-58DC-42F7-85E5-A7C2E487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087-DF60-413F-A8CE-901A4DD0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2B9-424F-4841-A203-8D7FB3E1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63C-494D-415B-B6C6-88818F5E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B0B-FDBD-4112-9426-A2905842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333-CA70-4824-8CCC-96890548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582-52E2-4D0F-B731-196AE8BC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7DF2-C995-437E-B9A1-B4A24791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B968-A94E-4076-8C0B-7553FCA699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92360" y="2349360"/>
            <a:ext cx="6408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第一课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: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王好战，请以战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260280"/>
            <a:ext cx="4032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《孟子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66920" y="1557360"/>
            <a:ext cx="1916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则无望民之多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于邻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树之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以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申之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以孝悌之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颁白者不负戴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于道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72360" y="1844640"/>
            <a:ext cx="360360" cy="2857680"/>
          </a:xfrm>
          <a:custGeom>
            <a:avLst/>
            <a:gdLst>
              <a:gd name="textAreaLeft" fmla="*/ 0 w 360360"/>
              <a:gd name="textAreaRight" fmla="*/ 129960 w 360360"/>
              <a:gd name="textAreaTop" fmla="*/ 74520 h 2857680"/>
              <a:gd name="textAreaBottom" fmla="*/ 2783160 h 285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4320" y="19306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状语后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342800"/>
            <a:ext cx="8540640" cy="55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申之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孝悌之义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斧斤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时入山林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五十步笑百步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王好战，请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战喻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8000" y="1343160"/>
            <a:ext cx="34542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介词，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2637000"/>
            <a:ext cx="34542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介词，按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88000" y="4005360"/>
            <a:ext cx="3814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介词，凭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5373720"/>
            <a:ext cx="35258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介词，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895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找出实行“王道”的七种措施的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760" y="853920"/>
            <a:ext cx="803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违农时，谷不可胜食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419120"/>
            <a:ext cx="729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罟不入洿池，鱼鳖不可胜食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133720"/>
            <a:ext cx="821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斧斤以时入山林，材木不可胜用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000" y="2743200"/>
            <a:ext cx="89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亩之宅，树之以桑，五十者可以衣帛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000" y="3284640"/>
            <a:ext cx="89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鸡豚狗彘之畜，无失其时，七十者可以食肉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3000" y="4292640"/>
            <a:ext cx="89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百亩之田，勿夺其时，数口之家，可以无饥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5303880"/>
            <a:ext cx="844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谨库序之教，申之以孝悌之义，颁白者不负戴于道路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06480" y="-60480"/>
            <a:ext cx="5709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讨论：孟子否定了魏国及邻国之政，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他的理想政治—“仁政”的具体内容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66600" y="1069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违农时（农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42560" y="16794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保护鱼类（渔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42560" y="22892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按时砍伐（林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1219320"/>
            <a:ext cx="250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不可胜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10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13716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2276640"/>
            <a:ext cx="23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不可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18880" y="3051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鼓励养蚕（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42560" y="37368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繁兴六畜（牧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441972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生产粮食（农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66080" y="4956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兴办教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4360" y="1484280"/>
            <a:ext cx="358920" cy="3456000"/>
          </a:xfrm>
          <a:custGeom>
            <a:avLst/>
            <a:gdLst>
              <a:gd name="textAreaLeft" fmla="*/ 0 w 358920"/>
              <a:gd name="textAreaRight" fmla="*/ 129600 w 358920"/>
              <a:gd name="textAreaTop" fmla="*/ 85320 h 3456000"/>
              <a:gd name="textAreaBottom" fmla="*/ 337068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54"/>
                  <a:pt x="10800" y="1707"/>
                </a:cubicBezTo>
                <a:lnTo>
                  <a:pt x="10800" y="9093"/>
                </a:lnTo>
                <a:cubicBezTo>
                  <a:pt x="10800" y="9947"/>
                  <a:pt x="16200" y="10800"/>
                  <a:pt x="21600" y="10800"/>
                </a:cubicBezTo>
                <a:cubicBezTo>
                  <a:pt x="16200" y="10800"/>
                  <a:pt x="10800" y="11654"/>
                  <a:pt x="10800" y="12507"/>
                </a:cubicBezTo>
                <a:lnTo>
                  <a:pt x="10800" y="19893"/>
                </a:lnTo>
                <a:cubicBezTo>
                  <a:pt x="10800" y="207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9120" y="247680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保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41920" y="5013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黑体"/>
              </a:rPr>
              <a:t>教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1219320"/>
            <a:ext cx="381240" cy="1676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8880" y="12351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王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之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350532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720" y="3889440"/>
            <a:ext cx="7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王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之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904760" y="189000"/>
            <a:ext cx="5301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思考：孟子在最后一段旨在说明什么？用了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说理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62864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旨在阐述统治者想使民加多应有的态度：应反省自己，清除虐政，施行仁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43520" y="2997360"/>
            <a:ext cx="3767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对比   狗彘食人食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贵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涂有饿莩（百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比喻   涂有饿莩归罪于年成不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刺人而杀人归罪于武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260280"/>
            <a:ext cx="7345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品读第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则——齐人有一妻一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1052640"/>
            <a:ext cx="8496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良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，则必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酒肉而后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419200"/>
            <a:ext cx="8424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妻问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所与饮食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则尽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富贵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，而未尝有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显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4795920"/>
            <a:ext cx="842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良人之所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蚤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良人之所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0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良人：丈夫    餍：吃饱   反：同“返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3571920"/>
            <a:ext cx="8209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所与饮食者：在一起吃喝的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富贵：有钱有地位   显者：有名望有地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5445000"/>
            <a:ext cx="820872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瞷：窥视     之：往，到……去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蚤：同“早”    施：同“迤”，斜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280" y="260280"/>
            <a:ext cx="352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此其为餍足之道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189000"/>
            <a:ext cx="216000" cy="100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7280" y="0"/>
            <a:ext cx="3887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遍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国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无与立谈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836640"/>
            <a:ext cx="540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墦间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祭者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58920" y="1773360"/>
            <a:ext cx="6265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此其为餍足之道也！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645000"/>
            <a:ext cx="860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良人者，所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仰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终身也。今若此！ 讪  相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4437000"/>
            <a:ext cx="820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仰望：指望、依靠    讪：讥笑怨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相泣：面对面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8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620640"/>
            <a:ext cx="82072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良人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未之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也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施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外来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其妻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1557360"/>
            <a:ext cx="8208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施施：喜悦自得的样子   骄：轻视，傲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2781360"/>
            <a:ext cx="8136000" cy="21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由君子观之，则人之所以求富贵利达者，其妻妾不羞也而不相泣者，几希矣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47280" y="620640"/>
            <a:ext cx="6409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指责社会上那些用龌龊的手段谋求富贵显达的人，连他们自己的妻妾都感到无地自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796000" y="45086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孟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2421000"/>
            <a:ext cx="338436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Arial"/>
                <a:ea typeface="华文行楷"/>
              </a:rPr>
              <a:t>第三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67760" cy="6881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76720" y="1557360"/>
            <a:ext cx="5182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挟泰山以超北海，此不能也，非不为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为老人折枝，是不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也，非不能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621440" y="824040"/>
            <a:ext cx="268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什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今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未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请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今有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日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其邻之鸡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速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已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22840" y="836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十分之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53400" y="1916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今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55960" y="2997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形容词作动词，减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9600" y="4724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副词，名词作状语，每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2480" y="4149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窃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41960" y="5734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45400" y="573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停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908000" y="836280"/>
            <a:ext cx="6120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运用偷鸡者知道自己的行为不符合道义却不能停止，来讽刺宋国君臣知道赋税苛重不符合道义却要等到明年才改变，显示宋国君臣不施“仁政”，不关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民生的道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796000" y="45086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孟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708280"/>
            <a:ext cx="338436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Arial"/>
                <a:ea typeface="华文行楷"/>
              </a:rPr>
              <a:t>第四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66"/>
                </a:solidFill>
                <a:latin typeface="黑体"/>
                <a:ea typeface="黑体"/>
              </a:rPr>
              <a:t>重点字词梳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2033640"/>
            <a:ext cx="842472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出，</a:t>
            </a:r>
            <a:r>
              <a:rPr b="1" lang="zh-CN" sz="3200" spc="-1" strike="noStrike">
                <a:solidFill>
                  <a:srgbClr val="993366"/>
                </a:solidFill>
                <a:latin typeface="黑体"/>
                <a:ea typeface="黑体"/>
              </a:rPr>
              <a:t>语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人曰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993366"/>
                </a:solidFill>
                <a:latin typeface="黑体"/>
                <a:ea typeface="黑体"/>
              </a:rPr>
              <a:t>卒然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曰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今夫天下之</a:t>
            </a:r>
            <a:r>
              <a:rPr b="1" lang="zh-CN" sz="3200" spc="-1" strike="noStrike">
                <a:solidFill>
                  <a:srgbClr val="993366"/>
                </a:solidFill>
                <a:latin typeface="黑体"/>
                <a:ea typeface="黑体"/>
              </a:rPr>
              <a:t>人牧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④</a:t>
            </a:r>
            <a:r>
              <a:rPr b="1" lang="zh-CN" sz="3200" spc="-1" strike="noStrike">
                <a:solidFill>
                  <a:srgbClr val="993366"/>
                </a:solidFill>
                <a:latin typeface="黑体"/>
                <a:ea typeface="黑体"/>
              </a:rPr>
              <a:t>孰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能</a:t>
            </a:r>
            <a:r>
              <a:rPr b="1" lang="zh-CN" sz="3200" spc="-1" strike="noStrike">
                <a:solidFill>
                  <a:srgbClr val="993366"/>
                </a:solidFill>
                <a:latin typeface="黑体"/>
                <a:ea typeface="黑体"/>
              </a:rPr>
              <a:t>与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之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⑤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则天下皆</a:t>
            </a:r>
            <a:r>
              <a:rPr b="1" lang="zh-CN" sz="3200" spc="-1" strike="noStrike">
                <a:solidFill>
                  <a:srgbClr val="993366"/>
                </a:solidFill>
                <a:latin typeface="黑体"/>
                <a:ea typeface="黑体"/>
              </a:rPr>
              <a:t>引领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望之矣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⑥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下</a:t>
            </a:r>
            <a:r>
              <a:rPr b="1" lang="zh-CN" sz="3200" spc="-1" strike="noStrike">
                <a:solidFill>
                  <a:srgbClr val="993366"/>
                </a:solidFill>
                <a:latin typeface="黑体"/>
                <a:ea typeface="黑体"/>
              </a:rPr>
              <a:t>恶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乎定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⑦</a:t>
            </a:r>
            <a:r>
              <a:rPr b="1" lang="zh-CN" sz="3200" spc="-1" strike="noStrike">
                <a:solidFill>
                  <a:srgbClr val="993366"/>
                </a:solidFill>
                <a:latin typeface="黑体"/>
                <a:ea typeface="黑体"/>
              </a:rPr>
              <a:t>如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有不嗜杀人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134136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993366"/>
                </a:solidFill>
                <a:latin typeface="黑体"/>
                <a:ea typeface="黑体"/>
              </a:rPr>
              <a:t>文中用了怎样的寓言故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83480" y="2565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遇旱而枯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56536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遇雨而兴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36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百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371628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遇暴政而痛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48360" y="3716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遇仁政而归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492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禾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67280" y="4869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大水流向低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4869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百姓归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87640" y="5013360"/>
            <a:ext cx="719280" cy="36036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33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835280" y="1197000"/>
            <a:ext cx="59752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如有不嗜杀人者，则天下之民皆引领而望之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反映了孟子主张要用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仁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来获得民心，从而统一天下的仁政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1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68360" y="189000"/>
            <a:ext cx="2232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回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382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471320" cy="963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304920"/>
            <a:ext cx="83055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根据拼音写出汉字，给加点字注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弃甲曳（      ）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涂（            ）有饿殍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(3)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鸡豚（    ）狗彘（     ）之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(4)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数（    ）罟（     ）不入洿（    ）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(5)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无（           ）失其时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(6)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谨庠（       ）序之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(7)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颁（            ）白者不负戴于道路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(8)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申之以孝悌（   ）之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2200" y="914400"/>
            <a:ext cx="6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y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54920" y="1523880"/>
            <a:ext cx="16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t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，通“途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9040" y="22096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ú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8720" y="2133720"/>
            <a:ext cx="7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zh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4480" y="2844720"/>
            <a:ext cx="6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0240" y="284472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g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88240" y="3500280"/>
            <a:ext cx="17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w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，通“毋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0240" y="4140360"/>
            <a:ext cx="11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xiá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61320" y="47242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bān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，通“斑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3320" y="152388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iǎ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95880" y="22003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x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09800" y="53737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t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25520" y="278136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w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32040" y="10944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6633"/>
                </a:solidFill>
                <a:latin typeface="Times New Roman"/>
                <a:ea typeface="黑体"/>
              </a:rPr>
              <a:t>通假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197000"/>
            <a:ext cx="8569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不可，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百步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则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望民之多于邻国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失其时；王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罪岁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白者不负戴于道路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有饿莩而不知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62040" y="115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Times New Roman"/>
              </a:rPr>
              <a:t>词类活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43160" y="1700280"/>
            <a:ext cx="2349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填然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鼓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树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之以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五十者可以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衣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帛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然而不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王无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罪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是使民养生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丧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死无憾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1700280"/>
            <a:ext cx="432000" cy="3551040"/>
          </a:xfrm>
          <a:custGeom>
            <a:avLst/>
            <a:gdLst>
              <a:gd name="textAreaLeft" fmla="*/ 0 w 432000"/>
              <a:gd name="textAreaRight" fmla="*/ 155880 w 432000"/>
              <a:gd name="textAreaTop" fmla="*/ 47880 h 3551040"/>
              <a:gd name="textAreaBottom" fmla="*/ 3503160 h 355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69"/>
                  <a:pt x="10800" y="937"/>
                </a:cubicBezTo>
                <a:lnTo>
                  <a:pt x="10800" y="9863"/>
                </a:lnTo>
                <a:cubicBezTo>
                  <a:pt x="10800" y="10332"/>
                  <a:pt x="16200" y="10800"/>
                  <a:pt x="21600" y="10800"/>
                </a:cubicBezTo>
                <a:cubicBezTo>
                  <a:pt x="16200" y="10800"/>
                  <a:pt x="10800" y="11269"/>
                  <a:pt x="10800" y="11737"/>
                </a:cubicBezTo>
                <a:lnTo>
                  <a:pt x="10800" y="20663"/>
                </a:lnTo>
                <a:cubicBezTo>
                  <a:pt x="10800" y="21132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83600" y="1138680"/>
            <a:ext cx="85068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</a:rPr>
              <a:t>名词活用动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00000" y="1916280"/>
            <a:ext cx="47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黑体"/>
                <a:ea typeface="黑体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谨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庠序之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黑体"/>
                <a:ea typeface="黑体"/>
              </a:rPr>
              <a:t>◆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使民养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生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丧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死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无憾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48000" y="19368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黑体"/>
              </a:rPr>
              <a:t>形容词活用动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4600" y="3141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黑体"/>
              </a:rPr>
              <a:t>动词作名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62040" y="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黑体"/>
                <a:ea typeface="黑体"/>
              </a:rPr>
              <a:t>古今异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37440" y="981000"/>
            <a:ext cx="216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寡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于国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内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战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弃甲曳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兵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百步而后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然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王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5240" y="1052640"/>
            <a:ext cx="34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国君对自己的谦称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形影孤单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63960" y="1989000"/>
            <a:ext cx="13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黄河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河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85040" y="1989000"/>
            <a:ext cx="220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荒年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凶恶，不吉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24880" y="2997360"/>
            <a:ext cx="36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请允许我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礼貌用语，让对方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6320" y="3933720"/>
            <a:ext cx="13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兵器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士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49400" y="3933720"/>
            <a:ext cx="11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跑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行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32680" y="4941720"/>
            <a:ext cx="156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或者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有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9960" y="5877000"/>
            <a:ext cx="24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这样却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连词，表转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62040" y="115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黑体"/>
                <a:ea typeface="黑体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18440" y="981000"/>
            <a:ext cx="895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是亦走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王道之始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非我也，岁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非我也，兵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未之有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341360"/>
            <a:ext cx="360360" cy="2857680"/>
          </a:xfrm>
          <a:custGeom>
            <a:avLst/>
            <a:gdLst>
              <a:gd name="textAreaLeft" fmla="*/ 0 w 360360"/>
              <a:gd name="textAreaRight" fmla="*/ 129960 w 360360"/>
              <a:gd name="textAreaTop" fmla="*/ 74520 h 2857680"/>
              <a:gd name="textAreaBottom" fmla="*/ 2783160 h 285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97040" y="180108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判断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22480" y="537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宾语前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5:28:04Z</dcterms:created>
  <dc:creator>微软用户</dc:creator>
  <dc:description/>
  <dc:language>en-US</dc:language>
  <cp:lastModifiedBy>微软用户</cp:lastModifiedBy>
  <dcterms:modified xsi:type="dcterms:W3CDTF">2008-11-25T01:17:51Z</dcterms:modified>
  <cp:revision>12</cp:revision>
  <dc:subject/>
  <dc:title>幻灯片 1</dc:title>
</cp:coreProperties>
</file>