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988-1B64-457F-A8AC-4B08DF6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EE6-ED2F-4BC4-A074-AB7C2B8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247-4CED-4E67-8707-3B058709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17F-0038-40F2-9ED6-3E1268A6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4588-5E6C-428F-B9CB-C49857DF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71AF-5863-4595-ACA3-874070A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B2B6-8565-4DDE-9A37-4CCAF18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8BDA-E07C-411F-A7B0-1DCCFE93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3F0-3DBB-404A-B3CB-A4C5C078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D716-48AC-4192-9501-D96CFCF7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A18B-5BB7-4E6F-A614-9B1F6BE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4B5-4224-4453-9FF7-C5AC247F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FF48-F380-4DDF-A408-DF88764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141A-E8F1-4E3C-8E14-E7CC729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AF42-E217-4211-AC11-D7AD0D3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617A-6254-4AAB-AF7A-44298238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7C5-8695-4871-A488-D8D33CD4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DB6-AA1C-4561-B843-AB1387F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138-DB17-4459-B6C5-6CBF2B9C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853-9E68-42C4-B148-68DEA817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689-759C-4455-8EF3-4E0DD42D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69D-131A-4F57-8A8F-D145801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CA1-31F9-46D9-882C-0F859D36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196-1961-4D4C-91CE-FFE6FE1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5BA6-48C9-4695-BE03-8046B9F678E4}" type="datetime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E330-C3B8-42EF-BF32-8053E9CDA95F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39" name="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428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496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220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06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04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4160" y="32688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46200" y="217440"/>
                  <a:ext cx="2858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7044-2BA3-4E88-82BA-35AD627C79B6}" type="datetime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03E-3297-43C5-B9C9-29BFE60A295D}" type="slidenum">
              <a:rPr b="0" lang="zh-CN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1120" y="4317480"/>
            <a:ext cx="984240" cy="1162080"/>
            <a:chOff x="7791120" y="4317480"/>
            <a:chExt cx="984240" cy="1162080"/>
          </a:xfrm>
        </p:grpSpPr>
        <p:sp>
          <p:nvSpPr>
            <p:cNvPr id="103" name="未知"/>
            <p:cNvSpPr/>
            <p:nvPr/>
          </p:nvSpPr>
          <p:spPr>
            <a:xfrm rot="7320000">
              <a:off x="7784640" y="465300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28280" y="461556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1120" y="4317480"/>
              <a:ext cx="984240" cy="1162080"/>
              <a:chOff x="7791120" y="4317480"/>
              <a:chExt cx="984240" cy="116208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55480"/>
                <a:ext cx="93600" cy="97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3680" y="4648680"/>
                <a:ext cx="1058760" cy="4989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40960" y="4756320"/>
                <a:ext cx="749160" cy="282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3280" y="4552560"/>
                <a:ext cx="100080" cy="1893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0040" y="4753080"/>
                <a:ext cx="306360" cy="1663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6400800" cy="129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lang="zh-CN" sz="7200" spc="-1" strike="noStrike">
                <a:solidFill>
                  <a:srgbClr val="ffffcc"/>
                </a:solidFill>
                <a:latin typeface="Comic Sans MS"/>
              </a:rPr>
              <a:t>仁义之政”</a:t>
            </a:r>
            <a:endParaRPr b="0" lang="en-US" sz="72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696080" cy="2374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则无望民之多于邻国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树之以桑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申之以孝悌之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颁白者不负戴于道路矣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1989000"/>
            <a:ext cx="289080" cy="1944720"/>
          </a:xfrm>
          <a:custGeom>
            <a:avLst/>
            <a:gdLst>
              <a:gd name="textAreaLeft" fmla="*/ 0 w 289080"/>
              <a:gd name="textAreaRight" fmla="*/ 104400 w 2890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5"/>
                </a:lnTo>
                <a:cubicBezTo>
                  <a:pt x="10800" y="10015"/>
                  <a:pt x="16200" y="10915"/>
                  <a:pt x="21600" y="10915"/>
                </a:cubicBezTo>
                <a:cubicBezTo>
                  <a:pt x="16200" y="10915"/>
                  <a:pt x="10800" y="11815"/>
                  <a:pt x="10800" y="1271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4240" y="2133720"/>
            <a:ext cx="1155240" cy="1800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状语后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B87-7E2A-44D4-B766-FB6E75D0533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BA996-A3B7-4301-8AD3-F764F9DDABF2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6480360" cy="55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00f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六、写出下各项“以”字用法和意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6624720" cy="251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申之以孝悌之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斧斤以时入山林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以五十步笑百步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王好战，请以战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2421000"/>
            <a:ext cx="141300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介词，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70320" y="2997360"/>
            <a:ext cx="1095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介词，按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3573360"/>
            <a:ext cx="17179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介词，凭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2560" y="4221000"/>
            <a:ext cx="9122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介词，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C7B-EE36-4EF1-B74E-6D97092525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01155-77B1-4965-BB67-335766033443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63280" y="2205000"/>
            <a:ext cx="4822920" cy="1239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66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Comic Sans MS"/>
              </a:rPr>
              <a:t>问题探讨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109-C05F-43E2-868A-049C68612DD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3AAA5-449E-4919-9EFC-D3A95B7DC836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3280" y="907920"/>
            <a:ext cx="6624720" cy="627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找出实行“王道”的七种措施的句子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345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不违农时，谷不可胜食也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数罟不入洿池，鱼鳖不可胜食也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斧斤以时入山林，材木不可胜用也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五亩之宅，树之以桑，五十者可以衣帛矣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⑤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鸡豚狗彘之畜，无失其时，七十者可以食肉矣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百亩之田，勿夺其时，数口之家，可以无饥矣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⑦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谨库序之教，申之以孝悌之义，颁白者不负戴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于道路矣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1957320" cy="162864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5445000"/>
            <a:ext cx="5473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把这七个方面按书上提示分成两层，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分在哪里？最后一层又可分为几小层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805360"/>
            <a:ext cx="914400" cy="91440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BA4-837E-4421-A2D4-3A58A1E910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8F75A-FA3B-43B9-95A9-AD6B70F396E0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126200" cy="91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讨论：孟子否定了魏国及邻国之政，那么他的理想政治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—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仁政”的具体内容是什么？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834920" y="1844280"/>
            <a:ext cx="2230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不违农时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保护鱼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按时砍伐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835280" y="3429000"/>
            <a:ext cx="2193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鼓励养蚕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繁兴六畜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生产粮食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兴办教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2133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71628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0200" y="186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农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0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渔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020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林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020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纺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020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0200" y="44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（农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9480" y="2133720"/>
            <a:ext cx="912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不可胜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9480" y="2871720"/>
            <a:ext cx="912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不可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2133720"/>
            <a:ext cx="863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王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之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076640"/>
            <a:ext cx="8632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王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之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5013360"/>
            <a:ext cx="803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教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5080" y="2135160"/>
            <a:ext cx="76320" cy="574560"/>
          </a:xfrm>
          <a:custGeom>
            <a:avLst/>
            <a:gdLst>
              <a:gd name="textAreaLeft" fmla="*/ 0 w 76320"/>
              <a:gd name="textAreaRight" fmla="*/ 27360 w 7632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42"/>
                </a:lnTo>
                <a:cubicBezTo>
                  <a:pt x="10800" y="9542"/>
                  <a:pt x="16200" y="10442"/>
                  <a:pt x="21600" y="10442"/>
                </a:cubicBezTo>
                <a:cubicBezTo>
                  <a:pt x="16200" y="10442"/>
                  <a:pt x="10800" y="11342"/>
                  <a:pt x="10800" y="1224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2360" y="2205000"/>
            <a:ext cx="223560" cy="2592360"/>
          </a:xfrm>
          <a:custGeom>
            <a:avLst/>
            <a:gdLst>
              <a:gd name="textAreaLeft" fmla="*/ 0 w 223560"/>
              <a:gd name="textAreaRight" fmla="*/ 80640 w 2235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5300640"/>
            <a:ext cx="23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6680" y="3011400"/>
            <a:ext cx="606960" cy="106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保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1584360" cy="91440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D58-F18C-42A0-A885-8075F74AED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1FDD5-2C70-47F6-9845-079D71AF77B6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360" y="1125000"/>
            <a:ext cx="5905440" cy="48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思考：最后一层用了什么说理方法？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684072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对比   狗彘食人食（贵族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涂有饿莩（百姓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比喻   涂有饿莩归罪于年成不好（本体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刺人而杀人归罪于武器（喻体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15920"/>
            <a:ext cx="2017440" cy="1563480"/>
          </a:xfrm>
          <a:prstGeom prst="irregularSeal2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894-FAF6-4081-AE08-DDD5719560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41E94-28D9-445D-BDF6-D30D7633C66A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502680" cy="5226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627280" y="2060640"/>
            <a:ext cx="446400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旨在阐述统治者想使民加多应有的态度：应反省自己，清除虐政，施行仁政</a:t>
            </a:r>
            <a:r>
              <a:rPr b="0" lang="zh-CN" sz="3200" spc="-1" strike="noStrike">
                <a:solidFill>
                  <a:srgbClr val="ffff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311640" cy="1728720"/>
          </a:xfrm>
          <a:prstGeom prst="cloudCallout">
            <a:avLst>
              <a:gd name="adj1" fmla="val -34657"/>
              <a:gd name="adj2" fmla="val 13695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孟子在最后一层旨在说明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4AA-744E-41D5-BFF6-ECF13B6BCBD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596D8-F0DF-4635-B974-2986437E974E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63640" y="907560"/>
            <a:ext cx="4533840" cy="86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3500000" blurRad="0" rotWithShape="0">
              <a:srgbClr val="cc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Comic Sans MS"/>
              </a:rPr>
              <a:t>第二则学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637000"/>
            <a:ext cx="52560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omic Sans MS"/>
              </a:rPr>
              <a:t>齐人有一妻一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1D5-9DAF-4DCF-9F0B-87106E5D6D6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C1C1E-3FB3-4D2E-B205-0A95EE60442D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2376720" cy="77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Comic Sans MS"/>
              </a:rPr>
              <a:t>字音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280" y="2781000"/>
            <a:ext cx="6769080" cy="1888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处（       ）室    餍（      ）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瞷（       ）      施（      ）从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墦（       ）      讪（       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896920" y="2709720"/>
            <a:ext cx="3559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Comic Sans MS"/>
              </a:rPr>
              <a:t>chŭ                yá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Comic Sans MS"/>
              </a:rPr>
              <a:t>ji</a:t>
            </a:r>
            <a:r>
              <a:rPr b="1" lang="zh-CN" sz="3200" spc="-1" strike="noStrike">
                <a:solidFill>
                  <a:srgbClr val="cc00ff"/>
                </a:solidFill>
                <a:latin typeface="Bookshelf Symbol 7"/>
                <a:ea typeface="Bookshelf Symbol 7"/>
              </a:rPr>
              <a:t></a:t>
            </a:r>
            <a:r>
              <a:rPr b="1" lang="zh-CN" sz="3200" spc="-1" strike="noStrike">
                <a:solidFill>
                  <a:srgbClr val="cc00ff"/>
                </a:solidFill>
                <a:latin typeface="Comic Sans MS"/>
              </a:rPr>
              <a:t>n                y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Comic Sans MS"/>
              </a:rPr>
              <a:t>fán                shà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1628640"/>
            <a:ext cx="3528720" cy="649440"/>
          </a:xfrm>
          <a:prstGeom prst="wedgeRectCallout">
            <a:avLst>
              <a:gd name="adj1" fmla="val -55342"/>
              <a:gd name="adj2" fmla="val 1196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读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chŭ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作动词义；读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chù</a:t>
            </a: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作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Arial"/>
              </a:rPr>
              <a:t>词义，如“处所”“到处”等。</a:t>
            </a:r>
            <a:r>
              <a:rPr b="0" lang="zh-CN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27C-BFE5-4AA7-B0E0-151C00355F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FD84A-86F9-4FFF-8727-3607869CBB0C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6912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其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良人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出，则必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餍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酒肉而后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反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。其妻问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所与饮           食者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，则尽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富贵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也。     而未尝有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显者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来。吾将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瞷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良人</a:t>
            </a:r>
            <a:r>
              <a:rPr b="1" lang="zh-CN" sz="2400" spc="-1" strike="noStrike">
                <a:solidFill>
                  <a:srgbClr val="cc00ff"/>
                </a:solidFill>
                <a:latin typeface="Comic Sans MS"/>
              </a:rPr>
              <a:t>之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所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之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；  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蚤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起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施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从良人之所之；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卒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之东郭墦间；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640" y="3357360"/>
            <a:ext cx="756144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良人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丈夫；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餍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吃饱；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反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同“返”；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所与饮食者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在一起吃喝的；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富贵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有钱有地位的人；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显者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有名望有地的人；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瞷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窥视；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之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往，到…去；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蚤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同“早”；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施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同“迤”，斜行；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卒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最终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260280"/>
            <a:ext cx="25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重点字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174-A0B4-47FE-951B-656B188AAA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8A0BE-6C06-4128-80AB-6336F8E16AD5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20720" y="1413000"/>
            <a:ext cx="5400720" cy="1441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637080" y="3933720"/>
            <a:ext cx="1871640" cy="103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2CD-3B4C-4F46-B210-3A2E485FCBD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F241B-5BF4-4B6D-85C1-AD9076963D09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6985080" cy="178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此</a:t>
            </a:r>
            <a:r>
              <a:rPr b="1" lang="zh-CN" sz="2400" spc="-1" strike="noStrike">
                <a:solidFill>
                  <a:srgbClr val="333300"/>
                </a:solidFill>
                <a:latin typeface="Comic Sans MS"/>
              </a:rPr>
              <a:t>其</a:t>
            </a:r>
            <a:r>
              <a:rPr b="1" lang="zh-CN" sz="2400" spc="-1" strike="noStrike">
                <a:solidFill>
                  <a:srgbClr val="cc00ff"/>
                </a:solidFill>
                <a:latin typeface="Comic Sans MS"/>
              </a:rPr>
              <a:t>为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餍足之道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也 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良人者，所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仰望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而终身也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。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讪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相泣</a:t>
            </a: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相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施施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从外来。       </a:t>
            </a:r>
            <a:br>
              <a:rPr sz="2400"/>
            </a:b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骄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其妻妾；        其妻妾不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羞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也；  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0160" y="2784240"/>
            <a:ext cx="7415280" cy="244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333300"/>
                </a:solidFill>
                <a:latin typeface="Comic Sans MS"/>
              </a:rPr>
              <a:t>、其：大概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；</a:t>
            </a:r>
            <a:r>
              <a:rPr b="1" lang="zh-CN" sz="2400" spc="-1" strike="noStrike">
                <a:solidFill>
                  <a:srgbClr val="cc00ff"/>
                </a:solidFill>
                <a:latin typeface="Comic Sans MS"/>
              </a:rPr>
              <a:t>为：判断句标志，是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餍足之道：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吃饱喝足的办法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仰望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指望、依靠； 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讪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讥笑怨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相泣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面对面哭；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施施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喜悦自得的样子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骄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轻视、傲慢；  </a:t>
            </a: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羞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：意动用法，以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---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为羞； 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E0D-9B6E-4689-9689-25050F9D4B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4DA6B-4C11-494D-A086-4E2227BC533D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669780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66f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omic Sans MS"/>
              </a:rPr>
              <a:t>问题探究：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文中“良人”的“餍足之道”是什么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2277720"/>
            <a:ext cx="6769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66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遍国中无与立谈者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 “</a:t>
            </a: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之墦间，之祭者，乞其余。不足，顾而之他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6770880" cy="1368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66ff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41E-F779-4B79-9EEE-5C300FB1D6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9B828-E4EA-4DD0-B087-BC01D5F7960B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838080"/>
            <a:ext cx="6194520" cy="4965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56000" y="1628640"/>
            <a:ext cx="4176720" cy="581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指责社会上那些用龌龊的手段谋求富贵显达的人，连他们自己的妻妾对此都感到无地自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160" y="46080"/>
            <a:ext cx="2662200" cy="1582560"/>
          </a:xfrm>
          <a:prstGeom prst="cloudCallout">
            <a:avLst>
              <a:gd name="adj1" fmla="val -26365"/>
              <a:gd name="adj2" fmla="val 1711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本则寓言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容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254-1AB7-4006-8375-559224259F9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964D0-74A4-4B69-90FE-7390678F794D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76360" y="2205000"/>
            <a:ext cx="5399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0000c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9900"/>
                </a:solidFill>
                <a:latin typeface="Comic Sans MS"/>
              </a:rPr>
              <a:t>第三则学习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C13-32FF-49A7-BF6B-F3806560905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24523-FF24-4BEA-8B81-A90E82A328EA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000" y="764640"/>
            <a:ext cx="4608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重点字词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02920" y="1990800"/>
            <a:ext cx="619308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 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什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今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兹未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请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轻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今有人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攘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其邻之者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斯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速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已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1989000"/>
            <a:ext cx="11527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十分之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2421000"/>
            <a:ext cx="6415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今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20560" y="2854440"/>
            <a:ext cx="141516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形容词作动词，减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1560" y="3357720"/>
            <a:ext cx="15523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日：名词作状语，每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攘：窃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7200" y="4149720"/>
            <a:ext cx="12780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斯：则；已：停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06E-4371-49BE-A108-380FB145F1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46FE2-6178-4C55-9175-58C51B8C1805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477720"/>
            <a:ext cx="6335640" cy="5042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40000" y="1270080"/>
            <a:ext cx="4464000" cy="180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运用偷鸡者知道自己的行为不符合道义却不能停止，来讽刺宋国君臣知道赋税苛重不符合道义却要等到明年才改变，显示宋国君臣不施“仁政”，不关心民生的道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0" y="117360"/>
            <a:ext cx="2665440" cy="1440000"/>
          </a:xfrm>
          <a:prstGeom prst="cloudCallout">
            <a:avLst>
              <a:gd name="adj1" fmla="val -40277"/>
              <a:gd name="adj2" fmla="val 14483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则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5D9-445B-4721-B598-0A5A1A388922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124A5-04F4-4169-9EAE-B02541580128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8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0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2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79640" y="2278080"/>
            <a:ext cx="4392720" cy="1239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9900"/>
                </a:solidFill>
                <a:latin typeface="Comic Sans MS"/>
              </a:rPr>
              <a:t>第四则学习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0AA-EFBA-425B-8034-B35BB06AB9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8A12D-BCF4-4E66-BE5C-14C18FCD3CA2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54738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Comic Sans MS"/>
              </a:rPr>
              <a:t>重点字词梳理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20108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①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出，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语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人曰　　　　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卒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然问曰　　　　　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③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天下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恶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乎定　　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④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定于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一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⑤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孰能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与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⑥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浡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然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兴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之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⑦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今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夫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天下之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人牧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⑧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则天下皆引领而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望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之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⑨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由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水之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就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4232520" y="1197000"/>
            <a:ext cx="455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告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5560" y="1628640"/>
            <a:ext cx="10706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通“猝”，突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41720" y="2060640"/>
            <a:ext cx="2858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何、哪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47480" y="2565360"/>
            <a:ext cx="40932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数词作动词：统一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61240" y="3070080"/>
            <a:ext cx="269640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同“欤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参与；余义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ǔ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如作介词、动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3440" y="3502080"/>
            <a:ext cx="26726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然：形容词后；     之：动后助词，无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0784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52360" y="4005360"/>
            <a:ext cx="22424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夫：读“</a:t>
            </a: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fú”</a:t>
            </a: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，那；人牧：人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4880" y="4438800"/>
            <a:ext cx="4550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期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9240" y="4941720"/>
            <a:ext cx="20354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omic Sans MS"/>
              </a:rPr>
              <a:t>由：通“犹”；       就：流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7AC-E8F6-4CC2-A6CA-96C5C5BE6B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DF7A9-7061-4B03-BF25-92DB014A973D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03280" y="838080"/>
            <a:ext cx="6120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ffff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Comic Sans MS"/>
              </a:rPr>
              <a:t>文中用了怎样的寓言故事？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66920" y="2349360"/>
            <a:ext cx="2247840" cy="673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602080" cy="658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</p:pic>
      <p:sp>
        <p:nvSpPr>
          <p:cNvPr id="282" name=""/>
          <p:cNvSpPr/>
          <p:nvPr/>
        </p:nvSpPr>
        <p:spPr>
          <a:xfrm>
            <a:off x="539640" y="234936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禾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342900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  <a:ea typeface="黑体"/>
              </a:rPr>
              <a:t>百姓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24000" y="3429000"/>
            <a:ext cx="2925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  <a:ea typeface="黑体"/>
              </a:rPr>
              <a:t>遇暴政而痛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3429000"/>
            <a:ext cx="306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  <a:ea typeface="黑体"/>
              </a:rPr>
              <a:t>遇仁政而归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6120" y="4510080"/>
            <a:ext cx="127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黑体"/>
              </a:rPr>
              <a:t>百姓归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1720" y="4510080"/>
            <a:ext cx="182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黑体"/>
              </a:rPr>
              <a:t>大水流向低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4581360"/>
            <a:ext cx="1439640" cy="486000"/>
          </a:xfrm>
          <a:prstGeom prst="rightArrow">
            <a:avLst>
              <a:gd name="adj1" fmla="val 50000"/>
              <a:gd name="adj2" fmla="val 7405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0" y="44280"/>
            <a:ext cx="1728720" cy="151308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5661000"/>
            <a:ext cx="914400" cy="504720"/>
          </a:xfrm>
          <a:custGeom>
            <a:avLst/>
            <a:gdLst>
              <a:gd name="textAreaLeft" fmla="*/ 360360 w 914400"/>
              <a:gd name="textAreaRight" fmla="*/ 554040 w 914400"/>
              <a:gd name="textAreaTop" fmla="*/ 198720 h 504720"/>
              <a:gd name="textAreaBottom" fmla="*/ 3060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09" y="8509"/>
                </a:lnTo>
                <a:lnTo>
                  <a:pt x="10800" y="0"/>
                </a:lnTo>
                <a:lnTo>
                  <a:pt x="13091" y="8509"/>
                </a:lnTo>
                <a:lnTo>
                  <a:pt x="21600" y="10800"/>
                </a:lnTo>
                <a:lnTo>
                  <a:pt x="13091" y="13091"/>
                </a:lnTo>
                <a:lnTo>
                  <a:pt x="10800" y="21600"/>
                </a:lnTo>
                <a:lnTo>
                  <a:pt x="8509" y="1309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CD2-1D9E-4027-951D-52106A0DFCA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13FD5-C941-4B6B-A931-1D582C1153B0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3" name="cashreg.wav"/>
      </p:stSnd>
    </p:sndAc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08720" cy="49370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11280" y="1413000"/>
            <a:ext cx="4249800" cy="94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如有不嗜杀人者，则天下之民皆引领而望之矣”反映了孟子主张要用“仁政”来获得民心，从而统一天下的仁政思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0" y="117360"/>
            <a:ext cx="2665440" cy="1584360"/>
          </a:xfrm>
          <a:prstGeom prst="cloudCallout">
            <a:avLst>
              <a:gd name="adj1" fmla="val -42421"/>
              <a:gd name="adj2" fmla="val 1687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则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AA9-4D82-4BDA-B306-6216A16CD5ED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83DE6-0404-4CE7-A543-22C0DC048789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2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4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38240" y="650880"/>
            <a:ext cx="7066080" cy="5556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95360" cy="1333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CD6-64E3-41FE-BF41-EA7DD6A754A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2CA4D-6889-4548-ADAB-27918898C9F3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3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2360" y="620640"/>
            <a:ext cx="583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0000cc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Comic Sans MS"/>
              </a:rPr>
              <a:t>通观全文四则：</a:t>
            </a:r>
            <a:br>
              <a:rPr sz="3200"/>
            </a:br>
            <a:r>
              <a:rPr b="1" lang="zh-CN" sz="3200" spc="-1" strike="noStrike">
                <a:solidFill>
                  <a:srgbClr val="009900"/>
                </a:solidFill>
                <a:latin typeface="Comic Sans MS"/>
              </a:rPr>
              <a:t>孟子说理的方法主要是什么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2205000"/>
            <a:ext cx="7128000" cy="3038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0000c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寓言和比喻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关于“寓言”：一般认为，寓言就是带有劝诫或讽刺性质的故事，通常是用假托的故事来说明某个道理或教训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  “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故事”是“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宾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”，“寓意”是“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主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”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如何理解全文四则中的“宾”与“主”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08000" y="0"/>
            <a:ext cx="2230560" cy="1511280"/>
          </a:xfrm>
          <a:prstGeom prst="cloudCallout">
            <a:avLst>
              <a:gd name="adj1" fmla="val -39722"/>
              <a:gd name="adj2" fmla="val 158537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写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探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ABD-620B-4205-81EA-525E0996201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EE585-FD28-4F30-A30F-24DAFFA51B6C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2200" y="909720"/>
            <a:ext cx="7201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ff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寓言”和“比喻”说理有什么好处？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0360" y="1917360"/>
            <a:ext cx="59738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ff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使抽象的变为具体；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使深奥的变为浅显；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比直接说理更美妙、更诱人</a:t>
            </a:r>
            <a:r>
              <a:rPr b="0" lang="zh-CN" sz="3200" spc="-1" strike="noStrike">
                <a:solidFill>
                  <a:srgbClr val="009999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259720" y="4078440"/>
            <a:ext cx="39657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0000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此外，孟子在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结构故事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刻画人物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叙述细节方面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，都有相当高的造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20" y="44280"/>
            <a:ext cx="1800360" cy="122400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80360" y="5445000"/>
            <a:ext cx="914400" cy="91440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E74-60E3-4C09-875E-DB924F1CC1D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A7690-1EB5-4221-A8F1-FD428E3762DF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340000" y="2420640"/>
            <a:ext cx="4175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c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Comic Sans MS"/>
              </a:rPr>
              <a:t>再见！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827-8B69-4239-91E0-A08B4456C87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34E70-3E9D-4A13-B4A8-99AA91546D30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870600" cy="55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00f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一、给括号前一个字注音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549360"/>
            <a:ext cx="7696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）弃甲曳（      ）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）涂（              ）有饿殍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        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3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鸡豚（    ）狗彘（     ）之畜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    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4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数（    ）罟（     ）不入洿（    ）池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5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无（             ）失其时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6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谨庠（       ）序之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7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颁（             ）白者不负戴于道路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8) 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申之以孝悌（   ）之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907920"/>
            <a:ext cx="60487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ú</a:t>
            </a: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，通“途”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iǎo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ún          zhì         xù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ù         gǔ              wū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ú</a:t>
            </a: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，通“毋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iá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ān</a:t>
            </a: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，通“斑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omic Sans MS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90D-C354-4909-9CAF-FBB7C16740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6D6A5-05A2-4008-9EE3-2BAF96775666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6840720" cy="55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二、通假字：找出各项中所通假的字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6985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、不可，直不百步耳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、则无望民之多于邻国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（无失其时；王无罪岁）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、颁白者不负戴于道路矣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、涂有饿莩而不知发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910840" y="2133720"/>
            <a:ext cx="13449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直”通“只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0840" y="2997360"/>
            <a:ext cx="13449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无”通“毋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4840" y="3716280"/>
            <a:ext cx="13449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颁”通“斑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480" y="4221000"/>
            <a:ext cx="13449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涂”通“途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E0-41A7-4416-BBF2-1AC506A487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B73E3-FD1F-4A06-A4E0-54128DBA0207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5975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00f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三、词类活用：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找出活用字并解释用法和意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254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填然鼓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树之以桑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五十者可以衣帛矣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然而不王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王无罪岁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、是使民养生丧死无憾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13440" y="1989000"/>
            <a:ext cx="441360" cy="3168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612400" y="2133720"/>
            <a:ext cx="1887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</a:rPr>
              <a:t>名词活用动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7520" y="17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7516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52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9916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67520" y="41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915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7D3-6143-4ADC-8EA4-C08BB390A5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C829A-D010-496D-93B3-726201B638F1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2" name="cashreg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683892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谨庠序之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是使民养生丧死无憾也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1916280"/>
            <a:ext cx="2376720" cy="45972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形容词活用动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59440" y="3068640"/>
            <a:ext cx="1095120" cy="459720"/>
          </a:xfrm>
          <a:prstGeom prst="rect">
            <a:avLst/>
          </a:prstGeom>
          <a:noFill/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动词作名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7552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997360"/>
            <a:ext cx="5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26080" y="1844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00EF-BE3D-4D2B-947A-97CD38337EC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8B89F-FEB7-4571-B22A-FBAF438A6DB0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6913800" cy="555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00ff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四、古今异义：写出红色字的古今义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201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河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内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凶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请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以战喻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弃甲曳兵而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然而</a:t>
            </a:r>
            <a:r>
              <a:rPr b="1" lang="zh-CN" sz="3200" spc="-1" strike="noStrike">
                <a:solidFill>
                  <a:srgbClr val="009999"/>
                </a:solidFill>
                <a:latin typeface="Comic Sans MS"/>
              </a:rPr>
              <a:t>不王者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2421000"/>
            <a:ext cx="460872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黄河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/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河流       荒年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/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凶恶，不吉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39000" y="2924280"/>
            <a:ext cx="267228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请允许我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/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礼貌用语，让对方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7640" y="3357720"/>
            <a:ext cx="194472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跑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/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行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27080" y="3860640"/>
            <a:ext cx="1779120" cy="398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这样却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/</a:t>
            </a:r>
            <a:r>
              <a:rPr b="1" lang="zh-CN" sz="2000" spc="-1" strike="noStrike">
                <a:solidFill>
                  <a:srgbClr val="009999"/>
                </a:solidFill>
                <a:latin typeface="Comic Sans MS"/>
              </a:rPr>
              <a:t>连词，表转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4BC-02A3-4546-8150-692442DDCD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44D36-12A7-4684-9017-A05FDCD0F633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57596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五、特殊句式：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    写出下列各项各属何句式。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2277720"/>
            <a:ext cx="662472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  <a:effectLst>
            <a:outerShdw dist="107932" dir="13500000" blurRad="0" rotWithShape="0">
              <a:srgbClr val="cccc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是亦走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王道之始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非我也，岁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非我也，兵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mic Sans MS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Comic Sans MS"/>
              </a:rPr>
              <a:t>、未之有也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2494080"/>
            <a:ext cx="225360" cy="1655640"/>
          </a:xfrm>
          <a:custGeom>
            <a:avLst/>
            <a:gdLst>
              <a:gd name="textAreaLeft" fmla="*/ 0 w 225360"/>
              <a:gd name="textAreaRight" fmla="*/ 81360 w 225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0400" y="2708280"/>
            <a:ext cx="911880" cy="1149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判断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85120" y="4292640"/>
            <a:ext cx="91224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Comic Sans MS"/>
              </a:rPr>
              <a:t>宾语前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4005360"/>
            <a:ext cx="1079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060640"/>
            <a:ext cx="144720" cy="1439640"/>
          </a:xfrm>
          <a:custGeom>
            <a:avLst/>
            <a:gdLst>
              <a:gd name="textAreaLeft" fmla="*/ 0 w 144720"/>
              <a:gd name="textAreaRight" fmla="*/ 52200 w 144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4581360"/>
            <a:ext cx="1440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037-1C3B-4457-8CDE-AC517B54D9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3FEB-5900-49BF-9225-F2CA4215D24E}" type="datetime1">
              <a:rPr lang="en-US"/>
              <a:t>07/29/26</a:t>
            </a:fld>
          </a:p>
        </p:txBody>
      </p:sp>
    </p:spTree>
  </p:cSld>
  <p:transition>
    <p:cover dir="r"/>
    <p:sndAc>
      <p:stSnd>
        <p:snd r:embed="rId1" name="cashreg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5:39:24Z</dcterms:created>
  <dc:creator>雨林木风</dc:creator>
  <dc:description/>
  <cp:keywords/>
  <dc:language>en-US</dc:language>
  <cp:lastModifiedBy>zmj</cp:lastModifiedBy>
  <cp:lastPrinted>1899-12-30T00:00:00Z</cp:lastPrinted>
  <dcterms:modified xsi:type="dcterms:W3CDTF">2010-04-05T10:26:1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