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E3C-4EE4-404D-AFC1-19E1E15D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C27-815C-4CAD-B740-5822039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840-C021-41A9-BDA5-4C827120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FA3-F7E6-41F8-9749-3FCF719F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E883-AF06-4179-8358-63FC13F6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1ED6-28BF-4746-B2CA-94676E49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9F31-B491-4616-A179-1E8BEB3B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FCD0-E4BE-4554-BD4C-3A7CA160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372F-E938-486A-82F2-BBFCA6B3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EDAC-A42C-4D43-8ED1-49FD27F2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5218-ACC2-4506-9AA7-35576F6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815-BF26-48D6-AB1A-3327617C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9E7A-C201-42A2-A1FD-31C37200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CEEB-2A7B-4623-A9E7-BCE1066E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1ACB-2830-4D66-B7F0-F497BB1C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547B-BB13-4B03-B81E-C4569E96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3C3F-1672-4130-8DA5-5FB70B7D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A4D-7C14-4C6D-80FF-7A3DB49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14E-0956-43E7-9D9B-D90F53B4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E43-C31E-46D0-888C-843A11A6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BFE-E8DB-4ACE-A58E-E924A511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71A-F918-4F6C-AF54-2F235DF1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6A3-E367-4E8C-A643-48C25B21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AAC-0F44-433B-8EE0-63FA4C0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1571-4F0A-4F87-B3BF-BD9A9F38B40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540C-976D-491A-A460-4A47ABEBE72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03640" y="907920"/>
            <a:ext cx="3672000" cy="512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方正小篆体"/>
              </a:rPr>
              <a:t>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方正小篆体"/>
              </a:rPr>
              <a:t>何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方正小篆体"/>
              </a:rPr>
              <a:t>必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方正小篆体"/>
              </a:rPr>
              <a:t>曰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方正小篆体"/>
              </a:rPr>
              <a:t>利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4186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40672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宋牼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楚，孟子遇于石丘，曰：“先生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何之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？”曰：“吾闻秦、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构兵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，我将见楚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说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罢之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。楚王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说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，我将见秦王说而罢之。二王我将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所遇焉。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”曰：“轲也请无问其详，愿闻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其指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。说之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何如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？”曰：“我将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不利也。”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360360"/>
            <a:ext cx="489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文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宋牼将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楚国去，孟子在石丘这个地方遇到了他，问道：“先生将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去什么地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？”宋牼说：“我听说秦、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国交战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我将去谒见楚王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劝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他停止战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如果楚王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我将去见谒见秦王，劝说他使他停止战争。楚王、秦王两人人当中，我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投合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”孟子说：“我不敢问详细的情况，希望听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您做这件事的大致意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先生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怎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去游说他们？”宋牼说：“我将向他们说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国交兵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不利的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5440" y="614160"/>
            <a:ext cx="729000" cy="56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38120"/>
            <a:ext cx="435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原文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曰：先生之志则大矣，先生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则不可。先生以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秦、楚之王，秦、楚之王悦于利，以罢三军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师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三军之士乐罢而悦于利也，为人臣者怀利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其君，为人子者怀利以事其父，为人弟者怀利以事其兄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君臣、父子、兄弟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仁义，怀利以相接，然而不亡者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未之有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0"/>
            <a:ext cx="478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文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孟子说：“先生的动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很好的，可是先生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法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却不行。先 生用利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劝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秦王楚王，秦王楚王因为有利而高兴，于是停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军 事行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；军队的官兵也因为有利而高兴，于是乐于罢兵。做臣下 的心怀利害关系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侍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君主，做儿子的心怀利害关系来侍奉父亲，做弟弟的心怀利害关系来侍奉哥哥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就会使君臣之间、父子间、兄弟之间都完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背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仁义，心怀利害关系来互相对待，这样 不使国家灭亡的，是没有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2360" y="480960"/>
            <a:ext cx="78984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4643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原文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先生以仁义说秦、楚之王，秦、楚之王悦于仁义，而罢三军之师，是三军之士乐罢而悦于仁义也。为人臣者怀仁义以事其君，为人子者怀仁义以事其父，为人弟者怀仁义以事其兄，是君臣、父子、兄弟去利，怀仁义以相接也，然而不王者，未之有也。何必曰利？”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35640" y="26028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若是先生以仁义的道理去劝说秦王 楚王，秦王楚王因仁义而高兴，于是停止军事行动；军队的官兵 也因仁义而高兴，于是乐于罢兵。做臣下的心怀仁义来侍奉君主， 做儿子的心怀仁义来侍奉父亲，做弟弟的心怀仁义来侍奉哥哥，这 就会使君臣之间、父子之问，兄弟之间都完全去掉利害关系，心怀仁义来互相对待，这样还不能够使天下归服的，是没有的。何必要去谈听‘利’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呢？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5080" y="689760"/>
            <a:ext cx="66780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76520" y="182880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1295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反面：人与人之间沦为利益关系，破坏社会和谐，丧失对仁义价值的关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3886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正面：用仁义来大动人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7652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正反对比论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19810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2438280"/>
            <a:ext cx="1904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结论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何必曰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3327480" cy="390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356000" y="1700280"/>
            <a:ext cx="43196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鸡鸣而起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4140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孟子曰：“鸡鸣而起，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孳孳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善者，舜之徒也。鸡鸣而起，孳孳为利者，蹠之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。欲知舜与蹠之分，无他，利与善之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间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6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译文：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孟子说：“晨鸡报晓连忙起来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孜孜不倦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地行善者，是舜一类的人；晨鸡报晓连忙起来，孜孜不倦地谋利者，是跖一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类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的人。要想了解舜和跖地区别，没有别的，只是利和善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差别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。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1053360"/>
            <a:ext cx="8506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作者在第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则内容中，强调了什么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257004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62864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作者通过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对比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，表现了“为利”与“为善”的差别，强调我们应该多多行善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93564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一、为下列加红词语注音。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牼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将之楚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______________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然而不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王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者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______________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孳孳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善者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______________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之徒也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______________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利与善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间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也         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05560" y="14130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kē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1916280"/>
            <a:ext cx="121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à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242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924280"/>
            <a:ext cx="8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h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8920" y="3429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à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946440"/>
            <a:ext cx="655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上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交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征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苟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后义而先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吾闻秦、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构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我将见楚王说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罢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愿闻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然而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不亡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孳孳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善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舜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徒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利与善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间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是君臣、父子、兄弟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去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仁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8360" y="1508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二、解释下列句子中加红词语的含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8320" y="90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相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0320" y="14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7724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交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29960" y="242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停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9240" y="29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意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27680" y="33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样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7040" y="3860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勤勉、努力不懈的样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42800" y="4365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16880" y="47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差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42680" y="537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背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280" y="432000"/>
            <a:ext cx="7993080" cy="1556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三、指明下列句子中加红词语的特殊用法。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苟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后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义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先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利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___________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未有义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后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其君者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______________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304000"/>
            <a:ext cx="73436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提示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均为意动用法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5040720"/>
            <a:ext cx="7488000" cy="106884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提示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疑问句中的宾语前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否定句中的宾语前置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3194280"/>
            <a:ext cx="7488000" cy="1556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四、指明下列句子的句式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先生将何之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未之有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2273760"/>
            <a:ext cx="878544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俗话说：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人为财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鸟为食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。”《史记》说：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下熙熙，皆为利来；天下攘攘，皆为利往。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”这种说法是有一定的道理的。当今社会是一个物质社会，人们追求财利并没有什么错。但是，两眼只盯着财利的人会失去很多美好的东西；不择手段追逐财利的人，不仅会伤害他人，而且会伤害自己；如果人人利字当头，那么人与人之间的关系就会沦为冷冰冰的金钱交易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319360"/>
            <a:ext cx="8713800" cy="5814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作为新时代的学生，我们应该怎样看待“利”和“义”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17840" y="5445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孔、孟是怎么说的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3327480" cy="3900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952880" y="26668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孟子的义利观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3880" y="225648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孔子最早提出义和利的对立，“君子喻于义，小人喻于利。“（《论语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里仁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孟子答梁惠王说：“王何必曰利？亦有仁义而已矣。”（《孟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梁惠王》）也把义和利看作是矛盾的，强调要贵义贱利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荀子主张先义后利，“先义而后利者荣，先利而后义者辱”。（《荀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荣辱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5638680"/>
            <a:ext cx="768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孟子是否要人们完全不考虑“利”，放弃“利”呢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95976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《孟子》一书中“义”字共出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0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次，有两种基本意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其一是合乎某种道或理谓之“义”，作名词或动词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7273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君仁，莫不仁；君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义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莫不义；君正，莫不正。”（《离娄上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236480"/>
            <a:ext cx="834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其二是道理、正理，作名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谨庠序之教，申之以孝悌之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义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颁白者不负戴于道路矣。”（《梁惠王上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治于人者食人，治人者食于人，天下之通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义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也。”（《滕文公上》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62120" y="1264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孟子继承和发展了孔子的仁学思想，常把“义”与“仁”、“礼”等字合成一词使用，谓之“仁义”、“礼义”等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63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恻隐之心，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仁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也；羞恶之心，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义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也；恭敬之心，礼也；是非之心，智也。”（《告子上》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4754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孟子主要把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“仁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看作是人心理上一种应有的“以其所爱及其所不爱”（《尽心下》）的道德品性，而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“义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孟子主要把它看作是人在生活中应遵循的，应内化于心的一种行为标准，一种道德规定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1732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《孟子》一书中“利”字共出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次，主要有三种意思。其一是指利益，作名词。其二是有利于、利用、以……为利的意思，作动词。其三是锐利或利害的意思，作形容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300276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王，何必曰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利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？亦有仁义而已矣。”《梁惠王上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叟，不远千里而来，亦将有以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利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吾国乎？”（《梁惠王上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不仁者可与言哉？安其危而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利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其灾，乐其所以亡者。”（《尽心上》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固国不以山溪之险，威天下不以兵革之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利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。”（《公孙丑下》）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699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利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孟子的思想学说中主要指实实在在的利益、好处，可以说相当于我们现在通用的“利益” 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182916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首先，孟子积极</a:t>
            </a:r>
            <a:r>
              <a:rPr b="1" lang="zh-CN" sz="2800" spc="-1" strike="noStrike" u="sng">
                <a:solidFill>
                  <a:srgbClr val="dc5900"/>
                </a:solidFill>
                <a:uFillTx/>
                <a:latin typeface="Arial"/>
              </a:rPr>
              <a:t>肯定了人皆有物利需求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，认为这种物利需求从根本上说是必然的，合理的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对于生存着和需要生存着的人来说，有些需求是不可或缺的，他认识到人活着就有需求，人的需求是开放的，而且一些需求必须不断地得到满足。因而当政者要顺着民众的需求，使他们丰衣足食、安居乐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7700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饥者易为食，渴者易为饮。”（《公孙丑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谷与鱼鳖不可胜食，林木不可胜用，是使民养生丧死无憾也。养生丧死无憾，王道之始也。”（《梁惠王上》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2120" y="8226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其次，孟子认为，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物利和道德是相关相联的、相生相长的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孟子指出，在尽量使物质享受达到一定水平以满足人们的生活需求的同时，务必加强教育，加强人伦道德观念的培养 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164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王如施仁政于民，省刑罚，薄税敛，深耕易耨；壮者以暇日修其孝悌忠信，入以事其父兄，出以事其长上，可使制梃以挞秦楚之坚甲利兵矣。”（《梁惠王上》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225680" y="609480"/>
            <a:ext cx="43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义利并重、以义为先的政治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合乎礼义、以义待利的生活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崇义尚道、舍生取义的人生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93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纵观《孟子》全书，我们可以看到它洋溢着孟子崇高的精神境界和不渝的救世情怀：以民为本，以利为本，崇古尚贤，崇义尚道，自承先圣，身任天下。正因为那个变革性、过渡性时代的礼乐崩坏、诸侯恣行、政由强国、社会动荡、民不聊生，孟子以天下苍生黎民为念，高举仁义的思想大旗四处游说，奔走呼号。表达了渴望丰衣足食，渴望安居乐业，渴望和平、统一、稳定的心声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3457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方正小篆体"/>
              </a:rPr>
              <a:t>下课！</a:t>
            </a:r>
            <a:br>
              <a:rPr sz="9600"/>
            </a:b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方正小篆体"/>
              </a:rPr>
              <a:t>再见！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2109960"/>
            <a:ext cx="7921440" cy="25311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孔子曾经说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：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富与贵，是人之所欲也，不以其道得之，不处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   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孟子曰：“鱼，我所欲也，熊掌，亦我所欲也；二者不可得兼，舍鱼而取熊掌者也。生，亦我所欲也，义，亦我所欲也；二者不可得兼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舍生而取义者也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。生亦我所欲，所欲有甚于生者，故不为苟得也；死亦我所恶，所恶有甚于死者，故患有所不辟也。” 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今天我们通过学习孟子的文章，相信同学们对此会有一个更清楚的认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5280" y="692280"/>
          <a:ext cx="4194360" cy="3139920"/>
        </p:xfrm>
        <a:graphic>
          <a:graphicData uri="http://schemas.openxmlformats.org/drawingml/2006/table">
            <a:tbl>
              <a:tblPr/>
              <a:tblGrid>
                <a:gridCol w="4194360"/>
              </a:tblGrid>
              <a:tr h="31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原文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：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孟子见梁惠王。王曰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叟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不远千里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而来，亦将</a:t>
                      </a:r>
                      <a:r>
                        <a:rPr b="1" lang="zh-CN" sz="4000" spc="-1" strike="noStrike">
                          <a:solidFill>
                            <a:srgbClr val="3366ff"/>
                          </a:solidFill>
                          <a:latin typeface="黑体"/>
                          <a:ea typeface="黑体"/>
                        </a:rPr>
                        <a:t>有以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利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吾国乎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716360" y="549360"/>
          <a:ext cx="4427640" cy="404640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40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译文：</a:t>
                      </a:r>
                      <a:r>
                        <a:rPr b="1" lang="zh-CN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孟子谒见梁惠王。梁惠王说：“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老人家</a:t>
                      </a:r>
                      <a:r>
                        <a:rPr b="1" lang="zh-CN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，不辞长途辛苦（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您不以千里为远）</a:t>
                      </a:r>
                      <a:r>
                        <a:rPr b="1" lang="zh-CN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而来，</a:t>
                      </a:r>
                      <a:r>
                        <a:rPr b="1" lang="zh-CN" sz="3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将有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使</a:t>
                      </a:r>
                      <a:r>
                        <a:rPr b="1" lang="zh-CN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我的国家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得利</a:t>
                      </a:r>
                      <a:r>
                        <a:rPr b="1" lang="zh-CN" sz="36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的手段</a:t>
                      </a:r>
                      <a:r>
                        <a:rPr b="1" lang="zh-CN" sz="3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吧？”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50920" y="4581360"/>
          <a:ext cx="8353440" cy="239904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23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这是当时梁惠王对孟子的期待，也是当时诸侯对孟子的期待。面对梁惠王的期待，孟子将如何应对呢？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17640" y="141768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907920"/>
            <a:ext cx="353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原文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孟子曰：“王何必曰利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仁义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矣。王曰：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何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利国？’大夫曰：‘何以利吾家？’士庶曰‘何以利身？’上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交征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而国危矣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2360" y="1263240"/>
            <a:ext cx="729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765000"/>
            <a:ext cx="464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译文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孟子回答说：“大王为什么一定说利呢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要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讲仁义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了。假如大王说：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什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使我的国家获利呢？’大夫说：‘用什么使我的封地获利呢？’士和百姓说：‘用什么使我自己获利呢？’上层下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互相从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那里谋取财利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，国家就危险了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356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原文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万乘之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弑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其君者，必千乘之家；千乘之国，弑其君者，必百乘之家。万取千焉，千取百焉，不为不多矣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后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义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利，不夺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餍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。未有仁而遗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者也，未有义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后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其君者也。王亦曰仁义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矣，何必曰利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-52560"/>
            <a:ext cx="536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译文：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拥有一万辆兵车的国家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杀害国君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的人一定是拥有一千辆兵车的大夫；拥有一千辆兵车的国家，杀害国君的一定是拥有一百辆兵车的大夫。国家有一万而大臣拥有其中的一千，或者国家有一千而大臣拥有其中的一百，这不能说不多了。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以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义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利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，那么大臣不杀掉国君而全部夺取他的财利，就不会感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满足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。没有一个有仁心却会遗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父母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的人，没有一个讲道义却会把君王摆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要位置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上的人。大王只讲仁义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了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为什么一定要说利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0000" y="836640"/>
            <a:ext cx="667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836640"/>
            <a:ext cx="8534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找出文段中孟子表达的中心论点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2438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c5900"/>
                </a:solidFill>
                <a:uFillTx/>
                <a:latin typeface="Arial"/>
              </a:rPr>
              <a:t>“</a:t>
            </a:r>
            <a:r>
              <a:rPr b="1" lang="zh-CN" sz="4000" spc="-1" strike="noStrike" u="sng">
                <a:solidFill>
                  <a:srgbClr val="dc5900"/>
                </a:solidFill>
                <a:uFillTx/>
                <a:latin typeface="Arial"/>
              </a:rPr>
              <a:t>王何必曰利？亦有仁义而已矣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4197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孟子在文中是如何论证自己的观点的？用了哪些论证方法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1447920"/>
            <a:ext cx="228600" cy="4267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83808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面对梁惠王关于利的问题，首先亮出自己的观点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王何必曰利？亦有仁义而已矣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057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通过反面分析“利”的坏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514600"/>
            <a:ext cx="6858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国危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7432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举例论证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夺不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3809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通过正面阐述“义”的好处：推行仁义才是大利所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5410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再次强调论点，首尾呼应，突出自己鲜明的立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义先于利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3860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举例论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仁不遗其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义不后其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243828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2286000"/>
            <a:ext cx="83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正反对比论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514600"/>
            <a:ext cx="68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王何必曰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3327480" cy="390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20059200">
            <a:off x="3809520" y="1827000"/>
            <a:ext cx="5229360" cy="21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宋牼将之楚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3:40:03Z</dcterms:created>
  <dc:creator>微软用户</dc:creator>
  <dc:description/>
  <dc:language>en-US</dc:language>
  <cp:lastModifiedBy>User</cp:lastModifiedBy>
  <dcterms:modified xsi:type="dcterms:W3CDTF">2015-04-03T05:25:26Z</dcterms:modified>
  <cp:revision>41</cp:revision>
  <dc:subject/>
  <dc:title>幻灯片 1</dc:title>
</cp:coreProperties>
</file>