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F60-292A-48CF-893E-DB950134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AC2-36A7-4232-A468-18667BD4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635-F7BC-4012-8B0E-405047B7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FD3-8217-4120-9267-965D564D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640-FAE0-4FB4-9F2B-8F7E90B3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CAF-6258-4DC6-8584-4C070CD0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F7E-DB02-4C31-BAB2-38253A05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AAD-6A47-435F-B758-820F74F6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783-2398-4D1B-9B3C-14E9A6A0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741-F229-44C3-9DF8-052530E9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CF3-D767-4473-886C-02BCA194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051-0B52-45BD-9FA6-B29C02BE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9D66-4B0F-4221-AD91-FD517776C2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218920" y="2493720"/>
            <a:ext cx="475308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584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王何必曰利</a:t>
            </a:r>
            <a:endParaRPr b="1" lang="en-US" sz="1800" spc="1" strike="noStrike">
              <a:ln w="1584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243320"/>
            <a:ext cx="83516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　做臣的心怀仁义侍奉国君，做儿子的心怀仁义侍奉父亲，做弟弟的心怀仁义侍奉哥哥，这样就会使君臣、父子、兄弟去掉求利的念头，而怀着仁义之心相互对待了。这样的国家还不能称王天下的，是从来没有的。何必要说利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379160"/>
            <a:ext cx="820728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为人臣者怀仁义以事其君，为人子者怀仁义以事其父，为人弟者怀仁义以事其兄，是君臣、父子、兄弟去利，怀仁义以相接也，然而不王者，未之有也。何必曰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6160" y="2846880"/>
            <a:ext cx="8602560" cy="2043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面对梁惠王关于利的问题，首先亮出自己的观点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通过反面分析“利”的坏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危矣  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举例论证：不夺不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通过正面阐述“义”的好处：推行仁义才是大利所在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举例论证   正反对比论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再次强调论点，突出自己鲜明的立场：义先于利。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与开头形成呼应，突出立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87640"/>
            <a:ext cx="453708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六、课文内容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080000"/>
            <a:ext cx="849636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结合第一则的内容，分析孟子说理的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思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1224360"/>
            <a:ext cx="748836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孟子数落宋牼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2088000"/>
            <a:ext cx="684072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反对他从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利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角度去劝说两国国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3816720"/>
            <a:ext cx="77774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提示：从治国安身的角度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2951640"/>
            <a:ext cx="720108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推行仁义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5428800"/>
            <a:ext cx="820728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通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表现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差别，强调我们应该多多行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323720"/>
            <a:ext cx="820908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有人说孟子主张实行仁义，反对追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这种看法对不对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864160"/>
            <a:ext cx="813600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够准确。孟子并不是一味地反对追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仁义应该放在私利之上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推选仁义才是大利所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320000"/>
            <a:ext cx="83534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作者在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则内容中，强调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32000" y="1844640"/>
            <a:ext cx="604980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孟子关于利的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924280"/>
            <a:ext cx="626580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本文的论证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76360" y="40464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总  结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541440" y="-228600"/>
            <a:ext cx="10226880" cy="731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2880" y="2602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、第一则用了什么论证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、作者在文中提出了什么主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、作者的写作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0440" y="243540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正反对比论证　举例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423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先义后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9200" y="59500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宣扬仁政、王道学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178440"/>
            <a:ext cx="8674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面对梁惠王关于利的问题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首先亮出自己的观点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通过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反面分析“利”的坏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危矣  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举例论证：不夺不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通过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正面阐述“义”的好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推行仁义才是大利所在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举例论证   正反对比论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次强调论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突出自己鲜明的立场：义先于利。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与开头形成呼应，突出立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460800"/>
            <a:ext cx="849636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结合第一则的内容，分析孟子说理的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思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（怎样围绕观点展开论述的？）（是如何阐述自己的观点的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自读课文，参照注释翻译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946440"/>
            <a:ext cx="655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上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征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后义而先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吾闻秦、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构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我将见楚王说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愿闻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然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亡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孳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善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舜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利与善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是君臣、父子、兄弟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仁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8360" y="1508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解释下列句子中加蓝词语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8320" y="90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相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50320" y="14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77240" y="19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交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29960" y="242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停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69240" y="292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意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7680" y="335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样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7040" y="3860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勤勉、努力不懈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2800" y="4365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880" y="47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差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42680" y="537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背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1406880"/>
            <a:ext cx="792000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俗话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为财死，鸟为食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种说法有一定的道理。当今社会是一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社会，人们追求财利并没有什么错。但是如果我们两眼仅仅盯住财利，而不顾道德、法规、法律，这种做法又是可鄙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900240"/>
            <a:ext cx="81374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类身为百灵之长，就是因为我们人与人之间是可以理解、沟通、团结、帮助的。如果人与人之间的关系仅仅是一种冷冰冰的金钱关系，那人生还有什么意义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716080"/>
            <a:ext cx="81374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世纪的学生，我们也要明白如何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谋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287640"/>
            <a:ext cx="7993080" cy="30186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指明下列句子中加蓝词语的特殊用法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苟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义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未有义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君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３、亦将有以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吾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４、我将见秦王说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今之欲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47272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提示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疑问句中的宾语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否定句中的宾语前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3672360"/>
            <a:ext cx="7488000" cy="1556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、指明下列句子的句式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先生将何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未之有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宾语前置的几种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9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否定句中代词作宾语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吾知也。 　　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吾以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２、疑问代词作宾语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Ａ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罪之有？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战？Ｃ先生将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３、由“之”“是”“焉”帮助构成宾语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Ａ句读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知，惑之而不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Ｂ惟命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287640"/>
            <a:ext cx="784836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五、结合注释，理解重要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395720"/>
            <a:ext cx="81356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原文：王！何必曰利？亦有仁义而已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763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大王，您为什么定要说到那利呢？只有仁义就够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5571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　楚王不高兴听，我再去见秦王，劝说他停战。两位君王中，我总会遇到能说得通的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276440"/>
            <a:ext cx="842472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原文：楚王不悦，我将见秦王说而罢之。二王我将有所遇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41979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　在拥有万辆兵车的国家里，这些大夫拥有千辆兵车；在拥有千辆兵车的国家里，这些大夫拥有百辆兵车，不算是不多了，如果轻义而重利，他们不夺取（国君的地位和利益）是绝对不会满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163160"/>
            <a:ext cx="806436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万取千焉，千取百焉，不为不多矣。苟为后义而先利，不夺不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4243320"/>
            <a:ext cx="83516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　做臣的心怀仁义侍奉国君，做儿子的心怀仁义侍奉父亲，做弟弟的心怀仁义侍奉哥哥，这样就会使君臣、父子、兄弟去掉求利的念头，而怀着仁义之心相互对待了。这样的国家还不能称王天下的，是从来没有的。何必要说利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379160"/>
            <a:ext cx="820728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为人臣者怀仁义以事其君，为人子者怀仁义以事其父，为人弟者怀仁义以事其兄，是君臣、父子、兄弟去利，怀仁义以相接也，然而不王者，未之有也。何必曰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224360"/>
            <a:ext cx="748836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１、孟子数落宋牼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088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反对他从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利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角度去劝说两国国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8170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提示：从治国安身的角度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951640"/>
            <a:ext cx="720108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２、推行仁义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61000" y="4745160"/>
            <a:ext cx="343800" cy="5205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文中运用了什么论证方法论证论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56920" y="575316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正反对比论证　举例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542916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通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表现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差别，强调我们应该多多行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23720"/>
            <a:ext cx="820908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有人说孟子主张实行仁义，反对追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这种看法对不对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8645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够准确。孟子并不是一味地反对追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仁义应该放在私利之上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推选仁义才是大利所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320000"/>
            <a:ext cx="83534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作者在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则内容中，强调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2353680"/>
            <a:ext cx="7921440" cy="2043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孔子曾经说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：“富与贵，是人之所欲也，不以其道得之，不处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孟子曰：“鱼，我所欲也，熊掌，亦我所欲也；二者不可得兼，舍鱼而取熊掌者也。生，亦我所欲也，义，亦我所欲也；二者不可得兼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舍生而取义者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生亦我所欲，所欲有甚于生者，故不为苟得也；死亦我所恶，所恶有甚于死者，故患有所不辟也。”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今天我们通过学习孟子的文章，相信同学们对此会有一个更清楚的认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935640"/>
            <a:ext cx="70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为下列加红词语注音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牼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将之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____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然而不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____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孳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善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____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徒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____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利与善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6807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提示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kēng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wàng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z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zh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jiàn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46440"/>
            <a:ext cx="655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上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征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后义而先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吾闻秦、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构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我将见楚王说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愿闻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然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亡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孳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善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舜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利与善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是君臣、父子、兄弟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仁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28360" y="1508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解释下列句子中加红词语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8320" y="90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相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50320" y="14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77240" y="19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交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29960" y="242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停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69240" y="292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意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27680" y="335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样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7040" y="3860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勤勉、努力不懈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42800" y="4365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16880" y="47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差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42680" y="537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背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432000"/>
            <a:ext cx="7993080" cy="1556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指明下列句子中加红词语的特殊用法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苟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义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未有义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君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304000"/>
            <a:ext cx="73436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提示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均意动用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040720"/>
            <a:ext cx="7488000" cy="106884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提示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疑问句中的宾语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否定句中的宾语前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3194280"/>
            <a:ext cx="7488000" cy="1556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、指明下列句子的句式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先生将何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未之有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宾语前置的几种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9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否定句中代词作宾语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吾知也。 　　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吾以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２、疑问代词作宾语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Ａ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罪之有？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战？Ｃ先生将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３、由“之”“是”“焉”帮助构成宾语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Ａ句读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知，惑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而不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Ｂ惟令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287640"/>
            <a:ext cx="784836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五、结合注释，理解重要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395720"/>
            <a:ext cx="81356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原文：王！何必曰利？亦有仁义而已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763360"/>
            <a:ext cx="842472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大王，您为什么定要说到那利呢？只有仁义就够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571720"/>
            <a:ext cx="864072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　楚王不高兴听，我再去见秦王，劝说他停战。两位君王中，我总会遇到能说得通的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4276440"/>
            <a:ext cx="842472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原文：楚王不悦，我将见秦王说而罢之。二王我将有所遇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4197960"/>
            <a:ext cx="842472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　在拥有万辆兵车的国家里，这些大夫拥有千辆兵车；在拥有千辆兵车的国家里，这些大夫拥有百辆兵车，不算是不多了，如果轻义而重利，他们不夺取（国君的地位和利益）是绝对不会满足的。没有讲仁的人会遗弃自己父母的，没有行义的人会不顾自己君主的。大王只要讲仁义就行了，何必谈利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163160"/>
            <a:ext cx="806436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万取千焉，千取百焉，不为不多矣。苟为后义而先利，不夺不餍。未有仁而遗其亲者也，未有义而后其君者也。王亦曰仁义而已矣，何必曰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3:40:03Z</dcterms:created>
  <dc:creator>微软用户</dc:creator>
  <dc:description/>
  <dc:language>en-US</dc:language>
  <cp:lastModifiedBy>fs</cp:lastModifiedBy>
  <dcterms:modified xsi:type="dcterms:W3CDTF">2009-03-10T02:56:55Z</dcterms:modified>
  <cp:revision>15</cp:revision>
  <dc:subject/>
  <dc:title>幻灯片 1</dc:title>
</cp:coreProperties>
</file>