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7570-4047-42A4-B6E2-5CD97212F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705-2487-4C78-AC46-DB2FF87C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D83C-6F5D-4205-B8C7-73C315324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D73F-AB13-4BE7-B1C1-CEF2E6E42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08EB-7EBD-4C49-999C-3666CF34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07B9-04FF-469E-BE49-BDB536D46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8B7B8-C596-4C41-905B-253031DE3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8DC8-70DC-4D50-8E1B-04ED6B7CE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A54B6-6060-4C31-BE25-8C67EE7C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AC96-CEE7-4970-A90D-2EEF0CCF3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DB2B-D322-48E1-AFE7-F780A423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4B53-09F0-42F2-A046-9EC98E7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6195-84AA-4D41-AD80-0469D4A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A0E5-7D25-469F-B140-5FFF4608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DC2E-4606-4C5B-983E-0AB653C3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D4B0-46B3-48BB-80EB-8440598D9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4911-97F4-4B1E-85B1-87C9AC815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29011-DB3E-4AE4-A4C3-2B13ACBAF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7994-F7C5-4EE6-BDA7-E832FC26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2045-197D-4FFD-8F19-D41730C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E20BE-4DEA-4142-9075-F3967053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0108-19D1-46B0-BC6F-0D080A7EF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E40-D4DB-4870-A574-2F892E74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E97BB-E2B2-45B6-ACEC-9D8A4FA0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E7379-5267-4778-A397-8A8EDF1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E4F05-6A46-47CF-876E-51A80F17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C5FF2-BA1C-4835-B93B-2539084D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10D3-A168-43BA-AD2F-2AC23F583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1DC94-DBC6-4D57-9CC5-81C1E461C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E4FE7-FBCC-4549-BBDE-B97D805D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4D8A7-A3EF-475D-9680-46BB33C2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E827-3864-478D-8997-F4E7735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513EC-B150-43BE-BAC6-3C6366AA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02BD-6E00-4F0A-8718-9A37CE33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9FF71-EFF4-44A9-BB6D-8A614AB75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0D236-7DA4-47AC-B786-3B8FFBB6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C4BE7-9B30-4B22-ADC4-0BC3B86A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0BB53-2B24-4971-9AC8-12CA689D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E6B3B-8BD0-4E6C-8499-12DE0BFE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32A8-E555-4F1A-BAE7-98717BA3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A83EC-A6E5-4ADD-81CB-0442ED01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311B0-5DA1-42E7-ADE9-96A4BF65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754080"/>
            <a:ext cx="264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6172C-0D90-4A19-8AC7-C6B39873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901D-BC84-4A77-849C-57600793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D37E-1583-43FF-ADDA-06552497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012-7FC2-4959-98A3-22E4A21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7540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0E9-87A3-4D24-84F3-7DE05A3E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75408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71A3-895C-4DBD-892C-C240039AA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未知"/>
          <p:cNvSpPr/>
          <p:nvPr/>
        </p:nvSpPr>
        <p:spPr>
          <a:xfrm>
            <a:off x="-244440" y="-19080"/>
            <a:ext cx="887400" cy="7005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-55440"/>
            <a:ext cx="571680" cy="49575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未知"/>
          <p:cNvSpPr/>
          <p:nvPr/>
        </p:nvSpPr>
        <p:spPr>
          <a:xfrm>
            <a:off x="108000" y="-15840"/>
            <a:ext cx="576360" cy="29764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209440" y="-55440"/>
            <a:ext cx="1186920" cy="7041960"/>
            <a:chOff x="8209440" y="-55440"/>
            <a:chExt cx="1186920" cy="7041960"/>
          </a:xfrm>
        </p:grpSpPr>
        <p:sp>
          <p:nvSpPr>
            <p:cNvPr id="10" name="未知"/>
            <p:cNvSpPr/>
            <p:nvPr/>
          </p:nvSpPr>
          <p:spPr>
            <a:xfrm flipH="1">
              <a:off x="8209080" y="-19080"/>
              <a:ext cx="1186920" cy="70056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未知"/>
            <p:cNvSpPr/>
            <p:nvPr/>
          </p:nvSpPr>
          <p:spPr>
            <a:xfrm flipH="1">
              <a:off x="8542080" y="3935520"/>
              <a:ext cx="284760" cy="248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未知"/>
            <p:cNvSpPr/>
            <p:nvPr/>
          </p:nvSpPr>
          <p:spPr>
            <a:xfrm flipH="1">
              <a:off x="8923320" y="3754800"/>
              <a:ext cx="236880" cy="229932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未知"/>
            <p:cNvSpPr/>
            <p:nvPr/>
          </p:nvSpPr>
          <p:spPr>
            <a:xfrm flipH="1">
              <a:off x="8636040" y="-55440"/>
              <a:ext cx="759960" cy="56790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未知"/>
            <p:cNvSpPr/>
            <p:nvPr/>
          </p:nvSpPr>
          <p:spPr>
            <a:xfrm flipH="1">
              <a:off x="8445960" y="-19080"/>
              <a:ext cx="759960" cy="29829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未知"/>
          <p:cNvSpPr/>
          <p:nvPr/>
        </p:nvSpPr>
        <p:spPr>
          <a:xfrm>
            <a:off x="-173160" y="189000"/>
            <a:ext cx="56376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未知"/>
          <p:cNvSpPr/>
          <p:nvPr/>
        </p:nvSpPr>
        <p:spPr>
          <a:xfrm>
            <a:off x="8461440" y="-127080"/>
            <a:ext cx="576360" cy="51372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58D8-8FB3-4F8C-A755-4AF13CFC21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rot="16200000">
            <a:off x="-3259440" y="3239280"/>
            <a:ext cx="685008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未知"/>
          <p:cNvSpPr/>
          <p:nvPr/>
        </p:nvSpPr>
        <p:spPr>
          <a:xfrm>
            <a:off x="-208080" y="0"/>
            <a:ext cx="88920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未知"/>
          <p:cNvSpPr/>
          <p:nvPr/>
        </p:nvSpPr>
        <p:spPr>
          <a:xfrm>
            <a:off x="0" y="-55440"/>
            <a:ext cx="576360" cy="56782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未知"/>
          <p:cNvSpPr/>
          <p:nvPr/>
        </p:nvSpPr>
        <p:spPr>
          <a:xfrm>
            <a:off x="111240" y="-15840"/>
            <a:ext cx="576000" cy="29782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8280360" y="-55440"/>
            <a:ext cx="1079280" cy="7041960"/>
            <a:chOff x="8280360" y="-55440"/>
            <a:chExt cx="1079280" cy="7041960"/>
          </a:xfrm>
        </p:grpSpPr>
        <p:sp>
          <p:nvSpPr>
            <p:cNvPr id="68" name="未知"/>
            <p:cNvSpPr/>
            <p:nvPr/>
          </p:nvSpPr>
          <p:spPr>
            <a:xfrm flipH="1">
              <a:off x="8280360" y="-19080"/>
              <a:ext cx="1079280" cy="70056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 flipH="1">
              <a:off x="8582760" y="3935520"/>
              <a:ext cx="258840" cy="248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 flipH="1">
              <a:off x="8929440" y="3754800"/>
              <a:ext cx="215280" cy="229932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 flipH="1">
              <a:off x="8668440" y="-55440"/>
              <a:ext cx="691200" cy="56790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 flipH="1">
              <a:off x="8495280" y="-19080"/>
              <a:ext cx="691200" cy="29829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未知"/>
          <p:cNvSpPr/>
          <p:nvPr/>
        </p:nvSpPr>
        <p:spPr>
          <a:xfrm>
            <a:off x="-169920" y="-15840"/>
            <a:ext cx="568440" cy="56768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未知"/>
          <p:cNvSpPr/>
          <p:nvPr/>
        </p:nvSpPr>
        <p:spPr>
          <a:xfrm>
            <a:off x="8785080" y="-52560"/>
            <a:ext cx="576360" cy="51390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F5AD6-2C45-43CE-B933-5231916B59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64967" t="29957" r="1346" b="13306"/>
          <a:stretch/>
        </p:blipFill>
        <p:spPr>
          <a:xfrm>
            <a:off x="6443640" y="2492280"/>
            <a:ext cx="2700360" cy="4176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rot="5400000">
            <a:off x="5517000" y="3239280"/>
            <a:ext cx="685800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 rot="16200000">
            <a:off x="-3230280" y="3238560"/>
            <a:ext cx="6856560" cy="39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6676920"/>
            <a:ext cx="914400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未知"/>
          <p:cNvSpPr/>
          <p:nvPr/>
        </p:nvSpPr>
        <p:spPr>
          <a:xfrm>
            <a:off x="-244440" y="-19080"/>
            <a:ext cx="887400" cy="70056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未知"/>
          <p:cNvSpPr/>
          <p:nvPr/>
        </p:nvSpPr>
        <p:spPr>
          <a:xfrm>
            <a:off x="395280" y="3933720"/>
            <a:ext cx="216000" cy="24847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未知"/>
          <p:cNvSpPr/>
          <p:nvPr/>
        </p:nvSpPr>
        <p:spPr>
          <a:xfrm>
            <a:off x="142920" y="3753000"/>
            <a:ext cx="179280" cy="230328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未知"/>
          <p:cNvSpPr/>
          <p:nvPr/>
        </p:nvSpPr>
        <p:spPr>
          <a:xfrm>
            <a:off x="0" y="-55440"/>
            <a:ext cx="571680" cy="49575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未知"/>
          <p:cNvSpPr/>
          <p:nvPr/>
        </p:nvSpPr>
        <p:spPr>
          <a:xfrm>
            <a:off x="108000" y="-15840"/>
            <a:ext cx="576360" cy="29764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8209440" y="-55440"/>
            <a:ext cx="1186920" cy="7041960"/>
            <a:chOff x="8209440" y="-55440"/>
            <a:chExt cx="1186920" cy="7041960"/>
          </a:xfrm>
        </p:grpSpPr>
        <p:sp>
          <p:nvSpPr>
            <p:cNvPr id="126" name="未知"/>
            <p:cNvSpPr/>
            <p:nvPr/>
          </p:nvSpPr>
          <p:spPr>
            <a:xfrm flipH="1">
              <a:off x="8209080" y="-19080"/>
              <a:ext cx="1186920" cy="70056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 flipH="1">
              <a:off x="8542080" y="3935520"/>
              <a:ext cx="284760" cy="248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 flipH="1">
              <a:off x="8923320" y="3754800"/>
              <a:ext cx="236880" cy="229932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未知"/>
            <p:cNvSpPr/>
            <p:nvPr/>
          </p:nvSpPr>
          <p:spPr>
            <a:xfrm flipH="1">
              <a:off x="8636040" y="-55440"/>
              <a:ext cx="759960" cy="56790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未知"/>
            <p:cNvSpPr/>
            <p:nvPr/>
          </p:nvSpPr>
          <p:spPr>
            <a:xfrm flipH="1">
              <a:off x="8445960" y="-19080"/>
              <a:ext cx="759960" cy="29829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未知"/>
          <p:cNvSpPr/>
          <p:nvPr/>
        </p:nvSpPr>
        <p:spPr>
          <a:xfrm>
            <a:off x="-173160" y="189000"/>
            <a:ext cx="563760" cy="568476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未知"/>
          <p:cNvSpPr/>
          <p:nvPr/>
        </p:nvSpPr>
        <p:spPr>
          <a:xfrm>
            <a:off x="8461440" y="-127080"/>
            <a:ext cx="576360" cy="51372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AD0E-1935-4DFF-BEAE-BB7D151D72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rcRect l="1672" t="0" r="50344" b="5005"/>
          <a:stretch/>
        </p:blipFill>
        <p:spPr>
          <a:xfrm>
            <a:off x="19080" y="44280"/>
            <a:ext cx="4373640" cy="594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rot="5400000">
            <a:off x="5555160" y="3236040"/>
            <a:ext cx="6854760" cy="395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 rot="16200000">
            <a:off x="-3259440" y="3239280"/>
            <a:ext cx="6850080" cy="3873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" y="6676920"/>
            <a:ext cx="9140760" cy="189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未知"/>
          <p:cNvSpPr/>
          <p:nvPr/>
        </p:nvSpPr>
        <p:spPr>
          <a:xfrm>
            <a:off x="-208080" y="0"/>
            <a:ext cx="889200" cy="701352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未知"/>
          <p:cNvSpPr/>
          <p:nvPr/>
        </p:nvSpPr>
        <p:spPr>
          <a:xfrm>
            <a:off x="398520" y="3935520"/>
            <a:ext cx="216000" cy="248292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未知"/>
          <p:cNvSpPr/>
          <p:nvPr/>
        </p:nvSpPr>
        <p:spPr>
          <a:xfrm>
            <a:off x="146160" y="3754440"/>
            <a:ext cx="179280" cy="2301840"/>
          </a:xfrm>
          <a:custGeom>
            <a:avLst/>
            <a:gdLst/>
            <a:ahLst/>
            <a:rect l="l" t="t" r="r" b="b"/>
            <a:pathLst>
              <a:path w="135" h="321">
                <a:moveTo>
                  <a:pt x="87" y="280"/>
                </a:moveTo>
                <a:cubicBezTo>
                  <a:pt x="0" y="222"/>
                  <a:pt x="37" y="66"/>
                  <a:pt x="103" y="0"/>
                </a:cubicBezTo>
                <a:cubicBezTo>
                  <a:pt x="135" y="97"/>
                  <a:pt x="119" y="40"/>
                  <a:pt x="119" y="264"/>
                </a:cubicBezTo>
                <a:cubicBezTo>
                  <a:pt x="119" y="271"/>
                  <a:pt x="98" y="321"/>
                  <a:pt x="95" y="320"/>
                </a:cubicBezTo>
                <a:cubicBezTo>
                  <a:pt x="82" y="316"/>
                  <a:pt x="90" y="293"/>
                  <a:pt x="87" y="280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27058"/>
                </a:srgbClr>
              </a:gs>
              <a:gs pos="100000">
                <a:srgbClr val="eaeaea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未知"/>
          <p:cNvSpPr/>
          <p:nvPr/>
        </p:nvSpPr>
        <p:spPr>
          <a:xfrm>
            <a:off x="0" y="-55440"/>
            <a:ext cx="576360" cy="56782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111240" y="-15840"/>
            <a:ext cx="576000" cy="297828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80360" y="-55440"/>
            <a:ext cx="1079280" cy="7041960"/>
            <a:chOff x="8280360" y="-55440"/>
            <a:chExt cx="1079280" cy="7041960"/>
          </a:xfrm>
        </p:grpSpPr>
        <p:sp>
          <p:nvSpPr>
            <p:cNvPr id="184" name="未知"/>
            <p:cNvSpPr/>
            <p:nvPr/>
          </p:nvSpPr>
          <p:spPr>
            <a:xfrm flipH="1">
              <a:off x="8280360" y="-19080"/>
              <a:ext cx="1079280" cy="70056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未知"/>
            <p:cNvSpPr/>
            <p:nvPr/>
          </p:nvSpPr>
          <p:spPr>
            <a:xfrm flipH="1">
              <a:off x="8582760" y="3935520"/>
              <a:ext cx="258840" cy="248040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未知"/>
            <p:cNvSpPr/>
            <p:nvPr/>
          </p:nvSpPr>
          <p:spPr>
            <a:xfrm flipH="1">
              <a:off x="8929440" y="3754800"/>
              <a:ext cx="215280" cy="2299320"/>
            </a:xfrm>
            <a:custGeom>
              <a:avLst/>
              <a:gdLst/>
              <a:ahLst/>
              <a:rect l="l" t="t" r="r" b="b"/>
              <a:pathLst>
                <a:path w="135" h="321">
                  <a:moveTo>
                    <a:pt x="87" y="280"/>
                  </a:moveTo>
                  <a:cubicBezTo>
                    <a:pt x="0" y="222"/>
                    <a:pt x="37" y="66"/>
                    <a:pt x="103" y="0"/>
                  </a:cubicBezTo>
                  <a:cubicBezTo>
                    <a:pt x="135" y="97"/>
                    <a:pt x="119" y="40"/>
                    <a:pt x="119" y="264"/>
                  </a:cubicBezTo>
                  <a:cubicBezTo>
                    <a:pt x="119" y="271"/>
                    <a:pt x="98" y="321"/>
                    <a:pt x="95" y="320"/>
                  </a:cubicBezTo>
                  <a:cubicBezTo>
                    <a:pt x="82" y="316"/>
                    <a:pt x="90" y="293"/>
                    <a:pt x="87" y="28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7058"/>
                  </a:srgbClr>
                </a:gs>
                <a:gs pos="100000">
                  <a:srgbClr val="eaeae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未知"/>
            <p:cNvSpPr/>
            <p:nvPr/>
          </p:nvSpPr>
          <p:spPr>
            <a:xfrm flipH="1">
              <a:off x="8668440" y="-55440"/>
              <a:ext cx="691200" cy="567900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未知"/>
            <p:cNvSpPr/>
            <p:nvPr/>
          </p:nvSpPr>
          <p:spPr>
            <a:xfrm flipH="1">
              <a:off x="8495280" y="-19080"/>
              <a:ext cx="691200" cy="2982960"/>
            </a:xfrm>
            <a:custGeom>
              <a:avLst/>
              <a:gdLst/>
              <a:ahLst/>
              <a:rect l="l" t="t" r="r" b="b"/>
              <a:pathLst>
                <a:path w="769" h="4352">
                  <a:moveTo>
                    <a:pt x="106" y="0"/>
                  </a:moveTo>
                  <a:cubicBezTo>
                    <a:pt x="149" y="5"/>
                    <a:pt x="191" y="12"/>
                    <a:pt x="234" y="16"/>
                  </a:cubicBezTo>
                  <a:cubicBezTo>
                    <a:pt x="341" y="26"/>
                    <a:pt x="554" y="40"/>
                    <a:pt x="554" y="40"/>
                  </a:cubicBezTo>
                  <a:cubicBezTo>
                    <a:pt x="545" y="167"/>
                    <a:pt x="511" y="283"/>
                    <a:pt x="490" y="408"/>
                  </a:cubicBezTo>
                  <a:cubicBezTo>
                    <a:pt x="500" y="654"/>
                    <a:pt x="504" y="631"/>
                    <a:pt x="490" y="928"/>
                  </a:cubicBezTo>
                  <a:cubicBezTo>
                    <a:pt x="487" y="992"/>
                    <a:pt x="458" y="1073"/>
                    <a:pt x="442" y="1136"/>
                  </a:cubicBezTo>
                  <a:cubicBezTo>
                    <a:pt x="436" y="1201"/>
                    <a:pt x="437" y="1339"/>
                    <a:pt x="402" y="1392"/>
                  </a:cubicBezTo>
                  <a:cubicBezTo>
                    <a:pt x="396" y="1461"/>
                    <a:pt x="383" y="1523"/>
                    <a:pt x="394" y="1592"/>
                  </a:cubicBezTo>
                  <a:cubicBezTo>
                    <a:pt x="402" y="1643"/>
                    <a:pt x="429" y="1686"/>
                    <a:pt x="442" y="1736"/>
                  </a:cubicBezTo>
                  <a:cubicBezTo>
                    <a:pt x="448" y="1760"/>
                    <a:pt x="450" y="1785"/>
                    <a:pt x="458" y="1808"/>
                  </a:cubicBezTo>
                  <a:cubicBezTo>
                    <a:pt x="491" y="1906"/>
                    <a:pt x="461" y="1787"/>
                    <a:pt x="482" y="1864"/>
                  </a:cubicBezTo>
                  <a:cubicBezTo>
                    <a:pt x="488" y="1885"/>
                    <a:pt x="488" y="1908"/>
                    <a:pt x="498" y="1928"/>
                  </a:cubicBezTo>
                  <a:cubicBezTo>
                    <a:pt x="524" y="1980"/>
                    <a:pt x="551" y="2039"/>
                    <a:pt x="562" y="2096"/>
                  </a:cubicBezTo>
                  <a:cubicBezTo>
                    <a:pt x="568" y="2210"/>
                    <a:pt x="571" y="2238"/>
                    <a:pt x="586" y="2328"/>
                  </a:cubicBezTo>
                  <a:cubicBezTo>
                    <a:pt x="589" y="2403"/>
                    <a:pt x="587" y="2478"/>
                    <a:pt x="594" y="2552"/>
                  </a:cubicBezTo>
                  <a:cubicBezTo>
                    <a:pt x="595" y="2566"/>
                    <a:pt x="606" y="2578"/>
                    <a:pt x="610" y="2592"/>
                  </a:cubicBezTo>
                  <a:cubicBezTo>
                    <a:pt x="616" y="2613"/>
                    <a:pt x="626" y="2656"/>
                    <a:pt x="626" y="2656"/>
                  </a:cubicBezTo>
                  <a:cubicBezTo>
                    <a:pt x="629" y="2693"/>
                    <a:pt x="628" y="2731"/>
                    <a:pt x="634" y="2768"/>
                  </a:cubicBezTo>
                  <a:cubicBezTo>
                    <a:pt x="640" y="2807"/>
                    <a:pt x="670" y="2843"/>
                    <a:pt x="682" y="2880"/>
                  </a:cubicBezTo>
                  <a:cubicBezTo>
                    <a:pt x="685" y="2917"/>
                    <a:pt x="684" y="2955"/>
                    <a:pt x="690" y="2992"/>
                  </a:cubicBezTo>
                  <a:cubicBezTo>
                    <a:pt x="692" y="3004"/>
                    <a:pt x="705" y="3012"/>
                    <a:pt x="706" y="3024"/>
                  </a:cubicBezTo>
                  <a:cubicBezTo>
                    <a:pt x="711" y="3062"/>
                    <a:pt x="722" y="3406"/>
                    <a:pt x="722" y="3408"/>
                  </a:cubicBezTo>
                  <a:cubicBezTo>
                    <a:pt x="727" y="3510"/>
                    <a:pt x="724" y="3688"/>
                    <a:pt x="754" y="3808"/>
                  </a:cubicBezTo>
                  <a:cubicBezTo>
                    <a:pt x="752" y="3921"/>
                    <a:pt x="769" y="4194"/>
                    <a:pt x="730" y="4352"/>
                  </a:cubicBezTo>
                  <a:cubicBezTo>
                    <a:pt x="700" y="4262"/>
                    <a:pt x="737" y="4138"/>
                    <a:pt x="634" y="4104"/>
                  </a:cubicBezTo>
                  <a:cubicBezTo>
                    <a:pt x="576" y="4110"/>
                    <a:pt x="540" y="4097"/>
                    <a:pt x="522" y="4152"/>
                  </a:cubicBezTo>
                  <a:cubicBezTo>
                    <a:pt x="510" y="4269"/>
                    <a:pt x="522" y="4251"/>
                    <a:pt x="402" y="4240"/>
                  </a:cubicBezTo>
                  <a:cubicBezTo>
                    <a:pt x="375" y="4222"/>
                    <a:pt x="368" y="4202"/>
                    <a:pt x="338" y="4192"/>
                  </a:cubicBezTo>
                  <a:cubicBezTo>
                    <a:pt x="330" y="4184"/>
                    <a:pt x="323" y="4174"/>
                    <a:pt x="314" y="4168"/>
                  </a:cubicBezTo>
                  <a:cubicBezTo>
                    <a:pt x="307" y="4163"/>
                    <a:pt x="297" y="4165"/>
                    <a:pt x="290" y="4160"/>
                  </a:cubicBezTo>
                  <a:cubicBezTo>
                    <a:pt x="282" y="4154"/>
                    <a:pt x="281" y="4143"/>
                    <a:pt x="274" y="4136"/>
                  </a:cubicBezTo>
                  <a:cubicBezTo>
                    <a:pt x="267" y="4129"/>
                    <a:pt x="257" y="4127"/>
                    <a:pt x="250" y="4120"/>
                  </a:cubicBezTo>
                  <a:cubicBezTo>
                    <a:pt x="240" y="4110"/>
                    <a:pt x="219" y="4078"/>
                    <a:pt x="210" y="4064"/>
                  </a:cubicBezTo>
                  <a:cubicBezTo>
                    <a:pt x="193" y="3996"/>
                    <a:pt x="179" y="3923"/>
                    <a:pt x="122" y="3880"/>
                  </a:cubicBezTo>
                  <a:cubicBezTo>
                    <a:pt x="129" y="3564"/>
                    <a:pt x="85" y="3212"/>
                    <a:pt x="162" y="2904"/>
                  </a:cubicBezTo>
                  <a:cubicBezTo>
                    <a:pt x="172" y="2813"/>
                    <a:pt x="185" y="2723"/>
                    <a:pt x="194" y="2632"/>
                  </a:cubicBezTo>
                  <a:cubicBezTo>
                    <a:pt x="189" y="2381"/>
                    <a:pt x="188" y="2131"/>
                    <a:pt x="178" y="1880"/>
                  </a:cubicBezTo>
                  <a:cubicBezTo>
                    <a:pt x="175" y="1813"/>
                    <a:pt x="150" y="1730"/>
                    <a:pt x="138" y="1664"/>
                  </a:cubicBezTo>
                  <a:cubicBezTo>
                    <a:pt x="112" y="1527"/>
                    <a:pt x="96" y="1392"/>
                    <a:pt x="66" y="1256"/>
                  </a:cubicBezTo>
                  <a:cubicBezTo>
                    <a:pt x="54" y="1133"/>
                    <a:pt x="28" y="1011"/>
                    <a:pt x="10" y="888"/>
                  </a:cubicBezTo>
                  <a:cubicBezTo>
                    <a:pt x="14" y="786"/>
                    <a:pt x="0" y="633"/>
                    <a:pt x="42" y="528"/>
                  </a:cubicBezTo>
                  <a:cubicBezTo>
                    <a:pt x="58" y="401"/>
                    <a:pt x="58" y="283"/>
                    <a:pt x="66" y="152"/>
                  </a:cubicBezTo>
                  <a:cubicBezTo>
                    <a:pt x="73" y="41"/>
                    <a:pt x="82" y="16"/>
                    <a:pt x="186" y="16"/>
                  </a:cubicBezTo>
                </a:path>
              </a:pathLst>
            </a:custGeom>
            <a:solidFill>
              <a:srgbClr val="ffffff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未知"/>
          <p:cNvSpPr/>
          <p:nvPr/>
        </p:nvSpPr>
        <p:spPr>
          <a:xfrm>
            <a:off x="-169920" y="-15840"/>
            <a:ext cx="568440" cy="567684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未知"/>
          <p:cNvSpPr/>
          <p:nvPr/>
        </p:nvSpPr>
        <p:spPr>
          <a:xfrm>
            <a:off x="8785080" y="-52560"/>
            <a:ext cx="576360" cy="5139000"/>
          </a:xfrm>
          <a:custGeom>
            <a:avLst/>
            <a:gdLst/>
            <a:ahLst/>
            <a:rect l="l" t="t" r="r" b="b"/>
            <a:pathLst>
              <a:path w="769" h="4352">
                <a:moveTo>
                  <a:pt x="106" y="0"/>
                </a:moveTo>
                <a:cubicBezTo>
                  <a:pt x="149" y="5"/>
                  <a:pt x="191" y="12"/>
                  <a:pt x="234" y="16"/>
                </a:cubicBezTo>
                <a:cubicBezTo>
                  <a:pt x="341" y="26"/>
                  <a:pt x="554" y="40"/>
                  <a:pt x="554" y="40"/>
                </a:cubicBezTo>
                <a:cubicBezTo>
                  <a:pt x="545" y="167"/>
                  <a:pt x="511" y="283"/>
                  <a:pt x="490" y="408"/>
                </a:cubicBezTo>
                <a:cubicBezTo>
                  <a:pt x="500" y="654"/>
                  <a:pt x="504" y="631"/>
                  <a:pt x="490" y="928"/>
                </a:cubicBezTo>
                <a:cubicBezTo>
                  <a:pt x="487" y="992"/>
                  <a:pt x="458" y="1073"/>
                  <a:pt x="442" y="1136"/>
                </a:cubicBezTo>
                <a:cubicBezTo>
                  <a:pt x="436" y="1201"/>
                  <a:pt x="437" y="1339"/>
                  <a:pt x="402" y="1392"/>
                </a:cubicBezTo>
                <a:cubicBezTo>
                  <a:pt x="396" y="1461"/>
                  <a:pt x="383" y="1523"/>
                  <a:pt x="394" y="1592"/>
                </a:cubicBezTo>
                <a:cubicBezTo>
                  <a:pt x="402" y="1643"/>
                  <a:pt x="429" y="1686"/>
                  <a:pt x="442" y="1736"/>
                </a:cubicBezTo>
                <a:cubicBezTo>
                  <a:pt x="448" y="1760"/>
                  <a:pt x="450" y="1785"/>
                  <a:pt x="458" y="1808"/>
                </a:cubicBezTo>
                <a:cubicBezTo>
                  <a:pt x="491" y="1906"/>
                  <a:pt x="461" y="1787"/>
                  <a:pt x="482" y="1864"/>
                </a:cubicBezTo>
                <a:cubicBezTo>
                  <a:pt x="488" y="1885"/>
                  <a:pt x="488" y="1908"/>
                  <a:pt x="498" y="1928"/>
                </a:cubicBezTo>
                <a:cubicBezTo>
                  <a:pt x="524" y="1980"/>
                  <a:pt x="551" y="2039"/>
                  <a:pt x="562" y="2096"/>
                </a:cubicBezTo>
                <a:cubicBezTo>
                  <a:pt x="568" y="2210"/>
                  <a:pt x="571" y="2238"/>
                  <a:pt x="586" y="2328"/>
                </a:cubicBezTo>
                <a:cubicBezTo>
                  <a:pt x="589" y="2403"/>
                  <a:pt x="587" y="2478"/>
                  <a:pt x="594" y="2552"/>
                </a:cubicBezTo>
                <a:cubicBezTo>
                  <a:pt x="595" y="2566"/>
                  <a:pt x="606" y="2578"/>
                  <a:pt x="610" y="2592"/>
                </a:cubicBezTo>
                <a:cubicBezTo>
                  <a:pt x="616" y="2613"/>
                  <a:pt x="626" y="2656"/>
                  <a:pt x="626" y="2656"/>
                </a:cubicBezTo>
                <a:cubicBezTo>
                  <a:pt x="629" y="2693"/>
                  <a:pt x="628" y="2731"/>
                  <a:pt x="634" y="2768"/>
                </a:cubicBezTo>
                <a:cubicBezTo>
                  <a:pt x="640" y="2807"/>
                  <a:pt x="670" y="2843"/>
                  <a:pt x="682" y="2880"/>
                </a:cubicBezTo>
                <a:cubicBezTo>
                  <a:pt x="685" y="2917"/>
                  <a:pt x="684" y="2955"/>
                  <a:pt x="690" y="2992"/>
                </a:cubicBezTo>
                <a:cubicBezTo>
                  <a:pt x="692" y="3004"/>
                  <a:pt x="705" y="3012"/>
                  <a:pt x="706" y="3024"/>
                </a:cubicBezTo>
                <a:cubicBezTo>
                  <a:pt x="711" y="3062"/>
                  <a:pt x="722" y="3406"/>
                  <a:pt x="722" y="3408"/>
                </a:cubicBezTo>
                <a:cubicBezTo>
                  <a:pt x="727" y="3510"/>
                  <a:pt x="724" y="3688"/>
                  <a:pt x="754" y="3808"/>
                </a:cubicBezTo>
                <a:cubicBezTo>
                  <a:pt x="752" y="3921"/>
                  <a:pt x="769" y="4194"/>
                  <a:pt x="730" y="4352"/>
                </a:cubicBezTo>
                <a:cubicBezTo>
                  <a:pt x="700" y="4262"/>
                  <a:pt x="737" y="4138"/>
                  <a:pt x="634" y="4104"/>
                </a:cubicBezTo>
                <a:cubicBezTo>
                  <a:pt x="576" y="4110"/>
                  <a:pt x="540" y="4097"/>
                  <a:pt x="522" y="4152"/>
                </a:cubicBezTo>
                <a:cubicBezTo>
                  <a:pt x="510" y="4269"/>
                  <a:pt x="522" y="4251"/>
                  <a:pt x="402" y="4240"/>
                </a:cubicBezTo>
                <a:cubicBezTo>
                  <a:pt x="375" y="4222"/>
                  <a:pt x="368" y="4202"/>
                  <a:pt x="338" y="4192"/>
                </a:cubicBezTo>
                <a:cubicBezTo>
                  <a:pt x="330" y="4184"/>
                  <a:pt x="323" y="4174"/>
                  <a:pt x="314" y="4168"/>
                </a:cubicBezTo>
                <a:cubicBezTo>
                  <a:pt x="307" y="4163"/>
                  <a:pt x="297" y="4165"/>
                  <a:pt x="290" y="4160"/>
                </a:cubicBezTo>
                <a:cubicBezTo>
                  <a:pt x="282" y="4154"/>
                  <a:pt x="281" y="4143"/>
                  <a:pt x="274" y="4136"/>
                </a:cubicBezTo>
                <a:cubicBezTo>
                  <a:pt x="267" y="4129"/>
                  <a:pt x="257" y="4127"/>
                  <a:pt x="250" y="4120"/>
                </a:cubicBezTo>
                <a:cubicBezTo>
                  <a:pt x="240" y="4110"/>
                  <a:pt x="219" y="4078"/>
                  <a:pt x="210" y="4064"/>
                </a:cubicBezTo>
                <a:cubicBezTo>
                  <a:pt x="193" y="3996"/>
                  <a:pt x="179" y="3923"/>
                  <a:pt x="122" y="3880"/>
                </a:cubicBezTo>
                <a:cubicBezTo>
                  <a:pt x="129" y="3564"/>
                  <a:pt x="85" y="3212"/>
                  <a:pt x="162" y="2904"/>
                </a:cubicBezTo>
                <a:cubicBezTo>
                  <a:pt x="172" y="2813"/>
                  <a:pt x="185" y="2723"/>
                  <a:pt x="194" y="2632"/>
                </a:cubicBezTo>
                <a:cubicBezTo>
                  <a:pt x="189" y="2381"/>
                  <a:pt x="188" y="2131"/>
                  <a:pt x="178" y="1880"/>
                </a:cubicBezTo>
                <a:cubicBezTo>
                  <a:pt x="175" y="1813"/>
                  <a:pt x="150" y="1730"/>
                  <a:pt x="138" y="1664"/>
                </a:cubicBezTo>
                <a:cubicBezTo>
                  <a:pt x="112" y="1527"/>
                  <a:pt x="96" y="1392"/>
                  <a:pt x="66" y="1256"/>
                </a:cubicBezTo>
                <a:cubicBezTo>
                  <a:pt x="54" y="1133"/>
                  <a:pt x="28" y="1011"/>
                  <a:pt x="10" y="888"/>
                </a:cubicBezTo>
                <a:cubicBezTo>
                  <a:pt x="14" y="786"/>
                  <a:pt x="0" y="633"/>
                  <a:pt x="42" y="528"/>
                </a:cubicBezTo>
                <a:cubicBezTo>
                  <a:pt x="58" y="401"/>
                  <a:pt x="58" y="283"/>
                  <a:pt x="66" y="152"/>
                </a:cubicBezTo>
                <a:cubicBezTo>
                  <a:pt x="73" y="41"/>
                  <a:pt x="82" y="16"/>
                  <a:pt x="186" y="16"/>
                </a:cubicBezTo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0720" y="238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40AC-8F13-435E-B847-25847E535C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jpeg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400720" y="-20520"/>
            <a:ext cx="3384360" cy="66895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537800" y="4442040"/>
            <a:ext cx="7898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在河之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637800" y="1234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窈窕淑女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3639240" y="4405680"/>
            <a:ext cx="789840" cy="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Arial"/>
              </a:rPr>
              <a:t>君子好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02880" y="123480"/>
            <a:ext cx="789840" cy="35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关关雎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062240" y="652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33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666633"/>
                </a:solidFill>
                <a:latin typeface="Arial"/>
              </a:rPr>
              <a:t>氓</a:t>
            </a:r>
            <a:r>
              <a:rPr b="1" lang="en-US" sz="3600" spc="-1" strike="noStrike">
                <a:solidFill>
                  <a:srgbClr val="666633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2233440" y="1338120"/>
            <a:ext cx="5029200" cy="560520"/>
            <a:chOff x="2233440" y="1338120"/>
            <a:chExt cx="5029200" cy="560520"/>
          </a:xfrm>
        </p:grpSpPr>
        <p:grpSp>
          <p:nvGrpSpPr>
            <p:cNvPr id="344" name=""/>
            <p:cNvGrpSpPr/>
            <p:nvPr/>
          </p:nvGrpSpPr>
          <p:grpSpPr>
            <a:xfrm>
              <a:off x="2233440" y="1338120"/>
              <a:ext cx="5029200" cy="560520"/>
              <a:chOff x="2233440" y="1338120"/>
              <a:chExt cx="5029200" cy="560520"/>
            </a:xfrm>
          </p:grpSpPr>
          <p:sp>
            <p:nvSpPr>
              <p:cNvPr id="345" name=""/>
              <p:cNvSpPr/>
              <p:nvPr/>
            </p:nvSpPr>
            <p:spPr>
              <a:xfrm>
                <a:off x="4824360" y="141444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233440" y="1338120"/>
                <a:ext cx="5029200" cy="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233440" y="1387440"/>
                <a:ext cx="0" cy="484200"/>
              </a:xfrm>
              <a:prstGeom prst="line">
                <a:avLst/>
              </a:prstGeom>
              <a:ln w="38160">
                <a:solidFill>
                  <a:srgbClr val="66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"/>
            <p:cNvSpPr/>
            <p:nvPr/>
          </p:nvSpPr>
          <p:spPr>
            <a:xfrm>
              <a:off x="7262640" y="1338120"/>
              <a:ext cx="0" cy="457200"/>
            </a:xfrm>
            <a:prstGeom prst="line">
              <a:avLst/>
            </a:prstGeom>
            <a:ln w="381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928880" y="210024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恋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4000" y="2052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婚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948360" y="206064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决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0960" y="2862360"/>
            <a:ext cx="13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Arial"/>
              </a:rPr>
              <a:t>章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28880" y="2938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一  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443480" y="2862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三 四 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236000" y="28526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80960" y="2100240"/>
            <a:ext cx="139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Arial"/>
              </a:rPr>
              <a:t>情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0720" y="3743280"/>
            <a:ext cx="131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6633"/>
                </a:solidFill>
                <a:latin typeface="Arial"/>
              </a:rPr>
              <a:t>基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800360" y="370836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熱情、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0" y="370836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怨恨、沉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93080" y="3718080"/>
            <a:ext cx="990360" cy="5205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</a:rPr>
              <a:t>清醒、剛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042920" y="1015920"/>
            <a:ext cx="7166160" cy="2629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卫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1403280" y="1482840"/>
            <a:ext cx="6518160" cy="1693440"/>
            <a:chOff x="1403280" y="1482840"/>
            <a:chExt cx="6518160" cy="1693440"/>
          </a:xfrm>
        </p:grpSpPr>
        <p:pic>
          <p:nvPicPr>
            <p:cNvPr id="364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1484280"/>
              <a:ext cx="1165680" cy="16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2550960" y="1482840"/>
              <a:ext cx="5370480" cy="169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2484360" y="1484280"/>
            <a:ext cx="554364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氓之蚩蚩，抱布贸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贸丝，来即我谋。送子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至于顿丘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，子无良媒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无怒，秋以为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044720" y="3500280"/>
            <a:ext cx="7127640" cy="25578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403280" y="4038480"/>
            <a:ext cx="6337440" cy="1477800"/>
            <a:chOff x="1403280" y="4038480"/>
            <a:chExt cx="6337440" cy="1477800"/>
          </a:xfrm>
        </p:grpSpPr>
        <p:pic>
          <p:nvPicPr>
            <p:cNvPr id="369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403992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2519280" y="403848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2411280" y="3968640"/>
            <a:ext cx="5508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乘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垝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以望复关。不见复关，泣涕涟涟。既见复关，载笑载言。尔卜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体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言。以尔车来，以我贿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5"/>
          <a:stretch/>
        </p:blipFill>
        <p:spPr>
          <a:xfrm>
            <a:off x="8136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44720" y="297000"/>
            <a:ext cx="7343640" cy="331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403280" y="909720"/>
            <a:ext cx="6624360" cy="1907640"/>
            <a:chOff x="1403280" y="909720"/>
            <a:chExt cx="6624360" cy="1907640"/>
          </a:xfrm>
        </p:grpSpPr>
        <p:pic>
          <p:nvPicPr>
            <p:cNvPr id="375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911520"/>
              <a:ext cx="118476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2569680" y="909720"/>
              <a:ext cx="5457960" cy="19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2484360" y="946080"/>
            <a:ext cx="5508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之未落，其叶沃若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嗟鸠兮，无食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嗟女兮，无与士耽！士之耽兮，犹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女之耽兮，不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08000" y="3394080"/>
            <a:ext cx="7164360" cy="2736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403280" y="3933720"/>
            <a:ext cx="6445080" cy="1622160"/>
            <a:chOff x="1403280" y="3933720"/>
            <a:chExt cx="6445080" cy="1622160"/>
          </a:xfrm>
        </p:grpSpPr>
        <p:pic>
          <p:nvPicPr>
            <p:cNvPr id="380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3935160"/>
              <a:ext cx="1152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2538000" y="3933720"/>
              <a:ext cx="5310360" cy="16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411280" y="3935520"/>
            <a:ext cx="550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之落矣，其黄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自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尔，三岁食贫。淇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汤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女也不爽，士贰其行。士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，二三其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044720" y="297000"/>
            <a:ext cx="7343640" cy="331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403280" y="909720"/>
            <a:ext cx="6624360" cy="1907640"/>
            <a:chOff x="1403280" y="909720"/>
            <a:chExt cx="6624360" cy="1907640"/>
          </a:xfrm>
        </p:grpSpPr>
        <p:pic>
          <p:nvPicPr>
            <p:cNvPr id="385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911520"/>
              <a:ext cx="118476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2569680" y="909720"/>
              <a:ext cx="5457960" cy="19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556000" y="946080"/>
            <a:ext cx="5508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岁为妇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室劳矣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兴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靡有朝矣。言既遂矣，至于暴矣。 兄弟不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笑矣。静言思之，躬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08000" y="3394080"/>
            <a:ext cx="7164360" cy="2736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405080" y="3933720"/>
            <a:ext cx="6478200" cy="1692000"/>
            <a:chOff x="1405080" y="3933720"/>
            <a:chExt cx="6478200" cy="1692000"/>
          </a:xfrm>
        </p:grpSpPr>
        <p:pic>
          <p:nvPicPr>
            <p:cNvPr id="390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5080" y="3935160"/>
              <a:ext cx="115884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2545920" y="3933720"/>
              <a:ext cx="5337360" cy="16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2411280" y="3968640"/>
            <a:ext cx="5545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，老使我怨。淇则有岸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总角之宴，言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晏。信誓旦旦，不思其反。反是不思，亦已焉哉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101080" y="5842080"/>
            <a:ext cx="503280" cy="684000"/>
          </a:xfrm>
          <a:custGeom>
            <a:avLst/>
            <a:gdLst>
              <a:gd name="textAreaLeft" fmla="*/ 207360 w 503280"/>
              <a:gd name="textAreaRight" fmla="*/ 295920 w 503280"/>
              <a:gd name="textAreaTop" fmla="*/ 281880 h 684000"/>
              <a:gd name="textAreaBottom" fmla="*/ 402120 h 68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414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63640" y="6129360"/>
            <a:ext cx="900000" cy="503280"/>
          </a:xfrm>
          <a:prstGeom prst="leftArrow">
            <a:avLst>
              <a:gd name="adj1" fmla="val 50000"/>
              <a:gd name="adj2" fmla="val 44707"/>
            </a:avLst>
          </a:prstGeom>
          <a:noFill/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295280" y="47628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国第一部         总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2757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28800" y="45720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形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905120" y="3657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</a:rPr>
              <a:t>收入            时期的诗歌    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562040" y="1981080"/>
            <a:ext cx="712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汉以前被称为           或                     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3048120"/>
            <a:ext cx="228600" cy="2057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523880" y="548640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诗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我国古典诗歌                 的源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990720"/>
            <a:ext cx="8380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34320" y="1828800"/>
            <a:ext cx="6094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229280" y="2590920"/>
            <a:ext cx="6858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590920"/>
            <a:ext cx="144792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3352680"/>
            <a:ext cx="281952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6095880"/>
            <a:ext cx="16002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267080"/>
            <a:ext cx="304776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70160" y="5181480"/>
            <a:ext cx="342900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14600" y="1828800"/>
            <a:ext cx="2209680" cy="0"/>
          </a:xfrm>
          <a:prstGeom prst="line">
            <a:avLst/>
          </a:prstGeom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60948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143000" y="14479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43000" y="228600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403848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5791320"/>
            <a:ext cx="228600" cy="228600"/>
          </a:xfrm>
          <a:prstGeom prst="ellipse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73520" y="380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74520" y="12193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从西周到春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58720" y="124632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0440" y="1981080"/>
            <a:ext cx="10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诗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45120" y="1981080"/>
            <a:ext cx="151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《 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诗三百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29280" y="278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风    雅    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7200" y="36846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赋   比    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8120" y="4572000"/>
            <a:ext cx="483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四言为主，重章叠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49680" y="5486400"/>
            <a:ext cx="12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现实主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400080" y="2743200"/>
            <a:ext cx="228600" cy="1523880"/>
          </a:xfrm>
          <a:custGeom>
            <a:avLst/>
            <a:gdLst>
              <a:gd name="textAreaLeft" fmla="*/ 145800 w 228600"/>
              <a:gd name="textAreaRight" fmla="*/ 22860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32004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诗经六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rId1" action="ppaction://hlinksldjump"/>
          </p:cNvPr>
          <p:cNvSpPr/>
          <p:nvPr/>
        </p:nvSpPr>
        <p:spPr>
          <a:xfrm>
            <a:off x="7812000" y="6200640"/>
            <a:ext cx="684360" cy="468360"/>
          </a:xfrm>
          <a:prstGeom prst="leftArrow">
            <a:avLst>
              <a:gd name="adj1" fmla="val 50000"/>
              <a:gd name="adj2" fmla="val 36530"/>
            </a:avLst>
          </a:prstGeom>
          <a:noFill/>
          <a:ln cap="rnd" w="507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527280" y="936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720480" y="1989000"/>
            <a:ext cx="200916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·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122880" y="1297440"/>
            <a:ext cx="1521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6600ff"/>
                </a:solidFill>
                <a:latin typeface="Arial"/>
              </a:rPr>
              <a:t>爱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57360" y="189000"/>
            <a:ext cx="637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7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2629080" y="1376280"/>
            <a:ext cx="4408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2735280" y="2187720"/>
            <a:ext cx="35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文朗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71640" y="3176640"/>
            <a:ext cx="35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体会情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620000" y="1207440"/>
            <a:ext cx="4823640" cy="974160"/>
            <a:chOff x="1620000" y="1207440"/>
            <a:chExt cx="4823640" cy="974160"/>
          </a:xfrm>
        </p:grpSpPr>
        <p:sp>
          <p:nvSpPr>
            <p:cNvPr id="278" name=""/>
            <p:cNvSpPr/>
            <p:nvPr/>
          </p:nvSpPr>
          <p:spPr>
            <a:xfrm>
              <a:off x="2303280" y="1844640"/>
              <a:ext cx="4140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2"/>
            <a:stretch/>
          </p:blipFill>
          <p:spPr>
            <a:xfrm rot="3476400">
              <a:off x="1730880" y="136116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0" name=""/>
          <p:cNvGrpSpPr/>
          <p:nvPr/>
        </p:nvGrpSpPr>
        <p:grpSpPr>
          <a:xfrm>
            <a:off x="1945800" y="2552040"/>
            <a:ext cx="4534200" cy="909360"/>
            <a:chOff x="1945800" y="2552040"/>
            <a:chExt cx="4534200" cy="909360"/>
          </a:xfrm>
        </p:grpSpPr>
        <p:sp>
          <p:nvSpPr>
            <p:cNvPr id="281" name=""/>
            <p:cNvSpPr/>
            <p:nvPr/>
          </p:nvSpPr>
          <p:spPr>
            <a:xfrm>
              <a:off x="2555640" y="2806560"/>
              <a:ext cx="3924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 rot="20134800">
              <a:off x="2050560" y="2673000"/>
              <a:ext cx="731880" cy="66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83" name="" descr=""/>
          <p:cNvPicPr/>
          <p:nvPr/>
        </p:nvPicPr>
        <p:blipFill>
          <a:blip r:embed="rId4"/>
          <a:stretch/>
        </p:blipFill>
        <p:spPr>
          <a:xfrm rot="3476400">
            <a:off x="2072160" y="2351880"/>
            <a:ext cx="623880" cy="666720"/>
          </a:xfrm>
          <a:prstGeom prst="rect">
            <a:avLst/>
          </a:prstGeom>
          <a:ln w="0">
            <a:noFill/>
          </a:ln>
        </p:spPr>
      </p:pic>
      <p:grpSp>
        <p:nvGrpSpPr>
          <p:cNvPr id="284" name=""/>
          <p:cNvGrpSpPr/>
          <p:nvPr/>
        </p:nvGrpSpPr>
        <p:grpSpPr>
          <a:xfrm>
            <a:off x="2334960" y="3631320"/>
            <a:ext cx="4145040" cy="766440"/>
            <a:chOff x="2334960" y="3631320"/>
            <a:chExt cx="4145040" cy="766440"/>
          </a:xfrm>
        </p:grpSpPr>
        <p:sp>
          <p:nvSpPr>
            <p:cNvPr id="285" name=""/>
            <p:cNvSpPr/>
            <p:nvPr/>
          </p:nvSpPr>
          <p:spPr>
            <a:xfrm>
              <a:off x="2771640" y="3840120"/>
              <a:ext cx="370836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5"/>
            <a:stretch/>
          </p:blipFill>
          <p:spPr>
            <a:xfrm rot="20721600">
              <a:off x="2411280" y="3681000"/>
              <a:ext cx="4795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7" name=""/>
          <p:cNvGrpSpPr/>
          <p:nvPr/>
        </p:nvGrpSpPr>
        <p:grpSpPr>
          <a:xfrm>
            <a:off x="1798200" y="4249440"/>
            <a:ext cx="4645080" cy="746640"/>
            <a:chOff x="1798200" y="4249440"/>
            <a:chExt cx="4645080" cy="746640"/>
          </a:xfrm>
        </p:grpSpPr>
        <p:sp>
          <p:nvSpPr>
            <p:cNvPr id="288" name=""/>
            <p:cNvSpPr/>
            <p:nvPr/>
          </p:nvSpPr>
          <p:spPr>
            <a:xfrm>
              <a:off x="2303280" y="4858920"/>
              <a:ext cx="4140000" cy="0"/>
            </a:xfrm>
            <a:prstGeom prst="line">
              <a:avLst/>
            </a:prstGeom>
            <a:ln w="28440">
              <a:solidFill>
                <a:srgbClr val="4583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9" name="" descr=""/>
            <p:cNvPicPr/>
            <p:nvPr/>
          </p:nvPicPr>
          <p:blipFill>
            <a:blip r:embed="rId6"/>
            <a:stretch/>
          </p:blipFill>
          <p:spPr>
            <a:xfrm rot="4855800">
              <a:off x="1816560" y="4322160"/>
              <a:ext cx="660240" cy="60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"/>
          <p:cNvSpPr/>
          <p:nvPr/>
        </p:nvSpPr>
        <p:spPr>
          <a:xfrm>
            <a:off x="2668680" y="1197000"/>
            <a:ext cx="35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71640" y="4076640"/>
            <a:ext cx="3508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学生齐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403280" y="1455840"/>
            <a:ext cx="6624720" cy="3240000"/>
          </a:xfrm>
          <a:prstGeom prst="roundRect">
            <a:avLst>
              <a:gd name="adj" fmla="val 36616"/>
            </a:avLst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2770200" cy="16272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403280" y="2608200"/>
            <a:ext cx="6948720" cy="344988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efefe"/>
              </a:gs>
            </a:gsLst>
            <a:lin ang="13500000"/>
          </a:gra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516720" y="1455840"/>
            <a:ext cx="1835280" cy="1152360"/>
          </a:xfrm>
          <a:prstGeom prst="rect">
            <a:avLst/>
          </a:prstGeom>
          <a:solidFill>
            <a:srgbClr val="cde5d8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卫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991320" y="170172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58361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9440" y="2673360"/>
            <a:ext cx="676764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扫除课文中的生字词，并通过反复诵读熟悉课文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能对照注释理解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能够通过分组讨论理清本文脉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042920" y="1015920"/>
            <a:ext cx="7166160" cy="2629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卫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氓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403280" y="1482840"/>
            <a:ext cx="6518160" cy="1693440"/>
            <a:chOff x="1403280" y="1482840"/>
            <a:chExt cx="6518160" cy="1693440"/>
          </a:xfrm>
        </p:grpSpPr>
        <p:pic>
          <p:nvPicPr>
            <p:cNvPr id="301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1484280"/>
              <a:ext cx="1165680" cy="16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2550960" y="1482840"/>
              <a:ext cx="5370480" cy="169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2484360" y="1484280"/>
            <a:ext cx="5543640" cy="15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氓之蚩蚩，抱布贸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来贸丝，来即我谋。送子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至于顿丘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期，子无良媒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子无怒，秋以为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44720" y="3500280"/>
            <a:ext cx="7127640" cy="255780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403280" y="4038480"/>
            <a:ext cx="6337440" cy="1477800"/>
            <a:chOff x="1403280" y="4038480"/>
            <a:chExt cx="6337440" cy="1477800"/>
          </a:xfrm>
        </p:grpSpPr>
        <p:pic>
          <p:nvPicPr>
            <p:cNvPr id="306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4039920"/>
              <a:ext cx="113364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2519280" y="4038480"/>
              <a:ext cx="5221440" cy="14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2411280" y="3968640"/>
            <a:ext cx="55087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乘彼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垝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以望复关。不见复关，泣涕涟涟。既见复关，载笑载言。尔卜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体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言。以尔车来，以我贿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氓" descr=""/>
          <p:cNvPicPr/>
          <p:nvPr/>
        </p:nvPicPr>
        <p:blipFill>
          <a:blip r:embed="rId5"/>
          <a:stretch/>
        </p:blipFill>
        <p:spPr>
          <a:xfrm>
            <a:off x="817236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309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309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" fill="hold"/>
                                        <p:tgtEl>
                                          <p:spTgt spid="3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044720" y="297000"/>
            <a:ext cx="7343640" cy="331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403280" y="909720"/>
            <a:ext cx="6624360" cy="1907640"/>
            <a:chOff x="1403280" y="909720"/>
            <a:chExt cx="6624360" cy="1907640"/>
          </a:xfrm>
        </p:grpSpPr>
        <p:pic>
          <p:nvPicPr>
            <p:cNvPr id="312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911520"/>
              <a:ext cx="118476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2569680" y="909720"/>
              <a:ext cx="5457960" cy="19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2484360" y="946080"/>
            <a:ext cx="5508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之未落，其叶沃若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嗟鸠兮，无食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嗟女兮，无与士耽！士之耽兮，犹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女之耽兮，不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08000" y="3394080"/>
            <a:ext cx="7164360" cy="2736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1403280" y="3933720"/>
            <a:ext cx="6445080" cy="1622160"/>
            <a:chOff x="1403280" y="3933720"/>
            <a:chExt cx="6445080" cy="1622160"/>
          </a:xfrm>
        </p:grpSpPr>
        <p:pic>
          <p:nvPicPr>
            <p:cNvPr id="317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3280" y="3935160"/>
              <a:ext cx="11527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2538000" y="3933720"/>
              <a:ext cx="5310360" cy="162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411280" y="3935520"/>
            <a:ext cx="5508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桑之落矣，其黄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自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尔，三岁食贫。淇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汤汤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裳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女也不爽，士贰其行。士也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极，二三其德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044720" y="297000"/>
            <a:ext cx="7343640" cy="3313080"/>
          </a:xfrm>
          <a:prstGeom prst="horizontalScrol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403280" y="909720"/>
            <a:ext cx="6624360" cy="1907640"/>
            <a:chOff x="1403280" y="909720"/>
            <a:chExt cx="6624360" cy="190764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rcRect l="0" t="1128" r="321" b="6896"/>
            <a:stretch/>
          </p:blipFill>
          <p:spPr>
            <a:xfrm>
              <a:off x="1403280" y="911520"/>
              <a:ext cx="1184760" cy="190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569680" y="909720"/>
              <a:ext cx="5457960" cy="190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2556000" y="946080"/>
            <a:ext cx="5508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岁为妇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室劳矣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兴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靡有朝矣。言既遂矣，至于暴矣。 兄弟不知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笑矣。静言思之，躬自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08000" y="3394080"/>
            <a:ext cx="7164360" cy="273672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405080" y="3933720"/>
            <a:ext cx="6478200" cy="1692000"/>
            <a:chOff x="1405080" y="3933720"/>
            <a:chExt cx="6478200" cy="1692000"/>
          </a:xfrm>
        </p:grpSpPr>
        <p:pic>
          <p:nvPicPr>
            <p:cNvPr id="327" name="" descr=""/>
            <p:cNvPicPr/>
            <p:nvPr/>
          </p:nvPicPr>
          <p:blipFill>
            <a:blip r:embed="rId4"/>
            <a:srcRect l="0" t="1128" r="321" b="6896"/>
            <a:stretch/>
          </p:blipFill>
          <p:spPr>
            <a:xfrm>
              <a:off x="1405080" y="3935160"/>
              <a:ext cx="1158840" cy="16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2545920" y="3933720"/>
              <a:ext cx="5337360" cy="169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2411280" y="3968640"/>
            <a:ext cx="55454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及尔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，老使我怨。淇则有岸，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则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总角之宴，言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晏。信誓旦旦，不思其反。反是不思，亦已焉哉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01080" y="5842080"/>
            <a:ext cx="503280" cy="684000"/>
          </a:xfrm>
          <a:custGeom>
            <a:avLst/>
            <a:gdLst>
              <a:gd name="textAreaLeft" fmla="*/ 207360 w 503280"/>
              <a:gd name="textAreaRight" fmla="*/ 295920 w 503280"/>
              <a:gd name="textAreaTop" fmla="*/ 281880 h 684000"/>
              <a:gd name="textAreaBottom" fmla="*/ 402120 h 68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414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63640" y="6129360"/>
            <a:ext cx="900000" cy="503280"/>
          </a:xfrm>
          <a:prstGeom prst="leftArrow">
            <a:avLst>
              <a:gd name="adj1" fmla="val 50000"/>
              <a:gd name="adj2" fmla="val 44707"/>
            </a:avLst>
          </a:prstGeom>
          <a:noFill/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讨论并整理板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79640" y="155592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7128000" y="1555920"/>
            <a:ext cx="457200" cy="149508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1224000" y="1665360"/>
            <a:ext cx="6012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根据课文注释理解文章内容，并根据作者的情感变化将课文分为三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79640" y="3824280"/>
            <a:ext cx="658800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cde5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7128000" y="3824280"/>
            <a:ext cx="457200" cy="14954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364760" y="3176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361"/>
                </a:solidFill>
                <a:latin typeface="Arial"/>
              </a:rPr>
              <a:t>问题二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224000" y="4005360"/>
            <a:ext cx="59040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试着用几个二字词语将每一层的感情基调和情节分别概括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613880" y="969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8361"/>
                </a:solidFill>
                <a:latin typeface="Arial"/>
              </a:rPr>
              <a:t>问题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63640" y="6129360"/>
            <a:ext cx="900000" cy="503280"/>
          </a:xfrm>
          <a:prstGeom prst="leftArrow">
            <a:avLst>
              <a:gd name="adj1" fmla="val 50000"/>
              <a:gd name="adj2" fmla="val 44707"/>
            </a:avLst>
          </a:prstGeom>
          <a:noFill/>
          <a:ln cap="rnd" w="442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20:21:49Z</dcterms:created>
  <dc:creator>szoec</dc:creator>
  <dc:description/>
  <cp:keywords/>
  <dc:language>en-US</dc:language>
  <cp:lastModifiedBy>zmj</cp:lastModifiedBy>
  <cp:lastPrinted>1899-12-30T00:00:00Z</cp:lastPrinted>
  <dcterms:modified xsi:type="dcterms:W3CDTF">2011-12-02T06:29:42Z</dcterms:modified>
  <cp:revision>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