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F182-BBA2-4221-B7D3-31021B2CE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F63A-C0A9-459F-AF2C-DDD2691B1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1ABA-4B20-40CA-9D94-8B3B6C679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896A-9547-4545-B584-E49393EB3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A52A5-9ED8-4CC2-8297-EAC5B6B6F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4CB23-B430-43DD-A103-86853D271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F6DBD-0E31-4779-8B3C-325E7DF50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2E868-BBED-45B7-998B-94544EE0D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A622D-05F6-489F-A60C-7B6D2EC17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79F26-EEFF-4D68-A76C-A81506F08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D2855-F8FB-407F-9193-B4EBA77C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6DA0-6EB9-43CB-B62C-6E6C7181B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4C558-7B9F-43F0-837D-5A904800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7E305-030F-4223-882C-D579204B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E38E7-34CD-4A82-A97F-C7E8718AC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792F5-A290-401D-BEA9-0EFD84927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AF8D1-FE5A-4A3B-A8D5-875D4CF31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65E9-BD23-4956-A1A2-6AB548C7D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ECA0-1720-4B4E-9FC4-1A095D5F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21C6-FE5D-457A-9B21-8EBC36480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E762-29D9-4180-A6C1-13CADABBF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CA95-CBAE-4659-9534-6710D7EE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3DB9-E544-4AA0-B909-22479BBE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B8DB-38AC-4063-A5A1-EB960BFC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3DA05-B6DD-4230-BE39-ED63678C2D6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DD377-BACA-4124-917C-9205725B1DF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308720" y="0"/>
            <a:ext cx="1835280" cy="15289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164360" y="909720"/>
            <a:ext cx="1041480" cy="21589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324000" y="4221000"/>
            <a:ext cx="1915920" cy="20606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68360" y="4005360"/>
            <a:ext cx="66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800000"/>
                </a:solidFill>
                <a:latin typeface="华文行楷"/>
                <a:ea typeface="华文行楷"/>
              </a:rPr>
              <a:t>聆 听 三 千 年 华 夏 先 民 吟 唱</a:t>
            </a:r>
            <a:br>
              <a:rPr sz="3600"/>
            </a:br>
            <a:r>
              <a:rPr b="1" i="1" lang="zh-CN" sz="3600" spc="-1" strike="noStrike">
                <a:solidFill>
                  <a:srgbClr val="800000"/>
                </a:solidFill>
                <a:latin typeface="华文行楷"/>
                <a:ea typeface="华文行楷"/>
              </a:rPr>
              <a:t>感 受 公 元 前 东 方 文 明 辉 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31720" y="70488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66"/>
                </a:solidFill>
                <a:latin typeface="Times New Roman"/>
              </a:rPr>
              <a:t>氓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 rot="5400000">
            <a:off x="-876240" y="1104480"/>
            <a:ext cx="4038480" cy="1828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诗经两首</a:t>
            </a:r>
            <a:endParaRPr b="0" lang="en-US" sz="2400" spc="-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桑之未落，其叶</a:t>
            </a:r>
            <a:r>
              <a:rPr b="1" lang="zh-CN" sz="3600" spc="-1" strike="noStrike" u="sng">
                <a:solidFill>
                  <a:srgbClr val="ff0066"/>
                </a:solidFill>
                <a:uFillTx/>
                <a:latin typeface="宋体"/>
              </a:rPr>
              <a:t>沃若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。</a:t>
            </a:r>
            <a:r>
              <a:rPr b="1" lang="zh-CN" sz="3600" spc="-1" strike="noStrike" u="sng">
                <a:solidFill>
                  <a:srgbClr val="ff0066"/>
                </a:solidFill>
                <a:uFillTx/>
                <a:latin typeface="宋体"/>
              </a:rPr>
              <a:t>于嗟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鸠兮，无食桑葚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于嗟女兮，无与士</a:t>
            </a:r>
            <a:r>
              <a:rPr b="1" lang="zh-CN" sz="3600" spc="-1" strike="noStrike" u="sng">
                <a:solidFill>
                  <a:srgbClr val="ff0066"/>
                </a:solidFill>
                <a:uFillTx/>
                <a:latin typeface="宋体"/>
              </a:rPr>
              <a:t>耽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！士之耽兮，犹可</a:t>
            </a:r>
            <a:r>
              <a:rPr b="1" lang="zh-CN" sz="3600" spc="-1" strike="noStrike" u="sng">
                <a:solidFill>
                  <a:srgbClr val="ff0066"/>
                </a:solidFill>
                <a:uFillTx/>
                <a:latin typeface="宋体"/>
              </a:rPr>
              <a:t>说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女之耽兮，不可</a:t>
            </a:r>
            <a:r>
              <a:rPr b="1" lang="zh-CN" sz="3600" spc="-1" strike="noStrike" u="sng">
                <a:solidFill>
                  <a:srgbClr val="ff0066"/>
                </a:solidFill>
                <a:uFillTx/>
                <a:latin typeface="宋体"/>
              </a:rPr>
              <a:t>说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920" y="4437000"/>
            <a:ext cx="91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9900ff"/>
                </a:solidFill>
                <a:latin typeface="Arial"/>
              </a:rPr>
              <a:t>桑树还没落叶的时候</a:t>
            </a:r>
            <a:r>
              <a:rPr b="1" lang="zh-CN" sz="3200" spc="-1" strike="noStrike">
                <a:solidFill>
                  <a:srgbClr val="99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9900ff"/>
                </a:solidFill>
                <a:latin typeface="Arial"/>
              </a:rPr>
              <a:t>它的叶子新鲜润泽。唉，斑鸠啊，不要贪吃桑葚别嘴馋。唉，女子呀，不要同男人沉溺于爱情。男子沉溺在爱情里，还可以脱身。女人沉溺在爱情里，就不能脱身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8000" y="1052640"/>
            <a:ext cx="4435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新鲜润泽的样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 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若”相当于“然”，译为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样子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12360" y="700200"/>
            <a:ext cx="88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叹词。于，通“吁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709440" y="2781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沉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89600" y="1773360"/>
            <a:ext cx="9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通“脱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06360" y="3357720"/>
            <a:ext cx="9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通“脱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15840" y="2997360"/>
            <a:ext cx="2923920" cy="130572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三章：劝诫女子不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太痴情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76320" y="0"/>
            <a:ext cx="914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桑之落矣，其黄而</a:t>
            </a:r>
            <a:r>
              <a:rPr b="1" lang="zh-CN" sz="3600" spc="-1" strike="noStrike" u="sng">
                <a:solidFill>
                  <a:srgbClr val="ff0066"/>
                </a:solidFill>
                <a:uFillTx/>
                <a:latin typeface="宋体"/>
              </a:rPr>
              <a:t>陨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。自我</a:t>
            </a:r>
            <a:r>
              <a:rPr b="1" lang="zh-CN" sz="3600" spc="-1" strike="noStrike" u="sng">
                <a:solidFill>
                  <a:srgbClr val="ff0066"/>
                </a:solidFill>
                <a:uFillTx/>
                <a:latin typeface="宋体"/>
              </a:rPr>
              <a:t>徂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尔，</a:t>
            </a:r>
            <a:r>
              <a:rPr b="1" lang="zh-CN" sz="3600" spc="-1" strike="noStrike" u="sng">
                <a:solidFill>
                  <a:srgbClr val="ff0066"/>
                </a:solidFill>
                <a:uFillTx/>
                <a:latin typeface="宋体"/>
              </a:rPr>
              <a:t>三岁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食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贫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淇水</a:t>
            </a:r>
            <a:r>
              <a:rPr b="1" lang="zh-CN" sz="3600" spc="-1" strike="noStrike" u="sng">
                <a:solidFill>
                  <a:srgbClr val="ff0066"/>
                </a:solidFill>
                <a:uFillTx/>
                <a:latin typeface="宋体"/>
              </a:rPr>
              <a:t>汤汤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，</a:t>
            </a:r>
            <a:r>
              <a:rPr b="1" lang="zh-CN" sz="3600" spc="-1" strike="noStrike" u="sng">
                <a:solidFill>
                  <a:srgbClr val="ff0066"/>
                </a:solidFill>
                <a:uFillTx/>
                <a:latin typeface="宋体"/>
              </a:rPr>
              <a:t>渐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车帷裳。女也不</a:t>
            </a:r>
            <a:r>
              <a:rPr b="1" lang="zh-CN" sz="3600" spc="-1" strike="noStrike" u="sng">
                <a:solidFill>
                  <a:srgbClr val="ff0066"/>
                </a:solidFill>
                <a:uFillTx/>
                <a:latin typeface="宋体"/>
              </a:rPr>
              <a:t>爽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，士</a:t>
            </a:r>
            <a:r>
              <a:rPr b="1" lang="zh-CN" sz="3600" spc="-1" strike="noStrike" u="sng">
                <a:solidFill>
                  <a:srgbClr val="ff0066"/>
                </a:solidFill>
                <a:uFillTx/>
                <a:latin typeface="宋体"/>
              </a:rPr>
              <a:t>贰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其行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士也</a:t>
            </a:r>
            <a:r>
              <a:rPr b="1" lang="zh-CN" sz="3600" spc="-1" strike="noStrike" u="sng">
                <a:solidFill>
                  <a:srgbClr val="ff0066"/>
                </a:solidFill>
                <a:uFillTx/>
                <a:latin typeface="宋体"/>
              </a:rPr>
              <a:t>罔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极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，二三其德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4920" y="4292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9900ff"/>
                </a:solidFill>
                <a:latin typeface="Arial"/>
              </a:rPr>
              <a:t>桑树萎谢，叶枯黄就落下。自从我嫁到你家，多年来过着贫苦的生活。淇水波涛滚滚送我回，水花打湿了车上的布幔。女子我也没有什么过错，是你男子行为却前后不一致了。男子你的爱情没有什么标准，感情一变再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0880" y="6094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飘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217840" y="692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往，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586920" y="549360"/>
            <a:ext cx="2530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指多年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三：古汉语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三”“六”“九”常指虚数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而非确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6360" y="162864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势很大的样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687760" y="119700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溅湿、浸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24360" y="270828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过错（屡试不爽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648320" y="228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53720" y="33577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39800" y="3357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标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443640" y="184464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专一，有二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27280" y="3284640"/>
            <a:ext cx="6516720" cy="6426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四章：控告男子移情别恋。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9144000" cy="33858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三岁为妇，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宋体"/>
              </a:rPr>
              <a:t>靡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室劳矣；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夙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兴夜寐，靡有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宋体"/>
              </a:rPr>
              <a:t>朝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矣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宋体"/>
              </a:rPr>
              <a:t>言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既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宋体"/>
              </a:rPr>
              <a:t>遂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矣，至于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宋体"/>
              </a:rPr>
              <a:t>暴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矣。兄弟不知，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宋体"/>
              </a:rPr>
              <a:t>咥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其笑矣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静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宋体"/>
              </a:rPr>
              <a:t>言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思之，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宋体"/>
              </a:rPr>
              <a:t>躬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自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宋体"/>
              </a:rPr>
              <a:t>悼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矣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4448160"/>
            <a:ext cx="876312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9900ff"/>
                </a:solidFill>
                <a:latin typeface="Arial"/>
              </a:rPr>
              <a:t>多年来做你的妻子，家里劳苦活儿没有不干的。早起晚睡，没有一天不是这样。（你的心愿）已经满足了，就凶恶起来了。我的兄弟不了解（我的处境），都讥笑我啊。静下心来想想，只有独自伤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30920" y="623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无，没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486920" y="54936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朝，一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1268280"/>
            <a:ext cx="25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助词，没有实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36200" y="22766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顺心、满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151080" y="1268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凶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959160" y="1197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79640" y="2997360"/>
            <a:ext cx="201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自身（躬逢其盛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48160" y="3716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伤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2565360"/>
            <a:ext cx="4465800" cy="5814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五章：回忆补叙多年苦楚、处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51280" y="476280"/>
            <a:ext cx="302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早（过去的，旧有的“夙愿”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45520" y="299736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助词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没有实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宋体"/>
              </a:rPr>
              <a:t>及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尔偕老，老使我怨。淇则有岸，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宋体"/>
              </a:rPr>
              <a:t>隰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则有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宋体"/>
              </a:rPr>
              <a:t>泮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宋体"/>
              </a:rPr>
              <a:t>总角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之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宋体"/>
              </a:rPr>
              <a:t>宴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，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言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笑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宋体"/>
              </a:rPr>
              <a:t>晏晏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。信誓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宋体"/>
              </a:rPr>
              <a:t>旦旦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，不思其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宋体"/>
              </a:rPr>
              <a:t>反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反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宋体"/>
              </a:rPr>
              <a:t>是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不思，亦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宋体"/>
              </a:rPr>
              <a:t>已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焉哉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4005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Arial"/>
              </a:rPr>
              <a:t>（原想）同你白头偕老，但（现在）白头偕老的心愿让我怨恨。淇水（再宽）总有岸，低湿的洼地（再大）也有个边。少年时一起愉快地玩耍，尽情地说笑。誓言是真挚诚恳的，没想到你会变心。违背誓言你不顾，那就从此算了吧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052240" y="5493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低湿的地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198920" y="609480"/>
            <a:ext cx="156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通“畔”，边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6920" y="549360"/>
            <a:ext cx="26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介词“同，和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476000" y="2133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快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767680" y="11970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形容快乐的样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77120" y="12682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诚恳的样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174080" y="1268280"/>
            <a:ext cx="196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违反、违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61080" y="28195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，指誓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348000" y="27813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止、了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020920" y="2514600"/>
            <a:ext cx="3856320" cy="11912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六章：今昔对比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感受和决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1341360"/>
            <a:ext cx="201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指少年时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>
            <a:lum bright="70000" contrast="-70000"/>
          </a:blip>
          <a:srcRect l="10566" t="2800" r="5531" b="984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556000" y="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cc"/>
                </a:solidFill>
                <a:latin typeface="Times New Roman"/>
              </a:rPr>
              <a:t>古代的年龄称谓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620640"/>
            <a:ext cx="9144000" cy="60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满周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襁褓；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~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孩提；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女孩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髫年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男孩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龆年；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幼年泛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总角；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岁以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黄口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即乃稚气未脱的少儿代称也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~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舞勺之年；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~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舞象之年；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岁（女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金钗之年；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岁（女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豆蔻年华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岁（女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及笄之年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>
            <a:lum bright="70000" contrast="-70000"/>
          </a:blip>
          <a:srcRect l="10566" t="2800" r="5531" b="984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0" y="0"/>
            <a:ext cx="8893080" cy="61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岁（男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志学之年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岁（女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碧玉年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八年华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岁（女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桃李年华；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岁（女）花信（开花时期）年华；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岁（男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弱冠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岁（男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而立之年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岁（男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惑之年、强壮之年；壮年时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春秋鼎盛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逾半百、知非之年、知命之年、艾服之年、大衍之年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花甲之年、耳顺之年、杖乡之年；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古稀之年、杖国之年、致事（致仕）之年、致政之年，从心之年、悬车之年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0~9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耄耋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 d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之年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鲐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Tahoma"/>
              </a:rPr>
              <a:t>老人身上生斑如鲐鱼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之年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期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又可称为“人瑞”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>
            <a:lum bright="70000" contrast="-70000"/>
          </a:blip>
          <a:srcRect l="10566" t="2800" r="5531" b="9843"/>
          <a:stretch/>
        </p:blipFill>
        <p:spPr>
          <a:xfrm>
            <a:off x="36360" y="-1584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836720" y="260280"/>
            <a:ext cx="22860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Times New Roman"/>
              </a:rPr>
              <a:t>结构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4000" y="620640"/>
            <a:ext cx="461952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章：求婚、许婚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赋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章：相思、结婚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赋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章：劝诫女子不要痴情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比、兴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四章：控告男子移情别恋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比、兴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五章：补叙多年苦楚、处境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赋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六章：今昔对比的感受和决心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赋、比、兴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076720" y="1197000"/>
            <a:ext cx="152640" cy="914400"/>
          </a:xfrm>
          <a:custGeom>
            <a:avLst/>
            <a:gdLst>
              <a:gd name="textAreaLeft" fmla="*/ 0 w 152640"/>
              <a:gd name="textAreaRight" fmla="*/ 5508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076720" y="3141720"/>
            <a:ext cx="223920" cy="1655640"/>
          </a:xfrm>
          <a:custGeom>
            <a:avLst/>
            <a:gdLst>
              <a:gd name="textAreaLeft" fmla="*/ 0 w 223920"/>
              <a:gd name="textAreaRight" fmla="*/ 80640 w 22392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788000" y="5805360"/>
            <a:ext cx="609480" cy="111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292720" y="14130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恋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64000" y="3573360"/>
            <a:ext cx="11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婚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508720" y="55166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决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372360" y="1628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45080" y="3860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588000" y="580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20000" y="1125360"/>
            <a:ext cx="17985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热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幸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020000" y="3286080"/>
            <a:ext cx="1009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沉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怨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236000" y="5229360"/>
            <a:ext cx="1152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清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刚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48360" y="26028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1969d"/>
                </a:solidFill>
                <a:latin typeface="Arial"/>
                <a:ea typeface="楷体_GB2312"/>
              </a:rPr>
              <a:t>情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732720" y="189000"/>
            <a:ext cx="20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1969d"/>
                </a:solidFill>
                <a:latin typeface="Arial"/>
                <a:ea typeface="楷体_GB2312"/>
              </a:rPr>
              <a:t>感情基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236000" y="765000"/>
            <a:ext cx="361800" cy="543240"/>
          </a:xfrm>
          <a:custGeom>
            <a:avLst/>
            <a:gdLst>
              <a:gd name="textAreaLeft" fmla="*/ 0 w 361800"/>
              <a:gd name="textAreaRight" fmla="*/ 362160 w 361800"/>
              <a:gd name="textAreaTop" fmla="*/ 0 h 543240"/>
              <a:gd name="textAreaBottom" fmla="*/ 543600 h 5432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508720" y="981000"/>
            <a:ext cx="360360" cy="617760"/>
          </a:xfrm>
          <a:custGeom>
            <a:avLst/>
            <a:gdLst>
              <a:gd name="textAreaLeft" fmla="*/ 0 w 360360"/>
              <a:gd name="textAreaRight" fmla="*/ 360720 w 360360"/>
              <a:gd name="textAreaTop" fmla="*/ 0 h 617760"/>
              <a:gd name="textAreaBottom" fmla="*/ 618120 h 6177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总结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>
            <a:lum bright="70000" contrast="-70000"/>
          </a:blip>
          <a:srcRect l="10566" t="2800" r="5531" b="9843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0" y="44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问题探究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" y="152388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" y="251460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360" y="692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提问：第三章和第四章在总结自己的生活经验和概说自己的婚后生活前，先用了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桑之未落，其叶沃若。于嗟鸠兮，无食桑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”、“桑之落矣，其黄而陨”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等诗句，这属于一种什么样的艺术手法？请简要分析一下这种表现手法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9480" y="51055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05360" y="3286080"/>
            <a:ext cx="1278000" cy="6426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比兴手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30760" y="3357720"/>
            <a:ext cx="403200" cy="6426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比，即比喻；兴，即起兴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41497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</a:rPr>
              <a:t>桑之未落，其叶沃若。于嗟鸠兮，无食桑葚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”、“桑之落矣，其黄而陨”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等诗句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</a:rPr>
              <a:t>以桑起兴，引出下文表达感情生活的诗句</a:t>
            </a:r>
            <a:r>
              <a:rPr b="1" lang="en-US" sz="3600" spc="-1" strike="noStrike">
                <a:solidFill>
                  <a:srgbClr val="0000ff"/>
                </a:solidFill>
                <a:latin typeface="楷体_GB2312"/>
              </a:rPr>
              <a:t>， 激发读者的联想，产生形象鲜明、诗意盎然的艺术效果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>
            <a:lum bright="70000" contrast="-70000"/>
          </a:blip>
          <a:srcRect l="10566" t="2800" r="5531" b="984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0" y="333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楷体_GB2312"/>
              </a:rPr>
              <a:t>同时，这几句诗又以桑设喻，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</a:rPr>
              <a:t>以桑叶由鲜嫩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</a:rPr>
              <a:t>到枯黄的变化来比喻爱情生活由幸福到痛苦的变化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24922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其中，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宋体"/>
              </a:rPr>
              <a:t>其叶沃若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</a:rPr>
              <a:t>喻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</a:rPr>
              <a:t>女子青春年华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</a:rPr>
              <a:t>；以诱人的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桑葚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</a:rPr>
              <a:t>比喻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</a:rPr>
              <a:t>令人沉醉的爱情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</a:rPr>
              <a:t>，把恋爱中的少女比做贪食而快乐的斑鸠；以“鸠”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宋体"/>
              </a:rPr>
              <a:t>无食桑葚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</a:rPr>
              <a:t>喻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</a:rPr>
              <a:t>女子不要对男子过分迷恋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</a:rPr>
              <a:t>；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Times New Roman"/>
              </a:rPr>
              <a:t>桑之落矣，其黄而陨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</a:rPr>
              <a:t>喻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</a:rPr>
              <a:t>女子年长色衰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924360" y="260280"/>
            <a:ext cx="485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诗中女子的形象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997440" y="1125360"/>
            <a:ext cx="516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一个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对爱情与幸福有诚挚的追求、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勤劳能干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、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温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924360" y="3357720"/>
            <a:ext cx="495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无辜被弃的无奈、伤心，但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刚强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的女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60948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一、 简介《诗经》： </a:t>
            </a:r>
            <a:br>
              <a:rPr sz="4400"/>
            </a:br>
            <a:r>
              <a:rPr b="1" lang="zh-CN" sz="4400" spc="-1" strike="noStrike">
                <a:solidFill>
                  <a:srgbClr val="0000ff"/>
                </a:solidFill>
                <a:latin typeface="Brush Script MT"/>
                <a:ea typeface="华文隶书"/>
              </a:rPr>
              <a:t>《诗经》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是我国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最早的一部诗歌总集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。反映了公元前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11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世纪西周初年至公元前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6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世纪春秋中期的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500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年间的古代社会生活。原本只称《诗》，是儒家的经典之一。汉时被尊为儒家经典，始称《诗经》，总共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305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篇，又称《诗三百》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>
            <a:lum bright="70000" contrast="-70000"/>
          </a:blip>
          <a:srcRect l="10566" t="2800" r="5531" b="984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4495680" y="0"/>
            <a:ext cx="464832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0" y="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归纳小结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4000" y="54936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本诗的主题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24000" y="11970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6600"/>
                </a:solidFill>
                <a:latin typeface="Times New Roman"/>
                <a:ea typeface="华文行楷"/>
              </a:rPr>
              <a:t>诗歌叙述了女子从恋爱到被遗弃的经过，批判男子的负心，揭示当时不合理的婚姻带给妇女深刻的痛苦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0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666880" y="304920"/>
            <a:ext cx="3630600" cy="825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hé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505320" y="1371600"/>
            <a:ext cx="15843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乘</a:t>
            </a:r>
            <a:endParaRPr b="0" lang="en-US" sz="24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43" name=""/>
          <p:cNvSpPr/>
          <p:nvPr/>
        </p:nvSpPr>
        <p:spPr>
          <a:xfrm>
            <a:off x="103320" y="2316240"/>
            <a:ext cx="8713800" cy="581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ffff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驾，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03320" y="3078000"/>
            <a:ext cx="8713800" cy="581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服牛乘马，引重致远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易经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2120" y="3809880"/>
            <a:ext cx="8381880" cy="581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乘犊车，从吏卒，交游士林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三国志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3320" y="4572000"/>
            <a:ext cx="8713800" cy="581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2   </a:t>
            </a: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登上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乘彼垝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03320" y="5394240"/>
            <a:ext cx="8713800" cy="1323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ffff"/>
              </a:buClr>
              <a:buFont typeface="Times New Roman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趁着，利用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如：虽有智慧，不如乘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因利乘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2514600" y="30492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shè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809880" y="1523880"/>
            <a:ext cx="10796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乘</a:t>
            </a:r>
            <a:endParaRPr b="0" lang="en-US" sz="2400" spc="-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  <p:sp>
        <p:nvSpPr>
          <p:cNvPr id="250" name=""/>
          <p:cNvSpPr/>
          <p:nvPr/>
        </p:nvSpPr>
        <p:spPr>
          <a:xfrm>
            <a:off x="179280" y="2803680"/>
            <a:ext cx="8713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ffff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辆，古时四匹马拉一辆车为一乘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a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于是为长安君约车百乘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《战国策》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79280" y="4479840"/>
            <a:ext cx="8713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ffff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以四计数的事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以乘韦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左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468360" y="1125360"/>
            <a:ext cx="8785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buClr>
                <a:srgbClr val="ffffff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顺风倒下、倒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如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   “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风靡一时”、“所向披靡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吾视其辙乱，望其旗靡，故逐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7343640" y="333360"/>
            <a:ext cx="14385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靡</a:t>
            </a:r>
            <a:endParaRPr b="0" lang="en-US" sz="2400" spc="-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  <p:sp>
        <p:nvSpPr>
          <p:cNvPr id="254" name=""/>
          <p:cNvSpPr/>
          <p:nvPr/>
        </p:nvSpPr>
        <p:spPr>
          <a:xfrm>
            <a:off x="179280" y="189000"/>
            <a:ext cx="38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一、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mǐ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9640" y="3357720"/>
            <a:ext cx="727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无、没有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如    “靡日不思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08000" y="5518080"/>
            <a:ext cx="33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二、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m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629080" y="5734080"/>
            <a:ext cx="54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浪费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如    “靡费”“奢靡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12720" y="4870440"/>
            <a:ext cx="59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cccc00"/>
                </a:solidFill>
                <a:latin typeface="Times New Roman"/>
              </a:rPr>
              <a:t>华丽、美好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如“靡丽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12720" y="414972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cccc00"/>
                </a:solidFill>
                <a:latin typeface="Times New Roman"/>
              </a:rPr>
              <a:t>退却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如“左右皆靡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348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-33480" y="-95400"/>
            <a:ext cx="9139320" cy="38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《诗经》按其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表现内容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可分为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“风”“雅”“颂”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三部分。 </a:t>
            </a:r>
            <a:br>
              <a:rPr sz="3600"/>
            </a:b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“风”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又称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15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国风，大都是民间的歌谣，最富于思想意义和艺术价值，共</a:t>
            </a:r>
            <a:r>
              <a:rPr b="1" lang="zh-CN" sz="3600" spc="-1" strike="noStrike">
                <a:solidFill>
                  <a:srgbClr val="9900ff"/>
                </a:solidFill>
                <a:latin typeface="宋体"/>
              </a:rPr>
              <a:t>160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篇。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它和屈原的</a:t>
            </a:r>
            <a:r>
              <a:rPr b="1" lang="zh-CN" sz="3600" spc="-1" strike="noStrike">
                <a:solidFill>
                  <a:srgbClr val="008000"/>
                </a:solidFill>
                <a:latin typeface="宋体"/>
              </a:rPr>
              <a:t>《离骚》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并称为</a:t>
            </a:r>
            <a:r>
              <a:rPr b="1" lang="zh-CN" sz="3600" spc="-1" strike="noStrike">
                <a:solidFill>
                  <a:srgbClr val="008000"/>
                </a:solidFill>
                <a:latin typeface="宋体"/>
              </a:rPr>
              <a:t>“风骚”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，本用来指两大文学流派，后人多用来指文人，如“迁客骚人”。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“雅”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分大雅和小雅，是西周王畿（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jī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）地区的正声雅乐，用于诸侯朝会和贵族宴享，它是宫廷乐曲歌词，是</a:t>
            </a:r>
            <a:r>
              <a:rPr b="1" lang="zh-CN" sz="3600" spc="-1" strike="noStrike">
                <a:solidFill>
                  <a:srgbClr val="9900ff"/>
                </a:solidFill>
                <a:latin typeface="宋体"/>
              </a:rPr>
              <a:t>正统音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，共</a:t>
            </a:r>
            <a:r>
              <a:rPr b="1" lang="zh-CN" sz="3600" spc="-1" strike="noStrike">
                <a:solidFill>
                  <a:srgbClr val="9900ff"/>
                </a:solidFill>
                <a:latin typeface="宋体"/>
              </a:rPr>
              <a:t>105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篇。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“颂”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分周颂、鲁颂、商颂，是统治阶级宗庙祭祀的舞曲歌辞，共</a:t>
            </a:r>
            <a:r>
              <a:rPr b="1" lang="zh-CN" sz="3600" spc="-1" strike="noStrike">
                <a:solidFill>
                  <a:srgbClr val="9900ff"/>
                </a:solidFill>
                <a:latin typeface="宋体"/>
              </a:rPr>
              <a:t>40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篇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08000" y="44280"/>
            <a:ext cx="8763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《诗经》按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表现手法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来分可分为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赋、比、兴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三类。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赋，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指铺陈排比， 即诗人把思想感情及其有关的事物平铺直叙地表达出来，使诗歌显得整齐匀称，有气势。</a:t>
            </a:r>
            <a:br>
              <a:rPr sz="4800"/>
            </a:b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比，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即比喻，是《诗经》开创的修辞方法。 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兴，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即由此物引起他物。有引起联想，烘托渲染气氛的作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360" y="5086440"/>
            <a:ext cx="910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朱熹解释：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者，敷也，敷陈其事而直言之者也；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者，以彼物比此物也；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兴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者，先言他物以引起所咏之辞也”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>
            <a:lum bright="70000" contrast="-70000"/>
          </a:blip>
          <a:srcRect l="10566" t="2800" r="5531" b="984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0"/>
            <a:ext cx="982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儒家奉有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“四书”、“五经”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六艺”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5000"/>
            <a:ext cx="89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四书”：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《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大学》《中庸》《论语》《孟子》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2060640"/>
            <a:ext cx="89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五经”：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诗》《书》《礼》《易》《春秋》（ 加上《乐》为“六经 ”（六艺）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400536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诗经六义：</a:t>
            </a:r>
            <a:r>
              <a:rPr b="1" lang="zh-CN" sz="4000" spc="-1" strike="noStrike">
                <a:solidFill>
                  <a:srgbClr val="008000"/>
                </a:solidFill>
                <a:latin typeface="Times New Roman"/>
              </a:rPr>
              <a:t>风、雅、颂、赋、比、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六艺：</a:t>
            </a: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《</a:t>
            </a:r>
            <a:r>
              <a:rPr b="1" lang="zh-CN" sz="4000" spc="-1" strike="noStrike">
                <a:solidFill>
                  <a:srgbClr val="6600ff"/>
                </a:solidFill>
                <a:latin typeface="Times New Roman"/>
              </a:rPr>
              <a:t>诗</a:t>
            </a: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》《</a:t>
            </a:r>
            <a:r>
              <a:rPr b="1" lang="zh-CN" sz="4000" spc="-1" strike="noStrike">
                <a:solidFill>
                  <a:srgbClr val="6600ff"/>
                </a:solidFill>
                <a:latin typeface="Times New Roman"/>
              </a:rPr>
              <a:t>书</a:t>
            </a: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》《</a:t>
            </a:r>
            <a:r>
              <a:rPr b="1" lang="zh-CN" sz="4000" spc="-1" strike="noStrike">
                <a:solidFill>
                  <a:srgbClr val="6600ff"/>
                </a:solidFill>
                <a:latin typeface="Times New Roman"/>
              </a:rPr>
              <a:t>礼</a:t>
            </a: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》《</a:t>
            </a:r>
            <a:r>
              <a:rPr b="1" lang="zh-CN" sz="4000" spc="-1" strike="noStrike">
                <a:solidFill>
                  <a:srgbClr val="6600ff"/>
                </a:solidFill>
                <a:latin typeface="Times New Roman"/>
              </a:rPr>
              <a:t>易</a:t>
            </a: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》《</a:t>
            </a:r>
            <a:r>
              <a:rPr b="1" lang="zh-CN" sz="4000" spc="-1" strike="noStrike">
                <a:solidFill>
                  <a:srgbClr val="6600ff"/>
                </a:solidFill>
                <a:latin typeface="Times New Roman"/>
              </a:rPr>
              <a:t>乐</a:t>
            </a: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》《</a:t>
            </a:r>
            <a:r>
              <a:rPr b="1" lang="zh-CN" sz="4000" spc="-1" strike="noStrike">
                <a:solidFill>
                  <a:srgbClr val="6600ff"/>
                </a:solidFill>
                <a:latin typeface="Times New Roman"/>
              </a:rPr>
              <a:t>春秋</a:t>
            </a: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六艺：</a:t>
            </a:r>
            <a:r>
              <a:rPr b="1" lang="zh-CN" sz="4000" spc="-1" strike="noStrike">
                <a:solidFill>
                  <a:srgbClr val="3366cc"/>
                </a:solidFill>
                <a:latin typeface="Times New Roman"/>
              </a:rPr>
              <a:t>礼、乐、射、御、书、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89154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1440"/>
            <a:ext cx="9037800" cy="49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诗经的内容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、对苦难生活的倾诉和悲叹，对繁重徭役、征役的愤慨和不平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、描述劳动情景的农歌和牧歌，感情真挚、格调清新的恋歌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、揭露社会矛盾和政治黑暗的讽喻诗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、反映周王朝发展的史诗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402920" y="241200"/>
            <a:ext cx="3706920" cy="661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字音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氓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蚩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愆期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将子无怒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垝垣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载笑载言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咎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于嗟鸠兮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犹可说也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92720" y="241200"/>
            <a:ext cx="370692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陨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徂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汤汤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渐车帷裳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裳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士贰其行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靡室劳矣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夙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咥其笑矣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隰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偕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484360" y="1052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é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56000" y="170028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h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32000" y="234936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qiā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51280" y="29973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qiā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87640" y="371628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ɡuǐyu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95640" y="436572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zà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5600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ji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24360" y="566100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95640" y="640080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u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72360" y="83664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yǔ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372360" y="141300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77080" y="1916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hā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812000" y="249228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jiā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72360" y="30686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há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846920" y="357336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í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885080" y="407664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372360" y="472428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12000" y="52293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43640" y="57340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445080" y="6237360"/>
            <a:ext cx="10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i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76320"/>
            <a:ext cx="9144000" cy="36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氓之蚩蚩，抱布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贸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丝。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宋体"/>
              </a:rPr>
              <a:t>匪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来贸丝，来即我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送子涉淇，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宋体"/>
              </a:rPr>
              <a:t>至于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顿丘。匪我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宋体"/>
              </a:rPr>
              <a:t>愆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期，子无良媒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宋体"/>
              </a:rPr>
              <a:t>将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子无怒，秋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宋体"/>
              </a:rPr>
              <a:t>以为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653000"/>
            <a:ext cx="90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9900ff"/>
                </a:solidFill>
                <a:latin typeface="Arial"/>
              </a:rPr>
              <a:t>他忠厚老实</a:t>
            </a:r>
            <a:r>
              <a:rPr b="1" lang="en-US" sz="3200" spc="-1" strike="noStrike">
                <a:solidFill>
                  <a:srgbClr val="9900ff"/>
                </a:solidFill>
                <a:latin typeface="Arial"/>
              </a:rPr>
              <a:t>，抱着布来换丝。但他并不是真的来换丝，而是来找我商量婚事的。我曾送你渡过淇水，直送到顿丘才告辞。不是我故意拖延时间，而是你没有找好媒人。请你不要生我气，就把秋天订为婚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32480" y="55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924800" y="609480"/>
            <a:ext cx="17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通“非”，不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060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10526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古义：由一个动词“至”和一个介词“于” 组成，译为“直到，到了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今义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表示达到某种程度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表示另提一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99080" y="2349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拖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35956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愿，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95480" y="3657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42120" y="3672000"/>
            <a:ext cx="160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把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当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27640" y="2997360"/>
            <a:ext cx="4572000" cy="64260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一章：求婚、许婚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60720" y="620640"/>
            <a:ext cx="151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交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cc00"/>
                </a:solidFill>
                <a:latin typeface="宋体"/>
              </a:rPr>
              <a:t>乘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彼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宋体"/>
              </a:rPr>
              <a:t>垝垣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，以望复关。不见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宋体"/>
              </a:rPr>
              <a:t>复关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，泣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宋体"/>
              </a:rPr>
              <a:t>涕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涟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既见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宋体"/>
              </a:rPr>
              <a:t>复关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，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宋体"/>
              </a:rPr>
              <a:t>载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笑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宋体"/>
              </a:rPr>
              <a:t>载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言。尔卜尔筮，体无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咎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言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以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宋体"/>
              </a:rPr>
              <a:t>尔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车来，以我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宋体"/>
              </a:rPr>
              <a:t>贿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迁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8000" y="4292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9900ff"/>
                </a:solidFill>
                <a:latin typeface="Arial"/>
              </a:rPr>
              <a:t>我曾登上那倒塌的墙，遥望那复关。没看见复关的情郎，眼泪簌簌地掉下来。看见情郎从复关来，有笑有说心欢畅。你用龟板占卜</a:t>
            </a:r>
            <a:r>
              <a:rPr b="1" lang="zh-CN" sz="3200" spc="-1" strike="noStrike">
                <a:solidFill>
                  <a:srgbClr val="99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9900ff"/>
                </a:solidFill>
                <a:latin typeface="Arial"/>
              </a:rPr>
              <a:t>你用蓍草占卦</a:t>
            </a:r>
            <a:r>
              <a:rPr b="1" lang="zh-CN" sz="3200" spc="-1" strike="noStrike">
                <a:solidFill>
                  <a:srgbClr val="99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9900ff"/>
                </a:solidFill>
                <a:latin typeface="Arial"/>
              </a:rPr>
              <a:t>没有不吉利的征兆。你用车来接我，我带上财物嫁给你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62280" y="623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倒塌的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14320" y="7002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借代的修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7320" y="12682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借代的修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478640" y="623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眼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02240" y="2276640"/>
            <a:ext cx="194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动词词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无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22800" y="2728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28120" y="2781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财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81560" y="3429000"/>
            <a:ext cx="662400" cy="70344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第二章：相思、结婚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40360" y="2276640"/>
            <a:ext cx="230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灾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咎由自取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8T15:19:32Z</dcterms:created>
  <dc:creator>Lenovo User</dc:creator>
  <dc:description/>
  <cp:keywords/>
  <dc:language>en-US</dc:language>
  <cp:lastModifiedBy>admin</cp:lastModifiedBy>
  <cp:lastPrinted>1899-12-30T00:00:00Z</cp:lastPrinted>
  <dcterms:modified xsi:type="dcterms:W3CDTF">2013-12-17T00:59:35Z</dcterms:modified>
  <cp:revision>6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