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6.jpeg" ContentType="image/jpeg"/>
  <Override PartName="/ppt/media/image24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8.gif" ContentType="image/gif"/>
  <Override PartName="/ppt/media/image18.jpeg" ContentType="image/jpeg"/>
  <Override PartName="/ppt/media/image5.gif" ContentType="image/gif"/>
  <Override PartName="/ppt/media/image7.jpeg" ContentType="image/jpeg"/>
  <Override PartName="/ppt/media/image28.jpeg" ContentType="image/jpeg"/>
  <Override PartName="/ppt/media/image6.png" ContentType="image/png"/>
  <Override PartName="/ppt/media/image3.png" ContentType="image/png"/>
  <Override PartName="/ppt/media/image11.wmf" ContentType="image/x-wmf"/>
  <Override PartName="/ppt/media/image13.jpeg" ContentType="image/jpeg"/>
  <Override PartName="/ppt/media/image30.jpeg" ContentType="image/jpeg"/>
  <Override PartName="/ppt/media/image20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5.wmf" ContentType="image/x-wmf"/>
  <Override PartName="/ppt/media/image22.jpeg" ContentType="image/jpeg"/>
  <Override PartName="/ppt/media/image9.gif" ContentType="image/gif"/>
  <Override PartName="/ppt/media/image16.jpeg" ContentType="image/jpeg"/>
  <Override PartName="/ppt/media/image32.jpeg" ContentType="image/jpeg"/>
  <Override PartName="/ppt/media/image17.png" ContentType="image/png"/>
  <Override PartName="/ppt/media/image19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FBA2-BACE-4C87-B626-69B153B7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478B-B3F3-4EBA-BF47-C69DE1AA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76E8-60BD-4450-A40E-AFCBB2567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9A47-269A-4E3B-9D15-F554FD32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C976-C95A-4421-B20A-519557A7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1CF26-BB04-40E6-911C-6F9B0A9A8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AC7B-BD20-4B07-8CA5-5E7EA032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3639-D4BD-44EA-AF10-BF7371F7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35930-597E-4637-BD10-724F2756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9FB9-88D7-4212-ABAD-95E5A9A5C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C694-5D29-4F78-8DA1-321A86C7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0FC-6164-4F29-9235-3788F358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23B5-F8BB-4D0B-8981-7DAA5EA0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3882-1AF8-4B29-80BA-C65891F7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EC1A-EFCC-4875-A2DA-B44470DA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A5531-9677-4C2B-B2C6-BCAB26FB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1A87-0E00-48A2-9908-42E6786D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C319-0323-4A7D-86F4-9D137839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624D-8532-46B7-948C-477A2597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25A-7DD0-47A1-8894-A1AA580A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7DF4-D2C7-4A11-A0A4-288E8533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CE4-BF5D-431A-B375-763B1999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BB94-505B-4611-8B17-CAC83A96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B70-28A1-4FA5-B6A1-94971994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531A-BAF8-4819-BCE1-C7C0C72A6371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3E9D-F3F0-4D01-A931-D6B6F932AC92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.xml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2.png"/><Relationship Id="rId3" Type="http://schemas.openxmlformats.org/officeDocument/2006/relationships/slide" Target="slide1.xml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.xml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1.xml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slide1.xml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" Target="slide1.xml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" Target="slide1.xml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" Target="slide1.xml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.xml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1.xml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.xml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1.xml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" Target="slide1.xml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" Target="slide1.xml"/><Relationship Id="rId3" Type="http://schemas.openxmlformats.org/officeDocument/2006/relationships/image" Target="../media/image8.gif"/><Relationship Id="rId4" Type="http://schemas.openxmlformats.org/officeDocument/2006/relationships/image" Target="../media/image10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slide1.xml"/><Relationship Id="rId3" Type="http://schemas.openxmlformats.org/officeDocument/2006/relationships/image" Target="../media/image8.gif"/><Relationship Id="rId4" Type="http://schemas.openxmlformats.org/officeDocument/2006/relationships/image" Target="../media/image10.png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524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234936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诗经 </a:t>
            </a:r>
            <a:r>
              <a:rPr b="1" lang="zh-CN" sz="80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· </a:t>
            </a:r>
            <a:r>
              <a:rPr b="1" lang="zh-CN" sz="80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卫风 </a:t>
            </a:r>
            <a:r>
              <a:rPr b="1" lang="zh-CN" sz="80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· </a:t>
            </a:r>
            <a:r>
              <a:rPr b="1" lang="zh-CN" sz="80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氓</a:t>
            </a:r>
            <a:endParaRPr b="0" lang="en-US" sz="8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2556000" cy="533520"/>
          </a:xfrm>
          <a:custGeom>
            <a:avLst/>
            <a:gdLst>
              <a:gd name="textAreaLeft" fmla="*/ 34560 w 2556000"/>
              <a:gd name="textAreaRight" fmla="*/ 2521440 w 25560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03427" h="21600">
                <a:moveTo>
                  <a:pt x="0" y="0"/>
                </a:moveTo>
                <a:lnTo>
                  <a:pt x="103427" y="0"/>
                </a:lnTo>
                <a:lnTo>
                  <a:pt x="103427" y="21600"/>
                </a:lnTo>
                <a:lnTo>
                  <a:pt x="0" y="21600"/>
                </a:lnTo>
                <a:close/>
              </a:path>
              <a:path fill="lightenLess" w="103427" h="21600">
                <a:moveTo>
                  <a:pt x="0" y="0"/>
                </a:moveTo>
                <a:lnTo>
                  <a:pt x="103427" y="0"/>
                </a:lnTo>
                <a:lnTo>
                  <a:pt x="102027" y="1400"/>
                </a:lnTo>
                <a:lnTo>
                  <a:pt x="1400" y="1400"/>
                </a:lnTo>
                <a:close/>
              </a:path>
              <a:path fill="darken" w="103427" h="21600">
                <a:moveTo>
                  <a:pt x="103427" y="0"/>
                </a:moveTo>
                <a:lnTo>
                  <a:pt x="103427" y="21600"/>
                </a:lnTo>
                <a:lnTo>
                  <a:pt x="102027" y="20200"/>
                </a:lnTo>
                <a:lnTo>
                  <a:pt x="102027" y="1400"/>
                </a:lnTo>
                <a:close/>
              </a:path>
              <a:path fill="darkenLess" w="103427" h="21600">
                <a:moveTo>
                  <a:pt x="1034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2027" y="20200"/>
                </a:lnTo>
                <a:close/>
              </a:path>
              <a:path fill="lighten" w="1034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温故复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lastslide"/>
          </p:cNvPr>
          <p:cNvSpPr/>
          <p:nvPr/>
        </p:nvSpPr>
        <p:spPr>
          <a:xfrm>
            <a:off x="4500720" y="6324480"/>
            <a:ext cx="2663640" cy="533520"/>
          </a:xfrm>
          <a:custGeom>
            <a:avLst/>
            <a:gdLst>
              <a:gd name="textAreaLeft" fmla="*/ 34560 w 2663640"/>
              <a:gd name="textAreaRight" fmla="*/ 2629080 w 26636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07782" h="21600">
                <a:moveTo>
                  <a:pt x="0" y="0"/>
                </a:moveTo>
                <a:lnTo>
                  <a:pt x="107782" y="0"/>
                </a:lnTo>
                <a:lnTo>
                  <a:pt x="107782" y="21600"/>
                </a:lnTo>
                <a:lnTo>
                  <a:pt x="0" y="21600"/>
                </a:lnTo>
                <a:close/>
              </a:path>
              <a:path fill="lightenLess" w="107782" h="21600">
                <a:moveTo>
                  <a:pt x="0" y="0"/>
                </a:moveTo>
                <a:lnTo>
                  <a:pt x="107782" y="0"/>
                </a:lnTo>
                <a:lnTo>
                  <a:pt x="106382" y="1400"/>
                </a:lnTo>
                <a:lnTo>
                  <a:pt x="1400" y="1400"/>
                </a:lnTo>
                <a:close/>
              </a:path>
              <a:path fill="darken" w="107782" h="21600">
                <a:moveTo>
                  <a:pt x="107782" y="0"/>
                </a:moveTo>
                <a:lnTo>
                  <a:pt x="107782" y="21600"/>
                </a:lnTo>
                <a:lnTo>
                  <a:pt x="106382" y="20200"/>
                </a:lnTo>
                <a:lnTo>
                  <a:pt x="106382" y="1400"/>
                </a:lnTo>
                <a:close/>
              </a:path>
              <a:path fill="darkenLess" w="107782" h="21600">
                <a:moveTo>
                  <a:pt x="1077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2" y="20200"/>
                </a:lnTo>
                <a:close/>
              </a:path>
              <a:path fill="lighten" w="1077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本课小结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lastslide"/>
          </p:cNvPr>
          <p:cNvSpPr/>
          <p:nvPr/>
        </p:nvSpPr>
        <p:spPr>
          <a:xfrm>
            <a:off x="2124000" y="6324480"/>
            <a:ext cx="2524320" cy="533520"/>
          </a:xfrm>
          <a:custGeom>
            <a:avLst/>
            <a:gdLst>
              <a:gd name="textAreaLeft" fmla="*/ 34560 w 2524320"/>
              <a:gd name="textAreaRight" fmla="*/ 2489760 w 2524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02145" h="21600">
                <a:moveTo>
                  <a:pt x="0" y="0"/>
                </a:moveTo>
                <a:lnTo>
                  <a:pt x="102145" y="0"/>
                </a:lnTo>
                <a:lnTo>
                  <a:pt x="102145" y="21600"/>
                </a:lnTo>
                <a:lnTo>
                  <a:pt x="0" y="21600"/>
                </a:lnTo>
                <a:close/>
              </a:path>
              <a:path fill="lightenLess" w="102145" h="21600">
                <a:moveTo>
                  <a:pt x="0" y="0"/>
                </a:moveTo>
                <a:lnTo>
                  <a:pt x="102145" y="0"/>
                </a:lnTo>
                <a:lnTo>
                  <a:pt x="100745" y="1400"/>
                </a:lnTo>
                <a:lnTo>
                  <a:pt x="1400" y="1400"/>
                </a:lnTo>
                <a:close/>
              </a:path>
              <a:path fill="darken" w="102145" h="21600">
                <a:moveTo>
                  <a:pt x="102145" y="0"/>
                </a:moveTo>
                <a:lnTo>
                  <a:pt x="102145" y="21600"/>
                </a:lnTo>
                <a:lnTo>
                  <a:pt x="100745" y="20200"/>
                </a:lnTo>
                <a:lnTo>
                  <a:pt x="100745" y="1400"/>
                </a:lnTo>
                <a:close/>
              </a:path>
              <a:path fill="darkenLess" w="102145" h="21600">
                <a:moveTo>
                  <a:pt x="102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745" y="20200"/>
                </a:lnTo>
                <a:close/>
              </a:path>
              <a:path fill="lighten" w="102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对比阅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lastslide"/>
          </p:cNvPr>
          <p:cNvSpPr/>
          <p:nvPr/>
        </p:nvSpPr>
        <p:spPr>
          <a:xfrm>
            <a:off x="2195640" y="0"/>
            <a:ext cx="2520720" cy="533520"/>
          </a:xfrm>
          <a:custGeom>
            <a:avLst/>
            <a:gdLst>
              <a:gd name="textAreaLeft" fmla="*/ 34560 w 2520720"/>
              <a:gd name="textAreaRight" fmla="*/ 2486160 w 252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01999" h="21600">
                <a:moveTo>
                  <a:pt x="0" y="0"/>
                </a:moveTo>
                <a:lnTo>
                  <a:pt x="101999" y="0"/>
                </a:lnTo>
                <a:lnTo>
                  <a:pt x="101999" y="21600"/>
                </a:lnTo>
                <a:lnTo>
                  <a:pt x="0" y="21600"/>
                </a:lnTo>
                <a:close/>
              </a:path>
              <a:path fill="lightenLess" w="101999" h="21600">
                <a:moveTo>
                  <a:pt x="0" y="0"/>
                </a:moveTo>
                <a:lnTo>
                  <a:pt x="101999" y="0"/>
                </a:lnTo>
                <a:lnTo>
                  <a:pt x="100599" y="1400"/>
                </a:lnTo>
                <a:lnTo>
                  <a:pt x="1400" y="1400"/>
                </a:lnTo>
                <a:close/>
              </a:path>
              <a:path fill="darken" w="101999" h="21600">
                <a:moveTo>
                  <a:pt x="101999" y="0"/>
                </a:moveTo>
                <a:lnTo>
                  <a:pt x="101999" y="21600"/>
                </a:lnTo>
                <a:lnTo>
                  <a:pt x="100599" y="20200"/>
                </a:lnTo>
                <a:lnTo>
                  <a:pt x="100599" y="1400"/>
                </a:lnTo>
                <a:close/>
              </a:path>
              <a:path fill="darkenLess" w="101999" h="21600">
                <a:moveTo>
                  <a:pt x="1019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599" y="20200"/>
                </a:lnTo>
                <a:close/>
              </a:path>
              <a:path fill="lighten" w="1019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名家朗诵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lastslide"/>
          </p:cNvPr>
          <p:cNvSpPr/>
          <p:nvPr/>
        </p:nvSpPr>
        <p:spPr>
          <a:xfrm>
            <a:off x="4500720" y="0"/>
            <a:ext cx="2519280" cy="533520"/>
          </a:xfrm>
          <a:custGeom>
            <a:avLst/>
            <a:gdLst>
              <a:gd name="textAreaLeft" fmla="*/ 34560 w 2519280"/>
              <a:gd name="textAreaRight" fmla="*/ 2484720 w 2519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01941" h="21600">
                <a:moveTo>
                  <a:pt x="0" y="0"/>
                </a:moveTo>
                <a:lnTo>
                  <a:pt x="101941" y="0"/>
                </a:lnTo>
                <a:lnTo>
                  <a:pt x="101941" y="21600"/>
                </a:lnTo>
                <a:lnTo>
                  <a:pt x="0" y="21600"/>
                </a:lnTo>
                <a:close/>
              </a:path>
              <a:path fill="lightenLess" w="101941" h="21600">
                <a:moveTo>
                  <a:pt x="0" y="0"/>
                </a:moveTo>
                <a:lnTo>
                  <a:pt x="101941" y="0"/>
                </a:lnTo>
                <a:lnTo>
                  <a:pt x="100541" y="1400"/>
                </a:lnTo>
                <a:lnTo>
                  <a:pt x="1400" y="1400"/>
                </a:lnTo>
                <a:close/>
              </a:path>
              <a:path fill="darken" w="101941" h="21600">
                <a:moveTo>
                  <a:pt x="101941" y="0"/>
                </a:moveTo>
                <a:lnTo>
                  <a:pt x="101941" y="21600"/>
                </a:lnTo>
                <a:lnTo>
                  <a:pt x="100541" y="20200"/>
                </a:lnTo>
                <a:lnTo>
                  <a:pt x="100541" y="1400"/>
                </a:lnTo>
                <a:close/>
              </a:path>
              <a:path fill="darkenLess" w="101941" h="21600">
                <a:moveTo>
                  <a:pt x="101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541" y="20200"/>
                </a:lnTo>
                <a:close/>
              </a:path>
              <a:path fill="lighten" w="101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走进课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lastslide"/>
          </p:cNvPr>
          <p:cNvSpPr/>
          <p:nvPr/>
        </p:nvSpPr>
        <p:spPr>
          <a:xfrm>
            <a:off x="6804000" y="0"/>
            <a:ext cx="2521080" cy="533520"/>
          </a:xfrm>
          <a:custGeom>
            <a:avLst/>
            <a:gdLst>
              <a:gd name="textAreaLeft" fmla="*/ 34560 w 2521080"/>
              <a:gd name="textAreaRight" fmla="*/ 2486520 w 2521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02014" h="21600">
                <a:moveTo>
                  <a:pt x="0" y="0"/>
                </a:moveTo>
                <a:lnTo>
                  <a:pt x="102014" y="0"/>
                </a:lnTo>
                <a:lnTo>
                  <a:pt x="102014" y="21600"/>
                </a:lnTo>
                <a:lnTo>
                  <a:pt x="0" y="21600"/>
                </a:lnTo>
                <a:close/>
              </a:path>
              <a:path fill="lightenLess" w="102014" h="21600">
                <a:moveTo>
                  <a:pt x="0" y="0"/>
                </a:moveTo>
                <a:lnTo>
                  <a:pt x="102014" y="0"/>
                </a:lnTo>
                <a:lnTo>
                  <a:pt x="100614" y="1400"/>
                </a:lnTo>
                <a:lnTo>
                  <a:pt x="1400" y="1400"/>
                </a:lnTo>
                <a:close/>
              </a:path>
              <a:path fill="darken" w="102014" h="21600">
                <a:moveTo>
                  <a:pt x="102014" y="0"/>
                </a:moveTo>
                <a:lnTo>
                  <a:pt x="102014" y="21600"/>
                </a:lnTo>
                <a:lnTo>
                  <a:pt x="100614" y="20200"/>
                </a:lnTo>
                <a:lnTo>
                  <a:pt x="100614" y="1400"/>
                </a:lnTo>
                <a:close/>
              </a:path>
              <a:path fill="darkenLess" w="102014" h="21600">
                <a:moveTo>
                  <a:pt x="102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614" y="20200"/>
                </a:lnTo>
                <a:close/>
              </a:path>
              <a:path fill="lighten" w="102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结构梳理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324480"/>
            <a:ext cx="2411280" cy="533520"/>
          </a:xfrm>
          <a:custGeom>
            <a:avLst/>
            <a:gdLst>
              <a:gd name="textAreaLeft" fmla="*/ 34560 w 2411280"/>
              <a:gd name="textAreaRight" fmla="*/ 2376720 w 2411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97571" h="21600">
                <a:moveTo>
                  <a:pt x="0" y="0"/>
                </a:moveTo>
                <a:lnTo>
                  <a:pt x="97571" y="0"/>
                </a:lnTo>
                <a:lnTo>
                  <a:pt x="97571" y="21600"/>
                </a:lnTo>
                <a:lnTo>
                  <a:pt x="0" y="21600"/>
                </a:lnTo>
                <a:close/>
              </a:path>
              <a:path fill="lightenLess" w="97571" h="21600">
                <a:moveTo>
                  <a:pt x="0" y="0"/>
                </a:moveTo>
                <a:lnTo>
                  <a:pt x="97571" y="0"/>
                </a:lnTo>
                <a:lnTo>
                  <a:pt x="96171" y="1400"/>
                </a:lnTo>
                <a:lnTo>
                  <a:pt x="1400" y="1400"/>
                </a:lnTo>
                <a:close/>
              </a:path>
              <a:path fill="darken" w="97571" h="21600">
                <a:moveTo>
                  <a:pt x="97571" y="0"/>
                </a:moveTo>
                <a:lnTo>
                  <a:pt x="97571" y="21600"/>
                </a:lnTo>
                <a:lnTo>
                  <a:pt x="96171" y="20200"/>
                </a:lnTo>
                <a:lnTo>
                  <a:pt x="96171" y="1400"/>
                </a:lnTo>
                <a:close/>
              </a:path>
              <a:path fill="darkenLess" w="97571" h="21600">
                <a:moveTo>
                  <a:pt x="975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6171" y="20200"/>
                </a:lnTo>
                <a:close/>
              </a:path>
              <a:path fill="lighten" w="975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拓展探究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lastslide"/>
          </p:cNvPr>
          <p:cNvSpPr/>
          <p:nvPr/>
        </p:nvSpPr>
        <p:spPr>
          <a:xfrm>
            <a:off x="6804000" y="6324480"/>
            <a:ext cx="2521080" cy="533520"/>
          </a:xfrm>
          <a:custGeom>
            <a:avLst/>
            <a:gdLst>
              <a:gd name="textAreaLeft" fmla="*/ 34560 w 2521080"/>
              <a:gd name="textAreaRight" fmla="*/ 2486520 w 2521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02014" h="21600">
                <a:moveTo>
                  <a:pt x="0" y="0"/>
                </a:moveTo>
                <a:lnTo>
                  <a:pt x="102014" y="0"/>
                </a:lnTo>
                <a:lnTo>
                  <a:pt x="102014" y="21600"/>
                </a:lnTo>
                <a:lnTo>
                  <a:pt x="0" y="21600"/>
                </a:lnTo>
                <a:close/>
              </a:path>
              <a:path fill="lightenLess" w="102014" h="21600">
                <a:moveTo>
                  <a:pt x="0" y="0"/>
                </a:moveTo>
                <a:lnTo>
                  <a:pt x="102014" y="0"/>
                </a:lnTo>
                <a:lnTo>
                  <a:pt x="100614" y="1400"/>
                </a:lnTo>
                <a:lnTo>
                  <a:pt x="1400" y="1400"/>
                </a:lnTo>
                <a:close/>
              </a:path>
              <a:path fill="darken" w="102014" h="21600">
                <a:moveTo>
                  <a:pt x="102014" y="0"/>
                </a:moveTo>
                <a:lnTo>
                  <a:pt x="102014" y="21600"/>
                </a:lnTo>
                <a:lnTo>
                  <a:pt x="100614" y="20200"/>
                </a:lnTo>
                <a:lnTo>
                  <a:pt x="100614" y="1400"/>
                </a:lnTo>
                <a:close/>
              </a:path>
              <a:path fill="darkenLess" w="102014" h="21600">
                <a:moveTo>
                  <a:pt x="1020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0614" y="20200"/>
                </a:lnTo>
                <a:close/>
              </a:path>
              <a:path fill="lighten" w="1020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作业思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11280" y="4653000"/>
            <a:ext cx="457200" cy="16095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684360" y="5950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547640" y="3500280"/>
            <a:ext cx="3816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第二课时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90056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79d0b"/>
                </a:solidFill>
                <a:latin typeface="Times New Roman"/>
                <a:ea typeface="华文新魏"/>
              </a:rPr>
              <a:t>走进课文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777240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e6e06"/>
                </a:solidFill>
                <a:latin typeface="Times New Roman"/>
                <a:ea typeface="华文新魏"/>
              </a:rPr>
              <a:t>一、请一位同学概述这个故事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2209680"/>
            <a:ext cx="5986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明确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诗歌讲述了一个女子恋爱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结婚到最终被遗弃的故事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733920"/>
            <a:ext cx="70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e6e06"/>
                </a:solidFill>
                <a:latin typeface="Times New Roman"/>
                <a:ea typeface="华文新魏"/>
              </a:rPr>
              <a:t>二、本文事件是按什么顺序写的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6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01120" y="0"/>
            <a:ext cx="542880" cy="7048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12000" y="642924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86800" y="6438960"/>
            <a:ext cx="45720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7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2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4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0"/>
            <a:ext cx="3505320" cy="1284120"/>
          </a:xfrm>
          <a:prstGeom prst="rect">
            <a:avLst/>
          </a:pr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叙事思路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2349360"/>
            <a:ext cx="2592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i="1" lang="zh-CN" sz="6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恋爱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5280" y="3429000"/>
            <a:ext cx="23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（欢喜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03640" y="335772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  <a:ea typeface="隶书"/>
              </a:rPr>
              <a:t>（</a:t>
            </a:r>
            <a:r>
              <a:rPr b="1" lang="zh-CN" sz="4000" spc="-1" strike="noStrike">
                <a:solidFill>
                  <a:srgbClr val="2a3d7a"/>
                </a:solidFill>
                <a:latin typeface="Times New Roman"/>
                <a:ea typeface="隶书"/>
              </a:rPr>
              <a:t>怨恨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  <a:ea typeface="隶书"/>
              </a:rPr>
              <a:t>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91320" y="33577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（清醒）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2421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24000" y="5157720"/>
            <a:ext cx="3816360" cy="1008360"/>
          </a:xfrm>
          <a:prstGeom prst="rect">
            <a:avLst/>
          </a:prstGeom>
          <a:noFill/>
          <a:ln w="9360">
            <a:solidFill>
              <a:srgbClr val="c3e6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9900"/>
                </a:solidFill>
                <a:latin typeface="Arial"/>
                <a:ea typeface="华文新魏"/>
              </a:rPr>
              <a:t>感情变化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cxnSp>
        <p:nvCxnSpPr>
          <p:cNvPr id="174" name=""/>
          <p:cNvCxnSpPr/>
          <p:nvPr/>
        </p:nvCxnSpPr>
        <p:spPr>
          <a:xfrm flipH="1" rot="10800000">
            <a:off x="249840" y="3859920"/>
            <a:ext cx="935640" cy="1971000"/>
          </a:xfrm>
          <a:prstGeom prst="bentConnector3">
            <a:avLst>
              <a:gd name="adj1" fmla="val -24441"/>
            </a:avLst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pic>
        <p:nvPicPr>
          <p:cNvPr id="17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01120" y="0"/>
            <a:ext cx="542880" cy="7048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812000" y="642924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686800" y="6438960"/>
            <a:ext cx="457200" cy="419040"/>
          </a:xfrm>
          <a:prstGeom prst="rect">
            <a:avLst/>
          </a:prstGeom>
          <a:ln w="0">
            <a:noFill/>
          </a:ln>
        </p:spPr>
      </p:pic>
      <p:cxnSp>
        <p:nvCxnSpPr>
          <p:cNvPr id="178" name=""/>
          <p:cNvCxnSpPr/>
          <p:nvPr/>
        </p:nvCxnSpPr>
        <p:spPr>
          <a:xfrm rot="5400000">
            <a:off x="1176480" y="1278720"/>
            <a:ext cx="1521360" cy="1357920"/>
          </a:xfrm>
          <a:prstGeom prst="bentConnector3">
            <a:avLst>
              <a:gd name="adj1" fmla="val 16378"/>
            </a:avLst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2478240" y="2765520"/>
            <a:ext cx="946080" cy="27000"/>
          </a:xfrm>
          <a:custGeom>
            <a:avLst/>
            <a:gdLst/>
            <a:ahLst/>
            <a:rect l="l" t="t" r="r" b="b"/>
            <a:pathLst>
              <a:path w="596" h="17">
                <a:moveTo>
                  <a:pt x="0" y="17"/>
                </a:moveTo>
                <a:lnTo>
                  <a:pt x="524" y="13"/>
                </a:lnTo>
                <a:lnTo>
                  <a:pt x="596" y="0"/>
                </a:lnTo>
              </a:path>
            </a:pathLst>
          </a:custGeom>
          <a:noFill/>
          <a:ln w="22320">
            <a:solidFill>
              <a:srgbClr val="ff0000"/>
            </a:solidFill>
            <a:round/>
            <a:tailEnd len="lg" type="triangle" w="med"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48360" y="2781360"/>
            <a:ext cx="946080" cy="27000"/>
          </a:xfrm>
          <a:custGeom>
            <a:avLst/>
            <a:gdLst/>
            <a:ahLst/>
            <a:rect l="l" t="t" r="r" b="b"/>
            <a:pathLst>
              <a:path w="596" h="17">
                <a:moveTo>
                  <a:pt x="0" y="17"/>
                </a:moveTo>
                <a:lnTo>
                  <a:pt x="524" y="13"/>
                </a:lnTo>
                <a:lnTo>
                  <a:pt x="596" y="0"/>
                </a:lnTo>
              </a:path>
            </a:pathLst>
          </a:custGeom>
          <a:noFill/>
          <a:ln w="22320">
            <a:solidFill>
              <a:srgbClr val="ff0000"/>
            </a:solidFill>
            <a:round/>
            <a:tailEnd len="lg" type="triangle" w="med"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84360" y="3789360"/>
            <a:ext cx="946080" cy="27000"/>
          </a:xfrm>
          <a:custGeom>
            <a:avLst/>
            <a:gdLst/>
            <a:ahLst/>
            <a:rect l="l" t="t" r="r" b="b"/>
            <a:pathLst>
              <a:path w="596" h="17">
                <a:moveTo>
                  <a:pt x="0" y="17"/>
                </a:moveTo>
                <a:lnTo>
                  <a:pt x="524" y="13"/>
                </a:lnTo>
                <a:lnTo>
                  <a:pt x="596" y="0"/>
                </a:lnTo>
              </a:path>
            </a:pathLst>
          </a:custGeom>
          <a:noFill/>
          <a:ln w="22320">
            <a:solidFill>
              <a:srgbClr val="ff0000"/>
            </a:solidFill>
            <a:round/>
            <a:tailEnd len="lg" type="triangle" w="med"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3716280"/>
            <a:ext cx="946080" cy="27000"/>
          </a:xfrm>
          <a:custGeom>
            <a:avLst/>
            <a:gdLst/>
            <a:ahLst/>
            <a:rect l="l" t="t" r="r" b="b"/>
            <a:pathLst>
              <a:path w="596" h="17">
                <a:moveTo>
                  <a:pt x="0" y="17"/>
                </a:moveTo>
                <a:lnTo>
                  <a:pt x="524" y="13"/>
                </a:lnTo>
                <a:lnTo>
                  <a:pt x="596" y="0"/>
                </a:lnTo>
              </a:path>
            </a:pathLst>
          </a:custGeom>
          <a:noFill/>
          <a:ln w="22320">
            <a:solidFill>
              <a:srgbClr val="ff0000"/>
            </a:solidFill>
            <a:round/>
            <a:tailEnd len="lg" type="triangle" w="med"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2276640"/>
            <a:ext cx="19447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2a3d7a"/>
                </a:solidFill>
                <a:latin typeface="Times New Roman"/>
                <a:ea typeface="华文中宋"/>
              </a:rPr>
              <a:t>婚变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2205000"/>
            <a:ext cx="194292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决绝</a:t>
            </a:r>
            <a:endParaRPr b="0" lang="en-US" sz="6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500"/>
                            </p:stCondLst>
                            <p:childTnLst>
                              <p:par>
                                <p:cTn id="5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4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500"/>
                            </p:stCondLst>
                            <p:childTnLst>
                              <p:par>
                                <p:cTn id="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华文新魏"/>
                <a:ea typeface="华文新魏"/>
              </a:rPr>
              <a:t>恋爱（</a:t>
            </a:r>
            <a:r>
              <a:rPr b="1" lang="zh-CN" sz="5400" spc="-1" strike="noStrike">
                <a:solidFill>
                  <a:srgbClr val="ff9900"/>
                </a:solidFill>
                <a:latin typeface="华文新魏"/>
                <a:ea typeface="华文新魏"/>
              </a:rPr>
              <a:t>1~2</a:t>
            </a:r>
            <a:r>
              <a:rPr b="1" lang="zh-CN" sz="5400" spc="-1" strike="noStrike">
                <a:solidFill>
                  <a:srgbClr val="ff9900"/>
                </a:solidFill>
                <a:latin typeface="华文新魏"/>
                <a:ea typeface="华文新魏"/>
              </a:rPr>
              <a:t>）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151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华文新魏"/>
                <a:ea typeface="华文新魏"/>
              </a:rPr>
              <a:t>一、恋爱阶段，男女双方各有何举动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   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2565360"/>
            <a:ext cx="6400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女：乘、望、泣涕、笑、言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3200400"/>
            <a:ext cx="8512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华文新魏"/>
              </a:rPr>
              <a:t>二、第一部分主要运用了什么艺术手法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95280" y="38098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确：“赋”，追忆当年恋爱结婚的经过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258920" y="1916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男：抱布贸丝　　来、谋、怒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9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01120" y="0"/>
            <a:ext cx="542880" cy="7048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12000" y="642924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86800" y="643896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948360" y="2060640"/>
            <a:ext cx="152640" cy="1150920"/>
          </a:xfrm>
          <a:custGeom>
            <a:avLst/>
            <a:gdLst>
              <a:gd name="textAreaLeft" fmla="*/ 0 w 152640"/>
              <a:gd name="textAreaRight" fmla="*/ 55080 w 152640"/>
              <a:gd name="textAreaTop" fmla="*/ 90000 h 1150920"/>
              <a:gd name="textAreaBottom" fmla="*/ 10609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4360" y="2276640"/>
            <a:ext cx="122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痴情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1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6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96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19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686800" cy="10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华文新魏"/>
                <a:ea typeface="华文新魏"/>
              </a:rPr>
              <a:t>婚变（</a:t>
            </a:r>
            <a:r>
              <a:rPr b="1" lang="zh-CN" sz="5400" spc="-1" strike="noStrike">
                <a:solidFill>
                  <a:srgbClr val="ff9900"/>
                </a:solidFill>
                <a:latin typeface="华文新魏"/>
                <a:ea typeface="华文新魏"/>
              </a:rPr>
              <a:t>3~5</a:t>
            </a:r>
            <a:r>
              <a:rPr b="1" lang="zh-CN" sz="5400" spc="-1" strike="noStrike">
                <a:solidFill>
                  <a:srgbClr val="ff9900"/>
                </a:solidFill>
                <a:latin typeface="华文新魏"/>
                <a:ea typeface="华文新魏"/>
              </a:rPr>
              <a:t>）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981000"/>
            <a:ext cx="896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华文新魏"/>
              </a:rPr>
              <a:t>一、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  <a:ea typeface="华文新魏"/>
              </a:rPr>
              <a:t>诗歌运用了什么艺术手法来阐述这种感情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变化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  <a:ea typeface="华文新魏"/>
              </a:rPr>
              <a:t>呢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68360" y="4365720"/>
            <a:ext cx="2238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桑之落矣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其黄而陨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84720" y="2637000"/>
            <a:ext cx="152280" cy="1150920"/>
          </a:xfrm>
          <a:custGeom>
            <a:avLst/>
            <a:gdLst>
              <a:gd name="textAreaLeft" fmla="*/ 0 w 152280"/>
              <a:gd name="textAreaRight" fmla="*/ 55080 w 152280"/>
              <a:gd name="textAreaTop" fmla="*/ 90000 h 1150920"/>
              <a:gd name="textAreaBottom" fmla="*/ 10609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40000" y="2492280"/>
            <a:ext cx="2232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c00"/>
                </a:solidFill>
                <a:latin typeface="Times New Roman"/>
                <a:ea typeface="楷体_GB2312"/>
              </a:rPr>
              <a:t>桑之未落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c00"/>
                </a:solidFill>
                <a:latin typeface="Times New Roman"/>
                <a:ea typeface="楷体_GB2312"/>
              </a:rPr>
              <a:t>其叶沃若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3213000"/>
            <a:ext cx="1584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0720" y="2492280"/>
            <a:ext cx="302256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女子年轻貌美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140360" y="4581360"/>
            <a:ext cx="291960" cy="1224000"/>
          </a:xfrm>
          <a:custGeom>
            <a:avLst/>
            <a:gdLst>
              <a:gd name="textAreaLeft" fmla="*/ 0 w 291960"/>
              <a:gd name="textAreaRight" fmla="*/ 105480 w 2919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56000" y="5157720"/>
            <a:ext cx="16560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6012000" y="2637000"/>
            <a:ext cx="304560" cy="1150920"/>
          </a:xfrm>
          <a:custGeom>
            <a:avLst/>
            <a:gdLst>
              <a:gd name="textAreaLeft" fmla="*/ 360 w 304560"/>
              <a:gd name="textAreaRight" fmla="*/ 110160 w 304560"/>
              <a:gd name="textAreaTop" fmla="*/ 90000 h 1150920"/>
              <a:gd name="textAreaBottom" fmla="*/ 10609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012000" y="4581360"/>
            <a:ext cx="304560" cy="1151280"/>
          </a:xfrm>
          <a:custGeom>
            <a:avLst/>
            <a:gdLst>
              <a:gd name="textAreaLeft" fmla="*/ 360 w 304560"/>
              <a:gd name="textAreaRight" fmla="*/ 110160 w 304560"/>
              <a:gd name="textAreaTop" fmla="*/ 90000 h 1151280"/>
              <a:gd name="textAreaBottom" fmla="*/ 1061280 h 11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00720" y="3284640"/>
            <a:ext cx="302256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未婚情意浓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27813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比兴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00720" y="4653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比兴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300720" y="5229360"/>
            <a:ext cx="302436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12c03"/>
                </a:solidFill>
                <a:latin typeface="Arial"/>
              </a:rPr>
              <a:t>婚后情意淡漠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00720" y="4365720"/>
            <a:ext cx="302436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12c03"/>
                </a:solidFill>
                <a:latin typeface="Arial"/>
              </a:rPr>
              <a:t>女子年老色衰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91960" y="3068640"/>
            <a:ext cx="7898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Times New Roman"/>
                <a:ea typeface="华文新魏"/>
              </a:rPr>
              <a:t>对比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15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01120" y="0"/>
            <a:ext cx="542880" cy="7048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12000" y="642924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86800" y="6438960"/>
            <a:ext cx="45720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8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500"/>
                            </p:stCondLst>
                            <p:childTnLst>
                              <p:par>
                                <p:cTn id="6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华文新魏"/>
                <a:ea typeface="华文新魏"/>
              </a:rPr>
              <a:t>婚变（</a:t>
            </a:r>
            <a:r>
              <a:rPr b="1" lang="zh-CN" sz="5400" spc="-1" strike="noStrike">
                <a:solidFill>
                  <a:srgbClr val="ff9900"/>
                </a:solidFill>
                <a:latin typeface="华文新魏"/>
                <a:ea typeface="华文新魏"/>
              </a:rPr>
              <a:t>3~5</a:t>
            </a:r>
            <a:r>
              <a:rPr b="1" lang="zh-CN" sz="5400" spc="-1" strike="noStrike">
                <a:solidFill>
                  <a:srgbClr val="ff9900"/>
                </a:solidFill>
                <a:latin typeface="华文新魏"/>
                <a:ea typeface="华文新魏"/>
              </a:rPr>
              <a:t>）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529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华文新魏"/>
              </a:rPr>
              <a:t>一、在这场失败的婚姻中，女子有没有责任呢？她是怎样表现的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4797360"/>
            <a:ext cx="403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勤劳、善良</a:t>
            </a:r>
            <a:r>
              <a:rPr b="1" lang="zh-CN" sz="3200" spc="-1" strike="noStrike">
                <a:solidFill>
                  <a:srgbClr val="a12c03"/>
                </a:solidFill>
                <a:latin typeface="Times New Roman"/>
                <a:ea typeface="楷体_GB2312"/>
              </a:rPr>
              <a:t>、虽生活艰难，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真情不改</a:t>
            </a:r>
            <a:r>
              <a:rPr b="1" lang="zh-CN" sz="3200" spc="-1" strike="noStrike">
                <a:solidFill>
                  <a:srgbClr val="a12c03"/>
                </a:solidFill>
                <a:latin typeface="Times New Roman"/>
                <a:ea typeface="楷体_GB2312"/>
              </a:rPr>
              <a:t>没有任何怨言。所以没有责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2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01120" y="0"/>
            <a:ext cx="542880" cy="7048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12000" y="642924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86800" y="643896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324000" y="3357720"/>
            <a:ext cx="4392360" cy="116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0e8c"/>
                </a:solidFill>
                <a:latin typeface="Times New Roman"/>
                <a:ea typeface="楷体_GB2312"/>
              </a:rPr>
              <a:t>自我徂尔</a:t>
            </a:r>
            <a:r>
              <a:rPr b="1" lang="en-US" sz="2800" spc="-1" strike="noStrike">
                <a:solidFill>
                  <a:srgbClr val="960e8c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60e8c"/>
                </a:solidFill>
                <a:latin typeface="Times New Roman"/>
                <a:ea typeface="楷体_GB2312"/>
              </a:rPr>
              <a:t>三岁食贫。三岁为妇，靡室劳矣。夙兴夜寐，靡有朝矣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76520" y="-360"/>
            <a:ext cx="469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华文新魏"/>
                <a:ea typeface="华文新魏"/>
              </a:rPr>
              <a:t>婚变（</a:t>
            </a:r>
            <a:r>
              <a:rPr b="1" lang="zh-CN" sz="5400" spc="-1" strike="noStrike">
                <a:solidFill>
                  <a:srgbClr val="ff9900"/>
                </a:solidFill>
                <a:latin typeface="华文新魏"/>
                <a:ea typeface="华文新魏"/>
              </a:rPr>
              <a:t>3~5</a:t>
            </a:r>
            <a:r>
              <a:rPr b="1" lang="zh-CN" sz="5400" spc="-1" strike="noStrike">
                <a:solidFill>
                  <a:srgbClr val="ff9900"/>
                </a:solidFill>
                <a:latin typeface="华文新魏"/>
                <a:ea typeface="华文新魏"/>
              </a:rPr>
              <a:t>）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华文新魏"/>
                <a:ea typeface="华文新魏"/>
              </a:rPr>
              <a:t>二、导致婚姻失败的真正原因是什么？文中是怎样表述的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3000" y="40384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525780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2743200"/>
            <a:ext cx="76964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明确：“士贰其行。士也罔极，二三其德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3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01120" y="0"/>
            <a:ext cx="542880" cy="7048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12000" y="642924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86800" y="6438960"/>
            <a:ext cx="45720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7564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70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华文新魏"/>
                <a:ea typeface="华文新魏"/>
              </a:rPr>
              <a:t>思考：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680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663300"/>
                </a:solidFill>
                <a:latin typeface="华文新魏"/>
                <a:ea typeface="华文新魏"/>
              </a:rPr>
              <a:t>一、女主人公从这场失败的爱情中总结了什么经验呢？文章是怎么体现的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71640" y="3429000"/>
            <a:ext cx="784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2637000"/>
            <a:ext cx="52560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于嗟鸠兮，无食桑葚！于嗟女兮，无与士耽！士之耽兮，犹可说也。女之耽兮，不可说也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50920" y="4724280"/>
            <a:ext cx="4824360" cy="181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运用了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比喻</a:t>
            </a:r>
            <a:r>
              <a:rPr b="1" lang="zh-CN" sz="32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的手法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a3d7a"/>
                </a:solidFill>
                <a:latin typeface="楷体_GB2312"/>
                <a:ea typeface="楷体_GB2312"/>
              </a:rPr>
              <a:t>以斑鸠贪吃桑葚为例告戒女子不要不要沉迷于男子的爱情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4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01120" y="0"/>
            <a:ext cx="542880" cy="7048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12000" y="642924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86800" y="643896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4076640"/>
            <a:ext cx="6048360" cy="147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华文新魏"/>
                <a:ea typeface="华文新魏"/>
              </a:rPr>
              <a:t>二、 用了什么修辞手法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9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0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1" dur="8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724280" y="0"/>
            <a:ext cx="441972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900"/>
                </a:solidFill>
                <a:latin typeface="华文新魏"/>
                <a:ea typeface="华文新魏"/>
              </a:rPr>
              <a:t>决裂（</a:t>
            </a:r>
            <a:r>
              <a:rPr b="1" lang="zh-CN" sz="5400" spc="-1" strike="noStrike">
                <a:solidFill>
                  <a:srgbClr val="ff9900"/>
                </a:solidFill>
                <a:latin typeface="华文新魏"/>
                <a:ea typeface="华文新魏"/>
              </a:rPr>
              <a:t>6</a:t>
            </a:r>
            <a:r>
              <a:rPr b="1" lang="zh-CN" sz="5400" spc="-1" strike="noStrike">
                <a:solidFill>
                  <a:srgbClr val="ff9900"/>
                </a:solidFill>
                <a:latin typeface="华文新魏"/>
                <a:ea typeface="华文新魏"/>
              </a:rPr>
              <a:t>）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-360" y="2204640"/>
            <a:ext cx="6094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氓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395280" y="2421000"/>
            <a:ext cx="380880" cy="1143000"/>
          </a:xfrm>
          <a:custGeom>
            <a:avLst/>
            <a:gdLst>
              <a:gd name="textAreaLeft" fmla="*/ 0 w 380880"/>
              <a:gd name="textAreaRight" fmla="*/ 137520 w 380880"/>
              <a:gd name="textAreaTop" fmla="*/ 89280 h 1143000"/>
              <a:gd name="textAreaBottom" fmla="*/ 1053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2205000"/>
            <a:ext cx="60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婚前：“氓之蚩蚩”、“信誓旦旦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55640" y="3357720"/>
            <a:ext cx="634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婚后：“二三其德”、“至于暴矣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46483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女子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84360" y="4292640"/>
            <a:ext cx="304560" cy="1150920"/>
          </a:xfrm>
          <a:custGeom>
            <a:avLst/>
            <a:gdLst>
              <a:gd name="textAreaLeft" fmla="*/ 360 w 304560"/>
              <a:gd name="textAreaRight" fmla="*/ 110160 w 304560"/>
              <a:gd name="textAreaTop" fmla="*/ 90000 h 1150920"/>
              <a:gd name="textAreaBottom" fmla="*/ 10609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00000" y="407664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婚前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幸福，性格热情、温柔纯真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00000" y="522936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婚后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: </a:t>
            </a: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屈辱，性格刚烈，认识清醒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99072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思考：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对比方法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分析男女主人公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人物形象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56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01120" y="0"/>
            <a:ext cx="542880" cy="7048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12000" y="642924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86800" y="643896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076720" y="2421000"/>
            <a:ext cx="343080" cy="1150920"/>
          </a:xfrm>
          <a:custGeom>
            <a:avLst/>
            <a:gdLst>
              <a:gd name="textAreaLeft" fmla="*/ 0 w 343080"/>
              <a:gd name="textAreaRight" fmla="*/ 123840 w 343080"/>
              <a:gd name="textAreaTop" fmla="*/ 90000 h 1150920"/>
              <a:gd name="textAreaBottom" fmla="*/ 10609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076720" y="2637000"/>
            <a:ext cx="144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负心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80000" y="4365720"/>
            <a:ext cx="343080" cy="1150920"/>
          </a:xfrm>
          <a:custGeom>
            <a:avLst/>
            <a:gdLst>
              <a:gd name="textAreaLeft" fmla="*/ 0 w 343080"/>
              <a:gd name="textAreaRight" fmla="*/ 123840 w 343080"/>
              <a:gd name="textAreaTop" fmla="*/ 90000 h 1150920"/>
              <a:gd name="textAreaBottom" fmla="*/ 10609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4581360"/>
            <a:ext cx="1439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忠贞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00"/>
                            </p:stCondLst>
                            <p:childTnLst>
                              <p:par>
                                <p:cTn id="8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500"/>
                            </p:stCondLst>
                            <p:childTnLst>
                              <p:par>
                                <p:cTn id="8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9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9900"/>
                </a:solidFill>
                <a:latin typeface="华文新魏"/>
                <a:ea typeface="华文新魏"/>
              </a:rPr>
              <a:t>拓展探究：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-457200" y="1143000"/>
            <a:ext cx="5749920" cy="20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663300"/>
                </a:solidFill>
                <a:latin typeface="华文新魏"/>
                <a:ea typeface="华文新魏"/>
              </a:rPr>
              <a:t>一、除了婚姻的不幸外，还有哪些因素给了她痛苦呢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2205000"/>
            <a:ext cx="60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二、哪个更能体现女主人公的悲哀和痛苦呢？反映了什么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3354480"/>
            <a:ext cx="478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明确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娘家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不理解，更能反映出那个时代人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爱情观，婚姻观和女子在爱情中和社会中的弱势地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更能反映出这场婚姻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仅是个人悲剧更是时代悲剧</a:t>
            </a:r>
            <a:r>
              <a:rPr b="1" lang="zh-CN" sz="3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6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01120" y="0"/>
            <a:ext cx="542880" cy="7048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12000" y="642924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86800" y="6438960"/>
            <a:ext cx="45720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03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8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3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5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419360" y="380880"/>
            <a:ext cx="4545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9900"/>
                </a:solidFill>
                <a:latin typeface="华文新魏"/>
                <a:ea typeface="华文新魏"/>
              </a:rPr>
              <a:t>对比阅读：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564000" y="1828800"/>
            <a:ext cx="5580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12c03"/>
                </a:solidFill>
                <a:latin typeface="楷体_GB2312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a12c03"/>
                </a:solidFill>
                <a:latin typeface="楷体_GB2312"/>
                <a:ea typeface="华文新魏"/>
              </a:rPr>
              <a:t>《谷风》和《氓》都是描写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华文新魏"/>
              </a:rPr>
              <a:t>妇女被遗弃</a:t>
            </a:r>
            <a:r>
              <a:rPr b="1" lang="zh-CN" sz="3600" spc="-1" strike="noStrike">
                <a:solidFill>
                  <a:srgbClr val="a12c03"/>
                </a:solidFill>
                <a:latin typeface="楷体_GB2312"/>
                <a:ea typeface="华文新魏"/>
              </a:rPr>
              <a:t>的诗，</a:t>
            </a:r>
            <a:r>
              <a:rPr b="1" lang="zh-CN" sz="3600" spc="-1" strike="noStrike">
                <a:solidFill>
                  <a:srgbClr val="a12c03"/>
                </a:solidFill>
                <a:latin typeface="华文新魏"/>
                <a:ea typeface="华文新魏"/>
              </a:rPr>
              <a:t> 试比较二者中的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女性形象</a:t>
            </a:r>
            <a:r>
              <a:rPr b="1" lang="zh-CN" sz="3600" spc="-1" strike="noStrike">
                <a:solidFill>
                  <a:srgbClr val="a12c03"/>
                </a:solidFill>
                <a:latin typeface="华文新魏"/>
                <a:ea typeface="华文新魏"/>
              </a:rPr>
              <a:t>有何异同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01120" y="0"/>
            <a:ext cx="542880" cy="70488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12000" y="642924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86800" y="643896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6"/>
          <a:stretch/>
        </p:blipFill>
        <p:spPr>
          <a:xfrm>
            <a:off x="8459640" y="6093000"/>
            <a:ext cx="3603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4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3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944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7" dur="290056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9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9900"/>
                </a:solidFill>
                <a:latin typeface="Arial"/>
                <a:ea typeface="华文新魏"/>
              </a:rPr>
              <a:t>温故复习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895320"/>
            <a:ext cx="8915400" cy="90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▲</a:t>
            </a:r>
            <a:r>
              <a:rPr b="1" lang="zh-CN" sz="2400" spc="-1" strike="noStrike">
                <a:solidFill>
                  <a:srgbClr val="7afa7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是第一部</a:t>
            </a:r>
            <a:r>
              <a:rPr b="1" lang="en-US" sz="2400" spc="-1" strike="noStrike">
                <a:solidFill>
                  <a:srgbClr val="000066"/>
                </a:solidFill>
                <a:latin typeface="宋体"/>
              </a:rPr>
              <a:t>(       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　   </a:t>
            </a:r>
            <a:r>
              <a:rPr b="1" lang="en-US" sz="2400" spc="-1" strike="noStrike">
                <a:solidFill>
                  <a:srgbClr val="000066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▲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《诗经》又叫《诗》或《诗三百》，共（     　　 ）篇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▲ 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按照</a:t>
            </a:r>
            <a:r>
              <a:rPr b="1" lang="zh-CN" sz="2400" spc="-1" strike="noStrike" u="sng">
                <a:solidFill>
                  <a:srgbClr val="000066"/>
                </a:solidFill>
                <a:uFillTx/>
                <a:latin typeface="宋体"/>
              </a:rPr>
              <a:t>音乐性质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的不同分成：</a:t>
            </a:r>
            <a:r>
              <a:rPr b="1" lang="en-US" sz="2400" spc="-1" strike="noStrike">
                <a:solidFill>
                  <a:srgbClr val="000066"/>
                </a:solidFill>
                <a:latin typeface="宋体"/>
              </a:rPr>
              <a:t>(                  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▲</a:t>
            </a:r>
            <a:r>
              <a:rPr b="1" lang="zh-CN" sz="2400" spc="-1" strike="noStrike">
                <a:solidFill>
                  <a:srgbClr val="000066"/>
                </a:solidFill>
                <a:latin typeface="宋体"/>
              </a:rPr>
              <a:t>就表现手法而言分成：</a:t>
            </a:r>
            <a:r>
              <a:rPr b="1" lang="en-US" sz="2400" spc="-1" strike="noStrike">
                <a:solidFill>
                  <a:srgbClr val="000066"/>
                </a:solidFill>
                <a:latin typeface="宋体"/>
              </a:rPr>
              <a:t>(                 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▲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氓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重要字词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蚩蚩（                       ）            匪（          ）          谋（            ）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将（     ）      愆（  ）         复关（                      ）            贿（            ） 垝（      ）体（    ）咎（       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耽（            ）                说（     ）                             爽（            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罔极（                     ）  靡（           ）   咥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(         ) 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已 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(             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3600" y="274320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274320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00720" y="1628640"/>
            <a:ext cx="3240000" cy="16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风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” “ 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雅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”  “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颂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51280" y="2276640"/>
            <a:ext cx="345600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赋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” “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比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” “</a:t>
            </a:r>
            <a:r>
              <a:rPr b="1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兴</a:t>
            </a:r>
            <a:r>
              <a:rPr b="1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01120" y="0"/>
            <a:ext cx="542880" cy="704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12000" y="642924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86800" y="643896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050920" y="836640"/>
            <a:ext cx="2160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诗歌总集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1413000"/>
            <a:ext cx="1512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３０５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16000" y="3933720"/>
            <a:ext cx="2016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忠厚的样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76720" y="3933720"/>
            <a:ext cx="7905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80360" y="3933720"/>
            <a:ext cx="122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议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4437000"/>
            <a:ext cx="649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请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4437000"/>
            <a:ext cx="3673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指代“氓”所住的地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4869000"/>
            <a:ext cx="1296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财物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5640" y="5373720"/>
            <a:ext cx="1297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沉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24360" y="5373720"/>
            <a:ext cx="504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脱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80360" y="5373720"/>
            <a:ext cx="122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过错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87280" y="5589720"/>
            <a:ext cx="151164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5950080"/>
            <a:ext cx="1511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无标准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51280" y="5877000"/>
            <a:ext cx="1008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没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6000" y="5877000"/>
            <a:ext cx="576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笑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51640" y="5877000"/>
            <a:ext cx="1224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了结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5920" y="4332240"/>
            <a:ext cx="668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拖延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1240" y="4797360"/>
            <a:ext cx="668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坍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9920" y="4764240"/>
            <a:ext cx="668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卦象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13920" y="4764240"/>
            <a:ext cx="668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灾祸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478800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12c03"/>
                </a:solidFill>
                <a:latin typeface="华文新魏"/>
                <a:ea typeface="华文新魏"/>
              </a:rPr>
              <a:t>《谷风》和《氓》中女性形象比较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514836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华文新魏"/>
                <a:ea typeface="华文新魏"/>
              </a:rPr>
              <a:t>相同</a:t>
            </a:r>
            <a:r>
              <a:rPr b="1" lang="zh-CN" sz="2800" spc="-1" strike="noStrike">
                <a:solidFill>
                  <a:srgbClr val="070605"/>
                </a:solidFill>
                <a:latin typeface="楷体_GB2312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都有相同的不幸遭遇，都是勤劳善良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被丈夫遗弃的女子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28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01120" y="0"/>
            <a:ext cx="542880" cy="7048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812000" y="642924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86800" y="643896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0" y="3573360"/>
            <a:ext cx="60847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a3d7a"/>
                </a:solidFill>
                <a:latin typeface="Times New Roman"/>
                <a:ea typeface="华文新魏"/>
              </a:rPr>
              <a:t>不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前者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性格柔婉而温顺</a:t>
            </a:r>
            <a:r>
              <a:rPr b="1" lang="en-US" sz="40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但思想始终软弱糊涂</a:t>
            </a:r>
            <a:r>
              <a:rPr b="1" lang="zh-CN" sz="4000" spc="-1" strike="noStrike">
                <a:solidFill>
                  <a:srgbClr val="a12c03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后者</a:t>
            </a:r>
            <a:r>
              <a:rPr b="1" lang="zh-CN" sz="4000" spc="-1" strike="noStrike">
                <a:solidFill>
                  <a:srgbClr val="663300"/>
                </a:solidFill>
                <a:latin typeface="Times New Roman"/>
                <a:ea typeface="楷体_GB2312"/>
              </a:rPr>
              <a:t>性格先是温柔纯真后来则刚强而果断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0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37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本课小结：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28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01120" y="0"/>
            <a:ext cx="542880" cy="7048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8028000" y="6429240"/>
            <a:ext cx="571320" cy="4287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86800" y="643896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250920" y="2133720"/>
            <a:ext cx="475272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915840"/>
            <a:ext cx="5508720" cy="3039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诗歌叙述了女子从恋爱到被遗弃的经过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批判男子的负心，揭示当时不合理的婚姻带给妇女深刻的痛苦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  <a:ea typeface="楷体_GB2312"/>
              </a:rPr>
              <a:t>同时，我们应该看到女主人公的婚姻悲剧不仅有个人原因，更主要的是那个时代，那个社会造成的。我们在憎恨氓始乱终弃的同时也应该想到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这个悲剧也是那个社会的产物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0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6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6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6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6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734080" y="0"/>
            <a:ext cx="3409920" cy="6858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519444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总体结构：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619520" cy="17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第一章：男子求婚，女子许婚</a:t>
            </a: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赋</a:t>
            </a: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第二章：男女恋人相思、结婚</a:t>
            </a: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赋</a:t>
            </a: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48360" y="1628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076720" y="3141720"/>
            <a:ext cx="223920" cy="1655640"/>
          </a:xfrm>
          <a:custGeom>
            <a:avLst/>
            <a:gdLst>
              <a:gd name="textAreaLeft" fmla="*/ 0 w 223920"/>
              <a:gd name="textAreaRight" fmla="*/ 80640 w 22392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72000" y="5734080"/>
            <a:ext cx="129528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35640" y="1844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恋爱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08720" y="371628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Arial"/>
              </a:rPr>
              <a:t>婚变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80000" y="537372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0103"/>
                </a:solidFill>
                <a:latin typeface="Arial"/>
              </a:rPr>
              <a:t>决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32720" y="2060640"/>
            <a:ext cx="431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32720" y="4005360"/>
            <a:ext cx="360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43640" y="5734080"/>
            <a:ext cx="360360" cy="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45440" y="1268280"/>
            <a:ext cx="1798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热情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幸福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64360" y="3284640"/>
            <a:ext cx="165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Arial"/>
              </a:rPr>
              <a:t>沉痛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Arial"/>
              </a:rPr>
              <a:t>怨恨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164360" y="5084640"/>
            <a:ext cx="136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0103"/>
                </a:solidFill>
                <a:latin typeface="Arial"/>
              </a:rPr>
              <a:t>清醒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10103"/>
                </a:solidFill>
                <a:latin typeface="Arial"/>
              </a:rPr>
              <a:t>刚强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334120" y="3808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  <a:ea typeface="华文新魏"/>
              </a:rPr>
              <a:t>情节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32720" y="404640"/>
            <a:ext cx="24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  <a:ea typeface="华文新魏"/>
              </a:rPr>
              <a:t>感情基调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236000" y="981000"/>
            <a:ext cx="360360" cy="542880"/>
          </a:xfrm>
          <a:custGeom>
            <a:avLst/>
            <a:gdLst>
              <a:gd name="textAreaLeft" fmla="*/ 0 w 360360"/>
              <a:gd name="textAreaRight" fmla="*/ 360720 w 360360"/>
              <a:gd name="textAreaTop" fmla="*/ 0 h 542880"/>
              <a:gd name="textAreaBottom" fmla="*/ 543240 h 5428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08720" y="981000"/>
            <a:ext cx="360360" cy="617760"/>
          </a:xfrm>
          <a:custGeom>
            <a:avLst/>
            <a:gdLst>
              <a:gd name="textAreaLeft" fmla="*/ 0 w 360360"/>
              <a:gd name="textAreaRight" fmla="*/ 360720 w 360360"/>
              <a:gd name="textAreaTop" fmla="*/ 0 h 617760"/>
              <a:gd name="textAreaBottom" fmla="*/ 618120 h 6177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2971800"/>
            <a:ext cx="487692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第三章：劝诫女子不要痴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比、兴</a:t>
            </a: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第四章：控诉男子移情别恋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比、兴</a:t>
            </a: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第五章：补叙多年的苦楚和处境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赋</a:t>
            </a: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5486400"/>
            <a:ext cx="480060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第六章：今昔对比的怨恨和痛苦</a:t>
            </a: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赋、比、兴</a:t>
            </a:r>
            <a:r>
              <a:rPr b="1" lang="zh-CN" sz="2400" spc="-1" strike="noStrike">
                <a:solidFill>
                  <a:srgbClr val="a12c03"/>
                </a:solidFill>
                <a:latin typeface="楷体_GB2312"/>
                <a:ea typeface="楷体_GB2312"/>
              </a:rPr>
              <a:t>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1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01120" y="0"/>
            <a:ext cx="542880" cy="70488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86800" y="643896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8000" y="6429240"/>
            <a:ext cx="571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0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6248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067280" y="333360"/>
            <a:ext cx="55432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作业思考</a:t>
            </a:r>
            <a:r>
              <a:rPr b="1" i="1" lang="zh-CN" sz="66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：</a:t>
            </a:r>
            <a:endParaRPr b="0" lang="en-US" sz="66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3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01120" y="0"/>
            <a:ext cx="542880" cy="70488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86800" y="643896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8028000" y="6429240"/>
            <a:ext cx="571320" cy="4287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0" y="1844640"/>
            <a:ext cx="5796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新魏"/>
              </a:rPr>
              <a:t>     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51280" y="1557360"/>
            <a:ext cx="496872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8e7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我们初中学过的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秦风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蒹葭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也同样是一首爱情诗，反映的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男主人公“求之而不可得”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的特殊心理。试把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氓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蒹葭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相比较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探讨一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诗经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里所反映的古代社会男子与女子的爱情观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0" dur="indefinite" restart="never" nodeType="tmRoot">
          <p:childTnLst>
            <p:seq>
              <p:cTn id="1001" dur="indefinite" nodeType="mainSeq">
                <p:childTnLst>
                  <p:par>
                    <p:cTn id="1002" fill="hold">
                      <p:stCondLst>
                        <p:cond delay="0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2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3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0,-63,-6)"/>
                                          </p:val>
                                        </p:tav>
                                        <p:tav tm="50000">
                                          <p:val>
                                            <p:strVal val="rgb(106,-82,-8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4" dur="8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325" name="" descr="唯美 风景图片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2043000" y="2708280"/>
            <a:ext cx="5058000" cy="1447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ook Antiqua"/>
              </a:rPr>
              <a:t>GOOD BYE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ook Antiqua"/>
              <a:ea typeface="Book Antiqu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8601120" y="0"/>
            <a:ext cx="54288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0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1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" cy="380880"/>
          </a:xfrm>
          <a:custGeom>
            <a:avLst/>
            <a:gdLst>
              <a:gd name="textAreaLeft" fmla="*/ 24480 w 914400"/>
              <a:gd name="textAreaRight" fmla="*/ 889920 w 914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1828" h="21600">
                <a:moveTo>
                  <a:pt x="0" y="0"/>
                </a:moveTo>
                <a:lnTo>
                  <a:pt x="51828" y="0"/>
                </a:lnTo>
                <a:lnTo>
                  <a:pt x="51828" y="21600"/>
                </a:lnTo>
                <a:lnTo>
                  <a:pt x="0" y="21600"/>
                </a:lnTo>
                <a:close/>
              </a:path>
              <a:path fill="lightenLess" w="51828" h="21600">
                <a:moveTo>
                  <a:pt x="0" y="0"/>
                </a:moveTo>
                <a:lnTo>
                  <a:pt x="51828" y="0"/>
                </a:lnTo>
                <a:lnTo>
                  <a:pt x="50428" y="1400"/>
                </a:lnTo>
                <a:lnTo>
                  <a:pt x="1400" y="1400"/>
                </a:lnTo>
                <a:close/>
              </a:path>
              <a:path fill="darken" w="51828" h="21600">
                <a:moveTo>
                  <a:pt x="51828" y="0"/>
                </a:moveTo>
                <a:lnTo>
                  <a:pt x="51828" y="21600"/>
                </a:lnTo>
                <a:lnTo>
                  <a:pt x="50428" y="20200"/>
                </a:lnTo>
                <a:lnTo>
                  <a:pt x="50428" y="1400"/>
                </a:lnTo>
                <a:close/>
              </a:path>
              <a:path fill="darkenLess" w="51828" h="21600">
                <a:moveTo>
                  <a:pt x="51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28" y="20200"/>
                </a:lnTo>
                <a:close/>
              </a:path>
              <a:path fill="lighten" w="51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28" h="21600">
                <a:moveTo>
                  <a:pt x="18907" y="8406"/>
                </a:moveTo>
                <a:lnTo>
                  <a:pt x="23338" y="8406"/>
                </a:lnTo>
                <a:lnTo>
                  <a:pt x="27759" y="3794"/>
                </a:lnTo>
                <a:lnTo>
                  <a:pt x="27759" y="17806"/>
                </a:lnTo>
                <a:lnTo>
                  <a:pt x="23338" y="13194"/>
                </a:lnTo>
                <a:lnTo>
                  <a:pt x="18907" y="13194"/>
                </a:lnTo>
                <a:close/>
              </a:path>
              <a:path fill="darken" w="51828" h="21600">
                <a:moveTo>
                  <a:pt x="29413" y="10800"/>
                </a:moveTo>
                <a:lnTo>
                  <a:pt x="32920" y="10800"/>
                </a:lnTo>
              </a:path>
              <a:path fill="darken" w="51828" h="21600">
                <a:moveTo>
                  <a:pt x="29413" y="8406"/>
                </a:moveTo>
                <a:lnTo>
                  <a:pt x="32920" y="5639"/>
                </a:lnTo>
              </a:path>
              <a:path fill="darken" w="51828" h="21600">
                <a:moveTo>
                  <a:pt x="29413" y="13194"/>
                </a:moveTo>
                <a:lnTo>
                  <a:pt x="32920" y="15961"/>
                </a:lnTo>
              </a:path>
            </a:pathLst>
          </a:custGeom>
          <a:solidFill>
            <a:srgbClr val="996600">
              <a:alpha val="50000"/>
            </a:srgbClr>
          </a:solidFill>
          <a:ln w="648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卫风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氓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280" y="838080"/>
            <a:ext cx="828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氓之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蚩蚩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，抱布贸丝。匪来贸丝，来即我谋。送子涉淇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469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至于顿丘。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匪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我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愆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期，子无良媒。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将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子无怒，秋以为期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469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469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乘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彼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垝垣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，以望复关。不见复关，泣涕涟涟。既见复关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469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载笑载言。尔卜尔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筮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，体无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咎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言。以尔车来，以我贿迁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469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469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桑之未落，其叶沃若。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于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嗟鸠兮，无食桑葚！于嗟女兮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469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无与士耽！士之耽兮，犹可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说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也。女之耽兮，不可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说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也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469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469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桑之落矣，其黄而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陨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自我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徂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尔，三岁食贫。淇水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汤汤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469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渐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车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帷裳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女也不爽，士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贰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其行。士也罔极，二三其德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469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469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三岁为妇，靡室劳矣；夙兴夜寐，靡有朝矣。言既遂矣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469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至于暴矣。兄弟不知，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咥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其笑矣。静言思之，躬自悼矣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469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469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及尔偕老，老使我怨。淇则有岸，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隰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则有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泮</a:t>
            </a: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总角之宴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469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言笑晏晏。信誓旦旦，不思其反。反是不思，亦已焉哉！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2469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601120" y="0"/>
            <a:ext cx="542880" cy="704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812000" y="6429240"/>
            <a:ext cx="571680" cy="428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86800" y="643896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324000" y="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6000"/>
                            </p:stCondLst>
                            <p:childTnLst>
                              <p:par>
                                <p:cTn id="35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6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4000"/>
                            </p:stCondLst>
                            <p:childTnLst>
                              <p:par>
                                <p:cTn id="37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30000"/>
                            </p:stCondLst>
                            <p:childTnLst>
                              <p:par>
                                <p:cTn id="37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6000"/>
                            </p:stCondLst>
                            <p:childTnLst>
                              <p:par>
                                <p:cTn id="38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0" fill="hold"/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2000"/>
                            </p:stCondLst>
                            <p:childTnLst>
                              <p:par>
                                <p:cTn id="38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0" fill="hold"/>
                                        <p:tgtEl>
                                          <p:spTgt spid="1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8000"/>
                            </p:stCondLst>
                            <p:childTnLst>
                              <p:par>
                                <p:cTn id="39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13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4000"/>
                            </p:stCondLst>
                            <p:childTnLst>
                              <p:par>
                                <p:cTn id="39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13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60000"/>
                            </p:stCondLst>
                            <p:childTnLst>
                              <p:par>
                                <p:cTn id="40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3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66000"/>
                            </p:stCondLst>
                            <p:childTnLst>
                              <p:par>
                                <p:cTn id="40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13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3" dur="164708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1592280" y="1216080"/>
          <a:ext cx="5388120" cy="114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2280" y="1216080"/>
                    <a:ext cx="5388120" cy="114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80880" y="380880"/>
            <a:ext cx="64008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憨厚农家小伙子， </a:t>
            </a:r>
            <a:br>
              <a:rPr sz="4800"/>
            </a:br>
            <a:r>
              <a:rPr b="1" lang="zh-CN" sz="4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怀抱布匹来换丝。 </a:t>
            </a:r>
            <a:br>
              <a:rPr sz="4800"/>
            </a:br>
            <a:r>
              <a:rPr b="1" lang="zh-CN" sz="4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其实不是真换丝， </a:t>
            </a:r>
            <a:br>
              <a:rPr sz="4800"/>
            </a:br>
            <a:r>
              <a:rPr b="1" lang="zh-CN" sz="4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找此借口谈婚事。 </a:t>
            </a:r>
            <a:br>
              <a:rPr sz="4800"/>
            </a:br>
            <a:r>
              <a:rPr b="1" lang="zh-CN" sz="4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送你渡过淇水西， </a:t>
            </a:r>
            <a:br>
              <a:rPr sz="4800"/>
            </a:br>
            <a:r>
              <a:rPr b="1" lang="zh-CN" sz="4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到了顿丘情依依。 </a:t>
            </a:r>
            <a:br>
              <a:rPr sz="4800"/>
            </a:br>
            <a:r>
              <a:rPr b="1" lang="zh-CN" sz="4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不是我要误佳期， </a:t>
            </a:r>
            <a:br>
              <a:rPr sz="4800"/>
            </a:br>
            <a:r>
              <a:rPr b="1" lang="zh-CN" sz="48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你无媒人失礼仪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029200" y="0"/>
            <a:ext cx="41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533520"/>
            <a:ext cx="6934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登上那堵破土墙，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面朝复关凝神望。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复关遥远不得见，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心里忧伤泪千行。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情郎忽从复关来，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又说又笑喜洋洋。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你去卜卦问吉祥，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卦象吉祥心欢畅。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赶着你的车子来，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楷体_GB2312"/>
                <a:ea typeface="楷体_GB2312"/>
              </a:rPr>
              <a:t>把我嫁妆往上装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。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18148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172200" y="0"/>
            <a:ext cx="32767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7" name=""/>
          <p:cNvGraphicFramePr/>
          <p:nvPr/>
        </p:nvGraphicFramePr>
        <p:xfrm>
          <a:off x="1827360" y="2759040"/>
          <a:ext cx="5487840" cy="133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7360" y="2759040"/>
                    <a:ext cx="548784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533520" y="380880"/>
            <a:ext cx="5715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桑树叶子未落时，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挂满枝头绿萋萋。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唉呀那些斑鸠呀，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别把桑叶急着吃。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唉呀年轻姑娘们，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别对男人情太痴。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男人要是迷恋你，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要说放弃也容易。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女子若是恋男子，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要想解脱不好离。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172200" y="0"/>
            <a:ext cx="32767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1827360" y="2759040"/>
          <a:ext cx="5487840" cy="133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7360" y="2759040"/>
                    <a:ext cx="548784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04920" y="609480"/>
            <a:ext cx="5486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桑树叶子落下了，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又枯又黄任飘零。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自从嫁到你家来，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三年挨饿受清贫。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淇水滔滔送我归，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车帷溅湿水淋淋。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我做妻子没差错，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是你奸刁缺德行。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做人标准你全无， </a:t>
            </a:r>
            <a:br>
              <a:rPr sz="3600"/>
            </a:b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三  心  二  意  耍  花  招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914400" y="1676520"/>
            <a:ext cx="35053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仿宋_GB2312"/>
                <a:ea typeface="仿宋_GB2312"/>
              </a:rPr>
              <a:t>婚后多年为你妇， 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仿宋_GB2312"/>
                <a:ea typeface="仿宋_GB2312"/>
              </a:rPr>
              <a:t>繁重家务不辞劳。 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仿宋_GB2312"/>
                <a:ea typeface="仿宋_GB2312"/>
              </a:rPr>
              <a:t>早起晚睡不嫌苦， 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仿宋_GB2312"/>
                <a:ea typeface="仿宋_GB2312"/>
              </a:rPr>
              <a:t>忙里忙外非一朝。 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仿宋_GB2312"/>
                <a:ea typeface="仿宋_GB2312"/>
              </a:rPr>
              <a:t>你的目的一达到， 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仿宋_GB2312"/>
                <a:ea typeface="仿宋_GB2312"/>
              </a:rPr>
              <a:t>逐渐对我施凶暴。 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仿宋_GB2312"/>
                <a:ea typeface="仿宋_GB2312"/>
              </a:rPr>
              <a:t>兄弟不知我处境， 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仿宋_GB2312"/>
                <a:ea typeface="仿宋_GB2312"/>
              </a:rPr>
              <a:t>个个见我都讥笑。 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仿宋_GB2312"/>
                <a:ea typeface="仿宋_GB2312"/>
              </a:rPr>
              <a:t>静下心来想一想， 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仿宋_GB2312"/>
                <a:ea typeface="仿宋_GB2312"/>
              </a:rPr>
              <a:t>独自黯然把泪抛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5280" y="765000"/>
            <a:ext cx="4032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白头偕老当年誓， 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如今未老生怨愁。 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淇水滔滔终有岸， 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沼泽虽宽有尽头。 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回想少时多欢聚， 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说笑之间情悠悠。 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当年山盟又海誓， 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哪料反目竟成仇。 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不要再想背盟事， </a:t>
            </a:r>
            <a:br>
              <a:rPr sz="3200"/>
            </a:b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既已恩绝就算了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13:51:33Z</dcterms:created>
  <dc:creator>User</dc:creator>
  <dc:description/>
  <dc:language>en-US</dc:language>
  <cp:lastModifiedBy>微软用户</cp:lastModifiedBy>
  <dcterms:modified xsi:type="dcterms:W3CDTF">2002-12-31T16:53:38Z</dcterms:modified>
  <cp:revision>104</cp:revision>
  <dc:subject/>
  <dc:title>PowerPoint 演示文稿</dc:title>
</cp:coreProperties>
</file>