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9235-0F91-44DC-932A-C50FC744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3A10-F4CC-492D-B466-C33C1A7E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EDD9-D285-4C05-BE67-49840900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CC87-6DEC-4636-8B70-380B3045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3A2C-9733-407C-9E19-B3163AA9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C662-BEC4-4D70-A1FB-203EC39C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91DB-D1F4-40F8-9715-11247ED9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F6D8-BE18-47E9-91BB-D5476614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CF4B-6ECB-46B8-9D61-27D97DEB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16CD-F4A2-4C61-9F16-EF64F68A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3AA0-CA1B-41D6-8FA4-B2F8EBA7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D5A3F-6498-4BD3-B08C-1F4016CA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E55C-9741-4DA4-A2D4-EFB2EEAB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DADB-2266-41B8-9413-22766C95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F4E1-DF69-48E8-9ABF-5DE613D4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11EE-E78B-4AAB-BA71-BB1048C9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E778-18E5-41E9-954E-7DA6D4A0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1B63-5472-41F0-9163-9EF720DA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2E04F-3D0D-46BE-8EBC-C002391C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8212-8C6A-4AA1-B0A8-C1DEE191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D5265-7133-44F0-AFD9-2106078D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14C9-31E9-410E-BAA4-22D360EA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4FD96-9A6C-4276-B7BE-1B4DACAF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371AD-36EF-44A6-AE0A-23B379A6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E150-77E3-4A04-9EEB-6EBE2ED3DD3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9EDE-4576-4EDE-A32B-5E4C2086336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5e5ff"/>
                </a:solidFill>
                <a:latin typeface="Garamond"/>
              </a:rPr>
              <a:t>  </a:t>
            </a:r>
            <a:r>
              <a:rPr b="1" lang="zh-CN" sz="6000" spc="-1" strike="noStrike">
                <a:solidFill>
                  <a:srgbClr val="e5e5ff"/>
                </a:solidFill>
                <a:latin typeface="Garamond"/>
              </a:rPr>
              <a:t>我独自漫游，犹如一朵云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威廉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华兹华斯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(1770—185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0920" y="0"/>
            <a:ext cx="5976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独自漫游，犹如一朵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0" y="4581360"/>
            <a:ext cx="2971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华兹华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"/>
          <p:cNvSpPr/>
          <p:nvPr/>
        </p:nvSpPr>
        <p:spPr>
          <a:xfrm>
            <a:off x="4443480" y="3246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走进诗人的内心世界，领会诗的精髓，建设美好</a:t>
            </a:r>
            <a:br>
              <a:rPr sz="2800"/>
            </a:b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精神家园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这首诗又译作《咏水仙》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见刘湛秋、雷霆编，春风文艺出版社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1983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月第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版《世界抒情诗选》，顾子欣译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，请你对比这首诗两种译文的不同题目，你认为哪个好，理由是什么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4221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两个题目各有优长。从表达精神漫游主题的角度看，《我独自漫游，犹如一朵云》这个标题好，他更能表现诗人对精神的不懈追求。如果从咏水仙，表达象征意义和借物抒怀主题的角度讲，《咏水仙》这个题目好。就看诗的落脚点或者重心在哪里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33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从诗里看出，水仙的世界虽然美好，但并不属于诗人，那他的独自漫游与千朵万朵的水仙有什么关系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?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反过来说，千朵万朵的水仙与诗人的独自漫游有什么样的关系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?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作者竟然这样念念不忘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21337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明确：水仙表面看起来好像的确与独自漫游的诗人没有什么关系，可是它却给孤独、寂寞的诗人留下了美好的回忆。当诗人处在寂寞孤独的时候，那“金黄”“闪烁”“连成一大片”“千万朵”“频频点头”的水仙却安慰了他的灵魂，让它得以暂时休息，暂时获得精神上的满足和享受，以便让他蓄积力量，继续上路，去追求自己理想的美好地方。这让人不由想起了屈原的著名诗句：“路漫漫其修远兮，吾将上下而求索。”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    精神上的漫游是诗人永恒的状态，而精神上的漫游这也是西方文学中一个长久的主题。实际上，我国古代也有许多追求精神生活的人和事，但和西方所不同的是，中国人的精神“漫游”都是有目的的，如孔子周游列国是为了宣传他的政治理想和治国纲领；司马迁游历大半个中国是为了进行具体的历史考察，考证历史事实，以便写作《史记》；李白游历了东南大半个中国，是为了赏尽天下美景，以便写出更好卖的诗作；徐霞客几乎阅尽华夏山水，是为了进行科学考察，以便对地理进行科学研究……东西方人文学者都很重视个体精神的建构，都很重视个人精神境界的提高。我们自然不能放松这种精神上的不断追求和构建。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拓展延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9640" y="1341360"/>
            <a:ext cx="396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wandered lonely as a cloud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我孤独地漫游，像一朵云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That floats on high o'er vales and hills,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在山丘和谷地上飘荡，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When all at once I saw a crowd,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忽然间我看见一群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A host, of golden daffodils;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金色的水仙花迎春开放，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Beside the lake, beneath the trees,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在树荫下，在湖水边，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Fluttering and dancing in the breeze.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迎着微风起舞翩翩。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148428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1341360"/>
            <a:ext cx="34560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Continuous as the stars that shine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连绵不绝，如繁星灿烂，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And twinkle on the milky way,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在银河里闪闪发光，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They stretched in never-ending line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它们沿着湖湾的边缘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Along the margin of a bay: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延伸成无穷无尽的一行；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Ten thousand saw I at a glance,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我一眼看见了一万朵，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Tossing their heads in sprightly dance.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在欢舞之中起伏颠簸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74336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40464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0"/>
            <a:ext cx="3743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The waves beside them danced; but they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粼粼波光也在跳着舞，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Out-did the sparkling waves in glee: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水仙的欢欣却胜过水波；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A poet could not but be gay,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与这样快活的伴侣为伍，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In such a jocund company: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诗人怎能不满心欢乐！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I gazed--and gazed--but little thought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我久久凝望，却想象不到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What wealth the show to me had brought: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这奇景赋予我多少财宝，——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0"/>
            <a:ext cx="338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For oft, when on my couch I lie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每当我躺在床上不眠，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In vacant or in pensive mood,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或心神空茫，或默默沉思，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They flash upon that inward eye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它们常在心灵中闪现，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Which is the bliss of solitude;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那是孤独之中的福祉；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And then my heart with pleasure fills,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于是我的心便涨满幸福，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And dances with the daffodils.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和水仙一同翩翩起舞。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26028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孤独的收割人   </a:t>
            </a:r>
            <a:r>
              <a:rPr b="1" lang="zh-CN" sz="2400" spc="-1" strike="noStrike">
                <a:solidFill>
                  <a:srgbClr val="e5e5ff"/>
                </a:solidFill>
                <a:latin typeface="Garamond"/>
              </a:rPr>
              <a:t>华兹华斯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你看！那高原上年轻的姑娘，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独自一人正在田野上。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一边收割，一边在歌唱。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请你站住，或者悄悄走过！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她独自在那里又割又捆，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她唱的音调好不凄凉；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你听！你听她的歌声，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在深邃的峡谷久久回荡。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在荒凉的阿拉伯沙漠里，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疲惫的旅人憩息在绿阴旁，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夜莺在这时嘀呖啼啭，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也不如这歌声暖人心房；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在最遥远的赫伯利群岛，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杜鹃声声唤醒了春光，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啼破了海上辽阔的沉寂，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也不如这歌声动人心肠。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谁能告诉我她在唱些什么？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也许她在为过去哀伤，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唱的是渺远的不幸的往事，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　　和那很久以前的战场？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6308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拓展延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也许她唱的是普通的曲子，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当今的生活习以为常？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她唱生活中的忧伤和痛苦，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从前发生过，今后也这样？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不论姑娘在唱些什么吧，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歌声好像永无尽头一样；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我见她举着镰刀弯下腰去，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我见她边干活儿边歌唱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我凝神屏息地听着，听着，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直到我登上高高的山冈，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那乐声虽早已在耳边消失，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却仍长久地留在我的心上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219640" y="1268280"/>
            <a:ext cx="2927520" cy="475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68360" y="1700280"/>
            <a:ext cx="34131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46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威廉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华兹华斯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(1770—1850)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英国浪漫主义诗人，“湖畔派”的代表性人物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他们曾在英国西部山地的湖畔聚居，其诗作又多描写湖畔而得名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84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年被宫廷奉为“桂冠诗人”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798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年，不到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岁的华兹华斯与塞缪尔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柯勒律治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(1772—1834)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合作出版了一本小诗集《抒情歌谣集》，标志着英国浪漫主义文学的真正崛起。华兹华斯将大自然视为灵感的源泉，认为自然美景能给人力量和愉悦，具有心理治疗作用，使人的心灵得到净化和升华。他注意吸收民间诗歌的艺术特色，采用民间生动、淳朴的口语。这使他的诗独辟蹊径，呈现出清新、质朴、天然成趣的特点，被称为伟大的“自然诗人”和“诗的风景画家”，从而结束了英国古典主义诗学的统治，对英国诗歌的发展起了重大作用。他的主要作品有长诗《序曲》《远游》，组诗《露西》等，此外还有《我们是七个》《丁登寺》《孤独的收割人》等收在《抒情歌谣集》的著名抒情诗。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33336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这首诗是华兹华斯描写自然的诗中最有名的一首。你认为这首诗的叙事线索是怎样的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理解这首诗的最大障碍是什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哪位同学来说说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谁还有不同的观点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8606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细细品读这首诗我们就会发现，诗的叙事线索是比较清楚的，即当诗人在独自漫游的时候，他忽然看见了一大片金灿灿的水仙。这种千朵万朵的水仙起舞的景象让诗人看了又看，心有所悟，十分喜悦。但还说不清自己为什么会感到喜悦，这中间有什么样的价值和意义。后来，当诗人在精神世界里漫游，感到神思恍惚或者陷入沉思，感到寂寞时，眼前便会浮现出那些水仙，并且全身心都变得满怀欢愉，像要伴随水仙翩翩起舞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1280" y="69228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什么是“漫游”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漫游有什么特点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请大家讨论交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62864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漫游”就是离开家园，去没有目标地、随机地四处寻找理想中的事物。漫游的特点是：通常是一个人，没有稳定感，四处漂泊，风餐露宿，相对于呆在家园中的人来说，是一种非常艰苦、非常孤独甚至充满危险的事情。漫游者和目标追求者的不同在于，他没有目标，只有连自己也不清楚的理想，因此，它必然会经历许多想象不到的磨难，但还不知道这些磨难能不能把自己引向那理想的圣地。因此，漫游者是孤独的、无力的和空虚的。而那些虽然也要经受风霜雨雪，但因为目标明确、始终朝着一个方向前进的追求者，因此，他们的精神是充实的、乐观的。漫游的人四处流浪，期待着心中的理想之地忽然出现。但在这追寻过程中的孤独和寂寞，则是漫游的人最难以忍受的事情 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大家读读诗的开头，看诗人是以一个什么形象出现的</a:t>
            </a: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诗人一开始就以一个</a:t>
            </a:r>
            <a:r>
              <a:rPr b="0" lang="zh-CN" sz="2400" spc="-1" strike="noStrike">
                <a:solidFill>
                  <a:srgbClr val="ffff00"/>
                </a:solidFill>
                <a:latin typeface="Garamond"/>
              </a:rPr>
              <a:t>漫游者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的形象出现在读者面前。他在漫游中忽然发现了“在湖边”，“在树阴下”，“密密麻麻”“连成一大片”的水仙，它“金黄”“闪烁”“在阵阵微风中起舞翩翩”“在欢快的舞姿里频频点头”……这一大片美丽的水仙让诗人欣喜不已，水仙的世界和诗人的漫游世界形成了强烈的</a:t>
            </a:r>
            <a:r>
              <a:rPr b="0" lang="zh-CN" sz="2400" spc="-1" strike="noStrike">
                <a:solidFill>
                  <a:srgbClr val="ffff00"/>
                </a:solidFill>
                <a:latin typeface="Garamond"/>
              </a:rPr>
              <a:t>对比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：诗人是独自一人，而水仙却有千朵万朵；诗人是漫游的，而水仙是“定居”在湖边、树阴下的；诗人是寂寞的，而水仙则是欢快起舞的。水仙的世界是多么美好，多么充满活力，让诗人感到由衷的向往。但是，诗人并不知道这个水仙世界会对自己有什么价值和意义，他也并不知道自己该不该继续追求这个理想世界。可是，时间在流逝着，而诗人却始终无法忘怀这金灿灿的让他欣喜不已的水仙世界。因此，每当他在精神世界里漫游，心神恍惚、陷入沉思、感到寂寞的时候，就会想起这些曾点亮了他的眼睛的水仙，也会立刻变得欢愉起来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2:36:00Z</dcterms:created>
  <dc:creator>雨林木风</dc:creator>
  <dc:description/>
  <dc:language>en-US</dc:language>
  <cp:lastModifiedBy>雨林木风</cp:lastModifiedBy>
  <dcterms:modified xsi:type="dcterms:W3CDTF">2009-09-11T07:02:47Z</dcterms:modified>
  <cp:revision>6</cp:revision>
  <dc:subject/>
  <dc:title>  我独自漫游，犹如一朵云 </dc:title>
</cp:coreProperties>
</file>