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19.gif" ContentType="image/gif"/>
  <Override PartName="/ppt/media/image1.jpeg" ContentType="image/jpeg"/>
  <Override PartName="/ppt/media/image18.jpeg" ContentType="image/jpeg"/>
  <Override PartName="/ppt/media/image16.gif" ContentType="image/gif"/>
  <Override PartName="/ppt/media/image2.png" ContentType="image/png"/>
  <Override PartName="/ppt/media/image9.jpeg" ContentType="image/jpeg"/>
  <Override PartName="/ppt/media/image15.png" ContentType="image/png"/>
  <Override PartName="/ppt/media/image14.png" ContentType="image/png"/>
  <Override PartName="/ppt/media/image5.gif" ContentType="image/gif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251F-9BEF-44A0-A569-457E08E9D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BB68-9876-47C9-A5BC-C0357513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9EDF-8B00-458D-BD90-D5D869F1D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22CD-1DF5-4212-8E29-F4A5E7410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0D24-D3D3-4B27-801F-FED61AA0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89BC-21DF-4C47-A437-D311DCEF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53A5-FEDA-4FBD-B494-28417C84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9A3F-C52E-4819-BD42-BE0F690A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5374-A4D3-4274-9488-93213B6C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C482-A6A5-40A4-A79A-5029972D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768A-1494-4FDC-817B-73C1F6C2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04AD-AC4E-40E9-8C3A-7EFEC672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C5EF-54CC-43AD-B200-F1297653D2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gif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990720" y="838080"/>
            <a:ext cx="7010280" cy="5029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523880" y="1295280"/>
            <a:ext cx="2590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行楷"/>
              </a:rPr>
              <a:t>望洞庭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43" name="" descr=""/>
          <p:cNvPicPr/>
          <p:nvPr/>
        </p:nvPicPr>
        <p:blipFill>
          <a:blip r:embed="rId5"/>
          <a:stretch/>
        </p:blipFill>
        <p:spPr>
          <a:xfrm>
            <a:off x="1066680" y="4648320"/>
            <a:ext cx="3124440" cy="1131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1295280" y="4724280"/>
            <a:ext cx="2514600" cy="973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7"/>
          <a:stretch/>
        </p:blipFill>
        <p:spPr>
          <a:xfrm>
            <a:off x="914400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565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61760" y="190512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刘禹锡（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772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－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842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），字梦得，唐代诗人，被白居易称作“诗豪”。他的许多作品，立意新颖，思想深刻；七言绝句受到民歌的启发，写得明快清新，富有生活气息和地方色彩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046920" y="1905120"/>
            <a:ext cx="2259000" cy="3047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2438280" y="685800"/>
            <a:ext cx="3429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作者简介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" y="838080"/>
            <a:ext cx="8153280" cy="51055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62120" y="156996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 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洞庭湖在湖南省北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长江南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中国第二大淡水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古称“云梦泽” 。跨湘鄂两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它北连长江、南接湘、资、沅、酆四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号称“八百里洞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现水面被分割为东洞庭湖、南洞庭湖、西洞庭湖三部分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洞庭湖的风光极为秀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许多景点都是国家级的风景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岳阳楼、君山、杜甫墓、杨么寨、铁经幢、屈子祠、跃龙塔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面积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9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平方公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743200" y="1066680"/>
            <a:ext cx="32004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洞庭湖概况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14400" y="10666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8333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437920" y="236196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洞庭湖的水光与秋月和谐融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666880" y="1143000"/>
            <a:ext cx="3733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理解诗意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23162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Arial"/>
              </a:rPr>
              <a:t>首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33066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Arial"/>
              </a:rPr>
              <a:t>颔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42210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Arial"/>
              </a:rPr>
              <a:t>颈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51520" y="518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Arial"/>
              </a:rPr>
              <a:t>尾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38280" y="3276720"/>
            <a:ext cx="563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ff"/>
                </a:solidFill>
                <a:latin typeface="Arial"/>
              </a:rPr>
              <a:t>水面波平浪静就好象铜镜未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417528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远远望去洞庭湖山水一片碧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07120" y="515160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恰似白银盘子托着轻轻的田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990720" y="609480"/>
            <a:ext cx="7162560" cy="3505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990720" y="4343400"/>
            <a:ext cx="7238880" cy="1724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990720" y="4114800"/>
            <a:ext cx="723888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6172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14400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7565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981080" y="2438280"/>
            <a:ext cx="2895840" cy="3048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867280" y="3124080"/>
            <a:ext cx="160020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付瑾</dc:creator>
  <dc:description>内有音频</dc:description>
  <dc:language>en-US</dc:language>
  <cp:lastModifiedBy>fj</cp:lastModifiedBy>
  <dcterms:modified xsi:type="dcterms:W3CDTF">2006-01-24T17:46:12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