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2C0F-6583-415D-AE29-3B8DD7D83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A0CA-A580-4CA6-8E23-132A997DE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3D90-8561-48B7-9217-CA8331401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0C87-CEC5-4347-ADE6-A0143A206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74FC5-651A-4BA1-80BC-C589358C2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5B54D-92A1-4FE7-8313-A3FE6CBBE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36A39-6E82-41C0-AE88-285B2966A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CB3E3-9829-4A5E-933D-9B0B89F23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218D3-7C00-4C48-9E95-0FD60B818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F06BF-EE83-4796-BDB4-8D860B113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78B6B-E771-4F37-A018-0516D9A9E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8694-E694-47EB-BECC-7AFCCC418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BBB24-DE9B-42D1-A3AC-1AB01A819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138EE-1946-4940-B1B1-1618F5F56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982B1-C353-457E-8CE2-ECDD11B71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B1E37-DBE6-4807-8858-C5F5E968D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6D43D-7FD7-46CF-9CB0-6D3AA8B29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4154A7-1D17-4688-BB67-837F90AEF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EB7D62-6138-460E-97BC-1D116572E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EB7DAD-04B0-4579-8908-6540D8507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CCA959-ECF9-4F55-A8D4-9896045DA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57B388-6119-4AE2-A137-40FA09CCC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F3BB-7833-418D-BB49-C2F862A86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A2AC66-A1F7-48CB-A94C-E40CE90CD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1D6987-CFA6-433F-905E-3CDA791D4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14E885-8232-4E19-9DA8-FDBAC5011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8AB728-63E4-41D8-AAEE-0AF128E50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D63796-121A-40AB-A068-8F29556D6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3FDD87-889D-4039-8283-8E046E5F3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B9DBB7-4B27-4847-95ED-55C96DEC6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2E40BA-D6C3-4709-8169-C1FC62A8B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9301A1-5EE5-4530-842D-63A8134E6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05A1D0-CFC7-441B-81B1-9D9A87691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66CD-7BB1-4101-880D-737387DFF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D5C116-3ECE-44BC-933C-7316283EA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97DAAC-CEAB-40ED-A422-877E1E7B0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9681C3-23AD-42D9-8B7C-A886C7E43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B5DD9C-9461-4EA4-93B1-8FDE8E85B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468407-741A-4CA2-938F-9F1B9944A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EB9A62-91D1-4EDE-8664-C6B553B99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E3207F-9ACE-461C-B2FC-7671FCC34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5BD743-0BF4-48BC-8F1A-0F71433BE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0759C1-AA1B-44B2-82E6-4074B3C1A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4B44C0-0C66-4D96-B616-C4735E980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EE21-D52E-4107-BF37-D4B6164FB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37E7DB-6D3F-4D1A-B91E-AC59D78EE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5E88B4-43C7-4A10-A762-18ABFFBEF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33FE33-D3A5-4BF6-BF0C-E8477DF03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B5ADDA-3517-4A4F-BB24-8FE5DE4DE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5822E1-B4CD-4CFE-A863-AE162B658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C21885-9BF9-43C2-B35E-50FE5DBC3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E494B9-8100-46E1-AE2C-70F680558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359545-75C4-4921-8A85-9A5E5CDE4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22FCDC-6621-449F-9CEF-5C8248A39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9C13BF-3446-4144-8524-8CA30954D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37A4-A25C-4610-9A2D-1692CB303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31556B-B454-4358-B3A8-8E00BB544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3F8C61-DD34-412A-A40F-6D36AF1C2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67C6F6-568B-472B-9F55-6EAAA17E9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452790-5824-4A8E-AC63-89DBC9119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91CFFE-26E5-487C-AEF1-C6F7C8F99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E5A60E-FB95-4719-A2E6-6D16DC8D9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1EA9E8-B07F-48D2-9134-4C018A77E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FD4D69-2957-402B-80BF-3D225548B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11B407-D37F-4D30-8B51-64741D964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AC1E73-2CEF-461B-9180-1F295EF50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BBB6-A68E-4707-B827-538FDECEE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118BDF-81BF-4761-B53B-A88A6CF80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E93AEA-4C75-4F74-AA85-E679CA82B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FEBB56-F525-47E1-B378-42969E428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A6B2-BF28-43C0-A2C7-05F7994F2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40B2-61D6-455B-9965-8D0D6AE47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D8F4D-B688-4C44-AFE2-19BACF4A22C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C9558-B05E-403C-BBCC-4C2979DB736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8DFB3-B528-4A85-B290-12D440AA3AA5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ftr" idx="11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7DE7E-3BE4-4890-ADE9-523F1AE63834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3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4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5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8467D-4884-41ED-81BB-09C8C3B0E1F3}" type="slidenum">
              <a:rPr b="0" lang="en-US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ftr" idx="17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sldNum" idx="18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6B79B-A88E-4EFD-9781-4112F4C447DD}" type="slidenum">
              <a:rPr b="0" lang="en-US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8.xml"/><Relationship Id="rId3" Type="http://schemas.openxmlformats.org/officeDocument/2006/relationships/slide" Target="slide9.xml"/><Relationship Id="rId4" Type="http://schemas.openxmlformats.org/officeDocument/2006/relationships/slide" Target="slide10.xml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5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284852676431217965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3581280" y="1066680"/>
            <a:ext cx="5257800" cy="825120"/>
          </a:xfrm>
          <a:prstGeom prst="rect">
            <a:avLst/>
          </a:prstGeom>
          <a:gradFill rotWithShape="0">
            <a:gsLst>
              <a:gs pos="0">
                <a:srgbClr val="d9d8ec"/>
              </a:gs>
              <a:gs pos="100000">
                <a:srgbClr val="64636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隶书"/>
                <a:ea typeface="隶书"/>
              </a:rPr>
              <a:t>蓬莱文章建安骨，中间小谢又清发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 rot="527400">
            <a:off x="6095880" y="3429000"/>
            <a:ext cx="205740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4872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宋体"/>
              </a:rPr>
              <a:t>谢脁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4872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66" name=""/>
          <p:cNvSpPr/>
          <p:nvPr/>
        </p:nvSpPr>
        <p:spPr>
          <a:xfrm>
            <a:off x="4876920" y="1981080"/>
            <a:ext cx="1295280" cy="685800"/>
          </a:xfrm>
          <a:prstGeom prst="wedgeEllipseCallout">
            <a:avLst>
              <a:gd name="adj1" fmla="val 45712"/>
              <a:gd name="adj2" fmla="val 96990"/>
            </a:avLst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1414210_160522075_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62920"/>
          </a:xfrm>
          <a:prstGeom prst="rect">
            <a:avLst/>
          </a:prstGeom>
          <a:ln w="0">
            <a:noFill/>
          </a:ln>
        </p:spPr>
      </p:pic>
      <p:grpSp>
        <p:nvGrpSpPr>
          <p:cNvPr id="308" name=""/>
          <p:cNvGrpSpPr/>
          <p:nvPr/>
        </p:nvGrpSpPr>
        <p:grpSpPr>
          <a:xfrm>
            <a:off x="685800" y="457200"/>
            <a:ext cx="8001000" cy="5486400"/>
            <a:chOff x="685800" y="457200"/>
            <a:chExt cx="8001000" cy="5486400"/>
          </a:xfrm>
        </p:grpSpPr>
        <p:sp>
          <p:nvSpPr>
            <p:cNvPr id="309" name=""/>
            <p:cNvSpPr/>
            <p:nvPr/>
          </p:nvSpPr>
          <p:spPr>
            <a:xfrm>
              <a:off x="685800" y="457200"/>
              <a:ext cx="8001000" cy="5486400"/>
            </a:xfrm>
            <a:prstGeom prst="rect">
              <a:avLst/>
            </a:prstGeom>
            <a:solidFill>
              <a:srgbClr val="ccccff">
                <a:alpha val="7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838080" y="685800"/>
              <a:ext cx="7772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Arial"/>
                  <a:ea typeface="华文行楷"/>
                </a:rPr>
                <a:t>喧鸟覆春洲，杂英满芳甸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"/>
          <p:cNvSpPr/>
          <p:nvPr/>
        </p:nvSpPr>
        <p:spPr>
          <a:xfrm>
            <a:off x="1066680" y="1828800"/>
            <a:ext cx="72392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方正舒体"/>
                <a:ea typeface="方正舒体"/>
              </a:rPr>
              <a:t>调动各种感觉器官，去感觉其中的美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方正舒体"/>
                <a:ea typeface="方正舒体"/>
              </a:rPr>
              <a:t>声色俱佳， 芳香扑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2007112717414766_2" descr=""/>
          <p:cNvPicPr/>
          <p:nvPr/>
        </p:nvPicPr>
        <p:blipFill>
          <a:blip r:embed="rId2">
            <a:lum bright="-4000"/>
          </a:blip>
          <a:stretch/>
        </p:blipFill>
        <p:spPr>
          <a:xfrm>
            <a:off x="8153280" y="6172200"/>
            <a:ext cx="838440" cy="48888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8229600" y="6172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华文行楷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6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1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2008820142914537_2" descr=""/>
          <p:cNvPicPr/>
          <p:nvPr/>
        </p:nvPicPr>
        <p:blipFill>
          <a:blip r:embed="rId1"/>
          <a:stretch/>
        </p:blipFill>
        <p:spPr>
          <a:xfrm>
            <a:off x="0" y="0"/>
            <a:ext cx="12268080" cy="716292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380880" y="228600"/>
            <a:ext cx="87631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隶书"/>
                <a:ea typeface="隶书"/>
              </a:rPr>
              <a:t>4.</a:t>
            </a:r>
            <a:r>
              <a:rPr b="0" lang="en-US" sz="4400" spc="-1" strike="noStrike">
                <a:solidFill>
                  <a:srgbClr val="000000"/>
                </a:solidFill>
                <a:latin typeface="隶书"/>
                <a:ea typeface="隶书"/>
              </a:rPr>
              <a:t>诗人为什么要还望京邑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57200" y="1905120"/>
            <a:ext cx="8458200" cy="4190760"/>
          </a:xfrm>
          <a:prstGeom prst="roundRect">
            <a:avLst>
              <a:gd name="adj" fmla="val 16667"/>
            </a:avLst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600200" y="281952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143000" y="2438280"/>
            <a:ext cx="6705720" cy="34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隶书"/>
              </a:rPr>
              <a:t>去矣方滞淫，怀哉罢欢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隶书"/>
              </a:rPr>
              <a:t>佳期怅何许，泪下如流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隶书"/>
              </a:rPr>
              <a:t>有情知望乡，</a:t>
            </a:r>
            <a:r>
              <a:rPr b="1" lang="en-US" sz="4400" spc="-1" strike="noStrike">
                <a:solidFill>
                  <a:srgbClr val="9933ff"/>
                </a:solidFill>
                <a:latin typeface="Arial"/>
                <a:ea typeface="隶书"/>
              </a:rPr>
              <a:t>谁能鬒不变</a:t>
            </a:r>
            <a:r>
              <a:rPr b="0" lang="en-US" sz="4400" spc="-1" strike="noStrike">
                <a:solidFill>
                  <a:srgbClr val="9933ff"/>
                </a:solidFill>
                <a:latin typeface="Arial"/>
                <a:ea typeface="隶书"/>
              </a:rPr>
              <a:t> 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%E5%8F%A4%E5%85%B8%E6%96%87%E4%BB%B6%E5%9B%BE%E6%A0%87%E4%B8%8B%E8%BD%BD630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8283600" y="6172200"/>
            <a:ext cx="8604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502298_152029052_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960120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0" y="609480"/>
            <a:ext cx="655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隶书"/>
                <a:ea typeface="隶书"/>
              </a:rPr>
              <a:t>5.</a:t>
            </a:r>
            <a:r>
              <a:rPr b="0" lang="en-US" sz="5400" spc="-1" strike="noStrike">
                <a:solidFill>
                  <a:srgbClr val="ffffff"/>
                </a:solidFill>
                <a:latin typeface="隶书"/>
                <a:ea typeface="隶书"/>
              </a:rPr>
              <a:t>诗人以何种方式表达他的离乡之情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098960" y="1698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114800" y="2971800"/>
            <a:ext cx="480060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隶书"/>
              </a:rPr>
              <a:t>借乐景抒哀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隶书"/>
              </a:rPr>
              <a:t>使情更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5238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华文行楷"/>
              </a:rPr>
              <a:t>古人写眼泪的诗句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虫催织妇机成素，露逼鲛人</a:t>
            </a:r>
            <a:r>
              <a:rPr b="1" lang="en-US" sz="4000" spc="-1" strike="noStrike">
                <a:solidFill>
                  <a:srgbClr val="ff0000"/>
                </a:solidFill>
                <a:latin typeface="隶书"/>
                <a:ea typeface="隶书"/>
              </a:rPr>
              <a:t>泪作珠</a:t>
            </a:r>
            <a:r>
              <a:rPr b="1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。才比陶潜无用处，纱巾时任酒沾濡。</a:t>
            </a:r>
            <a:r>
              <a:rPr b="0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幽</a:t>
            </a:r>
            <a:r>
              <a:rPr b="1" lang="en-US" sz="4000" spc="-1" strike="noStrike">
                <a:solidFill>
                  <a:srgbClr val="ff0000"/>
                </a:solidFill>
                <a:latin typeface="隶书"/>
                <a:ea typeface="隶书"/>
              </a:rPr>
              <a:t>兰露</a:t>
            </a:r>
            <a:r>
              <a:rPr b="1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，如啼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铁衣远戍辛勤久，</a:t>
            </a:r>
            <a:r>
              <a:rPr b="1" lang="en-US" sz="4000" spc="-1" strike="noStrike">
                <a:solidFill>
                  <a:srgbClr val="ff0000"/>
                </a:solidFill>
                <a:latin typeface="隶书"/>
                <a:ea typeface="隶书"/>
              </a:rPr>
              <a:t>玉箸</a:t>
            </a:r>
            <a:r>
              <a:rPr b="1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应啼别离后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执手</a:t>
            </a:r>
            <a:r>
              <a:rPr b="1" lang="en-US" sz="4000" spc="-1" strike="noStrike">
                <a:solidFill>
                  <a:srgbClr val="ff0000"/>
                </a:solidFill>
                <a:latin typeface="隶书"/>
                <a:ea typeface="隶书"/>
              </a:rPr>
              <a:t>相看泪眼</a:t>
            </a:r>
            <a:r>
              <a:rPr b="1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，竟无语凝噎。</a:t>
            </a:r>
            <a:r>
              <a:rPr b="0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隶书"/>
              </a:rPr>
              <a:t>燕燕于飞，差池其羽。之子于归，远送于野。瞻望弗及，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隶书"/>
              </a:rPr>
              <a:t>泣涕如雨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隶书"/>
              </a:rPr>
              <a:t>。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隶书"/>
              </a:rPr>
              <a:t>燕燕于飞，颉之颃之。之子于归，远于将之。瞻望弗及，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隶书"/>
              </a:rPr>
              <a:t>伫立以泣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隶书"/>
              </a:rPr>
              <a:t>。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隶书"/>
              </a:rPr>
              <a:t>燕燕于飞，下上其音。之子于归，远送于南。瞻望弗及，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隶书"/>
              </a:rPr>
              <a:t>实劳我心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隶书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2007112717414766_2" descr=""/>
          <p:cNvPicPr/>
          <p:nvPr/>
        </p:nvPicPr>
        <p:blipFill>
          <a:blip r:embed="rId1"/>
          <a:stretch/>
        </p:blipFill>
        <p:spPr>
          <a:xfrm>
            <a:off x="8305920" y="6369120"/>
            <a:ext cx="838080" cy="48888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/>
          <p:nvPr/>
        </p:nvSpPr>
        <p:spPr>
          <a:xfrm>
            <a:off x="8305920" y="6400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华文行楷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213005_1319265040_ywoojivg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981080" y="838080"/>
            <a:ext cx="44197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谁能鬒不变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62120" y="1752480"/>
            <a:ext cx="739116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华文行楷"/>
              </a:rPr>
              <a:t>以颜色暗示心情的沉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华文行楷"/>
              </a:rPr>
              <a:t>乡音未改鬓毛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华文行楷"/>
              </a:rPr>
              <a:t>白发三千丈，缘愁似个长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8077320" y="6019920"/>
            <a:ext cx="1066680" cy="580320"/>
            <a:chOff x="8077320" y="6019920"/>
            <a:chExt cx="1066680" cy="580320"/>
          </a:xfrm>
        </p:grpSpPr>
        <p:pic>
          <p:nvPicPr>
            <p:cNvPr id="339" name="2007112717414766_2" descr=""/>
            <p:cNvPicPr/>
            <p:nvPr/>
          </p:nvPicPr>
          <p:blipFill>
            <a:blip r:embed="rId2"/>
            <a:stretch/>
          </p:blipFill>
          <p:spPr>
            <a:xfrm>
              <a:off x="8077320" y="6019920"/>
              <a:ext cx="1066680" cy="57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"/>
            <p:cNvSpPr/>
            <p:nvPr/>
          </p:nvSpPr>
          <p:spPr>
            <a:xfrm>
              <a:off x="8153280" y="614052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行楷"/>
                </a:rPr>
                <a:t>返回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图片4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912000"/>
          </a:xfrm>
          <a:prstGeom prst="rect">
            <a:avLst/>
          </a:prstGeom>
          <a:ln w="0">
            <a:noFill/>
          </a:ln>
        </p:spPr>
      </p:pic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209680" y="609480"/>
            <a:ext cx="304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华文行楷"/>
              </a:rPr>
              <a:t>作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838080" y="1981080"/>
            <a:ext cx="7162920" cy="3733920"/>
          </a:xfrm>
          <a:prstGeom prst="roundRect">
            <a:avLst>
              <a:gd name="adj" fmla="val 16667"/>
            </a:avLst>
          </a:prstGeom>
          <a:solidFill>
            <a:srgbClr val="ffffff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3880" y="2666880"/>
            <a:ext cx="571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华文行楷"/>
              </a:rPr>
              <a:t>试用精美的语言写一段话，把诗人回望京邑之景描述出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08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图片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 txBox="1"/>
          <p:nvPr/>
        </p:nvSpPr>
        <p:spPr>
          <a:xfrm>
            <a:off x="1523880" y="1981080"/>
            <a:ext cx="609624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隶书"/>
              </a:rPr>
              <a:t>晚登三山还望京邑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隶书"/>
              <a:ea typeface="隶书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隶书"/>
              </a:rPr>
              <a:t>            </a:t>
            </a: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隶书"/>
              </a:rPr>
              <a:t>谢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77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" dur="770" fill="hold"/>
                                        <p:tgtEl>
                                          <p:spTgt spid="2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0" dur="77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2" dur="77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图片2" descr=""/>
          <p:cNvPicPr/>
          <p:nvPr/>
        </p:nvPicPr>
        <p:blipFill>
          <a:blip r:embed="rId1"/>
          <a:stretch/>
        </p:blipFill>
        <p:spPr>
          <a:xfrm>
            <a:off x="-285840" y="-266760"/>
            <a:ext cx="9715680" cy="739152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828800" y="152280"/>
            <a:ext cx="4191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华文行楷"/>
              </a:rPr>
              <a:t>作者简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U1113P115T41D65732F757DT20050708113256" descr=""/>
          <p:cNvPicPr/>
          <p:nvPr/>
        </p:nvPicPr>
        <p:blipFill>
          <a:blip r:embed="rId2"/>
          <a:stretch/>
        </p:blipFill>
        <p:spPr>
          <a:xfrm>
            <a:off x="380880" y="1143000"/>
            <a:ext cx="2819520" cy="487692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4191120" y="1219320"/>
            <a:ext cx="4495680" cy="5257800"/>
          </a:xfrm>
          <a:custGeom>
            <a:avLst/>
            <a:gdLst>
              <a:gd name="textAreaLeft" fmla="*/ 219240 w 4495680"/>
              <a:gd name="textAreaRight" fmla="*/ 4276440 w 4495680"/>
              <a:gd name="textAreaTop" fmla="*/ 219240 h 5257800"/>
              <a:gd name="textAreaBottom" fmla="*/ 5038560 h 5257800"/>
            </a:gdLst>
            <a:ahLst/>
            <a:rect l="textAreaLeft" t="textAreaTop" r="textAreaRight" b="textAreaBottom"/>
            <a:pathLst>
              <a:path w="21600" h="25261">
                <a:moveTo>
                  <a:pt x="3600" y="0"/>
                </a:moveTo>
                <a:arcTo wR="3600" hR="3600" stAng="16200000" swAng="-5400000"/>
                <a:lnTo>
                  <a:pt x="0" y="21661"/>
                </a:lnTo>
                <a:arcTo wR="3600" hR="3600" stAng="10800000" swAng="-5400000"/>
                <a:lnTo>
                  <a:pt x="18000" y="2526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3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724280" y="1600200"/>
            <a:ext cx="3505320" cy="2653560"/>
          </a:xfrm>
          <a:prstGeom prst="rect">
            <a:avLst/>
          </a:prstGeom>
          <a:solidFill>
            <a:srgbClr val="e8e8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谢脁是一位著名的</a:t>
            </a:r>
            <a:r>
              <a:rPr b="1" lang="en-US" sz="2800" spc="-1" strike="noStrike">
                <a:solidFill>
                  <a:srgbClr val="ff0000"/>
                </a:solidFill>
                <a:latin typeface="隶书"/>
                <a:ea typeface="隶书"/>
              </a:rPr>
              <a:t>山水诗人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。在中国山水诗的发展史上，谢灵运开创了山水诗派，而谢朓则使山水诗发展起来，因此他与谢灵运并称为“</a:t>
            </a:r>
            <a:r>
              <a:rPr b="1" lang="en-US" sz="2800" spc="-1" strike="noStrike">
                <a:solidFill>
                  <a:srgbClr val="ff0000"/>
                </a:solidFill>
                <a:latin typeface="隶书"/>
                <a:ea typeface="隶书"/>
              </a:rPr>
              <a:t>大小谢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” 他做过宣城太守，所以又有“</a:t>
            </a:r>
            <a:r>
              <a:rPr b="1" lang="en-US" sz="2800" spc="-1" strike="noStrike">
                <a:solidFill>
                  <a:srgbClr val="ff0000"/>
                </a:solidFill>
                <a:latin typeface="隶书"/>
                <a:ea typeface="隶书"/>
              </a:rPr>
              <a:t>谢宣城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”之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9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77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5" dur="770" fill="hold"/>
                                        <p:tgtEl>
                                          <p:spTgt spid="2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7" dur="77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9" dur="77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图片3" descr=""/>
          <p:cNvPicPr/>
          <p:nvPr/>
        </p:nvPicPr>
        <p:blipFill>
          <a:blip r:embed="rId1"/>
          <a:stretch/>
        </p:blipFill>
        <p:spPr>
          <a:xfrm>
            <a:off x="0" y="-228600"/>
            <a:ext cx="9144000" cy="7315200"/>
          </a:xfrm>
          <a:prstGeom prst="rect">
            <a:avLst/>
          </a:prstGeom>
          <a:ln w="0">
            <a:noFill/>
          </a:ln>
        </p:spPr>
      </p:pic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85800" y="609480"/>
            <a:ext cx="7162920" cy="1783800"/>
          </a:xfrm>
          <a:prstGeom prst="rect">
            <a:avLst/>
          </a:prstGeom>
          <a:gradFill rotWithShape="0">
            <a:gsLst>
              <a:gs pos="0">
                <a:srgbClr val="e8e8dc">
                  <a:alpha val="60392"/>
                </a:srgbClr>
              </a:gs>
              <a:gs pos="100000">
                <a:srgbClr val="808080">
                  <a:alpha val="8705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华文行楷"/>
              </a:rPr>
              <a:t>晚登三山还望京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隶书"/>
              </a:rPr>
              <a:t>灞涘望长安，河阳视京县。白日丽飞甍，参差皆可见。余霞散成绮，澄江静如练。喧鸟覆春洲，杂英满芳甸。去矣方滞淫，怀哉罢欢宴。佳期怅何许，泪下如流霰。有情知望乡，谁能鬒不变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8153280" y="533520"/>
            <a:ext cx="838440" cy="380880"/>
          </a:xfrm>
          <a:prstGeom prst="rect">
            <a:avLst/>
          </a:prstGeom>
          <a:solidFill>
            <a:srgbClr val="ffffff">
              <a:alpha val="43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8153280" y="53352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隶书"/>
              </a:rPr>
              <a:t>播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8153280" y="1143000"/>
            <a:ext cx="838440" cy="380880"/>
          </a:xfrm>
          <a:prstGeom prst="rect">
            <a:avLst/>
          </a:prstGeom>
          <a:solidFill>
            <a:srgbClr val="ffffff">
              <a:alpha val="43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8153280" y="114300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隶书"/>
              </a:rPr>
              <a:t>停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9448920" y="2590920"/>
            <a:ext cx="457200" cy="34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" restart="whenNotActive" nodeType="interactiveSeq" fill="hold">
                <p:stCondLst>
                  <p:cond evt="onClick">
                    <p:tgtEl>
                      <p:spTgt spid="279"/>
                    </p:tgtEl>
                  </p:cond>
                </p:stCondLst>
                <p:childTnLst>
                  <p:par>
                    <p:cTn id="83" fill="hold">
                      <p:stCondLst>
                        <p:cond evt="onClick">
                          <p:tgtEl>
                            <p:spTgt spid="279"/>
                          </p:tgtEl>
                        </p:cond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6" dur="65760" fill="hold"/>
                                        <p:tgtEl>
                                          <p:spTgt spid="2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" restart="whenNotActive" nodeType="interactiveSeq" fill="hold">
                <p:stCondLst>
                  <p:cond evt="onClick">
                    <p:tgtEl>
                      <p:spTgt spid="281"/>
                    </p:tgtEl>
                  </p:cond>
                </p:stCondLst>
                <p:childTnLst>
                  <p:par>
                    <p:cTn id="88" fill="hold">
                      <p:stCondLst>
                        <p:cond evt="onClick">
                          <p:tgtEl>
                            <p:spTgt spid="281"/>
                          </p:tgtEl>
                        </p:cond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1" dur="1" fill="hold"/>
                                        <p:tgtEl>
                                          <p:spTgt spid="2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图片6" descr=""/>
          <p:cNvPicPr/>
          <p:nvPr/>
        </p:nvPicPr>
        <p:blipFill>
          <a:blip r:embed="rId1"/>
          <a:stretch/>
        </p:blipFill>
        <p:spPr>
          <a:xfrm>
            <a:off x="0" y="-307800"/>
            <a:ext cx="9144000" cy="74736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152280" y="1552680"/>
            <a:ext cx="8718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隶书"/>
                <a:ea typeface="隶书"/>
              </a:rPr>
              <a:t>1.</a:t>
            </a:r>
            <a:r>
              <a:rPr b="1" lang="en-US" sz="5400" spc="-1" strike="noStrike">
                <a:solidFill>
                  <a:srgbClr val="000000"/>
                </a:solidFill>
                <a:latin typeface="隶书"/>
                <a:ea typeface="隶书"/>
              </a:rPr>
              <a:t>从题目中我们可以了解到哪些信息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838080" y="3733920"/>
            <a:ext cx="7925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华文行楷"/>
              </a:rPr>
              <a:t>时间、地点、事件、望的对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77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" dur="770" fill="hold"/>
                                        <p:tgtEl>
                                          <p:spTgt spid="28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" dur="77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" dur="77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图片5" descr=""/>
          <p:cNvPicPr/>
          <p:nvPr/>
        </p:nvPicPr>
        <p:blipFill>
          <a:blip r:embed="rId1"/>
          <a:stretch/>
        </p:blipFill>
        <p:spPr>
          <a:xfrm>
            <a:off x="-195120" y="-81000"/>
            <a:ext cx="9534240" cy="7020000"/>
          </a:xfrm>
          <a:prstGeom prst="rect">
            <a:avLst/>
          </a:prstGeom>
          <a:ln w="0">
            <a:noFill/>
          </a:ln>
        </p:spPr>
      </p:pic>
      <p:grpSp>
        <p:nvGrpSpPr>
          <p:cNvPr id="287" name=""/>
          <p:cNvGrpSpPr/>
          <p:nvPr/>
        </p:nvGrpSpPr>
        <p:grpSpPr>
          <a:xfrm>
            <a:off x="609480" y="152280"/>
            <a:ext cx="7772400" cy="1782720"/>
            <a:chOff x="609480" y="152280"/>
            <a:chExt cx="7772400" cy="1782720"/>
          </a:xfrm>
        </p:grpSpPr>
        <p:sp>
          <p:nvSpPr>
            <p:cNvPr id="288" name=""/>
            <p:cNvSpPr/>
            <p:nvPr/>
          </p:nvSpPr>
          <p:spPr>
            <a:xfrm>
              <a:off x="609480" y="152280"/>
              <a:ext cx="7772400" cy="160020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304560"/>
              <a:ext cx="6248520" cy="16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方正舒体"/>
                  <a:ea typeface="方正舒体"/>
                </a:rPr>
                <a:t>2.</a:t>
              </a:r>
              <a:r>
                <a:rPr b="1" lang="en-US" sz="4000" spc="-1" strike="noStrike">
                  <a:solidFill>
                    <a:srgbClr val="000000"/>
                  </a:solidFill>
                  <a:latin typeface="方正舒体"/>
                  <a:ea typeface="方正舒体"/>
                </a:rPr>
                <a:t>站在三山上，诗人望到了什么样的景色？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990720" y="1981080"/>
            <a:ext cx="7162560" cy="3458880"/>
          </a:xfrm>
          <a:prstGeom prst="rect">
            <a:avLst/>
          </a:prstGeom>
          <a:gradFill rotWithShape="0">
            <a:gsLst>
              <a:gs pos="0">
                <a:srgbClr val="ffffff">
                  <a:alpha val="81176"/>
                </a:srgbClr>
              </a:gs>
              <a:gs pos="100000">
                <a:srgbClr val="808080">
                  <a:alpha val="9215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隶书"/>
              </a:rPr>
              <a:t>在夕阳的照耀下，飞动的屋脊明丽多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隶书"/>
              </a:rPr>
              <a:t>天空的云霞散布如绮，澄静的江水宛如白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隶书"/>
              </a:rPr>
              <a:t>喧闹的群鸟覆盖了春天的小洲，杂英开满了芬芳的郊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31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838080" y="533520"/>
            <a:ext cx="7391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隶书"/>
                <a:ea typeface="隶书"/>
              </a:rPr>
              <a:t>3.</a:t>
            </a:r>
            <a:r>
              <a:rPr b="1" lang="en-US" sz="4400" spc="-1" strike="noStrike">
                <a:solidFill>
                  <a:srgbClr val="0033cc"/>
                </a:solidFill>
                <a:latin typeface="隶书"/>
                <a:ea typeface="隶书"/>
              </a:rPr>
              <a:t>从这几句话中选出你最喜欢的一句，说说你为什么喜欢它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219320" y="3048120"/>
            <a:ext cx="6248160" cy="25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0066"/>
                </a:solidFill>
                <a:uFillTx/>
                <a:latin typeface="Arial"/>
                <a:ea typeface="方正舒体"/>
                <a:hlinkClick r:id="rId2" action="ppaction://hlinksldjump"/>
              </a:rPr>
              <a:t>白日丽飞甍，参差皆可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0066"/>
                </a:solidFill>
                <a:uFillTx/>
                <a:latin typeface="Arial"/>
                <a:ea typeface="方正舒体"/>
                <a:hlinkClick r:id="rId3" action="ppaction://hlinksldjump"/>
              </a:rPr>
              <a:t>余霞散成绮，澄江静如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0066"/>
                </a:solidFill>
                <a:uFillTx/>
                <a:latin typeface="Arial"/>
                <a:ea typeface="方正舒体"/>
                <a:hlinkClick r:id="rId4" action="ppaction://hlinksldjump"/>
              </a:rPr>
              <a:t>喧鸟覆春洲，杂英满芳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%E5%8F%A4%E5%85%B8%E6%96%87%E4%BB%B6%E5%9B%BE%E6%A0%87%E4%B8%8B%E8%BD%BD630" descr=""/>
          <p:cNvPicPr/>
          <p:nvPr/>
        </p:nvPicPr>
        <p:blipFill>
          <a:blip r:embed="rId5">
            <a:grayscl/>
          </a:blip>
          <a:stretch/>
        </p:blipFill>
        <p:spPr>
          <a:xfrm>
            <a:off x="8077320" y="5791320"/>
            <a:ext cx="838080" cy="78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43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2008314926893_2" descr=""/>
          <p:cNvPicPr/>
          <p:nvPr/>
        </p:nvPicPr>
        <p:blipFill>
          <a:blip r:embed="rId1"/>
          <a:stretch/>
        </p:blipFill>
        <p:spPr>
          <a:xfrm>
            <a:off x="0" y="0"/>
            <a:ext cx="10896480" cy="685800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990720" y="380880"/>
            <a:ext cx="65530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华文行楷"/>
              </a:rPr>
              <a:t>白日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华文行楷"/>
              </a:rPr>
              <a:t>丽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华文行楷"/>
              </a:rPr>
              <a:t>飞甍，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华文行楷"/>
              </a:rPr>
              <a:t>参差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华文行楷"/>
              </a:rPr>
              <a:t>皆可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9480" y="2286000"/>
            <a:ext cx="4343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04920" y="1905120"/>
            <a:ext cx="5181480" cy="3123000"/>
          </a:xfrm>
          <a:prstGeom prst="rect">
            <a:avLst/>
          </a:prstGeom>
          <a:gradFill rotWithShape="0">
            <a:gsLst>
              <a:gs pos="0">
                <a:srgbClr val="e8e8dc">
                  <a:alpha val="38039"/>
                </a:srgbClr>
              </a:gs>
              <a:gs pos="100000">
                <a:srgbClr val="000000">
                  <a:alpha val="43137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隶书"/>
              </a:rPr>
              <a:t>丽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隶书"/>
              </a:rPr>
              <a:t>，用作动词，既含明丽之意，又兼有照射之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隶书"/>
              </a:rPr>
              <a:t>参差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隶书"/>
              </a:rPr>
              <a:t>，既写出京都宫殿的密集，又使整个画面错落有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2007112717414766_2" descr=""/>
          <p:cNvPicPr/>
          <p:nvPr/>
        </p:nvPicPr>
        <p:blipFill>
          <a:blip r:embed="rId2"/>
          <a:stretch/>
        </p:blipFill>
        <p:spPr>
          <a:xfrm>
            <a:off x="8305920" y="6019920"/>
            <a:ext cx="838080" cy="488880"/>
          </a:xfrm>
          <a:prstGeom prst="rect">
            <a:avLst/>
          </a:prstGeom>
          <a:ln w="0">
            <a:noFill/>
          </a:ln>
        </p:spPr>
      </p:pic>
      <p:pic>
        <p:nvPicPr>
          <p:cNvPr id="299" name="2007112717414766_2" descr=""/>
          <p:cNvPicPr/>
          <p:nvPr/>
        </p:nvPicPr>
        <p:blipFill>
          <a:blip r:embed="rId3"/>
          <a:stretch/>
        </p:blipFill>
        <p:spPr>
          <a:xfrm>
            <a:off x="8305920" y="6019920"/>
            <a:ext cx="838080" cy="48888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8305920" y="6095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华文行楷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2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7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1295280" y="2789280"/>
            <a:ext cx="7239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1593169_072626047_2" descr=""/>
          <p:cNvPicPr/>
          <p:nvPr/>
        </p:nvPicPr>
        <p:blipFill>
          <a:blip r:embed="rId1"/>
          <a:stretch/>
        </p:blipFill>
        <p:spPr>
          <a:xfrm>
            <a:off x="0" y="-380880"/>
            <a:ext cx="9144000" cy="75247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1523880" y="762120"/>
            <a:ext cx="7391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华文行楷"/>
              </a:rPr>
              <a:t>余霞散成绮，澄江静如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143000" y="2209680"/>
            <a:ext cx="7467480" cy="3794760"/>
          </a:xfrm>
          <a:prstGeom prst="rect">
            <a:avLst/>
          </a:prstGeom>
          <a:gradFill rotWithShape="0">
            <a:gsLst>
              <a:gs pos="0">
                <a:srgbClr val="ccccff">
                  <a:alpha val="68235"/>
                </a:srgbClr>
              </a:gs>
              <a:gs pos="100000">
                <a:srgbClr val="5e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方正舒体"/>
              </a:rPr>
              <a:t>比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方正舒体"/>
              </a:rPr>
              <a:t>色彩对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方正舒体"/>
              </a:rPr>
              <a:t>动静相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方正舒体"/>
              </a:rPr>
              <a:t>空间之美——秋水共长天一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2007112717414766_2" descr=""/>
          <p:cNvPicPr/>
          <p:nvPr/>
        </p:nvPicPr>
        <p:blipFill>
          <a:blip r:embed="rId2"/>
          <a:stretch/>
        </p:blipFill>
        <p:spPr>
          <a:xfrm>
            <a:off x="8077320" y="6235560"/>
            <a:ext cx="1066680" cy="62244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/>
          <p:nvPr/>
        </p:nvSpPr>
        <p:spPr>
          <a:xfrm>
            <a:off x="8153280" y="633888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行楷"/>
              </a:rPr>
              <a:t>返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9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9T15:06:27Z</dcterms:created>
  <dc:creator/>
  <dc:description/>
  <dc:language>en-US</dc:language>
  <cp:lastModifiedBy>zmj</cp:lastModifiedBy>
  <dcterms:modified xsi:type="dcterms:W3CDTF">2011-12-19T15:06:34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