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92A-B5DB-4DC8-9D1C-471B1E97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D6C-A41D-41B6-88C2-361978D3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CF9-3F6D-4A22-B5D5-2369AE0F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682-69EF-4337-BA20-C80F350B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1EB3-8770-4683-8B18-167B2AC6D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26BA-40C4-4C82-A613-DD6F45F6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FBC5-E984-41BF-A2CE-3B357DAF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CC687-5DE2-4966-9652-361DE073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FC32-0D70-4B35-8E4C-47332D08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CA07-539B-4B3C-912B-89BC1517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3250-E118-423B-A6E6-AA30B3AA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CBD9-3598-4DD6-9050-1D346D3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A27C-22D9-46AB-864A-349CD21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E4CC-CB93-4789-8FA5-B743CC61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E8DD-6DE5-4930-88CF-AE88326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9E5D-C34C-4B79-B80F-4F26A6CA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D32A-3216-4DB1-98BE-F20CFCC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33EA-BF5A-43E6-8535-CBC12B50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B39C-0466-4DFC-9FC1-30ED64D8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1D7-B77E-4072-95F9-1E592D31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3AAD-3BBA-47BF-A8F2-F9FD57953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2D1F-FDEF-4E35-B577-1106D33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EAE-6907-4553-B7D8-5A4D77A0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DA6A-3F27-4F6E-B527-DBC8CCBF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0F9-92C4-47FC-9F5B-3F78D69EA83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7E8F-70A3-4715-B5DA-BAC8223D3BE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91600" y="25884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381400"/>
            <a:ext cx="38383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晚登三山还望京邑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谢朓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d1fd4"/>
                </a:solidFill>
                <a:latin typeface="Arial"/>
              </a:rPr>
              <a:t>作者运用了什么手法来写景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61760" y="1353960"/>
            <a:ext cx="109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动静相对，声色结合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5240" y="198900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运用比喻，生动形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1160" y="2651040"/>
            <a:ext cx="363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融情入景：紧扣“望”字写出了景色的壮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丽，更加反衬作者的离情。“以乐景写哀情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倍增其哀乐”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8915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、精华鉴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1fd4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ed1fd4"/>
                </a:solidFill>
                <a:latin typeface="宋体"/>
              </a:rPr>
              <a:t>余霞散成绮，澄江静如练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413000"/>
            <a:ext cx="873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采用对比手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是色彩相对：绮红练白，红白相衬，对比鲜明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是动静相对：霞动江静，动静相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49760" y="292428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比喻得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把霞比作绮，把江比作练，形象生动、具体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01200" y="3860640"/>
            <a:ext cx="5715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精于选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句之“余”和“散”：因为霞“散”才显得“余”（残余）；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后句之“澄”和“静”：因为江“澄”才现出“静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李白有“</a:t>
            </a:r>
            <a:r>
              <a:rPr b="1" lang="zh-CN" sz="2800" spc="-1" strike="noStrike">
                <a:solidFill>
                  <a:srgbClr val="ed1fd4"/>
                </a:solidFill>
                <a:latin typeface="Arial"/>
              </a:rPr>
              <a:t>解道澄江静如练，令人长忆谢玄晖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”的赞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词的精当揭示了事物之间内在的因果关系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小结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诗人在诗篇中抒发了对京城的眷恋之情。他</a:t>
            </a: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即将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离京前往外地，不知何时回京，因此登山回望京城，所见京邑的春日明艳壮阔的美景，更触发了他的</a:t>
            </a: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去国怀乡之情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1989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Times New Roman"/>
              </a:rPr>
              <a:t>讨论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人们有时会被自然景物感动，你什么时侯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自然景物感动过？感动你的自然景物是什么？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何特征？感动的原因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69228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Times New Roman"/>
              </a:rPr>
              <a:t>拓展延伸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2209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0792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宋体"/>
              </a:rPr>
              <a:t>谢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6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9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字玄晖，陈郡阳夏人，与谢灵运同族，前后齐名，与谢灵运并称为</a:t>
            </a:r>
            <a:r>
              <a:rPr b="1" lang="zh-CN" sz="3200" spc="-1" strike="noStrike">
                <a:solidFill>
                  <a:srgbClr val="3399ff"/>
                </a:solidFill>
                <a:latin typeface="宋体"/>
              </a:rPr>
              <a:t>“大小谢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他曾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宣城太守，因此被人称为“谢宣城”。他当时生活在黑暗的现实环境中，目睹仕途险恶，常常流露出忧生之叹。后来受诬陷，下狱而死，年仅三十六岁。他是南朝齐代著名的山水诗人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诗风清新、秀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《谢宣城集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中国山水诗的发展史上，谢灵运开创的山水诗派，而谢朓则使山水诗发展起来，因此他与谢灵运并称为“大小谢”，谢灵运被称为“大谢”，谢脁则是“小谢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谢脁的山水诗诗风清新、秀丽，李白曾写诗称赞“</a:t>
            </a: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蓬莱文章建安骨，中间小谢又清发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，“小谢”是谢脁，“清发”就是赞美他清新秀丽的诗风。他的写景诗吸收了谢灵运作品中那种细致观察与逼真描写的优点，又避免了谢灵运诗作中的晦涩之感，成就很高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492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解题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晚登三山还望京邑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9480" y="1739880"/>
            <a:ext cx="3003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诗题的八个字，点明了</a:t>
            </a: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时间、地点和望的对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傍晚时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山，在今南京西南，因有三座山峰相连而得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还望，回头望。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京邑，指京城建康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赏析诗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为何而望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从何而望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望见何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、望后如何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、为何而望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诗人被贬去外地做官，即将远离京城健康，一旦离去，恐怕再也没有机会回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1880" y="744480"/>
            <a:ext cx="8067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、从何而望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640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作者并不是望“长安”“京县”，为什么要写“望长安”“视京县”？这是一种什么写法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i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     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42720" y="3251160"/>
            <a:ext cx="10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这两句以王粲望长安、潘岳望洛阳比喻自己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回望京邑。这是</a:t>
            </a: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用典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的写法，化用古人诗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3120" y="4875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、望见何处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齐读诗人望见的景色，从中找出本诗的意象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0211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用自己的语言来描述诗中的画面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提示：季节、色彩、声音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41560" y="22953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  <a:ea typeface="黑体"/>
              </a:rPr>
              <a:t>白日、飞甍、余霞、澄江、喧鸟、春洲、杂英、方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、望后如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诗人回望京邑看到这幅图画，产生了怎样的情感？从哪些字可以看出来？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213372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怀、怅、泪、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3400" y="21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学习炼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25120" y="285264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思考：如何我们同学们心情不好，写文章时笔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景物是怎样的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08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43040" y="393372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何诗人处在即将去国离乡的愁绪中，笔下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景色还如此明艳壮阔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82560" y="5157720"/>
            <a:ext cx="517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紧扣“望”字写出了景色的壮丽，更加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  <a:ea typeface="黑体"/>
              </a:rPr>
              <a:t>反衬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作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的离情</a:t>
            </a:r>
            <a:r>
              <a:rPr b="1" lang="zh-CN" sz="3200" spc="-1" strike="noStrike">
                <a:solidFill>
                  <a:srgbClr val="ed1fd4"/>
                </a:solidFill>
                <a:latin typeface="Arial"/>
              </a:rPr>
              <a:t>。“以乐景写哀情，倍增其哀乐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6:33:57Z</dcterms:created>
  <dc:creator>微软用户</dc:creator>
  <dc:description/>
  <dc:language>en-US</dc:language>
  <cp:lastModifiedBy>微软用户</cp:lastModifiedBy>
  <dcterms:modified xsi:type="dcterms:W3CDTF">2009-03-19T12:21:54Z</dcterms:modified>
  <cp:revision>14</cp:revision>
  <dc:subject/>
  <dc:title>幻灯片 1</dc:title>
</cp:coreProperties>
</file>