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%E7%BF%BB%E9%A1%B5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gif" ContentType="image/gif"/>
  <Override PartName="/ppt/media/image7.gif" ContentType="image/gif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B3AA-6330-4813-A253-B532B66E1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C41D-1521-4E91-9341-21A05249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FDE7-05D6-4FA5-B736-16682A24E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9588-C9DB-44F5-A529-956491D5B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33A4-CC3F-4EB6-94F7-7C94CCBD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DE06-6B42-40E2-8F2D-FFB75C63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F828-B323-4118-8B85-B4FF399E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F167-9CFD-4CCD-A5A7-89B07B76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798B-6FD8-4EAE-B370-DABB87D6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06D7-72DD-413D-B409-CC02D51F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B1FB-A88E-4793-9296-82D41A32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A3CB-9DAC-44F6-B65D-53274CE9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FDF9-144B-4A49-A0EE-DA26F4EE1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slide8.xml"/><Relationship Id="rId3" Type="http://schemas.openxmlformats.org/officeDocument/2006/relationships/image" Target="../media/image6.gif"/><Relationship Id="rId4" Type="http://schemas.openxmlformats.org/officeDocument/2006/relationships/audio" Target="../media/&#32763;&#39029;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slide2.xml"/><Relationship Id="rId3" Type="http://schemas.openxmlformats.org/officeDocument/2006/relationships/image" Target="../media/image6.gif"/><Relationship Id="rId4" Type="http://schemas.openxmlformats.org/officeDocument/2006/relationships/audio" Target="../media/&#32763;&#39029;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slide2.xml"/><Relationship Id="rId3" Type="http://schemas.openxmlformats.org/officeDocument/2006/relationships/image" Target="../media/image6.gif"/><Relationship Id="rId4" Type="http://schemas.openxmlformats.org/officeDocument/2006/relationships/audio" Target="../media/&#32763;&#39029;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" Target="slide2.xml"/><Relationship Id="rId3" Type="http://schemas.openxmlformats.org/officeDocument/2006/relationships/image" Target="../media/image6.gif"/><Relationship Id="rId4" Type="http://schemas.openxmlformats.org/officeDocument/2006/relationships/audio" Target="../media/&#32763;&#39029;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风景0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219560" y="-15732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风景13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03840" y="-27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风景05" descr=""/>
          <p:cNvPicPr/>
          <p:nvPr/>
        </p:nvPicPr>
        <p:blipFill>
          <a:blip r:embed="rId3"/>
          <a:stretch/>
        </p:blipFill>
        <p:spPr>
          <a:xfrm>
            <a:off x="-720720" y="-243000"/>
            <a:ext cx="1018872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0000" y="0"/>
            <a:ext cx="71294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渡汉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宋之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岭外音书绝，经冬复历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近乡情更怯，不敢问来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34920" y="220500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4922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716280"/>
            <a:ext cx="8605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396720" y="2349360"/>
            <a:ext cx="883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思考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诗歌体现了诗人什么样的心情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924280"/>
            <a:ext cx="92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写出诗人贬谪在外，家书久绝，担惊受怕的心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181080" y="4221000"/>
            <a:ext cx="97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故乡之于游子，是一种永恒的守望，是一种不老的青春，是痛彻心底的怀念。离开故乡，离开的是距离，离不开的是永远的思念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90040" y="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cc"/>
                </a:solidFill>
                <a:latin typeface="华文新魏"/>
                <a:ea typeface="华文新魏"/>
              </a:rPr>
              <a:t>参考译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闪烁2" descr=""/>
          <p:cNvPicPr/>
          <p:nvPr/>
        </p:nvPicPr>
        <p:blipFill>
          <a:blip r:embed="rId1"/>
          <a:stretch/>
        </p:blipFill>
        <p:spPr>
          <a:xfrm>
            <a:off x="5867280" y="16020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867280" y="773280"/>
            <a:ext cx="304812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6960" y="861840"/>
            <a:ext cx="304812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GL_030" descr=""/>
          <p:cNvPicPr/>
          <p:nvPr/>
        </p:nvPicPr>
        <p:blipFill>
          <a:blip r:embed="rId2"/>
          <a:stretch/>
        </p:blipFill>
        <p:spPr>
          <a:xfrm>
            <a:off x="2438280" y="106668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76320" y="0"/>
            <a:ext cx="2209680" cy="144792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75438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80010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GL_030" descr=""/>
          <p:cNvPicPr/>
          <p:nvPr/>
        </p:nvPicPr>
        <p:blipFill>
          <a:blip r:embed="rId4"/>
          <a:stretch/>
        </p:blipFill>
        <p:spPr>
          <a:xfrm>
            <a:off x="2705040" y="1066680"/>
            <a:ext cx="343080" cy="343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09480" y="1676520"/>
            <a:ext cx="815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幼圆"/>
              </a:rPr>
              <a:t>我就像王粲在灞陵上眺望长安，又像潘岳在河阳回顾洛阳那样登上三山回望京城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幼圆"/>
              </a:rPr>
              <a:t>夕阳使飞耸的屋脊色彩明丽，京城内的屋宇高低不齐，历历在目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幼圆"/>
              </a:rPr>
              <a:t>残余的晚霞铺展开来就像彩锦，澄清的江水平静得如同白练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幼圆"/>
              </a:rPr>
              <a:t>喧闹的群鸟覆盖了春天的小洲，各种花朵开满了芳香的郊野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闪烁2" descr=""/>
          <p:cNvPicPr/>
          <p:nvPr/>
        </p:nvPicPr>
        <p:blipFill>
          <a:blip r:embed="rId1"/>
          <a:stretch/>
        </p:blipFill>
        <p:spPr>
          <a:xfrm>
            <a:off x="5867280" y="16020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867280" y="773280"/>
            <a:ext cx="304812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06960" y="861840"/>
            <a:ext cx="304812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GL_030" descr=""/>
          <p:cNvPicPr/>
          <p:nvPr/>
        </p:nvPicPr>
        <p:blipFill>
          <a:blip r:embed="rId2"/>
          <a:stretch/>
        </p:blipFill>
        <p:spPr>
          <a:xfrm>
            <a:off x="2438280" y="106668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76320" y="0"/>
            <a:ext cx="2209680" cy="1447920"/>
          </a:xfrm>
          <a:prstGeom prst="rect">
            <a:avLst/>
          </a:prstGeom>
          <a:ln w="0">
            <a:noFill/>
          </a:ln>
        </p:spPr>
      </p:pic>
      <p:sp>
        <p:nvSpPr>
          <p:cNvPr id="149" name="">
            <a:hlinkClick r:id="" action="ppaction://hlinkshowjump?jump=previousslide"/>
          </p:cNvPr>
          <p:cNvSpPr/>
          <p:nvPr/>
        </p:nvSpPr>
        <p:spPr>
          <a:xfrm>
            <a:off x="75438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80010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4582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GL_030" descr=""/>
          <p:cNvPicPr/>
          <p:nvPr/>
        </p:nvPicPr>
        <p:blipFill>
          <a:blip r:embed="rId4"/>
          <a:stretch/>
        </p:blipFill>
        <p:spPr>
          <a:xfrm>
            <a:off x="2705040" y="1066680"/>
            <a:ext cx="343080" cy="343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80880" y="2133720"/>
            <a:ext cx="8229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</a:rPr>
              <a:t>我将远离京城在他乡久留，真怀念那些已停办的欢乐宴会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新魏"/>
              </a:rPr>
              <a:t>回乡的日期在何时，我惆怅不已泪落如雪珠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有感情的人都知道思念家乡，谁的黑头发能不改变？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9280" y="99072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cc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华文中宋"/>
                <a:ea typeface="华文中宋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《晚</a:t>
            </a:r>
            <a:r>
              <a:rPr b="1" lang="en-US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登三山还望京邑》抒发诗人怎样的感情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2286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Times New Roman"/>
                <a:ea typeface="黑体"/>
              </a:rPr>
              <a:t>思考与探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闪烁2" descr=""/>
          <p:cNvPicPr/>
          <p:nvPr/>
        </p:nvPicPr>
        <p:blipFill>
          <a:blip r:embed="rId1"/>
          <a:stretch/>
        </p:blipFill>
        <p:spPr>
          <a:xfrm>
            <a:off x="241200" y="26676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52280" y="914400"/>
            <a:ext cx="4191120" cy="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1960" y="1015920"/>
            <a:ext cx="4127760" cy="0"/>
          </a:xfrm>
          <a:prstGeom prst="line">
            <a:avLst/>
          </a:prstGeom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WW_021" descr=""/>
          <p:cNvPicPr/>
          <p:nvPr/>
        </p:nvPicPr>
        <p:blipFill>
          <a:blip r:embed="rId2"/>
          <a:stretch/>
        </p:blipFill>
        <p:spPr>
          <a:xfrm>
            <a:off x="6934320" y="152280"/>
            <a:ext cx="1143000" cy="7002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24000" y="162864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提示：</a:t>
            </a:r>
            <a:r>
              <a:rPr b="1" lang="en-US" sz="3200" spc="-1" strike="noStrike">
                <a:solidFill>
                  <a:srgbClr val="ffff00"/>
                </a:solidFill>
                <a:latin typeface="华文中宋"/>
              </a:rPr>
              <a:t>作者在诗篇中抒发了对京城的眷恋之情。他即将离京前往外地，不知何时回京，因此登山回望京城，抒发怀乡之思。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393372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方正姚体"/>
              </a:rPr>
              <a:t>本课的两首诗在抒情写景方面有什么异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472428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中宋"/>
                <a:ea typeface="华文中宋"/>
              </a:rPr>
              <a:t>提示：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相同之处是：两诗都以乐景衬写愁情。不同之处是：“大谢”以写景来抒发其郁郁不得志之情。“小谢”则是以写景来抒发其眷恋京城之情。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58920" y="2060640"/>
            <a:ext cx="6481800" cy="13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9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晚登三山还望京邑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4653000"/>
            <a:ext cx="1512720" cy="1536840"/>
          </a:xfrm>
          <a:custGeom>
            <a:avLst/>
            <a:gdLst>
              <a:gd name="textAreaLeft" fmla="*/ 525960 w 1512720"/>
              <a:gd name="textAreaRight" fmla="*/ 986760 w 1512720"/>
              <a:gd name="textAreaTop" fmla="*/ 534240 h 1536840"/>
              <a:gd name="textAreaBottom" fmla="*/ 1002600 h 1536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509" y="7509"/>
                </a:lnTo>
                <a:lnTo>
                  <a:pt x="10800" y="0"/>
                </a:lnTo>
                <a:lnTo>
                  <a:pt x="14091" y="7509"/>
                </a:lnTo>
                <a:lnTo>
                  <a:pt x="21600" y="10800"/>
                </a:lnTo>
                <a:lnTo>
                  <a:pt x="14091" y="14091"/>
                </a:lnTo>
                <a:lnTo>
                  <a:pt x="10800" y="21600"/>
                </a:lnTo>
                <a:lnTo>
                  <a:pt x="7509" y="14091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cc66ff"/>
              </a:gs>
              <a:gs pos="100000">
                <a:srgbClr val="66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9640" y="5943600"/>
            <a:ext cx="8001000" cy="150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6165720"/>
            <a:ext cx="8001000" cy="1526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66ff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4360" y="4581360"/>
            <a:ext cx="1366560" cy="1679760"/>
          </a:xfrm>
          <a:custGeom>
            <a:avLst/>
            <a:gdLst>
              <a:gd name="textAreaLeft" fmla="*/ 563040 w 1366560"/>
              <a:gd name="textAreaRight" fmla="*/ 803520 w 1366560"/>
              <a:gd name="textAreaTop" fmla="*/ 691920 h 1679760"/>
              <a:gd name="textAreaBottom" fmla="*/ 987840 h 1679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cc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风景01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449280"/>
            <a:ext cx="874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谢眺（ 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464 —— 499 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），字玄晖，陈郡阳夏人，与谢灵运同族，前后齐名，与谢灵运并称为“大小谢”。他曾任宣城太守等职，因此被人称为“谢宣城”。他当时生活在黑暗的现实环境中，目睹仕途险恶，常常流露出忧生之叹。后来受诬陷，下狱而死，年仅三十六岁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250" autoRev="1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1981080"/>
            <a:ext cx="7696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黑体"/>
              </a:rPr>
              <a:t>他是南朝齐代著名的山水诗人，诗风清新、秀丽。他的写景诗吸收了谢灵运作品中那种细致观察与逼真描写的优点，避免了谢灵运诗作中的晦涩之弊，成就很高。有《谢宣城集》。</a:t>
            </a:r>
            <a:r>
              <a:rPr b="0" lang="en-US" sz="2400" spc="-1" strike="noStrike">
                <a:solidFill>
                  <a:srgbClr val="ffffff"/>
                </a:solidFill>
                <a:latin typeface="华文中宋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闪烁2" descr=""/>
          <p:cNvPicPr/>
          <p:nvPr/>
        </p:nvPicPr>
        <p:blipFill>
          <a:blip r:embed="rId1"/>
          <a:stretch/>
        </p:blipFill>
        <p:spPr>
          <a:xfrm>
            <a:off x="228600" y="16020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60280" y="773280"/>
            <a:ext cx="327672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8880" y="885960"/>
            <a:ext cx="327672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previousslide"/>
          </p:cNvPr>
          <p:cNvSpPr/>
          <p:nvPr/>
        </p:nvSpPr>
        <p:spPr>
          <a:xfrm>
            <a:off x="75438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80010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4582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wen01" descr=""/>
          <p:cNvPicPr/>
          <p:nvPr/>
        </p:nvPicPr>
        <p:blipFill>
          <a:blip r:embed="rId3"/>
          <a:stretch/>
        </p:blipFill>
        <p:spPr>
          <a:xfrm>
            <a:off x="5486400" y="-1676520"/>
            <a:ext cx="6286680" cy="4572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100520" y="836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cc"/>
                </a:solidFill>
                <a:latin typeface="华文新魏"/>
                <a:ea typeface="华文新魏"/>
              </a:rPr>
              <a:t>作者简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7%BF%BB%E9%A1%B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2120" y="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闪烁2" descr=""/>
          <p:cNvPicPr/>
          <p:nvPr/>
        </p:nvPicPr>
        <p:blipFill>
          <a:blip r:embed="rId1"/>
          <a:stretch/>
        </p:blipFill>
        <p:spPr>
          <a:xfrm>
            <a:off x="228600" y="16020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60280" y="773280"/>
            <a:ext cx="327672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8880" y="885960"/>
            <a:ext cx="327672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previousslide"/>
          </p:cNvPr>
          <p:cNvSpPr/>
          <p:nvPr/>
        </p:nvSpPr>
        <p:spPr>
          <a:xfrm>
            <a:off x="75438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80010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84582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wen01" descr=""/>
          <p:cNvPicPr/>
          <p:nvPr/>
        </p:nvPicPr>
        <p:blipFill>
          <a:blip r:embed="rId3"/>
          <a:stretch/>
        </p:blipFill>
        <p:spPr>
          <a:xfrm>
            <a:off x="5486400" y="-1676520"/>
            <a:ext cx="6286680" cy="4572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5800" y="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基本解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50532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作者以古人的</a:t>
            </a:r>
            <a:r>
              <a:rPr b="1" lang="en-US" sz="2800" spc="-1" strike="noStrike">
                <a:solidFill>
                  <a:srgbClr val="ffffff"/>
                </a:solidFill>
                <a:latin typeface="幼圆"/>
                <a:ea typeface="黑体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望京</a:t>
            </a:r>
            <a:r>
              <a:rPr b="1" lang="en-US" sz="2800" spc="-1" strike="noStrike">
                <a:solidFill>
                  <a:srgbClr val="ffffff"/>
                </a:solidFill>
                <a:latin typeface="幼圆"/>
                <a:ea typeface="黑体"/>
              </a:rPr>
              <a:t>”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来比自己的</a:t>
            </a:r>
            <a:r>
              <a:rPr b="1" lang="en-US" sz="2800" spc="-1" strike="noStrike">
                <a:solidFill>
                  <a:srgbClr val="ffffff"/>
                </a:solidFill>
                <a:latin typeface="幼圆"/>
                <a:ea typeface="黑体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望京</a:t>
            </a:r>
            <a:r>
              <a:rPr b="1" lang="en-US" sz="2800" spc="-1" strike="noStrike">
                <a:solidFill>
                  <a:srgbClr val="ffffff"/>
                </a:solidFill>
                <a:latin typeface="幼圆"/>
                <a:ea typeface="黑体"/>
              </a:rPr>
              <a:t>”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：以灞涘、河阳</a:t>
            </a:r>
            <a:r>
              <a:rPr b="1" lang="en-US" sz="2800" spc="-1" strike="noStrike">
                <a:solidFill>
                  <a:srgbClr val="ffffff"/>
                </a:solidFill>
                <a:latin typeface="幼圆"/>
                <a:ea typeface="黑体"/>
              </a:rPr>
              <a:t>比三山，以长安、洛阳比建康，以王粲、潘岳比自己，为全诗定下了基调。“望”是贯穿</a:t>
            </a:r>
            <a:r>
              <a:rPr b="1" lang="en-US" sz="2800" spc="-1" strike="noStrike">
                <a:solidFill>
                  <a:srgbClr val="ffffff"/>
                </a:solidFill>
                <a:latin typeface="幼圆"/>
              </a:rPr>
              <a:t>全篇的线索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523880"/>
            <a:ext cx="8153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第一层是开头的两句：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“灞涘望长安，河阳视京县。”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这两句化用古人诗句，以喻今日自己的心态。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7%BF%BB%E9%A1%B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62120" y="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闪烁2" descr=""/>
          <p:cNvPicPr/>
          <p:nvPr/>
        </p:nvPicPr>
        <p:blipFill>
          <a:blip r:embed="rId1"/>
          <a:stretch/>
        </p:blipFill>
        <p:spPr>
          <a:xfrm>
            <a:off x="228600" y="16020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60280" y="773280"/>
            <a:ext cx="327672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8880" y="885960"/>
            <a:ext cx="327672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75438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80010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84582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wen01" descr=""/>
          <p:cNvPicPr/>
          <p:nvPr/>
        </p:nvPicPr>
        <p:blipFill>
          <a:blip r:embed="rId3"/>
          <a:stretch/>
        </p:blipFill>
        <p:spPr>
          <a:xfrm>
            <a:off x="5486400" y="-1676520"/>
            <a:ext cx="6286680" cy="4572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85800" y="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基本解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990720"/>
            <a:ext cx="868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ffff00"/>
                </a:solidFill>
                <a:latin typeface="华文新魏"/>
                <a:ea typeface="华文新魏"/>
              </a:rPr>
              <a:t>第二层是以下的六句，紧扣“望”字，描绘了“登三山望京邑”所见的壮丽景象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259092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白日丽飞甍”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是写在夕阳的照耀下，飞动的屋脊明丽多姿。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“參差皆可见”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是写京邑内的屋宇高低不齐。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“余霞散为绮，澄江静如练”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是千古名句。描绘了天空的云霞散布如绮，澄静的江水宛如白练。作者选择富有时令和环境色彩的词语来描写，形象地显示了“余霞”、“澄江”的特色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7%BF%BB%E9%A1%B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0"/>
            <a:ext cx="18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闪烁2" descr=""/>
          <p:cNvPicPr/>
          <p:nvPr/>
        </p:nvPicPr>
        <p:blipFill>
          <a:blip r:embed="rId1"/>
          <a:stretch/>
        </p:blipFill>
        <p:spPr>
          <a:xfrm>
            <a:off x="228600" y="16020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60280" y="773280"/>
            <a:ext cx="327672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8880" y="885960"/>
            <a:ext cx="327672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75438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80010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84582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wen01" descr=""/>
          <p:cNvPicPr/>
          <p:nvPr/>
        </p:nvPicPr>
        <p:blipFill>
          <a:blip r:embed="rId3"/>
          <a:stretch/>
        </p:blipFill>
        <p:spPr>
          <a:xfrm>
            <a:off x="5486400" y="-1676520"/>
            <a:ext cx="6286680" cy="4572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85800" y="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基本解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600200"/>
            <a:ext cx="7924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</a:t>
            </a:r>
            <a:r>
              <a:rPr b="1" lang="en-US" sz="2800" spc="-1" strike="noStrike">
                <a:solidFill>
                  <a:srgbClr val="ffff00"/>
                </a:solidFill>
                <a:latin typeface="华文新魏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华文新魏"/>
              </a:rPr>
              <a:t>喧鸟覆春洲”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</a:rPr>
              <a:t>的大意是：喧闹的群鸟覆盖了春天的小洲。</a:t>
            </a:r>
            <a:r>
              <a:rPr b="1" lang="en-US" sz="2800" spc="-1" strike="noStrike">
                <a:solidFill>
                  <a:srgbClr val="ffff00"/>
                </a:solidFill>
                <a:latin typeface="华文新魏"/>
              </a:rPr>
              <a:t>“杂英满芳甸”</a:t>
            </a:r>
            <a:r>
              <a:rPr b="1" lang="en-US" sz="2800" spc="-1" strike="noStrike">
                <a:solidFill>
                  <a:srgbClr val="ffffff"/>
                </a:solidFill>
                <a:latin typeface="华文新魏"/>
              </a:rPr>
              <a:t>的大意是说：杂花开满了芬芳的郊野。这一层的六句，描写了一幅明艳壮阔的春晴晚景图。良辰美景陈现眼前，令人陶醉和留恋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7%BF%BB%E9%A1%B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400800" y="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闪烁2" descr=""/>
          <p:cNvPicPr/>
          <p:nvPr/>
        </p:nvPicPr>
        <p:blipFill>
          <a:blip r:embed="rId1"/>
          <a:stretch/>
        </p:blipFill>
        <p:spPr>
          <a:xfrm>
            <a:off x="5867280" y="16020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867280" y="773280"/>
            <a:ext cx="304812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06960" y="861840"/>
            <a:ext cx="304812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GL_030" descr=""/>
          <p:cNvPicPr/>
          <p:nvPr/>
        </p:nvPicPr>
        <p:blipFill>
          <a:blip r:embed="rId2"/>
          <a:stretch/>
        </p:blipFill>
        <p:spPr>
          <a:xfrm>
            <a:off x="2438280" y="106668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6320" y="0"/>
            <a:ext cx="2209680" cy="1447920"/>
          </a:xfrm>
          <a:prstGeom prst="rect">
            <a:avLst/>
          </a:prstGeom>
          <a:ln w="0">
            <a:noFill/>
          </a:ln>
        </p:spPr>
      </p:pic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75438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80010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84582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基本解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9144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第三层从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去矣方滞淫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</a:rPr>
              <a:t>”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到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谁能鬒不变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</a:rPr>
              <a:t>”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。这一层融景入情，抒发诗人登山临江望京邑所引起的怀乡愁绪。</a:t>
            </a: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24382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去矣方滞淫”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的大意是：就要离开京邑而长久地滞留他乡了。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“怀哉罢欢宴”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的大意是：多么怀念那已停办的欢乐宴会。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“佳期怅何许”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的大意是：回乡的日期不知在何时，令人怅恨。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“泪下如流霰”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的大意是：眼泪流下犹如雪珠。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“有情知望乡，谁能鬒不变”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这两句的大意是：有感情的人都知道怀念家乡，谁人的黑头发能够不变白呢？这两句回应开头的两句，说明自己与王粲、潘岳同具去国之悲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90040" y="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cc"/>
                </a:solidFill>
                <a:latin typeface="华文新魏"/>
                <a:ea typeface="华文新魏"/>
              </a:rPr>
              <a:t>精华鉴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闪烁2" descr=""/>
          <p:cNvPicPr/>
          <p:nvPr/>
        </p:nvPicPr>
        <p:blipFill>
          <a:blip r:embed="rId1"/>
          <a:stretch/>
        </p:blipFill>
        <p:spPr>
          <a:xfrm>
            <a:off x="5867280" y="160200"/>
            <a:ext cx="571680" cy="571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867280" y="773280"/>
            <a:ext cx="304812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06960" y="861840"/>
            <a:ext cx="3048120" cy="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GL_030" descr=""/>
          <p:cNvPicPr/>
          <p:nvPr/>
        </p:nvPicPr>
        <p:blipFill>
          <a:blip r:embed="rId2"/>
          <a:stretch/>
        </p:blipFill>
        <p:spPr>
          <a:xfrm>
            <a:off x="2438280" y="106668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6320" y="0"/>
            <a:ext cx="2209680" cy="144792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" action="ppaction://hlinkshowjump?jump=previousslide"/>
          </p:cNvPr>
          <p:cNvSpPr/>
          <p:nvPr/>
        </p:nvSpPr>
        <p:spPr>
          <a:xfrm>
            <a:off x="75438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0010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4582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4d0808"/>
              </a:gs>
              <a:gs pos="50000">
                <a:srgbClr val="fff200"/>
              </a:gs>
              <a:gs pos="100000">
                <a:srgbClr val="4d0808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GL_030" descr=""/>
          <p:cNvPicPr/>
          <p:nvPr/>
        </p:nvPicPr>
        <p:blipFill>
          <a:blip r:embed="rId4"/>
          <a:stretch/>
        </p:blipFill>
        <p:spPr>
          <a:xfrm>
            <a:off x="2705040" y="1066680"/>
            <a:ext cx="343080" cy="343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371600" y="914400"/>
            <a:ext cx="739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华文中宋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华文中宋"/>
              </a:rPr>
              <a:t>余霞散成绮，澄江静如练”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</a:rPr>
              <a:t>鉴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中宋"/>
              </a:rPr>
              <a:t>①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</a:rPr>
              <a:t>采用对比手法。一是色彩相对：绮红练白，红白相衬，对比鲜明。二是动静相对：霞动江静，动静相谐。 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30481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比喻得当。把霞比作绮，把江比作练，形象生动、具体。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267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精于选词。前句之“余”和“散”：因为霞“散”才显得“余”（残余）；后句之“澄”和“静”：因为江“澄”才现出“静”。选词的精当揭示了事物之间内在的因果关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27:31Z</dcterms:created>
  <dc:creator>xzh037</dc:creator>
  <dc:description/>
  <dc:language>en-US</dc:language>
  <cp:lastModifiedBy>zmj</cp:lastModifiedBy>
  <dcterms:modified xsi:type="dcterms:W3CDTF">2011-12-19T14:49:18Z</dcterms:modified>
  <cp:revision>355</cp:revision>
  <dc:subject/>
  <dc:title>PowerPoint 演示文稿</dc:title>
</cp:coreProperties>
</file>