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gif" ContentType="image/gif"/>
  <Override PartName="/ppt/media/image6.jpeg" ContentType="image/jpeg"/>
  <Override PartName="/ppt/media/chimes.wav" ContentType="audio/x-wav"/>
  <Override PartName="/ppt/media/image7.jpeg" ContentType="image/jpeg"/>
  <Override PartName="/ppt/media/image8.gif" ContentType="image/gif"/>
  <Override PartName="/ppt/media/applaus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7E7-1051-4815-82A5-6B1C0B11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41B-9B0E-40A5-BA08-A758724A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2D4-C756-47C1-A9AB-F95910E9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BE3-B68A-4C7B-83AA-854D4ABB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30A8-8FAE-4067-BFBF-08864E95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4732-9462-4D92-82F2-3CCBD5FC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6923-89EB-4FB8-B04D-D79B7452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4F0D-628F-4EF1-AA3E-630B0AE6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B23F-0ADA-41DD-B7A3-99911E31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CAF9-2EA9-443F-A2C1-190AFAAE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746D-72FC-4B32-8F8D-C221A1CC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4D6-89B9-4FBC-A73E-494E5B32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551A-9689-4162-AA0E-8E8C6F25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0FD9-F67B-4A7A-816D-8D6AECFD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846F-E2C1-4214-934D-41BB0939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E231-3CAE-4E93-9896-5953696E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44EE-4C4E-434A-8490-CCAAC1C6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016-BF3E-4B09-91F5-F10F2A3B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872-A7C2-462B-B537-C012CE72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1EA-81F7-4CA1-AEED-0157E2AB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2F2-066F-4F60-BF3D-F30984E8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967D-E207-4AC7-8A89-BB8C3A8B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A25-D282-44A8-BEE0-C50090AF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6C0-A7D2-4D00-95A4-F48AC29B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6A9C-140D-456F-A42C-5BE4E9CF742C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DF3F-B5A8-44A8-95E3-32C805C3CBA4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648567102&amp;tn=baiduimagedetail&amp;word=&#25105;&#30340;&#20271;&#29238;&#40065;&#36805;&#20808;&#29983;&amp;in=1" TargetMode="External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5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1600200" y="4191120"/>
            <a:ext cx="7238880" cy="1218960"/>
            <a:chOff x="1600200" y="4191120"/>
            <a:chExt cx="7238880" cy="1218960"/>
          </a:xfrm>
        </p:grpSpPr>
        <p:sp>
          <p:nvSpPr>
            <p:cNvPr id="102" name=""/>
            <p:cNvSpPr/>
            <p:nvPr/>
          </p:nvSpPr>
          <p:spPr>
            <a:xfrm>
              <a:off x="1600200" y="4191120"/>
              <a:ext cx="7238880" cy="1218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0099"/>
                </a:gs>
                <a:gs pos="100000">
                  <a:srgbClr val="660033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1905120" y="4343400"/>
              <a:ext cx="685800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ff"/>
                      </a:gs>
                    </a:gsLst>
                    <a:lin ang="13500000"/>
                  </a:gradFill>
                  <a:latin typeface="汉鼎简姚体"/>
                </a:rPr>
                <a:t>我的伯父鲁迅先生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lin ang="13500000"/>
                </a:gradFill>
                <a:latin typeface="汉鼎简姚体"/>
                <a:ea typeface="汉鼎简姚体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505320" y="5791320"/>
            <a:ext cx="51814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2200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执教：董宝龙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913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u=4153450431,3791036544&amp;gp=3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8191800" cy="6550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一位拉黄包车的青年人端端正正地立着，抬起他那饱经风霜的脸茫然的望了望前面，又低下头，恭恭敬敬地行三鞠躬，几颗泪珠从他那干涸（</a:t>
            </a:r>
            <a:r>
              <a:rPr b="1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hé</a:t>
            </a:r>
            <a:r>
              <a:rPr b="1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）的眼角滚落下来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姚体"/>
              </a:rPr>
              <a:t>——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方正姚体"/>
              </a:rPr>
              <a:t>巴金《永远不能忘记的事情》（节选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f019" descr=""/>
          <p:cNvPicPr/>
          <p:nvPr/>
        </p:nvPicPr>
        <p:blipFill>
          <a:blip r:embed="rId2"/>
          <a:stretch/>
        </p:blipFill>
        <p:spPr>
          <a:xfrm>
            <a:off x="6781680" y="5867280"/>
            <a:ext cx="140976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380880"/>
            <a:ext cx="792468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  <a:ea typeface="黑体"/>
              </a:rPr>
              <a:t>两个老太太埋着头，闭着眼睛，默默地合掌祷告了一会儿，脸上挂满泪痕，继而响起了悲痛的哭声。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方正姚体"/>
              </a:rPr>
              <a:t>——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方正姚体"/>
              </a:rPr>
              <a:t>巴金《永远不能忘记的事情》（节选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我呆呆地望着来来往往吊唁的人，想到我就要永远见不到伯父的面了，听不到他的声音了，也得不到他的爱抚了，泪珠就一滴一滴地掉下来。</a:t>
            </a:r>
            <a:br>
              <a:rPr sz="5400"/>
            </a:b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   </a:t>
            </a:r>
            <a:br>
              <a:rPr sz="4400"/>
            </a:b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——课文第一段（片段）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3" name="f019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029200"/>
            <a:ext cx="1409760" cy="685800"/>
          </a:xfrm>
          <a:prstGeom prst="rect">
            <a:avLst/>
          </a:prstGeom>
          <a:ln w="0">
            <a:noFill/>
          </a:ln>
        </p:spPr>
      </p:pic>
      <p:pic>
        <p:nvPicPr>
          <p:cNvPr id="144" name="f019" descr=""/>
          <p:cNvPicPr/>
          <p:nvPr/>
        </p:nvPicPr>
        <p:blipFill>
          <a:blip r:embed="rId3"/>
          <a:stretch/>
        </p:blipFill>
        <p:spPr>
          <a:xfrm>
            <a:off x="304920" y="5181480"/>
            <a:ext cx="140976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Times New Roman"/>
                <a:ea typeface="黑体"/>
              </a:rPr>
              <a:t>女佣想到周先生“拖者病体三更半夜地写文章”她感动的对周晔说：——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  <a:ea typeface="黑体"/>
              </a:rPr>
              <a:t>女佣想到周先生“从不叫她干重活”她感激的对周晔说：——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f019" descr=""/>
          <p:cNvPicPr/>
          <p:nvPr/>
        </p:nvPicPr>
        <p:blipFill>
          <a:blip r:embed="rId1"/>
          <a:stretch/>
        </p:blipFill>
        <p:spPr>
          <a:xfrm>
            <a:off x="457200" y="5410080"/>
            <a:ext cx="1409760" cy="6858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00400" y="685800"/>
            <a:ext cx="2801880" cy="1066680"/>
          </a:xfrm>
          <a:prstGeom prst="ellipse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87600" y="838080"/>
            <a:ext cx="2708280" cy="7621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81560" y="914400"/>
            <a:ext cx="2241360" cy="7858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c004e"/>
                </a:solidFill>
                <a:uFillTx/>
                <a:latin typeface="Times New Roman"/>
                <a:ea typeface="黑体"/>
                <a:hlinkClick r:id="rId3" action="ppaction://hlinksldjump"/>
              </a:rPr>
              <a:t>复习测验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438280"/>
            <a:ext cx="2801880" cy="1067040"/>
          </a:xfrm>
          <a:prstGeom prst="ellipse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82840" y="2590920"/>
            <a:ext cx="2708280" cy="76176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76440" y="2666880"/>
            <a:ext cx="2333520" cy="7858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c004e"/>
                </a:solidFill>
                <a:uFillTx/>
                <a:latin typeface="Times New Roman"/>
                <a:ea typeface="黑体"/>
                <a:hlinkClick r:id="rId4" action="ppaction://hlinksldjump"/>
              </a:rPr>
              <a:t>感受鲁迅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4495680"/>
            <a:ext cx="2728800" cy="1067040"/>
          </a:xfrm>
          <a:prstGeom prst="ellipse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11520" y="4648320"/>
            <a:ext cx="2637000" cy="76176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01880" y="4724280"/>
            <a:ext cx="2273400" cy="7858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c004e"/>
                </a:solidFill>
                <a:uFillTx/>
                <a:latin typeface="Times New Roman"/>
                <a:ea typeface="黑体"/>
                <a:hlinkClick r:id="rId5" action="ppaction://hlinksldjump"/>
              </a:rPr>
              <a:t>评价鲁迅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471636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2438280"/>
            <a:ext cx="2876400" cy="1067040"/>
          </a:xfrm>
          <a:prstGeom prst="ellipse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2590920"/>
            <a:ext cx="2779560" cy="76176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16480" y="2590920"/>
            <a:ext cx="2300400" cy="7858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9c004e"/>
                </a:solidFill>
                <a:uFillTx/>
                <a:latin typeface="Times New Roman"/>
                <a:ea typeface="黑体"/>
                <a:hlinkClick r:id="rId6" action="ppaction://hlinksldjump"/>
              </a:rPr>
              <a:t>怀念鲁迅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SzPct val="10288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Times New Roman"/>
              </a:rPr>
              <a:t>．“四周围黑洞洞的，还不容易碰壁吗？”这句话是什么意思？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ffffcc"/>
                </a:solidFill>
                <a:latin typeface="Times New Roman"/>
              </a:rPr>
              <a:t>哈哈，还是我的记性好。”这句话该怎么理解。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黑体"/>
                <a:ea typeface="黑体"/>
              </a:rPr>
              <a:t>默读课文，填空。</a:t>
            </a:r>
            <a:br>
              <a:rPr sz="4800"/>
            </a:br>
            <a:r>
              <a:rPr b="1" lang="zh-CN" sz="4800" spc="-1" strike="noStrike">
                <a:solidFill>
                  <a:srgbClr val="ffffcc"/>
                </a:solidFill>
                <a:latin typeface="黑体"/>
                <a:ea typeface="黑体"/>
              </a:rPr>
              <a:t>　　《我的伯父鲁迅先生》写了四个小故事，可用四个小标题表示：（         ）、（        ）、（       ）、（        ）。</a:t>
            </a:r>
            <a:br>
              <a:rPr sz="4800"/>
            </a:br>
            <a:r>
              <a:rPr b="1" lang="zh-CN" sz="4800" spc="-1" strike="noStrike">
                <a:solidFill>
                  <a:srgbClr val="ffffcc"/>
                </a:solidFill>
                <a:latin typeface="黑体"/>
                <a:ea typeface="黑体"/>
              </a:rPr>
              <a:t>　　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f019" descr=""/>
          <p:cNvPicPr/>
          <p:nvPr/>
        </p:nvPicPr>
        <p:blipFill>
          <a:blip r:embed="rId1"/>
          <a:stretch/>
        </p:blipFill>
        <p:spPr>
          <a:xfrm>
            <a:off x="7238880" y="5867280"/>
            <a:ext cx="140976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u=61929975,1248593380&amp;gp=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914400" y="9907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黄昏时，北风怒号着，在阴暗的街道边，一位黄包车夫的脚被碎玻璃片插了进去，鲜血直淋，染红了整只脚。爸爸见状，二话没说，只见爸爸跑到伯父家里——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2005811118579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35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方正姚体"/>
              </a:rPr>
              <a:t>时间在一分一秒地过去，天已经全黑了，路灯发出微弱的光芒——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914400" y="56386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92160" y="750960"/>
            <a:ext cx="8961480" cy="5357880"/>
            <a:chOff x="92160" y="750960"/>
            <a:chExt cx="8961480" cy="5357880"/>
          </a:xfrm>
        </p:grpSpPr>
        <p:sp>
          <p:nvSpPr>
            <p:cNvPr id="130" name=""/>
            <p:cNvSpPr/>
            <p:nvPr/>
          </p:nvSpPr>
          <p:spPr>
            <a:xfrm>
              <a:off x="92160" y="750960"/>
              <a:ext cx="694692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160" y="750960"/>
              <a:ext cx="8961480" cy="33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zh-CN" sz="20100" spc="-1" strike="noStrike">
                  <a:solidFill>
                    <a:srgbClr val="333333"/>
                  </a:solidFill>
                  <a:latin typeface="Times New Roman"/>
                </a:rPr>
                <a:t> </a:t>
              </a:r>
              <a:r>
                <a:rPr b="0" lang="zh-CN" sz="1000" spc="-1" strike="noStrike">
                  <a:solidFill>
                    <a:srgbClr val="333333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99ff"/>
                </a:solidFill>
                <a:latin typeface="Times New Roman"/>
                <a:ea typeface="方正姚体"/>
              </a:rPr>
              <a:t>直到伯父去世多年，直到周晔长大成人，直到她成为一名出色的作家，直到连周晔她渐渐地老去，但“这时候，我清清楚楚地记得”——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f01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38880" y="5867280"/>
            <a:ext cx="140976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858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有的人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死了，他还活着。有的人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俯下身子给人民当牛马；有的人 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情愿做野草，等着地下的火烧；有的人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他活着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为了多数人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更好的活。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给人民当牛马的，人民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永远记住他！只要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春风吹到的地方，到处是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青青的野草。他活着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为了多数人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更好的活的人，群众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把他抬举的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很高，很高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臧克家《有的人》（节选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34693CA26321D6190F7951CE38A9812D" descr=""/>
          <p:cNvPicPr/>
          <p:nvPr/>
        </p:nvPicPr>
        <p:blipFill>
          <a:blip r:embed="rId1"/>
          <a:stretch/>
        </p:blipFill>
        <p:spPr>
          <a:xfrm>
            <a:off x="1143000" y="1184400"/>
            <a:ext cx="7467480" cy="4149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3:10:50Z</dcterms:created>
  <dc:creator>sspw</dc:creator>
  <dc:description/>
  <dc:language>en-US</dc:language>
  <cp:lastModifiedBy>sspw</cp:lastModifiedBy>
  <dcterms:modified xsi:type="dcterms:W3CDTF">2005-09-24T14:21:00Z</dcterms:modified>
  <cp:revision>28</cp:revision>
  <dc:subject/>
  <dc:title>PowerPoint 演示文稿</dc:title>
</cp:coreProperties>
</file>