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853-1130-4DCE-9F87-C4733508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F5C-393A-4C0D-B956-C33074A3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68C-6D72-4583-B418-904AC42E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F0C-5D9F-453F-BBA5-13C55931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57E-976E-4C7B-BB16-F63E1410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D13-FC78-424A-B1D4-8BFBD346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C80-3FE3-41B0-956B-C77D954C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648-462E-4F1C-83F8-B860F8A3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067-BA8A-410F-9A04-DA3D94BA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843-9819-4CAF-853B-5E2DD7EA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F57-AE28-43E9-BDBA-4DC994EF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872-A68A-45D9-851D-71464368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3D8D-2A6E-4AEB-B09F-0B9A6EC758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7.xml"/><Relationship Id="rId3" Type="http://schemas.openxmlformats.org/officeDocument/2006/relationships/slide" Target="slide67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4788000" cy="376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88000" cy="3225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78680" y="-1060560"/>
            <a:ext cx="2192040" cy="89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痛与不痛的秘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韩济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篇文章说明的是一个医学研究问题，专业性很强，但是普通读者读起来，并不觉得枯燥难懂，是为什么呢？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明确：作者在说明过程中运用了比喻的说明方法。比喻的运用，使得专业的知识变得通俗易懂，也使抽象的事理变得生动形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讨论总结本文的中心主旨：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本文通过揭示痛与不痛的秘密，生动地说明了人们找寻“吗啡受体”和“脑啡肽”的过程，以及镇痛研究的逐步深入和广阔的前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科技文阅读的解题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科技文阅读解题步骤顺口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咬住原文不放松，答案就在文章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先读全文做标记，依据特点通大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再读题干明方向，落实原文对应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最后</a:t>
            </a:r>
            <a:r>
              <a:rPr b="1" lang="zh-CN" sz="4400" spc="-1" strike="noStrike">
                <a:solidFill>
                  <a:srgbClr val="cc3300"/>
                </a:solidFill>
                <a:latin typeface="隶书"/>
                <a:ea typeface="隶书"/>
              </a:rPr>
              <a:t>巧比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看差异，得出答案较容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推敲语言准确性的四大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676520" cy="1523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一）语言的分寸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二）概念间的关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三）判断的性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四）句间关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8572320" cy="6572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81280" y="99072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课堂训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191120"/>
            <a:ext cx="403848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下面我们以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005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年全国卷Ⅱ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的科技文阅读为例来作一个具体的说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5410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植物睡眠之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  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①自然界有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许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植物的叶子会运动，比如含羞草、合欢等豆科植物白天张开叶子，晚上会合上叶子“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睡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；捕蝇草的叶子能闭合起来，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捕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苍蝇等昆虫。②像含羞草、合欢等植物的这种“睡眠运动”自古以来就受到人们关注，可是植物为什么会睡眠，却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黑体"/>
                <a:ea typeface="黑体"/>
              </a:rPr>
              <a:t>一直是个不解之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981000"/>
            <a:ext cx="8964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，法国生物学家德梅兰把含羞草放到光线照不到的洞穴里，发现它的叶子依然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为周期开合。②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这说明含羞草体内存在一种不受外界光线等环境因素影响的“生物钟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，达尔文在《植物的运动本领》中说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植物在晚上闭合叶子睡眠是“为了保护自己免受夜晚低温之害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代，德国希尔德奈希特的研究报告指出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叶子的开合是由一种称为“膨压素”的植物激素控制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⑤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黑体"/>
                <a:ea typeface="黑体"/>
              </a:rPr>
              <a:t>此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日本上田实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等人从植物中抽出包含数千种化合物的萃取物，最后成功分离出两种活性物质，一种是可使植物叶子闭合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“安眠物质”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另一种是可使植物叶子张开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“兴奋物质”。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①植物睡眠之谜之所以长期不得其解，就是因为此前没有人想到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使叶子开合的竟是两种不同的生理活性物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②人们进一步了解到，豆科植物叶下珠的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安眠物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一种含葡萄糖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配糖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白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配糖体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水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安眠物质浓度降低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夜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配糖体重新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合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兴奋物质浓度相对降低，而配糖体的合成分解是由叶下珠体内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生物钟控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。③相反，铁扫帚的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兴奋物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配糖体，在夜晚配糖体水解，兴奋物质浓度降低，叶子随之闭合。④如果用人工合成的半乳糖代替葡萄糖，由于半乳糖在铁扫帚体内不会水解，反而成为一种睡眠阻断剂，使铁扫帚始终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不能睡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以致两个星期之后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因缺水枯萎而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1557360"/>
            <a:ext cx="597708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989000"/>
            <a:ext cx="27367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①解开植物睡眠之谜，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某种“绿色”农药的诞生铺平道路。②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目前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的除草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还无法只让田菁等豆科杂草枯萎而不损害豆科植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③研究人员已经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人工合成了使田菁失眠的睡眠阻断剂，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黑体"/>
                <a:ea typeface="黑体"/>
              </a:rPr>
              <a:t>实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果是田菁第三天就整株枯死。④由于这种阻断剂只对田菁起作用，因此不会影响大豆的生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0280" y="306000"/>
            <a:ext cx="1190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原文看，以下对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植物睡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的理解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正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一项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植物的叶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适应外界环境而自动闭合起来的现象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含羞草、合欢等植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晚上把叶子自动闭合起来的现象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所有豆科植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具有的晚上把叶子闭合起来的现象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 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豆科植物和捕蝇草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具有的叶子闭合起来的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0360" y="1773360"/>
            <a:ext cx="93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306864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一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科普文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作者用平实的语言介绍了人类揭示痛与不痛秘密的过程。课文不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结构严谨、逻辑严密，而且通俗易懂，可读性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5410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植物睡眠之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  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①自然界有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许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植物的叶子会运动，比如含羞草、合欢等豆科植物白天张开叶子，晚上会合上叶子“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睡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；捕蝇草的叶子能闭合起来，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捕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苍蝇等昆虫。②像含羞草、合欢等植物的这种“睡眠运动”自古以来就受到人们关注，可是植物为什么会睡眠，却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黑体"/>
                <a:ea typeface="黑体"/>
              </a:rPr>
              <a:t>一直是个不解之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4343400"/>
            <a:ext cx="8458200" cy="2286000"/>
          </a:xfrm>
          <a:prstGeom prst="wedgeRectCallout">
            <a:avLst>
              <a:gd name="adj1" fmla="val 6004"/>
              <a:gd name="adj2" fmla="val -66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此段共两句话，第一句讲的是植物运动的两种形式：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睡眠（以含羞草、合欢等植物为代表），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捕食（以捕蝇草为代表）。第二句讲的是“睡眠运动”一直是个不解之谜。第一句话是本段的重要信息，很显然“植物睡眠”或者“睡眠运动”所指对象是指如含羞草、合欢等豆科植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135576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简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052640"/>
            <a:ext cx="8515080" cy="54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此题在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整体阅读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的基础上，很容易锁定“植物睡眠”的范围在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第（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）段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我们把上面的四个选项做一个比较，不难发现，这种闭合现象所指的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对象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存在着分歧：究竟是指像含羞草、合欢等豆科植物？还是指所有的豆科植物？或者是指豆科植物和捕蝇草？或者是指所有植物？通过与原文信息比较，我们就容易排除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三个错误选项。当然这里在看到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选项时，里面的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所有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”一词在我们的脑子里就要打上问号，凭我们前文提到的“陷阱”，就应该怀疑这里是否正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2472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原文看，以下研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最能揭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植物睡眠之谜”的一项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德梅兰提出含羞草体内存在着不受外界环境因素影响的“生物钟”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达尔文提出植物在晚上睡眠是为了保护自己免受夜晚低温之害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希尔德奈希特提出植物睡眠是由植物体内的“膨压素”控制的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田实等人提出植物体内存在着可使叶子闭合的“安眠物质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60280"/>
            <a:ext cx="123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797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229600" cy="51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100" spc="-1" strike="noStrike">
                <a:solidFill>
                  <a:srgbClr val="3333ff"/>
                </a:solidFill>
                <a:latin typeface="黑体"/>
                <a:ea typeface="黑体"/>
              </a:rPr>
              <a:t>此题的信息区间在第</a:t>
            </a:r>
            <a:r>
              <a:rPr b="0" lang="zh-CN" sz="31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（</a:t>
            </a:r>
            <a:r>
              <a:rPr b="0" lang="zh-CN" sz="31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2</a:t>
            </a:r>
            <a:r>
              <a:rPr b="0" lang="zh-CN" sz="31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）（</a:t>
            </a:r>
            <a:r>
              <a:rPr b="0" lang="zh-CN" sz="31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 action="ppaction://hlinksldjump"/>
              </a:rPr>
              <a:t>3</a:t>
            </a:r>
            <a:r>
              <a:rPr b="0" lang="zh-CN" sz="31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 action="ppaction://hlinksldjump"/>
              </a:rPr>
              <a:t>）</a:t>
            </a:r>
            <a:r>
              <a:rPr b="1" lang="zh-CN" sz="3100" spc="-1" strike="noStrike">
                <a:solidFill>
                  <a:srgbClr val="3333ff"/>
                </a:solidFill>
                <a:latin typeface="黑体"/>
                <a:ea typeface="黑体"/>
              </a:rPr>
              <a:t>段。</a:t>
            </a:r>
            <a:br>
              <a:rPr sz="3100"/>
            </a:br>
            <a:r>
              <a:rPr b="1" lang="zh-CN" sz="3100" spc="-1" strike="noStrike">
                <a:solidFill>
                  <a:srgbClr val="3333ff"/>
                </a:solidFill>
                <a:latin typeface="黑体"/>
                <a:ea typeface="黑体"/>
              </a:rPr>
              <a:t>    其实只要稍微看一下</a:t>
            </a:r>
            <a:r>
              <a:rPr b="0" lang="zh-CN" sz="31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 action="ppaction://hlinksldjump"/>
              </a:rPr>
              <a:t>第（</a:t>
            </a:r>
            <a:r>
              <a:rPr b="0" lang="zh-CN" sz="31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8" action="ppaction://hlinksldjump"/>
              </a:rPr>
              <a:t>3</a:t>
            </a:r>
            <a:r>
              <a:rPr b="0" lang="zh-CN" sz="31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9" action="ppaction://hlinksldjump"/>
              </a:rPr>
              <a:t>）段</a:t>
            </a:r>
            <a:r>
              <a:rPr b="1" lang="zh-CN" sz="3100" spc="-1" strike="noStrike">
                <a:solidFill>
                  <a:srgbClr val="3333ff"/>
                </a:solidFill>
                <a:latin typeface="黑体"/>
                <a:ea typeface="黑体"/>
              </a:rPr>
              <a:t>，就很容易明白“安眠物质”和“兴奋物质”的发现对解开叶子开合之谜具有重要的作用，所以这里便可较容易地选</a:t>
            </a:r>
            <a:r>
              <a:rPr b="1" lang="zh-CN" sz="3100" spc="-1" strike="noStrike">
                <a:solidFill>
                  <a:srgbClr val="3333ff"/>
                </a:solidFill>
                <a:latin typeface="黑体"/>
                <a:ea typeface="黑体"/>
              </a:rPr>
              <a:t>D</a:t>
            </a:r>
            <a:r>
              <a:rPr b="1" lang="zh-CN" sz="3100" spc="-1" strike="noStrike">
                <a:solidFill>
                  <a:srgbClr val="3333ff"/>
                </a:solidFill>
                <a:latin typeface="黑体"/>
                <a:ea typeface="黑体"/>
              </a:rPr>
              <a:t>作答案。当然这题的前面三个选项单纯地看，本身并没有错，但是它们却不能回答题干“</a:t>
            </a:r>
            <a:r>
              <a:rPr b="1" lang="zh-CN" sz="3100" spc="-1" strike="noStrike">
                <a:solidFill>
                  <a:srgbClr val="ff3300"/>
                </a:solidFill>
                <a:latin typeface="黑体"/>
                <a:ea typeface="黑体"/>
              </a:rPr>
              <a:t>最能揭开</a:t>
            </a:r>
            <a:r>
              <a:rPr b="1" lang="zh-CN" sz="3100" spc="-1" strike="noStrike">
                <a:solidFill>
                  <a:srgbClr val="3333ff"/>
                </a:solidFill>
                <a:latin typeface="黑体"/>
                <a:ea typeface="黑体"/>
              </a:rPr>
              <a:t>‘植物睡眠之谜’”。实际上就犯了</a:t>
            </a:r>
            <a:r>
              <a:rPr b="1" lang="zh-CN" sz="3100" spc="-1" strike="noStrike">
                <a:solidFill>
                  <a:srgbClr val="ff00ff"/>
                </a:solidFill>
                <a:latin typeface="黑体"/>
                <a:ea typeface="黑体"/>
              </a:rPr>
              <a:t>问牛答马、答非所问</a:t>
            </a:r>
            <a:r>
              <a:rPr b="1" lang="zh-CN" sz="3100" spc="-1" strike="noStrike">
                <a:solidFill>
                  <a:srgbClr val="3333ff"/>
                </a:solidFill>
                <a:latin typeface="黑体"/>
                <a:ea typeface="黑体"/>
              </a:rPr>
              <a:t>的错误。这也就提醒我们的考生在做题时要</a:t>
            </a:r>
            <a:r>
              <a:rPr b="1" lang="zh-CN" sz="3100" spc="-1" strike="noStrike">
                <a:solidFill>
                  <a:srgbClr val="cc3300"/>
                </a:solidFill>
                <a:latin typeface="黑体"/>
                <a:ea typeface="黑体"/>
              </a:rPr>
              <a:t>认真审清题干</a:t>
            </a:r>
            <a:r>
              <a:rPr b="1" lang="zh-CN" sz="3100" spc="-1" strike="noStrike">
                <a:solidFill>
                  <a:srgbClr val="3333ff"/>
                </a:solidFill>
                <a:latin typeface="黑体"/>
                <a:ea typeface="黑体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74680"/>
            <a:ext cx="1306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简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下理解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符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文意思的一项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叶下珠体内的生物钟控制了其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安眠物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兴奋物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合成与分解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铁扫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安眠物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配糖体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夜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合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于是兴奋物质浓度相对降低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欢、田菁等豆科植物如果长期得不到睡眠的话，就将枯萎而死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目前只让田菁枯萎而不损害大豆生长的“绿色”农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已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研制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260280"/>
            <a:ext cx="123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386064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0"/>
            <a:ext cx="1306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简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0200" y="685800"/>
            <a:ext cx="8713800" cy="33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此题的信息区间在第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（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3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）（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 action="ppaction://hlinksldjump"/>
              </a:rPr>
              <a:t>4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 action="ppaction://hlinksldjump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我们看到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项答案里的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已经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”一词就应该在脑子里打一个问号。通过与原文信息比较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它属于将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未然判断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说成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已然判断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项与原句“铁扫帚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兴奋物质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是配糖体，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夜晚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配糖体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水解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，兴奋物质浓度降低，叶子随之闭合”比较，明显是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偷换概念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。铁扫帚叶子的开合是因为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兴奋物质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项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扩大范围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，从原句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配糖体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的合成分解是由叶下珠体内的生物钟控制的”“豆科植物叶下珠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安眠物质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是一种含葡萄糖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配糖体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”我们就可以得出判断：叶下珠体内的生物钟控制了其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安眠物质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，并没有控制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兴奋物质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，兴奋物质只是相对降低。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项通过原文推断，确实没有什么错误，所以通过选项之间的比较，便会选择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项作答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①解开植物睡眠之谜，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某种“绿色”农药的诞生铺平道路。②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目前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的除草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还无法只让田菁等豆科杂草枯萎而不损害豆科植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③研究人员已经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人工合成了使田菁失眠的睡眠阻断剂，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黑体"/>
                <a:ea typeface="黑体"/>
              </a:rPr>
              <a:t>实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果是田菁第三天就整株枯死。④由于这种阻断剂只对田菁起作用，因此不会影响大豆的生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897280"/>
            <a:ext cx="8785080" cy="3960720"/>
          </a:xfrm>
          <a:prstGeom prst="wedgeRectCallout">
            <a:avLst>
              <a:gd name="adj1" fmla="val 46060"/>
              <a:gd name="adj2" fmla="val -75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这段内容较为清楚，第①、②句主要讲了目前除草剂的弊端，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将来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的除草剂的优点。这里要注意原文中的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“将”“目前”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两个词，这两个词告诉我们：不损害豆科植物的绿色农药除草剂，目前还没有诞生。第③④句讲的是已经人工合成了使田菁失眠的睡眠阻断剂，这里要注意“实验”这个词，同时结合这段的“将”“目前”等词语，我们就会明白这种睡眠阻断剂还仅仅是一个科研成果，而这种农药并没有问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科技文阅读的解题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科技文阅读解题步骤顺口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咬住原文不放松，答案就在文章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先读全文做标记，依据特点通大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再读题干明方向，落实原文对应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最后</a:t>
            </a:r>
            <a:r>
              <a:rPr b="1" lang="zh-CN" sz="4400" spc="-1" strike="noStrike">
                <a:solidFill>
                  <a:srgbClr val="cc3300"/>
                </a:solidFill>
                <a:latin typeface="隶书"/>
                <a:ea typeface="隶书"/>
              </a:rPr>
              <a:t>巧比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看差异，得出答案较容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晕厥（ｊ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é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成瘾（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ｎ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灸（ｊ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   艾脑啡肽（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ｉ） 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羟（ｑ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ｎｇ）色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乙酰（ｘ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ｎ）胆碱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穴（ｘ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é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位  癫痫（ｘ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ｎ） 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通读全文，理一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镇痛研究的进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981000"/>
          <a:ext cx="8569080" cy="5256000"/>
        </p:xfrm>
        <a:graphic>
          <a:graphicData uri="http://schemas.openxmlformats.org/drawingml/2006/table">
            <a:tbl>
              <a:tblPr/>
              <a:tblGrid>
                <a:gridCol w="1499400"/>
                <a:gridCol w="4213440"/>
                <a:gridCol w="285624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研究发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现的价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世纪六十年代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后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418480" y="184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德国科学家从鸦片中提炼出吗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40080" y="2637000"/>
            <a:ext cx="243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国科学家发现把极少量吗啡注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到家兔的脑子里，有明显的镇痛效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42360" y="3500280"/>
            <a:ext cx="3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现吗啡的分子结构有左旋、右旋两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构，只有左旋吗啡有止痛作用，右旋没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3000" y="436572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现“吗啡受体”，并证明人、猴、猫、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等动物的脑子里都存在“吗啡受体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16840" y="544500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英国科学家找到了存在于动物和人的脑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，作用与吗啡相似的物质，起名“脑啡肽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27520" y="184464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吗啡有很好的镇痛效果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但有耐受性和成瘾的缺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6384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03480" y="12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00600" y="263700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说明吗啡起止痛作用的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位就在脑子很有限的区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79080" y="350028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使人们推想身体里可能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些特定的部位，专管止痛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43360" y="4365720"/>
            <a:ext cx="199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说明“吗啡受体”是进化过程中发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起来的、各种动物所共有的一种结构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并使人们推想出身体里本来就存在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类似吗啡的一些物质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1840" y="5516640"/>
            <a:ext cx="1832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揭开了“痛与不痛的秘密”（人脑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脑啡肽太少，痛觉就特别敏感；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之，痛觉就迟钝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“学术上的顽固堡垒，往往需要各路兵马从不同角度加以围攻，才有可能攻克。”这句话用了什么修辞手法？其具体含义是什么？ </a:t>
            </a:r>
            <a:br>
              <a:rPr sz="28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比喻。科学中的难题往往需要化学家、药物学家、医学家等各方面专业人士从不同的领域多学科共同努力，才可以解决。 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0920" y="274680"/>
            <a:ext cx="24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、阅读第二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回答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“左旋吗啡和右旋的结构非常相似，就像人照镜子时看到镜中人像和自己一模一样，所差的只是自己的左手成了镜中人的右手。”用了什么说明方法？有什么效果？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打比方。深入浅出地说明事理，通俗易懂，便于人们接受，同时生动形象，增加了文章的情趣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“由于这种科学幻想的驱使，人们付出很大努力去寻找吗啡受体。”能否举出事例说明科学幻想在科学发现中的作用？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古代的万户幻想像小鸟一样飞翔，多少年后，人类发明了飞机、宇宙飞船。 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结合文章内容简单解释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医针刺镇痛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科学原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568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医早就知道用针灸的方法可以治疗很多疼痛性疾病，甚至可以用针刺麻醉的方法开刀做手术。针刺镇痛的原理之一就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针刺是引起脑啡肽产生和释放的最有效的手段之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可以把身体原有的与疼痛作斗争的力量充分发挥出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探讨文章的结构特点和说明方法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这篇文章介绍了镇痛研究的发展进程，但全文并不是散乱的成果简介，请思考作者是怎样将研究过程中的每个发现紧密联系起来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明确：作者善于运用过渡句承上启下，比如第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段开头，“科学的道路是曲折的”；第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段开头，“一个问题得到解决，另一个问题又产生了”；第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段开头，“发现脑啡肽的消息，在我国医学界引起的兴趣尤其强烈”。这些句子的使用，使得文章结构紧凑，逻辑性强，让读者明确地看到镇痛研究发展的整个历史进程。  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0:12:12Z</dcterms:created>
  <dc:creator>USER</dc:creator>
  <dc:description/>
  <dc:language>en-US</dc:language>
  <cp:lastModifiedBy>微软用户</cp:lastModifiedBy>
  <dcterms:modified xsi:type="dcterms:W3CDTF">2013-04-18T01:57:35Z</dcterms:modified>
  <cp:revision>17</cp:revision>
  <dc:subject/>
  <dc:title>幻灯片 1</dc:title>
</cp:coreProperties>
</file>