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1D6-445C-43C2-86F4-91CD1A0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CC1-B3C4-4783-AF91-21FEDBF2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6FC-F9A4-4AEF-98AA-1815BC42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A72-C16F-4A54-9547-E4F2FCC7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87EE-6EB9-4F5E-B954-BBD32861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0DE7-0686-4417-AECE-2FBBDE4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D46D-D996-4DBA-B316-6C431D6E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2804-EBBF-4205-AF90-C39F4D27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6C6C-E6F4-41F6-BC7B-DE3F9866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4945-490D-4DEE-959E-5AFF396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45E3-405C-4FA4-AD5A-F507454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9E0-A06C-468D-8457-D4492FFF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1CEC-CF39-4547-B65C-564D7659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8C3A-D79B-4E78-83E4-50893C4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0063-E79E-4486-B5E1-3500156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D9F1-0FA9-478C-A476-C600E6C5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6F1D-C51C-457C-8775-5C3B0533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2382-D691-47AB-82C0-B7E49981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548E-681D-4625-8970-85DBB7FB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5891-778F-438D-B291-40020DC5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31BF-BC69-42E4-89EC-F06A179C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392C-CBAF-4490-969B-038D9F01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558-1DBD-4195-B195-0E19053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9D8E-29F2-4F20-B4D5-AA903BCF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CCB1-5F91-4814-898D-E4275EE6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3F79-6708-4A37-8C85-8F9F7F7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9C91-5C1C-4E9F-AE60-86C76D65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87C9-8354-4319-A17B-38D89FFF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1916-C50E-4D60-9566-AB77C48D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BBF5-2788-4B27-B18D-F7B314A3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431-7AF1-4EA2-A666-7484CF72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41D-1DCA-4E1D-8E03-749DC66B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CDB-7984-4510-9591-37C293A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CF3-5326-420E-83DA-0E8FA892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241-75F8-4C97-9E9A-F43E5EA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9BA-0979-4116-A57D-46EE1C8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DA4-C75A-45F2-9E9D-19DC01EBDE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278D-3796-42BF-B84E-F19454C46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41C-0040-426F-B087-79F09C2A45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5473440" cy="6121440"/>
          </a:xfrm>
          <a:prstGeom prst="rect">
            <a:avLst/>
          </a:prstGeom>
          <a:solidFill>
            <a:srgbClr val="ffffff">
              <a:alpha val="41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在他所处的那个时代，已经是十分有影响的人，尤其是在礼制方面，信服孔子的人很多，仪封人便是其中之一。他在见孔子之后，就认为上天将以孔夫子为圣人号令天下，可见对孔子是佩服至极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借仪封之口，用“木铎”喻孔子，高度赞美孔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勇于担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高尚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713800" cy="2664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长沮、桀溺耦而耕。孔子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过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之，使子路问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津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长沮曰：“夫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执舆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者为谁？”子路曰：“为孔丘。”曰：“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是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鲁孔丘与？”曰：“是也。”曰：“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是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知津矣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问于桀溺。桀溺曰：“子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为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谁？”曰：“为仲由。”曰：“是孔丘之徒与？”对曰：“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然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。”曰：“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滔滔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者天下皆是也，而谁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以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易之？且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与其从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辟人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之士也，岂若从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辟世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之士哉？”耰而不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子路行以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夫子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怃然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曰：“鸟兽不可与同群，吾非斯人之徒与而谁与？天下有道，丘不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与易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也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3500280"/>
            <a:ext cx="8748720" cy="2415240"/>
          </a:xfrm>
          <a:prstGeom prst="rect">
            <a:avLst/>
          </a:prstGeom>
          <a:solidFill>
            <a:srgbClr val="ffffff">
              <a:alpha val="54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译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桀溺说：“天下到处都是像洪水一样混乱的情形，你与谁去改变它呢？况且你与其跟随孔子这样的避人之士，怎么比得上追随我们这些躲避社会的人呢？”桀溺用耰松土</a:t>
            </a: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仍旧不停地做田里的农活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子路回来后把情况告诉了孔子。孔子怅然若失地说：“人是不能与飞禽走兽合群共处的，我如果不同世上的人群打交道</a:t>
            </a: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7a77"/>
                </a:solidFill>
                <a:latin typeface="黑体"/>
                <a:ea typeface="黑体"/>
              </a:rPr>
              <a:t>还与谁打交道呢？如果天下政治清明，我就不会与你们一道来参与变革了。” </a:t>
            </a:r>
            <a:br>
              <a:rPr sz="2000"/>
            </a:b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76676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“辟人之士”、“辟世之士”分别指谁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长沮、桀溺对孔子的态度有何不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孔子为何“怃然”？反映了孔子怎样的精神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无人问津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比喻无人过问，受到冷落。也比喻无人探索、尝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rot="942000">
            <a:off x="7164000" y="4005360"/>
            <a:ext cx="170676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280" y="188640"/>
            <a:ext cx="5940360" cy="633564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一章反映了孔子关于社会改革的主观愿望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积极入世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儒家不倡导消极避世的做法，这与道家不同。儒家认为，即使不能齐家治国平天下，也要独善其身，做一个有道德修养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孔子就是这样一位身体力行者。所以，他感到自己有一种社会责任心，正因为社会动乱、天下无道，他才与自己的弟子们不知辛苦地四处呼吁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天下为己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为社会改革而努力，这是一种可贵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忧患意识和历史责任感。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1386000"/>
            <a:ext cx="292104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5833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楚狂接舆歌而过孔子曰：“凤兮凤兮！何德之衰？往者不可谏，来者犹可追。已而已而！今之从政者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dài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！”孔子下，欲与之言。趋而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(bì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，不得与之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924280"/>
            <a:ext cx="6192720" cy="1900080"/>
          </a:xfrm>
          <a:prstGeom prst="rect">
            <a:avLst/>
          </a:prstGeom>
          <a:solidFill>
            <a:srgbClr val="ffffff">
              <a:alpha val="48000"/>
            </a:srgbClr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　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楚国的狂人接舆唱着歌从孔子的车旁走过，他唱道：“凤凰啊，凤凰啊，你的德行怎么这么衰弱呢？过去的已经无可挽回，未来的还来得及改正。算了吧，算了吧。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现在参与政治事务的人很危险啊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!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孔子下车，想同他谈谈，他却快步走着躲避孔子，孔子没能和他交谈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260280"/>
            <a:ext cx="7920000" cy="344628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从“孔子下，欲与之言”可以窥见孔子怎样的内心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接舆为何“趋而辟之”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往者不可谏，来者犹可追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以往的已不可制止，未来的还来得及挽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89000"/>
            <a:ext cx="5688000" cy="2613240"/>
          </a:xfrm>
          <a:prstGeom prst="rect">
            <a:avLst/>
          </a:prstGeom>
          <a:solidFill>
            <a:srgbClr val="ffffff">
              <a:alpha val="40000"/>
            </a:srgbClr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既有接舆对孔子品格的虚假尊重，又有对孔子人生选择的讥嘲；既有对孔子的最后规劝，也有对当时执政者的斥责。连用三个“而”表示斥责、贬斥之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　　能表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隐士对现实的不满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，也表现孔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对隐士的尊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0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从而后，遇丈人，以杖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hè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diào) 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子路问曰：“子见夫子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丈人曰：“四体不勤，五谷不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孰为夫子？”植其杖而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拱而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子路宿，杀鸡为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shǔ) (3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sì) (4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。见其二子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日，子路行以告。子曰：“隐者也。”使子路反见之。至，则行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曰：“不仕无义。长幼之节，不可废也；君臣之义，如之何其废之？欲洁其身，而乱大伦。君子之仕也，行其义也。道之不行，已知之矣。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注释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丈人：古代对老年男子的尊称。今指岳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蓧：音ｄ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ｏ，古代耘田所用的竹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体不勤，五谷不分：一说这是丈人指自己。分不，是语气词，意为：我忙于播种五谷，没有闲暇，怎知你夫子是谁？另一说是丈人责备子路。说子路手脚不勤，五谷不分。多数人持第二种说法。我们以为，子路与丈人刚说了一句话，丈人并不知道子路是否真的四体不勤，五谷不分，没有可能说出这样的话。所以，我们同意第一种说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黍：音ｓ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黏小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食：音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拿东西给人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5688000"/>
          </a:xfrm>
          <a:prstGeom prst="rect">
            <a:avLst/>
          </a:prstGeom>
          <a:solidFill>
            <a:srgbClr val="ffffff">
              <a:alpha val="42000"/>
            </a:srgbClr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跟随孔子出行，落在了后面，遇到一个老年男子，用拐杖挑着除草的工具。子路问道：“你看到我的老师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丈说：“我手脚不停地劳作，五谷还来不及播种，哪里顾得上你的老师是谁？”说完，便把他的拐杖插在田头去除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拱着手恭敬地站在一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男子留子路到他家住宿，杀了鸡，做了小米饭给他吃，又叫两个儿子出来与子路见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天，子路赶上孔子，把这件事向他作了报告。孔子说：“这是个隐士啊。”叫子路回去再看看他。子路到了那里，老年男子已经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路说：“不出来做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是违背了臣对君应当秉持的政教伦理原则。长幼间的礼节是不可能废弃的；君臣间的关系怎么能废弃呢？老人家想要自身清白，却破坏了根本的君臣伦理关系。君子做官，只是为了实行君臣之义的。至于道的行不通，早就知道了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08360" y="1052280"/>
            <a:ext cx="5184720" cy="5616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论语》，儒家经典之一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孔子弟子及其再传弟子关于孔子言行的记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容有孔子谈话、答弟子问及弟子间相互谈论，是研究孔子思想的资料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宋朱熹把它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《大学》、《中庸》、《孟子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四书”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》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每篇又分若干章，章的长短不一，前后两章之间也不一定有什么关联，篇名只是摘取各篇开头两三个字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02160" cy="5589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181080" y="0"/>
            <a:ext cx="4751640" cy="9169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关于《论语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404640"/>
            <a:ext cx="8496360" cy="38728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荷蓧丈人为何说孔子“四体不勤，五谷不分”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荷蓧丈人为何要留下子路，其用意是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子路是如何评价荷蓧丈人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、从荷蓧丈人的言谈来看，他是一个什么样的人？孔子又是一个什么样的人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四体不勤，五谷不分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形容脱离劳动，脱离劳动人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860640"/>
          </a:xfrm>
          <a:prstGeom prst="rect">
            <a:avLst/>
          </a:prstGeom>
          <a:solidFill>
            <a:srgbClr val="ffffff">
              <a:alpha val="43000"/>
            </a:srgbClr>
          </a:solidFill>
          <a:ln w="284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去有一个时期，人们认为这一章中老丈所说：“四体不勤，五谷不分”是劳动人民对孔丘的批判等等。这恐怕是理解上和思想方法上的问题。对此，我们不想多作评论，因为当时不是科学研究，而是政治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实，本章的要点不在于此，而在于后面子路所作的总结。即认为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隐居山林避世是不对的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丈与他的儿子的关系仍然保持，却抛弃了君臣之伦。这是儒家向来都不提倡的，反映了孔子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知其不可为而为之的执着精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3787920"/>
            <a:ext cx="914400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路宿于石门。晨门曰：“奚自？”子路曰：“自孔氏。”曰：“是知其不可而为之者与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3068640"/>
            <a:ext cx="8532720" cy="2145240"/>
          </a:xfrm>
          <a:prstGeom prst="rect">
            <a:avLst/>
          </a:prstGeom>
          <a:solidFill>
            <a:srgbClr val="ffffff">
              <a:alpha val="34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子路夜里住在石门，看门的人问：“从哪里来？”子路说：“从孔子那里来。”看门的人说：“是那个明知做不到却还要去做的人吗？”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5508720" cy="5761080"/>
          </a:xfrm>
          <a:prstGeom prst="rect">
            <a:avLst/>
          </a:prstGeom>
          <a:solidFill>
            <a:srgbClr val="ffffff">
              <a:alpha val="46000"/>
            </a:srgbClr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评析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其不可而为之”，这是做人的大道理。人要有一点锲而不舍的追求精神，许多事情都是经过艰苦努力和奋斗而得来的。孔子“知其不可而为之”，反映出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孜孜不倦的执着精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从这位看门人的话中，我们也可以见出当时普通人对孔子的评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824360" cy="907920"/>
          </a:xfrm>
          <a:prstGeom prst="rect">
            <a:avLst/>
          </a:prstGeom>
          <a:solidFill>
            <a:srgbClr val="ccffcc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总结本课的知识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452592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掌握下列通假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仪封人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见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见”通“现”，引见之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溺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桀”通“杰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容高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鲁孔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“与”通“欤”，句末语气词，表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谁以易之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而”通“尔”，第二人称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且而与其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之士也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辟”通“避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植其杖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芸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芸”通“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子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之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7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长沮、桀溺耦而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路拱而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1125360"/>
            <a:ext cx="2160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修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并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罢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顺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顺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转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3573360"/>
            <a:ext cx="15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01336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杀鸡为黍而食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欲洁其身，而乱大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628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而谁与易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421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吾非斯人之徒与而谁与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已而、已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07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）趋而避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重点虚词“而”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785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古今异议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丈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年男子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妻子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明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天 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违背了臣对君应当秉持的政教伦理原则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有义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96000" cy="616572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词类活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子路从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名词活用作动词，落在后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孔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名作动，下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杖而芸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路宿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义（名作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欲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身（使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过孔子：名作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伦：形使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杀鸡为黍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：动使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74872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问题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、请同学们根据课文用简洁的语言概括孔子的为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知道时代不太平，难以实现心中的理想，但是他能够努力坚持去实现去维护思想的核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6227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孟子在《孟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尽心上》中提出了“穷则独善其身，达则兼济天下”的观点。而本文孔子给我们的印象是“知其不可为而为这”。如何看待孔子与孟子的这种差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32080"/>
            <a:ext cx="6443640" cy="1008000"/>
          </a:xfrm>
          <a:prstGeom prst="rect">
            <a:avLst/>
          </a:prstGeom>
          <a:solidFill>
            <a:srgbClr val="bbe0e3">
              <a:alpha val="62000"/>
            </a:srgbClr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在我国传统中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孔子被称为“圣人”，孟子被称为“亚圣”，两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都是先秦儒家的大师。他们的人格和人生追求都是“修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天下”的模式。在修身为立足点上，无论是进还是退，两者并无差异。但是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孔子对治国、平天下的追求更为执着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35280" y="260280"/>
            <a:ext cx="5184720" cy="595548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《论语》二十篇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学而》《为政》《八修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里仁》《公冶长》《雍也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述而》《泰伯》《子罕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乡党》《先进》《颜渊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子路》《宪问》《卫灵公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季氏》《阳货》《微子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子张》《尧曰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276720" cy="497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9640" y="476280"/>
            <a:ext cx="4608720" cy="4472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孔子的人生态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积极入世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勇于担当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以天下为己任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知其不可为而为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109680" cy="623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64000" y="765000"/>
            <a:ext cx="5327640" cy="132300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a7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书名的来源，班固《汉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艺文志》中有这样的解释：“《论语》者，孔子应答弟子、时人及弟子相与言而接闻于夫子之语也。当时弟子各有所记，夫子既卒，门人相与辑而论纂，故谓之《论语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”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lún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编纂。语：言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708360" cy="512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355640" y="0"/>
            <a:ext cx="4537080" cy="630864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了解语录体的特点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论语》是一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语录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书，主要体式有四种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１）直录孔子及其弟子的言论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２）答问体，即先指出问者及所问问题，然后记录孔子的回答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３）对话体，记录孔子跟弟子或其他人之间的对话经过情形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４）一边记叙事情的经过，一边记录孔子的言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95640" y="3645000"/>
            <a:ext cx="6048360" cy="1230120"/>
          </a:xfrm>
          <a:prstGeom prst="rect">
            <a:avLst/>
          </a:prstGeom>
          <a:solidFill>
            <a:srgbClr val="ffccff">
              <a:alpha val="47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意思为：如果天下太平，我就不会与你们一道来从事改革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文展示孔子主张入世救国，以改变天下为己任，勇于担当社会责任的精神和知其不可为而为之的坚韧品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1632960"/>
            <a:ext cx="8208720" cy="2775600"/>
          </a:xfrm>
          <a:prstGeom prst="rect">
            <a:avLst/>
          </a:prstGeom>
          <a:solidFill>
            <a:srgbClr val="ccffcc">
              <a:alpha val="27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高山仰止，景行行止”出自《诗经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小雅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车辖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司马迁《史记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孔子世家》专门引以赞美孔子：“《诗》有之：‘高山仰止，景行行止。虽不能至，然心向往之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汉郑玄注解说：“古人有高德者则慕仰之，有明行者则而行之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郑玄把“高山”比喻崇高的道德，“仰”是慕仰；“景行”是“明行”，即光明正大的行为，是人们行动的准则。 “止”，都解释为语助词，看来没有什么异义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35280" y="259920"/>
            <a:ext cx="5292720" cy="6480360"/>
          </a:xfrm>
          <a:prstGeom prst="rect">
            <a:avLst/>
          </a:prstGeom>
          <a:solidFill>
            <a:srgbClr val="ffffff">
              <a:alpha val="31000"/>
            </a:srgbClr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身处“礼崩乐坏”的时代，在多次碰壁后，知道自己的主张、抱负不能实现，但他仍然为之奋斗，被成为“知其不可而为之”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孔子的这种精神却遭到了许多隐士（有识之士）的反对。如接舆（狂放游侠似的隐士）、长沮、桀溺（匿迹山林的隐士）、荷蓧丈人（清高孤傲而性格复杂的隐士）。他们对孔子师徒极尽奚落和嘲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时还遭到普通人的反对，如晨门人、荷蒉者。认为孔子固执，不因势利导改变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334800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80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仪封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x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曰：“君子之至于斯也，吾未尝不得见也。”从者见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出曰：“二三子何患于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sàng) 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？天下之无道也久矣，天将以夫子为木铎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u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852640"/>
            <a:ext cx="7920000" cy="212076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译文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仪这个地方镇守边界的长官请求把自己引见给孔子，他说：“凡是君子到这里来，我从没有见不到的。”孔子的随从学生把他引见给了孔子。他出来后（对孔子的学生们）说：“诸位何必为孔子丧失官位而担忧呢？天下没有德政已经很久了，上天将借孔夫子为圣人来宣扬大道。”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989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492280"/>
            <a:ext cx="482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5300640"/>
            <a:ext cx="727380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5589720"/>
            <a:ext cx="1512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33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3:58:16Z</dcterms:created>
  <dc:creator>微软用户</dc:creator>
  <dc:description/>
  <dc:language>en-US</dc:language>
  <cp:lastModifiedBy>zmj</cp:lastModifiedBy>
  <dcterms:modified xsi:type="dcterms:W3CDTF">2012-03-03T12:21:48Z</dcterms:modified>
  <cp:revision>145</cp:revision>
  <dc:subject/>
  <dc:title>先秦诸子选读:《论语》选读第一单元</dc:title>
</cp:coreProperties>
</file>