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A75-E567-4D43-B23B-B309BEA6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F10-B9F4-4746-AD6A-CABF70AE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472-3473-4A8C-8ACD-1D3CDD57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09B-B0D5-44EC-ADB1-502CA225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351-3DC7-4BB8-804B-7055D212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0FF-0EC0-41C7-9F56-F70D3830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B7A-CC43-48A5-B889-754CAF23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5DC-8CE0-410C-B38D-0D8D7147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4BA-D164-48DE-9326-F23B6907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ED8-C86C-4925-8313-F3B055C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E32-B3EE-44E8-B6A0-533759C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06E-FF2D-4422-9B98-7245B7CD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8CEC-2560-4F6E-B5A7-027DB516E2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51"/>
          <p:cNvSpPr/>
          <p:nvPr/>
        </p:nvSpPr>
        <p:spPr>
          <a:xfrm>
            <a:off x="3635280" y="55897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下有道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丘不与易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052" descr="200601081852377349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753080"/>
          </a:xfrm>
          <a:prstGeom prst="rect">
            <a:avLst/>
          </a:prstGeom>
          <a:ln w="0">
            <a:noFill/>
          </a:ln>
        </p:spPr>
      </p:pic>
      <p:sp>
        <p:nvSpPr>
          <p:cNvPr id="43" name="矩形 2053"/>
          <p:cNvSpPr txBox="1"/>
          <p:nvPr/>
        </p:nvSpPr>
        <p:spPr>
          <a:xfrm>
            <a:off x="611280" y="5445000"/>
            <a:ext cx="280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《论语》选读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03280" y="188640"/>
            <a:ext cx="5940360" cy="6335640"/>
          </a:xfrm>
          <a:prstGeom prst="rect">
            <a:avLst/>
          </a:prstGeom>
          <a:solidFill>
            <a:srgbClr val="ccffcc">
              <a:alpha val="3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评析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一章反映了孔子关于社会改革的主观愿望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积极入世</a:t>
            </a:r>
            <a:r>
              <a:rPr b="1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　　　儒家不倡导消极避世的做法，这与道家不同。儒家认为，即使不能齐家治国平天下，也要独善其身，做一个有道德修养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　　  孔子就是这样一位身体力行者。所以，他感到自己有一种社会责任心，正因为社会动乱、天下无道，他才与自己的弟子们不知辛苦地四处呼吁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以天下为己任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为社会改革而努力，这是一种可贵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忧患意识和历史责任感。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7415" descr="2010-7-6-17-58-48-461"/>
          <p:cNvPicPr/>
          <p:nvPr/>
        </p:nvPicPr>
        <p:blipFill>
          <a:blip r:embed="rId1"/>
          <a:stretch/>
        </p:blipFill>
        <p:spPr>
          <a:xfrm>
            <a:off x="0" y="351000"/>
            <a:ext cx="2921040" cy="614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73729"/>
          <p:cNvSpPr/>
          <p:nvPr/>
        </p:nvSpPr>
        <p:spPr>
          <a:xfrm>
            <a:off x="539640" y="476280"/>
            <a:ext cx="7920000" cy="338580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思考第三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从楚狂接舆的歌词中可看出接舆对孔子持什么态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从“孔子下，欲与之言”可以窥见孔子怎样的内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接舆为何“趋而辟之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60419"/>
          <p:cNvSpPr/>
          <p:nvPr/>
        </p:nvSpPr>
        <p:spPr>
          <a:xfrm>
            <a:off x="324000" y="619200"/>
            <a:ext cx="5786280" cy="3588120"/>
          </a:xfrm>
          <a:prstGeom prst="rect">
            <a:avLst/>
          </a:prstGeom>
          <a:solidFill>
            <a:srgbClr val="ffffff">
              <a:alpha val="40000"/>
            </a:srgbClr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评析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既有接舆对孔子品格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虚假尊重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又有对孔子人生选择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讥讽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；既有对孔子的最后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规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也有对当时执政者的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斥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连用三个“而”表示斥责、贬斥之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　　 能表现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隐士对现实的不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也表现孔子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对隐士的尊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60420" descr="W020071107341473296426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71681"/>
          <p:cNvSpPr/>
          <p:nvPr/>
        </p:nvSpPr>
        <p:spPr>
          <a:xfrm>
            <a:off x="466560" y="404640"/>
            <a:ext cx="8496360" cy="368964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思考第四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“四体不勤，五谷不分”到底是说的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荷蓧丈人为何先嘲讽后又留子路住下来？其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从荷蓧丈人的言谈来看，他是一个什么样的人？孔子又是一个什么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成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四体不勤，五谷不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容脱离劳动，脱离劳动人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29840" y="333360"/>
            <a:ext cx="5592600" cy="5975280"/>
          </a:xfrm>
          <a:prstGeom prst="rect">
            <a:avLst/>
          </a:prstGeom>
          <a:solidFill>
            <a:srgbClr val="ffffff">
              <a:alpha val="46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评析第五节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知其不可而为之”，这是做人的大道理。人要有一点锲而不舍的追求精神，许多事情都是经过艰苦努力和奋斗而得来的。孔子“知其不可而为之”，反映出他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孜孜不倦的执着精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从这位看门人的话中，我们也可以见出当时普通人对孔子的评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5605" descr="2feaf6dfba4e9973cdbf1ab8"/>
          <p:cNvPicPr/>
          <p:nvPr/>
        </p:nvPicPr>
        <p:blipFill>
          <a:blip r:embed="rId1"/>
          <a:stretch/>
        </p:blipFill>
        <p:spPr>
          <a:xfrm>
            <a:off x="6022800" y="287280"/>
            <a:ext cx="312120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2292"/>
          <p:cNvSpPr/>
          <p:nvPr/>
        </p:nvSpPr>
        <p:spPr>
          <a:xfrm>
            <a:off x="611280" y="1125360"/>
            <a:ext cx="8353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评价孔子“知其不可而为之”的做法？请说明理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“礼乐崩坏”、秩序紊乱的春秋末期，孔子提出“仁、礼”的主张，想恢复西周的“礼制”是不现实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周游列国，大力宣扬了自己的政治主张，使儒家学派成为春秋战国时期最大的一个流派，对后世影响深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其不可而为之”的精神光照千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293"/>
          <p:cNvSpPr txBox="1"/>
          <p:nvPr/>
        </p:nvSpPr>
        <p:spPr>
          <a:xfrm>
            <a:off x="682560" y="47628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思考与探究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9219"/>
          <p:cNvSpPr/>
          <p:nvPr/>
        </p:nvSpPr>
        <p:spPr>
          <a:xfrm>
            <a:off x="611280" y="100980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心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提出了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穷则独善其身，达则兼济天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的观点；而本文中孔子给我们的印象是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其不可为而为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，如何看待孔子与孟子的这种差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传统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被称为“圣人”，孟子被称为“亚圣”，两人都是先秦儒家的大师，他们的人格和人生追求都是“修身齐家治国平天下”的模式。在修身为立足点上，无论是进还是退，两者并无差异。但是，孔子对治国、平天下的追求更为执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220"/>
          <p:cNvSpPr txBox="1"/>
          <p:nvPr/>
        </p:nvSpPr>
        <p:spPr>
          <a:xfrm>
            <a:off x="682560" y="47628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思考与探究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7172"/>
          <p:cNvSpPr txBox="1"/>
          <p:nvPr/>
        </p:nvSpPr>
        <p:spPr>
          <a:xfrm>
            <a:off x="466560" y="18900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拓展练习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77" name="矩形 7173"/>
          <p:cNvSpPr/>
          <p:nvPr/>
        </p:nvSpPr>
        <p:spPr>
          <a:xfrm>
            <a:off x="395280" y="8380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归纳整理一些“知其不可而为之”的作文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174"/>
          <p:cNvSpPr/>
          <p:nvPr/>
        </p:nvSpPr>
        <p:spPr>
          <a:xfrm>
            <a:off x="395280" y="1488960"/>
            <a:ext cx="8488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文天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生自古谁无死，留取丹心照汗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史可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抗清名将）： 城亡我亡，头可断，志不可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谭嗣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我自横刀向天笑，去留肝胆两昆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布鲁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坚持“日心说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宗教裁判所关押审问八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死在罗马鲜花广场上 “火会更使真理永恒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西弗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蔑视众神的命运安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将巨石推上山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滚落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推，决不屈服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123"/>
          <p:cNvSpPr/>
          <p:nvPr/>
        </p:nvSpPr>
        <p:spPr>
          <a:xfrm>
            <a:off x="611280" y="1127160"/>
            <a:ext cx="69706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仪封人请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：“见”通“现”，之意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桀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：“桀”通“杰”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形容高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是鲁孔丘与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：“与”通“欤”气词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而谁以易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：“而”通“尔”，第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且而与其从辟人之士也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：“辟”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植其杖而芸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：“芸”通“耘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使子路反见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124"/>
          <p:cNvSpPr txBox="1"/>
          <p:nvPr/>
        </p:nvSpPr>
        <p:spPr>
          <a:xfrm>
            <a:off x="969840" y="47628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知识整理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25601"/>
          <p:cNvSpPr/>
          <p:nvPr/>
        </p:nvSpPr>
        <p:spPr>
          <a:xfrm>
            <a:off x="611280" y="1127160"/>
            <a:ext cx="78483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仪封人请见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见”通“现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引见之意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桀溺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桀”通“杰”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容高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是鲁孔丘与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与”通“欤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句末语气词，表疑问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而谁以易之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而”通“尔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第二人称代词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且而与其从辟人之士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辟”通“避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植其杖而芸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芸”通“耘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使子路反见之：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反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通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返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602"/>
          <p:cNvSpPr txBox="1"/>
          <p:nvPr/>
        </p:nvSpPr>
        <p:spPr>
          <a:xfrm>
            <a:off x="825480" y="47628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知识整理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2292" descr="ppt62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5800" y="1083960"/>
            <a:ext cx="8692920" cy="251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创者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人物有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孔子、孟子、荀子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质：儒家思想是中国封建统治的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著作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书、五经、六艺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2291"/>
          <p:cNvSpPr/>
          <p:nvPr/>
        </p:nvSpPr>
        <p:spPr>
          <a:xfrm>
            <a:off x="142920" y="3689280"/>
            <a:ext cx="883908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书：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大学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中庸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论语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经：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尚书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礼记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周易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春秋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艺即六经：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易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书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诗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礼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乐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春秋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2293"/>
          <p:cNvSpPr/>
          <p:nvPr/>
        </p:nvSpPr>
        <p:spPr>
          <a:xfrm>
            <a:off x="216000" y="216000"/>
            <a:ext cx="4133880" cy="642600"/>
          </a:xfrm>
          <a:prstGeom prst="rect">
            <a:avLst/>
          </a:prstGeom>
          <a:solidFill>
            <a:srgbClr val="008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人论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儒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7649"/>
          <p:cNvSpPr txBox="1"/>
          <p:nvPr/>
        </p:nvSpPr>
        <p:spPr>
          <a:xfrm>
            <a:off x="825480" y="47628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知识整理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84" name="矩形 27650"/>
          <p:cNvSpPr/>
          <p:nvPr/>
        </p:nvSpPr>
        <p:spPr>
          <a:xfrm>
            <a:off x="611280" y="1198440"/>
            <a:ext cx="72342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古今异义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遇丈人：古：老年男子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今：妻子的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明日：古：第二天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今：明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不仕无义：    古：违背了臣对君应当秉持的政教伦理原则。  今：没有义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148"/>
          <p:cNvSpPr txBox="1"/>
          <p:nvPr/>
        </p:nvSpPr>
        <p:spPr>
          <a:xfrm>
            <a:off x="898560" y="47628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知识整理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86" name="矩形 6149"/>
          <p:cNvSpPr/>
          <p:nvPr/>
        </p:nvSpPr>
        <p:spPr>
          <a:xfrm>
            <a:off x="826920" y="1127160"/>
            <a:ext cx="60310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类活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孔子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名作动，下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植其杖而芸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止子路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不仕无义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名作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欲洁其身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使动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8673"/>
          <p:cNvSpPr txBox="1"/>
          <p:nvPr/>
        </p:nvSpPr>
        <p:spPr>
          <a:xfrm>
            <a:off x="825480" y="476280"/>
            <a:ext cx="216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知识整理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88" name="矩形 28674"/>
          <p:cNvSpPr/>
          <p:nvPr/>
        </p:nvSpPr>
        <p:spPr>
          <a:xfrm>
            <a:off x="730080" y="1308240"/>
            <a:ext cx="6031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类活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孔子下（名作动，下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植其杖而芸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止子路宿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不仕无义（名作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欲洁其身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23554"/>
          <p:cNvSpPr/>
          <p:nvPr/>
        </p:nvSpPr>
        <p:spPr>
          <a:xfrm>
            <a:off x="755640" y="692280"/>
            <a:ext cx="450072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积极入世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勇于担当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以天下为己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知其不可为而为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3556" descr="632"/>
          <p:cNvPicPr/>
          <p:nvPr/>
        </p:nvPicPr>
        <p:blipFill>
          <a:blip r:embed="rId1"/>
          <a:stretch/>
        </p:blipFill>
        <p:spPr>
          <a:xfrm>
            <a:off x="5292720" y="692280"/>
            <a:ext cx="3195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6920" y="1084320"/>
            <a:ext cx="8255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世时间：公元前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1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9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姓孔名丘，字仲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籍贯：鲁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世：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孔子的祖先本是殷商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华夏族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裔，故为孔姓。先世是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宋国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贵族，孔子第六代先祖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孔父嘉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一次宫廷斗争中被杀，其子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木金父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此说本于匡亚明；杨伯峻说是曾孙孔防叔。）避难奔鲁，从此定居鲁国的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陬邑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父亲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叔梁纥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鲁国陬邑的大夫，母亲叫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颜征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63843"/>
          <p:cNvSpPr/>
          <p:nvPr/>
        </p:nvSpPr>
        <p:spPr>
          <a:xfrm>
            <a:off x="181080" y="268200"/>
            <a:ext cx="4120920" cy="642600"/>
          </a:xfrm>
          <a:prstGeom prst="rect">
            <a:avLst/>
          </a:prstGeom>
          <a:solidFill>
            <a:srgbClr val="008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人论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8160" y="796680"/>
            <a:ext cx="88124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元前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孔子出生。父亲是个军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：父死。母亲带他从陬邑迁居到鲁国都城曲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至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：出仕，任“乘田”、“委吏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3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：开始收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-5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：教育事业的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-68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：周游列国，宣传主张，希望实现自己的</a:t>
            </a:r>
            <a:r>
              <a:rPr b="0" lang="zh-CN" sz="32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政治理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8-73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：回鲁国，开始修订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65891"/>
          <p:cNvSpPr/>
          <p:nvPr/>
        </p:nvSpPr>
        <p:spPr>
          <a:xfrm>
            <a:off x="152280" y="88920"/>
            <a:ext cx="3926160" cy="642600"/>
          </a:xfrm>
          <a:prstGeom prst="rect">
            <a:avLst/>
          </a:prstGeom>
          <a:solidFill>
            <a:srgbClr val="008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人论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4577"/>
          <p:cNvSpPr/>
          <p:nvPr/>
        </p:nvSpPr>
        <p:spPr>
          <a:xfrm>
            <a:off x="325440" y="2179440"/>
            <a:ext cx="842472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钱穆说：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西汉以来，为中国识字人一部人人必读书。”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论语新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林语堂说：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部书，是孔学上的圣经，是一套道德的教训。”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的智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赵普说，“半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天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4578"/>
          <p:cNvSpPr txBox="1"/>
          <p:nvPr/>
        </p:nvSpPr>
        <p:spPr>
          <a:xfrm>
            <a:off x="466560" y="476280"/>
            <a:ext cx="25513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关于《论语》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76801"/>
          <p:cNvSpPr/>
          <p:nvPr/>
        </p:nvSpPr>
        <p:spPr>
          <a:xfrm>
            <a:off x="3635280" y="260280"/>
            <a:ext cx="5184720" cy="595548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论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十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里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公冶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雍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述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泰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子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乡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先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颜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子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宪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卫灵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季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阳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微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子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尧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76802" descr="2feaf6dfba4e9973cdbf1ab8"/>
          <p:cNvPicPr/>
          <p:nvPr/>
        </p:nvPicPr>
        <p:blipFill>
          <a:blip r:embed="rId1"/>
          <a:stretch/>
        </p:blipFill>
        <p:spPr>
          <a:xfrm>
            <a:off x="179280" y="333360"/>
            <a:ext cx="3276720" cy="497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78849" descr="869427"/>
          <p:cNvPicPr/>
          <p:nvPr/>
        </p:nvPicPr>
        <p:blipFill>
          <a:blip r:embed="rId1"/>
          <a:stretch/>
        </p:blipFill>
        <p:spPr>
          <a:xfrm>
            <a:off x="179280" y="236520"/>
            <a:ext cx="3708360" cy="638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4032000" y="430200"/>
            <a:ext cx="4878360" cy="578016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一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语录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书，主要体式有四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１）直录孔子及其弟子的言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２）答问体，即先指出问者及所问问题，然后记录孔子的回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３）对话体，记录孔子跟弟子或其他人之间的对话经过情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４）一边记叙事情的经过，一边记录孔子的言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195"/>
          <p:cNvSpPr/>
          <p:nvPr/>
        </p:nvSpPr>
        <p:spPr>
          <a:xfrm>
            <a:off x="324000" y="765000"/>
            <a:ext cx="460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仪封人认为孔子是一位怎样的人？作者是怎样刻画孔子这一形象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196"/>
          <p:cNvSpPr txBox="1"/>
          <p:nvPr/>
        </p:nvSpPr>
        <p:spPr>
          <a:xfrm>
            <a:off x="324000" y="260280"/>
            <a:ext cx="3779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思考与探究第一则：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60" name="图片 8200" descr="20085691540928_2"/>
          <p:cNvPicPr/>
          <p:nvPr/>
        </p:nvPicPr>
        <p:blipFill>
          <a:blip r:embed="rId1"/>
          <a:stretch/>
        </p:blipFill>
        <p:spPr>
          <a:xfrm>
            <a:off x="5435640" y="692280"/>
            <a:ext cx="3240000" cy="532908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"/>
          <p:cNvSpPr/>
          <p:nvPr/>
        </p:nvSpPr>
        <p:spPr>
          <a:xfrm>
            <a:off x="393840" y="3378240"/>
            <a:ext cx="4302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仪封之口，用“木铎”喻孔子，高度赞美孔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勇于担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高尚精神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侧面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70657"/>
          <p:cNvSpPr/>
          <p:nvPr/>
        </p:nvSpPr>
        <p:spPr>
          <a:xfrm>
            <a:off x="142920" y="358920"/>
            <a:ext cx="86454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思考第二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“辟人之士”、“辟世之士”分别指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长沮、桀溺对孔子的态度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孔子为何“怃然”？反映了孔子怎样的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70658" descr="4eeec142e410ec2d9213c692"/>
          <p:cNvPicPr/>
          <p:nvPr/>
        </p:nvPicPr>
        <p:blipFill>
          <a:blip r:embed="rId1"/>
          <a:stretch/>
        </p:blipFill>
        <p:spPr>
          <a:xfrm rot="942000">
            <a:off x="7164000" y="4005360"/>
            <a:ext cx="170676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4:58:15Z</dcterms:created>
  <dc:creator>LXY</dc:creator>
  <dc:description/>
  <dc:language>en-US</dc:language>
  <cp:lastModifiedBy>ychy086911</cp:lastModifiedBy>
  <dcterms:modified xsi:type="dcterms:W3CDTF">2017-03-18T14:03:39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