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63B-EECE-41F3-B1C1-1F895563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754-6992-4C60-8D25-2C5CB28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CD6-8960-42A7-9D68-910EC442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4E2-C541-4A2C-A4E0-56C9316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184-0C4A-4DC0-A0E1-355E6173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EB2-F2F7-47C3-B772-DBFD1449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B8AB-2A85-4120-87D4-1760EFC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F59F-FB7D-462F-A75D-E45CB211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F119-90A6-464E-9ACE-8574D09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AD50-D825-4F98-898D-6EF1A7F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5D55-4EDD-4E0A-A56B-652532F4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BAD-7708-4F01-8AB6-0F9D4162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7D28-A6DE-4BD6-8FB5-FBC24EC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C0B5-B9AC-4CD3-8434-1475C3E8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9CFC-7CD5-49FC-8CDB-9AD793B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85B6-44B2-48B6-A5EE-3AFFA745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2F79-417C-47BC-AE74-DB38C17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54BB-A731-481F-9011-4CF70625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48A0-F7CC-4CE6-8E11-33B1F900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945C-714F-436E-A18A-27A4958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D2EC-ECF1-4D4D-AC5E-09292D5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35AC-2A97-4242-A31A-07F9963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AF8-E1D7-4E46-B085-0D7D32E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FC7B-9D27-43D6-8F0E-F739581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9C69-9590-44EC-99DF-12092A2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D08E-ADA2-47CB-8B9A-107CE16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5C69-85CE-45AA-AD66-1C9C736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EFAD-55D3-46FD-AA2D-0161229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B169-9D49-49DB-AF70-A424E005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0BC7-7929-4537-897E-61DDC6FE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A0B-E728-495F-8C1E-5D9A697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169-213D-4040-833E-3FA6041A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E0B-D739-4EB0-B7EE-E064406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346-396C-45C0-B96B-CF0B893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D27-FD77-401C-B4DF-E4A161E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753-393C-47C4-A270-4119A34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CF69-B937-4C58-A377-82BC230E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BF2-6895-4BFB-B43E-6B948A1B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452-A019-4904-9230-A1ED5715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15293513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97280" y="5805360"/>
            <a:ext cx="44467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泉州中远学校  叶华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907920"/>
            <a:ext cx="85690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先秦诸子散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362040"/>
            <a:ext cx="65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法家的代表人物是韩非子，他是荀子的学生。韩非，战国末期唯物主义哲学家，法家思想的集大成者。他主张</a:t>
            </a:r>
            <a:r>
              <a:rPr b="1" lang="en-US" sz="3200" spc="-1" strike="noStrike">
                <a:solidFill>
                  <a:srgbClr val="9933ff"/>
                </a:solidFill>
                <a:latin typeface="宋体"/>
              </a:rPr>
              <a:t>法治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，反对儒家的礼治，受到秦王政（即秦始皇）的重视。认为“法治、术治、势治”都是帝王之具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但他主张的极权政治、高压政策、残酷的刑罚等等，主要是针对劳动人民的，这又是违反人民的利益的。 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8560" y="476280"/>
            <a:ext cx="22654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法      家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200782418333726" descr=""/>
          <p:cNvPicPr/>
          <p:nvPr/>
        </p:nvPicPr>
        <p:blipFill>
          <a:blip r:embed="rId2"/>
          <a:stretch/>
        </p:blipFill>
        <p:spPr>
          <a:xfrm>
            <a:off x="6572160" y="476280"/>
            <a:ext cx="2571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379200" y="83664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先秦诸子都是我国文化的宝贵遗产。这一时期就流派风格之多、哲思之深、影响之远、原创作之强而言，是空前的，也可以说是绝后的。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20060419144930-0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60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4360" y="836640"/>
            <a:ext cx="756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《论语》选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5280" y="836640"/>
            <a:ext cx="8209080" cy="28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第一课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: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天下有道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丘不与易也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89360"/>
            <a:ext cx="9144000" cy="132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意思为：如果天下太平，我就不会与你们一道来从事改革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选文展示孔子主张入世救国，以改变天下为己任，勇于担当社会责任的精神和知其不可为而为之的坚韧品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43564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关于《论语》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论语》，儒家经典之一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是孔子弟子及其再传弟子关于孔子言行的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内容有孔子谈话、答弟子问及弟子间相互谈论，是研究孔子思想的资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南宋朱熹把它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大学》、《中庸》、《孟子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合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四书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《论语》共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篇，每篇又分若干章，章的长短不一，前后两章之间也不一定有什么关联，篇名只是摘取各篇开头两三个字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119082big" descr=""/>
          <p:cNvPicPr/>
          <p:nvPr/>
        </p:nvPicPr>
        <p:blipFill>
          <a:blip r:embed="rId1"/>
          <a:stretch/>
        </p:blipFill>
        <p:spPr>
          <a:xfrm>
            <a:off x="5477040" y="0"/>
            <a:ext cx="36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19082big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19280" y="0"/>
            <a:ext cx="662472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《论语》二十篇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学而》《为政》《八修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里仁》《公冶长》《雍也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述而》《泰伯》《子罕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乡党》《先进》《颜渊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子路》《宪问》《卫灵公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季氏》《阳货》《微子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《子张》《尧曰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866360" y="0"/>
            <a:ext cx="127764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　关于书名的来源，班固《汉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艺文志》中有这样的解释：“《论语》者，孔子应答弟子、时人及弟子相与言而接闻于夫子之语也。当时弟子各有所记，夫子既卒，门人相与辑而论纂，故谓之《论语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。”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ú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：编纂。语：言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2006518151036827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869427" descr=""/>
          <p:cNvPicPr/>
          <p:nvPr/>
        </p:nvPicPr>
        <p:blipFill>
          <a:blip r:embed="rId1"/>
          <a:stretch/>
        </p:blipFill>
        <p:spPr>
          <a:xfrm>
            <a:off x="5810400" y="0"/>
            <a:ext cx="33336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1563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了解语录体的特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《论语》是一部语录体的书，主要体式有四种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（１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直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孔子及其弟子的言论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（２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答问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即先指出问者及所问问题，然后记录孔子的回答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（３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对话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记录孔子跟弟子或其他人之间的对话经过情形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（４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记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事情的经过，一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记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孔子的言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87280"/>
            <a:ext cx="9144000" cy="448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 “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高山仰止，景行行止”出自《诗经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小雅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车辖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司马迁《史记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孔子世家》专门引以赞美孔子：“《诗》有之：‘高山仰止，景行行止。虽不能至，然心向往之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汉郑玄注解说：“古人有高德者则慕仰之，有明行者则而行之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郑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玄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把“高山”比喻崇高的道德，“仰”是慕仰；“景行”是“明行”，即光明正大的行为，是人们行动的准则。 “止”，都解释为语助词，看来没有什么异义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869427" descr=""/>
          <p:cNvPicPr/>
          <p:nvPr/>
        </p:nvPicPr>
        <p:blipFill>
          <a:blip r:embed="rId1"/>
          <a:stretch/>
        </p:blipFill>
        <p:spPr>
          <a:xfrm>
            <a:off x="0" y="0"/>
            <a:ext cx="88916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1080" y="2885760"/>
            <a:ext cx="1094760" cy="1423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《论语》名言警句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35920" y="620280"/>
            <a:ext cx="24112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先秦诸子概说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先秦诸子是指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春秋战国时代各学派的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表人物或者他们的著作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0874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能文能武，博学多才的</a:t>
            </a:r>
            <a:r>
              <a:rPr b="1" lang="en-US" sz="3200" spc="-1" strike="noStrike">
                <a:solidFill>
                  <a:srgbClr val="9933ff"/>
                </a:solidFill>
                <a:latin typeface="宋体"/>
              </a:rPr>
              <a:t>新士人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有独立的人格，按自己的意思著书立说或者发表言论，成为不同阶级和阶层的思想代表。由此出现了</a:t>
            </a:r>
            <a:r>
              <a:rPr b="1" lang="en-US" sz="3200" spc="-1" strike="noStrike">
                <a:solidFill>
                  <a:srgbClr val="9933ff"/>
                </a:solidFill>
                <a:latin typeface="宋体"/>
              </a:rPr>
              <a:t>“百花齐放，百家争鸣”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的繁荣局面。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56240" y="5733000"/>
            <a:ext cx="14137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先秦诸子包括儒、道、法、墨、名、阴阳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064240"/>
            <a:ext cx="9144000" cy="2656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、君子食无求饱，居无求安，敏于事而慎于言，就有道而正焉，可谓好学也已。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君子不会致力于饮食及居住环境上追求安饱，努力勤快地做事而且谨慎地说话，又能主动地向志向行为高尚的人请求教导指正，这样就可以称得上是好学的人了。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、不患人之不己知，患不知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、吾十有五而志于学，三十而立，四十不惑，五十而知天命，六十而耳顺，七十而从心所欲，不逾矩。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孔子说：我十五岁时，便立定志向于学习之上；三十岁时，能立身处世；四十岁时，可以免于迷惑；五十岁时，已经能够领悟天命；六十岁时，就可以顺从天命；七十岁时，终于能做到随心所欲而行，且所为都能合于规矩的境界了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、朝闻道，夕死可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、君子喻于义，小人喻于利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君子了解义，行事也以义为标准。小人了解利，所以行事易追逐利益。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23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父母在，不远游，游必有方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父母在世的时候，不出远门去求学、做官，万一要出远门，必须有一定的去处。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朽木不可雕也，粪土之墙不可圬也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腐烂的木头不能雕刻，粪土一样的墙壁不能粉刷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知之者不如好之者，好之者不如乐之者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懂得它的人，不如爱好它的人；爱好它的人，又不如以它为乐的人 。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知者乐水，仁者乐山。知者动，仁者静。知者乐，仁者寿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。（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智者乐水，是因为智者乐运其智以利人，如同流水，自然无滞。仁者乐山，是因为仁者喜能承载以利生，如山不动，万物荣焉。智者善应事，动如脱兔；仁者守真心，静如处子。智者得志而乐，仁者无忧故寿。智者有功则民喜，仁者有德则众归。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52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敏而好学，不耻下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默而识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学而不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诲人不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何有于我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子在川上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逝者如斯夫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不舍昼夜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鸟之将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其鸣也哀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人之将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其言也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坦荡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小人长戚戚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君子心胸宽广坦荡，小人经常心绪不宁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三军可夺帅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匹夫不可夺志也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三军虽众，人心不一，则其将帅可夺而取之；匹夫虽微，苟守其志，不可得而夺也。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知者不惑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仁者不忧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勇者不惧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仁者不忧愁，智者不迷惑，勇者不畏惧。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非礼勿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非礼勿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非礼勿言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非礼勿动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有失礼教的东西不看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有失礼教的传闻不听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有失礼教的话语不说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有失礼教的事情不做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成人之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不成人之恶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小人反是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君子助人成就善事，不助人成就恶事。小人与这相反。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以文会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以友辅仁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君子以诗书礼乐之文结交朋友，以朋友辅助为仁，可谓得其交友之道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名不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则言不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言不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则事不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其身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不令而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其身不正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虽令不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3526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欲速则不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见小利则大事不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言必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行必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4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人无远虑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必有近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泰而不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小人骄而不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6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工欲善其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必先利其器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工匠要做好工作，必须先磨快工具。比喻要做好一件事，准备工作非常重要。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7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和而不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小人同而不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君子在人际交往中能够与他人保持一种和谐友善的关系，但在对具体问题的看法上却不必苟同于对方；小人习惯于在对问题的看法上迎合别人的心理、附和别人的言论．但在内心深处却并不抱有一种和谐友善的态度。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既来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则安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9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小不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则乱大谋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在小事情上不忍耐让步，就会打乱今后的一些大计划。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道不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不相为谋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志向不同，不在一起谋划共事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日知其所亡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月无忘其所能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可谓好学也已矣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每天能学到一些自己没有的知识，每月不忘自己已掌握的知识，这样就可以说是好学的了。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君子之过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如日月之食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过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人皆见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更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人皆仰之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。（君子的过错就像日食月食一样：有过错时，人人都 看得见；改正的时候，人人都仰望着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32514_200707281149001" descr="75"/>
          <p:cNvPicPr/>
          <p:nvPr/>
        </p:nvPicPr>
        <p:blipFill>
          <a:blip r:embed="rId1">
            <a:lum brigh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【原文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仪封人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请见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x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，曰：“君子之至于斯也，吾未尝不得见也。”从者见之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。出曰：“二三子何患于丧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sàng) (3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乎？天下之无道也久矣，天将以夫子为木铎（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uó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。”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89000"/>
            <a:ext cx="889308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【注释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宋体"/>
              </a:rPr>
              <a:t>(1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仪封人：仪为地名，在今河南兰考县境内。封人，系镇守边疆的官。请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xiàn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：引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宋体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君子之至于斯也。之，定语后置标志。相当于“至于斯之君子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宋体"/>
              </a:rPr>
              <a:t>(3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从者见之：随行的人引见了他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  <a:ea typeface="宋体"/>
              </a:rPr>
              <a:t>(4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丧：失去，这里指失去官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（５）木铎：木舌的铜铃。古代天子发布政令时摇它以召集听众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仪这个地方镇守边界的长官请求把自己引见给孔子，他说：“凡是君子到这里来，我从没有见不到的。”孔子的随从学生把他引见给了孔子。他出来后（对孔子的学生们）说：“诸位何必为孔子丧失官位而担忧呢？天下没有德政已经很久了，上天将借孔夫子为圣人来宣扬大道。”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【评析】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孔子在他所处的那个时代，已经是十分有影响的人，尤其是在礼制方面，信服孔子的人很多，仪封人便是其中之一。他在见孔子之后，就认为上天将以孔夫子为圣人号令天下，可见对孔子是佩服至极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　　　借仪封之口，用“木铎”喻孔子，高度赞美孔子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勇于担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的高尚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020071025336821846589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863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儒家是由孔子开创。儒家思想是中国封建统治的思想。儒家传统经典即六经或六艺，即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《易》《书》《诗》《礼》《乐》《春秋》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儒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代表人物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孔子、孟子、荀子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476280"/>
            <a:ext cx="2952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儒    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原文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jù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、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ji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nì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ǒ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而耕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孔子过之，使子路问津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曰：“夫执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yú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4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者为谁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曰：“为孔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是鲁孔丘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yú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同“欤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是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是知津矣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问于桀溺。桀溺曰：“子为谁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为仲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是孔丘之徒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对曰：“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滔滔者天下皆是也，而谁以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5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？且而与其从辟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ì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人之士也，岂若从辟世之士哉？”耰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7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ｕ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而不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chu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行以告。夫子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wǔ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8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曰：“鸟兽不可与同群，吾非斯人之徒与而谁与？天下有道，丘不与易也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424168" descr=""/>
          <p:cNvPicPr/>
          <p:nvPr/>
        </p:nvPicPr>
        <p:blipFill>
          <a:blip r:embed="rId1"/>
          <a:stretch/>
        </p:blipFill>
        <p:spPr>
          <a:xfrm>
            <a:off x="5572080" y="0"/>
            <a:ext cx="35719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756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长沮、桀溺：两位隐士，真实姓名和身世不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耦而耕：两个人合力耕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问津：津，渡口。寻问渡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4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执舆：即执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èi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：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6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辟：同“避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7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耰：音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ｕ，用土覆盖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8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怃然：怅然，失意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译文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、桀溺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两个在水洼地里劳动的高大魁梧的人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并力一起耕种，孔子路过，让子路去寻问渡口在哪里。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问子路：“那个手拿着缰绳驾御车马的人是谁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说：“是孔丘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说；“是鲁国的孔丘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说：“是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长沮说：“那他是早已知道渡口的位置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再去问桀溺。桀溺说：“你是谁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说：“我是仲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桀溺说：“你是鲁国孔丘的弟子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说：“是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桀溺说：“天下到处都是像洪水一样混乱的情形，你与谁去改变它呢？况且你与其跟随孔子这样的避人之士，怎么比得上追随我们这些躲避社会的人呢？”桀溺用耰松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仍旧不停地做田里的农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回来后把情况告诉了孔子。孔子怅然若失地说：“人是不能与飞禽走兽合群共处的，我如果不同世上的人群打交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还与谁打交道呢？如果天下政治清明，我就不会与你们一道来参与变革了。”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84328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这一章反映了孔子关于社会改革的主观愿望和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积极入世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　　儒家不倡导消极避世的做法，这与道家不同。儒家认为，即使不能齐家治国平天下，也要独善其身，做一个有道德修养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　　孔子就是这样一位身体力行者。所以，他感到自己有一种社会责任心，正因为社会动乱、天下无道，他才与自己的弟子们不知辛苦地四处呼吁，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以天下为己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为社会改革而努力，这是一种可贵的忧患意识和历史责任感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原文】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楚狂接舆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歌而过孔子曰：“凤兮凤兮！何德之衰？往者不可谏，来者犹可追。已而已而！今之从政者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dài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而！”孔子下，欲与之言。趋而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bì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，不得与之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W020070424332356897927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716360" y="189000"/>
            <a:ext cx="424836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楚狂接舆：一说楚国的狂人接孔子之车；一说楚国狂人姓接名舆。本书采用第二种说法。 </a:t>
            </a:r>
            <a:br>
              <a:rPr sz="3200"/>
            </a:b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２）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dài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：危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３）趋：快步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bì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：通“避”，躲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pa04051803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11759634308457767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楚国的狂人接舆唱着歌从孔子的车旁走过，他唱道：“凤凰啊，凤凰啊，你的德行怎么这么衰弱呢？过去的已经无可挽回，未来的还来得及改正。算了吧，算了吧。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现在参与政治事务的人很危险啊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　　　孔子下车，想同他谈谈，他却快步走着躲避孔子，孔子没能和他交谈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532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　　　既有接舆对孔子品格的虚假尊重，又有读一孔子人生选择的讥嘲；既有对孔子的最后规劝，也有对当时执政者的斥责。连用三个“而”表示斥责、贬斥之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　　　表现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隐士对现实的不满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，也表现孔子对隐士的尊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W020071107341473296426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116234956998018_sm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、【原文】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子路从而后，遇丈人，以杖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è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蓧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ào) (1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。子路问曰：“子见夫子乎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丈人曰：“四体不勤，五谷不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，孰为夫子？”植其杖而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子路拱而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止子路宿，杀鸡为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hǔ) (3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而食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ì) (4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之。见其二子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明日，子路行以告。子曰：“隐者也。”使子路反见之。至，则行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子路曰：“不仕无义。长幼之节，不可废也；君臣之义，如之何其废之？欲洁其身，而乱大伦。君子之仕也，行其义也。道之不行，已知之矣。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728093" descr="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丈人：古代对老年男子的尊称。今指岳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2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蓧：音ｄ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ｏ，古代耘田所用的竹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四体不勤，五谷不分：一说这是丈人指自己。分不，是语气词，意为：我忙于播种五谷，没有闲暇，怎知你夫子是谁？另一说是丈人责备子路。说子路手脚不勤，五谷不分。多数人持第二种说法。我们以为，子路与丈人刚说了一句话，丈人并不知道子路是否真的四体不勤，五谷不分，没有可能说出这样的话。所以，我们同意第一种说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(4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黍：音ｓ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黏小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）食：音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拿东西给人吃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25360"/>
            <a:ext cx="890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孔子（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51~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年），名丘，字仲尼，春秋末期的思想家、教育家、儒家的创造者。世界四大文化名人之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孔子思想的核心是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是可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孰不可忍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理想人格的核心是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克己复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他主张中庸之道，反对“过”与“不及”。确立了“君君臣臣父父子子”影响我国古代社会和文化的制度。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76280"/>
            <a:ext cx="2952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儒    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728093" descr=""/>
          <p:cNvPicPr/>
          <p:nvPr/>
        </p:nvPicPr>
        <p:blipFill>
          <a:blip r:embed="rId1"/>
          <a:srcRect l="19171" t="0" r="0" b="0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0"/>
            <a:ext cx="70581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后：名词活用作动词，落在后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“芸”通“耘”，除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见：通“现”，使……拜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明日：第二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“反”通“返”，回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其：表示反问语气副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洁：使……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乱：使……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、仕：做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W020071107341473296426" descr=""/>
          <p:cNvPicPr/>
          <p:nvPr/>
        </p:nvPicPr>
        <p:blipFill>
          <a:blip r:embed="rId1"/>
          <a:stretch/>
        </p:blipFill>
        <p:spPr>
          <a:xfrm>
            <a:off x="0" y="46080"/>
            <a:ext cx="3013200" cy="6811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70000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译文】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跟随孔子出行，落在了后面，遇到一个老年男子，用拐杖挑着除草的工具。子路问道：“你看到我的老师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老丈说：“我手脚不停地劳作，五谷还来不及播种，哪里顾得上你的老师是谁？”说完，便把他的拐杖插在田头去除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拱着手恭敬地站在一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老年男子留子路到他家住宿，杀了鸡，做了小米饭给他吃，又叫两个儿子出来与子路见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第二天，子路赶上孔子，把这件事向他作了报告。孔子说：“这是个隐士啊。”叫子路回去再看看他。子路到了那里，老年男子已经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子路说：“不出来做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就是违背了臣对君应当秉持的政教伦理原则。长幼间的礼节是不可能废弃的；君臣间的关系怎么能废弃呢？老人家想要自身清白，却破坏了根本的君臣伦理关系。君子做官，只是为了实行君臣之义的。至于道的行不通，早就知道了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20082263456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评析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过去有一个时期，人们认为这一章中老丈所说：“四体不勤，五谷不分”是劳动人民对孔丘的批判等等。这恐怕是理解上和思想方法上的问题。对此，我们不想多作评论，因为当时不是科学研究，而是政治需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其实，本章的要点不在于此，而在于后面子路所作的总结。即认为，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隐居山林避世是不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老丈与他的儿子的关系仍然保持，却抛弃了君臣之伦。这是儒家向来都不提倡的，反映了孔子明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知其不可为而为之的执着精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U1978P28T3D1936365F326DT20080305075002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、【原文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子路宿于石门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晨门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曰：“奚自？”子路曰：“自孔氏。”曰：“是知其不可而为之者与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石门：地名。鲁国都城的外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晨门：早上看守城门的人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148360" y="189000"/>
            <a:ext cx="3816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【译文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子路夜里住在石门，看门的人问：“从哪里来？”子路说：“从孔子那里来。”看门的人说：“是那个明知做不到却还要去做的人吗？”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6" name="peop009_story02_05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50e277adca8d355a0c34d691b3ecdce1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评析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知其不可而为之”，这是做人的大道理。人要有一点锲而不舍的追求精神，许多事情都是经过艰苦努力和奋斗而得来的。孔子“知其不可而为之”，反映出他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孜孜不倦的执着精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从这位看门人的话中，我们也可以见出当时普通人对孔子的评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200822634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9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42920" y="177336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总结本课的知识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掌握下列通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仪封人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见”通“现”，引见之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桀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溺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桀”通“杰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形容高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是鲁孔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“与”通“欤”，句末语气词，表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谁以易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而”通“尔”，第二人称代词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且而与其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辟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人之士也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辟”通“避”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植其杖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芸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芸”通“耘”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使子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反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见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076" descr=""/>
          <p:cNvPicPr/>
          <p:nvPr/>
        </p:nvPicPr>
        <p:blipFill>
          <a:blip r:embed="rId1"/>
          <a:stretch/>
        </p:blipFill>
        <p:spPr>
          <a:xfrm>
            <a:off x="6581880" y="0"/>
            <a:ext cx="25621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7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）长沮、桀溺耦而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子路拱而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1125360"/>
            <a:ext cx="129564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表修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表并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罢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表顺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表顺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表转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3573360"/>
            <a:ext cx="15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01336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杀鸡为黍而食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欲洁其身，而乱大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28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而谁与易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421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吾非斯人之徒与而谁与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已而、已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07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）趋而避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、重点虚词“而”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image095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、古今异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遇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丈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古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老年男子        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今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妻子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明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古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第二天      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今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明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不仕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无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古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违背了臣对君应当秉持的政教伦理原则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今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没有义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117" descr="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、词类活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子路从而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名词活用作动词，落在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孔子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名作动，下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其杖而芸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子路宿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不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无义（名作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欲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其身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而过孔子：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而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大伦：形使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杀鸡为黍而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：动使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43280" y="476280"/>
            <a:ext cx="2952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儒    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484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孟子（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72~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89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年），是战国中期儒家学派的又一位重要学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99736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思想要点：一、张扬性善说（人都有恻隐、羞恶、辞让、是非之心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二、宣扬民本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三、提倡仁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5219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思考问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、请同学们根据课文用简洁的语言概括孔子的为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孔子知道时代不太平，难以实现心中的理想，但是他能够努力坚持去实现去维护思想的核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048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6227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、孟子在《孟子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尽心上》中提出了“穷则独善其身，达则兼济天下”的观点。而本文孔子给我们的印象是“知其不可为而为这”。如何看待孔子与孟子的这种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提示：可以考虑提出者不同的出发点。言之成理即可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在我国传统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孔子被称为“圣人”，孟子被称为“亚圣”，两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都是先秦儒家的大师。他们的人格和人生追求都是“修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齐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治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平天下”的模式。在修身为立足点上，无论是进还是退，两者并无差异。但是，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孔子对治国、平天下的追求更为执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047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06728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、孔子与长沮、桀溺以及荷蓧丈人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提示：长沮、桀溺、荷蓧丈人因为世道太乱，因此躲起来，他们属于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消极避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孔子知道世道不太平，但是他敢于去改变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（积极入世）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虽然有时候这种努力并没有起到什么效果，但是他的出发点和目的是应该值得肯定的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image046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问题探索：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请同学们根据自己对于孔子及儒家思想的了解，写一篇小短文，说一说儒家思想为什么能够成为封建社会的正统思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如何看待文章中所体现出来的儒家思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mage045" descr=""/>
          <p:cNvPicPr/>
          <p:nvPr/>
        </p:nvPicPr>
        <p:blipFill>
          <a:blip r:embed="rId1"/>
          <a:stretch/>
        </p:blipFill>
        <p:spPr>
          <a:xfrm>
            <a:off x="5143680" y="189000"/>
            <a:ext cx="4000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20060828171218279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476280"/>
            <a:ext cx="450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孔子的人生态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积极入世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勇于担当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以天下为己任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知其不可为而为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43280" y="476280"/>
            <a:ext cx="29527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儒    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557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荀子（前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13~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前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30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年），是先秦最后一位儒学大师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他提出了人能依据礼义征服自然的思想。认为人的是邪恶的——性恶论，所以弘扬“克己复礼”的思想。并试图把伦理道德规范落实到法制当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2214720"/>
            <a:ext cx="598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墨家是由墨子所创立的学派，在战国初期，墨家与儒家之学</a:t>
            </a:r>
            <a:r>
              <a:rPr b="1" lang="en-US" sz="3200" spc="-1" strike="noStrike">
                <a:solidFill>
                  <a:srgbClr val="dc5900"/>
                </a:solidFill>
                <a:latin typeface="宋体"/>
              </a:rPr>
              <a:t>并称为显学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墨子（前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468~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前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376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年），相传为战国时期宋国人。他是一位出身于小生产的手工业者阶层的思想家。他主张</a:t>
            </a:r>
            <a:r>
              <a:rPr b="1" lang="en-US" sz="3200" spc="-1" strike="noStrike">
                <a:solidFill>
                  <a:srgbClr val="9933ff"/>
                </a:solidFill>
                <a:latin typeface="宋体"/>
              </a:rPr>
              <a:t>“非攻”（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反对掠夺性战争</a:t>
            </a:r>
            <a:r>
              <a:rPr b="1" lang="en-US" sz="3200" spc="-1" strike="noStrike">
                <a:solidFill>
                  <a:srgbClr val="9933ff"/>
                </a:solidFill>
                <a:latin typeface="宋体"/>
              </a:rPr>
              <a:t>）“兼爱”“非攻”“尚贤”“明鬼”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4440" y="692280"/>
            <a:ext cx="2027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墨     家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20061129144355fb600" descr="墨子(约公元前468-前376)"/>
          <p:cNvPicPr/>
          <p:nvPr/>
        </p:nvPicPr>
        <p:blipFill>
          <a:blip r:embed="rId2"/>
          <a:stretch/>
        </p:blipFill>
        <p:spPr>
          <a:xfrm>
            <a:off x="0" y="549360"/>
            <a:ext cx="3059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006725151338882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2756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道家是由老子所创立的学派。这一学派的代表人物是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老子和庄子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老子，李耳，字聃，春秋末年楚国人，曾做过周守藏室官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老子的思想核心是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“道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”。“道”是宇宙中的终极存在，是一种有规律性的东西。并形成了对立统一的辨证宇宙观，认为万事万物的形成发展不受超自然的意志支配。提出“无为而治”“小国寡民” 的社会观。提出“为而不有”“至公无私”“致虚守静”“柔弱胜刚强”人生观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8240" y="404640"/>
            <a:ext cx="2146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道    家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78240" y="404640"/>
            <a:ext cx="21463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道    家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8446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97000"/>
            <a:ext cx="914400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庄子是战国中期道家学派的另一位巨擘，大约和孟子同时或稍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主张人要以道为师，随顺造化。这种思想是基于对社会人生的同情和关怀。感慨世人“皆知有用之用，而莫知无用之用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庄子继承和发展老子“道法自然”的观点，认为“道”是无限的、主张齐物我、齐是非、齐生死、齐贵贱，幻想一种“天地与我并生，万物与我为一”的主观精神境界，安时处顺，逍遥自得，倒向了相对主义和宿命论。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3:58:16Z</dcterms:created>
  <dc:creator>微软用户</dc:creator>
  <dc:description/>
  <dc:language>en-US</dc:language>
  <cp:lastModifiedBy>zmj</cp:lastModifiedBy>
  <dcterms:modified xsi:type="dcterms:W3CDTF">2012-02-04T06:49:14Z</dcterms:modified>
  <cp:revision>135</cp:revision>
  <dc:subject/>
  <dc:title>先秦诸子选读:《论语》选读第一单元</dc:title>
</cp:coreProperties>
</file>