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70.png" ContentType="image/png"/>
  <Override PartName="/ppt/media/image28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2" descr="C:\Documents and Settings\Administrator\桌面\34.jpg"/>
          <p:cNvPicPr/>
          <p:nvPr/>
        </p:nvPicPr>
        <p:blipFill>
          <a:blip r:embed="rId2"/>
          <a:srcRect l="3905" t="0" r="0" b="0"/>
          <a:stretch/>
        </p:blipFill>
        <p:spPr>
          <a:xfrm>
            <a:off x="0" y="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2e04"/>
                </a:solidFill>
                <a:latin typeface="时尚中黑简体"/>
              </a:rPr>
              <a:t>Click to edit the title text format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9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Spine\Desktop\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Documents and Settings\Administrator\桌面\34.jpg"/>
          <p:cNvPicPr/>
          <p:nvPr/>
        </p:nvPicPr>
        <p:blipFill>
          <a:blip r:embed="rId2"/>
          <a:srcRect l="3905" t="0" r="0" b="0"/>
          <a:stretch/>
        </p:blipFill>
        <p:spPr>
          <a:xfrm>
            <a:off x="0" y="1764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0" name="圆角矩形 2"/>
          <p:cNvGrpSpPr/>
          <p:nvPr/>
        </p:nvGrpSpPr>
        <p:grpSpPr>
          <a:xfrm>
            <a:off x="469800" y="1054080"/>
            <a:ext cx="8283600" cy="5048280"/>
            <a:chOff x="469800" y="1054080"/>
            <a:chExt cx="8283600" cy="5048280"/>
          </a:xfrm>
        </p:grpSpPr>
        <p:pic>
          <p:nvPicPr>
            <p:cNvPr id="151" name="圆角矩形 2" descr=""/>
            <p:cNvPicPr/>
            <p:nvPr/>
          </p:nvPicPr>
          <p:blipFill>
            <a:blip r:embed="rId3"/>
            <a:stretch/>
          </p:blipFill>
          <p:spPr>
            <a:xfrm>
              <a:off x="469800" y="1054080"/>
              <a:ext cx="8283600" cy="50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04720" y="1090440"/>
              <a:ext cx="8205840" cy="49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image" Target="../media/image71.png"/><Relationship Id="rId12" Type="http://schemas.openxmlformats.org/officeDocument/2006/relationships/image" Target="../media/image72.png"/><Relationship Id="rId13" Type="http://schemas.openxmlformats.org/officeDocument/2006/relationships/image" Target="../media/image73.png"/><Relationship Id="rId14" Type="http://schemas.openxmlformats.org/officeDocument/2006/relationships/image" Target="../media/image74.png"/><Relationship Id="rId15" Type="http://schemas.openxmlformats.org/officeDocument/2006/relationships/image" Target="../media/image75.png"/><Relationship Id="rId1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1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26.png"/><Relationship Id="rId7" Type="http://schemas.openxmlformats.org/officeDocument/2006/relationships/image" Target="../media/image21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image" Target="../media/image37.png"/><Relationship Id="rId17" Type="http://schemas.openxmlformats.org/officeDocument/2006/relationships/image" Target="../media/image38.png"/><Relationship Id="rId18" Type="http://schemas.openxmlformats.org/officeDocument/2006/relationships/image" Target="../media/image39.png"/><Relationship Id="rId19" Type="http://schemas.openxmlformats.org/officeDocument/2006/relationships/image" Target="../media/image40.png"/><Relationship Id="rId20" Type="http://schemas.openxmlformats.org/officeDocument/2006/relationships/image" Target="../media/image41.png"/><Relationship Id="rId21" Type="http://schemas.openxmlformats.org/officeDocument/2006/relationships/image" Target="../media/image42.png"/><Relationship Id="rId22" Type="http://schemas.openxmlformats.org/officeDocument/2006/relationships/image" Target="../media/image43.png"/><Relationship Id="rId2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5f3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4368960" y="4678200"/>
            <a:ext cx="3155760" cy="3859200"/>
          </a:xfrm>
          <a:custGeom>
            <a:avLst/>
            <a:gdLst/>
            <a:ahLst/>
            <a:rect l="l" t="t" r="r" b="b"/>
            <a:pathLst>
              <a:path w="3155569" h="3858345">
                <a:moveTo>
                  <a:pt x="927896" y="846435"/>
                </a:moveTo>
                <a:lnTo>
                  <a:pt x="1055913" y="983344"/>
                </a:lnTo>
                <a:cubicBezTo>
                  <a:pt x="1224521" y="1091518"/>
                  <a:pt x="1490137" y="1391356"/>
                  <a:pt x="1618079" y="1429532"/>
                </a:cubicBezTo>
                <a:cubicBezTo>
                  <a:pt x="1618080" y="1430048"/>
                  <a:pt x="1618080" y="1430563"/>
                  <a:pt x="1618081" y="1431079"/>
                </a:cubicBezTo>
                <a:cubicBezTo>
                  <a:pt x="1657824" y="1446007"/>
                  <a:pt x="1697568" y="1455783"/>
                  <a:pt x="1737311" y="1470711"/>
                </a:cubicBezTo>
                <a:cubicBezTo>
                  <a:pt x="1757294" y="1477216"/>
                  <a:pt x="1699542" y="1472463"/>
                  <a:pt x="1737979" y="1470108"/>
                </a:cubicBezTo>
                <a:cubicBezTo>
                  <a:pt x="1811023" y="1483636"/>
                  <a:pt x="1857374" y="1503732"/>
                  <a:pt x="1967931" y="1456582"/>
                </a:cubicBezTo>
                <a:cubicBezTo>
                  <a:pt x="2006411" y="1454271"/>
                  <a:pt x="1947721" y="1467936"/>
                  <a:pt x="1968856" y="1456240"/>
                </a:cubicBezTo>
                <a:cubicBezTo>
                  <a:pt x="2013393" y="1441548"/>
                  <a:pt x="2086265" y="1398520"/>
                  <a:pt x="2094742" y="1386403"/>
                </a:cubicBezTo>
                <a:cubicBezTo>
                  <a:pt x="2094949" y="1385475"/>
                  <a:pt x="2095156" y="1384548"/>
                  <a:pt x="2095341" y="1383616"/>
                </a:cubicBezTo>
                <a:cubicBezTo>
                  <a:pt x="2227114" y="1289081"/>
                  <a:pt x="2306048" y="1136353"/>
                  <a:pt x="2411603" y="1012908"/>
                </a:cubicBezTo>
                <a:cubicBezTo>
                  <a:pt x="2616306" y="770331"/>
                  <a:pt x="2758787" y="622441"/>
                  <a:pt x="3009481" y="236481"/>
                </a:cubicBezTo>
                <a:lnTo>
                  <a:pt x="3060882" y="195900"/>
                </a:lnTo>
                <a:lnTo>
                  <a:pt x="3106872" y="122856"/>
                </a:lnTo>
                <a:cubicBezTo>
                  <a:pt x="3119497" y="158025"/>
                  <a:pt x="3107775" y="158025"/>
                  <a:pt x="3155569" y="212132"/>
                </a:cubicBezTo>
                <a:cubicBezTo>
                  <a:pt x="3133025" y="237382"/>
                  <a:pt x="3087935" y="271198"/>
                  <a:pt x="3012186" y="379862"/>
                </a:cubicBezTo>
                <a:cubicBezTo>
                  <a:pt x="2947258" y="453356"/>
                  <a:pt x="2751573" y="768527"/>
                  <a:pt x="2701074" y="864115"/>
                </a:cubicBezTo>
                <a:lnTo>
                  <a:pt x="2701596" y="863983"/>
                </a:lnTo>
                <a:lnTo>
                  <a:pt x="2508996" y="1164407"/>
                </a:lnTo>
                <a:cubicBezTo>
                  <a:pt x="2494390" y="1189425"/>
                  <a:pt x="2522215" y="1142594"/>
                  <a:pt x="2510568" y="1165033"/>
                </a:cubicBezTo>
                <a:lnTo>
                  <a:pt x="2439113" y="1299041"/>
                </a:lnTo>
                <a:lnTo>
                  <a:pt x="2438401" y="1299026"/>
                </a:lnTo>
                <a:cubicBezTo>
                  <a:pt x="2411792" y="1386112"/>
                  <a:pt x="2392439" y="1462314"/>
                  <a:pt x="2347687" y="1494971"/>
                </a:cubicBezTo>
                <a:cubicBezTo>
                  <a:pt x="2332561" y="1527839"/>
                  <a:pt x="2362674" y="1474439"/>
                  <a:pt x="2347642" y="1496234"/>
                </a:cubicBezTo>
                <a:lnTo>
                  <a:pt x="2257494" y="1625742"/>
                </a:lnTo>
                <a:cubicBezTo>
                  <a:pt x="2257317" y="1625703"/>
                  <a:pt x="2257145" y="1625650"/>
                  <a:pt x="2256972" y="1625596"/>
                </a:cubicBezTo>
                <a:cubicBezTo>
                  <a:pt x="2143277" y="1786463"/>
                  <a:pt x="2004182" y="1900158"/>
                  <a:pt x="1919515" y="2104568"/>
                </a:cubicBezTo>
                <a:cubicBezTo>
                  <a:pt x="1808239" y="2496454"/>
                  <a:pt x="1896534" y="2757711"/>
                  <a:pt x="1912258" y="3073396"/>
                </a:cubicBezTo>
                <a:cubicBezTo>
                  <a:pt x="1954734" y="3333692"/>
                  <a:pt x="1957296" y="3681074"/>
                  <a:pt x="2057830" y="3857913"/>
                </a:cubicBezTo>
                <a:cubicBezTo>
                  <a:pt x="2044818" y="3860332"/>
                  <a:pt x="1487520" y="3851866"/>
                  <a:pt x="1205994" y="3850656"/>
                </a:cubicBezTo>
                <a:cubicBezTo>
                  <a:pt x="1289015" y="3597618"/>
                  <a:pt x="1368408" y="3344578"/>
                  <a:pt x="1440544" y="3084282"/>
                </a:cubicBezTo>
                <a:cubicBezTo>
                  <a:pt x="1651993" y="2267124"/>
                  <a:pt x="1469570" y="1786462"/>
                  <a:pt x="1393371" y="1596567"/>
                </a:cubicBezTo>
                <a:lnTo>
                  <a:pt x="1389837" y="1597047"/>
                </a:lnTo>
                <a:cubicBezTo>
                  <a:pt x="1381710" y="1573968"/>
                  <a:pt x="1364328" y="1535011"/>
                  <a:pt x="1346948" y="1514674"/>
                </a:cubicBezTo>
                <a:lnTo>
                  <a:pt x="1345696" y="1515108"/>
                </a:lnTo>
                <a:cubicBezTo>
                  <a:pt x="1277716" y="1427728"/>
                  <a:pt x="1304125" y="1470164"/>
                  <a:pt x="1255487" y="1407884"/>
                </a:cubicBezTo>
                <a:lnTo>
                  <a:pt x="1252216" y="1406757"/>
                </a:lnTo>
                <a:lnTo>
                  <a:pt x="1255916" y="1407784"/>
                </a:lnTo>
                <a:cubicBezTo>
                  <a:pt x="1220971" y="1370623"/>
                  <a:pt x="1197756" y="1334525"/>
                  <a:pt x="1154315" y="1284413"/>
                </a:cubicBezTo>
                <a:lnTo>
                  <a:pt x="1153721" y="1284309"/>
                </a:lnTo>
                <a:cubicBezTo>
                  <a:pt x="964438" y="1041235"/>
                  <a:pt x="685741" y="753486"/>
                  <a:pt x="478972" y="587828"/>
                </a:cubicBezTo>
                <a:cubicBezTo>
                  <a:pt x="286658" y="411238"/>
                  <a:pt x="48163" y="281442"/>
                  <a:pt x="0" y="224970"/>
                </a:cubicBezTo>
                <a:cubicBezTo>
                  <a:pt x="10281" y="220132"/>
                  <a:pt x="218102" y="215524"/>
                  <a:pt x="301172" y="0"/>
                </a:cubicBezTo>
                <a:cubicBezTo>
                  <a:pt x="356206" y="41124"/>
                  <a:pt x="468690" y="323549"/>
                  <a:pt x="573313" y="464458"/>
                </a:cubicBezTo>
                <a:cubicBezTo>
                  <a:pt x="666573" y="622700"/>
                  <a:pt x="873357" y="827861"/>
                  <a:pt x="928137" y="845043"/>
                </a:cubicBezTo>
                <a:cubicBezTo>
                  <a:pt x="928057" y="845507"/>
                  <a:pt x="927976" y="845971"/>
                  <a:pt x="927896" y="846435"/>
                </a:cubicBezTo>
                <a:close/>
              </a:path>
            </a:pathLst>
          </a:custGeom>
          <a:solidFill>
            <a:srgbClr val="5f3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-08"/>
          <p:cNvSpPr/>
          <p:nvPr/>
        </p:nvSpPr>
        <p:spPr>
          <a:xfrm>
            <a:off x="6621480" y="4292640"/>
            <a:ext cx="1028520" cy="573120"/>
          </a:xfrm>
          <a:custGeom>
            <a:avLst/>
            <a:gdLst/>
            <a:ahLst/>
            <a:rect l="l" t="t" r="r" b="b"/>
            <a:pathLst>
              <a:path w="1029031" h="572050">
                <a:moveTo>
                  <a:pt x="90148" y="0"/>
                </a:moveTo>
                <a:cubicBezTo>
                  <a:pt x="132762" y="24303"/>
                  <a:pt x="174780" y="46392"/>
                  <a:pt x="216630" y="66271"/>
                </a:cubicBezTo>
                <a:cubicBezTo>
                  <a:pt x="469692" y="193730"/>
                  <a:pt x="712058" y="261960"/>
                  <a:pt x="1000606" y="295388"/>
                </a:cubicBezTo>
                <a:lnTo>
                  <a:pt x="1029031" y="300988"/>
                </a:lnTo>
                <a:cubicBezTo>
                  <a:pt x="962890" y="354569"/>
                  <a:pt x="911433" y="483045"/>
                  <a:pt x="906621" y="572050"/>
                </a:cubicBezTo>
                <a:cubicBezTo>
                  <a:pt x="800183" y="495850"/>
                  <a:pt x="711888" y="379736"/>
                  <a:pt x="587307" y="310793"/>
                </a:cubicBezTo>
                <a:cubicBezTo>
                  <a:pt x="384286" y="217740"/>
                  <a:pt x="195754" y="189888"/>
                  <a:pt x="0" y="129508"/>
                </a:cubicBezTo>
                <a:lnTo>
                  <a:pt x="90148" y="0"/>
                </a:lnTo>
                <a:close/>
              </a:path>
            </a:pathLst>
          </a:custGeom>
          <a:solidFill>
            <a:srgbClr val="5f3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-07"/>
          <p:cNvSpPr/>
          <p:nvPr/>
        </p:nvSpPr>
        <p:spPr>
          <a:xfrm>
            <a:off x="6802560" y="3967200"/>
            <a:ext cx="1279440" cy="304920"/>
          </a:xfrm>
          <a:custGeom>
            <a:avLst/>
            <a:gdLst/>
            <a:ahLst/>
            <a:rect l="l" t="t" r="r" b="b"/>
            <a:pathLst>
              <a:path w="1279852" h="304537">
                <a:moveTo>
                  <a:pt x="71455" y="0"/>
                </a:moveTo>
                <a:cubicBezTo>
                  <a:pt x="288782" y="44187"/>
                  <a:pt x="506111" y="80257"/>
                  <a:pt x="747786" y="105507"/>
                </a:cubicBezTo>
                <a:cubicBezTo>
                  <a:pt x="938620" y="116603"/>
                  <a:pt x="1102592" y="100839"/>
                  <a:pt x="1279852" y="98398"/>
                </a:cubicBezTo>
                <a:cubicBezTo>
                  <a:pt x="1224611" y="195812"/>
                  <a:pt x="1241523" y="224887"/>
                  <a:pt x="1265659" y="304537"/>
                </a:cubicBezTo>
                <a:cubicBezTo>
                  <a:pt x="1114469" y="257366"/>
                  <a:pt x="985050" y="192051"/>
                  <a:pt x="812088" y="163023"/>
                </a:cubicBezTo>
                <a:cubicBezTo>
                  <a:pt x="526887" y="142480"/>
                  <a:pt x="274287" y="140045"/>
                  <a:pt x="0" y="134008"/>
                </a:cubicBezTo>
                <a:lnTo>
                  <a:pt x="71455" y="0"/>
                </a:lnTo>
                <a:close/>
              </a:path>
            </a:pathLst>
          </a:custGeom>
          <a:solidFill>
            <a:srgbClr val="5f3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-06"/>
          <p:cNvSpPr/>
          <p:nvPr/>
        </p:nvSpPr>
        <p:spPr>
          <a:xfrm>
            <a:off x="6961320" y="3343320"/>
            <a:ext cx="1066680" cy="471600"/>
          </a:xfrm>
          <a:custGeom>
            <a:avLst/>
            <a:gdLst/>
            <a:ahLst/>
            <a:rect l="l" t="t" r="r" b="b"/>
            <a:pathLst>
              <a:path w="1066958" h="471908">
                <a:moveTo>
                  <a:pt x="8622" y="459393"/>
                </a:moveTo>
                <a:lnTo>
                  <a:pt x="1153" y="471908"/>
                </a:lnTo>
                <a:lnTo>
                  <a:pt x="0" y="471835"/>
                </a:lnTo>
                <a:lnTo>
                  <a:pt x="8622" y="459393"/>
                </a:lnTo>
                <a:close/>
                <a:moveTo>
                  <a:pt x="13144" y="452868"/>
                </a:moveTo>
                <a:lnTo>
                  <a:pt x="12785" y="453386"/>
                </a:lnTo>
                <a:lnTo>
                  <a:pt x="12686" y="453423"/>
                </a:lnTo>
                <a:lnTo>
                  <a:pt x="12983" y="452925"/>
                </a:lnTo>
                <a:cubicBezTo>
                  <a:pt x="13037" y="452906"/>
                  <a:pt x="13091" y="452887"/>
                  <a:pt x="13144" y="452868"/>
                </a:cubicBezTo>
                <a:close/>
                <a:moveTo>
                  <a:pt x="1001633" y="0"/>
                </a:moveTo>
                <a:cubicBezTo>
                  <a:pt x="1001820" y="44762"/>
                  <a:pt x="1012803" y="97622"/>
                  <a:pt x="1066958" y="126192"/>
                </a:cubicBezTo>
                <a:lnTo>
                  <a:pt x="1061976" y="128954"/>
                </a:lnTo>
                <a:cubicBezTo>
                  <a:pt x="1016631" y="159412"/>
                  <a:pt x="819433" y="147191"/>
                  <a:pt x="636973" y="210183"/>
                </a:cubicBezTo>
                <a:cubicBezTo>
                  <a:pt x="451643" y="274076"/>
                  <a:pt x="193649" y="386411"/>
                  <a:pt x="40661" y="443033"/>
                </a:cubicBezTo>
                <a:lnTo>
                  <a:pt x="13144" y="452868"/>
                </a:lnTo>
                <a:lnTo>
                  <a:pt x="104546" y="320967"/>
                </a:lnTo>
                <a:cubicBezTo>
                  <a:pt x="253143" y="290329"/>
                  <a:pt x="390958" y="243501"/>
                  <a:pt x="534170" y="204771"/>
                </a:cubicBezTo>
                <a:cubicBezTo>
                  <a:pt x="771151" y="112167"/>
                  <a:pt x="843106" y="79079"/>
                  <a:pt x="1001633" y="0"/>
                </a:cubicBezTo>
                <a:close/>
              </a:path>
            </a:pathLst>
          </a:custGeom>
          <a:solidFill>
            <a:srgbClr val="5f3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z-05"/>
          <p:cNvSpPr/>
          <p:nvPr/>
        </p:nvSpPr>
        <p:spPr>
          <a:xfrm>
            <a:off x="6345360" y="3068640"/>
            <a:ext cx="501480" cy="1182600"/>
          </a:xfrm>
          <a:custGeom>
            <a:avLst/>
            <a:gdLst/>
            <a:ahLst/>
            <a:rect l="l" t="t" r="r" b="b"/>
            <a:pathLst>
              <a:path w="502368" h="1181885">
                <a:moveTo>
                  <a:pt x="239848" y="0"/>
                </a:moveTo>
                <a:cubicBezTo>
                  <a:pt x="281315" y="30722"/>
                  <a:pt x="327863" y="47553"/>
                  <a:pt x="395101" y="39701"/>
                </a:cubicBezTo>
                <a:cubicBezTo>
                  <a:pt x="426266" y="39431"/>
                  <a:pt x="461549" y="32393"/>
                  <a:pt x="502368" y="19069"/>
                </a:cubicBezTo>
                <a:cubicBezTo>
                  <a:pt x="500446" y="77349"/>
                  <a:pt x="305192" y="383955"/>
                  <a:pt x="239848" y="592466"/>
                </a:cubicBezTo>
                <a:cubicBezTo>
                  <a:pt x="187544" y="773723"/>
                  <a:pt x="162295" y="938747"/>
                  <a:pt x="123518" y="1111888"/>
                </a:cubicBezTo>
                <a:lnTo>
                  <a:pt x="126485" y="1109261"/>
                </a:lnTo>
                <a:cubicBezTo>
                  <a:pt x="126300" y="1110193"/>
                  <a:pt x="126093" y="1111120"/>
                  <a:pt x="125886" y="1112048"/>
                </a:cubicBezTo>
                <a:cubicBezTo>
                  <a:pt x="117409" y="1124165"/>
                  <a:pt x="44537" y="1167193"/>
                  <a:pt x="0" y="1181885"/>
                </a:cubicBezTo>
                <a:cubicBezTo>
                  <a:pt x="7384" y="1155380"/>
                  <a:pt x="16586" y="1121259"/>
                  <a:pt x="26832" y="1082127"/>
                </a:cubicBezTo>
                <a:cubicBezTo>
                  <a:pt x="69201" y="928417"/>
                  <a:pt x="135134" y="683043"/>
                  <a:pt x="166804" y="527538"/>
                </a:cubicBezTo>
                <a:cubicBezTo>
                  <a:pt x="201522" y="367473"/>
                  <a:pt x="192505" y="342223"/>
                  <a:pt x="210090" y="246184"/>
                </a:cubicBezTo>
                <a:cubicBezTo>
                  <a:pt x="222264" y="158261"/>
                  <a:pt x="221272" y="33623"/>
                  <a:pt x="239848" y="0"/>
                </a:cubicBezTo>
                <a:close/>
              </a:path>
            </a:pathLst>
          </a:custGeom>
          <a:solidFill>
            <a:srgbClr val="5f3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-04"/>
          <p:cNvSpPr/>
          <p:nvPr/>
        </p:nvSpPr>
        <p:spPr>
          <a:xfrm>
            <a:off x="5837400" y="2938320"/>
            <a:ext cx="282240" cy="1330560"/>
          </a:xfrm>
          <a:custGeom>
            <a:avLst/>
            <a:gdLst/>
            <a:ahLst/>
            <a:rect l="l" t="t" r="r" b="b"/>
            <a:pathLst>
              <a:path w="283250" h="1330945">
                <a:moveTo>
                  <a:pt x="259444" y="0"/>
                </a:moveTo>
                <a:cubicBezTo>
                  <a:pt x="263188" y="21962"/>
                  <a:pt x="260516" y="64230"/>
                  <a:pt x="254914" y="118663"/>
                </a:cubicBezTo>
                <a:cubicBezTo>
                  <a:pt x="236604" y="260557"/>
                  <a:pt x="196077" y="484736"/>
                  <a:pt x="205462" y="648600"/>
                </a:cubicBezTo>
                <a:cubicBezTo>
                  <a:pt x="209561" y="832702"/>
                  <a:pt x="256334" y="1073283"/>
                  <a:pt x="275576" y="1237735"/>
                </a:cubicBezTo>
                <a:cubicBezTo>
                  <a:pt x="279369" y="1272516"/>
                  <a:pt x="282030" y="1304005"/>
                  <a:pt x="283250" y="1330945"/>
                </a:cubicBezTo>
                <a:cubicBezTo>
                  <a:pt x="243507" y="1316017"/>
                  <a:pt x="203763" y="1306241"/>
                  <a:pt x="164020" y="1291313"/>
                </a:cubicBezTo>
                <a:lnTo>
                  <a:pt x="164018" y="1289766"/>
                </a:lnTo>
                <a:cubicBezTo>
                  <a:pt x="164097" y="1289836"/>
                  <a:pt x="164189" y="1289864"/>
                  <a:pt x="164281" y="1289891"/>
                </a:cubicBezTo>
                <a:cubicBezTo>
                  <a:pt x="179665" y="1037813"/>
                  <a:pt x="130064" y="732036"/>
                  <a:pt x="102660" y="529566"/>
                </a:cubicBezTo>
                <a:cubicBezTo>
                  <a:pt x="75321" y="327575"/>
                  <a:pt x="13681" y="167561"/>
                  <a:pt x="0" y="75717"/>
                </a:cubicBezTo>
                <a:cubicBezTo>
                  <a:pt x="24030" y="81465"/>
                  <a:pt x="47058" y="83259"/>
                  <a:pt x="69342" y="81634"/>
                </a:cubicBezTo>
                <a:cubicBezTo>
                  <a:pt x="136166" y="78569"/>
                  <a:pt x="196358" y="47380"/>
                  <a:pt x="259444" y="0"/>
                </a:cubicBezTo>
                <a:close/>
              </a:path>
            </a:pathLst>
          </a:custGeom>
          <a:solidFill>
            <a:srgbClr val="5f3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-03"/>
          <p:cNvSpPr/>
          <p:nvPr/>
        </p:nvSpPr>
        <p:spPr>
          <a:xfrm>
            <a:off x="5292720" y="2781360"/>
            <a:ext cx="169920" cy="1004760"/>
          </a:xfrm>
          <a:custGeom>
            <a:avLst/>
            <a:gdLst/>
            <a:ahLst/>
            <a:rect l="l" t="t" r="r" b="b"/>
            <a:pathLst>
              <a:path w="170759" h="1005116">
                <a:moveTo>
                  <a:pt x="170544" y="0"/>
                </a:moveTo>
                <a:cubicBezTo>
                  <a:pt x="175383" y="63500"/>
                  <a:pt x="97366" y="183244"/>
                  <a:pt x="90714" y="348344"/>
                </a:cubicBezTo>
                <a:cubicBezTo>
                  <a:pt x="84062" y="513444"/>
                  <a:pt x="96156" y="933149"/>
                  <a:pt x="127000" y="1005116"/>
                </a:cubicBezTo>
                <a:lnTo>
                  <a:pt x="0" y="867229"/>
                </a:lnTo>
                <a:lnTo>
                  <a:pt x="241" y="865836"/>
                </a:lnTo>
                <a:cubicBezTo>
                  <a:pt x="469" y="866088"/>
                  <a:pt x="745" y="866172"/>
                  <a:pt x="1017" y="866251"/>
                </a:cubicBezTo>
                <a:cubicBezTo>
                  <a:pt x="53297" y="632710"/>
                  <a:pt x="40166" y="196472"/>
                  <a:pt x="4829" y="11112"/>
                </a:cubicBezTo>
                <a:cubicBezTo>
                  <a:pt x="64682" y="21394"/>
                  <a:pt x="107850" y="38075"/>
                  <a:pt x="170544" y="0"/>
                </a:cubicBezTo>
                <a:close/>
              </a:path>
            </a:pathLst>
          </a:custGeom>
          <a:solidFill>
            <a:srgbClr val="5f3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-02"/>
          <p:cNvSpPr/>
          <p:nvPr/>
        </p:nvSpPr>
        <p:spPr>
          <a:xfrm>
            <a:off x="4414680" y="3816360"/>
            <a:ext cx="1216080" cy="395280"/>
          </a:xfrm>
          <a:custGeom>
            <a:avLst/>
            <a:gdLst/>
            <a:ahLst/>
            <a:rect l="l" t="t" r="r" b="b"/>
            <a:pathLst>
              <a:path w="1215572" h="395449">
                <a:moveTo>
                  <a:pt x="39943" y="88"/>
                </a:moveTo>
                <a:cubicBezTo>
                  <a:pt x="118189" y="-3727"/>
                  <a:pt x="296249" y="118031"/>
                  <a:pt x="474913" y="152435"/>
                </a:cubicBezTo>
                <a:cubicBezTo>
                  <a:pt x="643037" y="190534"/>
                  <a:pt x="915180" y="237102"/>
                  <a:pt x="1113542" y="272178"/>
                </a:cubicBezTo>
                <a:lnTo>
                  <a:pt x="1113377" y="271973"/>
                </a:lnTo>
                <a:cubicBezTo>
                  <a:pt x="1113575" y="272008"/>
                  <a:pt x="1113773" y="272043"/>
                  <a:pt x="1113971" y="272078"/>
                </a:cubicBezTo>
                <a:cubicBezTo>
                  <a:pt x="1157412" y="322190"/>
                  <a:pt x="1180627" y="358288"/>
                  <a:pt x="1215572" y="395449"/>
                </a:cubicBezTo>
                <a:lnTo>
                  <a:pt x="1211873" y="394422"/>
                </a:lnTo>
                <a:cubicBezTo>
                  <a:pt x="996309" y="318128"/>
                  <a:pt x="630345" y="201932"/>
                  <a:pt x="41136" y="135791"/>
                </a:cubicBezTo>
                <a:cubicBezTo>
                  <a:pt x="27597" y="133574"/>
                  <a:pt x="13861" y="132050"/>
                  <a:pt x="0" y="130563"/>
                </a:cubicBezTo>
                <a:cubicBezTo>
                  <a:pt x="36863" y="96723"/>
                  <a:pt x="60225" y="63715"/>
                  <a:pt x="39943" y="88"/>
                </a:cubicBezTo>
                <a:close/>
              </a:path>
            </a:pathLst>
          </a:custGeom>
          <a:solidFill>
            <a:srgbClr val="5f3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-01"/>
          <p:cNvSpPr/>
          <p:nvPr/>
        </p:nvSpPr>
        <p:spPr>
          <a:xfrm>
            <a:off x="4761000" y="4311720"/>
            <a:ext cx="1004760" cy="295200"/>
          </a:xfrm>
          <a:custGeom>
            <a:avLst/>
            <a:gdLst/>
            <a:ahLst/>
            <a:rect l="l" t="t" r="r" b="b"/>
            <a:pathLst>
              <a:path w="1005207" h="295981">
                <a:moveTo>
                  <a:pt x="962318" y="0"/>
                </a:moveTo>
                <a:cubicBezTo>
                  <a:pt x="979698" y="20337"/>
                  <a:pt x="997080" y="59294"/>
                  <a:pt x="1005207" y="82373"/>
                </a:cubicBezTo>
                <a:cubicBezTo>
                  <a:pt x="665293" y="117540"/>
                  <a:pt x="325565" y="199554"/>
                  <a:pt x="36285" y="295981"/>
                </a:cubicBezTo>
                <a:cubicBezTo>
                  <a:pt x="38099" y="279654"/>
                  <a:pt x="80821" y="213357"/>
                  <a:pt x="0" y="161724"/>
                </a:cubicBezTo>
                <a:cubicBezTo>
                  <a:pt x="76805" y="124229"/>
                  <a:pt x="348948" y="165352"/>
                  <a:pt x="493486" y="121809"/>
                </a:cubicBezTo>
                <a:cubicBezTo>
                  <a:pt x="652538" y="92780"/>
                  <a:pt x="857334" y="46443"/>
                  <a:pt x="965199" y="5695"/>
                </a:cubicBezTo>
                <a:lnTo>
                  <a:pt x="961066" y="434"/>
                </a:lnTo>
                <a:cubicBezTo>
                  <a:pt x="961492" y="309"/>
                  <a:pt x="961906" y="154"/>
                  <a:pt x="962318" y="0"/>
                </a:cubicBezTo>
                <a:close/>
              </a:path>
            </a:pathLst>
          </a:custGeom>
          <a:solidFill>
            <a:srgbClr val="5f3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心形 10"/>
          <p:cNvSpPr/>
          <p:nvPr/>
        </p:nvSpPr>
        <p:spPr>
          <a:xfrm rot="5400000">
            <a:off x="7661520" y="4585320"/>
            <a:ext cx="433440" cy="460440"/>
          </a:xfrm>
          <a:custGeom>
            <a:avLst/>
            <a:gdLst/>
            <a:ahLst/>
            <a:rect l="l" t="t" r="r" b="b"/>
            <a:pathLst>
              <a:path w="433114" h="459198">
                <a:moveTo>
                  <a:pt x="274788" y="82076"/>
                </a:moveTo>
                <a:cubicBezTo>
                  <a:pt x="361475" y="90632"/>
                  <a:pt x="448764" y="135338"/>
                  <a:pt x="430727" y="187498"/>
                </a:cubicBezTo>
                <a:cubicBezTo>
                  <a:pt x="423305" y="351954"/>
                  <a:pt x="232251" y="512377"/>
                  <a:pt x="121029" y="442332"/>
                </a:cubicBezTo>
                <a:cubicBezTo>
                  <a:pt x="-12956" y="412561"/>
                  <a:pt x="-38689" y="129897"/>
                  <a:pt x="58843" y="16867"/>
                </a:cubicBezTo>
                <a:cubicBezTo>
                  <a:pt x="101735" y="-38257"/>
                  <a:pt x="186639" y="57257"/>
                  <a:pt x="274788" y="82076"/>
                </a:cubicBezTo>
                <a:close/>
              </a:path>
            </a:pathLst>
          </a:custGeom>
          <a:solidFill>
            <a:srgbClr val="f4d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心形 9"/>
          <p:cNvSpPr/>
          <p:nvPr/>
        </p:nvSpPr>
        <p:spPr>
          <a:xfrm rot="5400000">
            <a:off x="8201520" y="3993480"/>
            <a:ext cx="361800" cy="439560"/>
          </a:xfrm>
          <a:custGeom>
            <a:avLst/>
            <a:gdLst/>
            <a:ahLst/>
            <a:rect l="l" t="t" r="r" b="b"/>
            <a:pathLst>
              <a:path w="362636" h="440042">
                <a:moveTo>
                  <a:pt x="254326" y="71669"/>
                </a:moveTo>
                <a:cubicBezTo>
                  <a:pt x="341013" y="80225"/>
                  <a:pt x="349714" y="101119"/>
                  <a:pt x="362636" y="141373"/>
                </a:cubicBezTo>
                <a:cubicBezTo>
                  <a:pt x="355214" y="305829"/>
                  <a:pt x="209408" y="473394"/>
                  <a:pt x="105329" y="434306"/>
                </a:cubicBezTo>
                <a:cubicBezTo>
                  <a:pt x="-28656" y="404535"/>
                  <a:pt x="-28195" y="121872"/>
                  <a:pt x="69337" y="8842"/>
                </a:cubicBezTo>
                <a:cubicBezTo>
                  <a:pt x="102704" y="-24851"/>
                  <a:pt x="166177" y="46850"/>
                  <a:pt x="254326" y="71669"/>
                </a:cubicBezTo>
                <a:close/>
              </a:path>
            </a:pathLst>
          </a:custGeom>
          <a:solidFill>
            <a:srgbClr val="ffc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心形 8"/>
          <p:cNvSpPr/>
          <p:nvPr/>
        </p:nvSpPr>
        <p:spPr>
          <a:xfrm rot="3151200">
            <a:off x="8111880" y="3051000"/>
            <a:ext cx="351000" cy="433440"/>
          </a:xfrm>
          <a:custGeom>
            <a:avLst/>
            <a:gdLst/>
            <a:ahLst/>
            <a:rect l="l" t="t" r="r" b="b"/>
            <a:pathLst>
              <a:path w="350686" h="432027">
                <a:moveTo>
                  <a:pt x="175278" y="25216"/>
                </a:moveTo>
                <a:cubicBezTo>
                  <a:pt x="293677" y="20825"/>
                  <a:pt x="336557" y="-36801"/>
                  <a:pt x="350686" y="38459"/>
                </a:cubicBezTo>
                <a:cubicBezTo>
                  <a:pt x="350057" y="312706"/>
                  <a:pt x="249581" y="450149"/>
                  <a:pt x="147891" y="430110"/>
                </a:cubicBezTo>
                <a:cubicBezTo>
                  <a:pt x="106769" y="428914"/>
                  <a:pt x="-26239" y="359584"/>
                  <a:pt x="4592" y="89828"/>
                </a:cubicBezTo>
                <a:cubicBezTo>
                  <a:pt x="36339" y="4788"/>
                  <a:pt x="56879" y="29607"/>
                  <a:pt x="175278" y="25216"/>
                </a:cubicBezTo>
                <a:close/>
              </a:path>
            </a:pathLst>
          </a:custGeom>
          <a:solidFill>
            <a:srgbClr val="509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心形 7"/>
          <p:cNvSpPr/>
          <p:nvPr/>
        </p:nvSpPr>
        <p:spPr>
          <a:xfrm rot="1867200">
            <a:off x="7395840" y="2652840"/>
            <a:ext cx="469800" cy="473040"/>
          </a:xfrm>
          <a:custGeom>
            <a:avLst/>
            <a:gdLst/>
            <a:ahLst/>
            <a:rect l="l" t="t" r="r" b="b"/>
            <a:pathLst>
              <a:path w="470348" h="472758">
                <a:moveTo>
                  <a:pt x="234736" y="22192"/>
                </a:moveTo>
                <a:cubicBezTo>
                  <a:pt x="322834" y="28246"/>
                  <a:pt x="460594" y="-28627"/>
                  <a:pt x="470346" y="69585"/>
                </a:cubicBezTo>
                <a:cubicBezTo>
                  <a:pt x="471118" y="349191"/>
                  <a:pt x="273915" y="490930"/>
                  <a:pt x="172225" y="470891"/>
                </a:cubicBezTo>
                <a:cubicBezTo>
                  <a:pt x="131103" y="469695"/>
                  <a:pt x="-61600" y="365160"/>
                  <a:pt x="19872" y="75176"/>
                </a:cubicBezTo>
                <a:cubicBezTo>
                  <a:pt x="64953" y="-48348"/>
                  <a:pt x="146638" y="16138"/>
                  <a:pt x="234736" y="22192"/>
                </a:cubicBezTo>
                <a:close/>
              </a:path>
            </a:pathLst>
          </a:custGeom>
          <a:solidFill>
            <a:srgbClr val="f19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心形 6"/>
          <p:cNvSpPr/>
          <p:nvPr/>
        </p:nvSpPr>
        <p:spPr>
          <a:xfrm rot="170400">
            <a:off x="6553080" y="2547720"/>
            <a:ext cx="400320" cy="468000"/>
          </a:xfrm>
          <a:custGeom>
            <a:avLst/>
            <a:gdLst/>
            <a:ahLst/>
            <a:rect l="l" t="t" r="r" b="b"/>
            <a:pathLst>
              <a:path w="400003" h="468325">
                <a:moveTo>
                  <a:pt x="204893" y="16322"/>
                </a:moveTo>
                <a:cubicBezTo>
                  <a:pt x="284436" y="8209"/>
                  <a:pt x="377556" y="-26540"/>
                  <a:pt x="400003" y="44671"/>
                </a:cubicBezTo>
                <a:cubicBezTo>
                  <a:pt x="376718" y="348471"/>
                  <a:pt x="249754" y="486461"/>
                  <a:pt x="148064" y="466422"/>
                </a:cubicBezTo>
                <a:cubicBezTo>
                  <a:pt x="106942" y="465226"/>
                  <a:pt x="-44453" y="413082"/>
                  <a:pt x="12755" y="74916"/>
                </a:cubicBezTo>
                <a:cubicBezTo>
                  <a:pt x="43737" y="-15927"/>
                  <a:pt x="85788" y="-8497"/>
                  <a:pt x="204893" y="16322"/>
                </a:cubicBezTo>
                <a:close/>
              </a:path>
            </a:pathLst>
          </a:custGeom>
          <a:solidFill>
            <a:srgbClr val="509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心形 5"/>
          <p:cNvSpPr/>
          <p:nvPr/>
        </p:nvSpPr>
        <p:spPr>
          <a:xfrm rot="170400">
            <a:off x="5783400" y="2304720"/>
            <a:ext cx="422280" cy="628560"/>
          </a:xfrm>
          <a:custGeom>
            <a:avLst/>
            <a:gdLst/>
            <a:ahLst/>
            <a:rect l="l" t="t" r="r" b="b"/>
            <a:pathLst>
              <a:path w="422390" h="629088">
                <a:moveTo>
                  <a:pt x="259295" y="50369"/>
                </a:moveTo>
                <a:cubicBezTo>
                  <a:pt x="338838" y="42256"/>
                  <a:pt x="399924" y="29812"/>
                  <a:pt x="422371" y="101023"/>
                </a:cubicBezTo>
                <a:cubicBezTo>
                  <a:pt x="424472" y="498842"/>
                  <a:pt x="252463" y="647357"/>
                  <a:pt x="150773" y="627318"/>
                </a:cubicBezTo>
                <a:cubicBezTo>
                  <a:pt x="109651" y="626122"/>
                  <a:pt x="-66103" y="500622"/>
                  <a:pt x="26678" y="44692"/>
                </a:cubicBezTo>
                <a:cubicBezTo>
                  <a:pt x="57660" y="-46151"/>
                  <a:pt x="140190" y="25550"/>
                  <a:pt x="259295" y="50369"/>
                </a:cubicBezTo>
                <a:close/>
              </a:path>
            </a:pathLst>
          </a:custGeom>
          <a:solidFill>
            <a:srgbClr val="e24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心形 4"/>
          <p:cNvSpPr/>
          <p:nvPr/>
        </p:nvSpPr>
        <p:spPr>
          <a:xfrm rot="20700000">
            <a:off x="5180040" y="2320920"/>
            <a:ext cx="387360" cy="374760"/>
          </a:xfrm>
          <a:custGeom>
            <a:avLst/>
            <a:gdLst/>
            <a:ahLst/>
            <a:rect l="l" t="t" r="r" b="b"/>
            <a:pathLst>
              <a:path w="388300" h="374237">
                <a:moveTo>
                  <a:pt x="225282" y="24441"/>
                </a:moveTo>
                <a:cubicBezTo>
                  <a:pt x="304825" y="16328"/>
                  <a:pt x="375491" y="7079"/>
                  <a:pt x="388300" y="114260"/>
                </a:cubicBezTo>
                <a:cubicBezTo>
                  <a:pt x="366263" y="353376"/>
                  <a:pt x="246011" y="370872"/>
                  <a:pt x="182298" y="374137"/>
                </a:cubicBezTo>
                <a:cubicBezTo>
                  <a:pt x="118585" y="377402"/>
                  <a:pt x="-14693" y="301565"/>
                  <a:pt x="1326" y="55491"/>
                </a:cubicBezTo>
                <a:cubicBezTo>
                  <a:pt x="32308" y="-35352"/>
                  <a:pt x="81792" y="9120"/>
                  <a:pt x="225282" y="24441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心形 3"/>
          <p:cNvSpPr/>
          <p:nvPr/>
        </p:nvSpPr>
        <p:spPr>
          <a:xfrm rot="19084200">
            <a:off x="4122720" y="2422080"/>
            <a:ext cx="468360" cy="500040"/>
          </a:xfrm>
          <a:custGeom>
            <a:avLst/>
            <a:gdLst/>
            <a:ahLst/>
            <a:rect l="l" t="t" r="r" b="b"/>
            <a:pathLst>
              <a:path w="467456" h="500041">
                <a:moveTo>
                  <a:pt x="293248" y="49097"/>
                </a:moveTo>
                <a:cubicBezTo>
                  <a:pt x="372791" y="40984"/>
                  <a:pt x="443169" y="48792"/>
                  <a:pt x="465616" y="120003"/>
                </a:cubicBezTo>
                <a:cubicBezTo>
                  <a:pt x="486967" y="405013"/>
                  <a:pt x="317035" y="512000"/>
                  <a:pt x="240550" y="498993"/>
                </a:cubicBezTo>
                <a:cubicBezTo>
                  <a:pt x="199428" y="497797"/>
                  <a:pt x="-43086" y="446040"/>
                  <a:pt x="6704" y="41959"/>
                </a:cubicBezTo>
                <a:cubicBezTo>
                  <a:pt x="37686" y="-48884"/>
                  <a:pt x="149758" y="33776"/>
                  <a:pt x="293248" y="49097"/>
                </a:cubicBezTo>
                <a:close/>
              </a:path>
            </a:pathLst>
          </a:custGeom>
          <a:solidFill>
            <a:srgbClr val="ffc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心形 2"/>
          <p:cNvSpPr/>
          <p:nvPr/>
        </p:nvSpPr>
        <p:spPr>
          <a:xfrm rot="17100000">
            <a:off x="4087440" y="3637800"/>
            <a:ext cx="257400" cy="352440"/>
          </a:xfrm>
          <a:custGeom>
            <a:avLst/>
            <a:gdLst/>
            <a:ahLst/>
            <a:rect l="l" t="t" r="r" b="b"/>
            <a:pathLst>
              <a:path w="256810" h="352483">
                <a:moveTo>
                  <a:pt x="112495" y="24416"/>
                </a:moveTo>
                <a:cubicBezTo>
                  <a:pt x="228792" y="-6396"/>
                  <a:pt x="230654" y="-14496"/>
                  <a:pt x="256810" y="38586"/>
                </a:cubicBezTo>
                <a:cubicBezTo>
                  <a:pt x="251676" y="240739"/>
                  <a:pt x="256025" y="326729"/>
                  <a:pt x="147070" y="352407"/>
                </a:cubicBezTo>
                <a:cubicBezTo>
                  <a:pt x="72904" y="355781"/>
                  <a:pt x="-4964" y="247055"/>
                  <a:pt x="1094" y="47451"/>
                </a:cubicBezTo>
                <a:cubicBezTo>
                  <a:pt x="1538" y="50461"/>
                  <a:pt x="-20363" y="-15171"/>
                  <a:pt x="112495" y="24416"/>
                </a:cubicBezTo>
                <a:close/>
              </a:path>
            </a:pathLst>
          </a:custGeom>
          <a:solidFill>
            <a:srgbClr val="e24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心形 1"/>
          <p:cNvSpPr/>
          <p:nvPr/>
        </p:nvSpPr>
        <p:spPr>
          <a:xfrm rot="15979800">
            <a:off x="4452120" y="4356360"/>
            <a:ext cx="255600" cy="346320"/>
          </a:xfrm>
          <a:custGeom>
            <a:avLst/>
            <a:gdLst/>
            <a:ahLst/>
            <a:rect l="l" t="t" r="r" b="b"/>
            <a:pathLst>
              <a:path w="255302" h="346471">
                <a:moveTo>
                  <a:pt x="125121" y="10869"/>
                </a:moveTo>
                <a:cubicBezTo>
                  <a:pt x="223718" y="-4372"/>
                  <a:pt x="256472" y="-10496"/>
                  <a:pt x="255271" y="59924"/>
                </a:cubicBezTo>
                <a:cubicBezTo>
                  <a:pt x="250137" y="262077"/>
                  <a:pt x="222587" y="324551"/>
                  <a:pt x="128194" y="346389"/>
                </a:cubicBezTo>
                <a:cubicBezTo>
                  <a:pt x="54028" y="349763"/>
                  <a:pt x="-7660" y="249230"/>
                  <a:pt x="774" y="49778"/>
                </a:cubicBezTo>
                <a:cubicBezTo>
                  <a:pt x="1218" y="52788"/>
                  <a:pt x="-7737" y="-28718"/>
                  <a:pt x="125121" y="10869"/>
                </a:cubicBezTo>
                <a:close/>
              </a:path>
            </a:pathLst>
          </a:custGeom>
          <a:solidFill>
            <a:srgbClr val="1d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组合 54"/>
          <p:cNvGrpSpPr/>
          <p:nvPr/>
        </p:nvGrpSpPr>
        <p:grpSpPr>
          <a:xfrm>
            <a:off x="4020840" y="2268720"/>
            <a:ext cx="4589280" cy="4384440"/>
            <a:chOff x="4020840" y="2268720"/>
            <a:chExt cx="4589280" cy="4384440"/>
          </a:xfrm>
        </p:grpSpPr>
        <p:sp>
          <p:nvSpPr>
            <p:cNvPr id="210" name="心形 1"/>
            <p:cNvSpPr/>
            <p:nvPr/>
          </p:nvSpPr>
          <p:spPr>
            <a:xfrm rot="19084200">
              <a:off x="4130640" y="2414160"/>
              <a:ext cx="468000" cy="500040"/>
            </a:xfrm>
            <a:custGeom>
              <a:avLst/>
              <a:gdLst/>
              <a:ahLst/>
              <a:rect l="l" t="t" r="r" b="b"/>
              <a:pathLst>
                <a:path w="467456" h="500041">
                  <a:moveTo>
                    <a:pt x="293248" y="49097"/>
                  </a:moveTo>
                  <a:cubicBezTo>
                    <a:pt x="372791" y="40984"/>
                    <a:pt x="443169" y="48792"/>
                    <a:pt x="465616" y="120003"/>
                  </a:cubicBezTo>
                  <a:cubicBezTo>
                    <a:pt x="486967" y="405013"/>
                    <a:pt x="317035" y="512000"/>
                    <a:pt x="240550" y="498993"/>
                  </a:cubicBezTo>
                  <a:cubicBezTo>
                    <a:pt x="199428" y="497797"/>
                    <a:pt x="-43086" y="446040"/>
                    <a:pt x="6704" y="41959"/>
                  </a:cubicBezTo>
                  <a:cubicBezTo>
                    <a:pt x="37686" y="-48884"/>
                    <a:pt x="149758" y="33776"/>
                    <a:pt x="293248" y="49097"/>
                  </a:cubicBez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心形 1"/>
            <p:cNvSpPr/>
            <p:nvPr/>
          </p:nvSpPr>
          <p:spPr>
            <a:xfrm rot="20700000">
              <a:off x="5187960" y="2312640"/>
              <a:ext cx="388800" cy="374400"/>
            </a:xfrm>
            <a:custGeom>
              <a:avLst/>
              <a:gdLst/>
              <a:ahLst/>
              <a:rect l="l" t="t" r="r" b="b"/>
              <a:pathLst>
                <a:path w="388300" h="374237">
                  <a:moveTo>
                    <a:pt x="225282" y="24441"/>
                  </a:moveTo>
                  <a:cubicBezTo>
                    <a:pt x="304825" y="16328"/>
                    <a:pt x="375491" y="7079"/>
                    <a:pt x="388300" y="114260"/>
                  </a:cubicBezTo>
                  <a:cubicBezTo>
                    <a:pt x="366263" y="353376"/>
                    <a:pt x="246011" y="370872"/>
                    <a:pt x="182298" y="374137"/>
                  </a:cubicBezTo>
                  <a:cubicBezTo>
                    <a:pt x="118585" y="377402"/>
                    <a:pt x="-14693" y="301565"/>
                    <a:pt x="1326" y="55491"/>
                  </a:cubicBezTo>
                  <a:cubicBezTo>
                    <a:pt x="32308" y="-35352"/>
                    <a:pt x="81792" y="9120"/>
                    <a:pt x="225282" y="24441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心形 1"/>
            <p:cNvSpPr/>
            <p:nvPr/>
          </p:nvSpPr>
          <p:spPr>
            <a:xfrm rot="170400">
              <a:off x="5791320" y="2296800"/>
              <a:ext cx="422280" cy="628560"/>
            </a:xfrm>
            <a:custGeom>
              <a:avLst/>
              <a:gdLst/>
              <a:ahLst/>
              <a:rect l="l" t="t" r="r" b="b"/>
              <a:pathLst>
                <a:path w="422390" h="629088">
                  <a:moveTo>
                    <a:pt x="259295" y="50369"/>
                  </a:moveTo>
                  <a:cubicBezTo>
                    <a:pt x="338838" y="42256"/>
                    <a:pt x="399924" y="29812"/>
                    <a:pt x="422371" y="101023"/>
                  </a:cubicBezTo>
                  <a:cubicBezTo>
                    <a:pt x="424472" y="498842"/>
                    <a:pt x="252463" y="647357"/>
                    <a:pt x="150773" y="627318"/>
                  </a:cubicBezTo>
                  <a:cubicBezTo>
                    <a:pt x="109651" y="626122"/>
                    <a:pt x="-66103" y="500622"/>
                    <a:pt x="26678" y="44692"/>
                  </a:cubicBezTo>
                  <a:cubicBezTo>
                    <a:pt x="57660" y="-46151"/>
                    <a:pt x="140190" y="25550"/>
                    <a:pt x="259295" y="50369"/>
                  </a:cubicBezTo>
                  <a:close/>
                </a:path>
              </a:pathLst>
            </a:custGeom>
            <a:solidFill>
              <a:srgbClr val="e24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心形 1"/>
            <p:cNvSpPr/>
            <p:nvPr/>
          </p:nvSpPr>
          <p:spPr>
            <a:xfrm rot="170400">
              <a:off x="6561000" y="2539440"/>
              <a:ext cx="399960" cy="468000"/>
            </a:xfrm>
            <a:custGeom>
              <a:avLst/>
              <a:gdLst/>
              <a:ahLst/>
              <a:rect l="l" t="t" r="r" b="b"/>
              <a:pathLst>
                <a:path w="400003" h="468325">
                  <a:moveTo>
                    <a:pt x="204893" y="16322"/>
                  </a:moveTo>
                  <a:cubicBezTo>
                    <a:pt x="284436" y="8209"/>
                    <a:pt x="377556" y="-26540"/>
                    <a:pt x="400003" y="44671"/>
                  </a:cubicBezTo>
                  <a:cubicBezTo>
                    <a:pt x="376718" y="348471"/>
                    <a:pt x="249754" y="486461"/>
                    <a:pt x="148064" y="466422"/>
                  </a:cubicBezTo>
                  <a:cubicBezTo>
                    <a:pt x="106942" y="465226"/>
                    <a:pt x="-44453" y="413082"/>
                    <a:pt x="12755" y="74916"/>
                  </a:cubicBezTo>
                  <a:cubicBezTo>
                    <a:pt x="43737" y="-15927"/>
                    <a:pt x="85788" y="-8497"/>
                    <a:pt x="204893" y="16322"/>
                  </a:cubicBezTo>
                  <a:close/>
                </a:path>
              </a:pathLst>
            </a:custGeom>
            <a:solidFill>
              <a:srgbClr val="509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心形 1"/>
            <p:cNvSpPr/>
            <p:nvPr/>
          </p:nvSpPr>
          <p:spPr>
            <a:xfrm rot="3151200">
              <a:off x="8120520" y="3043800"/>
              <a:ext cx="350640" cy="431640"/>
            </a:xfrm>
            <a:custGeom>
              <a:avLst/>
              <a:gdLst/>
              <a:ahLst/>
              <a:rect l="l" t="t" r="r" b="b"/>
              <a:pathLst>
                <a:path w="350686" h="432027">
                  <a:moveTo>
                    <a:pt x="175278" y="25216"/>
                  </a:moveTo>
                  <a:cubicBezTo>
                    <a:pt x="293677" y="20825"/>
                    <a:pt x="336557" y="-36801"/>
                    <a:pt x="350686" y="38459"/>
                  </a:cubicBezTo>
                  <a:cubicBezTo>
                    <a:pt x="350057" y="312706"/>
                    <a:pt x="249581" y="450149"/>
                    <a:pt x="147891" y="430110"/>
                  </a:cubicBezTo>
                  <a:cubicBezTo>
                    <a:pt x="106769" y="428914"/>
                    <a:pt x="-26239" y="359584"/>
                    <a:pt x="4592" y="89828"/>
                  </a:cubicBezTo>
                  <a:cubicBezTo>
                    <a:pt x="36339" y="4788"/>
                    <a:pt x="56879" y="29607"/>
                    <a:pt x="175278" y="25216"/>
                  </a:cubicBezTo>
                  <a:close/>
                </a:path>
              </a:pathLst>
            </a:custGeom>
            <a:solidFill>
              <a:srgbClr val="509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心形 1"/>
            <p:cNvSpPr/>
            <p:nvPr/>
          </p:nvSpPr>
          <p:spPr>
            <a:xfrm rot="17100000">
              <a:off x="4095360" y="3630240"/>
              <a:ext cx="257040" cy="352080"/>
            </a:xfrm>
            <a:custGeom>
              <a:avLst/>
              <a:gdLst/>
              <a:ahLst/>
              <a:rect l="l" t="t" r="r" b="b"/>
              <a:pathLst>
                <a:path w="256810" h="352483">
                  <a:moveTo>
                    <a:pt x="112495" y="24416"/>
                  </a:moveTo>
                  <a:cubicBezTo>
                    <a:pt x="228792" y="-6396"/>
                    <a:pt x="230654" y="-14496"/>
                    <a:pt x="256810" y="38586"/>
                  </a:cubicBezTo>
                  <a:cubicBezTo>
                    <a:pt x="251676" y="240739"/>
                    <a:pt x="256025" y="326729"/>
                    <a:pt x="147070" y="352407"/>
                  </a:cubicBezTo>
                  <a:cubicBezTo>
                    <a:pt x="72904" y="355781"/>
                    <a:pt x="-4964" y="247055"/>
                    <a:pt x="1094" y="47451"/>
                  </a:cubicBezTo>
                  <a:cubicBezTo>
                    <a:pt x="1538" y="50461"/>
                    <a:pt x="-20363" y="-15171"/>
                    <a:pt x="112495" y="24416"/>
                  </a:cubicBezTo>
                  <a:close/>
                </a:path>
              </a:pathLst>
            </a:custGeom>
            <a:solidFill>
              <a:srgbClr val="e24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3"/>
            <p:cNvSpPr/>
            <p:nvPr/>
          </p:nvSpPr>
          <p:spPr>
            <a:xfrm>
              <a:off x="4362480" y="2773080"/>
              <a:ext cx="3719520" cy="3880080"/>
            </a:xfrm>
            <a:custGeom>
              <a:avLst/>
              <a:gdLst/>
              <a:ahLst/>
              <a:rect l="l" t="t" r="r" b="b"/>
              <a:pathLst>
                <a:path w="3719286" h="3880117">
                  <a:moveTo>
                    <a:pt x="2471658" y="313514"/>
                  </a:moveTo>
                  <a:cubicBezTo>
                    <a:pt x="2473283" y="367235"/>
                    <a:pt x="2274712" y="677963"/>
                    <a:pt x="2208704" y="888593"/>
                  </a:cubicBezTo>
                  <a:cubicBezTo>
                    <a:pt x="2156400" y="1069850"/>
                    <a:pt x="2131151" y="1234874"/>
                    <a:pt x="2092374" y="1408015"/>
                  </a:cubicBezTo>
                  <a:cubicBezTo>
                    <a:pt x="2225837" y="1313329"/>
                    <a:pt x="2305193" y="1159125"/>
                    <a:pt x="2411603" y="1034680"/>
                  </a:cubicBezTo>
                  <a:cubicBezTo>
                    <a:pt x="2616306" y="792103"/>
                    <a:pt x="2758787" y="644213"/>
                    <a:pt x="3009481" y="258253"/>
                  </a:cubicBezTo>
                  <a:lnTo>
                    <a:pt x="3060882" y="217672"/>
                  </a:lnTo>
                  <a:lnTo>
                    <a:pt x="3106872" y="144628"/>
                  </a:lnTo>
                  <a:cubicBezTo>
                    <a:pt x="3119497" y="179797"/>
                    <a:pt x="3107775" y="179797"/>
                    <a:pt x="3155569" y="233904"/>
                  </a:cubicBezTo>
                  <a:cubicBezTo>
                    <a:pt x="3133025" y="259154"/>
                    <a:pt x="3087935" y="292970"/>
                    <a:pt x="3012186" y="401634"/>
                  </a:cubicBezTo>
                  <a:cubicBezTo>
                    <a:pt x="2947258" y="475128"/>
                    <a:pt x="2751573" y="790299"/>
                    <a:pt x="2701074" y="885887"/>
                  </a:cubicBezTo>
                  <a:cubicBezTo>
                    <a:pt x="2849867" y="855227"/>
                    <a:pt x="2987838" y="808334"/>
                    <a:pt x="3131220" y="769558"/>
                  </a:cubicBezTo>
                  <a:cubicBezTo>
                    <a:pt x="3368201" y="676954"/>
                    <a:pt x="3440156" y="643866"/>
                    <a:pt x="3598683" y="564787"/>
                  </a:cubicBezTo>
                  <a:cubicBezTo>
                    <a:pt x="3598870" y="609598"/>
                    <a:pt x="3609877" y="662525"/>
                    <a:pt x="3664170" y="691104"/>
                  </a:cubicBezTo>
                  <a:cubicBezTo>
                    <a:pt x="3628643" y="725233"/>
                    <a:pt x="3423395" y="709592"/>
                    <a:pt x="3234023" y="774970"/>
                  </a:cubicBezTo>
                  <a:cubicBezTo>
                    <a:pt x="3036534" y="843055"/>
                    <a:pt x="2756533" y="966147"/>
                    <a:pt x="2609092" y="1018449"/>
                  </a:cubicBezTo>
                  <a:lnTo>
                    <a:pt x="2508996" y="1186179"/>
                  </a:lnTo>
                  <a:cubicBezTo>
                    <a:pt x="2726323" y="1230366"/>
                    <a:pt x="2943652" y="1266436"/>
                    <a:pt x="3185327" y="1291686"/>
                  </a:cubicBezTo>
                  <a:cubicBezTo>
                    <a:pt x="3376840" y="1302821"/>
                    <a:pt x="3541300" y="1286905"/>
                    <a:pt x="3719286" y="1284514"/>
                  </a:cubicBezTo>
                  <a:cubicBezTo>
                    <a:pt x="3663648" y="1382486"/>
                    <a:pt x="3680582" y="1411513"/>
                    <a:pt x="3704772" y="1491342"/>
                  </a:cubicBezTo>
                  <a:cubicBezTo>
                    <a:pt x="3553582" y="1444171"/>
                    <a:pt x="3424163" y="1378856"/>
                    <a:pt x="3251201" y="1349828"/>
                  </a:cubicBezTo>
                  <a:cubicBezTo>
                    <a:pt x="2965753" y="1329267"/>
                    <a:pt x="2712963" y="1326846"/>
                    <a:pt x="2438401" y="1320798"/>
                  </a:cubicBezTo>
                  <a:cubicBezTo>
                    <a:pt x="2411792" y="1407884"/>
                    <a:pt x="2392439" y="1484086"/>
                    <a:pt x="2347687" y="1516743"/>
                  </a:cubicBezTo>
                  <a:cubicBezTo>
                    <a:pt x="2657325" y="1693333"/>
                    <a:pt x="2937936" y="1779208"/>
                    <a:pt x="3287488" y="1817912"/>
                  </a:cubicBezTo>
                  <a:cubicBezTo>
                    <a:pt x="3220963" y="1871131"/>
                    <a:pt x="3168954" y="2000551"/>
                    <a:pt x="3164115" y="2090056"/>
                  </a:cubicBezTo>
                  <a:cubicBezTo>
                    <a:pt x="3057677" y="2013856"/>
                    <a:pt x="2969382" y="1897742"/>
                    <a:pt x="2844801" y="1828799"/>
                  </a:cubicBezTo>
                  <a:cubicBezTo>
                    <a:pt x="2641601" y="1735664"/>
                    <a:pt x="2452915" y="1707845"/>
                    <a:pt x="2256972" y="1647368"/>
                  </a:cubicBezTo>
                  <a:cubicBezTo>
                    <a:pt x="2143277" y="1808235"/>
                    <a:pt x="2004182" y="1921930"/>
                    <a:pt x="1919515" y="2126340"/>
                  </a:cubicBezTo>
                  <a:cubicBezTo>
                    <a:pt x="1808239" y="2518226"/>
                    <a:pt x="1896534" y="2779483"/>
                    <a:pt x="1912258" y="3095168"/>
                  </a:cubicBezTo>
                  <a:cubicBezTo>
                    <a:pt x="1954734" y="3355464"/>
                    <a:pt x="1957296" y="3702846"/>
                    <a:pt x="2057830" y="3879685"/>
                  </a:cubicBezTo>
                  <a:cubicBezTo>
                    <a:pt x="2044818" y="3882104"/>
                    <a:pt x="1487520" y="3873638"/>
                    <a:pt x="1205994" y="3872428"/>
                  </a:cubicBezTo>
                  <a:cubicBezTo>
                    <a:pt x="1289015" y="3619390"/>
                    <a:pt x="1368408" y="3366350"/>
                    <a:pt x="1440544" y="3106054"/>
                  </a:cubicBezTo>
                  <a:cubicBezTo>
                    <a:pt x="1651993" y="2288896"/>
                    <a:pt x="1469570" y="1808234"/>
                    <a:pt x="1393371" y="1618339"/>
                  </a:cubicBezTo>
                  <a:cubicBezTo>
                    <a:pt x="1052286" y="1653416"/>
                    <a:pt x="711201" y="1735665"/>
                    <a:pt x="420915" y="1832427"/>
                  </a:cubicBezTo>
                  <a:cubicBezTo>
                    <a:pt x="422729" y="1816100"/>
                    <a:pt x="465451" y="1749803"/>
                    <a:pt x="384630" y="1698170"/>
                  </a:cubicBezTo>
                  <a:cubicBezTo>
                    <a:pt x="461435" y="1660675"/>
                    <a:pt x="733578" y="1701798"/>
                    <a:pt x="878116" y="1658255"/>
                  </a:cubicBezTo>
                  <a:cubicBezTo>
                    <a:pt x="1037168" y="1629226"/>
                    <a:pt x="1241964" y="1582889"/>
                    <a:pt x="1349829" y="1542141"/>
                  </a:cubicBezTo>
                  <a:cubicBezTo>
                    <a:pt x="1276653" y="1447798"/>
                    <a:pt x="1305077" y="1493156"/>
                    <a:pt x="1255487" y="1429656"/>
                  </a:cubicBezTo>
                  <a:cubicBezTo>
                    <a:pt x="1035353" y="1351641"/>
                    <a:pt x="656554" y="1230918"/>
                    <a:pt x="39915" y="1164770"/>
                  </a:cubicBezTo>
                  <a:cubicBezTo>
                    <a:pt x="76806" y="1130904"/>
                    <a:pt x="100176" y="1097871"/>
                    <a:pt x="79831" y="1034142"/>
                  </a:cubicBezTo>
                  <a:cubicBezTo>
                    <a:pt x="157845" y="1029909"/>
                    <a:pt x="336248" y="1152071"/>
                    <a:pt x="515257" y="1186542"/>
                  </a:cubicBezTo>
                  <a:cubicBezTo>
                    <a:pt x="683381" y="1224641"/>
                    <a:pt x="955524" y="1271209"/>
                    <a:pt x="1153886" y="1306285"/>
                  </a:cubicBezTo>
                  <a:cubicBezTo>
                    <a:pt x="964596" y="1063170"/>
                    <a:pt x="685800" y="775305"/>
                    <a:pt x="478972" y="609600"/>
                  </a:cubicBezTo>
                  <a:cubicBezTo>
                    <a:pt x="286658" y="433010"/>
                    <a:pt x="48163" y="303214"/>
                    <a:pt x="0" y="246742"/>
                  </a:cubicBezTo>
                  <a:cubicBezTo>
                    <a:pt x="10281" y="241904"/>
                    <a:pt x="218102" y="237296"/>
                    <a:pt x="301172" y="21772"/>
                  </a:cubicBezTo>
                  <a:cubicBezTo>
                    <a:pt x="356206" y="62896"/>
                    <a:pt x="468690" y="345321"/>
                    <a:pt x="573313" y="486230"/>
                  </a:cubicBezTo>
                  <a:cubicBezTo>
                    <a:pt x="667050" y="645282"/>
                    <a:pt x="875476" y="851734"/>
                    <a:pt x="928913" y="867229"/>
                  </a:cubicBezTo>
                  <a:cubicBezTo>
                    <a:pt x="981306" y="633185"/>
                    <a:pt x="968005" y="195569"/>
                    <a:pt x="932542" y="10887"/>
                  </a:cubicBezTo>
                  <a:cubicBezTo>
                    <a:pt x="993018" y="21168"/>
                    <a:pt x="1036344" y="38330"/>
                    <a:pt x="1099457" y="0"/>
                  </a:cubicBezTo>
                  <a:cubicBezTo>
                    <a:pt x="1104296" y="63500"/>
                    <a:pt x="1026279" y="183244"/>
                    <a:pt x="1019627" y="348344"/>
                  </a:cubicBezTo>
                  <a:cubicBezTo>
                    <a:pt x="1012975" y="513444"/>
                    <a:pt x="1025069" y="933149"/>
                    <a:pt x="1055913" y="1005116"/>
                  </a:cubicBezTo>
                  <a:cubicBezTo>
                    <a:pt x="1224642" y="1113368"/>
                    <a:pt x="1490519" y="1413559"/>
                    <a:pt x="1618342" y="1451429"/>
                  </a:cubicBezTo>
                  <a:cubicBezTo>
                    <a:pt x="1633726" y="1199351"/>
                    <a:pt x="1584125" y="893574"/>
                    <a:pt x="1556721" y="691104"/>
                  </a:cubicBezTo>
                  <a:cubicBezTo>
                    <a:pt x="1529317" y="488634"/>
                    <a:pt x="1467449" y="328340"/>
                    <a:pt x="1453918" y="236609"/>
                  </a:cubicBezTo>
                  <a:cubicBezTo>
                    <a:pt x="1551406" y="259382"/>
                    <a:pt x="1631006" y="223943"/>
                    <a:pt x="1716314" y="159658"/>
                  </a:cubicBezTo>
                  <a:cubicBezTo>
                    <a:pt x="1730292" y="236309"/>
                    <a:pt x="1646444" y="581788"/>
                    <a:pt x="1659523" y="810138"/>
                  </a:cubicBezTo>
                  <a:cubicBezTo>
                    <a:pt x="1664486" y="1033077"/>
                    <a:pt x="1732028" y="1338837"/>
                    <a:pt x="1737979" y="1491880"/>
                  </a:cubicBezTo>
                  <a:cubicBezTo>
                    <a:pt x="1811023" y="1505408"/>
                    <a:pt x="1857374" y="1525504"/>
                    <a:pt x="1967931" y="1478354"/>
                  </a:cubicBezTo>
                  <a:cubicBezTo>
                    <a:pt x="2000394" y="1362025"/>
                    <a:pt x="2095531" y="1020703"/>
                    <a:pt x="2135660" y="823665"/>
                  </a:cubicBezTo>
                  <a:cubicBezTo>
                    <a:pt x="2170378" y="663600"/>
                    <a:pt x="2161361" y="638350"/>
                    <a:pt x="2178946" y="542311"/>
                  </a:cubicBezTo>
                  <a:cubicBezTo>
                    <a:pt x="2191120" y="454388"/>
                    <a:pt x="2190128" y="329750"/>
                    <a:pt x="2208704" y="296127"/>
                  </a:cubicBezTo>
                  <a:cubicBezTo>
                    <a:pt x="2269212" y="340957"/>
                    <a:pt x="2340542" y="356209"/>
                    <a:pt x="2471658" y="313514"/>
                  </a:cubicBezTo>
                  <a:close/>
                </a:path>
              </a:pathLst>
            </a:custGeom>
            <a:solidFill>
              <a:srgbClr val="5f3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心形 1"/>
            <p:cNvSpPr/>
            <p:nvPr/>
          </p:nvSpPr>
          <p:spPr>
            <a:xfrm rot="5400000">
              <a:off x="8208720" y="3986280"/>
              <a:ext cx="363240" cy="439560"/>
            </a:xfrm>
            <a:custGeom>
              <a:avLst/>
              <a:gdLst/>
              <a:ahLst/>
              <a:rect l="l" t="t" r="r" b="b"/>
              <a:pathLst>
                <a:path w="362636" h="440042">
                  <a:moveTo>
                    <a:pt x="254326" y="71669"/>
                  </a:moveTo>
                  <a:cubicBezTo>
                    <a:pt x="341013" y="80225"/>
                    <a:pt x="349714" y="101119"/>
                    <a:pt x="362636" y="141373"/>
                  </a:cubicBezTo>
                  <a:cubicBezTo>
                    <a:pt x="355214" y="305829"/>
                    <a:pt x="209408" y="473394"/>
                    <a:pt x="105329" y="434306"/>
                  </a:cubicBezTo>
                  <a:cubicBezTo>
                    <a:pt x="-28656" y="404535"/>
                    <a:pt x="-28195" y="121872"/>
                    <a:pt x="69337" y="8842"/>
                  </a:cubicBezTo>
                  <a:cubicBezTo>
                    <a:pt x="102704" y="-24851"/>
                    <a:pt x="166177" y="46850"/>
                    <a:pt x="254326" y="71669"/>
                  </a:cubicBez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心形 1"/>
            <p:cNvSpPr/>
            <p:nvPr/>
          </p:nvSpPr>
          <p:spPr>
            <a:xfrm rot="15979800">
              <a:off x="4460760" y="4348800"/>
              <a:ext cx="253800" cy="345960"/>
            </a:xfrm>
            <a:custGeom>
              <a:avLst/>
              <a:gdLst/>
              <a:ahLst/>
              <a:rect l="l" t="t" r="r" b="b"/>
              <a:pathLst>
                <a:path w="255302" h="346471">
                  <a:moveTo>
                    <a:pt x="125121" y="10869"/>
                  </a:moveTo>
                  <a:cubicBezTo>
                    <a:pt x="223718" y="-4372"/>
                    <a:pt x="256472" y="-10496"/>
                    <a:pt x="255271" y="59924"/>
                  </a:cubicBezTo>
                  <a:cubicBezTo>
                    <a:pt x="250137" y="262077"/>
                    <a:pt x="222587" y="324551"/>
                    <a:pt x="128194" y="346389"/>
                  </a:cubicBezTo>
                  <a:cubicBezTo>
                    <a:pt x="54028" y="349763"/>
                    <a:pt x="-7660" y="249230"/>
                    <a:pt x="774" y="49778"/>
                  </a:cubicBezTo>
                  <a:cubicBezTo>
                    <a:pt x="1218" y="52788"/>
                    <a:pt x="-7737" y="-28718"/>
                    <a:pt x="125121" y="10869"/>
                  </a:cubicBezTo>
                  <a:close/>
                </a:path>
              </a:pathLst>
            </a:custGeom>
            <a:solidFill>
              <a:srgbClr val="1db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心形 1"/>
            <p:cNvSpPr/>
            <p:nvPr/>
          </p:nvSpPr>
          <p:spPr>
            <a:xfrm rot="5400000">
              <a:off x="7670880" y="4578120"/>
              <a:ext cx="433080" cy="458640"/>
            </a:xfrm>
            <a:custGeom>
              <a:avLst/>
              <a:gdLst/>
              <a:ahLst/>
              <a:rect l="l" t="t" r="r" b="b"/>
              <a:pathLst>
                <a:path w="433114" h="459198">
                  <a:moveTo>
                    <a:pt x="274788" y="82076"/>
                  </a:moveTo>
                  <a:cubicBezTo>
                    <a:pt x="361475" y="90632"/>
                    <a:pt x="448764" y="135338"/>
                    <a:pt x="430727" y="187498"/>
                  </a:cubicBezTo>
                  <a:cubicBezTo>
                    <a:pt x="423305" y="351954"/>
                    <a:pt x="232251" y="512377"/>
                    <a:pt x="121029" y="442332"/>
                  </a:cubicBezTo>
                  <a:cubicBezTo>
                    <a:pt x="-12956" y="412561"/>
                    <a:pt x="-38689" y="129897"/>
                    <a:pt x="58843" y="16867"/>
                  </a:cubicBezTo>
                  <a:cubicBezTo>
                    <a:pt x="101735" y="-38257"/>
                    <a:pt x="186639" y="57257"/>
                    <a:pt x="274788" y="82076"/>
                  </a:cubicBezTo>
                  <a:close/>
                </a:path>
              </a:pathLst>
            </a:custGeom>
            <a:solidFill>
              <a:srgbClr val="f4d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心形 1"/>
            <p:cNvSpPr/>
            <p:nvPr/>
          </p:nvSpPr>
          <p:spPr>
            <a:xfrm rot="1867200">
              <a:off x="7403760" y="2644560"/>
              <a:ext cx="469800" cy="473040"/>
            </a:xfrm>
            <a:custGeom>
              <a:avLst/>
              <a:gdLst/>
              <a:ahLst/>
              <a:rect l="l" t="t" r="r" b="b"/>
              <a:pathLst>
                <a:path w="470348" h="472758">
                  <a:moveTo>
                    <a:pt x="234736" y="22192"/>
                  </a:moveTo>
                  <a:cubicBezTo>
                    <a:pt x="322834" y="28246"/>
                    <a:pt x="460594" y="-28627"/>
                    <a:pt x="470346" y="69585"/>
                  </a:cubicBezTo>
                  <a:cubicBezTo>
                    <a:pt x="471118" y="349191"/>
                    <a:pt x="273915" y="490930"/>
                    <a:pt x="172225" y="470891"/>
                  </a:cubicBezTo>
                  <a:cubicBezTo>
                    <a:pt x="131103" y="469695"/>
                    <a:pt x="-61600" y="365160"/>
                    <a:pt x="19872" y="75176"/>
                  </a:cubicBezTo>
                  <a:cubicBezTo>
                    <a:pt x="64953" y="-48348"/>
                    <a:pt x="146638" y="16138"/>
                    <a:pt x="234736" y="22192"/>
                  </a:cubicBezTo>
                  <a:close/>
                </a:path>
              </a:pathLst>
            </a:custGeom>
            <a:solidFill>
              <a:srgbClr val="f19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矩形 66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5f3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z_TextBox 4"/>
          <p:cNvSpPr/>
          <p:nvPr/>
        </p:nvSpPr>
        <p:spPr>
          <a:xfrm>
            <a:off x="2646360" y="52862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02e04"/>
                </a:solidFill>
                <a:latin typeface="黑体"/>
                <a:ea typeface="黑体"/>
              </a:rPr>
              <a:t>图形的认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6118560" y="592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02e04"/>
                </a:solidFill>
                <a:latin typeface="时尚中黑简体"/>
                <a:ea typeface="时尚中黑简体"/>
              </a:rPr>
              <a:t>小学数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5.55556E-007 -3.16374E-006 L 5.55556E-007 -0.27474 E">
                                      <p:cBhvr>
                                        <p:cTn id="18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4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4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64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8.33333E-007 -1.48148E-006 L 0.05833 -0.01366 E">
                                      <p:cBhvr>
                                        <p:cTn id="28" dur="4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5" dur="100" fill="hold"/>
                                        <p:tgtEl>
                                          <p:spTgt spid="2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7" dur="100" fill="hold"/>
                                        <p:tgtEl>
                                          <p:spTgt spid="208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4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4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64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1.11111E-006 1.85185E-006 L 0.06771 0.03426 E">
                                      <p:cBhvr>
                                        <p:cTn id="47" dur="4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54" dur="1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56" dur="100" fill="hold"/>
                                        <p:tgtEl>
                                          <p:spTgt spid="207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4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4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8.33333E-007 -3.7037E-006 L -0.00139 0.0632 E">
                                      <p:cBhvr>
                                        <p:cTn id="66" dur="4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6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73" dur="1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75" dur="100" fill="hold"/>
                                        <p:tgtEl>
                                          <p:spTgt spid="205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4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4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64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5.55556E-007 -2.96296E-006 L 0.01163 0.10047 E">
                                      <p:cBhvr>
                                        <p:cTn id="85" dur="4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92" dur="1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94" dur="100" fill="hold"/>
                                        <p:tgtEl>
                                          <p:spTgt spid="204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4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4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64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16667E-006 -4.81481E-006 L -0.02447 0.08195 E">
                                      <p:cBhvr>
                                        <p:cTn id="104" dur="4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11" dur="1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13" dur="100" fill="hold"/>
                                        <p:tgtEl>
                                          <p:spTgt spid="203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4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4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94444E-006 7.40741E-007 L -0.05191 0.02014 E">
                                      <p:cBhvr>
                                        <p:cTn id="123" dur="4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30" dur="1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32" dur="100" fill="hold"/>
                                        <p:tgtEl>
                                          <p:spTgt spid="201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4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4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64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1.11111E-006 -4.44444E-006 L -0.06181 -0.01666 E">
                                      <p:cBhvr>
                                        <p:cTn id="142" dur="4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49" dur="1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51" dur="100" fill="hold"/>
                                        <p:tgtEl>
                                          <p:spTgt spid="200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4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4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64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1.94444E-006 -2.59259E-006 L -0.05208 -0.03102 E">
                                      <p:cBhvr>
                                        <p:cTn id="161" dur="4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68" dur="1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70" dur="100" fill="hold"/>
                                        <p:tgtEl>
                                          <p:spTgt spid="199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7" dur="1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79" dur="100" fill="hold"/>
                                        <p:tgtEl>
                                          <p:spTgt spid="206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86" dur="1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88" dur="100" fill="hold"/>
                                        <p:tgtEl>
                                          <p:spTgt spid="202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64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 0 L 0 -0.279 E">
                                      <p:cBhvr>
                                        <p:cTn id="230" dur="3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64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 0 L 0 -0.279 E">
                                      <p:cBhvr>
                                        <p:cTn id="232" dur="3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3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8">
                                  <p:stCondLst>
                                    <p:cond delay="3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2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白背景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5040" cy="5048280"/>
          </a:xfrm>
          <a:prstGeom prst="rect">
            <a:avLst/>
          </a:prstGeom>
          <a:ln w="0">
            <a:noFill/>
          </a:ln>
        </p:spPr>
      </p:pic>
      <p:sp>
        <p:nvSpPr>
          <p:cNvPr id="393" name="分割线1"/>
          <p:cNvSpPr/>
          <p:nvPr/>
        </p:nvSpPr>
        <p:spPr>
          <a:xfrm>
            <a:off x="900000" y="3141720"/>
            <a:ext cx="7201080" cy="0"/>
          </a:xfrm>
          <a:prstGeom prst="line">
            <a:avLst/>
          </a:prstGeom>
          <a:ln w="3240">
            <a:solidFill>
              <a:srgbClr val="603f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2"/>
          <a:stretch/>
        </p:blipFill>
        <p:spPr>
          <a:xfrm>
            <a:off x="324000" y="841320"/>
            <a:ext cx="2184120" cy="908280"/>
          </a:xfrm>
          <a:prstGeom prst="rect">
            <a:avLst/>
          </a:prstGeom>
          <a:ln w="0">
            <a:noFill/>
          </a:ln>
        </p:spPr>
      </p:pic>
      <p:pic>
        <p:nvPicPr>
          <p:cNvPr id="395" name="_Picture 4" descr=""/>
          <p:cNvPicPr/>
          <p:nvPr/>
        </p:nvPicPr>
        <p:blipFill>
          <a:blip r:embed="rId3"/>
          <a:stretch/>
        </p:blipFill>
        <p:spPr>
          <a:xfrm>
            <a:off x="352440" y="841320"/>
            <a:ext cx="2127240" cy="905040"/>
          </a:xfrm>
          <a:prstGeom prst="rect">
            <a:avLst/>
          </a:prstGeom>
          <a:ln w="0">
            <a:noFill/>
          </a:ln>
        </p:spPr>
      </p:pic>
      <p:sp>
        <p:nvSpPr>
          <p:cNvPr id="396" name="矩形 9"/>
          <p:cNvSpPr/>
          <p:nvPr/>
        </p:nvSpPr>
        <p:spPr>
          <a:xfrm>
            <a:off x="695160" y="484200"/>
            <a:ext cx="30240" cy="360360"/>
          </a:xfrm>
          <a:prstGeom prst="rect">
            <a:avLst/>
          </a:prstGeom>
          <a:solidFill>
            <a:srgbClr val="5a3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13"/>
          <p:cNvSpPr/>
          <p:nvPr/>
        </p:nvSpPr>
        <p:spPr>
          <a:xfrm>
            <a:off x="2108160" y="484200"/>
            <a:ext cx="28440" cy="360360"/>
          </a:xfrm>
          <a:prstGeom prst="rect">
            <a:avLst/>
          </a:prstGeom>
          <a:solidFill>
            <a:srgbClr val="5a3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8"/>
          <p:cNvSpPr/>
          <p:nvPr/>
        </p:nvSpPr>
        <p:spPr>
          <a:xfrm>
            <a:off x="3004200" y="1116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03f05"/>
                </a:solidFill>
                <a:latin typeface="时尚中黑简体"/>
                <a:ea typeface="时尚中黑简体"/>
              </a:rPr>
              <a:t>多边形面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矩形 2"/>
          <p:cNvSpPr/>
          <p:nvPr/>
        </p:nvSpPr>
        <p:spPr>
          <a:xfrm>
            <a:off x="826920" y="2236680"/>
            <a:ext cx="25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小方格的方式，找出长方形面积公示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矩形 3"/>
          <p:cNvSpPr/>
          <p:nvPr/>
        </p:nvSpPr>
        <p:spPr>
          <a:xfrm>
            <a:off x="3419640" y="213372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验法，动手拼一拼，通过两个直角拼出长方形，得出三角面积是长方形的一半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矩形 4"/>
          <p:cNvSpPr/>
          <p:nvPr/>
        </p:nvSpPr>
        <p:spPr>
          <a:xfrm>
            <a:off x="6156360" y="216540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剪一剪。把梯形剪成学过的规则图形，去探究梯形面积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4"/>
          <a:stretch/>
        </p:blipFill>
        <p:spPr>
          <a:xfrm>
            <a:off x="971640" y="3807000"/>
            <a:ext cx="1841400" cy="2286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"/>
          <p:cNvPicPr/>
          <p:nvPr/>
        </p:nvPicPr>
        <p:blipFill>
          <a:blip r:embed="rId5"/>
          <a:stretch/>
        </p:blipFill>
        <p:spPr>
          <a:xfrm>
            <a:off x="3492360" y="3807000"/>
            <a:ext cx="1968480" cy="1206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6"/>
          <a:stretch/>
        </p:blipFill>
        <p:spPr>
          <a:xfrm>
            <a:off x="6156360" y="3645000"/>
            <a:ext cx="2097000" cy="1655640"/>
          </a:xfrm>
          <a:prstGeom prst="rect">
            <a:avLst/>
          </a:prstGeom>
          <a:ln w="0">
            <a:noFill/>
          </a:ln>
        </p:spPr>
      </p:pic>
      <p:pic>
        <p:nvPicPr>
          <p:cNvPr id="405" name="分割线1" descr=""/>
          <p:cNvPicPr/>
          <p:nvPr/>
        </p:nvPicPr>
        <p:blipFill>
          <a:blip r:embed="rId7"/>
          <a:stretch/>
        </p:blipFill>
        <p:spPr>
          <a:xfrm>
            <a:off x="907920" y="3560760"/>
            <a:ext cx="3389400" cy="12600"/>
          </a:xfrm>
          <a:prstGeom prst="rect">
            <a:avLst/>
          </a:prstGeom>
          <a:ln w="0">
            <a:noFill/>
          </a:ln>
        </p:spPr>
      </p:pic>
      <p:pic>
        <p:nvPicPr>
          <p:cNvPr id="406" name="分割线2" descr=""/>
          <p:cNvPicPr/>
          <p:nvPr/>
        </p:nvPicPr>
        <p:blipFill>
          <a:blip r:embed="rId8"/>
          <a:stretch/>
        </p:blipFill>
        <p:spPr>
          <a:xfrm>
            <a:off x="4932360" y="3560760"/>
            <a:ext cx="3389400" cy="12600"/>
          </a:xfrm>
          <a:prstGeom prst="rect">
            <a:avLst/>
          </a:prstGeom>
          <a:ln w="0">
            <a:noFill/>
          </a:ln>
        </p:spPr>
      </p:pic>
      <p:sp>
        <p:nvSpPr>
          <p:cNvPr id="407" name="矩形 38"/>
          <p:cNvSpPr/>
          <p:nvPr/>
        </p:nvSpPr>
        <p:spPr>
          <a:xfrm>
            <a:off x="1162440" y="1778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03f05"/>
                </a:solidFill>
                <a:latin typeface="时尚中黑简体"/>
                <a:ea typeface="时尚中黑简体"/>
              </a:rPr>
              <a:t>图形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矩形 41"/>
          <p:cNvSpPr/>
          <p:nvPr/>
        </p:nvSpPr>
        <p:spPr>
          <a:xfrm>
            <a:off x="1403280" y="242100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逆时针，顺时针的图形变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矩形 43"/>
          <p:cNvSpPr/>
          <p:nvPr/>
        </p:nvSpPr>
        <p:spPr>
          <a:xfrm>
            <a:off x="1403280" y="2927520"/>
            <a:ext cx="26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点为中心，演示旋转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44"/>
          <p:cNvSpPr/>
          <p:nvPr/>
        </p:nvSpPr>
        <p:spPr>
          <a:xfrm>
            <a:off x="4956120" y="1778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03f05"/>
                </a:solidFill>
                <a:latin typeface="时尚中黑简体"/>
                <a:ea typeface="时尚中黑简体"/>
              </a:rPr>
              <a:t>体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矩形 45"/>
          <p:cNvSpPr/>
          <p:nvPr/>
        </p:nvSpPr>
        <p:spPr>
          <a:xfrm>
            <a:off x="5076720" y="2349360"/>
            <a:ext cx="35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面，角，棱角度去认识长方体，正方体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矩形 48"/>
          <p:cNvSpPr/>
          <p:nvPr/>
        </p:nvSpPr>
        <p:spPr>
          <a:xfrm>
            <a:off x="5105520" y="286848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实物拆开法，认识长方体正方体表面积。从而学习表面积公示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环形箭头 50"/>
          <p:cNvSpPr/>
          <p:nvPr/>
        </p:nvSpPr>
        <p:spPr>
          <a:xfrm>
            <a:off x="1547640" y="7316640"/>
            <a:ext cx="360360" cy="360360"/>
          </a:xfrm>
          <a:custGeom>
            <a:avLst/>
            <a:gdLst/>
            <a:ahLst/>
            <a:rect l="l" t="t" r="r" b="b"/>
            <a:pathLst>
              <a:path w="360040" h="360040">
                <a:moveTo>
                  <a:pt x="114967" y="323477"/>
                </a:moveTo>
                <a:cubicBezTo>
                  <a:pt x="48678" y="293417"/>
                  <a:pt x="11617" y="221854"/>
                  <a:pt x="25318" y="150370"/>
                </a:cubicBezTo>
                <a:cubicBezTo>
                  <a:pt x="39019" y="78885"/>
                  <a:pt x="99913" y="26096"/>
                  <a:pt x="172618" y="22676"/>
                </a:cubicBezTo>
                <a:cubicBezTo>
                  <a:pt x="245323" y="19256"/>
                  <a:pt x="310905" y="66094"/>
                  <a:pt x="331256" y="135977"/>
                </a:cubicBezTo>
                <a:lnTo>
                  <a:pt x="352655" y="135977"/>
                </a:lnTo>
                <a:lnTo>
                  <a:pt x="315035" y="180020"/>
                </a:lnTo>
                <a:lnTo>
                  <a:pt x="262645" y="135977"/>
                </a:lnTo>
                <a:lnTo>
                  <a:pt x="283554" y="135977"/>
                </a:lnTo>
                <a:cubicBezTo>
                  <a:pt x="263852" y="89662"/>
                  <a:pt x="215786" y="62066"/>
                  <a:pt x="165855" y="68402"/>
                </a:cubicBezTo>
                <a:cubicBezTo>
                  <a:pt x="115924" y="74738"/>
                  <a:pt x="76275" y="113465"/>
                  <a:pt x="68766" y="163234"/>
                </a:cubicBezTo>
                <a:cubicBezTo>
                  <a:pt x="61257" y="213002"/>
                  <a:pt x="87714" y="261704"/>
                  <a:pt x="133553" y="282490"/>
                </a:cubicBezTo>
                <a:lnTo>
                  <a:pt x="114967" y="323477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环形箭头 61"/>
          <p:cNvSpPr/>
          <p:nvPr/>
        </p:nvSpPr>
        <p:spPr>
          <a:xfrm flipH="1">
            <a:off x="3347280" y="7029360"/>
            <a:ext cx="360360" cy="360360"/>
          </a:xfrm>
          <a:custGeom>
            <a:avLst/>
            <a:gdLst/>
            <a:ahLst/>
            <a:rect l="l" t="t" r="r" b="b"/>
            <a:pathLst>
              <a:path w="360040" h="360040">
                <a:moveTo>
                  <a:pt x="114967" y="323477"/>
                </a:moveTo>
                <a:cubicBezTo>
                  <a:pt x="48678" y="293417"/>
                  <a:pt x="11617" y="221854"/>
                  <a:pt x="25318" y="150370"/>
                </a:cubicBezTo>
                <a:cubicBezTo>
                  <a:pt x="39019" y="78885"/>
                  <a:pt x="99913" y="26096"/>
                  <a:pt x="172618" y="22676"/>
                </a:cubicBezTo>
                <a:cubicBezTo>
                  <a:pt x="245323" y="19256"/>
                  <a:pt x="310905" y="66094"/>
                  <a:pt x="331256" y="135977"/>
                </a:cubicBezTo>
                <a:lnTo>
                  <a:pt x="352655" y="135977"/>
                </a:lnTo>
                <a:lnTo>
                  <a:pt x="315035" y="180020"/>
                </a:lnTo>
                <a:lnTo>
                  <a:pt x="262645" y="135977"/>
                </a:lnTo>
                <a:lnTo>
                  <a:pt x="283554" y="135977"/>
                </a:lnTo>
                <a:cubicBezTo>
                  <a:pt x="263852" y="89662"/>
                  <a:pt x="215786" y="62066"/>
                  <a:pt x="165855" y="68402"/>
                </a:cubicBezTo>
                <a:cubicBezTo>
                  <a:pt x="115924" y="74738"/>
                  <a:pt x="76275" y="113465"/>
                  <a:pt x="68766" y="163234"/>
                </a:cubicBezTo>
                <a:cubicBezTo>
                  <a:pt x="61257" y="213002"/>
                  <a:pt x="87714" y="261704"/>
                  <a:pt x="133553" y="282490"/>
                </a:cubicBezTo>
                <a:lnTo>
                  <a:pt x="114967" y="323477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9"/>
          <a:stretch/>
        </p:blipFill>
        <p:spPr>
          <a:xfrm>
            <a:off x="1042920" y="4076640"/>
            <a:ext cx="1235160" cy="12225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10"/>
          <a:stretch/>
        </p:blipFill>
        <p:spPr>
          <a:xfrm>
            <a:off x="2556000" y="4076640"/>
            <a:ext cx="1234800" cy="1222560"/>
          </a:xfrm>
          <a:prstGeom prst="rect">
            <a:avLst/>
          </a:prstGeom>
          <a:ln w="0">
            <a:noFill/>
          </a:ln>
        </p:spPr>
      </p:pic>
      <p:grpSp>
        <p:nvGrpSpPr>
          <p:cNvPr id="417" name="组合 4107"/>
          <p:cNvGrpSpPr/>
          <p:nvPr/>
        </p:nvGrpSpPr>
        <p:grpSpPr>
          <a:xfrm>
            <a:off x="5003640" y="3789360"/>
            <a:ext cx="3179880" cy="1947960"/>
            <a:chOff x="5003640" y="3789360"/>
            <a:chExt cx="3179880" cy="1947960"/>
          </a:xfrm>
        </p:grpSpPr>
        <p:pic>
          <p:nvPicPr>
            <p:cNvPr id="418" name="Picture 6" descr=""/>
            <p:cNvPicPr/>
            <p:nvPr/>
          </p:nvPicPr>
          <p:blipFill>
            <a:blip r:embed="rId11"/>
            <a:stretch/>
          </p:blipFill>
          <p:spPr>
            <a:xfrm>
              <a:off x="7092720" y="4293000"/>
              <a:ext cx="1090800" cy="14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7" descr=""/>
            <p:cNvPicPr/>
            <p:nvPr/>
          </p:nvPicPr>
          <p:blipFill>
            <a:blip r:embed="rId12"/>
            <a:stretch/>
          </p:blipFill>
          <p:spPr>
            <a:xfrm>
              <a:off x="6516360" y="4581000"/>
              <a:ext cx="35388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8" descr=""/>
            <p:cNvPicPr/>
            <p:nvPr/>
          </p:nvPicPr>
          <p:blipFill>
            <a:blip r:embed="rId13"/>
            <a:stretch/>
          </p:blipFill>
          <p:spPr>
            <a:xfrm>
              <a:off x="5003640" y="3789360"/>
              <a:ext cx="1464120" cy="116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1" name="Picture 9" descr=""/>
          <p:cNvPicPr/>
          <p:nvPr/>
        </p:nvPicPr>
        <p:blipFill>
          <a:blip r:embed="rId14"/>
          <a:stretch/>
        </p:blipFill>
        <p:spPr>
          <a:xfrm>
            <a:off x="1619280" y="5516640"/>
            <a:ext cx="334800" cy="3110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0" descr=""/>
          <p:cNvPicPr/>
          <p:nvPr/>
        </p:nvPicPr>
        <p:blipFill>
          <a:blip r:embed="rId15"/>
          <a:stretch/>
        </p:blipFill>
        <p:spPr>
          <a:xfrm>
            <a:off x="3203640" y="5516640"/>
            <a:ext cx="334800" cy="311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0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1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6" dur="1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5 0 E">
                                      <p:cBhvr>
                                        <p:cTn id="1002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5 0 E">
                                      <p:cBhvr>
                                        <p:cTn id="1004" dur="1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6" dur="2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2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0" dur="2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2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2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4" dur="2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2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8" dur="2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2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2" presetSubtype="2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22" dur="2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2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6" dur="2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2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2" presetSubtype="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0" dur="2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2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2" presetSubtype="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4" dur="2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2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2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2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2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2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2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2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2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2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2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2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2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2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2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2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2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2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8" repeatCount="100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2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2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2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2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2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2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mph" presetID="8" repeatCount="indefinite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1090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1" nodeType="withEffect" fill="hold" presetClass="emph" presetID="8" repeatCount="indefinite">
                                  <p:stCondLst>
                                    <p:cond delay="2000"/>
                                  </p:stCondLst>
                                  <p:childTnLst>
                                    <p:animRot by="-21600000">
                                      <p:cBhvr>
                                        <p:cTn id="1092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白背景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5040" cy="5048280"/>
          </a:xfrm>
          <a:prstGeom prst="rect">
            <a:avLst/>
          </a:prstGeom>
          <a:ln w="0">
            <a:noFill/>
          </a:ln>
        </p:spPr>
      </p:pic>
      <p:sp>
        <p:nvSpPr>
          <p:cNvPr id="424" name="分割线1"/>
          <p:cNvSpPr/>
          <p:nvPr/>
        </p:nvSpPr>
        <p:spPr>
          <a:xfrm>
            <a:off x="900000" y="3068640"/>
            <a:ext cx="7201080" cy="0"/>
          </a:xfrm>
          <a:prstGeom prst="line">
            <a:avLst/>
          </a:prstGeom>
          <a:ln w="3240">
            <a:solidFill>
              <a:srgbClr val="603f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2"/>
          <a:stretch/>
        </p:blipFill>
        <p:spPr>
          <a:xfrm>
            <a:off x="324000" y="841320"/>
            <a:ext cx="2184120" cy="908280"/>
          </a:xfrm>
          <a:prstGeom prst="rect">
            <a:avLst/>
          </a:prstGeom>
          <a:ln w="0">
            <a:noFill/>
          </a:ln>
        </p:spPr>
      </p:pic>
      <p:pic>
        <p:nvPicPr>
          <p:cNvPr id="426" name="_Picture 4" descr=""/>
          <p:cNvPicPr/>
          <p:nvPr/>
        </p:nvPicPr>
        <p:blipFill>
          <a:blip r:embed="rId3"/>
          <a:stretch/>
        </p:blipFill>
        <p:spPr>
          <a:xfrm>
            <a:off x="325440" y="841320"/>
            <a:ext cx="2181240" cy="905040"/>
          </a:xfrm>
          <a:prstGeom prst="rect">
            <a:avLst/>
          </a:prstGeom>
          <a:ln w="0">
            <a:noFill/>
          </a:ln>
        </p:spPr>
      </p:pic>
      <p:sp>
        <p:nvSpPr>
          <p:cNvPr id="427" name="矩形 9"/>
          <p:cNvSpPr/>
          <p:nvPr/>
        </p:nvSpPr>
        <p:spPr>
          <a:xfrm>
            <a:off x="695160" y="484200"/>
            <a:ext cx="30240" cy="360360"/>
          </a:xfrm>
          <a:prstGeom prst="rect">
            <a:avLst/>
          </a:prstGeom>
          <a:solidFill>
            <a:srgbClr val="5a3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2108160" y="484200"/>
            <a:ext cx="28440" cy="360360"/>
          </a:xfrm>
          <a:prstGeom prst="rect">
            <a:avLst/>
          </a:prstGeom>
          <a:solidFill>
            <a:srgbClr val="5a3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矩形 10"/>
          <p:cNvSpPr/>
          <p:nvPr/>
        </p:nvSpPr>
        <p:spPr>
          <a:xfrm>
            <a:off x="2671200" y="111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03f05"/>
                </a:solidFill>
                <a:latin typeface="时尚中黑简体"/>
                <a:ea typeface="时尚中黑简体"/>
              </a:rPr>
              <a:t>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矩形 3"/>
          <p:cNvSpPr/>
          <p:nvPr/>
        </p:nvSpPr>
        <p:spPr>
          <a:xfrm>
            <a:off x="1332000" y="227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矩形 4"/>
          <p:cNvSpPr/>
          <p:nvPr/>
        </p:nvSpPr>
        <p:spPr>
          <a:xfrm>
            <a:off x="3516480" y="2349360"/>
            <a:ext cx="184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探究圆的周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矩形 11"/>
          <p:cNvSpPr/>
          <p:nvPr/>
        </p:nvSpPr>
        <p:spPr>
          <a:xfrm>
            <a:off x="6012000" y="2349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圆的面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4"/>
          <a:stretch/>
        </p:blipFill>
        <p:spPr>
          <a:xfrm>
            <a:off x="928800" y="3860640"/>
            <a:ext cx="2347920" cy="1365480"/>
          </a:xfrm>
          <a:prstGeom prst="rect">
            <a:avLst/>
          </a:prstGeom>
          <a:ln w="0">
            <a:noFill/>
          </a:ln>
        </p:spPr>
      </p:pic>
      <p:sp>
        <p:nvSpPr>
          <p:cNvPr id="434" name="椭圆 12"/>
          <p:cNvSpPr/>
          <p:nvPr/>
        </p:nvSpPr>
        <p:spPr>
          <a:xfrm>
            <a:off x="3773520" y="3716280"/>
            <a:ext cx="1224000" cy="1225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5"/>
          <a:stretch/>
        </p:blipFill>
        <p:spPr>
          <a:xfrm>
            <a:off x="6227640" y="3573360"/>
            <a:ext cx="1390680" cy="1390680"/>
          </a:xfrm>
          <a:prstGeom prst="rect">
            <a:avLst/>
          </a:prstGeom>
          <a:ln w="0">
            <a:noFill/>
          </a:ln>
        </p:spPr>
      </p:pic>
      <p:sp>
        <p:nvSpPr>
          <p:cNvPr id="436" name="椭圆 20"/>
          <p:cNvSpPr/>
          <p:nvPr/>
        </p:nvSpPr>
        <p:spPr>
          <a:xfrm>
            <a:off x="3773520" y="3716280"/>
            <a:ext cx="1230120" cy="1231920"/>
          </a:xfrm>
          <a:prstGeom prst="ellipse">
            <a:avLst/>
          </a:prstGeom>
          <a:noFill/>
          <a:ln w="507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14"/>
          <p:cNvSpPr/>
          <p:nvPr/>
        </p:nvSpPr>
        <p:spPr>
          <a:xfrm>
            <a:off x="3144600" y="1122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03f05"/>
                </a:solidFill>
                <a:latin typeface="时尚中黑简体"/>
                <a:ea typeface="时尚中黑简体"/>
              </a:rPr>
              <a:t>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分割线1" descr=""/>
          <p:cNvPicPr/>
          <p:nvPr/>
        </p:nvPicPr>
        <p:blipFill>
          <a:blip r:embed="rId6"/>
          <a:stretch/>
        </p:blipFill>
        <p:spPr>
          <a:xfrm>
            <a:off x="903240" y="3068640"/>
            <a:ext cx="3389400" cy="12600"/>
          </a:xfrm>
          <a:prstGeom prst="rect">
            <a:avLst/>
          </a:prstGeom>
          <a:ln w="0">
            <a:noFill/>
          </a:ln>
        </p:spPr>
      </p:pic>
      <p:pic>
        <p:nvPicPr>
          <p:cNvPr id="439" name="分割线2" descr=""/>
          <p:cNvPicPr/>
          <p:nvPr/>
        </p:nvPicPr>
        <p:blipFill>
          <a:blip r:embed="rId7"/>
          <a:stretch/>
        </p:blipFill>
        <p:spPr>
          <a:xfrm>
            <a:off x="4927680" y="3068640"/>
            <a:ext cx="3389400" cy="12600"/>
          </a:xfrm>
          <a:prstGeom prst="rect">
            <a:avLst/>
          </a:prstGeom>
          <a:ln w="0">
            <a:noFill/>
          </a:ln>
        </p:spPr>
      </p:pic>
      <p:sp>
        <p:nvSpPr>
          <p:cNvPr id="440" name="矩形 15"/>
          <p:cNvSpPr/>
          <p:nvPr/>
        </p:nvSpPr>
        <p:spPr>
          <a:xfrm>
            <a:off x="755640" y="213372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家动手做，把圆柱拆开分解，认识圆柱的表面积和侧面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矩形 16"/>
          <p:cNvSpPr/>
          <p:nvPr/>
        </p:nvSpPr>
        <p:spPr>
          <a:xfrm>
            <a:off x="4643280" y="2133720"/>
            <a:ext cx="36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圆锥，通过旋转，找出圆锥体积是圆柱体积的三分之一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Picture 7" descr=""/>
          <p:cNvPicPr/>
          <p:nvPr/>
        </p:nvPicPr>
        <p:blipFill>
          <a:blip r:embed="rId8"/>
          <a:stretch/>
        </p:blipFill>
        <p:spPr>
          <a:xfrm>
            <a:off x="5435640" y="3357720"/>
            <a:ext cx="2432160" cy="22492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" descr=""/>
          <p:cNvPicPr/>
          <p:nvPr/>
        </p:nvPicPr>
        <p:blipFill>
          <a:blip r:embed="rId9"/>
          <a:stretch/>
        </p:blipFill>
        <p:spPr>
          <a:xfrm>
            <a:off x="1116000" y="3429000"/>
            <a:ext cx="2909880" cy="2098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8" dur="2000" fill="hold"/>
                                        <p:tgtEl>
                                          <p:spTgt spid="4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1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5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5 0 E">
                                      <p:cBhvr>
                                        <p:cTn id="1113" dur="1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5 0 E">
                                      <p:cBhvr>
                                        <p:cTn id="1115" dur="1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6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-3.7037E-006 L -0.04739 -3.7037E-006 E">
                                      <p:cBhvr>
                                        <p:cTn id="1117" dur="5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8" nodeType="withEffect" fill="hold" presetClass="exit" presetID="2" presetSubtype="2" repeatCount="1000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9" dur="2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2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path" presetID="5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77778E-006 7.40741E-007 L 0.02448 0.04444 C 0.03802 0.06065 0.06233 0.0625 0.10782 0.0625 L 0.26528 0.07477 E">
                                      <p:cBhvr>
                                        <p:cTn id="1123" dur="5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53" presetSubtype="3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5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path" presetID="5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94444E-006 -3.7037E-006 L 0.02916 -0.12754 C 0.04583 -0.14583 0.06111 -0.15764 0.11111 -0.1618 L 0.27326 -0.17592 E">
                                      <p:cBhvr>
                                        <p:cTn id="1130" dur="5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53" presetSubtype="3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2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5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1.11111E-006 -2.96296E-006 L 0.02917 -0.12754 C 0.04583 -0.14583 0.06111 -0.16088 0.11111 -0.16504 L 0.53837 -0.18518 E">
                                      <p:cBhvr>
                                        <p:cTn id="1137" dur="5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8" nodeType="withEffect" fill="hold" presetClass="path" presetID="5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1.11111E-006 -2.96296E-006 L 0.02917 -0.12754 C 0.04583 -0.14583 0.06111 -0.16088 0.11111 -0.16504 L 0.53837 -0.18518 E">
                                      <p:cBhvr>
                                        <p:cTn id="1139" dur="5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5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1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5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6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path" presetID="5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7 7.40741E-007 L 0.02448 0.04444 C 0.03802 0.06065 0.06285 0.0625 0.10833 0.0625 L 0.54618 0.07662 E">
                                      <p:cBhvr>
                                        <p:cTn id="1151" dur="5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2" nodeType="withEffect" fill="hold" presetClass="exit" presetID="53" presetSubtype="3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5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5E-006 -1.11111E-006 L 0.02448 0.04445 C 0.03802 0.06065 0.05139 0.06111 0.10746 0.06505 L 0.82257 0.08333 E">
                                      <p:cBhvr>
                                        <p:cTn id="1158" dur="5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53" presetSubtype="3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0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path" presetID="5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11111E-006 1.11022E-016 L 0.03681 -0.13125 C 0.05347 -0.14954 0.06406 -0.17963 0.11406 -0.1838 L 0.79583 -0.22014 E">
                                      <p:cBhvr>
                                        <p:cTn id="1165" dur="5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53" presetSubtype="3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7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2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2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2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2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5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path" presetID="5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33333E-006 5.55112E-017 L -0.02274 0.04398 C -0.03576 0.06366 -0.04357 0.06505 -0.06701 0.06806 L -0.3243 0.08565 E">
                                      <p:cBhvr>
                                        <p:cTn id="1188" dur="5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path" presetID="5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61111E-006 -4.33526E-006 L -0.03368 -0.11028 C -0.06355 -0.14289 -0.11094 -0.14751 -0.14254 -0.16855 L -0.32327 -0.20601 E">
                                      <p:cBhvr>
                                        <p:cTn id="1195" dur="5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5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path" presetID="5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5.55556E-007 -9.24855E-007 L -0.02274 0.04393 C -0.03576 0.06358 -0.04375 0.06497 -0.06701 0.06798 L -0.75434 0.08416 E">
                                      <p:cBhvr>
                                        <p:cTn id="1202" dur="5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5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path" presetID="5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5.55556E-007 3.23699E-006 L -0.10469 -0.1318 C -0.15191 -0.14567 -0.29323 -0.17203 -0.31684 -0.16902 L -0.76771 -0.20648 E">
                                      <p:cBhvr>
                                        <p:cTn id="1209" dur="5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矩形 1"/>
          <p:cNvSpPr/>
          <p:nvPr/>
        </p:nvSpPr>
        <p:spPr>
          <a:xfrm>
            <a:off x="3871800" y="836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编排顺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矩形 2"/>
          <p:cNvSpPr/>
          <p:nvPr/>
        </p:nvSpPr>
        <p:spPr>
          <a:xfrm>
            <a:off x="742320" y="1700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03f05"/>
                </a:solidFill>
                <a:latin typeface="时尚中黑简体"/>
                <a:ea typeface="时尚中黑简体"/>
              </a:rPr>
              <a:t>图形的认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6" name="组合 20"/>
          <p:cNvGrpSpPr/>
          <p:nvPr/>
        </p:nvGrpSpPr>
        <p:grpSpPr>
          <a:xfrm>
            <a:off x="2843280" y="2133720"/>
            <a:ext cx="2449440" cy="431640"/>
            <a:chOff x="2843280" y="2133720"/>
            <a:chExt cx="2449440" cy="431640"/>
          </a:xfrm>
        </p:grpSpPr>
        <p:sp>
          <p:nvSpPr>
            <p:cNvPr id="447" name="圆角矩形 11"/>
            <p:cNvSpPr/>
            <p:nvPr/>
          </p:nvSpPr>
          <p:spPr>
            <a:xfrm>
              <a:off x="2843280" y="2133720"/>
              <a:ext cx="2449440" cy="43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936b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矩形 4"/>
            <p:cNvSpPr/>
            <p:nvPr/>
          </p:nvSpPr>
          <p:spPr>
            <a:xfrm>
              <a:off x="2939760" y="2165400"/>
              <a:ext cx="223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平面图形立体图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9" name="组合 21"/>
          <p:cNvGrpSpPr/>
          <p:nvPr/>
        </p:nvGrpSpPr>
        <p:grpSpPr>
          <a:xfrm>
            <a:off x="2843280" y="2644920"/>
            <a:ext cx="2160360" cy="431640"/>
            <a:chOff x="2843280" y="2644920"/>
            <a:chExt cx="2160360" cy="431640"/>
          </a:xfrm>
        </p:grpSpPr>
        <p:sp>
          <p:nvSpPr>
            <p:cNvPr id="450" name="圆角矩形 12"/>
            <p:cNvSpPr/>
            <p:nvPr/>
          </p:nvSpPr>
          <p:spPr>
            <a:xfrm>
              <a:off x="2843280" y="2644920"/>
              <a:ext cx="2160360" cy="43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936b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矩形 5"/>
            <p:cNvSpPr/>
            <p:nvPr/>
          </p:nvSpPr>
          <p:spPr>
            <a:xfrm>
              <a:off x="2939400" y="2668680"/>
              <a:ext cx="19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图形归纳分类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2" name="组合 22"/>
          <p:cNvGrpSpPr/>
          <p:nvPr/>
        </p:nvGrpSpPr>
        <p:grpSpPr>
          <a:xfrm>
            <a:off x="2843280" y="3141720"/>
            <a:ext cx="5032440" cy="431640"/>
            <a:chOff x="2843280" y="3141720"/>
            <a:chExt cx="5032440" cy="431640"/>
          </a:xfrm>
        </p:grpSpPr>
        <p:sp>
          <p:nvSpPr>
            <p:cNvPr id="453" name="圆角矩形 13"/>
            <p:cNvSpPr/>
            <p:nvPr/>
          </p:nvSpPr>
          <p:spPr>
            <a:xfrm>
              <a:off x="2843280" y="3141720"/>
              <a:ext cx="4896720" cy="43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936b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矩形 6"/>
            <p:cNvSpPr/>
            <p:nvPr/>
          </p:nvSpPr>
          <p:spPr>
            <a:xfrm>
              <a:off x="2859480" y="3173400"/>
              <a:ext cx="501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同角度认识图形（正面  侧面 后面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5" name="组合 23"/>
          <p:cNvGrpSpPr/>
          <p:nvPr/>
        </p:nvGrpSpPr>
        <p:grpSpPr>
          <a:xfrm>
            <a:off x="2843280" y="3645000"/>
            <a:ext cx="3213000" cy="431640"/>
            <a:chOff x="2843280" y="3645000"/>
            <a:chExt cx="3213000" cy="431640"/>
          </a:xfrm>
        </p:grpSpPr>
        <p:sp>
          <p:nvSpPr>
            <p:cNvPr id="456" name="圆角矩形 14"/>
            <p:cNvSpPr/>
            <p:nvPr/>
          </p:nvSpPr>
          <p:spPr>
            <a:xfrm>
              <a:off x="2843280" y="3645000"/>
              <a:ext cx="3168360" cy="43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936b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矩形 7"/>
            <p:cNvSpPr/>
            <p:nvPr/>
          </p:nvSpPr>
          <p:spPr>
            <a:xfrm>
              <a:off x="2939400" y="3676680"/>
              <a:ext cx="311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形的变换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平移旋转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8" name="组合 24"/>
          <p:cNvGrpSpPr/>
          <p:nvPr/>
        </p:nvGrpSpPr>
        <p:grpSpPr>
          <a:xfrm>
            <a:off x="3132000" y="4149720"/>
            <a:ext cx="4608720" cy="655200"/>
            <a:chOff x="3132000" y="4149720"/>
            <a:chExt cx="4608720" cy="655200"/>
          </a:xfrm>
        </p:grpSpPr>
        <p:sp>
          <p:nvSpPr>
            <p:cNvPr id="459" name="圆角矩形 15"/>
            <p:cNvSpPr/>
            <p:nvPr/>
          </p:nvSpPr>
          <p:spPr>
            <a:xfrm>
              <a:off x="3132000" y="4149720"/>
              <a:ext cx="4608720" cy="65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936b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矩形 8"/>
            <p:cNvSpPr/>
            <p:nvPr/>
          </p:nvSpPr>
          <p:spPr>
            <a:xfrm>
              <a:off x="3168360" y="4161600"/>
              <a:ext cx="457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侧重认识学习平行四边形，长方形，正方形 梯形  三角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组合 25"/>
          <p:cNvGrpSpPr/>
          <p:nvPr/>
        </p:nvGrpSpPr>
        <p:grpSpPr>
          <a:xfrm>
            <a:off x="3348000" y="4869000"/>
            <a:ext cx="4419720" cy="398880"/>
            <a:chOff x="3348000" y="4869000"/>
            <a:chExt cx="4419720" cy="398880"/>
          </a:xfrm>
        </p:grpSpPr>
        <p:sp>
          <p:nvSpPr>
            <p:cNvPr id="462" name="圆角矩形 16"/>
            <p:cNvSpPr/>
            <p:nvPr/>
          </p:nvSpPr>
          <p:spPr>
            <a:xfrm>
              <a:off x="3348000" y="4869000"/>
              <a:ext cx="4392720" cy="36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936b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矩形 9"/>
            <p:cNvSpPr/>
            <p:nvPr/>
          </p:nvSpPr>
          <p:spPr>
            <a:xfrm>
              <a:off x="3660120" y="4869000"/>
              <a:ext cx="410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位置与方向 能分辨事物在东南西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6"/>
          <p:cNvGrpSpPr/>
          <p:nvPr/>
        </p:nvGrpSpPr>
        <p:grpSpPr>
          <a:xfrm>
            <a:off x="4211640" y="5373720"/>
            <a:ext cx="3592440" cy="406800"/>
            <a:chOff x="4211640" y="5373720"/>
            <a:chExt cx="3592440" cy="406800"/>
          </a:xfrm>
        </p:grpSpPr>
        <p:sp>
          <p:nvSpPr>
            <p:cNvPr id="465" name="圆角矩形 17"/>
            <p:cNvSpPr/>
            <p:nvPr/>
          </p:nvSpPr>
          <p:spPr>
            <a:xfrm>
              <a:off x="4211640" y="5373720"/>
              <a:ext cx="3529440" cy="392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936b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矩形 10"/>
            <p:cNvSpPr/>
            <p:nvPr/>
          </p:nvSpPr>
          <p:spPr>
            <a:xfrm>
              <a:off x="4496040" y="5381640"/>
              <a:ext cx="330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图形的周长  面积  体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7" name="矩形 19"/>
          <p:cNvSpPr/>
          <p:nvPr/>
        </p:nvSpPr>
        <p:spPr>
          <a:xfrm>
            <a:off x="492120" y="1700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03f05"/>
                </a:solidFill>
                <a:latin typeface="时尚中黑简体"/>
                <a:ea typeface="时尚中黑简体"/>
              </a:rPr>
              <a:t>整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 rot="20200200">
            <a:off x="1111320" y="3160440"/>
            <a:ext cx="2852640" cy="27493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"/>
          <p:cNvPicPr/>
          <p:nvPr/>
        </p:nvPicPr>
        <p:blipFill>
          <a:blip r:embed="rId2"/>
          <a:stretch/>
        </p:blipFill>
        <p:spPr>
          <a:xfrm rot="20770200">
            <a:off x="2492280" y="2787120"/>
            <a:ext cx="2809800" cy="28227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"/>
          <p:cNvPicPr/>
          <p:nvPr/>
        </p:nvPicPr>
        <p:blipFill>
          <a:blip r:embed="rId3"/>
          <a:stretch/>
        </p:blipFill>
        <p:spPr>
          <a:xfrm rot="21198600">
            <a:off x="4006800" y="2574720"/>
            <a:ext cx="2816280" cy="2822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0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2" presetSubtype="2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" presetSubtype="8" repeatCount="1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2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2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2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2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2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" presetSubtype="8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2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2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" presetSubtype="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2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2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" presetSubtype="8" repeatCount="100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2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2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" presetSubtype="2" repeatCount="100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2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2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xit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9" dur="2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2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2" presetSubtype="2" repeatCount="1000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3" dur="2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2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2" presetSubtype="8" repeatCount="100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7" dur="2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2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2" presetSubtype="2" repeatCount="100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1" dur="2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2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2" presetSubtype="8" repeatCount="1000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5" dur="2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2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xit" presetID="2" presetSubtype="2" repeatCount="100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9" dur="2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2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2" presetSubtype="8" repeatCount="1000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3" dur="2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2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2" presetSubtype="2" repeatCount="1000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7" dur="2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2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2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2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5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path" presetID="37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5.55556E-007 4.66482E-006 C -0.0191 0.00855 -0.08264 0.02889 -0.11424 0.05154 C -0.14583 0.0742 -0.1724 0.10494 -0.18976 0.13569 C -0.20712 0.16643 -0.21233 0.21521 -0.21823 0.23624 E">
                                      <p:cBhvr>
                                        <p:cTn id="1290" dur="5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5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path" presetID="37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4.72222E-006 6.74988E-007 C -0.0191 0.00855 -0.06424 0.02358 -0.09566 0.04623 C -0.12726 0.06889 -0.17414 0.1209 -0.18976 0.13569 E">
                                      <p:cBhvr>
                                        <p:cTn id="1297" dur="5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5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path" presetID="37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2.5E-006 -3.82802E-006 C -0.0191 0.00856 -0.08403 0.0363 -0.11424 0.05155 C -0.14445 0.06681 -0.19636 0.10241 -0.21268 0.11258 E">
                                      <p:cBhvr>
                                        <p:cTn id="1304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5203800" y="4076640"/>
            <a:ext cx="2536920" cy="13176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"/>
          <p:cNvPicPr/>
          <p:nvPr/>
        </p:nvPicPr>
        <p:blipFill>
          <a:blip r:embed="rId2"/>
          <a:stretch/>
        </p:blipFill>
        <p:spPr>
          <a:xfrm>
            <a:off x="4122720" y="3141720"/>
            <a:ext cx="2719440" cy="1322280"/>
          </a:xfrm>
          <a:prstGeom prst="rect">
            <a:avLst/>
          </a:prstGeom>
          <a:ln w="0">
            <a:noFill/>
          </a:ln>
        </p:spPr>
      </p:pic>
      <p:sp>
        <p:nvSpPr>
          <p:cNvPr id="473" name="TextBox 1"/>
          <p:cNvSpPr/>
          <p:nvPr/>
        </p:nvSpPr>
        <p:spPr>
          <a:xfrm>
            <a:off x="3871800" y="836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整体特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3"/>
          <a:stretch/>
        </p:blipFill>
        <p:spPr>
          <a:xfrm rot="166200">
            <a:off x="2857320" y="1985760"/>
            <a:ext cx="2920680" cy="13176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" descr=""/>
          <p:cNvPicPr/>
          <p:nvPr/>
        </p:nvPicPr>
        <p:blipFill>
          <a:blip r:embed="rId4"/>
          <a:stretch/>
        </p:blipFill>
        <p:spPr>
          <a:xfrm rot="20649600">
            <a:off x="1658880" y="3277800"/>
            <a:ext cx="2768760" cy="1317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5"/>
          <a:stretch/>
        </p:blipFill>
        <p:spPr>
          <a:xfrm>
            <a:off x="2755800" y="4292640"/>
            <a:ext cx="2554560" cy="1317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0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2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2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" presetSubtype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2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2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" presetSubtype="1" repeatCount="1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2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2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" presetSubtype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2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2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" presetSubtype="1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2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2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流程图: 联系 4"/>
          <p:cNvSpPr/>
          <p:nvPr/>
        </p:nvSpPr>
        <p:spPr>
          <a:xfrm>
            <a:off x="4427640" y="295200"/>
            <a:ext cx="215640" cy="216000"/>
          </a:xfrm>
          <a:prstGeom prst="flowChartConnector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组合 7" descr=""/>
          <p:cNvPicPr/>
          <p:nvPr/>
        </p:nvPicPr>
        <p:blipFill>
          <a:blip r:embed="rId1"/>
          <a:stretch/>
        </p:blipFill>
        <p:spPr>
          <a:xfrm>
            <a:off x="1268280" y="-3627360"/>
            <a:ext cx="6473880" cy="8143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0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3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3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3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autoRev="1" nodeType="withEffect" fill="hold" presetClass="emph" presetID="8" repeatCount="indefinite">
                                  <p:stCondLst>
                                    <p:cond delay="300"/>
                                  </p:stCondLst>
                                  <p:childTnLst>
                                    <p:animRot by="-3600000">
                                      <p:cBhvr>
                                        <p:cTn id="1339" dur="8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[动画大师]_矩形 3"/>
          <p:cNvSpPr/>
          <p:nvPr/>
        </p:nvSpPr>
        <p:spPr>
          <a:xfrm>
            <a:off x="0" y="279360"/>
            <a:ext cx="9150480" cy="4662360"/>
          </a:xfrm>
          <a:custGeom>
            <a:avLst/>
            <a:gdLst/>
            <a:ahLst/>
            <a:rect l="l" t="t" r="r" b="b"/>
            <a:pathLst>
              <a:path w="9149610" h="4662534">
                <a:moveTo>
                  <a:pt x="0" y="4429172"/>
                </a:moveTo>
                <a:lnTo>
                  <a:pt x="9149610" y="0"/>
                </a:lnTo>
                <a:lnTo>
                  <a:pt x="9147783" y="234800"/>
                </a:lnTo>
                <a:lnTo>
                  <a:pt x="0" y="4662534"/>
                </a:lnTo>
                <a:lnTo>
                  <a:pt x="0" y="4429172"/>
                </a:lnTo>
                <a:close/>
              </a:path>
            </a:pathLst>
          </a:custGeom>
          <a:solidFill>
            <a:srgbClr val="5f3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4"/>
          <p:cNvSpPr/>
          <p:nvPr/>
        </p:nvSpPr>
        <p:spPr>
          <a:xfrm>
            <a:off x="4680" y="6426360"/>
            <a:ext cx="9150480" cy="431640"/>
          </a:xfrm>
          <a:custGeom>
            <a:avLst/>
            <a:gdLst/>
            <a:ahLst/>
            <a:rect l="l" t="t" r="r" b="b"/>
            <a:pathLst>
              <a:path w="9151210" h="431071">
                <a:moveTo>
                  <a:pt x="0" y="197709"/>
                </a:moveTo>
                <a:lnTo>
                  <a:pt x="9151210" y="0"/>
                </a:lnTo>
                <a:cubicBezTo>
                  <a:pt x="9150077" y="80190"/>
                  <a:pt x="9148943" y="160381"/>
                  <a:pt x="9147810" y="240571"/>
                </a:cubicBezTo>
                <a:lnTo>
                  <a:pt x="0" y="431071"/>
                </a:lnTo>
                <a:lnTo>
                  <a:pt x="0" y="197709"/>
                </a:lnTo>
                <a:close/>
              </a:path>
            </a:pathLst>
          </a:custGeom>
          <a:solidFill>
            <a:srgbClr val="5f3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2" descr="C:\Documents and Settings\Administrator\桌面\34.jpg"/>
          <p:cNvPicPr/>
          <p:nvPr/>
        </p:nvPicPr>
        <p:blipFill>
          <a:blip r:embed="rId1"/>
          <a:srcRect l="3905" t="0" r="0" b="0"/>
          <a:stretch/>
        </p:blipFill>
        <p:spPr>
          <a:xfrm>
            <a:off x="9150480" y="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Users\Spine\Desktop\01.png"/>
          <p:cNvPicPr/>
          <p:nvPr/>
        </p:nvPicPr>
        <p:blipFill>
          <a:blip r:embed="rId2"/>
          <a:srcRect l="12587" t="0" r="12380" b="0"/>
          <a:stretch/>
        </p:blipFill>
        <p:spPr>
          <a:xfrm>
            <a:off x="0" y="0"/>
            <a:ext cx="9180360" cy="6878520"/>
          </a:xfrm>
          <a:prstGeom prst="rect">
            <a:avLst/>
          </a:prstGeom>
          <a:ln w="0">
            <a:noFill/>
          </a:ln>
        </p:spPr>
      </p:pic>
      <p:sp>
        <p:nvSpPr>
          <p:cNvPr id="228" name="[动画大师]_矩形 3"/>
          <p:cNvSpPr/>
          <p:nvPr/>
        </p:nvSpPr>
        <p:spPr>
          <a:xfrm>
            <a:off x="9164520" y="289080"/>
            <a:ext cx="9150480" cy="4662360"/>
          </a:xfrm>
          <a:custGeom>
            <a:avLst/>
            <a:gdLst/>
            <a:ahLst/>
            <a:rect l="l" t="t" r="r" b="b"/>
            <a:pathLst>
              <a:path w="9149610" h="4662534">
                <a:moveTo>
                  <a:pt x="0" y="4429172"/>
                </a:moveTo>
                <a:lnTo>
                  <a:pt x="9149610" y="0"/>
                </a:lnTo>
                <a:lnTo>
                  <a:pt x="9147783" y="234800"/>
                </a:lnTo>
                <a:lnTo>
                  <a:pt x="0" y="4662534"/>
                </a:lnTo>
                <a:lnTo>
                  <a:pt x="0" y="4429172"/>
                </a:lnTo>
                <a:close/>
              </a:path>
            </a:pathLst>
          </a:custGeom>
          <a:solidFill>
            <a:srgbClr val="5f3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4"/>
          <p:cNvSpPr/>
          <p:nvPr/>
        </p:nvSpPr>
        <p:spPr>
          <a:xfrm>
            <a:off x="9142560" y="6445080"/>
            <a:ext cx="9151920" cy="430560"/>
          </a:xfrm>
          <a:custGeom>
            <a:avLst/>
            <a:gdLst/>
            <a:ahLst/>
            <a:rect l="l" t="t" r="r" b="b"/>
            <a:pathLst>
              <a:path w="9151210" h="431071">
                <a:moveTo>
                  <a:pt x="0" y="197709"/>
                </a:moveTo>
                <a:lnTo>
                  <a:pt x="9151210" y="0"/>
                </a:lnTo>
                <a:cubicBezTo>
                  <a:pt x="9150077" y="80190"/>
                  <a:pt x="9148943" y="160381"/>
                  <a:pt x="9147810" y="240571"/>
                </a:cubicBezTo>
                <a:lnTo>
                  <a:pt x="0" y="431071"/>
                </a:lnTo>
                <a:lnTo>
                  <a:pt x="0" y="197709"/>
                </a:lnTo>
                <a:close/>
              </a:path>
            </a:pathLst>
          </a:custGeom>
          <a:solidFill>
            <a:srgbClr val="5f3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 0 E">
                                      <p:cBhvr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 0 E">
                                      <p:cBhvr>
                                        <p:cTn id="255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 0 E">
                                      <p:cBhvr>
                                        <p:cTn id="257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 0 E">
                                      <p:cBhvr>
                                        <p:cTn id="266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 0 E">
                                      <p:cBhvr>
                                        <p:cTn id="268" dur="5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 0 E">
                                      <p:cBhvr>
                                        <p:cTn id="270" dur="5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3" descr=""/>
          <p:cNvPicPr/>
          <p:nvPr/>
        </p:nvPicPr>
        <p:blipFill>
          <a:blip r:embed="rId1"/>
          <a:stretch/>
        </p:blipFill>
        <p:spPr>
          <a:xfrm>
            <a:off x="5738760" y="2997360"/>
            <a:ext cx="1712880" cy="1054080"/>
          </a:xfrm>
          <a:prstGeom prst="rect">
            <a:avLst/>
          </a:prstGeom>
          <a:ln w="0">
            <a:noFill/>
          </a:ln>
        </p:spPr>
      </p:pic>
      <p:pic>
        <p:nvPicPr>
          <p:cNvPr id="231" name="7" descr=""/>
          <p:cNvPicPr/>
          <p:nvPr/>
        </p:nvPicPr>
        <p:blipFill>
          <a:blip r:embed="rId2"/>
          <a:stretch/>
        </p:blipFill>
        <p:spPr>
          <a:xfrm>
            <a:off x="5580000" y="2284560"/>
            <a:ext cx="1719360" cy="1000080"/>
          </a:xfrm>
          <a:prstGeom prst="rect">
            <a:avLst/>
          </a:prstGeom>
          <a:ln w="0">
            <a:noFill/>
          </a:ln>
        </p:spPr>
      </p:pic>
      <p:pic>
        <p:nvPicPr>
          <p:cNvPr id="232" name="9" descr=""/>
          <p:cNvPicPr/>
          <p:nvPr/>
        </p:nvPicPr>
        <p:blipFill>
          <a:blip r:embed="rId3"/>
          <a:stretch/>
        </p:blipFill>
        <p:spPr>
          <a:xfrm>
            <a:off x="2714760" y="1989000"/>
            <a:ext cx="1743120" cy="1212840"/>
          </a:xfrm>
          <a:prstGeom prst="rect">
            <a:avLst/>
          </a:prstGeom>
          <a:ln w="0">
            <a:noFill/>
          </a:ln>
        </p:spPr>
      </p:pic>
      <p:pic>
        <p:nvPicPr>
          <p:cNvPr id="233" name="1" descr=""/>
          <p:cNvPicPr/>
          <p:nvPr/>
        </p:nvPicPr>
        <p:blipFill>
          <a:blip r:embed="rId4"/>
          <a:stretch/>
        </p:blipFill>
        <p:spPr>
          <a:xfrm>
            <a:off x="3219480" y="2421000"/>
            <a:ext cx="2620800" cy="1847880"/>
          </a:xfrm>
          <a:prstGeom prst="rect">
            <a:avLst/>
          </a:prstGeom>
          <a:ln w="0">
            <a:noFill/>
          </a:ln>
        </p:spPr>
      </p:pic>
      <p:pic>
        <p:nvPicPr>
          <p:cNvPr id="234" name="4" descr=""/>
          <p:cNvPicPr/>
          <p:nvPr/>
        </p:nvPicPr>
        <p:blipFill>
          <a:blip r:embed="rId5"/>
          <a:stretch/>
        </p:blipFill>
        <p:spPr>
          <a:xfrm>
            <a:off x="5954760" y="3789360"/>
            <a:ext cx="1158840" cy="811080"/>
          </a:xfrm>
          <a:prstGeom prst="rect">
            <a:avLst/>
          </a:prstGeom>
          <a:ln w="0">
            <a:noFill/>
          </a:ln>
        </p:spPr>
      </p:pic>
      <p:pic>
        <p:nvPicPr>
          <p:cNvPr id="235" name="5" descr=""/>
          <p:cNvPicPr/>
          <p:nvPr/>
        </p:nvPicPr>
        <p:blipFill>
          <a:blip r:embed="rId6"/>
          <a:stretch/>
        </p:blipFill>
        <p:spPr>
          <a:xfrm>
            <a:off x="3579840" y="4149720"/>
            <a:ext cx="1542960" cy="969840"/>
          </a:xfrm>
          <a:prstGeom prst="rect">
            <a:avLst/>
          </a:prstGeom>
          <a:ln w="0">
            <a:noFill/>
          </a:ln>
        </p:spPr>
      </p:pic>
      <p:pic>
        <p:nvPicPr>
          <p:cNvPr id="236" name="2" descr=""/>
          <p:cNvPicPr/>
          <p:nvPr/>
        </p:nvPicPr>
        <p:blipFill>
          <a:blip r:embed="rId7"/>
          <a:stretch/>
        </p:blipFill>
        <p:spPr>
          <a:xfrm>
            <a:off x="3146400" y="3500280"/>
            <a:ext cx="1279440" cy="1024200"/>
          </a:xfrm>
          <a:prstGeom prst="rect">
            <a:avLst/>
          </a:prstGeom>
          <a:ln w="0">
            <a:noFill/>
          </a:ln>
        </p:spPr>
      </p:pic>
      <p:pic>
        <p:nvPicPr>
          <p:cNvPr id="237" name="10" descr=""/>
          <p:cNvPicPr/>
          <p:nvPr/>
        </p:nvPicPr>
        <p:blipFill>
          <a:blip r:embed="rId8"/>
          <a:stretch/>
        </p:blipFill>
        <p:spPr>
          <a:xfrm>
            <a:off x="4140360" y="3573360"/>
            <a:ext cx="1212840" cy="897120"/>
          </a:xfrm>
          <a:prstGeom prst="rect">
            <a:avLst/>
          </a:prstGeom>
          <a:ln w="0">
            <a:noFill/>
          </a:ln>
        </p:spPr>
      </p:pic>
      <p:pic>
        <p:nvPicPr>
          <p:cNvPr id="238" name="8" descr=""/>
          <p:cNvPicPr/>
          <p:nvPr/>
        </p:nvPicPr>
        <p:blipFill>
          <a:blip r:embed="rId9"/>
          <a:stretch/>
        </p:blipFill>
        <p:spPr>
          <a:xfrm>
            <a:off x="4716360" y="3789360"/>
            <a:ext cx="1463760" cy="957240"/>
          </a:xfrm>
          <a:prstGeom prst="rect">
            <a:avLst/>
          </a:prstGeom>
          <a:ln w="0">
            <a:noFill/>
          </a:ln>
        </p:spPr>
      </p:pic>
      <p:pic>
        <p:nvPicPr>
          <p:cNvPr id="239" name="6" descr=""/>
          <p:cNvPicPr/>
          <p:nvPr/>
        </p:nvPicPr>
        <p:blipFill>
          <a:blip r:embed="rId10"/>
          <a:stretch/>
        </p:blipFill>
        <p:spPr>
          <a:xfrm>
            <a:off x="1779480" y="3500280"/>
            <a:ext cx="1798920" cy="1249560"/>
          </a:xfrm>
          <a:prstGeom prst="rect">
            <a:avLst/>
          </a:prstGeom>
          <a:ln w="0">
            <a:noFill/>
          </a:ln>
        </p:spPr>
      </p:pic>
      <p:pic>
        <p:nvPicPr>
          <p:cNvPr id="240" name="11" descr=""/>
          <p:cNvPicPr/>
          <p:nvPr/>
        </p:nvPicPr>
        <p:blipFill>
          <a:blip r:embed="rId11"/>
          <a:stretch/>
        </p:blipFill>
        <p:spPr>
          <a:xfrm>
            <a:off x="1346040" y="2565360"/>
            <a:ext cx="2359080" cy="1646280"/>
          </a:xfrm>
          <a:prstGeom prst="rect">
            <a:avLst/>
          </a:prstGeom>
          <a:ln w="0">
            <a:noFill/>
          </a:ln>
        </p:spPr>
      </p:pic>
      <p:sp>
        <p:nvSpPr>
          <p:cNvPr id="241" name="椭圆 74"/>
          <p:cNvSpPr/>
          <p:nvPr/>
        </p:nvSpPr>
        <p:spPr>
          <a:xfrm>
            <a:off x="2124000" y="4900680"/>
            <a:ext cx="5184720" cy="831960"/>
          </a:xfrm>
          <a:prstGeom prst="ellipse">
            <a:avLst/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13" descr=""/>
          <p:cNvPicPr/>
          <p:nvPr/>
        </p:nvPicPr>
        <p:blipFill>
          <a:blip r:embed="rId12"/>
          <a:stretch/>
        </p:blipFill>
        <p:spPr>
          <a:xfrm>
            <a:off x="825480" y="1660680"/>
            <a:ext cx="7493040" cy="3855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2700360" y="2708280"/>
            <a:ext cx="3876480" cy="25052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"/>
          <p:cNvSpPr/>
          <p:nvPr/>
        </p:nvSpPr>
        <p:spPr>
          <a:xfrm>
            <a:off x="3567240" y="981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按阶段看教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287" dur="1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289" dur="100" fill="hold"/>
                                        <p:tgtEl>
                                          <p:spTgt spid="233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296" dur="100" fill="hold"/>
                                        <p:tgtEl>
                                          <p:spTgt spid="23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298" dur="100" fill="hold"/>
                                        <p:tgtEl>
                                          <p:spTgt spid="236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05" dur="1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07" dur="100" fill="hold"/>
                                        <p:tgtEl>
                                          <p:spTgt spid="230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14" dur="1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16" dur="100" fill="hold"/>
                                        <p:tgtEl>
                                          <p:spTgt spid="234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323" dur="1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25" dur="100" fill="hold"/>
                                        <p:tgtEl>
                                          <p:spTgt spid="235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32" dur="100" fill="hold"/>
                                        <p:tgtEl>
                                          <p:spTgt spid="2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34" dur="100" fill="hold"/>
                                        <p:tgtEl>
                                          <p:spTgt spid="232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2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41" dur="100" fill="hold"/>
                                        <p:tgtEl>
                                          <p:spTgt spid="24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43" dur="100" fill="hold"/>
                                        <p:tgtEl>
                                          <p:spTgt spid="240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50" dur="100" fill="hold"/>
                                        <p:tgtEl>
                                          <p:spTgt spid="2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52" dur="100" fill="hold"/>
                                        <p:tgtEl>
                                          <p:spTgt spid="231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59" dur="1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61" dur="100" fill="hold"/>
                                        <p:tgtEl>
                                          <p:spTgt spid="239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68" dur="100" fill="hold"/>
                                        <p:tgtEl>
                                          <p:spTgt spid="23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70" dur="100" fill="hold"/>
                                        <p:tgtEl>
                                          <p:spTgt spid="238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7" dur="1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79" dur="100" fill="hold"/>
                                        <p:tgtEl>
                                          <p:spTgt spid="237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89" dur="100" fill="hold"/>
                                        <p:tgtEl>
                                          <p:spTgt spid="2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391" dur="100" fill="hold"/>
                                        <p:tgtEl>
                                          <p:spTgt spid="243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3" descr=""/>
          <p:cNvPicPr/>
          <p:nvPr/>
        </p:nvPicPr>
        <p:blipFill>
          <a:blip r:embed="rId1"/>
          <a:stretch/>
        </p:blipFill>
        <p:spPr>
          <a:xfrm>
            <a:off x="5738760" y="2997360"/>
            <a:ext cx="1712880" cy="1054080"/>
          </a:xfrm>
          <a:prstGeom prst="rect">
            <a:avLst/>
          </a:prstGeom>
          <a:ln w="0">
            <a:noFill/>
          </a:ln>
        </p:spPr>
      </p:pic>
      <p:pic>
        <p:nvPicPr>
          <p:cNvPr id="246" name="7" descr=""/>
          <p:cNvPicPr/>
          <p:nvPr/>
        </p:nvPicPr>
        <p:blipFill>
          <a:blip r:embed="rId2"/>
          <a:stretch/>
        </p:blipFill>
        <p:spPr>
          <a:xfrm>
            <a:off x="5580000" y="2284560"/>
            <a:ext cx="1719360" cy="1000080"/>
          </a:xfrm>
          <a:prstGeom prst="rect">
            <a:avLst/>
          </a:prstGeom>
          <a:ln w="0">
            <a:noFill/>
          </a:ln>
        </p:spPr>
      </p:pic>
      <p:pic>
        <p:nvPicPr>
          <p:cNvPr id="247" name="9" descr=""/>
          <p:cNvPicPr/>
          <p:nvPr/>
        </p:nvPicPr>
        <p:blipFill>
          <a:blip r:embed="rId3"/>
          <a:stretch/>
        </p:blipFill>
        <p:spPr>
          <a:xfrm>
            <a:off x="2714760" y="1989000"/>
            <a:ext cx="1743120" cy="1212840"/>
          </a:xfrm>
          <a:prstGeom prst="rect">
            <a:avLst/>
          </a:prstGeom>
          <a:ln w="0">
            <a:noFill/>
          </a:ln>
        </p:spPr>
      </p:pic>
      <p:pic>
        <p:nvPicPr>
          <p:cNvPr id="248" name="1" descr=""/>
          <p:cNvPicPr/>
          <p:nvPr/>
        </p:nvPicPr>
        <p:blipFill>
          <a:blip r:embed="rId4"/>
          <a:stretch/>
        </p:blipFill>
        <p:spPr>
          <a:xfrm>
            <a:off x="3219480" y="2421000"/>
            <a:ext cx="2620800" cy="1847880"/>
          </a:xfrm>
          <a:prstGeom prst="rect">
            <a:avLst/>
          </a:prstGeom>
          <a:ln w="0">
            <a:noFill/>
          </a:ln>
        </p:spPr>
      </p:pic>
      <p:pic>
        <p:nvPicPr>
          <p:cNvPr id="249" name="4" descr=""/>
          <p:cNvPicPr/>
          <p:nvPr/>
        </p:nvPicPr>
        <p:blipFill>
          <a:blip r:embed="rId5"/>
          <a:stretch/>
        </p:blipFill>
        <p:spPr>
          <a:xfrm>
            <a:off x="5954760" y="3789360"/>
            <a:ext cx="1158840" cy="811080"/>
          </a:xfrm>
          <a:prstGeom prst="rect">
            <a:avLst/>
          </a:prstGeom>
          <a:ln w="0">
            <a:noFill/>
          </a:ln>
        </p:spPr>
      </p:pic>
      <p:pic>
        <p:nvPicPr>
          <p:cNvPr id="250" name="5" descr=""/>
          <p:cNvPicPr/>
          <p:nvPr/>
        </p:nvPicPr>
        <p:blipFill>
          <a:blip r:embed="rId6"/>
          <a:stretch/>
        </p:blipFill>
        <p:spPr>
          <a:xfrm>
            <a:off x="3579840" y="4149720"/>
            <a:ext cx="1542960" cy="969840"/>
          </a:xfrm>
          <a:prstGeom prst="rect">
            <a:avLst/>
          </a:prstGeom>
          <a:ln w="0">
            <a:noFill/>
          </a:ln>
        </p:spPr>
      </p:pic>
      <p:pic>
        <p:nvPicPr>
          <p:cNvPr id="251" name="2" descr=""/>
          <p:cNvPicPr/>
          <p:nvPr/>
        </p:nvPicPr>
        <p:blipFill>
          <a:blip r:embed="rId7"/>
          <a:stretch/>
        </p:blipFill>
        <p:spPr>
          <a:xfrm>
            <a:off x="3146400" y="3500280"/>
            <a:ext cx="1279440" cy="1024200"/>
          </a:xfrm>
          <a:prstGeom prst="rect">
            <a:avLst/>
          </a:prstGeom>
          <a:ln w="0">
            <a:noFill/>
          </a:ln>
        </p:spPr>
      </p:pic>
      <p:pic>
        <p:nvPicPr>
          <p:cNvPr id="252" name="10" descr=""/>
          <p:cNvPicPr/>
          <p:nvPr/>
        </p:nvPicPr>
        <p:blipFill>
          <a:blip r:embed="rId8"/>
          <a:stretch/>
        </p:blipFill>
        <p:spPr>
          <a:xfrm>
            <a:off x="4140360" y="3573360"/>
            <a:ext cx="1212840" cy="897120"/>
          </a:xfrm>
          <a:prstGeom prst="rect">
            <a:avLst/>
          </a:prstGeom>
          <a:ln w="0">
            <a:noFill/>
          </a:ln>
        </p:spPr>
      </p:pic>
      <p:pic>
        <p:nvPicPr>
          <p:cNvPr id="253" name="8" descr=""/>
          <p:cNvPicPr/>
          <p:nvPr/>
        </p:nvPicPr>
        <p:blipFill>
          <a:blip r:embed="rId9"/>
          <a:stretch/>
        </p:blipFill>
        <p:spPr>
          <a:xfrm>
            <a:off x="4716360" y="3789360"/>
            <a:ext cx="1463760" cy="957240"/>
          </a:xfrm>
          <a:prstGeom prst="rect">
            <a:avLst/>
          </a:prstGeom>
          <a:ln w="0">
            <a:noFill/>
          </a:ln>
        </p:spPr>
      </p:pic>
      <p:pic>
        <p:nvPicPr>
          <p:cNvPr id="254" name="6" descr=""/>
          <p:cNvPicPr/>
          <p:nvPr/>
        </p:nvPicPr>
        <p:blipFill>
          <a:blip r:embed="rId10"/>
          <a:stretch/>
        </p:blipFill>
        <p:spPr>
          <a:xfrm>
            <a:off x="1779480" y="3500280"/>
            <a:ext cx="1798920" cy="1249560"/>
          </a:xfrm>
          <a:prstGeom prst="rect">
            <a:avLst/>
          </a:prstGeom>
          <a:ln w="0">
            <a:noFill/>
          </a:ln>
        </p:spPr>
      </p:pic>
      <p:pic>
        <p:nvPicPr>
          <p:cNvPr id="255" name="11" descr=""/>
          <p:cNvPicPr/>
          <p:nvPr/>
        </p:nvPicPr>
        <p:blipFill>
          <a:blip r:embed="rId11"/>
          <a:stretch/>
        </p:blipFill>
        <p:spPr>
          <a:xfrm>
            <a:off x="1346040" y="2565360"/>
            <a:ext cx="2359080" cy="1646280"/>
          </a:xfrm>
          <a:prstGeom prst="rect">
            <a:avLst/>
          </a:prstGeom>
          <a:ln w="0">
            <a:noFill/>
          </a:ln>
        </p:spPr>
      </p:pic>
      <p:sp>
        <p:nvSpPr>
          <p:cNvPr id="256" name="椭圆 74"/>
          <p:cNvSpPr/>
          <p:nvPr/>
        </p:nvSpPr>
        <p:spPr>
          <a:xfrm>
            <a:off x="2124000" y="4900680"/>
            <a:ext cx="5184720" cy="831960"/>
          </a:xfrm>
          <a:prstGeom prst="ellipse">
            <a:avLst/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13" descr=""/>
          <p:cNvPicPr/>
          <p:nvPr/>
        </p:nvPicPr>
        <p:blipFill>
          <a:blip r:embed="rId12"/>
          <a:stretch/>
        </p:blipFill>
        <p:spPr>
          <a:xfrm>
            <a:off x="825480" y="1660680"/>
            <a:ext cx="7493040" cy="3855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2700360" y="2708280"/>
            <a:ext cx="3876480" cy="25052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3567240" y="981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按阶段看教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38728E-006 L -0.0625 0.02751 E">
                                      <p:cBhvr>
                                        <p:cTn id="397" dur="3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625 0.02751 L 0.86684 -0.26613 E">
                                      <p:cBhvr>
                                        <p:cTn id="399" dur="2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白背景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5040" cy="5048280"/>
          </a:xfrm>
          <a:prstGeom prst="rect">
            <a:avLst/>
          </a:prstGeom>
          <a:ln w="0">
            <a:noFill/>
          </a:ln>
        </p:spPr>
      </p:pic>
      <p:sp>
        <p:nvSpPr>
          <p:cNvPr id="261" name="1-上-(1)name"/>
          <p:cNvSpPr/>
          <p:nvPr/>
        </p:nvSpPr>
        <p:spPr>
          <a:xfrm>
            <a:off x="3161520" y="1125360"/>
            <a:ext cx="25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03f05"/>
                </a:solidFill>
                <a:latin typeface="时尚中黑简体"/>
                <a:ea typeface="时尚中黑简体"/>
              </a:rPr>
              <a:t>认识物体和图形 </a:t>
            </a:r>
            <a:r>
              <a:rPr b="0" lang="en-US" sz="3200" spc="-1" strike="noStrike">
                <a:solidFill>
                  <a:srgbClr val="603f05"/>
                </a:solidFill>
                <a:latin typeface="微软雅黑"/>
                <a:ea typeface="时尚中黑简体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1-shang-1-认一认"/>
          <p:cNvSpPr/>
          <p:nvPr/>
        </p:nvSpPr>
        <p:spPr>
          <a:xfrm>
            <a:off x="1116000" y="213372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一认。认识身边的实物。以图片的方式判断生活用品的形状，并能分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1-shang-2-画一画"/>
          <p:cNvSpPr/>
          <p:nvPr/>
        </p:nvSpPr>
        <p:spPr>
          <a:xfrm>
            <a:off x="5076720" y="2133720"/>
            <a:ext cx="29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一画  做一做。在纸上画出所学图形，侧重长方体 正方体 球 圆柱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-纸" descr="E:\BACKUPOFALL\FIles\Document\Office\PPT\素材\picture\学习用品\学习用品 (4).jpg"/>
          <p:cNvPicPr/>
          <p:nvPr/>
        </p:nvPicPr>
        <p:blipFill>
          <a:blip r:embed="rId2"/>
          <a:stretch/>
        </p:blipFill>
        <p:spPr>
          <a:xfrm rot="21015600">
            <a:off x="4858920" y="3265200"/>
            <a:ext cx="3376800" cy="239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5" name="p-橡皮擦" descr="E:\BACKUPOFALL\FIles\Document\Office\PPT\素材\picture\学习用品\学习用品 (104).jpg"/>
          <p:cNvPicPr/>
          <p:nvPr/>
        </p:nvPicPr>
        <p:blipFill>
          <a:blip r:embed="rId3"/>
          <a:stretch/>
        </p:blipFill>
        <p:spPr>
          <a:xfrm>
            <a:off x="971640" y="3284640"/>
            <a:ext cx="1342800" cy="952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6" name="p-可乐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1295640" cy="172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7" name="右箭头1" descr=""/>
          <p:cNvPicPr/>
          <p:nvPr/>
        </p:nvPicPr>
        <p:blipFill>
          <a:blip r:embed="rId5"/>
          <a:stretch/>
        </p:blipFill>
        <p:spPr>
          <a:xfrm>
            <a:off x="2340000" y="3716280"/>
            <a:ext cx="450720" cy="324000"/>
          </a:xfrm>
          <a:prstGeom prst="rect">
            <a:avLst/>
          </a:prstGeom>
          <a:ln w="0">
            <a:noFill/>
          </a:ln>
        </p:spPr>
      </p:pic>
      <p:pic>
        <p:nvPicPr>
          <p:cNvPr id="268" name="右箭头2" descr=""/>
          <p:cNvPicPr/>
          <p:nvPr/>
        </p:nvPicPr>
        <p:blipFill>
          <a:blip r:embed="rId6"/>
          <a:stretch/>
        </p:blipFill>
        <p:spPr>
          <a:xfrm>
            <a:off x="2340000" y="4797360"/>
            <a:ext cx="450720" cy="324000"/>
          </a:xfrm>
          <a:prstGeom prst="rect">
            <a:avLst/>
          </a:prstGeom>
          <a:ln w="0">
            <a:noFill/>
          </a:ln>
        </p:spPr>
      </p:pic>
      <p:sp>
        <p:nvSpPr>
          <p:cNvPr id="269" name="橡皮-长方体"/>
          <p:cNvSpPr/>
          <p:nvPr/>
        </p:nvSpPr>
        <p:spPr>
          <a:xfrm>
            <a:off x="2979720" y="3716280"/>
            <a:ext cx="8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方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可乐-圆柱"/>
          <p:cNvSpPr/>
          <p:nvPr/>
        </p:nvSpPr>
        <p:spPr>
          <a:xfrm>
            <a:off x="3184560" y="4797360"/>
            <a:ext cx="5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圆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纸-长方体" descr=""/>
          <p:cNvPicPr/>
          <p:nvPr/>
        </p:nvPicPr>
        <p:blipFill>
          <a:blip r:embed="rId7"/>
          <a:stretch/>
        </p:blipFill>
        <p:spPr>
          <a:xfrm>
            <a:off x="6012000" y="4076640"/>
            <a:ext cx="609480" cy="646200"/>
          </a:xfrm>
          <a:prstGeom prst="rect">
            <a:avLst/>
          </a:prstGeom>
          <a:ln w="0">
            <a:noFill/>
          </a:ln>
        </p:spPr>
      </p:pic>
      <p:pic>
        <p:nvPicPr>
          <p:cNvPr id="272" name="纸-圆柱" descr=""/>
          <p:cNvPicPr/>
          <p:nvPr/>
        </p:nvPicPr>
        <p:blipFill>
          <a:blip r:embed="rId8"/>
          <a:stretch/>
        </p:blipFill>
        <p:spPr>
          <a:xfrm>
            <a:off x="6659640" y="4149720"/>
            <a:ext cx="476280" cy="487440"/>
          </a:xfrm>
          <a:prstGeom prst="rect">
            <a:avLst/>
          </a:prstGeom>
          <a:ln w="0">
            <a:noFill/>
          </a:ln>
        </p:spPr>
      </p:pic>
      <p:pic>
        <p:nvPicPr>
          <p:cNvPr id="273" name="纸-立方体" descr=""/>
          <p:cNvPicPr/>
          <p:nvPr/>
        </p:nvPicPr>
        <p:blipFill>
          <a:blip r:embed="rId9"/>
          <a:stretch/>
        </p:blipFill>
        <p:spPr>
          <a:xfrm>
            <a:off x="6300720" y="4653000"/>
            <a:ext cx="646200" cy="530280"/>
          </a:xfrm>
          <a:prstGeom prst="rect">
            <a:avLst/>
          </a:prstGeom>
          <a:ln w="0">
            <a:noFill/>
          </a:ln>
        </p:spPr>
      </p:pic>
      <p:pic>
        <p:nvPicPr>
          <p:cNvPr id="274" name="分割线1" descr=""/>
          <p:cNvPicPr/>
          <p:nvPr/>
        </p:nvPicPr>
        <p:blipFill>
          <a:blip r:embed="rId10"/>
          <a:stretch/>
        </p:blipFill>
        <p:spPr>
          <a:xfrm>
            <a:off x="907920" y="3068640"/>
            <a:ext cx="3389400" cy="12600"/>
          </a:xfrm>
          <a:prstGeom prst="rect">
            <a:avLst/>
          </a:prstGeom>
          <a:ln w="0">
            <a:noFill/>
          </a:ln>
        </p:spPr>
      </p:pic>
      <p:pic>
        <p:nvPicPr>
          <p:cNvPr id="275" name="分割线2" descr=""/>
          <p:cNvPicPr/>
          <p:nvPr/>
        </p:nvPicPr>
        <p:blipFill>
          <a:blip r:embed="rId11"/>
          <a:stretch/>
        </p:blipFill>
        <p:spPr>
          <a:xfrm>
            <a:off x="4932360" y="3068640"/>
            <a:ext cx="3389400" cy="12600"/>
          </a:xfrm>
          <a:prstGeom prst="rect">
            <a:avLst/>
          </a:prstGeom>
          <a:ln w="0">
            <a:noFill/>
          </a:ln>
        </p:spPr>
      </p:pic>
      <p:sp>
        <p:nvSpPr>
          <p:cNvPr id="276" name="数图形"/>
          <p:cNvSpPr/>
          <p:nvPr/>
        </p:nvSpPr>
        <p:spPr>
          <a:xfrm>
            <a:off x="1042920" y="2165400"/>
            <a:ext cx="30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图形，在一副有多种图形拼凑的整体图形中，找出不同的图形的个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拼一拼"/>
          <p:cNvSpPr/>
          <p:nvPr/>
        </p:nvSpPr>
        <p:spPr>
          <a:xfrm>
            <a:off x="5060880" y="213372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拼一拼。给出小动物图形轮廓，然后小朋友用三角，圆 长方等图形拼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形状组合" descr=""/>
          <p:cNvPicPr/>
          <p:nvPr/>
        </p:nvPicPr>
        <p:blipFill>
          <a:blip r:embed="rId12"/>
          <a:stretch/>
        </p:blipFill>
        <p:spPr>
          <a:xfrm>
            <a:off x="1116000" y="3716280"/>
            <a:ext cx="1292400" cy="1328760"/>
          </a:xfrm>
          <a:prstGeom prst="rect">
            <a:avLst/>
          </a:prstGeom>
          <a:ln w="0">
            <a:noFill/>
          </a:ln>
        </p:spPr>
      </p:pic>
      <p:sp>
        <p:nvSpPr>
          <p:cNvPr id="279" name="三角形x5"/>
          <p:cNvSpPr/>
          <p:nvPr/>
        </p:nvSpPr>
        <p:spPr>
          <a:xfrm>
            <a:off x="2715120" y="35002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方正卡通简体"/>
                <a:ea typeface="方正卡通简体"/>
              </a:rPr>
              <a:t>三角形  </a:t>
            </a:r>
            <a:r>
              <a:rPr b="0" lang="en-US" sz="1800" spc="-1" strike="noStrike">
                <a:solidFill>
                  <a:srgbClr val="ff0000"/>
                </a:solidFill>
                <a:latin typeface="方正卡通简体"/>
                <a:ea typeface="方正卡通简体"/>
              </a:rPr>
              <a:t>x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正方形x1"/>
          <p:cNvSpPr/>
          <p:nvPr/>
        </p:nvSpPr>
        <p:spPr>
          <a:xfrm>
            <a:off x="2713680" y="4149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f497d"/>
                </a:solidFill>
                <a:latin typeface="方正卡通简体"/>
                <a:ea typeface="方正卡通简体"/>
              </a:rPr>
              <a:t>正方形  </a:t>
            </a:r>
            <a:r>
              <a:rPr b="0" lang="en-US" sz="1800" spc="-1" strike="noStrike">
                <a:solidFill>
                  <a:srgbClr val="1f497d"/>
                </a:solidFill>
                <a:latin typeface="方正卡通简体"/>
                <a:ea typeface="方正卡通简体"/>
              </a:rPr>
              <a:t>x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平行四边形  x1"/>
          <p:cNvSpPr/>
          <p:nvPr/>
        </p:nvSpPr>
        <p:spPr>
          <a:xfrm>
            <a:off x="2784960" y="4869000"/>
            <a:ext cx="118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030a0"/>
                </a:solidFill>
                <a:latin typeface="方正卡通简体"/>
                <a:ea typeface="方正卡通简体"/>
              </a:rPr>
              <a:t>平行四边形  </a:t>
            </a:r>
            <a:r>
              <a:rPr b="0" lang="en-US" sz="1400" spc="-1" strike="noStrike">
                <a:solidFill>
                  <a:srgbClr val="7030a0"/>
                </a:solidFill>
                <a:latin typeface="方正卡通简体"/>
                <a:ea typeface="方正卡通简体"/>
              </a:rPr>
              <a:t>x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右箭头3" descr=""/>
          <p:cNvPicPr/>
          <p:nvPr/>
        </p:nvPicPr>
        <p:blipFill>
          <a:blip r:embed="rId13"/>
          <a:stretch/>
        </p:blipFill>
        <p:spPr>
          <a:xfrm rot="1800000">
            <a:off x="6351480" y="4239720"/>
            <a:ext cx="451080" cy="324000"/>
          </a:xfrm>
          <a:prstGeom prst="rect">
            <a:avLst/>
          </a:prstGeom>
          <a:ln w="0">
            <a:noFill/>
          </a:ln>
        </p:spPr>
      </p:pic>
      <p:pic>
        <p:nvPicPr>
          <p:cNvPr id="283" name="fish拼合" descr=""/>
          <p:cNvPicPr/>
          <p:nvPr/>
        </p:nvPicPr>
        <p:blipFill>
          <a:blip r:embed="rId14"/>
          <a:stretch/>
        </p:blipFill>
        <p:spPr>
          <a:xfrm>
            <a:off x="6804000" y="4365720"/>
            <a:ext cx="1127160" cy="1103040"/>
          </a:xfrm>
          <a:prstGeom prst="rect">
            <a:avLst/>
          </a:prstGeom>
          <a:ln w="0">
            <a:noFill/>
          </a:ln>
        </p:spPr>
      </p:pic>
      <p:pic>
        <p:nvPicPr>
          <p:cNvPr id="284" name="fish轮廓" descr=""/>
          <p:cNvPicPr/>
          <p:nvPr/>
        </p:nvPicPr>
        <p:blipFill>
          <a:blip r:embed="rId15"/>
          <a:stretch/>
        </p:blipFill>
        <p:spPr>
          <a:xfrm>
            <a:off x="5219640" y="3573360"/>
            <a:ext cx="851040" cy="844560"/>
          </a:xfrm>
          <a:prstGeom prst="rect">
            <a:avLst/>
          </a:prstGeom>
          <a:ln w="0">
            <a:noFill/>
          </a:ln>
        </p:spPr>
      </p:pic>
      <p:pic>
        <p:nvPicPr>
          <p:cNvPr id="285" name="02" descr="C:\Users\Spine\Desktop\Capture1副本.png"/>
          <p:cNvPicPr/>
          <p:nvPr/>
        </p:nvPicPr>
        <p:blipFill>
          <a:blip r:embed="rId16"/>
          <a:stretch/>
        </p:blipFill>
        <p:spPr>
          <a:xfrm>
            <a:off x="468360" y="1052640"/>
            <a:ext cx="8280360" cy="5040360"/>
          </a:xfrm>
          <a:prstGeom prst="rect">
            <a:avLst/>
          </a:prstGeom>
          <a:ln w="0">
            <a:noFill/>
          </a:ln>
        </p:spPr>
      </p:pic>
      <p:pic>
        <p:nvPicPr>
          <p:cNvPr id="286" name="01" descr="C:\Users\Spine\Desktop\Capture2副本.png"/>
          <p:cNvPicPr/>
          <p:nvPr/>
        </p:nvPicPr>
        <p:blipFill>
          <a:blip r:embed="rId17"/>
          <a:stretch/>
        </p:blipFill>
        <p:spPr>
          <a:xfrm>
            <a:off x="468360" y="105264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287" name="g-l"/>
          <p:cNvSpPr/>
          <p:nvPr/>
        </p:nvSpPr>
        <p:spPr>
          <a:xfrm>
            <a:off x="695160" y="484200"/>
            <a:ext cx="30240" cy="360360"/>
          </a:xfrm>
          <a:prstGeom prst="rect">
            <a:avLst/>
          </a:prstGeom>
          <a:solidFill>
            <a:srgbClr val="5a3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g-r"/>
          <p:cNvSpPr/>
          <p:nvPr/>
        </p:nvSpPr>
        <p:spPr>
          <a:xfrm>
            <a:off x="2108160" y="484200"/>
            <a:ext cx="28440" cy="360360"/>
          </a:xfrm>
          <a:prstGeom prst="rect">
            <a:avLst/>
          </a:prstGeom>
          <a:solidFill>
            <a:srgbClr val="5a3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1-xia" descr="C:\Users\Spine\Desktop\未标题-3.png"/>
          <p:cNvPicPr/>
          <p:nvPr/>
        </p:nvPicPr>
        <p:blipFill>
          <a:blip r:embed="rId18"/>
          <a:stretch/>
        </p:blipFill>
        <p:spPr>
          <a:xfrm>
            <a:off x="324000" y="841320"/>
            <a:ext cx="2184120" cy="908280"/>
          </a:xfrm>
          <a:prstGeom prst="rect">
            <a:avLst/>
          </a:prstGeom>
          <a:ln w="0">
            <a:noFill/>
          </a:ln>
        </p:spPr>
      </p:pic>
      <p:pic>
        <p:nvPicPr>
          <p:cNvPr id="290" name="1-shang" descr="C:\Users\Spine\Desktop\未标题-2.png"/>
          <p:cNvPicPr/>
          <p:nvPr/>
        </p:nvPicPr>
        <p:blipFill>
          <a:blip r:embed="rId19"/>
          <a:stretch/>
        </p:blipFill>
        <p:spPr>
          <a:xfrm>
            <a:off x="324000" y="841320"/>
            <a:ext cx="2184120" cy="905040"/>
          </a:xfrm>
          <a:prstGeom prst="rect">
            <a:avLst/>
          </a:prstGeom>
          <a:ln w="0">
            <a:noFill/>
          </a:ln>
        </p:spPr>
      </p:pic>
      <p:sp>
        <p:nvSpPr>
          <p:cNvPr id="291" name="1-上-(1)name"/>
          <p:cNvSpPr/>
          <p:nvPr/>
        </p:nvSpPr>
        <p:spPr>
          <a:xfrm>
            <a:off x="3178080" y="1108080"/>
            <a:ext cx="25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03f05"/>
                </a:solidFill>
                <a:latin typeface="时尚中黑简体"/>
                <a:ea typeface="时尚中黑简体"/>
              </a:rPr>
              <a:t>认识物体和图形 </a:t>
            </a:r>
            <a:r>
              <a:rPr b="0" lang="en-US" sz="3200" spc="-1" strike="noStrike">
                <a:solidFill>
                  <a:srgbClr val="603f05"/>
                </a:solidFill>
                <a:latin typeface="微软雅黑"/>
                <a:ea typeface="时尚中黑简体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6716E-006 L -0.3507 -0.33627 E">
                                      <p:cBhvr>
                                        <p:cTn id="410" dur="5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8">
                                  <p:stCondLst>
                                    <p:cond delay="4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2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2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2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2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1.94444E-006 -4.08881E-006 L -1.94444E-006 0.07586 E">
                                      <p:cBhvr>
                                        <p:cTn id="428" dur="5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2.77778E-006 3.89454E-006 L 2.77778E-006 0.05273 E">
                                      <p:cBhvr>
                                        <p:cTn id="434" dur="5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476" dur="100" fill="hold"/>
                                        <p:tgtEl>
                                          <p:spTgt spid="2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478" dur="100" fill="hold"/>
                                        <p:tgtEl>
                                          <p:spTgt spid="271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 presetSubtype="16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485" dur="10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487" dur="100" fill="hold"/>
                                        <p:tgtEl>
                                          <p:spTgt spid="272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 presetSubtype="16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2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494" dur="1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496" dur="100" fill="hold"/>
                                        <p:tgtEl>
                                          <p:spTgt spid="273"/>
                                        </p:tgtEl>
                                      </p:cBhvr>
                                      <p:to x="90099.9984741211" y="90099.9984741211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白背景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5040" cy="5048280"/>
          </a:xfrm>
          <a:prstGeom prst="rect">
            <a:avLst/>
          </a:prstGeom>
          <a:ln w="0">
            <a:noFill/>
          </a:ln>
        </p:spPr>
      </p:pic>
      <p:pic>
        <p:nvPicPr>
          <p:cNvPr id="293" name="分割线1" descr=""/>
          <p:cNvPicPr/>
          <p:nvPr/>
        </p:nvPicPr>
        <p:blipFill>
          <a:blip r:embed="rId2"/>
          <a:stretch/>
        </p:blipFill>
        <p:spPr>
          <a:xfrm>
            <a:off x="907920" y="3068640"/>
            <a:ext cx="3389400" cy="12600"/>
          </a:xfrm>
          <a:prstGeom prst="rect">
            <a:avLst/>
          </a:prstGeom>
          <a:ln w="0">
            <a:noFill/>
          </a:ln>
        </p:spPr>
      </p:pic>
      <p:pic>
        <p:nvPicPr>
          <p:cNvPr id="294" name="分割线2" descr=""/>
          <p:cNvPicPr/>
          <p:nvPr/>
        </p:nvPicPr>
        <p:blipFill>
          <a:blip r:embed="rId3"/>
          <a:stretch/>
        </p:blipFill>
        <p:spPr>
          <a:xfrm>
            <a:off x="4932360" y="3068640"/>
            <a:ext cx="3389400" cy="12600"/>
          </a:xfrm>
          <a:prstGeom prst="rect">
            <a:avLst/>
          </a:prstGeom>
          <a:ln w="0">
            <a:noFill/>
          </a:ln>
        </p:spPr>
      </p:pic>
      <p:sp>
        <p:nvSpPr>
          <p:cNvPr id="295" name="g-l"/>
          <p:cNvSpPr/>
          <p:nvPr/>
        </p:nvSpPr>
        <p:spPr>
          <a:xfrm>
            <a:off x="695160" y="484200"/>
            <a:ext cx="30240" cy="360360"/>
          </a:xfrm>
          <a:prstGeom prst="rect">
            <a:avLst/>
          </a:prstGeom>
          <a:solidFill>
            <a:srgbClr val="5a3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g-r"/>
          <p:cNvSpPr/>
          <p:nvPr/>
        </p:nvSpPr>
        <p:spPr>
          <a:xfrm>
            <a:off x="2108160" y="484200"/>
            <a:ext cx="28440" cy="360360"/>
          </a:xfrm>
          <a:prstGeom prst="rect">
            <a:avLst/>
          </a:prstGeom>
          <a:solidFill>
            <a:srgbClr val="5a3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1-xia" descr="C:\Users\Spine\Desktop\未标题-3.png"/>
          <p:cNvPicPr/>
          <p:nvPr/>
        </p:nvPicPr>
        <p:blipFill>
          <a:blip r:embed="rId4"/>
          <a:stretch/>
        </p:blipFill>
        <p:spPr>
          <a:xfrm>
            <a:off x="324000" y="841320"/>
            <a:ext cx="2184120" cy="908280"/>
          </a:xfrm>
          <a:prstGeom prst="rect">
            <a:avLst/>
          </a:prstGeom>
          <a:ln w="0">
            <a:noFill/>
          </a:ln>
        </p:spPr>
      </p:pic>
      <p:pic>
        <p:nvPicPr>
          <p:cNvPr id="298" name="1-shang" descr="C:\Users\Spine\Desktop\未标题-2.png"/>
          <p:cNvPicPr/>
          <p:nvPr/>
        </p:nvPicPr>
        <p:blipFill>
          <a:blip r:embed="rId5"/>
          <a:stretch/>
        </p:blipFill>
        <p:spPr>
          <a:xfrm>
            <a:off x="324000" y="841320"/>
            <a:ext cx="2184120" cy="905040"/>
          </a:xfrm>
          <a:prstGeom prst="rect">
            <a:avLst/>
          </a:prstGeom>
          <a:ln w="0">
            <a:noFill/>
          </a:ln>
        </p:spPr>
      </p:pic>
      <p:grpSp>
        <p:nvGrpSpPr>
          <p:cNvPr id="299" name="组合 1"/>
          <p:cNvGrpSpPr/>
          <p:nvPr/>
        </p:nvGrpSpPr>
        <p:grpSpPr>
          <a:xfrm>
            <a:off x="1042920" y="1108080"/>
            <a:ext cx="7186680" cy="4360680"/>
            <a:chOff x="1042920" y="1108080"/>
            <a:chExt cx="7186680" cy="4360680"/>
          </a:xfrm>
        </p:grpSpPr>
        <p:sp>
          <p:nvSpPr>
            <p:cNvPr id="300" name="数图形"/>
            <p:cNvSpPr/>
            <p:nvPr/>
          </p:nvSpPr>
          <p:spPr>
            <a:xfrm>
              <a:off x="1042920" y="2165760"/>
              <a:ext cx="309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数图形，在一副有多种图形拼凑的整体图形中，找出不同的图形的个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拼一拼"/>
            <p:cNvSpPr/>
            <p:nvPr/>
          </p:nvSpPr>
          <p:spPr>
            <a:xfrm>
              <a:off x="5061240" y="2132640"/>
              <a:ext cx="31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拼一拼。给出小动物图形轮廓，然后小朋友用三角，圆 长方等图形拼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2" name="形状组合" descr=""/>
            <p:cNvPicPr/>
            <p:nvPr/>
          </p:nvPicPr>
          <p:blipFill>
            <a:blip r:embed="rId6"/>
            <a:stretch/>
          </p:blipFill>
          <p:spPr>
            <a:xfrm>
              <a:off x="1114920" y="3717360"/>
              <a:ext cx="12920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三角形x5"/>
            <p:cNvSpPr/>
            <p:nvPr/>
          </p:nvSpPr>
          <p:spPr>
            <a:xfrm>
              <a:off x="2714400" y="350136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方正卡通简体"/>
                  <a:ea typeface="方正卡通简体"/>
                </a:rPr>
                <a:t>三角形  </a:t>
              </a:r>
              <a:r>
                <a:rPr b="0" lang="en-US" sz="1800" spc="-1" strike="noStrike">
                  <a:solidFill>
                    <a:srgbClr val="ff0000"/>
                  </a:solidFill>
                  <a:latin typeface="方正卡通简体"/>
                  <a:ea typeface="方正卡通简体"/>
                </a:rPr>
                <a:t>x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正方形x1"/>
            <p:cNvSpPr/>
            <p:nvPr/>
          </p:nvSpPr>
          <p:spPr>
            <a:xfrm>
              <a:off x="2712600" y="414936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f497d"/>
                  </a:solidFill>
                  <a:latin typeface="方正卡通简体"/>
                  <a:ea typeface="方正卡通简体"/>
                </a:rPr>
                <a:t>正方形  </a:t>
              </a:r>
              <a:r>
                <a:rPr b="0" lang="en-US" sz="1800" spc="-1" strike="noStrike">
                  <a:solidFill>
                    <a:srgbClr val="1f497d"/>
                  </a:solidFill>
                  <a:latin typeface="方正卡通简体"/>
                  <a:ea typeface="方正卡通简体"/>
                </a:rPr>
                <a:t>x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平行四边形  x1"/>
            <p:cNvSpPr/>
            <p:nvPr/>
          </p:nvSpPr>
          <p:spPr>
            <a:xfrm>
              <a:off x="2783880" y="4869720"/>
              <a:ext cx="118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030a0"/>
                  </a:solidFill>
                  <a:latin typeface="方正卡通简体"/>
                  <a:ea typeface="方正卡通简体"/>
                </a:rPr>
                <a:t>平行四边形  </a:t>
              </a:r>
              <a:r>
                <a:rPr b="0" lang="en-US" sz="1400" spc="-1" strike="noStrike">
                  <a:solidFill>
                    <a:srgbClr val="7030a0"/>
                  </a:solidFill>
                  <a:latin typeface="方正卡通简体"/>
                  <a:ea typeface="方正卡通简体"/>
                </a:rPr>
                <a:t>x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6" name="右箭头3" descr=""/>
            <p:cNvPicPr/>
            <p:nvPr/>
          </p:nvPicPr>
          <p:blipFill>
            <a:blip r:embed="rId7"/>
            <a:stretch/>
          </p:blipFill>
          <p:spPr>
            <a:xfrm rot="1800000">
              <a:off x="6350400" y="4240080"/>
              <a:ext cx="450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fish拼合" descr=""/>
            <p:cNvPicPr/>
            <p:nvPr/>
          </p:nvPicPr>
          <p:blipFill>
            <a:blip r:embed="rId8"/>
            <a:stretch/>
          </p:blipFill>
          <p:spPr>
            <a:xfrm>
              <a:off x="6804000" y="4365360"/>
              <a:ext cx="112716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fish轮廓" descr=""/>
            <p:cNvPicPr/>
            <p:nvPr/>
          </p:nvPicPr>
          <p:blipFill>
            <a:blip r:embed="rId9"/>
            <a:stretch/>
          </p:blipFill>
          <p:spPr>
            <a:xfrm>
              <a:off x="5219640" y="3573360"/>
              <a:ext cx="849960" cy="84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1-上-(2)name"/>
            <p:cNvSpPr/>
            <p:nvPr/>
          </p:nvSpPr>
          <p:spPr>
            <a:xfrm>
              <a:off x="3177720" y="1108080"/>
              <a:ext cx="256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603f05"/>
                  </a:solidFill>
                  <a:latin typeface="时尚中黑简体"/>
                  <a:ea typeface="时尚中黑简体"/>
                </a:rPr>
                <a:t>认识物体和图形 </a:t>
              </a:r>
              <a:r>
                <a:rPr b="0" lang="en-US" sz="3200" spc="-1" strike="noStrike">
                  <a:solidFill>
                    <a:srgbClr val="603f05"/>
                  </a:solidFill>
                  <a:latin typeface="微软雅黑"/>
                  <a:ea typeface="时尚中黑简体"/>
                </a:rPr>
                <a:t>(2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组合 9"/>
          <p:cNvGrpSpPr/>
          <p:nvPr/>
        </p:nvGrpSpPr>
        <p:grpSpPr>
          <a:xfrm>
            <a:off x="1116000" y="1114560"/>
            <a:ext cx="7272360" cy="4552920"/>
            <a:chOff x="1116000" y="1114560"/>
            <a:chExt cx="7272360" cy="4552920"/>
          </a:xfrm>
        </p:grpSpPr>
        <p:pic>
          <p:nvPicPr>
            <p:cNvPr id="311" name="右箭头1" descr=""/>
            <p:cNvPicPr/>
            <p:nvPr/>
          </p:nvPicPr>
          <p:blipFill>
            <a:blip r:embed="rId10"/>
            <a:stretch/>
          </p:blipFill>
          <p:spPr>
            <a:xfrm>
              <a:off x="2340000" y="3861720"/>
              <a:ext cx="28800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右箭头1" descr=""/>
            <p:cNvPicPr/>
            <p:nvPr/>
          </p:nvPicPr>
          <p:blipFill>
            <a:blip r:embed="rId11"/>
            <a:stretch/>
          </p:blipFill>
          <p:spPr>
            <a:xfrm rot="8100000">
              <a:off x="3024000" y="4665960"/>
              <a:ext cx="339120" cy="24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组合 8"/>
            <p:cNvGrpSpPr/>
            <p:nvPr/>
          </p:nvGrpSpPr>
          <p:grpSpPr>
            <a:xfrm>
              <a:off x="1116000" y="1114560"/>
              <a:ext cx="7272360" cy="4552920"/>
              <a:chOff x="1116000" y="1114560"/>
              <a:chExt cx="7272360" cy="4552920"/>
            </a:xfrm>
          </p:grpSpPr>
          <p:grpSp>
            <p:nvGrpSpPr>
              <p:cNvPr id="314" name="组合 2"/>
              <p:cNvGrpSpPr/>
              <p:nvPr/>
            </p:nvGrpSpPr>
            <p:grpSpPr>
              <a:xfrm>
                <a:off x="1116000" y="3429720"/>
                <a:ext cx="2716920" cy="2237760"/>
                <a:chOff x="1116000" y="3429720"/>
                <a:chExt cx="2716920" cy="2237760"/>
              </a:xfrm>
            </p:grpSpPr>
            <p:pic>
              <p:nvPicPr>
                <p:cNvPr id="315" name="Picture 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260000" y="3573720"/>
                  <a:ext cx="735840" cy="73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Picture 4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1908000" y="4798080"/>
                  <a:ext cx="864000" cy="86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Picture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120480" y="3673800"/>
                  <a:ext cx="280440" cy="460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Picture 3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112920" y="3529800"/>
                  <a:ext cx="720000" cy="806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Picture 6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116000" y="3429720"/>
                  <a:ext cx="1029600" cy="1029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0" name="组合 7"/>
              <p:cNvGrpSpPr/>
              <p:nvPr/>
            </p:nvGrpSpPr>
            <p:grpSpPr>
              <a:xfrm>
                <a:off x="5580360" y="3429720"/>
                <a:ext cx="2463840" cy="2226240"/>
                <a:chOff x="5580360" y="3429720"/>
                <a:chExt cx="2463840" cy="2226240"/>
              </a:xfrm>
            </p:grpSpPr>
            <p:pic>
              <p:nvPicPr>
                <p:cNvPr id="321" name="Picture 7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5580360" y="3429720"/>
                  <a:ext cx="731160" cy="73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Picture 8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588360" y="3861720"/>
                  <a:ext cx="2901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Picture 9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308360" y="3429720"/>
                  <a:ext cx="735840" cy="73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Picture 10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668360" y="3573720"/>
                  <a:ext cx="288000" cy="32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Picture 1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6606720" y="4365720"/>
                  <a:ext cx="2476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Picture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444360" y="4920120"/>
                  <a:ext cx="740160" cy="735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27" name="1-上-(2)name"/>
              <p:cNvSpPr/>
              <p:nvPr/>
            </p:nvSpPr>
            <p:spPr>
              <a:xfrm>
                <a:off x="3024000" y="1114560"/>
                <a:ext cx="1400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603f05"/>
                    </a:solidFill>
                    <a:latin typeface="时尚中黑简体"/>
                    <a:ea typeface="时尚中黑简体"/>
                  </a:rPr>
                  <a:t>图形的拼组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做一做"/>
              <p:cNvSpPr/>
              <p:nvPr/>
            </p:nvSpPr>
            <p:spPr>
              <a:xfrm>
                <a:off x="1188000" y="2349360"/>
                <a:ext cx="309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做一做，沿虚线可以折出图形。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拼一拼"/>
              <p:cNvSpPr/>
              <p:nvPr/>
            </p:nvSpPr>
            <p:spPr>
              <a:xfrm>
                <a:off x="5220360" y="2367000"/>
                <a:ext cx="316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摆一摆，小图形组合成大图形。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4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5 0 E">
                                      <p:cBhvr>
                                        <p:cTn id="582" dur="1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5 0 E">
                                      <p:cBhvr>
                                        <p:cTn id="584" dur="1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33333E-006 L 0.15382 3.33333E-006 E">
                                      <p:cBhvr>
                                        <p:cTn id="586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2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2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94444E-006 -4.44444E-006 L -0.12986 -4.44444E-006 E">
                                      <p:cBhvr>
                                        <p:cTn id="594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白背景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5040" cy="5048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2"/>
          <a:stretch/>
        </p:blipFill>
        <p:spPr>
          <a:xfrm>
            <a:off x="324000" y="841320"/>
            <a:ext cx="2184120" cy="908280"/>
          </a:xfrm>
          <a:prstGeom prst="rect">
            <a:avLst/>
          </a:prstGeom>
          <a:ln w="0">
            <a:noFill/>
          </a:ln>
        </p:spPr>
      </p:pic>
      <p:pic>
        <p:nvPicPr>
          <p:cNvPr id="332" name="_Picture 4" descr=""/>
          <p:cNvPicPr/>
          <p:nvPr/>
        </p:nvPicPr>
        <p:blipFill>
          <a:blip r:embed="rId3"/>
          <a:stretch/>
        </p:blipFill>
        <p:spPr>
          <a:xfrm>
            <a:off x="325440" y="841320"/>
            <a:ext cx="2181240" cy="905040"/>
          </a:xfrm>
          <a:prstGeom prst="rect">
            <a:avLst/>
          </a:prstGeom>
          <a:ln w="0">
            <a:noFill/>
          </a:ln>
        </p:spPr>
      </p:pic>
      <p:sp>
        <p:nvSpPr>
          <p:cNvPr id="333" name="矩形 9"/>
          <p:cNvSpPr/>
          <p:nvPr/>
        </p:nvSpPr>
        <p:spPr>
          <a:xfrm>
            <a:off x="695160" y="484200"/>
            <a:ext cx="30240" cy="360360"/>
          </a:xfrm>
          <a:prstGeom prst="rect">
            <a:avLst/>
          </a:prstGeom>
          <a:solidFill>
            <a:srgbClr val="5a3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2108160" y="484200"/>
            <a:ext cx="28440" cy="360360"/>
          </a:xfrm>
          <a:prstGeom prst="rect">
            <a:avLst/>
          </a:prstGeom>
          <a:solidFill>
            <a:srgbClr val="5a3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分割线1"/>
          <p:cNvSpPr/>
          <p:nvPr/>
        </p:nvSpPr>
        <p:spPr>
          <a:xfrm>
            <a:off x="900000" y="3068640"/>
            <a:ext cx="7201080" cy="0"/>
          </a:xfrm>
          <a:prstGeom prst="line">
            <a:avLst/>
          </a:prstGeom>
          <a:ln w="3240">
            <a:solidFill>
              <a:srgbClr val="603f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2909880" y="1111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03f05"/>
                </a:solidFill>
                <a:latin typeface="时尚中黑简体"/>
                <a:ea typeface="时尚中黑简体"/>
              </a:rPr>
              <a:t>观察物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1"/>
          <p:cNvSpPr/>
          <p:nvPr/>
        </p:nvSpPr>
        <p:spPr>
          <a:xfrm>
            <a:off x="797040" y="213372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物观察，站在不同角度观察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矩形 7"/>
          <p:cNvSpPr/>
          <p:nvPr/>
        </p:nvSpPr>
        <p:spPr>
          <a:xfrm>
            <a:off x="3348000" y="213372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图片的方式出示镜中的人和镜外的人，判断镜中的图像是和实物方向相反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10"/>
          <p:cNvSpPr/>
          <p:nvPr/>
        </p:nvSpPr>
        <p:spPr>
          <a:xfrm>
            <a:off x="6084720" y="21337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对称的图片。可以从一堆图片中判断出对称图形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4"/>
          <a:stretch/>
        </p:blipFill>
        <p:spPr>
          <a:xfrm>
            <a:off x="971640" y="3860640"/>
            <a:ext cx="1743120" cy="13114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"/>
          <p:cNvPicPr/>
          <p:nvPr/>
        </p:nvPicPr>
        <p:blipFill>
          <a:blip r:embed="rId5"/>
          <a:stretch/>
        </p:blipFill>
        <p:spPr>
          <a:xfrm>
            <a:off x="6300720" y="3716280"/>
            <a:ext cx="2054160" cy="15177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"/>
          <p:cNvPicPr/>
          <p:nvPr/>
        </p:nvPicPr>
        <p:blipFill>
          <a:blip r:embed="rId6"/>
          <a:stretch/>
        </p:blipFill>
        <p:spPr>
          <a:xfrm>
            <a:off x="3276720" y="3645000"/>
            <a:ext cx="2719440" cy="1931760"/>
          </a:xfrm>
          <a:prstGeom prst="rect">
            <a:avLst/>
          </a:prstGeom>
          <a:ln w="0">
            <a:noFill/>
          </a:ln>
        </p:spPr>
      </p:pic>
      <p:sp>
        <p:nvSpPr>
          <p:cNvPr id="344" name="矩形 16"/>
          <p:cNvSpPr/>
          <p:nvPr/>
        </p:nvSpPr>
        <p:spPr>
          <a:xfrm>
            <a:off x="3004200" y="1116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03f05"/>
                </a:solidFill>
                <a:latin typeface="时尚中黑简体"/>
                <a:ea typeface="时尚中黑简体"/>
              </a:rPr>
              <a:t>图形与变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7"/>
          <a:stretch/>
        </p:blipFill>
        <p:spPr>
          <a:xfrm>
            <a:off x="3780000" y="3789360"/>
            <a:ext cx="1439640" cy="1238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8"/>
          <a:stretch/>
        </p:blipFill>
        <p:spPr>
          <a:xfrm>
            <a:off x="6300720" y="3716280"/>
            <a:ext cx="630360" cy="738360"/>
          </a:xfrm>
          <a:prstGeom prst="rect">
            <a:avLst/>
          </a:prstGeom>
          <a:ln w="0">
            <a:noFill/>
          </a:ln>
        </p:spPr>
      </p:pic>
      <p:sp>
        <p:nvSpPr>
          <p:cNvPr id="347" name="矩形 19"/>
          <p:cNvSpPr/>
          <p:nvPr/>
        </p:nvSpPr>
        <p:spPr>
          <a:xfrm>
            <a:off x="3348000" y="21319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一画。在本中画出不同的角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20"/>
          <p:cNvSpPr/>
          <p:nvPr/>
        </p:nvSpPr>
        <p:spPr>
          <a:xfrm>
            <a:off x="6084720" y="2124000"/>
            <a:ext cx="21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示对比图片，学习了解平移，旋转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矩形 21"/>
          <p:cNvSpPr/>
          <p:nvPr/>
        </p:nvSpPr>
        <p:spPr>
          <a:xfrm>
            <a:off x="787320" y="21337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图片方式，认识锐角，钝角 直角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9"/>
          <a:stretch/>
        </p:blipFill>
        <p:spPr>
          <a:xfrm>
            <a:off x="6875640" y="4437000"/>
            <a:ext cx="1234800" cy="12225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10"/>
          <a:stretch/>
        </p:blipFill>
        <p:spPr>
          <a:xfrm>
            <a:off x="684360" y="3933720"/>
            <a:ext cx="2179440" cy="1257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1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88889E-006 -3.7037E-006 L -3.88889E-006 0.09375 E">
                                      <p:cBhvr>
                                        <p:cTn id="608" dur="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88889E-006 -3.7037E-006 L -3.88889E-006 0.09375 E">
                                      <p:cBhvr>
                                        <p:cTn id="614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88889E-006 -3.7037E-006 L -3.88889E-006 0.09375 E">
                                      <p:cBhvr>
                                        <p:cTn id="620" dur="5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5E-006 4.40333E-006 L -2.5E-006 -0.21092 E">
                                      <p:cBhvr>
                                        <p:cTn id="626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-0.00416 L -4.44444E-006 -0.22456 E">
                                      <p:cBhvr>
                                        <p:cTn id="632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2.22222E-006 0.00486 L -2.22222E-006 -0.2049 E">
                                      <p:cBhvr>
                                        <p:cTn id="638" dur="5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2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5 0 E">
                                      <p:cBhvr>
                                        <p:cTn id="650" dur="1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5 0 E">
                                      <p:cBhvr>
                                        <p:cTn id="652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5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47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47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47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47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47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47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autoRev="1" nodeType="withEffect" fill="hold" presetClass="path" presetID="42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2.5E-006 -1.85185E-006 L 0.1309 -0.02199 E">
                                      <p:cBhvr>
                                        <p:cTn id="724" dur="5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5" nodeType="withEffect" fill="hold" presetClass="emph" presetID="8" repeatCount="indefinite">
                                  <p:stCondLst>
                                    <p:cond delay="1700"/>
                                  </p:stCondLst>
                                  <p:childTnLst>
                                    <p:animRot by="21600000">
                                      <p:cBhvr>
                                        <p:cTn id="726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白背景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5040" cy="5048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"/>
          <p:cNvPicPr/>
          <p:nvPr/>
        </p:nvPicPr>
        <p:blipFill>
          <a:blip r:embed="rId2"/>
          <a:stretch/>
        </p:blipFill>
        <p:spPr>
          <a:xfrm>
            <a:off x="324000" y="841320"/>
            <a:ext cx="2184120" cy="908280"/>
          </a:xfrm>
          <a:prstGeom prst="rect">
            <a:avLst/>
          </a:prstGeom>
          <a:ln w="0">
            <a:noFill/>
          </a:ln>
        </p:spPr>
      </p:pic>
      <p:pic>
        <p:nvPicPr>
          <p:cNvPr id="354" name="_Picture 4" descr=""/>
          <p:cNvPicPr/>
          <p:nvPr/>
        </p:nvPicPr>
        <p:blipFill>
          <a:blip r:embed="rId3"/>
          <a:stretch/>
        </p:blipFill>
        <p:spPr>
          <a:xfrm>
            <a:off x="325440" y="841320"/>
            <a:ext cx="2181240" cy="905040"/>
          </a:xfrm>
          <a:prstGeom prst="rect">
            <a:avLst/>
          </a:prstGeom>
          <a:ln w="0">
            <a:noFill/>
          </a:ln>
        </p:spPr>
      </p:pic>
      <p:sp>
        <p:nvSpPr>
          <p:cNvPr id="355" name="矩形 9"/>
          <p:cNvSpPr/>
          <p:nvPr/>
        </p:nvSpPr>
        <p:spPr>
          <a:xfrm>
            <a:off x="695160" y="484200"/>
            <a:ext cx="30240" cy="360360"/>
          </a:xfrm>
          <a:prstGeom prst="rect">
            <a:avLst/>
          </a:prstGeom>
          <a:solidFill>
            <a:srgbClr val="5a3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2108160" y="484200"/>
            <a:ext cx="28440" cy="360360"/>
          </a:xfrm>
          <a:prstGeom prst="rect">
            <a:avLst/>
          </a:prstGeom>
          <a:solidFill>
            <a:srgbClr val="5a3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分割线1"/>
          <p:cNvSpPr/>
          <p:nvPr/>
        </p:nvSpPr>
        <p:spPr>
          <a:xfrm>
            <a:off x="900000" y="3068640"/>
            <a:ext cx="7201080" cy="0"/>
          </a:xfrm>
          <a:prstGeom prst="line">
            <a:avLst/>
          </a:prstGeom>
          <a:ln w="3240">
            <a:solidFill>
              <a:srgbClr val="603f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矩形 8"/>
          <p:cNvSpPr/>
          <p:nvPr/>
        </p:nvSpPr>
        <p:spPr>
          <a:xfrm>
            <a:off x="2837880" y="1116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03f05"/>
                </a:solidFill>
                <a:latin typeface="时尚中黑简体"/>
                <a:ea typeface="时尚中黑简体"/>
              </a:rPr>
              <a:t>四边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矩形 3"/>
          <p:cNvSpPr/>
          <p:nvPr/>
        </p:nvSpPr>
        <p:spPr>
          <a:xfrm>
            <a:off x="826920" y="234936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示不同的四边形图形，让孩子认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矩形 4"/>
          <p:cNvSpPr/>
          <p:nvPr/>
        </p:nvSpPr>
        <p:spPr>
          <a:xfrm>
            <a:off x="3419640" y="234936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四边形引导孩子去认识平行四边形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11"/>
          <p:cNvSpPr/>
          <p:nvPr/>
        </p:nvSpPr>
        <p:spPr>
          <a:xfrm>
            <a:off x="5724360" y="220500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量一量，让孩子测量长方形，正方形边长，再求周长。最后找规律学习周长公式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4"/>
          <a:stretch/>
        </p:blipFill>
        <p:spPr>
          <a:xfrm>
            <a:off x="971640" y="3716280"/>
            <a:ext cx="1670040" cy="1511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5"/>
          <a:stretch/>
        </p:blipFill>
        <p:spPr>
          <a:xfrm>
            <a:off x="3276720" y="3573360"/>
            <a:ext cx="2163600" cy="20113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"/>
          <p:cNvPicPr/>
          <p:nvPr/>
        </p:nvPicPr>
        <p:blipFill>
          <a:blip r:embed="rId6"/>
          <a:stretch/>
        </p:blipFill>
        <p:spPr>
          <a:xfrm>
            <a:off x="5940360" y="3716280"/>
            <a:ext cx="2146320" cy="1706760"/>
          </a:xfrm>
          <a:prstGeom prst="rect">
            <a:avLst/>
          </a:prstGeom>
          <a:ln w="0">
            <a:noFill/>
          </a:ln>
        </p:spPr>
      </p:pic>
      <p:sp>
        <p:nvSpPr>
          <p:cNvPr id="365" name="矩形 23"/>
          <p:cNvSpPr/>
          <p:nvPr/>
        </p:nvSpPr>
        <p:spPr>
          <a:xfrm>
            <a:off x="3002760" y="1109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03f05"/>
                </a:solidFill>
                <a:latin typeface="时尚中黑简体"/>
                <a:ea typeface="时尚中黑简体"/>
              </a:rPr>
              <a:t>位置与方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矩形 24"/>
          <p:cNvSpPr/>
          <p:nvPr/>
        </p:nvSpPr>
        <p:spPr>
          <a:xfrm>
            <a:off x="824040" y="2421000"/>
            <a:ext cx="22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察事物所在的方向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矩形 27"/>
          <p:cNvSpPr/>
          <p:nvPr/>
        </p:nvSpPr>
        <p:spPr>
          <a:xfrm>
            <a:off x="3419640" y="227664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。制作学校建筑的平面方位图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矩形 28"/>
          <p:cNvSpPr/>
          <p:nvPr/>
        </p:nvSpPr>
        <p:spPr>
          <a:xfrm>
            <a:off x="5796000" y="219060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方位图。出示公园，游乐场所的示意图，找到自己要去地方的大体方位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11" descr=""/>
          <p:cNvPicPr/>
          <p:nvPr/>
        </p:nvPicPr>
        <p:blipFill>
          <a:blip r:embed="rId7"/>
          <a:stretch/>
        </p:blipFill>
        <p:spPr>
          <a:xfrm>
            <a:off x="684360" y="3213000"/>
            <a:ext cx="2577960" cy="2583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2" descr=""/>
          <p:cNvPicPr/>
          <p:nvPr/>
        </p:nvPicPr>
        <p:blipFill>
          <a:blip r:embed="rId8"/>
          <a:stretch/>
        </p:blipFill>
        <p:spPr>
          <a:xfrm>
            <a:off x="3419640" y="3716280"/>
            <a:ext cx="2657160" cy="1620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"/>
          <p:cNvPicPr/>
          <p:nvPr/>
        </p:nvPicPr>
        <p:blipFill>
          <a:blip r:embed="rId9"/>
          <a:stretch/>
        </p:blipFill>
        <p:spPr>
          <a:xfrm>
            <a:off x="5940360" y="3689280"/>
            <a:ext cx="2571840" cy="1684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1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526E-006 L -1.38889E-006 0.07191 E">
                                      <p:cBhvr>
                                        <p:cTn id="745" dur="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11111E-006 -3.3526E-006 L 1.11111E-006 0.06151 E">
                                      <p:cBhvr>
                                        <p:cTn id="751" dur="5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38889E-006 -3.98844E-006 L -1.38889E-006 0.05758 E">
                                      <p:cBhvr>
                                        <p:cTn id="757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5E-006 4.40333E-006 L -2.5E-006 -0.21092 E">
                                      <p:cBhvr>
                                        <p:cTn id="763" dur="5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44444E-006 -0.00416 L -4.44444E-006 -0.22456 E">
                                      <p:cBhvr>
                                        <p:cTn id="769" dur="5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22222E-006 0.00486 L -2.22222E-006 -0.2049 E">
                                      <p:cBhvr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9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5 0 E">
                                      <p:cBhvr>
                                        <p:cTn id="787" dur="1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5 0 E">
                                      <p:cBhvr>
                                        <p:cTn id="789" dur="1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47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47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47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47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47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47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白背景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5040" cy="5048280"/>
          </a:xfrm>
          <a:prstGeom prst="rect">
            <a:avLst/>
          </a:prstGeom>
          <a:ln w="0">
            <a:noFill/>
          </a:ln>
        </p:spPr>
      </p:pic>
      <p:pic>
        <p:nvPicPr>
          <p:cNvPr id="373" name="分割线1" descr=""/>
          <p:cNvPicPr/>
          <p:nvPr/>
        </p:nvPicPr>
        <p:blipFill>
          <a:blip r:embed="rId2"/>
          <a:stretch/>
        </p:blipFill>
        <p:spPr>
          <a:xfrm>
            <a:off x="907920" y="3068640"/>
            <a:ext cx="3389400" cy="12600"/>
          </a:xfrm>
          <a:prstGeom prst="rect">
            <a:avLst/>
          </a:prstGeom>
          <a:ln w="0">
            <a:noFill/>
          </a:ln>
        </p:spPr>
      </p:pic>
      <p:pic>
        <p:nvPicPr>
          <p:cNvPr id="374" name="分割线2" descr=""/>
          <p:cNvPicPr/>
          <p:nvPr/>
        </p:nvPicPr>
        <p:blipFill>
          <a:blip r:embed="rId3"/>
          <a:stretch/>
        </p:blipFill>
        <p:spPr>
          <a:xfrm>
            <a:off x="4932360" y="3068640"/>
            <a:ext cx="3389400" cy="12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4"/>
          <a:stretch/>
        </p:blipFill>
        <p:spPr>
          <a:xfrm>
            <a:off x="324000" y="841320"/>
            <a:ext cx="2184120" cy="908280"/>
          </a:xfrm>
          <a:prstGeom prst="rect">
            <a:avLst/>
          </a:prstGeom>
          <a:ln w="0">
            <a:noFill/>
          </a:ln>
        </p:spPr>
      </p:pic>
      <p:pic>
        <p:nvPicPr>
          <p:cNvPr id="376" name="_Picture 4" descr=""/>
          <p:cNvPicPr/>
          <p:nvPr/>
        </p:nvPicPr>
        <p:blipFill>
          <a:blip r:embed="rId5"/>
          <a:stretch/>
        </p:blipFill>
        <p:spPr>
          <a:xfrm>
            <a:off x="325440" y="841320"/>
            <a:ext cx="2181240" cy="905040"/>
          </a:xfrm>
          <a:prstGeom prst="rect">
            <a:avLst/>
          </a:prstGeom>
          <a:ln w="0">
            <a:noFill/>
          </a:ln>
        </p:spPr>
      </p:pic>
      <p:sp>
        <p:nvSpPr>
          <p:cNvPr id="377" name="矩形 9"/>
          <p:cNvSpPr/>
          <p:nvPr/>
        </p:nvSpPr>
        <p:spPr>
          <a:xfrm>
            <a:off x="695160" y="484200"/>
            <a:ext cx="30240" cy="360360"/>
          </a:xfrm>
          <a:prstGeom prst="rect">
            <a:avLst/>
          </a:prstGeom>
          <a:solidFill>
            <a:srgbClr val="5a3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2108160" y="484200"/>
            <a:ext cx="28440" cy="360360"/>
          </a:xfrm>
          <a:prstGeom prst="rect">
            <a:avLst/>
          </a:prstGeom>
          <a:solidFill>
            <a:srgbClr val="5a3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 11"/>
          <p:cNvSpPr/>
          <p:nvPr/>
        </p:nvSpPr>
        <p:spPr>
          <a:xfrm>
            <a:off x="3253680" y="1116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03f05"/>
                </a:solidFill>
                <a:latin typeface="时尚中黑简体"/>
                <a:ea typeface="时尚中黑简体"/>
              </a:rPr>
              <a:t>平行四边形和梯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1"/>
          <p:cNvSpPr/>
          <p:nvPr/>
        </p:nvSpPr>
        <p:spPr>
          <a:xfrm>
            <a:off x="1020600" y="2338560"/>
            <a:ext cx="305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并会画平行四边形与梯形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2"/>
          <p:cNvSpPr/>
          <p:nvPr/>
        </p:nvSpPr>
        <p:spPr>
          <a:xfrm>
            <a:off x="4943520" y="2227320"/>
            <a:ext cx="31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示平行四边形和梯形的高，上底下底，腰，让孩子掌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6"/>
          <a:stretch/>
        </p:blipFill>
        <p:spPr>
          <a:xfrm>
            <a:off x="4788000" y="3357720"/>
            <a:ext cx="3279600" cy="2592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7"/>
          <a:stretch/>
        </p:blipFill>
        <p:spPr>
          <a:xfrm>
            <a:off x="1116000" y="3357720"/>
            <a:ext cx="3052800" cy="2104920"/>
          </a:xfrm>
          <a:prstGeom prst="rect">
            <a:avLst/>
          </a:prstGeom>
          <a:ln w="0">
            <a:noFill/>
          </a:ln>
        </p:spPr>
      </p:pic>
      <p:sp>
        <p:nvSpPr>
          <p:cNvPr id="384" name="矩形 30"/>
          <p:cNvSpPr/>
          <p:nvPr/>
        </p:nvSpPr>
        <p:spPr>
          <a:xfrm>
            <a:off x="1378440" y="177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03f05"/>
                </a:solidFill>
                <a:latin typeface="时尚中黑简体"/>
                <a:ea typeface="时尚中黑简体"/>
              </a:rPr>
              <a:t>位置方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38"/>
          <p:cNvSpPr/>
          <p:nvPr/>
        </p:nvSpPr>
        <p:spPr>
          <a:xfrm>
            <a:off x="1103400" y="2349360"/>
            <a:ext cx="31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角度的方式认识方位，比如偏北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度。出示示意图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矩形 39"/>
          <p:cNvSpPr/>
          <p:nvPr/>
        </p:nvSpPr>
        <p:spPr>
          <a:xfrm>
            <a:off x="4895280" y="184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03f05"/>
                </a:solidFill>
                <a:latin typeface="时尚中黑简体"/>
                <a:ea typeface="时尚中黑简体"/>
              </a:rPr>
              <a:t>三角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矩形 41"/>
          <p:cNvSpPr/>
          <p:nvPr/>
        </p:nvSpPr>
        <p:spPr>
          <a:xfrm>
            <a:off x="4932360" y="2637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观察找三角形的定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8"/>
          <a:stretch/>
        </p:blipFill>
        <p:spPr>
          <a:xfrm>
            <a:off x="1692360" y="3429000"/>
            <a:ext cx="2158920" cy="2060640"/>
          </a:xfrm>
          <a:prstGeom prst="rect">
            <a:avLst/>
          </a:prstGeom>
          <a:ln w="0">
            <a:noFill/>
          </a:ln>
        </p:spPr>
      </p:pic>
      <p:sp>
        <p:nvSpPr>
          <p:cNvPr id="389" name="矩形 42"/>
          <p:cNvSpPr/>
          <p:nvPr/>
        </p:nvSpPr>
        <p:spPr>
          <a:xfrm>
            <a:off x="4932360" y="450864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三角内角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矩形 43"/>
          <p:cNvSpPr/>
          <p:nvPr/>
        </p:nvSpPr>
        <p:spPr>
          <a:xfrm>
            <a:off x="4932360" y="39337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给三角分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矩形 44"/>
          <p:cNvSpPr/>
          <p:nvPr/>
        </p:nvSpPr>
        <p:spPr>
          <a:xfrm>
            <a:off x="4932360" y="328464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，会画高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1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5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1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5 0 E">
                                      <p:cBhvr>
                                        <p:cTn id="899" dur="1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5 0 E">
                                      <p:cBhvr>
                                        <p:cTn id="901" dur="1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53" presetSubtype="3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53" presetSubtype="3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53" presetSubtype="3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8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53" presetSubtype="3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3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2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2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2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2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3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3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3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3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path" presetID="42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2.77778E-006 3.7037E-007 L -2.77778E-006 0.3037 E">
                                      <p:cBhvr>
                                        <p:cTn id="958" dur="6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5:42:26Z</dcterms:created>
  <dc:creator>Administrator</dc:creator>
  <dc:description/>
  <dc:language>en-US</dc:language>
  <cp:lastModifiedBy>Spine</cp:lastModifiedBy>
  <cp:lastPrinted>1899-12-30T00:00:00Z</cp:lastPrinted>
  <dcterms:modified xsi:type="dcterms:W3CDTF">2013-04-14T10:52:57Z</dcterms:modified>
  <cp:revision>20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