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C69-0FF0-4E00-B82F-2189D090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1DE-038D-4904-AF79-8CA8617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654-483A-43B3-8599-458AFA17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40F-D5BA-47DB-939D-47E9292B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8F2-EEAB-4F7C-B3FF-9CD25897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D2E4-F2FD-4E6D-9A5E-5F7BE16E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8CBC-001B-4AAD-AF4A-DEB80358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E75E-A2FF-4C2F-BCAE-641602F2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6DBD-22BC-433A-B2F4-D50E7B60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141-E8C1-4F5C-825D-9056C3C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B5BC-413E-4135-B079-7740B65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7A5-EE7A-43BD-8207-DD515F5B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84FF-E9A5-462B-A2D8-4D85369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9A2-7454-45DE-A16D-1828F28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6514-CBE3-40CF-A476-A35C3DD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DBE-75A1-418A-8E2D-7E440B05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D2FB-8C88-4DC2-8951-3E15F5FE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6A6-E16D-4B9D-834E-90DCDEB8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CC9-AF7E-4913-968F-CEAC6F6B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D5C-B246-4381-8F77-6015954A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1AB-3849-48C7-B1FC-7FF93409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69E-7EC1-4F59-8E4D-AF73CC3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38D-F9BD-4707-95AD-F252F75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415-EF4E-4028-9912-3274AA4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1FF2-2738-4D18-80F6-6069E8785C0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29A-2592-4D59-BC52-087A81B2390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2843280" cy="2519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0400" y="404640"/>
            <a:ext cx="5943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胜败兵家事不期，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包羞忍耻是男儿。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江东子弟多才俊，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卷土重来未可知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51814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3506760"/>
            <a:ext cx="71629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宋体"/>
              </a:rPr>
              <a:t>解说</a:t>
            </a:r>
            <a:r>
              <a:rPr b="1" lang="zh-CN" sz="2800" spc="-1" strike="noStrike">
                <a:solidFill>
                  <a:srgbClr val="7979a5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胜败是兵家的常事难以预料，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能忍辱负重才算是堂堂的男子汉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江东子弟中多有人才俊杰，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说不定还能在整旗鼓卷土重来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8520" y="2421000"/>
            <a:ext cx="850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79a5"/>
                </a:solidFill>
                <a:latin typeface="华文新魏"/>
                <a:ea typeface="华文新魏"/>
              </a:rPr>
              <a:t>题</a:t>
            </a:r>
            <a:r>
              <a:rPr b="1" lang="zh-CN" sz="4400" spc="-1" strike="noStrike">
                <a:solidFill>
                  <a:srgbClr val="7979a5"/>
                </a:solidFill>
                <a:latin typeface="华文新魏"/>
                <a:ea typeface="华文新魏"/>
              </a:rPr>
              <a:t> 乌 江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7979a5"/>
                </a:solidFill>
                <a:latin typeface="华文新魏"/>
                <a:ea typeface="华文新魏"/>
              </a:rPr>
              <a:t>亭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0760" y="4724280"/>
            <a:ext cx="91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10"/>
                </a:solidFill>
                <a:latin typeface="Times New Roman"/>
              </a:rPr>
              <a:t>杜  牧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52680" y="914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                                 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  <a:ea typeface="华文彩云"/>
              </a:rPr>
              <a:t>卷土重来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 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成语“卷土重来”不难理解，常以其比喻在失败之后，并不灰心，重整旗鼓，重新再干。这来自唐代诗人杜牧的《题乌江亭》诗：“胜败兵家不可期，包羞忍耻是男儿；江东子弟多才俊，卷土重来未可知。”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808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895840" cy="2901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2708280"/>
            <a:ext cx="5562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宋体"/>
              </a:rPr>
              <a:t>注释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乌江亭：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地名，楚汉战争时，项   羽逃到乌江自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期：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预料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包羞忍耻：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能忍受失败、挫折等羞辱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江东：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指江南，项羽起兵的地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4168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写作背景：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996633"/>
                </a:solidFill>
                <a:latin typeface="宋体"/>
              </a:rPr>
              <a:t>那是楚汉相争之时，最后刘邦取得了胜利，他包围了项羽，虽楚霸王后来突围，但只剩下了二十八名残兵败将，逃到了乌江（即现在安徽省乌江镇）。汉军的数千追兵仍在穷追不舍。此时乌江亭长驾着一条小船来接应项羽说：“江东虽小，但是亦有千里土地，数十万人口，你仍可在江东为王。所以，请你快上船渡江吧！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907920"/>
            <a:ext cx="86598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6633"/>
                </a:solidFill>
                <a:latin typeface="宋体"/>
              </a:rPr>
              <a:t>项羽苦笑着说：“天意要亡我，渡江还有什么意思呢？何况，当年同我一起渡江西进的八千江东子弟，而今无一生还，即使江东父老还能拥戴我为王，我已到今日这般天地，自己还有脸面见他们吧？”项羽说完，立即拔剑自刎而死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6633"/>
                </a:solidFill>
                <a:latin typeface="宋体"/>
              </a:rPr>
              <a:t>杜牧后来游览项羽自杀之地，感慨万千。他写的《题乌江亭》诗中“卷土重来未可知”，即感叹若项羽当年没自杀身亡，而是渡江积蓄力量，再与刘邦较量，那么，谁胜谁负还很难说呢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5805360"/>
            <a:ext cx="172692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101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1010"/>
                </a:solidFill>
                <a:latin typeface="Arial"/>
              </a:rPr>
              <a:t>写作背景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5000"/>
            <a:ext cx="896472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诗歌赏析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996633"/>
                </a:solidFill>
                <a:latin typeface="华文新魏"/>
                <a:ea typeface="华文新魏"/>
              </a:rPr>
              <a:t>首句直截了当地指出胜败乃兵家之常这一普通常识，并暗示关键在于如何对待的问题，为以下作好铺垫。“事不期”，是说胜败的事，不能预料。</a:t>
            </a: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华文新魏"/>
                <a:ea typeface="华文新魏"/>
              </a:rPr>
              <a:t>     次句强调指出只有“包羞忍耻”，才是“男儿”。项羽遭到挫折便灰心丧气，含羞自刎，怎么算得上真下的“男儿”呢？“男儿”二字，令人联想到自诩为力能拔山，气可盖世的西楚霸王，直到临死，还未找到自己失败的原因，只是归咎于“时不利”而羞愤自杀，有愧于他的“英雄”称号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906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76280"/>
            <a:ext cx="889308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        </a:t>
            </a:r>
            <a:r>
              <a:rPr b="1" lang="zh-CN" sz="2800" spc="-1" strike="noStrike">
                <a:solidFill>
                  <a:srgbClr val="996633"/>
                </a:solidFill>
                <a:latin typeface="华文新魏"/>
                <a:ea typeface="华文新魏"/>
              </a:rPr>
              <a:t>第三句“江东子弟多才俊”，是对亭长建议“江东虽小，地方千里，众数十万人，亦足王也”的艺术概括。人们历来欣赏项羽“无面见江东父兄”一语，认为表现了他的气节。其实这恰好反映了他的刚愎自用，听不进亭长忠言。他错过了韩信，气死了范增，确是愚蠢得可笑。然而在这最后关头，如果他能面对现实，“包羞忍耻”，采纳忠言，重返江东，再整旗鼓，则胜负之数，或未易量。这就又落脚到了末句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5805360"/>
            <a:ext cx="1726920" cy="368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101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1010"/>
                </a:solidFill>
                <a:latin typeface="Arial"/>
              </a:rPr>
              <a:t>诗歌赏析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197000"/>
            <a:ext cx="817560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996633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996633"/>
                </a:solidFill>
                <a:latin typeface="华文新魏"/>
                <a:ea typeface="华文新魏"/>
              </a:rPr>
              <a:t>卷土重来未可知”，是全诗最得力的句子，其意盖谓如能做到这样，还是大有可为的；可惜的是项羽却不肯放下架子而自刎了。这样就为上面一、二两句提供了有力的依据，而这样急转直下，一气呵成，令人想见“江东子弟”“卷土重来”的情状，是颇有气势的。同时，在惋惜、批判、讽刺之余，又表明了“败不馁”的道理，也是颇有积极意义的。</a:t>
            </a: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华文新魏"/>
                <a:ea typeface="华文新魏"/>
              </a:rPr>
              <a:t>   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5805360"/>
            <a:ext cx="1726920" cy="368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101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1010"/>
                </a:solidFill>
                <a:latin typeface="Arial"/>
              </a:rPr>
              <a:t>诗歌赏析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07:30:20Z</dcterms:created>
  <dc:creator>123</dc:creator>
  <dc:description/>
  <dc:language>en-US</dc:language>
  <cp:lastModifiedBy>雨林木风</cp:lastModifiedBy>
  <dcterms:modified xsi:type="dcterms:W3CDTF">2009-01-03T13:12:12Z</dcterms:modified>
  <cp:revision>16</cp:revision>
  <dc:subject/>
  <dc:title>PowerPoint 演示文稿</dc:title>
</cp:coreProperties>
</file>