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C8BB-0290-4509-83CA-52B7B51D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86F-7A15-4B26-9115-02DE0CB7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8C7E-9DB6-4254-894B-E04C5D6F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FFB-38FF-47F2-A57F-EF92B048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014-5801-446E-94E6-4713D2D7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E30-9FFE-4DF1-BD4F-DCFA17B3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060-7C64-4CFD-9B44-5F341353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5B4-902D-4B38-BCF3-1E9F3CD3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A91C-BBBC-4C73-A1B2-4D44B006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46F-BF32-4D77-88E5-4F0D76A4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5F6-5885-4454-8622-D66920C9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36C-C451-4232-8494-59B071C6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F63E-513A-4959-81BC-AA88DF7B96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70120" y="4495680"/>
            <a:ext cx="546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龙" descr=""/>
          <p:cNvPicPr/>
          <p:nvPr/>
        </p:nvPicPr>
        <p:blipFill>
          <a:blip r:embed="rId1"/>
          <a:stretch/>
        </p:blipFill>
        <p:spPr>
          <a:xfrm>
            <a:off x="3429000" y="685800"/>
            <a:ext cx="4800600" cy="4989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43200" y="57913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荷花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 rot="5400000">
            <a:off x="704520" y="4552920"/>
            <a:ext cx="22482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8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谢谢观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14600" y="380880"/>
            <a:ext cx="59436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胜败兵家事不期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包羞忍耻是男儿。</a:t>
            </a:r>
            <a:r>
              <a:rPr b="1" lang="zh-CN" sz="3600" spc="-1" strike="noStrike">
                <a:solidFill>
                  <a:srgbClr val="3366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东子弟多才俊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卷土重来未可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51814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3429000"/>
            <a:ext cx="71629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解说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胜败是兵家的常事难以预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能忍辱负重才算是堂堂的男子汉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江东子弟中多有人才俊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说不定还能在整旗鼓卷土重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50840" y="1219320"/>
            <a:ext cx="549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5320" y="990720"/>
            <a:ext cx="1563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题      乌       江     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11280" y="5334120"/>
            <a:ext cx="546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杜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6920" y="5334120"/>
            <a:ext cx="911880" cy="761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杜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352680" y="914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0"/>
            <a:ext cx="6705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                       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卷土重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成语“卷土重来”不难理解，常以其比喻在失败之后，并不灰心，重整旗鼓，重新再干。这来自唐代诗人杜牧的《题乌江亭》诗：“胜败兵家不可期，包羞忍耻是男儿；江东子弟多才俊，卷土重来未可知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18080" y="398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48" descr=""/>
          <p:cNvPicPr/>
          <p:nvPr/>
        </p:nvPicPr>
        <p:blipFill>
          <a:blip r:embed="rId1"/>
          <a:stretch/>
        </p:blipFill>
        <p:spPr>
          <a:xfrm>
            <a:off x="2362320" y="5108400"/>
            <a:ext cx="2895480" cy="1749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124080" y="2666880"/>
            <a:ext cx="5562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注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华文新魏"/>
                <a:ea typeface="华文新魏"/>
              </a:rPr>
              <a:t>乌江亭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名，楚汉战争时，项   羽逃到乌江自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华文新魏"/>
                <a:ea typeface="华文新魏"/>
              </a:rPr>
              <a:t>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华文新魏"/>
                <a:ea typeface="华文新魏"/>
              </a:rPr>
              <a:t>包羞忍耻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忍受失败、挫折等羞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华文新魏"/>
                <a:ea typeface="华文新魏"/>
              </a:rPr>
              <a:t>江东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指江南，项羽起兵的地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1460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那是楚汉相争之时，最后刘邦取得了胜利，他包围了项羽，虽楚霸王后来突围，但只剩下了二十八名残兵败将，逃到了乌江（即现在安徽省乌江镇）。汉军的数千追兵仍在穷追不舍。此时乌江亭长驾着一条小船来接应项羽说：“江东虽小，但是亦有千里土地，数十万人口，你仍可在江东为王。所以，请你快上船渡江吧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438280" y="0"/>
            <a:ext cx="6400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项羽苦笑着说：“天意要亡我，渡江还有什么意思呢？何况，当年同我一起渡江西进的八千江东子弟，而今无一生还，即使江东父老还能拥戴我为王，我已到今日这般天地，自己还有脸面见他们吧？”项羽说完，立即拔剑自刎而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杜牧后来游览项羽自杀之地，感慨万千。他写的《题乌江亭》诗中“卷土重来未可知”，即感叹若项羽当年没自杀身亡，而是渡江积蓄力量，再与刘邦较量，那么，谁胜谁负还很难说呢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23000">
            <a:off x="7848360" y="5590800"/>
            <a:ext cx="1295280" cy="1266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971800" y="0"/>
            <a:ext cx="556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华文新魏"/>
                <a:ea typeface="华文新魏"/>
              </a:rPr>
              <a:t>杜牧会昌中官池州刺史时，过乌江亭，写了这首咏史诗。“乌江亭”即现在安徽和县东北的乌江浦，旧传是项羽自刎之处。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华文新魏"/>
                <a:ea typeface="华文新魏"/>
              </a:rPr>
              <a:t>    项羽溃围来到乌江，亭长建议渡江，他愧对江东父兄，羞愤自杀。这首诗针对项羽兵败身亡的史实，批评他不能总结失败的教训，惋惜他的“英雄”事业归于覆灭，同时暗寓讽刺之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362320" y="228600"/>
            <a:ext cx="6781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华文新魏"/>
                <a:ea typeface="华文新魏"/>
              </a:rPr>
              <a:t>首句直截了当地指出胜败乃兵家之常这一普通常识，并暗示关键在于如何对待的问题，为以下作好铺垫。“事不期”，是说胜败的事，不能预料。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华文新魏"/>
                <a:ea typeface="华文新魏"/>
              </a:rPr>
              <a:t>    次句强调指出只有“包羞忍耻”，才是“男儿”。项羽遭到挫折便灰心丧气，含羞自刎，怎么算得上真下的“男儿”呢？“男儿”二字，令人联想到自诩为力能拔山，气可盖世的西楚霸王，直到临死，还未找到自己失败的原因，只是归咎于“时不利”而羞愤自杀，有愧于他的“英雄”称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9060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-228600"/>
            <a:ext cx="66294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    </a:t>
            </a:r>
            <a:r>
              <a:rPr b="1" lang="zh-CN" sz="3200" spc="-1" strike="noStrike">
                <a:solidFill>
                  <a:srgbClr val="336600"/>
                </a:solidFill>
                <a:latin typeface="华文新魏"/>
                <a:ea typeface="华文新魏"/>
              </a:rPr>
              <a:t>第三句“江东子弟多才俊”，是对亭长建议“江东虽小，地方千里，众数十万人，亦足王也”的艺术概括。人们历来欣赏项羽“无面见江东父兄”一语，认为表现了他的气节。其实这恰好反映了他的刚愎自用，听不进亭长忠言。他错过了韩信，气死了范增，确是愚蠢得可笑。然而在这最后关头，如果他能面对现实，“包羞忍耻”，采纳忠言，重返江东，再整旗鼓，则胜负之数，或未易量。这就又落脚到了末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14600" y="380880"/>
            <a:ext cx="598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336600"/>
                </a:solidFill>
                <a:latin typeface="华文新魏"/>
                <a:ea typeface="华文新魏"/>
              </a:rPr>
              <a:t>卷土重来未可知”，是全诗最得力的句子，其意盖谓如能做到这样，还是大有可为的；可惜的是项羽却不肯放下架子而自刎了。这样就为上面一、二两句提供了有力的依据，而这样急转直下，一气呵成，令人想见“江东子弟”“卷土重来”的情状，是颇有气势的。同时，在惋惜、批判、讽刺之余，又表明了“败不馁”的道理，也是颇有积极意义的。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华文新魏"/>
                <a:ea typeface="华文新魏"/>
              </a:rPr>
              <a:t>    （陶道恕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07:30:20Z</dcterms:created>
  <dc:creator>123</dc:creator>
  <dc:description/>
  <dc:language>en-US</dc:language>
  <cp:lastModifiedBy>csq</cp:lastModifiedBy>
  <dcterms:modified xsi:type="dcterms:W3CDTF">2001-01-03T06:37:07Z</dcterms:modified>
  <cp:revision>14</cp:revision>
  <dc:subject/>
  <dc:title>PowerPoint 演示文稿</dc:title>
</cp:coreProperties>
</file>