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TYPE.WAV" ContentType="audio/x-wav"/>
  <Override PartName="/ppt/media/image6.jpeg" ContentType="image/jpeg"/>
  <Override PartName="/ppt/media/glass.wav" ContentType="audio/x-wav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chimes.wav" ContentType="audio/x-wav"/>
  <Override PartName="/ppt/media/image14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AFFC-9D87-4AF2-9BBD-F7A16395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C0C5-571D-4260-AE17-14BFBEAD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D12-0B58-4544-9C78-8E849591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736-70C5-45C3-A1F2-094286F1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1064-02A3-431D-8652-2940434C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EA9-5235-4000-9FD9-274A0A4F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B7A-0ECE-4DDD-B4BE-5A38ECFE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1B0-3241-4C60-A408-FCCF86CB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F66-95F2-4BD8-9EBE-F53E68DB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70F9-931B-40A9-97BA-21A7D485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CB1D-2AD7-47B9-B60C-64BC43C4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DFD-771A-4E14-BB38-23BF4148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6FBC-F153-46E4-9D69-78A2FA57D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a2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48080" y="64080"/>
            <a:ext cx="66780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滕王阁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王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2120" y="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  <a:ea typeface="隶书"/>
              </a:rPr>
              <a:t>文学故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王勃著</a:t>
            </a:r>
            <a:r>
              <a:rPr b="0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滕王阁序</a:t>
            </a:r>
            <a:r>
              <a:rPr b="0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时年十四。都督阎公不之信。勃虽在座，而阎公意属子婿孟学士者为之，已宿构矣。及以纸笔巡让宾客，勃不辞让。公大怒，拂衣而起，专令人伺其下笔。第一报云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南昌故郡，洪都新府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，公曰：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是亦老生谈。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又报云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星分翼轸，地接衡庐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，公闻之，沈吟不言。又云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落霞与孤鹜齐飞，秋水共长天一色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，公矍然而起，曰：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此真天才，当垂不朽矣！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遂亟请宴所，极欢而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——</a:t>
            </a:r>
            <a:r>
              <a:rPr b="0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唐摭言</a:t>
            </a:r>
            <a:r>
              <a:rPr b="0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（卷五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Times New Roman"/>
                <a:ea typeface="隶书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王勃，字子安，初唐四杰之一。六岁便善写文章。人称神童。据说 约十五岁时被荐于朝任职。后因写文章得罪权贵而被革职。约二十六岁时前往交趾探望家父，路过南昌，赴都督阎某在滕王阁的宴会，赋诗并作序。后在赴探亲途中渡海溺水，惊悸而死。</a:t>
            </a:r>
            <a:r>
              <a:rPr b="0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滕王阁序</a:t>
            </a:r>
            <a:r>
              <a:rPr b="0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遂成为他的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绝唱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（初唐四杰：王勃、杨炯、卢照邻、骆宾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3733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翼轸（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襟（     ） 三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鹤汀（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凫（  ）渚（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川泽纡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孤鹜（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樽（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迥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南溟（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胜筵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梓（   ）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362320" y="685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ě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962520" y="6858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二十星宿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981080" y="1143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ī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962520" y="11430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上衣、袍子前面的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286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ī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038480" y="1676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水边平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90512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200400" y="2057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3962520" y="20574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凫：野鸭。渚：水中间的小块陆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26668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4038480" y="25909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迂回曲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23623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4038480" y="3048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野鸭，名词。（骛：纵横奔驰，动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19810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ū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4114800" y="3505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古代盛酒器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1981080" y="3962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ŏ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11480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2362320" y="4419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4038480" y="4495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251460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4038480" y="4952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古代席地而坐时铺的席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21337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4038480" y="54864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梓树，与“桑”相连，借指故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bei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071360" y="228600"/>
            <a:ext cx="9115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99"/>
                </a:solidFill>
                <a:latin typeface="Times New Roman"/>
                <a:ea typeface="隶书"/>
              </a:rPr>
              <a:t>关  于  骈  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86000" y="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魏晋以后出现的一种新文体，又称骈俪文。骈文本义即是对偶文的意思，是从中国古代文章中的一种修辞手法演变来的。骈文的主要特点是要求通篇文章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句法结构相互对称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词语对偶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在声韵上，骈文讲究运用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平仄，音律和谐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修辞上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注重藻饰和用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"/>
          <p:cNvSpPr/>
          <p:nvPr/>
        </p:nvSpPr>
        <p:spPr>
          <a:xfrm flipH="1">
            <a:off x="3352680" y="762120"/>
            <a:ext cx="763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 flipH="1">
            <a:off x="5486400" y="762120"/>
            <a:ext cx="763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 flipH="1">
            <a:off x="3733560" y="1981080"/>
            <a:ext cx="1522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 flipH="1">
            <a:off x="6781680" y="1905120"/>
            <a:ext cx="763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2895480" y="2514600"/>
            <a:ext cx="15264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 flipH="1">
            <a:off x="5867280" y="2514600"/>
            <a:ext cx="15264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 flipH="1">
            <a:off x="4190760" y="3200400"/>
            <a:ext cx="7596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 flipH="1">
            <a:off x="3352680" y="3733920"/>
            <a:ext cx="763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 flipH="1">
            <a:off x="6324480" y="3809880"/>
            <a:ext cx="763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 flipH="1">
            <a:off x="3809880" y="5029200"/>
            <a:ext cx="15264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 flipH="1">
            <a:off x="6933960" y="5029200"/>
            <a:ext cx="1522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 flipH="1">
            <a:off x="3276360" y="5562720"/>
            <a:ext cx="22860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6476760" y="5638680"/>
            <a:ext cx="15228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 flipH="1">
            <a:off x="4114440" y="6248520"/>
            <a:ext cx="15228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7">
            <a:hlinkClick r:id="rId1" action="ppaction://hlinksldjump"/>
          </p:cNvPr>
          <p:cNvSpPr/>
          <p:nvPr/>
        </p:nvSpPr>
        <p:spPr>
          <a:xfrm>
            <a:off x="8610480" y="63244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2124000" y="0"/>
            <a:ext cx="716292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cc"/>
                </a:solidFill>
                <a:latin typeface="华文行楷"/>
                <a:ea typeface="华文行楷"/>
              </a:rPr>
              <a:t>四字句读法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豫章故郡，洪都新府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cc"/>
                </a:solidFill>
                <a:latin typeface="华文行楷"/>
                <a:ea typeface="华文行楷"/>
              </a:rPr>
              <a:t>六字句读法</a:t>
            </a:r>
            <a:r>
              <a:rPr b="1" lang="zh-CN" sz="3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zh-CN" sz="3400" spc="-1" strike="noStrike">
                <a:solidFill>
                  <a:srgbClr val="3333cc"/>
                </a:solidFill>
                <a:latin typeface="华文行楷"/>
                <a:ea typeface="华文行楷"/>
              </a:rPr>
              <a:t>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孟学士之词宗；访风景于崇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临帝子之长洲；穷岛屿之萦回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钟鸣鼎食之家；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谁悲失路之人；声断衡阳之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cc"/>
                </a:solidFill>
                <a:latin typeface="华文行楷"/>
                <a:ea typeface="华文行楷"/>
              </a:rPr>
              <a:t>七字句读法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襟三江而带五湖  潦水尽而寒潭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龙光射牛斗之墟  宾主尽东南之美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都督阎公之雅望</a:t>
            </a: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765000" y="639720"/>
            <a:ext cx="91152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66ff"/>
                </a:solidFill>
                <a:latin typeface="Times New Roman"/>
              </a:rPr>
              <a:t>读   法   指   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  <a:ea typeface="隶书"/>
              </a:rPr>
              <a:t>整 体把握全文框架，划分文章层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全文分为四部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第一部分：“南昌故都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-----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躬逢胜饯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第二部分：“时维九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-----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声断衡阳之浦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第三部分：“遥襟甫畅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-----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岂效穷途之哭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第四部分：“勃，三尺微命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-----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各倾陆海云尔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   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隶书"/>
              </a:rPr>
              <a:t>文章分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一部分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南昌故郡，洪都新府。星分翼轸，地接衡庐。襟三江而带五湖，控蛮荆而引瓯越。物华天宝，龙光射牛斗之墟；人杰地灵，徐孺下陈蕃之榻。雄州雾列，俊采星驰，台隍枕夷夏之交，宾主尽东南之美。都督阎公之雅望，棨戟遥临；宇文新州之懿范，襜帷暂驻。十旬休假，胜友如云；千里逢迎，高朋满座。腾蛟起凤，孟学士之词宗；紫电青霜，王将军之武库。家君作宰，路出名区；童子何知，躬逢胜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75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75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-53388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分析第一部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历史悠久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南昌故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洪都新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界域广阔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星分翼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控蛮荆而引瓯越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雄州雾列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台隍枕夷夏之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人物之盛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物华天宝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徐孺下陈蕃之榻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俊彩星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宾主尽东南之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主宾盛宴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都督阎公之雅望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躬逢胜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789920" y="453960"/>
            <a:ext cx="288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豫章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故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郡  洪都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新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5791320" y="609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340400" y="533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历史变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805760" y="1752480"/>
            <a:ext cx="288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星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分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翼轸  地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接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衡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708920" y="2743200"/>
            <a:ext cx="231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襟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三江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带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五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控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蛮荆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引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瓯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805760" y="452772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物华天宝  人杰地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857960" y="537372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雄州雾列  俊采星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579132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7340400" y="1752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文位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867280" y="3124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7340400" y="2971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理位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533520" y="838080"/>
            <a:ext cx="228600" cy="3048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-105480" y="165168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盛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838080" y="472428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3960" y="459180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嘉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部分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时维九月，序属三秋。潦水尽而寒潭清，烟光凝而暮山紫。俨骖騑于上路，访风景于崇阿。临帝子之长洲，得仙人之旧馆。层台耸翠，上出重霄；飞阁流丹，下临无地。鹤汀凫渚，穷岛屿之萦回；桂殿兰宫，即冈峦之体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披绣闼，俯雕甍，山原旷其盈视，川泽纡其骇瞩。闾阎扑地，钟鸣鼎食之家；舸舰弥津，青雀黄龙之轴。云销雨霁，彩彻区明。落霞与孤鹜齐飞，秋水共长天一色。渔舟唱晚，响穷彭蠡之滨；雁阵惊寒，声断衡阳之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75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75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75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中国古代四大名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64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滕      王      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岳      阳      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黄      鹤      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蓬      莱      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分析第二部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2360" y="609120"/>
            <a:ext cx="784548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交代时间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时维九月，序属三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描绘秋景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潦水尽而寒潭清，烟光凝而暮山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赴阁途中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俨骖鲱于上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得仙人之旧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楼阁四周山水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层峦耸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即冈峦之体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登阁 远眺所见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披绣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声断衡阳之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千古名句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落霞与孤鹜齐飞，秋水共长天一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609480" y="6094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Times New Roman"/>
                <a:ea typeface="楷体_GB2312"/>
              </a:rPr>
              <a:t>秋水秋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124080" y="0"/>
            <a:ext cx="243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Times New Roman"/>
                <a:ea typeface="楷体_GB2312"/>
              </a:rPr>
              <a:t>九月三秋  水尽潭清  光凝山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895480" y="304920"/>
            <a:ext cx="76320" cy="1295280"/>
          </a:xfrm>
          <a:custGeom>
            <a:avLst/>
            <a:gdLst>
              <a:gd name="textAreaLeft" fmla="*/ 48960 w 76320"/>
              <a:gd name="textAreaRight" fmla="*/ 76320 w 763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57200" y="20574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Times New Roman"/>
                <a:ea typeface="楷体_GB2312"/>
              </a:rPr>
              <a:t>来阁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971800" y="182880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Times New Roman"/>
                <a:ea typeface="楷体_GB2312"/>
              </a:rPr>
              <a:t>俨骖騑，访风景  临长洲，得旧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895480" y="20574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85800" y="43434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Times New Roman"/>
                <a:ea typeface="楷体_GB2312"/>
              </a:rPr>
              <a:t>阁之所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3200400" y="3505320"/>
            <a:ext cx="2895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Times New Roman"/>
                <a:ea typeface="楷体_GB2312"/>
              </a:rPr>
              <a:t>层峦  上出    飞阁  下临      汀渚穷萦回    殿宫即体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3048120" y="380988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7086600" y="5867280"/>
            <a:ext cx="205740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7391520" y="60199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按提纲 背诵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feinia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762120" y="3049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登临之状：披闼  俯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838080" y="243828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远望之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2209680" y="12952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山川之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72000" y="990720"/>
            <a:ext cx="190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山原旷  川泽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4495680" y="12952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209680" y="26668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人烟之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4648320" y="2362320"/>
            <a:ext cx="236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闾阎扑地  舸舰弥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4572000" y="26668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2209680" y="40384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雨后天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4572000" y="373392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云  雨  彩  区         落霞孤鹜  秋水长天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4572000" y="40384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2362320" y="54100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人鸟共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4800600" y="5105520"/>
            <a:ext cx="266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渔舟唱晚  雁阵惊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4800600" y="54864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7"/>
          <p:cNvSpPr/>
          <p:nvPr/>
        </p:nvSpPr>
        <p:spPr>
          <a:xfrm>
            <a:off x="2133720" y="1600200"/>
            <a:ext cx="152280" cy="4343400"/>
          </a:xfrm>
          <a:custGeom>
            <a:avLst/>
            <a:gdLst>
              <a:gd name="textAreaLeft" fmla="*/ 97200 w 152280"/>
              <a:gd name="textAreaRight" fmla="*/ 152640 w 15228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8"/>
          <p:cNvSpPr/>
          <p:nvPr/>
        </p:nvSpPr>
        <p:spPr>
          <a:xfrm>
            <a:off x="7086600" y="228600"/>
            <a:ext cx="205740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7391520" y="2286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按提纲 背诵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赏析名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方正北魏楷书简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方正北魏楷书简体"/>
                <a:ea typeface="方正北魏楷书简体"/>
              </a:rPr>
              <a:t>潦水尽而寒潭清，烟光凝而暮山紫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北魏楷书简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翻译：蓄积的雨水已消尽，潭水寒冷而清澈，烟光雾气凝结傍晚的山峦呈现出紫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析：作者善用灵活多变的笔法描写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山容水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表现楼台壮观，从而把读者带人身临其境的审美境地。“潦水尽而寒潭清，烟光凝而暮山紫”写出了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色彩变化之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这两句不在于静止的画面色彩，而着力表现水光山色的色彩变幻：寒潭之水因积水退尽而一片清明；傍晚的山峦因暮霭笼罩而呈紫色。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上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设色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淡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下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设色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在色彩的浓淡对比中，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突出秋日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特征，被前人誉为“写尽九月之景”。</a:t>
            </a:r>
            <a:r>
              <a:rPr b="1" lang="zh-CN" sz="28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9924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611280" y="1197000"/>
            <a:ext cx="813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落霞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与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孤鹜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齐飞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秋水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共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长天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一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0" y="765000"/>
            <a:ext cx="864072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赏析：这一句素称千古绝唱。青天碧水，天水相接，上下浑然一色：彩霞自上而下，孤鹜自下而上，相映增辉，构成一幅色彩明丽，上下浑成、远近错落、虚实相映的绝妙好图。这两句在句式上不但上下句相对，而且在一句中自成对偶，形成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当句对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的特点。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落霞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对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孤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秋水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对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长天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，这是王勃骈文的一大特点。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 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80880" y="3048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419640" y="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赏析名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79280" y="3860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20059251818101"/>
          <p:cNvPicPr/>
          <p:nvPr/>
        </p:nvPicPr>
        <p:blipFill>
          <a:blip r:embed="rId1"/>
          <a:stretch/>
        </p:blipFill>
        <p:spPr>
          <a:xfrm>
            <a:off x="-320760" y="-349200"/>
            <a:ext cx="9717120" cy="75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Pat6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Picture 3" descr="wlmzq"/>
          <p:cNvPicPr/>
          <p:nvPr/>
        </p:nvPicPr>
        <p:blipFill>
          <a:blip r:embed="rId2"/>
          <a:stretch/>
        </p:blipFill>
        <p:spPr>
          <a:xfrm>
            <a:off x="-33480" y="5518080"/>
            <a:ext cx="9141120" cy="596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2700360" y="6237360"/>
            <a:ext cx="54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闾阎扑地，钟鸣鼎食之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at7"/>
          <p:cNvPicPr/>
          <p:nvPr/>
        </p:nvPicPr>
        <p:blipFill>
          <a:blip r:embed="rId1"/>
          <a:stretch/>
        </p:blipFill>
        <p:spPr>
          <a:xfrm>
            <a:off x="-33480" y="0"/>
            <a:ext cx="9141120" cy="6238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wlmzq"/>
          <p:cNvPicPr/>
          <p:nvPr/>
        </p:nvPicPr>
        <p:blipFill>
          <a:blip r:embed="rId2"/>
          <a:stretch/>
        </p:blipFill>
        <p:spPr>
          <a:xfrm>
            <a:off x="-33480" y="5734080"/>
            <a:ext cx="9141120" cy="5032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3563280" y="623736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舸舰弥津，青雀黄龙之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云雨1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304920" y="5815080"/>
            <a:ext cx="53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云销雨霁，彩彻区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鱼舟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4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"/>
          <p:cNvSpPr/>
          <p:nvPr/>
        </p:nvSpPr>
        <p:spPr>
          <a:xfrm>
            <a:off x="324000" y="6021360"/>
            <a:ext cx="52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渔舟唱晚，响穷彭蠡之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20090516134506001[1]"/>
          <p:cNvPicPr/>
          <p:nvPr/>
        </p:nvPicPr>
        <p:blipFill>
          <a:blip r:embed="rId1"/>
          <a:stretch/>
        </p:blipFill>
        <p:spPr>
          <a:xfrm>
            <a:off x="495360" y="409680"/>
            <a:ext cx="8153280" cy="60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三部分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遥襟甫畅，逸兴遄飞。爽籁发而清风生，纤歌凝而白云遏。睢园绿竹，气凌彭泽之樽；邺水朱华，光照临川之笔。四美具，二难并。穷睇眄于中天，极娱游于暇日。 天高地迥，觉宇宙之无穷；兴尽悲来，识盈虚之有数。望长安于日下，目吴会于云间。地势极而南溟深，天柱高而北辰远。关山难越，谁悲失路之人？萍水相逢，尽是他乡之客。怀帝阍而不见，奉宣室以何年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75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嗟乎！时运不济，命运多舛。冯唐易老，李广难封。屈贾谊于长沙，非无圣主；窜梁鸿于海曲，岂乏明时。所赖君子见机，达人知命。老当益壮，宁移白首之心？穷且益坚，不坠青云之志。酌贪泉而觉爽，处涸辙以犹欢。北海虽赊，扶摇可接；东隅已逝，桑榆非晚。孟尝高洁，空怀报国之心；阮藉猖狂，岂效穷途之哭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75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分析第三部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42600" y="914400"/>
            <a:ext cx="7815240" cy="4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0000"/>
          </a:bodyPr>
          <a:p>
            <a:pPr marL="34200" indent="-342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赞美与会者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200" indent="-342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由宴会引出感慨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穷睇眄于中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识盈虚之有数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200" indent="-342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抒发身世之感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望长安于日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奉宣室以何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200" indent="-342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引用典故抒怀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呜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岂乏明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200" indent="-3420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勉励自己守节不变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赖君子见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岂效穷途之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3429000" y="100008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遥襟甫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难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ro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7543800" y="6248520"/>
            <a:ext cx="16002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讨   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371600" y="762120"/>
            <a:ext cx="61722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朗诵这两段文字，体会作者复杂的思想感情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欢饮之乐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对宇宙无穷的感慨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对人生无常的感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为自己怀才不遇而悲伤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认识现实后的自我安慰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对理想人格境界的追求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豁达乐观的情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四部分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勃，三尺微命，一介书生。无路请缨，等终军之弱冠；有怀投笔，慕宗悫之长风。舍簪笏于百龄，奉晨昏于万里。非谢家之宝树，接孟氏之芳邻。他日趋庭，叨陪鲤对；今晨捧袂，喜托龙门。杨意不逢，抚凌云而自惜；钟期既遇，奏流水以何惭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75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85800" y="68580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鸣呼！胜地不常，盛筵难再。兰亭已矣，梓泽丘墟。临别赠言，幸承恩于伟饯；登高作赋，是所望于群公。敢竭鄙诚，恭疏短引。一言均赋，四韵俱成。请洒潘江，各倾陆海云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75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分析第四部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85880" y="71388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写自己报国无门之情怀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慕宗悫之长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写路过滕王阁的原因及与会的喜悦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舍簪笏于百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喜托龙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借典故表明自己愿意作诗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杨意不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奏流水以何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再赞盛会表作序旨意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呜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各倾陆海云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08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520" y="10666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联系际遇。不遇之悲，是对社会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盛世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现实的控诉和揭露。既表现出嗟悲叹老的伤感和见机知命的消极；又表示自己壮怀白首不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失意的悲哀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时代的抨击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写积极的壮怀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表现出一种用世的乐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38080" y="3049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讨论：怎样看待王勃的思想感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  <a:ea typeface="隶书"/>
              </a:rPr>
              <a:t>作品鉴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滕王阁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流传千古的原因是多方面的，从语言方面谈，主要是有工整的对偶和文情并茂的警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对偶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本文为骈体文，文中四字句、六字句很多，全文除九个字外，前后语句完全对偶。有的是句与句对偶，有的是句子内部词或词组对偶。同时讲究平仄，音调十分和谐。读来琅琅上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不对偶的字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嗟乎  所赖  勃  呜呼  云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句与句对偶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星分翼轸，地接衡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句子内部对偶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襟三江而带五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警句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本文对警句的提炼方式灵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直接概括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：物宝天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徐孺下陈蕃之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表面矛盾而意思连贯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：老当益壮，宁移白首之心；穷且益坚，不坠青云之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连接不相关的事物而造成独特意境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：关山难越，谁悲失路之人；萍水相逢，尽是他乡之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些警句大多具有很深的蕴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ea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143000" y="19810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滕王阁序之滕王阁介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bg_a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228600" y="1066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名句鉴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落霞与孤鹜齐飞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秋水共长天一色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457200" y="28195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同学们用自己的语言描绘这一景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609480" y="329724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b1"/>
          <p:cNvPicPr/>
          <p:nvPr/>
        </p:nvPicPr>
        <p:blipFill>
          <a:blip r:embed="rId1"/>
          <a:srcRect l="0" t="0" r="0" b="156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2057400" y="765000"/>
            <a:ext cx="49626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评：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注意意境和谐美，想象要自然生动，色彩要明丽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落霞自天而下，孤鹜自下而上，故曰齐飞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秋水碧而连天，长天净而映水，故曰一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王勃把这种景象用对偶句的下句来表现，描绘出一个旷远的背景，在这水天一色的一片青碧之中，点缀以红霞、野鸭，构成色彩明丽的画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be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99072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句式错落，节奏分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骈俪藻饰，辞采华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运用典故，简练含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914400" y="5335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、总结本文写作上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838080" y="3276720"/>
            <a:ext cx="7696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838080" y="4114800"/>
            <a:ext cx="693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彩云"/>
                <a:ea typeface="华文彩云"/>
              </a:rPr>
              <a:t>应用典故</a:t>
            </a:r>
            <a:r>
              <a:rPr b="1" lang="en-US" sz="4400" spc="-1" strike="noStrike">
                <a:solidFill>
                  <a:srgbClr val="ff3300"/>
                </a:solidFill>
                <a:latin typeface="华文彩云"/>
                <a:ea typeface="华文彩云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华文彩云"/>
                <a:ea typeface="华文彩云"/>
              </a:rPr>
              <a:t>简练含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作用</a:t>
            </a:r>
            <a:r>
              <a:rPr b="0" lang="en-US" sz="2800" spc="-1" strike="noStrike">
                <a:solidFill>
                  <a:srgbClr val="008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加强论证</a:t>
            </a:r>
            <a:r>
              <a:rPr b="0" lang="en-US" sz="2800" spc="-1" strike="noStrike">
                <a:solidFill>
                  <a:srgbClr val="008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借古写怀</a:t>
            </a:r>
            <a:r>
              <a:rPr b="0" lang="en-US" sz="2800" spc="-1" strike="noStrike">
                <a:solidFill>
                  <a:srgbClr val="008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内容充实，联想丰富</a:t>
            </a:r>
            <a:r>
              <a:rPr b="0" lang="en-US" sz="2800" spc="-1" strike="noStrike">
                <a:solidFill>
                  <a:srgbClr val="008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语言简练，风格典雅</a:t>
            </a:r>
            <a:r>
              <a:rPr b="0" lang="en-US" sz="2800" spc="-1" strike="noStrike">
                <a:solidFill>
                  <a:srgbClr val="008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如历史故事</a:t>
            </a:r>
            <a:r>
              <a:rPr b="0" lang="en-US" sz="2800" spc="-1" strike="noStrike">
                <a:solidFill>
                  <a:srgbClr val="008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冯唐易老，李广难封</a:t>
            </a:r>
            <a:r>
              <a:rPr b="0" lang="en-US" sz="2800" spc="-1" strike="noStrike">
                <a:solidFill>
                  <a:srgbClr val="008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如前人文句</a:t>
            </a:r>
            <a:r>
              <a:rPr b="0" lang="en-US" sz="2800" spc="-1" strike="noStrike">
                <a:solidFill>
                  <a:srgbClr val="008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酌贪泉而觉爽</a:t>
            </a:r>
            <a:r>
              <a:rPr b="0" lang="en-US" sz="2800" spc="-1" strike="noStrike">
                <a:solidFill>
                  <a:srgbClr val="008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处涸辙以犹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w1"/>
          <p:cNvPicPr/>
          <p:nvPr/>
        </p:nvPicPr>
        <p:blipFill>
          <a:blip r:embed="rId1"/>
          <a:stretch/>
        </p:blipFill>
        <p:spPr>
          <a:xfrm>
            <a:off x="4648320" y="1752480"/>
            <a:ext cx="3809880" cy="44197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2072520" y="-270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找一下，文中运用了哪些典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彩云"/>
                <a:ea typeface="华文彩云"/>
              </a:rPr>
              <a:t>成          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5651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物华天宝   人杰地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高朋满座   龙飞凤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逸兴横飞   萍水相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老当益壮   投笔从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穷且益坚，不坠青云之志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失之东隅，收之桑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twg"/>
          <p:cNvPicPr/>
          <p:nvPr/>
        </p:nvPicPr>
        <p:blipFill>
          <a:blip r:embed="rId1"/>
          <a:stretch/>
        </p:blipFill>
        <p:spPr>
          <a:xfrm>
            <a:off x="5651640" y="2060640"/>
            <a:ext cx="3287520" cy="40352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2164320" y="333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三、找一下，本文运用了哪些成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2050920" y="2060640"/>
            <a:ext cx="477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黑体"/>
              </a:rPr>
              <a:t>学以致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1828800"/>
            <a:ext cx="8991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ˎ̥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、你的遭遇确实令人同情，但是，志士能人命途多舛者多矣，                                                        你又何必怨天尤人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ˎ̥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、有人觉得自己就这样的基础，要想将来学有所成不太可能，不如趁早解放自己。错矣，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 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      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，只要努力，一切都来得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981080" y="22860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ˎ̥"/>
              </a:rPr>
              <a:t>          </a:t>
            </a:r>
            <a:r>
              <a:rPr b="1" lang="zh-CN" sz="3200" spc="-1" strike="noStrike">
                <a:solidFill>
                  <a:srgbClr val="ff0066"/>
                </a:solidFill>
                <a:latin typeface="ˎ̥"/>
              </a:rPr>
              <a:t>冯唐易老，李广难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4515840" y="4983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ˎ̥"/>
              </a:rPr>
              <a:t>北海虽赊，扶摇可接；东隅已逝，桑榆未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2666880" y="28195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609480" y="54864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952920" y="385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学以致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181080" y="685800"/>
            <a:ext cx="896292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、胜者诚可敬，失败者亦未必可悲。周恩来有诗曰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难酬蹈海亦英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；王勃有句云，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这些诗句说明，英雄是成功者的奖品，更是坚毅者的封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、近朱者赤，近墨者黑，环境对人的影响是巨大的；但是，人在环境面前也不是无能为力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出淤泥而不染，濯清涟而不妖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就是最有力的说明。</a:t>
            </a:r>
            <a:r>
              <a:rPr b="0" lang="zh-CN" sz="3200" spc="-1" strike="noStrike">
                <a:solidFill>
                  <a:srgbClr val="000000"/>
                </a:solidFill>
                <a:latin typeface="ˎ̥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614520" y="4572000"/>
            <a:ext cx="68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ˎ̥"/>
              </a:rPr>
              <a:t>酌贪泉而觉爽，处涸辙以犹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1619280" y="49417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288960" y="1600200"/>
            <a:ext cx="6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cc0000"/>
                </a:solidFill>
                <a:latin typeface="ˎ̥"/>
              </a:rPr>
              <a:t>穷且益坚，不坠青云之志。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838080" y="213372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uhu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0" y="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           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江南名楼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滕王阁 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  滕王阁自古就被称为我国江南三大名楼之首。滕王阁始建于宋代，后几经兴废，明代景泰年间（公元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1450--1456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年），巡抚都御使韩雍重修，其规模为：三层，高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27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米，宽约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14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米。今重修后的滕王阁，连地下室共九层，高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57.5 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米，占地达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47000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平方米。滕王阁为历代封建士大夫们迎送和宴请宾客之处。明代开国皇帝朱元璋也曾设宴阁上，命诸臣、文人赋诗真词，观看灯火。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1926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年军阀混战时，被北洋军阀邓如琢部纵火烧毁。建国后，江西省政府重建滕王阁。重建后的滕王阁，无论其高度，还是面积，均远胜于历代四阁，同时也大超过了现在的黄鹤楼和岳阳楼，仍然居于三大名楼之首。如今滕王阁已成了南昌，也是江西省的一处重要的旅游景点。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guhu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图片7"/>
          <p:cNvPicPr/>
          <p:nvPr/>
        </p:nvPicPr>
        <p:blipFill>
          <a:blip r:embed="rId2"/>
          <a:stretch/>
        </p:blipFill>
        <p:spPr>
          <a:xfrm>
            <a:off x="539640" y="-387360"/>
            <a:ext cx="7531200" cy="76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uhu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twg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guhu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05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guhu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06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11:01:37Z</dcterms:created>
  <dc:creator>QP</dc:creator>
  <dc:description/>
  <cp:keywords/>
  <dc:language>en-US</dc:language>
  <cp:lastModifiedBy>PC</cp:lastModifiedBy>
  <dcterms:modified xsi:type="dcterms:W3CDTF">2015-09-17T08:18:49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