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9.jpeg" ContentType="image/jpeg"/>
  <Override PartName="/ppt/media/image45.wmf" ContentType="image/x-wmf"/>
  <Override PartName="/ppt/media/image47.jpeg" ContentType="image/jpeg"/>
  <Override PartName="/ppt/media/image46.jpeg" ContentType="image/jpeg"/>
  <Override PartName="/ppt/media/image43.jpeg" ContentType="image/jpeg"/>
  <Override PartName="/ppt/media/image42.gif" ContentType="image/gif"/>
  <Override PartName="/ppt/media/image51.gif" ContentType="image/gif"/>
  <Override PartName="/ppt/media/image37.jpeg" ContentType="image/jpeg"/>
  <Override PartName="/ppt/media/image36.jpeg" ContentType="image/jpeg"/>
  <Override PartName="/ppt/media/image44.gif" ContentType="image/gif"/>
  <Override PartName="/ppt/media/image34.jpeg" ContentType="image/jpeg"/>
  <Override PartName="/ppt/media/image32.jpeg" ContentType="image/jpeg"/>
  <Override PartName="/ppt/media/image30.jpeg" ContentType="image/jpeg"/>
  <Override PartName="/ppt/media/image48.jpeg" ContentType="image/jpeg"/>
  <Override PartName="/ppt/media/image50.jpeg" ContentType="image/jpeg"/>
  <Override PartName="/ppt/media/image18.gif" ContentType="image/gif"/>
  <Override PartName="/ppt/media/image53.png" ContentType="image/png"/>
  <Override PartName="/ppt/media/image58.jpeg" ContentType="image/jpeg"/>
  <Override PartName="/ppt/media/image20.gif" ContentType="image/gif"/>
  <Override PartName="/ppt/media/image10.jpeg" ContentType="image/jpeg"/>
  <Override PartName="/ppt/media/image21.gif" ContentType="image/gif"/>
  <Override PartName="/ppt/media/image73.jpeg" ContentType="image/jpeg"/>
  <Override PartName="/ppt/media/image24.jpeg" ContentType="image/jpeg"/>
  <Override PartName="/ppt/media/image78.jpeg" ContentType="image/jpeg"/>
  <Override PartName="/ppt/media/image69.gif" ContentType="image/gif"/>
  <Override PartName="/ppt/media/image61.gif" ContentType="image/gif"/>
  <Override PartName="/ppt/media/image77.jpeg" ContentType="image/jpeg"/>
  <Override PartName="/ppt/media/image60.jpeg" ContentType="image/jpeg"/>
  <Override PartName="/ppt/media/chimes.wav" ContentType="audio/x-wav"/>
  <Override PartName="/ppt/media/image74.jpeg" ContentType="image/jpeg"/>
  <Override PartName="/ppt/media/image25.jpeg" ContentType="image/jpeg"/>
  <Override PartName="/ppt/media/image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76.gif" ContentType="image/gif"/>
  <Override PartName="/ppt/media/image68.jpeg" ContentType="image/jpeg"/>
  <Override PartName="/ppt/media/image67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64.jpeg" ContentType="image/jpeg"/>
  <Override PartName="/ppt/media/glass.wav" ContentType="audio/x-wav"/>
  <Override PartName="/ppt/media/image38.jpeg" ContentType="image/jpeg"/>
  <Override PartName="/ppt/media/image63.jpeg" ContentType="image/jpeg"/>
  <Override PartName="/ppt/media/image15.jpeg" ContentType="image/jpeg"/>
  <Override PartName="/ppt/media/image31.jpeg" ContentType="image/jpeg"/>
  <Override PartName="/ppt/media/image39.jpeg" ContentType="image/jpeg"/>
  <Override PartName="/ppt/media/image14.gif" ContentType="image/gif"/>
  <Override PartName="/ppt/media/image72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3.png" ContentType="image/png"/>
  <Override PartName="/ppt/media/image27.png" ContentType="image/png"/>
  <Override PartName="/ppt/media/image33.jpeg" ContentType="image/jpeg"/>
  <Override PartName="/ppt/media/image75.jpeg" ContentType="image/jpeg"/>
  <Override PartName="/ppt/media/image41.gif" ContentType="image/gif"/>
  <Override PartName="/ppt/media/image13.gif" ContentType="image/gif"/>
  <Override PartName="/ppt/media/image7.jpeg" ContentType="image/jpeg"/>
  <Override PartName="/ppt/media/image4.png" ContentType="image/png"/>
  <Override PartName="/ppt/media/image17.gif" ContentType="image/gif"/>
  <Override PartName="/ppt/media/image5.gif" ContentType="image/gif"/>
  <Override PartName="/ppt/media/image2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11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F0F-65EB-4248-AE45-688F1416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FDE-3354-4105-AF91-F3D08AA6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5C7-CEEA-48D7-BF42-C3E3D48A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CA3-C3C9-4CE6-87C9-068DB75D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D08-5E56-492B-B0B8-04C9A68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6EC-BADF-4083-A3CC-38DA9F1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0F8-384C-4E59-964F-96E6DE0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1CF-E583-446D-9AE4-1A14A82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220-EFBE-4CA9-ACC4-0F041FBF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67A-15AF-4258-B666-E721EF9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F20-91FC-438E-B860-B3506F7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72D-1FE6-40AD-8E4F-830444E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03C-B487-4580-BFF8-212C5348F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file:///&#12298;&#28373;&#29579;&#38401;&#24207;&#12299;&#35829;&#35835;&#21160;&#30011;.swf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gif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7.xml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gif"/><Relationship Id="rId3" Type="http://schemas.openxmlformats.org/officeDocument/2006/relationships/image" Target="../media/image61.gif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7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2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16336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3614760"/>
            <a:ext cx="2971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48080" y="304920"/>
            <a:ext cx="3410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隶书"/>
              </a:rPr>
              <a:t>滕王阁序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35360" y="301464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59500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榜头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江南名楼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此楼在历史上迭废迭兴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次。现在的滕王阁楼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8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竣工，全楼九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7.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背城临江，距唐代遗址百余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始建于唐代，后几经兴废，明代景泰年间，巡抚都御使韩雍重修，其规模为：三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宽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。今重修后的滕王阁，连地下室共九层，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7.5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，占地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7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方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0"/>
            <a:ext cx="81010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下面是一副名胜古迹的对联，阅读后回答</a:t>
            </a: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1-3</a:t>
            </a:r>
            <a:r>
              <a:rPr b="1" lang="zh-CN" sz="2800" spc="-1" strike="noStrike">
                <a:solidFill>
                  <a:srgbClr val="e02080"/>
                </a:solidFill>
                <a:latin typeface="Times New Roman"/>
                <a:ea typeface="方正舒体"/>
              </a:rPr>
              <a:t>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   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一楼何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杜少陵五言绝唱，范希文两字关情，滕子京百废俱兴，吕纯阳三过必醉，诗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儒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吏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仙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前不见古人，使我怆然涕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   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诸君请看，洞庭湖南极潇湘，扬子江北通巫峡，巴陵山西来爽气，岳阳城东道崖疆。潴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流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峙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镇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此中有真意，问谁领会得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4000" y="48164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“一楼何奇”中的“楼”具体指的应该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   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鹳鹊楼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岳阳楼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滕王阁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黄鹤楼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14200" cy="13716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7667640" y="486900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613728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7343640" y="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24000" y="26028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“两字关情”中的“两字”指的是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这副对联的内容丰富，归纳上下联的主要意思正确的应该是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(    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，下联写作者的感慨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和传说，下联写洞庭湖的位置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上联写楼的传说，下联写湖光景色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．上联写楼的史实和传说，下联写洞庭湖的风景大观和作者的感慨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435640" y="8366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忧”和“乐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11640" y="206064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35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成    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物华天宝   人杰地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高朋满座   龙飞凤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逸兴横飞   萍水相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老当益壮   投笔从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穷且益坚，不坠青云之志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失之东隅，收之桑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3287520" cy="40352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18900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找一下，本文运用了哪些成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直至背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仿照课文中句式，写对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滕王阁中，高朋满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见秋水之浩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考答案：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都督宴上，盛友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B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望长天之明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文中所有典故，细细体会其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67280" y="0"/>
            <a:ext cx="2087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"/>
                            </p:stCondLst>
                            <p:childTnLst>
                              <p:par>
                                <p:cTn id="17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916360" y="566100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Times New Roman"/>
              </a:rPr>
              <a:t>欢迎斧正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滕王阁为历代封建士大夫们迎送和宴请宾客之处。明代开国皇帝朱元璋也曾设宴阁上，命诸臣、文人赋诗真词，观看灯火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军阀混战时，被北洋军阀邓如琢部纵火烧毁。建国后，江西省政府重建滕王阁。重建后的滕王阁，无论其高度，还是面积，均远胜于历代四阁，同时也大超过了现在的黄鹤楼和岳阳楼，仍然居于三大名楼之首。如今滕王阁已成了南昌，也是江西省的一处重要的旅游景点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9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滕王阁之所以享有巨大名声，很大程度上归功于一篇脍炙人口的散文《滕王阁序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传说当时诗人王勃探亲路过南昌，正赶上阎都督重修滕王阁后，在阁上大宴宾客，王勃当场一气写下这篇令在座宾客赞服的《秋日登洪府滕王阁饯别序》（即《滕王阁序》），王勃作序后，又有王仲舒作记，王绪作赋，历史上称为“三王文章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20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修后的滕王阁，高耸于南昌城西，赣江之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步入新阁，仿佛置身于一座以滕王阁为主题的艺术殿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第一层正厅有一表现王勃创作《滕王阁序》的大型汉白玉浮雕《时来风送滕王阁》，巧妙地将滕王阁的动人传说与历史事实融为一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层正厅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3.90*2.5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的大型工笔重彩丙衡壁画《人杰图》，绘有自秦至明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位领风骚的江西历代名人。这与第四层表现江西山川精华的《地灵图》，堪称双璧，令人叹观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层是凭栏骋最佳处。进入厅堂，迎面是苏东坡手书的千古名篇《滕王阁序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滕王阁序》中最著名的两句是“落霞与孤鹜齐飞，秋水共长天一色”。这已作为主阁正门的巨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暮秋之后，鄱阳湖区将有成千上万只侯鸟飞临，那将构成一幅活生生的“落霞与孤鹜齐飞，秋水共长天一色”图，成为滕王阁的一大胜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258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219744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王勃，唐代诗人，字子安，绛州龙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勃与杨炯、卢照邻、骆宾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诗文齐名，并称“王杨卢骆”，亦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初唐四杰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他才华早露，未成年即被赞为神童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授官朝散郎，后因事被逐，其父亦受累贬为交趾令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时，王勃南下探亲，路过南昌，赴都督阎某在滕王阁的宴会，赋诗并作序。后在赴探亲途中渡海溺水受惊而死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《滕王阁序》遂成为他的“绝唱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73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王勃著《滕王阁序》，时年二十六。都督阎公不之信。勃虽在座，而阎公意属子婿孟学士者为之，已宿构矣。及以纸笔让宾客，勃不辞让。公大怒，拂袖而起；专令人伺其下笔。第一报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南昌故郡，洪都新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曰：“亦是老生常谈！”又报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星分翼轸，地接衡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闻之，沉吟不言。又云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落霞与孤鹜齐飞，秋水共长天一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公瞿然而起，曰：“此真天才，当垂不朽矣！”遂即亟宴所，极欢而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47640" y="0"/>
            <a:ext cx="75963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62320" y="533520"/>
            <a:ext cx="549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督大宴滕王客，宿命其婿作序以夸客，因出纸笔遍请客，莫敢当，至勃泛然不辞。都督怒，起更衣，遣吏伺其文辄报。一再报，语益奇，乃矍然曰：天才也！请遂成文，极欢罢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12536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王杨卢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时体，轻薄为文哂未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尔曹身与名俱灭，不废江河万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甫《戏为六绝句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50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初唐四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42920" y="39924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59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 action="ppaction://hlinksldjump"/>
          </p:cNvPr>
          <p:cNvPicPr/>
          <p:nvPr/>
        </p:nvPicPr>
        <p:blipFill>
          <a:blip r:embed="rId3"/>
          <a:srcRect l="0" t="-2309" r="0" b="0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68320" y="1122480"/>
            <a:ext cx="182628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落霞与孤鹜齐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秋水共长天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1107720"/>
            <a:ext cx="24894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栋朝飞南浦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朱帘暮卷西窗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295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汉仪菱心体简"/>
                <a:ea typeface="汉仪菱心体简"/>
              </a:rPr>
              <a:t>文体知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0792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是写在文章前面的文字，用于说明书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写作或出版的意图、宗旨、过程、编排体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内容。由作者本人写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，也可由他人代写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代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。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书序、赠序、宴集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书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著作或诗文前的说明或评价性文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赠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亲友间以作文相赠，表达惜别、祝愿、劝勉之意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宴集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古人宴集时，常要赋诗，诗成后公推一人作序，这就是宴集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文是饯别序，即临别赠言，属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赠序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骈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魏晋以后产生的一种文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又称骈俪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北朝是骈俪文的全盛时期。唐与“古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对称为“骈文”。又因它通篇四、六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亦称“四六文”。此文体盛行于唐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16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讲求对仗，一般用四字句或六字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平仄相对，音律和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用典故，讲究藻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骈文多注重形式技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运用得当，内容丰富，也能增强文章艺术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10018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53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2565360"/>
            <a:ext cx="4800600" cy="113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Times New Roman"/>
                <a:ea typeface="方正舒体"/>
                <a:hlinkClick r:id="rId3"/>
              </a:rPr>
              <a:t>课文诵读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听课文朗读录音，注意字音、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式变化， 节奏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547640" cy="112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57722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97344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滕王阁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王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豫章故郡，洪都新府。星分翼轸，地接衡庐。襟三江而带五湖，控蛮荆而引瓯越。物华天宝，龙光射牛斗之墟；人杰地灵，徐孺下陈蕃之榻。雄州雾列，俊采星驰。台隍枕夷夏之交，宾主尽东南之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11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都督阎公之雅望，棨戟遥临；宇文新州之懿范，襜帷暂驻。十旬休假，胜友如云；千里逢迎，高朋满座。腾蛟起凤，孟学士之词宗；紫电青霜，王将军之武库。家君作宰，路出名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86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童子何知，躬逢胜饯。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时维九月，序属三秋。潦水尽而寒潭清，烟光凝而暮山紫。俨骖騑于上路，访风景于崇阿。临帝子之长洲，得天人之旧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843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层峦耸翠，上出重霄；飞阁流丹，下临无地。鹤汀凫渚，穷岛屿之萦回；桂殿兰宫，即冈峦之体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披绣闼，俯雕甍，山原旷其盈视，川泽纡其骇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539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闾阎扑地，钟鸣鼎食之家；舸舰弥津，青雀黄龙之舳。云销雨霁，彩彻区明。落霞与孤鹜齐飞，秋水共长天一色。渔舟唱晚，响穷彭蠡之滨，雁阵惊寒，声断衡阳之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823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遥襟甫畅，逸兴遄飞。爽籁发而清风生，纤歌凝而白云遏。睢园绿竹，气凌彭泽之樽；邺水朱华，光照临川之笔。四美具，二难并。穷睇眄于中天，极娱游于暇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0" y="4680"/>
            <a:ext cx="9132840" cy="684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39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天高地迥，觉宇宙之无穷；兴尽悲来，识盈虚之有数。望长安于日下，目吴会于云间。地势极而南溟深，天柱高而北辰远。关山难越，谁悲失路之人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    在我们祖国这块神奇的大地上，积淀了五千年的文化遗产，宫殿园林，亭台楼阁比比皆是。在众多的人文景观中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中国古代四大名楼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因其精美的建筑流传千古，更因名人的游历题诗而具有了特殊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那么有谁知道“中国古代四大名楼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80360" y="47628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4460760"/>
            <a:ext cx="676728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82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萍水相逢，尽是他乡之客。怀帝阍而不见，奉宣室以何年？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嗟乎！时运不齐，命途多舛。冯唐易老，李广难封。屈贾谊于长沙，非无圣主；窜梁鸿于海曲，岂乏明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98000"/>
            <a:ext cx="91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所赖君子见机，达人知命。老当益壮，宁移白首之心？穷且益坚，不坠青云之志。酌贪泉而觉爽，处涸辙以犹欢。北海虽赊，扶摇可接；东隅已逝，桑榆非晚。孟尝高洁，空余报国之情；阮籍猖狂，岂效穷途之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11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勃，三尺微命，一介书生。无路请缨，等终军之弱冠；有怀投笔，慕宗悫之长风。舍簪笏于百龄，奉晨昏于万里。非谢家之宝树，接孟氏之芳邻。他日趋庭，叨陪鲤对；今兹捧袂，喜托龙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82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杨意不逢，抚凌云而自惜；钟期既遇，奏流水以何惭？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呜呼！胜地不常，盛筵难再；兰亭已矣，梓泽丘墟。临别赠言，幸承恩于伟饯；登高作赋，是所望于群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15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73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敢竭鄙怀，恭疏短引；一言均赋，四韵俱成。请洒潘江，各倾陆海云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棨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懿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襜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翼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襟三江     鹤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凫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川泽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潦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骖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绣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雕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遄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睇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慤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簪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428840" cy="1085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4000" y="260280"/>
            <a:ext cx="396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00ccff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重点字音</a:t>
            </a:r>
            <a:endParaRPr b="1" lang="en-US" sz="1800" spc="1" strike="noStrike">
              <a:ln cap="rnd" w="12600">
                <a:solidFill>
                  <a:srgbClr val="00ccff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4000" y="5423040"/>
            <a:ext cx="936360" cy="1434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44280" y="15764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ǐ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15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1520" y="1576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55720" y="15764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6080" y="2152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z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8680" y="2205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93760" y="2205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85880" y="27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ú zh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50000" y="28004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11240" y="2728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88080" y="27288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l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45280" y="330516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ān f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3080" y="3357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7240" y="33577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m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0800" y="33764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g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84680" y="337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l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7240" y="3952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61400" y="3881520"/>
            <a:ext cx="6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s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1440" y="3881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y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72440" y="39528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ì m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6160" y="45291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03080" y="44578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3160" y="445788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u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5520" y="445788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6000" y="51055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z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02360" y="51055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ŏ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5600" y="51055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q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44080" y="515772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zān  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261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断句品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四对四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豫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郡，洪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“二二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六字句的断句：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学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词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访风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崇阿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三三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帝子之长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屿之萦回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一五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鼎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人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二二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响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蠡之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泽之樽 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四式”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凌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自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承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伟饯 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一二三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443640" y="5207040"/>
            <a:ext cx="1409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380360" y="2276640"/>
            <a:ext cx="1152360" cy="2055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七字句的读法（按意义划分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襟三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带五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潦水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寒潭清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三四式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龙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斗之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宾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南之美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一四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孤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长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色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三二式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阎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雅望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二二三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六对四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晚，响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彭蠡之滨；雁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惊寒，声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阳之浦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六四对六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贾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长沙，非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主；窜梁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海曲，岂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时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681520" y="4173480"/>
            <a:ext cx="3462480" cy="2684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808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刘勰在《文心雕龙》里早给骈文特点作了总结说：“铺采离文，体物写志”，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写景抒情，借物言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33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根据这样的特点，我们把文章分成两个部分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写景、抒情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该怎么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：描写滕王阁美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—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：抒写人生感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877080" y="2924280"/>
            <a:ext cx="2003400" cy="2305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436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是一篇作诗序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，诗人交代了写这篇序言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课文就可以分成这样三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10098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11720" y="981000"/>
            <a:ext cx="336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披文入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5084640"/>
            <a:ext cx="568944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书读百遍，其义自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6021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孟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6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09680" y="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蓬 莱 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052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直上蓬莱阁，人间第一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云山千里目，海岛四时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——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清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·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葆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84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692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棨戟　　　 懿范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襜帷   　　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翼轸 　　  襟三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492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江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雄州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，俊采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221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名词作状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雾、流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那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意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襟、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991640" y="4802040"/>
            <a:ext cx="1152360" cy="2055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75920" y="765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080"/>
                </a:solidFill>
                <a:latin typeface="Arial"/>
              </a:rPr>
              <a:t>qǐ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7800" y="76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16800" y="1341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hānw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35000" y="1341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88080" y="1916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ìz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9162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615564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交代南昌的地理环境以及人杰地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48360" y="0"/>
            <a:ext cx="3095640" cy="259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52480" y="48690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516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都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·····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腾飞、起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豫章故郡，洪都新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星分翼轸，地接衡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襟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三江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带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五湖，控蛮荆而引瓯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豫章原为旧时的郡治，洪州本是新设的都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天空正当翼星、轸星所在，地域紧接衡州、江州两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8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当衣襟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束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控着荆楚下连着东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551592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南昌的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地理环境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3095640" cy="2595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68360" y="1197000"/>
            <a:ext cx="712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豫章故郡，洪都新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星分翼轸，地接衡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襟三江而带五湖，控蛮荆而引瓯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33336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历史久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0648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界域辽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51200" y="494100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势宏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170028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4797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328464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56600" y="2290680"/>
            <a:ext cx="1787400" cy="4567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2276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人杰地灵，徐孺下陈蕃之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雄州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雾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列，俊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星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781360"/>
            <a:ext cx="89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人物英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川灵秀，高士徐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留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陈藩特设的榻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65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雄伟的州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像云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大地上排列，杰出的人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如流星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夜空飞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58520" y="2080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物华天宝，龙光射牛斗之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物产华美有天生的珍宝，龙泉剑光直射着斗、牛星之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58560" y="620280"/>
            <a:ext cx="756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地灵人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1700280"/>
            <a:ext cx="62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华天宝，龙光射牛斗之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杰地灵，徐孺下陈蕃之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雄州雾列，俊采星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95280" y="4802040"/>
            <a:ext cx="1152360" cy="2055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79640" y="530064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789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24000" y="234936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物产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4076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才杰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566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      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773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都督阎公之雅望，棨戟遥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宇文新州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懿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范，襜帷暂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十旬休假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胜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幼圆"/>
              </a:rPr>
              <a:t>友如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洪州都督阎公有着很高的声望，他的仪仗从远方赶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8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新州刺史宇文公具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美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风范，他的车驾在这里暂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66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十天一旬的休假日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友聚集如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44120" y="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台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枕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夷夏之交，宾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尽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东南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城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雄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蛮夷与中原相交之处，宾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全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南地区的俊美之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千里逢迎，高朋满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腾蛟起凤，孟学士之词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幼圆"/>
              </a:rPr>
              <a:t>紫电清霜，王将军之武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千里喜迎宾客，良朋坐满宴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文采腾蛟起凤，孟学士是词章的宗师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1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宝剑紫电青霜，王将军收藏于自己的武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76500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参加宴会的人员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（贤主嘉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1787400" cy="4567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9640" y="1484280"/>
            <a:ext cx="860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台隍枕夷夏之交，宾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东南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都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阎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雅望，棨戟遥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宇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新州之懿范，襜帷暂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旬休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胜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云；千里逢迎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满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腾蛟起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学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词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紫电清霜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王将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武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59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家君作宰，路出名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幼圆"/>
                <a:ea typeface="幼圆"/>
              </a:rPr>
              <a:t>童子何知，躬逢胜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家父在交趾做县令，我探亲经过这一有名的地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56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年轻人有什么才能知识，却有幸参加了这豪华的盛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087560" cy="981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048440" y="3284640"/>
            <a:ext cx="2095560" cy="1504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32000" y="4581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交代自己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参加</a:t>
            </a:r>
            <a:r>
              <a:rPr b="1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宴会的</a:t>
            </a:r>
            <a:r>
              <a:rPr b="1" lang="zh-CN" sz="4000" spc="-1" strike="noStrike">
                <a:solidFill>
                  <a:srgbClr val="ff0000"/>
                </a:solidFill>
                <a:latin typeface="汉仪菱心体简"/>
                <a:ea typeface="汉仪菱心体简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2268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904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段文字概写了滕王阁的        ，引出参加宴会的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最后一句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谦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话，表明自己年纪轻轻就有幸参加这次盛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651640" y="5157720"/>
            <a:ext cx="2095200" cy="1505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332000" y="260280"/>
            <a:ext cx="2095560" cy="1505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07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理风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8468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51280" y="0"/>
            <a:ext cx="52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先天下之忧而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后天下之乐而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范仲淹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1400" y="333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805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0000" y="835920"/>
            <a:ext cx="18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鹤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凫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孤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3357720"/>
            <a:ext cx="576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骖腓于上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云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雨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川泽纡其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602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155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1557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198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y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84360" y="256536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56000" y="692280"/>
            <a:ext cx="14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潦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骖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绣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雕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620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l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1268280"/>
            <a:ext cx="20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cān f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80360" y="191628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6000" y="1844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6000" y="249228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01080" y="184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g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2637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l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357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通“严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整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4581360"/>
            <a:ext cx="44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通“消”，消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67280" y="587700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感到惊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76240" cy="1695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43160" y="750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t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436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14842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举行宴会的时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2421000"/>
            <a:ext cx="835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维九月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属三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潦水尽而寒潭清，烟光凝而暮山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3357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时间是在九月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季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属于三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22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面的积水消尽而寒潭清澈见底，晚霞的余光凝聚而暮山一片青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6636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87280" y="14842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交代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2637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维九月，序属三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663640" cy="1900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55640" y="47628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6984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潦水尽而寒潭清，烟光凝而暮山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3573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描绘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240680" y="4653000"/>
            <a:ext cx="1903320" cy="1859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2692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王勃来参加宴会的过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俨骖騑于上路，访风景于崇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临帝子之长洲，得天人之旧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2276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整顿车马上了大路，到高耸的山岭中寻访美景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4149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亲临滕王阁前的长洲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找到仙人旧日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的馆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27280" cy="104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124000" y="6156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勃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赴阁途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滕王阁及其周围的景色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重点语段之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052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层台耸翠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出重霄；飞阁翔丹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临无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鹤汀凫渚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岛屿之萦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349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层叠的台阁耸立在翠绿的山上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上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直冲云霄；凌空的檐阁闪动着艳丽的色彩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向下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俯视不见地面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14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黑体"/>
              </a:rPr>
              <a:t>白鹤漫步的沙滩，野鸭栖息的小洲，岛屿的安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极尽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黑体"/>
              </a:rPr>
              <a:t>萦绕迂回的情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8800" y="5138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桂殿兰宫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冈峦之体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5468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桂木建筑的殿堂，香兰装饰的宫室，楼阁的布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依照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冈峦起伏的地势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0" y="62784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楼阁四周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79280" y="105264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绣闼，俯雕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山原旷其盈视，川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其骇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184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彩绘的阁门，俯视雕饰的屋脊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716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山野平原空旷，尽入视野；江河湖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曲折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浩茫，惊人眼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428480" cy="1085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1128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闾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，钟鸣鼎食之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舸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津，青雀黄龙之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云销雨霁，彩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城中房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遍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，有不少显赫富贵的人家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渡口船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满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泊，有许多装饰豪华的龙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彩虹隐没而雨过天晴，日光普照使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天空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一片光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812000" y="4076640"/>
            <a:ext cx="936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落霞与孤鹜齐飞，秋水共长天一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渔舟唱晚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穷彭蠡之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雁阵惊寒，声断衡阳之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105264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晚霞与野鸭一起飞舞，秋水和长天相映成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429000"/>
            <a:ext cx="59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暮色里归舟传来声声渔歌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歌声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响彻鄱阳湖畔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537372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寒风中大雁发出阵阵惊鸣，叫声消失在衡阳水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7020000" y="3500280"/>
            <a:ext cx="1727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披绣闼，俯雕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山原旷其盈视，川泽纡其骇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闾阎扑地，钟鸣鼎食之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舸舰弥津，青雀黄龙之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云销雨霁，彩彻区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落霞与孤鹜齐飞，秋水共长天一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渔舟唱晚，响穷彭蠡之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雁阵惊寒，声断衡阳之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13920" y="62064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登阁远眺所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936360" cy="1435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7740720" y="5084640"/>
            <a:ext cx="936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8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1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404640"/>
            <a:ext cx="91440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一部分，写了滕王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建筑之宏伟，眺望之广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层峦”以下八句，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阁在山水之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披绣闼”以下十句，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阁上眺望所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其中“落霞与孤鹜齐飞”二句为描写秋景名句，展示出一幅鲜明生动的秋之图景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493040" y="1052640"/>
            <a:ext cx="16509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219640" y="152280"/>
            <a:ext cx="392436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崔 灏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唐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昔人已乘黄鹤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地空余黄鹤楼。 黄鹤一去不复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云千载空悠悠。 晴川历历汉阳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芳草萋萋鹦鹉洲。 日暮乡关何处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烟波江上使人愁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99000" y="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50880"/>
            <a:ext cx="4500720" cy="62071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31320 w 324000"/>
              <a:gd name="textAreaRight" fmla="*/ 292680 w 324000"/>
              <a:gd name="textAreaTop" fmla="*/ 31320 h 404640"/>
              <a:gd name="textAreaBottom" fmla="*/ 37332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19512" y="2088"/>
                </a:lnTo>
                <a:lnTo>
                  <a:pt x="2088" y="2088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19512" y="24882"/>
                </a:lnTo>
                <a:lnTo>
                  <a:pt x="19512" y="2088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2088" y="24882"/>
                </a:lnTo>
                <a:lnTo>
                  <a:pt x="19512" y="24882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2088" y="2088"/>
                </a:lnTo>
                <a:lnTo>
                  <a:pt x="2088" y="24882"/>
                </a:lnTo>
                <a:close/>
              </a:path>
              <a:path fill="darken" w="21600" h="26970">
                <a:moveTo>
                  <a:pt x="7557" y="13485"/>
                </a:moveTo>
                <a:lnTo>
                  <a:pt x="17294" y="6991"/>
                </a:lnTo>
                <a:lnTo>
                  <a:pt x="17294" y="19979"/>
                </a:lnTo>
                <a:close/>
              </a:path>
              <a:path fill="darken" w="21600" h="26970">
                <a:moveTo>
                  <a:pt x="4306" y="6991"/>
                </a:moveTo>
                <a:lnTo>
                  <a:pt x="5847" y="6991"/>
                </a:lnTo>
                <a:lnTo>
                  <a:pt x="5847" y="19979"/>
                </a:lnTo>
                <a:lnTo>
                  <a:pt x="4306" y="199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1440000" cy="1557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33336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登临之状：披闼  俯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24382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远望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1295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山川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99072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山原旷  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2952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人烟之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236232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闾阎扑地  舸舰弥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26668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0384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雨后天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3733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云  雨  彩  区         落霞孤鹜  秋水长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4038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10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人鸟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10552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渔舟唱晚  雁阵惊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54864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1600200"/>
            <a:ext cx="152280" cy="43434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72360" y="0"/>
            <a:ext cx="2771640" cy="132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18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按提纲背诵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835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6524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132000" y="0"/>
            <a:ext cx="36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汉仪菱心体简"/>
              </a:rPr>
              <a:t>写景之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3640" y="1197000"/>
            <a:ext cx="404316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色彩变化之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远近变化之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上下浑成之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汉仪菱心体简"/>
              </a:rPr>
              <a:t>虚实相衬之美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汉仪菱心体简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981000"/>
            <a:ext cx="684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写景抒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5157720"/>
            <a:ext cx="626436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奇文共欣赏，疑义相与析。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---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26920" y="1051920"/>
            <a:ext cx="251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遄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睇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四、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76240" cy="16952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00720" y="981000"/>
            <a:ext cx="122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南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227664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5640" y="98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chu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0800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su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1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285264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dì mi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98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9272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92720" y="2205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h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64000" y="285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67640" y="292428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67640" y="2276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3716280"/>
            <a:ext cx="54356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赖君子见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贾宜于长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梁鸿于海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吴会于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11640" y="37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通“几”，预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67280" y="4365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··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屈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95640" y="4941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动，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····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窜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5445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名词做动词，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6021360"/>
            <a:ext cx="13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35280" y="6093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形做名，美好的难得的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参加宴会的人员和进行宴会的盛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640" y="189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060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遥襟甫畅，逸兴遄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爽籁发而清风生，纤歌凝而白云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924280"/>
            <a:ext cx="66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怀远俯视，胸襟舒畅，兴致飘逸，急速飞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300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萧管奏鸣忽高忽低，引来清风阵阵，歌声悠扬柔美，遏止了白云运行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1224000" cy="1773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624720" y="2060640"/>
            <a:ext cx="2519280" cy="1512720"/>
          </a:xfrm>
          <a:prstGeom prst="wedgeRoundRectCallout">
            <a:avLst>
              <a:gd name="adj1" fmla="val -63990"/>
              <a:gd name="adj2" fmla="val 61018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管弦之盛歌声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2590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睢园绿竹，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彭泽之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邺水朱华，光照临川之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具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二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07920"/>
            <a:ext cx="644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盛宴堪比睢园中的竹林聚会，酒兴可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压倒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陶渊明；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924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雅情恰似邺水畔的建安才子，文采能够超过谢灵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30064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良辰美景赏心乐事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“四美”全都具备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贤主嘉宾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聚集在一起。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7308720" y="4365720"/>
            <a:ext cx="1584360" cy="19429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372360" y="692280"/>
            <a:ext cx="2484360" cy="1512720"/>
          </a:xfrm>
          <a:prstGeom prst="wedgeRoundRectCallout">
            <a:avLst>
              <a:gd name="adj1" fmla="val -38500"/>
              <a:gd name="adj2" fmla="val 89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宴会豪华人物高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28680" y="3500280"/>
            <a:ext cx="1094760" cy="93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6" dur="5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916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睇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中天，极娱游于暇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极目远眺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那无边的长空，尽情游乐在短暂的假日。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由参加宴会引发人生感慨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兴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觉得自己怀才不遇，命运多舛，勉励自己不因处境困窘而改变志节。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重点语段之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029440" y="1341360"/>
            <a:ext cx="1114560" cy="1371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27960" y="3102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高地迥，觉宇宙之无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371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苍天高远，大地辽阔，更觉得宇宙浩渺无垠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27960" y="42544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尽悲来，识盈虚之有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4797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兴致消尽，悲哀涌来，认识到盛与衰自有定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530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99"/>
                </a:solidFill>
                <a:latin typeface="Arial"/>
              </a:rPr>
              <a:t>设问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悲从何来？因何而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5994360"/>
            <a:ext cx="503280" cy="863640"/>
          </a:xfrm>
          <a:custGeom>
            <a:avLst/>
            <a:gdLst>
              <a:gd name="textAreaLeft" fmla="*/ 67320 w 503280"/>
              <a:gd name="textAreaRight" fmla="*/ 435960 w 503280"/>
              <a:gd name="textAreaTop" fmla="*/ 147600 h 863640"/>
              <a:gd name="textAreaBottom" fmla="*/ 6429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93" stAng="-5400000" swAng="-5400000"/>
                <a:lnTo>
                  <a:pt x="0" y="12381"/>
                </a:lnTo>
                <a:arcTo wR="21600" hR="7393" stAng="10800000" swAng="-2644251"/>
                <a:lnTo>
                  <a:pt x="14400" y="21177"/>
                </a:lnTo>
                <a:lnTo>
                  <a:pt x="21600" y="17280"/>
                </a:lnTo>
                <a:lnTo>
                  <a:pt x="14400" y="12537"/>
                </a:lnTo>
                <a:lnTo>
                  <a:pt x="14400" y="14363"/>
                </a:lnTo>
                <a:arcTo wR="21600" hR="7393" stAng="8155749" swAng="2224698"/>
                <a:lnTo>
                  <a:pt x="1266" y="9887"/>
                </a:lnTo>
                <a:arcTo wR="21600" hR="7393" stAng="-10380446" swAng="4980446"/>
                <a:close/>
              </a:path>
              <a:path fill="darkenLess" w="21600" h="21600">
                <a:moveTo>
                  <a:pt x="21600" y="0"/>
                </a:moveTo>
                <a:arcTo wR="21600" hR="7393" stAng="-5400000" swAng="-5400000"/>
                <a:lnTo>
                  <a:pt x="0" y="7393"/>
                </a:lnTo>
                <a:arcTo wR="21600" hR="7393" stAng="10800000" swAng="-419554"/>
                <a:lnTo>
                  <a:pt x="1266" y="9887"/>
                </a:lnTo>
                <a:arcTo wR="21600" hR="7393" stAng="-10380446" swAng="498044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63640" y="595008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宇宙无穷，个人渺小之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7343640" y="1413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18446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势极而南溟深，天柱高而北辰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关山难越，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失路之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萍水相逢，尽是他乡之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流水浮萍，偶然相逢，全是他乡陌生之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4365720"/>
            <a:ext cx="55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关山万里，难以逾越，谁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同情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迷路游子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234936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地势偏远而南方大海幽深，天柱很高而北极星辰遥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2016000" cy="25876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95280" y="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望长安于日下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吴会于云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西望长安远在夕阳之下，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看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吴郡会稽隐现在云雾之间。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50920" y="1484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抒发身世之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020000" y="1268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11280" y="213372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望长安于日下，目吴会于云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势极而南溟深，天柱高而北辰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山难越，谁悲失路之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萍水相逢，尽是他乡之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怀</a:t>
            </a:r>
            <a:r>
              <a:rPr b="1" lang="zh-CN" sz="3200" spc="-1" strike="noStrike">
                <a:solidFill>
                  <a:srgbClr val="e02080"/>
                </a:solidFill>
                <a:latin typeface="Arial"/>
                <a:ea typeface="黑体"/>
              </a:rPr>
              <a:t>帝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而不见，奉</a:t>
            </a:r>
            <a:r>
              <a:rPr b="1" lang="zh-CN" sz="3200" spc="-1" strike="noStrike">
                <a:solidFill>
                  <a:srgbClr val="e02080"/>
                </a:solidFill>
                <a:latin typeface="Arial"/>
                <a:ea typeface="黑体"/>
              </a:rPr>
              <a:t>宣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何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40000" y="5157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人生无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盛衰有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怀才不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报国无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4797360"/>
            <a:ext cx="576000" cy="936720"/>
          </a:xfrm>
          <a:custGeom>
            <a:avLst/>
            <a:gdLst>
              <a:gd name="textAreaLeft" fmla="*/ 77040 w 576000"/>
              <a:gd name="textAreaRight" fmla="*/ 498960 w 576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27640" y="3500280"/>
            <a:ext cx="2087640" cy="936720"/>
          </a:xfrm>
          <a:prstGeom prst="wedgeEllipseCallout">
            <a:avLst>
              <a:gd name="adj1" fmla="val -36921"/>
              <a:gd name="adj2" fmla="val 7254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7724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怀帝阍而不见，奉宣室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怀念着宫门而不能相见，回朝为官谁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哪一年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980400" y="4197240"/>
            <a:ext cx="2163600" cy="2660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2421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贾谊于长沙，非无圣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鸿于海曲，岂乏明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赖君子见机，达人知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3068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贾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屈居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长沙，并非未遇着圣明的君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让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梁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流窜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海角，岂是没逢到清明的时代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5546880"/>
            <a:ext cx="67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好在仁德的君子了解时机，通达的贤人知道命运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嗟乎！时运不齐，命途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冯唐易老，李广难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啊！时运不好，命运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坎坷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1773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冯唐容易衰老，李广难以封侯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734240" y="134136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948360" y="18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05264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滕 王 阁 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28600"/>
            <a:ext cx="4206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滕王高阁临江渚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佩玉鸣鸾罢歌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栋朝飞南浦云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珠帘暮卷西山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闲云潭影日悠悠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换星移几度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阁中弟子今何在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槛外长江空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98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王 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51640" y="260280"/>
            <a:ext cx="27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滕王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10670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大名楼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24000" y="33336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284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老当益壮，宁移白首之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益坚，不坠青云之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酌贪泉而觉爽，处涸辙以犹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765000"/>
            <a:ext cx="68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年纪老迈，情怀应更加豪壮，哪里能改变白发人的心愿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2565360"/>
            <a:ext cx="70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境遇艰难，意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将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越发坚定，决不会失去凌云的壮志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72428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喝着贪泉的水，神志反觉清爽；处在涸辙之中，心情依然乐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1125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海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扶摇可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东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逝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桑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北海虽然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遥远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，展翅乘风便可到达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旭日东升般的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青春年华虽然已经逝去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夕照桑榆似的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老年岁月并不太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160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808360" cy="2289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68360" y="476280"/>
            <a:ext cx="7991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孟尝高洁，空余报国之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阮藉猖狂，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穷途之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孟尝品德高洁，空留下报国的雄心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411280" y="321300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阮籍放荡不羁，岂能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学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他遇穷途而痛哭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、五段写参加欢娱宴游引发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生感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引用“冯唐”等四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怀才不遇而失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典，借他人之酒杯，浇自家之块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赖君子见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下，用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勉励自己不因处境困窘而改变志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285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引用典故抒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5280" y="3645000"/>
            <a:ext cx="65167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嗟乎！时运不齐，命途多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冯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易老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李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难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贾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长沙，非无圣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梁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海曲，岂乏明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26920" y="566100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76360" y="58770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怀才不遇，功业无成之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7734240" y="5207040"/>
            <a:ext cx="1409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4076640"/>
            <a:ext cx="2016360" cy="25876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1522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冯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易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72356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酒酣胸胆尚开张，鬓微霜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何妨！持节云中，何日遣冯唐？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挽雕弓如满月，西北望，射天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苏轼《江城子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密州出猎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365720"/>
            <a:ext cx="2808360" cy="22892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090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难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10920" y="3499920"/>
            <a:ext cx="5867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何知七十战，白首未封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陈子昂《感遇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50400" y="1341360"/>
            <a:ext cx="413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但使龙城飞将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不教胡马度阴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                    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王昌龄《出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377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屈贾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谊于长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82560" y="2997000"/>
            <a:ext cx="75614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宣室求贤访逐臣，贾生才调更无伦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可怜夜半虚前席，不问苍生问鬼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李商隐《贾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44640" y="1125360"/>
            <a:ext cx="166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仁义不施，而攻守之势异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贾谊《过秦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4869000"/>
            <a:ext cx="216072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4842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1620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窜梁</a:t>
            </a:r>
            <a:br>
              <a:rPr sz="6600"/>
            </a:b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鸿于海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0560" y="333000"/>
            <a:ext cx="70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字伯鸾，东汉扶风平陵人，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京师，作《五意歌》，讽刺朝廷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侈，不体恤民生艰难。汉章帝读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甚为不满，派人寻找他。他更改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名，与妻子孟光避居齐鲁，后移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吴地。海曲：即滨海之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080"/>
                </a:solidFill>
                <a:latin typeface="Arial"/>
              </a:rPr>
              <a:t>（举案齐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勉励自己守节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2163960" cy="26607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68360" y="1341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赖君子见机，达人知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当益壮，宁移白首之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穷且益坚，不坠青云之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59280" y="36136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处境困厄，壮志弥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11280" y="314172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贪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觉爽，处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涸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北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赊，扶摇可接；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东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逝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桑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孟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洁，空余报国之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阮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猖狂，岂效穷途之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99920" y="1557360"/>
            <a:ext cx="11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处困境，志节不移；逆境之中，乐观开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3068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心未泯，乐观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79640" y="537372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用典故，以二人的消极反衬出自己积极向上的情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428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26200" y="3068640"/>
            <a:ext cx="2017800" cy="3789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4296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四大名楼有关的名人题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昔人已乘黄鹤去，此地空余黄鹤楼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崔 颢《黄鹤楼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故人西辞黄鹤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烟花三月下扬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白《送孟浩然之广陵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先天下之忧而忧，后天下之乐而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范仲淹《岳阳楼记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吴楚东南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乾坤日夜浮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杜甫《登岳阳楼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落霞与孤鹜齐飞，秋水共长天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王勃《滕王阁序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应用典故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简练含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作用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加强论证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借古写怀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内容充实，联想丰富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语言简练，风格典雅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历史故事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冯唐易老，李广难封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前人文句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酌贪泉而觉爽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处涸辙以犹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1024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07252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找一下，文中运用了哪些典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92280"/>
            <a:ext cx="684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第四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</a:rPr>
              <a:t>披文入情：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幼圆"/>
              </a:rPr>
              <a:t>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5157720"/>
            <a:ext cx="66960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奇文共欣赏，疑义相与析。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---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情感变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宴会盛况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过渡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奏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饮酒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赋诗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总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怀才不遇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过渡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遥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难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孤独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无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用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壮志弥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守志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乐观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信念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坚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40" y="1628640"/>
            <a:ext cx="1003320" cy="93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40" y="5013360"/>
            <a:ext cx="1003320" cy="93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" y="3357720"/>
            <a:ext cx="1003320" cy="93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876240" cy="1695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8028000" y="5229360"/>
            <a:ext cx="111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33" dur="5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2" dur="500" fill="hold"/>
                                        <p:tgtEl>
                                          <p:spTgt spid="4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51" dur="5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87280" y="141300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慤             簪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95640" y="1341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q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88000" y="141300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zān  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260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六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21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勃，三尺微命，一介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无路请缨，等终军之弱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我王勃是一个身分低微的文弱书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5157720"/>
            <a:ext cx="74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虽然与年轻的终军同龄，却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机会求得捆缚南越王的长绳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7920000" y="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7524720" y="4941720"/>
            <a:ext cx="12985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476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怀投笔，慕宗悫之长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舍簪笏于百龄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晨昏于万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41300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也怀着投笔从戎的壮志，很羡慕宗悫乘长风破万里浪的雄心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9280" y="4149720"/>
            <a:ext cx="62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如今抛舍了人生百年的富贵爵禄，去探望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侍奉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万里之外的父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659640" y="836640"/>
            <a:ext cx="2003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33336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非谢家之宝树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孟氏之芳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他日趋庭，叨陪鲤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今晨捧袂，喜托龙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981000"/>
            <a:ext cx="65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虽不是玉树般的谢家子弟，却也愿学孟母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结交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贤者为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42920" y="3429000"/>
            <a:ext cx="55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不久便要“趋庭鲤对”，承受严父的教导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11280" y="554688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今天有幸“喜登龙门”，拜见高雅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37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6206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杨意不逢，抚凌云而自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钟期既遇，奏流水以何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7002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如果遇不到杨得意的推荐，就只能抚摸着凌云之作为自己惋惜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08464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既然已遇见了钟子期，奏起那高山流水之曲又有何愧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233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1197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自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幸与会，应命做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无路请缨”四句再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的遭遇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—怀才不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舍簪笏”以下八句，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路过滕王阁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当时的宾主合在一起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杨意不逢”等四句表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愿意作诗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—知音难觅，伯乐难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236000" y="5207040"/>
            <a:ext cx="1584000" cy="16509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189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六段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7650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呜呼！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不常，盛筵难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02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兰亭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矣，梓泽丘墟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临别赠言，幸承恩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伟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19700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唉！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美好的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景致不能常存，盛大的宴会也难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再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50028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兰亭集会的雅兴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已经过去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，金谷园林的楼阁已成废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558972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临别的赠言，</a:t>
            </a:r>
            <a:r>
              <a:rPr b="1" lang="zh-CN" sz="4000" spc="-1" strike="noStrike">
                <a:solidFill>
                  <a:srgbClr val="e02080"/>
                </a:solidFill>
                <a:latin typeface="Arial"/>
                <a:ea typeface="黑体"/>
              </a:rPr>
              <a:t>在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这盛大的宴会上侥幸受到都督的恩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50920" y="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七段：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汉仪菱心体简"/>
              </a:rPr>
              <a:t>疏通文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539640" y="333360"/>
            <a:ext cx="86043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登高作赋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望于群公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敢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鄙诚，恭疏短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言均赋，四韵俱成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105264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登临滕王高阁撰写诗赋，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这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期待着诸位先生各显奇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332000" y="314172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e02080"/>
                </a:solidFill>
                <a:latin typeface="黑体"/>
                <a:ea typeface="黑体"/>
              </a:rPr>
              <a:t>竭尽</a:t>
            </a: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自己的卑陋诚意，恭谨地写成这篇短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6000" y="522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黑体"/>
                <a:ea typeface="黑体"/>
              </a:rPr>
              <a:t>一言定题，都来赋诗，四韵八句，都已写成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962840" y="260280"/>
            <a:ext cx="1181160" cy="165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775640" y="5162400"/>
            <a:ext cx="1368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429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——滕王阁面临赣江，处于赣江和抚河交汇处。由唐高祖之子滕王李元婴任都督时，于公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5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下令在江西南昌修建。以封号为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5640" y="692280"/>
            <a:ext cx="36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关于滕王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40482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33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七段表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写序的目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谦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结，结束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057040" y="333360"/>
            <a:ext cx="42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洒潘江，各倾陆海云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55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请各位尽情发挥自己像陆机、潘岳般如江似海的才能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859280" y="4173480"/>
            <a:ext cx="3462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792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汉仪菱心体简"/>
              </a:rPr>
              <a:t>第七段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分层背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734240" y="520704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50920" y="90792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胜地不常，盛筵难再，兰亭已矣，梓泽丘墟”，寥寥数语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写尽古今盛会曲终人散、无迹可寻的凄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临别赠言，幸承恩于伟饯；登高作赋，是所望于群公”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归结到写诗做序的本事上来，从对宇宙人生的无限感慨中回到现实情境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敢竭鄙怀，恭疏短引，一言均赋，四韵俱成”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是说自己不避浅近，先写了序和诗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洒潘江，各倾陆海”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期望在坐的嘉宾各展文才，各赋所怀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用典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762120" y="990720"/>
            <a:ext cx="517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潦水尽而寒潭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烟光凝而暮山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0720" y="304920"/>
            <a:ext cx="1013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名句欣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4920" y="24382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描画出眼前晚景，秋意极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这句话把清明的湖水和紫色的暮霭加以对比；先写近水，后写远山，描写的景物显出层次，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寒”字体现出秋的特征，抒发出秀美山川给人清爽的感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61000" y="1135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1" dur="3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593640" y="456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65240" y="5630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80880" y="914400"/>
            <a:ext cx="76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imes New Roman"/>
                <a:ea typeface="华文彩云"/>
              </a:rPr>
              <a:t>名句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81080" y="968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层峦耸翠，上出重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飞阁流丹，下临无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50840" y="14479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仅用十六个字就形容出台阁建筑的壮丽。“上出重霄”“下临无地”，用夸张的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法突出楼之高，水之深。“翠”本是翠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琉璃瓦色，这里借指瓦，突出了颜色鲜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细黑"/>
              </a:rPr>
              <a:t>悦目。“飞”字描绘出阁道高耸如鸟之欲飞，“流” 字形容彩画势形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0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75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75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0492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名    句    欣    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914400"/>
            <a:ext cx="57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隶书"/>
              </a:rPr>
              <a:t>落霞与孤鹜齐飞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隶书"/>
              </a:rPr>
              <a:t>秋水共长天一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57200" y="23922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76720" y="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这句确实脱胎于庾信的“落花与芝盖齐飞，杨柳共春旗一色”一句， 但王勃的句子较原句更真实自然，优美动人。落花在天上飘动，白鹭在空中翱翔，红白相映，色彩鲜明；晚霞原本是无生命的自然景物，他与有生命的飞鸟并提，构成了鲜活有趣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0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5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75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75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同学们用自己的语言描绘“落霞与孤鹜齐飞，秋水共长天一色”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5280" y="153900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远处，天连着水，水连着天，水天一色。一只野鸭正披着落日的余晖缓缓的飞翔，灿烂的云霞在天边轻轻地飘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：意境和谐美，自然生动，色彩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霞自天而下，孤鹜自下而上，故曰齐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水碧而连天，长天净而映水，故曰一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rcRect l="13404" t="0" r="0" b="-1365"/>
          <a:stretch/>
        </p:blipFill>
        <p:spPr>
          <a:xfrm>
            <a:off x="7954920" y="5446800"/>
            <a:ext cx="965160" cy="1390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189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前人写水天（或天地）相接景象的句子很多，阅读下面三句子说说王勃的句子好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江潮水连海平，海上明月共潮生（《春江花月夜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烟俱净，天山共色。（《与朱元思书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花与芝盖齐飞，杨柳共春旗一色。（《马射赋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95280" y="23493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解读：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对仗美    色彩美    动静美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虚实美    立体空间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87964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960" y="260280"/>
            <a:ext cx="789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2080"/>
                </a:solidFill>
                <a:latin typeface="Times New Roman"/>
                <a:ea typeface="隶书"/>
              </a:rPr>
              <a:t>滕王阁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高高的滕王阁靠着江边，佩玉、鸾铃鸣响的豪华歌舞已经停止了。早上，画栋飞上了南浦的云；黄昏，珠帘卷入了西山的雨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黑体"/>
              </a:rPr>
              <a:t>闲云的影子映在江水中，时日悠悠不尽；风物更换季节，星座与转移方位，度过几个春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高阁中的滕王如今在哪里呢？只有那栏杆外的长江空自流淌不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陈子昂《登幽州台歌》：“念天地之悠悠，独怆然而涕下”、苏轼《前赤壁赋》：“哀吾生之须臾，羡长江之无穷”、刘禹锡《西塞山怀古》：“人生几回伤往事，山形依旧枕寒流”等，都是用永恒不变的自然与短暂多变的人生相比照，意境博大而悲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2016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907920"/>
            <a:ext cx="91440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洪    府 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地势雄伟、物产珍异、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 人才杰出、宾主尊贵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秋日登阁”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楼阁壮丽、山川胜景，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秋景特色，流光溢彩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饯”， 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宴会胜况，人生遇合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                                 借古勉今，穷且益坚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四、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扣“别”，  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自叙遭际，谢主引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64000" y="18900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4:16:21Z</dcterms:created>
  <dc:creator/>
  <dc:description/>
  <cp:keywords/>
  <dc:language>en-US</dc:language>
  <cp:lastModifiedBy>微软用户</cp:lastModifiedBy>
  <dcterms:modified xsi:type="dcterms:W3CDTF">2015-10-30T02:32:17Z</dcterms:modified>
  <cp:revision>235</cp:revision>
  <dc:subject/>
  <dc:title>幻灯片 1</dc:title>
</cp:coreProperties>
</file>