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7.png" ContentType="image/png"/>
  <Override PartName="/ppt/media/image8.png" ContentType="image/png"/>
  <Override PartName="/ppt/media/image5.gif" ContentType="image/gif"/>
  <Override PartName="/ppt/media/image9.png" ContentType="image/png"/>
  <Override PartName="/ppt/media/image11.jpeg" ContentType="image/jpeg"/>
  <Override PartName="/ppt/media/357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BCE-E593-4B91-83DD-63706665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FFE-3975-4309-B4C6-F5FE4E5C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E7F-D2EC-4AA0-B48F-BA85F899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461-821D-4E52-948A-2A5710FC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29D6-136C-4C82-875E-4926D4AE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2C7F-0C36-4FCB-BFFB-3861832E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6F7B-87DC-4E78-B332-1DA2C0D2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C829-CE30-46AE-B93C-C7CA13A8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5629-2967-4AEB-92F1-966ADABB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CEE2-A630-4A5D-81AC-6115F390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F499-63FA-4715-8EB8-A00A723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707-B6E8-4640-B756-8755BF51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AA36-C21A-40FF-9415-9FEBE80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1DC1-882D-4FD0-8D22-8F4C044A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D959-3BBB-4997-BA78-D46B2B49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DEC6-316C-4A1F-873C-8616F6DA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6D10-4AE7-4052-AC86-39D0A2B4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F91-1DD6-4AE1-BEBF-BBE0B9A0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AFC-3D0A-45F9-BA0A-BD363DED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61A-D794-4980-BE6F-BDC2E020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9C6-B065-4FBB-9F22-AAB38EF9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804-6C23-4F88-B402-39608EA1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5CB-67ED-4E85-8C17-9B1DF5C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1D6-CF58-4D2B-BDFC-B9294DAC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A54B-02F0-4478-A555-289BB3EFC8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713E-F171-410B-AEB0-DED082BBCB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audio" Target="../media/357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476440" y="2529000"/>
            <a:ext cx="497520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图形的变换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1449360"/>
            <a:ext cx="48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北师大版小学数学第七册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67200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3666800">
            <a:off x="2431800" y="2930040"/>
            <a:ext cx="1081080" cy="21607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789560" y="86760"/>
            <a:ext cx="3242520" cy="5536800"/>
            <a:chOff x="1789560" y="86760"/>
            <a:chExt cx="3242520" cy="5536800"/>
          </a:xfrm>
        </p:grpSpPr>
        <p:grpSp>
          <p:nvGrpSpPr>
            <p:cNvPr id="657" name=""/>
            <p:cNvGrpSpPr/>
            <p:nvPr/>
          </p:nvGrpSpPr>
          <p:grpSpPr>
            <a:xfrm>
              <a:off x="1789560" y="86760"/>
              <a:ext cx="3242520" cy="5536800"/>
              <a:chOff x="1789560" y="86760"/>
              <a:chExt cx="3242520" cy="5536800"/>
            </a:xfrm>
          </p:grpSpPr>
          <p:sp>
            <p:nvSpPr>
              <p:cNvPr id="658" name=""/>
              <p:cNvSpPr/>
              <p:nvPr/>
            </p:nvSpPr>
            <p:spPr>
              <a:xfrm rot="2931000">
                <a:off x="3322440" y="590760"/>
                <a:ext cx="1081080" cy="21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3731600">
                <a:off x="2417760" y="2814840"/>
                <a:ext cx="1081080" cy="2160360"/>
              </a:xfrm>
              <a:prstGeom prst="rtTriangl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548400">
                <a:off x="2287440" y="1573920"/>
                <a:ext cx="7207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548400">
                <a:off x="4238640" y="139680"/>
                <a:ext cx="720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548400">
                <a:off x="2194560" y="4928760"/>
                <a:ext cx="720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548400">
                <a:off x="4031640" y="3314520"/>
                <a:ext cx="7207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 rot="548400">
              <a:off x="3319920" y="2691720"/>
              <a:ext cx="18072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2271600" y="5033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73400" y="33321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392720" y="18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232000" y="162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791360" y="104400"/>
            <a:ext cx="3242520" cy="5536080"/>
            <a:chOff x="1791360" y="104400"/>
            <a:chExt cx="3242520" cy="5536080"/>
          </a:xfrm>
        </p:grpSpPr>
        <p:grpSp>
          <p:nvGrpSpPr>
            <p:cNvPr id="670" name=""/>
            <p:cNvGrpSpPr/>
            <p:nvPr/>
          </p:nvGrpSpPr>
          <p:grpSpPr>
            <a:xfrm>
              <a:off x="1791360" y="104400"/>
              <a:ext cx="3242520" cy="5536080"/>
              <a:chOff x="1791360" y="104400"/>
              <a:chExt cx="3242520" cy="5536080"/>
            </a:xfrm>
          </p:grpSpPr>
          <p:sp>
            <p:nvSpPr>
              <p:cNvPr id="671" name=""/>
              <p:cNvSpPr/>
              <p:nvPr/>
            </p:nvSpPr>
            <p:spPr>
              <a:xfrm rot="2931000">
                <a:off x="3324240" y="608040"/>
                <a:ext cx="1081080" cy="216000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3731600">
                <a:off x="2419560" y="2832480"/>
                <a:ext cx="1081080" cy="2160000"/>
              </a:xfrm>
              <a:prstGeom prst="rtTriangl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548400">
                <a:off x="2289240" y="1591200"/>
                <a:ext cx="7207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548400">
                <a:off x="4240440" y="157320"/>
                <a:ext cx="7207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548400">
                <a:off x="2196360" y="4946040"/>
                <a:ext cx="7207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548400">
                <a:off x="4033440" y="3331800"/>
                <a:ext cx="7207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rot="548400">
              <a:off x="3321720" y="2709000"/>
              <a:ext cx="180720" cy="180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67200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13666800">
            <a:off x="2431800" y="2930040"/>
            <a:ext cx="1081080" cy="21607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792800" y="86760"/>
            <a:ext cx="3242520" cy="5536800"/>
            <a:chOff x="1792800" y="86760"/>
            <a:chExt cx="3242520" cy="5536800"/>
          </a:xfrm>
        </p:grpSpPr>
        <p:grpSp>
          <p:nvGrpSpPr>
            <p:cNvPr id="681" name=""/>
            <p:cNvGrpSpPr/>
            <p:nvPr/>
          </p:nvGrpSpPr>
          <p:grpSpPr>
            <a:xfrm>
              <a:off x="1792800" y="86760"/>
              <a:ext cx="3242520" cy="5536800"/>
              <a:chOff x="1792800" y="86760"/>
              <a:chExt cx="3242520" cy="5536800"/>
            </a:xfrm>
          </p:grpSpPr>
          <p:sp>
            <p:nvSpPr>
              <p:cNvPr id="682" name=""/>
              <p:cNvSpPr/>
              <p:nvPr/>
            </p:nvSpPr>
            <p:spPr>
              <a:xfrm rot="2931000">
                <a:off x="3325680" y="590760"/>
                <a:ext cx="1081080" cy="21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3731600">
                <a:off x="2421000" y="2814840"/>
                <a:ext cx="1081080" cy="2160360"/>
              </a:xfrm>
              <a:prstGeom prst="rtTriangl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548400">
                <a:off x="2290680" y="1573920"/>
                <a:ext cx="7207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48400">
                <a:off x="4241880" y="139680"/>
                <a:ext cx="720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548400">
                <a:off x="2197800" y="4928760"/>
                <a:ext cx="720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548400">
                <a:off x="4034880" y="3314520"/>
                <a:ext cx="7207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 rot="548400">
              <a:off x="3323160" y="2691720"/>
              <a:ext cx="18072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71600" y="5033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073400" y="33321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392720" y="18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232000" y="162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67200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4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4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67200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13666800">
            <a:off x="2431800" y="2930040"/>
            <a:ext cx="1081080" cy="21607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789560" y="86760"/>
            <a:ext cx="3242520" cy="5536800"/>
            <a:chOff x="1789560" y="86760"/>
            <a:chExt cx="3242520" cy="5536800"/>
          </a:xfrm>
        </p:grpSpPr>
        <p:grpSp>
          <p:nvGrpSpPr>
            <p:cNvPr id="697" name=""/>
            <p:cNvGrpSpPr/>
            <p:nvPr/>
          </p:nvGrpSpPr>
          <p:grpSpPr>
            <a:xfrm>
              <a:off x="1789560" y="86760"/>
              <a:ext cx="3242520" cy="5536800"/>
              <a:chOff x="1789560" y="86760"/>
              <a:chExt cx="3242520" cy="5536800"/>
            </a:xfrm>
          </p:grpSpPr>
          <p:sp>
            <p:nvSpPr>
              <p:cNvPr id="698" name=""/>
              <p:cNvSpPr/>
              <p:nvPr/>
            </p:nvSpPr>
            <p:spPr>
              <a:xfrm rot="2931000">
                <a:off x="3322440" y="590760"/>
                <a:ext cx="1081080" cy="21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3731600">
                <a:off x="2417760" y="2814840"/>
                <a:ext cx="1081080" cy="2160360"/>
              </a:xfrm>
              <a:prstGeom prst="rtTriangl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8400">
                <a:off x="2287440" y="1573920"/>
                <a:ext cx="7207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8400">
                <a:off x="4238640" y="139680"/>
                <a:ext cx="720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548400">
                <a:off x="2194560" y="4928760"/>
                <a:ext cx="720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8400">
                <a:off x="4031640" y="3314520"/>
                <a:ext cx="7207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 rot="548400">
              <a:off x="3319920" y="2691720"/>
              <a:ext cx="18072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2271600" y="5033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073400" y="33321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92720" y="18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232000" y="162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355428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13731000">
            <a:off x="2417400" y="2814120"/>
            <a:ext cx="1081080" cy="21603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548400">
            <a:off x="2231640" y="126792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548400">
            <a:off x="4238280" y="13932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48400">
            <a:off x="2193480" y="4927320"/>
            <a:ext cx="72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552680" y="4191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82720" y="2882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72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792520" y="106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55428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4362600">
            <a:off x="1982520" y="2328480"/>
            <a:ext cx="1081080" cy="21607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831680" y="678600"/>
            <a:ext cx="3335400" cy="4102200"/>
            <a:chOff x="1831680" y="678600"/>
            <a:chExt cx="3335400" cy="4102200"/>
          </a:xfrm>
        </p:grpSpPr>
        <p:sp>
          <p:nvSpPr>
            <p:cNvPr id="721" name=""/>
            <p:cNvSpPr/>
            <p:nvPr/>
          </p:nvSpPr>
          <p:spPr>
            <a:xfrm rot="9762600">
              <a:off x="2127960" y="790200"/>
              <a:ext cx="1081080" cy="216072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548400">
              <a:off x="3276360" y="2494080"/>
              <a:ext cx="282600" cy="28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0562600">
              <a:off x="3789360" y="2508120"/>
              <a:ext cx="1081080" cy="216072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5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5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6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55428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3731000">
            <a:off x="2417400" y="2814120"/>
            <a:ext cx="1081080" cy="21603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48400">
            <a:off x="2231640" y="126792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548400">
            <a:off x="4238280" y="13932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rot="548400">
            <a:off x="2193480" y="4927320"/>
            <a:ext cx="72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552680" y="4191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82720" y="2882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332000" y="72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792520" y="106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55428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4362600">
            <a:off x="2071440" y="2390400"/>
            <a:ext cx="1081080" cy="21607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831680" y="658080"/>
            <a:ext cx="3335400" cy="4102200"/>
            <a:chOff x="1831680" y="658080"/>
            <a:chExt cx="3335400" cy="4102200"/>
          </a:xfrm>
        </p:grpSpPr>
        <p:sp>
          <p:nvSpPr>
            <p:cNvPr id="736" name=""/>
            <p:cNvSpPr/>
            <p:nvPr/>
          </p:nvSpPr>
          <p:spPr>
            <a:xfrm rot="9762600">
              <a:off x="2127960" y="769680"/>
              <a:ext cx="1081080" cy="216072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8400">
              <a:off x="3388680" y="2570040"/>
              <a:ext cx="181080" cy="180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0562600">
              <a:off x="3789360" y="2487600"/>
              <a:ext cx="1081080" cy="216072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 rot="9157200">
            <a:off x="4447800" y="3151080"/>
            <a:ext cx="1081080" cy="21607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92360" y="72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13731000">
            <a:off x="2417400" y="2814120"/>
            <a:ext cx="1081080" cy="21603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548400">
            <a:off x="2231640" y="126792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37400" y="216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252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92360" y="3249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32360" y="468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218120" y="252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20562600">
            <a:off x="5665680" y="2806560"/>
            <a:ext cx="1081080" cy="21607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rot="19957200">
            <a:off x="4392360" y="728280"/>
            <a:ext cx="1081080" cy="21607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956400" y="600840"/>
            <a:ext cx="1994400" cy="4839840"/>
            <a:chOff x="3956400" y="600840"/>
            <a:chExt cx="1994400" cy="4839840"/>
          </a:xfrm>
        </p:grpSpPr>
        <p:sp>
          <p:nvSpPr>
            <p:cNvPr id="751" name=""/>
            <p:cNvSpPr/>
            <p:nvPr/>
          </p:nvSpPr>
          <p:spPr>
            <a:xfrm rot="9157200">
              <a:off x="4433760" y="3152520"/>
              <a:ext cx="1080720" cy="2160360"/>
            </a:xfrm>
            <a:prstGeom prst="rtTriangl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9957200">
              <a:off x="4392360" y="728280"/>
              <a:ext cx="1080720" cy="2160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548400">
              <a:off x="4773600" y="2874960"/>
              <a:ext cx="36000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 rot="9157200">
            <a:off x="4433400" y="3151080"/>
            <a:ext cx="1081080" cy="21607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2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4633920" y="2590920"/>
            <a:ext cx="539640" cy="216036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rot="5400000">
            <a:off x="3283560" y="1780200"/>
            <a:ext cx="539640" cy="216072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10800000">
            <a:off x="4092480" y="430200"/>
            <a:ext cx="540000" cy="216072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6200000">
            <a:off x="5444280" y="1238400"/>
            <a:ext cx="539640" cy="216072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133880" y="25700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33920" y="4175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432160" y="2508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175280" y="368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372360" y="20080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4633920" y="2590920"/>
            <a:ext cx="539640" cy="2160360"/>
          </a:xfrm>
          <a:prstGeom prst="rtTriangle">
            <a:avLst/>
          </a:prstGeom>
          <a:solidFill>
            <a:srgbClr val="ff66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rot="5400000">
            <a:off x="3283560" y="1780200"/>
            <a:ext cx="539640" cy="216072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10800000">
            <a:off x="4092480" y="430200"/>
            <a:ext cx="540000" cy="216072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rot="16200000">
            <a:off x="5444280" y="1238400"/>
            <a:ext cx="539640" cy="216072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133880" y="25700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12187800">
            <a:off x="3352320" y="3218040"/>
            <a:ext cx="2131200" cy="182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73" y="3923"/>
                </a:moveTo>
                <a:arcTo wR="10800" hR="10800" stAng="-8426926" swAng="5680206"/>
                <a:lnTo>
                  <a:pt x="10800" y="10800"/>
                </a:lnTo>
                <a:close/>
              </a:path>
              <a:path fill="none" w="21600" h="21600">
                <a:moveTo>
                  <a:pt x="2473" y="3923"/>
                </a:moveTo>
                <a:arcTo wR="10800" hR="10800" stAng="-8426926" swAng="5680206"/>
              </a:path>
            </a:pathLst>
          </a:custGeom>
          <a:noFill/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33920" y="4175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32160" y="2508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175280" y="368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372360" y="20080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11280" y="5302080"/>
            <a:ext cx="8172360" cy="1556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绕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O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点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顺时针旋转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90</a:t>
            </a:r>
            <a:r>
              <a:rPr b="1" lang="zh-CN" sz="3200" spc="-1" strike="noStrike" baseline="70000">
                <a:solidFill>
                  <a:srgbClr val="000000"/>
                </a:solidFill>
                <a:latin typeface="Rockwell Extra Bold"/>
                <a:ea typeface="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可得到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（     ）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所在的位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641760" y="5951520"/>
            <a:ext cx="108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Rockwell Extra Bold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659640" y="3789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2017440" cy="20178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6300720" y="765000"/>
            <a:ext cx="1657440" cy="22258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2771640" y="2529000"/>
            <a:ext cx="32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S UI Gothic"/>
              </a:rPr>
              <a:t>图形的旋转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S UI Gothic"/>
              <a:ea typeface="MS UI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35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4633920" y="2590920"/>
            <a:ext cx="539640" cy="216036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rot="5400000">
            <a:off x="3283560" y="1780200"/>
            <a:ext cx="539640" cy="2160720"/>
          </a:xfrm>
          <a:prstGeom prst="rtTriangle">
            <a:avLst/>
          </a:prstGeom>
          <a:solidFill>
            <a:srgbClr val="ff66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rot="10800000">
            <a:off x="4092480" y="430200"/>
            <a:ext cx="540000" cy="216072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rot="16200000">
            <a:off x="5444280" y="1238400"/>
            <a:ext cx="539640" cy="216072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133880" y="25700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rot="16462200">
            <a:off x="2518560" y="585000"/>
            <a:ext cx="2793240" cy="43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73" y="3923"/>
                </a:moveTo>
                <a:arcTo wR="10800" hR="10800" stAng="-8426926" swAng="5680206"/>
                <a:lnTo>
                  <a:pt x="10800" y="10800"/>
                </a:lnTo>
                <a:close/>
              </a:path>
              <a:path fill="none" w="21600" h="21600">
                <a:moveTo>
                  <a:pt x="2473" y="3923"/>
                </a:moveTo>
                <a:arcTo wR="10800" hR="10800" stAng="-8426926" swAng="5680206"/>
              </a:path>
            </a:pathLst>
          </a:custGeom>
          <a:noFill/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633920" y="4175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432160" y="2508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75280" y="368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372360" y="20080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11280" y="5302080"/>
            <a:ext cx="8172360" cy="1556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绕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O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点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顺时针旋转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90</a:t>
            </a:r>
            <a:r>
              <a:rPr b="1" lang="zh-CN" sz="3200" spc="-1" strike="noStrike" baseline="70000">
                <a:solidFill>
                  <a:srgbClr val="000000"/>
                </a:solidFill>
                <a:latin typeface="Rockwell Extra Bold"/>
                <a:ea typeface="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可得到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（     ）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所在的位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83160" y="5992920"/>
            <a:ext cx="10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Rockwell Extra Bold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4633920" y="2590920"/>
            <a:ext cx="539640" cy="216036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3283560" y="1780200"/>
            <a:ext cx="539640" cy="2160720"/>
          </a:xfrm>
          <a:prstGeom prst="rtTriangle">
            <a:avLst/>
          </a:prstGeom>
          <a:solidFill>
            <a:srgbClr val="ff66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10800000">
            <a:off x="4092480" y="430200"/>
            <a:ext cx="540000" cy="2160720"/>
          </a:xfrm>
          <a:prstGeom prst="rtTriangl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5444280" y="1238400"/>
            <a:ext cx="539640" cy="2160720"/>
          </a:xfrm>
          <a:prstGeom prst="rtTriangle">
            <a:avLst/>
          </a:prstGeom>
          <a:solidFill>
            <a:srgbClr val="ff66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133880" y="25700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7587200">
            <a:off x="1812240" y="1690560"/>
            <a:ext cx="2207160" cy="176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73" y="3923"/>
                </a:moveTo>
                <a:arcTo wR="10800" hR="10800" stAng="-8426926" swAng="5680206"/>
                <a:lnTo>
                  <a:pt x="10800" y="10800"/>
                </a:lnTo>
                <a:close/>
              </a:path>
              <a:path fill="none" w="21600" h="21600">
                <a:moveTo>
                  <a:pt x="2473" y="3923"/>
                </a:moveTo>
                <a:arcTo wR="10800" hR="10800" stAng="-8426926" swAng="5680206"/>
              </a:path>
            </a:pathLst>
          </a:custGeom>
          <a:noFill/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33920" y="4175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432160" y="2508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175280" y="368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372360" y="20080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5302080"/>
            <a:ext cx="9144000" cy="1648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绕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O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点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顺时针旋转（      ）可得到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 </a:t>
            </a:r>
            <a:r>
              <a:rPr b="1" lang="zh-CN" sz="5400" spc="-1" strike="noStrike">
                <a:solidFill>
                  <a:srgbClr val="cc3300"/>
                </a:solidFill>
                <a:latin typeface="Rockwell Extra Bold"/>
              </a:rPr>
              <a:t>4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所在的位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850080" y="52848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Rockwell Extra Bold"/>
              </a:rPr>
              <a:t>180</a:t>
            </a:r>
            <a:r>
              <a:rPr b="1" lang="en-US" sz="3200" spc="-1" strike="noStrike" baseline="70000">
                <a:solidFill>
                  <a:srgbClr val="3333ff"/>
                </a:solidFill>
                <a:latin typeface="Rockwell Extra Bold"/>
                <a:ea typeface="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411280" y="1628640"/>
            <a:ext cx="61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你能应用我们刚学的知识制作一幅漂亮的图案吗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试一试你一定行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rcRect l="16159" t="42312" r="62367" b="42312"/>
          <a:stretch/>
        </p:blipFill>
        <p:spPr>
          <a:xfrm>
            <a:off x="250920" y="728640"/>
            <a:ext cx="2160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232000" y="48895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如何形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并与同学进行交流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7093080" y="2349360"/>
            <a:ext cx="1619280" cy="2160360"/>
            <a:chOff x="7093080" y="2349360"/>
            <a:chExt cx="1619280" cy="2160360"/>
          </a:xfrm>
        </p:grpSpPr>
        <p:sp>
          <p:nvSpPr>
            <p:cNvPr id="805" name=""/>
            <p:cNvSpPr/>
            <p:nvPr/>
          </p:nvSpPr>
          <p:spPr>
            <a:xfrm rot="5400000">
              <a:off x="7137360" y="3744360"/>
              <a:ext cx="720720" cy="809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5400000">
              <a:off x="7138440" y="3024720"/>
              <a:ext cx="718920" cy="809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5400000">
              <a:off x="7137360" y="2304720"/>
              <a:ext cx="720720" cy="809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02720" y="2349360"/>
              <a:ext cx="0" cy="21603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93080" y="2349360"/>
              <a:ext cx="0" cy="21603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093080" y="2349360"/>
              <a:ext cx="809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7093080" y="3070080"/>
              <a:ext cx="80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7093080" y="3789000"/>
              <a:ext cx="80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093080" y="4509720"/>
              <a:ext cx="809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5400000">
              <a:off x="7947000" y="2304720"/>
              <a:ext cx="720720" cy="809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712360" y="2349360"/>
              <a:ext cx="0" cy="72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902720" y="2349360"/>
              <a:ext cx="0" cy="72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902720" y="2349360"/>
              <a:ext cx="809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902720" y="3070080"/>
              <a:ext cx="809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5111640" y="5049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192720" y="3429000"/>
            <a:ext cx="719280" cy="541440"/>
          </a:xfrm>
          <a:prstGeom prst="rightArrow">
            <a:avLst>
              <a:gd name="adj1" fmla="val 50000"/>
              <a:gd name="adj2" fmla="val 33211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5240" y="5754600"/>
            <a:ext cx="8727840" cy="916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顺时针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旋转</a:t>
            </a:r>
            <a:r>
              <a:rPr b="1" lang="zh-CN" sz="4800" spc="-1" strike="noStrike">
                <a:solidFill>
                  <a:srgbClr val="3333ff"/>
                </a:solidFill>
                <a:latin typeface="Rockwell Extra Bold"/>
              </a:rPr>
              <a:t>90</a:t>
            </a:r>
            <a:r>
              <a:rPr b="1" lang="zh-CN" sz="3200" spc="-1" strike="noStrike" baseline="70000">
                <a:solidFill>
                  <a:srgbClr val="3333ff"/>
                </a:solidFill>
                <a:latin typeface="Rockwell Extra Bold"/>
                <a:ea typeface=""/>
              </a:rPr>
              <a:t>0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形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611280" y="2168640"/>
            <a:ext cx="4681440" cy="4689360"/>
            <a:chOff x="611280" y="2168640"/>
            <a:chExt cx="4681440" cy="4689360"/>
          </a:xfrm>
        </p:grpSpPr>
        <p:sp>
          <p:nvSpPr>
            <p:cNvPr id="823" name=""/>
            <p:cNvSpPr/>
            <p:nvPr/>
          </p:nvSpPr>
          <p:spPr>
            <a:xfrm>
              <a:off x="611280" y="2168640"/>
              <a:ext cx="4681440" cy="468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11280" y="2889360"/>
              <a:ext cx="2160360" cy="1619280"/>
              <a:chOff x="611280" y="2889360"/>
              <a:chExt cx="2160360" cy="1619280"/>
            </a:xfrm>
          </p:grpSpPr>
          <p:sp>
            <p:nvSpPr>
              <p:cNvPr id="825" name=""/>
              <p:cNvSpPr/>
              <p:nvPr/>
            </p:nvSpPr>
            <p:spPr>
              <a:xfrm>
                <a:off x="2050920" y="369900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332000" y="3699000"/>
                <a:ext cx="7189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11280" y="369900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11280" y="3699000"/>
                <a:ext cx="216036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1280" y="4508640"/>
                <a:ext cx="216036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11280" y="3699000"/>
                <a:ext cx="0" cy="8096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332000" y="3699000"/>
                <a:ext cx="0" cy="80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050920" y="3699000"/>
                <a:ext cx="0" cy="80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71640" y="3699000"/>
                <a:ext cx="0" cy="8096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11280" y="288936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11280" y="2889360"/>
                <a:ext cx="72072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1280" y="3699000"/>
                <a:ext cx="72072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1280" y="2889360"/>
                <a:ext cx="0" cy="8096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32000" y="2889360"/>
                <a:ext cx="0" cy="8096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22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512720" y="468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如何形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并与同学进行交流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800680" y="4503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65240" y="5754600"/>
            <a:ext cx="8893080" cy="9169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顺时针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旋转</a:t>
            </a:r>
            <a:r>
              <a:rPr b="1" lang="zh-CN" sz="4800" spc="-1" strike="noStrike">
                <a:solidFill>
                  <a:srgbClr val="3333ff"/>
                </a:solidFill>
                <a:latin typeface="Rockwell Extra Bold"/>
              </a:rPr>
              <a:t>90</a:t>
            </a:r>
            <a:r>
              <a:rPr b="1" lang="zh-CN" sz="3200" spc="-1" strike="noStrike" baseline="70000">
                <a:solidFill>
                  <a:srgbClr val="3333ff"/>
                </a:solidFill>
                <a:latin typeface="Rockwell Extra Bold"/>
                <a:ea typeface=""/>
              </a:rPr>
              <a:t>0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形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431640" y="2168640"/>
            <a:ext cx="4500720" cy="4140000"/>
            <a:chOff x="431640" y="2168640"/>
            <a:chExt cx="4500720" cy="4140000"/>
          </a:xfrm>
        </p:grpSpPr>
        <p:sp>
          <p:nvSpPr>
            <p:cNvPr id="844" name=""/>
            <p:cNvSpPr/>
            <p:nvPr/>
          </p:nvSpPr>
          <p:spPr>
            <a:xfrm>
              <a:off x="431640" y="2168640"/>
              <a:ext cx="4500720" cy="4140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431640" y="2168640"/>
              <a:ext cx="2160720" cy="2422440"/>
              <a:chOff x="431640" y="2168640"/>
              <a:chExt cx="2160720" cy="2422440"/>
            </a:xfrm>
          </p:grpSpPr>
          <p:sp>
            <p:nvSpPr>
              <p:cNvPr id="846" name=""/>
              <p:cNvSpPr/>
              <p:nvPr/>
            </p:nvSpPr>
            <p:spPr>
              <a:xfrm>
                <a:off x="1871640" y="2978280"/>
                <a:ext cx="720720" cy="8096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152360" y="2978280"/>
                <a:ext cx="719280" cy="8096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31640" y="2978280"/>
                <a:ext cx="720720" cy="8096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31640" y="2978280"/>
                <a:ext cx="2160720" cy="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31640" y="3787920"/>
                <a:ext cx="2160720" cy="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31640" y="2978280"/>
                <a:ext cx="0" cy="8096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152360" y="2978280"/>
                <a:ext cx="0" cy="809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71640" y="2978280"/>
                <a:ext cx="0" cy="809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592360" y="2978280"/>
                <a:ext cx="0" cy="8096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152360" y="2168640"/>
                <a:ext cx="720720" cy="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152360" y="2978280"/>
                <a:ext cx="720720" cy="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52360" y="2168640"/>
                <a:ext cx="0" cy="8096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873080" y="2168640"/>
                <a:ext cx="0" cy="8096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31640" y="3781440"/>
                <a:ext cx="720720" cy="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31640" y="4591080"/>
                <a:ext cx="720720" cy="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31640" y="3781440"/>
                <a:ext cx="0" cy="8096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152360" y="3781440"/>
                <a:ext cx="0" cy="8096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3" name=""/>
          <p:cNvGrpSpPr/>
          <p:nvPr/>
        </p:nvGrpSpPr>
        <p:grpSpPr>
          <a:xfrm>
            <a:off x="5832720" y="1989000"/>
            <a:ext cx="2422440" cy="2160720"/>
            <a:chOff x="5832720" y="1989000"/>
            <a:chExt cx="2422440" cy="2160720"/>
          </a:xfrm>
        </p:grpSpPr>
        <p:sp>
          <p:nvSpPr>
            <p:cNvPr id="864" name=""/>
            <p:cNvSpPr/>
            <p:nvPr/>
          </p:nvSpPr>
          <p:spPr>
            <a:xfrm rot="5400000">
              <a:off x="6680160" y="3384360"/>
              <a:ext cx="720720" cy="8096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5400000">
              <a:off x="6680880" y="2664360"/>
              <a:ext cx="719280" cy="8096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5400000">
              <a:off x="6680160" y="1944360"/>
              <a:ext cx="720720" cy="8096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45520" y="1989000"/>
              <a:ext cx="0" cy="216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35880" y="1989000"/>
              <a:ext cx="0" cy="216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635880" y="1989000"/>
              <a:ext cx="8096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635880" y="2709720"/>
              <a:ext cx="80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6635880" y="3429000"/>
              <a:ext cx="80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6635880" y="4149720"/>
              <a:ext cx="8096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55160" y="2709720"/>
              <a:ext cx="0" cy="72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45520" y="2709720"/>
              <a:ext cx="0" cy="72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445520" y="2709720"/>
              <a:ext cx="8096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445520" y="3430440"/>
              <a:ext cx="8096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42360" y="1989000"/>
              <a:ext cx="0" cy="72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832720" y="1989000"/>
              <a:ext cx="0" cy="72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5832720" y="1989000"/>
              <a:ext cx="8096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32720" y="2709720"/>
              <a:ext cx="8096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5472000" y="3249720"/>
            <a:ext cx="719280" cy="541080"/>
          </a:xfrm>
          <a:prstGeom prst="rightArrow">
            <a:avLst>
              <a:gd name="adj1" fmla="val 50000"/>
              <a:gd name="adj2" fmla="val 33234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3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"/>
          <p:cNvGrpSpPr/>
          <p:nvPr/>
        </p:nvGrpSpPr>
        <p:grpSpPr>
          <a:xfrm>
            <a:off x="431640" y="2168640"/>
            <a:ext cx="4319640" cy="4689360"/>
            <a:chOff x="431640" y="2168640"/>
            <a:chExt cx="4319640" cy="4689360"/>
          </a:xfrm>
        </p:grpSpPr>
        <p:sp>
          <p:nvSpPr>
            <p:cNvPr id="883" name=""/>
            <p:cNvSpPr/>
            <p:nvPr/>
          </p:nvSpPr>
          <p:spPr>
            <a:xfrm>
              <a:off x="431640" y="2168640"/>
              <a:ext cx="4319640" cy="46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431640" y="2168640"/>
              <a:ext cx="2160720" cy="2430360"/>
              <a:chOff x="431640" y="2168640"/>
              <a:chExt cx="2160720" cy="2430360"/>
            </a:xfrm>
          </p:grpSpPr>
          <p:sp>
            <p:nvSpPr>
              <p:cNvPr id="885" name=""/>
              <p:cNvSpPr/>
              <p:nvPr/>
            </p:nvSpPr>
            <p:spPr>
              <a:xfrm>
                <a:off x="1871640" y="297828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152360" y="2978280"/>
                <a:ext cx="71928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31640" y="378936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152360" y="2978280"/>
                <a:ext cx="0" cy="80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871640" y="2978280"/>
                <a:ext cx="0" cy="80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92360" y="2978280"/>
                <a:ext cx="0" cy="8096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871640" y="216864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152360" y="378936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3" name=""/>
          <p:cNvSpPr/>
          <p:nvPr/>
        </p:nvSpPr>
        <p:spPr>
          <a:xfrm>
            <a:off x="1332000" y="468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如何形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并与同学进行交流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11640" y="45655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32360" y="3249720"/>
            <a:ext cx="719280" cy="541080"/>
          </a:xfrm>
          <a:prstGeom prst="rightArrow">
            <a:avLst>
              <a:gd name="adj1" fmla="val 50000"/>
              <a:gd name="adj2" fmla="val 33234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65240" y="5754600"/>
            <a:ext cx="8978760" cy="916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顺时针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旋转</a:t>
            </a:r>
            <a:r>
              <a:rPr b="1" lang="zh-CN" sz="4800" spc="-1" strike="noStrike">
                <a:solidFill>
                  <a:srgbClr val="3333ff"/>
                </a:solidFill>
                <a:latin typeface="Rockwell Extra Bold"/>
              </a:rPr>
              <a:t>90</a:t>
            </a:r>
            <a:r>
              <a:rPr b="1" lang="zh-CN" sz="3200" spc="-1" strike="noStrike" baseline="70000">
                <a:solidFill>
                  <a:srgbClr val="3333ff"/>
                </a:solidFill>
                <a:latin typeface="Rockwell Extra Bold"/>
                <a:ea typeface=""/>
              </a:rPr>
              <a:t>0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形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552000" y="1989000"/>
            <a:ext cx="2295000" cy="2425320"/>
            <a:chOff x="6552000" y="1989000"/>
            <a:chExt cx="2295000" cy="2425320"/>
          </a:xfrm>
        </p:grpSpPr>
        <p:sp>
          <p:nvSpPr>
            <p:cNvPr id="899" name=""/>
            <p:cNvSpPr/>
            <p:nvPr/>
          </p:nvSpPr>
          <p:spPr>
            <a:xfrm rot="5400000">
              <a:off x="7295400" y="3627360"/>
              <a:ext cx="808920" cy="764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5400000">
              <a:off x="7296480" y="2819160"/>
              <a:ext cx="807120" cy="764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5400000">
              <a:off x="6529680" y="2010960"/>
              <a:ext cx="808920" cy="764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317720" y="2797920"/>
              <a:ext cx="76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317720" y="3605400"/>
              <a:ext cx="76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317720" y="4414320"/>
              <a:ext cx="764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5400000">
              <a:off x="8060040" y="3627360"/>
              <a:ext cx="808920" cy="764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5400000">
              <a:off x="6529680" y="2819880"/>
              <a:ext cx="808920" cy="764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44" dur="2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1332000" y="468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如何形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并与同学进行交流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111640" y="45655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012000" y="3249720"/>
            <a:ext cx="718920" cy="541080"/>
          </a:xfrm>
          <a:prstGeom prst="rightArrow">
            <a:avLst>
              <a:gd name="adj1" fmla="val 50000"/>
              <a:gd name="adj2" fmla="val 33217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65240" y="5754600"/>
            <a:ext cx="8893080" cy="916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逆时针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旋转</a:t>
            </a:r>
            <a:r>
              <a:rPr b="1" lang="zh-CN" sz="4800" spc="-1" strike="noStrike">
                <a:solidFill>
                  <a:srgbClr val="3333ff"/>
                </a:solidFill>
                <a:latin typeface="Rockwell Extra Bold"/>
              </a:rPr>
              <a:t>90</a:t>
            </a:r>
            <a:r>
              <a:rPr b="1" lang="zh-CN" sz="3200" spc="-1" strike="noStrike" baseline="70000">
                <a:solidFill>
                  <a:srgbClr val="3333ff"/>
                </a:solidFill>
                <a:latin typeface="Rockwell Extra Bold"/>
                <a:ea typeface=""/>
              </a:rPr>
              <a:t>0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形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431640" y="2168640"/>
            <a:ext cx="4321440" cy="4689360"/>
            <a:chOff x="431640" y="2168640"/>
            <a:chExt cx="4321440" cy="4689360"/>
          </a:xfrm>
        </p:grpSpPr>
        <p:sp>
          <p:nvSpPr>
            <p:cNvPr id="913" name=""/>
            <p:cNvSpPr/>
            <p:nvPr/>
          </p:nvSpPr>
          <p:spPr>
            <a:xfrm>
              <a:off x="431640" y="2168640"/>
              <a:ext cx="4319640" cy="4689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2592360" y="2168640"/>
              <a:ext cx="2160720" cy="2430360"/>
              <a:chOff x="2592360" y="2168640"/>
              <a:chExt cx="2160720" cy="2430360"/>
            </a:xfrm>
          </p:grpSpPr>
          <p:sp>
            <p:nvSpPr>
              <p:cNvPr id="915" name=""/>
              <p:cNvSpPr/>
              <p:nvPr/>
            </p:nvSpPr>
            <p:spPr>
              <a:xfrm>
                <a:off x="4032360" y="297828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13080" y="2978280"/>
                <a:ext cx="71928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592360" y="378936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313080" y="2978280"/>
                <a:ext cx="0" cy="80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32360" y="2978280"/>
                <a:ext cx="0" cy="80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753080" y="2978280"/>
                <a:ext cx="0" cy="8096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032360" y="216864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13080" y="3789360"/>
                <a:ext cx="720720" cy="8096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6551640" y="1989360"/>
            <a:ext cx="2295000" cy="2425320"/>
            <a:chOff x="6551640" y="1989360"/>
            <a:chExt cx="2295000" cy="2425320"/>
          </a:xfrm>
        </p:grpSpPr>
        <p:sp>
          <p:nvSpPr>
            <p:cNvPr id="924" name=""/>
            <p:cNvSpPr/>
            <p:nvPr/>
          </p:nvSpPr>
          <p:spPr>
            <a:xfrm rot="16200000">
              <a:off x="7293960" y="2011320"/>
              <a:ext cx="808920" cy="764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6200000">
              <a:off x="7295040" y="2819880"/>
              <a:ext cx="807120" cy="764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6200000">
              <a:off x="8059680" y="3627720"/>
              <a:ext cx="808920" cy="764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6280" y="3605760"/>
              <a:ext cx="76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16280" y="2798280"/>
              <a:ext cx="76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316280" y="1989360"/>
              <a:ext cx="764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16200000">
              <a:off x="6529320" y="2011320"/>
              <a:ext cx="808920" cy="764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16200000">
              <a:off x="8059680" y="2818800"/>
              <a:ext cx="808920" cy="764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60" dur="2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1511280" y="549360"/>
          <a:ext cx="6858000" cy="4929120"/>
        </p:xfrm>
        <a:graphic>
          <a:graphicData uri="http://schemas.openxmlformats.org/drawingml/2006/table">
            <a:tbl>
              <a:tblPr/>
              <a:tblGrid>
                <a:gridCol w="914400"/>
                <a:gridCol w="800280"/>
                <a:gridCol w="985680"/>
                <a:gridCol w="728640"/>
                <a:gridCol w="857160"/>
                <a:gridCol w="857520"/>
                <a:gridCol w="857160"/>
                <a:gridCol w="857160"/>
              </a:tblGrid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3" name=""/>
          <p:cNvSpPr/>
          <p:nvPr/>
        </p:nvSpPr>
        <p:spPr>
          <a:xfrm flipH="1">
            <a:off x="3311640" y="549360"/>
            <a:ext cx="838080" cy="19047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53080" y="2349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411280" y="180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92360" y="450864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3311640" y="549360"/>
            <a:ext cx="900000" cy="19047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3 0.0185 L -0.00643 0.43792 E">
                                      <p:cBhvr>
                                        <p:cTn id="266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3131640" y="549360"/>
            <a:ext cx="2160720" cy="3959280"/>
            <a:chOff x="3131640" y="549360"/>
            <a:chExt cx="2160720" cy="3959280"/>
          </a:xfrm>
        </p:grpSpPr>
        <p:sp>
          <p:nvSpPr>
            <p:cNvPr id="939" name=""/>
            <p:cNvSpPr/>
            <p:nvPr/>
          </p:nvSpPr>
          <p:spPr>
            <a:xfrm flipH="1">
              <a:off x="3131280" y="552600"/>
              <a:ext cx="1024920" cy="19303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132000" y="549360"/>
              <a:ext cx="2160360" cy="3959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1" name=""/>
          <p:cNvGraphicFramePr/>
          <p:nvPr/>
        </p:nvGraphicFramePr>
        <p:xfrm>
          <a:off x="1511280" y="549360"/>
          <a:ext cx="6858000" cy="4929120"/>
        </p:xfrm>
        <a:graphic>
          <a:graphicData uri="http://schemas.openxmlformats.org/drawingml/2006/table">
            <a:tbl>
              <a:tblPr/>
              <a:tblGrid>
                <a:gridCol w="914400"/>
                <a:gridCol w="800280"/>
                <a:gridCol w="985680"/>
                <a:gridCol w="900000"/>
                <a:gridCol w="900360"/>
                <a:gridCol w="900000"/>
                <a:gridCol w="900000"/>
                <a:gridCol w="557280"/>
              </a:tblGrid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2" name=""/>
          <p:cNvSpPr/>
          <p:nvPr/>
        </p:nvSpPr>
        <p:spPr>
          <a:xfrm flipH="1">
            <a:off x="3131280" y="549360"/>
            <a:ext cx="1079640" cy="1979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853080" y="2349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411280" y="180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592360" y="450864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312360" y="3567240"/>
            <a:ext cx="901800" cy="19303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012000" y="1449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75" dur="2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832360" y="728640"/>
            <a:ext cx="2700000" cy="2339640"/>
            <a:chOff x="5832360" y="728640"/>
            <a:chExt cx="2700000" cy="2339640"/>
          </a:xfrm>
        </p:grpSpPr>
        <p:pic>
          <p:nvPicPr>
            <p:cNvPr id="510" name="" descr=""/>
            <p:cNvPicPr/>
            <p:nvPr/>
          </p:nvPicPr>
          <p:blipFill>
            <a:blip r:embed="rId1"/>
            <a:stretch/>
          </p:blipFill>
          <p:spPr>
            <a:xfrm>
              <a:off x="5832360" y="728640"/>
              <a:ext cx="138852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7251840" y="713160"/>
              <a:ext cx="1240920" cy="13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7143480" y="1896480"/>
              <a:ext cx="1388880" cy="11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5897880" y="1796400"/>
              <a:ext cx="1240560" cy="130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4" name=""/>
          <p:cNvGrpSpPr/>
          <p:nvPr/>
        </p:nvGrpSpPr>
        <p:grpSpPr>
          <a:xfrm>
            <a:off x="6347880" y="3565080"/>
            <a:ext cx="2389680" cy="2352600"/>
            <a:chOff x="6347880" y="3565080"/>
            <a:chExt cx="2389680" cy="2352600"/>
          </a:xfrm>
        </p:grpSpPr>
        <p:grpSp>
          <p:nvGrpSpPr>
            <p:cNvPr id="515" name=""/>
            <p:cNvGrpSpPr/>
            <p:nvPr/>
          </p:nvGrpSpPr>
          <p:grpSpPr>
            <a:xfrm>
              <a:off x="7314840" y="3565080"/>
              <a:ext cx="993600" cy="1262160"/>
              <a:chOff x="7314840" y="3565080"/>
              <a:chExt cx="993600" cy="126216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7314840" y="3565080"/>
                <a:ext cx="606960" cy="1262160"/>
                <a:chOff x="7314840" y="3565080"/>
                <a:chExt cx="606960" cy="1262160"/>
              </a:xfrm>
            </p:grpSpPr>
            <p:sp>
              <p:nvSpPr>
                <p:cNvPr id="517" name=""/>
                <p:cNvSpPr/>
                <p:nvPr/>
              </p:nvSpPr>
              <p:spPr>
                <a:xfrm rot="402000">
                  <a:off x="7570080" y="4019760"/>
                  <a:ext cx="158400" cy="457920"/>
                </a:xfrm>
                <a:custGeom>
                  <a:avLst/>
                  <a:gdLst>
                    <a:gd name="textAreaLeft" fmla="*/ 37080 w 158400"/>
                    <a:gd name="textAreaRight" fmla="*/ 121320 w 158400"/>
                    <a:gd name="textAreaTop" fmla="*/ 53640 h 457920"/>
                    <a:gd name="textAreaBottom" fmla="*/ 287280 h 45792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9351200">
                  <a:off x="7413480" y="4329000"/>
                  <a:ext cx="340200" cy="439920"/>
                </a:xfrm>
                <a:custGeom>
                  <a:avLst/>
                  <a:gdLst>
                    <a:gd name="textAreaLeft" fmla="*/ 135720 w 340200"/>
                    <a:gd name="textAreaRight" fmla="*/ 204480 w 340200"/>
                    <a:gd name="textAreaTop" fmla="*/ 175680 h 439920"/>
                    <a:gd name="textAreaBottom" fmla="*/ 264240 h 43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623" y="8623"/>
                      </a:lnTo>
                      <a:lnTo>
                        <a:pt x="10800" y="0"/>
                      </a:lnTo>
                      <a:lnTo>
                        <a:pt x="12977" y="8623"/>
                      </a:lnTo>
                      <a:lnTo>
                        <a:pt x="21600" y="10800"/>
                      </a:lnTo>
                      <a:lnTo>
                        <a:pt x="12977" y="12977"/>
                      </a:lnTo>
                      <a:lnTo>
                        <a:pt x="10800" y="21600"/>
                      </a:lnTo>
                      <a:lnTo>
                        <a:pt x="8623" y="12977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402000">
                  <a:off x="7484040" y="3973320"/>
                  <a:ext cx="158760" cy="45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702" y="1400"/>
                        <a:pt x="7803" y="5080"/>
                        <a:pt x="7803" y="10800"/>
                      </a:cubicBezTo>
                      <a:cubicBezTo>
                        <a:pt x="7803" y="16520"/>
                        <a:pt x="14702" y="202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402000">
                  <a:off x="7614720" y="3717720"/>
                  <a:ext cx="158400" cy="3045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11820000">
                  <a:off x="7719840" y="3787560"/>
                  <a:ext cx="159120" cy="315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839" y="1449"/>
                        <a:pt x="8077" y="5080"/>
                        <a:pt x="8077" y="10800"/>
                      </a:cubicBezTo>
                      <a:cubicBezTo>
                        <a:pt x="8077" y="16520"/>
                        <a:pt x="14839" y="2015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7227000">
                  <a:off x="7553520" y="3656880"/>
                  <a:ext cx="316800" cy="181080"/>
                </a:xfrm>
                <a:prstGeom prst="rtTriangle">
                  <a:avLst/>
                </a:prstGeom>
                <a:solidFill>
                  <a:srgbClr val="e4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 rot="4242600">
                <a:off x="7833600" y="4144680"/>
                <a:ext cx="504720" cy="294840"/>
              </a:xfrm>
              <a:prstGeom prst="cloudCallout">
                <a:avLst>
                  <a:gd name="adj1" fmla="val -91625"/>
                  <a:gd name="adj2" fmla="val 6631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7493040" y="4518360"/>
              <a:ext cx="1244520" cy="999720"/>
              <a:chOff x="7493040" y="4518360"/>
              <a:chExt cx="1244520" cy="999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7493040" y="4518360"/>
                <a:ext cx="1244520" cy="549360"/>
                <a:chOff x="7493040" y="4518360"/>
                <a:chExt cx="1244520" cy="549360"/>
              </a:xfrm>
            </p:grpSpPr>
            <p:sp>
              <p:nvSpPr>
                <p:cNvPr id="526" name=""/>
                <p:cNvSpPr/>
                <p:nvPr/>
              </p:nvSpPr>
              <p:spPr>
                <a:xfrm rot="5400000">
                  <a:off x="7984800" y="4600800"/>
                  <a:ext cx="162720" cy="446040"/>
                </a:xfrm>
                <a:custGeom>
                  <a:avLst/>
                  <a:gdLst>
                    <a:gd name="textAreaLeft" fmla="*/ 38160 w 162720"/>
                    <a:gd name="textAreaRight" fmla="*/ 124560 w 162720"/>
                    <a:gd name="textAreaTop" fmla="*/ 52200 h 446040"/>
                    <a:gd name="textAreaBottom" fmla="*/ 279720 h 44604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2749200">
                  <a:off x="7593480" y="4578480"/>
                  <a:ext cx="349200" cy="428760"/>
                </a:xfrm>
                <a:custGeom>
                  <a:avLst/>
                  <a:gdLst>
                    <a:gd name="textAreaLeft" fmla="*/ 139320 w 349200"/>
                    <a:gd name="textAreaRight" fmla="*/ 209880 w 349200"/>
                    <a:gd name="textAreaTop" fmla="*/ 171000 h 428760"/>
                    <a:gd name="textAreaBottom" fmla="*/ 257760 h 428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623" y="8623"/>
                      </a:lnTo>
                      <a:lnTo>
                        <a:pt x="10800" y="0"/>
                      </a:lnTo>
                      <a:lnTo>
                        <a:pt x="12977" y="8623"/>
                      </a:lnTo>
                      <a:lnTo>
                        <a:pt x="21600" y="10800"/>
                      </a:lnTo>
                      <a:lnTo>
                        <a:pt x="12977" y="12977"/>
                      </a:lnTo>
                      <a:lnTo>
                        <a:pt x="10800" y="21600"/>
                      </a:lnTo>
                      <a:lnTo>
                        <a:pt x="8623" y="12977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5400000">
                  <a:off x="8020440" y="4507920"/>
                  <a:ext cx="163080" cy="44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702" y="1400"/>
                        <a:pt x="7803" y="5080"/>
                        <a:pt x="7803" y="10800"/>
                      </a:cubicBezTo>
                      <a:cubicBezTo>
                        <a:pt x="7803" y="16520"/>
                        <a:pt x="14702" y="202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5400000">
                  <a:off x="8356680" y="4675320"/>
                  <a:ext cx="162720" cy="29700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16818600">
                  <a:off x="8294400" y="4786920"/>
                  <a:ext cx="163440" cy="30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839" y="1449"/>
                        <a:pt x="8077" y="5080"/>
                        <a:pt x="8077" y="10800"/>
                      </a:cubicBezTo>
                      <a:cubicBezTo>
                        <a:pt x="8077" y="16520"/>
                        <a:pt x="14839" y="2015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12224400">
                  <a:off x="8404560" y="4734720"/>
                  <a:ext cx="308520" cy="185760"/>
                </a:xfrm>
                <a:prstGeom prst="rtTriangle">
                  <a:avLst/>
                </a:prstGeom>
                <a:solidFill>
                  <a:srgbClr val="e4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 rot="9240000">
                <a:off x="7827840" y="5122440"/>
                <a:ext cx="491760" cy="302760"/>
              </a:xfrm>
              <a:prstGeom prst="cloudCallout">
                <a:avLst>
                  <a:gd name="adj1" fmla="val -91625"/>
                  <a:gd name="adj2" fmla="val 6631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855840" y="4651920"/>
              <a:ext cx="978840" cy="1265760"/>
              <a:chOff x="6855840" y="4651920"/>
              <a:chExt cx="978840" cy="1265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7280280" y="4651920"/>
                <a:ext cx="554400" cy="1265760"/>
                <a:chOff x="7280280" y="4651920"/>
                <a:chExt cx="554400" cy="1265760"/>
              </a:xfrm>
            </p:grpSpPr>
            <p:sp>
              <p:nvSpPr>
                <p:cNvPr id="535" name=""/>
                <p:cNvSpPr/>
                <p:nvPr/>
              </p:nvSpPr>
              <p:spPr>
                <a:xfrm rot="10593600">
                  <a:off x="7466040" y="5004000"/>
                  <a:ext cx="158400" cy="457920"/>
                </a:xfrm>
                <a:custGeom>
                  <a:avLst/>
                  <a:gdLst>
                    <a:gd name="textAreaLeft" fmla="*/ 37080 w 158400"/>
                    <a:gd name="textAreaRight" fmla="*/ 121320 w 158400"/>
                    <a:gd name="textAreaTop" fmla="*/ 53640 h 457920"/>
                    <a:gd name="textAreaBottom" fmla="*/ 287280 h 45792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7942800">
                  <a:off x="7387200" y="4705920"/>
                  <a:ext cx="340200" cy="439920"/>
                </a:xfrm>
                <a:custGeom>
                  <a:avLst/>
                  <a:gdLst>
                    <a:gd name="textAreaLeft" fmla="*/ 135720 w 340200"/>
                    <a:gd name="textAreaRight" fmla="*/ 204480 w 340200"/>
                    <a:gd name="textAreaTop" fmla="*/ 175680 h 439920"/>
                    <a:gd name="textAreaBottom" fmla="*/ 264240 h 43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623" y="8623"/>
                      </a:lnTo>
                      <a:lnTo>
                        <a:pt x="10800" y="0"/>
                      </a:lnTo>
                      <a:lnTo>
                        <a:pt x="12977" y="8623"/>
                      </a:lnTo>
                      <a:lnTo>
                        <a:pt x="21600" y="10800"/>
                      </a:lnTo>
                      <a:lnTo>
                        <a:pt x="12977" y="12977"/>
                      </a:lnTo>
                      <a:lnTo>
                        <a:pt x="10800" y="21600"/>
                      </a:lnTo>
                      <a:lnTo>
                        <a:pt x="8623" y="12977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10593600">
                  <a:off x="7558560" y="5034600"/>
                  <a:ext cx="158760" cy="45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702" y="1400"/>
                        <a:pt x="7803" y="5080"/>
                        <a:pt x="7803" y="10800"/>
                      </a:cubicBezTo>
                      <a:cubicBezTo>
                        <a:pt x="7803" y="16520"/>
                        <a:pt x="14702" y="202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10593600">
                  <a:off x="7489080" y="5460840"/>
                  <a:ext cx="158400" cy="3045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411600">
                  <a:off x="7371360" y="5400000"/>
                  <a:ext cx="159120" cy="315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839" y="1449"/>
                        <a:pt x="8077" y="5080"/>
                        <a:pt x="8077" y="10800"/>
                      </a:cubicBezTo>
                      <a:cubicBezTo>
                        <a:pt x="8077" y="16520"/>
                        <a:pt x="14839" y="2015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17418600">
                  <a:off x="7413480" y="5646960"/>
                  <a:ext cx="316800" cy="181080"/>
                </a:xfrm>
                <a:prstGeom prst="rtTriangle">
                  <a:avLst/>
                </a:prstGeom>
                <a:solidFill>
                  <a:srgbClr val="e4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 rot="14433600">
                <a:off x="6855840" y="5119200"/>
                <a:ext cx="504720" cy="294840"/>
              </a:xfrm>
              <a:prstGeom prst="cloudCallout">
                <a:avLst>
                  <a:gd name="adj1" fmla="val -91625"/>
                  <a:gd name="adj2" fmla="val 6631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6347880" y="4020840"/>
              <a:ext cx="1244520" cy="999360"/>
              <a:chOff x="6347880" y="4020840"/>
              <a:chExt cx="1244520" cy="99936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6347880" y="4470840"/>
                <a:ext cx="1244520" cy="549360"/>
                <a:chOff x="6347880" y="4470840"/>
                <a:chExt cx="1244520" cy="549360"/>
              </a:xfrm>
            </p:grpSpPr>
            <p:sp>
              <p:nvSpPr>
                <p:cNvPr id="544" name=""/>
                <p:cNvSpPr/>
                <p:nvPr/>
              </p:nvSpPr>
              <p:spPr>
                <a:xfrm rot="16200000">
                  <a:off x="6937920" y="4492080"/>
                  <a:ext cx="162360" cy="446040"/>
                </a:xfrm>
                <a:custGeom>
                  <a:avLst/>
                  <a:gdLst>
                    <a:gd name="textAreaLeft" fmla="*/ 38160 w 162360"/>
                    <a:gd name="textAreaRight" fmla="*/ 124200 w 162360"/>
                    <a:gd name="textAreaTop" fmla="*/ 52200 h 446040"/>
                    <a:gd name="textAreaBottom" fmla="*/ 279720 h 44604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13549200">
                  <a:off x="7142400" y="4530960"/>
                  <a:ext cx="349200" cy="428760"/>
                </a:xfrm>
                <a:custGeom>
                  <a:avLst/>
                  <a:gdLst>
                    <a:gd name="textAreaLeft" fmla="*/ 139320 w 349200"/>
                    <a:gd name="textAreaRight" fmla="*/ 209880 w 349200"/>
                    <a:gd name="textAreaTop" fmla="*/ 171000 h 428760"/>
                    <a:gd name="textAreaBottom" fmla="*/ 257760 h 428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623" y="8623"/>
                      </a:lnTo>
                      <a:lnTo>
                        <a:pt x="10800" y="0"/>
                      </a:lnTo>
                      <a:lnTo>
                        <a:pt x="12977" y="8623"/>
                      </a:lnTo>
                      <a:lnTo>
                        <a:pt x="21600" y="10800"/>
                      </a:lnTo>
                      <a:lnTo>
                        <a:pt x="12977" y="12977"/>
                      </a:lnTo>
                      <a:lnTo>
                        <a:pt x="10800" y="21600"/>
                      </a:lnTo>
                      <a:lnTo>
                        <a:pt x="8623" y="12977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16200000">
                  <a:off x="6901920" y="4584600"/>
                  <a:ext cx="163080" cy="446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702" y="1400"/>
                        <a:pt x="7803" y="5080"/>
                        <a:pt x="7803" y="10800"/>
                      </a:cubicBezTo>
                      <a:cubicBezTo>
                        <a:pt x="7803" y="16520"/>
                        <a:pt x="14702" y="2020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16200000">
                  <a:off x="6566040" y="4566600"/>
                  <a:ext cx="162360" cy="29700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6018000">
                  <a:off x="6627240" y="4444920"/>
                  <a:ext cx="163080" cy="30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4839" y="1449"/>
                        <a:pt x="8077" y="5080"/>
                        <a:pt x="8077" y="10800"/>
                      </a:cubicBezTo>
                      <a:cubicBezTo>
                        <a:pt x="8077" y="16520"/>
                        <a:pt x="14839" y="2015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1424400">
                  <a:off x="6372000" y="4617720"/>
                  <a:ext cx="308520" cy="185760"/>
                </a:xfrm>
                <a:prstGeom prst="rtTriangle">
                  <a:avLst/>
                </a:prstGeom>
                <a:solidFill>
                  <a:srgbClr val="e4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 rot="20040000">
                <a:off x="6765120" y="4113360"/>
                <a:ext cx="491760" cy="302400"/>
              </a:xfrm>
              <a:prstGeom prst="cloudCallout">
                <a:avLst>
                  <a:gd name="adj1" fmla="val -91625"/>
                  <a:gd name="adj2" fmla="val 6631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"/>
          <p:cNvGrpSpPr/>
          <p:nvPr/>
        </p:nvGrpSpPr>
        <p:grpSpPr>
          <a:xfrm>
            <a:off x="3492360" y="1268280"/>
            <a:ext cx="2160360" cy="2170440"/>
            <a:chOff x="3492360" y="1268280"/>
            <a:chExt cx="2160360" cy="2170440"/>
          </a:xfrm>
        </p:grpSpPr>
        <p:sp>
          <p:nvSpPr>
            <p:cNvPr id="552" name=""/>
            <p:cNvSpPr/>
            <p:nvPr/>
          </p:nvSpPr>
          <p:spPr>
            <a:xfrm>
              <a:off x="4573440" y="1268280"/>
              <a:ext cx="360360" cy="1079640"/>
            </a:xfrm>
            <a:prstGeom prst="rtTriangl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6200000">
              <a:off x="3852000" y="1627560"/>
              <a:ext cx="360360" cy="1079640"/>
            </a:xfrm>
            <a:prstGeom prst="rtTriangl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1042400">
              <a:off x="4212360" y="2347920"/>
              <a:ext cx="360360" cy="1079280"/>
            </a:xfrm>
            <a:prstGeom prst="rtTriangl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5400000">
              <a:off x="4932720" y="1988280"/>
              <a:ext cx="360360" cy="1079640"/>
            </a:xfrm>
            <a:prstGeom prst="rtTriangl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66560" y="3429000"/>
            <a:ext cx="2943360" cy="3069360"/>
            <a:chOff x="466560" y="3429000"/>
            <a:chExt cx="2943360" cy="3069360"/>
          </a:xfrm>
        </p:grpSpPr>
        <p:sp>
          <p:nvSpPr>
            <p:cNvPr id="557" name=""/>
            <p:cNvSpPr/>
            <p:nvPr/>
          </p:nvSpPr>
          <p:spPr>
            <a:xfrm rot="5400000">
              <a:off x="1215720" y="4071600"/>
              <a:ext cx="168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『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数学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862400">
              <a:off x="430920" y="4347360"/>
              <a:ext cx="193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『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数学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8525400">
              <a:off x="1801800" y="4421520"/>
              <a:ext cx="166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『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数学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5937200">
              <a:off x="1130760" y="5443920"/>
              <a:ext cx="168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『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数学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2525600">
              <a:off x="1742760" y="5193720"/>
              <a:ext cx="16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『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数学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9566000">
              <a:off x="533160" y="5112000"/>
              <a:ext cx="166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『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数学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</a:rPr>
                <a:t>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" descr=""/>
          <p:cNvPicPr/>
          <p:nvPr/>
        </p:nvPicPr>
        <p:blipFill>
          <a:blip r:embed="rId5"/>
          <a:srcRect l="31293" t="17532" r="29781" b="17760"/>
          <a:stretch/>
        </p:blipFill>
        <p:spPr>
          <a:xfrm>
            <a:off x="971640" y="728640"/>
            <a:ext cx="2120760" cy="23400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6"/>
          <a:stretch/>
        </p:blipFill>
        <p:spPr>
          <a:xfrm>
            <a:off x="3851280" y="4149720"/>
            <a:ext cx="1800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266640" y="2519280"/>
            <a:ext cx="629640" cy="2359080"/>
            <a:chOff x="3266640" y="2519280"/>
            <a:chExt cx="629640" cy="2359080"/>
          </a:xfrm>
        </p:grpSpPr>
        <p:grpSp>
          <p:nvGrpSpPr>
            <p:cNvPr id="566" name=""/>
            <p:cNvGrpSpPr/>
            <p:nvPr/>
          </p:nvGrpSpPr>
          <p:grpSpPr>
            <a:xfrm>
              <a:off x="3266640" y="2519280"/>
              <a:ext cx="629640" cy="2359080"/>
              <a:chOff x="3266640" y="2519280"/>
              <a:chExt cx="629640" cy="2359080"/>
            </a:xfrm>
          </p:grpSpPr>
          <p:sp>
            <p:nvSpPr>
              <p:cNvPr id="567" name=""/>
              <p:cNvSpPr/>
              <p:nvPr/>
            </p:nvSpPr>
            <p:spPr>
              <a:xfrm rot="21467400">
                <a:off x="3311280" y="2528640"/>
                <a:ext cx="539640" cy="23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490920" y="2529000"/>
                <a:ext cx="91440" cy="1140480"/>
              </a:xfrm>
              <a:prstGeom prst="triangle">
                <a:avLst>
                  <a:gd name="adj" fmla="val 52940"/>
                </a:avLst>
              </a:prstGeom>
              <a:solidFill>
                <a:srgbClr val="e4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3490920" y="3608280"/>
              <a:ext cx="18360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050920" y="2168640"/>
            <a:ext cx="2952720" cy="2952720"/>
            <a:chOff x="2050920" y="2168640"/>
            <a:chExt cx="2952720" cy="2952720"/>
          </a:xfrm>
        </p:grpSpPr>
        <p:sp>
          <p:nvSpPr>
            <p:cNvPr id="571" name=""/>
            <p:cNvSpPr/>
            <p:nvPr/>
          </p:nvSpPr>
          <p:spPr>
            <a:xfrm>
              <a:off x="2050920" y="2168640"/>
              <a:ext cx="2952720" cy="2952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35120" y="2265480"/>
              <a:ext cx="18396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96640" y="3571920"/>
              <a:ext cx="18432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27400" y="2508120"/>
              <a:ext cx="183960" cy="192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88920" y="2459160"/>
              <a:ext cx="18432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73120" y="2894040"/>
              <a:ext cx="18396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41400" y="4201920"/>
              <a:ext cx="184320" cy="192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41400" y="2990880"/>
              <a:ext cx="18432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73240" y="3571920"/>
              <a:ext cx="18432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33440" y="4686120"/>
              <a:ext cx="184320" cy="192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327040" y="4201920"/>
              <a:ext cx="183960" cy="192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88920" y="4637160"/>
              <a:ext cx="184320" cy="19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35120" y="4878360"/>
              <a:ext cx="18396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81200" y="2265480"/>
              <a:ext cx="92160" cy="1403280"/>
            </a:xfrm>
            <a:prstGeom prst="triangle">
              <a:avLst>
                <a:gd name="adj" fmla="val 52940"/>
              </a:avLst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35120" y="3571920"/>
              <a:ext cx="18396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851280" y="288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90</a:t>
            </a:r>
            <a:r>
              <a:rPr b="1" lang="en-US" sz="1600" spc="-1" strike="noStrike" baseline="50000">
                <a:solidFill>
                  <a:srgbClr val="cc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92360" y="3249720"/>
            <a:ext cx="371520" cy="371520"/>
          </a:xfrm>
          <a:custGeom>
            <a:avLst/>
            <a:gdLst/>
            <a:ahLst/>
            <a:rect l="l" t="t" r="r" b="b"/>
            <a:pathLst>
              <a:path w="234" h="234">
                <a:moveTo>
                  <a:pt x="0" y="7"/>
                </a:moveTo>
                <a:cubicBezTo>
                  <a:pt x="30" y="3"/>
                  <a:pt x="61" y="0"/>
                  <a:pt x="91" y="7"/>
                </a:cubicBezTo>
                <a:cubicBezTo>
                  <a:pt x="121" y="14"/>
                  <a:pt x="159" y="29"/>
                  <a:pt x="182" y="52"/>
                </a:cubicBezTo>
                <a:cubicBezTo>
                  <a:pt x="205" y="75"/>
                  <a:pt x="220" y="113"/>
                  <a:pt x="227" y="143"/>
                </a:cubicBezTo>
                <a:cubicBezTo>
                  <a:pt x="234" y="173"/>
                  <a:pt x="234" y="219"/>
                  <a:pt x="227" y="23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3000240" y="1268280"/>
            <a:ext cx="2111040" cy="2047680"/>
            <a:chOff x="3000240" y="1268280"/>
            <a:chExt cx="2111040" cy="204768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3000240" y="1268280"/>
              <a:ext cx="10857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2"/>
            <a:stretch/>
          </p:blipFill>
          <p:spPr>
            <a:xfrm rot="5400000">
              <a:off x="4052160" y="1315800"/>
              <a:ext cx="108612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4025160" y="2290320"/>
              <a:ext cx="108612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993760" y="2263320"/>
              <a:ext cx="1085760" cy="101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3" name="" descr=""/>
          <p:cNvPicPr/>
          <p:nvPr/>
        </p:nvPicPr>
        <p:blipFill>
          <a:blip r:embed="rId5"/>
          <a:stretch/>
        </p:blipFill>
        <p:spPr>
          <a:xfrm>
            <a:off x="3672000" y="3968640"/>
            <a:ext cx="1085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33480" y="0"/>
          <a:ext cx="9399600" cy="6727680"/>
        </p:xfrm>
        <a:graphic>
          <a:graphicData uri="http://schemas.openxmlformats.org/drawingml/2006/table">
            <a:tbl>
              <a:tblPr/>
              <a:tblGrid>
                <a:gridCol w="522000"/>
                <a:gridCol w="520920"/>
                <a:gridCol w="522360"/>
                <a:gridCol w="523800"/>
                <a:gridCol w="522360"/>
                <a:gridCol w="522000"/>
                <a:gridCol w="520920"/>
                <a:gridCol w="522360"/>
                <a:gridCol w="520560"/>
                <a:gridCol w="525600"/>
                <a:gridCol w="522000"/>
                <a:gridCol w="520920"/>
                <a:gridCol w="522360"/>
                <a:gridCol w="522000"/>
                <a:gridCol w="649440"/>
                <a:gridCol w="396720"/>
                <a:gridCol w="52092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054080" y="2610000"/>
            <a:ext cx="1085760" cy="10191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352520" y="2930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954080" y="3490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3132000" y="2589120"/>
            <a:ext cx="1086120" cy="10191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430440" y="2909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3111480" y="2570040"/>
            <a:ext cx="2139840" cy="2121120"/>
            <a:chOff x="3111480" y="2570040"/>
            <a:chExt cx="2139840" cy="2121120"/>
          </a:xfrm>
        </p:grpSpPr>
        <p:pic>
          <p:nvPicPr>
            <p:cNvPr id="601" name="" descr=""/>
            <p:cNvPicPr/>
            <p:nvPr/>
          </p:nvPicPr>
          <p:blipFill>
            <a:blip r:embed="rId3"/>
            <a:stretch/>
          </p:blipFill>
          <p:spPr>
            <a:xfrm>
              <a:off x="3111480" y="2570040"/>
              <a:ext cx="10857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3435120" y="2911320"/>
              <a:ext cx="72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70240" y="361008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4459320" y="2909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60720" y="3490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0360" y="4753080"/>
            <a:ext cx="8172360" cy="1556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可以看作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绕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O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点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顺时针方向旋转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Rockwell Extra Bold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得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07040" y="5532480"/>
            <a:ext cx="10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Rockwell Extra Bold"/>
              </a:rPr>
              <a:t>90</a:t>
            </a:r>
            <a:r>
              <a:rPr b="1" lang="en-US" sz="3200" spc="-1" strike="noStrike" baseline="70000">
                <a:solidFill>
                  <a:srgbClr val="3333ff"/>
                </a:solidFill>
                <a:latin typeface="Rockwell Extra Bold"/>
                <a:ea typeface="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20958000">
            <a:off x="3432960" y="2168640"/>
            <a:ext cx="1136520" cy="10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73" y="3923"/>
                </a:moveTo>
                <a:arcTo wR="10800" hR="10800" stAng="-8426926" swAng="6079107"/>
                <a:lnTo>
                  <a:pt x="10800" y="10800"/>
                </a:lnTo>
                <a:close/>
              </a:path>
              <a:path fill="none" w="21600" h="21600">
                <a:moveTo>
                  <a:pt x="2473" y="3923"/>
                </a:moveTo>
                <a:arcTo wR="10800" hR="10800" stAng="-8426926" swAng="6079107"/>
              </a:path>
            </a:pathLst>
          </a:custGeom>
          <a:noFill/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1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3480" y="0"/>
          <a:ext cx="9399600" cy="6727680"/>
        </p:xfrm>
        <a:graphic>
          <a:graphicData uri="http://schemas.openxmlformats.org/drawingml/2006/table">
            <a:tbl>
              <a:tblPr/>
              <a:tblGrid>
                <a:gridCol w="522000"/>
                <a:gridCol w="520920"/>
                <a:gridCol w="522360"/>
                <a:gridCol w="523800"/>
                <a:gridCol w="522360"/>
                <a:gridCol w="522000"/>
                <a:gridCol w="520920"/>
                <a:gridCol w="522360"/>
                <a:gridCol w="520560"/>
                <a:gridCol w="525600"/>
                <a:gridCol w="522000"/>
                <a:gridCol w="520920"/>
                <a:gridCol w="522360"/>
                <a:gridCol w="522000"/>
                <a:gridCol w="649440"/>
                <a:gridCol w="396720"/>
                <a:gridCol w="52092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1054080" y="2610000"/>
            <a:ext cx="1085760" cy="10191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352520" y="2930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54080" y="3490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3132000" y="2589120"/>
            <a:ext cx="1086120" cy="10191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430440" y="2909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960720" y="3490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4211640" y="2558880"/>
            <a:ext cx="1019160" cy="108612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4335480" y="288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132000" y="2508120"/>
            <a:ext cx="2121120" cy="2139840"/>
            <a:chOff x="3132000" y="2508120"/>
            <a:chExt cx="2121120" cy="2139840"/>
          </a:xfrm>
        </p:grpSpPr>
        <p:pic>
          <p:nvPicPr>
            <p:cNvPr id="619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200480" y="2541240"/>
              <a:ext cx="10857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 rot="5400000">
              <a:off x="4224240" y="2877840"/>
              <a:ext cx="733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5400000">
              <a:off x="3132000" y="3566880"/>
              <a:ext cx="1081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4417920" y="378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" y="5041800"/>
            <a:ext cx="8172360" cy="1556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可以看作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绕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O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点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顺时针方向旋转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Rockwell Extra Bold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得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207040" y="5821200"/>
            <a:ext cx="10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Rockwell Extra Bold"/>
              </a:rPr>
              <a:t>90</a:t>
            </a:r>
            <a:r>
              <a:rPr b="1" lang="en-US" sz="3200" spc="-1" strike="noStrike" baseline="70000">
                <a:solidFill>
                  <a:srgbClr val="3333ff"/>
                </a:solidFill>
                <a:latin typeface="Rockwell Extra Bold"/>
                <a:ea typeface="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4831800">
            <a:off x="4267800" y="2756880"/>
            <a:ext cx="1335240" cy="140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73" y="3923"/>
                </a:moveTo>
                <a:arcTo wR="10800" hR="10800" stAng="-8426926" swAng="6079107"/>
                <a:lnTo>
                  <a:pt x="10800" y="10800"/>
                </a:lnTo>
                <a:close/>
              </a:path>
              <a:path fill="none" w="21600" h="21600">
                <a:moveTo>
                  <a:pt x="2473" y="3923"/>
                </a:moveTo>
                <a:arcTo wR="10800" hR="10800" stAng="-8426926" swAng="6079107"/>
              </a:path>
            </a:pathLst>
          </a:custGeom>
          <a:noFill/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6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33480" y="0"/>
          <a:ext cx="9399600" cy="6727680"/>
        </p:xfrm>
        <a:graphic>
          <a:graphicData uri="http://schemas.openxmlformats.org/drawingml/2006/table">
            <a:tbl>
              <a:tblPr/>
              <a:tblGrid>
                <a:gridCol w="522000"/>
                <a:gridCol w="520920"/>
                <a:gridCol w="522360"/>
                <a:gridCol w="523800"/>
                <a:gridCol w="522360"/>
                <a:gridCol w="522000"/>
                <a:gridCol w="520920"/>
                <a:gridCol w="522360"/>
                <a:gridCol w="520560"/>
                <a:gridCol w="525600"/>
                <a:gridCol w="522000"/>
                <a:gridCol w="520920"/>
                <a:gridCol w="522360"/>
                <a:gridCol w="522000"/>
                <a:gridCol w="649440"/>
                <a:gridCol w="396720"/>
                <a:gridCol w="52092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1054080" y="1530360"/>
            <a:ext cx="1085760" cy="101916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352520" y="1851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4080" y="2411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3132000" y="1509840"/>
            <a:ext cx="1086120" cy="1019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430440" y="18302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4211640" y="1479600"/>
            <a:ext cx="1019160" cy="1085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335480" y="1809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4170240" y="2529000"/>
            <a:ext cx="1086120" cy="10191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4392720" y="2709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152880" y="1449360"/>
            <a:ext cx="2139840" cy="2120400"/>
            <a:chOff x="3152880" y="1449360"/>
            <a:chExt cx="2139840" cy="2120400"/>
          </a:xfrm>
        </p:grpSpPr>
        <p:pic>
          <p:nvPicPr>
            <p:cNvPr id="637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4206960" y="2550960"/>
              <a:ext cx="1085760" cy="101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 rot="10800000">
              <a:off x="4235400" y="2587680"/>
              <a:ext cx="733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800000">
              <a:off x="3152880" y="1449360"/>
              <a:ext cx="1081080" cy="10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3960720" y="2411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14600" y="2709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360" y="5041800"/>
            <a:ext cx="8172360" cy="1556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D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可以看作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图形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绕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O</a:t>
            </a:r>
            <a:r>
              <a:rPr b="1" lang="zh-CN" sz="4800" spc="-1" strike="noStrike">
                <a:solidFill>
                  <a:srgbClr val="cc3300"/>
                </a:solidFill>
                <a:latin typeface="Rockwell Extra Bold"/>
              </a:rPr>
              <a:t>点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顺时针方向旋转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Rockwell Extra Bold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Rockwell Extra Bold"/>
              </a:rPr>
              <a:t>得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207040" y="5821200"/>
            <a:ext cx="10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Rockwell Extra Bold"/>
              </a:rPr>
              <a:t>90</a:t>
            </a:r>
            <a:r>
              <a:rPr b="1" lang="en-US" sz="3200" spc="-1" strike="noStrike" baseline="70000">
                <a:solidFill>
                  <a:srgbClr val="3333ff"/>
                </a:solidFill>
                <a:latin typeface="Rockwell Extra Bold"/>
                <a:ea typeface="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0395600">
            <a:off x="3455280" y="2575440"/>
            <a:ext cx="1631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73" y="3923"/>
                </a:moveTo>
                <a:arcTo wR="10800" hR="10800" stAng="-8426926" swAng="6079107"/>
                <a:lnTo>
                  <a:pt x="10800" y="10800"/>
                </a:lnTo>
                <a:close/>
              </a:path>
              <a:path fill="none" w="21600" h="21600">
                <a:moveTo>
                  <a:pt x="2473" y="3923"/>
                </a:moveTo>
                <a:arcTo wR="10800" hR="10800" stAng="-8426926" swAng="6079107"/>
              </a:path>
            </a:pathLst>
          </a:custGeom>
          <a:noFill/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9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592360" y="2349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位置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从什么位置起到什么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50920" y="3249720"/>
            <a:ext cx="37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中心点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: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绕什么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050920" y="414972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方向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顺时针或逆时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32000" y="5049720"/>
            <a:ext cx="41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度数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旋转了多少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040600">
            <a:off x="4246200" y="-726840"/>
            <a:ext cx="489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050920" y="549360"/>
            <a:ext cx="2700360" cy="1258920"/>
          </a:xfrm>
          <a:prstGeom prst="wedgeEllipseCallout">
            <a:avLst>
              <a:gd name="adj1" fmla="val -45004"/>
              <a:gd name="adj2" fmla="val 7005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怎样描述一个物体的旋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912000" y="368280"/>
            <a:ext cx="1800360" cy="18003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72360" y="907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16159" t="42312" r="62367" b="42312"/>
          <a:stretch/>
        </p:blipFill>
        <p:spPr>
          <a:xfrm>
            <a:off x="611280" y="1449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2:19:53Z</dcterms:created>
  <dc:creator>LXY</dc:creator>
  <dc:description/>
  <dc:language>en-US</dc:language>
  <cp:lastModifiedBy>母亲</cp:lastModifiedBy>
  <dcterms:modified xsi:type="dcterms:W3CDTF">2007-11-07T15:08:05Z</dcterms:modified>
  <cp:revision>32</cp:revision>
  <dc:subject/>
  <dc:title>幻灯片 1</dc:title>
</cp:coreProperties>
</file>