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26.gif" ContentType="image/gif"/>
  <Override PartName="/ppt/media/image27.jpeg" ContentType="image/jpeg"/>
  <Override PartName="/ppt/media/image33.jpeg" ContentType="image/jpeg"/>
  <Override PartName="/ppt/media/image8.jpeg" ContentType="image/jpeg"/>
  <Override PartName="/ppt/media/image6.jpeg" ContentType="image/jpeg"/>
  <Override PartName="/ppt/media/image25.gif" ContentType="image/gif"/>
  <Override PartName="/ppt/media/image10.jpeg" ContentType="image/jpeg"/>
  <Override PartName="/ppt/media/image35.jpeg" ContentType="image/jpeg"/>
  <Override PartName="/ppt/media/image29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11.jpeg" ContentType="image/jpeg"/>
  <Override PartName="/ppt/media/image1.gif" ContentType="image/gif"/>
  <Override PartName="/ppt/media/image3.gif" ContentType="image/gif"/>
  <Override PartName="/ppt/media/image2.png" ContentType="image/png"/>
  <Override PartName="/ppt/media/image32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4.jpeg" ContentType="image/jpeg"/>
  <Override PartName="/ppt/media/image19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E776-BE39-448B-84DA-AB3F19197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810F-37E8-44B3-8B8A-054BA5EA1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B0CB-F7BB-48D1-969A-7304FE802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4E6E-B9F4-4F4B-ADFC-F46707231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129D-A91E-4961-A845-856883572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E86A-94A2-416E-8565-12EAF7C4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EE56-C73E-4F8D-B9F4-DBF144B1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57CB-8340-48AA-B664-5C440F1C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D6C4-DA3F-4EDF-86A9-6516246C5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6CD2-3744-4E95-9BE7-D53006EC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3D10-0E72-4121-82FB-E3BAD0771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618DD-7527-4D2F-815F-9856984A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A3B5-756F-4439-91A0-9630380B1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江南雨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773360"/>
            <a:ext cx="8893080" cy="2168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走进雨的世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Arial"/>
              </a:rPr>
              <a:t>让我们的思想伴随雨丝飞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15328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45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600200" y="15238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凭空写一个“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雨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”字，点点滴滴，滂滂沱沱，淅沥淅沥淅沥，一切云情雨意，就宛然其中了。美丽的霜雪云（雲）霞、骇人的雷电（電）霹雹都让我们感受到中国文化的博大精深。汉字已经是中国传统文化的象征。作者以对汉字的钟爱来倾注真切的赤子之情，表达了他对中国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传统文化的热爱和眷恋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33720" y="53352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第二段提到汉字，有何用意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图片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221503_1132942271" descr=""/>
          <p:cNvPicPr/>
          <p:nvPr/>
        </p:nvPicPr>
        <p:blipFill>
          <a:blip r:embed="rId1"/>
          <a:stretch/>
        </p:blipFill>
        <p:spPr>
          <a:xfrm>
            <a:off x="0" y="88920"/>
            <a:ext cx="9144000" cy="66801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omb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图片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01-0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图片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plit dir="in" orient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488403[1]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be2e2f8645b6163dc75cc3b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strips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 rot="20934000">
            <a:off x="1300320" y="1910880"/>
            <a:ext cx="6472080" cy="2021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听听那冷雨</a:t>
            </a:r>
            <a:endParaRPr b="1" i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cover dir="lu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2006050810025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plus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图片1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627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heel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randomBar dir="ver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1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f024ebefdbdaf1f8ce1b3e0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ircl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b5dfe58b1153bfcafd1f10e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heel spokes="1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dcc5d2023f5ca36e3812bb2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1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57200" y="685800"/>
            <a:ext cx="236232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一打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少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听雨，红烛昏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二打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中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听雨，客舟中，江阔云低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三打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白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听雨在僧庐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114300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蒋捷年青时曾贵为公子，宋亡后保持气节，隐居竹山不仕。其一生饱受战乱流离之苦，颇富忧患意识。他现存九十余首词，大多体现人生遭际，表达故国之思。这首词即为词人深谙人生况味的艺术结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838080" y="762120"/>
            <a:ext cx="73915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但不久公寓时代来临，台北你怎么一下子长高了，瓦的音乐竟成了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绝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雨是最最原始的敲打乐从记忆的彼端敲起”，而如今原始的敲打乐已逐渐从我们的记忆中消失转而变成了沉默。雨打在瓦屋上的意境如今再也找不到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现代都市对传统意趣的破坏，纵横交错的现实感涌上心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kab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191120" y="1447920"/>
            <a:ext cx="4343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余光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28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年生于南京，祖籍福建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49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年随父母去了香港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5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年迁居台湾，之后，就一直在台湾、香港和美国之间辗转漂泊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9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年，终于得以回到他思念已久的大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114800" y="3049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中国文化的望乡人——余光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556272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余光中曾经无限伤感地写下这样的诗句——“掉头一去是风吹黑发，回首再来已雪满白头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Q" descr=""/>
          <p:cNvPicPr/>
          <p:nvPr/>
        </p:nvPicPr>
        <p:blipFill>
          <a:blip r:embed="rId2"/>
          <a:stretch/>
        </p:blipFill>
        <p:spPr>
          <a:xfrm>
            <a:off x="0" y="1295280"/>
            <a:ext cx="4038480" cy="37339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09480" y="533520"/>
            <a:ext cx="2971800" cy="825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Arial"/>
              </a:rPr>
              <a:t>走进名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91f887932bb97d546fecfdb0202b451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2008424111028423" descr="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5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kabg" descr=""/>
          <p:cNvPicPr/>
          <p:nvPr/>
        </p:nvPicPr>
        <p:blipFill>
          <a:blip r:embed="rId1"/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hhg" descr=""/>
          <p:cNvPicPr/>
          <p:nvPr/>
        </p:nvPicPr>
        <p:blipFill>
          <a:blip r:embed="rId2"/>
          <a:stretch/>
        </p:blipFill>
        <p:spPr>
          <a:xfrm>
            <a:off x="0" y="1752480"/>
            <a:ext cx="3581280" cy="5105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219320" y="533520"/>
            <a:ext cx="701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　　　　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495680" y="99072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感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秋意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思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故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2971800"/>
            <a:ext cx="3962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雨乐成了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绝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2120" y="914400"/>
            <a:ext cx="403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瓦屋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听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120" y="2971800"/>
            <a:ext cx="33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公寓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听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057400" y="4419720"/>
            <a:ext cx="586728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1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solidFill>
                    <a:srgbClr val="9933ff"/>
                  </a:solidFill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现代都市对传统意趣的破坏</a:t>
            </a:r>
            <a:endParaRPr b="1" lang="en-US" sz="1800" spc="1" strike="noStrike">
              <a:ln w="0">
                <a:solidFill>
                  <a:srgbClr val="9933ff"/>
                </a:solidFill>
              </a:ln>
              <a:solidFill>
                <a:srgbClr val="0000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图片18" descr=""/>
          <p:cNvPicPr/>
          <p:nvPr/>
        </p:nvPicPr>
        <p:blipFill>
          <a:blip r:embed="rId1"/>
          <a:stretch/>
        </p:blipFill>
        <p:spPr>
          <a:xfrm>
            <a:off x="-380880" y="-142920"/>
            <a:ext cx="9524880" cy="70009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981080" y="685800"/>
            <a:ext cx="67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这篇散文，以听雨为主线，将横的地域感（从美国到台湾，再到大陆）、纵的历史感（从太初有字到亡宋之痛，再到公寓时代）和纵横交错的现实感（人到中年沧桑之后的洞明人生，现代都市对传统意趣的破坏）交织成了一个形象密集、述写瑰丽、情切意浓的美的境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绿叶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762120" y="45720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结合全文，思考题目中的“冷”字换成“寒”或者“苦”好不好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243828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冷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905120" y="2057400"/>
            <a:ext cx="380880" cy="2057400"/>
          </a:xfrm>
          <a:custGeom>
            <a:avLst/>
            <a:gdLst>
              <a:gd name="textAreaLeft" fmla="*/ 243360 w 380880"/>
              <a:gd name="textAreaRight" fmla="*/ 381240 w 3808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182880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雨的凄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362320" y="335268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情的凄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67652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62720" y="3200400"/>
            <a:ext cx="1066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情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441972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由景生发出绵绵的真情，浓浓的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乡思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，淡淡的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乡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，拨动着我们的心弦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4030_20051105214052_320" descr=""/>
          <p:cNvPicPr/>
          <p:nvPr/>
        </p:nvPicPr>
        <p:blipFill>
          <a:blip r:embed="rId1"/>
          <a:stretch/>
        </p:blipFill>
        <p:spPr>
          <a:xfrm>
            <a:off x="0" y="0"/>
            <a:ext cx="92329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343400" y="685800"/>
            <a:ext cx="3657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6600" spc="-1" strike="noStrike">
                <a:solidFill>
                  <a:srgbClr val="000000"/>
                </a:solidFill>
                <a:latin typeface="隶书"/>
                <a:ea typeface="隶书"/>
              </a:rPr>
              <a:t>雨网斜织    满纸离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76520" y="3657600"/>
            <a:ext cx="640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Arial"/>
                <a:ea typeface="隶书"/>
              </a:rPr>
              <a:t>难遣的家园之思，难舍的文化恋慕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83808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 rot="622800">
            <a:off x="1295280" y="685440"/>
            <a:ext cx="20574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雨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kab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914400" y="2134800"/>
            <a:ext cx="7543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本文创作于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97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年，那时正值“文革”后期，海峡两岸的同胞不仅不能来往走动，而且连书信都不可通邮。此时，余光中离开大陆已经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2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年了。几十年来，他经历了离别家园的痛苦，浪迹天涯的辛酸，却始终在精神上与祖国血脉相连。他的作品，无论散文、诗歌，都充满浓郁的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传统意识和乡土观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，抒发了浓浓的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去国怀乡之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，强烈的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思乡思亲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之情。本文作为余光中散文的代表作，表达了流落在台湾的大陆游子强烈的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思乡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之情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09480" y="68580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609480"/>
            <a:ext cx="167652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惊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仓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料峭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黔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氤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019920" y="609480"/>
            <a:ext cx="160020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韵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米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冥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岑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蠕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52680" y="609480"/>
            <a:ext cx="160020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寒濑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羯鼓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舔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啁啾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晌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6858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zhé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18288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jié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828800" y="289548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qiào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828800" y="411480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qián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5105520"/>
            <a:ext cx="121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yīnyūn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76920" y="68580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(là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76920" y="182880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jié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52880" y="2895480"/>
            <a:ext cx="914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shì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48320" y="3962520"/>
            <a:ext cx="152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zhōujiū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648320" y="5105520"/>
            <a:ext cx="144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shǎ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467480" y="6858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yù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467480" y="17524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(fú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467480" y="2895480"/>
            <a:ext cx="121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(mí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543800" y="40384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(cé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20120" y="518148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(rú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33520" y="1522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掌握字词，读准字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图片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457200" y="1295280"/>
            <a:ext cx="7238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文中开头写道在“长巷短巷，雨里风里，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走入霏霏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令人更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想入非非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（浮想联翩）”，那么作者由雨想到了些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25213509247973bb2fddd45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143000" y="1295280"/>
            <a:ext cx="685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在作者看来，哪儿也比不上中国。“要领略‘白云回望合，青霭入看无’的境界，仍须回中国”。毕竟是异乡，他的心是漂泊的，没有寄托的。只有当他的脚站在中国的土地上心里才觉得踏实，因为中国是他的根，是他的情之所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219320" y="38088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作者为什么会有这样的感觉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25213509247973bb2fddd45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343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990720" y="160020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米芾父子的山水画已经不仅仅是山水画，而是中国传统文化的代表。只有这种情调才更像中国的山水画，也更有古中国的情韵。这里作者借米芾父子的山水画表达对中国传统文化的眷恋之情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22860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第四段最后提到米芾父子的山水画，用意何在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048120" y="38088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大陆是他的根，离开大陆使他悲伤，失去了方向。就像余光中自己感慨的“掉头一去是风吹黑发，回首再来已雪满白头”那样。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434340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人一离开乡土，就成了失根的兰花，逐浪的浮萍，飞舞的秋蓬，因风四散的蒲公英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8T11:05:36Z</dcterms:created>
  <dc:creator/>
  <dc:description/>
  <dc:language>en-US</dc:language>
  <cp:lastModifiedBy>zmj</cp:lastModifiedBy>
  <dcterms:modified xsi:type="dcterms:W3CDTF">2011-12-08T11:05:41Z</dcterms:modified>
  <cp:revision>5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