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jpeg" ContentType="image/jpeg"/>
  <Override PartName="/ppt/media/image10.jpeg" ContentType="image/jpeg"/>
  <Override PartName="/ppt/media/image7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media/glass.wav" ContentType="audio/x-wav"/>
  <Override PartName="/ppt/media/laser.wav" ContentType="audio/x-wav"/>
  <Override PartName="/ppt/media/image13.jpeg" ContentType="image/jpeg"/>
  <Override PartName="/ppt/media/projctor.wav" ContentType="audio/x-wav"/>
  <Override PartName="/ppt/media/image12.jpeg" ContentType="image/jpeg"/>
  <Override PartName="/ppt/media/camera.wav" ContentType="audio/x-wav"/>
  <Override PartName="/ppt/media/chimes.wav" ContentType="audio/x-wav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type.wav" ContentType="audio/x-wav"/>
  <Override PartName="/ppt/media/drumroll.wav" ContentType="audio/x-wav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DA33-9742-4ACB-B03C-8FB3CC73D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C978-1E72-4FFE-A251-C8153DA8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5CDA-C197-40E6-A6BD-8797CBBBF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E2CD-5D5C-4D96-A03A-7DD4ACB84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FFAD-5349-49DA-BAF4-6693DC81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106BC-8CDF-4DDF-832C-4CA99BEFD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5FFF-3CB1-4B20-AB8C-44B0B8AE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67C15-EAC5-4BE2-A97C-60B8E586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D527-77E6-4027-B703-B89D1EA5F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233E-DFCD-4AA5-9969-452C31C3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B2BE9-416E-4307-8558-FA7AF0212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616A-3922-4DF0-B56C-C293B875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0EB52-58F5-4CF7-AA90-3FB8FAC76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90B4-AF26-4C98-8F56-CA41427D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29AC9-0A70-4CA3-BF9C-963860CA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DD53C-36FA-451C-8F54-A8314D576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874E2-873D-4DB1-85A3-3ED723A49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A75-9E9B-44EF-A487-AF1E289F7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A5D-8034-4502-887B-4025247F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8AC9-67ED-4BA5-91C4-408F5799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37720" y="6091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36ED-B9E5-4F1B-97C4-390ABDF5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36BD-B569-48FA-860C-2005D168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95CA-F29E-48CD-A35D-E46382B7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54B7-8DEC-4BD8-907C-E8215BD00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465480" y="-320400"/>
            <a:ext cx="9765360" cy="7676280"/>
            <a:chOff x="-465480" y="-320400"/>
            <a:chExt cx="9765360" cy="7676280"/>
          </a:xfrm>
        </p:grpSpPr>
        <p:grpSp>
          <p:nvGrpSpPr>
            <p:cNvPr id="1" name=""/>
            <p:cNvGrpSpPr/>
            <p:nvPr/>
          </p:nvGrpSpPr>
          <p:grpSpPr>
            <a:xfrm>
              <a:off x="-465480" y="-320400"/>
              <a:ext cx="9765360" cy="7676280"/>
              <a:chOff x="-465480" y="-320400"/>
              <a:chExt cx="9765360" cy="7676280"/>
            </a:xfrm>
          </p:grpSpPr>
          <p:sp>
            <p:nvSpPr>
              <p:cNvPr id="2" name=""/>
              <p:cNvSpPr/>
              <p:nvPr/>
            </p:nvSpPr>
            <p:spPr>
              <a:xfrm>
                <a:off x="5264280" y="4719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495600" y="4078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635280" y="4809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145040" y="5621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21600" y="287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906800" y="32479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rot="3318000">
                <a:off x="3580200" y="2980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20977200">
                <a:off x="4695840" y="5342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2894040" y="4735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16245000">
                <a:off x="5741280" y="5927400"/>
                <a:ext cx="84960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6018000">
                <a:off x="3123360" y="5648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6283800">
                <a:off x="5399640" y="4840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V="1" rot="19272000">
                <a:off x="5064120" y="3566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 rot="564000">
                <a:off x="2854440" y="3716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951200" y="4307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82520" y="4065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46240" y="4740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9469400">
                <a:off x="1174680" y="59130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2894040" y="3075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593720" y="323532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3318000">
                <a:off x="-113400" y="31582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flipH="1" rot="20977200">
                <a:off x="1382040" y="5329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-19080" y="4665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flipH="1" rot="16245000">
                <a:off x="2409120" y="588924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508000">
                <a:off x="-36000" y="5560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6283800">
                <a:off x="1857240" y="45802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flipV="1" rot="19272000">
                <a:off x="1503360" y="321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flipH="1" rot="564000">
                <a:off x="798480" y="3494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92420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55520" y="712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-284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14768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867040" y="-30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1566720" y="13032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18000">
                <a:off x="297360" y="-174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flipH="1" rot="20977200">
                <a:off x="135576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97000" y="148428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H="1" rot="16245000">
                <a:off x="236304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428800">
                <a:off x="-254160" y="2646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6283800">
                <a:off x="2059200" y="1475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9272000">
                <a:off x="1476000" y="106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flipH="1" rot="564000">
                <a:off x="-2808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249880" y="1353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3481560" y="712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3297240" y="174960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473720" y="2560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192720" y="-3024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892760" y="130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3318000">
                <a:off x="3184920" y="53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20977200">
                <a:off x="4681440" y="1976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032280" y="167472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16245000">
                <a:off x="5688720" y="2295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428800">
                <a:off x="3071520" y="2646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6283800">
                <a:off x="5385240" y="147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 rot="19272000">
                <a:off x="4801680" y="10620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 rot="564000">
                <a:off x="2935440" y="351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H="1">
                <a:off x="8059680" y="1349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808680" y="727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624720" y="1763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86680" y="24796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7640" y="111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3318000">
                <a:off x="6569280" y="-103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20977200">
                <a:off x="8008920" y="1990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6873840" y="1479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H="1" rot="16245000">
                <a:off x="8213040" y="5071680"/>
                <a:ext cx="849240" cy="102420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428800">
                <a:off x="6608880" y="2527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6283800">
                <a:off x="7779240" y="1203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 rot="21012000">
                <a:off x="8134200" y="-133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64000">
                <a:off x="6072120" y="708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6521400">
                <a:off x="8094600" y="4663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808680" y="4079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624720" y="5116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845200">
                <a:off x="8009280" y="570456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705800" y="3211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318000">
                <a:off x="6512400" y="3172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20977200">
                <a:off x="7817760" y="5821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359400" y="50418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6819600">
                <a:off x="6608880" y="57463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283800">
                <a:off x="7283880" y="406152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 rot="15949200">
                <a:off x="8124120" y="3322080"/>
                <a:ext cx="101592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 rot="564000">
                <a:off x="6319800" y="3813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190440" y="473040"/>
              <a:ext cx="8745120" cy="223920"/>
              <a:chOff x="190440" y="473040"/>
              <a:chExt cx="8745120" cy="223920"/>
            </a:xfrm>
          </p:grpSpPr>
          <p:sp>
            <p:nvSpPr>
              <p:cNvPr id="84" name=""/>
              <p:cNvSpPr/>
              <p:nvPr/>
            </p:nvSpPr>
            <p:spPr>
              <a:xfrm>
                <a:off x="190440" y="473040"/>
                <a:ext cx="8745120" cy="223920"/>
              </a:xfrm>
              <a:prstGeom prst="roundRect">
                <a:avLst>
                  <a:gd name="adj" fmla="val 50000"/>
                </a:avLst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31840" y="536760"/>
                <a:ext cx="8649360" cy="55800"/>
              </a:xfrm>
              <a:prstGeom prst="rect">
                <a:avLst/>
              </a:pr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2440" y="382680"/>
              <a:ext cx="8745120" cy="223920"/>
              <a:chOff x="82440" y="382680"/>
              <a:chExt cx="8745120" cy="223920"/>
            </a:xfrm>
          </p:grpSpPr>
          <p:sp>
            <p:nvSpPr>
              <p:cNvPr id="87" name=""/>
              <p:cNvSpPr/>
              <p:nvPr/>
            </p:nvSpPr>
            <p:spPr>
              <a:xfrm>
                <a:off x="82440" y="382680"/>
                <a:ext cx="8745120" cy="223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525252"/>
                  </a:gs>
                  <a:gs pos="50000">
                    <a:srgbClr val="b2b2b2"/>
                  </a:gs>
                  <a:gs pos="100000">
                    <a:srgbClr val="52525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23840" y="446400"/>
                <a:ext cx="8649360" cy="5580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50000">
                    <a:srgbClr val="e8e8e8"/>
                  </a:gs>
                  <a:gs pos="100000">
                    <a:srgbClr val="b2b2b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>
              <a:off x="154080" y="476280"/>
              <a:ext cx="1374840" cy="1262160"/>
            </a:xfrm>
            <a:custGeom>
              <a:avLst/>
              <a:gdLst/>
              <a:ahLst/>
              <a:rect l="l" t="t" r="r" b="b"/>
              <a:pathLst>
                <a:path w="866" h="795">
                  <a:moveTo>
                    <a:pt x="17" y="180"/>
                  </a:moveTo>
                  <a:cubicBezTo>
                    <a:pt x="49" y="413"/>
                    <a:pt x="206" y="636"/>
                    <a:pt x="284" y="720"/>
                  </a:cubicBezTo>
                  <a:cubicBezTo>
                    <a:pt x="359" y="795"/>
                    <a:pt x="422" y="771"/>
                    <a:pt x="380" y="687"/>
                  </a:cubicBezTo>
                  <a:cubicBezTo>
                    <a:pt x="284" y="378"/>
                    <a:pt x="197" y="183"/>
                    <a:pt x="647" y="249"/>
                  </a:cubicBezTo>
                  <a:cubicBezTo>
                    <a:pt x="866" y="276"/>
                    <a:pt x="791" y="175"/>
                    <a:pt x="716" y="138"/>
                  </a:cubicBezTo>
                  <a:cubicBezTo>
                    <a:pt x="575" y="63"/>
                    <a:pt x="317" y="6"/>
                    <a:pt x="182" y="0"/>
                  </a:cubicBezTo>
                  <a:cubicBezTo>
                    <a:pt x="95" y="0"/>
                    <a:pt x="0" y="32"/>
                    <a:pt x="17" y="180"/>
                  </a:cubicBezTo>
                  <a:close/>
                </a:path>
              </a:pathLst>
            </a:custGeom>
            <a:solidFill>
              <a:srgbClr val="80808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216000" y="149400"/>
              <a:ext cx="1253880" cy="1169280"/>
              <a:chOff x="216000" y="149400"/>
              <a:chExt cx="1253880" cy="1169280"/>
            </a:xfrm>
          </p:grpSpPr>
          <p:sp>
            <p:nvSpPr>
              <p:cNvPr id="91" name=""/>
              <p:cNvSpPr/>
              <p:nvPr/>
            </p:nvSpPr>
            <p:spPr>
              <a:xfrm>
                <a:off x="216000" y="166320"/>
                <a:ext cx="1253880" cy="11523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f5cd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34720" y="172800"/>
                <a:ext cx="287640" cy="845640"/>
              </a:xfrm>
              <a:custGeom>
                <a:avLst/>
                <a:gdLst/>
                <a:ahLst/>
                <a:rect l="l" t="t" r="r" b="b"/>
                <a:pathLst>
                  <a:path w="181" h="533">
                    <a:moveTo>
                      <a:pt x="60" y="12"/>
                    </a:moveTo>
                    <a:cubicBezTo>
                      <a:pt x="18" y="35"/>
                      <a:pt x="0" y="83"/>
                      <a:pt x="2" y="153"/>
                    </a:cubicBezTo>
                    <a:cubicBezTo>
                      <a:pt x="3" y="212"/>
                      <a:pt x="39" y="306"/>
                      <a:pt x="63" y="366"/>
                    </a:cubicBezTo>
                    <a:cubicBezTo>
                      <a:pt x="87" y="426"/>
                      <a:pt x="131" y="492"/>
                      <a:pt x="146" y="512"/>
                    </a:cubicBezTo>
                    <a:cubicBezTo>
                      <a:pt x="162" y="533"/>
                      <a:pt x="168" y="526"/>
                      <a:pt x="156" y="489"/>
                    </a:cubicBezTo>
                    <a:cubicBezTo>
                      <a:pt x="144" y="453"/>
                      <a:pt x="90" y="350"/>
                      <a:pt x="74" y="294"/>
                    </a:cubicBezTo>
                    <a:cubicBezTo>
                      <a:pt x="59" y="239"/>
                      <a:pt x="59" y="196"/>
                      <a:pt x="63" y="155"/>
                    </a:cubicBezTo>
                    <a:cubicBezTo>
                      <a:pt x="67" y="115"/>
                      <a:pt x="86" y="74"/>
                      <a:pt x="98" y="53"/>
                    </a:cubicBezTo>
                    <a:cubicBezTo>
                      <a:pt x="110" y="33"/>
                      <a:pt x="121" y="39"/>
                      <a:pt x="135" y="32"/>
                    </a:cubicBezTo>
                    <a:cubicBezTo>
                      <a:pt x="148" y="26"/>
                      <a:pt x="177" y="21"/>
                      <a:pt x="179" y="16"/>
                    </a:cubicBezTo>
                    <a:cubicBezTo>
                      <a:pt x="181" y="11"/>
                      <a:pt x="161" y="4"/>
                      <a:pt x="146" y="2"/>
                    </a:cubicBezTo>
                    <a:cubicBezTo>
                      <a:pt x="132" y="0"/>
                      <a:pt x="107" y="1"/>
                      <a:pt x="93" y="2"/>
                    </a:cubicBezTo>
                    <a:cubicBezTo>
                      <a:pt x="78" y="4"/>
                      <a:pt x="74" y="0"/>
                      <a:pt x="60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100000">
                    <a:srgbClr val="b89aa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298440" y="149400"/>
                <a:ext cx="1057320" cy="309240"/>
              </a:xfrm>
              <a:custGeom>
                <a:avLst/>
                <a:gdLst/>
                <a:ahLst/>
                <a:rect l="l" t="t" r="r" b="b"/>
                <a:pathLst>
                  <a:path w="666" h="195">
                    <a:moveTo>
                      <a:pt x="10" y="32"/>
                    </a:moveTo>
                    <a:cubicBezTo>
                      <a:pt x="20" y="24"/>
                      <a:pt x="38" y="6"/>
                      <a:pt x="72" y="3"/>
                    </a:cubicBezTo>
                    <a:cubicBezTo>
                      <a:pt x="106" y="0"/>
                      <a:pt x="153" y="4"/>
                      <a:pt x="214" y="16"/>
                    </a:cubicBezTo>
                    <a:cubicBezTo>
                      <a:pt x="275" y="28"/>
                      <a:pt x="375" y="53"/>
                      <a:pt x="440" y="74"/>
                    </a:cubicBezTo>
                    <a:cubicBezTo>
                      <a:pt x="505" y="95"/>
                      <a:pt x="568" y="122"/>
                      <a:pt x="604" y="140"/>
                    </a:cubicBezTo>
                    <a:cubicBezTo>
                      <a:pt x="640" y="158"/>
                      <a:pt x="647" y="174"/>
                      <a:pt x="653" y="182"/>
                    </a:cubicBezTo>
                    <a:cubicBezTo>
                      <a:pt x="659" y="190"/>
                      <a:pt x="666" y="195"/>
                      <a:pt x="638" y="186"/>
                    </a:cubicBezTo>
                    <a:cubicBezTo>
                      <a:pt x="609" y="177"/>
                      <a:pt x="548" y="150"/>
                      <a:pt x="483" y="129"/>
                    </a:cubicBezTo>
                    <a:cubicBezTo>
                      <a:pt x="416" y="109"/>
                      <a:pt x="306" y="78"/>
                      <a:pt x="244" y="64"/>
                    </a:cubicBezTo>
                    <a:cubicBezTo>
                      <a:pt x="181" y="51"/>
                      <a:pt x="139" y="49"/>
                      <a:pt x="107" y="51"/>
                    </a:cubicBezTo>
                    <a:cubicBezTo>
                      <a:pt x="76" y="53"/>
                      <a:pt x="71" y="75"/>
                      <a:pt x="55" y="74"/>
                    </a:cubicBezTo>
                    <a:cubicBezTo>
                      <a:pt x="39" y="74"/>
                      <a:pt x="18" y="57"/>
                      <a:pt x="10" y="50"/>
                    </a:cubicBezTo>
                    <a:cubicBezTo>
                      <a:pt x="2" y="43"/>
                      <a:pt x="0" y="40"/>
                      <a:pt x="10" y="3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b89aa8"/>
                  </a:gs>
                  <a:gs pos="100000">
                    <a:srgbClr val="f5cdd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2480" y="460080"/>
                <a:ext cx="682560" cy="661680"/>
              </a:xfrm>
              <a:custGeom>
                <a:avLst/>
                <a:gdLst/>
                <a:ahLst/>
                <a:rect l="l" t="t" r="r" b="b"/>
                <a:pathLst>
                  <a:path w="1547" h="1502">
                    <a:moveTo>
                      <a:pt x="54" y="275"/>
                    </a:moveTo>
                    <a:cubicBezTo>
                      <a:pt x="112" y="178"/>
                      <a:pt x="177" y="66"/>
                      <a:pt x="388" y="33"/>
                    </a:cubicBezTo>
                    <a:cubicBezTo>
                      <a:pt x="599" y="0"/>
                      <a:pt x="1146" y="55"/>
                      <a:pt x="1323" y="74"/>
                    </a:cubicBezTo>
                    <a:cubicBezTo>
                      <a:pt x="1500" y="93"/>
                      <a:pt x="1547" y="143"/>
                      <a:pt x="1448" y="149"/>
                    </a:cubicBezTo>
                    <a:cubicBezTo>
                      <a:pt x="1349" y="155"/>
                      <a:pt x="920" y="97"/>
                      <a:pt x="730" y="108"/>
                    </a:cubicBezTo>
                    <a:cubicBezTo>
                      <a:pt x="540" y="119"/>
                      <a:pt x="402" y="147"/>
                      <a:pt x="305" y="216"/>
                    </a:cubicBezTo>
                    <a:cubicBezTo>
                      <a:pt x="208" y="285"/>
                      <a:pt x="156" y="373"/>
                      <a:pt x="146" y="525"/>
                    </a:cubicBezTo>
                    <a:cubicBezTo>
                      <a:pt x="136" y="677"/>
                      <a:pt x="214" y="974"/>
                      <a:pt x="246" y="1126"/>
                    </a:cubicBezTo>
                    <a:cubicBezTo>
                      <a:pt x="278" y="1278"/>
                      <a:pt x="332" y="1383"/>
                      <a:pt x="338" y="1435"/>
                    </a:cubicBezTo>
                    <a:cubicBezTo>
                      <a:pt x="344" y="1487"/>
                      <a:pt x="316" y="1502"/>
                      <a:pt x="280" y="1435"/>
                    </a:cubicBezTo>
                    <a:cubicBezTo>
                      <a:pt x="244" y="1368"/>
                      <a:pt x="161" y="1170"/>
                      <a:pt x="121" y="1034"/>
                    </a:cubicBezTo>
                    <a:cubicBezTo>
                      <a:pt x="81" y="898"/>
                      <a:pt x="49" y="743"/>
                      <a:pt x="38" y="617"/>
                    </a:cubicBezTo>
                    <a:cubicBezTo>
                      <a:pt x="27" y="491"/>
                      <a:pt x="0" y="375"/>
                      <a:pt x="54" y="275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5cddf"/>
                  </a:gs>
                  <a:gs pos="50000">
                    <a:srgbClr val="fcf6f9"/>
                  </a:gs>
                  <a:gs pos="100000">
                    <a:srgbClr val="f5cddf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7440" y="379080"/>
                <a:ext cx="406080" cy="402840"/>
              </a:xfrm>
              <a:custGeom>
                <a:avLst/>
                <a:gdLst/>
                <a:ahLst/>
                <a:rect l="l" t="t" r="r" b="b"/>
                <a:pathLst>
                  <a:path w="921" h="912">
                    <a:moveTo>
                      <a:pt x="14" y="164"/>
                    </a:moveTo>
                    <a:cubicBezTo>
                      <a:pt x="0" y="66"/>
                      <a:pt x="67" y="0"/>
                      <a:pt x="216" y="33"/>
                    </a:cubicBezTo>
                    <a:cubicBezTo>
                      <a:pt x="419" y="54"/>
                      <a:pt x="487" y="8"/>
                      <a:pt x="871" y="217"/>
                    </a:cubicBezTo>
                    <a:cubicBezTo>
                      <a:pt x="921" y="234"/>
                      <a:pt x="692" y="228"/>
                      <a:pt x="613" y="258"/>
                    </a:cubicBezTo>
                    <a:cubicBezTo>
                      <a:pt x="534" y="288"/>
                      <a:pt x="450" y="347"/>
                      <a:pt x="396" y="400"/>
                    </a:cubicBezTo>
                    <a:cubicBezTo>
                      <a:pt x="342" y="453"/>
                      <a:pt x="309" y="502"/>
                      <a:pt x="287" y="576"/>
                    </a:cubicBezTo>
                    <a:cubicBezTo>
                      <a:pt x="265" y="650"/>
                      <a:pt x="308" y="912"/>
                      <a:pt x="262" y="843"/>
                    </a:cubicBezTo>
                    <a:cubicBezTo>
                      <a:pt x="45" y="626"/>
                      <a:pt x="59" y="295"/>
                      <a:pt x="14" y="164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fcf7fa"/>
                  </a:gs>
                  <a:gs pos="100000">
                    <a:srgbClr val="f5cd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89BC-176D-44E6-B321-95CF3517C4AF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"/>
          <p:cNvGrpSpPr/>
          <p:nvPr/>
        </p:nvGrpSpPr>
        <p:grpSpPr>
          <a:xfrm>
            <a:off x="-468360" y="-293400"/>
            <a:ext cx="9765000" cy="7676280"/>
            <a:chOff x="-468360" y="-293400"/>
            <a:chExt cx="9765000" cy="7676280"/>
          </a:xfrm>
        </p:grpSpPr>
        <p:grpSp>
          <p:nvGrpSpPr>
            <p:cNvPr id="138" name=""/>
            <p:cNvGrpSpPr/>
            <p:nvPr/>
          </p:nvGrpSpPr>
          <p:grpSpPr>
            <a:xfrm>
              <a:off x="-468360" y="-293400"/>
              <a:ext cx="9765000" cy="7676280"/>
              <a:chOff x="-468360" y="-293400"/>
              <a:chExt cx="9765000" cy="7676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261040" y="47466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492360" y="410544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2040" y="4836960"/>
                <a:ext cx="103212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141800" y="564840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318360" y="2905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903920" y="32749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318000">
                <a:off x="3576960" y="300744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flipH="1" rot="20977200">
                <a:off x="4692600" y="536904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90800" y="476244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16245000">
                <a:off x="5737680" y="5954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6018000">
                <a:off x="3120120" y="567540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6283800">
                <a:off x="5396400" y="48679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V="1" rot="19272000">
                <a:off x="5060880" y="35935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 rot="564000">
                <a:off x="2851200" y="37432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947960" y="433404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79280" y="4092480"/>
                <a:ext cx="1567080" cy="117972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243000" y="476712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9469400">
                <a:off x="1171440" y="59400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890800" y="3102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0840" y="326232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3318000">
                <a:off x="-116640" y="3185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rot="20977200">
                <a:off x="1378800" y="535608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-22320" y="4692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45000">
                <a:off x="2405880" y="59166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5508000">
                <a:off x="-39240" y="558792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rot="6283800">
                <a:off x="1854720" y="460764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 rot="19272000">
                <a:off x="1500120" y="3237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rot="564000">
                <a:off x="795240" y="35211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920960" y="138096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52280" y="7398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-3168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144440" y="2587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86380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56384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3318000">
                <a:off x="294120" y="-14796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H="1" rot="20977200">
                <a:off x="1352520" y="20034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93760" y="151128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rot="16245000">
                <a:off x="235980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2428800">
                <a:off x="-257040" y="2673360"/>
                <a:ext cx="127296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rot="6283800">
                <a:off x="2056320" y="15022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 rot="19272000">
                <a:off x="147276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564000">
                <a:off x="-3132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246640" y="138096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478320" y="739800"/>
                <a:ext cx="156672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94000" y="17762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470480" y="2587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89840" y="-32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889520" y="15732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3318000">
                <a:off x="3181680" y="80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 rot="20977200">
                <a:off x="4678200" y="2003400"/>
                <a:ext cx="84960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029040" y="170172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45000">
                <a:off x="5685480" y="232236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2428800">
                <a:off x="3068280" y="267336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6283800">
                <a:off x="5382000" y="150228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 rot="19272000">
                <a:off x="4798800" y="133200"/>
                <a:ext cx="101592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 rot="564000">
                <a:off x="2932200" y="3780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H="1">
                <a:off x="8056440" y="1376280"/>
                <a:ext cx="109080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805440" y="75420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621480" y="1790640"/>
                <a:ext cx="1031760" cy="102888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083440" y="250668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664400" y="38160"/>
                <a:ext cx="109080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3318000">
                <a:off x="6566400" y="-76680"/>
                <a:ext cx="101628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 rot="20977200">
                <a:off x="8005680" y="2017800"/>
                <a:ext cx="84924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870600" y="1506600"/>
                <a:ext cx="137484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flipH="1" rot="16245000">
                <a:off x="8209800" y="509904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2428800">
                <a:off x="6605640" y="2554200"/>
                <a:ext cx="1272960" cy="112104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6283800">
                <a:off x="7776000" y="123084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 rot="21012000">
                <a:off x="8131320" y="1332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H="1" rot="564000">
                <a:off x="6068880" y="735120"/>
                <a:ext cx="849600" cy="102348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6521400">
                <a:off x="8091360" y="4690800"/>
                <a:ext cx="1090440" cy="96696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805440" y="4106880"/>
                <a:ext cx="1567080" cy="117936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1480" y="5143680"/>
                <a:ext cx="1031760" cy="1028520"/>
              </a:xfrm>
              <a:custGeom>
                <a:avLst/>
                <a:gdLst/>
                <a:ahLst/>
                <a:rect l="l" t="t" r="r" b="b"/>
                <a:pathLst>
                  <a:path w="650" h="648">
                    <a:moveTo>
                      <a:pt x="468" y="114"/>
                    </a:moveTo>
                    <a:cubicBezTo>
                      <a:pt x="579" y="274"/>
                      <a:pt x="604" y="372"/>
                      <a:pt x="621" y="453"/>
                    </a:cubicBezTo>
                    <a:cubicBezTo>
                      <a:pt x="650" y="573"/>
                      <a:pt x="587" y="600"/>
                      <a:pt x="522" y="495"/>
                    </a:cubicBezTo>
                    <a:cubicBezTo>
                      <a:pt x="330" y="99"/>
                      <a:pt x="171" y="417"/>
                      <a:pt x="105" y="519"/>
                    </a:cubicBezTo>
                    <a:cubicBezTo>
                      <a:pt x="51" y="648"/>
                      <a:pt x="0" y="525"/>
                      <a:pt x="30" y="450"/>
                    </a:cubicBezTo>
                    <a:cubicBezTo>
                      <a:pt x="39" y="381"/>
                      <a:pt x="132" y="180"/>
                      <a:pt x="231" y="84"/>
                    </a:cubicBezTo>
                    <a:cubicBezTo>
                      <a:pt x="321" y="0"/>
                      <a:pt x="406" y="4"/>
                      <a:pt x="468" y="114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845200">
                <a:off x="8005680" y="573120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c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702560" y="3238560"/>
                <a:ext cx="1090440" cy="966600"/>
              </a:xfrm>
              <a:custGeom>
                <a:avLst/>
                <a:gdLst/>
                <a:ahLst/>
                <a:rect l="l" t="t" r="r" b="b"/>
                <a:pathLst>
                  <a:path w="687" h="609">
                    <a:moveTo>
                      <a:pt x="144" y="45"/>
                    </a:moveTo>
                    <a:cubicBezTo>
                      <a:pt x="306" y="0"/>
                      <a:pt x="472" y="5"/>
                      <a:pt x="546" y="9"/>
                    </a:cubicBezTo>
                    <a:cubicBezTo>
                      <a:pt x="654" y="12"/>
                      <a:pt x="687" y="75"/>
                      <a:pt x="582" y="99"/>
                    </a:cubicBezTo>
                    <a:cubicBezTo>
                      <a:pt x="81" y="144"/>
                      <a:pt x="162" y="423"/>
                      <a:pt x="123" y="462"/>
                    </a:cubicBezTo>
                    <a:cubicBezTo>
                      <a:pt x="123" y="609"/>
                      <a:pt x="39" y="495"/>
                      <a:pt x="27" y="438"/>
                    </a:cubicBezTo>
                    <a:cubicBezTo>
                      <a:pt x="18" y="393"/>
                      <a:pt x="0" y="291"/>
                      <a:pt x="12" y="210"/>
                    </a:cubicBezTo>
                    <a:cubicBezTo>
                      <a:pt x="15" y="141"/>
                      <a:pt x="36" y="66"/>
                      <a:pt x="144" y="45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3318000">
                <a:off x="6509160" y="3199680"/>
                <a:ext cx="1015920" cy="126504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20977200">
                <a:off x="7814520" y="584820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356520" y="5068800"/>
                <a:ext cx="1374480" cy="12621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noFill/>
              <a:ln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6819600">
                <a:off x="6605280" y="5773320"/>
                <a:ext cx="1273320" cy="1120680"/>
              </a:xfrm>
              <a:custGeom>
                <a:avLst/>
                <a:gdLst/>
                <a:ahLst/>
                <a:rect l="l" t="t" r="r" b="b"/>
                <a:pathLst>
                  <a:path w="987" h="743">
                    <a:moveTo>
                      <a:pt x="742" y="110"/>
                    </a:moveTo>
                    <a:cubicBezTo>
                      <a:pt x="853" y="270"/>
                      <a:pt x="941" y="491"/>
                      <a:pt x="958" y="572"/>
                    </a:cubicBezTo>
                    <a:cubicBezTo>
                      <a:pt x="987" y="692"/>
                      <a:pt x="912" y="743"/>
                      <a:pt x="847" y="638"/>
                    </a:cubicBezTo>
                    <a:cubicBezTo>
                      <a:pt x="523" y="89"/>
                      <a:pt x="364" y="254"/>
                      <a:pt x="202" y="269"/>
                    </a:cubicBezTo>
                    <a:cubicBezTo>
                      <a:pt x="0" y="325"/>
                      <a:pt x="89" y="207"/>
                      <a:pt x="163" y="173"/>
                    </a:cubicBezTo>
                    <a:cubicBezTo>
                      <a:pt x="222" y="145"/>
                      <a:pt x="366" y="53"/>
                      <a:pt x="481" y="35"/>
                    </a:cubicBezTo>
                    <a:cubicBezTo>
                      <a:pt x="576" y="12"/>
                      <a:pt x="680" y="0"/>
                      <a:pt x="742" y="110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6283800">
                <a:off x="7280280" y="4088160"/>
                <a:ext cx="1016280" cy="126540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 rot="15949200">
                <a:off x="8120520" y="3348720"/>
                <a:ext cx="1016280" cy="1264680"/>
              </a:xfrm>
              <a:custGeom>
                <a:avLst/>
                <a:gdLst/>
                <a:ahLst/>
                <a:rect l="l" t="t" r="r" b="b"/>
                <a:pathLst>
                  <a:path w="640" h="797">
                    <a:moveTo>
                      <a:pt x="600" y="216"/>
                    </a:moveTo>
                    <a:cubicBezTo>
                      <a:pt x="640" y="379"/>
                      <a:pt x="604" y="584"/>
                      <a:pt x="598" y="658"/>
                    </a:cubicBezTo>
                    <a:cubicBezTo>
                      <a:pt x="592" y="766"/>
                      <a:pt x="528" y="797"/>
                      <a:pt x="507" y="691"/>
                    </a:cubicBezTo>
                    <a:cubicBezTo>
                      <a:pt x="495" y="276"/>
                      <a:pt x="255" y="360"/>
                      <a:pt x="147" y="354"/>
                    </a:cubicBezTo>
                    <a:cubicBezTo>
                      <a:pt x="0" y="350"/>
                      <a:pt x="18" y="294"/>
                      <a:pt x="84" y="249"/>
                    </a:cubicBezTo>
                    <a:cubicBezTo>
                      <a:pt x="147" y="204"/>
                      <a:pt x="339" y="108"/>
                      <a:pt x="423" y="96"/>
                    </a:cubicBezTo>
                    <a:cubicBezTo>
                      <a:pt x="477" y="81"/>
                      <a:pt x="585" y="0"/>
                      <a:pt x="600" y="216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564000">
                <a:off x="6316560" y="3840120"/>
                <a:ext cx="849240" cy="1023840"/>
              </a:xfrm>
              <a:custGeom>
                <a:avLst/>
                <a:gdLst/>
                <a:ahLst/>
                <a:rect l="l" t="t" r="r" b="b"/>
                <a:pathLst>
                  <a:path w="535" h="645">
                    <a:moveTo>
                      <a:pt x="462" y="423"/>
                    </a:moveTo>
                    <a:cubicBezTo>
                      <a:pt x="345" y="546"/>
                      <a:pt x="198" y="582"/>
                      <a:pt x="144" y="612"/>
                    </a:cubicBezTo>
                    <a:cubicBezTo>
                      <a:pt x="60" y="645"/>
                      <a:pt x="0" y="630"/>
                      <a:pt x="87" y="558"/>
                    </a:cubicBezTo>
                    <a:cubicBezTo>
                      <a:pt x="261" y="438"/>
                      <a:pt x="378" y="387"/>
                      <a:pt x="162" y="117"/>
                    </a:cubicBezTo>
                    <a:cubicBezTo>
                      <a:pt x="74" y="0"/>
                      <a:pt x="166" y="1"/>
                      <a:pt x="210" y="39"/>
                    </a:cubicBezTo>
                    <a:cubicBezTo>
                      <a:pt x="245" y="70"/>
                      <a:pt x="401" y="171"/>
                      <a:pt x="441" y="243"/>
                    </a:cubicBezTo>
                    <a:cubicBezTo>
                      <a:pt x="480" y="300"/>
                      <a:pt x="535" y="341"/>
                      <a:pt x="462" y="423"/>
                    </a:cubicBezTo>
                    <a:close/>
                  </a:path>
                </a:pathLst>
              </a:custGeom>
              <a:noFill/>
              <a:ln w="12600">
                <a:solidFill>
                  <a:srgbClr val="99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97560" y="2772360"/>
              <a:ext cx="8876160" cy="2531520"/>
              <a:chOff x="97560" y="2772360"/>
              <a:chExt cx="8876160" cy="2531520"/>
            </a:xfrm>
          </p:grpSpPr>
          <p:sp>
            <p:nvSpPr>
              <p:cNvPr id="221" name=""/>
              <p:cNvSpPr/>
              <p:nvPr/>
            </p:nvSpPr>
            <p:spPr>
              <a:xfrm rot="17967600">
                <a:off x="356760" y="3306960"/>
                <a:ext cx="1782720" cy="1636560"/>
              </a:xfrm>
              <a:custGeom>
                <a:avLst/>
                <a:gdLst/>
                <a:ahLst/>
                <a:rect l="l" t="t" r="r" b="b"/>
                <a:pathLst>
                  <a:path w="866" h="795">
                    <a:moveTo>
                      <a:pt x="17" y="180"/>
                    </a:moveTo>
                    <a:cubicBezTo>
                      <a:pt x="49" y="413"/>
                      <a:pt x="206" y="636"/>
                      <a:pt x="284" y="720"/>
                    </a:cubicBezTo>
                    <a:cubicBezTo>
                      <a:pt x="359" y="795"/>
                      <a:pt x="422" y="771"/>
                      <a:pt x="380" y="687"/>
                    </a:cubicBezTo>
                    <a:cubicBezTo>
                      <a:pt x="284" y="378"/>
                      <a:pt x="197" y="183"/>
                      <a:pt x="647" y="249"/>
                    </a:cubicBezTo>
                    <a:cubicBezTo>
                      <a:pt x="866" y="276"/>
                      <a:pt x="791" y="175"/>
                      <a:pt x="716" y="138"/>
                    </a:cubicBezTo>
                    <a:cubicBezTo>
                      <a:pt x="575" y="63"/>
                      <a:pt x="317" y="6"/>
                      <a:pt x="182" y="0"/>
                    </a:cubicBezTo>
                    <a:cubicBezTo>
                      <a:pt x="95" y="0"/>
                      <a:pt x="0" y="32"/>
                      <a:pt x="17" y="180"/>
                    </a:cubicBezTo>
                    <a:close/>
                  </a:path>
                </a:pathLst>
              </a:custGeom>
              <a:solidFill>
                <a:srgbClr val="80808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333333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228600" y="3525840"/>
                <a:ext cx="8745120" cy="223920"/>
                <a:chOff x="228600" y="3525840"/>
                <a:chExt cx="8745120" cy="2239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228600" y="3525840"/>
                  <a:ext cx="8745120" cy="2239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70000" y="3589560"/>
                  <a:ext cx="8649360" cy="55800"/>
                </a:xfrm>
                <a:prstGeom prst="rect">
                  <a:avLst/>
                </a:prstGeom>
                <a:solidFill>
                  <a:srgbClr val="80808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9000" bIns="90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120600" y="3435480"/>
                <a:ext cx="8745120" cy="223560"/>
                <a:chOff x="120600" y="3435480"/>
                <a:chExt cx="8745120" cy="223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20600" y="3435480"/>
                  <a:ext cx="8745120" cy="223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525252"/>
                    </a:gs>
                    <a:gs pos="50000">
                      <a:srgbClr val="b2b2b2"/>
                    </a:gs>
                    <a:gs pos="100000">
                      <a:srgbClr val="52525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162000" y="3499200"/>
                  <a:ext cx="8649360" cy="55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b2b2b2"/>
                    </a:gs>
                    <a:gs pos="50000">
                      <a:srgbClr val="e8e8e8"/>
                    </a:gs>
                    <a:gs pos="100000">
                      <a:srgbClr val="b2b2b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8640" bIns="864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54800" y="2772360"/>
                <a:ext cx="2102040" cy="2152080"/>
                <a:chOff x="154800" y="2772360"/>
                <a:chExt cx="2102040" cy="2152080"/>
              </a:xfrm>
            </p:grpSpPr>
            <p:sp>
              <p:nvSpPr>
                <p:cNvPr id="229" name=""/>
                <p:cNvSpPr/>
                <p:nvPr/>
              </p:nvSpPr>
              <p:spPr>
                <a:xfrm rot="17970000">
                  <a:off x="392040" y="3101040"/>
                  <a:ext cx="1627200" cy="1494360"/>
                </a:xfrm>
                <a:custGeom>
                  <a:avLst/>
                  <a:gdLst/>
                  <a:ahLst/>
                  <a:rect l="l" t="t" r="r" b="b"/>
                  <a:pathLst>
                    <a:path w="866" h="795">
                      <a:moveTo>
                        <a:pt x="17" y="180"/>
                      </a:moveTo>
                      <a:cubicBezTo>
                        <a:pt x="49" y="413"/>
                        <a:pt x="206" y="636"/>
                        <a:pt x="284" y="720"/>
                      </a:cubicBezTo>
                      <a:cubicBezTo>
                        <a:pt x="359" y="795"/>
                        <a:pt x="422" y="771"/>
                        <a:pt x="380" y="687"/>
                      </a:cubicBezTo>
                      <a:cubicBezTo>
                        <a:pt x="284" y="378"/>
                        <a:pt x="197" y="183"/>
                        <a:pt x="647" y="249"/>
                      </a:cubicBezTo>
                      <a:cubicBezTo>
                        <a:pt x="866" y="276"/>
                        <a:pt x="791" y="175"/>
                        <a:pt x="716" y="138"/>
                      </a:cubicBezTo>
                      <a:cubicBezTo>
                        <a:pt x="575" y="63"/>
                        <a:pt x="317" y="6"/>
                        <a:pt x="182" y="0"/>
                      </a:cubicBezTo>
                      <a:cubicBezTo>
                        <a:pt x="95" y="0"/>
                        <a:pt x="0" y="32"/>
                        <a:pt x="17" y="180"/>
                      </a:cubicBezTo>
                      <a:close/>
                    </a:path>
                  </a:pathLst>
                </a:custGeom>
                <a:solidFill>
                  <a:srgbClr val="f5cd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 rot="17970000">
                  <a:off x="560880" y="3728520"/>
                  <a:ext cx="367200" cy="1096920"/>
                </a:xfrm>
                <a:custGeom>
                  <a:avLst/>
                  <a:gdLst/>
                  <a:ahLst/>
                  <a:rect l="l" t="t" r="r" b="b"/>
                  <a:pathLst>
                    <a:path w="642" h="1919">
                      <a:moveTo>
                        <a:pt x="209" y="42"/>
                      </a:moveTo>
                      <a:cubicBezTo>
                        <a:pt x="59" y="125"/>
                        <a:pt x="0" y="338"/>
                        <a:pt x="1" y="551"/>
                      </a:cubicBezTo>
                      <a:cubicBezTo>
                        <a:pt x="2" y="764"/>
                        <a:pt x="132" y="1103"/>
                        <a:pt x="218" y="1319"/>
                      </a:cubicBezTo>
                      <a:cubicBezTo>
                        <a:pt x="304" y="1535"/>
                        <a:pt x="462" y="1771"/>
                        <a:pt x="518" y="1845"/>
                      </a:cubicBezTo>
                      <a:cubicBezTo>
                        <a:pt x="574" y="1919"/>
                        <a:pt x="594" y="1892"/>
                        <a:pt x="551" y="1761"/>
                      </a:cubicBezTo>
                      <a:cubicBezTo>
                        <a:pt x="508" y="1630"/>
                        <a:pt x="314" y="1260"/>
                        <a:pt x="259" y="1060"/>
                      </a:cubicBezTo>
                      <a:cubicBezTo>
                        <a:pt x="204" y="860"/>
                        <a:pt x="204" y="704"/>
                        <a:pt x="218" y="559"/>
                      </a:cubicBezTo>
                      <a:cubicBezTo>
                        <a:pt x="232" y="414"/>
                        <a:pt x="300" y="266"/>
                        <a:pt x="343" y="192"/>
                      </a:cubicBezTo>
                      <a:cubicBezTo>
                        <a:pt x="386" y="118"/>
                        <a:pt x="427" y="139"/>
                        <a:pt x="476" y="117"/>
                      </a:cubicBezTo>
                      <a:cubicBezTo>
                        <a:pt x="525" y="95"/>
                        <a:pt x="628" y="76"/>
                        <a:pt x="635" y="58"/>
                      </a:cubicBezTo>
                      <a:cubicBezTo>
                        <a:pt x="642" y="40"/>
                        <a:pt x="569" y="16"/>
                        <a:pt x="518" y="8"/>
                      </a:cubicBezTo>
                      <a:cubicBezTo>
                        <a:pt x="467" y="0"/>
                        <a:pt x="378" y="2"/>
                        <a:pt x="326" y="8"/>
                      </a:cubicBezTo>
                      <a:cubicBezTo>
                        <a:pt x="274" y="14"/>
                        <a:pt x="259" y="0"/>
                        <a:pt x="209" y="42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100000">
                      <a:srgbClr val="b89aa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 rot="17970000">
                  <a:off x="-2520" y="3398400"/>
                  <a:ext cx="1379520" cy="360000"/>
                </a:xfrm>
                <a:custGeom>
                  <a:avLst/>
                  <a:gdLst/>
                  <a:ahLst/>
                  <a:rect l="l" t="t" r="r" b="b"/>
                  <a:pathLst>
                    <a:path w="2411" h="630">
                      <a:moveTo>
                        <a:pt x="11" y="117"/>
                      </a:moveTo>
                      <a:cubicBezTo>
                        <a:pt x="41" y="92"/>
                        <a:pt x="124" y="20"/>
                        <a:pt x="250" y="10"/>
                      </a:cubicBezTo>
                      <a:cubicBezTo>
                        <a:pt x="375" y="0"/>
                        <a:pt x="545" y="18"/>
                        <a:pt x="765" y="58"/>
                      </a:cubicBezTo>
                      <a:cubicBezTo>
                        <a:pt x="986" y="100"/>
                        <a:pt x="1341" y="187"/>
                        <a:pt x="1574" y="256"/>
                      </a:cubicBezTo>
                      <a:cubicBezTo>
                        <a:pt x="1807" y="324"/>
                        <a:pt x="2032" y="415"/>
                        <a:pt x="2162" y="470"/>
                      </a:cubicBezTo>
                      <a:cubicBezTo>
                        <a:pt x="2293" y="525"/>
                        <a:pt x="2336" y="565"/>
                        <a:pt x="2359" y="586"/>
                      </a:cubicBezTo>
                      <a:cubicBezTo>
                        <a:pt x="2383" y="607"/>
                        <a:pt x="2411" y="630"/>
                        <a:pt x="2307" y="601"/>
                      </a:cubicBezTo>
                      <a:cubicBezTo>
                        <a:pt x="2204" y="573"/>
                        <a:pt x="1980" y="481"/>
                        <a:pt x="1741" y="415"/>
                      </a:cubicBezTo>
                      <a:cubicBezTo>
                        <a:pt x="1502" y="351"/>
                        <a:pt x="1100" y="251"/>
                        <a:pt x="874" y="212"/>
                      </a:cubicBezTo>
                      <a:cubicBezTo>
                        <a:pt x="648" y="173"/>
                        <a:pt x="495" y="169"/>
                        <a:pt x="382" y="179"/>
                      </a:cubicBezTo>
                      <a:cubicBezTo>
                        <a:pt x="269" y="189"/>
                        <a:pt x="256" y="269"/>
                        <a:pt x="198" y="270"/>
                      </a:cubicBezTo>
                      <a:cubicBezTo>
                        <a:pt x="140" y="271"/>
                        <a:pt x="62" y="212"/>
                        <a:pt x="31" y="187"/>
                      </a:cubicBezTo>
                      <a:cubicBezTo>
                        <a:pt x="0" y="162"/>
                        <a:pt x="15" y="132"/>
                        <a:pt x="11" y="117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b89aa8"/>
                    </a:gs>
                    <a:gs pos="100000">
                      <a:srgbClr val="f5cd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 rot="17970000">
                  <a:off x="870840" y="3358440"/>
                  <a:ext cx="884880" cy="858600"/>
                </a:xfrm>
                <a:custGeom>
                  <a:avLst/>
                  <a:gdLst/>
                  <a:ahLst/>
                  <a:rect l="l" t="t" r="r" b="b"/>
                  <a:pathLst>
                    <a:path w="1547" h="1502">
                      <a:moveTo>
                        <a:pt x="54" y="275"/>
                      </a:moveTo>
                      <a:cubicBezTo>
                        <a:pt x="112" y="178"/>
                        <a:pt x="177" y="66"/>
                        <a:pt x="388" y="33"/>
                      </a:cubicBezTo>
                      <a:cubicBezTo>
                        <a:pt x="599" y="0"/>
                        <a:pt x="1146" y="55"/>
                        <a:pt x="1323" y="74"/>
                      </a:cubicBezTo>
                      <a:cubicBezTo>
                        <a:pt x="1500" y="93"/>
                        <a:pt x="1547" y="143"/>
                        <a:pt x="1448" y="149"/>
                      </a:cubicBezTo>
                      <a:cubicBezTo>
                        <a:pt x="1349" y="155"/>
                        <a:pt x="920" y="97"/>
                        <a:pt x="730" y="108"/>
                      </a:cubicBezTo>
                      <a:cubicBezTo>
                        <a:pt x="540" y="119"/>
                        <a:pt x="402" y="147"/>
                        <a:pt x="305" y="216"/>
                      </a:cubicBezTo>
                      <a:cubicBezTo>
                        <a:pt x="208" y="285"/>
                        <a:pt x="156" y="373"/>
                        <a:pt x="146" y="525"/>
                      </a:cubicBezTo>
                      <a:cubicBezTo>
                        <a:pt x="136" y="677"/>
                        <a:pt x="214" y="974"/>
                        <a:pt x="246" y="1126"/>
                      </a:cubicBezTo>
                      <a:cubicBezTo>
                        <a:pt x="278" y="1278"/>
                        <a:pt x="332" y="1383"/>
                        <a:pt x="338" y="1435"/>
                      </a:cubicBezTo>
                      <a:cubicBezTo>
                        <a:pt x="344" y="1487"/>
                        <a:pt x="316" y="1502"/>
                        <a:pt x="280" y="1435"/>
                      </a:cubicBezTo>
                      <a:cubicBezTo>
                        <a:pt x="244" y="1368"/>
                        <a:pt x="161" y="1170"/>
                        <a:pt x="121" y="1034"/>
                      </a:cubicBezTo>
                      <a:cubicBezTo>
                        <a:pt x="81" y="898"/>
                        <a:pt x="49" y="743"/>
                        <a:pt x="38" y="617"/>
                      </a:cubicBezTo>
                      <a:cubicBezTo>
                        <a:pt x="27" y="491"/>
                        <a:pt x="0" y="375"/>
                        <a:pt x="54" y="275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5cddf"/>
                    </a:gs>
                    <a:gs pos="50000">
                      <a:srgbClr val="fcf6f9"/>
                    </a:gs>
                    <a:gs pos="100000">
                      <a:srgbClr val="f5cddf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17970000">
                  <a:off x="661680" y="3655440"/>
                  <a:ext cx="526680" cy="521280"/>
                </a:xfrm>
                <a:custGeom>
                  <a:avLst/>
                  <a:gdLst/>
                  <a:ahLst/>
                  <a:rect l="l" t="t" r="r" b="b"/>
                  <a:pathLst>
                    <a:path w="921" h="912">
                      <a:moveTo>
                        <a:pt x="14" y="164"/>
                      </a:moveTo>
                      <a:cubicBezTo>
                        <a:pt x="0" y="66"/>
                        <a:pt x="67" y="0"/>
                        <a:pt x="216" y="33"/>
                      </a:cubicBezTo>
                      <a:cubicBezTo>
                        <a:pt x="419" y="54"/>
                        <a:pt x="487" y="8"/>
                        <a:pt x="871" y="217"/>
                      </a:cubicBezTo>
                      <a:cubicBezTo>
                        <a:pt x="921" y="234"/>
                        <a:pt x="692" y="228"/>
                        <a:pt x="613" y="258"/>
                      </a:cubicBezTo>
                      <a:cubicBezTo>
                        <a:pt x="534" y="288"/>
                        <a:pt x="450" y="347"/>
                        <a:pt x="396" y="400"/>
                      </a:cubicBezTo>
                      <a:cubicBezTo>
                        <a:pt x="342" y="453"/>
                        <a:pt x="309" y="502"/>
                        <a:pt x="287" y="576"/>
                      </a:cubicBezTo>
                      <a:cubicBezTo>
                        <a:pt x="265" y="650"/>
                        <a:pt x="308" y="912"/>
                        <a:pt x="262" y="843"/>
                      </a:cubicBezTo>
                      <a:cubicBezTo>
                        <a:pt x="45" y="626"/>
                        <a:pt x="59" y="295"/>
                        <a:pt x="14" y="16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cf7fa"/>
                    </a:gs>
                    <a:gs pos="100000">
                      <a:srgbClr val="f5cd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333333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22093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3848-6D73-4AEF-834A-2B4705CC6261}" type="slidenum">
              <a:rPr b="0" lang="zh-CN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audio" Target="../media/projctor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glass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.baidu.com/i?ct=503316480&amp;z=36857152&amp;tn=baiduimagedetail&amp;word=&#20313;&#20809;&#20013;&amp;in=48" TargetMode="Externa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audio" Target="../media/glass.wav"/><Relationship Id="rId5" Type="http://schemas.openxmlformats.org/officeDocument/2006/relationships/audio" Target="../media/applaus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laser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  <a:ea typeface="华文隶书"/>
              </a:rPr>
              <a:t>一花一世界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Arial Narrow"/>
                <a:ea typeface="华文隶书"/>
              </a:rPr>
              <a:t>        一沙一天堂</a:t>
            </a:r>
            <a:endParaRPr b="0" lang="en-US" sz="48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609480" y="2057400"/>
            <a:ext cx="7772400" cy="40575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8610480" y="5562720"/>
            <a:ext cx="304920" cy="45720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457200"/>
              <a:gd name="textAreaBottom" fmla="*/ 437760 h 457200"/>
            </a:gdLst>
            <a:ahLst/>
            <a:rect l="textAreaLeft" t="textAreaTop" r="textAreaRight" b="textAreaBottom"/>
            <a:pathLst>
              <a:path w="21600" h="32375">
                <a:moveTo>
                  <a:pt x="0" y="0"/>
                </a:moveTo>
                <a:lnTo>
                  <a:pt x="21600" y="0"/>
                </a:lnTo>
                <a:lnTo>
                  <a:pt x="21600" y="32375"/>
                </a:lnTo>
                <a:lnTo>
                  <a:pt x="0" y="32375"/>
                </a:lnTo>
                <a:close/>
              </a:path>
              <a:path fill="lightenLess" w="21600" h="323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75">
                <a:moveTo>
                  <a:pt x="21600" y="0"/>
                </a:moveTo>
                <a:lnTo>
                  <a:pt x="21600" y="32375"/>
                </a:lnTo>
                <a:lnTo>
                  <a:pt x="20200" y="30975"/>
                </a:lnTo>
                <a:lnTo>
                  <a:pt x="20200" y="1400"/>
                </a:lnTo>
                <a:close/>
              </a:path>
              <a:path fill="darkenLess" w="21600" h="32375">
                <a:moveTo>
                  <a:pt x="21600" y="32375"/>
                </a:moveTo>
                <a:lnTo>
                  <a:pt x="0" y="32375"/>
                </a:lnTo>
                <a:lnTo>
                  <a:pt x="1400" y="30975"/>
                </a:lnTo>
                <a:lnTo>
                  <a:pt x="20200" y="30975"/>
                </a:lnTo>
                <a:close/>
              </a:path>
              <a:path fill="lighten" w="21600" h="32375">
                <a:moveTo>
                  <a:pt x="0" y="323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75"/>
                </a:lnTo>
                <a:close/>
              </a:path>
              <a:path fill="darken" w="21600" h="32375">
                <a:moveTo>
                  <a:pt x="3794" y="12688"/>
                </a:moveTo>
                <a:lnTo>
                  <a:pt x="4707" y="12688"/>
                </a:lnTo>
                <a:lnTo>
                  <a:pt x="5090" y="13054"/>
                </a:lnTo>
                <a:lnTo>
                  <a:pt x="14299" y="13054"/>
                </a:lnTo>
                <a:lnTo>
                  <a:pt x="14856" y="13611"/>
                </a:lnTo>
                <a:lnTo>
                  <a:pt x="14856" y="14159"/>
                </a:lnTo>
                <a:lnTo>
                  <a:pt x="16701" y="14159"/>
                </a:lnTo>
                <a:lnTo>
                  <a:pt x="17067" y="13611"/>
                </a:lnTo>
                <a:lnTo>
                  <a:pt x="17806" y="13611"/>
                </a:lnTo>
                <a:lnTo>
                  <a:pt x="17806" y="18764"/>
                </a:lnTo>
                <a:lnTo>
                  <a:pt x="17067" y="18764"/>
                </a:lnTo>
                <a:lnTo>
                  <a:pt x="16701" y="18215"/>
                </a:lnTo>
                <a:lnTo>
                  <a:pt x="14856" y="18215"/>
                </a:lnTo>
                <a:lnTo>
                  <a:pt x="14856" y="19495"/>
                </a:lnTo>
                <a:lnTo>
                  <a:pt x="5273" y="19495"/>
                </a:lnTo>
                <a:lnTo>
                  <a:pt x="5273" y="15265"/>
                </a:lnTo>
                <a:lnTo>
                  <a:pt x="5090" y="15265"/>
                </a:lnTo>
                <a:lnTo>
                  <a:pt x="4707" y="15630"/>
                </a:lnTo>
                <a:lnTo>
                  <a:pt x="3794" y="15630"/>
                </a:lnTo>
                <a:close/>
              </a:path>
            </a:pathLst>
          </a:custGeom>
          <a:gradFill rotWithShape="0">
            <a:gsLst>
              <a:gs pos="0">
                <a:srgbClr val="f5cddf"/>
              </a:gs>
              <a:gs pos="100000">
                <a:srgbClr val="9cdcda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04760" y="22093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Times New Roman"/>
              </a:rPr>
              <a:t>雨在他的伞上这城市百万人的伞上雨衣上屋上天线上，雨下在基隆港在防波堤在海峡的船上，清明这季雨。</a:t>
            </a:r>
            <a:br>
              <a:rPr sz="4400"/>
            </a:br>
            <a:r>
              <a:rPr b="1" lang="zh-CN" sz="4400" spc="-1" strike="noStrike">
                <a:solidFill>
                  <a:srgbClr val="007572"/>
                </a:solidFill>
                <a:latin typeface="宋体"/>
              </a:rPr>
              <a:t>请将这句不加标点的长句分行写成，你发现了什么？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2437920" y="3886200"/>
            <a:ext cx="5334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13" name=""/>
          <p:cNvSpPr/>
          <p:nvPr/>
        </p:nvSpPr>
        <p:spPr>
          <a:xfrm>
            <a:off x="3276720" y="5486400"/>
            <a:ext cx="144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289400" y="5554800"/>
            <a:ext cx="184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143000" y="762120"/>
            <a:ext cx="822960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雨          在他的伞上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这城市百万人的伞上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雨衣上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屋上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天线上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雨          下在基隆港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在防波堤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在海峡的船上，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33"/>
                </a:solidFill>
                <a:latin typeface="Times New Roman"/>
              </a:rPr>
              <a:t>清明       这季雨。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6248520" y="2133720"/>
            <a:ext cx="2209680" cy="44956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8083440" y="5486400"/>
            <a:ext cx="733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8458200" cy="594360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380880" y="1371600"/>
            <a:ext cx="8763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听听，那冷雨。看看，那冷雨。嗅嗅闻闻，那冷雨，舔舔吧，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那冷雨。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上去有什么感觉？</a:t>
            </a:r>
            <a:r>
              <a:rPr b="0" lang="zh-CN" sz="4800" spc="-1" strike="noStrike">
                <a:solidFill>
                  <a:srgbClr val="333333"/>
                </a:solidFill>
                <a:latin typeface="华文新魏"/>
                <a:ea typeface="华文新魏"/>
              </a:rPr>
              <a:t> 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438280" y="5715000"/>
            <a:ext cx="91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19520" y="5943600"/>
            <a:ext cx="533160" cy="3808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fc9fcb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1219320" y="534960"/>
            <a:ext cx="6705360" cy="609444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8381880" y="3733920"/>
            <a:ext cx="457200" cy="6858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85800"/>
              <a:gd name="textAreaBottom" fmla="*/ 656280 h 685800"/>
            </a:gdLst>
            <a:ahLst/>
            <a:rect l="textAreaLeft" t="textAreaTop" r="textAreaRight" b="textAreaBottom"/>
            <a:pathLst>
              <a:path w="21600" h="32392">
                <a:moveTo>
                  <a:pt x="0" y="0"/>
                </a:moveTo>
                <a:lnTo>
                  <a:pt x="21600" y="0"/>
                </a:lnTo>
                <a:lnTo>
                  <a:pt x="21600" y="32392"/>
                </a:lnTo>
                <a:lnTo>
                  <a:pt x="0" y="32392"/>
                </a:lnTo>
                <a:close/>
              </a:path>
              <a:path fill="lightenLess" w="21600" h="323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92">
                <a:moveTo>
                  <a:pt x="21600" y="0"/>
                </a:moveTo>
                <a:lnTo>
                  <a:pt x="21600" y="32392"/>
                </a:lnTo>
                <a:lnTo>
                  <a:pt x="20200" y="30992"/>
                </a:lnTo>
                <a:lnTo>
                  <a:pt x="20200" y="1400"/>
                </a:lnTo>
                <a:close/>
              </a:path>
              <a:path fill="darkenLess" w="21600" h="32392">
                <a:moveTo>
                  <a:pt x="21600" y="32392"/>
                </a:moveTo>
                <a:lnTo>
                  <a:pt x="0" y="32392"/>
                </a:lnTo>
                <a:lnTo>
                  <a:pt x="1400" y="30992"/>
                </a:lnTo>
                <a:lnTo>
                  <a:pt x="20200" y="30992"/>
                </a:lnTo>
                <a:close/>
              </a:path>
              <a:path fill="lighten" w="21600" h="32392">
                <a:moveTo>
                  <a:pt x="0" y="32392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92"/>
                </a:lnTo>
                <a:close/>
              </a:path>
              <a:path fill="darken" w="21600" h="32392">
                <a:moveTo>
                  <a:pt x="3794" y="12697"/>
                </a:moveTo>
                <a:lnTo>
                  <a:pt x="4707" y="12697"/>
                </a:lnTo>
                <a:lnTo>
                  <a:pt x="5090" y="13062"/>
                </a:lnTo>
                <a:lnTo>
                  <a:pt x="14299" y="13062"/>
                </a:lnTo>
                <a:lnTo>
                  <a:pt x="14856" y="13619"/>
                </a:lnTo>
                <a:lnTo>
                  <a:pt x="14856" y="14168"/>
                </a:lnTo>
                <a:lnTo>
                  <a:pt x="16701" y="14168"/>
                </a:lnTo>
                <a:lnTo>
                  <a:pt x="17067" y="13619"/>
                </a:lnTo>
                <a:lnTo>
                  <a:pt x="17806" y="13619"/>
                </a:lnTo>
                <a:lnTo>
                  <a:pt x="17806" y="18772"/>
                </a:lnTo>
                <a:lnTo>
                  <a:pt x="17067" y="18772"/>
                </a:lnTo>
                <a:lnTo>
                  <a:pt x="16701" y="18224"/>
                </a:lnTo>
                <a:lnTo>
                  <a:pt x="14856" y="18224"/>
                </a:lnTo>
                <a:lnTo>
                  <a:pt x="14856" y="19503"/>
                </a:lnTo>
                <a:lnTo>
                  <a:pt x="5273" y="19503"/>
                </a:lnTo>
                <a:lnTo>
                  <a:pt x="5273" y="15273"/>
                </a:lnTo>
                <a:lnTo>
                  <a:pt x="5090" y="15273"/>
                </a:lnTo>
                <a:lnTo>
                  <a:pt x="4707" y="15639"/>
                </a:lnTo>
                <a:lnTo>
                  <a:pt x="3794" y="15639"/>
                </a:lnTo>
                <a:close/>
              </a:path>
            </a:pathLst>
          </a:custGeom>
          <a:gradFill rotWithShape="0">
            <a:gsLst>
              <a:gs pos="0">
                <a:srgbClr val="f5cddf"/>
              </a:gs>
              <a:gs pos="100000">
                <a:srgbClr val="9cdcda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33"/>
                </a:solidFill>
                <a:latin typeface="Arial Narrow"/>
                <a:ea typeface="华文行楷"/>
              </a:rPr>
              <a:t>只要你打开心扉，</a:t>
            </a:r>
            <a:br>
              <a:rPr sz="4400"/>
            </a:br>
            <a:r>
              <a:rPr b="1" lang="zh-CN" sz="4400" spc="-1" strike="noStrike">
                <a:solidFill>
                  <a:srgbClr val="ff9933"/>
                </a:solidFill>
                <a:latin typeface="Arial Narrow"/>
                <a:ea typeface="华文行楷"/>
              </a:rPr>
              <a:t>                    你会成为美的使者。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 algn="ctr">
              <a:spcBef>
                <a:spcPts val="15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33"/>
                </a:solidFill>
                <a:latin typeface="Arial Narrow"/>
                <a:ea typeface="隶书"/>
              </a:rPr>
              <a:t>发现美</a:t>
            </a:r>
            <a:endParaRPr b="0" lang="en-US" sz="6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ctr">
              <a:spcBef>
                <a:spcPts val="15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33"/>
                </a:solidFill>
                <a:latin typeface="Arial Narrow"/>
                <a:ea typeface="隶书"/>
              </a:rPr>
              <a:t>理解美</a:t>
            </a:r>
            <a:endParaRPr b="0" lang="en-US" sz="6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 algn="ctr">
              <a:spcBef>
                <a:spcPts val="1500"/>
              </a:spcBef>
              <a:buClr>
                <a:srgbClr val="3333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333333"/>
                </a:solidFill>
                <a:latin typeface="Arial Narrow"/>
                <a:ea typeface="隶书"/>
              </a:rPr>
              <a:t>创造美</a:t>
            </a:r>
            <a:endParaRPr b="0" lang="en-US" sz="6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38862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-1889280" y="457200"/>
            <a:ext cx="11033280" cy="132588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-1143000" y="1600200"/>
            <a:ext cx="72230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谢谢，再见！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相城实验中学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陈雁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披文入情  沿波探源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Narrow"/>
                <a:ea typeface="隶书"/>
              </a:rPr>
              <a:t>找出文中写雨的句子，体会这雨有何特点？作者是通过何种方式写雨的？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010120" y="1981080"/>
            <a:ext cx="30862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228600"/>
            <a:ext cx="4114800" cy="39625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266760" y="1143000"/>
            <a:ext cx="54936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6000" y="609480"/>
            <a:ext cx="1003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>
                <a:solidFill>
                  <a:srgbClr val="6600ff"/>
                </a:solidFill>
                <a:latin typeface="Arial Narrow"/>
                <a:ea typeface="华文新魏"/>
              </a:rPr>
              <a:t>知人论世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486400" y="228600"/>
            <a:ext cx="3657600" cy="39625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828800" y="4876920"/>
            <a:ext cx="6705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95280" y="4267080"/>
            <a:ext cx="7543800" cy="291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0064f8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4f8"/>
                </a:solidFill>
                <a:latin typeface="宋体"/>
              </a:rPr>
              <a:t>中国，最美最母亲的国度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64f8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4f8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64f8"/>
                </a:solidFill>
                <a:latin typeface="宋体"/>
              </a:rPr>
              <a:t>要做屈原与李白的传人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64f8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4f8"/>
                </a:solidFill>
                <a:latin typeface="宋体"/>
              </a:rPr>
              <a:t>“</a:t>
            </a:r>
            <a:r>
              <a:rPr b="1" lang="zh-CN" sz="4000" spc="-1" strike="noStrike">
                <a:solidFill>
                  <a:srgbClr val="0064f8"/>
                </a:solidFill>
                <a:latin typeface="宋体"/>
              </a:rPr>
              <a:t>我的血系中有一条黄河的支流”。</a:t>
            </a:r>
            <a:r>
              <a:rPr b="1" lang="zh-CN" sz="4000" spc="-1" strike="noStrike">
                <a:solidFill>
                  <a:srgbClr val="0064f8"/>
                </a:solidFill>
                <a:latin typeface="Arial Narrow"/>
              </a:rPr>
              <a:t>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676160" y="762120"/>
            <a:ext cx="7467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华文行楷"/>
                <a:ea typeface="华文行楷"/>
              </a:rPr>
              <a:t>关于雨的诗句</a:t>
            </a:r>
            <a:r>
              <a:rPr b="0" lang="zh-CN" sz="4400" spc="-1" strike="noStrike">
                <a:solidFill>
                  <a:srgbClr val="007572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371600" y="1447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行楷"/>
                <a:ea typeface="华文行楷"/>
              </a:rPr>
              <a:t>两三点雨山前，七八颗星天外。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行楷"/>
                <a:ea typeface="华文行楷"/>
              </a:rPr>
              <a:t>                              ——</a:t>
            </a:r>
            <a:r>
              <a:rPr b="1" lang="zh-CN" sz="2800" spc="-1" strike="noStrike">
                <a:solidFill>
                  <a:srgbClr val="990000"/>
                </a:solidFill>
                <a:latin typeface="华文行楷"/>
                <a:ea typeface="华文行楷"/>
              </a:rPr>
              <a:t>辛弃疾《西江月》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行楷"/>
                <a:ea typeface="华文行楷"/>
              </a:rPr>
              <a:t>好雨知时节，当春乃发生。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行楷"/>
                <a:ea typeface="华文行楷"/>
              </a:rPr>
              <a:t>                                   ——</a:t>
            </a:r>
            <a:r>
              <a:rPr b="1" lang="zh-CN" sz="2800" spc="-1" strike="noStrike">
                <a:solidFill>
                  <a:srgbClr val="990000"/>
                </a:solidFill>
                <a:latin typeface="华文行楷"/>
                <a:ea typeface="华文行楷"/>
              </a:rPr>
              <a:t>杜甫《春夜喜雨》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行楷"/>
                <a:ea typeface="华文行楷"/>
              </a:rPr>
              <a:t>青箬笠，绿蓑衣，斜风细雨不须归</a:t>
            </a:r>
            <a:r>
              <a:rPr b="1" lang="zh-CN" sz="2800" spc="-1" strike="noStrike">
                <a:solidFill>
                  <a:srgbClr val="990000"/>
                </a:solidFill>
                <a:latin typeface="华文行楷"/>
                <a:ea typeface="华文行楷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行楷"/>
                <a:ea typeface="华文行楷"/>
              </a:rPr>
              <a:t>              ——</a:t>
            </a:r>
            <a:r>
              <a:rPr b="1" lang="zh-CN" sz="2800" spc="-1" strike="noStrike">
                <a:solidFill>
                  <a:srgbClr val="990000"/>
                </a:solidFill>
                <a:latin typeface="华文行楷"/>
                <a:ea typeface="华文行楷"/>
              </a:rPr>
              <a:t>张志和《渔歌子》 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行楷"/>
                <a:ea typeface="华文行楷"/>
              </a:rPr>
              <a:t>清明时节雨纷纷</a:t>
            </a:r>
            <a:r>
              <a:rPr b="1" lang="zh-CN" sz="2800" spc="-1" strike="noStrike">
                <a:solidFill>
                  <a:srgbClr val="990000"/>
                </a:solidFill>
                <a:latin typeface="华文行楷"/>
                <a:ea typeface="华文行楷"/>
              </a:rPr>
              <a:t>,</a:t>
            </a:r>
            <a:r>
              <a:rPr b="1" lang="zh-CN" sz="2800" spc="-1" strike="noStrike">
                <a:solidFill>
                  <a:srgbClr val="990000"/>
                </a:solidFill>
                <a:latin typeface="华文行楷"/>
                <a:ea typeface="华文行楷"/>
              </a:rPr>
              <a:t>路上行人欲断魂。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行楷"/>
                <a:ea typeface="华文行楷"/>
              </a:rPr>
              <a:t>                    ——</a:t>
            </a:r>
            <a:r>
              <a:rPr b="1" lang="zh-CN" sz="2800" spc="-1" strike="noStrike">
                <a:solidFill>
                  <a:srgbClr val="990000"/>
                </a:solidFill>
                <a:latin typeface="华文行楷"/>
                <a:ea typeface="华文行楷"/>
              </a:rPr>
              <a:t>杜牧《清明》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行楷"/>
                <a:ea typeface="华文行楷"/>
              </a:rPr>
              <a:t>一川烟草，满城风絮，梅子黄时雨。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华文行楷"/>
                <a:ea typeface="华文行楷"/>
              </a:rPr>
              <a:t>                  ——</a:t>
            </a:r>
            <a:r>
              <a:rPr b="1" lang="zh-CN" sz="2800" spc="-1" strike="noStrike">
                <a:solidFill>
                  <a:srgbClr val="990000"/>
                </a:solidFill>
                <a:latin typeface="华文行楷"/>
                <a:ea typeface="华文行楷"/>
              </a:rPr>
              <a:t>贺铸《青玉案》</a:t>
            </a:r>
            <a:r>
              <a:rPr b="1" lang="zh-CN" sz="2800" spc="-1" strike="noStrike">
                <a:solidFill>
                  <a:srgbClr val="333333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457200" y="22860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333333"/>
                </a:solidFill>
                <a:latin typeface="华文新魏"/>
                <a:ea typeface="华文新魏"/>
              </a:rPr>
              <a:t>意                                   境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华文新魏"/>
                <a:ea typeface="华文新魏"/>
              </a:rPr>
              <a:t>主观的生命情调   客观的自然景象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华文新魏"/>
                <a:ea typeface="华文新魏"/>
              </a:rPr>
              <a:t>情                                 景（交融）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华文新魏"/>
                <a:ea typeface="华文新魏"/>
              </a:rPr>
              <a:t>虚                                  实（结合）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华文新魏"/>
                <a:ea typeface="华文新魏"/>
              </a:rPr>
              <a:t>神                                   形（皆备）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33"/>
                </a:solidFill>
                <a:latin typeface="华文新魏"/>
                <a:ea typeface="华文新魏"/>
              </a:rPr>
              <a:t>我                                  物（合一）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62120" y="4495680"/>
            <a:ext cx="77724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620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7572"/>
                </a:solidFill>
                <a:latin typeface="华文新魏"/>
                <a:ea typeface="华文新魏"/>
              </a:rPr>
              <a:t>拓展小结</a:t>
            </a:r>
            <a:r>
              <a:rPr b="0" lang="zh-CN" sz="4400" spc="-1" strike="noStrike">
                <a:solidFill>
                  <a:srgbClr val="007572"/>
                </a:solidFill>
                <a:latin typeface="华文新魏"/>
                <a:ea typeface="华文新魏"/>
              </a:rPr>
              <a:t>——</a:t>
            </a:r>
            <a:r>
              <a:rPr b="1" lang="zh-CN" sz="4400" spc="-1" strike="noStrike">
                <a:solidFill>
                  <a:srgbClr val="007572"/>
                </a:solidFill>
                <a:latin typeface="华文新魏"/>
                <a:ea typeface="华文新魏"/>
              </a:rPr>
              <a:t>小组</a:t>
            </a:r>
            <a:r>
              <a:rPr b="0" lang="zh-CN" sz="4400" spc="-1" strike="noStrike">
                <a:solidFill>
                  <a:srgbClr val="007572"/>
                </a:solidFill>
                <a:latin typeface="华文新魏"/>
                <a:ea typeface="华文新魏"/>
              </a:rPr>
              <a:t>探讨</a:t>
            </a:r>
            <a:r>
              <a:rPr b="1" lang="zh-CN" sz="4400" spc="-1" strike="noStrike">
                <a:solidFill>
                  <a:srgbClr val="007572"/>
                </a:solidFill>
                <a:latin typeface="华文新魏"/>
                <a:ea typeface="华文新魏"/>
              </a:rPr>
              <a:t>活动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你认为写景散文的意境取决于什么？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ff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已学过的课文中有这样意境美的文章吗，请举例谈谈。请按这样的要求回答：作者用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的景物创造了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隶书"/>
                <a:ea typeface="隶书"/>
              </a:rPr>
              <a:t>             </a:t>
            </a:r>
            <a:r>
              <a:rPr b="1" lang="zh-CN" sz="4000" spc="-1" strike="noStrike">
                <a:solidFill>
                  <a:srgbClr val="0000ff"/>
                </a:solidFill>
                <a:latin typeface="隶书"/>
                <a:ea typeface="隶书"/>
              </a:rPr>
              <a:t>的意境。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0064f8"/>
                </a:solidFill>
                <a:uFillTx/>
                <a:latin typeface="隶书"/>
                <a:ea typeface="隶书"/>
              </a:rPr>
              <a:t>那冷雨是余光中先生内心乡思的映照。而雨也是中国文人常用的意象，你还知道中国古诗文那些景物也有固定的意象？</a:t>
            </a: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457200" y="380880"/>
            <a:ext cx="8686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宋体"/>
                <a:ea typeface="隶书"/>
              </a:rPr>
              <a:t>慧眼探美</a:t>
            </a:r>
            <a:endParaRPr b="0" lang="en-US" sz="5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隶书"/>
              </a:rPr>
              <a:t>你认为本文还美在何处？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隶书"/>
              </a:rPr>
              <a:t>请从形式方面发现美！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6705360" cy="449568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1905120" y="45720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066680" y="685800"/>
            <a:ext cx="563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333333"/>
                </a:solidFill>
                <a:latin typeface="Times New Roman"/>
                <a:ea typeface="华文新魏"/>
              </a:rPr>
              <a:t>智慧的展示</a:t>
            </a:r>
            <a:endParaRPr b="0" lang="en-US" sz="6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772400" y="609480"/>
            <a:ext cx="1371600" cy="1676520"/>
          </a:xfrm>
          <a:prstGeom prst="irregularSeal1">
            <a:avLst/>
          </a:prstGeom>
          <a:gradFill rotWithShape="0">
            <a:gsLst>
              <a:gs pos="0">
                <a:srgbClr val="f5cddf"/>
              </a:gs>
              <a:gs pos="100000">
                <a:srgbClr val="9cdcda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修辞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43800" y="2286000"/>
            <a:ext cx="1600200" cy="1447920"/>
          </a:xfrm>
          <a:prstGeom prst="irregularSeal1">
            <a:avLst/>
          </a:prstGeom>
          <a:gradFill rotWithShape="0">
            <a:gsLst>
              <a:gs pos="0">
                <a:srgbClr val="f5cddf"/>
              </a:gs>
              <a:gs pos="100000">
                <a:srgbClr val="9cdcda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叠词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96080" y="3733920"/>
            <a:ext cx="1447920" cy="2286000"/>
          </a:xfrm>
          <a:prstGeom prst="irregularSeal1">
            <a:avLst/>
          </a:prstGeom>
          <a:gradFill rotWithShape="0">
            <a:gsLst>
              <a:gs pos="0">
                <a:srgbClr val="f5cddf"/>
              </a:gs>
              <a:gs pos="100000">
                <a:srgbClr val="9cdcda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64f8"/>
                </a:solidFill>
                <a:uFillTx/>
                <a:latin typeface="Times New Roman"/>
              </a:rPr>
              <a:t>句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43800" y="5943600"/>
            <a:ext cx="1371600" cy="914400"/>
          </a:xfrm>
          <a:prstGeom prst="irregularSeal1">
            <a:avLst/>
          </a:prstGeom>
          <a:gradFill rotWithShape="0">
            <a:gsLst>
              <a:gs pos="0">
                <a:srgbClr val="f5cddf"/>
              </a:gs>
              <a:gs pos="100000">
                <a:srgbClr val="9cdcda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33"/>
                </a:solidFill>
                <a:latin typeface="Times New Roman"/>
              </a:rPr>
              <a:t>诗意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352680" y="6248520"/>
            <a:ext cx="4572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19920" y="990720"/>
            <a:ext cx="533160" cy="380880"/>
          </a:xfrm>
          <a:custGeom>
            <a:avLst/>
            <a:gdLst>
              <a:gd name="textAreaLeft" fmla="*/ 24480 w 533160"/>
              <a:gd name="textAreaRight" fmla="*/ 508680 w 5331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15114" y="3837"/>
                </a:moveTo>
                <a:lnTo>
                  <a:pt x="17690" y="6448"/>
                </a:ln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lnTo>
                  <a:pt x="22077" y="10800"/>
                </a:lnTo>
                <a:lnTo>
                  <a:pt x="20423" y="10800"/>
                </a:lnTo>
                <a:lnTo>
                  <a:pt x="20423" y="17989"/>
                </a:lnTo>
                <a:lnTo>
                  <a:pt x="9805" y="17989"/>
                </a:lnTo>
                <a:lnTo>
                  <a:pt x="9805" y="10800"/>
                </a:lnTo>
                <a:lnTo>
                  <a:pt x="8151" y="10800"/>
                </a:lnTo>
                <a:close/>
              </a:path>
              <a:path fill="darkenLess" w="30228" h="21600">
                <a:moveTo>
                  <a:pt x="17690" y="6448"/>
                </a:moveTo>
                <a:lnTo>
                  <a:pt x="17690" y="4707"/>
                </a:lnTo>
                <a:lnTo>
                  <a:pt x="19466" y="4707"/>
                </a:lnTo>
                <a:lnTo>
                  <a:pt x="19466" y="8224"/>
                </a:lnTo>
                <a:close/>
              </a:path>
              <a:path fill="darkenLess" w="30228" h="21600">
                <a:moveTo>
                  <a:pt x="14191" y="14299"/>
                </a:moveTo>
                <a:lnTo>
                  <a:pt x="16036" y="14299"/>
                </a:lnTo>
                <a:lnTo>
                  <a:pt x="16036" y="17989"/>
                </a:lnTo>
                <a:lnTo>
                  <a:pt x="20423" y="17989"/>
                </a:lnTo>
                <a:lnTo>
                  <a:pt x="20423" y="10800"/>
                </a:lnTo>
                <a:lnTo>
                  <a:pt x="9805" y="10800"/>
                </a:lnTo>
                <a:lnTo>
                  <a:pt x="9805" y="17989"/>
                </a:lnTo>
                <a:lnTo>
                  <a:pt x="14191" y="17989"/>
                </a:lnTo>
                <a:close/>
              </a:path>
            </a:pathLst>
          </a:custGeom>
          <a:gradFill rotWithShape="0">
            <a:gsLst>
              <a:gs pos="0">
                <a:srgbClr val="f5cddf"/>
              </a:gs>
              <a:gs pos="100000">
                <a:srgbClr val="9cdcda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286000" y="6172200"/>
            <a:ext cx="1143000" cy="685800"/>
          </a:xfrm>
          <a:prstGeom prst="irregularSeal1">
            <a:avLst/>
          </a:prstGeom>
          <a:gradFill rotWithShape="0">
            <a:gsLst>
              <a:gs pos="0">
                <a:srgbClr val="f5cddf"/>
              </a:gs>
              <a:gs pos="100000">
                <a:srgbClr val="9cdcda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43400" y="6248520"/>
            <a:ext cx="1600200" cy="380880"/>
          </a:xfrm>
          <a:prstGeom prst="irregularSeal1">
            <a:avLst/>
          </a:prstGeom>
          <a:gradFill rotWithShape="0">
            <a:gsLst>
              <a:gs pos="0">
                <a:srgbClr val="f5cddf"/>
              </a:gs>
              <a:gs pos="100000">
                <a:srgbClr val="9cdcda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dcd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685800" y="685800"/>
            <a:ext cx="7772400" cy="55627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ff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 Narrow"/>
                <a:ea typeface="隶书"/>
              </a:rPr>
              <a:t>尋尋覓覓，冷冷清清，淒悽慘慘慼慼。乍暖還寒時候，最難將息。三杯兩盞淡酒，怎敵他曉來風急。雁過也，正傷心，卻是舊時相識。</a:t>
            </a:r>
            <a:endParaRPr b="0" lang="en-US" sz="48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title"/>
          </p:nvPr>
        </p:nvSpPr>
        <p:spPr>
          <a:xfrm>
            <a:off x="837720" y="6091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李清照</a:t>
            </a:r>
            <a:br>
              <a:rPr sz="4400"/>
            </a:b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华文新魏"/>
              </a:rPr>
              <a:t>《声声慢》</a:t>
            </a:r>
            <a:endParaRPr b="0" lang="en-US" sz="4400" spc="-1" strike="noStrike">
              <a:solidFill>
                <a:srgbClr val="007572"/>
              </a:solidFill>
              <a:latin typeface="Arial Narrow"/>
            </a:endParaRPr>
          </a:p>
        </p:txBody>
      </p:sp>
      <p:sp>
        <p:nvSpPr>
          <p:cNvPr id="310" name="">
            <a:hlinkClick r:id="" action="ppaction://hlinkshowjump?jump=previousslide"/>
          </p:cNvPr>
          <p:cNvSpPr/>
          <p:nvPr/>
        </p:nvSpPr>
        <p:spPr>
          <a:xfrm>
            <a:off x="8610480" y="39625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gradFill rotWithShape="0">
            <a:gsLst>
              <a:gs pos="0">
                <a:srgbClr val="f5cddf"/>
              </a:gs>
              <a:gs pos="100000">
                <a:srgbClr val="9cdcda"/>
              </a:gs>
            </a:gsLst>
            <a:lin ang="5400000"/>
          </a:gra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8T01:55:25Z</dcterms:created>
  <dc:creator>Administrator</dc:creator>
  <dc:description/>
  <dc:language>en-US</dc:language>
  <cp:lastModifiedBy>zmj</cp:lastModifiedBy>
  <dcterms:modified xsi:type="dcterms:W3CDTF">2012-02-29T14:47:53Z</dcterms:modified>
  <cp:revision>39</cp:revision>
  <dc:subject/>
  <dc:title>一花一世界         一沙一天堂</dc:title>
</cp:coreProperties>
</file>