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6.gif" ContentType="image/gif"/>
  <Override PartName="/ppt/media/image10.gif" ContentType="image/gif"/>
  <Override PartName="/ppt/media/image5.gif" ContentType="image/gif"/>
  <Override PartName="/ppt/media/image8.png" ContentType="image/png"/>
  <Override PartName="/ppt/media/image14.jpeg" ContentType="image/jpeg"/>
  <Override PartName="/ppt/media/image4.gif" ContentType="image/gif"/>
  <Override PartName="/ppt/media/image22.jpeg" ContentType="image/jpeg"/>
  <Override PartName="/ppt/media/image12.png" ContentType="image/png"/>
  <Override PartName="/ppt/media/image20.jpeg" ContentType="image/jpeg"/>
  <Override PartName="/ppt/media/image3.gif" ContentType="image/gif"/>
  <Override PartName="/ppt/media/image27.jpeg" ContentType="image/jpeg"/>
  <Override PartName="/ppt/media/image26.jpeg" ContentType="image/jpeg"/>
  <Override PartName="/ppt/media/image19.png" ContentType="image/png"/>
  <Override PartName="/ppt/media/image25.jpeg" ContentType="image/jpeg"/>
  <Override PartName="/ppt/media/image24.jpeg" ContentType="image/jpeg"/>
  <Override PartName="/ppt/media/image1.gif" ContentType="image/gif"/>
  <Override PartName="/ppt/media/image21.jpeg" ContentType="image/jpeg"/>
  <Override PartName="/ppt/media/image16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5D019-7833-4014-BDD7-93D846ED7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0393-9673-487D-996D-101862274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D382-2090-4378-8735-2B287BEC2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7DF-645E-4212-9E40-8389D984F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6BB3-8F52-4C6D-9CEC-165254E5D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DB96-5B00-40BB-AD27-8D2B5B27F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B829-8897-4EEB-9C3A-84621543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F65-911B-477D-9943-F0068FFF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C4C8-B8F8-43B7-AF23-D48FBDAF8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4E2D-D1D5-4A75-BBC2-731223B8A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5953-FA51-482C-B046-FCB379123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720-D44A-462C-A03C-7BAE22F0E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E81-FE3F-4564-88B9-CE95EF2694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34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7.xml"/><Relationship Id="rId3" Type="http://schemas.openxmlformats.org/officeDocument/2006/relationships/slide" Target="slide34.xml"/><Relationship Id="rId4" Type="http://schemas.openxmlformats.org/officeDocument/2006/relationships/slide" Target="slide24.xml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" Target="slide35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981080" y="762120"/>
            <a:ext cx="549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119120" y="457200"/>
            <a:ext cx="261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ff"/>
                </a:solidFill>
                <a:latin typeface="Times New Roman"/>
                <a:ea typeface="隶书"/>
              </a:rPr>
              <a:t>听听那冷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28600" y="0"/>
            <a:ext cx="89154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乡  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余光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小时候，乡愁是一枚小小的邮票，我在这头，母亲在那头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   　长大后，乡愁是一张窄窄的船票，我在这头，新娘在那头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   　后来呵，乡愁是一方矮矮的坟墓，我在外头，母亲在里头。</a:t>
            </a:r>
            <a:br>
              <a:rPr sz="3600"/>
            </a:br>
            <a:r>
              <a:rPr b="1" lang="zh-CN" sz="3600" spc="-1" strike="noStrike">
                <a:solidFill>
                  <a:srgbClr val="ffff00"/>
                </a:solidFill>
                <a:latin typeface="隶书"/>
                <a:ea typeface="隶书"/>
              </a:rPr>
              <a:t>   　而现在，乡愁是一湾浅浅的海峡，我在这头，大陆在那头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3040" y="-4884480"/>
            <a:ext cx="986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685440"/>
            <a:ext cx="39657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乡愁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》    </a:t>
            </a:r>
            <a:r>
              <a:rPr b="1" lang="zh-CN" sz="1600" spc="-1" strike="noStrike">
                <a:solidFill>
                  <a:srgbClr val="000099"/>
                </a:solidFill>
                <a:latin typeface="Times New Roman"/>
                <a:ea typeface="楷体_GB2312"/>
              </a:rPr>
              <a:t>余光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小时侯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是一枚小小的邮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这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在那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长大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是一张窄窄的船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这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新娘在那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后来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是一方矮矮的坟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外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母亲在里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而现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乡愁是一湾浅浅的海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在这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陆在那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213000" y="2701800"/>
            <a:ext cx="3984840" cy="2417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114800" y="914400"/>
            <a:ext cx="4572000" cy="4952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8305920" y="6019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2080" cy="52578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3581280" y="3429000"/>
            <a:ext cx="2732040" cy="3429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00600" y="0"/>
            <a:ext cx="4343400" cy="34066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7744680" y="3429000"/>
            <a:ext cx="1399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华文行楷"/>
              </a:rPr>
              <a:t>他们倾吐乡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2120" y="5410080"/>
            <a:ext cx="220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余光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343200" y="4267080"/>
            <a:ext cx="7290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张晓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86200" y="457200"/>
            <a:ext cx="609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林海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1219320" y="1066680"/>
            <a:ext cx="2800080" cy="109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华文行楷"/>
              </a:rPr>
              <a:t>有音韵的雨季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70" name=""/>
          <p:cNvSpPr/>
          <p:nvPr/>
        </p:nvSpPr>
        <p:spPr>
          <a:xfrm>
            <a:off x="2895480" y="2438280"/>
            <a:ext cx="50292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在日式的古屋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在大陆的瓦屋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在王禹偁的竹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cc"/>
                </a:solidFill>
                <a:latin typeface="Times New Roman"/>
                <a:ea typeface="华文行楷"/>
              </a:rPr>
              <a:t>在蒋捷的词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2120" y="0"/>
            <a:ext cx="7619760" cy="853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珍妮的辫子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[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余光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]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当初我认识珍妮的时候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她还是一个很小的姑娘，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长的辫子飘在背后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像一对梦幻的翅膀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那是很久，很久的事了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我很久，很久没见过她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人家说珍妮已经长大了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长长的辫子变成卷发。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昨天在街上我遇见珍妮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她抛我一朵鲜红的微笑，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但是我差一点哭出声来，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珍妮的辫子哪儿去了？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85800" y="380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隶书"/>
              </a:rPr>
              <a:t>作者介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120" y="1371600"/>
            <a:ext cx="7619760" cy="354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余光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中国文坛杰出的诗人与散文家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en-US" sz="2800" spc="-1" strike="noStrike">
                <a:solidFill>
                  <a:srgbClr val="0000ff"/>
                </a:solidFill>
                <a:latin typeface="幼圆"/>
                <a:ea typeface="幼圆"/>
              </a:rPr>
              <a:t>1928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年生于南京，祖籍福建永春，母亲原籍江苏武进，故他也自称“江南人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余光中热爱中国传统文化，热爱中国。他说“中国，最美最母亲的国度”，“我的血系中有一条黄河的支流。”“蓝墨水的上游是汨罗江”，自己“要做屈原和李白的传人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284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613720" cy="52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幼圆"/>
              </a:rPr>
              <a:t>余光中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，台湾作家、诗人、评论家，祖籍福建，自称“左手写诗，右手写散文”，他被称为台湾现代派“十大诗人”之一，曾有很多时间在欧美和香港游历。他的著名诗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乡愁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传遍华人世界，还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望乡的牧神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民歌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等，散文有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沙田山居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》《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听听那冷雨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914400" y="990720"/>
            <a:ext cx="746748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掉头一去是风吹乌发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回首再来已雪满白头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当年离开内地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乃此生最大伤痛。幸好那时我已</a:t>
            </a:r>
            <a:r>
              <a:rPr b="0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1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岁，故土的回忆，文化的濡染已经深长，所以日后的欧风美雨都不能夺走我的汉唐魂魄。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981080" y="762120"/>
            <a:ext cx="549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79000" y="304920"/>
            <a:ext cx="261828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听听那</a:t>
            </a:r>
            <a:r>
              <a:rPr b="0" lang="zh-CN" sz="8000" spc="-1" strike="noStrike">
                <a:solidFill>
                  <a:srgbClr val="3333cc"/>
                </a:solidFill>
                <a:latin typeface="Times New Roman"/>
                <a:ea typeface="华文隶书"/>
              </a:rPr>
              <a:t>冷</a:t>
            </a:r>
            <a:r>
              <a:rPr b="0" lang="zh-CN" sz="8000" spc="-1" strike="noStrike">
                <a:solidFill>
                  <a:srgbClr val="000000"/>
                </a:solidFill>
                <a:latin typeface="Times New Roman"/>
                <a:ea typeface="隶书"/>
              </a:rPr>
              <a:t>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3276720"/>
            <a:ext cx="228600" cy="144756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48320" y="3200400"/>
            <a:ext cx="23619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雨的凄冷（景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648320" y="4343400"/>
            <a:ext cx="2438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情的凄凉（情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838080"/>
            <a:ext cx="5029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幼圆"/>
              </a:rPr>
              <a:t>冷”字用在这里合适吗？如果我换成“苦”或“寒”好不好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3962520"/>
            <a:ext cx="1066680" cy="0"/>
          </a:xfrm>
          <a:prstGeom prst="line">
            <a:avLst/>
          </a:prstGeom>
          <a:ln w="34920">
            <a:solidFill>
              <a:srgbClr val="99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5181480"/>
            <a:ext cx="5791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幼圆"/>
              </a:rPr>
              <a:t>给人一种凄凉迷蒙的景象，表达作者无限的思乡之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evt="end">
                                        <p:tn val="121"/>
                                      </p:cond>
                                    </p:stCondLst>
                                  </p:cTn>
                                  <p:tgtEl>
                                    <p:spTgt spid="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1" dur="1" fill="hold">
                                    <p:stCondLst>
                                      <p:cond evt="end">
                                        <p:tn val="127"/>
                                      </p:cond>
                                    </p:stCondLst>
                                  </p:cTn>
                                  <p:tgtEl>
                                    <p:spTgt spid="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35000" y="-437400"/>
            <a:ext cx="7423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雨的凄冷      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冷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的凄冷      情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景   ＋   情            意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由景生发出的绵绵乡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14600" y="236232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41911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6176520" y="380880"/>
            <a:ext cx="26182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ff"/>
                </a:solidFill>
                <a:latin typeface="Arial"/>
                <a:ea typeface="隶书"/>
              </a:rPr>
              <a:t>听听那冷雨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1520" y="5562720"/>
            <a:ext cx="1752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余光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-3049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38080" y="38088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  <a:ea typeface="隶书"/>
              </a:rPr>
              <a:t>作者在不同的地方看雨、听雨、体会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06668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时      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2971800"/>
            <a:ext cx="365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7524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810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台北街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175248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走入霏霏细雨，想入非非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9880" y="220968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品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81480" y="22096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汉字寄情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266688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嗅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266688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嗅春雨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情思涌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30481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观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105520" y="31240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观台北云雨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走入历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358128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057400" y="3581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美国落基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81480" y="35812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难睹云情雨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86200" y="4038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隶书"/>
              </a:rPr>
              <a:t>听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4038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大陆秋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回首人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4495680"/>
            <a:ext cx="289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屋瓦雨乐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品柔和情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81480" y="49528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日式古屋中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感秋意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思故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5410080"/>
            <a:ext cx="34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听雨在公寓时代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雨乐成绝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0199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057400" y="6019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台北街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62520" y="6019920"/>
            <a:ext cx="464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梦醒时分</a:t>
            </a:r>
            <a:r>
              <a:rPr b="1" lang="en-US" sz="20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2000" spc="-1" strike="noStrike">
                <a:solidFill>
                  <a:srgbClr val="000000"/>
                </a:solidFill>
                <a:latin typeface="隶书"/>
                <a:ea typeface="隶书"/>
              </a:rPr>
              <a:t>雨雾中体味深深的家国之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24280" y="10666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回想体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9480" y="13716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昔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今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8600" y="26668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眼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回忆联想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眼前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182880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时间与空间，历史与现实，眼前与回忆</a:t>
            </a: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交融汇合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0384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现实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历史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现实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329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114800" y="12193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5400" spc="-1" strike="noStrike">
                <a:solidFill>
                  <a:srgbClr val="000000"/>
                </a:solidFill>
                <a:latin typeface="隶书"/>
                <a:ea typeface="隶书"/>
              </a:rPr>
              <a:t>雨网斜织    满纸离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365760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隶书"/>
              </a:rPr>
              <a:t>难遣的家园之思，难舍的文化恋慕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8380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ffff"/>
                </a:solidFill>
                <a:latin typeface="隶书"/>
                <a:ea typeface="隶书"/>
              </a:rPr>
              <a:t>雨</a:t>
            </a:r>
            <a:r>
              <a:rPr b="0" lang="zh-CN" sz="96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34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0" y="-152280"/>
            <a:ext cx="9144000" cy="701028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981080" y="762120"/>
            <a:ext cx="54936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13716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2438280"/>
            <a:ext cx="8610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ff"/>
                </a:solidFill>
                <a:latin typeface="Times New Roman"/>
                <a:ea typeface="华文隶书"/>
              </a:rPr>
              <a:t>鉴赏“听雨”的意境之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8381880" y="61722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9" dur="1" fill="hold">
                                    <p:stCondLst>
                                      <p:cond evt="end">
                                        <p:tn val="346"/>
                                      </p:cond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0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51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4" dur="1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52280" y="228600"/>
            <a:ext cx="87631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雨不但可嗅，可亲，更可以听。听听那冷雨。听雨，只要不是石破天惊的台风暴雨，在听觉上总是一种美感。大陆上的秋天，无论是疏雨滴梧桐，或是骤雨打荷叶，听去总有一点凄凉，凄清，凄楚，于今在岛上回味，则在凄楚之外，再笼上一层凄迷了，饶你多少豪情侠气，怕也经不起三番五次的风吹雨打。一打少年听雨，红烛昏沉。再打中年听雨，客舟中江阔云低。三打白头听雨的僧庐下，这更是亡宋之痛，一颗敏感心灵的一生：楼上，江上，庙里，用冷冷的雨珠子串成。十年前，他曾在一场摧心折骨的鬼雨中迷失了自己。雨，该是一滴湿漓漓的灵魂，窗外在喊谁。</a:t>
            </a:r>
            <a:br>
              <a:rPr sz="3200"/>
            </a:br>
            <a:br>
              <a:rPr sz="32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315200" y="1143000"/>
            <a:ext cx="457200" cy="45720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1143000"/>
            <a:ext cx="457200" cy="457200"/>
          </a:xfrm>
          <a:prstGeom prst="ellipse">
            <a:avLst/>
          </a:prstGeom>
          <a:noFill/>
          <a:ln w="2844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1600200"/>
            <a:ext cx="914400" cy="45720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1523880"/>
            <a:ext cx="990360" cy="53352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520" y="1981080"/>
            <a:ext cx="838080" cy="45720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0" y="1523880"/>
            <a:ext cx="914400" cy="53352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172200" y="4114800"/>
            <a:ext cx="533520" cy="45720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72200" y="4648320"/>
            <a:ext cx="266688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920" y="5029200"/>
            <a:ext cx="3809880" cy="0"/>
          </a:xfrm>
          <a:prstGeom prst="line">
            <a:avLst/>
          </a:prstGeom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600200"/>
            <a:ext cx="8305560" cy="0"/>
          </a:xfrm>
          <a:prstGeom prst="line">
            <a:avLst/>
          </a:prstGeom>
          <a:ln w="25560">
            <a:solidFill>
              <a:srgbClr val="cc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1981080"/>
            <a:ext cx="495288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1880" y="3733920"/>
            <a:ext cx="38124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4114800"/>
            <a:ext cx="6019920" cy="0"/>
          </a:xfrm>
          <a:prstGeom prst="line">
            <a:avLst/>
          </a:prstGeom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352680" y="3657600"/>
            <a:ext cx="838440" cy="53352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438280"/>
            <a:ext cx="5029200" cy="0"/>
          </a:xfrm>
          <a:prstGeom prst="line">
            <a:avLst/>
          </a:prstGeom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1981080"/>
            <a:ext cx="838080" cy="457200"/>
          </a:xfrm>
          <a:prstGeom prst="ellipse">
            <a:avLst/>
          </a:prstGeom>
          <a:noFill/>
          <a:ln w="255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638680" y="2819520"/>
            <a:ext cx="327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3276720"/>
            <a:ext cx="8381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3733920"/>
            <a:ext cx="7772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305920" y="6095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7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418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1" dur="1" fill="hold"/>
                                        <p:tgtEl>
                                          <p:spTgt spid="1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52280" y="228600"/>
            <a:ext cx="6400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 Unicode MS"/>
                <a:ea typeface="华文行楷"/>
              </a:rPr>
              <a:t>总结：鉴赏散文意境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2590920"/>
            <a:ext cx="236232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鉴赏散文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意境之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362320" y="1905120"/>
            <a:ext cx="914400" cy="3504960"/>
          </a:xfrm>
          <a:custGeom>
            <a:avLst/>
            <a:gdLst>
              <a:gd name="textAreaLeft" fmla="*/ 584280 w 914400"/>
              <a:gd name="textAreaRight" fmla="*/ 914760 w 914400"/>
              <a:gd name="textAreaTop" fmla="*/ 91080 h 3504960"/>
              <a:gd name="textAreaBottom" fmla="*/ 3413880 h 3504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5029200"/>
            <a:ext cx="5105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三）展开想象，领会文章的神韵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1676520"/>
            <a:ext cx="49528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一）感知意象，把握景物特点（调动各种感官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276720"/>
            <a:ext cx="5333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（二）揣摩语言，体悟蕴藉的感情（修辞、句式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rId2" action="ppaction://hlinksldjump"/>
          </p:cNvPr>
          <p:cNvSpPr/>
          <p:nvPr/>
        </p:nvSpPr>
        <p:spPr>
          <a:xfrm>
            <a:off x="876312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14299" y="12962"/>
                </a:moveTo>
                <a:lnTo>
                  <a:pt x="3794" y="19969"/>
                </a:lnTo>
                <a:lnTo>
                  <a:pt x="3794" y="5956"/>
                </a:lnTo>
                <a:close/>
              </a:path>
              <a:path fill="darken" w="21600" h="25924">
                <a:moveTo>
                  <a:pt x="16144" y="5956"/>
                </a:moveTo>
                <a:lnTo>
                  <a:pt x="16144" y="19969"/>
                </a:lnTo>
                <a:lnTo>
                  <a:pt x="17806" y="19969"/>
                </a:lnTo>
                <a:lnTo>
                  <a:pt x="17806" y="5956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96760" y="609120"/>
            <a:ext cx="756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找一些文中的词语、句子，我们一起来鉴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685800" y="2373480"/>
            <a:ext cx="3816360" cy="3330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148360" y="4292640"/>
            <a:ext cx="3657600" cy="232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6012000" y="1916280"/>
            <a:ext cx="2396880" cy="1981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120" y="685440"/>
            <a:ext cx="8232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、第一小节的前半部分，这段文字中的叠词很多，有什么作用呢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590920"/>
            <a:ext cx="86169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料料峭峭 ”“淋淋漓漓 ”“淅淅沥沥 ”“天潮潮地湿湿 ”“走入霏霏令人更想入非非 ”“凄凄切切 ”等词把雨的特点刻画得淋漓尽致，雨的缠绵、细蜜、柔情等溢于言表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叠音叠词有轻音乐的美感，连缀这些可以组成另一幅图景，一首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ru"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1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8156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cc0000"/>
                </a:solidFill>
                <a:latin typeface="华文新魏"/>
                <a:ea typeface="华文新魏"/>
              </a:rPr>
              <a:t>第一小节中的“整个中国整部中国的历史无非是一张黑白片子”这句话如何理解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2384280"/>
            <a:ext cx="7772400" cy="37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审视中国近代的历史，我们都会感到非常悲痛，确实是“一张黑白片子，片头到片尾，一直是这样下着雨的”。我们历史的概念里面有的是悲凉、悲伤的概念。在痛定思痛的时候，我们就是反思，如果历史允许重新书写的时候，我们的中国应该怎么办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35000" y="609120"/>
            <a:ext cx="7423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文中的“杏花。春雨。江南。六个方块字，或许那片土就在那里面”怎么理解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汉字是中华民族的历史见证，它是我们赖以生存的精神土壤。学汉语就像登山，越往高攀，意境越美；学方块字就像探险，越往深处，风光越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26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61760"/>
            <a:ext cx="8156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、第五小节开头“雨不但可嗅，可观，更可以听。</a:t>
            </a:r>
            <a:r>
              <a:rPr b="1" lang="en-US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……</a:t>
            </a:r>
            <a:r>
              <a:rPr b="1" lang="zh-CN" sz="2800" spc="-1" strike="noStrike">
                <a:solidFill>
                  <a:srgbClr val="cc0000"/>
                </a:solidFill>
                <a:latin typeface="华文新魏"/>
                <a:ea typeface="华文新魏"/>
              </a:rPr>
              <a:t>于今在岛上回味，则在凄楚之外，更笼上一层凄迷了”这里面的寓意深刻，能否指出来一些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2590920"/>
            <a:ext cx="854064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雨可嗅，有故乡的泥土气息，觉得温馨；雨可观，可以产生无尽的灵感，让人心动；雨可听，能听出灵感，听出美丽的故乡的神韵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磁石一般的向心力当必然长在。因为没有乡情，就会凄凉、凄清、凄楚、凄迷，做什么都神不守舍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幼圆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336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写作思路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620640"/>
            <a:ext cx="8236080" cy="20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色彩          美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割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听听那冷雨         感觉          心境               不断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乡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4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                           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内涵          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2590920" y="1447920"/>
            <a:ext cx="76176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0920" y="2209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90920" y="2209680"/>
            <a:ext cx="6858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67080" y="13716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267080" y="304812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 flipV="1">
            <a:off x="5943600" y="1295280"/>
            <a:ext cx="1295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019920" y="220968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>
            <a:off x="6019920" y="2209680"/>
            <a:ext cx="121896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267080" y="2209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260360" y="3789360"/>
            <a:ext cx="6624720" cy="2589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304920" y="228600"/>
            <a:ext cx="41907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Arial Unicode MS"/>
                <a:ea typeface="华文行楷"/>
              </a:rPr>
              <a:t>思考、探究</a:t>
            </a:r>
            <a:r>
              <a:rPr b="1" lang="zh-CN" sz="28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9144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3886200"/>
            <a:ext cx="853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、此词从“听雨”这一独特视角，表现了诗人少年、壮年、晚年三个人生阶段不同境遇、 不同况味的不同感受。请分别将它们写出来。</a:t>
            </a:r>
            <a:r>
              <a:rPr b="1" lang="zh-CN" sz="20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536256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、余光中为什么要引用蒋捷的这首词呢？结合选段谈谈你的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5800" y="762120"/>
            <a:ext cx="7924680" cy="17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虞美人  听雨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蒋捷   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少年听雨歌楼上，红烛昏罗帐。壮年听雨客舟中，江阔云低、断雁叫西风。     而今听雨僧庐下，鬓已星星也！悲欢离合总无情，一任阶前、点滴到天明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228600" y="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楷体"/>
                <a:ea typeface="华文楷体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Arial Unicode MS"/>
                <a:ea typeface="华文行楷"/>
              </a:rPr>
              <a:t>思考、探究</a:t>
            </a:r>
            <a:r>
              <a:rPr b="1" lang="zh-CN" sz="2800" spc="-1" strike="noStrike">
                <a:solidFill>
                  <a:srgbClr val="cc0000"/>
                </a:solidFill>
                <a:latin typeface="华文楷体"/>
                <a:ea typeface="华文楷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9144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2280" y="533520"/>
            <a:ext cx="861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(1)“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少年听雨”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: 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少年听雨”的画面，传达出春风骀荡的欢乐情怀。着力渲染的正是  “不识愁滋味”的青春风华。而又枯槁的身心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(2)“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壮年听雨”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: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壮年听雨”的画面，映现出在风雨飘摇中颠沛流离的坎坷遭际和悲凉   心境。</a:t>
            </a:r>
            <a:br>
              <a:rPr sz="3600"/>
            </a:b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(3)“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而今听雨”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: 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“</a:t>
            </a:r>
            <a:r>
              <a:rPr b="0" lang="zh-CN" sz="36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而今听雨”的画面，则刻意凸现出僧庐之冷寂与鬓发之斑白，借以展  示晚年历尽离乱后的憔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28600" y="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楷体"/>
                <a:ea typeface="华文楷体"/>
              </a:rPr>
              <a:t>【</a:t>
            </a:r>
            <a:r>
              <a:rPr b="1" lang="zh-CN" sz="2800" spc="-1" strike="noStrike">
                <a:solidFill>
                  <a:srgbClr val="cc0000"/>
                </a:solidFill>
                <a:latin typeface="Arial Unicode MS"/>
                <a:ea typeface="华文行楷"/>
              </a:rPr>
              <a:t>思考、探究</a:t>
            </a:r>
            <a:r>
              <a:rPr b="1" lang="zh-CN" sz="2800" spc="-1" strike="noStrike">
                <a:solidFill>
                  <a:srgbClr val="cc0000"/>
                </a:solidFill>
                <a:latin typeface="华文楷体"/>
                <a:ea typeface="华文楷体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66680" y="914400"/>
            <a:ext cx="63248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295280"/>
            <a:ext cx="87631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ff"/>
                </a:solidFill>
                <a:latin typeface="幼圆"/>
                <a:ea typeface="幼圆"/>
              </a:rPr>
              <a:t>1</a:t>
            </a:r>
            <a:r>
              <a:rPr b="1" lang="zh-CN" sz="1200" spc="-1" strike="noStrike">
                <a:solidFill>
                  <a:srgbClr val="0000ff"/>
                </a:solidFill>
                <a:latin typeface="幼圆"/>
                <a:ea typeface="幼圆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、余光中为什么要引用蒋捷的这首词呢？结合选段谈谈你的看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答：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幼圆"/>
                <a:ea typeface="幼圆"/>
              </a:rPr>
              <a:t>作者处境与蒋捷相似，都是“饱经风霜”，都是面对萧萧秋雨，想到自己的一生，自然发出“悲欢离合总无情”的感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>
            <a:alphaModFix amt="5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057400" y="4952880"/>
            <a:ext cx="243828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听听，那冷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981080" y="3429000"/>
            <a:ext cx="243864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看看，那冷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57400" y="1995480"/>
            <a:ext cx="312408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嗅嗅闻闻，那冷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5029200"/>
            <a:ext cx="9144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美感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952880" y="4952880"/>
            <a:ext cx="9907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听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952880" y="5791320"/>
            <a:ext cx="1676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听不到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8000" y="5867280"/>
            <a:ext cx="9144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失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344340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美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952880" y="4205160"/>
            <a:ext cx="914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台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248520" y="3429000"/>
            <a:ext cx="25905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呼吸困难，心寒眸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4251240"/>
            <a:ext cx="25905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山在虚无之间罢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248520" y="2041560"/>
            <a:ext cx="190476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清清爽爽新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2727360"/>
            <a:ext cx="22860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有一点薄荷的香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248520" y="2727360"/>
            <a:ext cx="18288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淡淡的土腥气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-209880" y="4114800"/>
            <a:ext cx="1521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冷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36760" y="2286000"/>
            <a:ext cx="85068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隶书"/>
              </a:rPr>
              <a:t>听听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0440" y="3505320"/>
            <a:ext cx="850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那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2286000"/>
            <a:ext cx="304560" cy="28954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5240 h 2895480"/>
              <a:gd name="textAreaBottom" fmla="*/ 2820240 h 2895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663300">
              <a:alpha val="50000"/>
            </a:srgbClr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248520" y="914400"/>
            <a:ext cx="1600200" cy="398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永远的乡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762120"/>
            <a:ext cx="1371600" cy="15238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057400" y="852480"/>
            <a:ext cx="1752480" cy="520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雨中情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152280" y="5105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7848720" y="5257800"/>
            <a:ext cx="75960" cy="76320"/>
          </a:xfrm>
          <a:custGeom>
            <a:avLst/>
            <a:gdLst>
              <a:gd name="textAreaLeft" fmla="*/ 4680 w 75960"/>
              <a:gd name="textAreaRight" fmla="*/ 71280 w 75960"/>
              <a:gd name="textAreaTop" fmla="*/ 4680 h 76320"/>
              <a:gd name="textAreaBottom" fmla="*/ 71640 h 76320"/>
            </a:gdLst>
            <a:ahLst/>
            <a:rect l="textAreaLeft" t="textAreaTop" r="textAreaRight" b="textAreaBottom"/>
            <a:pathLst>
              <a:path w="21600" h="21702">
                <a:moveTo>
                  <a:pt x="0" y="0"/>
                </a:moveTo>
                <a:lnTo>
                  <a:pt x="21600" y="0"/>
                </a:lnTo>
                <a:lnTo>
                  <a:pt x="21600" y="21702"/>
                </a:lnTo>
                <a:lnTo>
                  <a:pt x="0" y="21702"/>
                </a:lnTo>
                <a:close/>
              </a:path>
              <a:path fill="lightenLess" w="21600" h="2170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702">
                <a:moveTo>
                  <a:pt x="21600" y="0"/>
                </a:moveTo>
                <a:lnTo>
                  <a:pt x="21600" y="21702"/>
                </a:lnTo>
                <a:lnTo>
                  <a:pt x="20200" y="20302"/>
                </a:lnTo>
                <a:lnTo>
                  <a:pt x="20200" y="1400"/>
                </a:lnTo>
                <a:close/>
              </a:path>
              <a:path fill="darkenLess" w="21600" h="21702">
                <a:moveTo>
                  <a:pt x="21600" y="21702"/>
                </a:moveTo>
                <a:lnTo>
                  <a:pt x="0" y="21702"/>
                </a:lnTo>
                <a:lnTo>
                  <a:pt x="1400" y="20302"/>
                </a:lnTo>
                <a:lnTo>
                  <a:pt x="20200" y="20302"/>
                </a:lnTo>
                <a:close/>
              </a:path>
              <a:path fill="lighten" w="21600" h="21702">
                <a:moveTo>
                  <a:pt x="0" y="2170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302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3" action="ppaction://hlinksldjump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339966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80880" y="1371600"/>
            <a:ext cx="144792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见景生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4" action="ppaction://hlinksldjump"/>
          </p:cNvPr>
          <p:cNvSpPr/>
          <p:nvPr/>
        </p:nvSpPr>
        <p:spPr>
          <a:xfrm>
            <a:off x="8001000" y="6019920"/>
            <a:ext cx="228600" cy="228600"/>
          </a:xfrm>
          <a:custGeom>
            <a:avLst/>
            <a:gdLst>
              <a:gd name="textAreaLeft" fmla="*/ 53640 w 228600"/>
              <a:gd name="textAreaRight" fmla="*/ 174960 w 228600"/>
              <a:gd name="textAreaTop" fmla="*/ 26640 h 228600"/>
              <a:gd name="textAreaBottom" fmla="*/ 143280 h 2286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99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0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7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533520" y="260280"/>
            <a:ext cx="8229600" cy="520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cc0000"/>
                </a:solidFill>
                <a:latin typeface="幼圆"/>
                <a:ea typeface="幼圆"/>
              </a:rPr>
              <a:t>每天回家，曲折穿过金门街到厦门街迷宫式的长巷短巷，雨里风里，走入霏霏令人更想入非非。想这样子的台北凄凄切切完全是黑白片的味道，想整个中国整部中国的历史无非是一张黑白片子，片头到片尾，一直是这样下着雨的。这种感觉，不知道是不是从安东尼奥尼那里来的。不过那一块土地是久违了，二十五年，四分之一的世纪，即使有雨，也隔着千山万山，千伞万伞。二十五年，一切都断了，只有气候，只有气象报告还牵连在一起，大寒流从那块土地上弥天卷来，这种酷冷吾与古大陆分担。不能扑进她怀里，被她的裙边扫一扫也算是安慰孺慕之情吧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286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8" name="">
            <a:hlinkClick r:id="" action="ppaction://hlinkshowjump?jump=previousslide"/>
          </p:cNvPr>
          <p:cNvSpPr/>
          <p:nvPr/>
        </p:nvSpPr>
        <p:spPr>
          <a:xfrm>
            <a:off x="8686800" y="6424560"/>
            <a:ext cx="457200" cy="433440"/>
          </a:xfrm>
          <a:custGeom>
            <a:avLst/>
            <a:gdLst>
              <a:gd name="textAreaLeft" fmla="*/ 28080 w 457200"/>
              <a:gd name="textAreaRight" fmla="*/ 429120 w 457200"/>
              <a:gd name="textAreaTop" fmla="*/ 28080 h 433440"/>
              <a:gd name="textAreaBottom" fmla="*/ 405360 h 433440"/>
            </a:gdLst>
            <a:ahLst/>
            <a:rect l="textAreaLeft" t="textAreaTop" r="textAreaRight" b="textAreaBottom"/>
            <a:pathLst>
              <a:path w="22783" h="21600">
                <a:moveTo>
                  <a:pt x="0" y="0"/>
                </a:moveTo>
                <a:lnTo>
                  <a:pt x="22783" y="0"/>
                </a:lnTo>
                <a:lnTo>
                  <a:pt x="22783" y="21600"/>
                </a:lnTo>
                <a:lnTo>
                  <a:pt x="0" y="21600"/>
                </a:lnTo>
                <a:close/>
              </a:path>
              <a:path fill="lightenLess" w="22783" h="21600">
                <a:moveTo>
                  <a:pt x="0" y="0"/>
                </a:moveTo>
                <a:lnTo>
                  <a:pt x="22783" y="0"/>
                </a:lnTo>
                <a:lnTo>
                  <a:pt x="21383" y="1400"/>
                </a:lnTo>
                <a:lnTo>
                  <a:pt x="1400" y="1400"/>
                </a:lnTo>
                <a:close/>
              </a:path>
              <a:path fill="darken" w="22783" h="21600">
                <a:moveTo>
                  <a:pt x="22783" y="0"/>
                </a:moveTo>
                <a:lnTo>
                  <a:pt x="22783" y="21600"/>
                </a:lnTo>
                <a:lnTo>
                  <a:pt x="21383" y="20200"/>
                </a:lnTo>
                <a:lnTo>
                  <a:pt x="21383" y="1400"/>
                </a:lnTo>
                <a:close/>
              </a:path>
              <a:path fill="darkenLess" w="22783" h="21600">
                <a:moveTo>
                  <a:pt x="227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83" y="20200"/>
                </a:lnTo>
                <a:close/>
              </a:path>
              <a:path fill="lighten" w="227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83" h="21600">
                <a:moveTo>
                  <a:pt x="4385" y="10800"/>
                </a:moveTo>
                <a:lnTo>
                  <a:pt x="18398" y="3794"/>
                </a:lnTo>
                <a:lnTo>
                  <a:pt x="18398" y="17806"/>
                </a:ln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5880" y="3352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5800" y="380988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4191120"/>
            <a:ext cx="4343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952880" y="510552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5486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267080" y="5486400"/>
            <a:ext cx="411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58672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8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649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2" dur="1" fill="hold"/>
                                        <p:tgtEl>
                                          <p:spTgt spid="2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228600" y="304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语言特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920" y="1219320"/>
            <a:ext cx="85341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点一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句式长短参差，文言口语和欧化语言穿插，自如而连贯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853416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点二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量使用叠音词，节奏和韵律感强，描写细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505320"/>
            <a:ext cx="845820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特点三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量使用比喻、通感、拟人、排比等修辞手法，有力烘托了思想情绪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80880" y="4800600"/>
            <a:ext cx="8458200" cy="1015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白以为常，文以为变，俚以见真，西以求新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   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余光中在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200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年华语文学传媒大奖颁奖大会上的发言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71800" y="380880"/>
            <a:ext cx="396252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可以意会，亦可言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>
            <a:hlinkClick r:id="rId2" action="ppaction://hlinksldjump"/>
          </p:cNvPr>
          <p:cNvSpPr/>
          <p:nvPr/>
        </p:nvSpPr>
        <p:spPr>
          <a:xfrm>
            <a:off x="8763120" y="65530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008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75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75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7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962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960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88920"/>
            <a:ext cx="9144000" cy="6680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gl</dc:creator>
  <dc:description/>
  <dc:language>en-US</dc:language>
  <cp:lastModifiedBy>zmj</cp:lastModifiedBy>
  <dcterms:modified xsi:type="dcterms:W3CDTF">2010-01-03T12:47:23Z</dcterms:modified>
  <cp:revision>109</cp:revision>
  <dc:subject/>
  <dc:title>PowerPoint Presentation</dc:title>
</cp:coreProperties>
</file>