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CB66FE6-2333-4BBD-A7EC-E75C92F55524}" type="datetime">
              <a:rPr b="0" lang="zh-CN" sz="1200" spc="-1" strike="noStrike">
                <a:solidFill>
                  <a:srgbClr val="000000"/>
                </a:solidFill>
                <a:latin typeface="华文中宋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93c8"/>
                </a:solidFill>
                <a:latin typeface="华文隶书"/>
              </a:rPr>
              <a:t>Click to move the slide</a:t>
            </a: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93AB646-6A48-421F-B832-607C0FF5C63C}" type="slidenum">
              <a:rPr b="0" lang="zh-CN" sz="1200" spc="-1" strike="noStrike">
                <a:solidFill>
                  <a:srgbClr val="000000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slide" Target="../slides/slide4.xml"/><Relationship Id="rId15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9B1569C-0BCD-4400-BDCF-05266C72D287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B700939-8963-48A0-8BC1-84AD2AFD4051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E42BE48-336D-4B8B-909B-0E33FF5F41C0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素材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背景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图表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论坛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课件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语文课件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数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shuxue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英语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yingyu/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美术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meish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科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kexue/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物理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wuli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化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huaxue/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生物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shengw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地理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dili/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历史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lishi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AF5B792-055F-402B-8723-25AAC0387622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0E1C828-C185-4CB7-B79C-5F10950DBE84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8D1C04D-8BCC-4249-A738-22323578872C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31C54DF-552D-492D-978B-F5011310F073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06F810E-E3BE-40D0-B3E1-24168640A9BE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768C875-1889-40A9-AB71-8A1C90CEB1BF}" type="slidenum">
              <a:rPr b="0" lang="zh-CN" sz="1200" spc="-1" strike="noStrike">
                <a:solidFill>
                  <a:srgbClr val="3d3f41"/>
                </a:solidFill>
                <a:latin typeface="华文中宋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A0B-1D56-4871-B191-EFF4351C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7886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3792600"/>
            <a:ext cx="7886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B22-C302-40F9-AF6B-AD9F2DCA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D4F-4F38-40E4-B900-716E849B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1844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1844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37926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37926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37926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AB5-1BFE-4DAC-94AF-0C8C7920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A7C-8926-4862-ADE8-59C5798B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8560" y="1184400"/>
            <a:ext cx="788688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0AE9-CB19-4465-9B50-D5D71E18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788688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AC40-1D75-496C-860A-9E2F9E7C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2CAA-72EA-4EA3-9023-1B0DD6CF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36C-5625-4813-AB5C-C7C07CE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7120" y="204840"/>
            <a:ext cx="788832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DF7-FFF0-422D-BBBB-4E9DA5AC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234-29F7-4BF7-B4D1-0880729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184400"/>
            <a:ext cx="788688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3D8-CCF7-4607-9F85-F9C5B8C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10F1-8954-4C2B-A0DE-77A1117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3792600"/>
            <a:ext cx="7886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358-EA12-4955-8FC5-278C5BA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7886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8560" y="3792600"/>
            <a:ext cx="7886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8920-A37E-4838-8728-8EE622F2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3F02-E29B-4729-A3A9-0610C4D9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440" y="11844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2320" y="11844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8560" y="37926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440" y="37926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2320" y="3792600"/>
            <a:ext cx="25394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0401-369E-4B05-BA6E-828A4EF2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788688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A1F-7D4D-4F95-92E5-20CE3CC7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ADB-367B-4A8A-820D-ADBAF930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0FE-5738-4955-96A9-7ECCDD93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7120" y="204840"/>
            <a:ext cx="788832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676-F7D9-4394-9DA0-6134CE0B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E33-EBDF-4412-8DCC-7005BF7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7926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5CC-B5F1-4347-8D3E-51BE43F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184400"/>
            <a:ext cx="38487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3792600"/>
            <a:ext cx="7886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</a:pP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8FF-4B71-4768-A2DB-A3B34CE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-2921" r="0" b="0"/>
          <a:stretch/>
        </p:blipFill>
        <p:spPr>
          <a:xfrm>
            <a:off x="0" y="289080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" name="矩形 9"/>
          <p:cNvSpPr/>
          <p:nvPr/>
        </p:nvSpPr>
        <p:spPr>
          <a:xfrm>
            <a:off x="0" y="885960"/>
            <a:ext cx="9144000" cy="59720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93c8"/>
                </a:solidFill>
                <a:latin typeface="华文隶书"/>
              </a:rPr>
              <a:t>Click to edit the title text format</a:t>
            </a: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8560" y="1184400"/>
            <a:ext cx="788688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Click to edit the outline text format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华文中宋"/>
              <a:buChar char=" 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Second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Third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Four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Fif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Six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Seven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919293"/>
                </a:solidFill>
                <a:latin typeface="华文中宋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CB00AF4-1AB7-4FC2-AF0C-980BFCA41D73}" type="datetime">
              <a:rPr b="0" lang="zh-CN" sz="1200" spc="-1" strike="noStrike">
                <a:solidFill>
                  <a:srgbClr val="919293"/>
                </a:solidFill>
                <a:latin typeface="华文中宋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64000" y="6356520"/>
            <a:ext cx="47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400" spc="-1" strike="noStrike">
                <a:solidFill>
                  <a:srgbClr val="47b6e7"/>
                </a:solidFill>
                <a:latin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52644DF-7E7D-41DF-BEDF-0A7038DBC908}" type="slidenum">
              <a:rPr b="0" lang="zh-CN" sz="1400" spc="-1" strike="noStrike">
                <a:solidFill>
                  <a:srgbClr val="47b6e7"/>
                </a:solidFill>
                <a:latin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8" name="矩形 8"/>
          <p:cNvSpPr/>
          <p:nvPr/>
        </p:nvSpPr>
        <p:spPr>
          <a:xfrm flipV="1">
            <a:off x="0" y="759960"/>
            <a:ext cx="9144000" cy="46080"/>
          </a:xfrm>
          <a:prstGeom prst="rect">
            <a:avLst/>
          </a:prstGeom>
          <a:solidFill>
            <a:srgbClr val="daf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0" descr=""/>
          <p:cNvPicPr/>
          <p:nvPr/>
        </p:nvPicPr>
        <p:blipFill>
          <a:blip r:embed="rId2"/>
          <a:srcRect l="376" t="10860" r="1168" b="1453"/>
          <a:stretch/>
        </p:blipFill>
        <p:spPr>
          <a:xfrm>
            <a:off x="0" y="0"/>
            <a:ext cx="9144000" cy="618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7120" y="204840"/>
            <a:ext cx="78883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93c8"/>
                </a:solidFill>
                <a:latin typeface="华文隶书"/>
              </a:rPr>
              <a:t>Click to edit the title text format</a:t>
            </a:r>
            <a:endParaRPr b="1" lang="en-US" sz="3200" spc="-1" strike="noStrike">
              <a:solidFill>
                <a:srgbClr val="1a93c8"/>
              </a:solidFill>
              <a:latin typeface="华文隶书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28560" y="1184400"/>
            <a:ext cx="788688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Click to edit the outline text format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华文中宋"/>
              <a:buChar char=" 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Second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Third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Four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Fif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Six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60000"/>
              <a:buFont typeface="Arial"/>
              <a:buChar char="•"/>
            </a:pPr>
            <a:r>
              <a:rPr b="1" lang="en-US" sz="2000" spc="-1" strike="noStrike">
                <a:solidFill>
                  <a:srgbClr val="92d050"/>
                </a:solidFill>
                <a:latin typeface="华文中宋"/>
              </a:rPr>
              <a:t>Seventh Outline Level</a:t>
            </a:r>
            <a:endParaRPr b="1" lang="en-US" sz="2000" spc="-1" strike="noStrike">
              <a:solidFill>
                <a:srgbClr val="92d050"/>
              </a:solidFill>
              <a:latin typeface="华文中宋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919293"/>
                </a:solidFill>
                <a:latin typeface="华文中宋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A10DEAD-0543-4416-B143-95B6034AC9BC}" type="datetime">
              <a:rPr b="0" lang="zh-CN" sz="1200" spc="-1" strike="noStrike">
                <a:solidFill>
                  <a:srgbClr val="919293"/>
                </a:solidFill>
                <a:latin typeface="华文中宋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400" spc="-1" strike="noStrike">
                <a:solidFill>
                  <a:srgbClr val="47b6e7"/>
                </a:solidFill>
                <a:latin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EC7BD78-ADD7-4C77-85DF-250094F8F51F}" type="slidenum">
              <a:rPr b="0" lang="zh-CN" sz="1400" spc="-1" strike="noStrike">
                <a:solidFill>
                  <a:srgbClr val="47b6e7"/>
                </a:solidFill>
                <a:latin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48" descr=""/>
          <p:cNvPicPr/>
          <p:nvPr/>
        </p:nvPicPr>
        <p:blipFill>
          <a:blip r:embed="rId1"/>
          <a:stretch/>
        </p:blipFill>
        <p:spPr>
          <a:xfrm>
            <a:off x="9360" y="1335240"/>
            <a:ext cx="9144000" cy="12207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1" descr=""/>
          <p:cNvPicPr/>
          <p:nvPr/>
        </p:nvPicPr>
        <p:blipFill>
          <a:blip r:embed="rId1"/>
          <a:stretch/>
        </p:blipFill>
        <p:spPr>
          <a:xfrm>
            <a:off x="0" y="15840"/>
            <a:ext cx="9166320" cy="684216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2" descr=""/>
          <p:cNvPicPr/>
          <p:nvPr/>
        </p:nvPicPr>
        <p:blipFill>
          <a:blip r:embed="rId2"/>
          <a:stretch/>
        </p:blipFill>
        <p:spPr>
          <a:xfrm>
            <a:off x="1187280" y="5348160"/>
            <a:ext cx="1148040" cy="1179720"/>
          </a:xfrm>
          <a:prstGeom prst="rect">
            <a:avLst/>
          </a:prstGeom>
          <a:ln w="0">
            <a:noFill/>
          </a:ln>
        </p:spPr>
      </p:pic>
      <p:cxnSp>
        <p:nvCxnSpPr>
          <p:cNvPr id="375" name="直接箭头连接符 4"/>
          <p:cNvCxnSpPr/>
          <p:nvPr/>
        </p:nvCxnSpPr>
        <p:spPr>
          <a:xfrm>
            <a:off x="2339640" y="6213240"/>
            <a:ext cx="361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6" name="文本框 9"/>
          <p:cNvSpPr/>
          <p:nvPr/>
        </p:nvSpPr>
        <p:spPr>
          <a:xfrm>
            <a:off x="430200" y="1212840"/>
            <a:ext cx="1852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走迷宫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2952720" y="382896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骂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4716360" y="554184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4067280" y="458136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3211560" y="555768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剃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250920" y="362124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仇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863640" y="246852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惯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2700360" y="246852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刑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2843280" y="74124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4643280" y="94932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7164360" y="74124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摸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7236000" y="2757600"/>
            <a:ext cx="75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付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388" name="组合 16"/>
          <p:cNvGrpSpPr/>
          <p:nvPr/>
        </p:nvGrpSpPr>
        <p:grpSpPr>
          <a:xfrm>
            <a:off x="201600" y="123840"/>
            <a:ext cx="2425680" cy="704880"/>
            <a:chOff x="201600" y="123840"/>
            <a:chExt cx="2425680" cy="704880"/>
          </a:xfrm>
        </p:grpSpPr>
        <p:grpSp>
          <p:nvGrpSpPr>
            <p:cNvPr id="389" name="组合 19"/>
            <p:cNvGrpSpPr/>
            <p:nvPr/>
          </p:nvGrpSpPr>
          <p:grpSpPr>
            <a:xfrm>
              <a:off x="201600" y="219600"/>
              <a:ext cx="456480" cy="609120"/>
              <a:chOff x="201600" y="219600"/>
              <a:chExt cx="456480" cy="609120"/>
            </a:xfrm>
          </p:grpSpPr>
          <p:sp>
            <p:nvSpPr>
              <p:cNvPr id="390" name="Oval 10"/>
              <p:cNvSpPr/>
              <p:nvPr/>
            </p:nvSpPr>
            <p:spPr>
              <a:xfrm>
                <a:off x="201600" y="219600"/>
                <a:ext cx="456480" cy="609120"/>
              </a:xfrm>
              <a:prstGeom prst="ellipse">
                <a:avLst/>
              </a:pr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447480" y="286560"/>
                <a:ext cx="10080" cy="3420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4" y="30"/>
                    </a:moveTo>
                    <a:cubicBezTo>
                      <a:pt x="4" y="20"/>
                      <a:pt x="7" y="7"/>
                      <a:pt x="12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2" y="6"/>
                      <a:pt x="0" y="21"/>
                      <a:pt x="0" y="31"/>
                    </a:cubicBez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520" bIns="-115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2" name="Freeform 12"/>
              <p:cNvSpPr/>
              <p:nvPr/>
            </p:nvSpPr>
            <p:spPr>
              <a:xfrm>
                <a:off x="448200" y="309240"/>
                <a:ext cx="60120" cy="140760"/>
              </a:xfrm>
              <a:custGeom>
                <a:avLst/>
                <a:gdLst/>
                <a:ahLst/>
                <a:rect l="l" t="t" r="r" b="b"/>
                <a:pathLst>
                  <a:path w="72" h="126">
                    <a:moveTo>
                      <a:pt x="0" y="119"/>
                    </a:moveTo>
                    <a:cubicBezTo>
                      <a:pt x="29" y="126"/>
                      <a:pt x="60" y="101"/>
                      <a:pt x="66" y="67"/>
                    </a:cubicBezTo>
                    <a:cubicBezTo>
                      <a:pt x="72" y="33"/>
                      <a:pt x="61" y="15"/>
                      <a:pt x="45" y="7"/>
                    </a:cubicBezTo>
                    <a:cubicBezTo>
                      <a:pt x="31" y="0"/>
                      <a:pt x="3" y="11"/>
                      <a:pt x="1" y="9"/>
                    </a:cubicBez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c90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3" name="Freeform 13"/>
              <p:cNvSpPr/>
              <p:nvPr/>
            </p:nvSpPr>
            <p:spPr>
              <a:xfrm>
                <a:off x="390240" y="309240"/>
                <a:ext cx="58680" cy="139320"/>
              </a:xfrm>
              <a:custGeom>
                <a:avLst/>
                <a:gdLst/>
                <a:ahLst/>
                <a:rect l="l" t="t" r="r" b="b"/>
                <a:pathLst>
                  <a:path w="70" h="125">
                    <a:moveTo>
                      <a:pt x="70" y="9"/>
                    </a:moveTo>
                    <a:cubicBezTo>
                      <a:pt x="68" y="11"/>
                      <a:pt x="40" y="0"/>
                      <a:pt x="26" y="8"/>
                    </a:cubicBezTo>
                    <a:cubicBezTo>
                      <a:pt x="11" y="17"/>
                      <a:pt x="0" y="35"/>
                      <a:pt x="8" y="69"/>
                    </a:cubicBezTo>
                    <a:cubicBezTo>
                      <a:pt x="16" y="103"/>
                      <a:pt x="38" y="125"/>
                      <a:pt x="69" y="119"/>
                    </a:cubicBezTo>
                    <a:lnTo>
                      <a:pt x="70" y="9"/>
                    </a:lnTo>
                    <a:close/>
                  </a:path>
                </a:pathLst>
              </a:custGeom>
              <a:solidFill>
                <a:srgbClr val="db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419760" y="2710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4" y="19"/>
                    </a:moveTo>
                    <a:cubicBezTo>
                      <a:pt x="44" y="19"/>
                      <a:pt x="40" y="9"/>
                      <a:pt x="27" y="4"/>
                    </a:cubicBezTo>
                    <a:cubicBezTo>
                      <a:pt x="15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2" y="10"/>
                      <a:pt x="28" y="14"/>
                      <a:pt x="44" y="19"/>
                    </a:cubicBezTo>
                    <a:close/>
                  </a:path>
                </a:pathLst>
              </a:custGeom>
              <a:solidFill>
                <a:srgbClr val="128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840" bIns="-248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5" name="Freeform 15"/>
              <p:cNvSpPr/>
              <p:nvPr/>
            </p:nvSpPr>
            <p:spPr>
              <a:xfrm>
                <a:off x="419760" y="272880"/>
                <a:ext cx="36720" cy="403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cubicBezTo>
                      <a:pt x="0" y="2"/>
                      <a:pt x="2" y="7"/>
                      <a:pt x="6" y="12"/>
                    </a:cubicBezTo>
                    <a:cubicBezTo>
                      <a:pt x="30" y="36"/>
                      <a:pt x="43" y="18"/>
                      <a:pt x="44" y="17"/>
                    </a:cubicBezTo>
                    <a:cubicBezTo>
                      <a:pt x="28" y="12"/>
                      <a:pt x="12" y="8"/>
                      <a:pt x="0" y="0"/>
                    </a:cubicBezTo>
                    <a:close/>
                  </a:path>
                </a:pathLst>
              </a:custGeom>
              <a:solidFill>
                <a:srgbClr val="0e7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400" bIns="-54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6" name="Rectangle 16"/>
              <p:cNvSpPr/>
              <p:nvPr/>
            </p:nvSpPr>
            <p:spPr>
              <a:xfrm>
                <a:off x="282600" y="634320"/>
                <a:ext cx="265680" cy="88920"/>
              </a:xfrm>
              <a:prstGeom prst="rect">
                <a:avLst/>
              </a:prstGeom>
              <a:solidFill>
                <a:srgbClr val="ff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7" name="Rectangle 17"/>
              <p:cNvSpPr/>
              <p:nvPr/>
            </p:nvSpPr>
            <p:spPr>
              <a:xfrm>
                <a:off x="509760" y="634320"/>
                <a:ext cx="5040" cy="8892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8" name="Rectangle 18"/>
              <p:cNvSpPr/>
              <p:nvPr/>
            </p:nvSpPr>
            <p:spPr>
              <a:xfrm>
                <a:off x="501120" y="634320"/>
                <a:ext cx="5040" cy="8892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399" name="Rectangle 19"/>
              <p:cNvSpPr/>
              <p:nvPr/>
            </p:nvSpPr>
            <p:spPr>
              <a:xfrm>
                <a:off x="489960" y="634320"/>
                <a:ext cx="5040" cy="8892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0" name="Rectangle 20"/>
              <p:cNvSpPr/>
              <p:nvPr/>
            </p:nvSpPr>
            <p:spPr>
              <a:xfrm>
                <a:off x="318600" y="511200"/>
                <a:ext cx="139320" cy="66960"/>
              </a:xfrm>
              <a:prstGeom prst="rect">
                <a:avLst/>
              </a:prstGeom>
              <a:solidFill>
                <a:srgbClr val="f9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1" name="Rectangle 21"/>
              <p:cNvSpPr/>
              <p:nvPr/>
            </p:nvSpPr>
            <p:spPr>
              <a:xfrm>
                <a:off x="318600" y="511200"/>
                <a:ext cx="139320" cy="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2" name="Rectangle 22"/>
              <p:cNvSpPr/>
              <p:nvPr/>
            </p:nvSpPr>
            <p:spPr>
              <a:xfrm>
                <a:off x="318600" y="541440"/>
                <a:ext cx="139320" cy="180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3" name="Rectangle 23"/>
              <p:cNvSpPr/>
              <p:nvPr/>
            </p:nvSpPr>
            <p:spPr>
              <a:xfrm>
                <a:off x="318600" y="541440"/>
                <a:ext cx="13932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4" name="Rectangle 24"/>
              <p:cNvSpPr/>
              <p:nvPr/>
            </p:nvSpPr>
            <p:spPr>
              <a:xfrm>
                <a:off x="318600" y="560160"/>
                <a:ext cx="139320" cy="21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5" name="Rectangle 25"/>
              <p:cNvSpPr/>
              <p:nvPr/>
            </p:nvSpPr>
            <p:spPr>
              <a:xfrm>
                <a:off x="318600" y="560160"/>
                <a:ext cx="139320" cy="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6" name="Rectangle 26"/>
              <p:cNvSpPr/>
              <p:nvPr/>
            </p:nvSpPr>
            <p:spPr>
              <a:xfrm>
                <a:off x="318600" y="55404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7" name="Rectangle 27"/>
              <p:cNvSpPr/>
              <p:nvPr/>
            </p:nvSpPr>
            <p:spPr>
              <a:xfrm>
                <a:off x="318600" y="55404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8" name="Rectangle 28"/>
              <p:cNvSpPr/>
              <p:nvPr/>
            </p:nvSpPr>
            <p:spPr>
              <a:xfrm>
                <a:off x="318600" y="53460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09" name="Rectangle 29"/>
              <p:cNvSpPr/>
              <p:nvPr/>
            </p:nvSpPr>
            <p:spPr>
              <a:xfrm>
                <a:off x="318600" y="53460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0" name="Rectangle 30"/>
              <p:cNvSpPr/>
              <p:nvPr/>
            </p:nvSpPr>
            <p:spPr>
              <a:xfrm>
                <a:off x="318600" y="51588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1" name="Rectangle 31"/>
              <p:cNvSpPr/>
              <p:nvPr/>
            </p:nvSpPr>
            <p:spPr>
              <a:xfrm>
                <a:off x="318600" y="51588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2" name="Rectangle 32"/>
              <p:cNvSpPr/>
              <p:nvPr/>
            </p:nvSpPr>
            <p:spPr>
              <a:xfrm>
                <a:off x="318600" y="573840"/>
                <a:ext cx="139320" cy="108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3" name="Rectangle 33"/>
              <p:cNvSpPr/>
              <p:nvPr/>
            </p:nvSpPr>
            <p:spPr>
              <a:xfrm>
                <a:off x="318600" y="573840"/>
                <a:ext cx="13932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4" name="Rectangle 34"/>
              <p:cNvSpPr/>
              <p:nvPr/>
            </p:nvSpPr>
            <p:spPr>
              <a:xfrm>
                <a:off x="318600" y="521640"/>
                <a:ext cx="13932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5" name="Rectangle 35"/>
              <p:cNvSpPr/>
              <p:nvPr/>
            </p:nvSpPr>
            <p:spPr>
              <a:xfrm>
                <a:off x="318600" y="52164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6" name="Rectangle 36"/>
              <p:cNvSpPr/>
              <p:nvPr/>
            </p:nvSpPr>
            <p:spPr>
              <a:xfrm>
                <a:off x="274320" y="587160"/>
                <a:ext cx="311040" cy="4716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7" name="Rectangle 37"/>
              <p:cNvSpPr/>
              <p:nvPr/>
            </p:nvSpPr>
            <p:spPr>
              <a:xfrm>
                <a:off x="555120" y="587160"/>
                <a:ext cx="8280" cy="4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8" name="Rectangle 38"/>
              <p:cNvSpPr/>
              <p:nvPr/>
            </p:nvSpPr>
            <p:spPr>
              <a:xfrm>
                <a:off x="339480" y="443160"/>
                <a:ext cx="172800" cy="59040"/>
              </a:xfrm>
              <a:prstGeom prst="rect">
                <a:avLst/>
              </a:prstGeom>
              <a:solidFill>
                <a:srgbClr val="2b5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19" name="Rectangle 39"/>
              <p:cNvSpPr/>
              <p:nvPr/>
            </p:nvSpPr>
            <p:spPr>
              <a:xfrm>
                <a:off x="495720" y="443160"/>
                <a:ext cx="3960" cy="5904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20" name="Freeform 40"/>
              <p:cNvSpPr/>
              <p:nvPr/>
            </p:nvSpPr>
            <p:spPr>
              <a:xfrm>
                <a:off x="313560" y="502200"/>
                <a:ext cx="155520" cy="8460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86" y="38"/>
                    </a:moveTo>
                    <a:cubicBezTo>
                      <a:pt x="186" y="19"/>
                      <a:pt x="184" y="3"/>
                      <a:pt x="183" y="0"/>
                    </a:cubicBezTo>
                    <a:cubicBezTo>
                      <a:pt x="183" y="0"/>
                      <a:pt x="183" y="0"/>
                      <a:pt x="183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73" y="8"/>
                      <a:pt x="173" y="8"/>
                      <a:pt x="173" y="8"/>
                    </a:cubicBezTo>
                    <a:cubicBezTo>
                      <a:pt x="173" y="68"/>
                      <a:pt x="173" y="68"/>
                      <a:pt x="173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4" y="73"/>
                      <a:pt x="186" y="57"/>
                      <a:pt x="186" y="38"/>
                    </a:cubicBezTo>
                    <a:close/>
                  </a:path>
                </a:pathLst>
              </a:custGeom>
              <a:solidFill>
                <a:srgbClr val="5d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880" bIns="3888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  <p:sp>
            <p:nvSpPr>
              <p:cNvPr id="421" name="Freeform 41"/>
              <p:cNvSpPr/>
              <p:nvPr/>
            </p:nvSpPr>
            <p:spPr>
              <a:xfrm>
                <a:off x="434880" y="554040"/>
                <a:ext cx="12240" cy="4788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0" y="77"/>
                    </a:lnTo>
                    <a:lnTo>
                      <a:pt x="13" y="64"/>
                    </a:lnTo>
                    <a:lnTo>
                      <a:pt x="27" y="77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2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pPr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3d3f41"/>
                  </a:solidFill>
                  <a:latin typeface="华文中宋"/>
                </a:endParaRPr>
              </a:p>
            </p:txBody>
          </p:sp>
        </p:grpSp>
        <p:sp>
          <p:nvSpPr>
            <p:cNvPr id="422" name="TextBox 11"/>
            <p:cNvSpPr/>
            <p:nvPr/>
          </p:nvSpPr>
          <p:spPr>
            <a:xfrm>
              <a:off x="690840" y="123840"/>
              <a:ext cx="1936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300" spc="-1" strike="noStrike">
                  <a:solidFill>
                    <a:srgbClr val="3d3f41"/>
                  </a:solidFill>
                  <a:latin typeface="楷体"/>
                  <a:ea typeface="楷体"/>
                </a:rPr>
                <a:t>识字游戏</a:t>
              </a:r>
              <a:endParaRPr b="0" lang="en-US" sz="33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</p:spTree>
  </p:cSld>
  <p:transition spd="slow"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031 L 0.12639 -0.00185 E">
                                      <p:cBhvr>
                                        <p:cTn id="401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39 -0.00185 L 0.28386 -0.00185 E">
                                      <p:cBhvr>
                                        <p:cTn id="41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86 -0.00185 C 0.29497 0.00524 0.30626 -0.00216 0.3172 -0.00617 C 0.31789 -0.00833 0.31945 -0.00987 0.31945 -0.01234 C 0.32084 -0.08418 0.31806 -0.06692 0.27657 -0.06938 C 0.2724 -0.07216 0.26911 -0.07647 0.2672 -0.08418 C 0.26615 -0.08819 0.26477 -0.09683 0.26477 -0.09683 C 0.26303 -0.11533 0.26199 -0.13383 0.2599 -0.15202 C 0.25973 -0.15387 0.25852 -0.16836 0.25765 -0.17083 C 0.25504 -0.17885 0.25018 -0.17947 0.24567 -0.18162 C 0.23161 -0.1807 0.21928 -0.18625 0.20765 -0.17515 E">
                                      <p:cBhvr>
                                        <p:cTn id="425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764 -0.17515 C 0.2066 -0.19673 0.20886 -0.21986 0.20469 -0.23867 C 0.20278 -0.24977 0.19618 -0.25439 0.19219 -0.25809 C 0.18351 -0.27752 0.17344 -0.27845 0.16267 -0.28153 C 0.14236 -0.27968 0.12708 -0.27752 0.10799 -0.26642 C 0.10278 -0.26735 0.09774 -0.27043 0.09254 -0.27043 C 0.09063 -0.27043 0.08715 -0.26642 0.08715 -0.2658 E">
                                      <p:cBhvr>
                                        <p:cTn id="437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6 -0.2658 C 0.03959 -0.27752 0.01285 -0.27629 -0.046 -0.27382 C -0.05486 -0.2695 -0.05468 -0.25809 -0.05468 -0.27382 E">
                                      <p:cBhvr>
                                        <p:cTn id="449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68 -0.27382 C -0.08055 -0.29787 -0.12395 -0.24884 -0.14131 -0.28677 C -0.1394 -0.30311 -0.13628 -0.31946 -0.13385 -0.3358 C -0.13489 -0.35214 -0.13628 -0.36139 -0.13854 -0.37619 C -0.13802 -0.38853 -0.13802 -0.40055 -0.13697 -0.41258 C -0.1335 -0.44897 -0.13385 -0.41381 -0.13385 -0.42985 E">
                                      <p:cBhvr>
                                        <p:cTn id="461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48905 C -0.12552 -0.50015 -0.11666 -0.48998 -0.1085 -0.5054 C -0.08541 -0.50447 -0.06232 -0.50447 -0.03906 -0.502 C -0.02916 -0.50046 -0.0184 -0.48844 -0.0085 -0.48474 C 0.00521 -0.44743 0.03195 -0.47456 0.04219 -0.47579 C 0.054 -0.47703 0.06667 -0.47919 0.07917 -0.48011 C 0.07796 -0.47919 0.0757 -0.47579 0.0757 -0.47518 E">
                                      <p:cBhvr>
                                        <p:cTn id="47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8 -0.49368 C 0.10903 -0.48689 0.12813 -0.48381 0.13716 -0.48104 C 0.14167 -0.4798 0.15035 -0.47672 0.15035 -0.47641 C 0.17379 -0.47919 0.17657 -0.48073 0.20209 -0.47888 C 0.20886 -0.44157 0.20469 -0.4243 0.22987 -0.41104 C 0.23994 -0.39809 0.2382 -0.39809 0.25226 -0.40056 C 0.25261 -0.40333 0.25278 -0.40611 0.25365 -0.40888 C 0.25417 -0.41135 0.25573 -0.41289 0.25625 -0.41536 C 0.25834 -0.42399 0.25921 -0.43386 0.26025 -0.4428 C 0.25973 -0.45976 0.25955 -0.47672 0.25886 -0.49368 C 0.25869 -0.49645 0.25886 -0.49985 0.25764 -0.502 C 0.25365 -0.50971 0.23178 -0.51372 0.22848 -0.51465 C 0.21372 -0.51927 0.19827 -0.51989 0.18351 -0.52544 C 0.17691 -0.52791 0.17136 -0.53315 0.16511 -0.53592 C 0.15556 -0.5461 0.15695 -0.53562 0.15695 -0.56121 E">
                                      <p:cBhvr>
                                        <p:cTn id="485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695 -0.57508 C 0.14775 -0.6053 0.15556 -0.64693 0.15816 -0.68023 C 0.15921 -0.75424 0.15035 -0.75702 0.17448 -0.75208 C 0.21528 -0.72895 0.26129 -0.73636 0.30226 -0.73636 E">
                                      <p:cBhvr>
                                        <p:cTn id="497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226 -0.75702 C 0.31494 -0.7564 0.325 -0.75547 0.33716 -0.75146 C 0.35886 -0.75393 0.38316 -0.75702 0.40435 -0.74591 C 0.41303 -0.7231 0.40139 -0.75547 0.40921 -0.68733 C 0.40973 -0.68332 0.41407 -0.68393 0.41632 -0.68147 C 0.42674 -0.68239 0.44497 -0.67684 0.45365 -0.69164 C 0.45487 -0.70182 0.45591 -0.712 0.4573 -0.72279 C 0.45799 -0.72865 0.45712 -0.73605 0.45973 -0.73975 C 0.4606 -0.74129 0.46216 -0.74129 0.46337 -0.74191 C 0.49514 -0.73512 0.52726 -0.7342 0.55955 -0.7342 E">
                                      <p:cBhvr>
                                        <p:cTn id="509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955 -0.7342 C 0.58334 -0.73111 0.60625 -0.72217 0.63039 -0.7197 C 0.62917 -0.57077 0.62917 -0.62812 0.62917 -0.54733 E">
                                      <p:cBhvr>
                                        <p:cTn id="521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1"/>
          <p:cNvSpPr/>
          <p:nvPr/>
        </p:nvSpPr>
        <p:spPr>
          <a:xfrm>
            <a:off x="882720" y="855720"/>
            <a:ext cx="1942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词语解释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24" name="矩形 8" descr=""/>
          <p:cNvPicPr/>
          <p:nvPr/>
        </p:nvPicPr>
        <p:blipFill>
          <a:blip r:embed="rId1"/>
          <a:stretch/>
        </p:blipFill>
        <p:spPr>
          <a:xfrm>
            <a:off x="2627280" y="1014480"/>
            <a:ext cx="144360" cy="431640"/>
          </a:xfrm>
          <a:prstGeom prst="rect">
            <a:avLst/>
          </a:prstGeom>
          <a:ln w="0">
            <a:noFill/>
          </a:ln>
        </p:spPr>
      </p:pic>
      <p:pic>
        <p:nvPicPr>
          <p:cNvPr id="425" name="矩形 9" descr=""/>
          <p:cNvPicPr/>
          <p:nvPr/>
        </p:nvPicPr>
        <p:blipFill>
          <a:blip r:embed="rId2"/>
          <a:stretch/>
        </p:blipFill>
        <p:spPr>
          <a:xfrm>
            <a:off x="890640" y="1009800"/>
            <a:ext cx="146160" cy="431640"/>
          </a:xfrm>
          <a:prstGeom prst="rect">
            <a:avLst/>
          </a:prstGeom>
          <a:ln w="0">
            <a:noFill/>
          </a:ln>
        </p:spPr>
      </p:pic>
      <p:sp>
        <p:nvSpPr>
          <p:cNvPr id="426" name="矩形 10"/>
          <p:cNvSpPr/>
          <p:nvPr/>
        </p:nvSpPr>
        <p:spPr>
          <a:xfrm>
            <a:off x="476280" y="1773360"/>
            <a:ext cx="3375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推剪：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手动推剪是一种理发剪。上下有各有一排参差相间的牙状钢齿，用手将两边的把柄向中间合去，参差相见的牙状钢齿就来回移动将头发推掉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27" name="TextBox 12"/>
          <p:cNvSpPr/>
          <p:nvPr/>
        </p:nvSpPr>
        <p:spPr>
          <a:xfrm>
            <a:off x="476280" y="5343480"/>
            <a:ext cx="5145120" cy="59436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推剪</a:t>
            </a:r>
            <a:r>
              <a:rPr b="1" lang="zh-CN" sz="2200" spc="-1" strike="noStrike">
                <a:solidFill>
                  <a:srgbClr val="3d3f41"/>
                </a:solidFill>
                <a:latin typeface="楷体"/>
                <a:ea typeface="楷体"/>
              </a:rPr>
              <a:t>在理发师的手里灵活自如。</a:t>
            </a:r>
            <a:endParaRPr b="0" lang="en-US" sz="2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28" name="Picture 1" descr="C:\Users\Administrator\AppData\Roaming\Tencent\Users\56229019\QQ\WinTemp\RichOle\EM7NPGEQ83[H]28{P75P(@S.png"/>
          <p:cNvPicPr/>
          <p:nvPr/>
        </p:nvPicPr>
        <p:blipFill>
          <a:blip r:embed="rId3"/>
          <a:stretch/>
        </p:blipFill>
        <p:spPr>
          <a:xfrm>
            <a:off x="4572000" y="1820880"/>
            <a:ext cx="405144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5"/>
          <p:cNvSpPr/>
          <p:nvPr/>
        </p:nvSpPr>
        <p:spPr>
          <a:xfrm>
            <a:off x="358920" y="1744560"/>
            <a:ext cx="356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冤家：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一般指仇人，或者死对头的意思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30" name="矩形 7"/>
          <p:cNvSpPr/>
          <p:nvPr/>
        </p:nvSpPr>
        <p:spPr>
          <a:xfrm>
            <a:off x="1384200" y="3908520"/>
            <a:ext cx="1468440" cy="762120"/>
          </a:xfrm>
          <a:prstGeom prst="rect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3d3f41"/>
                </a:solidFill>
                <a:latin typeface="楷体"/>
                <a:ea typeface="楷体"/>
              </a:rPr>
              <a:t>他们这对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冤家</a:t>
            </a:r>
            <a:r>
              <a:rPr b="1" lang="zh-CN" sz="2200" spc="-1" strike="noStrike">
                <a:solidFill>
                  <a:srgbClr val="3d3f41"/>
                </a:solidFill>
                <a:latin typeface="楷体"/>
                <a:ea typeface="楷体"/>
              </a:rPr>
              <a:t>，今天遇到一</a:t>
            </a:r>
            <a:endParaRPr b="0" lang="en-US" sz="22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3d3f41"/>
                </a:solidFill>
                <a:latin typeface="楷体"/>
                <a:ea typeface="楷体"/>
              </a:rPr>
              <a:t>起，肯定会打起来。</a:t>
            </a:r>
            <a:endParaRPr b="0" lang="en-US" sz="2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31" name="Picture 1" descr="C:\Users\Administrator\AppData\Roaming\Tencent\Users\56229019\QQ\WinTemp\RichOle\VRZR2GL76UAYL8WI]%4SS)7.png"/>
          <p:cNvPicPr/>
          <p:nvPr/>
        </p:nvPicPr>
        <p:blipFill>
          <a:blip r:embed="rId1"/>
          <a:stretch/>
        </p:blipFill>
        <p:spPr>
          <a:xfrm>
            <a:off x="4500720" y="1773360"/>
            <a:ext cx="393696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圆角矩形 22"/>
          <p:cNvSpPr/>
          <p:nvPr/>
        </p:nvSpPr>
        <p:spPr>
          <a:xfrm>
            <a:off x="765000" y="3141720"/>
            <a:ext cx="791064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小沙怕剃头；剃头师傅给小沙剃头过程；</a:t>
            </a:r>
            <a:r>
              <a:rPr b="1" lang="en-US" sz="33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“我”给小沙剃头的经过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33" name="文本框 6"/>
          <p:cNvSpPr/>
          <p:nvPr/>
        </p:nvSpPr>
        <p:spPr>
          <a:xfrm>
            <a:off x="600120" y="1508040"/>
            <a:ext cx="8213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自由朗读课文，说说课文主要写了什么内容？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34" name="文本框 14"/>
          <p:cNvSpPr/>
          <p:nvPr/>
        </p:nvSpPr>
        <p:spPr>
          <a:xfrm>
            <a:off x="536400" y="581040"/>
            <a:ext cx="2148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YouYuan"/>
                <a:ea typeface="YouYuan"/>
              </a:rPr>
              <a:t>整体感知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35" name="图片 19" descr=""/>
          <p:cNvPicPr/>
          <p:nvPr/>
        </p:nvPicPr>
        <p:blipFill>
          <a:blip r:embed="rId1"/>
          <a:stretch/>
        </p:blipFill>
        <p:spPr>
          <a:xfrm>
            <a:off x="154080" y="652320"/>
            <a:ext cx="36648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1"/>
          <p:cNvSpPr/>
          <p:nvPr/>
        </p:nvSpPr>
        <p:spPr>
          <a:xfrm>
            <a:off x="357120" y="9525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读完课文，说一说“剃头大师”指的是谁？说出理由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37" name="横卷形 3"/>
          <p:cNvSpPr/>
          <p:nvPr/>
        </p:nvSpPr>
        <p:spPr>
          <a:xfrm>
            <a:off x="714240" y="2762280"/>
            <a:ext cx="7643880" cy="1809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ee7ff"/>
              </a:gs>
              <a:gs pos="100000">
                <a:srgbClr val="def8ff"/>
              </a:gs>
            </a:gsLst>
            <a:lin ang="16200000"/>
          </a:gradFill>
          <a:ln w="9360">
            <a:solidFill>
              <a:srgbClr val="41b3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“</a:t>
            </a:r>
            <a:r>
              <a:rPr b="0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剃头大师”指的是文中的“我”，因为刚开始“我”剪头发速度很快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2"/>
          <p:cNvSpPr/>
          <p:nvPr/>
        </p:nvSpPr>
        <p:spPr>
          <a:xfrm>
            <a:off x="606600" y="1341360"/>
            <a:ext cx="739908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一、看拼音，写汉字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    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bi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ǎ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o d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ì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        d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ǎ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n xiǎo 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ɡ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u</a:t>
            </a:r>
            <a:r>
              <a:rPr b="0" lang="zh-CN" sz="3300" spc="-1" strike="noStrike">
                <a:solidFill>
                  <a:srgbClr val="3d3f41"/>
                </a:solidFill>
                <a:latin typeface="Arial Unicode MS"/>
                <a:ea typeface="Arial Unicode MS"/>
              </a:rPr>
              <a:t>ǐ</a:t>
            </a:r>
            <a:r>
              <a:rPr b="0" lang="en-US" sz="3300" spc="-1" strike="noStrike">
                <a:solidFill>
                  <a:srgbClr val="3d3f41"/>
                </a:solidFill>
                <a:latin typeface="Arial Unicode MS"/>
                <a:ea typeface="Arial Unicode MS"/>
              </a:rPr>
              <a:t>  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（</a:t>
            </a: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）</a:t>
            </a: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（</a:t>
            </a: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  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）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    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l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ǐ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  f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à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        du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ó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 m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é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n 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é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r t</a:t>
            </a:r>
            <a:r>
              <a:rPr b="0" lang="zh-CN" sz="3300" spc="-1" strike="noStrike">
                <a:solidFill>
                  <a:srgbClr val="3d3f41"/>
                </a:solidFill>
                <a:latin typeface="黑体"/>
                <a:ea typeface="黑体"/>
              </a:rPr>
              <a:t>á</a:t>
            </a:r>
            <a:r>
              <a:rPr b="0" lang="en-US" sz="3300" spc="-1" strike="noStrike">
                <a:solidFill>
                  <a:srgbClr val="3d3f41"/>
                </a:solidFill>
                <a:latin typeface="黑体"/>
                <a:ea typeface="黑体"/>
              </a:rPr>
              <a:t>o 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（</a:t>
            </a: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）</a:t>
            </a: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（</a:t>
            </a: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   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） 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23880" y="549360"/>
            <a:ext cx="2003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YouYuan"/>
                <a:ea typeface="YouYuan"/>
              </a:rPr>
              <a:t>课堂演练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40" name="图片 11" descr=""/>
          <p:cNvPicPr/>
          <p:nvPr/>
        </p:nvPicPr>
        <p:blipFill>
          <a:blip r:embed="rId1"/>
          <a:stretch/>
        </p:blipFill>
        <p:spPr>
          <a:xfrm>
            <a:off x="223920" y="619200"/>
            <a:ext cx="368280" cy="608040"/>
          </a:xfrm>
          <a:prstGeom prst="rect">
            <a:avLst/>
          </a:prstGeom>
          <a:ln w="0">
            <a:noFill/>
          </a:ln>
        </p:spPr>
      </p:pic>
      <p:sp>
        <p:nvSpPr>
          <p:cNvPr id="441" name="矩形 6"/>
          <p:cNvSpPr/>
          <p:nvPr/>
        </p:nvSpPr>
        <p:spPr>
          <a:xfrm>
            <a:off x="1603440" y="2778120"/>
            <a:ext cx="18889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表 弟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2" name="矩形 12"/>
          <p:cNvSpPr/>
          <p:nvPr/>
        </p:nvSpPr>
        <p:spPr>
          <a:xfrm>
            <a:off x="4927680" y="2754360"/>
            <a:ext cx="1887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胆小鬼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3" name="矩形 13"/>
          <p:cNvSpPr/>
          <p:nvPr/>
        </p:nvSpPr>
        <p:spPr>
          <a:xfrm>
            <a:off x="1531800" y="4098960"/>
            <a:ext cx="1887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理 发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4" name="矩形 14"/>
          <p:cNvSpPr/>
          <p:nvPr/>
        </p:nvSpPr>
        <p:spPr>
          <a:xfrm>
            <a:off x="4967280" y="4098960"/>
            <a:ext cx="1981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夺门而逃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2"/>
          <p:cNvSpPr/>
          <p:nvPr/>
        </p:nvSpPr>
        <p:spPr>
          <a:xfrm>
            <a:off x="1567440" y="1962000"/>
            <a:ext cx="351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6" name="矩形 4"/>
          <p:cNvSpPr/>
          <p:nvPr/>
        </p:nvSpPr>
        <p:spPr>
          <a:xfrm>
            <a:off x="628560" y="1058760"/>
            <a:ext cx="74088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二、在括号里填上适当的量词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一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）木尺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一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）剃头大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 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一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）头发       一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）剃刀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   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一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）熊皮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一（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）电灯泡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7" name="矩形 7"/>
          <p:cNvSpPr/>
          <p:nvPr/>
        </p:nvSpPr>
        <p:spPr>
          <a:xfrm>
            <a:off x="5132160" y="1962000"/>
            <a:ext cx="351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位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8" name="矩形 8"/>
          <p:cNvSpPr/>
          <p:nvPr/>
        </p:nvSpPr>
        <p:spPr>
          <a:xfrm>
            <a:off x="1580040" y="2781360"/>
            <a:ext cx="351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绺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49" name="矩形 9"/>
          <p:cNvSpPr/>
          <p:nvPr/>
        </p:nvSpPr>
        <p:spPr>
          <a:xfrm>
            <a:off x="5172120" y="2766960"/>
            <a:ext cx="351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0" name="矩形 10"/>
          <p:cNvSpPr/>
          <p:nvPr/>
        </p:nvSpPr>
        <p:spPr>
          <a:xfrm>
            <a:off x="1580040" y="3608280"/>
            <a:ext cx="351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1" name="矩形 11"/>
          <p:cNvSpPr/>
          <p:nvPr/>
        </p:nvSpPr>
        <p:spPr>
          <a:xfrm>
            <a:off x="5132160" y="3605040"/>
            <a:ext cx="351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1"/>
          <p:cNvSpPr/>
          <p:nvPr/>
        </p:nvSpPr>
        <p:spPr>
          <a:xfrm>
            <a:off x="539640" y="965160"/>
            <a:ext cx="799308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三、连一连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监督</a:t>
            </a:r>
            <a:r>
              <a:rPr b="1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有心事的样子。不能忘怀，牵萦于心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冤家</a:t>
            </a:r>
            <a:r>
              <a:rPr b="1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新颖符合时势潮流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发誓</a:t>
            </a:r>
            <a:r>
              <a:rPr b="1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         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察看并加以管理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耿耿于怀</a:t>
            </a:r>
            <a:r>
              <a:rPr b="1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     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一般指仇人，或者死对头的意思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时髦</a:t>
            </a:r>
            <a:r>
              <a:rPr b="1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庄严地说出表示决心的话。 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3" name="直接连接符 3"/>
          <p:cNvSpPr/>
          <p:nvPr/>
        </p:nvSpPr>
        <p:spPr>
          <a:xfrm>
            <a:off x="1241280" y="2176560"/>
            <a:ext cx="199728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4" name="直接连接符 11"/>
          <p:cNvSpPr/>
          <p:nvPr/>
        </p:nvSpPr>
        <p:spPr>
          <a:xfrm>
            <a:off x="1077840" y="2752560"/>
            <a:ext cx="216072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5" name="直接连接符 13"/>
          <p:cNvSpPr/>
          <p:nvPr/>
        </p:nvSpPr>
        <p:spPr>
          <a:xfrm>
            <a:off x="1212840" y="3622680"/>
            <a:ext cx="1998720" cy="14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6" name="直接连接符 14"/>
          <p:cNvSpPr/>
          <p:nvPr/>
        </p:nvSpPr>
        <p:spPr>
          <a:xfrm flipV="1">
            <a:off x="1727280" y="2320920"/>
            <a:ext cx="151128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57" name="直接连接符 21"/>
          <p:cNvSpPr/>
          <p:nvPr/>
        </p:nvSpPr>
        <p:spPr>
          <a:xfrm flipV="1">
            <a:off x="1212840" y="3040200"/>
            <a:ext cx="2025720" cy="202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4"/>
          <p:cNvSpPr/>
          <p:nvPr/>
        </p:nvSpPr>
        <p:spPr>
          <a:xfrm>
            <a:off x="743040" y="2255760"/>
            <a:ext cx="76327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3d3f41"/>
                </a:solidFill>
                <a:latin typeface="楷体"/>
                <a:ea typeface="楷体"/>
              </a:rPr>
              <a:t>通过上一课的学习，我们了解了“我”给小沙剃头的事情，现在，我们继续探究“我”是怎么当“剃头大师”的。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59" name="图片 3" descr=""/>
          <p:cNvPicPr/>
          <p:nvPr/>
        </p:nvPicPr>
        <p:blipFill>
          <a:blip r:embed="rId1"/>
          <a:stretch/>
        </p:blipFill>
        <p:spPr>
          <a:xfrm>
            <a:off x="320760" y="728640"/>
            <a:ext cx="1630440" cy="50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0" name="文本框 11"/>
          <p:cNvSpPr/>
          <p:nvPr/>
        </p:nvSpPr>
        <p:spPr>
          <a:xfrm>
            <a:off x="333360" y="714240"/>
            <a:ext cx="1231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</a:rPr>
              <a:t>第二课时</a:t>
            </a:r>
            <a:endParaRPr b="0" lang="en-US" sz="20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2" descr=""/>
          <p:cNvPicPr/>
          <p:nvPr/>
        </p:nvPicPr>
        <p:blipFill>
          <a:blip r:embed="rId1"/>
          <a:stretch/>
        </p:blipFill>
        <p:spPr>
          <a:xfrm>
            <a:off x="1450800" y="2660760"/>
            <a:ext cx="1103400" cy="2109600"/>
          </a:xfrm>
          <a:prstGeom prst="rect">
            <a:avLst/>
          </a:prstGeom>
          <a:ln w="0">
            <a:noFill/>
          </a:ln>
        </p:spPr>
      </p:pic>
      <p:sp>
        <p:nvSpPr>
          <p:cNvPr id="462" name="文本框 14"/>
          <p:cNvSpPr/>
          <p:nvPr/>
        </p:nvSpPr>
        <p:spPr>
          <a:xfrm>
            <a:off x="623880" y="549360"/>
            <a:ext cx="1932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YouYuan"/>
                <a:ea typeface="YouYuan"/>
              </a:rPr>
              <a:t>互动课堂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63" name="图片 6" descr=""/>
          <p:cNvPicPr/>
          <p:nvPr/>
        </p:nvPicPr>
        <p:blipFill>
          <a:blip r:embed="rId2"/>
          <a:stretch/>
        </p:blipFill>
        <p:spPr>
          <a:xfrm>
            <a:off x="236520" y="619200"/>
            <a:ext cx="366840" cy="608040"/>
          </a:xfrm>
          <a:prstGeom prst="rect">
            <a:avLst/>
          </a:prstGeom>
          <a:ln w="0">
            <a:noFill/>
          </a:ln>
        </p:spPr>
      </p:pic>
      <p:sp>
        <p:nvSpPr>
          <p:cNvPr id="464" name="矩形 1"/>
          <p:cNvSpPr/>
          <p:nvPr/>
        </p:nvSpPr>
        <p:spPr>
          <a:xfrm>
            <a:off x="2556000" y="2049480"/>
            <a:ext cx="5051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自由读课文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1-3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自然段，说说“我”的表弟小沙有什么特点？在文中找一找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771640" y="1413000"/>
            <a:ext cx="5904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秦文君</a:t>
            </a:r>
            <a:r>
              <a:rPr b="1" lang="en-US" sz="30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1954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年生于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上海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，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儿童文学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作家，现任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上海市作家协会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副主席，《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中国儿童文学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》主编。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代表作：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《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男生贾里全传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》、《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女生贾梅全传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》、《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天棠街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3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号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》、《宝贝当家》、《</a:t>
            </a:r>
            <a:r>
              <a:rPr b="0" lang="en-US" sz="3000" spc="-1" strike="noStrike">
                <a:solidFill>
                  <a:srgbClr val="3d3f41"/>
                </a:solidFill>
                <a:latin typeface="楷体"/>
                <a:ea typeface="楷体"/>
              </a:rPr>
              <a:t>调皮的日子</a:t>
            </a:r>
            <a:r>
              <a:rPr b="0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》等</a:t>
            </a:r>
            <a:r>
              <a:rPr b="1" lang="zh-CN" sz="3000" spc="-1" strike="noStrike">
                <a:solidFill>
                  <a:srgbClr val="3d3f41"/>
                </a:solidFill>
                <a:latin typeface="楷体"/>
                <a:ea typeface="楷体"/>
              </a:rPr>
              <a:t>。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160200" y="714240"/>
            <a:ext cx="1629000" cy="5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文本框 11"/>
          <p:cNvSpPr/>
          <p:nvPr/>
        </p:nvSpPr>
        <p:spPr>
          <a:xfrm>
            <a:off x="171360" y="700200"/>
            <a:ext cx="1231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</a:rPr>
              <a:t>第一课时</a:t>
            </a:r>
            <a:endParaRPr b="0" lang="en-US" sz="20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98" name="Picture 1" descr="C:\Users\Administrator\AppData\Roaming\Tencent\Users\56229019\QQ\WinTemp\RichOle\)K0XM%]YIP)95O(ZVA9H%E2.png"/>
          <p:cNvPicPr/>
          <p:nvPr/>
        </p:nvPicPr>
        <p:blipFill>
          <a:blip r:embed="rId2"/>
          <a:stretch/>
        </p:blipFill>
        <p:spPr>
          <a:xfrm>
            <a:off x="577800" y="1604880"/>
            <a:ext cx="18464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2"/>
          <p:cNvSpPr/>
          <p:nvPr/>
        </p:nvSpPr>
        <p:spPr>
          <a:xfrm>
            <a:off x="684360" y="984240"/>
            <a:ext cx="7343640" cy="495360"/>
          </a:xfrm>
          <a:prstGeom prst="rect">
            <a:avLst/>
          </a:prstGeom>
          <a:solidFill>
            <a:srgbClr val="de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我的表弟小沙天生胆小，怕鬼，怕喝中药，怕做噩梦，还怕剃头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66" name="TextBox 1"/>
          <p:cNvSpPr/>
          <p:nvPr/>
        </p:nvSpPr>
        <p:spPr>
          <a:xfrm>
            <a:off x="684360" y="2662200"/>
            <a:ext cx="734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楷体"/>
                <a:ea typeface="楷体"/>
              </a:rPr>
              <a:t>谁给他剃头，他就骂谁“害人精”，还用看仇人一样的目光怒视对方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67" name="线形标注 1 3"/>
          <p:cNvSpPr/>
          <p:nvPr/>
        </p:nvSpPr>
        <p:spPr>
          <a:xfrm>
            <a:off x="2340000" y="4773600"/>
            <a:ext cx="3384360" cy="1727280"/>
          </a:xfrm>
          <a:prstGeom prst="borderCallout1">
            <a:avLst>
              <a:gd name="adj1" fmla="val 18750"/>
              <a:gd name="adj2" fmla="val -8333"/>
              <a:gd name="adj3" fmla="val -42337"/>
              <a:gd name="adj4" fmla="val -33865"/>
            </a:avLst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开篇表明小表弟的性格特点，为后面故事展开做铺垫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2700360" y="1797120"/>
            <a:ext cx="54720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读课文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4-6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自然段，说说老师傅是怎么给表弟小沙剃头的？小沙感受如何？在文中找出相关语句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69" name="图片 2" descr=""/>
          <p:cNvPicPr/>
          <p:nvPr/>
        </p:nvPicPr>
        <p:blipFill>
          <a:blip r:embed="rId1"/>
          <a:stretch/>
        </p:blipFill>
        <p:spPr>
          <a:xfrm>
            <a:off x="1627200" y="2373480"/>
            <a:ext cx="11034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"/>
          <p:cNvSpPr/>
          <p:nvPr/>
        </p:nvSpPr>
        <p:spPr>
          <a:xfrm>
            <a:off x="1114560" y="1773360"/>
            <a:ext cx="680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老师傅习惯用一把老掉牙的推剪，它常常会咬住一绺头发不放，让小沙吃尽苦头。这还不算，老师傅眼神差了点儿，总把碎头发掉在小沙的脖子里，痒得小沙哧哧笑……跟受刑一样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71" name="云形标注 2"/>
          <p:cNvSpPr/>
          <p:nvPr/>
        </p:nvSpPr>
        <p:spPr>
          <a:xfrm>
            <a:off x="3059280" y="284040"/>
            <a:ext cx="3673440" cy="1224000"/>
          </a:xfrm>
          <a:prstGeom prst="cloudCallout">
            <a:avLst>
              <a:gd name="adj1" fmla="val -69328"/>
              <a:gd name="adj2" fmla="val 66379"/>
            </a:avLst>
          </a:prstGeom>
          <a:solidFill>
            <a:srgbClr val="ffffff"/>
          </a:solidFill>
          <a:ln w="25560">
            <a:solidFill>
              <a:srgbClr val="3334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老师傅剃头，小沙的感受是是什么？</a:t>
            </a:r>
            <a:endParaRPr b="0" lang="en-US" sz="21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72" name="直接连接符 8"/>
          <p:cNvSpPr/>
          <p:nvPr/>
        </p:nvSpPr>
        <p:spPr>
          <a:xfrm>
            <a:off x="4815000" y="3835440"/>
            <a:ext cx="16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73" name="双波形 13"/>
          <p:cNvSpPr/>
          <p:nvPr/>
        </p:nvSpPr>
        <p:spPr>
          <a:xfrm>
            <a:off x="611280" y="4197240"/>
            <a:ext cx="7561080" cy="2160720"/>
          </a:xfrm>
          <a:custGeom>
            <a:avLst/>
            <a:gdLst>
              <a:gd name="textAreaLeft" fmla="*/ 0 w 7561080"/>
              <a:gd name="textAreaRight" fmla="*/ 7561440 w 7561080"/>
              <a:gd name="textAreaTop" fmla="*/ 27000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8ee7ff"/>
              </a:gs>
              <a:gs pos="100000">
                <a:srgbClr val="def8ff"/>
              </a:gs>
            </a:gsLst>
            <a:lin ang="16200000"/>
          </a:gradFill>
          <a:ln w="9360">
            <a:solidFill>
              <a:srgbClr val="41b3e6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因为老师傅的老掉牙的推剪，会咬住一绺头发不放，让小沙吃尽苦头。老师傅眼神差了点儿，总把碎头发掉在小沙的脖子里，痒得小沙哧哧笑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2700360" y="1797120"/>
            <a:ext cx="54720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快速阅读课文剩下的部分，看看“我”是怎样给表弟剃头的？结果如何？在文中找出来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75" name="图片 2" descr=""/>
          <p:cNvPicPr/>
          <p:nvPr/>
        </p:nvPicPr>
        <p:blipFill>
          <a:blip r:embed="rId1"/>
          <a:stretch/>
        </p:blipFill>
        <p:spPr>
          <a:xfrm>
            <a:off x="1627200" y="2373480"/>
            <a:ext cx="11034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3"/>
          <p:cNvSpPr/>
          <p:nvPr/>
        </p:nvSpPr>
        <p:spPr>
          <a:xfrm>
            <a:off x="1224000" y="1797120"/>
            <a:ext cx="67514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我先把姑父的大睡衣给他围上，再摆出剃头师傅的架势，嚓嚓两剪刀，就剪下一堆头发。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77" name="云形标注 4"/>
          <p:cNvSpPr/>
          <p:nvPr/>
        </p:nvSpPr>
        <p:spPr>
          <a:xfrm>
            <a:off x="3816360" y="189000"/>
            <a:ext cx="3132000" cy="1224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334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你从中体会到了什么？</a:t>
            </a:r>
            <a:endParaRPr b="0" lang="en-US" sz="21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78" name="圆角矩形 5"/>
          <p:cNvSpPr/>
          <p:nvPr/>
        </p:nvSpPr>
        <p:spPr>
          <a:xfrm>
            <a:off x="1547640" y="4221000"/>
            <a:ext cx="664380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88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我觉得文中的“我”好像会理发，而且剪头发的速度很快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1"/>
          <p:cNvSpPr/>
          <p:nvPr/>
        </p:nvSpPr>
        <p:spPr>
          <a:xfrm>
            <a:off x="684360" y="1916280"/>
            <a:ext cx="77752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我觉得自己像个剃头大师，剪刀所到之处，头发纷纷飘落，真比那剃头老师傅还熟练。这儿一剪刀，那儿一剪刀，……我这样随意乱剪，头发长长短短，这儿翘起，那儿短的只剩下一厘米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0" name="云形标注 2"/>
          <p:cNvSpPr/>
          <p:nvPr/>
        </p:nvSpPr>
        <p:spPr>
          <a:xfrm>
            <a:off x="3978360" y="692280"/>
            <a:ext cx="3132000" cy="1224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334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你从中体会到了什么？</a:t>
            </a:r>
            <a:endParaRPr b="0" lang="en-US" sz="21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1" name="圆角矩形 3"/>
          <p:cNvSpPr/>
          <p:nvPr/>
        </p:nvSpPr>
        <p:spPr>
          <a:xfrm>
            <a:off x="1116000" y="4508640"/>
            <a:ext cx="66438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88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虽然“我”剪头发的速度很快，但只是随意乱剪，长短不一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1"/>
          <p:cNvSpPr/>
          <p:nvPr/>
        </p:nvSpPr>
        <p:spPr>
          <a:xfrm>
            <a:off x="684360" y="1751040"/>
            <a:ext cx="71643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我剪掉几根翘起的长发，又把头发修了修，可惜，越修越糟，一些头发越剪越短，甚至露出了头皮。一眼望去，整个头上坑坑洼洼，耳朵边剪得小心，却像层层梯田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3" name="圆角矩形 2"/>
          <p:cNvSpPr/>
          <p:nvPr/>
        </p:nvSpPr>
        <p:spPr>
          <a:xfrm>
            <a:off x="684360" y="4484520"/>
            <a:ext cx="664344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88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通过对形状的描写，突出了“我”剪的头发很糟糕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4" name="直接连接符 3"/>
          <p:cNvSpPr/>
          <p:nvPr/>
        </p:nvSpPr>
        <p:spPr>
          <a:xfrm>
            <a:off x="2411280" y="3741840"/>
            <a:ext cx="49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5" name="云形标注 5"/>
          <p:cNvSpPr/>
          <p:nvPr/>
        </p:nvSpPr>
        <p:spPr>
          <a:xfrm>
            <a:off x="4032360" y="417600"/>
            <a:ext cx="4267080" cy="1523880"/>
          </a:xfrm>
          <a:prstGeom prst="cloudCallout">
            <a:avLst>
              <a:gd name="adj1" fmla="val -24023"/>
              <a:gd name="adj2" fmla="val 171643"/>
            </a:avLst>
          </a:prstGeom>
          <a:solidFill>
            <a:srgbClr val="ffffff"/>
          </a:solidFill>
          <a:ln w="25560">
            <a:solidFill>
              <a:srgbClr val="3334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运用比喻的修辞手法，说明耳朵附近修剪的很不平整。</a:t>
            </a:r>
            <a:endParaRPr b="0" lang="en-US" sz="21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2280240" y="903240"/>
            <a:ext cx="348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说一说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：“我”和剃头师傅谁剃得好？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898560" y="1989000"/>
            <a:ext cx="7400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0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当然剃头师傅剃得好，因为“姑父还要付双倍的钱”。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0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而我剃完头发之后，小沙“一照镜子，大叫一声，像见了鬼一样。”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1"/>
          <p:cNvSpPr/>
          <p:nvPr/>
        </p:nvSpPr>
        <p:spPr>
          <a:xfrm>
            <a:off x="787320" y="836640"/>
            <a:ext cx="78850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黑体"/>
                <a:ea typeface="黑体"/>
              </a:rPr>
              <a:t>学完课文，想一想“剃头大师”和“害人精”分别指谁？为什么这样称呼他们？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790560" y="2583000"/>
            <a:ext cx="74916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在小沙的嘴里，“害人精”是剃头的师傅，因为小沙害怕理发，他们给他理发，弄疼他，让他很不舒服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剃头大师”是我对自己的称呼，以为自己能理发，特像“剃头大师”的架势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1"/>
          <p:cNvSpPr/>
          <p:nvPr/>
        </p:nvSpPr>
        <p:spPr>
          <a:xfrm>
            <a:off x="851040" y="836640"/>
            <a:ext cx="68958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实际上，谁才是真正的“剃头大师”，谁才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是个“害人精”？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91" name="矩形 2"/>
          <p:cNvSpPr/>
          <p:nvPr/>
        </p:nvSpPr>
        <p:spPr>
          <a:xfrm>
            <a:off x="1042920" y="2852640"/>
            <a:ext cx="7489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老剃头师傅是“剃头大师”，“我”不会理发，乱剪才是“害人精”。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1"/>
          <p:cNvSpPr/>
          <p:nvPr/>
        </p:nvSpPr>
        <p:spPr>
          <a:xfrm>
            <a:off x="6762600" y="2119320"/>
            <a:ext cx="12859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鬼</a:t>
            </a: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脸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95840" y="2152800"/>
            <a:ext cx="12333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执</a:t>
            </a: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行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987560" y="2116080"/>
            <a:ext cx="241128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剃</a:t>
            </a: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头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940040" y="4127400"/>
            <a:ext cx="12319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仇</a:t>
            </a: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人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958000" y="4143240"/>
            <a:ext cx="13935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受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刑 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137120" y="4143240"/>
            <a:ext cx="15001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习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惯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2054160" y="152712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tì 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4594320" y="1666800"/>
            <a:ext cx="857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zhí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6700680" y="1509840"/>
            <a:ext cx="858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guǐ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1733400" y="3533760"/>
            <a:ext cx="1177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chóu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09" name="矩形 25"/>
          <p:cNvSpPr/>
          <p:nvPr/>
        </p:nvSpPr>
        <p:spPr>
          <a:xfrm>
            <a:off x="4208400" y="3479760"/>
            <a:ext cx="2035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 </a:t>
            </a: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guàn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7405560" y="3500280"/>
            <a:ext cx="1379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mō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1" name="矩形 28"/>
          <p:cNvSpPr/>
          <p:nvPr/>
        </p:nvSpPr>
        <p:spPr>
          <a:xfrm>
            <a:off x="6261120" y="3468600"/>
            <a:ext cx="1285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d3f41"/>
                </a:solidFill>
                <a:latin typeface="黑体"/>
                <a:ea typeface="黑体"/>
              </a:rPr>
              <a:t>xíng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351560" y="4143240"/>
            <a:ext cx="1225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摸</a:t>
            </a:r>
            <a:r>
              <a:rPr b="0" lang="zh-CN" sz="4000" spc="-1" strike="noStrike">
                <a:solidFill>
                  <a:srgbClr val="3d3f41"/>
                </a:solidFill>
                <a:latin typeface="楷体"/>
                <a:ea typeface="楷体"/>
              </a:rPr>
              <a:t>头</a:t>
            </a:r>
            <a:endParaRPr b="0" lang="en-US" sz="4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2568600" y="2217600"/>
            <a:ext cx="50472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4" name="矩形 31"/>
          <p:cNvSpPr/>
          <p:nvPr/>
        </p:nvSpPr>
        <p:spPr>
          <a:xfrm>
            <a:off x="5302080" y="2212920"/>
            <a:ext cx="5032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5" name="矩形 35"/>
          <p:cNvSpPr/>
          <p:nvPr/>
        </p:nvSpPr>
        <p:spPr>
          <a:xfrm>
            <a:off x="7351560" y="2189160"/>
            <a:ext cx="5050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6" name="矩形 36"/>
          <p:cNvSpPr/>
          <p:nvPr/>
        </p:nvSpPr>
        <p:spPr>
          <a:xfrm>
            <a:off x="2540160" y="4240080"/>
            <a:ext cx="504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7" name="矩形 37"/>
          <p:cNvSpPr/>
          <p:nvPr/>
        </p:nvSpPr>
        <p:spPr>
          <a:xfrm>
            <a:off x="5996160" y="4208400"/>
            <a:ext cx="50292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8" name="矩形 38"/>
          <p:cNvSpPr/>
          <p:nvPr/>
        </p:nvSpPr>
        <p:spPr>
          <a:xfrm>
            <a:off x="7939080" y="4208400"/>
            <a:ext cx="504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04720" y="2014560"/>
            <a:ext cx="1122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我会认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120" name="矩形 50" descr=""/>
          <p:cNvPicPr/>
          <p:nvPr/>
        </p:nvPicPr>
        <p:blipFill>
          <a:blip r:embed="rId1"/>
          <a:stretch/>
        </p:blipFill>
        <p:spPr>
          <a:xfrm>
            <a:off x="1523880" y="2109960"/>
            <a:ext cx="144720" cy="43164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51" descr=""/>
          <p:cNvPicPr/>
          <p:nvPr/>
        </p:nvPicPr>
        <p:blipFill>
          <a:blip r:embed="rId2"/>
          <a:stretch/>
        </p:blipFill>
        <p:spPr>
          <a:xfrm>
            <a:off x="525600" y="2109960"/>
            <a:ext cx="144360" cy="431640"/>
          </a:xfrm>
          <a:prstGeom prst="rect">
            <a:avLst/>
          </a:prstGeom>
          <a:ln w="0">
            <a:noFill/>
          </a:ln>
        </p:spPr>
      </p:pic>
      <p:sp>
        <p:nvSpPr>
          <p:cNvPr id="122" name="矩形 40"/>
          <p:cNvSpPr/>
          <p:nvPr/>
        </p:nvSpPr>
        <p:spPr>
          <a:xfrm>
            <a:off x="4192560" y="4197240"/>
            <a:ext cx="50328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611280" y="1268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结合全文说一说，为什么用“剃头大师”作为题目？（课后第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题）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93" name="横卷形 3"/>
          <p:cNvSpPr/>
          <p:nvPr/>
        </p:nvSpPr>
        <p:spPr>
          <a:xfrm>
            <a:off x="438120" y="3044880"/>
            <a:ext cx="7777080" cy="1920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这里有些自嘲的成分，嘲笑自己不懂装懂，硬冒充“剃头大师”，结果把小沙的头发剪得不成样子。通过这件事，是在回忆童年的趣事，表达对童年的怀念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14"/>
          <p:cNvSpPr/>
          <p:nvPr/>
        </p:nvSpPr>
        <p:spPr>
          <a:xfrm>
            <a:off x="623880" y="685800"/>
            <a:ext cx="2219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YouYuan"/>
                <a:ea typeface="YouYuan"/>
              </a:rPr>
              <a:t>结构梳理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495" name="图片 17" descr=""/>
          <p:cNvPicPr/>
          <p:nvPr/>
        </p:nvPicPr>
        <p:blipFill>
          <a:blip r:embed="rId1"/>
          <a:stretch/>
        </p:blipFill>
        <p:spPr>
          <a:xfrm>
            <a:off x="192240" y="638280"/>
            <a:ext cx="366480" cy="609480"/>
          </a:xfrm>
          <a:prstGeom prst="rect">
            <a:avLst/>
          </a:prstGeom>
          <a:ln w="0">
            <a:noFill/>
          </a:ln>
        </p:spPr>
      </p:pic>
      <p:sp>
        <p:nvSpPr>
          <p:cNvPr id="496" name="圆角矩形 18"/>
          <p:cNvSpPr/>
          <p:nvPr/>
        </p:nvSpPr>
        <p:spPr>
          <a:xfrm>
            <a:off x="1027080" y="1371600"/>
            <a:ext cx="7074000" cy="397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8892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华文中宋"/>
              </a:rPr>
              <a:t>童年的水墨画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85680"/>
            <a:ext cx="138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sp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98" name="右大括号 14"/>
          <p:cNvSpPr/>
          <p:nvPr/>
        </p:nvSpPr>
        <p:spPr>
          <a:xfrm flipH="1">
            <a:off x="1853640" y="1920960"/>
            <a:ext cx="353880" cy="2878200"/>
          </a:xfrm>
          <a:custGeom>
            <a:avLst/>
            <a:gdLst>
              <a:gd name="textAreaLeft" fmla="*/ 0 w 353880"/>
              <a:gd name="textAreaRight" fmla="*/ 127800 w 353880"/>
              <a:gd name="textAreaTop" fmla="*/ 9000 h 2878200"/>
              <a:gd name="textAreaBottom" fmla="*/ 2869200 h 287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16200" y="10800"/>
                  <a:pt x="21600" y="10800"/>
                </a:cubicBezTo>
                <a:cubicBezTo>
                  <a:pt x="162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1b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499" name="Rectangle 3"/>
          <p:cNvSpPr/>
          <p:nvPr/>
        </p:nvSpPr>
        <p:spPr>
          <a:xfrm flipV="1" rot="10800000">
            <a:off x="2220840" y="3811320"/>
            <a:ext cx="5664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剃头大师：熟练  随意乱剪  见了鬼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0" name="矩形 3"/>
          <p:cNvSpPr/>
          <p:nvPr/>
        </p:nvSpPr>
        <p:spPr>
          <a:xfrm flipV="1" rot="10800000">
            <a:off x="1372680" y="2463480"/>
            <a:ext cx="4813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剃头大师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1" name="矩形 4"/>
          <p:cNvSpPr/>
          <p:nvPr/>
        </p:nvSpPr>
        <p:spPr>
          <a:xfrm>
            <a:off x="4147560" y="2292480"/>
            <a:ext cx="1532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害人精：小沙吃尽苦头  受刑一样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10"/>
          <p:cNvSpPr/>
          <p:nvPr/>
        </p:nvSpPr>
        <p:spPr>
          <a:xfrm>
            <a:off x="981000" y="2014560"/>
            <a:ext cx="816300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这篇课文写的是小沙</a:t>
            </a:r>
            <a:r>
              <a:rPr b="0" lang="zh-CN" sz="27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，刚开始是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   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给他剃头，由于</a:t>
            </a:r>
            <a:r>
              <a:rPr b="0" lang="zh-CN" sz="27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    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，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所以小沙</a:t>
            </a:r>
            <a:r>
              <a:rPr b="0" lang="zh-CN" sz="27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，后来写“我”</a:t>
            </a:r>
            <a:r>
              <a:rPr b="0" lang="zh-CN" sz="27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，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结果</a:t>
            </a:r>
            <a:r>
              <a:rPr b="0" lang="zh-CN" sz="27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            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。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3" name="矩形 11"/>
          <p:cNvSpPr/>
          <p:nvPr/>
        </p:nvSpPr>
        <p:spPr>
          <a:xfrm>
            <a:off x="1158840" y="2660760"/>
            <a:ext cx="20527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老剃头师傅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4" name="矩形 12"/>
          <p:cNvSpPr/>
          <p:nvPr/>
        </p:nvSpPr>
        <p:spPr>
          <a:xfrm>
            <a:off x="4957920" y="2014560"/>
            <a:ext cx="1312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怕剃头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5" name="矩形 13"/>
          <p:cNvSpPr/>
          <p:nvPr/>
        </p:nvSpPr>
        <p:spPr>
          <a:xfrm>
            <a:off x="2465280" y="3382920"/>
            <a:ext cx="2014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吃尽了苦头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6" name="矩形 14"/>
          <p:cNvSpPr/>
          <p:nvPr/>
        </p:nvSpPr>
        <p:spPr>
          <a:xfrm>
            <a:off x="5819760" y="2739960"/>
            <a:ext cx="37990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推剪老、眼神差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07" name="文本框 14"/>
          <p:cNvSpPr/>
          <p:nvPr/>
        </p:nvSpPr>
        <p:spPr>
          <a:xfrm>
            <a:off x="623880" y="549360"/>
            <a:ext cx="20368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YouYuan"/>
                <a:ea typeface="YouYuan"/>
              </a:rPr>
              <a:t>主题概括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508" name="图片 16" descr=""/>
          <p:cNvPicPr/>
          <p:nvPr/>
        </p:nvPicPr>
        <p:blipFill>
          <a:blip r:embed="rId1"/>
          <a:stretch/>
        </p:blipFill>
        <p:spPr>
          <a:xfrm>
            <a:off x="179280" y="619200"/>
            <a:ext cx="366840" cy="608040"/>
          </a:xfrm>
          <a:prstGeom prst="rect">
            <a:avLst/>
          </a:prstGeom>
          <a:ln w="0">
            <a:noFill/>
          </a:ln>
        </p:spPr>
      </p:pic>
      <p:sp>
        <p:nvSpPr>
          <p:cNvPr id="509" name="矩形 8"/>
          <p:cNvSpPr/>
          <p:nvPr/>
        </p:nvSpPr>
        <p:spPr>
          <a:xfrm>
            <a:off x="6732720" y="3309840"/>
            <a:ext cx="1733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给他剃头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0" name="矩形 9"/>
          <p:cNvSpPr/>
          <p:nvPr/>
        </p:nvSpPr>
        <p:spPr>
          <a:xfrm>
            <a:off x="1730520" y="3956040"/>
            <a:ext cx="32526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小沙像见了鬼一样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"/>
          <p:cNvSpPr/>
          <p:nvPr/>
        </p:nvSpPr>
        <p:spPr>
          <a:xfrm>
            <a:off x="1027080" y="2674080"/>
            <a:ext cx="1125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执行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2" name="Rectangle 1"/>
          <p:cNvSpPr/>
          <p:nvPr/>
        </p:nvSpPr>
        <p:spPr>
          <a:xfrm>
            <a:off x="798480" y="3518640"/>
            <a:ext cx="1608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丸子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3" name="文本框 14"/>
          <p:cNvSpPr/>
          <p:nvPr/>
        </p:nvSpPr>
        <p:spPr>
          <a:xfrm>
            <a:off x="623880" y="665280"/>
            <a:ext cx="1932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YouYuan"/>
                <a:ea typeface="YouYuan"/>
              </a:rPr>
              <a:t>课堂练习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514" name="图片 10" descr=""/>
          <p:cNvPicPr/>
          <p:nvPr/>
        </p:nvPicPr>
        <p:blipFill>
          <a:blip r:embed="rId1"/>
          <a:stretch/>
        </p:blipFill>
        <p:spPr>
          <a:xfrm>
            <a:off x="179280" y="619200"/>
            <a:ext cx="366840" cy="608040"/>
          </a:xfrm>
          <a:prstGeom prst="rect">
            <a:avLst/>
          </a:prstGeom>
          <a:ln w="0">
            <a:noFill/>
          </a:ln>
        </p:spPr>
      </p:pic>
      <p:sp>
        <p:nvSpPr>
          <p:cNvPr id="515" name="矩形 1"/>
          <p:cNvSpPr/>
          <p:nvPr/>
        </p:nvSpPr>
        <p:spPr>
          <a:xfrm>
            <a:off x="623880" y="1628640"/>
            <a:ext cx="761688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一、比一比，组成词语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执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否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形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摸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丸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歪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刑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 </a:t>
            </a:r>
            <a:r>
              <a:rPr b="0" lang="zh-CN" sz="2700" spc="-1" strike="noStrike">
                <a:solidFill>
                  <a:srgbClr val="3d3f41"/>
                </a:solidFill>
                <a:latin typeface="楷体"/>
                <a:ea typeface="楷体"/>
              </a:rPr>
              <a:t>漠</a:t>
            </a:r>
            <a:r>
              <a:rPr b="0" lang="en-US" sz="2700" spc="-1" strike="noStrike">
                <a:solidFill>
                  <a:srgbClr val="3d3f41"/>
                </a:solidFill>
                <a:latin typeface="楷体"/>
                <a:ea typeface="楷体"/>
              </a:rPr>
              <a:t>(     )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2646360" y="2642040"/>
            <a:ext cx="1125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否则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2646360" y="3483720"/>
            <a:ext cx="1608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歪斜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330800" y="2628000"/>
            <a:ext cx="11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外形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4330800" y="3469320"/>
            <a:ext cx="1606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受刑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6005520" y="2642040"/>
            <a:ext cx="112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抚摸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6005520" y="3483720"/>
            <a:ext cx="1608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冷漠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8"/>
          <p:cNvSpPr/>
          <p:nvPr/>
        </p:nvSpPr>
        <p:spPr>
          <a:xfrm>
            <a:off x="844560" y="2924280"/>
            <a:ext cx="7508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他病得太严重了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虚弱得甚至连呼吸都很艰难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 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23" name="矩形 1"/>
          <p:cNvSpPr/>
          <p:nvPr/>
        </p:nvSpPr>
        <p:spPr>
          <a:xfrm>
            <a:off x="736560" y="1217520"/>
            <a:ext cx="734688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二、读一读，用划横线的字造句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我剪掉几根翘起的长发，又把头发修了修，可惜，越修越糟，一些头发越剪越短，</a:t>
            </a:r>
            <a:r>
              <a:rPr b="0" lang="zh-CN" sz="24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甚至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露出了头皮。　</a:t>
            </a: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_____________________</a:t>
            </a:r>
            <a:r>
              <a:rPr b="0" lang="en-US" sz="2400" spc="-1" strike="noStrike" u="sng">
                <a:solidFill>
                  <a:srgbClr val="3d3f41"/>
                </a:solidFill>
                <a:uFillTx/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________________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"/>
          <p:cNvSpPr/>
          <p:nvPr/>
        </p:nvSpPr>
        <p:spPr>
          <a:xfrm>
            <a:off x="395280" y="981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三、文中写了作者的表弟小沙的两次理发经历，现实生活中你理过发吗？有什么感想或感受？试着写一写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525" name="矩形 3"/>
          <p:cNvSpPr/>
          <p:nvPr/>
        </p:nvSpPr>
        <p:spPr>
          <a:xfrm>
            <a:off x="363600" y="2552760"/>
            <a:ext cx="865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示例：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剪发开始了，阿姨拿了一把漂亮的小剪刀和一把粉色的小梳子。我发现这剪刀很特别：其中一只剪刀柄后，有一个像逗号样的小东东。接着，阿姨向我头上喷了一点水，咔咔咔、咔咔咔</a:t>
            </a:r>
            <a:r>
              <a:rPr b="0" lang="en-US" sz="2400" spc="-1" strike="noStrike">
                <a:solidFill>
                  <a:srgbClr val="3d3f41"/>
                </a:solidFill>
                <a:latin typeface="楷体"/>
                <a:ea typeface="楷体"/>
              </a:rPr>
              <a:t>……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剪刀开始在我头上狂乱的飞舞起来，只见一根根的头发倾泻而下。一会儿，阿姨又用电推子在我头上，推了几下。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好了。”阿姨说道。我迫不及待的照了照镜子，哇！我的发型美丽又帅气，像变了个人似的。 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3"/>
          <p:cNvSpPr/>
          <p:nvPr/>
        </p:nvSpPr>
        <p:spPr>
          <a:xfrm>
            <a:off x="2050920" y="22287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124" name="组合 3"/>
          <p:cNvGrpSpPr/>
          <p:nvPr/>
        </p:nvGrpSpPr>
        <p:grpSpPr>
          <a:xfrm>
            <a:off x="912960" y="1862280"/>
            <a:ext cx="614160" cy="1081080"/>
            <a:chOff x="912960" y="1862280"/>
            <a:chExt cx="614160" cy="1081080"/>
          </a:xfrm>
        </p:grpSpPr>
        <p:sp>
          <p:nvSpPr>
            <p:cNvPr id="125" name="椭圆 9"/>
            <p:cNvSpPr/>
            <p:nvPr/>
          </p:nvSpPr>
          <p:spPr>
            <a:xfrm>
              <a:off x="933120" y="1862280"/>
              <a:ext cx="594000" cy="1081080"/>
            </a:xfrm>
            <a:prstGeom prst="ellipse">
              <a:avLst/>
            </a:prstGeom>
            <a:solidFill>
              <a:srgbClr val="dcfdff"/>
            </a:solidFill>
            <a:ln w="25560">
              <a:solidFill>
                <a:srgbClr val="3d3f41"/>
              </a:solidFill>
              <a:miter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26" name="Rectangle 2"/>
            <p:cNvSpPr/>
            <p:nvPr/>
          </p:nvSpPr>
          <p:spPr>
            <a:xfrm>
              <a:off x="912960" y="1955520"/>
              <a:ext cx="53604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发</a:t>
              </a:r>
              <a:endParaRPr b="0" lang="en-US" sz="41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sp>
        <p:nvSpPr>
          <p:cNvPr id="127" name="矩形 4"/>
          <p:cNvSpPr/>
          <p:nvPr/>
        </p:nvSpPr>
        <p:spPr>
          <a:xfrm>
            <a:off x="7385040" y="2052720"/>
            <a:ext cx="624960" cy="55620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</a:t>
            </a:r>
            <a:r>
              <a:rPr b="1" lang="zh-CN" sz="3200" spc="-1" strike="noStrike">
                <a:solidFill>
                  <a:srgbClr val="3d3f41"/>
                </a:solidFill>
                <a:latin typeface="华文楷体"/>
                <a:ea typeface="华文楷体"/>
              </a:rPr>
              <a:t>现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7232400" y="1409760"/>
            <a:ext cx="564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fā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3201120" y="2063880"/>
            <a:ext cx="2286000" cy="55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华文楷体"/>
                <a:ea typeface="华文楷体"/>
              </a:rPr>
              <a:t>这次，小沙的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</a:t>
            </a:r>
            <a:r>
              <a:rPr b="1" lang="zh-CN" sz="3200" spc="-1" strike="noStrike">
                <a:solidFill>
                  <a:srgbClr val="3d3f41"/>
                </a:solidFill>
                <a:latin typeface="华文楷体"/>
                <a:ea typeface="华文楷体"/>
              </a:rPr>
              <a:t>很长了。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130" name="组合 12"/>
          <p:cNvGrpSpPr/>
          <p:nvPr/>
        </p:nvGrpSpPr>
        <p:grpSpPr>
          <a:xfrm>
            <a:off x="3753000" y="701640"/>
            <a:ext cx="411120" cy="503280"/>
            <a:chOff x="3753000" y="701640"/>
            <a:chExt cx="411120" cy="503280"/>
          </a:xfrm>
        </p:grpSpPr>
        <p:sp>
          <p:nvSpPr>
            <p:cNvPr id="131" name="Oval 10"/>
            <p:cNvSpPr/>
            <p:nvPr/>
          </p:nvSpPr>
          <p:spPr>
            <a:xfrm>
              <a:off x="3753000" y="701640"/>
              <a:ext cx="411120" cy="50328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3974400" y="757080"/>
              <a:ext cx="9000" cy="2808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3975120" y="775440"/>
              <a:ext cx="54000" cy="11628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3922920" y="775440"/>
              <a:ext cx="52920" cy="11520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3949560" y="744120"/>
              <a:ext cx="33120" cy="17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3949560" y="745920"/>
              <a:ext cx="33120" cy="331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826080" y="1044360"/>
              <a:ext cx="239400" cy="7344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8" name="Rectangle 17"/>
            <p:cNvSpPr/>
            <p:nvPr/>
          </p:nvSpPr>
          <p:spPr>
            <a:xfrm>
              <a:off x="4030560" y="1044360"/>
              <a:ext cx="4320" cy="734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4022640" y="1044360"/>
              <a:ext cx="4320" cy="734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4012560" y="1044360"/>
              <a:ext cx="4320" cy="734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858480" y="942480"/>
              <a:ext cx="125640" cy="5544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>
              <a:off x="3858480" y="942480"/>
              <a:ext cx="12564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858480" y="967680"/>
              <a:ext cx="12564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3858480" y="967680"/>
              <a:ext cx="1256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858480" y="983160"/>
              <a:ext cx="12564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3858480" y="983160"/>
              <a:ext cx="1256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3858480" y="97812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3858480" y="97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3858480" y="961920"/>
              <a:ext cx="12564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3858480" y="961920"/>
              <a:ext cx="12564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3858480" y="94644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3858480" y="94644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3858480" y="994320"/>
              <a:ext cx="12564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3858480" y="994320"/>
              <a:ext cx="12564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3858480" y="95112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3858480" y="951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3818520" y="1005120"/>
              <a:ext cx="280080" cy="388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4071240" y="1005120"/>
              <a:ext cx="7560" cy="3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59" name="Rectangle 38"/>
            <p:cNvSpPr/>
            <p:nvPr/>
          </p:nvSpPr>
          <p:spPr>
            <a:xfrm>
              <a:off x="3877200" y="886320"/>
              <a:ext cx="155880" cy="4860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60" name="Rectangle 39"/>
            <p:cNvSpPr/>
            <p:nvPr/>
          </p:nvSpPr>
          <p:spPr>
            <a:xfrm>
              <a:off x="4017960" y="886320"/>
              <a:ext cx="3600" cy="4860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>
              <a:off x="3853800" y="935280"/>
              <a:ext cx="140040" cy="6984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3962880" y="978120"/>
              <a:ext cx="11160" cy="396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sp>
        <p:nvSpPr>
          <p:cNvPr id="163" name="TextBox 11"/>
          <p:cNvSpPr/>
          <p:nvPr/>
        </p:nvSpPr>
        <p:spPr>
          <a:xfrm>
            <a:off x="4162320" y="576360"/>
            <a:ext cx="1565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多音字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4784760" y="1406520"/>
            <a:ext cx="111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fà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1735200" y="5267160"/>
            <a:ext cx="6503760" cy="556200"/>
          </a:xfrm>
          <a:prstGeom prst="rect">
            <a:avLst/>
          </a:prstGeom>
          <a:solidFill>
            <a:srgbClr val="de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华文楷体"/>
                <a:ea typeface="华文楷体"/>
              </a:rPr>
              <a:t>早晨起来小草和树叶上有很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露</a:t>
            </a:r>
            <a:r>
              <a:rPr b="1" lang="zh-CN" sz="3200" spc="-1" strike="noStrike">
                <a:solidFill>
                  <a:srgbClr val="3d3f41"/>
                </a:solidFill>
                <a:latin typeface="华文楷体"/>
                <a:ea typeface="华文楷体"/>
              </a:rPr>
              <a:t>珠。</a:t>
            </a:r>
            <a:endParaRPr b="0" lang="en-US" sz="32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166" name="组合 10"/>
          <p:cNvGrpSpPr/>
          <p:nvPr/>
        </p:nvGrpSpPr>
        <p:grpSpPr>
          <a:xfrm>
            <a:off x="912960" y="3970440"/>
            <a:ext cx="614160" cy="1079280"/>
            <a:chOff x="912960" y="3970440"/>
            <a:chExt cx="614160" cy="1079280"/>
          </a:xfrm>
        </p:grpSpPr>
        <p:sp>
          <p:nvSpPr>
            <p:cNvPr id="167" name="椭圆 6"/>
            <p:cNvSpPr/>
            <p:nvPr/>
          </p:nvSpPr>
          <p:spPr>
            <a:xfrm>
              <a:off x="933120" y="3970440"/>
              <a:ext cx="594000" cy="1079280"/>
            </a:xfrm>
            <a:prstGeom prst="ellipse">
              <a:avLst/>
            </a:prstGeom>
            <a:solidFill>
              <a:srgbClr val="dcfdff"/>
            </a:solidFill>
            <a:ln w="25560">
              <a:solidFill>
                <a:srgbClr val="3d3f41"/>
              </a:solidFill>
              <a:miter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68" name="Rectangle 2"/>
            <p:cNvSpPr/>
            <p:nvPr/>
          </p:nvSpPr>
          <p:spPr>
            <a:xfrm>
              <a:off x="912960" y="4063680"/>
              <a:ext cx="536040" cy="7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露</a:t>
              </a:r>
              <a:endParaRPr b="0" lang="en-US" sz="41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sp>
        <p:nvSpPr>
          <p:cNvPr id="169" name="矩形 31"/>
          <p:cNvSpPr/>
          <p:nvPr/>
        </p:nvSpPr>
        <p:spPr>
          <a:xfrm>
            <a:off x="7104240" y="4627440"/>
            <a:ext cx="1815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lù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0" name="矩形 50"/>
          <p:cNvSpPr/>
          <p:nvPr/>
        </p:nvSpPr>
        <p:spPr>
          <a:xfrm>
            <a:off x="1763640" y="3776760"/>
            <a:ext cx="6392880" cy="52560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华文楷体"/>
                <a:ea typeface="华文楷体"/>
              </a:rPr>
              <a:t>一些头发越剪越短，甚至</a:t>
            </a:r>
            <a:r>
              <a:rPr b="1" lang="zh-CN" sz="3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露</a:t>
            </a:r>
            <a:r>
              <a:rPr b="1" lang="zh-CN" sz="3000" spc="-1" strike="noStrike">
                <a:solidFill>
                  <a:srgbClr val="3d3f41"/>
                </a:solidFill>
                <a:latin typeface="华文楷体"/>
                <a:ea typeface="华文楷体"/>
              </a:rPr>
              <a:t>出了头皮。</a:t>
            </a:r>
            <a:endParaRPr b="0" lang="en-US" sz="3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1" name="矩形 51"/>
          <p:cNvSpPr/>
          <p:nvPr/>
        </p:nvSpPr>
        <p:spPr>
          <a:xfrm>
            <a:off x="6719760" y="3130560"/>
            <a:ext cx="7549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3d3f41"/>
                </a:solidFill>
                <a:latin typeface="黑体"/>
                <a:ea typeface="黑体"/>
              </a:rPr>
              <a:t>lòu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64"/>
          <p:cNvSpPr/>
          <p:nvPr/>
        </p:nvSpPr>
        <p:spPr>
          <a:xfrm>
            <a:off x="1042920" y="1819440"/>
            <a:ext cx="6098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表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3" name="文本框 64"/>
          <p:cNvSpPr/>
          <p:nvPr/>
        </p:nvSpPr>
        <p:spPr>
          <a:xfrm>
            <a:off x="2340000" y="1819440"/>
            <a:ext cx="998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胆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4" name="文本框 64"/>
          <p:cNvSpPr/>
          <p:nvPr/>
        </p:nvSpPr>
        <p:spPr>
          <a:xfrm>
            <a:off x="3635280" y="1819440"/>
            <a:ext cx="944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鬼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5" name="文本框 64"/>
          <p:cNvSpPr/>
          <p:nvPr/>
        </p:nvSpPr>
        <p:spPr>
          <a:xfrm>
            <a:off x="4859280" y="1819440"/>
            <a:ext cx="944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理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6" name="文本框 64"/>
          <p:cNvSpPr/>
          <p:nvPr/>
        </p:nvSpPr>
        <p:spPr>
          <a:xfrm>
            <a:off x="6084720" y="1819440"/>
            <a:ext cx="935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夺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177" name="文本框 64"/>
          <p:cNvSpPr/>
          <p:nvPr/>
        </p:nvSpPr>
        <p:spPr>
          <a:xfrm>
            <a:off x="7308720" y="1819440"/>
            <a:ext cx="8334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骂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7308720" y="1819440"/>
            <a:ext cx="1028880" cy="1447200"/>
            <a:chOff x="7308720" y="1819440"/>
            <a:chExt cx="1028880" cy="1447200"/>
          </a:xfrm>
        </p:grpSpPr>
        <p:sp>
          <p:nvSpPr>
            <p:cNvPr id="179" name="矩形 1"/>
            <p:cNvSpPr/>
            <p:nvPr/>
          </p:nvSpPr>
          <p:spPr>
            <a:xfrm>
              <a:off x="7308720" y="1819440"/>
              <a:ext cx="1028880" cy="142452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80" name="直接连接符 4"/>
            <p:cNvSpPr/>
            <p:nvPr/>
          </p:nvSpPr>
          <p:spPr>
            <a:xfrm>
              <a:off x="7308720" y="2520720"/>
              <a:ext cx="102888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81" name="直接连接符 6"/>
            <p:cNvSpPr/>
            <p:nvPr/>
          </p:nvSpPr>
          <p:spPr>
            <a:xfrm>
              <a:off x="7823520" y="1842120"/>
              <a:ext cx="0" cy="142452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182" name="组合 7"/>
          <p:cNvGrpSpPr/>
          <p:nvPr/>
        </p:nvGrpSpPr>
        <p:grpSpPr>
          <a:xfrm>
            <a:off x="6084720" y="1819440"/>
            <a:ext cx="1028880" cy="1447200"/>
            <a:chOff x="6084720" y="1819440"/>
            <a:chExt cx="1028880" cy="1447200"/>
          </a:xfrm>
        </p:grpSpPr>
        <p:sp>
          <p:nvSpPr>
            <p:cNvPr id="183" name="矩形 1"/>
            <p:cNvSpPr/>
            <p:nvPr/>
          </p:nvSpPr>
          <p:spPr>
            <a:xfrm>
              <a:off x="6084720" y="1819440"/>
              <a:ext cx="1028880" cy="142452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84" name="直接连接符 4"/>
            <p:cNvSpPr/>
            <p:nvPr/>
          </p:nvSpPr>
          <p:spPr>
            <a:xfrm>
              <a:off x="6084720" y="2520720"/>
              <a:ext cx="102888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85" name="直接连接符 6"/>
            <p:cNvSpPr/>
            <p:nvPr/>
          </p:nvSpPr>
          <p:spPr>
            <a:xfrm>
              <a:off x="6599520" y="1842120"/>
              <a:ext cx="0" cy="142452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186" name="组合 7"/>
          <p:cNvGrpSpPr/>
          <p:nvPr/>
        </p:nvGrpSpPr>
        <p:grpSpPr>
          <a:xfrm>
            <a:off x="4859280" y="1811160"/>
            <a:ext cx="1030320" cy="1447560"/>
            <a:chOff x="4859280" y="1811160"/>
            <a:chExt cx="1030320" cy="1447560"/>
          </a:xfrm>
        </p:grpSpPr>
        <p:sp>
          <p:nvSpPr>
            <p:cNvPr id="187" name="矩形 1"/>
            <p:cNvSpPr/>
            <p:nvPr/>
          </p:nvSpPr>
          <p:spPr>
            <a:xfrm>
              <a:off x="4859280" y="1811160"/>
              <a:ext cx="103032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88" name="直接连接符 4"/>
            <p:cNvSpPr/>
            <p:nvPr/>
          </p:nvSpPr>
          <p:spPr>
            <a:xfrm>
              <a:off x="4859280" y="2512800"/>
              <a:ext cx="103032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89" name="直接连接符 6"/>
            <p:cNvSpPr/>
            <p:nvPr/>
          </p:nvSpPr>
          <p:spPr>
            <a:xfrm>
              <a:off x="5374800" y="183384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190" name="组合 7"/>
          <p:cNvGrpSpPr/>
          <p:nvPr/>
        </p:nvGrpSpPr>
        <p:grpSpPr>
          <a:xfrm>
            <a:off x="3564000" y="1811160"/>
            <a:ext cx="1028520" cy="1447560"/>
            <a:chOff x="3564000" y="1811160"/>
            <a:chExt cx="1028520" cy="1447560"/>
          </a:xfrm>
        </p:grpSpPr>
        <p:sp>
          <p:nvSpPr>
            <p:cNvPr id="191" name="矩形 1"/>
            <p:cNvSpPr/>
            <p:nvPr/>
          </p:nvSpPr>
          <p:spPr>
            <a:xfrm>
              <a:off x="3564000" y="1811160"/>
              <a:ext cx="102852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92" name="直接连接符 4"/>
            <p:cNvSpPr/>
            <p:nvPr/>
          </p:nvSpPr>
          <p:spPr>
            <a:xfrm>
              <a:off x="3564000" y="2512800"/>
              <a:ext cx="102852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93" name="直接连接符 6"/>
            <p:cNvSpPr/>
            <p:nvPr/>
          </p:nvSpPr>
          <p:spPr>
            <a:xfrm>
              <a:off x="4078800" y="183384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194" name="组合 7"/>
          <p:cNvGrpSpPr/>
          <p:nvPr/>
        </p:nvGrpSpPr>
        <p:grpSpPr>
          <a:xfrm>
            <a:off x="2340000" y="1811160"/>
            <a:ext cx="1028520" cy="1447560"/>
            <a:chOff x="2340000" y="1811160"/>
            <a:chExt cx="1028520" cy="1447560"/>
          </a:xfrm>
        </p:grpSpPr>
        <p:sp>
          <p:nvSpPr>
            <p:cNvPr id="195" name="矩形 1"/>
            <p:cNvSpPr/>
            <p:nvPr/>
          </p:nvSpPr>
          <p:spPr>
            <a:xfrm>
              <a:off x="2340000" y="1811160"/>
              <a:ext cx="102852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96" name="直接连接符 4"/>
            <p:cNvSpPr/>
            <p:nvPr/>
          </p:nvSpPr>
          <p:spPr>
            <a:xfrm>
              <a:off x="2340000" y="2512800"/>
              <a:ext cx="102852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197" name="直接连接符 6"/>
            <p:cNvSpPr/>
            <p:nvPr/>
          </p:nvSpPr>
          <p:spPr>
            <a:xfrm>
              <a:off x="2854800" y="183384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198" name="组合 7"/>
          <p:cNvGrpSpPr/>
          <p:nvPr/>
        </p:nvGrpSpPr>
        <p:grpSpPr>
          <a:xfrm>
            <a:off x="1042920" y="1817640"/>
            <a:ext cx="1030320" cy="1427040"/>
            <a:chOff x="1042920" y="1817640"/>
            <a:chExt cx="1030320" cy="1427040"/>
          </a:xfrm>
        </p:grpSpPr>
        <p:sp>
          <p:nvSpPr>
            <p:cNvPr id="199" name="矩形 1"/>
            <p:cNvSpPr/>
            <p:nvPr/>
          </p:nvSpPr>
          <p:spPr>
            <a:xfrm>
              <a:off x="1042920" y="1817640"/>
              <a:ext cx="1030320" cy="142704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00" name="直接连接符 4"/>
            <p:cNvSpPr/>
            <p:nvPr/>
          </p:nvSpPr>
          <p:spPr>
            <a:xfrm>
              <a:off x="1042920" y="2520000"/>
              <a:ext cx="103032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sp>
        <p:nvSpPr>
          <p:cNvPr id="201" name="TextBox 11"/>
          <p:cNvSpPr/>
          <p:nvPr/>
        </p:nvSpPr>
        <p:spPr>
          <a:xfrm>
            <a:off x="468360" y="698400"/>
            <a:ext cx="1120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楷体"/>
                <a:ea typeface="楷体"/>
              </a:rPr>
              <a:t>我会写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202" name="矩形 68" descr=""/>
          <p:cNvPicPr/>
          <p:nvPr/>
        </p:nvPicPr>
        <p:blipFill>
          <a:blip r:embed="rId1"/>
          <a:stretch/>
        </p:blipFill>
        <p:spPr>
          <a:xfrm>
            <a:off x="1504800" y="789120"/>
            <a:ext cx="144720" cy="431640"/>
          </a:xfrm>
          <a:prstGeom prst="rect">
            <a:avLst/>
          </a:prstGeom>
          <a:ln w="0">
            <a:noFill/>
          </a:ln>
        </p:spPr>
      </p:pic>
      <p:pic>
        <p:nvPicPr>
          <p:cNvPr id="203" name="矩形 69" descr=""/>
          <p:cNvPicPr/>
          <p:nvPr/>
        </p:nvPicPr>
        <p:blipFill>
          <a:blip r:embed="rId2"/>
          <a:stretch/>
        </p:blipFill>
        <p:spPr>
          <a:xfrm>
            <a:off x="487440" y="822240"/>
            <a:ext cx="144360" cy="43200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64"/>
          <p:cNvSpPr/>
          <p:nvPr/>
        </p:nvSpPr>
        <p:spPr>
          <a:xfrm>
            <a:off x="1128600" y="4084560"/>
            <a:ext cx="6080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仇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05" name="文本框 64"/>
          <p:cNvSpPr/>
          <p:nvPr/>
        </p:nvSpPr>
        <p:spPr>
          <a:xfrm>
            <a:off x="2424240" y="4084560"/>
            <a:ext cx="10000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差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06" name="文本框 64"/>
          <p:cNvSpPr/>
          <p:nvPr/>
        </p:nvSpPr>
        <p:spPr>
          <a:xfrm>
            <a:off x="3720960" y="4084560"/>
            <a:ext cx="944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付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07" name="文本框 64"/>
          <p:cNvSpPr/>
          <p:nvPr/>
        </p:nvSpPr>
        <p:spPr>
          <a:xfrm>
            <a:off x="4944960" y="4084560"/>
            <a:ext cx="944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倍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08" name="文本框 64"/>
          <p:cNvSpPr/>
          <p:nvPr/>
        </p:nvSpPr>
        <p:spPr>
          <a:xfrm>
            <a:off x="6168960" y="4084560"/>
            <a:ext cx="935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虽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09" name="文本框 64"/>
          <p:cNvSpPr/>
          <p:nvPr/>
        </p:nvSpPr>
        <p:spPr>
          <a:xfrm>
            <a:off x="7392960" y="4084560"/>
            <a:ext cx="8352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件</a:t>
            </a:r>
            <a:endParaRPr b="0" lang="en-US" sz="66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7392960" y="4084560"/>
            <a:ext cx="1028880" cy="1447560"/>
            <a:chOff x="7392960" y="4084560"/>
            <a:chExt cx="1028880" cy="1447560"/>
          </a:xfrm>
        </p:grpSpPr>
        <p:sp>
          <p:nvSpPr>
            <p:cNvPr id="211" name="矩形 1"/>
            <p:cNvSpPr/>
            <p:nvPr/>
          </p:nvSpPr>
          <p:spPr>
            <a:xfrm>
              <a:off x="7392960" y="4084560"/>
              <a:ext cx="102888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12" name="直接连接符 4"/>
            <p:cNvSpPr/>
            <p:nvPr/>
          </p:nvSpPr>
          <p:spPr>
            <a:xfrm>
              <a:off x="7392960" y="4786200"/>
              <a:ext cx="102888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13" name="直接连接符 6"/>
            <p:cNvSpPr/>
            <p:nvPr/>
          </p:nvSpPr>
          <p:spPr>
            <a:xfrm>
              <a:off x="7907760" y="410724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214" name="组合 7"/>
          <p:cNvGrpSpPr/>
          <p:nvPr/>
        </p:nvGrpSpPr>
        <p:grpSpPr>
          <a:xfrm>
            <a:off x="6168960" y="4084560"/>
            <a:ext cx="1028880" cy="1447560"/>
            <a:chOff x="6168960" y="4084560"/>
            <a:chExt cx="1028880" cy="1447560"/>
          </a:xfrm>
        </p:grpSpPr>
        <p:sp>
          <p:nvSpPr>
            <p:cNvPr id="215" name="矩形 1"/>
            <p:cNvSpPr/>
            <p:nvPr/>
          </p:nvSpPr>
          <p:spPr>
            <a:xfrm>
              <a:off x="6168960" y="4084560"/>
              <a:ext cx="102888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16" name="直接连接符 4"/>
            <p:cNvSpPr/>
            <p:nvPr/>
          </p:nvSpPr>
          <p:spPr>
            <a:xfrm>
              <a:off x="6168960" y="4786200"/>
              <a:ext cx="102888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17" name="直接连接符 6"/>
            <p:cNvSpPr/>
            <p:nvPr/>
          </p:nvSpPr>
          <p:spPr>
            <a:xfrm>
              <a:off x="6683760" y="410724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218" name="组合 7"/>
          <p:cNvGrpSpPr/>
          <p:nvPr/>
        </p:nvGrpSpPr>
        <p:grpSpPr>
          <a:xfrm>
            <a:off x="4944960" y="4076640"/>
            <a:ext cx="1028880" cy="1447560"/>
            <a:chOff x="4944960" y="4076640"/>
            <a:chExt cx="1028880" cy="1447560"/>
          </a:xfrm>
        </p:grpSpPr>
        <p:sp>
          <p:nvSpPr>
            <p:cNvPr id="219" name="矩形 1"/>
            <p:cNvSpPr/>
            <p:nvPr/>
          </p:nvSpPr>
          <p:spPr>
            <a:xfrm>
              <a:off x="4944960" y="4076640"/>
              <a:ext cx="102888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20" name="直接连接符 4"/>
            <p:cNvSpPr/>
            <p:nvPr/>
          </p:nvSpPr>
          <p:spPr>
            <a:xfrm>
              <a:off x="4944960" y="4778280"/>
              <a:ext cx="102888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21" name="直接连接符 6"/>
            <p:cNvSpPr/>
            <p:nvPr/>
          </p:nvSpPr>
          <p:spPr>
            <a:xfrm>
              <a:off x="5459760" y="409932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222" name="组合 7"/>
          <p:cNvGrpSpPr/>
          <p:nvPr/>
        </p:nvGrpSpPr>
        <p:grpSpPr>
          <a:xfrm>
            <a:off x="3648240" y="4076640"/>
            <a:ext cx="1028520" cy="1447560"/>
            <a:chOff x="3648240" y="4076640"/>
            <a:chExt cx="1028520" cy="1447560"/>
          </a:xfrm>
        </p:grpSpPr>
        <p:sp>
          <p:nvSpPr>
            <p:cNvPr id="223" name="矩形 1"/>
            <p:cNvSpPr/>
            <p:nvPr/>
          </p:nvSpPr>
          <p:spPr>
            <a:xfrm>
              <a:off x="3648240" y="4076640"/>
              <a:ext cx="102852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24" name="直接连接符 4"/>
            <p:cNvSpPr/>
            <p:nvPr/>
          </p:nvSpPr>
          <p:spPr>
            <a:xfrm>
              <a:off x="3648240" y="4778280"/>
              <a:ext cx="102852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25" name="直接连接符 6"/>
            <p:cNvSpPr/>
            <p:nvPr/>
          </p:nvSpPr>
          <p:spPr>
            <a:xfrm>
              <a:off x="4163040" y="409932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226" name="组合 7"/>
          <p:cNvGrpSpPr/>
          <p:nvPr/>
        </p:nvGrpSpPr>
        <p:grpSpPr>
          <a:xfrm>
            <a:off x="2424240" y="4076640"/>
            <a:ext cx="1028520" cy="1447560"/>
            <a:chOff x="2424240" y="4076640"/>
            <a:chExt cx="1028520" cy="1447560"/>
          </a:xfrm>
        </p:grpSpPr>
        <p:sp>
          <p:nvSpPr>
            <p:cNvPr id="227" name="矩形 1"/>
            <p:cNvSpPr/>
            <p:nvPr/>
          </p:nvSpPr>
          <p:spPr>
            <a:xfrm>
              <a:off x="2424240" y="4076640"/>
              <a:ext cx="1028520" cy="142488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28" name="直接连接符 4"/>
            <p:cNvSpPr/>
            <p:nvPr/>
          </p:nvSpPr>
          <p:spPr>
            <a:xfrm>
              <a:off x="2424240" y="4778280"/>
              <a:ext cx="102852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29" name="直接连接符 6"/>
            <p:cNvSpPr/>
            <p:nvPr/>
          </p:nvSpPr>
          <p:spPr>
            <a:xfrm>
              <a:off x="2939040" y="4099320"/>
              <a:ext cx="0" cy="142488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grpSp>
        <p:nvGrpSpPr>
          <p:cNvPr id="230" name="组合 7"/>
          <p:cNvGrpSpPr/>
          <p:nvPr/>
        </p:nvGrpSpPr>
        <p:grpSpPr>
          <a:xfrm>
            <a:off x="1128600" y="4083120"/>
            <a:ext cx="1028880" cy="1425600"/>
            <a:chOff x="1128600" y="4083120"/>
            <a:chExt cx="1028880" cy="1425600"/>
          </a:xfrm>
        </p:grpSpPr>
        <p:sp>
          <p:nvSpPr>
            <p:cNvPr id="231" name="矩形 1"/>
            <p:cNvSpPr/>
            <p:nvPr/>
          </p:nvSpPr>
          <p:spPr>
            <a:xfrm>
              <a:off x="1128600" y="4083120"/>
              <a:ext cx="1028880" cy="1425600"/>
            </a:xfrm>
            <a:prstGeom prst="rect">
              <a:avLst/>
            </a:prstGeom>
            <a:noFill/>
            <a:ln w="1908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32" name="直接连接符 4"/>
            <p:cNvSpPr/>
            <p:nvPr/>
          </p:nvSpPr>
          <p:spPr>
            <a:xfrm>
              <a:off x="1128600" y="4784760"/>
              <a:ext cx="1028880" cy="0"/>
            </a:xfrm>
            <a:prstGeom prst="line">
              <a:avLst/>
            </a:prstGeom>
            <a:ln w="12600">
              <a:solidFill>
                <a:srgbClr val="3d3f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</p:spTree>
  </p:cSld>
  <p:transition spd="slow">
    <p:push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82" descr=""/>
          <p:cNvPicPr/>
          <p:nvPr/>
        </p:nvPicPr>
        <p:blipFill>
          <a:blip r:embed="rId1"/>
          <a:stretch/>
        </p:blipFill>
        <p:spPr>
          <a:xfrm>
            <a:off x="5824440" y="1812960"/>
            <a:ext cx="2995560" cy="3340080"/>
          </a:xfrm>
          <a:prstGeom prst="rect">
            <a:avLst/>
          </a:prstGeom>
          <a:ln w="0">
            <a:noFill/>
          </a:ln>
        </p:spPr>
      </p:pic>
      <p:sp>
        <p:nvSpPr>
          <p:cNvPr id="234" name="直线连接符 75"/>
          <p:cNvSpPr/>
          <p:nvPr/>
        </p:nvSpPr>
        <p:spPr>
          <a:xfrm>
            <a:off x="6203880" y="3049560"/>
            <a:ext cx="2192400" cy="0"/>
          </a:xfrm>
          <a:prstGeom prst="line">
            <a:avLst/>
          </a:prstGeom>
          <a:ln w="15840">
            <a:solidFill>
              <a:srgbClr val="41b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235" name="图片 84" descr=""/>
          <p:cNvPicPr/>
          <p:nvPr/>
        </p:nvPicPr>
        <p:blipFill>
          <a:blip r:embed="rId2"/>
          <a:stretch/>
        </p:blipFill>
        <p:spPr>
          <a:xfrm>
            <a:off x="3467160" y="1892160"/>
            <a:ext cx="2206440" cy="23655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85" descr=""/>
          <p:cNvPicPr/>
          <p:nvPr/>
        </p:nvPicPr>
        <p:blipFill>
          <a:blip r:embed="rId3"/>
          <a:stretch/>
        </p:blipFill>
        <p:spPr>
          <a:xfrm>
            <a:off x="250920" y="1812960"/>
            <a:ext cx="3116160" cy="334008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64"/>
          <p:cNvSpPr/>
          <p:nvPr/>
        </p:nvSpPr>
        <p:spPr>
          <a:xfrm>
            <a:off x="917640" y="2468520"/>
            <a:ext cx="1800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255fcf"/>
                </a:solidFill>
                <a:latin typeface="楷体"/>
                <a:ea typeface="楷体"/>
              </a:rPr>
              <a:t>左右  结构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38" name="文本框 64"/>
          <p:cNvSpPr/>
          <p:nvPr/>
        </p:nvSpPr>
        <p:spPr>
          <a:xfrm>
            <a:off x="2235240" y="32367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仇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39" name="文本框 64"/>
          <p:cNvSpPr/>
          <p:nvPr/>
        </p:nvSpPr>
        <p:spPr>
          <a:xfrm>
            <a:off x="684360" y="32367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胆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84360" y="410040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付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1" name="文本框 64"/>
          <p:cNvSpPr/>
          <p:nvPr/>
        </p:nvSpPr>
        <p:spPr>
          <a:xfrm>
            <a:off x="1490760" y="32367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理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2" name="文本框 64"/>
          <p:cNvSpPr/>
          <p:nvPr/>
        </p:nvSpPr>
        <p:spPr>
          <a:xfrm>
            <a:off x="2235240" y="410040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件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3" name="文本框 64"/>
          <p:cNvSpPr/>
          <p:nvPr/>
        </p:nvSpPr>
        <p:spPr>
          <a:xfrm>
            <a:off x="1490760" y="410040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倍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4" name="文本框 64"/>
          <p:cNvSpPr/>
          <p:nvPr/>
        </p:nvSpPr>
        <p:spPr>
          <a:xfrm>
            <a:off x="3703680" y="2468520"/>
            <a:ext cx="1969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255fcf"/>
                </a:solidFill>
                <a:latin typeface="楷体"/>
                <a:ea typeface="楷体"/>
              </a:rPr>
              <a:t>半包围 结构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5" name="文本框 64"/>
          <p:cNvSpPr/>
          <p:nvPr/>
        </p:nvSpPr>
        <p:spPr>
          <a:xfrm>
            <a:off x="3733920" y="307512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鬼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6" name="文本框 64"/>
          <p:cNvSpPr/>
          <p:nvPr/>
        </p:nvSpPr>
        <p:spPr>
          <a:xfrm>
            <a:off x="6443640" y="2468520"/>
            <a:ext cx="172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255fcf"/>
                </a:solidFill>
                <a:latin typeface="楷体"/>
                <a:ea typeface="楷体"/>
              </a:rPr>
              <a:t>上下  结构</a:t>
            </a:r>
            <a:endParaRPr b="0" lang="en-US" sz="2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7" name="文本框 64"/>
          <p:cNvSpPr/>
          <p:nvPr/>
        </p:nvSpPr>
        <p:spPr>
          <a:xfrm>
            <a:off x="6361200" y="32367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表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8" name="文本框 64"/>
          <p:cNvSpPr/>
          <p:nvPr/>
        </p:nvSpPr>
        <p:spPr>
          <a:xfrm>
            <a:off x="7551720" y="32241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夺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49" name="文本框 64"/>
          <p:cNvSpPr/>
          <p:nvPr/>
        </p:nvSpPr>
        <p:spPr>
          <a:xfrm>
            <a:off x="4586400" y="30765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差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50" name="文本框 64"/>
          <p:cNvSpPr/>
          <p:nvPr/>
        </p:nvSpPr>
        <p:spPr>
          <a:xfrm>
            <a:off x="6361200" y="410544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骂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3909960" y="741240"/>
            <a:ext cx="193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生字归类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252" name="组合 101"/>
          <p:cNvGrpSpPr/>
          <p:nvPr/>
        </p:nvGrpSpPr>
        <p:grpSpPr>
          <a:xfrm>
            <a:off x="3419640" y="836640"/>
            <a:ext cx="457200" cy="608040"/>
            <a:chOff x="3419640" y="836640"/>
            <a:chExt cx="457200" cy="608040"/>
          </a:xfrm>
        </p:grpSpPr>
        <p:sp>
          <p:nvSpPr>
            <p:cNvPr id="253" name="Oval 10"/>
            <p:cNvSpPr/>
            <p:nvPr/>
          </p:nvSpPr>
          <p:spPr>
            <a:xfrm>
              <a:off x="3419640" y="836640"/>
              <a:ext cx="45720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>
              <a:off x="3665880" y="903600"/>
              <a:ext cx="10080" cy="342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>
              <a:off x="3666600" y="925920"/>
              <a:ext cx="60120" cy="14040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>
              <a:off x="3608640" y="925920"/>
              <a:ext cx="58680" cy="13932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3638160" y="888120"/>
              <a:ext cx="36720" cy="20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3638160" y="889920"/>
              <a:ext cx="3672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3500640" y="1250640"/>
              <a:ext cx="266400" cy="889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0" name="Rectangle 17"/>
            <p:cNvSpPr/>
            <p:nvPr/>
          </p:nvSpPr>
          <p:spPr>
            <a:xfrm>
              <a:off x="372852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1" name="Rectangle 18"/>
            <p:cNvSpPr/>
            <p:nvPr/>
          </p:nvSpPr>
          <p:spPr>
            <a:xfrm>
              <a:off x="371952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370836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3" name="Rectangle 20"/>
            <p:cNvSpPr/>
            <p:nvPr/>
          </p:nvSpPr>
          <p:spPr>
            <a:xfrm>
              <a:off x="3536640" y="1127520"/>
              <a:ext cx="13968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4" name="Rectangle 21"/>
            <p:cNvSpPr/>
            <p:nvPr/>
          </p:nvSpPr>
          <p:spPr>
            <a:xfrm>
              <a:off x="3536640" y="1127520"/>
              <a:ext cx="13968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5" name="Rectangle 22"/>
            <p:cNvSpPr/>
            <p:nvPr/>
          </p:nvSpPr>
          <p:spPr>
            <a:xfrm>
              <a:off x="3536640" y="115812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6" name="Rectangle 23"/>
            <p:cNvSpPr/>
            <p:nvPr/>
          </p:nvSpPr>
          <p:spPr>
            <a:xfrm>
              <a:off x="3536640" y="115812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7" name="Rectangle 24"/>
            <p:cNvSpPr/>
            <p:nvPr/>
          </p:nvSpPr>
          <p:spPr>
            <a:xfrm>
              <a:off x="3536640" y="1176840"/>
              <a:ext cx="13968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3536640" y="1176840"/>
              <a:ext cx="1396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69" name="Rectangle 26"/>
            <p:cNvSpPr/>
            <p:nvPr/>
          </p:nvSpPr>
          <p:spPr>
            <a:xfrm>
              <a:off x="3536640" y="117036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0" name="Rectangle 27"/>
            <p:cNvSpPr/>
            <p:nvPr/>
          </p:nvSpPr>
          <p:spPr>
            <a:xfrm>
              <a:off x="3536640" y="117036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1" name="Rectangle 28"/>
            <p:cNvSpPr/>
            <p:nvPr/>
          </p:nvSpPr>
          <p:spPr>
            <a:xfrm>
              <a:off x="3536640" y="11512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2" name="Rectangle 29"/>
            <p:cNvSpPr/>
            <p:nvPr/>
          </p:nvSpPr>
          <p:spPr>
            <a:xfrm>
              <a:off x="3536640" y="11512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3" name="Rectangle 30"/>
            <p:cNvSpPr/>
            <p:nvPr/>
          </p:nvSpPr>
          <p:spPr>
            <a:xfrm>
              <a:off x="3536640" y="113256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4" name="Rectangle 31"/>
            <p:cNvSpPr/>
            <p:nvPr/>
          </p:nvSpPr>
          <p:spPr>
            <a:xfrm>
              <a:off x="3536640" y="113256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5" name="Rectangle 32"/>
            <p:cNvSpPr/>
            <p:nvPr/>
          </p:nvSpPr>
          <p:spPr>
            <a:xfrm>
              <a:off x="3536640" y="119052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6" name="Rectangle 33"/>
            <p:cNvSpPr/>
            <p:nvPr/>
          </p:nvSpPr>
          <p:spPr>
            <a:xfrm>
              <a:off x="3536640" y="119052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7" name="Rectangle 34"/>
            <p:cNvSpPr/>
            <p:nvPr/>
          </p:nvSpPr>
          <p:spPr>
            <a:xfrm>
              <a:off x="3536640" y="11383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8" name="Rectangle 35"/>
            <p:cNvSpPr/>
            <p:nvPr/>
          </p:nvSpPr>
          <p:spPr>
            <a:xfrm>
              <a:off x="3536640" y="11383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79" name="Rectangle 36"/>
            <p:cNvSpPr/>
            <p:nvPr/>
          </p:nvSpPr>
          <p:spPr>
            <a:xfrm>
              <a:off x="3492360" y="1203480"/>
              <a:ext cx="311400" cy="47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80" name="Rectangle 37"/>
            <p:cNvSpPr/>
            <p:nvPr/>
          </p:nvSpPr>
          <p:spPr>
            <a:xfrm>
              <a:off x="3773880" y="1203480"/>
              <a:ext cx="828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81" name="Rectangle 38"/>
            <p:cNvSpPr/>
            <p:nvPr/>
          </p:nvSpPr>
          <p:spPr>
            <a:xfrm>
              <a:off x="3557880" y="1059840"/>
              <a:ext cx="173160" cy="5904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82" name="Rectangle 39"/>
            <p:cNvSpPr/>
            <p:nvPr/>
          </p:nvSpPr>
          <p:spPr>
            <a:xfrm>
              <a:off x="3714480" y="1059840"/>
              <a:ext cx="3960" cy="590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3531600" y="1118880"/>
              <a:ext cx="155880" cy="846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3653280" y="1170360"/>
              <a:ext cx="12600" cy="4788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sp>
        <p:nvSpPr>
          <p:cNvPr id="285" name="直线连接符 5"/>
          <p:cNvSpPr/>
          <p:nvPr/>
        </p:nvSpPr>
        <p:spPr>
          <a:xfrm>
            <a:off x="669960" y="3049560"/>
            <a:ext cx="2192400" cy="0"/>
          </a:xfrm>
          <a:prstGeom prst="line">
            <a:avLst/>
          </a:prstGeom>
          <a:ln w="15840">
            <a:solidFill>
              <a:srgbClr val="41b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86" name="直线连接符 73"/>
          <p:cNvSpPr/>
          <p:nvPr/>
        </p:nvSpPr>
        <p:spPr>
          <a:xfrm flipV="1">
            <a:off x="3625920" y="3044520"/>
            <a:ext cx="1806480" cy="4680"/>
          </a:xfrm>
          <a:prstGeom prst="line">
            <a:avLst/>
          </a:prstGeom>
          <a:ln w="15840">
            <a:solidFill>
              <a:srgbClr val="41b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287" name="文本框 64"/>
          <p:cNvSpPr/>
          <p:nvPr/>
        </p:nvSpPr>
        <p:spPr>
          <a:xfrm>
            <a:off x="7564320" y="410544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虽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1"/>
          <p:cNvSpPr/>
          <p:nvPr/>
        </p:nvSpPr>
        <p:spPr>
          <a:xfrm>
            <a:off x="3909960" y="741240"/>
            <a:ext cx="193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识字方法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289" name="组合 101"/>
          <p:cNvGrpSpPr/>
          <p:nvPr/>
        </p:nvGrpSpPr>
        <p:grpSpPr>
          <a:xfrm>
            <a:off x="3419640" y="836640"/>
            <a:ext cx="457200" cy="608040"/>
            <a:chOff x="3419640" y="836640"/>
            <a:chExt cx="457200" cy="608040"/>
          </a:xfrm>
        </p:grpSpPr>
        <p:sp>
          <p:nvSpPr>
            <p:cNvPr id="290" name="Oval 10"/>
            <p:cNvSpPr/>
            <p:nvPr/>
          </p:nvSpPr>
          <p:spPr>
            <a:xfrm>
              <a:off x="3419640" y="836640"/>
              <a:ext cx="45720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3665880" y="903600"/>
              <a:ext cx="10080" cy="342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3666600" y="925920"/>
              <a:ext cx="60120" cy="14040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3608640" y="925920"/>
              <a:ext cx="58680" cy="13932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3638160" y="888120"/>
              <a:ext cx="36720" cy="20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3638160" y="889920"/>
              <a:ext cx="3672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3500640" y="1250640"/>
              <a:ext cx="266400" cy="889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372852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8" name="Rectangle 18"/>
            <p:cNvSpPr/>
            <p:nvPr/>
          </p:nvSpPr>
          <p:spPr>
            <a:xfrm>
              <a:off x="371952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299" name="Rectangle 19"/>
            <p:cNvSpPr/>
            <p:nvPr/>
          </p:nvSpPr>
          <p:spPr>
            <a:xfrm>
              <a:off x="370836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3536640" y="1127520"/>
              <a:ext cx="13968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3536640" y="1127520"/>
              <a:ext cx="13968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3536640" y="115812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3" name="Rectangle 23"/>
            <p:cNvSpPr/>
            <p:nvPr/>
          </p:nvSpPr>
          <p:spPr>
            <a:xfrm>
              <a:off x="3536640" y="115812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3536640" y="1176840"/>
              <a:ext cx="13968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5" name="Rectangle 25"/>
            <p:cNvSpPr/>
            <p:nvPr/>
          </p:nvSpPr>
          <p:spPr>
            <a:xfrm>
              <a:off x="3536640" y="1176840"/>
              <a:ext cx="1396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6" name="Rectangle 26"/>
            <p:cNvSpPr/>
            <p:nvPr/>
          </p:nvSpPr>
          <p:spPr>
            <a:xfrm>
              <a:off x="3536640" y="117036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7" name="Rectangle 27"/>
            <p:cNvSpPr/>
            <p:nvPr/>
          </p:nvSpPr>
          <p:spPr>
            <a:xfrm>
              <a:off x="3536640" y="117036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8" name="Rectangle 28"/>
            <p:cNvSpPr/>
            <p:nvPr/>
          </p:nvSpPr>
          <p:spPr>
            <a:xfrm>
              <a:off x="3536640" y="11512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09" name="Rectangle 29"/>
            <p:cNvSpPr/>
            <p:nvPr/>
          </p:nvSpPr>
          <p:spPr>
            <a:xfrm>
              <a:off x="3536640" y="11512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0" name="Rectangle 30"/>
            <p:cNvSpPr/>
            <p:nvPr/>
          </p:nvSpPr>
          <p:spPr>
            <a:xfrm>
              <a:off x="3536640" y="113256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1" name="Rectangle 31"/>
            <p:cNvSpPr/>
            <p:nvPr/>
          </p:nvSpPr>
          <p:spPr>
            <a:xfrm>
              <a:off x="3536640" y="113256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3536640" y="119052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3536640" y="119052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3536640" y="11383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5" name="Rectangle 35"/>
            <p:cNvSpPr/>
            <p:nvPr/>
          </p:nvSpPr>
          <p:spPr>
            <a:xfrm>
              <a:off x="3536640" y="11383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6" name="Rectangle 36"/>
            <p:cNvSpPr/>
            <p:nvPr/>
          </p:nvSpPr>
          <p:spPr>
            <a:xfrm>
              <a:off x="3492360" y="1203480"/>
              <a:ext cx="311400" cy="47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7" name="Rectangle 37"/>
            <p:cNvSpPr/>
            <p:nvPr/>
          </p:nvSpPr>
          <p:spPr>
            <a:xfrm>
              <a:off x="3773880" y="1203480"/>
              <a:ext cx="828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8" name="Rectangle 38"/>
            <p:cNvSpPr/>
            <p:nvPr/>
          </p:nvSpPr>
          <p:spPr>
            <a:xfrm>
              <a:off x="3557880" y="1059840"/>
              <a:ext cx="173160" cy="5904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19" name="Rectangle 39"/>
            <p:cNvSpPr/>
            <p:nvPr/>
          </p:nvSpPr>
          <p:spPr>
            <a:xfrm>
              <a:off x="3714480" y="1059840"/>
              <a:ext cx="3960" cy="590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20" name="Freeform 40"/>
            <p:cNvSpPr/>
            <p:nvPr/>
          </p:nvSpPr>
          <p:spPr>
            <a:xfrm>
              <a:off x="3531600" y="1118880"/>
              <a:ext cx="155880" cy="846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21" name="Freeform 41"/>
            <p:cNvSpPr/>
            <p:nvPr/>
          </p:nvSpPr>
          <p:spPr>
            <a:xfrm>
              <a:off x="3653280" y="1170360"/>
              <a:ext cx="12600" cy="4788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  <p:sp>
        <p:nvSpPr>
          <p:cNvPr id="322" name="TextBox 37"/>
          <p:cNvSpPr/>
          <p:nvPr/>
        </p:nvSpPr>
        <p:spPr>
          <a:xfrm>
            <a:off x="468360" y="1700280"/>
            <a:ext cx="410364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一加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：王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里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=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理            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口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虫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=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虽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23" name="TextBox 39"/>
          <p:cNvSpPr/>
          <p:nvPr/>
        </p:nvSpPr>
        <p:spPr>
          <a:xfrm>
            <a:off x="433440" y="3914640"/>
            <a:ext cx="176220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字理识字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3d3f41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24" name="TextBox 41"/>
          <p:cNvSpPr/>
          <p:nvPr/>
        </p:nvSpPr>
        <p:spPr>
          <a:xfrm>
            <a:off x="2346480" y="3832200"/>
            <a:ext cx="5299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仇</a:t>
            </a:r>
            <a:endParaRPr b="0" lang="en-US" sz="36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25" name="TextBox 42"/>
          <p:cNvSpPr/>
          <p:nvPr/>
        </p:nvSpPr>
        <p:spPr>
          <a:xfrm>
            <a:off x="2340000" y="5045040"/>
            <a:ext cx="594036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形声字。</a:t>
            </a:r>
            <a:r>
              <a:rPr b="0" lang="zh-CN" sz="2700" spc="-1" strike="noStrike">
                <a:solidFill>
                  <a:srgbClr val="3d3f41"/>
                </a:solidFill>
                <a:latin typeface="华文中宋"/>
              </a:rPr>
              <a:t>深切的怨恨的意思</a:t>
            </a:r>
            <a:r>
              <a:rPr b="0" lang="zh-CN" sz="2700" spc="-1" strike="noStrike">
                <a:solidFill>
                  <a:srgbClr val="3d3f41"/>
                </a:solidFill>
                <a:latin typeface="黑体"/>
                <a:ea typeface="黑体"/>
              </a:rPr>
              <a:t>。</a:t>
            </a:r>
            <a:r>
              <a:rPr b="0" lang="en-US" sz="2700" spc="-1" strike="noStrike">
                <a:solidFill>
                  <a:srgbClr val="3d3f41"/>
                </a:solidFill>
                <a:latin typeface="黑体"/>
                <a:ea typeface="黑体"/>
              </a:rPr>
              <a:t>        </a:t>
            </a:r>
            <a:endParaRPr b="0" lang="en-US" sz="2700" spc="-1" strike="noStrike">
              <a:solidFill>
                <a:srgbClr val="3d3f41"/>
              </a:solidFill>
              <a:latin typeface="华文中宋"/>
            </a:endParaRPr>
          </a:p>
        </p:txBody>
      </p:sp>
      <p:pic>
        <p:nvPicPr>
          <p:cNvPr id="326" name="Picture 1" descr="C:\Users\Administrator\AppData\Roaming\Tencent\Users\56229019\QQ\WinTemp\RichOle\]L5[7)O9~)M2VKWCAX]DI@C.png"/>
          <p:cNvPicPr/>
          <p:nvPr/>
        </p:nvPicPr>
        <p:blipFill>
          <a:blip r:embed="rId1"/>
          <a:stretch/>
        </p:blipFill>
        <p:spPr>
          <a:xfrm>
            <a:off x="3274920" y="4049640"/>
            <a:ext cx="33735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087640" y="2948040"/>
          <a:ext cx="1481040" cy="20383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10382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TextBox 23"/>
          <p:cNvSpPr/>
          <p:nvPr/>
        </p:nvSpPr>
        <p:spPr>
          <a:xfrm>
            <a:off x="2125800" y="281628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理</a:t>
            </a:r>
            <a:endParaRPr b="0" lang="en-US" sz="10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29" name="TextBox 24"/>
          <p:cNvSpPr/>
          <p:nvPr/>
        </p:nvSpPr>
        <p:spPr>
          <a:xfrm>
            <a:off x="2181240" y="1638360"/>
            <a:ext cx="1244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lǐ</a:t>
            </a:r>
            <a:endParaRPr b="0" lang="en-US" sz="5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4284720" y="3041640"/>
            <a:ext cx="4103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巧记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：大王站在“里”字旁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31" name="矩形 1"/>
          <p:cNvSpPr/>
          <p:nvPr/>
        </p:nvSpPr>
        <p:spPr>
          <a:xfrm>
            <a:off x="2303640" y="3514680"/>
            <a:ext cx="500040" cy="120960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32" name="线形标注 2 3"/>
          <p:cNvSpPr/>
          <p:nvPr/>
        </p:nvSpPr>
        <p:spPr>
          <a:xfrm>
            <a:off x="4464000" y="1749600"/>
            <a:ext cx="2970360" cy="10126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213689"/>
              <a:gd name="adj6" fmla="val -47592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王”作部首时，最后一笔是提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4125960" y="739800"/>
            <a:ext cx="1454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3d3f41"/>
                </a:solidFill>
                <a:latin typeface="楷体"/>
                <a:ea typeface="楷体"/>
              </a:rPr>
              <a:t>易写错</a:t>
            </a:r>
            <a:endParaRPr b="0" lang="en-US" sz="3300" spc="-1" strike="noStrike">
              <a:solidFill>
                <a:srgbClr val="3d3f41"/>
              </a:solidFill>
              <a:latin typeface="华文中宋"/>
            </a:endParaRPr>
          </a:p>
        </p:txBody>
      </p:sp>
      <p:grpSp>
        <p:nvGrpSpPr>
          <p:cNvPr id="334" name="组合 51"/>
          <p:cNvGrpSpPr/>
          <p:nvPr/>
        </p:nvGrpSpPr>
        <p:grpSpPr>
          <a:xfrm>
            <a:off x="3635280" y="836640"/>
            <a:ext cx="457200" cy="608040"/>
            <a:chOff x="3635280" y="836640"/>
            <a:chExt cx="457200" cy="608040"/>
          </a:xfrm>
        </p:grpSpPr>
        <p:sp>
          <p:nvSpPr>
            <p:cNvPr id="335" name="Oval 10"/>
            <p:cNvSpPr/>
            <p:nvPr/>
          </p:nvSpPr>
          <p:spPr>
            <a:xfrm>
              <a:off x="3635280" y="836640"/>
              <a:ext cx="45720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36" name="Freeform 11"/>
            <p:cNvSpPr/>
            <p:nvPr/>
          </p:nvSpPr>
          <p:spPr>
            <a:xfrm>
              <a:off x="3881520" y="903600"/>
              <a:ext cx="10080" cy="342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3882240" y="925920"/>
              <a:ext cx="60120" cy="14040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3824280" y="925920"/>
              <a:ext cx="58680" cy="13932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39" name="Freeform 14"/>
            <p:cNvSpPr/>
            <p:nvPr/>
          </p:nvSpPr>
          <p:spPr>
            <a:xfrm>
              <a:off x="3853800" y="888120"/>
              <a:ext cx="36720" cy="20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0" name="Freeform 15"/>
            <p:cNvSpPr/>
            <p:nvPr/>
          </p:nvSpPr>
          <p:spPr>
            <a:xfrm>
              <a:off x="3853800" y="889920"/>
              <a:ext cx="3672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1" name="Rectangle 16"/>
            <p:cNvSpPr/>
            <p:nvPr/>
          </p:nvSpPr>
          <p:spPr>
            <a:xfrm>
              <a:off x="3716280" y="1250640"/>
              <a:ext cx="266400" cy="889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2" name="Rectangle 17"/>
            <p:cNvSpPr/>
            <p:nvPr/>
          </p:nvSpPr>
          <p:spPr>
            <a:xfrm>
              <a:off x="394416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3" name="Rectangle 18"/>
            <p:cNvSpPr/>
            <p:nvPr/>
          </p:nvSpPr>
          <p:spPr>
            <a:xfrm>
              <a:off x="393516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4" name="Rectangle 19"/>
            <p:cNvSpPr/>
            <p:nvPr/>
          </p:nvSpPr>
          <p:spPr>
            <a:xfrm>
              <a:off x="3924000" y="125064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5" name="Rectangle 20"/>
            <p:cNvSpPr/>
            <p:nvPr/>
          </p:nvSpPr>
          <p:spPr>
            <a:xfrm>
              <a:off x="3752280" y="1127520"/>
              <a:ext cx="13968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6" name="Rectangle 21"/>
            <p:cNvSpPr/>
            <p:nvPr/>
          </p:nvSpPr>
          <p:spPr>
            <a:xfrm>
              <a:off x="3752280" y="1127520"/>
              <a:ext cx="13968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7" name="Rectangle 22"/>
            <p:cNvSpPr/>
            <p:nvPr/>
          </p:nvSpPr>
          <p:spPr>
            <a:xfrm>
              <a:off x="3752280" y="115812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8" name="Rectangle 23"/>
            <p:cNvSpPr/>
            <p:nvPr/>
          </p:nvSpPr>
          <p:spPr>
            <a:xfrm>
              <a:off x="3752280" y="115812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49" name="Rectangle 24"/>
            <p:cNvSpPr/>
            <p:nvPr/>
          </p:nvSpPr>
          <p:spPr>
            <a:xfrm>
              <a:off x="3752280" y="1176840"/>
              <a:ext cx="13968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0" name="Rectangle 25"/>
            <p:cNvSpPr/>
            <p:nvPr/>
          </p:nvSpPr>
          <p:spPr>
            <a:xfrm>
              <a:off x="3752280" y="1176840"/>
              <a:ext cx="1396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1" name="Rectangle 26"/>
            <p:cNvSpPr/>
            <p:nvPr/>
          </p:nvSpPr>
          <p:spPr>
            <a:xfrm>
              <a:off x="3752280" y="117036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2" name="Rectangle 27"/>
            <p:cNvSpPr/>
            <p:nvPr/>
          </p:nvSpPr>
          <p:spPr>
            <a:xfrm>
              <a:off x="3752280" y="117036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3" name="Rectangle 28"/>
            <p:cNvSpPr/>
            <p:nvPr/>
          </p:nvSpPr>
          <p:spPr>
            <a:xfrm>
              <a:off x="3752280" y="11512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4" name="Rectangle 29"/>
            <p:cNvSpPr/>
            <p:nvPr/>
          </p:nvSpPr>
          <p:spPr>
            <a:xfrm>
              <a:off x="3752280" y="11512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5" name="Rectangle 30"/>
            <p:cNvSpPr/>
            <p:nvPr/>
          </p:nvSpPr>
          <p:spPr>
            <a:xfrm>
              <a:off x="3752280" y="113256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6" name="Rectangle 31"/>
            <p:cNvSpPr/>
            <p:nvPr/>
          </p:nvSpPr>
          <p:spPr>
            <a:xfrm>
              <a:off x="3752280" y="113256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7" name="Rectangle 32"/>
            <p:cNvSpPr/>
            <p:nvPr/>
          </p:nvSpPr>
          <p:spPr>
            <a:xfrm>
              <a:off x="3752280" y="119052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8" name="Rectangle 33"/>
            <p:cNvSpPr/>
            <p:nvPr/>
          </p:nvSpPr>
          <p:spPr>
            <a:xfrm>
              <a:off x="3752280" y="119052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3752280" y="11383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0" name="Rectangle 35"/>
            <p:cNvSpPr/>
            <p:nvPr/>
          </p:nvSpPr>
          <p:spPr>
            <a:xfrm>
              <a:off x="3752280" y="11383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1" name="Rectangle 36"/>
            <p:cNvSpPr/>
            <p:nvPr/>
          </p:nvSpPr>
          <p:spPr>
            <a:xfrm>
              <a:off x="3708000" y="1203480"/>
              <a:ext cx="311400" cy="47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2" name="Rectangle 37"/>
            <p:cNvSpPr/>
            <p:nvPr/>
          </p:nvSpPr>
          <p:spPr>
            <a:xfrm>
              <a:off x="3989520" y="1203480"/>
              <a:ext cx="828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3" name="Rectangle 38"/>
            <p:cNvSpPr/>
            <p:nvPr/>
          </p:nvSpPr>
          <p:spPr>
            <a:xfrm>
              <a:off x="3773520" y="1059840"/>
              <a:ext cx="173160" cy="5904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4" name="Rectangle 39"/>
            <p:cNvSpPr/>
            <p:nvPr/>
          </p:nvSpPr>
          <p:spPr>
            <a:xfrm>
              <a:off x="3930120" y="1059840"/>
              <a:ext cx="3960" cy="590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5" name="Freeform 40"/>
            <p:cNvSpPr/>
            <p:nvPr/>
          </p:nvSpPr>
          <p:spPr>
            <a:xfrm>
              <a:off x="3747240" y="1118880"/>
              <a:ext cx="155880" cy="846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  <p:sp>
          <p:nvSpPr>
            <p:cNvPr id="366" name="Freeform 41"/>
            <p:cNvSpPr/>
            <p:nvPr/>
          </p:nvSpPr>
          <p:spPr>
            <a:xfrm>
              <a:off x="3868920" y="1170360"/>
              <a:ext cx="12600" cy="4788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400" spc="-1" strike="noStrike">
                <a:solidFill>
                  <a:srgbClr val="3d3f41"/>
                </a:solidFill>
                <a:latin typeface="华文中宋"/>
              </a:endParaRPr>
            </a:p>
          </p:txBody>
        </p:sp>
      </p:grpSp>
    </p:spTree>
  </p:cSld>
  <p:transition spd="slow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087640" y="2763720"/>
          <a:ext cx="1481040" cy="20383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10382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d3f41"/>
                        </a:solidFill>
                        <a:latin typeface="华文中宋"/>
                      </a:endParaRPr>
                    </a:p>
                  </a:txBody>
                  <a:tcPr anchor="t" marL="57960" marR="57960">
                    <a:lnL w="5760">
                      <a:solidFill>
                        <a:srgbClr val="3d3f41"/>
                      </a:solidFill>
                    </a:lnL>
                    <a:lnR w="5760">
                      <a:solidFill>
                        <a:srgbClr val="3d3f41"/>
                      </a:solidFill>
                    </a:lnR>
                    <a:lnT w="5760">
                      <a:solidFill>
                        <a:srgbClr val="3d3f41"/>
                      </a:solidFill>
                    </a:lnT>
                    <a:lnB w="5760">
                      <a:solidFill>
                        <a:srgbClr val="3d3f4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8" name="TextBox 23"/>
          <p:cNvSpPr/>
          <p:nvPr/>
        </p:nvSpPr>
        <p:spPr>
          <a:xfrm>
            <a:off x="2125800" y="263196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夺</a:t>
            </a:r>
            <a:endParaRPr b="0" lang="en-US" sz="10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2300400" y="1455840"/>
            <a:ext cx="12459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duó</a:t>
            </a:r>
            <a:endParaRPr b="0" lang="en-US" sz="50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70" name="线形标注 2 3"/>
          <p:cNvSpPr/>
          <p:nvPr/>
        </p:nvSpPr>
        <p:spPr>
          <a:xfrm>
            <a:off x="3708360" y="1455840"/>
            <a:ext cx="3995640" cy="718920"/>
          </a:xfrm>
          <a:prstGeom prst="borderCallout2">
            <a:avLst>
              <a:gd name="adj1" fmla="val 18750"/>
              <a:gd name="adj2" fmla="val -8333"/>
              <a:gd name="adj3" fmla="val 96898"/>
              <a:gd name="adj4" fmla="val 50824"/>
              <a:gd name="adj5" fmla="val 282861"/>
              <a:gd name="adj6" fmla="val -7550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”的撇、捺要舒展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71" name="矩形 7"/>
          <p:cNvSpPr/>
          <p:nvPr/>
        </p:nvSpPr>
        <p:spPr>
          <a:xfrm>
            <a:off x="2300400" y="2997360"/>
            <a:ext cx="1136520" cy="95076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d3f41"/>
              </a:solidFill>
              <a:latin typeface="华文中宋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4086360" y="3703680"/>
            <a:ext cx="361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巧记</a:t>
            </a:r>
            <a:r>
              <a:rPr b="0" lang="zh-CN" sz="2800" spc="-1" strike="noStrike">
                <a:solidFill>
                  <a:srgbClr val="3d3f41"/>
                </a:solidFill>
                <a:latin typeface="黑体"/>
                <a:ea typeface="黑体"/>
              </a:rPr>
              <a:t>：大下有一寸。</a:t>
            </a:r>
            <a:endParaRPr b="0" lang="en-US" sz="2800" spc="-1" strike="noStrike">
              <a:solidFill>
                <a:srgbClr val="3d3f41"/>
              </a:solidFill>
              <a:latin typeface="华文中宋"/>
            </a:endParaRPr>
          </a:p>
        </p:txBody>
      </p:sp>
    </p:spTree>
  </p:cSld>
  <p:transition spd="slow"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/>
  <dc:language>en-US</dc:language>
  <cp:lastModifiedBy>微软用户</cp:lastModifiedBy>
  <dcterms:modified xsi:type="dcterms:W3CDTF">2019-02-12T06:20:42Z</dcterms:modified>
  <cp:revision>3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