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E1E4-A96A-4EF8-8306-D7DB8528E9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7C09-5F23-413D-A987-0A461EE2DB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4A92-A1DE-4961-B866-81B2375350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6D10-FE1A-4956-AF41-51FBDAF948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9B3-02F6-4B07-A1FB-A9A7DD3152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B16B-1089-4726-B252-C7807C06B3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9068-4924-4051-A305-CE14BFD591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93D3-63FE-4A57-9EA6-7F427D1F6B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276-3F49-4045-A0FE-B81B9F7B6D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18DA-AA9F-4C2A-8AD9-70248594B0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FB0F-F0AE-4D66-B86B-DF615078EB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E9F7-30AA-423B-B61D-FD262D836F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E550-6BF6-4641-8BE2-C59279A7A3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E37-CAFA-451F-82D8-399B10AC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788688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114800"/>
            <a:ext cx="788688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D7B-CD87-476B-93C6-6F33382C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BC3-9C5C-4CDF-9369-EA9F593F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222408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222408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11480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11480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11480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0A9-1234-4ECC-A9AF-6C9843EA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1D5F-9A2A-4F31-8CD3-F30E7EBC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2224080"/>
            <a:ext cx="7886880" cy="36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7B1E-F510-4866-B324-5CA9F16C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788688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172A-7762-4057-82ED-A68A8EDB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C610-36EB-475B-9930-D1632EF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00E-FE8C-4F8B-B4D4-D96712D4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1133640"/>
            <a:ext cx="78868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1C29-EFDE-4E0D-8433-105E754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4FB4-632C-4D9C-AF8D-07935FE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2224080"/>
            <a:ext cx="7886880" cy="36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B0B-581B-42A2-AA9E-F60343E8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F225-C5DA-419F-8671-0CAB01E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114800"/>
            <a:ext cx="788688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3279-4059-44A6-BC79-C1B2616C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788688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114800"/>
            <a:ext cx="788688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1B3E-8A24-4F82-8E31-5411B0D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C3A4-DA60-4BCD-8DDD-61A14809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222408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222408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11480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11480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114800"/>
            <a:ext cx="253944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EC83-EB30-4D06-8B18-0A0CDD8A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788688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F8C-1D94-41A3-9540-A2886708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306-F4A6-4089-BAA7-AC08287B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892-E452-4CB3-9532-339DB4DB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1133640"/>
            <a:ext cx="78868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692-14C9-4607-9832-05AEE764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881-8694-4361-A462-5D5683D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11480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C11-8B5C-4B58-9DD2-0E5384D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2224080"/>
            <a:ext cx="384876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114800"/>
            <a:ext cx="7886880" cy="17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302-33E5-4465-A90C-076B9418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9630-16CA-4DF7-B732-3D72F1760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#wm#_41_02_*Z"/>
          <p:cNvPicPr/>
          <p:nvPr/>
        </p:nvPicPr>
        <p:blipFill>
          <a:blip r:embed="rId2"/>
          <a:srcRect l="55733" t="0" r="0" b="73765"/>
          <a:stretch/>
        </p:blipFill>
        <p:spPr>
          <a:xfrm>
            <a:off x="7372440" y="0"/>
            <a:ext cx="1768320" cy="1389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#wm#_41_02_*Z"/>
          <p:cNvPicPr/>
          <p:nvPr/>
        </p:nvPicPr>
        <p:blipFill>
          <a:blip r:embed="rId3"/>
          <a:srcRect l="0" t="76277" r="50073" b="0"/>
          <a:stretch/>
        </p:blipFill>
        <p:spPr>
          <a:xfrm>
            <a:off x="1440" y="5400720"/>
            <a:ext cx="2293920" cy="1452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1133640"/>
            <a:ext cx="7886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d0b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6d0b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2224080"/>
            <a:ext cx="788688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9600-7401-4AB5-9144-C00AF7ABED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CBAC-B23D-49D8-BB13-04F624343F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7118" t="12598" r="21354" b="0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7400" y="19810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19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、剃（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tì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）头大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3500" t="3500" r="3500" b="3500"/>
          <a:stretch/>
        </p:blipFill>
        <p:spPr>
          <a:xfrm>
            <a:off x="60199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52880" y="5562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曙光小学   于金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752480"/>
            <a:ext cx="7467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宋体"/>
              </a:rPr>
              <a:t>一眼望去，整个头上坑坑洼洼，耳朵边剪得小心，却像层层梯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5346720"/>
            <a:ext cx="9312120" cy="1511280"/>
            <a:chOff x="0" y="5346720"/>
            <a:chExt cx="9312120" cy="1511280"/>
          </a:xfrm>
        </p:grpSpPr>
        <p:pic>
          <p:nvPicPr>
            <p:cNvPr id="139" name="图片 11" descr="large_2337e177.jpg"/>
            <p:cNvPicPr/>
            <p:nvPr/>
          </p:nvPicPr>
          <p:blipFill>
            <a:blip r:embed="rId1"/>
            <a:stretch/>
          </p:blipFill>
          <p:spPr>
            <a:xfrm>
              <a:off x="0" y="5346720"/>
              <a:ext cx="2387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18" descr="large_167h56.jpg"/>
            <p:cNvPicPr/>
            <p:nvPr/>
          </p:nvPicPr>
          <p:blipFill>
            <a:blip r:embed="rId2"/>
            <a:stretch/>
          </p:blipFill>
          <p:spPr>
            <a:xfrm>
              <a:off x="6995880" y="5346720"/>
              <a:ext cx="2316240" cy="151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图片 15" descr="large_14753k65.jpg"/>
          <p:cNvPicPr/>
          <p:nvPr/>
        </p:nvPicPr>
        <p:blipFill>
          <a:blip r:embed="rId3"/>
          <a:stretch/>
        </p:blipFill>
        <p:spPr>
          <a:xfrm>
            <a:off x="2352600" y="5327640"/>
            <a:ext cx="455472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5346720"/>
            <a:ext cx="9312120" cy="1511280"/>
            <a:chOff x="0" y="5346720"/>
            <a:chExt cx="9312120" cy="1511280"/>
          </a:xfrm>
        </p:grpSpPr>
        <p:pic>
          <p:nvPicPr>
            <p:cNvPr id="145" name="图片 11" descr="large_2337e177.jpg"/>
            <p:cNvPicPr/>
            <p:nvPr/>
          </p:nvPicPr>
          <p:blipFill>
            <a:blip r:embed="rId1"/>
            <a:stretch/>
          </p:blipFill>
          <p:spPr>
            <a:xfrm>
              <a:off x="0" y="5346720"/>
              <a:ext cx="2387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图片 18" descr="large_167h56.jpg"/>
            <p:cNvPicPr/>
            <p:nvPr/>
          </p:nvPicPr>
          <p:blipFill>
            <a:blip r:embed="rId2"/>
            <a:stretch/>
          </p:blipFill>
          <p:spPr>
            <a:xfrm>
              <a:off x="6995880" y="5346720"/>
              <a:ext cx="231624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1828800"/>
            <a:ext cx="4419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一眼望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头发长长短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就像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3500" t="3500" r="3500" b="3500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5346720"/>
            <a:ext cx="9312120" cy="1511280"/>
            <a:chOff x="0" y="5346720"/>
            <a:chExt cx="9312120" cy="1511280"/>
          </a:xfrm>
        </p:grpSpPr>
        <p:pic>
          <p:nvPicPr>
            <p:cNvPr id="151" name="图片 11" descr="large_2337e177.jpg"/>
            <p:cNvPicPr/>
            <p:nvPr/>
          </p:nvPicPr>
          <p:blipFill>
            <a:blip r:embed="rId1"/>
            <a:stretch/>
          </p:blipFill>
          <p:spPr>
            <a:xfrm>
              <a:off x="0" y="5346720"/>
              <a:ext cx="2387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图片 18" descr="large_167h56.jpg"/>
            <p:cNvPicPr/>
            <p:nvPr/>
          </p:nvPicPr>
          <p:blipFill>
            <a:blip r:embed="rId2"/>
            <a:stretch/>
          </p:blipFill>
          <p:spPr>
            <a:xfrm>
              <a:off x="6995880" y="5346720"/>
              <a:ext cx="231624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555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然，我没得到五块钱。这还不算倒霉，最倒霉的是小沙父子：小沙被迫去理发店剃了个和电灯泡一样的光头。姑父呢，那件睡衣上的头发怎么也清除不净，他每夜都要爬起来两三次，捉跳蚤一样找出身上的碎头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3504960" cy="350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1040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19520" y="3808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495680" y="327672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30451" b="40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9144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胆小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4156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淘气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10824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热心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175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书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135576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动健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249876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大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489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剃头大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590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把磨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锃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剃刀、一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老掉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推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73710702.jpg"/>
          <p:cNvPicPr/>
          <p:nvPr/>
        </p:nvPicPr>
        <p:blipFill>
          <a:blip r:embed="rId1"/>
          <a:stretch/>
        </p:blipFill>
        <p:spPr>
          <a:xfrm>
            <a:off x="6273720" y="3986280"/>
            <a:ext cx="2870280" cy="2871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宋体"/>
              </a:rPr>
              <a:t>z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1798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最让小沙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耿耿于怀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是，每次剃完头，姑父还要付双倍的钱给“害人精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5" descr="large_14753k65.jpg"/>
          <p:cNvPicPr/>
          <p:nvPr/>
        </p:nvPicPr>
        <p:blipFill>
          <a:blip r:embed="rId1"/>
          <a:stretch/>
        </p:blipFill>
        <p:spPr>
          <a:xfrm>
            <a:off x="4589640" y="5321160"/>
            <a:ext cx="455436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523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最痛苦的是，老师傅习惯用一把老掉牙的推剪，它常常会咬住一绺头发不放，让小沙吃尽苦头。这还不算，老师傅眼神差了点儿。总把碎头发落在小沙的脖子里，痒得小沙哧哧笑。你想想，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会儿痛一会儿痒，受刑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905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沙每次都是被姑父押进理发店的，而且，姑父还得执一把木尺在一旁监督，否则，小沙准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夺门而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71280" y="5353200"/>
            <a:ext cx="9312120" cy="1511280"/>
            <a:chOff x="-71280" y="5353200"/>
            <a:chExt cx="9312120" cy="1511280"/>
          </a:xfrm>
        </p:grpSpPr>
        <p:pic>
          <p:nvPicPr>
            <p:cNvPr id="115" name="图片 11" descr="large_2337e177.jpg"/>
            <p:cNvPicPr/>
            <p:nvPr/>
          </p:nvPicPr>
          <p:blipFill>
            <a:blip r:embed="rId1"/>
            <a:stretch/>
          </p:blipFill>
          <p:spPr>
            <a:xfrm>
              <a:off x="-71280" y="5353200"/>
              <a:ext cx="2387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18" descr="large_167h56.jpg"/>
            <p:cNvPicPr/>
            <p:nvPr/>
          </p:nvPicPr>
          <p:blipFill>
            <a:blip r:embed="rId2"/>
            <a:stretch/>
          </p:blipFill>
          <p:spPr>
            <a:xfrm>
              <a:off x="6924600" y="5353200"/>
              <a:ext cx="2316240" cy="151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图片 15" descr="large_14753k65.jpg"/>
          <p:cNvPicPr/>
          <p:nvPr/>
        </p:nvPicPr>
        <p:blipFill>
          <a:blip r:embed="rId3"/>
          <a:stretch/>
        </p:blipFill>
        <p:spPr>
          <a:xfrm>
            <a:off x="2352600" y="5327640"/>
            <a:ext cx="455472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179800"/>
            <a:ext cx="71629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抢；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争先取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冲出 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决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71280" y="5353200"/>
            <a:ext cx="9312120" cy="1511280"/>
            <a:chOff x="-71280" y="5353200"/>
            <a:chExt cx="9312120" cy="1511280"/>
          </a:xfrm>
        </p:grpSpPr>
        <p:pic>
          <p:nvPicPr>
            <p:cNvPr id="121" name="图片 11" descr="large_2337e177.jpg"/>
            <p:cNvPicPr/>
            <p:nvPr/>
          </p:nvPicPr>
          <p:blipFill>
            <a:blip r:embed="rId1"/>
            <a:stretch/>
          </p:blipFill>
          <p:spPr>
            <a:xfrm>
              <a:off x="-71280" y="5353200"/>
              <a:ext cx="2387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图片 18" descr="large_167h56.jpg"/>
            <p:cNvPicPr/>
            <p:nvPr/>
          </p:nvPicPr>
          <p:blipFill>
            <a:blip r:embed="rId2"/>
            <a:stretch/>
          </p:blipFill>
          <p:spPr>
            <a:xfrm>
              <a:off x="6924600" y="5353200"/>
              <a:ext cx="2316240" cy="151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图片 15" descr="large_14753k65.jpg"/>
          <p:cNvPicPr/>
          <p:nvPr/>
        </p:nvPicPr>
        <p:blipFill>
          <a:blip r:embed="rId3"/>
          <a:stretch/>
        </p:blipFill>
        <p:spPr>
          <a:xfrm>
            <a:off x="2352600" y="5327640"/>
            <a:ext cx="455472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447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这儿一剪刀，那儿一剪刀，不一会儿，姑父的睡衣就像一张熊皮，上面落满了黑头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5" descr="large_14753k65.jpg"/>
          <p:cNvPicPr/>
          <p:nvPr/>
        </p:nvPicPr>
        <p:blipFill>
          <a:blip r:embed="rId1"/>
          <a:stretch/>
        </p:blipFill>
        <p:spPr>
          <a:xfrm>
            <a:off x="2352600" y="5327640"/>
            <a:ext cx="45547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0" y="5346720"/>
            <a:ext cx="9312120" cy="1511280"/>
            <a:chOff x="0" y="5346720"/>
            <a:chExt cx="9312120" cy="1511280"/>
          </a:xfrm>
        </p:grpSpPr>
        <p:pic>
          <p:nvPicPr>
            <p:cNvPr id="128" name="图片 11" descr="large_2337e177.jpg"/>
            <p:cNvPicPr/>
            <p:nvPr/>
          </p:nvPicPr>
          <p:blipFill>
            <a:blip r:embed="rId2"/>
            <a:stretch/>
          </p:blipFill>
          <p:spPr>
            <a:xfrm>
              <a:off x="0" y="5346720"/>
              <a:ext cx="2387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8" descr="large_167h56.jpg"/>
            <p:cNvPicPr/>
            <p:nvPr/>
          </p:nvPicPr>
          <p:blipFill>
            <a:blip r:embed="rId3"/>
            <a:stretch/>
          </p:blipFill>
          <p:spPr>
            <a:xfrm>
              <a:off x="6995880" y="5346720"/>
              <a:ext cx="231624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1798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沙连忙摸耳朵，看它们还在，就无所谓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5" descr="large_14753k65.jpg"/>
          <p:cNvPicPr/>
          <p:nvPr/>
        </p:nvPicPr>
        <p:blipFill>
          <a:blip r:embed="rId1"/>
          <a:stretch/>
        </p:blipFill>
        <p:spPr>
          <a:xfrm>
            <a:off x="2352600" y="5327640"/>
            <a:ext cx="45547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0" y="5346720"/>
            <a:ext cx="9312120" cy="1511280"/>
            <a:chOff x="0" y="5346720"/>
            <a:chExt cx="9312120" cy="1511280"/>
          </a:xfrm>
        </p:grpSpPr>
        <p:pic>
          <p:nvPicPr>
            <p:cNvPr id="134" name="图片 11" descr="large_2337e177.jpg"/>
            <p:cNvPicPr/>
            <p:nvPr/>
          </p:nvPicPr>
          <p:blipFill>
            <a:blip r:embed="rId2"/>
            <a:stretch/>
          </p:blipFill>
          <p:spPr>
            <a:xfrm>
              <a:off x="0" y="5346720"/>
              <a:ext cx="238752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图片 18" descr="large_167h56.jpg"/>
            <p:cNvPicPr/>
            <p:nvPr/>
          </p:nvPicPr>
          <p:blipFill>
            <a:blip r:embed="rId3"/>
            <a:stretch/>
          </p:blipFill>
          <p:spPr>
            <a:xfrm>
              <a:off x="6995880" y="5346720"/>
              <a:ext cx="231624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2T12:04:20Z</dcterms:created>
  <dc:creator>Administrator</dc:creator>
  <dc:description/>
  <dc:language>en-US</dc:language>
  <cp:lastModifiedBy>admin</cp:lastModifiedBy>
  <dcterms:modified xsi:type="dcterms:W3CDTF">2018-10-23T05:52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