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0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27.gif" ContentType="image/gif"/>
  <Override PartName="/ppt/media/image1.jpeg" ContentType="image/jpeg"/>
  <Override PartName="/ppt/media/image29.gif" ContentType="image/gif"/>
  <Override PartName="/ppt/media/image30.gif" ContentType="image/gif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4.gif" ContentType="image/gif"/>
  <Override PartName="/ppt/media/type.wav" ContentType="audio/x-wav"/>
  <Override PartName="/ppt/media/image6.jpeg" ContentType="image/jpeg"/>
  <Override PartName="/ppt/media/image16.jpeg" ContentType="image/jpeg"/>
  <Override PartName="/ppt/media/camera.wav" ContentType="audio/x-wav"/>
  <Override PartName="/ppt/media/chimes.wav" ContentType="audio/x-wav"/>
  <Override PartName="/ppt/media/image21.jpeg" ContentType="image/jpeg"/>
  <Override PartName="/ppt/media/image22.png" ContentType="image/pn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AC30-9D36-4CB0-AE2A-FE66CA9C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630E-BCB2-44D3-A9B6-4BE2603C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2F07-13C6-4C41-85AF-5B4EE3435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169F-899D-42F2-AC0A-6A66345B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EC7D-2A98-40A2-8FF0-555A541DE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A538-18CB-4185-970A-4BD1F61A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CCCE-0E46-420A-8349-3921AC7B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ABF6-B58A-491C-809D-87C14747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3855-4D87-4A0C-8E89-DE855A25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D341-9BB3-4450-BA05-BF810043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AF42-DE58-4215-B545-DCC4B7EE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3B77-307D-47EC-82CE-5147546A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5EB2-4CCA-4251-BAE3-357E7CA0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2881-F82E-479A-875C-471BFA1F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4B79-8E83-451C-B426-A7098A0D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B337-F23A-4EF4-B3B2-8489908BC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72A8-CF36-4EA6-92F1-FA8E50E28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3447-BEF4-4EBE-BA88-522C3202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9E69-E3CF-4D78-AE9C-11AE8AFD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E127-7F5C-43E4-8D82-89AB5BDB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A970-E9FD-436C-B969-5AFBD859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7C7A-D027-40D3-BA11-1386508B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8512-8275-4AEB-86B3-8DC80453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BBA2-7D8F-4EB1-A62C-AA905058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2BF9-09AD-41E6-AC7B-27672D2D12C8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CB86-1283-46B5-9FFC-ADAEBBE1F2BE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hyperlink" Target="file:///tmp/home/.config/libreoffice/4/user/gallery/05&#31461;&#36259;.WAV" TargetMode="External"/><Relationship Id="rId14" Type="http://schemas.openxmlformats.org/officeDocument/2006/relationships/image" Target="../media/image14.gif"/><Relationship Id="rId15" Type="http://schemas.openxmlformats.org/officeDocument/2006/relationships/slide" Target="slide1.xml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3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gif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19.png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chimes.wav"/><Relationship Id="rId20" Type="http://schemas.openxmlformats.org/officeDocument/2006/relationships/audio" Target="../media/camera.wav"/><Relationship Id="rId21" Type="http://schemas.openxmlformats.org/officeDocument/2006/relationships/audio" Target="../media/camera.wav"/><Relationship Id="rId22" Type="http://schemas.openxmlformats.org/officeDocument/2006/relationships/audio" Target="../media/camera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19.png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chimes.wav"/><Relationship Id="rId13" Type="http://schemas.openxmlformats.org/officeDocument/2006/relationships/audio" Target="../media/camera.wav"/><Relationship Id="rId14" Type="http://schemas.openxmlformats.org/officeDocument/2006/relationships/audio" Target="../media/type.wav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23.jpe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19.png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camera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532720" y="26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68360" y="765000"/>
            <a:ext cx="4967280" cy="1997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7956720" y="6380280"/>
            <a:ext cx="1187280" cy="477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5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0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5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20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28600" y="-71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一日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，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见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二虫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斗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草间，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观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之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，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兴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正浓，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忽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80880"/>
            <a:ext cx="9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0066"/>
                </a:solidFill>
                <a:latin typeface="Arial"/>
              </a:rPr>
              <a:t>          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有一天       看见          相斗               观看  它们      兴致               忽然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6858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庞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然大物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,  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拔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山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倒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树而来，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盖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  一（）癞虾蟆，舌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-71280" y="1143000"/>
            <a:ext cx="88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很大                     推倒    压倒                     原来是        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只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1371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一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吐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而二虫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尽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为 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所吞。余年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幼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，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方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出神，不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82880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伸出                   全     被                                 幼小    正      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320" y="2133720"/>
            <a:ext cx="90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呀然一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惊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。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神 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   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定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，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捉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 虾蟆，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鞭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   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数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十，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驱 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 之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259092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66"/>
                </a:solidFill>
                <a:latin typeface="Arial"/>
              </a:rPr>
              <a:t>                  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惊怕      心神       安定      捉住                     抽打     几              驱赶    它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28954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别 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院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3526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别的           院子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3789360"/>
            <a:ext cx="867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译：有一天，我看见两只小虫在草间相斗，（便蹲下身来）观看它们，兴致正浓，忽然有一个很大很大的“野兽”，推倒了山压倒了树而来，原来是一只癞蛤蟆，舌头一伸出来，两只小虫全被它吃掉。我那时年纪很小，正看得出神，不禁“呀”的一声惊叫。待到心神安定下来，捉住癞蛤蟆，抽打它几十鞭子，把它赶到被的院子去。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0" y="-22320"/>
            <a:ext cx="9144000" cy="7081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396720" y="1557360"/>
            <a:ext cx="3625920" cy="4680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5148360" y="1557360"/>
            <a:ext cx="3497040" cy="4608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324000" y="3789360"/>
            <a:ext cx="3416040" cy="2303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828720" y="404640"/>
            <a:ext cx="259092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隶书"/>
              </a:rPr>
              <a:t>观虫斗</a:t>
            </a:r>
            <a:endParaRPr b="1" lang="en-US" sz="5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148360" y="333360"/>
            <a:ext cx="2625480" cy="71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隶书"/>
              </a:rPr>
              <a:t>驱蛤蟆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629080" y="2421000"/>
            <a:ext cx="4248000" cy="24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隶书"/>
              </a:rPr>
              <a:t>鞭打蛤蟆</a:t>
            </a:r>
            <a:endParaRPr b="1" lang="en-US" sz="5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3"/>
          <a:stretch/>
        </p:blipFill>
        <p:spPr>
          <a:xfrm>
            <a:off x="8136000" y="5977080"/>
            <a:ext cx="1008000" cy="880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90720" y="228600"/>
            <a:ext cx="365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复述课文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1066680"/>
            <a:ext cx="538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先拟出复述提纲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0320" y="1905120"/>
            <a:ext cx="885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作者记叙了儿时哪几件“物外之趣”？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2743200"/>
            <a:ext cx="703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①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拟夏蚊为“群鹤舞空”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505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②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把草、虫、土砾拟作森林、野兽、丘壑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---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神游山林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50292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③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鞭打虾蟆，为小虫打抱不平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20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56720" y="6380280"/>
            <a:ext cx="1187280" cy="477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68360" y="333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作者所说的“物外之趣”指什么？这种物外之趣是怎么产生的？ 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9640" y="213372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指根据事物的特点，在头脑中创造出超出事物本身特性的新事物，从中得到的乐趣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种“物外之趣”是借助丰富的联想和想象创造出来的。这是一种创造性的思维，体现了作者小时候知识丰富，想象力强，富有情趣。 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2057400"/>
            <a:ext cx="914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物外之趣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66680" y="533520"/>
            <a:ext cx="1447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拟蚊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成鹤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2971800"/>
            <a:ext cx="1524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神游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山林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762120"/>
            <a:ext cx="304560" cy="5257800"/>
          </a:xfrm>
          <a:custGeom>
            <a:avLst/>
            <a:gdLst>
              <a:gd name="textAreaLeft" fmla="*/ 194760 w 304560"/>
              <a:gd name="textAreaRight" fmla="*/ 304920 w 304560"/>
              <a:gd name="textAreaTop" fmla="*/ 136800 h 5257800"/>
              <a:gd name="textAreaBottom" fmla="*/ 5121000 h 52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362320" y="60948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62320" y="304812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93080" y="620640"/>
            <a:ext cx="342720" cy="5257800"/>
          </a:xfrm>
          <a:custGeom>
            <a:avLst/>
            <a:gdLst>
              <a:gd name="textAreaLeft" fmla="*/ 0 w 342720"/>
              <a:gd name="textAreaRight" fmla="*/ 123840 w 342720"/>
              <a:gd name="textAreaTop" fmla="*/ 136800 h 5257800"/>
              <a:gd name="textAreaBottom" fmla="*/ 5121000 h 525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66880" y="1371600"/>
            <a:ext cx="154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帐蚊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26668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丛草为林 虫蚁为兽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3733920"/>
            <a:ext cx="51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凸者为丘 凹者为壑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66680" y="5029200"/>
            <a:ext cx="221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观虫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受惊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66880" y="228600"/>
            <a:ext cx="154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夏蚊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20120" y="251460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想象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奇特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14600" y="5410080"/>
            <a:ext cx="162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兴浓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9880" y="1371600"/>
            <a:ext cx="378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鹤唳云端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9880" y="22860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群鹤舞空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38480" y="5410080"/>
            <a:ext cx="190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受惊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5410080"/>
            <a:ext cx="195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神定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22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56720" y="6380280"/>
            <a:ext cx="1187280" cy="477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0880" y="1052640"/>
            <a:ext cx="8763120" cy="79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华文细黑"/>
                <a:ea typeface="华文细黑"/>
              </a:rPr>
              <a:t>A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稚</a:t>
            </a:r>
            <a:r>
              <a:rPr b="1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zhì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唳</a:t>
            </a:r>
            <a:r>
              <a:rPr b="1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lèi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拟</a:t>
            </a:r>
            <a:r>
              <a:rPr b="1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ní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观</a:t>
            </a:r>
            <a:r>
              <a:rPr b="1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guāng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华文细黑"/>
                <a:ea typeface="华文细黑"/>
              </a:rPr>
              <a:t>B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凸</a:t>
            </a:r>
            <a:r>
              <a:rPr b="1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tū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藐</a:t>
            </a:r>
            <a:r>
              <a:rPr b="1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miǎo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怡</a:t>
            </a:r>
            <a:r>
              <a:rPr b="1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í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蹲</a:t>
            </a:r>
            <a:r>
              <a:rPr b="1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dūn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华文细黑"/>
                <a:ea typeface="华文细黑"/>
              </a:rPr>
              <a:t>C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砾</a:t>
            </a:r>
            <a:r>
              <a:rPr b="1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lì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庞</a:t>
            </a:r>
            <a:r>
              <a:rPr b="1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páng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凹</a:t>
            </a:r>
            <a:r>
              <a:rPr b="1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āo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鹤</a:t>
            </a:r>
            <a:r>
              <a:rPr b="1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hè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华文细黑"/>
                <a:ea typeface="华文细黑"/>
              </a:rPr>
              <a:t>D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壑</a:t>
            </a:r>
            <a:r>
              <a:rPr b="1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hè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癞</a:t>
            </a:r>
            <a:r>
              <a:rPr b="1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lài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察</a:t>
            </a:r>
            <a:r>
              <a:rPr b="1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chá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帐</a:t>
            </a:r>
            <a:r>
              <a:rPr b="1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zhàng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304920"/>
            <a:ext cx="901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．下列注音，不完全正确的是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)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1600200"/>
            <a:ext cx="914400" cy="126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华文细黑"/>
                <a:ea typeface="华文细黑"/>
              </a:rPr>
              <a:t>━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华文细黑"/>
                <a:ea typeface="华文细黑"/>
              </a:rPr>
              <a:t>lì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05520" y="1600200"/>
            <a:ext cx="1143000" cy="126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华文细黑"/>
                <a:ea typeface="华文细黑"/>
              </a:rPr>
              <a:t>━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华文细黑"/>
                <a:ea typeface="华文细黑"/>
              </a:rPr>
              <a:t>nǐ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05720" y="1676520"/>
            <a:ext cx="2017440" cy="126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细黑"/>
                <a:ea typeface="华文细黑"/>
              </a:rPr>
              <a:t>━━━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细黑"/>
                <a:ea typeface="华文细黑"/>
              </a:rPr>
              <a:t>guān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138440" y="189000"/>
            <a:ext cx="65484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华文细黑"/>
                <a:ea typeface="华文细黑"/>
              </a:rPr>
              <a:t>A</a:t>
            </a:r>
            <a:endParaRPr b="0" lang="en-US" sz="5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3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971640" y="333360"/>
            <a:ext cx="7235640" cy="63244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533520" y="914400"/>
            <a:ext cx="2971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一词多义：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34" name=""/>
          <p:cNvSpPr/>
          <p:nvPr/>
        </p:nvSpPr>
        <p:spPr>
          <a:xfrm>
            <a:off x="466560" y="1917720"/>
            <a:ext cx="3889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见藐小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物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心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所向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使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冲烟而飞鸣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66680" y="213372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8120" y="1905120"/>
            <a:ext cx="60958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助词，的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助词，名词和动词之间不译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代词，它，指蚊子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4083120"/>
            <a:ext cx="50292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以虫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兽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之怡然称快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舌一吐而二虫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所吞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4343400"/>
            <a:ext cx="152280" cy="1600200"/>
          </a:xfrm>
          <a:custGeom>
            <a:avLst/>
            <a:gdLst>
              <a:gd name="textAreaLeft" fmla="*/ 97200 w 152280"/>
              <a:gd name="textAreaRight" fmla="*/ 15264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8120" y="4114800"/>
            <a:ext cx="60958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éi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作为、当作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èi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介词，因为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èi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被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8136000" y="5977080"/>
            <a:ext cx="1008000" cy="880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971640" y="333360"/>
            <a:ext cx="7235640" cy="63244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533520" y="9144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其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必细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纹理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蹲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身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90720" y="114300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8280" y="914400"/>
            <a:ext cx="4419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代词，它的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代词，指自己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3520" y="22860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观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做青云白鹤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观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昂首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观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之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259092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43200" y="2286000"/>
            <a:ext cx="4419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景象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看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14600" y="3886200"/>
            <a:ext cx="4419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把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用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3520" y="3886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以 以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丛草为林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徐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烟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411480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8136000" y="5977080"/>
            <a:ext cx="1008000" cy="880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33520" y="838080"/>
            <a:ext cx="82296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．选出没有比喻义的句子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)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A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．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夏蚊成雷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B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．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果如鹤唳云端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C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．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忽有庞然大物，拔山倒树而来。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D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．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徐喷以烟，使其冲烟飞鸣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20000" y="1268280"/>
            <a:ext cx="865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D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6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990720" y="1401840"/>
            <a:ext cx="69660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A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．必细察其纹理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B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．昂首观之，项为之强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C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．作青云白鹤观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D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．凹者为壑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54936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．哪句中有通假字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?(    )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88080" y="476280"/>
            <a:ext cx="94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华文细黑"/>
                <a:ea typeface="华文细黑"/>
              </a:rPr>
              <a:t>B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15000" y="357336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强”同“僵”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990720" y="1905120"/>
            <a:ext cx="7010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A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．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昂首观之，项为之强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B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．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怡然称快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C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．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见二虫斗草间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D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．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神游其中，怡然自得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4572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．没有直接写作者有物外之趣的句子是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)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43200" y="1020600"/>
            <a:ext cx="103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华文细黑"/>
                <a:ea typeface="华文细黑"/>
              </a:rPr>
              <a:t>C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3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64000" y="1628640"/>
            <a:ext cx="3353040" cy="4176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476360" y="4762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作者及作品简介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1700280"/>
            <a:ext cx="48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沈复（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1763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～ ？）</a:t>
            </a:r>
            <a:br>
              <a:rPr sz="3600"/>
            </a:b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     中国清代散文家。字三白，号梅逸。江苏苏州人。工诗画、散文。一生为幕僚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956720" y="6380280"/>
            <a:ext cx="1187280" cy="477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6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6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404640"/>
            <a:ext cx="8820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.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《闲情记趣》选自《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作者是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代文学家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文中所记之趣是特指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                 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趣，例如：将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当作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，将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                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当作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而怡然称快，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          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，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47628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浮生六记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63640" y="112536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清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16360" y="1197000"/>
            <a:ext cx="191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沈复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76720" y="1916280"/>
            <a:ext cx="53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见藐小物必察其纹理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2637000"/>
            <a:ext cx="261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物外之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32360" y="2637000"/>
            <a:ext cx="29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夏蚊成雷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429000"/>
            <a:ext cx="332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群鹤舞空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92360" y="3429000"/>
            <a:ext cx="53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帐内冲烟飞鸣的蚊子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1280" y="4076640"/>
            <a:ext cx="293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鹤唳云端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80000" y="4149720"/>
            <a:ext cx="40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又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，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84720" y="4149720"/>
            <a:ext cx="30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丛草为林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4724280"/>
            <a:ext cx="33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虫蚁为兽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708360" y="4869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土砾凸者为丘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0920" y="5445000"/>
            <a:ext cx="916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         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，神游其中，怡然自得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73560" y="4888080"/>
            <a:ext cx="580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                 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，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5486400"/>
            <a:ext cx="287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凹者为壑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0880" y="45720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．解释词语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明察秋毫：    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庞然大物：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2514600"/>
            <a:ext cx="8534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7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．“蹲其身，使与台齐”句中“使”字后面省略了一个代词“之”，如果把它翻译出来，你觉得“之”应具体指代什么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?(    )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A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．身子     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B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．眼睛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C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．头部     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D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．下巴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00200" y="4572000"/>
            <a:ext cx="88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B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16360" y="1125360"/>
            <a:ext cx="375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形容视力好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71640" y="1916280"/>
            <a:ext cx="38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很大的物体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505320" y="1295280"/>
            <a:ext cx="178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脖子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5880" y="1295280"/>
            <a:ext cx="250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同“僵”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05320" y="2209680"/>
            <a:ext cx="207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呜叫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05320" y="3124080"/>
            <a:ext cx="229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睁开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95680" y="3962520"/>
            <a:ext cx="230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兴趣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38480" y="4952880"/>
            <a:ext cx="35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原来（是）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76720" y="5867280"/>
            <a:ext cx="158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正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8360" y="404640"/>
            <a:ext cx="822960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8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．解释下列各句中划线的词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①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项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为之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强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  )  (        )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②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鹤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唳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云端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  )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③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张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目对日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  )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④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观之，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兴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正浓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  )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⑤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盖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一癞虾蟆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        )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⑥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方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出神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  )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826920" y="981000"/>
            <a:ext cx="83170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见藐小之物，必细察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其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纹理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  )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使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之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冲烟而飞鸣  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   )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蹲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其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身  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   )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神游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其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中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   )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项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为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之强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   )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以丛草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为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林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   )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舌一吐而二虫尽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为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所吞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   )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1989000"/>
            <a:ext cx="95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其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228600"/>
            <a:ext cx="821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9.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解释下面这些词的不同意义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5084640"/>
            <a:ext cx="9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为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4360" y="1268280"/>
            <a:ext cx="228600" cy="2286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4360" y="458136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659640" y="5734080"/>
            <a:ext cx="144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被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24360" y="4365720"/>
            <a:ext cx="208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因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51280" y="5013360"/>
            <a:ext cx="209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当作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51280" y="2997360"/>
            <a:ext cx="209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山林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162920" y="990720"/>
            <a:ext cx="22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藐小物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12000" y="1700280"/>
            <a:ext cx="22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蚊子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08360" y="2349360"/>
            <a:ext cx="23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自己的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30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56720" y="6380280"/>
            <a:ext cx="1187280" cy="477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5364000" y="4005360"/>
            <a:ext cx="2438640" cy="7239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1116000" y="1628640"/>
            <a:ext cx="6408720" cy="19148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"/>
          <a:stretch/>
        </p:blipFill>
        <p:spPr>
          <a:xfrm>
            <a:off x="7956720" y="6380280"/>
            <a:ext cx="1187280" cy="477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50920" y="26028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朗读感“趣”  读准字音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836640"/>
            <a:ext cx="8686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稚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          ）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藐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小     （          ）     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项为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强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          ）     鹤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唳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云端（          ） 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怡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然称快（          ）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凹凸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          ）  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土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砾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           ）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壑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          ）    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庞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然大物（           ）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癞虾蟆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                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914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40000" y="1341360"/>
            <a:ext cx="7010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h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ì         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g                                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ì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í                                   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 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ū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ì              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è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g                            lài h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á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1280" y="83664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夏蚊成雷，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私</a:t>
            </a: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拟作群鹤舞于空中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170028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又留蚊于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素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帐中，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徐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喷以烟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4360" y="2708280"/>
            <a:ext cx="45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鞭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数十，驱之别院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357336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以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虫蚁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为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兽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64360" y="9079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自己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184464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白色的，慢慢的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35640" y="278136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2781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用鞭子打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364500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把……当作……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4508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⑤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项为之强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5640" y="537372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⑥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果如鹤唳云端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4508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脖子，僵硬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19640" y="5516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果真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987640" y="476280"/>
            <a:ext cx="21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1773360"/>
            <a:ext cx="295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162864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62064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⑦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盖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一癞蛤蟆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170028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⑧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方</a:t>
            </a:r>
            <a:r>
              <a:rPr b="0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出神 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2565360"/>
            <a:ext cx="38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⑨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怡然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自得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3280" y="836640"/>
            <a:ext cx="32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原来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40360" y="191628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正在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67280" y="2637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安适愉快的样子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87280" y="357336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宋体"/>
                <a:ea typeface="楷体_GB2312"/>
              </a:rPr>
              <a:t>⑩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驱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之别院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87280" y="458136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宋体"/>
                <a:ea typeface="楷体_GB2312"/>
              </a:rPr>
              <a:t>⑾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则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或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千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或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百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11640" y="3645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驱赶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3280" y="472428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有时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19440" y="22860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弄清划线的代词在文中所指代的事物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43360" y="1359000"/>
            <a:ext cx="3284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代藐小之物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84760" y="2222640"/>
            <a:ext cx="2739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代夏蚊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88000" y="3014640"/>
            <a:ext cx="2520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代帐蚊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860640"/>
            <a:ext cx="2521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代自己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59280" y="4672080"/>
            <a:ext cx="2521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代二虫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32360" y="5516640"/>
            <a:ext cx="2660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代虾蟆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7280" y="1197000"/>
            <a:ext cx="831708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①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必细察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其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纹理（          ）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②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昂首观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之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（          ）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③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使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之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冲烟飞鸣（          ）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④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常蹲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其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身    （          ）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⑤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观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之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正浓    （          ）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⑥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驱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之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别院    （          ） 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3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56720" y="6380280"/>
            <a:ext cx="1187280" cy="477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60948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余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忆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童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稚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时，能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张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目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对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日，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明 察 秋 毫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-147600" y="1143000"/>
            <a:ext cx="92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我      回忆      童年                           睁开           直视                  明    察    秋    毫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251460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物外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  之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趣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97180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指超出事物本身              的 乐趣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600200"/>
            <a:ext cx="8763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见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藐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小之 物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必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细  察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其 纹 理，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故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时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13372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       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细小                        一定    仔细  观察  它（的）纹理     因此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所以   常常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-1476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黑体"/>
              </a:rPr>
              <a:t>疏通文意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440" y="3645000"/>
            <a:ext cx="8953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译：我回想自己在年幼的时候，能够睁大眼睛对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着太阳，能看得清最细微的事物，（只要）见到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细小的东西一定要仔细观察它的线条和花纹，所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以常常能感受到超出事物本身的乐趣。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8136000" y="5977080"/>
            <a:ext cx="1008000" cy="880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24000" y="602136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概括回忆童趣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09440" y="46080"/>
            <a:ext cx="8999640" cy="6713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04920" y="-712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       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夏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   蚊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成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 雷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，        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 私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            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拟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作群鹤舞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80880"/>
            <a:ext cx="82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0066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夏天             发出   雷鸣般声响              暗自、暗暗            比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762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于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空中</a:t>
            </a: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心之所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向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，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则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或千或百，果然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鹤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     也；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5440" y="2060640"/>
            <a:ext cx="85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抬   头                       脖子因为                        “强”通“僵” 僵   硬           白色 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1523880"/>
            <a:ext cx="924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昂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首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观之，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项为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  <a:ea typeface="Times New Roman"/>
              </a:rPr>
              <a:t>è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i )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之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强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。 又留蚊于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素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帐中，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-31680" y="3645000"/>
            <a:ext cx="88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果然       像        鸣叫         在                                    此     高兴得连声叫好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360" y="127008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在                     心理            想       那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成 千 上 百   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                  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变成鹤  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2286000"/>
            <a:ext cx="902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徐  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   喷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以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烟，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使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之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冲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烟而飞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鸣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，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作</a:t>
            </a:r>
            <a:r>
              <a:rPr b="0" lang="zh-CN" sz="3200" spc="-1" strike="noStrike">
                <a:solidFill>
                  <a:srgbClr val="3399ff"/>
                </a:solidFill>
                <a:latin typeface="Arial"/>
              </a:rPr>
              <a:t>青云白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鹤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观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2360" y="3141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果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   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如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鹤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唳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 （于）云端，为 之  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怡然称快</a:t>
            </a: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81952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慢慢地              用               让         冒                       叫       当作                        景象</a:t>
            </a:r>
            <a:r>
              <a:rPr b="1" i="1" lang="zh-CN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400536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译：夏夜里，蚊群发出雷鸣似的声响，我心里暗自把它们比作群鹤在空中飞舞，心理这么一想，眼前果真出现了千百只鹤；抬头看它们，连脖子也变得僵硬了。我又留几只蚊子在白色帐子里，慢慢地用烟喷它们，让它们冒着烟边飞边叫。把它们当作青云白鹤的景象（来欣赏），果真像鹤群在云端鸣叫，这使我高兴得连声叫好。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80360" cy="6966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3276720" y="266688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2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黑体"/>
              </a:rPr>
              <a:t>观蚊成“鹤”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8136000" y="5977080"/>
            <a:ext cx="1008000" cy="880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28600" y="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余常于土墙凹凸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处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，花台小草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丛杂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    处，蹲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45720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1" i="1" lang="zh-CN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地方                           杂草丛生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600200"/>
            <a:ext cx="95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林，以虫蚁为兽，以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土砾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     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凸 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者为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丘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，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凹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者为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壑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057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0066"/>
                </a:solidFill>
                <a:latin typeface="Arial"/>
              </a:rPr>
              <a:t>                                                                                 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石块、土块    突出               山丘     低陷           山沟 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23623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神游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其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     中，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怡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然自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得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762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其 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身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， 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使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与台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齐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；定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神   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     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细 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视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，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以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丛草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Arial"/>
              </a:rPr>
              <a:t>为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295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指自己 身体         让         一样高    聚精会神          仔细     看        把          当作 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-31680" y="2852640"/>
            <a:ext cx="761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代山林                愉快          满足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429000"/>
            <a:ext cx="928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译：我常常在土墙高低不平的地方，在花台上杂草丛生的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地方，蹲下身子，使身子与花台一样高；聚精会神地仔细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看， 把丛草当作树林，把蚊虫当作野兽，把土块突出部分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当成山丘，低陷部分当成山沟，感觉自己就在这“山林”中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游玩一般，感到愉快而满足。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9832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1044720" y="404640"/>
            <a:ext cx="675324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1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隶书"/>
              </a:rPr>
              <a:t>神游山林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8136000" y="5977080"/>
            <a:ext cx="1008000" cy="880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5T07:01:48Z</dcterms:created>
  <dc:creator>孟平凡</dc:creator>
  <dc:description/>
  <dc:language>en-US</dc:language>
  <cp:lastModifiedBy>User</cp:lastModifiedBy>
  <dcterms:modified xsi:type="dcterms:W3CDTF">2012-09-11T00:56:03Z</dcterms:modified>
  <cp:revision>26</cp:revision>
  <dc:subject/>
  <dc:title>闲情记趣</dc:title>
</cp:coreProperties>
</file>