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jpeg" ContentType="image/jpeg"/>
  <Override PartName="/ppt/media/image11.jpeg" ContentType="image/jpeg"/>
  <Override PartName="/ppt/media/image14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camera.wav" ContentType="audio/x-wav"/>
  <Override PartName="/ppt/media/image4.jpeg" ContentType="image/jpeg"/>
  <Override PartName="/ppt/media/image5.jpeg" ContentType="image/jpeg"/>
  <Override PartName="/ppt/media/type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9F9-E523-4E92-B6D9-EAD7A7CD14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3059-183A-4E75-A1DB-30B1B10058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9650-001A-4466-A8AB-FFD2518CA4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D5A9-0892-4D74-99C6-08B487586C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1D46-19A9-4BBD-97D2-9E9070D4CC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4DC-CA23-4446-9DA7-4D31394489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析怎样才能获得“物外之趣”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6149-BC6B-4D04-8C53-8B4915BF77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D03-0A11-410C-9C47-DFC97E7E68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A21D-2792-440E-BD66-199CD6E2AB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668-898C-4361-9467-B74BFFF0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CF0-9EA7-46DD-900E-782E33BD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E2D-3DCF-48FE-A15C-BD890332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4BD-2CA2-4130-8374-1C79EDDF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49E2-1989-4580-973E-E865A47F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D209-D159-4E08-BE53-8BC3CB8D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DC6E-0C79-49D3-893B-92AACF74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8B24-1264-43FD-ABC5-36CD045A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D171-7A98-4EF3-9EEA-904BE365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42BF-9959-4092-A2A4-FF03C5E7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A40A-42CE-479C-BADD-C9C3F422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77A-E986-4C23-ABB0-22DDF0A0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0F22-4930-4EEC-BC1C-58A67B4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9277-5444-4CC8-9C78-FE0DCD54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B023-2956-4B87-ACDD-B9ED5A64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DA85-FF86-4C73-A111-E0745BFD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1884-1632-4C40-BEA4-B98D638A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246-68EE-4296-8E3D-11430E73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827-E0A7-4445-ACD1-4A736CD8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738-4B65-4801-AB1A-76FC7DB7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E47-3DCA-427D-A2F6-D075232F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846-1C2C-4EC9-A0C2-30523D47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CA5-4255-495E-83D1-2D70054B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963-CE4C-4572-B1D2-ACFE1FED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FCC4-096E-4965-82C3-E7DC1D331B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9F8-3F15-4156-B2BB-E018A6B99A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东方0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1066680" y="380880"/>
            <a:ext cx="7620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童趣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57913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隶书"/>
              </a:rPr>
              <a:t>沈     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0" y="1066680"/>
            <a:ext cx="883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余   忆童稚   时，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能   张目对    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明察秋毫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838080" y="19051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Times New Roman"/>
                <a:ea typeface="华文中宋"/>
              </a:rPr>
              <a:t>我回想起自己在年幼的时候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38080" y="3657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Times New Roman"/>
                <a:ea typeface="华文中宋"/>
              </a:rPr>
              <a:t>能睁大眼睛直视太阳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838080" y="56386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Times New Roman"/>
                <a:ea typeface="华文中宋"/>
              </a:rPr>
              <a:t>我视力好极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0" y="4343400"/>
            <a:ext cx="556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WordArt 2"/>
          <p:cNvSpPr txBox="1"/>
          <p:nvPr/>
        </p:nvSpPr>
        <p:spPr>
          <a:xfrm>
            <a:off x="304920" y="22860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课文翻译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9998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见藐小之物， 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细察其      纹理，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故   时有  物外   之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35676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Calibri"/>
                <a:ea typeface="华文中宋"/>
              </a:rPr>
              <a:t>每遇见细小的东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Calibri"/>
                <a:ea typeface="华文中宋"/>
              </a:rPr>
              <a:t>一定要仔细观察它的纹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Calibri"/>
                <a:ea typeface="华文中宋"/>
              </a:rPr>
              <a:t>所以常常能感受到超脱事物本身的乐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2ebe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夏蚊成雷，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私拟作群鹤舞于空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心之所向，则或千或百，果然鹤也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6094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夏夜里，蚊群发出雷鸣般的叫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259092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我心里把它们比作群鹤在空中飞舞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281952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752480" y="2819520"/>
            <a:ext cx="3124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419720" y="2819520"/>
            <a:ext cx="5333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0" y="3809880"/>
            <a:ext cx="2819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438280" y="3809880"/>
            <a:ext cx="5181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0" y="5105520"/>
            <a:ext cx="3048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200400" y="5105520"/>
            <a:ext cx="510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0" y="6095880"/>
            <a:ext cx="32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0" y="5181480"/>
            <a:ext cx="30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这么一想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2286000" y="51814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眼前果真就出现了千百只白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562720" y="3809880"/>
            <a:ext cx="30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061b"/>
                </a:solidFill>
                <a:latin typeface="华文中宋"/>
                <a:ea typeface="华文中宋"/>
              </a:rPr>
              <a:t>(</a:t>
            </a:r>
            <a:r>
              <a:rPr b="1" lang="zh-CN" sz="3600" spc="-1" strike="noStrike">
                <a:solidFill>
                  <a:srgbClr val="e6061b"/>
                </a:solidFill>
                <a:latin typeface="华文中宋"/>
                <a:ea typeface="华文中宋"/>
              </a:rPr>
              <a:t>果：果真</a:t>
            </a:r>
            <a:r>
              <a:rPr b="1" lang="en-US" sz="3600" spc="-1" strike="noStrike">
                <a:solidFill>
                  <a:srgbClr val="e6061b"/>
                </a:solidFill>
                <a:latin typeface="华文中宋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2960" y="242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中宋"/>
              </a:rPr>
              <a:t>昂首观之，项为之强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中宋"/>
              </a:rPr>
              <a:t>又留蚊于素帐中，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2071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抬头观看它们，连脖子也变得僵硬了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我又留着几只蚊子在白色的帐子里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23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中宋"/>
              </a:rPr>
              <a:t>徐喷以烟，使之冲烟而飞鸣，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中宋"/>
              </a:rPr>
              <a:t>作青云白鹤观，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中宋"/>
              </a:rPr>
              <a:t>果如鹤唳云端，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中宋"/>
              </a:rPr>
              <a:t>为之怡然称快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1071720"/>
            <a:ext cx="975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061b"/>
                </a:solidFill>
                <a:latin typeface="Calibri"/>
                <a:ea typeface="华文中宋"/>
              </a:rPr>
              <a:t>慢慢地用烟喷它们，使它们冲着烟边飞边叫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061b"/>
                </a:solidFill>
                <a:latin typeface="Calibri"/>
                <a:ea typeface="华文中宋"/>
              </a:rPr>
              <a:t>                  </a:t>
            </a:r>
            <a:r>
              <a:rPr b="1" lang="zh-CN" sz="3600" spc="-1" strike="noStrike">
                <a:solidFill>
                  <a:srgbClr val="e6061b"/>
                </a:solidFill>
                <a:latin typeface="Calibri"/>
                <a:ea typeface="华文中宋"/>
              </a:rPr>
              <a:t>构成一幅青云白鹤图</a:t>
            </a:r>
            <a:r>
              <a:rPr b="1" lang="en-US" sz="3600" spc="-1" strike="noStrike">
                <a:solidFill>
                  <a:srgbClr val="e6061b"/>
                </a:solidFill>
                <a:latin typeface="Calibri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061b"/>
                </a:solidFill>
                <a:latin typeface="Calibri"/>
                <a:ea typeface="华文中宋"/>
              </a:rPr>
              <a:t>果真像鹤群在青云边上发出叫声一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061b"/>
                </a:solidFill>
                <a:latin typeface="Calibri"/>
                <a:ea typeface="华文中宋"/>
              </a:rPr>
              <a:t>                </a:t>
            </a:r>
            <a:r>
              <a:rPr b="1" lang="zh-CN" sz="3600" spc="-1" strike="noStrike">
                <a:solidFill>
                  <a:srgbClr val="e6061b"/>
                </a:solidFill>
                <a:latin typeface="Calibri"/>
                <a:ea typeface="华文中宋"/>
              </a:rPr>
              <a:t>这使我感到高兴极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e606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童趣"/>
          <p:cNvPicPr/>
          <p:nvPr/>
        </p:nvPicPr>
        <p:blipFill>
          <a:blip r:embed="rId1"/>
          <a:stretch/>
        </p:blipFill>
        <p:spPr>
          <a:xfrm>
            <a:off x="4648320" y="1752480"/>
            <a:ext cx="4408200" cy="51055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"/>
          <p:cNvSpPr/>
          <p:nvPr/>
        </p:nvSpPr>
        <p:spPr>
          <a:xfrm>
            <a:off x="304920" y="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华文中宋"/>
              </a:rPr>
              <a:t>然后用自己的话叙述“我”看到</a:t>
            </a:r>
            <a:r>
              <a:rPr b="1" lang="zh-CN" sz="4000" spc="-1" strike="noStrike">
                <a:solidFill>
                  <a:srgbClr val="613eae"/>
                </a:solidFill>
                <a:latin typeface="Times New Roman"/>
                <a:ea typeface="华文中宋"/>
              </a:rPr>
              <a:t>“鹤唳云端”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华文中宋"/>
              </a:rPr>
              <a:t>的景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4419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使之冲烟而飞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42960" y="1214280"/>
            <a:ext cx="3809880" cy="703440"/>
          </a:xfrm>
          <a:prstGeom prst="rect">
            <a:avLst/>
          </a:prstGeom>
          <a:solidFill>
            <a:srgbClr val="613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鹤唳云端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38080" y="190512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私拟作群鹤舞于空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70800" y="373392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徐喷以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57640" y="51055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果如鹤唳云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251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昂首观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30481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又留蚊于素帐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95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60948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余常于土墙凹凸处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花台小草丛杂处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蹲其身，使与  台   齐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57200" y="1523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我常在土墙高低不平的地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04920" y="3505320"/>
            <a:ext cx="67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在花台上杂草丛生的地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8760" y="5000760"/>
            <a:ext cx="31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蹲下身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857680" y="5000760"/>
            <a:ext cx="53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使身子跟台子一般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029200" y="1828800"/>
            <a:ext cx="152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086600" y="1828800"/>
            <a:ext cx="182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0" y="2743200"/>
            <a:ext cx="838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27432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572000" y="2819520"/>
            <a:ext cx="3733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152280" y="3809880"/>
            <a:ext cx="2819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124080" y="3809880"/>
            <a:ext cx="4419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0" y="5143680"/>
            <a:ext cx="2209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98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定神细视，以丛草为林，以虫蚁为兽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以土砾凸者为丘，凹者为壑，      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神游其中，怡然自得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0713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定心细看，把草丛看作树林，把虫子、蚂蚁看作野兽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把土块凸出部分当做丘陵，低陷部分当做山沟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便凭着假想，在这个境界中游览愉快而又满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13eae"/>
                </a:solidFill>
                <a:latin typeface="Calibri"/>
                <a:ea typeface="华文中宋"/>
              </a:rPr>
              <a:t>神游大自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1214640" y="142884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把草丛想像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把虫蚊想像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把土砾想像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把低凹处想像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24000" y="1500120"/>
            <a:ext cx="20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 树林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895640" y="2357280"/>
            <a:ext cx="20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   野兽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038200" y="3857760"/>
            <a:ext cx="20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  丘陵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5335200" y="471492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 山沟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18921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日，见二虫斗  草间，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之，           兴正浓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25146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Times New Roman"/>
                <a:ea typeface="华文中宋"/>
              </a:rPr>
              <a:t>有一天</a:t>
            </a:r>
            <a:r>
              <a:rPr b="1" lang="en-US" sz="4000" spc="-1" strike="noStrike">
                <a:solidFill>
                  <a:srgbClr val="e6061b"/>
                </a:solidFill>
                <a:latin typeface="Times New Roman"/>
                <a:ea typeface="华文中宋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209680" y="25146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Times New Roman"/>
                <a:ea typeface="华文中宋"/>
              </a:rPr>
              <a:t>我看见两只小虫在草间打斗</a:t>
            </a:r>
            <a:r>
              <a:rPr b="1" lang="en-US" sz="4000" spc="-1" strike="noStrike">
                <a:solidFill>
                  <a:srgbClr val="e6061b"/>
                </a:solidFill>
                <a:latin typeface="Times New Roman"/>
                <a:ea typeface="华文中宋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80880" y="5029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Times New Roman"/>
                <a:ea typeface="华文中宋"/>
              </a:rPr>
              <a:t>便蹲下来观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114800" y="50292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Times New Roman"/>
                <a:ea typeface="华文中宋"/>
              </a:rPr>
              <a:t>兴趣正浓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600200" y="3048120"/>
            <a:ext cx="3962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809880" y="3352680"/>
            <a:ext cx="2514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400800" y="33526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0" y="4343400"/>
            <a:ext cx="4952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4876920" y="4343400"/>
            <a:ext cx="2438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238880" y="434340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0" y="5257800"/>
            <a:ext cx="32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200400" y="52578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5334120" y="533412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0" y="6172200"/>
            <a:ext cx="2514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2819520" y="6172200"/>
            <a:ext cx="3504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29" descr="shenfu"/>
          <p:cNvPicPr/>
          <p:nvPr/>
        </p:nvPicPr>
        <p:blipFill>
          <a:blip r:embed="rId1"/>
          <a:stretch/>
        </p:blipFill>
        <p:spPr>
          <a:xfrm>
            <a:off x="533520" y="838080"/>
            <a:ext cx="3352680" cy="4724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32"/>
          <p:cNvSpPr/>
          <p:nvPr/>
        </p:nvSpPr>
        <p:spPr>
          <a:xfrm>
            <a:off x="152280" y="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隶书"/>
              </a:rPr>
              <a:t>作者及作品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34"/>
          <p:cNvSpPr/>
          <p:nvPr/>
        </p:nvSpPr>
        <p:spPr>
          <a:xfrm>
            <a:off x="3851280" y="90792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三白，长洲（现在江苏苏州）人。工诗画、散文。至今未发现有关他生平的文字记载。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浮生六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看，他出身于幕僚家庭，没有参加过科举考试，曾以卖画维持生计。与妻陈芸感情甚笃，因遭家庭变故，夫妻曾旅居外地多年，历尽坎坷。妻死后，他去四川充任幕僚。此后情况不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35"/>
          <p:cNvSpPr/>
          <p:nvPr/>
        </p:nvSpPr>
        <p:spPr>
          <a:xfrm>
            <a:off x="1670400" y="573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沈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36"/>
          <p:cNvSpPr/>
          <p:nvPr/>
        </p:nvSpPr>
        <p:spPr>
          <a:xfrm>
            <a:off x="2411280" y="57340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763~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忽有庞然大物，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拔山倒树而来，盖一癞虾蟆，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舌一吐而二虫尽为所吞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6760" y="1143000"/>
            <a:ext cx="990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忽然有一个极大极大的野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拔山倒树般走来原来是一只癞虾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华文中宋"/>
                <a:ea typeface="华文中宋"/>
              </a:rPr>
              <a:t>舌头一吐，两只小虫全部被它吃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606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6760" y="25002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余年幼，方出神，不觉呀然一惊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神定，      捉蛤蟆，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鞭数十，              驱之别院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8584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Calibri"/>
                <a:ea typeface="华文中宋"/>
              </a:rPr>
              <a:t>那时我年纪很小，正看得出神，不禁哇的一声惊叫起来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Calibri"/>
                <a:ea typeface="华文中宋"/>
              </a:rPr>
              <a:t>待到神智恢复，捉住癞蛤蟆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061b"/>
                </a:solidFill>
                <a:latin typeface="Calibri"/>
                <a:ea typeface="华文中宋"/>
              </a:rPr>
              <a:t>抽了它几十鞭子，把它赶到别的院子里去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606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0" y="50004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061b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6061b"/>
                </a:solidFill>
                <a:latin typeface="Times New Roman"/>
              </a:rPr>
              <a:t>解释词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2ebe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言词的意思，有的可用加字的办法解释，如“必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仔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纹理”；有的要用换字的办法解释，如“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之”。试选用一种方法解释下列各句中加横线的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61b"/>
                </a:solidFill>
                <a:latin typeface="Times New Roman"/>
              </a:rPr>
              <a:t>(1)</a:t>
            </a:r>
            <a:r>
              <a:rPr b="1" lang="zh-CN" sz="2800" spc="-1" strike="noStrike" u="sng">
                <a:solidFill>
                  <a:srgbClr val="3daf6b"/>
                </a:solidFill>
                <a:uFillTx/>
                <a:latin typeface="Times New Roman"/>
              </a:rPr>
              <a:t>项</a:t>
            </a:r>
            <a:r>
              <a:rPr b="1" lang="zh-CN" sz="2800" spc="-1" strike="noStrike">
                <a:solidFill>
                  <a:srgbClr val="3daf6b"/>
                </a:solidFill>
                <a:latin typeface="Times New Roman"/>
              </a:rPr>
              <a:t>（      ）</a:t>
            </a:r>
            <a:r>
              <a:rPr b="1" lang="zh-CN" sz="2800" spc="-1" strike="noStrike">
                <a:solidFill>
                  <a:srgbClr val="e6061b"/>
                </a:solidFill>
                <a:latin typeface="Times New Roman"/>
              </a:rPr>
              <a:t>为之强果然  </a:t>
            </a:r>
            <a:r>
              <a:rPr b="1" lang="en-US" sz="2800" spc="-1" strike="noStrike">
                <a:solidFill>
                  <a:srgbClr val="e6061b"/>
                </a:solidFill>
                <a:latin typeface="Times New Roman"/>
              </a:rPr>
              <a:t>(2)</a:t>
            </a:r>
            <a:r>
              <a:rPr b="1" lang="zh-CN" sz="2800" spc="-1" strike="noStrike" u="sng">
                <a:solidFill>
                  <a:srgbClr val="3daf6b"/>
                </a:solidFill>
                <a:uFillTx/>
                <a:latin typeface="Times New Roman"/>
              </a:rPr>
              <a:t>果</a:t>
            </a:r>
            <a:r>
              <a:rPr b="1" lang="zh-CN" sz="2800" spc="-1" strike="noStrike">
                <a:solidFill>
                  <a:srgbClr val="3daf6b"/>
                </a:solidFill>
                <a:latin typeface="Times New Roman"/>
              </a:rPr>
              <a:t>（        </a:t>
            </a:r>
            <a:r>
              <a:rPr b="1" lang="en-US" sz="2800" spc="-1" strike="noStrike">
                <a:solidFill>
                  <a:srgbClr val="3daf6b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e6061b"/>
                </a:solidFill>
                <a:latin typeface="Times New Roman"/>
              </a:rPr>
              <a:t>如鹤唳云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61b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e6061b"/>
                </a:solidFill>
                <a:latin typeface="Times New Roman"/>
              </a:rPr>
              <a:t>以丛草为</a:t>
            </a:r>
            <a:r>
              <a:rPr b="1" lang="zh-CN" sz="2800" spc="-1" strike="noStrike" u="sng">
                <a:solidFill>
                  <a:srgbClr val="3daf6b"/>
                </a:solidFill>
                <a:uFillTx/>
                <a:latin typeface="Times New Roman"/>
              </a:rPr>
              <a:t>林</a:t>
            </a:r>
            <a:r>
              <a:rPr b="1" lang="en-US" sz="2800" spc="-1" strike="noStrike">
                <a:solidFill>
                  <a:srgbClr val="3daf6b"/>
                </a:solidFill>
                <a:latin typeface="Times New Roman"/>
              </a:rPr>
              <a:t>(          ) </a:t>
            </a:r>
            <a:r>
              <a:rPr b="1" lang="en-US" sz="2800" spc="-1" strike="noStrike">
                <a:solidFill>
                  <a:srgbClr val="e6061b"/>
                </a:solidFill>
                <a:latin typeface="Times New Roman"/>
              </a:rPr>
              <a:t>     (4)</a:t>
            </a:r>
            <a:r>
              <a:rPr b="1" lang="zh-CN" sz="2800" spc="-1" strike="noStrike" u="sng">
                <a:solidFill>
                  <a:srgbClr val="3daf6b"/>
                </a:solidFill>
                <a:uFillTx/>
                <a:latin typeface="Times New Roman"/>
              </a:rPr>
              <a:t>兴</a:t>
            </a:r>
            <a:r>
              <a:rPr b="1" lang="en-US" sz="2800" spc="-1" strike="noStrike">
                <a:solidFill>
                  <a:srgbClr val="3daf6b"/>
                </a:solidFill>
                <a:latin typeface="Times New Roman"/>
              </a:rPr>
              <a:t>(         )</a:t>
            </a:r>
            <a:r>
              <a:rPr b="1" lang="zh-CN" sz="2800" spc="-1" strike="noStrike">
                <a:solidFill>
                  <a:srgbClr val="e6061b"/>
                </a:solidFill>
                <a:latin typeface="Times New Roman"/>
              </a:rPr>
              <a:t>正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61b"/>
                </a:solidFill>
                <a:latin typeface="Times New Roman"/>
              </a:rPr>
              <a:t>(5)</a:t>
            </a:r>
            <a:r>
              <a:rPr b="1" lang="zh-CN" sz="2800" spc="-1" strike="noStrike" u="sng">
                <a:solidFill>
                  <a:srgbClr val="3daf6b"/>
                </a:solidFill>
                <a:uFillTx/>
                <a:latin typeface="Times New Roman"/>
              </a:rPr>
              <a:t>方</a:t>
            </a:r>
            <a:r>
              <a:rPr b="1" lang="en-US" sz="2800" spc="-1" strike="noStrike">
                <a:solidFill>
                  <a:srgbClr val="3daf6b"/>
                </a:solidFill>
                <a:latin typeface="Times New Roman"/>
              </a:rPr>
              <a:t>(         )</a:t>
            </a:r>
            <a:r>
              <a:rPr b="1" lang="zh-CN" sz="2800" spc="-1" strike="noStrike">
                <a:solidFill>
                  <a:srgbClr val="e6061b"/>
                </a:solidFill>
                <a:latin typeface="Times New Roman"/>
              </a:rPr>
              <a:t>出神           </a:t>
            </a:r>
            <a:r>
              <a:rPr b="1" lang="en-US" sz="2800" spc="-1" strike="noStrike">
                <a:solidFill>
                  <a:srgbClr val="e6061b"/>
                </a:solidFill>
                <a:latin typeface="Times New Roman"/>
              </a:rPr>
              <a:t>(6)</a:t>
            </a:r>
            <a:r>
              <a:rPr b="1" lang="zh-CN" sz="2800" spc="-1" strike="noStrike" u="sng">
                <a:solidFill>
                  <a:srgbClr val="3daf6b"/>
                </a:solidFill>
                <a:uFillTx/>
                <a:latin typeface="Times New Roman"/>
              </a:rPr>
              <a:t>驱</a:t>
            </a:r>
            <a:r>
              <a:rPr b="1" lang="en-US" sz="2800" spc="-1" strike="noStrike">
                <a:solidFill>
                  <a:srgbClr val="3daf6b"/>
                </a:solidFill>
                <a:latin typeface="Times New Roman"/>
              </a:rPr>
              <a:t>(        )</a:t>
            </a:r>
            <a:r>
              <a:rPr b="1" lang="zh-CN" sz="2800" spc="-1" strike="noStrike">
                <a:solidFill>
                  <a:srgbClr val="e6061b"/>
                </a:solidFill>
                <a:latin typeface="Times New Roman"/>
              </a:rPr>
              <a:t>之别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428840" y="3500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357880" y="342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ebe"/>
                </a:solidFill>
                <a:latin typeface="Times New Roman"/>
              </a:rPr>
              <a:t>果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714760" y="4357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ebe"/>
                </a:solidFill>
                <a:latin typeface="Times New Roman"/>
              </a:rPr>
              <a:t>树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857840" y="52149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ebe"/>
                </a:solidFill>
                <a:latin typeface="Times New Roman"/>
              </a:rPr>
              <a:t>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000760" y="4357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ebe"/>
                </a:solidFill>
                <a:latin typeface="Times New Roman"/>
              </a:rPr>
              <a:t>兴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285920" y="52149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ebe"/>
                </a:solidFill>
                <a:latin typeface="Times New Roman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762120" y="430200"/>
            <a:ext cx="7848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6061b"/>
                </a:solidFill>
                <a:latin typeface="Times New Roman"/>
              </a:rPr>
              <a:t>．   </a:t>
            </a:r>
            <a:r>
              <a:rPr b="1" lang="zh-CN" sz="3200" spc="-1" strike="noStrike">
                <a:solidFill>
                  <a:srgbClr val="1106e6"/>
                </a:solidFill>
                <a:latin typeface="Times New Roman"/>
              </a:rPr>
              <a:t>练习：</a:t>
            </a:r>
            <a:r>
              <a:rPr b="1" lang="zh-CN" sz="3200" spc="-1" strike="noStrike">
                <a:solidFill>
                  <a:srgbClr val="e6061b"/>
                </a:solidFill>
                <a:latin typeface="Times New Roman"/>
              </a:rPr>
              <a:t>下面的词语大多作为成语保留在现代汉语中，  解释时不妨采用讲述大意的办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061b"/>
                </a:solidFill>
                <a:latin typeface="Times New Roman"/>
              </a:rPr>
              <a:t>示例：怡然称快</a:t>
            </a:r>
            <a:r>
              <a:rPr b="1" lang="en-US" sz="3200" spc="-1" strike="noStrike">
                <a:solidFill>
                  <a:srgbClr val="e6061b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e6061b"/>
                </a:solidFill>
                <a:latin typeface="Times New Roman"/>
              </a:rPr>
              <a:t>高兴得连声叫好</a:t>
            </a:r>
            <a:r>
              <a:rPr b="1" lang="en-US" sz="3200" spc="-1" strike="noStrike">
                <a:solidFill>
                  <a:srgbClr val="e6061b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e6061b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2ebe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462ebe"/>
                </a:solidFill>
                <a:latin typeface="Times New Roman"/>
              </a:rPr>
              <a:t>明察秋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2ebe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462ebe"/>
                </a:solidFill>
                <a:latin typeface="Times New Roman"/>
              </a:rPr>
              <a:t>怡然自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2ebe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2ebe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462ebe"/>
                </a:solidFill>
                <a:latin typeface="Times New Roman"/>
              </a:rPr>
              <a:t>庞然大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2ebe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462ebe"/>
                </a:solidFill>
                <a:latin typeface="Times New Roman"/>
              </a:rPr>
              <a:t>夏蚊成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2ebe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352680" y="2819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的视力好极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352680" y="38862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愉快而又满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27672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积极大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357720" y="5500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夏天成群的蚊子的叫声跟雷声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990720" y="1600200"/>
            <a:ext cx="4952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怡然称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丛草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舌一吐而二虫尽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3505320" y="1600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，因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114800" y="2362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，为了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495680" y="3200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，作为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791320" y="40384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，被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553080" y="1981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7543800" y="35053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6477120" y="17524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7467480" y="335268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0" y="25909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2"/>
          <p:cNvSpPr/>
          <p:nvPr/>
        </p:nvSpPr>
        <p:spPr>
          <a:xfrm>
            <a:off x="609480" y="1523880"/>
            <a:ext cx="381240" cy="3276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05"/>
                </a:lnTo>
                <a:cubicBezTo>
                  <a:pt x="10800" y="9105"/>
                  <a:pt x="5400" y="10005"/>
                  <a:pt x="0" y="10005"/>
                </a:cubicBezTo>
                <a:cubicBezTo>
                  <a:pt x="5400" y="10005"/>
                  <a:pt x="10800" y="10905"/>
                  <a:pt x="10800" y="118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1215360" y="357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06e6"/>
                </a:solidFill>
                <a:latin typeface="Times New Roman"/>
              </a:rPr>
              <a:t>常见的文言虚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28600" y="571680"/>
            <a:ext cx="89154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于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留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素帐中。余常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墙凹凸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06e6"/>
                </a:solidFill>
                <a:latin typeface="楷体_GB2312"/>
                <a:ea typeface="楷体_GB2312"/>
              </a:rPr>
              <a:t>于，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草为林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蚁为兽    </a:t>
            </a:r>
            <a:r>
              <a:rPr b="1" lang="zh-CN" sz="3200" spc="-1" strike="noStrike">
                <a:solidFill>
                  <a:srgbClr val="1106e6"/>
                </a:solidFill>
                <a:latin typeface="楷体_GB2312"/>
                <a:ea typeface="楷体_GB2312"/>
              </a:rPr>
              <a:t>以，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徐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     </a:t>
            </a:r>
            <a:r>
              <a:rPr b="1" lang="zh-CN" sz="3200" spc="-1" strike="noStrike">
                <a:solidFill>
                  <a:srgbClr val="1106e6"/>
                </a:solidFill>
                <a:latin typeface="楷体_GB2312"/>
                <a:ea typeface="楷体_GB2312"/>
              </a:rPr>
              <a:t>以，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细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纹理。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。神游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06e6"/>
                </a:solidFill>
                <a:latin typeface="楷体_GB2312"/>
                <a:ea typeface="楷体_GB2312"/>
              </a:rPr>
              <a:t>其，代词。</a:t>
            </a:r>
            <a:r>
              <a:rPr b="1" lang="zh-CN" sz="3600" spc="-1" strike="noStrike">
                <a:solidFill>
                  <a:srgbClr val="1106e6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990720" y="1295280"/>
            <a:ext cx="441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藐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外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昂首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，项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冲烟而飞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怡然称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驱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别院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28954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609480" y="1523880"/>
            <a:ext cx="462240" cy="3619800"/>
          </a:xfrm>
          <a:custGeom>
            <a:avLst/>
            <a:gdLst>
              <a:gd name="textAreaLeft" fmla="*/ 295200 w 462240"/>
              <a:gd name="textAreaRight" fmla="*/ 462600 w 462240"/>
              <a:gd name="textAreaTop" fmla="*/ 134640 h 3619800"/>
              <a:gd name="textAreaBottom" fmla="*/ 3485160 h 361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7"/>
                  <a:pt x="10800" y="2573"/>
                </a:cubicBezTo>
                <a:lnTo>
                  <a:pt x="10800" y="7432"/>
                </a:lnTo>
                <a:cubicBezTo>
                  <a:pt x="10800" y="8719"/>
                  <a:pt x="5400" y="10005"/>
                  <a:pt x="0" y="10005"/>
                </a:cubicBezTo>
                <a:cubicBezTo>
                  <a:pt x="5400" y="10005"/>
                  <a:pt x="10800" y="11292"/>
                  <a:pt x="10800" y="12578"/>
                </a:cubicBezTo>
                <a:lnTo>
                  <a:pt x="10800" y="19027"/>
                </a:lnTo>
                <a:cubicBezTo>
                  <a:pt x="10800" y="2031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038480" y="1797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06e6"/>
                </a:solidFill>
                <a:latin typeface="楷体_GB2312"/>
                <a:ea typeface="楷体_GB2312"/>
              </a:rPr>
              <a:t>之，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3429000" y="144792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5857920" y="428616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06e6"/>
                </a:solidFill>
                <a:latin typeface="楷体_GB2312"/>
                <a:ea typeface="楷体_GB2312"/>
              </a:rPr>
              <a:t>之，代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5357880" y="3643200"/>
            <a:ext cx="357120" cy="1957680"/>
          </a:xfrm>
          <a:custGeom>
            <a:avLst/>
            <a:gdLst>
              <a:gd name="textAreaLeft" fmla="*/ 0 w 357120"/>
              <a:gd name="textAreaRight" fmla="*/ 128880 w 357120"/>
              <a:gd name="textAreaTop" fmla="*/ 61200 h 1957680"/>
              <a:gd name="textAreaBottom" fmla="*/ 1896480 h 195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4"/>
                  <a:pt x="10800" y="2168"/>
                </a:cubicBezTo>
                <a:lnTo>
                  <a:pt x="10800" y="8632"/>
                </a:lnTo>
                <a:cubicBezTo>
                  <a:pt x="10800" y="9716"/>
                  <a:pt x="16200" y="10800"/>
                  <a:pt x="21600" y="10800"/>
                </a:cubicBezTo>
                <a:cubicBezTo>
                  <a:pt x="16200" y="10800"/>
                  <a:pt x="10800" y="11884"/>
                  <a:pt x="10800" y="12968"/>
                </a:cubicBezTo>
                <a:lnTo>
                  <a:pt x="10800" y="19432"/>
                </a:lnTo>
                <a:cubicBezTo>
                  <a:pt x="10800" y="20516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250920" y="0"/>
            <a:ext cx="88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问题研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１、文中写了几件趣事？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19320" y="1557360"/>
            <a:ext cx="70977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三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夏蚊成雷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花台草木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观虫斗驱蛤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6858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本文记叙童年的“趣事”过程中，按照什么顺序组织结构和材料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457200" y="33526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结构：总说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分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457200" y="31240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 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3"/>
          <p:cNvSpPr/>
          <p:nvPr/>
        </p:nvSpPr>
        <p:spPr>
          <a:xfrm>
            <a:off x="1979640" y="1628640"/>
            <a:ext cx="71280" cy="3745080"/>
          </a:xfrm>
          <a:custGeom>
            <a:avLst/>
            <a:gdLst>
              <a:gd name="textAreaLeft" fmla="*/ 45720 w 71280"/>
              <a:gd name="textAreaRight" fmla="*/ 71640 w 7128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2514600" y="12193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张目对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明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秋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556000" y="3886200"/>
            <a:ext cx="556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藐小之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细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纹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5867280" y="1557360"/>
            <a:ext cx="152640" cy="3743280"/>
          </a:xfrm>
          <a:custGeom>
            <a:avLst/>
            <a:gdLst>
              <a:gd name="textAreaLeft" fmla="*/ 0 w 152640"/>
              <a:gd name="textAreaRight" fmla="*/ 55080 w 152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6477120" y="2743200"/>
            <a:ext cx="2666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有物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       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书面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99" name="Rectangle 2"/>
          <p:cNvSpPr/>
          <p:nvPr/>
        </p:nvSpPr>
        <p:spPr>
          <a:xfrm>
            <a:off x="0" y="142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Times New Roman"/>
                <a:ea typeface="黑体"/>
              </a:rPr>
              <a:t>《</a:t>
            </a:r>
            <a:r>
              <a:rPr b="1" lang="zh-CN" sz="4400" spc="-1" strike="noStrike">
                <a:solidFill>
                  <a:srgbClr val="c0504d"/>
                </a:solidFill>
                <a:latin typeface="Times New Roman"/>
                <a:ea typeface="黑体"/>
              </a:rPr>
              <a:t>浮生六记</a:t>
            </a:r>
            <a:r>
              <a:rPr b="1" lang="en-US" sz="4400" spc="-1" strike="noStrike">
                <a:solidFill>
                  <a:srgbClr val="c0504d"/>
                </a:solidFill>
                <a:latin typeface="Times New Roman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85840" y="85716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自传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品。记叙了他与妻子陈芸志趣投合，情感深厚，愿意过一种布衣素食而从事艺术的生活。因封建礼教的压迫和贫苦生活的磨难，理想终未实现，经历了生离死别的惨痛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浮生六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共六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闺房记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闲情记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坎坷记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浪游记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中山记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养生记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有英、法、德、俄等多种译本。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童趣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节选自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浮生六记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•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闲情记趣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6080040"/>
            <a:ext cx="914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6080040"/>
            <a:ext cx="914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封面1"/>
          <p:cNvPicPr/>
          <p:nvPr/>
        </p:nvPicPr>
        <p:blipFill>
          <a:blip r:embed="rId2"/>
          <a:stretch/>
        </p:blipFill>
        <p:spPr>
          <a:xfrm>
            <a:off x="6781680" y="152280"/>
            <a:ext cx="1859040" cy="2743200"/>
          </a:xfrm>
          <a:prstGeom prst="rect">
            <a:avLst/>
          </a:prstGeom>
          <a:ln w="22320">
            <a:solidFill>
              <a:srgbClr val="cc6600"/>
            </a:solidFill>
            <a:miter/>
          </a:ln>
        </p:spPr>
      </p:pic>
      <p:pic>
        <p:nvPicPr>
          <p:cNvPr id="104" name="Picture 9" descr="书面"/>
          <p:cNvPicPr/>
          <p:nvPr/>
        </p:nvPicPr>
        <p:blipFill>
          <a:blip r:embed="rId3"/>
          <a:stretch/>
        </p:blipFill>
        <p:spPr>
          <a:xfrm>
            <a:off x="6781680" y="3048120"/>
            <a:ext cx="1920960" cy="2666880"/>
          </a:xfrm>
          <a:prstGeom prst="rect">
            <a:avLst/>
          </a:prstGeom>
          <a:ln w="22320">
            <a:solidFill>
              <a:srgbClr val="cc66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-605520" y="2514600"/>
            <a:ext cx="13993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　　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3"/>
          <p:cNvSpPr/>
          <p:nvPr/>
        </p:nvSpPr>
        <p:spPr>
          <a:xfrm>
            <a:off x="685800" y="762120"/>
            <a:ext cx="285840" cy="5403600"/>
          </a:xfrm>
          <a:custGeom>
            <a:avLst/>
            <a:gdLst>
              <a:gd name="textAreaLeft" fmla="*/ 182520 w 285840"/>
              <a:gd name="textAreaRight" fmla="*/ 286200 w 285840"/>
              <a:gd name="textAreaTop" fmla="*/ 140760 h 5403600"/>
              <a:gd name="textAreaBottom" fmla="*/ 5262840 h 540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914400" y="4572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夏蚊成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276720" y="990720"/>
            <a:ext cx="1752480" cy="75960"/>
          </a:xfrm>
          <a:prstGeom prst="rightArrow">
            <a:avLst>
              <a:gd name="adj1" fmla="val 50000"/>
              <a:gd name="adj2" fmla="val 57677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492360" y="380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想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5029200" y="457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群鹤飞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900000" y="19810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留蚊帐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76720" y="2438280"/>
            <a:ext cx="1676160" cy="76320"/>
          </a:xfrm>
          <a:prstGeom prst="rightArrow">
            <a:avLst>
              <a:gd name="adj1" fmla="val 50000"/>
              <a:gd name="adj2" fmla="val 5490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5105520" y="1981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鹤唳云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900000" y="35053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花台草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3276720" y="3809880"/>
            <a:ext cx="1676160" cy="76320"/>
          </a:xfrm>
          <a:prstGeom prst="rightArrow">
            <a:avLst>
              <a:gd name="adj1" fmla="val 50000"/>
              <a:gd name="adj2" fmla="val 5490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49236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想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492360" y="320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神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492360" y="3886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5181480" y="3429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象林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900000" y="4800600"/>
            <a:ext cx="2590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观虫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赶虾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8"/>
          <p:cNvSpPr/>
          <p:nvPr/>
        </p:nvSpPr>
        <p:spPr>
          <a:xfrm>
            <a:off x="2819520" y="5791320"/>
            <a:ext cx="2209680" cy="75960"/>
          </a:xfrm>
          <a:prstGeom prst="rightArrow">
            <a:avLst>
              <a:gd name="adj1" fmla="val 50000"/>
              <a:gd name="adj2" fmla="val 72725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05320" y="4876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492360" y="5867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入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5148360" y="479736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兴致甚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真无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2"/>
          <p:cNvSpPr/>
          <p:nvPr/>
        </p:nvSpPr>
        <p:spPr>
          <a:xfrm>
            <a:off x="7512120" y="765000"/>
            <a:ext cx="228600" cy="5334120"/>
          </a:xfrm>
          <a:custGeom>
            <a:avLst/>
            <a:gdLst>
              <a:gd name="textAreaLeft" fmla="*/ 0 w 228600"/>
              <a:gd name="textAreaRight" fmla="*/ 82440 w 228600"/>
              <a:gd name="textAreaTop" fmla="*/ 138960 h 5334120"/>
              <a:gd name="textAreaBottom" fmla="*/ 519516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7772400" y="2819520"/>
            <a:ext cx="137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物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525600" y="765000"/>
            <a:ext cx="82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作者提到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物外之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指的是什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24382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        “</a:t>
            </a:r>
            <a:r>
              <a:rPr b="1" lang="zh-CN" sz="4000" spc="-1" strike="noStrike">
                <a:solidFill>
                  <a:srgbClr val="990033"/>
                </a:solidFill>
                <a:latin typeface="宋体"/>
              </a:rPr>
              <a:t>物外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990033"/>
                </a:solidFill>
                <a:latin typeface="宋体"/>
              </a:rPr>
              <a:t>，指超出事物本身。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990033"/>
                </a:solidFill>
                <a:latin typeface="宋体"/>
              </a:rPr>
              <a:t>物外之趣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990033"/>
                </a:solidFill>
                <a:latin typeface="宋体"/>
              </a:rPr>
              <a:t>是作者根据眼前自然景物的形象，在头脑中创造出超出事物原本特性的新的形象，从中得到的乐趣。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3857760" y="4214880"/>
            <a:ext cx="175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 rot="2521800">
            <a:off x="1587600" y="3327480"/>
            <a:ext cx="2263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拟夏蚊为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群鹤舞空</a:t>
            </a: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357720" y="1785960"/>
            <a:ext cx="1828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把草、虫土砾拟作森林、野兽、丘壑</a:t>
            </a: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5"/>
          <p:cNvSpPr/>
          <p:nvPr/>
        </p:nvSpPr>
        <p:spPr>
          <a:xfrm rot="21502800">
            <a:off x="3273480" y="1098360"/>
            <a:ext cx="1984320" cy="418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6"/>
          <p:cNvSpPr/>
          <p:nvPr/>
        </p:nvSpPr>
        <p:spPr>
          <a:xfrm rot="3090000">
            <a:off x="4852080" y="1829520"/>
            <a:ext cx="1366920" cy="4114800"/>
          </a:xfrm>
          <a:prstGeom prst="ellipse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7"/>
          <p:cNvSpPr/>
          <p:nvPr/>
        </p:nvSpPr>
        <p:spPr>
          <a:xfrm rot="18099000">
            <a:off x="2263680" y="1995120"/>
            <a:ext cx="1447920" cy="4114800"/>
          </a:xfrm>
          <a:prstGeom prst="ellipse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 rot="2805600">
            <a:off x="5263200" y="2625840"/>
            <a:ext cx="133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惩治虾蟆，为小虫抱不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2357280" y="214200"/>
            <a:ext cx="4343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4800" spc="-1" strike="noStrike">
                <a:solidFill>
                  <a:srgbClr val="cc00cc"/>
                </a:solidFill>
                <a:latin typeface="Times New Roman"/>
                <a:ea typeface="隶书"/>
              </a:rPr>
              <a:t>物 外 之 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000080" y="5357880"/>
            <a:ext cx="7086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cc00cc"/>
                </a:solidFill>
                <a:latin typeface="方正舒体"/>
                <a:ea typeface="方正舒体"/>
              </a:rPr>
              <a:t>       </a:t>
            </a:r>
            <a:r>
              <a:rPr b="1" lang="zh-CN" sz="2900" spc="-1" strike="noStrike">
                <a:solidFill>
                  <a:srgbClr val="1106e6"/>
                </a:solidFill>
                <a:latin typeface="方正舒体"/>
                <a:ea typeface="方正舒体"/>
              </a:rPr>
              <a:t>这种</a:t>
            </a:r>
            <a:r>
              <a:rPr b="1" lang="en-US" sz="2900" spc="-1" strike="noStrike">
                <a:solidFill>
                  <a:srgbClr val="1106e6"/>
                </a:solidFill>
                <a:latin typeface="方正舒体"/>
                <a:ea typeface="方正舒体"/>
              </a:rPr>
              <a:t>"</a:t>
            </a:r>
            <a:r>
              <a:rPr b="1" lang="zh-CN" sz="2900" spc="-1" strike="noStrike">
                <a:solidFill>
                  <a:srgbClr val="1106e6"/>
                </a:solidFill>
                <a:latin typeface="方正舒体"/>
                <a:ea typeface="方正舒体"/>
              </a:rPr>
              <a:t>物外之趣</a:t>
            </a:r>
            <a:r>
              <a:rPr b="1" lang="en-US" sz="2900" spc="-1" strike="noStrike">
                <a:solidFill>
                  <a:srgbClr val="1106e6"/>
                </a:solidFill>
                <a:latin typeface="方正舒体"/>
                <a:ea typeface="方正舒体"/>
              </a:rPr>
              <a:t>"</a:t>
            </a:r>
            <a:r>
              <a:rPr b="1" lang="zh-CN" sz="2900" spc="-1" strike="noStrike">
                <a:solidFill>
                  <a:srgbClr val="1106e6"/>
                </a:solidFill>
                <a:latin typeface="方正舒体"/>
                <a:ea typeface="方正舒体"/>
              </a:rPr>
              <a:t>是借助丰富的联想和想象创造出来的。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28600" y="228600"/>
            <a:ext cx="6946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1f497d"/>
                </a:solidFill>
                <a:latin typeface="宋体"/>
              </a:rPr>
              <a:t>、怎样才能获得“物外之趣”呢</a:t>
            </a:r>
            <a:r>
              <a:rPr b="1" lang="en-US" sz="3600" spc="-1" strike="noStrike">
                <a:solidFill>
                  <a:srgbClr val="1f497d"/>
                </a:solidFill>
                <a:latin typeface="宋体"/>
              </a:rPr>
              <a:t>?</a:t>
            </a:r>
            <a:r>
              <a:rPr b="1" lang="en-US" sz="2400" spc="-1" strike="noStrike">
                <a:solidFill>
                  <a:srgbClr val="1f497d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0" y="990720"/>
            <a:ext cx="9144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是两个关键词语，意思是</a:t>
            </a:r>
            <a:r>
              <a:rPr b="1" lang="zh-CN" sz="4800" spc="-1" strike="noStrike">
                <a:solidFill>
                  <a:srgbClr val="1106e6"/>
                </a:solidFill>
                <a:latin typeface="华文新魏"/>
                <a:ea typeface="华文新魏"/>
              </a:rPr>
              <a:t>观察敏锐、仔细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。只有这样才能获得本领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见藐小微物，必细察其纹理”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观察的 习惯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时有物外之趣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观察的收获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3352680"/>
            <a:ext cx="69469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14200" y="3857760"/>
            <a:ext cx="6946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75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" y="4572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只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明察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“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细察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了</a:t>
            </a:r>
            <a:r>
              <a:rPr b="1" lang="zh-CN" sz="3600" spc="-1" strike="noStrike">
                <a:solidFill>
                  <a:srgbClr val="1f497d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否就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物外之趣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2362320"/>
            <a:ext cx="82296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除“明察、细察”之外，还要有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丰富的想像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才能真正获得“物外之趣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457200" y="5335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四、主    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990720" y="18288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文通过对童年生活中细致观察景物的奇趣的具体描述，充分表现了少年儿童丰富的联想和想象力，及稚气烂漫的情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"/>
          <p:cNvSpPr/>
          <p:nvPr/>
        </p:nvSpPr>
        <p:spPr>
          <a:xfrm>
            <a:off x="4049280" y="838080"/>
            <a:ext cx="99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五、这篇课文对你有怎样的启发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380880" y="22096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联想和想像是创新的基础。我们要培养创新能力，首先要培养自己的联想和想像的能力。我们要保持青少年特有的好奇心和富于幻想的特点，勇于实践，做一个敢想敢做、勇于开拓的人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5"/>
          <p:cNvGrpSpPr/>
          <p:nvPr/>
        </p:nvGrpSpPr>
        <p:grpSpPr>
          <a:xfrm>
            <a:off x="142920" y="777960"/>
            <a:ext cx="8858160" cy="5301720"/>
            <a:chOff x="142920" y="777960"/>
            <a:chExt cx="8858160" cy="5301720"/>
          </a:xfrm>
        </p:grpSpPr>
        <p:sp>
          <p:nvSpPr>
            <p:cNvPr id="344" name="Rectangle 6"/>
            <p:cNvSpPr/>
            <p:nvPr/>
          </p:nvSpPr>
          <p:spPr>
            <a:xfrm>
              <a:off x="142920" y="777960"/>
              <a:ext cx="885816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Group 7"/>
            <p:cNvGrpSpPr/>
            <p:nvPr/>
          </p:nvGrpSpPr>
          <p:grpSpPr>
            <a:xfrm>
              <a:off x="142920" y="777960"/>
              <a:ext cx="7864560" cy="5301720"/>
              <a:chOff x="142920" y="777960"/>
              <a:chExt cx="7864560" cy="5301720"/>
            </a:xfrm>
          </p:grpSpPr>
          <p:sp>
            <p:nvSpPr>
              <p:cNvPr id="346" name="Rectangle 8"/>
              <p:cNvSpPr/>
              <p:nvPr/>
            </p:nvSpPr>
            <p:spPr>
              <a:xfrm>
                <a:off x="142920" y="777960"/>
                <a:ext cx="786456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Group 9"/>
              <p:cNvGrpSpPr/>
              <p:nvPr/>
            </p:nvGrpSpPr>
            <p:grpSpPr>
              <a:xfrm>
                <a:off x="142920" y="777960"/>
                <a:ext cx="6537240" cy="5301720"/>
                <a:chOff x="142920" y="777960"/>
                <a:chExt cx="6537240" cy="5301720"/>
              </a:xfrm>
            </p:grpSpPr>
            <p:sp>
              <p:nvSpPr>
                <p:cNvPr id="348" name="Rectangle 10"/>
                <p:cNvSpPr/>
                <p:nvPr/>
              </p:nvSpPr>
              <p:spPr>
                <a:xfrm>
                  <a:off x="142920" y="777960"/>
                  <a:ext cx="6537240" cy="20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1"/>
                <p:cNvSpPr/>
                <p:nvPr/>
              </p:nvSpPr>
              <p:spPr>
                <a:xfrm>
                  <a:off x="142920" y="777960"/>
                  <a:ext cx="6537240" cy="53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zh-CN" sz="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152280" y="99072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六、你认为怎样做才算是一个有情趣的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476360" y="2438280"/>
            <a:ext cx="5899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热爱自然，热爱生活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富于联想和想像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有一定的审美能力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能发现美、认识美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-343080" y="1684440"/>
            <a:ext cx="9144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960480" y="1684440"/>
            <a:ext cx="6537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-291960" y="1463760"/>
            <a:ext cx="914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1011240" y="1463760"/>
            <a:ext cx="6537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白菊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scarborough fair.mp3" descr=""/>
          <p:cNvPicPr/>
          <p:nvPr/>
        </p:nvPicPr>
        <p:blipFill>
          <a:blip r:embed="rId2"/>
          <a:stretch/>
        </p:blipFill>
        <p:spPr>
          <a:xfrm>
            <a:off x="12193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60" name="WordArt 4"/>
          <p:cNvSpPr txBox="1"/>
          <p:nvPr/>
        </p:nvSpPr>
        <p:spPr>
          <a:xfrm>
            <a:off x="1000080" y="1600200"/>
            <a:ext cx="7153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生活中不是缺少美，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而是缺少发现美的眼睛。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6084720" y="4437000"/>
            <a:ext cx="2345040" cy="642600"/>
          </a:xfrm>
          <a:prstGeom prst="rect">
            <a:avLst/>
          </a:prstGeom>
          <a:solidFill>
            <a:srgbClr val="4f81b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罗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611280" y="76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外积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9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2484360" y="2905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文言文学习关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-1116000" y="1484280"/>
            <a:ext cx="1000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熟读背诵（读准字音，读好停顿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用心领会（理清层次，把握内容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积累文言词汇（常用实词、虚词，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假字，词类活用，古今异义，特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句式，成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名句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能流畅地翻译课文（尽量直译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1" descr="g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152280" y="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文言文导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95280" y="7239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一、什么是文言文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言文是古代的一种书面语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与现代汉语同出于古代口语，因此，它的语义与语法的表现形式，大体一致，只是略有差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二、文言文的特点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简洁，典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三、文言文翻译的标准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信（正确），达（通顺），雅（文采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896760" y="498600"/>
            <a:ext cx="208944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⒈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扩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⒉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换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⒊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⒋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⒌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⒍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黑体"/>
              </a:rPr>
              <a:t>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050920" y="9158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单音词扩成现代汉语双音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2052720" y="18511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言词语换成现代汉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2050920" y="2852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今通用的专用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2122560" y="386712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句首尾的语气词、连词、副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2122560" y="4869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殊句式调换顺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2124000" y="58118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省略内容或关联词补出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2268360" y="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文言文句子直译六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0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1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80880" y="428760"/>
            <a:ext cx="876312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一、培养语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熟读、背诵课文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用心领悟，见“言”而知 “意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注意积累词汇、语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57120" y="2571840"/>
            <a:ext cx="86108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二、了解文言文的特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通假字、一词多义、古今异义、词类活用、句式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80880" y="3714840"/>
            <a:ext cx="876312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三、文言文翻译的要注意的几点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抓住关键字词：专用名词不变、通假字音同形异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把单音节变成双音节、不大好变的一定要记住、无实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意义的字词不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用现代汉语的句式代替古代汉语的句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 rot="981600">
            <a:off x="5486040" y="1066320"/>
            <a:ext cx="36576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学习古汉语的方法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tu2-4"/>
          <p:cNvPicPr/>
          <p:nvPr/>
        </p:nvPicPr>
        <p:blipFill>
          <a:blip r:embed="rId1"/>
          <a:stretch/>
        </p:blipFill>
        <p:spPr>
          <a:xfrm>
            <a:off x="6948360" y="11160"/>
            <a:ext cx="2186280" cy="4857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57120" y="785880"/>
            <a:ext cx="7272360" cy="17398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  <a:effectLst>
            <a:outerShdw dist="153753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童趣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一文，作者以第一人称自述了童年生活的小故事，反映了儿童丰富的想象力和天真烂漫的童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文中紧扣一个“趣”字，揭示出儿童美妙的内心世界。“我”视蚊为鹤，以从草为林，皆真实可信，从中领略孩子的纯真的感情和丰富的想象力与创造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304920" y="22860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请你注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04920" y="958680"/>
            <a:ext cx="1143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miǎ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81280" y="914400"/>
            <a:ext cx="609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105520" y="838080"/>
            <a:ext cx="60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y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620120" y="914400"/>
            <a:ext cx="60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285920" y="3143160"/>
            <a:ext cx="83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357720" y="3143160"/>
            <a:ext cx="83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071960" y="3143160"/>
            <a:ext cx="83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500960" y="3143160"/>
            <a:ext cx="1219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jiā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5226120"/>
            <a:ext cx="838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2590920" y="5105520"/>
            <a:ext cx="1218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629400" y="5105520"/>
            <a:ext cx="1219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h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14"/>
          <p:cNvGrpSpPr/>
          <p:nvPr/>
        </p:nvGrpSpPr>
        <p:grpSpPr>
          <a:xfrm>
            <a:off x="500040" y="1285920"/>
            <a:ext cx="8001000" cy="5181120"/>
            <a:chOff x="500040" y="1285920"/>
            <a:chExt cx="8001000" cy="5181120"/>
          </a:xfrm>
        </p:grpSpPr>
        <p:sp>
          <p:nvSpPr>
            <p:cNvPr id="131" name="Text Box 15"/>
            <p:cNvSpPr/>
            <p:nvPr/>
          </p:nvSpPr>
          <p:spPr>
            <a:xfrm>
              <a:off x="500040" y="1285920"/>
              <a:ext cx="14479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藐</a:t>
              </a: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2786040" y="1285920"/>
              <a:ext cx="14479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鹤</a:t>
              </a: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唳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5072040" y="1285920"/>
              <a:ext cx="14479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怡</a:t>
              </a: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>
              <a:off x="6900840" y="1285920"/>
              <a:ext cx="14479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土</a:t>
              </a: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砾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19"/>
            <p:cNvSpPr/>
            <p:nvPr/>
          </p:nvSpPr>
          <p:spPr>
            <a:xfrm>
              <a:off x="576360" y="3585240"/>
              <a:ext cx="14475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丘</a:t>
              </a: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壑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3471840" y="3661200"/>
              <a:ext cx="14479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虾蟆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1"/>
            <p:cNvSpPr/>
            <p:nvPr/>
          </p:nvSpPr>
          <p:spPr>
            <a:xfrm>
              <a:off x="5757840" y="3661200"/>
              <a:ext cx="274320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项为之</a:t>
              </a: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2"/>
            <p:cNvSpPr/>
            <p:nvPr/>
          </p:nvSpPr>
          <p:spPr>
            <a:xfrm>
              <a:off x="576360" y="5641920"/>
              <a:ext cx="14475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童</a:t>
              </a: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稚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23"/>
            <p:cNvSpPr/>
            <p:nvPr/>
          </p:nvSpPr>
          <p:spPr>
            <a:xfrm>
              <a:off x="2786040" y="5627520"/>
              <a:ext cx="14479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庞</a:t>
              </a: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然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4"/>
            <p:cNvSpPr/>
            <p:nvPr/>
          </p:nvSpPr>
          <p:spPr>
            <a:xfrm>
              <a:off x="6900840" y="5627520"/>
              <a:ext cx="14479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数</a:t>
              </a: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4691160" y="5627520"/>
              <a:ext cx="14475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 u="sng">
                  <a:solidFill>
                    <a:srgbClr val="ff0000"/>
                  </a:solidFill>
                  <a:uFillTx/>
                  <a:latin typeface="Times New Roman"/>
                  <a:ea typeface="隶书"/>
                </a:rPr>
                <a:t>凹凸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26"/>
          <p:cNvSpPr/>
          <p:nvPr/>
        </p:nvSpPr>
        <p:spPr>
          <a:xfrm>
            <a:off x="5486400" y="5149800"/>
            <a:ext cx="1219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4648320" y="5105520"/>
            <a:ext cx="83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ā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80880" y="3657600"/>
            <a:ext cx="830592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900" spc="-1" strike="noStrike">
                <a:solidFill>
                  <a:srgbClr val="000000"/>
                </a:solidFill>
                <a:latin typeface="隶书"/>
                <a:ea typeface="隶书"/>
              </a:rPr>
              <a:t>余忆童稚时，能张目对日，明察秋毫，见藐小之物，必细察其纹理，故时有物外之趣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隶书"/>
                <a:ea typeface="隶书"/>
              </a:rPr>
              <a:t>夏蚊成雷，私拟作群鹤舞于空中，心之所向，则或千或百，果然鹤也；昂首观之，项为之强。又留蚊于素帐中，徐喷以烟，使之冲烟而飞鸣，作青云白鹤观，果如鹤唳云端，为之怡然称快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鹤"/>
          <p:cNvPicPr/>
          <p:nvPr/>
        </p:nvPicPr>
        <p:blipFill>
          <a:blip r:embed="rId1"/>
          <a:stretch/>
        </p:blipFill>
        <p:spPr>
          <a:xfrm>
            <a:off x="304920" y="838080"/>
            <a:ext cx="8153280" cy="2793960"/>
          </a:xfrm>
          <a:prstGeom prst="rect">
            <a:avLst/>
          </a:prstGeom>
          <a:ln w="0">
            <a:noFill/>
          </a:ln>
        </p:spPr>
      </p:pic>
      <p:sp>
        <p:nvSpPr>
          <p:cNvPr id="147" name="WordArt 2"/>
          <p:cNvSpPr txBox="1"/>
          <p:nvPr/>
        </p:nvSpPr>
        <p:spPr>
          <a:xfrm>
            <a:off x="304920" y="22860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课文朗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304920" y="22860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课文朗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1219320"/>
            <a:ext cx="83055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虫"/>
          <p:cNvPicPr/>
          <p:nvPr/>
        </p:nvPicPr>
        <p:blipFill>
          <a:blip r:embed="rId3"/>
          <a:stretch/>
        </p:blipFill>
        <p:spPr>
          <a:xfrm>
            <a:off x="304920" y="2971800"/>
            <a:ext cx="2560680" cy="3268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余常于土墙凹凸处，花台小草丛杂处，蹲其身，使与台齐；定神细视，以丛草为林，以虫蚁为兽，以土砾凸者为丘，凹者为壑，神游其中，怡然自得。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048120" y="2971800"/>
            <a:ext cx="5715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隶书"/>
                <a:ea typeface="隶书"/>
              </a:rPr>
              <a:t>一日，见二虫斗草间，观之，兴正浓，忽有庞然大物，拔山倒树而来，盖一癞虾蟆，舌一吐而二虫尽为所吞。余年幼，方出神，不觉呀然一惊。神定，捉虾蟆，鞭数十，驱之别院。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5:54:47Z</dcterms:created>
  <dc:creator/>
  <dc:description/>
  <dc:language>en-US</dc:language>
  <cp:lastModifiedBy>User</cp:lastModifiedBy>
  <dcterms:modified xsi:type="dcterms:W3CDTF">2013-05-18T07:17:06Z</dcterms:modified>
  <cp:revision>1</cp:revision>
  <dc:subject/>
  <dc:title>幻灯片 1</dc:title>
</cp:coreProperties>
</file>