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camera.wav" ContentType="audio/x-wav"/>
  <Override PartName="/ppt/media/image3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7.jpeg" ContentType="image/jpeg"/>
  <Override PartName="/ppt/media/image28.jpeg" ContentType="image/jpeg"/>
  <Override PartName="/ppt/media/image27.gif" ContentType="image/gif"/>
  <Override PartName="/ppt/media/image4.gif" ContentType="image/gif"/>
  <Override PartName="/ppt/media/image1.jpeg" ContentType="image/jpeg"/>
  <Override PartName="/ppt/media/image31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21.jpeg" ContentType="image/jpeg"/>
  <Override PartName="/ppt/media/chimes.wav" ContentType="audio/x-wav"/>
  <Override PartName="/ppt/media/image16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78B-5E1C-4B82-B8F6-F2D16118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5E7-C320-4108-BE5F-C2AAB06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7B4-39B2-4069-B55C-0D8DDE56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687-4362-4BEB-94D9-1DFF7710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FB13-5BD9-4D01-8F07-DE5F4221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FDB8-4F9F-4F0D-8649-1AF11E4D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EBCB-1CF5-495B-96D7-5F2F58A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BEA1-06D4-4DF9-A24D-D9B530FD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28E8-C0CE-4CA1-B10E-BBE4958E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F86-35AF-4995-BEAD-2BB2574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9856-EF9B-42B4-BDCC-4E004F0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60C-02D1-4370-AB11-A5C798B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20F-390B-4282-B920-1780AE2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BFC2-62CA-480C-82C4-719ED69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4689-127E-4872-AD8F-9D9DFE8D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505F-E9C2-4658-9338-CB87B583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A4A8-A1AE-475F-9D80-910EE09D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CE28-F4FD-47AA-831F-AC24DCDB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2A0B-632B-4508-B54F-1E190B3B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D104-DA42-46FE-9528-0E8BD105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6C38-EFC3-44A0-ACB3-A39C30EF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E1A3-A389-414D-9EC6-0E9DD53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1AD-F140-4279-B775-FAE915BA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21CE-FEAC-47F2-8871-E2067EC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1F0C-F92D-448D-9023-C8EB34B6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AE64-A668-4920-9E0D-CBBF3E5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1C4B-44A4-45A5-8B46-3980C28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6AFA-5FFE-4C74-B5EC-87AA7277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0AB8-69C6-47E1-ADF7-2EAA40F9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D483-4C5B-4082-A8FE-56F33075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979-C47F-4583-86B4-57158791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822-647A-4DF5-87DF-844A5F16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850-4031-4EA5-A932-F6C0A37F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684-8186-465C-8B99-DCE0812A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AA0-9942-4E0C-B154-E7CE984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77A-7559-41BC-A590-31CF2C4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18A-C096-44AC-9FCF-53B98FDE07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D7F-4EFC-460B-AAC2-637CBEB65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C25-ED02-4FF0-9539-EA07EB70AE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5.xml"/><Relationship Id="rId3" Type="http://schemas.openxmlformats.org/officeDocument/2006/relationships/image" Target="../media/image18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18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18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18.png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chimes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jpeg"/><Relationship Id="rId3" Type="http://schemas.openxmlformats.org/officeDocument/2006/relationships/image" Target="../media/image27.gif"/><Relationship Id="rId4" Type="http://schemas.openxmlformats.org/officeDocument/2006/relationships/image" Target="../media/image29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8440" y="0"/>
            <a:ext cx="8845560" cy="6634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5400000">
            <a:off x="479880" y="1904040"/>
            <a:ext cx="3024360" cy="17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-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童趣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感“趣”  读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目对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昂首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之，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使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冲烟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飞鸣，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云白鹤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心之所向，则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千或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果然鹤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见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虫斗间草，观之，兴正浓，忽有庞然大物，拔山倒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来，盖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癞虾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33336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放声读，读好停顿，读出韵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5040" y="1989000"/>
            <a:ext cx="87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见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藐小之物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必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细察其纹理，故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时有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物外之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95880" y="3284640"/>
            <a:ext cx="14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私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拟作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群鹤舞于空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0560" y="4365720"/>
            <a:ext cx="35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心之所向，则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或千或百，果然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鹤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75840" y="5661000"/>
            <a:ext cx="20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昂首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观之，项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为之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413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见藐小之物必细察其纹理，故时有物外之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2708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私拟作群鹤舞于空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8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心之所向，则或千或百，果然鹤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01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昂首观之，项为之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70040" y="191628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果如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鹤立云端，为之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怡然称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32200" y="314172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蹲其身，使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与台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01680" y="436572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见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二虫斗草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58520" y="5589720"/>
            <a:ext cx="13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盖</a:t>
            </a:r>
            <a:r>
              <a:rPr b="1" lang="zh-CN" sz="28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华文中宋"/>
                <a:ea typeface="华文中宋"/>
              </a:rPr>
              <a:t>一癞蛤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4292640"/>
            <a:ext cx="702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692280"/>
            <a:ext cx="60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　作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青云白鹤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60280"/>
            <a:ext cx="41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作青云白鹤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4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果如鹤立云端，为之怡然称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565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蹲其身，使与台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3789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见二虫斗草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0133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盖一癞蛤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译读感“趣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42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言文翻译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字解释法：把单音节变成双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虚词不译法：无实际意义的字词不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句式调整法：用现代汉语的句式代替古代汉语的句式，调整倒装句的句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换字解释法：词义发生变化的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省略补充法：补出省略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不变直译法 ：专用名词、人名、地名、官名、时间及现代文中仍沿用的单音节词不变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476280"/>
            <a:ext cx="856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余忆童稚时，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目对日，明察秋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见藐小之物       必 细察  其  纹理，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时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物外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1197000"/>
            <a:ext cx="648000" cy="647640"/>
          </a:xfrm>
          <a:prstGeom prst="wedgeRoundRectCallout">
            <a:avLst>
              <a:gd name="adj1" fmla="val 36027"/>
              <a:gd name="adj2" fmla="val -7867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1197000"/>
            <a:ext cx="1008360" cy="647640"/>
          </a:xfrm>
          <a:prstGeom prst="wedgeRoundRectCallout">
            <a:avLst>
              <a:gd name="adj1" fmla="val -27481"/>
              <a:gd name="adj2" fmla="val -8161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回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1197000"/>
            <a:ext cx="1079280" cy="647640"/>
          </a:xfrm>
          <a:prstGeom prst="wedgeRoundRectCallout">
            <a:avLst>
              <a:gd name="adj1" fmla="val -62351"/>
              <a:gd name="adj2" fmla="val -8431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1197000"/>
            <a:ext cx="1008360" cy="647640"/>
          </a:xfrm>
          <a:prstGeom prst="wedgeRoundRectCallout">
            <a:avLst>
              <a:gd name="adj1" fmla="val -38662"/>
              <a:gd name="adj2" fmla="val -9706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童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781360"/>
            <a:ext cx="936720" cy="647640"/>
          </a:xfrm>
          <a:prstGeom prst="wedgeRoundRectCallout">
            <a:avLst>
              <a:gd name="adj1" fmla="val -15083"/>
              <a:gd name="adj2" fmla="val -8970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看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1197000"/>
            <a:ext cx="1726920" cy="792000"/>
          </a:xfrm>
          <a:prstGeom prst="wedgeRoundRectCallout">
            <a:avLst>
              <a:gd name="adj1" fmla="val -12134"/>
              <a:gd name="adj2" fmla="val -7284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看得清最细微的东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1197000"/>
            <a:ext cx="1152360" cy="863640"/>
          </a:xfrm>
          <a:prstGeom prst="wedgeRoundRectCallout">
            <a:avLst>
              <a:gd name="adj1" fmla="val 15837"/>
              <a:gd name="adj2" fmla="val -8694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睁大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1125360"/>
            <a:ext cx="1152360" cy="935280"/>
          </a:xfrm>
          <a:prstGeom prst="wedgeRoundRectCallout">
            <a:avLst>
              <a:gd name="adj1" fmla="val -4546"/>
              <a:gd name="adj2" fmla="val -7071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直视太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781360"/>
            <a:ext cx="936360" cy="647640"/>
          </a:xfrm>
          <a:prstGeom prst="wedgeRoundRectCallout">
            <a:avLst>
              <a:gd name="adj1" fmla="val -12879"/>
              <a:gd name="adj2" fmla="val -9755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细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2781360"/>
            <a:ext cx="649440" cy="647640"/>
          </a:xfrm>
          <a:prstGeom prst="wedgeRoundRectCallout">
            <a:avLst>
              <a:gd name="adj1" fmla="val -37287"/>
              <a:gd name="adj2" fmla="val -8921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2781360"/>
            <a:ext cx="936720" cy="647640"/>
          </a:xfrm>
          <a:prstGeom prst="wedgeRoundRectCallout">
            <a:avLst>
              <a:gd name="adj1" fmla="val -43388"/>
              <a:gd name="adj2" fmla="val -10392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2781360"/>
            <a:ext cx="936360" cy="647640"/>
          </a:xfrm>
          <a:prstGeom prst="wedgeRoundRectCallout">
            <a:avLst>
              <a:gd name="adj1" fmla="val -24069"/>
              <a:gd name="adj2" fmla="val -10588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一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2781360"/>
            <a:ext cx="936360" cy="647640"/>
          </a:xfrm>
          <a:prstGeom prst="wedgeRoundRectCallout">
            <a:avLst>
              <a:gd name="adj1" fmla="val -45763"/>
              <a:gd name="adj2" fmla="val -8872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仔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2781360"/>
            <a:ext cx="936720" cy="647640"/>
          </a:xfrm>
          <a:prstGeom prst="wedgeRoundRectCallout">
            <a:avLst>
              <a:gd name="adj1" fmla="val -84916"/>
              <a:gd name="adj2" fmla="val -9191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观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2781360"/>
            <a:ext cx="936720" cy="647640"/>
          </a:xfrm>
          <a:prstGeom prst="wedgeRoundRectCallout">
            <a:avLst>
              <a:gd name="adj1" fmla="val -124069"/>
              <a:gd name="adj2" fmla="val -10833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149720"/>
            <a:ext cx="936360" cy="647640"/>
          </a:xfrm>
          <a:prstGeom prst="wedgeRoundRectCallout">
            <a:avLst>
              <a:gd name="adj1" fmla="val -15083"/>
              <a:gd name="adj2" fmla="val -8970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4149720"/>
            <a:ext cx="936720" cy="647640"/>
          </a:xfrm>
          <a:prstGeom prst="wedgeRoundRectCallout">
            <a:avLst>
              <a:gd name="adj1" fmla="val -43388"/>
              <a:gd name="adj2" fmla="val -10392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时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4149720"/>
            <a:ext cx="1584360" cy="647640"/>
          </a:xfrm>
          <a:prstGeom prst="wedgeRoundRectCallout">
            <a:avLst>
              <a:gd name="adj1" fmla="val -10523"/>
              <a:gd name="adj2" fmla="val -10073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事物之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149720"/>
            <a:ext cx="649440" cy="647640"/>
          </a:xfrm>
          <a:prstGeom prst="wedgeRoundRectCallout">
            <a:avLst>
              <a:gd name="adj1" fmla="val -71759"/>
              <a:gd name="adj2" fmla="val -8921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4149720"/>
            <a:ext cx="936360" cy="647640"/>
          </a:xfrm>
          <a:prstGeom prst="wedgeRoundRectCallout">
            <a:avLst>
              <a:gd name="adj1" fmla="val -74069"/>
              <a:gd name="adj2" fmla="val -9411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乐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09480"/>
            <a:ext cx="91440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童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稚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，能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目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对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日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明 察 秋 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47600" y="1143000"/>
            <a:ext cx="92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      回忆      童年                           睁开           直视                  明    察    秋    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25146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物外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718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指超出事物本身              的 乐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60020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见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小之 物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细  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其 纹 理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故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337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细小                        一定    仔细  观察  它（的）纹理     因此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所以   常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-1476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疏通文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0440" y="3645000"/>
            <a:ext cx="895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我回想自己在年幼的时候，能够睁大眼睛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太阳，能看得清最细微的事物，（只要）见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小的东西一定要仔细观察它的线条和花纹，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常常能感受到超出事物本身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108000" y="639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用简洁的语言概括文中的三件趣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3760" y="1628640"/>
            <a:ext cx="86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把成群的蚊子想象成群鹤舞于空中，用烟喷蚊当作青云白鹤的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60" y="2944800"/>
            <a:ext cx="984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土墙的凹凸处定神细视，神游其中，怡然自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60" y="4365720"/>
            <a:ext cx="82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见癞蛤蟆吞食二虫，鞭之数十，驱之别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1720" y="208116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蚊如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1720" y="359424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神游山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1720" y="503388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鞭打蛤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9440" y="46080"/>
            <a:ext cx="8999640" cy="6713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4920" y="-712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夏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蚊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成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雷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   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拟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作群鹤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80880"/>
            <a:ext cx="82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夏天             发出   雷鸣般声响              暗自、暗暗            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于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空中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心之所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向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则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或千或百，果然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鹤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5440" y="2060640"/>
            <a:ext cx="85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抬   头                       脖子因为                        “强”通“僵” 僵   硬           白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1523880"/>
            <a:ext cx="92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首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观之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项为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è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 )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之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强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 又留蚊于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素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帐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31680" y="3645000"/>
            <a:ext cx="88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果然       像        鸣叫         在                                    此     高兴得连声叫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2360" y="12700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在                     心理            想       那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成 千 上 百   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变成鹤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286000"/>
            <a:ext cx="90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徐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喷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以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烟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使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之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冲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烟而飞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鸣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作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青云白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鹤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236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果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鹤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（于）云端，为 之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怡然称快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8195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慢慢地              用               让         冒                       叫       当作                        景象</a:t>
            </a: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4005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译：夏夜里，蚊群发出雷鸣似的声响，我心里暗自把它们比作群鹤在空中飞舞，心理这么一想，眼前果真出现了千百只鹤；抬头看它们，连脖子也变得僵硬了。我又留几只蚊子在白色帐子里，慢慢地用烟喷它们，让它们冒着烟边飞边叫。把它们当作青云白鹤的景象（来欣赏），果真像鹤群在云端鸣叫，这使我高兴得连声叫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966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76720" y="266688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观蚊成“鹤”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" y="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余常于土墙凹凸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处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花台小草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丛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处，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572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地方                           杂草丛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600200"/>
            <a:ext cx="95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林，以虫蚁为兽，以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土砾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凸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者为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丘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凹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者为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壑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057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石块、土块    突出               山丘     低陷           山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3623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神游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其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中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怡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然自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得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其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身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使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与台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齐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；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神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细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视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以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丛草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自己 身体         让         一样高    聚精会神          仔细     看        把          当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31680" y="28526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代山林                愉快          满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429000"/>
            <a:ext cx="92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译：我常常在土墙高低不平的地方，在花台上杂草丛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方，蹲下身子，使身子与花台一样高；聚精会神地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， 把丛草当作树林，把蚊虫当作野兽，把土块突出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成山丘，低陷部分当成山沟，感觉自己就在这“山林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玩一般，感到愉快而满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044720" y="404640"/>
            <a:ext cx="67532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1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神游山林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8600" y="-71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一日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见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二虫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斗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草间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之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兴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正浓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忽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80880"/>
            <a:ext cx="9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有一天       看见          相斗               观看  它们      兴致               忽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6858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庞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然大物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,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拔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山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倒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树而来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盖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一（）癞虾蟆，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71280" y="1143000"/>
            <a:ext cx="88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很大                     推倒    压倒                     原来是        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只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371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吐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二虫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尽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为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所吞。余年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幼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方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出神，不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82880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伸出                   全     被                                 幼小    正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213372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呀然一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惊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神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定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捉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虾蟆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鞭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数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十，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驱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 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90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惊怕      心神       安定      捉住                     抽打     几              驱赶    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别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Arial"/>
              </a:rPr>
              <a:t>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3526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别的           院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3789360"/>
            <a:ext cx="86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译：有一天，我看见两只小虫在草间相斗，（便蹲下身来）观看它们，兴致正浓，忽然有一个很大很大的“野兽”，推倒了山压倒了树而来，原来是一只癞蛤蟆，舌头一伸出来，两只小虫全被它吃掉。我那时年纪很小，正看得出神，不禁“呀”的一声惊叫。待到心神安定下来，捉住癞蛤蟆，抽打它几十鞭子，把它赶到被的院子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7081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96720" y="1557360"/>
            <a:ext cx="3625920" cy="4680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3497040" cy="4608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3416040" cy="230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828720" y="404640"/>
            <a:ext cx="25909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观虫斗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8360" y="333360"/>
            <a:ext cx="262548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驱蛤蟆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629080" y="2421000"/>
            <a:ext cx="4248000" cy="24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鞭打蛤蟆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导入激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白有诗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郎骑竹马来，绕床弄青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居长干里，两小无嫌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竹马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孩子跨在竹竿上当马来骑，这种游戏表现了小孩子丰富的想象和天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0" t="0" r="13254" b="0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343400" y="480060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概括这三件趣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章围绕什么来回忆了三件趣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开头一段在文中起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三件趣事之“趣”是怎样得到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三件趣事可否调换位置，为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选择最喜欢的一个小故事创造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复述你得到了那些启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有什么感  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知内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i="1" lang="zh-CN" sz="4400" spc="-1" strike="noStrike">
                <a:solidFill>
                  <a:srgbClr val="ff0000"/>
                </a:solidFill>
                <a:latin typeface="Times New Roman"/>
              </a:rPr>
              <a:t>品读说“趣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品读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三件趣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第一件：观蚊成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第二件：神游山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第三件：鞭打蛤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幅图画：群鹤舞空、青云白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游山林、鞭打蛤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总领全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围绕着“物外之趣”回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乐趣”只有通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仔细地观察， 丰富的想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才会得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216000" y="189000"/>
            <a:ext cx="8100720" cy="5866560"/>
            <a:chOff x="216000" y="189000"/>
            <a:chExt cx="8100720" cy="5866560"/>
          </a:xfrm>
        </p:grpSpPr>
        <p:grpSp>
          <p:nvGrpSpPr>
            <p:cNvPr id="293" name=""/>
            <p:cNvGrpSpPr/>
            <p:nvPr/>
          </p:nvGrpSpPr>
          <p:grpSpPr>
            <a:xfrm>
              <a:off x="222120" y="199440"/>
              <a:ext cx="8087040" cy="5844240"/>
              <a:chOff x="222120" y="199440"/>
              <a:chExt cx="8087040" cy="584424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22120" y="199440"/>
                <a:ext cx="1832400" cy="1374120"/>
                <a:chOff x="222120" y="199440"/>
                <a:chExt cx="1832400" cy="1374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15720" y="199440"/>
                  <a:ext cx="1645560" cy="13741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自然景物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22120" y="199440"/>
                  <a:ext cx="1832400" cy="137412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054880" y="199440"/>
                <a:ext cx="1830600" cy="1374120"/>
                <a:chOff x="2054880" y="199440"/>
                <a:chExt cx="1830600" cy="1374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148480" y="199440"/>
                  <a:ext cx="1643760" cy="13741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思维方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4880" y="199440"/>
                  <a:ext cx="1830600" cy="137412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886200" y="199440"/>
                <a:ext cx="2291760" cy="1374120"/>
                <a:chOff x="3886200" y="199440"/>
                <a:chExt cx="2291760" cy="1374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979800" y="199440"/>
                  <a:ext cx="2104920" cy="13741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新的形象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86200" y="199440"/>
                  <a:ext cx="2291760" cy="137412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178320" y="199440"/>
                <a:ext cx="2130840" cy="1374120"/>
                <a:chOff x="6178320" y="199440"/>
                <a:chExt cx="2130840" cy="1374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271920" y="199440"/>
                  <a:ext cx="1943640" cy="13741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心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（用原文语句回答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178320" y="199440"/>
                  <a:ext cx="2130840" cy="137412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22120" y="1574280"/>
                <a:ext cx="1832400" cy="1374840"/>
                <a:chOff x="222120" y="1574280"/>
                <a:chExt cx="1832400" cy="13748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15720" y="1574280"/>
                  <a:ext cx="1645560" cy="137484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120" y="1574280"/>
                  <a:ext cx="1832400" cy="137484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054880" y="1574280"/>
                <a:ext cx="1830600" cy="4469400"/>
                <a:chOff x="2054880" y="1574280"/>
                <a:chExt cx="1830600" cy="44694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148480" y="1574280"/>
                  <a:ext cx="1643760" cy="446940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054880" y="1574280"/>
                  <a:ext cx="1830600" cy="446940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886200" y="1574280"/>
                <a:ext cx="2291760" cy="1374840"/>
                <a:chOff x="3886200" y="1574280"/>
                <a:chExt cx="2291760" cy="13748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979800" y="1574280"/>
                  <a:ext cx="2104920" cy="137484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86200" y="1574280"/>
                  <a:ext cx="2291760" cy="137484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178320" y="1574280"/>
                <a:ext cx="2130840" cy="1374840"/>
                <a:chOff x="6178320" y="1574280"/>
                <a:chExt cx="2130840" cy="13748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271920" y="1574280"/>
                  <a:ext cx="1943640" cy="137484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78320" y="1574280"/>
                  <a:ext cx="2130840" cy="137484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22120" y="2950200"/>
                <a:ext cx="1832400" cy="1374120"/>
                <a:chOff x="222120" y="2950200"/>
                <a:chExt cx="1832400" cy="1374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5720" y="2950200"/>
                  <a:ext cx="1645560" cy="13741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2120" y="2950200"/>
                  <a:ext cx="1832400" cy="137412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886200" y="2950200"/>
                <a:ext cx="2291760" cy="1374120"/>
                <a:chOff x="3886200" y="2950200"/>
                <a:chExt cx="2291760" cy="1374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979800" y="2950200"/>
                  <a:ext cx="2104920" cy="13741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886200" y="2950200"/>
                  <a:ext cx="2291760" cy="137412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178320" y="2950200"/>
                <a:ext cx="2130840" cy="1374120"/>
                <a:chOff x="6178320" y="2950200"/>
                <a:chExt cx="2130840" cy="1374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271920" y="2950200"/>
                  <a:ext cx="1943640" cy="13741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78320" y="2950200"/>
                  <a:ext cx="2130840" cy="137412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22120" y="4325040"/>
                <a:ext cx="1832400" cy="1718640"/>
                <a:chOff x="222120" y="4325040"/>
                <a:chExt cx="1832400" cy="17186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15720" y="4325040"/>
                  <a:ext cx="1645560" cy="171864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2120" y="4325040"/>
                  <a:ext cx="1832400" cy="171864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886200" y="4325040"/>
                <a:ext cx="2291760" cy="1718640"/>
                <a:chOff x="3886200" y="4325040"/>
                <a:chExt cx="2291760" cy="17186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979800" y="4325040"/>
                  <a:ext cx="2104920" cy="171864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886200" y="4325040"/>
                  <a:ext cx="2291760" cy="171864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178320" y="4325040"/>
                <a:ext cx="2130840" cy="1718640"/>
                <a:chOff x="6178320" y="4325040"/>
                <a:chExt cx="2130840" cy="17186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271920" y="4325040"/>
                  <a:ext cx="1943640" cy="171864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78320" y="4325040"/>
                  <a:ext cx="2130840" cy="1718640"/>
                </a:xfrm>
                <a:prstGeom prst="rect">
                  <a:avLst/>
                </a:prstGeom>
                <a:noFill/>
                <a:ln w="0">
                  <a:solidFill>
                    <a:srgbClr val="8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216000" y="189000"/>
              <a:ext cx="8100720" cy="5866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909080" y="1676520"/>
            <a:ext cx="1399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联想和想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1844640"/>
            <a:ext cx="14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夏蚊成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冲烟飞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7840" y="3141720"/>
            <a:ext cx="223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草丛、虫蚁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土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472428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癞虾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1828800"/>
            <a:ext cx="21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群鹤舞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鹤唳云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3200400"/>
            <a:ext cx="224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树林、野兽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丘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4581360"/>
            <a:ext cx="151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庞然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拔山倒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72360" y="1874880"/>
            <a:ext cx="17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怡然称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35268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怡然自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4653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大快人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黑体"/>
              </a:rPr>
              <a:t>（鞭打、驱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97120" y="1676520"/>
            <a:ext cx="1826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物  外  之  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创造性复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三件趣事可否调换位置，为什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可以。因为三件趣事的写作的顺序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室内到室外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三件趣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程度上是逐步加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选择最喜欢的一个小故事创造性复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可以变换文中的第一人称，如文中的小动物、童年沈复的朋友、长辈等，讲述可稳获文中的一个小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6040" y="685800"/>
            <a:ext cx="9220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明察秋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怡然自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庞然大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夏蚊成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12682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仿宋_GB2312"/>
              </a:rPr>
              <a:t>比喻目光敏锐，连极小的事物都看得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2200" y="4221000"/>
            <a:ext cx="92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仿宋_GB2312"/>
              </a:rPr>
              <a:t>现在多用来形容表面上很大而实际脆弱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62400" y="84240"/>
            <a:ext cx="37872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解释下列成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22080" y="6890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视力好极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05480" y="2166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形容安适愉快而满足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3040" y="3606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体积极大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20800" y="51181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夏天成群的蚊子的叫声跟随雷声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3068640"/>
            <a:ext cx="108000" cy="1511280"/>
          </a:xfrm>
          <a:custGeom>
            <a:avLst/>
            <a:gdLst>
              <a:gd name="textAreaLeft" fmla="*/ 69120 w 108000"/>
              <a:gd name="textAreaRight" fmla="*/ 108360 w 108000"/>
              <a:gd name="textAreaTop" fmla="*/ 28800 h 1511280"/>
              <a:gd name="textAreaBottom" fmla="*/ 14824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2"/>
                  <a:pt x="10800" y="1324"/>
                </a:cubicBezTo>
                <a:lnTo>
                  <a:pt x="10800" y="9645"/>
                </a:lnTo>
                <a:cubicBezTo>
                  <a:pt x="10800" y="10307"/>
                  <a:pt x="5400" y="10969"/>
                  <a:pt x="0" y="10969"/>
                </a:cubicBezTo>
                <a:cubicBezTo>
                  <a:pt x="5400" y="10969"/>
                  <a:pt x="10800" y="11631"/>
                  <a:pt x="10800" y="12293"/>
                </a:cubicBezTo>
                <a:lnTo>
                  <a:pt x="10800" y="20276"/>
                </a:lnTo>
                <a:cubicBezTo>
                  <a:pt x="10800" y="209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93080" y="3068640"/>
            <a:ext cx="71280" cy="1366920"/>
          </a:xfrm>
          <a:custGeom>
            <a:avLst/>
            <a:gdLst>
              <a:gd name="textAreaLeft" fmla="*/ 0 w 71280"/>
              <a:gd name="textAreaRight" fmla="*/ 25560 w 71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37200" y="1413000"/>
            <a:ext cx="190440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7360" y="2997360"/>
            <a:ext cx="10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外之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总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59280" y="4797360"/>
            <a:ext cx="324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分写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61080" y="2924280"/>
            <a:ext cx="729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想像联想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2008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5308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象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8508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外之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94120" y="2060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81400" y="2060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6392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夏蚊成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63920" y="364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草丛虫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63920" y="414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虫蛤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7632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群鹤舞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32560" y="357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森林野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59480" y="414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庞然大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20200" y="414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快人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91480" y="357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怡然自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91480" y="2924280"/>
            <a:ext cx="72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怡然称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49400" y="2997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49400" y="350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4940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10120" y="2997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10120" y="3573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6576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84720" y="2924280"/>
            <a:ext cx="729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观察敏锐仔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17720" y="41760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物外之趣”产生的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42920" y="1773360"/>
            <a:ext cx="1297080" cy="324000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48360" y="3862440"/>
            <a:ext cx="1655640" cy="1079280"/>
          </a:xfrm>
          <a:custGeom>
            <a:avLst/>
            <a:gdLst>
              <a:gd name="textAreaLeft" fmla="*/ 207000 w 1655640"/>
              <a:gd name="textAreaRight" fmla="*/ 1449000 w 1655640"/>
              <a:gd name="textAreaTop" fmla="*/ 269640 h 1079280"/>
              <a:gd name="textAreaBottom" fmla="*/ 80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700360" y="1484280"/>
            <a:ext cx="187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观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46360" y="3645000"/>
            <a:ext cx="228600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像、联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77080" y="3429000"/>
            <a:ext cx="15825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物外之趣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20" y="291960"/>
            <a:ext cx="1521000" cy="3353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多角度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1143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246240"/>
            <a:ext cx="64771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鞭数十”，蛤蟆竟然没死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84360" y="1828800"/>
            <a:ext cx="6335640" cy="3905280"/>
          </a:xfrm>
          <a:prstGeom prst="cloudCallout">
            <a:avLst>
              <a:gd name="adj1" fmla="val -62527"/>
              <a:gd name="adj2" fmla="val 6552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参考答案 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、这鞭子可能只是一根小草或一根小枝条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、不忍心打死它，处置有度。说明我珍惜生命，热爱小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867960"/>
            <a:ext cx="79250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文言文和现代文不同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79246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①文言文多是单音词，大多时候一个字就是一个词。现代汉语是双音词。以课文为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回忆　　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太阳　　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故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　　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脖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果真　　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地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树林　　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兴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，可以加字解释法（增）：把单音词变成双音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667640" y="5805360"/>
            <a:ext cx="1008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80880" y="0"/>
            <a:ext cx="8372520" cy="6858000"/>
            <a:chOff x="380880" y="0"/>
            <a:chExt cx="8372520" cy="6858000"/>
          </a:xfrm>
        </p:grpSpPr>
        <p:sp>
          <p:nvSpPr>
            <p:cNvPr id="128" name=""/>
            <p:cNvSpPr/>
            <p:nvPr/>
          </p:nvSpPr>
          <p:spPr>
            <a:xfrm>
              <a:off x="1676160" y="2590920"/>
              <a:ext cx="66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同学们，我们每个人都有童年生活，那是多么欢快，多么有趣，至今记忆犹新，下面请欣赏几副童年的图片，让它们带我们回到童年时代。</a:t>
              </a:r>
              <a:br>
                <a:rPr sz="2400"/>
              </a:b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　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1371600" y="0"/>
              <a:ext cx="222876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1954080" cy="23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6476760" y="4191120"/>
              <a:ext cx="2276640" cy="26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0" y="0"/>
            <a:ext cx="3029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童    趣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沈复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867960"/>
            <a:ext cx="79250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文言文和现代文不同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文言文虚词：之乎者也亦焉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例如“之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见藐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物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物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          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冲烟而飞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别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          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60360" y="3357720"/>
            <a:ext cx="142920" cy="223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42480 h 2232000"/>
              <a:gd name="textAreaBottom" fmla="*/ 21895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2"/>
                  <a:pt x="10800" y="1324"/>
                </a:cubicBezTo>
                <a:lnTo>
                  <a:pt x="10800" y="9645"/>
                </a:lnTo>
                <a:cubicBezTo>
                  <a:pt x="10800" y="10307"/>
                  <a:pt x="5400" y="10969"/>
                  <a:pt x="0" y="10969"/>
                </a:cubicBezTo>
                <a:cubicBezTo>
                  <a:pt x="5400" y="10969"/>
                  <a:pt x="10800" y="11631"/>
                  <a:pt x="10800" y="12293"/>
                </a:cubicBezTo>
                <a:lnTo>
                  <a:pt x="10800" y="20276"/>
                </a:lnTo>
                <a:cubicBezTo>
                  <a:pt x="10800" y="209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72240" y="3141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助词 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56240" y="3716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助词 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36640" y="4221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助词，名词和动词之间不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06240" y="472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代词，它，指蚊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02960" y="5229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代词，它，指蛤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5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文言文和现代文不同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文言文和现代文有不同的人称区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第一人称，普通的人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余” “吾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皇帝就可以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朕” “寡人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人称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是随着时代的发展而不断变化的，它的变化还表现在词义的变化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“或千或百”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或”不是“或者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意思，而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有时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强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iá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āng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僵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这就叫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个词用读音相通或相近的字来代替，也叫古音通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136000" y="587700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867960"/>
            <a:ext cx="792504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文言文和现代文不同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212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文言文的句式的不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“舞于空中”就是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空中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留蚊于素帐中”就是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素帐中留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徐喷以烟”就是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烟徐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⑥成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今天还在使用的成语就是直接来自文言文的现成语汇，这些成语言简意赅，表现力很强，它们是语言中的精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“明察秋毫” “庞然大物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语言积累 归纳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梳理、整理，积累语言材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音字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音同形不同的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唳   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壑   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词（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义同字不同的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见      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鸣      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义词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字同义不同的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① 昂首观之          ②作青云白鹤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看）                 （景象，景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承上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义词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字同义不同的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明察秋毫                  必细察其纹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看到，看清）             （观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定神细视                   神游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精神，注意力）         （感受、想象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余忆童稚时                故时有物外之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时候）                    （经常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徐喷以烟                    以丛草为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用）                         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承上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字同义不同的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故时有物外之趣       项为之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                  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代指“昂首观之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项为之强                  以丛草为林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                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当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舌一吐而二虫尽为所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义相对、相反的字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藐小之物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庞然大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承上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明察秋毫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喻为人非常精明，任何小问题都看得很清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庞然大物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表上庞大的东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怡然自得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形容安适愉快而满足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夏蚊成雷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夏夜里蚊群嗡嗡的叫声向闷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为之强：“强”通“僵”，僵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承上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特殊句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句：忽有庞然大物，拔山倒树而来，盖一癩虾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判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略句：蹲其身，使与台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”后省略宾语“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动句：舌一吐而二虫尽为所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”在这句话中解释为“被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39640" y="1413000"/>
            <a:ext cx="8534520" cy="51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为之强                      ②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如鹤唳云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以丛草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林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  ④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正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出神                           ⑥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驱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之别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明察秋毫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⑧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怡然自得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⑨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庞然大物：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⑩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夏蚊成雷：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" y="1341360"/>
            <a:ext cx="853416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脖子、颈项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)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果真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树林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)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兴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)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赶、驱逐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连极细小之物也看得一清二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表现视力极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形容安适愉快而满足的样子。     怡然：安适、愉快的样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      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形容极大极大的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      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蚊群发出雷鸣般的叫声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68360" y="260280"/>
            <a:ext cx="37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训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533520" y="9144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一词多义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0" name=""/>
          <p:cNvSpPr/>
          <p:nvPr/>
        </p:nvSpPr>
        <p:spPr>
          <a:xfrm>
            <a:off x="466560" y="1917720"/>
            <a:ext cx="3889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见藐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冲烟而飞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21337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8120" y="190512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助词，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助词，名词和动词之间不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它，指蚊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4083120"/>
            <a:ext cx="5029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虫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怡然称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舌一吐而二虫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90720" y="434340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411480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é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作为、当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èi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介词，因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è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言文是古代的书面语，特点是简洁、典雅。它与现代汉语一脉相承，学习文言文是为了继承民族的文化遗产，又可以帮助我们了解历史，还可以丰富我们的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好文言文关键在于培养语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04812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一是要熟读、背诵，体验文言文的表达方式和语言习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二是要用心领悟，目的是为了把“言”和“意”融为一体，见“言”而知“意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三是不断积累文言词汇，掌握文言文的表达工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33520" y="9144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必细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纹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11430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38280" y="91440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它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代词，指自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22860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做青云白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昂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3200" y="228600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景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14600" y="388620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886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 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丛草为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徐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41148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35640" cy="6324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611280" y="333360"/>
            <a:ext cx="259056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翻译句子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0" name=""/>
          <p:cNvSpPr/>
          <p:nvPr/>
        </p:nvSpPr>
        <p:spPr>
          <a:xfrm>
            <a:off x="179280" y="155736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故时有物外之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徐喷以烟，使之冲烟而飞鸣，做青云白鹤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以丛草为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神游其中，怡然自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舌一吐而二虫尽为所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19810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2920" y="155736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故，所以；时，时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7640" y="292428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以，用；之，它们；观，景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19640" y="3716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以，把；为，作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32360" y="46530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其中，它们中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5445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为，被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8136000" y="5977080"/>
            <a:ext cx="1008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276720" y="0"/>
            <a:ext cx="266688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Times New Roman"/>
                <a:ea typeface="隶书"/>
              </a:rPr>
              <a:t>课外延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295280"/>
            <a:ext cx="8001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你有没有和作者同样的经历？给大      家谈谈你的童年趣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2819520"/>
            <a:ext cx="8229600" cy="14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你认为怎样做才算是一个有情趣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76360" y="407664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①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热爱自然，热爱生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②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富于联想和想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③</a:t>
            </a: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有一定的审美能力，能发现美、认识美。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文言文导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620640"/>
            <a:ext cx="6237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文言文是古代的书面语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点：简洁、典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义：继承文化、了解历史、丰富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13372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文言文学法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924280"/>
            <a:ext cx="734364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准字音、节奏停顿。能流利北背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词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手，准确翻译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法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增、删、调、换、补、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析课文：分层次、知内容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探主旨、品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积累：成语、名句、名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迁移：相关名篇、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352680" cy="4724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隶书"/>
              </a:rPr>
              <a:t>走进作者：沈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3080" y="907920"/>
            <a:ext cx="47530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沈复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6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 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号梅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清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地：江苏苏州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评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散文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工诗画、散文。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浮生六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333360"/>
            <a:ext cx="56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作品简介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浮生六记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25360"/>
            <a:ext cx="59436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传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品。记叙了他与妻子陈芸志趣投合，情感深厚，愿意过一种布衣素食而从事艺术的生活。因封建礼教的压迫和贫苦生活的磨难，理想终未实现，经历了生离死别的惨痛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浮生六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共六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闺房记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闲情记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坎坷记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浪游记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山记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养生记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有英、法、德、俄等多种译本。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童趣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节选自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浮生六记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闲情记趣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0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0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732720" y="765000"/>
            <a:ext cx="1858680" cy="2743200"/>
          </a:xfrm>
          <a:prstGeom prst="rect">
            <a:avLst/>
          </a:prstGeom>
          <a:ln w="22320">
            <a:solidFill>
              <a:srgbClr val="cc66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732720" y="3716280"/>
            <a:ext cx="1866600" cy="2592360"/>
          </a:xfrm>
          <a:prstGeom prst="rect">
            <a:avLst/>
          </a:prstGeom>
          <a:ln w="2232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76960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读课文，整体感知文章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" y="2057400"/>
            <a:ext cx="4191120" cy="4400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724280" y="190512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认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把握朗读节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2602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朗读感“趣”  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83664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稚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）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     （          ）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项为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）     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云端（  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称快（          ）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凹凸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砾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）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壑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）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大物（           ）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癞虾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914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134136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                               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                                   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ū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                            lài 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3:20:23Z</dcterms:created>
  <dc:creator>USER</dc:creator>
  <dc:description/>
  <cp:keywords/>
  <dc:language>en-US</dc:language>
  <cp:lastModifiedBy>zmj</cp:lastModifiedBy>
  <cp:lastPrinted>1899-12-30T00:00:00Z</cp:lastPrinted>
  <dcterms:modified xsi:type="dcterms:W3CDTF">2013-05-31T05:01:45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