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1.png" ContentType="image/png"/>
  <Override PartName="/ppt/media/image26.jpeg" ContentType="image/jpeg"/>
  <Override PartName="/ppt/media/image5.jpeg" ContentType="image/jpeg"/>
  <Override PartName="/ppt/media/image16.png" ContentType="image/png"/>
  <Override PartName="/ppt/media/chimes.wav" ContentType="audio/x-wav"/>
  <Override PartName="/ppt/media/image27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28.jpeg" ContentType="image/jpeg"/>
  <Override PartName="/ppt/media/image8.png" ContentType="image/png"/>
  <Override PartName="/ppt/media/image29.jpeg" ContentType="image/jpeg"/>
  <Override PartName="/ppt/media/camera.wav" ContentType="audio/x-wav"/>
  <Override PartName="/ppt/media/image4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.jpeg" ContentType="image/jpeg"/>
  <Override PartName="/ppt/media/image11.png" ContentType="image/png"/>
  <Override PartName="/ppt/media/image19.jpeg" ContentType="image/jpeg"/>
  <Override PartName="/ppt/media/image23.jpeg" ContentType="image/jpeg"/>
  <Override PartName="/ppt/media/image12.png" ContentType="image/png"/>
  <Override PartName="/ppt/media/image20.jpeg" ContentType="image/jpeg"/>
  <Override PartName="/ppt/media/image13.png" ContentType="image/png"/>
  <Override PartName="/ppt/media/image14.png" ContentType="image/png"/>
  <Override PartName="/ppt/media/image17.jpeg" ContentType="image/jpeg"/>
  <Override PartName="/ppt/media/image18.png" ContentType="image/png"/>
  <Override PartName="/ppt/media/image6.jpeg" ContentType="image/jpeg"/>
  <Override PartName="/ppt/media/type.wav" ContentType="audio/x-wav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0EE9-C9B7-4327-9DBF-98E6FC98E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8F09-B19A-4A9C-87F8-6CBFCF74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9A9C-C0F3-4094-8508-DF29E319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3058-6119-4D6A-929E-1A532EC46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E4CE6-5044-4D09-BB1A-BB18E577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18B70-4585-440C-B131-F221365E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E9C77-77B5-4646-9421-10A7A014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45233-380D-4EA3-82A5-F7D4420A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1629D-0C83-45AF-8684-E4D8A796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ECCF8-6CBF-4ECB-BF44-86ADC0E5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55B9D-975A-4DD8-A0D8-9AFD401C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B3C1-2FD7-430D-BEEC-D53BEAA3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D98AD-143F-420E-8BB7-08AA3BD4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BE6B7-37E8-4D18-9682-978853D5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E99D3-5CBE-4D31-8EBE-E09CD020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0B4CC-7162-4A2F-8E82-24D4009AA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7E573-177B-446F-A1A5-C421664A2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B32E1-570A-43D1-BA33-7CB9A5E19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75E80-126F-475E-83C0-B35B2BD3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C4709-8655-465B-8BAA-EF668E3F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1D45F-8B08-4EC8-A163-EDAB2B03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B86A5-7CC0-44F2-9957-FEC080DE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2498-F5E8-4308-B607-A4C7898F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74D5B-BCDE-4587-8725-647EEC8D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C3F15-DAEB-4090-AA2E-B82B5264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79843-562E-4F95-BA39-6757B11F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20380-42D4-472B-B8B8-CEA0E533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ACCD6-6835-44BC-B231-4EC95A6E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594E6-C59D-45BD-AF4C-FCFD9BA6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03558-1A7F-48D3-98D4-BC32CDDBB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2A5149-4289-44EF-BC9D-F6B554B2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661ACD-7033-4E50-B6BA-7A26F385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823B43-326F-4859-B8AD-D5DBC388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6CB5-1E55-472C-9B87-19601397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901D52-C2F0-4299-AD6E-FF3E2E44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6395C9-9661-4F35-904C-DA6956E1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D72397-5FED-4D2D-9420-5FB3B735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C80BC5-83FB-4279-9E39-67C95713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AC5E8C-B12C-44BA-BB8D-197ACE4B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118110-90AF-4A9B-AA05-898607C9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1AB30F-9987-49D0-B748-5DAFF1EE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A7791F-F670-49F4-A286-C0BE4AC9F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C4FD0A-28D7-40CF-A171-E936ED170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015812-FBB2-40B7-9677-65CBC379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5E1F-1534-4391-B492-C5A723C5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3F7D9B-D29F-4FBE-9CBE-F7BD73E6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D34159-575C-423D-8AF4-D24CC828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EAA7BA-4F28-40B0-8425-943F68B0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EEDFBB-E069-4815-BFE9-BFCBD82A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0E5397-0765-40C3-A5B4-803E1C49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D4D2C3-9A85-4EF1-B5DF-AF408183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AF054F-44FD-443A-AB3A-8E2B9575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546F37-CC43-46D0-9F83-011FBC50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B0DB01-743F-4047-B89E-225D7C1D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53ED42-2B32-45B9-AF96-B0060DAEF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0AF6-8975-4C69-A17C-91DEC0F8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F81871-FE29-45C4-8E1B-26B6A4AC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D19905-CD19-4B83-83C8-0BAF3561B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76A2C7-E5A8-43A6-9BBC-437F9622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BDA6DB-26EF-43A0-9054-678B83CD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3B665F-D342-49B8-A4E3-257480D0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ABA891-67C7-4834-931C-7A30BED1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DE784A-7B43-40CC-8B79-EB2E8820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A44C14-EE2D-4132-8110-5C73EAED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B32711-38E4-4B05-90A7-5DBCA236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A9761D-1991-487A-B094-BEAFE66A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1E44-59EE-4D7B-B07D-F8A28685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F5C2F8-09D4-45E1-8728-6E301E6B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56600D-58E5-4BDD-BC16-A6EAC03A5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121CD1-E1B0-4DA7-8AA7-19F5405DC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CD44-F43A-4FF0-A192-B2F2FDAC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E2D2-CB55-473A-87BA-4A39EAD1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339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F72C-8FF4-42FE-8D67-EF2EECD75555}" type="slidenum">
              <a:rPr b="0" lang="zh-CN" sz="16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直接连接符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椭圆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339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8D78-D243-4E5B-90A9-7418B52C75A2}" type="slidenum">
              <a:rPr b="0" lang="zh-CN" sz="16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直接连接符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339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5F93-BEBC-420B-AA5F-76C7EC68E653}" type="slidenum">
              <a:rPr b="0" lang="zh-CN" sz="16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直接连接符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直接连接符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339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7F8E-2A59-4AB8-9E51-3CAC1E790613}" type="slidenum">
              <a:rPr b="0" lang="zh-CN" sz="16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339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3B5C-C98F-42AA-B93A-ABEFD3E5D88E}" type="slidenum">
              <a:rPr b="0" lang="zh-CN" sz="16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339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DA6B-F5ED-461E-8558-A0126200BAF6}" type="slidenum">
              <a:rPr b="0" lang="zh-CN" sz="16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11" descr="g4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C:\Users\Administrator\Desktop\图片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4" name="矩形 4" descr=""/>
          <p:cNvPicPr/>
          <p:nvPr/>
        </p:nvPicPr>
        <p:blipFill>
          <a:blip r:embed="rId4"/>
          <a:stretch/>
        </p:blipFill>
        <p:spPr>
          <a:xfrm>
            <a:off x="4937040" y="907920"/>
            <a:ext cx="3889440" cy="2500560"/>
          </a:xfrm>
          <a:prstGeom prst="rect">
            <a:avLst/>
          </a:prstGeom>
          <a:ln w="0">
            <a:noFill/>
          </a:ln>
        </p:spPr>
      </p:pic>
      <p:sp>
        <p:nvSpPr>
          <p:cNvPr id="255" name="TextBox 5"/>
          <p:cNvSpPr/>
          <p:nvPr/>
        </p:nvSpPr>
        <p:spPr>
          <a:xfrm>
            <a:off x="6143760" y="3214800"/>
            <a:ext cx="21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方正流行体简体"/>
                <a:ea typeface="方正流行体简体"/>
              </a:rPr>
              <a:t>清</a:t>
            </a:r>
            <a:r>
              <a:rPr b="0" lang="en-US" sz="3200" spc="-1" strike="noStrike">
                <a:solidFill>
                  <a:srgbClr val="ffff00"/>
                </a:solidFill>
                <a:latin typeface="方正流行体简体"/>
                <a:ea typeface="方正流行体简体"/>
              </a:rPr>
              <a:t>·</a:t>
            </a:r>
            <a:r>
              <a:rPr b="0" lang="zh-CN" sz="3200" spc="-1" strike="noStrike">
                <a:solidFill>
                  <a:srgbClr val="ffff00"/>
                </a:solidFill>
                <a:latin typeface="方正流行体简体"/>
                <a:ea typeface="方正流行体简体"/>
              </a:rPr>
              <a:t>沈 复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TextBox 4"/>
          <p:cNvSpPr/>
          <p:nvPr/>
        </p:nvSpPr>
        <p:spPr>
          <a:xfrm>
            <a:off x="60480" y="6519960"/>
            <a:ext cx="208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Times New Roman"/>
                <a:ea typeface="楷体_GB2312"/>
              </a:rPr>
              <a:t>制作</a:t>
            </a:r>
            <a:r>
              <a:rPr b="0" lang="en-US" sz="1600" spc="-1" strike="noStrike">
                <a:solidFill>
                  <a:srgbClr val="595959"/>
                </a:solidFill>
                <a:latin typeface="Times New Roman"/>
                <a:ea typeface="楷体_GB2312"/>
              </a:rPr>
              <a:t>jmf</a:t>
            </a:r>
            <a:r>
              <a:rPr b="0" lang="zh-CN" sz="1600" spc="-1" strike="noStrike">
                <a:solidFill>
                  <a:srgbClr val="595959"/>
                </a:solidFill>
                <a:latin typeface="Times New Roman"/>
                <a:ea typeface="楷体_GB2312"/>
              </a:rPr>
              <a:t>，</a:t>
            </a:r>
            <a:r>
              <a:rPr b="0" lang="en-US" sz="1600" spc="-1" strike="noStrike">
                <a:solidFill>
                  <a:srgbClr val="595959"/>
                </a:solidFill>
                <a:latin typeface="Times New Roman"/>
                <a:ea typeface="楷体_GB2312"/>
              </a:rPr>
              <a:t>QQ4107359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857160" y="500040"/>
            <a:ext cx="7572600" cy="581400"/>
          </a:xfrm>
          <a:prstGeom prst="rect">
            <a:avLst/>
          </a:prstGeom>
          <a:noFill/>
          <a:ln w="19080">
            <a:solidFill>
              <a:srgbClr val="34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夏蚊成雷，私拟作群鹤舞于空中，心之所向，则或千或百，果然鹤也；昂首观之，项为之强。又留蚊于素帐中，徐喷以烟，使之冲烟而飞鸣，作青云白鹤观，果如鹤唳云端，为之怡然称快。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"/>
          <p:cNvSpPr/>
          <p:nvPr/>
        </p:nvSpPr>
        <p:spPr>
          <a:xfrm>
            <a:off x="857160" y="3500280"/>
            <a:ext cx="7572600" cy="1556280"/>
          </a:xfrm>
          <a:prstGeom prst="rect">
            <a:avLst/>
          </a:prstGeom>
          <a:noFill/>
          <a:ln w="19080">
            <a:solidFill>
              <a:srgbClr val="34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夏蚊成雷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私拟作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群鹤舞于空中，心之所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向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则或千或百，果然鹤也；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昂首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观之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项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之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强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又留蚊于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素帐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中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徐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喷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烟，使之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冲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烟而飞鸣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青云白鹤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观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果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如鹤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唳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云端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之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怡然称快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785880" y="714240"/>
            <a:ext cx="7805520" cy="581400"/>
          </a:xfrm>
          <a:prstGeom prst="rect">
            <a:avLst/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余常于土墙凹凸处，花台小草丛杂处，蹲其身，使与台齐；定神细视，以丛草为林，以虫蚁为兽，以土砾凸者为丘，凹者为壑，神游其中，怡然自得。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"/>
          <p:cNvSpPr/>
          <p:nvPr/>
        </p:nvSpPr>
        <p:spPr>
          <a:xfrm>
            <a:off x="785880" y="3643200"/>
            <a:ext cx="7805520" cy="1556280"/>
          </a:xfrm>
          <a:prstGeom prst="rect">
            <a:avLst/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余常于土墙凹凸处，花台小草丛杂处，蹲</a:t>
            </a:r>
            <a:r>
              <a:rPr b="1" lang="zh-CN" sz="3200" spc="-1" strike="noStrike">
                <a:solidFill>
                  <a:srgbClr val="ff0000"/>
                </a:solidFill>
                <a:latin typeface="方正硬笔楷书简体"/>
                <a:ea typeface="方正硬笔楷书简体"/>
              </a:rPr>
              <a:t>其身</a:t>
            </a:r>
            <a:r>
              <a:rPr b="1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，使与台齐；定神细视，</a:t>
            </a:r>
            <a:r>
              <a:rPr b="1" lang="zh-CN" sz="3200" spc="-1" strike="noStrike">
                <a:solidFill>
                  <a:srgbClr val="ff0000"/>
                </a:solidFill>
                <a:latin typeface="方正硬笔楷书简体"/>
                <a:ea typeface="方正硬笔楷书简体"/>
              </a:rPr>
              <a:t>以</a:t>
            </a:r>
            <a:r>
              <a:rPr b="1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丛草</a:t>
            </a:r>
            <a:r>
              <a:rPr b="1" lang="zh-CN" sz="3200" spc="-1" strike="noStrike">
                <a:solidFill>
                  <a:srgbClr val="ff0000"/>
                </a:solidFill>
                <a:latin typeface="方正硬笔楷书简体"/>
                <a:ea typeface="方正硬笔楷书简体"/>
              </a:rPr>
              <a:t>为</a:t>
            </a:r>
            <a:r>
              <a:rPr b="1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林，以虫蚁为兽，以</a:t>
            </a:r>
            <a:r>
              <a:rPr b="1" lang="zh-CN" sz="3200" spc="-1" strike="noStrike">
                <a:solidFill>
                  <a:srgbClr val="ff0000"/>
                </a:solidFill>
                <a:latin typeface="方正硬笔楷书简体"/>
                <a:ea typeface="方正硬笔楷书简体"/>
              </a:rPr>
              <a:t>土砾</a:t>
            </a:r>
            <a:r>
              <a:rPr b="1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凸者为丘，凹者为</a:t>
            </a:r>
            <a:r>
              <a:rPr b="1" lang="zh-CN" sz="3200" spc="-1" strike="noStrike">
                <a:solidFill>
                  <a:srgbClr val="ff0000"/>
                </a:solidFill>
                <a:latin typeface="方正硬笔楷书简体"/>
                <a:ea typeface="方正硬笔楷书简体"/>
              </a:rPr>
              <a:t>壑</a:t>
            </a:r>
            <a:r>
              <a:rPr b="1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，神游其中，</a:t>
            </a:r>
            <a:r>
              <a:rPr b="1" lang="zh-CN" sz="3200" spc="-1" strike="noStrike">
                <a:solidFill>
                  <a:srgbClr val="ff0000"/>
                </a:solidFill>
                <a:latin typeface="方正硬笔楷书简体"/>
                <a:ea typeface="方正硬笔楷书简体"/>
              </a:rPr>
              <a:t>怡然自得</a:t>
            </a:r>
            <a:r>
              <a:rPr b="1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3"/>
          <p:cNvSpPr/>
          <p:nvPr/>
        </p:nvSpPr>
        <p:spPr>
          <a:xfrm>
            <a:off x="785880" y="642960"/>
            <a:ext cx="7750080" cy="581400"/>
          </a:xfrm>
          <a:prstGeom prst="rect">
            <a:avLst/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一日，见二虫斗草间，观之，兴正浓，忽有庞然大物</a:t>
            </a:r>
            <a:r>
              <a:rPr b="1" lang="en-US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拔山倒树而来，盖一癞虾蟆，舌一吐而二虫尽为所吞。余年幼，方出神，不觉呀然一惊。神定，捉虾蟆，鞭数十，驱之别院。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"/>
          <p:cNvSpPr/>
          <p:nvPr/>
        </p:nvSpPr>
        <p:spPr>
          <a:xfrm>
            <a:off x="785880" y="3643200"/>
            <a:ext cx="7750080" cy="1068840"/>
          </a:xfrm>
          <a:prstGeom prst="rect">
            <a:avLst/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一日，见二虫斗草间，观之，</a:t>
            </a:r>
            <a:r>
              <a:rPr b="1" lang="zh-CN" sz="3200" spc="-1" strike="noStrike">
                <a:solidFill>
                  <a:srgbClr val="ff0000"/>
                </a:solidFill>
                <a:latin typeface="方正硬笔楷书简体"/>
                <a:ea typeface="方正硬笔楷书简体"/>
              </a:rPr>
              <a:t>兴</a:t>
            </a:r>
            <a:r>
              <a:rPr b="1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正浓，忽有庞然大物</a:t>
            </a:r>
            <a:r>
              <a:rPr b="1" lang="en-US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拔山倒树而来，</a:t>
            </a:r>
            <a:r>
              <a:rPr b="1" lang="zh-CN" sz="3200" spc="-1" strike="noStrike">
                <a:solidFill>
                  <a:srgbClr val="ff0000"/>
                </a:solidFill>
                <a:latin typeface="方正硬笔楷书简体"/>
                <a:ea typeface="方正硬笔楷书简体"/>
              </a:rPr>
              <a:t>盖</a:t>
            </a:r>
            <a:r>
              <a:rPr b="1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一癞虾蟆，舌一吐而二虫</a:t>
            </a:r>
            <a:r>
              <a:rPr b="1" lang="zh-CN" sz="3200" spc="-1" strike="noStrike">
                <a:solidFill>
                  <a:srgbClr val="ff0000"/>
                </a:solidFill>
                <a:latin typeface="方正硬笔楷书简体"/>
                <a:ea typeface="方正硬笔楷书简体"/>
              </a:rPr>
              <a:t>尽为</a:t>
            </a:r>
            <a:r>
              <a:rPr b="1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所吞。余年幼，</a:t>
            </a:r>
            <a:r>
              <a:rPr b="1" lang="zh-CN" sz="3200" spc="-1" strike="noStrike">
                <a:solidFill>
                  <a:srgbClr val="ff0000"/>
                </a:solidFill>
                <a:latin typeface="方正硬笔楷书简体"/>
                <a:ea typeface="方正硬笔楷书简体"/>
              </a:rPr>
              <a:t>方</a:t>
            </a:r>
            <a:r>
              <a:rPr b="1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出神，不觉呀然一惊。</a:t>
            </a:r>
            <a:r>
              <a:rPr b="1" lang="zh-CN" sz="3200" spc="-1" strike="noStrike">
                <a:solidFill>
                  <a:srgbClr val="ff0000"/>
                </a:solidFill>
                <a:latin typeface="方正硬笔楷书简体"/>
                <a:ea typeface="方正硬笔楷书简体"/>
              </a:rPr>
              <a:t>神定</a:t>
            </a:r>
            <a:r>
              <a:rPr b="1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，捉虾蟆，</a:t>
            </a:r>
            <a:r>
              <a:rPr b="1" lang="zh-CN" sz="3200" spc="-1" strike="noStrike">
                <a:solidFill>
                  <a:srgbClr val="ff0000"/>
                </a:solidFill>
                <a:latin typeface="方正硬笔楷书简体"/>
                <a:ea typeface="方正硬笔楷书简体"/>
              </a:rPr>
              <a:t>鞭</a:t>
            </a:r>
            <a:r>
              <a:rPr b="1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数十，</a:t>
            </a:r>
            <a:r>
              <a:rPr b="1" lang="zh-CN" sz="3200" spc="-1" strike="noStrike">
                <a:solidFill>
                  <a:srgbClr val="ff0000"/>
                </a:solidFill>
                <a:latin typeface="方正硬笔楷书简体"/>
                <a:ea typeface="方正硬笔楷书简体"/>
              </a:rPr>
              <a:t>驱</a:t>
            </a:r>
            <a:r>
              <a:rPr b="1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之别院。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、“之”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见藐小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之</a:t>
            </a:r>
            <a:r>
              <a:rPr b="1" lang="zh-CN" sz="36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物（                    ）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物外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之</a:t>
            </a:r>
            <a:r>
              <a:rPr b="1" lang="zh-CN" sz="36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趣（                      ）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心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之</a:t>
            </a:r>
            <a:r>
              <a:rPr b="1" lang="zh-CN" sz="36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所向（                                                       ）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使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之</a:t>
            </a:r>
            <a:r>
              <a:rPr b="1" lang="zh-CN" sz="36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冲烟而飞鸣（                                         ）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驱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之</a:t>
            </a:r>
            <a:r>
              <a:rPr b="1" lang="zh-CN" sz="36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别院（                                                ）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项为</a:t>
            </a:r>
            <a:r>
              <a:rPr b="0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之</a:t>
            </a:r>
            <a:r>
              <a:rPr b="0" lang="zh-CN" sz="36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强（                                                  ）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3750480" y="242892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方正硬笔楷书简体"/>
                <a:ea typeface="方正硬笔楷书简体"/>
              </a:rPr>
              <a:t>助词 的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464640" y="307188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方正硬笔楷书简体"/>
                <a:ea typeface="方正硬笔楷书简体"/>
              </a:rPr>
              <a:t>助词 的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3910680" y="364320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方正硬笔楷书简体"/>
                <a:ea typeface="方正硬笔楷书简体"/>
              </a:rPr>
              <a:t>助词，名词和动词之间不译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5096880" y="42148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方正硬笔楷书简体"/>
                <a:ea typeface="方正硬笔楷书简体"/>
              </a:rPr>
              <a:t>代词，它，指蚊子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3953880" y="47862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方正硬笔楷书简体"/>
                <a:ea typeface="方正硬笔楷书简体"/>
              </a:rPr>
              <a:t>代词，它，指蛤蟆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7" name="Picture 11" descr="广志学校校徽"/>
          <p:cNvPicPr/>
          <p:nvPr/>
        </p:nvPicPr>
        <p:blipFill>
          <a:blip r:embed="rId2"/>
          <a:stretch/>
        </p:blipFill>
        <p:spPr>
          <a:xfrm>
            <a:off x="8136000" y="5977080"/>
            <a:ext cx="1008000" cy="880920"/>
          </a:xfrm>
          <a:prstGeom prst="rect">
            <a:avLst/>
          </a:prstGeom>
          <a:ln w="0">
            <a:noFill/>
          </a:ln>
        </p:spPr>
      </p:pic>
      <p:pic>
        <p:nvPicPr>
          <p:cNvPr id="298" name="矩形 11" descr=""/>
          <p:cNvPicPr/>
          <p:nvPr/>
        </p:nvPicPr>
        <p:blipFill>
          <a:blip r:embed="rId3"/>
          <a:stretch/>
        </p:blipFill>
        <p:spPr>
          <a:xfrm>
            <a:off x="1700280" y="60480"/>
            <a:ext cx="5767200" cy="1158840"/>
          </a:xfrm>
          <a:prstGeom prst="rect">
            <a:avLst/>
          </a:prstGeom>
          <a:ln w="0">
            <a:noFill/>
          </a:ln>
        </p:spPr>
      </p:pic>
      <p:sp>
        <p:nvSpPr>
          <p:cNvPr id="299" name="矩形 13"/>
          <p:cNvSpPr/>
          <p:nvPr/>
        </p:nvSpPr>
        <p:spPr>
          <a:xfrm>
            <a:off x="2857680" y="5429160"/>
            <a:ext cx="4572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方正硬笔楷书简体"/>
                <a:ea typeface="方正硬笔楷书简体"/>
              </a:rPr>
              <a:t>代指“昂首观之”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1713960" y="1143000"/>
            <a:ext cx="1280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方正启体简体"/>
                <a:ea typeface="方正启体简体"/>
              </a:rPr>
              <a:t>一、常见一词多义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785880" y="999720"/>
            <a:ext cx="77724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、</a:t>
            </a:r>
            <a:r>
              <a:rPr b="0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为</a:t>
            </a:r>
            <a:r>
              <a:rPr b="0" lang="zh-CN" sz="36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项</a:t>
            </a:r>
            <a:r>
              <a:rPr b="0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为</a:t>
            </a:r>
            <a:r>
              <a:rPr b="0" lang="zh-CN" sz="36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之强           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以丛草</a:t>
            </a:r>
            <a:r>
              <a:rPr b="0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为</a:t>
            </a:r>
            <a:r>
              <a:rPr b="0" lang="zh-CN" sz="36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林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舌一吐而二虫尽</a:t>
            </a:r>
            <a:r>
              <a:rPr b="0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为</a:t>
            </a:r>
            <a:r>
              <a:rPr b="0" lang="zh-CN" sz="36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所吞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2" name="Picture 5" descr="广志学校校徽"/>
          <p:cNvPicPr/>
          <p:nvPr/>
        </p:nvPicPr>
        <p:blipFill>
          <a:blip r:embed="rId2"/>
          <a:stretch/>
        </p:blipFill>
        <p:spPr>
          <a:xfrm>
            <a:off x="8136000" y="5977080"/>
            <a:ext cx="1008000" cy="880920"/>
          </a:xfrm>
          <a:prstGeom prst="rect">
            <a:avLst/>
          </a:prstGeom>
          <a:ln w="0">
            <a:noFill/>
          </a:ln>
        </p:spPr>
      </p:pic>
      <p:sp>
        <p:nvSpPr>
          <p:cNvPr id="303" name="矩形 7"/>
          <p:cNvSpPr/>
          <p:nvPr/>
        </p:nvSpPr>
        <p:spPr>
          <a:xfrm>
            <a:off x="3614400" y="1500120"/>
            <a:ext cx="168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方正硬笔楷书简体"/>
                <a:ea typeface="方正硬笔楷书简体"/>
              </a:rPr>
              <a:t>（  因为  ）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矩形 8"/>
          <p:cNvSpPr/>
          <p:nvPr/>
        </p:nvSpPr>
        <p:spPr>
          <a:xfrm>
            <a:off x="3906720" y="2143080"/>
            <a:ext cx="1155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方正硬笔楷书简体"/>
                <a:ea typeface="方正硬笔楷书简体"/>
              </a:rPr>
              <a:t>（当作）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矩形 9"/>
          <p:cNvSpPr/>
          <p:nvPr/>
        </p:nvSpPr>
        <p:spPr>
          <a:xfrm>
            <a:off x="5895360" y="2643120"/>
            <a:ext cx="912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方正硬笔楷书简体"/>
                <a:ea typeface="方正硬笔楷书简体"/>
              </a:rPr>
              <a:t>（被）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642960" y="3929040"/>
            <a:ext cx="3657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方正启体简体"/>
                <a:ea typeface="方正启体简体"/>
              </a:rPr>
              <a:t>3</a:t>
            </a:r>
            <a:r>
              <a:rPr b="0" lang="zh-CN" sz="3600" spc="-1" strike="noStrike">
                <a:solidFill>
                  <a:srgbClr val="002060"/>
                </a:solidFill>
                <a:latin typeface="方正启体简体"/>
                <a:ea typeface="方正启体简体"/>
              </a:rPr>
              <a:t>、</a:t>
            </a:r>
            <a:r>
              <a:rPr b="0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以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以</a:t>
            </a:r>
            <a:r>
              <a:rPr b="0" lang="zh-CN" sz="3600" spc="-1" strike="noStrike">
                <a:solidFill>
                  <a:srgbClr val="002060"/>
                </a:solidFill>
                <a:latin typeface="方正启体简体"/>
                <a:ea typeface="方正启体简体"/>
              </a:rPr>
              <a:t>丛草为林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方正启体简体"/>
                <a:ea typeface="方正启体简体"/>
              </a:rPr>
              <a:t> </a:t>
            </a:r>
            <a:r>
              <a:rPr b="0" lang="zh-CN" sz="3600" spc="-1" strike="noStrike">
                <a:solidFill>
                  <a:srgbClr val="002060"/>
                </a:solidFill>
                <a:latin typeface="方正启体简体"/>
                <a:ea typeface="方正启体简体"/>
              </a:rPr>
              <a:t>徐喷</a:t>
            </a:r>
            <a:r>
              <a:rPr b="0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以</a:t>
            </a:r>
            <a:r>
              <a:rPr b="0" lang="zh-CN" sz="3600" spc="-1" strike="noStrike">
                <a:solidFill>
                  <a:srgbClr val="002060"/>
                </a:solidFill>
                <a:latin typeface="方正启体简体"/>
                <a:ea typeface="方正启体简体"/>
              </a:rPr>
              <a:t>烟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矩形 11"/>
          <p:cNvSpPr/>
          <p:nvPr/>
        </p:nvSpPr>
        <p:spPr>
          <a:xfrm>
            <a:off x="3535200" y="4714920"/>
            <a:ext cx="14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方正硬笔楷书简体"/>
                <a:ea typeface="方正硬笔楷书简体"/>
              </a:rPr>
              <a:t>（  把  ）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矩形 12"/>
          <p:cNvSpPr/>
          <p:nvPr/>
        </p:nvSpPr>
        <p:spPr>
          <a:xfrm>
            <a:off x="3463920" y="5572080"/>
            <a:ext cx="14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方正硬笔楷书简体"/>
                <a:ea typeface="方正硬笔楷书简体"/>
              </a:rPr>
              <a:t>（  用  ）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10"/>
          <p:cNvSpPr/>
          <p:nvPr/>
        </p:nvSpPr>
        <p:spPr>
          <a:xfrm>
            <a:off x="714240" y="1071720"/>
            <a:ext cx="7643880" cy="17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Constantia"/>
              </a:rPr>
              <a:t>二、成语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Constantia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Constantia"/>
              </a:rPr>
              <a:t>明察秋毫    庞然大物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nstantia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Constantia"/>
              </a:rPr>
              <a:t>怡然自得    夏蚊成雷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Text Box 11"/>
          <p:cNvSpPr/>
          <p:nvPr/>
        </p:nvSpPr>
        <p:spPr>
          <a:xfrm>
            <a:off x="1235880" y="2928960"/>
            <a:ext cx="268092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宋体"/>
              </a:rPr>
              <a:t>三、通假字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强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——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Text Box 13"/>
          <p:cNvSpPr/>
          <p:nvPr/>
        </p:nvSpPr>
        <p:spPr>
          <a:xfrm>
            <a:off x="714240" y="4357800"/>
            <a:ext cx="4849920" cy="17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</a:rPr>
              <a:t>四、省略句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</a:rPr>
              <a:t>鞭（之）数十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</a:rPr>
              <a:t>（余）使与台齐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3"/>
          <p:cNvSpPr/>
          <p:nvPr/>
        </p:nvSpPr>
        <p:spPr>
          <a:xfrm>
            <a:off x="1214280" y="928800"/>
            <a:ext cx="269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方正启体简体"/>
                <a:ea typeface="方正启体简体"/>
              </a:rPr>
              <a:t>帐中蚊舞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"/>
          <p:cNvSpPr/>
          <p:nvPr/>
        </p:nvSpPr>
        <p:spPr>
          <a:xfrm>
            <a:off x="5357880" y="928800"/>
            <a:ext cx="269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方正启体简体"/>
                <a:ea typeface="方正启体简体"/>
              </a:rPr>
              <a:t>鹤唳云端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矩形 3"/>
          <p:cNvSpPr/>
          <p:nvPr/>
        </p:nvSpPr>
        <p:spPr>
          <a:xfrm>
            <a:off x="5817600" y="31431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神游山林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矩形 4"/>
          <p:cNvSpPr/>
          <p:nvPr/>
        </p:nvSpPr>
        <p:spPr>
          <a:xfrm>
            <a:off x="1602720" y="32148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草丛虫斗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矩形 7"/>
          <p:cNvSpPr/>
          <p:nvPr/>
        </p:nvSpPr>
        <p:spPr>
          <a:xfrm>
            <a:off x="483840" y="1500120"/>
            <a:ext cx="54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华文琥珀"/>
                <a:ea typeface="华文琥珀"/>
              </a:rPr>
              <a:t>观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华文琥珀"/>
                <a:ea typeface="华文琥珀"/>
              </a:rPr>
              <a:t>察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矩形 8"/>
          <p:cNvSpPr/>
          <p:nvPr/>
        </p:nvSpPr>
        <p:spPr>
          <a:xfrm>
            <a:off x="3286080" y="1928880"/>
            <a:ext cx="307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华文琥珀"/>
                <a:ea typeface="华文琥珀"/>
              </a:rPr>
              <a:t>联想想像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8" name="直接箭头连接符 19" descr=""/>
          <p:cNvPicPr/>
          <p:nvPr/>
        </p:nvPicPr>
        <p:blipFill>
          <a:blip r:embed="rId2"/>
          <a:stretch/>
        </p:blipFill>
        <p:spPr>
          <a:xfrm>
            <a:off x="3230640" y="1378080"/>
            <a:ext cx="933480" cy="1000080"/>
          </a:xfrm>
          <a:prstGeom prst="rect">
            <a:avLst/>
          </a:prstGeom>
          <a:ln w="0">
            <a:noFill/>
          </a:ln>
        </p:spPr>
      </p:pic>
      <p:pic>
        <p:nvPicPr>
          <p:cNvPr id="319" name="直接箭头连接符 22" descr=""/>
          <p:cNvPicPr/>
          <p:nvPr/>
        </p:nvPicPr>
        <p:blipFill>
          <a:blip r:embed="rId3"/>
          <a:stretch/>
        </p:blipFill>
        <p:spPr>
          <a:xfrm>
            <a:off x="5016600" y="1122480"/>
            <a:ext cx="933480" cy="998280"/>
          </a:xfrm>
          <a:prstGeom prst="rect">
            <a:avLst/>
          </a:prstGeom>
          <a:ln w="0">
            <a:noFill/>
          </a:ln>
        </p:spPr>
      </p:pic>
      <p:pic>
        <p:nvPicPr>
          <p:cNvPr id="320" name="直接箭头连接符 25" descr=""/>
          <p:cNvPicPr/>
          <p:nvPr/>
        </p:nvPicPr>
        <p:blipFill>
          <a:blip r:embed="rId4"/>
          <a:stretch/>
        </p:blipFill>
        <p:spPr>
          <a:xfrm>
            <a:off x="3230640" y="2335320"/>
            <a:ext cx="1006560" cy="1004760"/>
          </a:xfrm>
          <a:prstGeom prst="rect">
            <a:avLst/>
          </a:prstGeom>
          <a:ln w="0">
            <a:noFill/>
          </a:ln>
        </p:spPr>
      </p:pic>
      <p:pic>
        <p:nvPicPr>
          <p:cNvPr id="321" name="直接箭头连接符 27" descr=""/>
          <p:cNvPicPr/>
          <p:nvPr/>
        </p:nvPicPr>
        <p:blipFill>
          <a:blip r:embed="rId5"/>
          <a:stretch/>
        </p:blipFill>
        <p:spPr>
          <a:xfrm>
            <a:off x="5016600" y="2590920"/>
            <a:ext cx="860400" cy="1000080"/>
          </a:xfrm>
          <a:prstGeom prst="rect">
            <a:avLst/>
          </a:prstGeom>
          <a:ln w="0">
            <a:noFill/>
          </a:ln>
        </p:spPr>
      </p:pic>
      <p:pic>
        <p:nvPicPr>
          <p:cNvPr id="322" name="矩形 46" descr=""/>
          <p:cNvPicPr/>
          <p:nvPr/>
        </p:nvPicPr>
        <p:blipFill>
          <a:blip r:embed="rId6"/>
          <a:stretch/>
        </p:blipFill>
        <p:spPr>
          <a:xfrm>
            <a:off x="2639880" y="4784760"/>
            <a:ext cx="3700440" cy="1146240"/>
          </a:xfrm>
          <a:prstGeom prst="rect">
            <a:avLst/>
          </a:prstGeom>
          <a:ln w="0">
            <a:noFill/>
          </a:ln>
        </p:spPr>
      </p:pic>
      <p:sp>
        <p:nvSpPr>
          <p:cNvPr id="323" name="下箭头 47"/>
          <p:cNvSpPr/>
          <p:nvPr/>
        </p:nvSpPr>
        <p:spPr>
          <a:xfrm rot="10800000">
            <a:off x="4071600" y="4000680"/>
            <a:ext cx="500040" cy="72864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f3a447"/>
          </a:solidFill>
          <a:ln w="38160">
            <a:solidFill>
              <a:srgbClr val="b377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矩形 1"/>
          <p:cNvSpPr/>
          <p:nvPr/>
        </p:nvSpPr>
        <p:spPr>
          <a:xfrm>
            <a:off x="1214280" y="928800"/>
            <a:ext cx="692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你是否也有跟作者类似的经历？你获得“物外之趣”了吗</a:t>
            </a:r>
            <a:r>
              <a:rPr b="1" lang="en-US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矩形 2"/>
          <p:cNvSpPr/>
          <p:nvPr/>
        </p:nvSpPr>
        <p:spPr>
          <a:xfrm>
            <a:off x="1500120" y="2643120"/>
            <a:ext cx="657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方正毡笔黑简体"/>
                <a:ea typeface="方正毡笔黑简体"/>
              </a:rPr>
              <a:t>只有通过</a:t>
            </a:r>
            <a:r>
              <a:rPr b="1" lang="zh-CN" sz="40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仔细地观察， 丰富的想像</a:t>
            </a:r>
            <a:r>
              <a:rPr b="1" lang="zh-CN" sz="4000" spc="-1" strike="noStrike">
                <a:solidFill>
                  <a:srgbClr val="002060"/>
                </a:solidFill>
                <a:latin typeface="方正毡笔黑简体"/>
                <a:ea typeface="方正毡笔黑简体"/>
              </a:rPr>
              <a:t>，才会得到“物外之趣”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000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矩形 1"/>
          <p:cNvSpPr/>
          <p:nvPr/>
        </p:nvSpPr>
        <p:spPr>
          <a:xfrm>
            <a:off x="500040" y="285840"/>
            <a:ext cx="592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如果你与沈复交朋友，他哪些方面值得你学习？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428760" y="2071800"/>
            <a:ext cx="4143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方正硬笔楷书简体"/>
                <a:ea typeface="方正硬笔楷书简体"/>
              </a:rPr>
              <a:t>①</a:t>
            </a:r>
            <a:r>
              <a:rPr b="1" lang="zh-CN" sz="3600" spc="-1" strike="noStrike">
                <a:solidFill>
                  <a:srgbClr val="c00000"/>
                </a:solidFill>
                <a:latin typeface="方正硬笔楷书简体"/>
                <a:ea typeface="方正硬笔楷书简体"/>
              </a:rPr>
              <a:t>热爱自然，热爱生活；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方正硬笔楷书简体"/>
                <a:ea typeface="方正硬笔楷书简体"/>
              </a:rPr>
              <a:t>②</a:t>
            </a:r>
            <a:r>
              <a:rPr b="1" lang="zh-CN" sz="3600" spc="-1" strike="noStrike">
                <a:solidFill>
                  <a:srgbClr val="c00000"/>
                </a:solidFill>
                <a:latin typeface="方正硬笔楷书简体"/>
                <a:ea typeface="方正硬笔楷书简体"/>
              </a:rPr>
              <a:t>善于观察，富有联想和想像力；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方正硬笔楷书简体"/>
                <a:ea typeface="方正硬笔楷书简体"/>
              </a:rPr>
              <a:t>③</a:t>
            </a:r>
            <a:r>
              <a:rPr b="1" lang="zh-CN" sz="3600" spc="-1" strike="noStrike">
                <a:solidFill>
                  <a:srgbClr val="c00000"/>
                </a:solidFill>
                <a:latin typeface="方正硬笔楷书简体"/>
                <a:ea typeface="方正硬笔楷书简体"/>
              </a:rPr>
              <a:t>有审美情趣，能在平凡中发现美。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矩形 4" descr=""/>
          <p:cNvPicPr/>
          <p:nvPr/>
        </p:nvPicPr>
        <p:blipFill>
          <a:blip r:embed="rId2"/>
          <a:stretch/>
        </p:blipFill>
        <p:spPr>
          <a:xfrm>
            <a:off x="512640" y="590400"/>
            <a:ext cx="811872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shenfu"/>
          <p:cNvPicPr/>
          <p:nvPr/>
        </p:nvPicPr>
        <p:blipFill>
          <a:blip r:embed="rId2"/>
          <a:stretch/>
        </p:blipFill>
        <p:spPr>
          <a:xfrm>
            <a:off x="826920" y="2060640"/>
            <a:ext cx="2535480" cy="357336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2987640" y="69228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2060"/>
                </a:solidFill>
                <a:latin typeface="华文隶书"/>
                <a:ea typeface="华文隶书"/>
              </a:rPr>
              <a:t>作者简介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4143240" y="2143080"/>
            <a:ext cx="3648240" cy="1191240"/>
          </a:xfrm>
          <a:prstGeom prst="rect">
            <a:avLst/>
          </a:prstGeom>
          <a:noFill/>
          <a:ln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华文隶书"/>
                <a:ea typeface="华文隶书"/>
              </a:rPr>
              <a:t>沈复（</a:t>
            </a:r>
            <a:r>
              <a:rPr b="0" lang="en-US" sz="3600" spc="-1" strike="noStrike">
                <a:solidFill>
                  <a:srgbClr val="002060"/>
                </a:solidFill>
                <a:latin typeface="华文隶书"/>
                <a:ea typeface="华文隶书"/>
              </a:rPr>
              <a:t>1763</a:t>
            </a:r>
            <a:r>
              <a:rPr b="0" lang="zh-CN" sz="3600" spc="-1" strike="noStrike">
                <a:solidFill>
                  <a:srgbClr val="002060"/>
                </a:solidFill>
                <a:latin typeface="华文隶书"/>
                <a:ea typeface="华文隶书"/>
              </a:rPr>
              <a:t>～ ？）字三白，号梅逸。清代江苏苏州人散文家。工诗画、散文。作品</a:t>
            </a:r>
            <a:r>
              <a:rPr b="0" lang="en-US" sz="3600" spc="-1" strike="noStrike">
                <a:solidFill>
                  <a:srgbClr val="002060"/>
                </a:solidFill>
                <a:latin typeface="华文隶书"/>
                <a:ea typeface="华文隶书"/>
              </a:rPr>
              <a:t>《</a:t>
            </a:r>
            <a:r>
              <a:rPr b="0" lang="zh-CN" sz="3600" spc="-1" strike="noStrike">
                <a:solidFill>
                  <a:srgbClr val="002060"/>
                </a:solidFill>
                <a:latin typeface="华文隶书"/>
                <a:ea typeface="华文隶书"/>
              </a:rPr>
              <a:t>浮生六记</a:t>
            </a:r>
            <a:r>
              <a:rPr b="0" lang="en-US" sz="3600" spc="-1" strike="noStrike">
                <a:solidFill>
                  <a:srgbClr val="002060"/>
                </a:solidFill>
                <a:latin typeface="华文隶书"/>
                <a:ea typeface="华文隶书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  <p:sndAc>
      <p:stSnd>
        <p:snd r:embed="rId3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3" descr="0102019"/>
          <p:cNvPicPr/>
          <p:nvPr/>
        </p:nvPicPr>
        <p:blipFill>
          <a:blip r:embed="rId2"/>
          <a:stretch/>
        </p:blipFill>
        <p:spPr>
          <a:xfrm>
            <a:off x="1071720" y="1571760"/>
            <a:ext cx="3504960" cy="36576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0102004"/>
          <p:cNvPicPr/>
          <p:nvPr/>
        </p:nvPicPr>
        <p:blipFill>
          <a:blip r:embed="rId3"/>
          <a:stretch/>
        </p:blipFill>
        <p:spPr>
          <a:xfrm>
            <a:off x="4929120" y="1571760"/>
            <a:ext cx="3353040" cy="36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0"/>
          <p:cNvSpPr/>
          <p:nvPr/>
        </p:nvSpPr>
        <p:spPr>
          <a:xfrm>
            <a:off x="4643280" y="32148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方正启体简体"/>
                <a:ea typeface="方正启体简体"/>
              </a:rPr>
              <a:t>——</a:t>
            </a:r>
            <a:r>
              <a:rPr b="0" lang="zh-CN" sz="3600" spc="-1" strike="noStrike">
                <a:solidFill>
                  <a:srgbClr val="002060"/>
                </a:solidFill>
                <a:latin typeface="方正启体简体"/>
                <a:ea typeface="方正启体简体"/>
              </a:rPr>
              <a:t>法</a:t>
            </a:r>
            <a:r>
              <a:rPr b="0" lang="en-US" sz="3600" spc="-1" strike="noStrike">
                <a:solidFill>
                  <a:srgbClr val="002060"/>
                </a:solidFill>
                <a:latin typeface="方正启体简体"/>
                <a:ea typeface="方正启体简体"/>
              </a:rPr>
              <a:t>·</a:t>
            </a:r>
            <a:r>
              <a:rPr b="0" lang="zh-CN" sz="3600" spc="-1" strike="noStrike">
                <a:solidFill>
                  <a:srgbClr val="002060"/>
                </a:solidFill>
                <a:latin typeface="方正启体简体"/>
                <a:ea typeface="方正启体简体"/>
              </a:rPr>
              <a:t>罗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3" name="矩形 7" descr=""/>
          <p:cNvPicPr/>
          <p:nvPr/>
        </p:nvPicPr>
        <p:blipFill>
          <a:blip r:embed="rId2"/>
          <a:stretch/>
        </p:blipFill>
        <p:spPr>
          <a:xfrm>
            <a:off x="676440" y="1182600"/>
            <a:ext cx="7748280" cy="1932120"/>
          </a:xfrm>
          <a:prstGeom prst="rect">
            <a:avLst/>
          </a:prstGeom>
          <a:ln w="0">
            <a:noFill/>
          </a:ln>
        </p:spPr>
      </p:pic>
      <p:sp>
        <p:nvSpPr>
          <p:cNvPr id="334" name="TextBox 4"/>
          <p:cNvSpPr/>
          <p:nvPr/>
        </p:nvSpPr>
        <p:spPr>
          <a:xfrm>
            <a:off x="346320" y="6143760"/>
            <a:ext cx="208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Times New Roman"/>
                <a:ea typeface="楷体_GB2312"/>
              </a:rPr>
              <a:t>制作</a:t>
            </a:r>
            <a:r>
              <a:rPr b="0" lang="en-US" sz="1600" spc="-1" strike="noStrike">
                <a:solidFill>
                  <a:srgbClr val="595959"/>
                </a:solidFill>
                <a:latin typeface="Times New Roman"/>
                <a:ea typeface="楷体_GB2312"/>
              </a:rPr>
              <a:t>jmf</a:t>
            </a:r>
            <a:r>
              <a:rPr b="0" lang="zh-CN" sz="1600" spc="-1" strike="noStrike">
                <a:solidFill>
                  <a:srgbClr val="595959"/>
                </a:solidFill>
                <a:latin typeface="Times New Roman"/>
                <a:ea typeface="楷体_GB2312"/>
              </a:rPr>
              <a:t>，</a:t>
            </a:r>
            <a:r>
              <a:rPr b="0" lang="en-US" sz="1600" spc="-1" strike="noStrike">
                <a:solidFill>
                  <a:srgbClr val="595959"/>
                </a:solidFill>
                <a:latin typeface="Times New Roman"/>
                <a:ea typeface="楷体_GB2312"/>
              </a:rPr>
              <a:t>QQ4107359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C:\Users\Administrator\Desktop\ps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C:\Users\Administrator\Desktop\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C:\Users\Administrator\Desktop\3.jpg"/>
          <p:cNvPicPr/>
          <p:nvPr/>
        </p:nvPicPr>
        <p:blipFill>
          <a:blip r:embed="rId2"/>
          <a:stretch/>
        </p:blipFill>
        <p:spPr>
          <a:xfrm>
            <a:off x="0" y="-19080"/>
            <a:ext cx="9144000" cy="689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C:\Users\Administrator\Desktop\4.jpg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C:\Users\Administrator\Desktop\5.jpg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C:\Users\Administrator\Desktop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C:\Users\Administrator\Desktop\8.jpg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C:\Users\Administrator\Desktop\psbCAAHE10K.jpg"/>
          <p:cNvPicPr/>
          <p:nvPr/>
        </p:nvPicPr>
        <p:blipFill>
          <a:blip r:embed="rId2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4"/>
          <p:cNvSpPr/>
          <p:nvPr/>
        </p:nvSpPr>
        <p:spPr>
          <a:xfrm>
            <a:off x="785880" y="10000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文言文是古代的书面语体。特点：简洁、典雅。意义：继承文化、了解历史、丰富语言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2286000" y="285840"/>
            <a:ext cx="4871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文言文学法指导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571680" y="2500200"/>
            <a:ext cx="8072280" cy="3018600"/>
          </a:xfrm>
          <a:prstGeom prst="rect">
            <a:avLst/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读</a:t>
            </a:r>
            <a:r>
              <a:rPr b="1" lang="en-US" sz="32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— </a:t>
            </a:r>
            <a:r>
              <a:rPr b="1" lang="zh-CN" sz="32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读准字音、节奏停顿，能流利背诵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译</a:t>
            </a:r>
            <a:r>
              <a:rPr b="1" lang="en-US" sz="32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— </a:t>
            </a:r>
            <a:r>
              <a:rPr b="1" lang="zh-CN" sz="32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能从</a:t>
            </a:r>
            <a:r>
              <a:rPr b="1" lang="zh-CN" sz="32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词语</a:t>
            </a:r>
            <a:r>
              <a:rPr b="1" lang="zh-CN" sz="32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入手，准确翻译课文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析</a:t>
            </a:r>
            <a:r>
              <a:rPr b="1" lang="en-US" sz="32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— </a:t>
            </a:r>
            <a:r>
              <a:rPr b="1" lang="zh-CN" sz="32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分析课文：分层次、知内容、探主旨、品名句。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积</a:t>
            </a:r>
            <a:r>
              <a:rPr b="1" lang="en-US" sz="32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— </a:t>
            </a:r>
            <a:r>
              <a:rPr b="1" lang="zh-CN" sz="32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积累：成语、名句、名段。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拓</a:t>
            </a:r>
            <a:r>
              <a:rPr b="1" lang="en-US" sz="32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拓展迁移：相关名篇、名句。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大雁1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3"/>
          <p:cNvSpPr/>
          <p:nvPr/>
        </p:nvSpPr>
        <p:spPr>
          <a:xfrm>
            <a:off x="2857680" y="428760"/>
            <a:ext cx="28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nstantia"/>
              </a:rPr>
              <a:t>读准字音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250920" y="836640"/>
            <a:ext cx="8686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Times New Roman"/>
              </a:rPr>
              <a:t>童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稚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</a:rPr>
              <a:t>       （          ）   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藐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</a:rPr>
              <a:t>小     （          ）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Times New Roman"/>
              </a:rPr>
              <a:t>项为之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强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</a:rPr>
              <a:t>（          ）     鹤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唳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</a:rPr>
              <a:t>云端（          ）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怡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</a:rPr>
              <a:t>然称快（          ）    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凹凸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</a:rPr>
              <a:t>    （          ）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Times New Roman"/>
              </a:rPr>
              <a:t>土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砾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</a:rPr>
              <a:t>        （           ）       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壑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</a:rPr>
              <a:t>     （          ）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庞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</a:rPr>
              <a:t>然大物（           ）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癞虾蟆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</a:rPr>
              <a:t>（                ）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2000160" y="10000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2428920" y="1285920"/>
            <a:ext cx="7010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zh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ì     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ā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g                                l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ì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í                                   ā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 t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ū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ì          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è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á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g                            lài h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á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2" descr=""/>
          <p:cNvPicPr/>
          <p:nvPr/>
        </p:nvPicPr>
        <p:blipFill>
          <a:blip r:embed="rId2"/>
          <a:stretch/>
        </p:blipFill>
        <p:spPr>
          <a:xfrm>
            <a:off x="2700360" y="208080"/>
            <a:ext cx="3876480" cy="123012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339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onstantia"/>
              </a:rPr>
              <a:t>、能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Constantia"/>
              </a:rPr>
              <a:t>张目对日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339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onstantia"/>
              </a:rPr>
              <a:t>、昂首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Constantia"/>
              </a:rPr>
              <a:t>观之，项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Constantia"/>
              </a:rPr>
              <a:t>为之强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339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onstantia"/>
              </a:rPr>
              <a:t>、使之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Constantia"/>
              </a:rPr>
              <a:t>冲烟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Constantia"/>
              </a:rPr>
              <a:t>而飞鸣，作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Constantia"/>
              </a:rPr>
              <a:t>青云白鹤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Constantia"/>
              </a:rPr>
              <a:t>观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339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Constantia"/>
              </a:rPr>
              <a:t>、心之所向，则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Constantia"/>
              </a:rPr>
              <a:t>或千或百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Constantia"/>
              </a:rPr>
              <a:t>果然鹤也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339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Constantia"/>
              </a:rPr>
              <a:t>、见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Constantia"/>
              </a:rPr>
              <a:t>二虫斗间草，观之，兴正浓，忽有庞然大物，拔山倒树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Constantia"/>
              </a:rPr>
              <a:t>而来，盖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Constantia"/>
              </a:rPr>
              <a:t>一癞虾蟆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1258920" y="47628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方正硬笔楷书简体"/>
                <a:ea typeface="方正硬笔楷书简体"/>
              </a:rPr>
              <a:t>你能读出下列文言句子的节奏吗？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571680" y="2000160"/>
            <a:ext cx="787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见／藐小之物／必／细察其纹理，故／时有／物外之趣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2936520" y="36432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私／拟作／群鹤舞于空中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3947040" y="47149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心之所向，则／或千或百，果然／鹤也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2865240" y="59292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昂首／观之，项／为之强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395280" y="141300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见藐小之物必细察其纹理，故时有物外之趣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500040" y="307188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私拟作群鹤舞于空中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428760" y="414324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心之所向，则或千或百，果然鹤也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Text Box 10"/>
          <p:cNvSpPr/>
          <p:nvPr/>
        </p:nvSpPr>
        <p:spPr>
          <a:xfrm>
            <a:off x="500040" y="528624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昂首观之，项为之强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6" descr="fm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357120" y="214200"/>
            <a:ext cx="5546880" cy="6243840"/>
          </a:xfrm>
          <a:prstGeom prst="rect">
            <a:avLst/>
          </a:prstGeom>
          <a:ln w="0">
            <a:noFill/>
          </a:ln>
        </p:spPr>
      </p:pic>
      <p:pic>
        <p:nvPicPr>
          <p:cNvPr id="280" name="矩形 6" descr=""/>
          <p:cNvPicPr/>
          <p:nvPr/>
        </p:nvPicPr>
        <p:blipFill>
          <a:blip r:embed="rId3"/>
          <a:stretch/>
        </p:blipFill>
        <p:spPr>
          <a:xfrm>
            <a:off x="6492960" y="1085760"/>
            <a:ext cx="1749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56760" y="1143000"/>
            <a:ext cx="8425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、（</a:t>
            </a:r>
            <a:r>
              <a:rPr b="0" lang="zh-CN" sz="3200" spc="-1" strike="noStrike">
                <a:solidFill>
                  <a:srgbClr val="ff0000"/>
                </a:solidFill>
                <a:latin typeface="方正硬笔楷书简体"/>
                <a:ea typeface="方正硬笔楷书简体"/>
              </a:rPr>
              <a:t>增</a:t>
            </a:r>
            <a:r>
              <a:rPr b="0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）加字解释法：把单音节变成双音节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、（</a:t>
            </a:r>
            <a:r>
              <a:rPr b="0" lang="zh-CN" sz="3200" spc="-1" strike="noStrike">
                <a:solidFill>
                  <a:srgbClr val="ff0000"/>
                </a:solidFill>
                <a:latin typeface="方正硬笔楷书简体"/>
                <a:ea typeface="方正硬笔楷书简体"/>
              </a:rPr>
              <a:t>删</a:t>
            </a:r>
            <a:r>
              <a:rPr b="0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）虚词不译法：无实际意义的字词不译；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、（</a:t>
            </a:r>
            <a:r>
              <a:rPr b="0" lang="zh-CN" sz="3200" spc="-1" strike="noStrike">
                <a:solidFill>
                  <a:srgbClr val="ff0000"/>
                </a:solidFill>
                <a:latin typeface="方正硬笔楷书简体"/>
                <a:ea typeface="方正硬笔楷书简体"/>
              </a:rPr>
              <a:t>调</a:t>
            </a:r>
            <a:r>
              <a:rPr b="0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）句式调整法：用现代汉语的句式代替古代汉语的句式，调整倒装句的句序 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、（</a:t>
            </a:r>
            <a:r>
              <a:rPr b="0" lang="zh-CN" sz="3200" spc="-1" strike="noStrike">
                <a:solidFill>
                  <a:srgbClr val="ff0000"/>
                </a:solidFill>
                <a:latin typeface="方正硬笔楷书简体"/>
                <a:ea typeface="方正硬笔楷书简体"/>
              </a:rPr>
              <a:t>换</a:t>
            </a:r>
            <a:r>
              <a:rPr b="0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）换字解释法：词义发生变化的词语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、（</a:t>
            </a:r>
            <a:r>
              <a:rPr b="0" lang="zh-CN" sz="3200" spc="-1" strike="noStrike">
                <a:solidFill>
                  <a:srgbClr val="ff0000"/>
                </a:solidFill>
                <a:latin typeface="方正硬笔楷书简体"/>
                <a:ea typeface="方正硬笔楷书简体"/>
              </a:rPr>
              <a:t>补</a:t>
            </a:r>
            <a:r>
              <a:rPr b="0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）省略补充法：补出省略成分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、（</a:t>
            </a:r>
            <a:r>
              <a:rPr b="0" lang="zh-CN" sz="3200" spc="-1" strike="noStrike">
                <a:solidFill>
                  <a:srgbClr val="ff0000"/>
                </a:solidFill>
                <a:latin typeface="方正硬笔楷书简体"/>
                <a:ea typeface="方正硬笔楷书简体"/>
              </a:rPr>
              <a:t>直</a:t>
            </a:r>
            <a:r>
              <a:rPr b="0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）不变直译法 ：专用名词、人名、地名、官名、时间及现代文中仍沿用的单音节词不变 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矩形 5"/>
          <p:cNvSpPr/>
          <p:nvPr/>
        </p:nvSpPr>
        <p:spPr>
          <a:xfrm>
            <a:off x="3061080" y="35712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方正毡笔黑简体"/>
                <a:ea typeface="方正毡笔黑简体"/>
              </a:rPr>
              <a:t>文言文翻译的方法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3"/>
          <p:cNvSpPr/>
          <p:nvPr/>
        </p:nvSpPr>
        <p:spPr>
          <a:xfrm>
            <a:off x="1071720" y="3929040"/>
            <a:ext cx="7000560" cy="1191240"/>
          </a:xfrm>
          <a:prstGeom prst="rect">
            <a:avLst/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方正启体简体"/>
                <a:ea typeface="方正启体简体"/>
              </a:rPr>
              <a:t>余</a:t>
            </a:r>
            <a:r>
              <a:rPr b="1" lang="zh-CN" sz="36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忆童稚时，能张目对日，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明察秋毫</a:t>
            </a:r>
            <a:r>
              <a:rPr b="1" lang="zh-CN" sz="36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，见</a:t>
            </a:r>
            <a:r>
              <a:rPr b="1" lang="zh-CN" sz="3600" spc="-1" strike="noStrike">
                <a:solidFill>
                  <a:srgbClr val="0000ff"/>
                </a:solidFill>
                <a:latin typeface="方正启体简体"/>
                <a:ea typeface="方正启体简体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方正启体简体"/>
                <a:ea typeface="方正启体简体"/>
              </a:rPr>
              <a:t>藐 小</a:t>
            </a:r>
            <a:r>
              <a:rPr b="1" lang="zh-CN" sz="36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之 物</a:t>
            </a:r>
            <a:r>
              <a:rPr b="1" lang="zh-CN" sz="3600" spc="-1" strike="noStrike">
                <a:solidFill>
                  <a:srgbClr val="0000ff"/>
                </a:solidFill>
                <a:latin typeface="方正启体简体"/>
                <a:ea typeface="方正启体简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必  细  察 其 纹 理，</a:t>
            </a:r>
            <a:r>
              <a:rPr b="1" lang="zh-CN" sz="3600" spc="-1" strike="noStrike">
                <a:solidFill>
                  <a:srgbClr val="ff3300"/>
                </a:solidFill>
                <a:latin typeface="方正启体简体"/>
                <a:ea typeface="方正启体简体"/>
              </a:rPr>
              <a:t>故时</a:t>
            </a:r>
            <a:r>
              <a:rPr b="1" lang="zh-CN" sz="36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有</a:t>
            </a:r>
            <a:r>
              <a:rPr b="1" lang="zh-CN" sz="3600" spc="-1" strike="noStrike">
                <a:solidFill>
                  <a:srgbClr val="ff3300"/>
                </a:solidFill>
                <a:latin typeface="方正启体简体"/>
                <a:ea typeface="方正启体简体"/>
              </a:rPr>
              <a:t>物外之趣。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"/>
          <p:cNvSpPr/>
          <p:nvPr/>
        </p:nvSpPr>
        <p:spPr>
          <a:xfrm>
            <a:off x="1071720" y="1285920"/>
            <a:ext cx="7000560" cy="642600"/>
          </a:xfrm>
          <a:prstGeom prst="rect">
            <a:avLst/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余忆童稚时，能张目对日，明察秋毫，见 藐 小之 物 必  细  察 其 纹 理，故时有物外之趣。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7T10:47:21Z</dcterms:created>
  <dc:creator>Administrator</dc:creator>
  <dc:description/>
  <dc:language>en-US</dc:language>
  <cp:lastModifiedBy>zmj</cp:lastModifiedBy>
  <dcterms:modified xsi:type="dcterms:W3CDTF">2012-09-22T13:19:03Z</dcterms:modified>
  <cp:revision>36</cp:revision>
  <dc:subject/>
  <dc:title>幻灯片 1</dc:title>
</cp:coreProperties>
</file>