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camera.wav" ContentType="audio/x-wav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2.jpeg" ContentType="image/jpeg"/>
  <Override PartName="/ppt/media/chimes.wav" ContentType="audio/x-wav"/>
  <Override PartName="/ppt/media/image16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2FE-5FDB-4E8B-B1AE-AEB40C11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D6D-6660-420E-8B2A-8B142A3C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DAA-36D5-4A5E-AE28-71045D25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E79-59F4-482F-A360-59AA3982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59A-8A46-40EE-BED3-A1DAAEE4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9DC-066E-4A5B-9C0E-F1D415A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88E-6444-4E81-A43B-6E4A5B4A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966-D0C7-438F-B0C3-D9EB2757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3D0-FABD-4370-A408-ECC0224B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5A4-2337-4FEF-8F02-549DDB80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7B4-AE51-4DB6-9DE7-47CC05D7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57D-5621-4447-866D-CA421D55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07A0-66E8-43B5-B46E-80C6EA540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2009060515003459.jpg"/>
          <p:cNvPicPr/>
          <p:nvPr/>
        </p:nvPicPr>
        <p:blipFill>
          <a:blip r:embed="rId1"/>
          <a:stretch/>
        </p:blipFill>
        <p:spPr>
          <a:xfrm>
            <a:off x="17928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1042920" y="292428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伟大的教育家苏霍姆林斯基曾经说过：最难忘的是童年，最富创造力的同样也是童年！今天，让我们走进作者的童年，去体验来自他的童年乐趣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187280" y="1341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导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2009060515050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8200800" y="0"/>
            <a:ext cx="72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比一比，看谁翻译的最快最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14200" y="428760"/>
            <a:ext cx="7286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余忆童稚时，能张目对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明察秋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见藐小之物必细察其纹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故时有物外之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4200" y="12142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我回忆自己年幼的时候，能睁开眼睛直视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285840" y="285768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能够看清最细微的事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85840" y="450072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见到细小的事物一定仔细观察它的纹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285840" y="600084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所以常常能感受超出事物本身的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u=1900882897,4092190547&amp;fm=3&amp;gp=0.jpg"/>
          <p:cNvPicPr/>
          <p:nvPr/>
        </p:nvPicPr>
        <p:blipFill>
          <a:blip r:embed="rId1"/>
          <a:stretch/>
        </p:blipFill>
        <p:spPr>
          <a:xfrm>
            <a:off x="6072120" y="2000160"/>
            <a:ext cx="3071880" cy="4857840"/>
          </a:xfrm>
          <a:prstGeom prst="rect">
            <a:avLst/>
          </a:prstGeom>
          <a:ln w="0">
            <a:noFill/>
          </a:ln>
        </p:spPr>
      </p:pic>
      <p:pic>
        <p:nvPicPr>
          <p:cNvPr id="95" name="矩形 8" descr=""/>
          <p:cNvPicPr/>
          <p:nvPr/>
        </p:nvPicPr>
        <p:blipFill>
          <a:blip r:embed="rId2"/>
          <a:stretch/>
        </p:blipFill>
        <p:spPr>
          <a:xfrm>
            <a:off x="785880" y="378000"/>
            <a:ext cx="1755720" cy="1658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9"/>
          <p:cNvSpPr/>
          <p:nvPr/>
        </p:nvSpPr>
        <p:spPr>
          <a:xfrm>
            <a:off x="785880" y="2357280"/>
            <a:ext cx="542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Calibri"/>
              </a:rPr>
              <a:t>，背诵文章一小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Calibri"/>
              </a:rPr>
              <a:t>，记忆课下注释以及课上所讲字词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Calibri"/>
              </a:rPr>
              <a:t>，用自己的话流利翻译文章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i="1" lang="zh-CN" sz="2800" spc="-1" strike="noStrike">
                <a:solidFill>
                  <a:srgbClr val="000000"/>
                </a:solidFill>
                <a:latin typeface="Calibri"/>
              </a:rPr>
              <a:t>，记忆本文作者基本资料及其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bbd8e9feefe6320b5d60084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500040" y="285840"/>
            <a:ext cx="835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214720" y="2000160"/>
            <a:ext cx="52862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检查背诵一自然段背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复习第一课时所学的字词含义以及句子翻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背诵并翻译文章二，三，四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字词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2" descr="20090605150351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矩形 5" descr=""/>
          <p:cNvPicPr/>
          <p:nvPr/>
        </p:nvPicPr>
        <p:blipFill>
          <a:blip r:embed="rId2"/>
          <a:stretch/>
        </p:blipFill>
        <p:spPr>
          <a:xfrm>
            <a:off x="426960" y="469800"/>
            <a:ext cx="3700440" cy="1176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285840" y="185724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私：                                          素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拟：                                          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于：                                          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心之所向：                             冲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则：                                          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或：                                          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鹤：                                          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之：                                          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项：                                          怡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：                                          称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强：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00080" y="1857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暗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214720" y="307188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心里这么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000080" y="3500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那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071720" y="39290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071720" y="4429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名词作动词，变成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143000" y="4929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代抬头看蚊子这件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1143000" y="53578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脖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1143000" y="5786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1071720" y="61437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通“僵”，僵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5940360" y="18446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未染色的帐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5867280" y="234936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慢慢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5940360" y="27082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5867280" y="314172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穿过烟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5940360" y="350028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比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5867280" y="39337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景象，景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5867280" y="436572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鸟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5724360" y="479736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代“鹤唳云端”的景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5929200" y="522936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安适，愉快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6156360" y="57340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叫好，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1000080" y="228600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9"/>
          <p:cNvSpPr/>
          <p:nvPr/>
        </p:nvSpPr>
        <p:spPr>
          <a:xfrm>
            <a:off x="1000080" y="26431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介词，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2009060515050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8200800" y="0"/>
            <a:ext cx="72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比一比，看谁翻译的最快最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14200" y="428760"/>
            <a:ext cx="72867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57120" y="428760"/>
            <a:ext cx="7358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夏蚊成雷，私拟作群鹤舞于空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心之所向，则或千或百，果然鹤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昂首观之，项为之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57120" y="12142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夏夜，蚊群发出雷鸣般的叫声，（我）暗暗的把它们比作群鹤在空中飞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500040" y="314316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心里这么想，那么有时成千成百的蚊子，果然变成了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57120" y="51436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抬起头观看它们，脖子也因为这样变得僵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2009060515050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7921440" y="285840"/>
            <a:ext cx="72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比一比，看谁翻译的最快最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214200" y="428760"/>
            <a:ext cx="72867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00040" y="714240"/>
            <a:ext cx="7072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又留蚊于素帐中，徐喷以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之冲烟而飞鸣，作青云白鹤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果如鹤唳云端，为之怡然称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71680" y="142884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又留几只蚊子在白色帐子里，慢慢地用烟喷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642960" y="335772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让它们穿过烟雾边飞边鸣叫，比作青云白鹤的景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00040" y="514368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（那些蚊子）果然如同白鹤在云端鸣叫，那种愉快的心情让人拍手称赞，痛快极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2" descr="20090605150351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矩形 5" descr=""/>
          <p:cNvPicPr/>
          <p:nvPr/>
        </p:nvPicPr>
        <p:blipFill>
          <a:blip r:embed="rId2"/>
          <a:stretch/>
        </p:blipFill>
        <p:spPr>
          <a:xfrm>
            <a:off x="426960" y="469800"/>
            <a:ext cx="3700440" cy="1176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285840" y="18572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57120" y="200016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处：                                        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定神：                                    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视：                                    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                        呀然一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砾：                                         神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壑：                                         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浓：                                         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庞然大物：                            别院：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拔山倒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1500120" y="20001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1500120" y="24289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聚精会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500120" y="285768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仔细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2627280" y="3357720"/>
            <a:ext cx="30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把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当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1143000" y="37148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碎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1143000" y="41432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山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1000080" y="45720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兴趣浓厚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2071800" y="50007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庞大的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6"/>
          <p:cNvSpPr/>
          <p:nvPr/>
        </p:nvSpPr>
        <p:spPr>
          <a:xfrm>
            <a:off x="2143080" y="542916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拔倒山，踩倒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7"/>
          <p:cNvSpPr/>
          <p:nvPr/>
        </p:nvSpPr>
        <p:spPr>
          <a:xfrm>
            <a:off x="1071720" y="585792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表原因，原来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8"/>
          <p:cNvSpPr/>
          <p:nvPr/>
        </p:nvSpPr>
        <p:spPr>
          <a:xfrm>
            <a:off x="5580000" y="20606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全，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0"/>
          <p:cNvSpPr/>
          <p:nvPr/>
        </p:nvSpPr>
        <p:spPr>
          <a:xfrm>
            <a:off x="5580000" y="24922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介词，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5580000" y="285264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正、正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2"/>
          <p:cNvSpPr/>
          <p:nvPr/>
        </p:nvSpPr>
        <p:spPr>
          <a:xfrm>
            <a:off x="6715080" y="3284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大吃一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3"/>
          <p:cNvSpPr/>
          <p:nvPr/>
        </p:nvSpPr>
        <p:spPr>
          <a:xfrm>
            <a:off x="6012000" y="37162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神情安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5508720" y="41497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名词作动词，用鞭子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5"/>
          <p:cNvSpPr/>
          <p:nvPr/>
        </p:nvSpPr>
        <p:spPr>
          <a:xfrm>
            <a:off x="5651640" y="458136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5867280" y="5013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除这个院子以外的其他的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2009060515050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8200800" y="0"/>
            <a:ext cx="72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比一比，看谁翻译的最快最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0" y="35712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余常于土墙凹凸处，花台小草丛杂处，蹲其身，使与台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神细视，以丛草为林，以虫蚁为兽，以土砾凸者为丘，凹者为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神游其中，怡然自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14200" y="12859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我常常在土墙高低不平的地方，花台旁小草丛生的地方，蹲下身来，让身体和花台一般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14200" y="378612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聚精会神仔细观察，把草丛当作树林，把虫蚁当作野兽，把土块碎石凸起的地方当作山丘，低洼的地方当作山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0" y="5657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我凭借假象）游动在这个境界中，愉快而又满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" descr="2009060515050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8200800" y="0"/>
            <a:ext cx="72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比一比，看谁翻译的最快最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0" y="357120"/>
            <a:ext cx="8072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日，见二虫斗草间，观之，兴正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忽有庞然大物，拔山倒树而来，盖一癞蛤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舌一吐而二虫尽为所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71280" y="114300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一天，看见两只虫在草间争斗，仔细观察它们，兴味正浓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0" y="3786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忽然有一个庞大的东西，拔倒山踩倒树而来，原来是一只癞蛤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0" y="5929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舌头一吐，两只小虫全都被它吃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2009060515050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"/>
          <p:cNvSpPr/>
          <p:nvPr/>
        </p:nvSpPr>
        <p:spPr>
          <a:xfrm>
            <a:off x="8200800" y="0"/>
            <a:ext cx="72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比一比，看谁翻译的最快最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214200" y="92880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余年幼，方出神，不觉呀然一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神定，捉蛤蟆，鞭数十，驱之别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214200" y="171468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我那时年纪很小，正看得出神，不觉大吃一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0" y="442908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神情安定下来，捉住蛤蟆，用鞭子打了数十下，把它赶到别的院子里去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 rot="5400000">
            <a:off x="221040" y="1921320"/>
            <a:ext cx="3024000" cy="175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-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ff3399"/>
                    </a:gs>
                  </a:gsLst>
                  <a:lin ang="162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童趣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ff3399"/>
                  </a:gs>
                </a:gsLst>
                <a:lin ang="162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714240" y="500076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2060"/>
                </a:solidFill>
                <a:latin typeface="Calibri"/>
              </a:rPr>
              <a:t>作者：沈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714240" y="58579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制作人：晨光中学许培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422a3cfa261ef5b39f51465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642960" y="928800"/>
            <a:ext cx="692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字词归纳整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642960" y="207180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古今异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文言虚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1428840" y="507204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项为之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强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：强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通“僵”，僵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u=1123490094,3726214907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>
            <a:off x="285840" y="285840"/>
            <a:ext cx="40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古今异义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214200" y="1357200"/>
            <a:ext cx="3643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忆童稚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癞蛤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方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出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3714840" y="12142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古：第一人称代词“我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今：剩余，多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3786120" y="2857680"/>
            <a:ext cx="535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古：表原因，“原来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今：（动词）建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名词）器皿上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有遮盖作用的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3929040" y="507204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古：正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今：地方、方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u=1123490094,3726214907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285840" y="21420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一词多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285840" y="1500120"/>
            <a:ext cx="1214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1428840" y="1285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作青云白鹤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观之，兴正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1428840" y="271476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余忆童稚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故时有物外之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357200" y="400068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徐喷以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以虫蚁为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1285920" y="5103720"/>
            <a:ext cx="471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之怡然称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以丛草为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二虫尽为所吞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5076720" y="13413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景观，景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5143680" y="27147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时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时常，常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5143680" y="400068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介词，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介词，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5143680" y="5000760"/>
            <a:ext cx="378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介词，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动词，当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介词，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" descr="u=1123490094,3726214907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285840" y="500040"/>
            <a:ext cx="51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词类活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285840" y="2000160"/>
            <a:ext cx="271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果然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鹤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鞭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数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000240" y="192888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名词做动词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变成白鹤”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3000240" y="4643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名词做动词，用鞭子打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" descr="u=1123490094,3726214907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285840" y="500040"/>
            <a:ext cx="56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文言虚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14200" y="3071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071720" y="1714680"/>
            <a:ext cx="3357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物外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所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昂首观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项为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冲烟而飞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怡然称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观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驱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别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3000240" y="171468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助词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3000240" y="22147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主谓之间，无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3000240" y="264312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代词，代“蚊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3000240" y="314316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代词，代“昂首观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4143240" y="364320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代词，代蚊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"/>
          <p:cNvSpPr/>
          <p:nvPr/>
        </p:nvSpPr>
        <p:spPr>
          <a:xfrm>
            <a:off x="3714840" y="414324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代词，代“鹤唳云端”的景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"/>
          <p:cNvSpPr/>
          <p:nvPr/>
        </p:nvSpPr>
        <p:spPr>
          <a:xfrm>
            <a:off x="2286000" y="46432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代词，代“两虫斗草间”的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3000240" y="514368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代词，代“癞蛤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u=1123490094,3726214907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285840" y="500040"/>
            <a:ext cx="56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文言虚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28760" y="200016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1714680" y="1500120"/>
            <a:ext cx="421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舞于空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留蚊于素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余常于土墙凹凸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5651640" y="191628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介词，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428760" y="407196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928880" y="350028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细察其纹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蹲其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神游其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5500800" y="33577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代词，它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5500800" y="4000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代词，自己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5572080" y="45720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代词，代指想象中的山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" descr="u=156827390,3061899785&amp;fm=3&amp;gp=0.jpg"/>
          <p:cNvPicPr/>
          <p:nvPr/>
        </p:nvPicPr>
        <p:blipFill>
          <a:blip r:embed="rId1"/>
          <a:stretch/>
        </p:blipFill>
        <p:spPr>
          <a:xfrm>
            <a:off x="0" y="2571840"/>
            <a:ext cx="3429000" cy="4286160"/>
          </a:xfrm>
          <a:prstGeom prst="rect">
            <a:avLst/>
          </a:prstGeom>
          <a:ln w="0">
            <a:noFill/>
          </a:ln>
        </p:spPr>
      </p:pic>
      <p:pic>
        <p:nvPicPr>
          <p:cNvPr id="226" name="矩形 2" descr=""/>
          <p:cNvPicPr/>
          <p:nvPr/>
        </p:nvPicPr>
        <p:blipFill>
          <a:blip r:embed="rId2"/>
          <a:stretch/>
        </p:blipFill>
        <p:spPr>
          <a:xfrm>
            <a:off x="1828800" y="554040"/>
            <a:ext cx="2335320" cy="11826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3643200" y="2500200"/>
            <a:ext cx="500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zh-CN" sz="3200" spc="-1" strike="noStrike">
                <a:solidFill>
                  <a:srgbClr val="000000"/>
                </a:solidFill>
                <a:latin typeface="Calibri"/>
              </a:rPr>
              <a:t>，背诵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Calibri"/>
              </a:rPr>
              <a:t>，记忆本课所学生字词，正确流利翻译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zh-CN" sz="3200" spc="-1" strike="noStrike">
                <a:solidFill>
                  <a:srgbClr val="000000"/>
                </a:solidFill>
                <a:latin typeface="Calibri"/>
              </a:rPr>
              <a:t>，正确掌握词语归纳整理里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bbd8e9feefe6320b5d60084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1071720" y="3571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第四课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2143080" y="2000160"/>
            <a:ext cx="54291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复习上三堂课所学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理解文章叙事顺序，了解各层大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理解只有善于观察，善于联想想象，才能有物外之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" descr="20090605150351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6682680" y="2214720"/>
            <a:ext cx="21913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Calibri"/>
              </a:rPr>
              <a:t>探究文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00040" y="78588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文章围绕什么来回忆了童年趣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作者一共回忆了几件童年趣事？用简洁的语言概括这三件趣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由以上两题得知，开头一段在文中起什么作用？（全文按照什么顺序来写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这三件趣事，你最喜欢哪一个？用自己的话说说作者是如何想像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这三件趣事能否调换位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2"/>
          <p:cNvSpPr/>
          <p:nvPr/>
        </p:nvSpPr>
        <p:spPr>
          <a:xfrm>
            <a:off x="3857760" y="85716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物外之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3857760" y="178596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观蚊成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3929040" y="2786040"/>
            <a:ext cx="35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神游“山林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4000680" y="378612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鞭打虾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左大括号 9"/>
          <p:cNvSpPr/>
          <p:nvPr/>
        </p:nvSpPr>
        <p:spPr>
          <a:xfrm>
            <a:off x="3214800" y="1928880"/>
            <a:ext cx="642960" cy="2714400"/>
          </a:xfrm>
          <a:custGeom>
            <a:avLst/>
            <a:gdLst>
              <a:gd name="textAreaLeft" fmla="*/ 410760 w 642960"/>
              <a:gd name="textAreaRight" fmla="*/ 642960 w 642960"/>
              <a:gd name="textAreaTop" fmla="*/ 47880 h 2714400"/>
              <a:gd name="textAreaBottom" fmla="*/ 2666520 h 27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9"/>
                  <a:pt x="10800" y="1218"/>
                </a:cubicBezTo>
                <a:lnTo>
                  <a:pt x="10800" y="9200"/>
                </a:lnTo>
                <a:cubicBezTo>
                  <a:pt x="10800" y="9809"/>
                  <a:pt x="5400" y="10418"/>
                  <a:pt x="0" y="10418"/>
                </a:cubicBezTo>
                <a:cubicBezTo>
                  <a:pt x="5400" y="10418"/>
                  <a:pt x="10800" y="11027"/>
                  <a:pt x="10800" y="11636"/>
                </a:cubicBezTo>
                <a:lnTo>
                  <a:pt x="10800" y="20382"/>
                </a:lnTo>
                <a:cubicBezTo>
                  <a:pt x="10800" y="209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285840" y="10000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，总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0" y="2857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-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，分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5286240" y="55008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容占位符 3" descr="bbd8e9feefe6320b5d60084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143080" y="2000160"/>
            <a:ext cx="5500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Calibri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了解作者及其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识记本课生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准确的划出语音停顿，节奏分明的朗读并背诵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自主学习，通过对字词的理解翻译文章一，小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1" descr="u=1123490094,3726214907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214200" y="78588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三件趣事能否调换位置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285840" y="200016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不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，这三件趣事的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写作顺序是由室内到室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，三件趣事在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程度上是逐步加深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的，由把夏蚊拟作群鹤，到把草木、虫  蚊、土墙凹凸处拟作“林、兽、丘、壑”，再到癞虾蟆与小虫在其中的生死之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1" descr="u=1123490094,3726214907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357120" y="142920"/>
            <a:ext cx="392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Calibri"/>
              </a:rPr>
              <a:t>能力提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357120" y="1143000"/>
            <a:ext cx="821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“物外之趣”是怎样产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怎样做才算是一个有情趣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读了此文，你得到了哪些启示？你有什么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本文语言生动，写出了童真童趣，你能告诉我文章通过哪些修辞来表现出这种童真童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文中还有许多词语大多作为成语保留在现代汉语中，找出来，并解释它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思  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43000" y="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者是 怎样获得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物外之趣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5"/>
          <p:cNvGrpSpPr/>
          <p:nvPr/>
        </p:nvGrpSpPr>
        <p:grpSpPr>
          <a:xfrm>
            <a:off x="609480" y="1000080"/>
            <a:ext cx="7543440" cy="4928760"/>
            <a:chOff x="609480" y="1000080"/>
            <a:chExt cx="7543440" cy="4928760"/>
          </a:xfrm>
        </p:grpSpPr>
        <p:sp>
          <p:nvSpPr>
            <p:cNvPr id="251" name="WordArt 6"/>
            <p:cNvSpPr txBox="1"/>
            <p:nvPr/>
          </p:nvSpPr>
          <p:spPr>
            <a:xfrm>
              <a:off x="1006560" y="1000080"/>
              <a:ext cx="1587960" cy="12855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+mn-ea"/>
                </a:rPr>
                <a:t>观察</a:t>
              </a:r>
              <a:endPara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ea"/>
                <a:ea typeface="+mn-ea"/>
              </a:endParaRPr>
            </a:p>
          </p:txBody>
        </p:sp>
        <p:sp>
          <p:nvSpPr>
            <p:cNvPr id="252" name="WordArt 7"/>
            <p:cNvSpPr txBox="1"/>
            <p:nvPr/>
          </p:nvSpPr>
          <p:spPr>
            <a:xfrm>
              <a:off x="1602000" y="3893040"/>
              <a:ext cx="3771360" cy="10713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+mn-ea"/>
                </a:rPr>
                <a:t>联想、想象</a:t>
              </a:r>
              <a:endPara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ea"/>
                <a:ea typeface="+mn-ea"/>
              </a:endParaRPr>
            </a:p>
          </p:txBody>
        </p:sp>
        <p:sp>
          <p:nvSpPr>
            <p:cNvPr id="253" name="AutoShape 8"/>
            <p:cNvSpPr/>
            <p:nvPr/>
          </p:nvSpPr>
          <p:spPr>
            <a:xfrm>
              <a:off x="609480" y="2178360"/>
              <a:ext cx="595440" cy="2464560"/>
            </a:xfrm>
            <a:custGeom>
              <a:avLst/>
              <a:gdLst>
                <a:gd name="textAreaLeft" fmla="*/ 79560 w 595440"/>
                <a:gd name="textAreaRight" fmla="*/ 515880 w 595440"/>
                <a:gd name="textAreaTop" fmla="*/ 461880 h 2464560"/>
                <a:gd name="textAreaBottom" fmla="*/ 1854720 h 246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00" stAng="-5400000" swAng="-5400000"/>
                  <a:lnTo>
                    <a:pt x="0" y="12204"/>
                  </a:lnTo>
                  <a:arcTo wR="21600" hR="8100" stAng="10800000" swAng="-2801169"/>
                  <a:lnTo>
                    <a:pt x="14400" y="21137"/>
                  </a:lnTo>
                  <a:lnTo>
                    <a:pt x="21600" y="18252"/>
                  </a:lnTo>
                  <a:lnTo>
                    <a:pt x="14400" y="14441"/>
                  </a:lnTo>
                  <a:lnTo>
                    <a:pt x="14400" y="15737"/>
                  </a:lnTo>
                  <a:arcTo wR="21600" hR="8100" stAng="7998831" swAng="2464649"/>
                  <a:lnTo>
                    <a:pt x="705" y="10152"/>
                  </a:lnTo>
                  <a:arcTo wR="21600" hR="8100" stAng="-10463480" swAng="5063480"/>
                  <a:close/>
                </a:path>
                <a:path fill="darkenLess" w="21600" h="21600">
                  <a:moveTo>
                    <a:pt x="21600" y="0"/>
                  </a:moveTo>
                  <a:arcTo wR="21600" hR="8100" stAng="-5400000" swAng="-5400000"/>
                  <a:lnTo>
                    <a:pt x="0" y="8100"/>
                  </a:lnTo>
                  <a:arcTo wR="21600" hR="8100" stAng="10800000" swAng="-336520"/>
                  <a:lnTo>
                    <a:pt x="705" y="10152"/>
                  </a:lnTo>
                  <a:arcTo wR="21600" hR="8100" stAng="-10463480" swAng="5063480"/>
                  <a:close/>
                </a:path>
              </a:pathLst>
            </a:cu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>
              <a:off x="5373720" y="4428360"/>
              <a:ext cx="1389600" cy="428760"/>
            </a:xfrm>
            <a:prstGeom prst="rightArrow">
              <a:avLst>
                <a:gd name="adj1" fmla="val 50000"/>
                <a:gd name="adj2" fmla="val 81024"/>
              </a:avLst>
            </a:prstGeom>
            <a:solidFill>
              <a:srgbClr val="bbe0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WordArt 10"/>
            <p:cNvSpPr txBox="1"/>
            <p:nvPr/>
          </p:nvSpPr>
          <p:spPr>
            <a:xfrm rot="5400000">
              <a:off x="5307120" y="3083400"/>
              <a:ext cx="4500000" cy="1190880"/>
            </a:xfrm>
            <a:prstGeom prst="rect">
              <a:avLst/>
            </a:prstGeom>
          </p:spPr>
          <p:txBody>
            <a:bodyPr wrap="none" lIns="90000" rIns="90000" tIns="46800" bIns="46800" anchor="b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162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+mn-ea"/>
                </a:rPr>
                <a:t>物外之趣</a:t>
              </a:r>
              <a:endPara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+mn-ea"/>
                <a:ea typeface="+mn-ea"/>
              </a:endParaRPr>
            </a:p>
          </p:txBody>
        </p:sp>
      </p:grpSp>
      <p:sp>
        <p:nvSpPr>
          <p:cNvPr id="256" name="Rectangle 11"/>
          <p:cNvSpPr/>
          <p:nvPr/>
        </p:nvSpPr>
        <p:spPr>
          <a:xfrm>
            <a:off x="609480" y="50007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2714760" y="14288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明察，细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3714840" y="59292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2"/>
          <p:cNvSpPr/>
          <p:nvPr/>
        </p:nvSpPr>
        <p:spPr>
          <a:xfrm>
            <a:off x="571680" y="92880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认真，细致的观察周围的事物。做到“明察”“细察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热爱自然，热爱生活，对新鲜事物充满好奇心，以一颗天真烂漫的童心来细致观察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善于运用联想和想象。联想和想像是创新的基础。我们要保持青少年特有的好奇心和富于幻想的特点，勇于实践，做一个敢想敢做，勇于开拓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6143760" y="5857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1df3e8c4dede3c8d9d163d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"/>
          <p:cNvSpPr/>
          <p:nvPr/>
        </p:nvSpPr>
        <p:spPr>
          <a:xfrm>
            <a:off x="2086200" y="928800"/>
            <a:ext cx="12776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启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4429080" y="1214280"/>
            <a:ext cx="4214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热爱动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热爱自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善于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观察敏锐细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善于联想想象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143760" y="55008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428760" y="178596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蚊成雷”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夸张，比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。既照应了前文，又为下文做铺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以丛草为林，以虫蚁为兽，以土砾凸者为丘，凹者为壑”“癞虾蟆”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夸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6572160" y="59292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285840" y="571680"/>
            <a:ext cx="82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明察秋毫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原形容目光敏锐，任何细小的事物都能看得很清楚。后多形容人能洞察事理，任何小问题都看得很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怡然称快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高兴得连声叫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庞然大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指高大笨重的东西。现在也用来形容表面上很强大但实际上很虚弱的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,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夏蚊成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夏天的蚊子叫声如同打雷。夸张的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怡然自得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形容安适愉快而满足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1" descr="422a3cfa261ef5b39f51465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矩形 2" descr=""/>
          <p:cNvPicPr/>
          <p:nvPr/>
        </p:nvPicPr>
        <p:blipFill>
          <a:blip r:embed="rId2"/>
          <a:stretch/>
        </p:blipFill>
        <p:spPr>
          <a:xfrm>
            <a:off x="493560" y="542880"/>
            <a:ext cx="2249640" cy="16876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3"/>
          <p:cNvSpPr/>
          <p:nvPr/>
        </p:nvSpPr>
        <p:spPr>
          <a:xfrm>
            <a:off x="1143000" y="2428920"/>
            <a:ext cx="692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文中最后说到：“捉虾蟆，鞭数十，驱之别院”，你如何来理解这句话？作者真的是用鞭子来打吗？这表现了作者什么样的性格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285840" y="428760"/>
            <a:ext cx="48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当堂检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214200" y="1214280"/>
            <a:ext cx="8358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，解释下列句子中红色字体的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明察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秋毫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徐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喷以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故时有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物外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之趣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果如鹤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唳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云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作群鹤舞于空中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以土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砾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凸者为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果然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鹤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也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怡然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称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为之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盖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癞虾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286160" y="2071800"/>
            <a:ext cx="46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题一分，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0" y="214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，解释下列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857160" y="1285920"/>
            <a:ext cx="7858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青云白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怡然称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，兴正浓           以丛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虫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余忆童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物外之趣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游其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徐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虫蚁为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0" y="15717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0" y="32860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0" y="5429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4286160" y="185724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4429080" y="428616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6200" y="4287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题一分，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内容占位符 3" descr="1df3e8c4dede3c8d9d163d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547280" y="928800"/>
            <a:ext cx="18262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基础知识链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714920" y="1785960"/>
            <a:ext cx="3571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作者基本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何为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浮生六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本文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357120" y="785880"/>
            <a:ext cx="8215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，翻译下列句子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余忆童稚时，能张目对日，明察秋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见藐小之物必细察其纹理，故时有物外之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夏蚊成雷，私拟作群鹤舞于空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昂首观之，项为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以丛草为林，以虫蚁为兽，以土砾凸者为    丘，凹者为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盖一癞虾蟆，舌一吐而二虫尽为所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神定，捉虾蟆，鞭数十，驱之别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4572000" y="6429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题两分，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214200" y="500040"/>
            <a:ext cx="821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四，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本文作者是（  ），（  ）代散文家，字（ ），代表作是（），这是一部（ ）体的散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本文节选自（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作者童稚时，时有物外之趣，关键原因是（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作者在文中描述了三件趣事，分别是（        ），（        ），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能够体现本文主旨的词语是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2071800" y="4287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空一分，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285840" y="50004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第三段中“林”“兽”“丘”“壑”俱全的一妙境，完全源于作者敏锐的童心，它们分别指的是（    ），（    ），（     ），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文中的“庞然大物”指的是（       ），所拔的“山”指的是（       ），所倒的“树”指的是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我对癞虾蟆一点都不害怕，这从文中第四段中三个动词可以看出来，分别是（   ）（   ）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文中出现了许多沿用至今的现代成语，请写出三个，即（   ）（  ）（  ），并从这三个成语中任意选择一个解释其含义，即（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428760" y="428760"/>
            <a:ext cx="8286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，用原文中的句子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表现作者观察本领高超的句子是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表现作者观察习惯的句子是（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体现出作者观察收获的句子是（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运用夸张和比喻写蚊子叫声的是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写观蚊子之后感受的句子是（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，默写古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浣溪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雨寄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书有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故人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破山寺后禅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5072040" y="2858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题两分，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3571920" y="34290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题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，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214200" y="428760"/>
            <a:ext cx="32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答案公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357120" y="1285920"/>
            <a:ext cx="842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，解释下列字词含义（一题一分，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比喻最细微的事物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慢慢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超出事物本身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鸟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暗暗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碎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变成鹤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安适愉快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脖子，通“僵”，僵硬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原来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，解释一词多义（一题一分，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观：景观、景象，             观看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时：时候，                        时常、经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：用，                            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为：因为、因此，             当作，                 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神：精神、注意力，          感受、想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357120" y="428760"/>
            <a:ext cx="8286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，翻译句子（一题两分，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回忆小的时候，能睁开眼睛直视太阳，能够看清最细微的事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见到细小的事物一定仔细观察它的纹理，所以时常有超出事物本身的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夏天的蚊子叫声如同打雷，我暗暗的比作群鹤在空中飞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抬起头观看蚊子，脖子也因此变得僵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把丛草当作树林，把虫蚁当作野兽，把土块碎石凸出来的地方当作山丘，凹下去的地方当作山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原来是一只癞虾蟆，舌头一吐两只小虫全都被它吃掉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神情安定下来，捉住虾蟆，鞭打数十下，把它赶到其他的院子里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285840" y="500040"/>
            <a:ext cx="8429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，填空（一空一分，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沈复，清，三白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浮生六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自传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浮生六记   闲情记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明察秋毫，见藐小之物必细察其纹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观蚊成鹤，神游山林，鞭打虾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物外之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丛草，虫蚊，土砾凸者，土砾凹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癞虾蟆，土砾凸者，丛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捉，鞭，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明察秋毫，怡然自得，庞然大物，解释含义对照书本课后习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357120" y="428760"/>
            <a:ext cx="828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，用原文填空（一空两分，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能张目对日，明察秋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见藐小之物必细察其纹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故时有物外之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夏蚊成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为之怡然称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，参照课文进行批改，一题五分，一首诗中错一个字即全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2" descr="psbCAOO204H.jpg"/>
          <p:cNvPicPr/>
          <p:nvPr/>
        </p:nvPicPr>
        <p:blipFill>
          <a:blip r:embed="rId1"/>
          <a:stretch/>
        </p:blipFill>
        <p:spPr>
          <a:xfrm>
            <a:off x="0" y="2571840"/>
            <a:ext cx="2928960" cy="4286160"/>
          </a:xfrm>
          <a:prstGeom prst="rect">
            <a:avLst/>
          </a:prstGeom>
          <a:ln w="0">
            <a:noFill/>
          </a:ln>
        </p:spPr>
      </p:pic>
      <p:pic>
        <p:nvPicPr>
          <p:cNvPr id="296" name="矩形 4" descr=""/>
          <p:cNvPicPr/>
          <p:nvPr/>
        </p:nvPicPr>
        <p:blipFill>
          <a:blip r:embed="rId2"/>
          <a:stretch/>
        </p:blipFill>
        <p:spPr>
          <a:xfrm>
            <a:off x="-378000" y="633240"/>
            <a:ext cx="4291200" cy="21830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5"/>
          <p:cNvSpPr/>
          <p:nvPr/>
        </p:nvSpPr>
        <p:spPr>
          <a:xfrm>
            <a:off x="7711920" y="214200"/>
            <a:ext cx="10033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假期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3214800" y="0"/>
            <a:ext cx="4214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础训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导学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导学测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均将第五课写完，回来后检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练字本依然是一天一张，回来后检查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成语接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栩栩如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龙活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虎虎生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后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成语或俗语，并从中选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加以解释并造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凡是默写有错误的地方，错一处，抄题目并改十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8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053" descr="shenfu"/>
          <p:cNvPicPr/>
          <p:nvPr/>
        </p:nvPicPr>
        <p:blipFill>
          <a:blip r:embed="rId1"/>
          <a:stretch/>
        </p:blipFill>
        <p:spPr>
          <a:xfrm>
            <a:off x="0" y="0"/>
            <a:ext cx="37814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056"/>
          <p:cNvSpPr/>
          <p:nvPr/>
        </p:nvSpPr>
        <p:spPr>
          <a:xfrm>
            <a:off x="3929040" y="2142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Calibri"/>
                <a:ea typeface="隶书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57"/>
          <p:cNvSpPr/>
          <p:nvPr/>
        </p:nvSpPr>
        <p:spPr>
          <a:xfrm>
            <a:off x="4214880" y="1428840"/>
            <a:ext cx="450036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沈复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76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中国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清代散文家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。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三白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，号梅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江苏苏州人。工诗画、散文。一生为幕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书面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" name="Rectangle 2"/>
          <p:cNvSpPr/>
          <p:nvPr/>
        </p:nvSpPr>
        <p:spPr>
          <a:xfrm>
            <a:off x="0" y="21420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  <a:ea typeface="黑体"/>
              </a:rPr>
              <a:t>《</a:t>
            </a:r>
            <a:r>
              <a:rPr b="1" lang="zh-CN" sz="5400" spc="-1" strike="noStrike">
                <a:solidFill>
                  <a:srgbClr val="333399"/>
                </a:solidFill>
                <a:latin typeface="Calibri"/>
                <a:ea typeface="黑体"/>
              </a:rPr>
              <a:t>浮生六记</a:t>
            </a:r>
            <a:r>
              <a:rPr b="1" lang="en-US" sz="5400" spc="-1" strike="noStrike">
                <a:solidFill>
                  <a:srgbClr val="333399"/>
                </a:solidFill>
                <a:latin typeface="Calibri"/>
                <a:ea typeface="黑体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57120" y="178596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一部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自传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作品。记叙了他与妻子陈芸志趣投合，情感深厚，愿意过一种布衣素食而从事艺术的生活。因封建礼教的压迫和贫苦生活的磨难，理想终未实现，经历了生离死别的惨痛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浮生六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共六卷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闺房记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闲情记趣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坎坷记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浪游记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中山记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养生记道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。有英、法、德、俄等多种译本。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童趣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》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节选自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浮生六记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•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闲情记趣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》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0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60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封面1"/>
          <p:cNvPicPr/>
          <p:nvPr/>
        </p:nvPicPr>
        <p:blipFill>
          <a:blip r:embed="rId2"/>
          <a:stretch/>
        </p:blipFill>
        <p:spPr>
          <a:xfrm>
            <a:off x="6858000" y="714240"/>
            <a:ext cx="1859040" cy="2743200"/>
          </a:xfrm>
          <a:prstGeom prst="rect">
            <a:avLst/>
          </a:prstGeom>
          <a:ln w="22320">
            <a:solidFill>
              <a:srgbClr val="cc6600"/>
            </a:solidFill>
            <a:miter/>
          </a:ln>
        </p:spPr>
      </p:pic>
      <p:pic>
        <p:nvPicPr>
          <p:cNvPr id="64" name="Picture 9" descr="书面"/>
          <p:cNvPicPr/>
          <p:nvPr/>
        </p:nvPicPr>
        <p:blipFill>
          <a:blip r:embed="rId3"/>
          <a:stretch/>
        </p:blipFill>
        <p:spPr>
          <a:xfrm>
            <a:off x="6858000" y="4000680"/>
            <a:ext cx="1920960" cy="2666880"/>
          </a:xfrm>
          <a:prstGeom prst="rect">
            <a:avLst/>
          </a:prstGeom>
          <a:ln w="22320">
            <a:solidFill>
              <a:srgbClr val="cc6600"/>
            </a:solidFill>
            <a:miter/>
          </a:ln>
        </p:spPr>
      </p:pic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57120" y="50004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朗读感“趣”  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85840" y="1357200"/>
            <a:ext cx="342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项为之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鹤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唳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云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凹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土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癞虾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714840" y="142884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3643200" y="21430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643200" y="27860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643200" y="3571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643200" y="43578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3714840" y="50720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ài 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u=1123490094,3726214907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14200" y="21420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余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忆童稚时，能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张目对日，明察秋毫，见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藐小之物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必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察其纹理，故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时有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物外之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夏蚊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雷，私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拟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群鹤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舞于空中，心之所向，则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或千或百，果然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鹤也；昂首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观之，项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之强。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留蚊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于素帐中，徐喷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烟，使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冲烟而飞鸣，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青云白鹤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观，果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鹤唳云端，为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怡然称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余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常于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土墙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凹凸处，花台小草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丛杂处，蹲其身，使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台齐；定神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视，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丛草为林，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虫蚁为兽，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土砾凸者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丘，凹者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壑，神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其中，怡然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自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一日，见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二虫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斗草间，观之，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正浓，忽有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庞然大物，拔山倒树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而来，盖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一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癞虾蟆，舌一吐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而二虫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尽为所吞。余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年幼，方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出神，不觉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呀然一惊。神定，捉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虾蟆，鞭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数十，驱之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别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20090605150351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矩形 5" descr=""/>
          <p:cNvPicPr/>
          <p:nvPr/>
        </p:nvPicPr>
        <p:blipFill>
          <a:blip r:embed="rId2"/>
          <a:stretch/>
        </p:blipFill>
        <p:spPr>
          <a:xfrm>
            <a:off x="212760" y="469800"/>
            <a:ext cx="370044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357120" y="2000160"/>
            <a:ext cx="242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张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秋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纹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物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929040" y="192888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3929040" y="242892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幼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3929040" y="285768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睁开眼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3929040" y="32860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比喻最细微的事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3929040" y="371484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小而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3929040" y="41432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857760" y="45007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物体身上的花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3857760" y="500076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3929040" y="5429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超出事物本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5:30:46Z</dcterms:created>
  <dc:creator>USER</dc:creator>
  <dc:description/>
  <dc:language>en-US</dc:language>
  <cp:lastModifiedBy>微软用户</cp:lastModifiedBy>
  <dcterms:modified xsi:type="dcterms:W3CDTF">2012-09-28T22:31:15Z</dcterms:modified>
  <cp:revision>23</cp:revision>
  <dc:subject/>
  <dc:title>幻灯片 1</dc:title>
</cp:coreProperties>
</file>