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3294-92A5-46E1-85C7-79A54363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EB5-4DFE-4BD7-99BD-D755D0BF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19E-16B4-4011-97C8-64F47F58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A415-746F-486E-9662-617E5344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33E-3FE1-411F-A802-6F9C8212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D383-5B4E-443F-8406-CC43D55E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25C-E369-4B20-AE3C-EB6B1C5A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8E7F-8509-4945-9750-68925088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242-6A2E-4263-819F-F9BBF3AD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2AA-002D-4E0C-959E-DAC6213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4DE-96CF-4C05-B43A-9AAEB9C2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776-C05D-42F6-918A-74260E0C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C572-22DB-469C-902F-4AC1BACBEC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35640" y="3573360"/>
            <a:ext cx="4608360" cy="3284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413160"/>
            <a:ext cx="4500720" cy="344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30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92360" y="2349360"/>
            <a:ext cx="63370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童年的水墨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4680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华文行楷"/>
                <a:ea typeface="华文行楷"/>
              </a:rPr>
              <a:t>树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春天的树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花儿们选美的舞台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夏天的树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蝉儿们唱歌的教室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秋天的树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水果们睡觉的摇篮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冬天的树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风儿们赛跑的运动场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15937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Arial"/>
                <a:ea typeface="华文行楷"/>
              </a:rPr>
              <a:t>书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把四季的春光，装进书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把宝贵的知识，装进书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把妈妈殷切的希望，装进书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把我的坚定决心，装进书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书包里装着我，一个充满希望的勤奋童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486900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8080"/>
                </a:solidFill>
                <a:latin typeface="Arial"/>
                <a:ea typeface="华文行楷"/>
              </a:rPr>
              <a:t>猴子</a:t>
            </a:r>
            <a:br>
              <a:rPr sz="5400"/>
            </a:br>
            <a:br>
              <a:rPr sz="24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猴子像个顽皮的小丑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整天在树上荡来荡去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会儿拉拉榕树公公的胡子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一会拔掉桃树阿姨的装饰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30268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  <a:ea typeface="华文行楷"/>
              </a:rPr>
              <a:t>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云像一个忙碌的画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在天空中画出一幅又一幅的图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云像一个贪玩的小捣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常常忘了回家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076640"/>
            <a:ext cx="676908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华文行楷"/>
              </a:rPr>
              <a:t>小练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续写：云像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华文楷体"/>
              </a:rPr>
              <a:t>词语释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喧闹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 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水葫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628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喧哗热闹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 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2781360"/>
            <a:ext cx="626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多年生水生草本植物，叶直立卵形或圆形，叶柄中部以下膨大，花呈漏斗状，蓝紫色。诗中的水葫芦加上了引号，不是指真正的水葫芦，而是指水性极好的孩子，与我们通常说的“旱鸭子”是相对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4680000" cy="70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行楷"/>
                <a:ea typeface="华文行楷"/>
              </a:rPr>
              <a:t>街头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不见马路上车辆喧闹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管它街头广播声高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书页在膝盖上轻轻地翻动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嘴角漾着丝丝抹不掉的笑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阳光从脚尖悄悄爬上膝盖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想看“黑旋风”水战“浪里白条”。</a:t>
            </a:r>
            <a:br>
              <a:rPr sz="2400"/>
            </a:br>
            <a:r>
              <a:rPr b="1" lang="zh-CN" sz="2400" spc="-1" strike="noStrike">
                <a:solidFill>
                  <a:srgbClr val="808080"/>
                </a:solidFill>
                <a:latin typeface="华文行楷"/>
                <a:ea typeface="华文行楷"/>
              </a:rPr>
              <a:t>溪边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垂柳把溪水当做梳妆的镜子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山溪像绿玉带一样平静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影给溪水染绿了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钓竿上立着一只红蜻蜓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忽然扑腾一声人影碎了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草地上蹦跳着鱼儿和笑声。</a:t>
            </a:r>
            <a:br>
              <a:rPr sz="2000"/>
            </a:br>
            <a:r>
              <a:rPr b="1" lang="zh-CN" sz="2400" spc="-1" strike="noStrike">
                <a:solidFill>
                  <a:srgbClr val="808080"/>
                </a:solidFill>
                <a:latin typeface="华文行楷"/>
                <a:ea typeface="华文行楷"/>
              </a:rPr>
              <a:t>江上</a:t>
            </a:r>
            <a:br>
              <a:rPr sz="24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像刚下水的鸭群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扇动翅膀拍水戏耍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一双双小手拨动着浪花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你拨我溅笑哈哈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是哪个“水葫芦”一下钻入水中，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出水时只见一阵水花两对虎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620640"/>
            <a:ext cx="122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1c1c1c"/>
                </a:solidFill>
                <a:latin typeface="Arial"/>
                <a:ea typeface="华文行楷"/>
              </a:rPr>
              <a:t>童年的水墨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  <a:ea typeface="华文楷体"/>
              </a:rPr>
              <a:t>在每小节的标题后面加上一个表示动作的词，概括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街头 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溪边（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江上（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7280" y="2133720"/>
            <a:ext cx="130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52280" y="3789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钓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81000" y="5373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戏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77770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华文行楷"/>
                <a:ea typeface="华文行楷"/>
              </a:rPr>
              <a:t>街头</a:t>
            </a: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听不见马路上车辆喧闹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哪管它街头广播声高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书页在膝盖上轻轻地翻动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嘴角漾着丝丝抹不掉的笑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阳光从脚尖悄悄爬上膝盖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想看“黑旋风”水战“浪里白条”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869000"/>
            <a:ext cx="84978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描写了儿童不顾街上的喧闹沉浸在读书的乐趣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63468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华文行楷"/>
                <a:ea typeface="华文行楷"/>
              </a:rPr>
              <a:t>溪边</a:t>
            </a:r>
            <a:br>
              <a:rPr sz="40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垂柳把溪水当做梳妆的镜子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山溪像绿玉带一样平静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影给溪水染绿了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钓竿上立着一只红蜻蜓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忽然扑腾一声人影碎了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草地上蹦跳着鱼儿和笑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869000"/>
            <a:ext cx="72723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描写了孩子在小溪边钓鱼的欢乐场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8515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华文行楷"/>
                <a:ea typeface="华文行楷"/>
              </a:rPr>
              <a:t>江上</a:t>
            </a: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像刚下水的鸭群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扇动翅膀拍水戏耍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一双双小手拨动着浪花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你拨我溅笑哈哈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是哪个“水葫芦”一下钻入水中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出水时只见一阵水花两对虎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724280"/>
            <a:ext cx="6551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描写了调皮可爱的孩子在江上戏水的景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楷体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229600" cy="31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读了《童年的水墨画》这首诗，你看到了怎样的画面？这个画面给你怎样的感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920" y="1197000"/>
            <a:ext cx="4608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是一只狐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聪明有心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从乌鸦嘴里骗肉吃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多么可爱的主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活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谁叫乌鸦爱唱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呱呱呱自我吹嘘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再说肉是他偷的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吃他吃都可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1197000"/>
            <a:ext cx="3889440" cy="49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也许你吃了这块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会变得漂亮无比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尾巴像红红的火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风一样掠过绿草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喜欢你，狐狸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你的狡猾是机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你的欺骗是有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管大人怎么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我，喜欢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25560" y="26028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8080"/>
                </a:solidFill>
                <a:latin typeface="Arial"/>
                <a:ea typeface="华文行楷"/>
              </a:rPr>
              <a:t>我喜欢你，狐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2T11:04:40Z</dcterms:created>
  <dc:creator>Ms</dc:creator>
  <dc:description/>
  <dc:language>en-US</dc:language>
  <cp:lastModifiedBy>Ms</cp:lastModifiedBy>
  <dcterms:modified xsi:type="dcterms:W3CDTF">2016-03-22T14:57:15Z</dcterms:modified>
  <cp:revision>6</cp:revision>
  <dc:subject/>
  <dc:title>幻灯片 1</dc:title>
</cp:coreProperties>
</file>