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B4E-66E0-4A8E-BE3F-B10DA828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13B-8657-466E-AB10-011CD4AC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58D-1454-455F-B606-33194BD1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413-67C9-4AE2-88F5-897E97D1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DCD7-130C-47D5-BC63-9FD203AC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F156-0EB5-4160-96D2-72575D82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F661-4B8F-41BD-8129-D3C78717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FD32-2FCA-4D66-AC7F-8D7A1573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A164-24EA-4455-8811-A32491C7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243A-EACF-450A-996A-1B6ECEB9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14E4-6E83-4F8F-A6C2-3C8B59C5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433-AFEA-416F-BA27-48F9E787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7BD5-514E-46AF-A840-D10D6639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4B6B-4AD6-4DD5-9FE5-E0FE0424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BE5F-CEC0-40D9-A6AF-E377B82B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4552-BC44-4CDE-A61B-FF537A74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C2CE-A25E-48EE-A9C7-38D4FC32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2ED43-3A06-4EB7-98E4-6DEAB2A1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BC40-D06B-4591-A407-0D7239CE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E9EF-BC55-444E-A966-7AB84E06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A604-93BE-40A7-8794-716422C6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9778-9B35-487A-9FCD-215E4AAD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129-E672-4CD3-A50A-42C1E118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E72C-A21A-41B8-ADCC-34295F5A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8FC76-B4CB-401A-A118-5E17C31B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DCE7C-41ED-4DF2-8A44-903F38E6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CFA5-ED27-457E-84C4-99A65F2A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479B-1A7C-4AE6-8C8A-26FC707D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D1E6-4669-4DF8-BD4B-03E87138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54D6-AD94-4CA6-AD06-13B6D317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CC9D3-9FBD-4E62-B53E-E1A5EDCD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AEBB5-5601-4E17-86A8-F85C2904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BE64-DE70-4FFB-84C9-E591C189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F49-5389-447B-AC03-120C5D81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CC501-F83E-42DA-8A55-37F8A1C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E1E1-A4E2-49B4-9AE8-3B20064D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7FDA-0551-442B-A3AF-B4A4013A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A347F-F1A6-4208-A0FC-16F082FF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88195-B9C9-41D6-8949-2B620FD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F88B6-A2E9-4755-A84B-A6A4F37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6086-D495-4903-A3AC-15340D05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6635-7E02-4285-B8E2-24C50F01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CFD6-12D8-41A9-BF2D-5FD4255E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4D7B7-EC39-41DE-8B82-FDD47A80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683-6994-4DAA-9B3F-4AA126A4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758D1-FDE1-42A2-8409-FEAB988B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8C0B5-D1D1-435D-9E6B-6EFA3E77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21F05-8AA1-4D16-8B1F-7B7E3FB4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2B8E2-271A-4664-A23D-5D230CD2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35A6D-1878-4A91-8EBC-66331AFD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C2CF0-3A2E-40A3-87C6-A938866B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0FCC1-038D-4233-9745-88196699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B288-5891-4608-AD04-49878909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90400-2AE3-4684-9080-83DD3AB5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85AA9-5E50-48CB-8071-34EDC06B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F35-0470-4504-A40C-8B8B8D7F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947E-9958-4132-B26D-69BDAD30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D4B00-4EB6-4DB4-9996-7AE2184C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5C8E8-24E0-4B19-BAFC-139AC749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C051-E7E5-4834-9C59-233DA4D4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FFC28-ED60-4943-AE15-2ED32330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5E838-DE52-4918-A7CC-38EB7DFA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02C87-3B59-4F1E-920B-93AAAE77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A7AAD-7092-4237-A716-1C659612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E51A5-4BE0-4954-95CD-5A0A1BB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59570-6001-47FA-8202-2143C8F3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20E-94C0-4F66-8110-895BA5C7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2583E-20F0-4382-B9A6-B23C1D9C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FBA60-E7D8-488B-A839-9E02EC98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33FE-1F2F-488E-91F6-24EF40A3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A94-5D4B-4AB0-869B-50445C2A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A38-3AFF-4311-BF5E-BE0F9FF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F1D7-CDCA-4E8F-B86B-84C77D24A0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0361-4500-4D15-984C-8F6A2F3E4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7200-0FA9-4EB6-AC32-9C39CD92D3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ACDE-5360-4818-8C37-2F060B698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1F70-2B2E-4BCE-A0AF-D0EF71F3160A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5A45-6142-4CF8-9BFF-2C09F3FEFE5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8EB8-BAA1-4669-839C-A00F60755D1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B05E-D1F2-45CC-BD71-C25A90FD2F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036D-F1C5-4A68-BD9C-31B23866DD9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1DCF-BD51-4192-9F36-3CF4AD275A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16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217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220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0402-C802-48E3-9F71-3CFF3FC0EC6B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B3B1-16B6-4B66-80C6-EC4B6F4466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我谈朋友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2616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联系生活实际，谈谈你所理解的</a:t>
            </a:r>
            <a:r>
              <a:rPr b="1" lang="zh-CN" sz="4000" spc="-1" strike="noStrike">
                <a:solidFill>
                  <a:srgbClr val="fa5920"/>
                </a:solidFill>
                <a:latin typeface="Arial"/>
              </a:rPr>
              <a:t>真正</a:t>
            </a:r>
            <a:r>
              <a:rPr b="1" lang="zh-CN" sz="3200" spc="-1" strike="noStrike">
                <a:solidFill>
                  <a:srgbClr val="fa592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fa5920"/>
                </a:solidFill>
                <a:latin typeface="Arial"/>
              </a:rPr>
              <a:t>朋友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619280" y="3933720"/>
            <a:ext cx="2448000" cy="24973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508720" y="1557360"/>
            <a:ext cx="2808360" cy="2303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79D45-102A-459D-AA57-C590EBDA00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祖母应该是“我”的长辈，为什么说是“最知心”、“最珍贵”的朋友？哪些地方体现出外祖母的爱？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911240"/>
            <a:ext cx="85406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8000" y="11970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因为她不仅善良，有爱心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还把我领到光明的地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给了我关怀，给了我生活的勇气和力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960" y="2565360"/>
            <a:ext cx="871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①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外祖母坐在我身旁抬梳头……老是自言自语地咕哝”可见祖孙关系密切，是“我”最了解的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因其密切，“我”对外祖母的一颦一笑都了如指掌，从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两段由粗到细的外貌描写中可见一斑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③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因其密切，外祖母总是用“温暖而柔和”的腔调与“我”对话，她也因此而成为我“最知心”的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④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当“我”孤独无助时，外祖母出现了，她仿佛是一盏明灯，给我光明，带我前行。她又成为我一生中“最珍贵”的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96B1F-5B7F-4299-A4E2-FF2689E6D6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5406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250560" y="4984560"/>
            <a:ext cx="8109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1125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260280"/>
            <a:ext cx="6553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文章从哪些方面描写外祖母的外貌？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76500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描写外祖母的外貌从如下几个方面：头发、眼睛、牙齿、皱纹、体态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21337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文章几次写她的眼睛？通过对外祖母的眼神描写我们可以看到她怎样的内心世界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141720"/>
            <a:ext cx="88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文章三次写她的眼睛。例如：那黑得像黑樱桃的眼珠儿睁得圆圆的，闪出一种难以形容的愉快光芒。但通过她的眼睛，从她内心却射出一种永不熄灭的、快乐的、温暖的光芒。表现了人物的内心世界：充满活力、愉快、温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D5689-73DE-457D-BB09-09545E1886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943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854064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42720" y="3333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塑造了一个什么样的形象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？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765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为我们塑造了一个：最温柔、最善良、最无私的老妇人形象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22557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小结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温柔慈爱的朋友般的外祖母，她对“我”充满了爱，对生活充满了爱，她乐观的精神和坚毅的性格深深地影响了“我”，丰富了“我”的精神世界，使“我”有了战胜一切困难的勇气和信心。在高尔基苦难的童年有了外祖母的陪伴，他就有了驱散黑暗的阳光，滋润心田的雨露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B5A2F-FC64-4BB0-8F3E-77B905FF4B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-3110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5406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仔细阅读文章的开头与结尾，思考作者的构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6286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文章的思路是“我”从睡梦中“醒来”，来到现实生活中，见证了外祖母与众不同的外貌特征与个性特点，这样一位独特的外祖母非但唤醒梦中的“我”，也唤醒了精神中的“我”。全文正是这样由浅入深式地把外祖母一点一点展现在读者面前的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057A6-0005-405C-AFCF-8DA06844E2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290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本文的中心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本文通过对外祖母的外貌、语言、动作、神态的描写，表现祖母乐观、坚毅的性格。对“我”深厚的爱以及对“我”一生的影响，抒发了“我”对祖母的热爱、感激之情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661B3-4614-4836-8D04-B313E00AFD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重点句理解（辨析下句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黑眼珠儿闪耀着气愤的光芒，她的脸在大堆的头发里变得又小又可笑。                       （原句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黑眼珠儿露出愤怒的眼神，她的脸在大堆的头发里变得又小又可笑。                         （改句）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45B4C-D751-40AC-B1D0-A6A77C123A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-3088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8540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765000"/>
            <a:ext cx="8496000" cy="26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闪耀”和“露出”都能表现眼神以及外祖母的内心的气愤，但是哪一个更准确鲜明生动呢？“闪耀”充满了灵性， 而“露出”只是一般的神色表现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另外“光芒”和“眼神”，在表述上，“光芒”传神写出心灵之窗的语言，表现了内心的活动，“眼神”一词是一般的名词，缺乏表现的张力。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DD442-B9DB-49E3-84A0-F505E03AC6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3095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7da9"/>
                </a:solidFill>
                <a:latin typeface="长城中隶体"/>
                <a:ea typeface="长城中隶体"/>
              </a:rPr>
              <a:t>重点句理解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54064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用一根不断的线把我周围的一切连结起来，织成五光十色的花边，她马上成为我终身的朋友，成为我最知心的人，成为我最了解，最珍贵的人。”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4000" y="314172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爱就是那根线，“花边”则是围绕在“我”身旁的无微不至的关心，这份爱与尊重，让生活丰富多彩，这种温情是困境中的“我”所渴求的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于是“她</a:t>
            </a:r>
            <a:r>
              <a:rPr b="1" lang="zh-CN" sz="3600" spc="-1" strike="noStrike" u="sng">
                <a:solidFill>
                  <a:srgbClr val="cc0066"/>
                </a:solidFill>
                <a:uFillTx/>
                <a:latin typeface="Arial"/>
              </a:rPr>
              <a:t>马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成为我</a:t>
            </a:r>
            <a:r>
              <a:rPr b="1" lang="zh-CN" sz="3600" spc="-1" strike="noStrike" u="sng">
                <a:solidFill>
                  <a:srgbClr val="cc0066"/>
                </a:solidFill>
                <a:uFillTx/>
                <a:latin typeface="Arial"/>
              </a:rPr>
              <a:t>终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身的朋友”。此时，外祖母对“我”今后的人生道路产生巨大的影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DB672-AAFB-4CE7-9745-17CB350BA0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1204920" cy="12682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55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ahoma"/>
                <a:ea typeface="华文行楷"/>
              </a:rPr>
              <a:t>自由想像：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740720" y="0"/>
            <a:ext cx="1141200" cy="2205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7848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模仿课文写法，展开想像，把</a:t>
            </a:r>
            <a:r>
              <a:rPr b="1" lang="zh-CN" sz="3200" spc="-1" strike="noStrike">
                <a:solidFill>
                  <a:srgbClr val="33bbff"/>
                </a:solidFill>
                <a:latin typeface="Tahoma"/>
              </a:rPr>
              <a:t>“ 你昨天怎么把牛奶瓶子打破了？你小点声 说！”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拓展成一段具体的祖孙对话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e41ff"/>
                </a:solidFill>
                <a:latin typeface="宋体"/>
                <a:ea typeface="Arial"/>
              </a:rPr>
              <a:t>要求</a:t>
            </a:r>
            <a:r>
              <a:rPr b="1" lang="zh-CN" sz="2400" spc="-1" strike="noStrike">
                <a:solidFill>
                  <a:srgbClr val="8e41ff"/>
                </a:solidFill>
                <a:latin typeface="宋体"/>
                <a:ea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e41ff"/>
                </a:solidFill>
                <a:latin typeface="宋体"/>
                <a:ea typeface="Arial"/>
              </a:rPr>
              <a:t>        </a:t>
            </a:r>
            <a:r>
              <a:rPr b="1" lang="zh-CN" sz="3200" spc="-1" strike="noStrike">
                <a:solidFill>
                  <a:srgbClr val="8e41ff"/>
                </a:solidFill>
                <a:latin typeface="宋体"/>
                <a:ea typeface="Arial"/>
              </a:rPr>
              <a:t>（</a:t>
            </a:r>
            <a:r>
              <a:rPr b="1" lang="en-US" sz="3200" spc="-1" strike="noStrike">
                <a:solidFill>
                  <a:srgbClr val="8e41ff"/>
                </a:solidFill>
                <a:latin typeface="宋体"/>
                <a:ea typeface="Arial"/>
              </a:rPr>
              <a:t>1</a:t>
            </a:r>
            <a:r>
              <a:rPr b="1" lang="zh-CN" sz="3200" spc="-1" strike="noStrike">
                <a:solidFill>
                  <a:srgbClr val="8e41ff"/>
                </a:solidFill>
                <a:latin typeface="宋体"/>
                <a:ea typeface="Arial"/>
              </a:rPr>
              <a:t>）对话符合人物性格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e41ff"/>
                </a:solidFill>
                <a:latin typeface="宋体"/>
                <a:ea typeface="Arial"/>
              </a:rPr>
              <a:t>      </a:t>
            </a:r>
            <a:r>
              <a:rPr b="1" lang="zh-CN" sz="3200" spc="-1" strike="noStrike">
                <a:solidFill>
                  <a:srgbClr val="8e41ff"/>
                </a:solidFill>
                <a:latin typeface="宋体"/>
                <a:ea typeface="Arial"/>
              </a:rPr>
              <a:t>（</a:t>
            </a:r>
            <a:r>
              <a:rPr b="1" lang="en-US" sz="3200" spc="-1" strike="noStrike">
                <a:solidFill>
                  <a:srgbClr val="8e41ff"/>
                </a:solidFill>
                <a:latin typeface="宋体"/>
                <a:ea typeface="Arial"/>
              </a:rPr>
              <a:t>2</a:t>
            </a:r>
            <a:r>
              <a:rPr b="1" lang="zh-CN" sz="3200" spc="-1" strike="noStrike">
                <a:solidFill>
                  <a:srgbClr val="8e41ff"/>
                </a:solidFill>
                <a:latin typeface="宋体"/>
                <a:ea typeface="Arial"/>
              </a:rPr>
              <a:t>）说明你这样设计的理由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e41ff"/>
                </a:solidFill>
                <a:latin typeface="宋体"/>
                <a:ea typeface="Arial"/>
              </a:rPr>
              <a:t>      </a:t>
            </a:r>
            <a:r>
              <a:rPr b="1" lang="zh-CN" sz="3200" spc="-1" strike="noStrike">
                <a:solidFill>
                  <a:srgbClr val="8e41ff"/>
                </a:solidFill>
                <a:latin typeface="宋体"/>
                <a:ea typeface="Arial"/>
              </a:rPr>
              <a:t>（</a:t>
            </a:r>
            <a:r>
              <a:rPr b="1" lang="en-US" sz="3200" spc="-1" strike="noStrike">
                <a:solidFill>
                  <a:srgbClr val="8e41ff"/>
                </a:solidFill>
                <a:latin typeface="宋体"/>
                <a:ea typeface="Arial"/>
              </a:rPr>
              <a:t>3</a:t>
            </a:r>
            <a:r>
              <a:rPr b="1" lang="zh-CN" sz="3200" spc="-1" strike="noStrike">
                <a:solidFill>
                  <a:srgbClr val="8e41ff"/>
                </a:solidFill>
                <a:latin typeface="宋体"/>
                <a:ea typeface="Arial"/>
              </a:rPr>
              <a:t>）对话内容在</a:t>
            </a:r>
            <a:r>
              <a:rPr b="1" lang="en-US" sz="3200" spc="-1" strike="noStrike">
                <a:solidFill>
                  <a:srgbClr val="8e41ff"/>
                </a:solidFill>
                <a:latin typeface="宋体"/>
                <a:ea typeface="Arial"/>
              </a:rPr>
              <a:t>100</a:t>
            </a:r>
            <a:r>
              <a:rPr b="1" lang="zh-CN" sz="3200" spc="-1" strike="noStrike">
                <a:solidFill>
                  <a:srgbClr val="8e41ff"/>
                </a:solidFill>
                <a:latin typeface="宋体"/>
                <a:ea typeface="Arial"/>
              </a:rPr>
              <a:t>字以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E4F48037-B3C9-4CB8-9746-575D7FF56D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95280" y="47628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6633"/>
                </a:solidFill>
                <a:latin typeface="Arial"/>
              </a:rPr>
              <a:t>你昨天怎么把牛奶瓶子打破了？你小点声说！”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     “好祖母，什么都瞒不过你，千万别告诉我妈妈，不然她又要骂我了！”我央求道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006633"/>
                </a:solidFill>
                <a:latin typeface="Arial"/>
              </a:rPr>
              <a:t>你呀！真像一个野猴子，下次再这样，我就把你关进黑屋子里！”外祖母瞪了我一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006633"/>
                </a:solidFill>
                <a:latin typeface="Arial"/>
              </a:rPr>
              <a:t>我知道了，下次再也不敢了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959CEB0-DC2B-4A4E-A573-4959511C16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11280" y="213336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532b"/>
                </a:solidFill>
                <a:latin typeface="Arial"/>
              </a:rPr>
              <a:t>朋友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2060640"/>
            <a:ext cx="319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</a:rPr>
              <a:t>童年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的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62600" y="4344840"/>
            <a:ext cx="22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华文行楷"/>
              </a:rPr>
              <a:t>——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行楷"/>
              </a:rPr>
              <a:t>高尔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E3F24-1085-4C7F-BE69-A9FCFACEFD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336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课后学习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84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新的学期开始了，试着给自己最好的朋友写一封信，表达出你们之间的深厚友谊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 rot="1746600">
            <a:off x="5710320" y="2176560"/>
            <a:ext cx="23684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5A5FD-7BB3-4EF2-B5E7-4D5008C52B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544480" y="278136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谢谢，再见！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9036A68-7E06-4CF4-A70F-0F43C85C19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  <a:ea typeface="长城中隶体"/>
              </a:rPr>
              <a:t>高尔基简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21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高尔基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(1868—1936)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，苏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作家，苏联社会主义文学的奠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人。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童年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在人间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我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大学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是高尔基自传体三部曲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他的长篇小说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母亲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塑造了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界文学史上第一批自觉为社会主义而斗争的无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阶级革命者的英雄形象，是社会主义现实主义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学的奠基作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23619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8A6AD-2E25-49B5-9054-49FF2A6E3B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836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童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高尔基的自传体三步曲中的一部，有人认为它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对中国人影响最大的书籍之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传体三部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童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人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的大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高尔基文学遗产中最优秀的部分之一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童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这套三部曲的第一部，讲述的是高尔基幼年丧父、母亲改嫁，他跟随脾气暴躁、日渐破落的小工坊主外公外婆生活的童年时光。这部小说通过一个儿童无邪的眼光，向读者生动地展示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中叶俄罗斯社会底层人物的生活，描绘了许许多多社会小市民丑陋和愚昧的生活风貌，以及当时俄国的宗教、丧葬等民风民俗。高尔基的这些回忆，有助于我们了解沙皇俄国那个时代的风貌，了解一代文学大师高尔基童年时的社会环境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6C47E-31FC-4C0A-A10B-AC8D646C69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691920"/>
            <a:ext cx="85406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尔基童年寄居在外祖父家时，“外祖父家里，弥漫着人与人之间的仇恨之雾；大人都中了仇恨的毒，连小孩也热烈地参加一份。” 这是一个典型的俄罗斯小市民家庭。在这样的家庭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像“铅样沉重”高尔基的童年充满苦难。所幸的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的周围也有许多善良正直的人，他们给了高尔基良好的影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了高尔基以力量和支持。其中首推外祖母。外祖母的形象，是俄罗斯乃至世界文学中最光辉、最有人性、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诗意、最有艺术魅力的形象之一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4C771-F8FC-4DED-A2CF-A91706485F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691920"/>
            <a:ext cx="85406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噗（     ）噗噗地响             鬃（        ）马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绺（     ）发绺                     颊（        ）脸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诅  咒（                 ）          嗅（        ）闻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咕  哝（                 ）          皱（        ）皱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脯 ① 果脯（     ）  ② 胸脯（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177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p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64920" y="184464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zōn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49560" y="2394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li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73080" y="23893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 Narrow"/>
                <a:ea typeface="Times New Roman"/>
              </a:rPr>
              <a:t>j</a:t>
            </a:r>
            <a:r>
              <a:rPr b="1" lang="en-US" sz="3200" spc="-1" strike="noStrike">
                <a:solidFill>
                  <a:srgbClr val="cc0066"/>
                </a:solidFill>
                <a:latin typeface="Arial Narrow"/>
              </a:rPr>
              <a:t>i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28720" y="299736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xi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8000" y="357336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gū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non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85800" y="35733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zhòu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71640" y="422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f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5800" y="4194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p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2997360"/>
            <a:ext cx="16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zǔzhòu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158FF-CC6F-4297-BA4E-9A71B5DE7E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整体感知：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57240" y="2276640"/>
            <a:ext cx="519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以自己喜欢的方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朗读课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文，试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己的话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外祖母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象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描述出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E70C8-C133-4F4E-A35F-C07BCDCDA8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70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33"/>
                </a:solidFill>
                <a:latin typeface="Garamond"/>
                <a:ea typeface="隶书"/>
              </a:rPr>
              <a:t>我的祖母：</a:t>
            </a:r>
            <a:br>
              <a:rPr sz="6600"/>
            </a:br>
            <a:br>
              <a:rPr sz="5100"/>
            </a:b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70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3b812f"/>
                </a:solidFill>
                <a:latin typeface="Arial"/>
              </a:rPr>
              <a:t>根据</a:t>
            </a:r>
            <a:r>
              <a:rPr b="1" lang="zh-CN" sz="4400" spc="-1" strike="noStrike">
                <a:solidFill>
                  <a:srgbClr val="fa5920"/>
                </a:solidFill>
                <a:latin typeface="Arial"/>
              </a:rPr>
              <a:t>我们的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描述</a:t>
            </a:r>
            <a:r>
              <a:rPr b="1" lang="zh-CN" sz="4400" spc="-1" strike="noStrike">
                <a:solidFill>
                  <a:srgbClr val="3b812f"/>
                </a:solidFill>
                <a:latin typeface="Arial"/>
              </a:rPr>
              <a:t>，画出外祖母的</a:t>
            </a:r>
            <a:r>
              <a:rPr b="1" lang="zh-CN" sz="4400" spc="-1" strike="noStrike">
                <a:solidFill>
                  <a:srgbClr val="fa5920"/>
                </a:solidFill>
                <a:latin typeface="Arial"/>
              </a:rPr>
              <a:t>肖像</a:t>
            </a:r>
            <a:r>
              <a:rPr b="1" lang="zh-CN" sz="4400" spc="-1" strike="noStrike">
                <a:solidFill>
                  <a:srgbClr val="3b812f"/>
                </a:solidFill>
                <a:latin typeface="Arial"/>
              </a:rPr>
              <a:t> 。并从</a:t>
            </a:r>
            <a:r>
              <a:rPr b="1" lang="zh-CN" sz="4400" spc="-1" strike="noStrike">
                <a:solidFill>
                  <a:srgbClr val="fa5920"/>
                </a:solidFill>
                <a:latin typeface="Arial"/>
              </a:rPr>
              <a:t>性格</a:t>
            </a:r>
            <a:r>
              <a:rPr b="1" lang="zh-CN" sz="4400" spc="-1" strike="noStrike">
                <a:solidFill>
                  <a:srgbClr val="3b812f"/>
                </a:solidFill>
                <a:latin typeface="Arial"/>
              </a:rPr>
              <a:t>角度出发， 给这幅画拟个标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eb6637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7c80"/>
                </a:solidFill>
                <a:latin typeface="Arial"/>
              </a:rPr>
              <a:t>______  </a:t>
            </a:r>
            <a:r>
              <a:rPr b="1" lang="zh-CN" sz="4400" spc="-1" strike="noStrike">
                <a:solidFill>
                  <a:srgbClr val="ff7c80"/>
                </a:solidFill>
                <a:latin typeface="Arial"/>
              </a:rPr>
              <a:t>的外祖母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7c80"/>
                </a:solidFill>
                <a:latin typeface="Arial"/>
              </a:rPr>
              <a:t>（形容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236000" y="5905440"/>
            <a:ext cx="21906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FAD4A956-3FCE-4642-8B8E-05B8BBF78D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-316800"/>
            <a:ext cx="8518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外祖母应该是“我”的长辈，为什么说是“最知心”“最珍贵”的朋友？哪些地方体现出外祖母的爱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337500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文章从哪些方面描写外祖母的外貌？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20680" y="4292640"/>
            <a:ext cx="325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cc0066"/>
                </a:solidFill>
                <a:latin typeface="宋体"/>
              </a:rPr>
              <a:t>几次写她的眼睛？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72600" y="537372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塑造了一个什么样的形象？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54600" y="5493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思考下列问题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34E80-F9A9-4CE4-BCA9-3AAEC35675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0:10:10Z</dcterms:created>
  <dc:creator>Administrator</dc:creator>
  <dc:description/>
  <cp:keywords/>
  <dc:language>en-US</dc:language>
  <cp:lastModifiedBy>User</cp:lastModifiedBy>
  <dcterms:modified xsi:type="dcterms:W3CDTF">2015-01-12T07:58:16Z</dcterms:modified>
  <cp:revision>7</cp:revision>
  <dc:subject/>
  <dc:title>我谈朋友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2</vt:lpwstr>
  </property>
</Properties>
</file>