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coin.wav" ContentType="audio/x-wav"/>
  <Override PartName="/ppt/media/image4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00E-E988-4E62-9033-C2B8751D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012-EA25-4026-8D2E-778DB3FE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3D2-A35E-4055-AB13-098930AA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062-D92F-43A3-B105-2E64143B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139-7B81-477A-8BE1-FDAB67C7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D5A-DE94-4979-863E-99FE437D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F5D-09B5-4555-B751-42D6AD88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575-EDF2-49F7-BBD9-5A9148D6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335-B61E-4C15-9463-50006ABD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6F9-37CD-4D89-89FD-69A14278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A87-EFB9-4D3D-ACA7-88FAD4F9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898-0E47-4003-99B5-631B32C1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F783-DD74-440B-8D49-8763ADB3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58920" y="1260360"/>
            <a:ext cx="6912000" cy="3392640"/>
            <a:chOff x="1258920" y="1260360"/>
            <a:chExt cx="6912000" cy="3392640"/>
          </a:xfrm>
        </p:grpSpPr>
        <p:sp>
          <p:nvSpPr>
            <p:cNvPr id="42" name=""/>
            <p:cNvSpPr txBox="1"/>
            <p:nvPr/>
          </p:nvSpPr>
          <p:spPr>
            <a:xfrm>
              <a:off x="1258920" y="1260360"/>
              <a:ext cx="6912000" cy="180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800000"/>
                  </a:solidFill>
                  <a:latin typeface="宋体"/>
                </a:rPr>
                <a:t>童年的朋友</a:t>
              </a:r>
              <a:endParaRPr b="1" lang="en-US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800000"/>
                </a:solidFill>
                <a:latin typeface="宋体"/>
                <a:ea typeface="宋体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348000" y="3644640"/>
              <a:ext cx="2664000" cy="100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仿宋_GB2312"/>
                </a:rPr>
                <a:t>高尔基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仿宋_GB2312"/>
                <a:ea typeface="仿宋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242100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这些句子形象地表现了外祖母丰富的情感世界和乐观、坚毅的个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20000" y="6210360"/>
            <a:ext cx="790560" cy="647640"/>
          </a:xfrm>
          <a:custGeom>
            <a:avLst/>
            <a:gdLst>
              <a:gd name="textAreaLeft" fmla="*/ 40320 w 790560"/>
              <a:gd name="textAreaRight" fmla="*/ 750240 w 79056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5014" y="1350"/>
                </a:lnTo>
                <a:lnTo>
                  <a:pt x="1350" y="135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5014" y="20250"/>
                </a:lnTo>
                <a:lnTo>
                  <a:pt x="25014" y="135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014" y="2025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364" h="21600">
                <a:moveTo>
                  <a:pt x="6138" y="10800"/>
                </a:moveTo>
                <a:lnTo>
                  <a:pt x="20226" y="3756"/>
                </a:lnTo>
                <a:lnTo>
                  <a:pt x="2022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2360" y="765000"/>
            <a:ext cx="166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、说说这些描写表现了人物怎样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内心世界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 u="sng">
                <a:solidFill>
                  <a:srgbClr val="000000"/>
                </a:solidFill>
                <a:uFillTx/>
                <a:latin typeface="Arial"/>
              </a:rPr>
              <a:t>语言描写：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温暖而柔和；用心唱歌，像鲜花一样温柔、鲜艳、丰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8624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100" spc="-1" strike="noStrike">
                <a:solidFill>
                  <a:srgbClr val="ff0000"/>
                </a:solidFill>
                <a:latin typeface="Arial"/>
              </a:rPr>
              <a:t>、 对话的内容有关头发</a:t>
            </a: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100" spc="-1" strike="noStrike">
                <a:solidFill>
                  <a:srgbClr val="ff0000"/>
                </a:solidFill>
                <a:latin typeface="Arial"/>
              </a:rPr>
              <a:t>、睡觉的事情</a:t>
            </a: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100" spc="-1" strike="noStrike">
                <a:solidFill>
                  <a:srgbClr val="ff0000"/>
                </a:solidFill>
                <a:latin typeface="Arial"/>
              </a:rPr>
              <a:t>、打碎牛奶瓶的事情。生活并不令人满意，但只要和“我”说话就显出轻松，平等，和蔼，关爱（朋友）</a:t>
            </a: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71592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总之：“我”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外祖母是一个慈爱、开朗、乐观、坚毅、勤劳能干的老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动作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梳头、编辫子、嗅烟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神态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89240" y="655560"/>
            <a:ext cx="8007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慈爱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温暖而柔和的腔调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话好似在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唱歌字字句句都像鲜花那样温柔、鲜艳和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润，一下子就牢牢地打进我的记忆里”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开朗乐观、坚毅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微笑的时候，那黑得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黑樱桃的眼珠儿睁得圆圆的，闪出一种难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的愉快光芒，在笑容里，快活地露出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固的雪白的牙齿，虽然黑黑的，两颊有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皱纹，但整个面孔仍然显得年轻，明朗 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她的眼睛，从她内心却射出一种永不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灭的、快乐的、温暖的光芒 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勤劳能干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腰弯得几乎成为驼背，肥肥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胖，可是举动却像一只大猫似的轻快而敏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且柔软得也像这个可爱的动物 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点评：课文在人物描写方面有以下特点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一个孩子的视角来观察和描写人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巧妙地、创造性地运用比喻的修辞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13193"/>
                </a:solidFill>
                <a:latin typeface="Arial"/>
              </a:rPr>
              <a:t>外祖母说话好似在用心地歌唱，字字句句都像鲜花那样温柔、鲜艳和丰润，一下子就牢牢打进我的记忆里。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400" spc="-1" strike="noStrike">
                <a:solidFill>
                  <a:srgbClr val="313193"/>
                </a:solidFill>
                <a:latin typeface="Arial"/>
              </a:rPr>
              <a:t>她的腰弯得几乎成了驼背，胖胖肥肥，可是举动却像一只大猫似的轻快而敏捷，并且柔软地也像这个可爱的动物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22280" y="177336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把语音比做鲜花，既新鲜又奇妙，非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富有美感，外祖母的形象也写得格外美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508640"/>
            <a:ext cx="834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“驼背”比外祖母的腰，写出了外祖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辛劳，把外祖母比做猫，调皮中写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了外祖母的勤劳能干，也表现出“我”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外祖母的“朋友关系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49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765000"/>
            <a:ext cx="896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外祖母在孩子的眼里是长辈，可作者在文章中说外祖母是他的“朋友”，而且是“最知心”“最珍贵”的“终身”的朋友。对此你是怎样理解的，向同学说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endshow"/>
          </p:cNvPr>
          <p:cNvSpPr/>
          <p:nvPr/>
        </p:nvSpPr>
        <p:spPr>
          <a:xfrm>
            <a:off x="4500720" y="5373720"/>
            <a:ext cx="684000" cy="549360"/>
          </a:xfrm>
          <a:custGeom>
            <a:avLst/>
            <a:gdLst>
              <a:gd name="textAreaLeft" fmla="*/ 34200 w 684000"/>
              <a:gd name="textAreaRight" fmla="*/ 649800 w 684000"/>
              <a:gd name="textAreaTop" fmla="*/ 34200 h 549360"/>
              <a:gd name="textAreaBottom" fmla="*/ 515160 h 549360"/>
            </a:gdLst>
            <a:ahLst/>
            <a:rect l="textAreaLeft" t="textAreaTop" r="textAreaRight" b="textAreaBottom"/>
            <a:pathLst>
              <a:path w="26890" h="21600">
                <a:moveTo>
                  <a:pt x="0" y="0"/>
                </a:moveTo>
                <a:lnTo>
                  <a:pt x="26890" y="0"/>
                </a:lnTo>
                <a:lnTo>
                  <a:pt x="26890" y="21600"/>
                </a:lnTo>
                <a:lnTo>
                  <a:pt x="0" y="21600"/>
                </a:lnTo>
                <a:close/>
              </a:path>
              <a:path fill="lightenLess" w="26890" h="21600">
                <a:moveTo>
                  <a:pt x="0" y="0"/>
                </a:moveTo>
                <a:lnTo>
                  <a:pt x="26890" y="0"/>
                </a:lnTo>
                <a:lnTo>
                  <a:pt x="25540" y="1350"/>
                </a:lnTo>
                <a:lnTo>
                  <a:pt x="1350" y="1350"/>
                </a:lnTo>
                <a:close/>
              </a:path>
              <a:path fill="darken" w="26890" h="21600">
                <a:moveTo>
                  <a:pt x="26890" y="0"/>
                </a:moveTo>
                <a:lnTo>
                  <a:pt x="26890" y="21600"/>
                </a:lnTo>
                <a:lnTo>
                  <a:pt x="25540" y="20250"/>
                </a:lnTo>
                <a:lnTo>
                  <a:pt x="25540" y="1350"/>
                </a:lnTo>
                <a:close/>
              </a:path>
              <a:path fill="darkenLess" w="26890" h="21600">
                <a:moveTo>
                  <a:pt x="268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540" y="20250"/>
                </a:lnTo>
                <a:close/>
              </a:path>
              <a:path fill="lighten" w="268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890" h="21600">
                <a:moveTo>
                  <a:pt x="6401" y="3756"/>
                </a:moveTo>
                <a:lnTo>
                  <a:pt x="20489" y="10800"/>
                </a:lnTo>
                <a:lnTo>
                  <a:pt x="640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8964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因为外祖母不仅像一般的长辈那样爱自己，而且和“我”之间有着一种特殊的友情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外祖母能像朋友一样尊重自己，平等地对待自己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外祖母是自己最知心的人，自己内心的话都能和外祖母交流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说外祖母是“终身”的朋友，是因为外祖母的爱，把“我”的心灵从黑暗中带到了“光明的地方”，外祖母“对世界无私的爱”丰富了“我”的精神世界，外祖母的乐观、坚毅使“我 ”充满了坚强的力量以应付困苦的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29160 w 468360"/>
              <a:gd name="textAreaRight" fmla="*/ 439200 w 468360"/>
              <a:gd name="textAreaTop" fmla="*/ 29160 h 549360"/>
              <a:gd name="textAreaBottom" fmla="*/ 52020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50" y="23983"/>
                </a:lnTo>
                <a:lnTo>
                  <a:pt x="20250" y="135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350" y="23983"/>
                </a:lnTo>
                <a:lnTo>
                  <a:pt x="20250" y="2398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350" y="1350"/>
                </a:lnTo>
                <a:lnTo>
                  <a:pt x="1350" y="23983"/>
                </a:lnTo>
                <a:close/>
              </a:path>
              <a:path fill="darken" w="21600" h="25333">
                <a:moveTo>
                  <a:pt x="3756" y="12666"/>
                </a:moveTo>
                <a:lnTo>
                  <a:pt x="17844" y="5623"/>
                </a:lnTo>
                <a:lnTo>
                  <a:pt x="17844" y="197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揣摩外祖母对“我”的影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明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：突出老人的特征，对生活的不如意，与对我的态度的温和做个对比；在对比中表现对我的深爱；开朗的性格，年轻开朗的心态，是外祖母成为“我”的朋友的一个主要原因。在如此困难的并不顺心的生活中，外祖母如此乐观，必然对“我”的性格形成具有重大的影响，也赋予“我”在人生中战胜一切困难的信心和力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从一个孩子的视角来观察和描写人物。外祖母的微笑、牙齿、衣服、眼神等，都寄寓着“我”对外祖母的爱。特别是比喻句，表现“我”和外祖母“朋友”的关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82440" y="907920"/>
            <a:ext cx="22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外貌描写中感受到对“我”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议论的语句汇总体会“我”对外祖母深厚的感情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明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：最后一段的抒情议论，表达“我”对外祖母的感激，写出了外祖母对“我”一生的重大影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她从来……花边”，运用形象的比喻告诉我们，没有外祖母，“我”的生活是黑暗的，没有温暖，没有阳光，外祖母的“爱”把“我”从黑暗中带到光明的世界里，是外祖母的爱使“我”的世界丰富多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她马上……朋友”，三个修饰语，表现了外祖母在“我”生活中的极为重要，也极为特殊的位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是她……生活的”。外祖母对我无私的爱，对生活的爱，和她那乐观的精神和坚毅的性格，使我的精神世界更加丰富，使我有了战胜生活中一切困难的勇气和信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学习目标：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．激发我们对家人的爱心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．学习描写人物的方法，体会塑造人物形象的多种方法，感受文学作品的写作特色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品读精彩片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揣摩以下文字在表现人物精神风貌和思想感情方面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70828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是以“我”——一个孩子的眼光观察和认识外祖母的。浓浓的头发写出了外祖母身体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健康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“闪耀着气愤的光芒”写出了外祖母性格的开朗，“又小又可笑”的脸，表现了外祖母和“我”的亲近，也表现了“我”和外祖母的“朋友”关系。气愤时的外祖母，在“我”眼里仍然是如此可爱，既说明外祖母性格的善良，又表明“我”对外祖母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2536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她用一只手从地上把头发兜起来提着，挺费劲地把稀疏的木梳齿儿梳进厚厚的发绺里；她的嘴唇歪扭着，黑眼珠儿闪耀着气愤的光芒，她的脸在大堆的头发里变得又小又可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</a:rPr>
              <a:t>你昨天怎么把牛奶瓶子打破了？你小点声说！”①</a:t>
            </a:r>
            <a:r>
              <a:rPr b="1" lang="zh-CN" sz="3400" spc="-1" strike="noStrike" u="sng">
                <a:solidFill>
                  <a:srgbClr val="333399"/>
                </a:solidFill>
                <a:uFillTx/>
                <a:latin typeface="Arial"/>
              </a:rPr>
              <a:t>外祖母说话好似在用心地唱歌，字字句句都像鲜花那样温柔、鲜艳和丰润，一下子就牢牢地打进我的记忆里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4100" spc="-1" strike="noStrike">
                <a:solidFill>
                  <a:srgbClr val="ff3300"/>
                </a:solidFill>
                <a:latin typeface="Arial"/>
              </a:rPr>
              <a:t>虽然是批评“我”的过失，但语气语调中却充满了关爱；句①说明外祖母的每一句都充满了对我的爱，在“我”心目中，外祖母的每句话都像歌声那样动听，并且永远刻在“我”的心上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</a:rPr>
              <a:t>在她没来以前，我仿佛是躲在黑暗中睡觉，但她一出现，就把我叫醒了，把我领到光明的地方，用一根不断的线把我周围的一切连结起来，织成五光十色的花边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700" spc="-1" strike="noStrike">
                <a:solidFill>
                  <a:srgbClr val="ff0000"/>
                </a:solidFill>
                <a:latin typeface="Arial"/>
              </a:rPr>
              <a:t>是外祖母的爱，把我从黑暗中带到光明的世界；是外祖母的爱，给“我”的生活带来欢乐，使我的生活变得丰富多彩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内容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8320" y="1123920"/>
            <a:ext cx="470412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文通过对外祖母的外貌、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言、动作、神态的描写，表现外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乐观、坚毅的性格，对“我”深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爱以及对“我”一生的影响，抒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“我”对外祖母的热爱、感激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模仿写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1197000"/>
            <a:ext cx="70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文通过描写人物眼睛很好地表现了外祖母乐观开朗坚毅的性格。请你也用这种方法描绘你写出父亲或母亲（也可写其他人）对你进行教育时的眼神吗？的形象，表现他的性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矩形 1" descr=""/>
          <p:cNvPicPr/>
          <p:nvPr/>
        </p:nvPicPr>
        <p:blipFill>
          <a:blip r:embed="rId2"/>
          <a:stretch/>
        </p:blipFill>
        <p:spPr>
          <a:xfrm>
            <a:off x="-163440" y="1773360"/>
            <a:ext cx="9161280" cy="27684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128520" y="73080"/>
            <a:ext cx="2389320" cy="1103400"/>
            <a:chOff x="128520" y="73080"/>
            <a:chExt cx="2389320" cy="1103400"/>
          </a:xfrm>
        </p:grpSpPr>
        <p:pic>
          <p:nvPicPr>
            <p:cNvPr id="135" name="矩形 4" descr=""/>
            <p:cNvPicPr/>
            <p:nvPr/>
          </p:nvPicPr>
          <p:blipFill>
            <a:blip r:embed="rId3"/>
            <a:stretch/>
          </p:blipFill>
          <p:spPr>
            <a:xfrm>
              <a:off x="128520" y="73080"/>
              <a:ext cx="23893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81920" y="33336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nstantia"/>
                  <a:ea typeface="微软简隶书"/>
                </a:rPr>
                <a:t>作业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2" descr="C:\Program Files\Microsoft Office\MEDIA\CAGCAT10\j0299125.wmf"/>
          <p:cNvPicPr/>
          <p:nvPr/>
        </p:nvPicPr>
        <p:blipFill>
          <a:blip r:embed="rId4"/>
          <a:stretch/>
        </p:blipFill>
        <p:spPr>
          <a:xfrm>
            <a:off x="5688000" y="4108320"/>
            <a:ext cx="2681280" cy="2213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5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27500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356000" y="1268280"/>
            <a:ext cx="4419720" cy="3654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9548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96520" y="770040"/>
            <a:ext cx="484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尔基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68-193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苏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家。生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木匠家庭，当过学徒、码头工、面包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傅等，流浪俄国各地，经历丰富。早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品多描写俄国沙皇制度下人民的痛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他们对美好生活的憧憬，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剧本《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市民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篇小说《母亲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映俄国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阶级的革命斗争，被视为第一部社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义现实主义作品。还写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转体三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曲《童年》《在人间》《我的大学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了解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14520" y="861840"/>
            <a:ext cx="76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咕哝</a:t>
            </a:r>
            <a:r>
              <a:rPr b="1" lang="en-US" sz="3600" spc="-1" strike="noStrike">
                <a:solidFill>
                  <a:srgbClr val="313193"/>
                </a:solidFill>
                <a:latin typeface="Arial"/>
              </a:rPr>
              <a:t>(              )    </a:t>
            </a: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噗</a:t>
            </a:r>
            <a:r>
              <a:rPr b="1" lang="en-US" sz="3600" spc="-1" strike="noStrike">
                <a:solidFill>
                  <a:srgbClr val="313193"/>
                </a:solidFill>
                <a:latin typeface="Arial"/>
              </a:rPr>
              <a:t>(      )    </a:t>
            </a: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绺</a:t>
            </a:r>
            <a:r>
              <a:rPr b="1" lang="en-US" sz="3600" spc="-1" strike="noStrike">
                <a:solidFill>
                  <a:srgbClr val="313193"/>
                </a:solidFill>
                <a:latin typeface="Arial"/>
              </a:rPr>
              <a:t>(       )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诅咒</a:t>
            </a:r>
            <a:r>
              <a:rPr b="1" lang="en-US" sz="3600" spc="-1" strike="noStrike">
                <a:solidFill>
                  <a:srgbClr val="313193"/>
                </a:solidFill>
                <a:latin typeface="Arial"/>
              </a:rPr>
              <a:t>(              )   </a:t>
            </a: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嗅</a:t>
            </a:r>
            <a:r>
              <a:rPr b="1" lang="en-US" sz="3600" spc="-1" strike="noStrike">
                <a:solidFill>
                  <a:srgbClr val="313193"/>
                </a:solidFill>
                <a:latin typeface="Arial"/>
              </a:rPr>
              <a:t>(      )   </a:t>
            </a: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鬃</a:t>
            </a:r>
            <a:r>
              <a:rPr b="1" lang="en-US" sz="3600" spc="-1" strike="noStrike">
                <a:solidFill>
                  <a:srgbClr val="313193"/>
                </a:solidFill>
                <a:latin typeface="Arial"/>
              </a:rPr>
              <a:t>(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脸</a:t>
            </a:r>
            <a:r>
              <a:rPr b="1" lang="zh-CN" sz="3600" spc="-1" strike="noStrike" u="sng">
                <a:solidFill>
                  <a:srgbClr val="313193"/>
                </a:solidFill>
                <a:uFillTx/>
                <a:latin typeface="Arial"/>
              </a:rPr>
              <a:t>颊</a:t>
            </a:r>
            <a:r>
              <a:rPr b="1" lang="en-US" sz="3600" spc="-1" strike="noStrike">
                <a:solidFill>
                  <a:srgbClr val="313193"/>
                </a:solidFill>
                <a:latin typeface="Arial"/>
              </a:rPr>
              <a:t>(      )   </a:t>
            </a:r>
            <a:r>
              <a:rPr b="1" lang="zh-CN" sz="3600" spc="-1" strike="noStrike" u="sng">
                <a:solidFill>
                  <a:srgbClr val="313193"/>
                </a:solidFill>
                <a:uFillTx/>
                <a:latin typeface="Arial"/>
              </a:rPr>
              <a:t>皱</a:t>
            </a: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纹</a:t>
            </a:r>
            <a:r>
              <a:rPr b="1" lang="en-US" sz="3600" spc="-1" strike="noStrike">
                <a:solidFill>
                  <a:srgbClr val="313193"/>
                </a:solidFill>
                <a:latin typeface="Arial"/>
              </a:rPr>
              <a:t>(         )   </a:t>
            </a:r>
            <a:r>
              <a:rPr b="1" lang="zh-CN" sz="3600" spc="-1" strike="noStrike" u="sng">
                <a:solidFill>
                  <a:srgbClr val="313193"/>
                </a:solidFill>
                <a:uFillTx/>
                <a:latin typeface="Arial"/>
              </a:rPr>
              <a:t>绉</a:t>
            </a: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纱</a:t>
            </a:r>
            <a:r>
              <a:rPr b="1" lang="en-US" sz="3600" spc="-1" strike="noStrike">
                <a:solidFill>
                  <a:srgbClr val="313193"/>
                </a:solidFill>
                <a:latin typeface="Arial"/>
              </a:rPr>
              <a:t>(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终身：一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13193"/>
                </a:solidFill>
                <a:latin typeface="Arial"/>
              </a:rPr>
              <a:t>终生：一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12880" y="954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ū n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46680" y="9399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2000" y="9874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i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12880" y="1673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ǔ  zh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41840" y="1692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i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75400" y="1647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ō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19440" y="23684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5440" y="2349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23080" y="2349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308772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果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31840" y="3681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胸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2160" y="4417920"/>
            <a:ext cx="50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侧重指整个一生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16200" y="5084640"/>
            <a:ext cx="52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侧重指直到生命终结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初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125360"/>
            <a:ext cx="84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觉得外祖母在 “我”心中是一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2781360"/>
            <a:ext cx="669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祖母是一个慈爱、开朗、乐观、坚毅、勤劳能干的老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2160" y="82440"/>
            <a:ext cx="2881080" cy="952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4360" y="765000"/>
            <a:ext cx="844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3193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13193"/>
                </a:solidFill>
                <a:latin typeface="Arial"/>
              </a:rPr>
              <a:t>外祖母在“我”心中如此重要，请结合课文内容具体说说外祖母是一个怎样的人物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360" y="2492280"/>
            <a:ext cx="85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从“……”中，这句用了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物刻画的方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到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的外祖母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941720"/>
            <a:ext cx="1010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893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学法指导：人物描写的方法有：语言描写；外貌描写（肖像）；动作描写；心理描写；神情描写……另一种分类：正面描写；侧面描写。所有的描写都是为了刻画人物的性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670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外貌描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头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多、密、长、黑、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眼睛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光芒（气愤、愉快、永不熄灭的、快乐的、温暖的）小、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皱纹（但年轻、明朗）   嘴唇——歪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鼻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松软、大、红       牙齿——坚固、雪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身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肥肥胖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分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 健康 慈爱  乐观  坚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407880" y="993600"/>
            <a:ext cx="7407360" cy="1146240"/>
            <a:chOff x="407880" y="993600"/>
            <a:chExt cx="7407360" cy="1146240"/>
          </a:xfrm>
        </p:grpSpPr>
        <p:pic>
          <p:nvPicPr>
            <p:cNvPr id="78" name="TextBox 1" descr=""/>
            <p:cNvPicPr/>
            <p:nvPr/>
          </p:nvPicPr>
          <p:blipFill>
            <a:blip r:embed="rId2"/>
            <a:stretch/>
          </p:blipFill>
          <p:spPr>
            <a:xfrm>
              <a:off x="407880" y="993600"/>
              <a:ext cx="74073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10920" y="1126800"/>
              <a:ext cx="684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黑眼珠儿闪烁着气愤的光芒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57200" y="1689120"/>
            <a:ext cx="8016840" cy="1913040"/>
            <a:chOff x="457200" y="1689120"/>
            <a:chExt cx="8016840" cy="1913040"/>
          </a:xfrm>
        </p:grpSpPr>
        <p:pic>
          <p:nvPicPr>
            <p:cNvPr id="81" name="矩形 3" descr=""/>
            <p:cNvPicPr/>
            <p:nvPr/>
          </p:nvPicPr>
          <p:blipFill>
            <a:blip r:embed="rId3"/>
            <a:stretch/>
          </p:blipFill>
          <p:spPr>
            <a:xfrm>
              <a:off x="457200" y="1689120"/>
              <a:ext cx="801684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971640" y="1776600"/>
              <a:ext cx="748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这是从孩子的视角观察的，体现出外祖母因生活的艰难而流露出对生活的抱怨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50720" y="4395960"/>
            <a:ext cx="8736120" cy="1699920"/>
            <a:chOff x="450720" y="4395960"/>
            <a:chExt cx="8736120" cy="1699920"/>
          </a:xfrm>
        </p:grpSpPr>
        <p:pic>
          <p:nvPicPr>
            <p:cNvPr id="84" name="矩形 4" descr=""/>
            <p:cNvPicPr/>
            <p:nvPr/>
          </p:nvPicPr>
          <p:blipFill>
            <a:blip r:embed="rId4"/>
            <a:stretch/>
          </p:blipFill>
          <p:spPr>
            <a:xfrm>
              <a:off x="450720" y="4395960"/>
              <a:ext cx="8736120" cy="16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4000" y="4532040"/>
              <a:ext cx="806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通过她的眼睛，从她的内心却射出一种永不熄灭的、快乐的、温暖的光芒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4120" y="2670120"/>
            <a:ext cx="8637480" cy="1700280"/>
            <a:chOff x="384120" y="2670120"/>
            <a:chExt cx="8637480" cy="1700280"/>
          </a:xfrm>
        </p:grpSpPr>
        <p:pic>
          <p:nvPicPr>
            <p:cNvPr id="87" name="矩形 5" descr=""/>
            <p:cNvPicPr/>
            <p:nvPr/>
          </p:nvPicPr>
          <p:blipFill>
            <a:blip r:embed="rId5"/>
            <a:stretch/>
          </p:blipFill>
          <p:spPr>
            <a:xfrm>
              <a:off x="384120" y="2670120"/>
              <a:ext cx="863748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1280" y="280512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黑得像黑樱桃的眼珠儿睁得圆圆的，闪出一种难以形容的愉快光芒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11280" y="3860640"/>
            <a:ext cx="7772400" cy="988920"/>
            <a:chOff x="611280" y="3860640"/>
            <a:chExt cx="7772400" cy="988920"/>
          </a:xfrm>
        </p:grpSpPr>
        <p:pic>
          <p:nvPicPr>
            <p:cNvPr id="90" name="矩形 6" descr=""/>
            <p:cNvPicPr/>
            <p:nvPr/>
          </p:nvPicPr>
          <p:blipFill>
            <a:blip r:embed="rId6"/>
            <a:stretch/>
          </p:blipFill>
          <p:spPr>
            <a:xfrm>
              <a:off x="611280" y="3860640"/>
              <a:ext cx="777240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480920" y="394956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突出外祖母开朗，愉快而又充满活力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57200" y="5638680"/>
            <a:ext cx="8180280" cy="1481040"/>
            <a:chOff x="457200" y="5638680"/>
            <a:chExt cx="8180280" cy="1481040"/>
          </a:xfrm>
        </p:grpSpPr>
        <p:pic>
          <p:nvPicPr>
            <p:cNvPr id="93" name="矩形 7" descr=""/>
            <p:cNvPicPr/>
            <p:nvPr/>
          </p:nvPicPr>
          <p:blipFill>
            <a:blip r:embed="rId7"/>
            <a:stretch/>
          </p:blipFill>
          <p:spPr>
            <a:xfrm>
              <a:off x="457200" y="5638680"/>
              <a:ext cx="818028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971640" y="5724360"/>
              <a:ext cx="76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感受到了外祖母年轻的心和坚毅乐观的性格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-250920" y="0"/>
            <a:ext cx="5234760" cy="1620720"/>
            <a:chOff x="-250920" y="0"/>
            <a:chExt cx="5234760" cy="1620720"/>
          </a:xfrm>
        </p:grpSpPr>
        <p:pic>
          <p:nvPicPr>
            <p:cNvPr id="96" name="矩形 10" descr=""/>
            <p:cNvPicPr/>
            <p:nvPr/>
          </p:nvPicPr>
          <p:blipFill>
            <a:blip r:embed="rId8"/>
            <a:stretch/>
          </p:blipFill>
          <p:spPr>
            <a:xfrm>
              <a:off x="-250920" y="0"/>
              <a:ext cx="523476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960480" y="222120"/>
              <a:ext cx="359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</a:rPr>
                <a:t>写眼睛的句子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4000" spc="-1" strike="noStrike">
                  <a:solidFill>
                    <a:srgbClr val="000000"/>
                  </a:solidFill>
                  <a:latin typeface="HAKUYOOTi3500"/>
                  <a:ea typeface="微软简隶书"/>
                </a:rPr>
                <a:t>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0:17:49Z</dcterms:created>
  <dc:creator>雨林木风</dc:creator>
  <dc:description/>
  <dc:language>en-US</dc:language>
  <cp:lastModifiedBy>VNN.R9</cp:lastModifiedBy>
  <dcterms:modified xsi:type="dcterms:W3CDTF">2014-02-16T11:15:21Z</dcterms:modified>
  <cp:revision>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