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CBF6-71D3-490F-BDF7-BBBC25A903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731-B5BB-4875-897D-11B2C14C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544-5C3A-4441-ACB7-9719D523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532-92CC-452F-B185-2B135FD5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900-0692-4530-AB51-74E1C8C6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60A-80C1-49CD-9006-A4806A1D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B85-A28D-40A5-8334-EAAD3F70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9D0-E6E5-41AD-AEE1-F6E43D23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56C-EC46-48AA-A309-8158D207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3BF-6161-4832-86E0-ABADBFB1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18B-E196-4E88-9708-8F51A4DF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1CB-5DA7-44E4-99E6-EFE5531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698-87C3-42D3-A72E-4C18E1C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FB12-13CA-4A18-A9B4-692F3DD606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914400" y="17524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同学们，我们中华民族自古以来就是一个“文明古国，礼仪之邦。”人在社会上生活，总要和别人交往。在人们的交往过程中，一个人是否讲礼貌，往往能反映出这个人的文明素质和文化修养。今天，我们就一起来学习一篇专门谈礼貌的课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0" y="907920"/>
            <a:ext cx="4572000" cy="1944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765000"/>
            <a:ext cx="4643280" cy="223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052640"/>
            <a:ext cx="4392720" cy="1584360"/>
          </a:xfrm>
          <a:prstGeom prst="wedgeRoundRectCallout">
            <a:avLst>
              <a:gd name="adj1" fmla="val -36481"/>
              <a:gd name="adj2" fmla="val 70041"/>
              <a:gd name="adj3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呔，老头儿！爷问你，小校场往哪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3505320"/>
            <a:ext cx="914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66ff"/>
                </a:solidFill>
                <a:latin typeface="Arial"/>
              </a:rPr>
              <a:t>牛皋问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84720" y="404640"/>
            <a:ext cx="4859280" cy="2521080"/>
          </a:xfrm>
          <a:prstGeom prst="wedgeEllipseCallout">
            <a:avLst>
              <a:gd name="adj1" fmla="val -31476"/>
              <a:gd name="adj2" fmla="val 68263"/>
            </a:avLst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问老丈，方才可曾见一个骑黑马的？他往哪条路上去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04040" y="0"/>
            <a:ext cx="94212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66ff"/>
                </a:solidFill>
                <a:latin typeface="Arial"/>
              </a:rPr>
              <a:t>    </a:t>
            </a:r>
            <a:r>
              <a:rPr b="0" lang="zh-CN" sz="5000" spc="-1" strike="noStrike">
                <a:solidFill>
                  <a:srgbClr val="ff66ff"/>
                </a:solidFill>
                <a:latin typeface="Arial"/>
              </a:rPr>
              <a:t>岳  飞  问  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838080" y="1600200"/>
            <a:ext cx="7239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现在我们再来看看第一个故事后面的一句话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这正如俗话所说，“礼到人心暖，无礼讨人嫌”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44481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联系故事内容来说说你对这句话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33720" y="4267080"/>
            <a:ext cx="901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457200"/>
            <a:ext cx="8839080" cy="5943600"/>
            <a:chOff x="0" y="457200"/>
            <a:chExt cx="8839080" cy="594360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0" y="457200"/>
              <a:ext cx="88390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38080" y="1143000"/>
              <a:ext cx="647640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14400" y="12952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周总理理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2004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100944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09680" y="2438280"/>
            <a:ext cx="4876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67240" y="791280"/>
              <a:ext cx="6699600" cy="47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838080" y="21337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合作学习第二、三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718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）说说你读完这两个故事后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6576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华文中宋"/>
                <a:ea typeface="华文中宋"/>
              </a:rPr>
              <a:t>）如果我们把这三段话交换一下位置再读一读，你有什么想说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14400" y="1828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请同学们复述一下第一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895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牛皋向老者问路，不讲礼貌，老者拒绝回答，后来，岳飞很有礼貌地问老者，骑黑马的刘皋往哪条路去了？老者很快指出刘皋走的那条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914400" y="1828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请同学们复述一下第二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743200"/>
            <a:ext cx="716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0" lang="zh-CN" sz="2800" spc="-1" strike="noStrike">
                <a:solidFill>
                  <a:srgbClr val="800000"/>
                </a:solidFill>
                <a:latin typeface="华文中宋"/>
                <a:ea typeface="华文中宋"/>
              </a:rPr>
              <a:t>一个女青年她的长裙被小学生踩了，小学生立即向她道歉：“对不起！”那位女青年笑着说：“没关系。”这说明小学生虽然弄脏了人家的衣服，因为有礼貌，人家才原谅了他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914400" y="1828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请同学们复述一下第三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6668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有一位理发师为周总理理发，在刮脸时，周总理咳嗽了一声，脸上被划了一道步口子，那位理发师很不安，周总理说：“这不能怪你，怪我咳嗽没打招呼，还幸亏您刀子躲得快哩！”这说明周总理的高尚品格和礼貌待人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67280" y="0"/>
            <a:ext cx="4321080" cy="107964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我会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1125360"/>
            <a:ext cx="7488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组学了第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小故事，其中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能礼貌待人，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可以看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故事让我们明白了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准备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任选一种：角色朗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讲故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本剧表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方式来汇报。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38080" y="1447920"/>
            <a:ext cx="6858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课文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2—4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自然段分别举了古人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今人，普通人和伟人的三个事例来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明礼貌待人，使用礼貌语言的重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这是我们民族的优良传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95440" y="4191120"/>
            <a:ext cx="10191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327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09480" y="1295280"/>
            <a:ext cx="3505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19.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谈礼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743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江苏省盐城市日月路小学  夏正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2282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71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440" y="1844640"/>
            <a:ext cx="51141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课了，小刚从小明桌旁走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小心把小明的文具盒碰倒了，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撒了一地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0"/>
            <a:ext cx="4321080" cy="107964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隶书"/>
              </a:rPr>
              <a:t>我会表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185724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学习第五自然段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77344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）读一读，想想这段告诉了我们什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581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）这一自然段在课文中起什么作用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267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）说说你对“交往”的理解。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790560" y="1924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文小结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743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课文通过三个生动的事例说明，在人与人交往的过程中，要以礼相待，这样才能使人与人之间减少矛盾，和睦相处，生活才会更加美好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52880" y="1619280"/>
            <a:ext cx="885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62120" y="266544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彬彬有礼是高贵的品格中最美丽的花朵。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                        温特（英国画家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76236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有礼貌不一定总是智慧的标志，可是不礼貌总使人怀疑其愚蠢。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                                兰道儿（英国作家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90920" y="17524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名人名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1009440" cy="866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81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867240" y="791280"/>
              <a:ext cx="6699600" cy="47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62120" y="762120"/>
            <a:ext cx="7467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我们请人帮忙时要讲礼貌，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自己无意间犯错时要主动道歉，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别人无意伤害到自己时要宽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，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1371600"/>
            <a:ext cx="65768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66ff"/>
                </a:solidFill>
                <a:uFillTx/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ff66ff"/>
                </a:solidFill>
                <a:uFillTx/>
                <a:latin typeface="Arial"/>
              </a:rPr>
              <a:t>礼到人心暖，无礼讨人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43828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ff66ff"/>
                </a:solidFill>
                <a:uFillTx/>
                <a:latin typeface="Arial"/>
              </a:rPr>
              <a:t>礼貌待人可以在人与人之间架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66ff"/>
                </a:solidFill>
                <a:uFillTx/>
                <a:latin typeface="Arial"/>
              </a:rPr>
              <a:t>一座理解的桥梁，减少相互间的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4114800"/>
            <a:ext cx="77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文雅、和气、宽容的语言，不但沟通了人们的心灵，而且反映出一个人的思想情操和文化修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626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隶书"/>
              </a:rPr>
              <a:t>人在社会上生活，总要和别人交往。学会礼貌待人，恰当地使用礼貌语言，就能使人与人之间的关系更加和谐，社会生活更加美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礼貌用语要记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31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都知道，礼貌用语记得牢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待长辈要用“您”，早晨见面说声“早”，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时互相问问“好”。分别“再见”别忘了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要求人帮，“请”字先用上，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到别人帮，“谢谢”口中讲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意影响人，忙说“对不起”，回答“没关系”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明好孩子，人人都夸奖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2133720"/>
            <a:ext cx="431640" cy="288720"/>
          </a:xfrm>
          <a:custGeom>
            <a:avLst/>
            <a:gdLst>
              <a:gd name="textAreaLeft" fmla="*/ 101520 w 431640"/>
              <a:gd name="textAreaRight" fmla="*/ 330120 w 43164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2565360"/>
            <a:ext cx="431640" cy="289080"/>
          </a:xfrm>
          <a:custGeom>
            <a:avLst/>
            <a:gdLst>
              <a:gd name="textAreaLeft" fmla="*/ 101520 w 431640"/>
              <a:gd name="textAreaRight" fmla="*/ 330120 w 43164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97360"/>
            <a:ext cx="431640" cy="288720"/>
          </a:xfrm>
          <a:custGeom>
            <a:avLst/>
            <a:gdLst>
              <a:gd name="textAreaLeft" fmla="*/ 101520 w 431640"/>
              <a:gd name="textAreaRight" fmla="*/ 330120 w 43164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3429000"/>
            <a:ext cx="431640" cy="289080"/>
          </a:xfrm>
          <a:custGeom>
            <a:avLst/>
            <a:gdLst>
              <a:gd name="textAreaLeft" fmla="*/ 101520 w 431640"/>
              <a:gd name="textAreaRight" fmla="*/ 330120 w 43164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1700280"/>
            <a:ext cx="431640" cy="288720"/>
          </a:xfrm>
          <a:custGeom>
            <a:avLst/>
            <a:gdLst>
              <a:gd name="textAreaLeft" fmla="*/ 101520 w 431640"/>
              <a:gd name="textAreaRight" fmla="*/ 330120 w 43164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3860640"/>
            <a:ext cx="431640" cy="289080"/>
          </a:xfrm>
          <a:custGeom>
            <a:avLst/>
            <a:gdLst>
              <a:gd name="textAreaLeft" fmla="*/ 101520 w 431640"/>
              <a:gd name="textAreaRight" fmla="*/ 330120 w 43164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431640" cy="288720"/>
          </a:xfrm>
          <a:custGeom>
            <a:avLst/>
            <a:gdLst>
              <a:gd name="textAreaLeft" fmla="*/ 101520 w 431640"/>
              <a:gd name="textAreaRight" fmla="*/ 330120 w 43164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205000"/>
            <a:ext cx="6551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程门立雪    孔融让梨    举案齐眉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程门立雪是说对长辈的尊敬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孔融让梨讲弟兄间的谦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举案齐眉是说夫妻间的礼貌，相敬如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1413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与礼貌有关的成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805880" y="3213000"/>
            <a:ext cx="1338120" cy="3645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17680" cy="3789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礼尚往来，往而不来，非礼也；来而不往，亦非礼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见人不施礼，多走二百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君子不失色于人，不失口于人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礼到人心暖，无礼讨人嫌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良言一句三冬暖，恶语伤人六月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050920" y="189000"/>
            <a:ext cx="4680000" cy="122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2987640" y="333360"/>
            <a:ext cx="324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古训俗语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了一段时间，已是第二年春天，刘备始终觉得非找着诸葛亮不可。便叫人选定吉期，斋戒三日，沐浴薰香，抱着一腔热忱，再去寻访。张飞和关羽知道了都不愿意，张飞还说：“不知他有什么了不起，去了两次找不着也就算了，如果一定要他来，那就让我带根绳子去把他绑了来，岂不省事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刘备说：“你要是这样胡闹，这次不要你同去。”张飞见刘备生了气，也就不敢再讲，仍旧和关羽两人跟着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到了卧龙冈前茅庐，一问，知道诸葛亮在家，正在草堂上午睡。刘备不敢惊醒他，便一直站在外面等候。等了好久，诸葛亮才醒來。于是刘备很谦恭地向他请教安邦定国之计，诸葛亮畅谈天下大势，刘备非常钦服，便很诚恳地请他出山相助。诸葛亮本来只想隐居躬耕，不愿过问天下大事的，因感于刘备的三顾茅庐，诚意难却，终于答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42920" y="1916280"/>
            <a:ext cx="68407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请、您好、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对不起、 没关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不用谢、 再见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620640"/>
            <a:ext cx="6121440" cy="107964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35280" y="692280"/>
            <a:ext cx="4680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礼貌用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67240" y="791280"/>
              <a:ext cx="6699600" cy="47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971640" y="9079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3399ff"/>
                </a:solidFill>
                <a:latin typeface="Arial"/>
              </a:rPr>
              <a:t>毛泽东是上个世纪影响最大的人物之一，他从小养成了对长辈有礼貌的美德，后来当了国家主席，仍然能以礼待人。一九五九年，毛主席回韶山，曾专门邀请亲友的老人吃饭，毛主席给老人敬酒，老人们说：“主席敬酒，岂敢岂敢！”毛主席回答：“敬老尊贤，应当应当！”由此可见，文明礼貌是多么重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67240" y="791280"/>
              <a:ext cx="6699600" cy="47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143000" y="17524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善积累的你摘抄你喜欢的有关礼貌的格言，名句，小故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善写作的你选一个能说明礼貌待人好处的事例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３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善创新的你创作一句有关礼貌的格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057400" y="9144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外作业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1117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838080" y="129528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609480"/>
            <a:ext cx="8991360" cy="6248160"/>
            <a:chOff x="0" y="609480"/>
            <a:chExt cx="8991360" cy="62481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0" y="609480"/>
              <a:ext cx="899136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52840" y="1330200"/>
              <a:ext cx="6588000" cy="432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14400" y="33973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3973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3973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3973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33973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69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岳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69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嫌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69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纠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69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师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469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和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4829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u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4829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xi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4829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ji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4829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f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24829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x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3210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24066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45403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14479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27874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礼貌　矛盾　咳嗽　思想　情操</a:t>
            </a: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9304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粗暴　纠纷　安慰　文化　修养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28800" y="1828800"/>
            <a:ext cx="2590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隶书"/>
              </a:rPr>
              <a:t>词语理解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隶书"/>
              <a:ea typeface="隶书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10098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838080" y="16002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自由读第一段思考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这一段主要讲了什么道理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  <a:ea typeface="华文中宋"/>
              </a:rPr>
              <a:t>礼貌待人、使用礼貌用语是我们中华民族的优良传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7242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有感情地齐读这一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81080" y="4419720"/>
            <a:ext cx="1009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62120" y="1600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为了说明这个道理，作者用了一句古训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3894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请同学们用课文中的语句来说一说这句古训的意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90720" y="3048120"/>
            <a:ext cx="7619760" cy="1312920"/>
            <a:chOff x="990720" y="3048120"/>
            <a:chExt cx="7619760" cy="1312920"/>
          </a:xfrm>
        </p:grpSpPr>
        <p:sp>
          <p:nvSpPr>
            <p:cNvPr id="103" name=""/>
            <p:cNvSpPr/>
            <p:nvPr/>
          </p:nvSpPr>
          <p:spPr>
            <a:xfrm>
              <a:off x="990720" y="3200400"/>
              <a:ext cx="701028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6680" y="3048120"/>
              <a:ext cx="7543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君子不失色于人，不失口于人。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00200" y="4160880"/>
            <a:ext cx="78732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8900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君子不失色于人，不失口于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341360"/>
            <a:ext cx="9144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有道德的人待人应该彬彬有礼，不能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度粗暴，也不能出言不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90792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924280"/>
            <a:ext cx="849780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</a:rPr>
              <a:t>色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a: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颜色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b: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脸上表现的神气，样子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c: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情景，景象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d: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物品的质量。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0766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30021" t="0" r="0" b="17823"/>
            <a:stretch/>
          </p:blipFill>
          <p:spPr>
            <a:xfrm>
              <a:off x="152280" y="609480"/>
              <a:ext cx="88394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990720" y="1295280"/>
              <a:ext cx="647676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8080" y="182880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用三个小故事来进一步说明讲礼貌的好处。请同学们先把写故事的语句用括号圈出来，再自由选择一个故事读一读，要注意把故事中人物的神态、动作、语言读好。谁能把故事读得有声有色，就说明他已经读懂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31T05:57:3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办公室">
    <vt:r8>1</vt:r8>
  </property>
</Properties>
</file>