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2F6-606A-4E4D-8418-7F43FCFF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7CA-C060-4BDE-B1B7-3424B36A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A1E-D4D8-4F0A-AC35-5EED2060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F11-A309-41C8-B8ED-28AAA283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1F8-D020-43C1-9641-A147CFE7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BE7-29A8-45E4-9F42-23A5F803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791-E36D-4187-8492-1BF1AB3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847-57BD-4E28-BBF2-031F1AEA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8B5-A7D1-4BDE-9130-182AFEA4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C43-8507-4AA3-A6C2-B7B850B7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BF7-677D-49FF-83B4-989BB45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417-2114-40E4-B05D-7A3620E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158C-3C16-47C5-A161-1EAFB3A4B7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8.xml"/><Relationship Id="rId19" Type="http://schemas.openxmlformats.org/officeDocument/2006/relationships/image" Target="../media/image3.gif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18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2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8.xml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8.xml"/><Relationship Id="rId19" Type="http://schemas.openxmlformats.org/officeDocument/2006/relationships/image" Target="../media/image3.gif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8.xml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image" Target="../media/image11.png"/><Relationship Id="rId5" Type="http://schemas.openxmlformats.org/officeDocument/2006/relationships/image" Target="../media/image2.jpeg"/><Relationship Id="rId6" Type="http://schemas.openxmlformats.org/officeDocument/2006/relationships/slide" Target="slide1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2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11.xml"/><Relationship Id="rId21" Type="http://schemas.openxmlformats.org/officeDocument/2006/relationships/slide" Target="slide8.xml"/><Relationship Id="rId22" Type="http://schemas.openxmlformats.org/officeDocument/2006/relationships/image" Target="../media/image3.gif"/><Relationship Id="rId23" Type="http://schemas.openxmlformats.org/officeDocument/2006/relationships/slide" Target="slide16.xml"/><Relationship Id="rId24" Type="http://schemas.openxmlformats.org/officeDocument/2006/relationships/slide" Target="slide17.xml"/><Relationship Id="rId2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image" Target="../media/image11.png"/><Relationship Id="rId5" Type="http://schemas.openxmlformats.org/officeDocument/2006/relationships/image" Target="../media/image2.jpeg"/><Relationship Id="rId6" Type="http://schemas.openxmlformats.org/officeDocument/2006/relationships/slide" Target="slide1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2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11.xml"/><Relationship Id="rId21" Type="http://schemas.openxmlformats.org/officeDocument/2006/relationships/slide" Target="slide8.xml"/><Relationship Id="rId22" Type="http://schemas.openxmlformats.org/officeDocument/2006/relationships/image" Target="../media/image3.gif"/><Relationship Id="rId23" Type="http://schemas.openxmlformats.org/officeDocument/2006/relationships/slide" Target="slide16.xml"/><Relationship Id="rId24" Type="http://schemas.openxmlformats.org/officeDocument/2006/relationships/slide" Target="slide17.xml"/><Relationship Id="rId2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image" Target="../media/image11.png"/><Relationship Id="rId5" Type="http://schemas.openxmlformats.org/officeDocument/2006/relationships/image" Target="../media/image2.jpeg"/><Relationship Id="rId6" Type="http://schemas.openxmlformats.org/officeDocument/2006/relationships/slide" Target="slide1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2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11.xml"/><Relationship Id="rId21" Type="http://schemas.openxmlformats.org/officeDocument/2006/relationships/slide" Target="slide8.xml"/><Relationship Id="rId22" Type="http://schemas.openxmlformats.org/officeDocument/2006/relationships/image" Target="../media/image3.gif"/><Relationship Id="rId23" Type="http://schemas.openxmlformats.org/officeDocument/2006/relationships/slide" Target="slide16.xml"/><Relationship Id="rId24" Type="http://schemas.openxmlformats.org/officeDocument/2006/relationships/slide" Target="slide17.xml"/><Relationship Id="rId2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5.xml"/><Relationship Id="rId3" Type="http://schemas.openxmlformats.org/officeDocument/2006/relationships/image" Target="../media/image2.jpe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18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2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8.xml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18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2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8.xml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4.xml"/><Relationship Id="rId3" Type="http://schemas.openxmlformats.org/officeDocument/2006/relationships/image" Target="../media/image2.jpe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18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2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8.xml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image" Target="../media/image2.jpe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8.xml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8.xml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8.xml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2.jpeg"/><Relationship Id="rId22" Type="http://schemas.openxmlformats.org/officeDocument/2006/relationships/slide" Target="slide1.xml"/><Relationship Id="rId23" Type="http://schemas.openxmlformats.org/officeDocument/2006/relationships/slide" Target="slide3.xml"/><Relationship Id="rId24" Type="http://schemas.openxmlformats.org/officeDocument/2006/relationships/slide" Target="slide4.xml"/><Relationship Id="rId25" Type="http://schemas.openxmlformats.org/officeDocument/2006/relationships/slide" Target="slide5.xml"/><Relationship Id="rId26" Type="http://schemas.openxmlformats.org/officeDocument/2006/relationships/slide" Target="slide6.xml"/><Relationship Id="rId27" Type="http://schemas.openxmlformats.org/officeDocument/2006/relationships/slide" Target="slide13.xml"/><Relationship Id="rId28" Type="http://schemas.openxmlformats.org/officeDocument/2006/relationships/slide" Target="slide14.xml"/><Relationship Id="rId29" Type="http://schemas.openxmlformats.org/officeDocument/2006/relationships/slide" Target="slide19.xml"/><Relationship Id="rId30" Type="http://schemas.openxmlformats.org/officeDocument/2006/relationships/slide" Target="slide18.xml"/><Relationship Id="rId31" Type="http://schemas.openxmlformats.org/officeDocument/2006/relationships/slide" Target="slide16.xml"/><Relationship Id="rId32" Type="http://schemas.openxmlformats.org/officeDocument/2006/relationships/slide" Target="slide17.xml"/><Relationship Id="rId33" Type="http://schemas.openxmlformats.org/officeDocument/2006/relationships/slide" Target="slide12.xml"/><Relationship Id="rId34" Type="http://schemas.openxmlformats.org/officeDocument/2006/relationships/slide" Target="slide9.xml"/><Relationship Id="rId35" Type="http://schemas.openxmlformats.org/officeDocument/2006/relationships/slide" Target="slide10.xml"/><Relationship Id="rId36" Type="http://schemas.openxmlformats.org/officeDocument/2006/relationships/slide" Target="slide11.xml"/><Relationship Id="rId37" Type="http://schemas.openxmlformats.org/officeDocument/2006/relationships/slide" Target="slide8.xml"/><Relationship Id="rId38" Type="http://schemas.openxmlformats.org/officeDocument/2006/relationships/image" Target="../media/image3.gif"/><Relationship Id="rId3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image" Target="../media/image11.png"/><Relationship Id="rId5" Type="http://schemas.openxmlformats.org/officeDocument/2006/relationships/image" Target="../media/image2.jpeg"/><Relationship Id="rId6" Type="http://schemas.openxmlformats.org/officeDocument/2006/relationships/slide" Target="slide1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2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11.xml"/><Relationship Id="rId21" Type="http://schemas.openxmlformats.org/officeDocument/2006/relationships/slide" Target="slide8.xml"/><Relationship Id="rId22" Type="http://schemas.openxmlformats.org/officeDocument/2006/relationships/image" Target="../media/image3.gif"/><Relationship Id="rId23" Type="http://schemas.openxmlformats.org/officeDocument/2006/relationships/slide" Target="slide17.xml"/><Relationship Id="rId24" Type="http://schemas.openxmlformats.org/officeDocument/2006/relationships/slide" Target="slide16.xml"/><Relationship Id="rId2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9.xml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8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2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8.xml"/><Relationship Id="rId21" Type="http://schemas.openxmlformats.org/officeDocument/2006/relationships/image" Target="../media/image3.gif"/><Relationship Id="rId22" Type="http://schemas.openxmlformats.org/officeDocument/2006/relationships/slide" Target="slide17.xml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8.xml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8.xml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708280"/>
            <a:ext cx="6408720" cy="10083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太空生活趣事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0280"/>
            <a:ext cx="4932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教课标版小学语文二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9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0"/>
          <a:stretch/>
        </p:blipFill>
        <p:spPr>
          <a:xfrm>
            <a:off x="7308720" y="6210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9332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sp>
        <p:nvSpPr>
          <p:cNvPr id="153" name=""/>
          <p:cNvSpPr/>
          <p:nvPr/>
        </p:nvSpPr>
        <p:spPr>
          <a:xfrm>
            <a:off x="900000" y="333360"/>
            <a:ext cx="7920000" cy="73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　　　　　　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、运用书上的内容把话说完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　　　　　　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、用了解到的内容把话说完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　　　　　　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、联系生活，大胆想象，把话说完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　　　　可独立完成，也可同桌互助完成说话练习：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大家好！我是太空小导游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，欢迎大家来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（姓名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空旅游。游客们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必须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，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　　　　　　　　（做什么事）　　 　　　（怎么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然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　　　（会发生什么情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祝大家在太空度过美好的一天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89000"/>
            <a:ext cx="187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03360"/>
            <a:ext cx="24112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"/>
                            </p:stCondLst>
                            <p:childTnLst>
                              <p:par>
                                <p:cTn id="2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sp>
        <p:nvSpPr>
          <p:cNvPr id="159" name=""/>
          <p:cNvSpPr/>
          <p:nvPr/>
        </p:nvSpPr>
        <p:spPr>
          <a:xfrm>
            <a:off x="900000" y="692280"/>
            <a:ext cx="230508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作业超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1700280"/>
            <a:ext cx="792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　　柜台一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：说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当太空小导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　　柜台二：写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写话练习。根据手上的资料，展开合理的想象，想象自己在在太空中生活一天会发生什么趣事？以“我在太空的一天”为题目写一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　　柜台三：画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绘画。自由想象太空的奥秘，用彩笔画出自己心目中的太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　　柜台四：查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上网或到图书馆查找有关太空知识的资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9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0"/>
          <a:stretch/>
        </p:blipFill>
        <p:spPr>
          <a:xfrm>
            <a:off x="6804000" y="260280"/>
            <a:ext cx="1728720" cy="1608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00"/>
                            </p:stCondLst>
                            <p:childTnLst>
                              <p:par>
                                <p:cTn id="2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2103480"/>
            <a:ext cx="5305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61440" cy="6262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9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9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92360" y="2924280"/>
            <a:ext cx="2523960" cy="863640"/>
          </a:xfrm>
          <a:prstGeom prst="cloudCallout">
            <a:avLst>
              <a:gd name="adj1" fmla="val -68865"/>
              <a:gd name="adj2" fmla="val 19671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1687680" y="4005360"/>
            <a:ext cx="2523960" cy="863640"/>
          </a:xfrm>
          <a:prstGeom prst="cloudCallout">
            <a:avLst>
              <a:gd name="adj1" fmla="val -70125"/>
              <a:gd name="adj2" fmla="val -80699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828000">
            <a:off x="4889160" y="477720"/>
            <a:ext cx="2523960" cy="863640"/>
          </a:xfrm>
          <a:prstGeom prst="cloudCallout">
            <a:avLst>
              <a:gd name="adj1" fmla="val 70500"/>
              <a:gd name="adj2" fmla="val -2750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26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4859280" y="1557360"/>
            <a:ext cx="2524320" cy="863640"/>
          </a:xfrm>
          <a:prstGeom prst="cloudCallout">
            <a:avLst>
              <a:gd name="adj1" fmla="val 67171"/>
              <a:gd name="adj2" fmla="val -71509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95280" y="2421000"/>
            <a:ext cx="946080" cy="136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675640" y="0"/>
            <a:ext cx="936720" cy="641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2"/>
          <a:stretch/>
        </p:blipFill>
        <p:spPr>
          <a:xfrm>
            <a:off x="7740720" y="6143760"/>
            <a:ext cx="952560" cy="71424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23" action="ppaction://hlinksldjump"/>
          </p:cNvPr>
          <p:cNvSpPr/>
          <p:nvPr/>
        </p:nvSpPr>
        <p:spPr>
          <a:xfrm>
            <a:off x="5724360" y="3284640"/>
            <a:ext cx="12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4" action="ppaction://hlinksldjump"/>
          </p:cNvPr>
          <p:cNvSpPr/>
          <p:nvPr/>
        </p:nvSpPr>
        <p:spPr>
          <a:xfrm>
            <a:off x="1908000" y="2276640"/>
            <a:ext cx="7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75 C 0.02708 0.13287 0.05104 0.19097 0.08541 0.22083 C 0.11996 0.25116 0.16631 0.24606 0.21006 0.25555 C 0.25381 0.26481 0.29913 0.27291 0.34739 0.27708 C 0.39583 0.28125 0.44895 0.28333 0.50034 0.28055 C 0.55191 0.27824 0.60347 0.27384 0.65625 0.26273 C 0.70885 0.25162 0.77708 0.23055 0.81631 0.21389 C 0.85555 0.19745 0.86944 0.18217 0.89131 0.16319 C 0.91319 0.14444 0.93819 0.13194 0.94791 0.1 C 0.95763 0.06828 0.9526 0.01157 0.94947 -0.02801 C 0.94635 -0.06759 0.93385 -0.10787 0.92951 -0.13797 C 0.92517 -0.16852 0.92812 -0.19306 0.92378 -0.21042 C 0.91944 -0.22732 0.93871 -0.23519 0.90399 -0.24097 C 0.86927 -0.24676 0.75451 -0.24398 0.7151 -0.24491 E">
                                      <p:cBhvr>
                                        <p:cTn id="294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55680" y="3213000"/>
            <a:ext cx="2524320" cy="863640"/>
          </a:xfrm>
          <a:prstGeom prst="cloudCallout">
            <a:avLst>
              <a:gd name="adj1" fmla="val -60879"/>
              <a:gd name="adj2" fmla="val 59925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1255680" y="4437000"/>
            <a:ext cx="2524320" cy="863640"/>
          </a:xfrm>
          <a:prstGeom prst="cloudCallout">
            <a:avLst>
              <a:gd name="adj1" fmla="val -62643"/>
              <a:gd name="adj2" fmla="val -62500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828000">
            <a:off x="4889160" y="477720"/>
            <a:ext cx="2523960" cy="863640"/>
          </a:xfrm>
          <a:prstGeom prst="cloudCallout">
            <a:avLst>
              <a:gd name="adj1" fmla="val 53162"/>
              <a:gd name="adj2" fmla="val 15513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26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4788000" y="1700280"/>
            <a:ext cx="2523960" cy="863640"/>
          </a:xfrm>
          <a:prstGeom prst="cloudCallout">
            <a:avLst>
              <a:gd name="adj1" fmla="val 54402"/>
              <a:gd name="adj2" fmla="val -66175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380360" y="836640"/>
            <a:ext cx="946080" cy="1368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244000" y="0"/>
            <a:ext cx="1116000" cy="641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2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rId23" action="ppaction://hlinksldjump"/>
          </p:cNvPr>
          <p:cNvSpPr/>
          <p:nvPr/>
        </p:nvSpPr>
        <p:spPr>
          <a:xfrm>
            <a:off x="5940360" y="3284640"/>
            <a:ext cx="7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24" action="ppaction://hlinksldjump"/>
          </p:cNvPr>
          <p:cNvSpPr/>
          <p:nvPr/>
        </p:nvSpPr>
        <p:spPr>
          <a:xfrm>
            <a:off x="1835280" y="2205000"/>
            <a:ext cx="86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16 -0.00926 C -0.11493 -0.01991 -0.14652 -0.03032 -0.18385 -0.03611 C -0.221 -0.04213 -0.26684 -0.04375 -0.30711 -0.04514 C -0.34722 -0.04653 -0.37204 -0.04745 -0.42517 -0.04514 C -0.47847 -0.04282 -0.56632 -0.0382 -0.62638 -0.03032 C -0.68663 -0.02222 -0.74774 -0.0206 -0.78611 0.00255 C -0.8243 0.02569 -0.87829 0.06505 -0.85659 0.10833 C -0.83472 0.15162 -0.71822 0.23055 -0.65538 0.26343 C -0.59253 0.2963 -0.54149 0.29444 -0.47934 0.30509 C -0.41701 0.31574 -0.31857 0.3243 -0.28194 0.32755 C -0.24531 0.33079 -0.25243 0.32755 -0.2592 0.32454 E">
                                      <p:cBhvr>
                                        <p:cTn id="318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55680" y="3141720"/>
            <a:ext cx="2524320" cy="863640"/>
          </a:xfrm>
          <a:prstGeom prst="cloudCallout">
            <a:avLst>
              <a:gd name="adj1" fmla="val -60879"/>
              <a:gd name="adj2" fmla="val 59925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1255680" y="4510080"/>
            <a:ext cx="2524320" cy="863640"/>
          </a:xfrm>
          <a:prstGeom prst="cloudCallout">
            <a:avLst>
              <a:gd name="adj1" fmla="val -63208"/>
              <a:gd name="adj2" fmla="val -52203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828000">
            <a:off x="4889160" y="333360"/>
            <a:ext cx="2523960" cy="863640"/>
          </a:xfrm>
          <a:prstGeom prst="cloudCallout">
            <a:avLst>
              <a:gd name="adj1" fmla="val 70500"/>
              <a:gd name="adj2" fmla="val -2750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26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4859280" y="1413000"/>
            <a:ext cx="2524320" cy="863640"/>
          </a:xfrm>
          <a:prstGeom prst="cloudCallout">
            <a:avLst>
              <a:gd name="adj1" fmla="val 69495"/>
              <a:gd name="adj2" fmla="val -64523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003640" y="3068640"/>
            <a:ext cx="946440" cy="1368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23" action="ppaction://hlinksldjump"/>
          </p:cNvPr>
          <p:cNvSpPr/>
          <p:nvPr/>
        </p:nvSpPr>
        <p:spPr>
          <a:xfrm>
            <a:off x="5940360" y="3392640"/>
            <a:ext cx="100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24" action="ppaction://hlinksldjump"/>
          </p:cNvPr>
          <p:cNvSpPr/>
          <p:nvPr/>
        </p:nvSpPr>
        <p:spPr>
          <a:xfrm>
            <a:off x="2050920" y="2349360"/>
            <a:ext cx="5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78 -0.00833 C 0.16458 -0.04375 0.25121 -0.07893 0.29097 -0.10278 C 0.33073 -0.12662 0.31406 -0.13125 0.31649 -0.15092 C 0.31892 -0.1706 0.31441 -0.2044 0.30607 -0.22129 C 0.29757 -0.23819 0.29028 -0.24051 0.26545 -0.25278 C 0.2408 -0.26504 0.20833 -0.28055 0.15746 -0.29537 C 0.1066 -0.31018 0.00642 -0.33264 -0.03924 -0.34166 C -0.08472 -0.35069 -0.08872 -0.34791 -0.1158 -0.34907 C -0.14271 -0.35023 -0.17639 -0.35092 -0.20122 -0.34907 C -0.22622 -0.34722 -0.24028 -0.34815 -0.2658 -0.33796 C -0.29132 -0.32778 -0.33247 -0.30301 -0.35434 -0.28796 C -0.37639 -0.27291 -0.38958 -0.25555 -0.39792 -0.24722 C -0.40608 -0.23889 -0.40504 -0.23842 -0.40399 -0.23796 E">
                                      <p:cBhvr>
                                        <p:cTn id="333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0" y="4365720"/>
            <a:ext cx="4572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关键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关键句子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68600" y="4343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走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3038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为了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能平稳地走路，宇航员都穿鞋底带钩的鞋子，好牢牢地钩住带网格的地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0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0" y="4343400"/>
            <a:ext cx="4572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关键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关键句子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4343400"/>
            <a:ext cx="328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洗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53038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为了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解决这个难题，科学家设计了一种特殊的沐浴器，它可有把喷出来的水朝一个方向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0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6000" y="48769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0" y="5013360"/>
            <a:ext cx="41911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关键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关键句子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7040" y="4035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18148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68600" y="5105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喝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791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宇航员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要想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喝到水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得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使用一种带吸管的塑料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0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38080" y="5334120"/>
            <a:ext cx="266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0" y="4572000"/>
            <a:ext cx="4572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关键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关键句子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5562720"/>
            <a:ext cx="2057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68600" y="4648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睡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08240" y="6550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554688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要想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睡一个安稳觉，宇航员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必须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把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己绑在睡袋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09080" y="165240"/>
            <a:ext cx="1116000" cy="6153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2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16360" y="2708280"/>
            <a:ext cx="6408720" cy="10083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太空生活趣事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0280"/>
            <a:ext cx="4932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教课标版小学语文二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9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9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9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48360" y="191628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hair1"/>
          <p:cNvSpPr/>
          <p:nvPr/>
        </p:nvSpPr>
        <p:spPr>
          <a:xfrm>
            <a:off x="4233960" y="3090960"/>
            <a:ext cx="676080" cy="676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5877000"/>
            <a:ext cx="1655640" cy="576360"/>
          </a:xfrm>
          <a:custGeom>
            <a:avLst/>
            <a:gdLst>
              <a:gd name="textAreaLeft" fmla="*/ 37080 w 1655640"/>
              <a:gd name="textAreaRight" fmla="*/ 1618560 w 1655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2022" h="21600">
                <a:moveTo>
                  <a:pt x="0" y="0"/>
                </a:moveTo>
                <a:lnTo>
                  <a:pt x="62022" y="0"/>
                </a:lnTo>
                <a:lnTo>
                  <a:pt x="62022" y="21600"/>
                </a:lnTo>
                <a:lnTo>
                  <a:pt x="0" y="21600"/>
                </a:lnTo>
                <a:close/>
              </a:path>
              <a:path fill="lightenLess" w="62022" h="21600">
                <a:moveTo>
                  <a:pt x="0" y="0"/>
                </a:moveTo>
                <a:lnTo>
                  <a:pt x="62022" y="0"/>
                </a:lnTo>
                <a:lnTo>
                  <a:pt x="60622" y="1400"/>
                </a:lnTo>
                <a:lnTo>
                  <a:pt x="1400" y="1400"/>
                </a:lnTo>
                <a:close/>
              </a:path>
              <a:path fill="darken" w="62022" h="21600">
                <a:moveTo>
                  <a:pt x="62022" y="0"/>
                </a:moveTo>
                <a:lnTo>
                  <a:pt x="62022" y="21600"/>
                </a:lnTo>
                <a:lnTo>
                  <a:pt x="60622" y="20200"/>
                </a:lnTo>
                <a:lnTo>
                  <a:pt x="60622" y="1400"/>
                </a:lnTo>
                <a:close/>
              </a:path>
              <a:path fill="darkenLess" w="62022" h="21600">
                <a:moveTo>
                  <a:pt x="62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22" y="20200"/>
                </a:lnTo>
                <a:close/>
              </a:path>
              <a:path fill="lighten" w="62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22" h="21600">
                <a:moveTo>
                  <a:pt x="24005" y="7301"/>
                </a:moveTo>
                <a:lnTo>
                  <a:pt x="24919" y="7301"/>
                </a:lnTo>
                <a:lnTo>
                  <a:pt x="25302" y="7667"/>
                </a:lnTo>
                <a:lnTo>
                  <a:pt x="34510" y="7667"/>
                </a:lnTo>
                <a:lnTo>
                  <a:pt x="35067" y="8224"/>
                </a:lnTo>
                <a:lnTo>
                  <a:pt x="35067" y="8772"/>
                </a:lnTo>
                <a:lnTo>
                  <a:pt x="36912" y="8772"/>
                </a:lnTo>
                <a:lnTo>
                  <a:pt x="37278" y="8224"/>
                </a:lnTo>
                <a:lnTo>
                  <a:pt x="38018" y="8224"/>
                </a:lnTo>
                <a:lnTo>
                  <a:pt x="38018" y="13376"/>
                </a:lnTo>
                <a:lnTo>
                  <a:pt x="37278" y="13376"/>
                </a:lnTo>
                <a:lnTo>
                  <a:pt x="36912" y="12828"/>
                </a:lnTo>
                <a:lnTo>
                  <a:pt x="35067" y="12828"/>
                </a:lnTo>
                <a:lnTo>
                  <a:pt x="35067" y="14107"/>
                </a:lnTo>
                <a:lnTo>
                  <a:pt x="25484" y="14107"/>
                </a:lnTo>
                <a:lnTo>
                  <a:pt x="25484" y="9877"/>
                </a:lnTo>
                <a:lnTo>
                  <a:pt x="25302" y="9877"/>
                </a:lnTo>
                <a:lnTo>
                  <a:pt x="24919" y="10243"/>
                </a:lnTo>
                <a:lnTo>
                  <a:pt x="24005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16000" y="6858000"/>
            <a:ext cx="720720" cy="1423800"/>
            <a:chOff x="1116000" y="6858000"/>
            <a:chExt cx="720720" cy="142380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 flipH="1">
              <a:off x="1188720" y="6858000"/>
              <a:ext cx="622440" cy="7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116000" y="757836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82480" y="6858000"/>
            <a:ext cx="720720" cy="1424160"/>
            <a:chOff x="582480" y="6858000"/>
            <a:chExt cx="720720" cy="1424160"/>
          </a:xfrm>
        </p:grpSpPr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 flipH="1">
              <a:off x="65520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8248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舒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92360" y="6858000"/>
            <a:ext cx="720720" cy="1424160"/>
            <a:chOff x="1692360" y="6858000"/>
            <a:chExt cx="720720" cy="142416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 flipH="1">
              <a:off x="176508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69236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79" name="" descr=""/>
            <p:cNvPicPr/>
            <p:nvPr/>
          </p:nvPicPr>
          <p:blipFill>
            <a:blip r:embed="rId7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82" name="" descr=""/>
            <p:cNvPicPr/>
            <p:nvPr/>
          </p:nvPicPr>
          <p:blipFill>
            <a:blip r:embed="rId8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85" name="" descr=""/>
            <p:cNvPicPr/>
            <p:nvPr/>
          </p:nvPicPr>
          <p:blipFill>
            <a:blip r:embed="rId9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91" name="" descr=""/>
            <p:cNvPicPr/>
            <p:nvPr/>
          </p:nvPicPr>
          <p:blipFill>
            <a:blip r:embed="rId11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94" name="" descr=""/>
            <p:cNvPicPr/>
            <p:nvPr/>
          </p:nvPicPr>
          <p:blipFill>
            <a:blip r:embed="rId12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97" name="" descr=""/>
            <p:cNvPicPr/>
            <p:nvPr/>
          </p:nvPicPr>
          <p:blipFill>
            <a:blip r:embed="rId13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100" name="" descr=""/>
            <p:cNvPicPr/>
            <p:nvPr/>
          </p:nvPicPr>
          <p:blipFill>
            <a:blip r:embed="rId14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103" name="" descr=""/>
            <p:cNvPicPr/>
            <p:nvPr/>
          </p:nvPicPr>
          <p:blipFill>
            <a:blip r:embed="rId15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106" name="" descr=""/>
            <p:cNvPicPr/>
            <p:nvPr/>
          </p:nvPicPr>
          <p:blipFill>
            <a:blip r:embed="rId16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0" y="7029360"/>
            <a:ext cx="720720" cy="1424160"/>
            <a:chOff x="0" y="7029360"/>
            <a:chExt cx="720720" cy="1424160"/>
          </a:xfrm>
        </p:grpSpPr>
        <p:pic>
          <p:nvPicPr>
            <p:cNvPr id="109" name="" descr=""/>
            <p:cNvPicPr/>
            <p:nvPr/>
          </p:nvPicPr>
          <p:blipFill>
            <a:blip r:embed="rId17"/>
            <a:stretch/>
          </p:blipFill>
          <p:spPr>
            <a:xfrm flipH="1">
              <a:off x="72360" y="702936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0" y="775008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112" name="" descr=""/>
            <p:cNvPicPr/>
            <p:nvPr/>
          </p:nvPicPr>
          <p:blipFill>
            <a:blip r:embed="rId18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0" y="6858000"/>
            <a:ext cx="720720" cy="1424160"/>
            <a:chOff x="0" y="6858000"/>
            <a:chExt cx="720720" cy="1424160"/>
          </a:xfrm>
        </p:grpSpPr>
        <p:pic>
          <p:nvPicPr>
            <p:cNvPr id="115" name="" descr=""/>
            <p:cNvPicPr/>
            <p:nvPr/>
          </p:nvPicPr>
          <p:blipFill>
            <a:blip r:embed="rId19"/>
            <a:stretch/>
          </p:blipFill>
          <p:spPr>
            <a:xfrm flipH="1">
              <a:off x="72360" y="6858000"/>
              <a:ext cx="622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7578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11440" y="4076640"/>
            <a:ext cx="5472000" cy="1152720"/>
          </a:xfrm>
          <a:prstGeom prst="cloudCallout">
            <a:avLst>
              <a:gd name="adj1" fmla="val -66740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比一比谁最棒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653000"/>
            <a:ext cx="230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0"/>
          <a:stretch/>
        </p:blipFill>
        <p:spPr>
          <a:xfrm>
            <a:off x="357120" y="4741920"/>
            <a:ext cx="1905120" cy="1647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2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3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4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5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6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7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8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9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0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1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2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3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4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5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6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7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8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-0.06983 C -0.03351 -0.06104 -0.1033 -0.05133 0.04861 -0.12694 C 0.20052 -0.20139 0.94497 -0.38104 0.94792 -0.51838 C 0.95087 -0.65526 0.50781 -0.80231 0.06545 -0.9489 E">
                                      <p:cBhvr>
                                        <p:cTn id="51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3 -0.01572 C 0.37761 -0.15237 0.81962 -0.28763 0.85053 -0.44185 C 0.88247 -0.59607 0.24757 -0.85596 0.12327 -0.94081 C -0.000520000000000007 -1.02428 0.10921 -0.95006 0.10539 -0.95075 E">
                                      <p:cBhvr>
                                        <p:cTn id="55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07 -0.12763 C 0.1493 -0.15468 0.16337 -0.18104 0.17135 -0.19399 C 0.17882 -0.20694 0.08819 -0.16162 0.18264 -0.20717 C 0.27778 -0.25318 0.74653 -0.34428 0.74132 -0.46844 C 0.73663 -0.5926 0.44496 -0.77272 0.15382 -0.95168 E">
                                      <p:cBhvr>
                                        <p:cTn id="59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51 -0.02081 C 0.1651 -0.14359 0.58889 -0.26613 0.66371 -0.42151 C 0.73854 -0.57711 0.26944 -0.8652 0.19062 -0.95399 E">
                                      <p:cBhvr>
                                        <p:cTn id="63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0.0141 C 0.44306 -0.12347 0.8809 -0.26081 0.95781 -0.42243 C 1.03472 -0.58428 0.54965 -0.86613 0.46719 -0.95607 E">
                                      <p:cBhvr>
                                        <p:cTn id="67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2497 C 0.43802 -0.11838 0.86354 -0.26174 0.95694 -0.42474 C 1.05035 -0.58775 0.63681 -0.8659 0.57118 -0.95399 E">
                                      <p:cBhvr>
                                        <p:cTn id="71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873 C 0.42396 -0.13804 0.84809 -0.29457 0.96024 -0.45665 C 1.0724 -0.61896 0.72101 -0.87122 0.67309 -0.95376 E">
                                      <p:cBhvr>
                                        <p:cTn id="75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2867 C 0.41424 -0.18081 0.82622 -0.33318 0.95312 -0.48809 C 1.08003 -0.64301 0.79566 -0.88 0.76424 -0.95815 E">
                                      <p:cBhvr>
                                        <p:cTn id="79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2451 C 0.39549 -0.18705 0.79497 -0.3496 0.94045 -0.50451 C 1.08594 -0.65942 0.88108 -0.87908 0.8691 -0.95399 E">
                                      <p:cBhvr>
                                        <p:cTn id="83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1665 C 0.46736 -0.14312 0.93108 -0.30289 0.93403 -0.42937 C 0.93681 -0.55584 0.17326 -0.69018 0.02118 -0.7422 E">
                                      <p:cBhvr>
                                        <p:cTn id="87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03492 C 0.45573 -0.17688 0.91615 -0.31861 0.93837 -0.43653 C 0.96059 -0.55445 0.26372 -0.69203 0.12882 -0.74312 E">
                                      <p:cBhvr>
                                        <p:cTn id="91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3492 C 0.40556 -0.18428 0.85052 -0.33341 0.89392 -0.45133 C 0.93733 -0.56925 0.33316 -0.69457 0.22066 -0.74312 E">
                                      <p:cBhvr>
                                        <p:cTn id="95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3908 C 0.43524 -0.157 0.88247 -0.27492 0.93889 -0.39214 C 0.99531 -0.50937 0.4283 -0.68463 0.32622 -0.74312 E">
                                      <p:cBhvr>
                                        <p:cTn id="99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4116 C 0.41771 -0.16324 0.84757 -0.28532 0.92135 -0.40255 C 0.99514 -0.51977 0.51267 -0.68786 0.4309 -0.74497 E">
                                      <p:cBhvr>
                                        <p:cTn id="103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5781 C 0.4151 -0.1852 0.84236 -0.3126 0.93576 -0.42775 C 1.02917 -0.54289 0.61285 -0.69549 0.54844 -0.74914 E">
                                      <p:cBhvr>
                                        <p:cTn id="107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911 C 0.37326 -0.22775 0.78594 -0.36439 0.90191 -0.47792 C 1.01788 -0.59145 0.69687 -0.72278 0.6559 -0.77179 E">
                                      <p:cBhvr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548 C 0.40208 -0.20347 0.80226 -0.35122 0.93194 -0.46682 C 1.06163 -0.58243 0.80503 -0.70104 0.77969 -0.74798 E">
                                      <p:cBhvr>
                                        <p:cTn id="115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55680" y="3070080"/>
            <a:ext cx="2524320" cy="863640"/>
          </a:xfrm>
          <a:prstGeom prst="cloudCallout">
            <a:avLst>
              <a:gd name="adj1" fmla="val -64337"/>
              <a:gd name="adj2" fmla="val 58087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1255680" y="4365720"/>
            <a:ext cx="2524320" cy="863640"/>
          </a:xfrm>
          <a:prstGeom prst="cloudCallout">
            <a:avLst>
              <a:gd name="adj1" fmla="val -63773"/>
              <a:gd name="adj2" fmla="val -52388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828000">
            <a:off x="4889160" y="333360"/>
            <a:ext cx="2523960" cy="863640"/>
          </a:xfrm>
          <a:prstGeom prst="cloudCallout">
            <a:avLst>
              <a:gd name="adj1" fmla="val 68226"/>
              <a:gd name="adj2" fmla="val -5412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26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4859280" y="1484280"/>
            <a:ext cx="2524320" cy="863640"/>
          </a:xfrm>
          <a:prstGeom prst="cloudCallout">
            <a:avLst>
              <a:gd name="adj1" fmla="val 67736"/>
              <a:gd name="adj2" fmla="val -69671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740720" y="4869000"/>
            <a:ext cx="94608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2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23" action="ppaction://hlinksldjump"/>
          </p:cNvPr>
          <p:cNvSpPr/>
          <p:nvPr/>
        </p:nvSpPr>
        <p:spPr>
          <a:xfrm>
            <a:off x="1979640" y="2276640"/>
            <a:ext cx="7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4" action="ppaction://hlinksldjump"/>
          </p:cNvPr>
          <p:cNvSpPr/>
          <p:nvPr/>
        </p:nvSpPr>
        <p:spPr>
          <a:xfrm>
            <a:off x="5867280" y="3319560"/>
            <a:ext cx="1009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09 0.06644 C 0.06598 0.06759 0.10487 0.06806 0.12848 0.03125 C 0.15209 -0.00532 0.16025 -0.09791 0.16875 -0.15231 C 0.17726 -0.20741 0.17431 -0.24977 0.17987 -0.29745 C 0.18542 -0.34467 0.20434 -0.3794 0.20209 -0.43703 C 0.19983 -0.49491 0.17934 -0.59004 0.16598 -0.64305 C 0.15261 -0.69629 0.14497 -0.73426 0.12153 -0.75555 C 0.09809 -0.77662 0.06233 -0.76921 0.0257 -0.77083 C -0.01093 -0.77222 -0.06336 -0.76458 -0.09791 -0.76389 C -0.13246 -0.76342 -0.14253 -0.76736 -0.18125 -0.76736 C -0.21996 -0.76736 -0.29253 -0.76342 -0.33003 -0.76389 C -0.36718 -0.76458 -0.36475 -0.77407 -0.40486 -0.77083 C -0.44496 -0.76759 -0.52204 -0.75532 -0.57013 -0.74514 C -0.61823 -0.73518 -0.65694 -0.72315 -0.69375 -0.71134 C -0.73055 -0.69977 -0.76163 -0.68912 -0.79097 -0.67569 C -0.82031 -0.6618 -0.85086 -0.64143 -0.87013 -0.62986 C -0.88941 -0.61759 -0.89496 -0.61666 -0.90625 -0.60555 C -0.91753 -0.59514 -0.92847 -0.59375 -0.93802 -0.56504 C -0.94791 -0.53565 -0.98107 -0.47523 -0.96458 -0.43171 C -0.94809 -0.38866 -0.89392 -0.34699 -0.83958 -0.30393 E">
                                      <p:cBhvr>
                                        <p:cTn id="130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42 -0.28217 C -0.76059 -0.2243 -0.73663 -0.1662 -0.70225 -0.13634 C -0.6677 -0.10602 -0.62135 -0.11111 -0.5776 -0.10162 C -0.53385 -0.09236 -0.48854 -0.08426 -0.44027 -0.08009 C -0.39184 -0.07592 -0.33871 -0.07384 -0.28732 -0.07662 C -0.23576 -0.07893 -0.1842 -0.08333 -0.13142 -0.09444 C -0.07882 -0.10555 -0.01059 -0.12662 0.02865 -0.14328 C 0.06789 -0.15972 0.08177 -0.175 0.10365 -0.19398 C 0.12552 -0.21273 0.15052 -0.22523 0.16025 -0.25717 C 0.16997 -0.28889 0.16493 -0.3456 0.16181 -0.38518 C 0.15868 -0.42477 0.14618 -0.46504 0.14184 -0.49514 C 0.1375 -0.52569 0.14046 -0.55023 0.13612 -0.56759 C 0.13177 -0.58449 0.15105 -0.59236 0.11632 -0.59815 C 0.0816 -0.60393 -0.03316 -0.60116 -0.07257 -0.60208 E">
                                      <p:cBhvr>
                                        <p:cTn id="144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55680" y="3141720"/>
            <a:ext cx="2524320" cy="863640"/>
          </a:xfrm>
          <a:prstGeom prst="cloudCallout">
            <a:avLst>
              <a:gd name="adj1" fmla="val -60879"/>
              <a:gd name="adj2" fmla="val 59925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1255680" y="4221000"/>
            <a:ext cx="2524320" cy="863640"/>
          </a:xfrm>
          <a:prstGeom prst="cloudCallout">
            <a:avLst>
              <a:gd name="adj1" fmla="val -60879"/>
              <a:gd name="adj2" fmla="val -42277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828000">
            <a:off x="4889160" y="404640"/>
            <a:ext cx="2523960" cy="863640"/>
          </a:xfrm>
          <a:prstGeom prst="cloudCallout">
            <a:avLst>
              <a:gd name="adj1" fmla="val 70500"/>
              <a:gd name="adj2" fmla="val -2750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26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1341360"/>
            <a:ext cx="2524320" cy="863640"/>
          </a:xfrm>
          <a:prstGeom prst="cloudCallout">
            <a:avLst>
              <a:gd name="adj1" fmla="val 66601"/>
              <a:gd name="adj2" fmla="val -51287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我会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95640" y="119700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1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22" action="ppaction://hlinksldjump"/>
          </p:cNvPr>
          <p:cNvSpPr/>
          <p:nvPr/>
        </p:nvSpPr>
        <p:spPr>
          <a:xfrm>
            <a:off x="2050920" y="2349360"/>
            <a:ext cx="5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sp>
        <p:nvSpPr>
          <p:cNvPr id="142" name=""/>
          <p:cNvSpPr/>
          <p:nvPr/>
        </p:nvSpPr>
        <p:spPr>
          <a:xfrm>
            <a:off x="468360" y="907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因为在宇宙飞船里，水失去了重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42100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206064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失  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33577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在太空中，由于摆脱了地球引力，处于失重状态，所以任何东西只要轻轻一碰，就会飘浮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9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93" dur="12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200"/>
                            </p:stCondLst>
                            <p:childTnLst>
                              <p:par>
                                <p:cTn id="195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200"/>
                            </p:stCondLst>
                            <p:childTnLst>
                              <p:par>
                                <p:cTn id="198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221000"/>
            <a:ext cx="813600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999"/>
              </a:spcBef>
              <a:spcAft>
                <a:spcPts val="6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宇宙飞船里睡觉，宇航员必须带上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--------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宇宙飞船里喝水，宇航员必须带上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--------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宇宙飞船里走路，宇航员必须带上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--------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宇宙飞船里洗澡，宇航员必须带上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999"/>
              </a:spcBef>
              <a:spcAft>
                <a:spcPts val="6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09080" y="165240"/>
            <a:ext cx="1116000" cy="641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蓝猫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朗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识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第一读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 action="ppaction://hlinksldjump"/>
              </a:rPr>
              <a:t>第一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 action="ppaction://hlinksldjump"/>
              </a:rPr>
              <a:t>第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 action="ppaction://hlinksldjump"/>
              </a:rPr>
              <a:t>睡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 action="ppaction://hlinksldjump"/>
              </a:rPr>
              <a:t>喝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 action="ppaction://hlinksldjump"/>
              </a:rPr>
              <a:t>走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 action="ppaction://hlinksldjump"/>
              </a:rPr>
              <a:t>洗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 action="ppaction://hlinksldjump"/>
              </a:rPr>
              <a:t>蓝猫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 action="ppaction://hlinksldjump"/>
              </a:rPr>
              <a:t>带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 action="ppaction://hlinksldjump"/>
              </a:rPr>
              <a:t>小导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 action="ppaction://hlinksldjump"/>
              </a:rPr>
              <a:t>作业超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 action="ppaction://hlinksldjump"/>
              </a:rPr>
              <a:t>失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9"/>
          <a:stretch/>
        </p:blipFill>
        <p:spPr>
          <a:xfrm>
            <a:off x="8191440" y="614376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3:47:03Z</dcterms:created>
  <dc:creator>番茄花园</dc:creator>
  <dc:description/>
  <dc:language>en-US</dc:language>
  <cp:lastModifiedBy>Lenovo User</cp:lastModifiedBy>
  <dcterms:modified xsi:type="dcterms:W3CDTF">2008-11-07T01:31:06Z</dcterms:modified>
  <cp:revision>91</cp:revision>
  <dc:subject/>
  <dc:title>幻灯片 1</dc:title>
</cp:coreProperties>
</file>