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2.jpeg" ContentType="image/jpeg"/>
  <Override PartName="/ppt/media/camera.wav" ContentType="audio/x-wav"/>
  <Override PartName="/ppt/media/image21.jpeg" ContentType="image/jpeg"/>
  <Override PartName="/ppt/media/chimes.wav" ContentType="audio/x-wav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gif" ContentType="image/gif"/>
  <Override PartName="/ppt/media/image15.png" ContentType="image/png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dt" idx="22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4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87F5-E3F3-4F89-A1B7-864F15F20F05}" type="slidenum">
              <a:rPr b="0" lang="zh-CN" sz="1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CDC-37EA-4CD7-9588-52907CFE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ABD-F05C-44B8-89FE-E49827E7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485-DC08-4A70-8E17-19741491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E36-F114-4307-A415-2884553F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E493-4422-491A-AD27-27E05489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3824-06BB-49FF-B760-A7CFAA10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4DA3-95DB-4D7D-BD64-C2E95F30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4950-C177-4AD6-9219-E4BE6BBF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697C-7E61-4B80-92F7-06F8CFEF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D945-90D1-44C6-96BE-64815317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B2C8-3E46-45B5-BA76-BD25F8F2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ACB-8879-4E00-B239-43DF4D5E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1A54-4511-45C8-85D3-74CD88F2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74FE-96A7-4B20-8021-9B4B695E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05B8-F72C-4568-8683-874309C1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3FAC-0187-48F3-90EB-0687EE85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A716-2C64-4CBA-94E9-7E61E214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1EAC-F855-4AD7-A4CB-E47087C9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786D-8418-4B89-A09B-A41133FA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69D5C-3696-48AD-8C6B-6594B11D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A391-F2AD-4E74-B28B-D3151F78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115C9-A176-447C-A07F-356CBF34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51F-4823-4553-9009-6ABD177B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5005-0854-4855-9238-2E801758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0D43-758A-47E3-8356-AAC867CA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B085-59B5-4B77-A4B5-A9823DC4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CA77F-22C8-4F65-81AA-9CD1C662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F178-46E8-41CB-A52F-5001386A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920E-471B-49A8-94E4-12FA4CBE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F99D-0D0B-4D4A-9639-5B789EA3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96B3B-59A6-44B5-B8C7-207B9E55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2E8D6-DBC8-47C6-9281-9529A7E9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6C1E8-2FB7-4660-AF2E-58CCEFC2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020-4B75-4896-9FC7-8CD8392E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71751-11D2-4449-922B-D78B5582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119CC-6B27-4609-995A-9363EDED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BDA0-E320-4DB0-8CA3-5A839469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DCB4-FC41-41C8-BFC4-DC1E819E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C0FBB-6B7B-49FC-ADBD-D3F4E14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EEF4-C4B6-48C7-BC6A-93629630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C8BB-8D7B-4E2B-B6ED-AF7621F2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E13EE-A06C-4AA6-A1D5-FEDBFDCD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BBA3F-A7C1-432B-956D-1EC41299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E90D6-0E68-44E6-B3EE-EC18F425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000-49EA-43ED-B879-8EE2A65C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EB16B-A58B-4A4B-93E9-E1F039F6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CA5AB-C897-44F9-890C-B5252795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3491-E195-401C-BFCA-DB782A5F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A2F70-ECE8-4418-A56D-2916B7C9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778D6-A865-44A5-BEAA-58E91708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09440-68B5-4B4B-80F9-26D0CC3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5D1C1-E5E9-4677-9A4D-E0A2A0D7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CAD5D-65D1-4E40-98BA-D68B567A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7C04-F383-457B-9690-C2B3AACA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164F-B90D-461E-97A7-9E466F66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877-43C2-4B10-98C1-37EF1A79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D36C7-DC8B-4E6A-BF96-6D8A53DB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BC630-9609-48BA-B854-8B38A1DF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47FC-FE03-407C-9150-B69C605B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95931-6E35-4275-984A-B743FA67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2860-9456-4C28-AEC9-4A94C3CE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11565-CD50-40E2-A0FB-9240C75C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25813-7F08-4E70-989A-62D2327D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A8D19-E4E0-4B65-9B44-50EA15CA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FD000-F861-4860-9941-44BC7F56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D98E1-DAF7-4E45-BCB9-5B976058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E44-C0E0-4E85-95F7-AABE57C5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741EB-53AC-409C-AA95-4D526DA2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40E13-42F7-4B54-9330-F88AA67F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4863D-25B6-4E5F-A1FF-7B6AE546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58E3B-AC25-4205-AC45-CF358EDE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745AB-4E18-42D0-B462-14F133BE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1B41A-68B4-4242-AD87-5D47AB7C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EFEAC-D4E3-4A4D-8509-455C1D2C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F757F-44E8-4DF8-B5A0-8A2965EE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2BFB4-2E74-468E-BCD4-2831D576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822E0-DA11-4532-8AF4-3C725163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B7B-EB1D-45C2-A1F8-B98AA40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58850-4A15-426E-A5FF-A049B250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6E441-B2AB-4D6F-8A04-E19EFA07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B5408-4F51-44CF-8BB0-39A1BDC9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8D7CB-5409-4D43-83FF-364E9BA0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B3B58-EC7D-4A2C-BFF4-AEA81B71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B6A-EADF-408F-BD46-1B7F5A5B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A892-77FF-46EF-9752-63C20E13952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7960" y="-82080"/>
            <a:ext cx="2434680" cy="2256480"/>
            <a:chOff x="7167960" y="-82080"/>
            <a:chExt cx="2434680" cy="2256480"/>
          </a:xfrm>
        </p:grpSpPr>
        <p:grpSp>
          <p:nvGrpSpPr>
            <p:cNvPr id="39" name=""/>
            <p:cNvGrpSpPr/>
            <p:nvPr/>
          </p:nvGrpSpPr>
          <p:grpSpPr>
            <a:xfrm>
              <a:off x="7167960" y="-82080"/>
              <a:ext cx="2434680" cy="2256480"/>
              <a:chOff x="7167960" y="-82080"/>
              <a:chExt cx="2434680" cy="225648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7960" y="-82080"/>
                <a:ext cx="2434680" cy="2256480"/>
                <a:chOff x="7167960" y="-82080"/>
                <a:chExt cx="2434680" cy="225648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66000" y="114120"/>
                  <a:ext cx="2455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7995600" y="518040"/>
                  <a:ext cx="4312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692120" y="281520"/>
                  <a:ext cx="8100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77440" y="-20160"/>
                  <a:ext cx="12153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391960" y="1421640"/>
                  <a:ext cx="2707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21760" y="1275840"/>
                  <a:ext cx="29016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895880" y="320760"/>
                  <a:ext cx="29016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37920" y="210240"/>
                  <a:ext cx="2869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42F0-EC03-4E56-9C34-BD7539CA57F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84280" y="4315680"/>
            <a:ext cx="988920" cy="1164960"/>
            <a:chOff x="7784280" y="4315680"/>
            <a:chExt cx="988920" cy="1164960"/>
          </a:xfrm>
        </p:grpSpPr>
        <p:sp>
          <p:nvSpPr>
            <p:cNvPr id="103" name="未知"/>
            <p:cNvSpPr/>
            <p:nvPr/>
          </p:nvSpPr>
          <p:spPr>
            <a:xfrm rot="7320000">
              <a:off x="7777080" y="46447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20360" y="460764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84280" y="4315680"/>
              <a:ext cx="988920" cy="1164960"/>
              <a:chOff x="7784280" y="4315680"/>
              <a:chExt cx="988920" cy="116496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7480" y="5047200"/>
                <a:ext cx="93600" cy="986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49360" y="4645800"/>
                <a:ext cx="1058760" cy="5043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46360" y="4754880"/>
                <a:ext cx="749160" cy="2851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1840" y="4543560"/>
                <a:ext cx="100080" cy="1915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45720" y="4744080"/>
                <a:ext cx="306360" cy="168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FF70-46EE-4A83-94B4-84C5CB066B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D796-6298-4EF3-B96D-BF40C3A4C1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2D53-5F40-4638-9C52-8198F9E939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7462-581B-48C5-B0E7-D8E16863E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A42B-EA68-4BD5-A9D1-204EAAE1E4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5.png"/><Relationship Id="rId9" Type="http://schemas.openxmlformats.org/officeDocument/2006/relationships/hyperlink" Target="file:///&#22826;&#31354;&#29983;&#27963;.mp4" TargetMode="External"/><Relationship Id="rId10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1.xm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华文楷体"/>
                <a:ea typeface="华文楷体"/>
              </a:rPr>
              <a:t>32</a:t>
            </a:r>
            <a:r>
              <a:rPr b="1" lang="zh-CN" sz="6000" spc="-1" strike="noStrike">
                <a:solidFill>
                  <a:srgbClr val="ff9933"/>
                </a:solidFill>
                <a:latin typeface="华文楷体"/>
                <a:ea typeface="华文楷体"/>
              </a:rPr>
              <a:t>、太空生活趣事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908000" y="4653000"/>
            <a:ext cx="934920" cy="871560"/>
            <a:chOff x="1908000" y="4653000"/>
            <a:chExt cx="934920" cy="871560"/>
          </a:xfrm>
        </p:grpSpPr>
        <p:pic>
          <p:nvPicPr>
            <p:cNvPr id="365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908000" y="4653000"/>
              <a:ext cx="7192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195280" y="5157720"/>
              <a:ext cx="647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140360" y="4221000"/>
            <a:ext cx="1078920" cy="942840"/>
            <a:chOff x="4140360" y="4221000"/>
            <a:chExt cx="1078920" cy="942840"/>
          </a:xfrm>
        </p:grpSpPr>
        <p:pic>
          <p:nvPicPr>
            <p:cNvPr id="368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140360" y="4221000"/>
              <a:ext cx="791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571640" y="4797360"/>
              <a:ext cx="647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516720" y="4724280"/>
            <a:ext cx="934920" cy="800280"/>
            <a:chOff x="6516720" y="4724280"/>
            <a:chExt cx="934920" cy="800280"/>
          </a:xfrm>
        </p:grpSpPr>
        <p:pic>
          <p:nvPicPr>
            <p:cNvPr id="371" name="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516720" y="4724280"/>
              <a:ext cx="647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804000" y="5157720"/>
              <a:ext cx="647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95280" y="404640"/>
            <a:ext cx="68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人教版语文第三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64000" y="558972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乌市第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7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小学     陈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9"/>
          </p:cNvPr>
          <p:cNvSpPr/>
          <p:nvPr/>
        </p:nvSpPr>
        <p:spPr>
          <a:xfrm>
            <a:off x="8028000" y="638172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24000" y="2565360"/>
            <a:ext cx="7991280" cy="947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太空生活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    ）（      ） （      ）   （       ）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有趣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2" action="ppaction://hlinksldjump"/>
          </p:cNvPr>
          <p:cNvSpPr/>
          <p:nvPr/>
        </p:nvSpPr>
        <p:spPr>
          <a:xfrm>
            <a:off x="2844720" y="2492280"/>
            <a:ext cx="1268640" cy="5814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睡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3" action="ppaction://hlinksldjump"/>
          </p:cNvPr>
          <p:cNvSpPr/>
          <p:nvPr/>
        </p:nvSpPr>
        <p:spPr>
          <a:xfrm>
            <a:off x="4716360" y="2492280"/>
            <a:ext cx="1389240" cy="5814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喝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4" action="ppaction://hlinksldjump"/>
          </p:cNvPr>
          <p:cNvSpPr/>
          <p:nvPr/>
        </p:nvSpPr>
        <p:spPr>
          <a:xfrm>
            <a:off x="6732720" y="2421000"/>
            <a:ext cx="1000080" cy="5814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走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5" action="ppaction://hlinksldjump"/>
          </p:cNvPr>
          <p:cNvSpPr/>
          <p:nvPr/>
        </p:nvSpPr>
        <p:spPr>
          <a:xfrm>
            <a:off x="755640" y="2925720"/>
            <a:ext cx="1461960" cy="5814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洗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8360" y="907920"/>
            <a:ext cx="7416720" cy="1143000"/>
          </a:xfrm>
          <a:prstGeom prst="rect">
            <a:avLst/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太空生活中有什么有趣的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5280" y="3716280"/>
            <a:ext cx="82090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700" spc="-1" strike="noStrike">
                <a:solidFill>
                  <a:srgbClr val="cc0000"/>
                </a:solidFill>
                <a:latin typeface="楷体"/>
                <a:ea typeface="楷体"/>
              </a:rPr>
              <a:t>___</a:t>
            </a:r>
            <a:r>
              <a:rPr b="1" lang="zh-CN" sz="3700" spc="-1" strike="noStrike">
                <a:solidFill>
                  <a:srgbClr val="cc0000"/>
                </a:solidFill>
                <a:latin typeface="楷体"/>
                <a:ea typeface="楷体"/>
              </a:rPr>
              <a:t>、</a:t>
            </a:r>
            <a:r>
              <a:rPr b="1" lang="en-US" sz="3700" spc="-1" strike="noStrike">
                <a:solidFill>
                  <a:srgbClr val="cc0000"/>
                </a:solidFill>
                <a:latin typeface="楷体"/>
                <a:ea typeface="楷体"/>
              </a:rPr>
              <a:t>___</a:t>
            </a:r>
            <a:r>
              <a:rPr b="1" lang="zh-CN" sz="3700" spc="-1" strike="noStrike">
                <a:solidFill>
                  <a:srgbClr val="cc0000"/>
                </a:solidFill>
                <a:latin typeface="楷体"/>
                <a:ea typeface="楷体"/>
              </a:rPr>
              <a:t>、</a:t>
            </a:r>
            <a:r>
              <a:rPr b="1" lang="en-US" sz="3700" spc="-1" strike="noStrike">
                <a:solidFill>
                  <a:srgbClr val="cc0000"/>
                </a:solidFill>
                <a:latin typeface="楷体"/>
                <a:ea typeface="楷体"/>
              </a:rPr>
              <a:t>___</a:t>
            </a:r>
            <a:r>
              <a:rPr b="1" lang="zh-CN" sz="3700" spc="-1" strike="noStrike">
                <a:solidFill>
                  <a:srgbClr val="cc0000"/>
                </a:solidFill>
                <a:latin typeface="楷体"/>
                <a:ea typeface="楷体"/>
              </a:rPr>
              <a:t>和</a:t>
            </a:r>
            <a:r>
              <a:rPr b="1" lang="en-US" sz="3700" spc="-1" strike="noStrike">
                <a:solidFill>
                  <a:srgbClr val="cc0000"/>
                </a:solidFill>
                <a:latin typeface="楷体"/>
                <a:ea typeface="楷体"/>
              </a:rPr>
              <a:t>___</a:t>
            </a:r>
            <a:r>
              <a:rPr b="1" lang="zh-CN" sz="3700" spc="-1" strike="noStrike">
                <a:solidFill>
                  <a:srgbClr val="cc0000"/>
                </a:solidFill>
                <a:latin typeface="楷体"/>
                <a:ea typeface="楷体"/>
              </a:rPr>
              <a:t>都是太空生活中的趣事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75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2000" cy="27082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971640" y="242100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2781360"/>
            <a:ext cx="21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失  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9640" y="33577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在太空中，由于没有了地球引力，处于失重状态，所以任何东西只要轻轻一碰，就会飘浮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64" dur="12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200"/>
                            </p:stCondLst>
                            <p:childTnLst>
                              <p:par>
                                <p:cTn id="166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200"/>
                            </p:stCondLst>
                            <p:childTnLst>
                              <p:par>
                                <p:cTn id="169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4920" y="-23760"/>
            <a:ext cx="9142560" cy="68533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8000" y="1196640"/>
            <a:ext cx="9036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宇航员在太空中睡觉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"/>
              </a:rPr>
              <a:t>必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把自己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"/>
              </a:rPr>
              <a:t>绑在睡袋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宇航员在太空中喝水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"/>
              </a:rPr>
              <a:t>必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用（                     ）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宇航员在太空中走路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"/>
              </a:rPr>
              <a:t>必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穿（                      ）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宇航员在太空中洗澡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"/>
              </a:rPr>
              <a:t>必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"/>
              </a:rPr>
              <a:t>特殊设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的（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24000" y="476280"/>
            <a:ext cx="3743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因为失重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50960" y="2492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带吸管的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塑料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22960" y="3502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鞋底带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钩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的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882560" y="450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淋浴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0" y="1440"/>
            <a:ext cx="9139320" cy="68122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52360" y="321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必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356000" y="2421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2310480" y="2133720"/>
            <a:ext cx="45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要取得好成绩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必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5219640" y="1989000"/>
            <a:ext cx="2733840" cy="27370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580000" y="2133720"/>
            <a:ext cx="18716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0000"/>
                </a:solidFill>
                <a:latin typeface="Arial"/>
                <a:ea typeface="楷体_GB2312"/>
              </a:rPr>
              <a:t>须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1044720" y="1989000"/>
            <a:ext cx="2689200" cy="27352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403280" y="2133720"/>
            <a:ext cx="187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0000"/>
                </a:solidFill>
                <a:latin typeface="Arial"/>
                <a:ea typeface="楷体_GB2312"/>
              </a:rPr>
              <a:t>必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  <p:sp>
        <p:nvSpPr>
          <p:cNvPr id="475" name=""/>
          <p:cNvSpPr/>
          <p:nvPr/>
        </p:nvSpPr>
        <p:spPr>
          <a:xfrm>
            <a:off x="0" y="0"/>
            <a:ext cx="9144000" cy="57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　　　　　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　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大家好！我是太空小导游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欢迎大家来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姓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空旅游。想要在太空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必须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　　　　　　       （做什么事）　　 　（怎么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然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　（会发生什么趣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祝大家在太空度过美好的一天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0920" y="189000"/>
            <a:ext cx="1873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24360" y="4608360"/>
            <a:ext cx="2411640" cy="22496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7740720" y="18900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84360" y="1484280"/>
            <a:ext cx="734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太空生活的一天过去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想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太空生活真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______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84720" y="31417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有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4859280" y="0"/>
            <a:ext cx="447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042920" y="2232000"/>
            <a:ext cx="78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朋友们，你们知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哪些关于太空的趣事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0" y="909720"/>
            <a:ext cx="3600360" cy="51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28720" y="1628640"/>
            <a:ext cx="208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宇航员在太空是怎样生活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36680" y="260280"/>
            <a:ext cx="33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自读提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2060640"/>
            <a:ext cx="92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字音，读通句子，标出自然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35640" y="2997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37180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觉得读音有困难的字圈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044720" y="18748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舒服    必须      绑在      喷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42920" y="2781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稍微    咳嗽      铁钩      一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371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设计    特殊       淋浴     塑料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00720" y="4869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挺有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052720" y="701640"/>
            <a:ext cx="302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楷体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 rot="898800">
            <a:off x="7224480" y="4797000"/>
            <a:ext cx="1307880" cy="1584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972000" y="14842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29440" y="1557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67000" y="155736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120" y="148428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8360" y="14842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60840" y="24210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27640" y="2421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32360" y="24210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33080" y="24210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ō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77080" y="242100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61080" y="33577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48360" y="33577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45080" y="3429000"/>
            <a:ext cx="24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ù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72360" y="43657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044720" y="18748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舒服    必须      绑在      喷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42920" y="2781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稍微    咳嗽      铁钩      一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42920" y="371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设计    特殊      淋浴     塑料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00000" y="453852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挺有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52720" y="701640"/>
            <a:ext cx="302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楷体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898800">
            <a:off x="7224480" y="4797000"/>
            <a:ext cx="13078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436680" y="260280"/>
            <a:ext cx="33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9280" y="1773360"/>
            <a:ext cx="92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宇航员要想喝到水，就得使用带吸管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塑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料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2360" y="30700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稍一使劲就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半空中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咳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声就可能退后好几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2360" y="4365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宇宙飞船里洗澡可不是件容易的事，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喷出的水总是漂浮在空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116000" y="836640"/>
            <a:ext cx="72723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8000" y="299736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设  淋   通   杯  钩  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2492280"/>
            <a:ext cx="7991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978200" y="76212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我是认字小能手</a:t>
            </a:r>
            <a:endParaRPr b="1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429" name=""/>
          <p:cNvSpPr/>
          <p:nvPr/>
        </p:nvSpPr>
        <p:spPr>
          <a:xfrm>
            <a:off x="2510640" y="2514600"/>
            <a:ext cx="413064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挺有趣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舒服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必须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10640" y="2514600"/>
            <a:ext cx="413064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塑料杯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普通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咳嗽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998800" y="2514600"/>
            <a:ext cx="315540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一件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喷出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设计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特殊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0640" y="2514600"/>
            <a:ext cx="413064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淋浴器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钩住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7543800" y="57913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32a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494080"/>
            <a:ext cx="903456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我们都是认字小能手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0:57:03Z</dcterms:created>
  <dc:creator>chenmc</dc:creator>
  <dc:description/>
  <cp:keywords/>
  <dc:language>en-US</dc:language>
  <cp:lastModifiedBy>lcx0127</cp:lastModifiedBy>
  <dcterms:modified xsi:type="dcterms:W3CDTF">2012-11-16T15:07:49Z</dcterms:modified>
  <cp:revision>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