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70A-2D73-47CB-8963-3CAC22CA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9F8-DAAC-4DA6-B144-61BE4FC8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63D-56F4-4767-A285-3059AD08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7DC-D1F4-4C65-AE82-3203331F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C93-27E7-4761-92D9-985BCFBE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338-C0FF-4C5E-AB64-BCDD37C6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5A1-052A-47BF-90B8-D3575522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5C9-4146-4495-B3A9-0EBB5A3A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A91-82A1-4425-925A-CDA03944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D61-76A9-44F4-8A2E-37170F05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D2B-9E99-4587-8A39-FB1A25E1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BD7-E507-4A21-81FF-F26BCD8C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0F02-1B25-433F-B895-E29B96A937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业３%20拷贝" descr=""/>
          <p:cNvPicPr/>
          <p:nvPr/>
        </p:nvPicPr>
        <p:blipFill>
          <a:blip r:embed="rId1"/>
          <a:stretch/>
        </p:blipFill>
        <p:spPr>
          <a:xfrm>
            <a:off x="-76320" y="0"/>
            <a:ext cx="929664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61680" y="9907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创艺简隶书"/>
              </a:rPr>
              <a:t>人教版小学语文第三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352680" y="1905120"/>
            <a:ext cx="342900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太空生活趣事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177080" y="4495680"/>
            <a:ext cx="21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设计者</a:t>
            </a:r>
            <a:r>
              <a:rPr b="0" lang="zh-CN" sz="36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刘淑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aturn5" descr=""/>
          <p:cNvPicPr/>
          <p:nvPr/>
        </p:nvPicPr>
        <p:blipFill>
          <a:blip r:embed="rId1"/>
          <a:stretch/>
        </p:blipFill>
        <p:spPr>
          <a:xfrm>
            <a:off x="0" y="-1122480"/>
            <a:ext cx="9144000" cy="9102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22720" y="-586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创艺简隶书"/>
              </a:rPr>
              <a:t>人教版小学语文第三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飞船" descr=""/>
          <p:cNvPicPr/>
          <p:nvPr/>
        </p:nvPicPr>
        <p:blipFill>
          <a:blip r:embed="rId1"/>
          <a:stretch/>
        </p:blipFill>
        <p:spPr>
          <a:xfrm>
            <a:off x="0" y="-1676520"/>
            <a:ext cx="926316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U761P2T1D433342F13DT20040928163753" descr=""/>
          <p:cNvPicPr/>
          <p:nvPr/>
        </p:nvPicPr>
        <p:blipFill>
          <a:blip r:embed="rId1"/>
          <a:stretch/>
        </p:blipFill>
        <p:spPr>
          <a:xfrm>
            <a:off x="-3200400" y="-969840"/>
            <a:ext cx="14478120" cy="81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3520" y="2362320"/>
            <a:ext cx="62485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创艺简隶书"/>
              </a:rPr>
              <a:t>小组学习讨论，太空生活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创艺简隶书"/>
              </a:rPr>
              <a:t>么有趣？与我们地面上生活有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创艺简隶书"/>
              </a:rPr>
              <a:t>么不同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未标题-1" descr=""/>
          <p:cNvPicPr/>
          <p:nvPr/>
        </p:nvPicPr>
        <p:blipFill>
          <a:blip r:embed="rId1"/>
          <a:stretch/>
        </p:blipFill>
        <p:spPr>
          <a:xfrm>
            <a:off x="-343080" y="0"/>
            <a:ext cx="9830160" cy="77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0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3880" y="251460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创艺简隶书"/>
                <a:ea typeface="创艺简隶书"/>
              </a:rPr>
              <a:t>认一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舒        必     须      绑      通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杯      塑       咳      嗽     钩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件       喷      设      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业１%20拷贝" descr=""/>
          <p:cNvPicPr/>
          <p:nvPr/>
        </p:nvPicPr>
        <p:blipFill>
          <a:blip r:embed="rId1"/>
          <a:stretch/>
        </p:blipFill>
        <p:spPr>
          <a:xfrm>
            <a:off x="-2286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632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创艺简隶书"/>
              </a:rPr>
              <a:t>抄抄写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创艺简隶书"/>
              </a:rPr>
              <a:t>杯</a:t>
            </a:r>
            <a:r>
              <a:rPr b="0" lang="zh-CN" sz="36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子      必定      趣事      飘到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必须      一件      能够      衣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喷射      通道      飘浮      设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371240"/>
            <a:ext cx="5600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创艺简隶书"/>
              </a:rPr>
              <a:t>你们还知道太空生活还有哪些趣事吗？是怎么知道的，谁来向大家介绍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创艺简隶书"/>
              </a:rPr>
              <a:t> 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9:38:43Z</dcterms:created>
  <dc:creator>Billgates</dc:creator>
  <dc:description/>
  <dc:language>en-US</dc:language>
  <cp:lastModifiedBy>孙德晓</cp:lastModifiedBy>
  <dcterms:modified xsi:type="dcterms:W3CDTF">2005-03-04T13:18:40Z</dcterms:modified>
  <cp:revision>3</cp:revision>
  <dc:subject/>
  <dc:title>人教版小学语文第三册</dc:title>
</cp:coreProperties>
</file>