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wmf" ContentType="image/x-wmf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C05C-E625-428F-9F56-4004E73A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454B-10A3-4569-A84A-1F890896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0A59-7CE4-47B7-9E08-9704ED80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C410-32AC-41AF-A5DE-9BB3C3D4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0876-D24D-4512-9AB7-2E35BBED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46CF-2275-4D0A-9E95-E0FFEB16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B734-73DC-4DBC-A4E0-DDD24E0C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F857-AF8F-44E3-B34E-3DC79067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B2F-BAC4-4197-8F63-7EC5BA11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96F0-27B9-4D23-AC10-8D0988E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7CE1-DD69-4A95-BE15-72D0665D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0EC54-A203-4902-A3FF-DCD391B1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4D70-B75E-4625-8279-7154EEC1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7D22-3F18-4C97-841A-B432FAC9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7E46-35CF-47EA-881D-EB67FFA7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F87D-55D1-4EAB-AF46-B4C12D32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6C2A-33A1-44EB-8444-CF29DFCE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2020-97FF-4B48-8F40-B57C18BB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31CF-B6C2-4E7F-A40C-220AEF28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D0D1-5ABA-4FF4-92F2-EF732181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68D5-D66F-47B3-9DE5-E32FA756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5BD6-4A07-453C-9003-121BCEF4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78774-41BA-40B3-80D1-0A94FB25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B62BA-49C7-4BC3-A592-8B702DEA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38CE-F72B-4937-A8E7-7FBD3A42AEF6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9972-31DB-4533-B9DB-F83F76FEB8B5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2060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铁钉生锈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苏教版六年科学上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2602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看了下面的实验记录单，我们能得出什么结论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930240"/>
            <a:ext cx="79930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3280" y="76500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铁生锈的快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33440" y="2254680"/>
            <a:ext cx="4813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小组讨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根据生锈条件怎样设计对生锈速度的探究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制定研究计划，注意对比实验设计的合理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249800" cy="2851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32360" y="12542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铁钉放置在空气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9640" y="3430440"/>
            <a:ext cx="4248360" cy="2705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59280" y="39956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铁钉放置在潮湿的餐巾纸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394080" cy="472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3394080" cy="4729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189080" y="5373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铁钉完全浸没在水中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78440" y="5291280"/>
            <a:ext cx="39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铁钉一半浸在盐水里，一半暴露在空气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40392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铁钉生锈观察记录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2276640"/>
          <a:ext cx="8748720" cy="2209680"/>
        </p:xfrm>
        <a:graphic>
          <a:graphicData uri="http://schemas.openxmlformats.org/drawingml/2006/table">
            <a:tbl>
              <a:tblPr/>
              <a:tblGrid>
                <a:gridCol w="1979640"/>
                <a:gridCol w="1295280"/>
                <a:gridCol w="1297080"/>
                <a:gridCol w="1368360"/>
                <a:gridCol w="1582920"/>
                <a:gridCol w="122544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  <a:ea typeface="楷体_GB2312"/>
                        </a:rPr>
                        <a:t>放置位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  <a:ea typeface="楷体_GB2312"/>
                        </a:rPr>
                        <a:t>空气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  <a:ea typeface="楷体_GB2312"/>
                        </a:rPr>
                        <a:t>潮湿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  <a:ea typeface="楷体_GB2312"/>
                        </a:rPr>
                        <a:t>水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  <a:ea typeface="楷体_GB2312"/>
                        </a:rPr>
                        <a:t>盐水里和空气中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  <a:ea typeface="楷体_GB2312"/>
                        </a:rPr>
                        <a:t>生锈速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  <a:ea typeface="楷体_GB2312"/>
                        </a:rPr>
                        <a:t>我们的结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268280"/>
            <a:ext cx="1152720" cy="115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49360"/>
            <a:ext cx="2952720" cy="158436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692280"/>
            <a:ext cx="230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问题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349360"/>
            <a:ext cx="813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生活中，人们怎样防止铁生锈、减缓铁生锈的速度？思考其中的科学道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42267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课外观察自行车，自行车是怎样防生锈的？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cc"/>
                </a:solidFill>
                <a:latin typeface="Tahoma"/>
              </a:rPr>
              <a:t>铁钉生锈了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铁生锈是一种（ ） 新物质的变化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没有生锈的铁是（ ） 颜色，铁锈是（ ） 色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一块铁完全生锈后，体积会（ 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铁（  ） 容易生锈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，铁为什么生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04:17:13Z</dcterms:created>
  <dc:creator>微软用户</dc:creator>
  <dc:description/>
  <dc:language>en-US</dc:language>
  <cp:lastModifiedBy>微软用户</cp:lastModifiedBy>
  <dcterms:modified xsi:type="dcterms:W3CDTF">2011-11-02T09:31:01Z</dcterms:modified>
  <cp:revision>9</cp:revision>
  <dc:subject/>
  <dc:title>幻灯片 1</dc:title>
</cp:coreProperties>
</file>